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B2D33-C248-4752-A39C-5E517341D3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использования счета 0 106 00 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использования счета 0 106 00 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4842-AB27-47A2-BDC1-E134440A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4844-37C8-4334-9ACD-90F33642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36E-2B83-4714-B614-C9F68EFD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D04-CD4C-4041-98C0-FCF3B5B1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A3E-C6FE-43FF-80D7-1658464D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D3F-51F9-47C1-9126-79AA9B6C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3DC-A6B7-42E3-9C9B-F1AB5648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1A9-06D9-43DB-A74A-B7ECC797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AAD-3E6F-4193-8A42-8971DCDB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326-F61E-453B-802D-8AA4D50C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1C2-4022-485F-88BB-10B27127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924-59A6-45C4-8A0D-96437234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0E89-4BDF-45E1-AB77-5DC92703C2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oskazna.ru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oskazna.ru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000080" y="1714680"/>
            <a:ext cx="7286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Организационно-технологические аспекты формирования и представления годовой бюджетной (бухгалтерской) отчетности за 2013 год главными администраторами средств федерального бюдж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211640" y="5445000"/>
            <a:ext cx="47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Начальник Управления бюджетного учета и отчетности Федерального казначейства А.В. Дуб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403280" y="260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Федеральное казначе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530280" y="1889280"/>
            <a:ext cx="3271680" cy="4416120"/>
          </a:xfrm>
          <a:prstGeom prst="rect">
            <a:avLst/>
          </a:prstGeom>
          <a:noFill/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470560" y="1889280"/>
            <a:ext cx="3271680" cy="4416120"/>
          </a:xfrm>
          <a:prstGeom prst="rect">
            <a:avLst/>
          </a:prstGeom>
          <a:noFill/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46120" y="952560"/>
            <a:ext cx="85978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Взаимосвязанные расчеты 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915840" y="4900680"/>
            <a:ext cx="1242720" cy="1391400"/>
            <a:chOff x="915840" y="4900680"/>
            <a:chExt cx="1242720" cy="1391400"/>
          </a:xfrm>
        </p:grpSpPr>
        <p:pic>
          <p:nvPicPr>
            <p:cNvPr id="146" name="Picture 6" descr="j0205462"/>
            <p:cNvPicPr/>
            <p:nvPr/>
          </p:nvPicPr>
          <p:blipFill>
            <a:blip r:embed="rId1"/>
            <a:stretch/>
          </p:blipFill>
          <p:spPr>
            <a:xfrm>
              <a:off x="915840" y="4900680"/>
              <a:ext cx="1204200" cy="9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Rectangle 7"/>
            <p:cNvSpPr/>
            <p:nvPr/>
          </p:nvSpPr>
          <p:spPr>
            <a:xfrm>
              <a:off x="915840" y="5812920"/>
              <a:ext cx="124272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Автономное учрежд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8"/>
          <p:cNvGrpSpPr/>
          <p:nvPr/>
        </p:nvGrpSpPr>
        <p:grpSpPr>
          <a:xfrm>
            <a:off x="720720" y="3429000"/>
            <a:ext cx="1758960" cy="1258200"/>
            <a:chOff x="720720" y="3429000"/>
            <a:chExt cx="1758960" cy="1258200"/>
          </a:xfrm>
        </p:grpSpPr>
        <p:pic>
          <p:nvPicPr>
            <p:cNvPr id="149" name="Picture 9" descr="j0205462"/>
            <p:cNvPicPr/>
            <p:nvPr/>
          </p:nvPicPr>
          <p:blipFill>
            <a:blip r:embed="rId2"/>
            <a:stretch/>
          </p:blipFill>
          <p:spPr>
            <a:xfrm>
              <a:off x="1160280" y="3429000"/>
              <a:ext cx="85176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Rectangle 10"/>
            <p:cNvSpPr/>
            <p:nvPr/>
          </p:nvSpPr>
          <p:spPr>
            <a:xfrm>
              <a:off x="720720" y="4208040"/>
              <a:ext cx="175896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Бюджетное учрежд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2"/>
          <p:cNvGrpSpPr/>
          <p:nvPr/>
        </p:nvGrpSpPr>
        <p:grpSpPr>
          <a:xfrm>
            <a:off x="1476360" y="1554120"/>
            <a:ext cx="1447560" cy="1481400"/>
            <a:chOff x="1476360" y="1554120"/>
            <a:chExt cx="1447560" cy="1481400"/>
          </a:xfrm>
        </p:grpSpPr>
        <p:pic>
          <p:nvPicPr>
            <p:cNvPr id="152" name="Picture 13" descr="j0205462"/>
            <p:cNvPicPr/>
            <p:nvPr/>
          </p:nvPicPr>
          <p:blipFill>
            <a:blip r:embed="rId3"/>
            <a:stretch/>
          </p:blipFill>
          <p:spPr>
            <a:xfrm>
              <a:off x="1476360" y="1554120"/>
              <a:ext cx="140256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Rectangle 14"/>
            <p:cNvSpPr/>
            <p:nvPr/>
          </p:nvSpPr>
          <p:spPr>
            <a:xfrm>
              <a:off x="1476360" y="2526120"/>
              <a:ext cx="14475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ГРБС № 1 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(Учредитель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5"/>
          <p:cNvGrpSpPr/>
          <p:nvPr/>
        </p:nvGrpSpPr>
        <p:grpSpPr>
          <a:xfrm>
            <a:off x="7050240" y="4900680"/>
            <a:ext cx="1242360" cy="1391400"/>
            <a:chOff x="7050240" y="4900680"/>
            <a:chExt cx="1242360" cy="1391400"/>
          </a:xfrm>
        </p:grpSpPr>
        <p:pic>
          <p:nvPicPr>
            <p:cNvPr id="155" name="Picture 16" descr="j0205462"/>
            <p:cNvPicPr/>
            <p:nvPr/>
          </p:nvPicPr>
          <p:blipFill>
            <a:blip r:embed="rId4"/>
            <a:stretch/>
          </p:blipFill>
          <p:spPr>
            <a:xfrm>
              <a:off x="7050240" y="4900680"/>
              <a:ext cx="1203840" cy="9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17"/>
            <p:cNvSpPr/>
            <p:nvPr/>
          </p:nvSpPr>
          <p:spPr>
            <a:xfrm>
              <a:off x="7050240" y="5812920"/>
              <a:ext cx="124236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Автономное учрежд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8"/>
          <p:cNvGrpSpPr/>
          <p:nvPr/>
        </p:nvGrpSpPr>
        <p:grpSpPr>
          <a:xfrm>
            <a:off x="6856560" y="3429000"/>
            <a:ext cx="1758960" cy="1258200"/>
            <a:chOff x="6856560" y="3429000"/>
            <a:chExt cx="1758960" cy="1258200"/>
          </a:xfrm>
        </p:grpSpPr>
        <p:pic>
          <p:nvPicPr>
            <p:cNvPr id="158" name="Picture 19" descr="j0205462"/>
            <p:cNvPicPr/>
            <p:nvPr/>
          </p:nvPicPr>
          <p:blipFill>
            <a:blip r:embed="rId5"/>
            <a:stretch/>
          </p:blipFill>
          <p:spPr>
            <a:xfrm>
              <a:off x="7296120" y="3429000"/>
              <a:ext cx="85176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20"/>
            <p:cNvSpPr/>
            <p:nvPr/>
          </p:nvSpPr>
          <p:spPr>
            <a:xfrm>
              <a:off x="6856560" y="4208040"/>
              <a:ext cx="175896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Бюджетное учрежд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1"/>
          <p:cNvGrpSpPr/>
          <p:nvPr/>
        </p:nvGrpSpPr>
        <p:grpSpPr>
          <a:xfrm>
            <a:off x="6443640" y="1515960"/>
            <a:ext cx="1410840" cy="1481400"/>
            <a:chOff x="6443640" y="1515960"/>
            <a:chExt cx="1410840" cy="1481400"/>
          </a:xfrm>
        </p:grpSpPr>
        <p:pic>
          <p:nvPicPr>
            <p:cNvPr id="161" name="Picture 22" descr="j0205462"/>
            <p:cNvPicPr/>
            <p:nvPr/>
          </p:nvPicPr>
          <p:blipFill>
            <a:blip r:embed="rId6"/>
            <a:stretch/>
          </p:blipFill>
          <p:spPr>
            <a:xfrm>
              <a:off x="6443640" y="1515960"/>
              <a:ext cx="136692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Rectangle 23"/>
            <p:cNvSpPr/>
            <p:nvPr/>
          </p:nvSpPr>
          <p:spPr>
            <a:xfrm>
              <a:off x="6443640" y="2487960"/>
              <a:ext cx="14108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ГРБС №2 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(Учредитель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3" name="AutoShape 24"/>
          <p:cNvCxnSpPr>
            <a:stCxn id="149" idx="3"/>
            <a:endCxn id="158" idx="1"/>
          </p:cNvCxnSpPr>
          <p:nvPr/>
        </p:nvCxnSpPr>
        <p:spPr>
          <a:xfrm>
            <a:off x="2012760" y="3849480"/>
            <a:ext cx="528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AutoShape 25"/>
          <p:cNvCxnSpPr>
            <a:stCxn id="147" idx="3"/>
            <a:endCxn id="156" idx="1"/>
          </p:cNvCxnSpPr>
          <p:nvPr/>
        </p:nvCxnSpPr>
        <p:spPr>
          <a:xfrm>
            <a:off x="2422080" y="6514920"/>
            <a:ext cx="549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Line 26"/>
          <p:cNvSpPr/>
          <p:nvPr/>
        </p:nvSpPr>
        <p:spPr>
          <a:xfrm>
            <a:off x="2340000" y="4076640"/>
            <a:ext cx="4478400" cy="162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 flipV="1">
            <a:off x="2411280" y="4076280"/>
            <a:ext cx="4608720" cy="1297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336600" y="1020600"/>
            <a:ext cx="8470800" cy="428328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4"/>
          <p:cNvSpPr/>
          <p:nvPr/>
        </p:nvSpPr>
        <p:spPr>
          <a:xfrm>
            <a:off x="4022640" y="3963960"/>
            <a:ext cx="870120" cy="450720"/>
          </a:xfrm>
          <a:prstGeom prst="rightArrow">
            <a:avLst>
              <a:gd name="adj1" fmla="val 50000"/>
              <a:gd name="adj2" fmla="val 4826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892760" y="3897360"/>
            <a:ext cx="3786120" cy="534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правка ф. 0503110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4022640" y="4632480"/>
            <a:ext cx="870120" cy="450720"/>
          </a:xfrm>
          <a:prstGeom prst="rightArrow">
            <a:avLst>
              <a:gd name="adj1" fmla="val 50000"/>
              <a:gd name="adj2" fmla="val 4826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4892760" y="4565520"/>
            <a:ext cx="3786120" cy="534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аланс ф. 0503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336600" y="4498920"/>
            <a:ext cx="840564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3"/>
          <p:cNvSpPr/>
          <p:nvPr/>
        </p:nvSpPr>
        <p:spPr>
          <a:xfrm>
            <a:off x="601560" y="2782800"/>
            <a:ext cx="3063960" cy="1240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Баланс ф. 0503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зменение обязательств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(Гр. 6 - Гр. 3 стр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5005440" y="2803680"/>
            <a:ext cx="3548160" cy="1240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Отчет ф. 05031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перации с обязательствам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(стр. 51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4989600" y="4976640"/>
            <a:ext cx="3592440" cy="1240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Справка ф. 0503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Arial"/>
              </a:rPr>
              <a:t>Заключительные обороты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Arial"/>
              </a:rPr>
              <a:t>по счету 0 304 06 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558120" y="3963960"/>
            <a:ext cx="57312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55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4119480" y="3013200"/>
            <a:ext cx="57312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55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023120" y="1386000"/>
            <a:ext cx="4832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ерации с обязательства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871560" y="1722600"/>
            <a:ext cx="17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6227640" y="5946840"/>
            <a:ext cx="26352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Пол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ьзователи</a:t>
            </a:r>
            <a:r>
              <a:rPr b="1" lang="de-CH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: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Компетен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042920" y="1353960"/>
            <a:ext cx="316872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Содерж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Повышение степени детализации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 показ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 flipV="1">
            <a:off x="1187280" y="2347920"/>
            <a:ext cx="0" cy="35481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 flipV="1">
            <a:off x="1187280" y="5874840"/>
            <a:ext cx="75502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1690560" y="2419200"/>
            <a:ext cx="6264360" cy="3095640"/>
          </a:xfrm>
          <a:custGeom>
            <a:avLst/>
            <a:gdLst/>
            <a:ahLst/>
            <a:rect l="l" t="t" r="r" b="b"/>
            <a:pathLst>
              <a:path w="3946" h="1950">
                <a:moveTo>
                  <a:pt x="0" y="1950"/>
                </a:moveTo>
                <a:cubicBezTo>
                  <a:pt x="805" y="1818"/>
                  <a:pt x="1610" y="1686"/>
                  <a:pt x="2268" y="1361"/>
                </a:cubicBezTo>
                <a:cubicBezTo>
                  <a:pt x="2926" y="1036"/>
                  <a:pt x="3659" y="219"/>
                  <a:pt x="3946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5075280" y="2058840"/>
            <a:ext cx="0" cy="4105440"/>
          </a:xfrm>
          <a:prstGeom prst="line">
            <a:avLst/>
          </a:prstGeom>
          <a:ln w="255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"/>
          <p:cNvSpPr/>
          <p:nvPr/>
        </p:nvSpPr>
        <p:spPr>
          <a:xfrm>
            <a:off x="1763640" y="3067200"/>
            <a:ext cx="2448000" cy="9363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яснительна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запис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0"/>
          <p:cNvSpPr/>
          <p:nvPr/>
        </p:nvSpPr>
        <p:spPr>
          <a:xfrm>
            <a:off x="6227640" y="4290840"/>
            <a:ext cx="2448000" cy="93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чет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яснительная зап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3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401760" y="1757520"/>
            <a:ext cx="8405640" cy="40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Мониторинг устранения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замечаний Счетной палаты по результатам проверки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за 2012 год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Таблица 7 «Сведения о результатах внешних контрольных мероприятий»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4284720" y="2924280"/>
            <a:ext cx="639720" cy="1512720"/>
          </a:xfrm>
          <a:prstGeom prst="downArrow">
            <a:avLst>
              <a:gd name="adj1" fmla="val 50000"/>
              <a:gd name="adj2" fmla="val 59116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3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01760" y="1757520"/>
            <a:ext cx="8405640" cy="36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Анализ замечани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Счетной палаты по результатам проверки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за 2013 год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направление Актов Счетной палаты в Ф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4284720" y="2924280"/>
            <a:ext cx="639720" cy="1512720"/>
          </a:xfrm>
          <a:prstGeom prst="downArrow">
            <a:avLst>
              <a:gd name="adj1" fmla="val 50000"/>
              <a:gd name="adj2" fmla="val 59116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3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01760" y="1757520"/>
            <a:ext cx="840564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Сведения о принятых обязательствах по объектам капитального строительства, включенным в федеральную в адресную инвестиционную программу (ф. 0503128 ФАИП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представляется в составе годовой бюджетной отчетности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за 2013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4284720" y="3573360"/>
            <a:ext cx="639720" cy="1079640"/>
          </a:xfrm>
          <a:prstGeom prst="downArrow">
            <a:avLst>
              <a:gd name="adj1" fmla="val 50000"/>
              <a:gd name="adj2" fmla="val 42192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BD00028_"/>
          <p:cNvPicPr/>
          <p:nvPr/>
        </p:nvPicPr>
        <p:blipFill>
          <a:blip r:embed="rId1"/>
          <a:stretch/>
        </p:blipFill>
        <p:spPr>
          <a:xfrm>
            <a:off x="8101080" y="5418000"/>
            <a:ext cx="1042920" cy="10162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272880" y="2205000"/>
            <a:ext cx="86616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аимосвязь показателей отчетности об исполнении бюджета и показателей бухгалтерской отчетности бюджетных и автономных учре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1619280" y="1068480"/>
            <a:ext cx="66088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Таблица взаимосвязанных показател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12640" y="1697040"/>
          <a:ext cx="8229600" cy="4537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2120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56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ток по счет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1 204 33 0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Участие в государственных (муниципальных) учреждениях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Отчет ф. 05031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ток по счет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0 210 06 0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Расчеты с учредителем»</a:t>
                      </a:r>
                      <a:r>
                        <a:rPr b="0" i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8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со знаком «минус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Отчета ф.05037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4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численная субсидия на государственное задание (КВР 611, 6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енная субсидия на государственное задание 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гр. 10, стр.101 Отчета ф.05037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8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численная субсидия на иные цели (КВР 612, 6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енная субсидия на иные цели 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гр. 10, стр.102 Отчета ф.05037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1403280" y="1143000"/>
            <a:ext cx="66088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Таблица взаимосвязанных показател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12640" y="1722600"/>
          <a:ext cx="8229600" cy="4539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1868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4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юджетные инвестиции (КВР 613, 6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енные бюджетные инвестиции 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гр. 10, стр.103 Отчета ф.05037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08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 остатков целевых субсидий подведомственными бюджетными и автономными учреждения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Отчет ф. 0503127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КБК ххх 218 …. 180 в части доходов от возврат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 остатков целевых субсидий подведомственными бюджетными и автономными учреждения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Отчет ф. 0503737, гр. 5, 6 стр. 104, в  части возврат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412640" y="1943280"/>
            <a:ext cx="57981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етодологическ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бования к результ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рганизац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егламент процед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хнолог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требования к процедур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24000" y="112536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группы вопросов при подготовк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512640" y="1135080"/>
          <a:ext cx="8229600" cy="3460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2372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оты по счет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1 304 06 0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Расчеты с прочими кредиторами», в части изменения типа 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Справка ф. 05031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оты по счет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0 304 06 0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Расчеты с прочими кредиторами», в части изменения ти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Справка ф. 05037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768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ение валюты баланса в части изменения типа Г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Справка ф. 050317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ение валюты баланса в части изменения типа Г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Справка ф. 050377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558360" y="1482840"/>
            <a:ext cx="8364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ные соотношения к показателям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юджетной отчет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х администраторов средств федерального бюдж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яемой в Федеральное казначей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ные соотношения к показателям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ухгалтер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тчетности государственных (муниципальных) бюджетны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автономных учрежд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едставляемой в Федераль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значейство главными распорядителями средств 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403280" y="18900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Контрольные соотно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4219560" y="4365720"/>
            <a:ext cx="639720" cy="1079280"/>
          </a:xfrm>
          <a:prstGeom prst="downArrow">
            <a:avLst>
              <a:gd name="adj1" fmla="val 50000"/>
              <a:gd name="adj2" fmla="val 42178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606240" y="5734080"/>
            <a:ext cx="78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7bbfd"/>
                </a:solidFill>
                <a:uFillTx/>
                <a:latin typeface="Arial"/>
                <a:hlinkClick r:id="rId1"/>
              </a:rPr>
              <a:t>www.roskazna.ru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-&gt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тодический кабинет 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Учет и 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контрольные соотношения + режим прав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630360" y="1268280"/>
            <a:ext cx="797400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300" spc="-1" strike="noStrike">
                <a:solidFill>
                  <a:srgbClr val="000066"/>
                </a:solidFill>
                <a:latin typeface="Arial"/>
              </a:rPr>
              <a:t>Контрольные соотношения –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устанавливают требования к соотношению между отраженными показателями отчетности при условии соблюдения требований нормативных документов 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без учета объективных и субъективных обстоятельст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Контрольные соотношения </a:t>
            </a:r>
            <a:r>
              <a:rPr b="1" lang="ru-RU" sz="2300" spc="-1" strike="noStrike">
                <a:solidFill>
                  <a:srgbClr val="000066"/>
                </a:solidFill>
                <a:latin typeface="Arial"/>
              </a:rPr>
              <a:t>определяются требованиями нормативных правовых документов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(Инструкции №№ 162н, 174н, 183н, 191н, 33н, Указания № 171н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Федеральным казначейством проводится регулярная работа по </a:t>
            </a:r>
            <a:r>
              <a:rPr b="1" lang="ru-RU" sz="2300" spc="-1" strike="noStrike">
                <a:solidFill>
                  <a:srgbClr val="000066"/>
                </a:solidFill>
                <a:latin typeface="Arial"/>
              </a:rPr>
              <a:t>«формализации»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контрольных соотношени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403280" y="18900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Контрольные соотно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1403280" y="189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ы контроля 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7"/>
          <p:cNvGrpSpPr/>
          <p:nvPr/>
        </p:nvGrpSpPr>
        <p:grpSpPr>
          <a:xfrm>
            <a:off x="611280" y="1392120"/>
            <a:ext cx="936000" cy="1077120"/>
            <a:chOff x="611280" y="1392120"/>
            <a:chExt cx="936000" cy="1077120"/>
          </a:xfrm>
        </p:grpSpPr>
        <p:pic>
          <p:nvPicPr>
            <p:cNvPr id="235" name="Picture 8" descr="j0205462"/>
            <p:cNvPicPr/>
            <p:nvPr/>
          </p:nvPicPr>
          <p:blipFill>
            <a:blip r:embed="rId1"/>
            <a:stretch/>
          </p:blipFill>
          <p:spPr>
            <a:xfrm>
              <a:off x="611280" y="1392120"/>
              <a:ext cx="907200" cy="7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9"/>
            <p:cNvSpPr/>
            <p:nvPr/>
          </p:nvSpPr>
          <p:spPr>
            <a:xfrm>
              <a:off x="611280" y="2162160"/>
              <a:ext cx="93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РБ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13" descr="MCj04338000000[1]"/>
          <p:cNvPicPr/>
          <p:nvPr/>
        </p:nvPicPr>
        <p:blipFill>
          <a:blip r:embed="rId2"/>
          <a:stretch/>
        </p:blipFill>
        <p:spPr>
          <a:xfrm>
            <a:off x="7883640" y="4344840"/>
            <a:ext cx="718920" cy="71928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14"/>
          <p:cNvSpPr/>
          <p:nvPr/>
        </p:nvSpPr>
        <p:spPr>
          <a:xfrm>
            <a:off x="3348000" y="1463760"/>
            <a:ext cx="649440" cy="647640"/>
          </a:xfrm>
          <a:custGeom>
            <a:avLst/>
            <a:gdLst>
              <a:gd name="textAreaLeft" fmla="*/ 95040 w 649440"/>
              <a:gd name="textAreaRight" fmla="*/ 554400 w 649440"/>
              <a:gd name="textAreaTop" fmla="*/ 94680 h 647640"/>
              <a:gd name="textAreaBottom" fmla="*/ 5529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96" descr="j0433892[1]"/>
          <p:cNvPicPr/>
          <p:nvPr/>
        </p:nvPicPr>
        <p:blipFill>
          <a:blip r:embed="rId3"/>
          <a:stretch/>
        </p:blipFill>
        <p:spPr>
          <a:xfrm>
            <a:off x="3203640" y="30481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40" name="TextBox 63"/>
          <p:cNvSpPr/>
          <p:nvPr/>
        </p:nvSpPr>
        <p:spPr>
          <a:xfrm>
            <a:off x="3277800" y="4343400"/>
            <a:ext cx="144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уровне 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AutoShape 21"/>
          <p:cNvCxnSpPr>
            <a:endCxn id="242" idx="0"/>
          </p:cNvCxnSpPr>
          <p:nvPr/>
        </p:nvCxnSpPr>
        <p:spPr>
          <a:xfrm flipH="1" rot="16200000">
            <a:off x="369720" y="3165120"/>
            <a:ext cx="2067840" cy="721440"/>
          </a:xfrm>
          <a:prstGeom prst="bentConnector3">
            <a:avLst>
              <a:gd name="adj1" fmla="val 4999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3" name="Group 24"/>
          <p:cNvGrpSpPr/>
          <p:nvPr/>
        </p:nvGrpSpPr>
        <p:grpSpPr>
          <a:xfrm>
            <a:off x="1332000" y="4559400"/>
            <a:ext cx="1270800" cy="1100880"/>
            <a:chOff x="1332000" y="4559400"/>
            <a:chExt cx="1270800" cy="1100880"/>
          </a:xfrm>
        </p:grpSpPr>
        <p:pic>
          <p:nvPicPr>
            <p:cNvPr id="244" name="Picture 22" descr="MC900434867[1]"/>
            <p:cNvPicPr/>
            <p:nvPr/>
          </p:nvPicPr>
          <p:blipFill>
            <a:blip r:embed="rId4"/>
            <a:stretch/>
          </p:blipFill>
          <p:spPr>
            <a:xfrm>
              <a:off x="1332000" y="4559400"/>
              <a:ext cx="8632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23"/>
            <p:cNvSpPr/>
            <p:nvPr/>
          </p:nvSpPr>
          <p:spPr>
            <a:xfrm>
              <a:off x="1337040" y="532296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тчет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6" name="AutoShape 25"/>
          <p:cNvCxnSpPr>
            <a:stCxn id="244" idx="3"/>
            <a:endCxn id="239" idx="1"/>
          </p:cNvCxnSpPr>
          <p:nvPr/>
        </p:nvCxnSpPr>
        <p:spPr>
          <a:xfrm flipV="1">
            <a:off x="2195640" y="3695400"/>
            <a:ext cx="1008720" cy="1296000"/>
          </a:xfrm>
          <a:prstGeom prst="bentConnector3">
            <a:avLst>
              <a:gd name="adj1" fmla="val 4991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AutoShape 28"/>
          <p:cNvCxnSpPr>
            <a:stCxn id="240" idx="2"/>
            <a:endCxn id="248" idx="1"/>
          </p:cNvCxnSpPr>
          <p:nvPr/>
        </p:nvCxnSpPr>
        <p:spPr>
          <a:xfrm rot="5400000">
            <a:off x="3628440" y="5194080"/>
            <a:ext cx="643320" cy="104040"/>
          </a:xfrm>
          <a:prstGeom prst="bentConnector3">
            <a:avLst>
              <a:gd name="adj1" fmla="val 498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9" name="Group 30"/>
          <p:cNvGrpSpPr/>
          <p:nvPr/>
        </p:nvGrpSpPr>
        <p:grpSpPr>
          <a:xfrm>
            <a:off x="3348000" y="5567400"/>
            <a:ext cx="1153440" cy="957960"/>
            <a:chOff x="3348000" y="5567400"/>
            <a:chExt cx="1153440" cy="957960"/>
          </a:xfrm>
        </p:grpSpPr>
        <p:sp>
          <p:nvSpPr>
            <p:cNvPr id="248" name="Letter"/>
            <p:cNvSpPr/>
            <p:nvPr/>
          </p:nvSpPr>
          <p:spPr>
            <a:xfrm>
              <a:off x="3348000" y="5567400"/>
              <a:ext cx="1100160" cy="519120"/>
            </a:xfrm>
            <a:custGeom>
              <a:avLst/>
              <a:gdLst>
                <a:gd name="textAreaLeft" fmla="*/ 269640 w 1100160"/>
                <a:gd name="textAreaRight" fmla="*/ 892440 w 1100160"/>
                <a:gd name="textAreaTop" fmla="*/ 222120 h 519120"/>
                <a:gd name="textAreaBottom" fmla="*/ 44136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" y="0"/>
                  </a:moveTo>
                  <a:lnTo>
                    <a:pt x="21600" y="0"/>
                  </a:lnTo>
                  <a:lnTo>
                    <a:pt x="21600" y="21628"/>
                  </a:lnTo>
                  <a:lnTo>
                    <a:pt x="14" y="21628"/>
                  </a:lnTo>
                  <a:lnTo>
                    <a:pt x="14" y="0"/>
                  </a:lnTo>
                  <a:close/>
                </a:path>
                <a:path w="21600" h="21600">
                  <a:moveTo>
                    <a:pt x="18476" y="2035"/>
                  </a:moveTo>
                  <a:lnTo>
                    <a:pt x="20539" y="2035"/>
                  </a:lnTo>
                  <a:lnTo>
                    <a:pt x="20539" y="6559"/>
                  </a:lnTo>
                  <a:lnTo>
                    <a:pt x="18476" y="6559"/>
                  </a:lnTo>
                  <a:lnTo>
                    <a:pt x="18476" y="2035"/>
                  </a:lnTo>
                  <a:close/>
                </a:path>
                <a:path w="21600" h="21600">
                  <a:moveTo>
                    <a:pt x="884" y="2092"/>
                  </a:moveTo>
                  <a:lnTo>
                    <a:pt x="7425" y="2092"/>
                  </a:lnTo>
                  <a:lnTo>
                    <a:pt x="7425" y="2770"/>
                  </a:lnTo>
                  <a:lnTo>
                    <a:pt x="884" y="2770"/>
                  </a:lnTo>
                  <a:lnTo>
                    <a:pt x="884" y="2092"/>
                  </a:lnTo>
                  <a:close/>
                </a:path>
                <a:path w="21600" h="21600">
                  <a:moveTo>
                    <a:pt x="884" y="3109"/>
                  </a:moveTo>
                  <a:lnTo>
                    <a:pt x="7425" y="3109"/>
                  </a:lnTo>
                  <a:lnTo>
                    <a:pt x="7425" y="3788"/>
                  </a:lnTo>
                  <a:lnTo>
                    <a:pt x="884" y="3788"/>
                  </a:lnTo>
                  <a:lnTo>
                    <a:pt x="884" y="3109"/>
                  </a:lnTo>
                  <a:close/>
                </a:path>
                <a:path w="21600" h="21600">
                  <a:moveTo>
                    <a:pt x="884" y="4127"/>
                  </a:moveTo>
                  <a:lnTo>
                    <a:pt x="7425" y="4127"/>
                  </a:lnTo>
                  <a:lnTo>
                    <a:pt x="7425" y="4806"/>
                  </a:lnTo>
                  <a:lnTo>
                    <a:pt x="884" y="4806"/>
                  </a:lnTo>
                  <a:lnTo>
                    <a:pt x="884" y="4127"/>
                  </a:lnTo>
                  <a:close/>
                </a:path>
                <a:path w="21600" h="21600">
                  <a:moveTo>
                    <a:pt x="5127" y="5145"/>
                  </a:moveTo>
                  <a:lnTo>
                    <a:pt x="7425" y="5145"/>
                  </a:lnTo>
                  <a:lnTo>
                    <a:pt x="7425" y="5824"/>
                  </a:lnTo>
                  <a:lnTo>
                    <a:pt x="5127" y="5824"/>
                  </a:lnTo>
                  <a:lnTo>
                    <a:pt x="5127" y="514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9"/>
            <p:cNvSpPr/>
            <p:nvPr/>
          </p:nvSpPr>
          <p:spPr>
            <a:xfrm>
              <a:off x="3423240" y="6188040"/>
              <a:ext cx="107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отоко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AutoShape 32"/>
          <p:cNvSpPr/>
          <p:nvPr/>
        </p:nvSpPr>
        <p:spPr>
          <a:xfrm>
            <a:off x="5291280" y="4200480"/>
            <a:ext cx="1655640" cy="863640"/>
          </a:xfrm>
          <a:prstGeom prst="flowChartDecis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шиб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AutoShape 33"/>
          <p:cNvCxnSpPr>
            <a:endCxn id="251" idx="2"/>
          </p:cNvCxnSpPr>
          <p:nvPr/>
        </p:nvCxnSpPr>
        <p:spPr>
          <a:xfrm flipV="1">
            <a:off x="4427640" y="5073120"/>
            <a:ext cx="1692720" cy="766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AutoShape 34"/>
          <p:cNvCxnSpPr/>
          <p:nvPr/>
        </p:nvCxnSpPr>
        <p:spPr>
          <a:xfrm flipH="1" flipV="1" rot="5400000">
            <a:off x="5859720" y="3581640"/>
            <a:ext cx="846720" cy="397800"/>
          </a:xfrm>
          <a:prstGeom prst="bentConnector3">
            <a:avLst>
              <a:gd name="adj1" fmla="val 4989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35"/>
          <p:cNvCxnSpPr>
            <a:stCxn id="251" idx="3"/>
            <a:endCxn id="237" idx="1"/>
          </p:cNvCxnSpPr>
          <p:nvPr/>
        </p:nvCxnSpPr>
        <p:spPr>
          <a:xfrm>
            <a:off x="6956280" y="4632480"/>
            <a:ext cx="928080" cy="73440"/>
          </a:xfrm>
          <a:prstGeom prst="bentConnector3">
            <a:avLst>
              <a:gd name="adj1" fmla="val 4928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Text Box 36"/>
          <p:cNvSpPr/>
          <p:nvPr/>
        </p:nvSpPr>
        <p:spPr>
          <a:xfrm>
            <a:off x="7094880" y="429264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6157800" y="378936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9"/>
          <p:cNvSpPr/>
          <p:nvPr/>
        </p:nvSpPr>
        <p:spPr>
          <a:xfrm>
            <a:off x="5508720" y="2255760"/>
            <a:ext cx="2014560" cy="1079640"/>
          </a:xfrm>
          <a:prstGeom prst="flowChartDecis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0059"/>
                </a:solidFill>
                <a:latin typeface="Arial"/>
              </a:rPr>
              <a:t>Допустим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AutoShape 40"/>
          <p:cNvCxnSpPr>
            <a:stCxn id="257" idx="3"/>
            <a:endCxn id="237" idx="0"/>
          </p:cNvCxnSpPr>
          <p:nvPr/>
        </p:nvCxnSpPr>
        <p:spPr>
          <a:xfrm>
            <a:off x="7532640" y="2795400"/>
            <a:ext cx="712080" cy="1549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Text Box 41"/>
          <p:cNvSpPr/>
          <p:nvPr/>
        </p:nvSpPr>
        <p:spPr>
          <a:xfrm>
            <a:off x="7597800" y="242100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42"/>
          <p:cNvCxnSpPr>
            <a:stCxn id="257" idx="1"/>
          </p:cNvCxnSpPr>
          <p:nvPr/>
        </p:nvCxnSpPr>
        <p:spPr>
          <a:xfrm rot="10800000">
            <a:off x="3994920" y="1772640"/>
            <a:ext cx="1504080" cy="1023120"/>
          </a:xfrm>
          <a:prstGeom prst="bentConnector3">
            <a:avLst>
              <a:gd name="adj1" fmla="val 4962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Text Box 43"/>
          <p:cNvSpPr/>
          <p:nvPr/>
        </p:nvSpPr>
        <p:spPr>
          <a:xfrm>
            <a:off x="4934160" y="242100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5"/>
          <p:cNvSpPr/>
          <p:nvPr/>
        </p:nvSpPr>
        <p:spPr>
          <a:xfrm>
            <a:off x="1403280" y="189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ы контроля 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30"/>
          <p:cNvGrpSpPr/>
          <p:nvPr/>
        </p:nvGrpSpPr>
        <p:grpSpPr>
          <a:xfrm>
            <a:off x="399600" y="1911240"/>
            <a:ext cx="1259640" cy="1587600"/>
            <a:chOff x="399600" y="1911240"/>
            <a:chExt cx="1259640" cy="1587600"/>
          </a:xfrm>
        </p:grpSpPr>
        <p:pic>
          <p:nvPicPr>
            <p:cNvPr id="264" name="Picture 31" descr="MC900434867[1]"/>
            <p:cNvPicPr/>
            <p:nvPr/>
          </p:nvPicPr>
          <p:blipFill>
            <a:blip r:embed="rId1"/>
            <a:stretch/>
          </p:blipFill>
          <p:spPr>
            <a:xfrm>
              <a:off x="401400" y="1911240"/>
              <a:ext cx="86364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32"/>
            <p:cNvSpPr/>
            <p:nvPr/>
          </p:nvSpPr>
          <p:spPr>
            <a:xfrm>
              <a:off x="399600" y="2674800"/>
              <a:ext cx="125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тче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ф. 05031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ГРБС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33"/>
          <p:cNvGrpSpPr/>
          <p:nvPr/>
        </p:nvGrpSpPr>
        <p:grpSpPr>
          <a:xfrm>
            <a:off x="468360" y="4719600"/>
            <a:ext cx="1296720" cy="1356840"/>
            <a:chOff x="468360" y="4719600"/>
            <a:chExt cx="1296720" cy="1356840"/>
          </a:xfrm>
        </p:grpSpPr>
        <p:pic>
          <p:nvPicPr>
            <p:cNvPr id="267" name="Picture 34" descr="MC900434867[1]"/>
            <p:cNvPicPr/>
            <p:nvPr/>
          </p:nvPicPr>
          <p:blipFill>
            <a:blip r:embed="rId2"/>
            <a:stretch/>
          </p:blipFill>
          <p:spPr>
            <a:xfrm>
              <a:off x="473040" y="4719600"/>
              <a:ext cx="8852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35"/>
            <p:cNvSpPr/>
            <p:nvPr/>
          </p:nvSpPr>
          <p:spPr>
            <a:xfrm>
              <a:off x="468360" y="5495760"/>
              <a:ext cx="129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тче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ф. 05031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36"/>
          <p:cNvGrpSpPr/>
          <p:nvPr/>
        </p:nvGrpSpPr>
        <p:grpSpPr>
          <a:xfrm>
            <a:off x="2941200" y="1839960"/>
            <a:ext cx="1259640" cy="1587600"/>
            <a:chOff x="2941200" y="1839960"/>
            <a:chExt cx="1259640" cy="1587600"/>
          </a:xfrm>
        </p:grpSpPr>
        <p:pic>
          <p:nvPicPr>
            <p:cNvPr id="270" name="Picture 37" descr="MC900434867[1]"/>
            <p:cNvPicPr/>
            <p:nvPr/>
          </p:nvPicPr>
          <p:blipFill>
            <a:blip r:embed="rId3"/>
            <a:stretch/>
          </p:blipFill>
          <p:spPr>
            <a:xfrm>
              <a:off x="2943000" y="1839960"/>
              <a:ext cx="86364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38"/>
            <p:cNvSpPr/>
            <p:nvPr/>
          </p:nvSpPr>
          <p:spPr>
            <a:xfrm>
              <a:off x="2941200" y="2603520"/>
              <a:ext cx="125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тче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ф. 050312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ФК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39"/>
          <p:cNvGrpSpPr/>
          <p:nvPr/>
        </p:nvGrpSpPr>
        <p:grpSpPr>
          <a:xfrm>
            <a:off x="2866680" y="4576680"/>
            <a:ext cx="1413720" cy="1587600"/>
            <a:chOff x="2866680" y="4576680"/>
            <a:chExt cx="1413720" cy="1587600"/>
          </a:xfrm>
        </p:grpSpPr>
        <p:pic>
          <p:nvPicPr>
            <p:cNvPr id="273" name="Picture 40" descr="MC900434867[1]"/>
            <p:cNvPicPr/>
            <p:nvPr/>
          </p:nvPicPr>
          <p:blipFill>
            <a:blip r:embed="rId4"/>
            <a:stretch/>
          </p:blipFill>
          <p:spPr>
            <a:xfrm>
              <a:off x="2943000" y="4576680"/>
              <a:ext cx="8632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41"/>
            <p:cNvSpPr/>
            <p:nvPr/>
          </p:nvSpPr>
          <p:spPr>
            <a:xfrm>
              <a:off x="2866680" y="5340240"/>
              <a:ext cx="1413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тче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ф. 05031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Фин. орган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5" name="AutoShape 42"/>
          <p:cNvCxnSpPr>
            <a:endCxn id="271" idx="1"/>
          </p:cNvCxnSpPr>
          <p:nvPr/>
        </p:nvCxnSpPr>
        <p:spPr>
          <a:xfrm flipV="1">
            <a:off x="1692000" y="3015360"/>
            <a:ext cx="1246680" cy="48600"/>
          </a:xfrm>
          <a:prstGeom prst="bentConnector3">
            <a:avLst>
              <a:gd name="adj1" fmla="val 49913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6" name="AutoShape 43"/>
          <p:cNvCxnSpPr>
            <a:endCxn id="274" idx="1"/>
          </p:cNvCxnSpPr>
          <p:nvPr/>
        </p:nvCxnSpPr>
        <p:spPr>
          <a:xfrm flipV="1">
            <a:off x="1765080" y="5752800"/>
            <a:ext cx="1097640" cy="8640"/>
          </a:xfrm>
          <a:prstGeom prst="bentConnector3">
            <a:avLst>
              <a:gd name="adj1" fmla="val 4990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7" name="AutoShape 44"/>
          <p:cNvCxnSpPr/>
          <p:nvPr/>
        </p:nvCxnSpPr>
        <p:spPr>
          <a:xfrm flipH="1" flipV="1" rot="5400000">
            <a:off x="348840" y="4047480"/>
            <a:ext cx="1220040" cy="1148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78" name="Group 45"/>
          <p:cNvGrpSpPr/>
          <p:nvPr/>
        </p:nvGrpSpPr>
        <p:grpSpPr>
          <a:xfrm>
            <a:off x="5150880" y="1911240"/>
            <a:ext cx="1259640" cy="1587600"/>
            <a:chOff x="5150880" y="1911240"/>
            <a:chExt cx="1259640" cy="1587600"/>
          </a:xfrm>
        </p:grpSpPr>
        <p:pic>
          <p:nvPicPr>
            <p:cNvPr id="279" name="Picture 46" descr="MC900434867[1]"/>
            <p:cNvPicPr/>
            <p:nvPr/>
          </p:nvPicPr>
          <p:blipFill>
            <a:blip r:embed="rId5"/>
            <a:stretch/>
          </p:blipFill>
          <p:spPr>
            <a:xfrm>
              <a:off x="5152680" y="1911240"/>
              <a:ext cx="8632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47"/>
            <p:cNvSpPr/>
            <p:nvPr/>
          </p:nvSpPr>
          <p:spPr>
            <a:xfrm>
              <a:off x="5150880" y="2674800"/>
              <a:ext cx="125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тче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ф. 05031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ГРБС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48"/>
          <p:cNvGrpSpPr/>
          <p:nvPr/>
        </p:nvGrpSpPr>
        <p:grpSpPr>
          <a:xfrm>
            <a:off x="5219640" y="4719600"/>
            <a:ext cx="1296720" cy="1356840"/>
            <a:chOff x="5219640" y="4719600"/>
            <a:chExt cx="1296720" cy="1356840"/>
          </a:xfrm>
        </p:grpSpPr>
        <p:pic>
          <p:nvPicPr>
            <p:cNvPr id="282" name="Picture 49" descr="MC900434867[1]"/>
            <p:cNvPicPr/>
            <p:nvPr/>
          </p:nvPicPr>
          <p:blipFill>
            <a:blip r:embed="rId6"/>
            <a:stretch/>
          </p:blipFill>
          <p:spPr>
            <a:xfrm>
              <a:off x="5224320" y="4719600"/>
              <a:ext cx="8852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 Box 50"/>
            <p:cNvSpPr/>
            <p:nvPr/>
          </p:nvSpPr>
          <p:spPr>
            <a:xfrm>
              <a:off x="5219640" y="5495760"/>
              <a:ext cx="129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тче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ф. 05031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51"/>
          <p:cNvGrpSpPr/>
          <p:nvPr/>
        </p:nvGrpSpPr>
        <p:grpSpPr>
          <a:xfrm>
            <a:off x="7692480" y="1839960"/>
            <a:ext cx="1259640" cy="1587600"/>
            <a:chOff x="7692480" y="1839960"/>
            <a:chExt cx="1259640" cy="1587600"/>
          </a:xfrm>
        </p:grpSpPr>
        <p:pic>
          <p:nvPicPr>
            <p:cNvPr id="285" name="Picture 52" descr="MC900434867[1]"/>
            <p:cNvPicPr/>
            <p:nvPr/>
          </p:nvPicPr>
          <p:blipFill>
            <a:blip r:embed="rId7"/>
            <a:stretch/>
          </p:blipFill>
          <p:spPr>
            <a:xfrm>
              <a:off x="7694280" y="1839960"/>
              <a:ext cx="8632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53"/>
            <p:cNvSpPr/>
            <p:nvPr/>
          </p:nvSpPr>
          <p:spPr>
            <a:xfrm>
              <a:off x="7692480" y="2603520"/>
              <a:ext cx="125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тче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ф. 050312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ФК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54"/>
          <p:cNvGrpSpPr/>
          <p:nvPr/>
        </p:nvGrpSpPr>
        <p:grpSpPr>
          <a:xfrm>
            <a:off x="7617960" y="4576680"/>
            <a:ext cx="1413720" cy="1587600"/>
            <a:chOff x="7617960" y="4576680"/>
            <a:chExt cx="1413720" cy="1587600"/>
          </a:xfrm>
        </p:grpSpPr>
        <p:pic>
          <p:nvPicPr>
            <p:cNvPr id="288" name="Picture 55" descr="MC900434867[1]"/>
            <p:cNvPicPr/>
            <p:nvPr/>
          </p:nvPicPr>
          <p:blipFill>
            <a:blip r:embed="rId8"/>
            <a:stretch/>
          </p:blipFill>
          <p:spPr>
            <a:xfrm>
              <a:off x="7694280" y="4576680"/>
              <a:ext cx="8632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Text Box 56"/>
            <p:cNvSpPr/>
            <p:nvPr/>
          </p:nvSpPr>
          <p:spPr>
            <a:xfrm>
              <a:off x="7617960" y="5340240"/>
              <a:ext cx="1413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тче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ф. 05031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Фин. орган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AutoShape 57"/>
          <p:cNvCxnSpPr>
            <a:endCxn id="286" idx="1"/>
          </p:cNvCxnSpPr>
          <p:nvPr/>
        </p:nvCxnSpPr>
        <p:spPr>
          <a:xfrm flipV="1">
            <a:off x="6443640" y="3015360"/>
            <a:ext cx="1246680" cy="48600"/>
          </a:xfrm>
          <a:prstGeom prst="bentConnector3">
            <a:avLst>
              <a:gd name="adj1" fmla="val 49942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1" name="AutoShape 59"/>
          <p:cNvCxnSpPr/>
          <p:nvPr/>
        </p:nvCxnSpPr>
        <p:spPr>
          <a:xfrm flipH="1" flipV="1" rot="5400000">
            <a:off x="5100480" y="4047480"/>
            <a:ext cx="1220040" cy="1152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2" name="Line 60"/>
          <p:cNvSpPr/>
          <p:nvPr/>
        </p:nvSpPr>
        <p:spPr>
          <a:xfrm>
            <a:off x="4572000" y="1125360"/>
            <a:ext cx="0" cy="5328000"/>
          </a:xfrm>
          <a:prstGeom prst="line">
            <a:avLst/>
          </a:prstGeom>
          <a:ln w="2232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1"/>
          <p:cNvSpPr/>
          <p:nvPr/>
        </p:nvSpPr>
        <p:spPr>
          <a:xfrm>
            <a:off x="6732720" y="5373720"/>
            <a:ext cx="649080" cy="647640"/>
          </a:xfrm>
          <a:custGeom>
            <a:avLst/>
            <a:gdLst>
              <a:gd name="textAreaLeft" fmla="*/ 95040 w 649080"/>
              <a:gd name="textAreaRight" fmla="*/ 554040 w 649080"/>
              <a:gd name="textAreaTop" fmla="*/ 94680 h 647640"/>
              <a:gd name="textAreaBottom" fmla="*/ 5529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2"/>
          <p:cNvSpPr/>
          <p:nvPr/>
        </p:nvSpPr>
        <p:spPr>
          <a:xfrm>
            <a:off x="1595880" y="128916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реб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3"/>
          <p:cNvSpPr/>
          <p:nvPr/>
        </p:nvSpPr>
        <p:spPr>
          <a:xfrm>
            <a:off x="6054120" y="12682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AutoShape 64"/>
          <p:cNvCxnSpPr/>
          <p:nvPr/>
        </p:nvCxnSpPr>
        <p:spPr>
          <a:xfrm flipV="1">
            <a:off x="6516360" y="5733360"/>
            <a:ext cx="1097640" cy="34200"/>
          </a:xfrm>
          <a:prstGeom prst="bentConnector3">
            <a:avLst>
              <a:gd name="adj1" fmla="val 4990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77"/>
          <p:cNvSpPr/>
          <p:nvPr/>
        </p:nvSpPr>
        <p:spPr>
          <a:xfrm>
            <a:off x="2968560" y="2894040"/>
            <a:ext cx="1332000" cy="1112760"/>
          </a:xfrm>
          <a:custGeom>
            <a:avLst/>
            <a:gdLst>
              <a:gd name="textAreaLeft" fmla="*/ 194760 w 1332000"/>
              <a:gd name="textAreaRight" fmla="*/ 1137240 w 1332000"/>
              <a:gd name="textAreaTop" fmla="*/ 162720 h 1112760"/>
              <a:gd name="textAreaBottom" fmla="*/ 950040 h 1112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433440" y="1353960"/>
            <a:ext cx="8494920" cy="42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3000" spc="-1" strike="noStrike" u="sng">
                <a:solidFill>
                  <a:srgbClr val="000066"/>
                </a:solidFill>
                <a:uFillTx/>
                <a:latin typeface="Arial"/>
              </a:rPr>
              <a:t>Годовая отчетность за 2013 год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3000" spc="-1" strike="noStrike" u="sng">
                <a:solidFill>
                  <a:srgbClr val="000066"/>
                </a:solidFill>
                <a:uFillTx/>
                <a:latin typeface="Arial"/>
              </a:rPr>
              <a:t>отчетность в 2014 год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ПО СЭД - </a:t>
            </a: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ППО СУФ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Письмо Федерального казначейст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от 22.10.2013 № 42-7.4-05/10.6- 646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- 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3"/>
          <p:cNvSpPr/>
          <p:nvPr/>
        </p:nvSpPr>
        <p:spPr>
          <a:xfrm>
            <a:off x="684360" y="1773360"/>
            <a:ext cx="797544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Arial"/>
              </a:rPr>
              <a:t>Требования к форматам и способам передач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Arial"/>
              </a:rPr>
              <a:t>отчетности в электронном виде (Требования)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документ регламентирующий </a:t>
            </a:r>
            <a:r>
              <a:rPr b="1" lang="ru-RU" sz="2100" spc="-1" strike="noStrike" u="sng">
                <a:solidFill>
                  <a:srgbClr val="000066"/>
                </a:solidFill>
                <a:uFillTx/>
                <a:latin typeface="Arial"/>
              </a:rPr>
              <a:t>порядок представления данных отчетности в электронном, структурированном виде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для возможности осуществления их передачи в автоматизированные системы Федерального казначейст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100" spc="-1" strike="noStrike" u="sng">
                <a:solidFill>
                  <a:srgbClr val="000066"/>
                </a:solidFill>
                <a:uFillTx/>
                <a:latin typeface="Arial"/>
              </a:rPr>
              <a:t>Требования не определяют методологию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отражения показателей в формах бюджетной отчетности,  а отражают лишь «правила» их трансформации в структурированное представл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- 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324000" y="112536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Требования к форматам информационного обмен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27000" y="6086520"/>
            <a:ext cx="90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7bbfd"/>
                </a:solidFill>
                <a:uFillTx/>
                <a:latin typeface="Arial"/>
                <a:hlinkClick r:id="rId1"/>
              </a:rPr>
              <a:t>www.roskazna.ru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-&gt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тодический кабинет 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Информационны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- 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324000" y="112536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Требования к форматам информационного обмен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79280" y="1933560"/>
            <a:ext cx="87696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Отчет ф. 0503177,  </a:t>
            </a: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Инструкция № 191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宋体"/>
              </a:rPr>
              <a:t>. в графе 3 Сведений ф. 0503177 показатели ……….. с указанием </a:t>
            </a: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  <a:ea typeface="宋体"/>
              </a:rPr>
              <a:t>кода главного распорядителя средств федерального бюджета, раздела, подраздела, целевой статьи расходов бюджетной классификац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宋体"/>
              </a:rPr>
              <a:t>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66"/>
                </a:solidFill>
                <a:uFillTx/>
                <a:latin typeface="Arial"/>
              </a:rPr>
              <a:t>Требования к форматам файлов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ПП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азделПодраздел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Целевая статья</a:t>
            </a:r>
            <a:r>
              <a:rPr b="1" lang="en-US" sz="2100" spc="-1" strike="noStrike">
                <a:solidFill>
                  <a:srgbClr val="e40059"/>
                </a:solidFill>
                <a:latin typeface="Arial"/>
              </a:rPr>
              <a:t>|</a:t>
            </a:r>
            <a:r>
              <a:rPr b="1" lang="ru-RU" sz="2100" spc="-1" strike="noStrike">
                <a:solidFill>
                  <a:srgbClr val="e40059"/>
                </a:solidFill>
                <a:latin typeface="Arial"/>
              </a:rPr>
              <a:t>Вид расходов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1900" spc="-1" strike="noStrike">
                <a:solidFill>
                  <a:srgbClr val="e40059"/>
                </a:solidFill>
                <a:latin typeface="Arial"/>
              </a:rPr>
              <a:t>КОСГ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Сформированный отч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32|054|0804|0011500|</a:t>
            </a:r>
            <a:r>
              <a:rPr b="1" lang="ru-RU" sz="2400" spc="-1" strike="noStrike">
                <a:solidFill>
                  <a:srgbClr val="e40059"/>
                </a:solidFill>
                <a:latin typeface="Arial"/>
              </a:rPr>
              <a:t>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400" spc="-1" strike="noStrike">
                <a:solidFill>
                  <a:srgbClr val="e40059"/>
                </a:solidFill>
                <a:latin typeface="Arial"/>
              </a:rPr>
              <a:t>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|300229,72|…………………………………………..|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60A0-B4C0-4239-B7B1-36FBEFAFACBE}" type="slidenum">
              <a:rPr b="0" lang="en-US" sz="1200" spc="-1" strike="noStrike">
                <a:solidFill>
                  <a:srgbClr val="87878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2"/>
          <p:cNvSpPr/>
          <p:nvPr/>
        </p:nvSpPr>
        <p:spPr>
          <a:xfrm>
            <a:off x="8694720" y="6230880"/>
            <a:ext cx="314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B738-974F-40DA-9D9C-AF422C83FF44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3"/>
          <p:cNvSpPr/>
          <p:nvPr/>
        </p:nvSpPr>
        <p:spPr>
          <a:xfrm>
            <a:off x="324000" y="363600"/>
            <a:ext cx="85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4"/>
          <p:cNvSpPr/>
          <p:nvPr/>
        </p:nvSpPr>
        <p:spPr>
          <a:xfrm>
            <a:off x="2556000" y="1628640"/>
            <a:ext cx="49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5" descr="circle_422_239"/>
          <p:cNvPicPr/>
          <p:nvPr/>
        </p:nvPicPr>
        <p:blipFill>
          <a:blip r:embed="rId2"/>
          <a:stretch/>
        </p:blipFill>
        <p:spPr>
          <a:xfrm>
            <a:off x="3203640" y="2781360"/>
            <a:ext cx="3089160" cy="193176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6"/>
          <p:cNvSpPr/>
          <p:nvPr/>
        </p:nvSpPr>
        <p:spPr>
          <a:xfrm>
            <a:off x="4695840" y="5013360"/>
            <a:ext cx="18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324000" y="1052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Годовая отчетность за 201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2"/>
          <p:cNvGrpSpPr/>
          <p:nvPr/>
        </p:nvGrpSpPr>
        <p:grpSpPr>
          <a:xfrm>
            <a:off x="2195640" y="1770120"/>
            <a:ext cx="1895400" cy="1009440"/>
            <a:chOff x="2195640" y="1770120"/>
            <a:chExt cx="1895400" cy="1009440"/>
          </a:xfrm>
        </p:grpSpPr>
        <p:pic>
          <p:nvPicPr>
            <p:cNvPr id="59" name="Picture 8" descr="i?id=106927965-45-72&amp;n=16"/>
            <p:cNvPicPr/>
            <p:nvPr/>
          </p:nvPicPr>
          <p:blipFill>
            <a:blip r:embed="rId1"/>
            <a:stretch/>
          </p:blipFill>
          <p:spPr>
            <a:xfrm>
              <a:off x="2867040" y="1770120"/>
              <a:ext cx="50004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8"/>
            <p:cNvSpPr/>
            <p:nvPr/>
          </p:nvSpPr>
          <p:spPr>
            <a:xfrm>
              <a:off x="2195640" y="2411280"/>
              <a:ext cx="189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инфин Росс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AutoShape 20"/>
          <p:cNvSpPr/>
          <p:nvPr/>
        </p:nvSpPr>
        <p:spPr>
          <a:xfrm>
            <a:off x="324000" y="4148280"/>
            <a:ext cx="2788920" cy="23050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Инструкц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№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191н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Инструкц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№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33н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- Особенности представления в ФК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34"/>
          <p:cNvGrpSpPr/>
          <p:nvPr/>
        </p:nvGrpSpPr>
        <p:grpSpPr>
          <a:xfrm>
            <a:off x="4287240" y="1627200"/>
            <a:ext cx="3117600" cy="1153800"/>
            <a:chOff x="4287240" y="1627200"/>
            <a:chExt cx="3117600" cy="1153800"/>
          </a:xfrm>
        </p:grpSpPr>
        <p:sp>
          <p:nvSpPr>
            <p:cNvPr id="63" name="Text Box 19"/>
            <p:cNvSpPr/>
            <p:nvPr/>
          </p:nvSpPr>
          <p:spPr>
            <a:xfrm>
              <a:off x="4287240" y="2412720"/>
              <a:ext cx="311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едеральное казначей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30" descr="FK"/>
            <p:cNvPicPr/>
            <p:nvPr/>
          </p:nvPicPr>
          <p:blipFill>
            <a:blip r:embed="rId2"/>
            <a:stretch/>
          </p:blipFill>
          <p:spPr>
            <a:xfrm>
              <a:off x="5508720" y="1627200"/>
              <a:ext cx="647640" cy="64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1835280" y="1555920"/>
            <a:ext cx="5688000" cy="12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AutoShape 36"/>
          <p:cNvCxnSpPr>
            <a:stCxn id="68" idx="2"/>
            <a:endCxn id="61" idx="0"/>
          </p:cNvCxnSpPr>
          <p:nvPr/>
        </p:nvCxnSpPr>
        <p:spPr>
          <a:xfrm flipH="1">
            <a:off x="1718640" y="3879720"/>
            <a:ext cx="1080" cy="269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AutoShape 39"/>
          <p:cNvSpPr/>
          <p:nvPr/>
        </p:nvSpPr>
        <p:spPr>
          <a:xfrm>
            <a:off x="324000" y="3213000"/>
            <a:ext cx="2788920" cy="66672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етодолог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0"/>
          <p:cNvSpPr/>
          <p:nvPr/>
        </p:nvSpPr>
        <p:spPr>
          <a:xfrm>
            <a:off x="3349800" y="3213000"/>
            <a:ext cx="2708280" cy="64764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рганизационные процеду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1"/>
          <p:cNvSpPr/>
          <p:nvPr/>
        </p:nvSpPr>
        <p:spPr>
          <a:xfrm>
            <a:off x="6300720" y="3213000"/>
            <a:ext cx="2720880" cy="64764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ехнологическое обеспече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2"/>
          <p:cNvSpPr/>
          <p:nvPr/>
        </p:nvSpPr>
        <p:spPr>
          <a:xfrm>
            <a:off x="3348000" y="4148280"/>
            <a:ext cx="2718000" cy="23050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Приказ ФК о сроках представления годовой отчетности за 2013 го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3"/>
          <p:cNvSpPr/>
          <p:nvPr/>
        </p:nvSpPr>
        <p:spPr>
          <a:xfrm>
            <a:off x="6300720" y="4148280"/>
            <a:ext cx="2718000" cy="23050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Порядок представления отчетности в электронном вид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Требования к форматам файл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44"/>
          <p:cNvCxnSpPr>
            <a:stCxn id="69" idx="2"/>
            <a:endCxn id="71" idx="0"/>
          </p:cNvCxnSpPr>
          <p:nvPr/>
        </p:nvCxnSpPr>
        <p:spPr>
          <a:xfrm flipH="1" rot="16200000">
            <a:off x="4560480" y="4002480"/>
            <a:ext cx="288360" cy="3960"/>
          </a:xfrm>
          <a:prstGeom prst="bentConnector3">
            <a:avLst>
              <a:gd name="adj1" fmla="val 496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45"/>
          <p:cNvCxnSpPr>
            <a:stCxn id="70" idx="2"/>
            <a:endCxn id="72" idx="0"/>
          </p:cNvCxnSpPr>
          <p:nvPr/>
        </p:nvCxnSpPr>
        <p:spPr>
          <a:xfrm rot="5400000">
            <a:off x="7516080" y="4003560"/>
            <a:ext cx="288360" cy="2160"/>
          </a:xfrm>
          <a:prstGeom prst="bentConnector3">
            <a:avLst>
              <a:gd name="adj1" fmla="val 496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46"/>
          <p:cNvCxnSpPr>
            <a:stCxn id="66" idx="2"/>
            <a:endCxn id="69" idx="0"/>
          </p:cNvCxnSpPr>
          <p:nvPr/>
        </p:nvCxnSpPr>
        <p:spPr>
          <a:xfrm flipH="1" rot="16200000">
            <a:off x="4475160" y="2984040"/>
            <a:ext cx="434160" cy="24480"/>
          </a:xfrm>
          <a:prstGeom prst="bentConnector3">
            <a:avLst>
              <a:gd name="adj1" fmla="val 4979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47"/>
          <p:cNvCxnSpPr>
            <a:stCxn id="66" idx="2"/>
            <a:endCxn id="68" idx="0"/>
          </p:cNvCxnSpPr>
          <p:nvPr/>
        </p:nvCxnSpPr>
        <p:spPr>
          <a:xfrm rot="5400000">
            <a:off x="2982240" y="1515960"/>
            <a:ext cx="434160" cy="2961360"/>
          </a:xfrm>
          <a:prstGeom prst="bentConnector3">
            <a:avLst>
              <a:gd name="adj1" fmla="val 4979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AutoShape 48"/>
          <p:cNvCxnSpPr>
            <a:stCxn id="66" idx="2"/>
            <a:endCxn id="70" idx="0"/>
          </p:cNvCxnSpPr>
          <p:nvPr/>
        </p:nvCxnSpPr>
        <p:spPr>
          <a:xfrm flipH="1" rot="16200000">
            <a:off x="5952960" y="1505520"/>
            <a:ext cx="434160" cy="2981880"/>
          </a:xfrm>
          <a:prstGeom prst="bentConnector3">
            <a:avLst>
              <a:gd name="adj1" fmla="val 4979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24000" y="112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ы рассмотрения и утверждения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1023480" y="2327400"/>
            <a:ext cx="129276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5848200" y="2327400"/>
            <a:ext cx="206388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убл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3184560" y="3767040"/>
            <a:ext cx="211572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бс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574920" y="5261040"/>
            <a:ext cx="1915920" cy="91476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нес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зме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5993280" y="5638680"/>
            <a:ext cx="223128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твер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 rot="16200000">
            <a:off x="4076640" y="1547280"/>
            <a:ext cx="485640" cy="2232000"/>
          </a:xfrm>
          <a:prstGeom prst="downArrow">
            <a:avLst>
              <a:gd name="adj1" fmla="val 50000"/>
              <a:gd name="adj2" fmla="val 1149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 rot="2393400">
            <a:off x="5292360" y="299736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 rot="2191800">
            <a:off x="2484000" y="443700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 rot="16200000">
            <a:off x="4076640" y="4662000"/>
            <a:ext cx="485640" cy="2232000"/>
          </a:xfrm>
          <a:prstGeom prst="downArrow">
            <a:avLst>
              <a:gd name="adj1" fmla="val 50000"/>
              <a:gd name="adj2" fmla="val 1149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3"/>
          <p:cNvSpPr/>
          <p:nvPr/>
        </p:nvSpPr>
        <p:spPr>
          <a:xfrm>
            <a:off x="5148360" y="3716280"/>
            <a:ext cx="792000" cy="8650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0000"/>
                </a:solidFill>
                <a:latin typeface="Arial"/>
              </a:rPr>
              <a:t>!!!!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- метод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1403280" y="26028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рганизацио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4920" y="1052640"/>
            <a:ext cx="9072720" cy="54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26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Приказ Федерального казначейства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от 20 сентября 2013 г. № 20н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О сроках представления главными распорядителям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редств федерального бюджета, главными администраторами доходов федерального бюджета, главными администраторами источников финансирова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ефицита федерального бюджета в Межрегиональное операционное управление Федерального казначейства сводной месячной, квартальной и годово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ухгалтерской отчетности федеральных бюджетны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 автономных учреждений в 2014 году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C:\Documents and Settings\09IM38p\Local Settings\Temporary Internet Files\Content.IE5\4PNRP4H4\MCj04315860000[1].png"/>
          <p:cNvPicPr/>
          <p:nvPr/>
        </p:nvPicPr>
        <p:blipFill>
          <a:blip r:embed="rId1"/>
          <a:stretch/>
        </p:blipFill>
        <p:spPr>
          <a:xfrm>
            <a:off x="8388360" y="5805360"/>
            <a:ext cx="73188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1403280" y="26028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рганизацио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95120" y="1552680"/>
            <a:ext cx="869796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25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3300" spc="-1" strike="noStrike" u="sng">
                <a:solidFill>
                  <a:srgbClr val="000066"/>
                </a:solidFill>
                <a:uFillTx/>
                <a:latin typeface="Arial"/>
              </a:rPr>
              <a:t>Годовая отчетность за 2013 год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Сверка взаимосвязанны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расчетов на 01.01.2013 к </a:t>
            </a:r>
            <a:r>
              <a:rPr b="0" lang="ru-RU" sz="3700" spc="-1" strike="noStrike" u="sng">
                <a:solidFill>
                  <a:srgbClr val="000000"/>
                </a:solidFill>
                <a:uFillTx/>
                <a:latin typeface="Arial"/>
              </a:rPr>
              <a:t>21.02.201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3700" spc="-1" strike="noStrike">
                <a:solidFill>
                  <a:srgbClr val="000066"/>
                </a:solidFill>
                <a:latin typeface="Arial"/>
              </a:rPr>
              <a:t>Письмо Федерального казначейств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3700" spc="-1" strike="noStrike">
                <a:solidFill>
                  <a:srgbClr val="000066"/>
                </a:solidFill>
                <a:latin typeface="Arial"/>
              </a:rPr>
              <a:t>от 08.11.2013 № 42-7.4-05/2.1- 686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C:\Documents and Settings\09IM38p\Local Settings\Temporary Internet Files\Content.IE5\4PNRP4H4\MCj04315860000[1].png"/>
          <p:cNvPicPr/>
          <p:nvPr/>
        </p:nvPicPr>
        <p:blipFill>
          <a:blip r:embed="rId1"/>
          <a:stretch/>
        </p:blipFill>
        <p:spPr>
          <a:xfrm>
            <a:off x="8388360" y="5805360"/>
            <a:ext cx="73188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- метод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684360" y="1413000"/>
            <a:ext cx="799128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Письмо Минфина России и Федерального казначейства от </a:t>
            </a:r>
            <a:r>
              <a:rPr b="0" lang="ru-RU" sz="3300" spc="-1" strike="noStrike">
                <a:solidFill>
                  <a:srgbClr val="000066"/>
                </a:solidFill>
                <a:latin typeface="Arial"/>
                <a:ea typeface="Arial"/>
              </a:rPr>
              <a:t>26.12.2013 № 02-07-007/57698            № 42-7.4-05/2.3-870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«Об особенностях составления и представления годовой бюджетной отчетности и сводной бухгалтерской отчетности государственных бюджетных и автономных учреждений главными администраторами средств федерального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юджета за 2013 го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755640" y="1844640"/>
            <a:ext cx="1294920" cy="1508400"/>
            <a:chOff x="755640" y="1844640"/>
            <a:chExt cx="1294920" cy="1508400"/>
          </a:xfrm>
        </p:grpSpPr>
        <p:pic>
          <p:nvPicPr>
            <p:cNvPr id="100" name="Picture 5" descr="j0205462"/>
            <p:cNvPicPr/>
            <p:nvPr/>
          </p:nvPicPr>
          <p:blipFill>
            <a:blip r:embed="rId1"/>
            <a:stretch/>
          </p:blipFill>
          <p:spPr>
            <a:xfrm>
              <a:off x="755640" y="1844640"/>
              <a:ext cx="125460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6"/>
            <p:cNvSpPr/>
            <p:nvPr/>
          </p:nvSpPr>
          <p:spPr>
            <a:xfrm>
              <a:off x="755640" y="2832840"/>
              <a:ext cx="1294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инансовые орг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7"/>
          <p:cNvGrpSpPr/>
          <p:nvPr/>
        </p:nvGrpSpPr>
        <p:grpSpPr>
          <a:xfrm>
            <a:off x="7020000" y="1987560"/>
            <a:ext cx="1294920" cy="1295280"/>
            <a:chOff x="7020000" y="1987560"/>
            <a:chExt cx="1294920" cy="1295280"/>
          </a:xfrm>
        </p:grpSpPr>
        <p:pic>
          <p:nvPicPr>
            <p:cNvPr id="103" name="Picture 8" descr="j0205462"/>
            <p:cNvPicPr/>
            <p:nvPr/>
          </p:nvPicPr>
          <p:blipFill>
            <a:blip r:embed="rId2"/>
            <a:stretch/>
          </p:blipFill>
          <p:spPr>
            <a:xfrm>
              <a:off x="7020000" y="1987560"/>
              <a:ext cx="125460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9"/>
            <p:cNvSpPr/>
            <p:nvPr/>
          </p:nvSpPr>
          <p:spPr>
            <a:xfrm>
              <a:off x="7020000" y="2975760"/>
              <a:ext cx="129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ВБ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0"/>
          <p:cNvGrpSpPr/>
          <p:nvPr/>
        </p:nvGrpSpPr>
        <p:grpSpPr>
          <a:xfrm>
            <a:off x="684360" y="5227560"/>
            <a:ext cx="1294920" cy="1295280"/>
            <a:chOff x="684360" y="5227560"/>
            <a:chExt cx="1294920" cy="1295280"/>
          </a:xfrm>
        </p:grpSpPr>
        <p:pic>
          <p:nvPicPr>
            <p:cNvPr id="106" name="Picture 11" descr="j0205462"/>
            <p:cNvPicPr/>
            <p:nvPr/>
          </p:nvPicPr>
          <p:blipFill>
            <a:blip r:embed="rId3"/>
            <a:stretch/>
          </p:blipFill>
          <p:spPr>
            <a:xfrm>
              <a:off x="684360" y="5227560"/>
              <a:ext cx="125460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12"/>
            <p:cNvSpPr/>
            <p:nvPr/>
          </p:nvSpPr>
          <p:spPr>
            <a:xfrm>
              <a:off x="684360" y="6215760"/>
              <a:ext cx="129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7021440" y="5230800"/>
            <a:ext cx="1295280" cy="1295280"/>
            <a:chOff x="7021440" y="5230800"/>
            <a:chExt cx="1295280" cy="1295280"/>
          </a:xfrm>
        </p:grpSpPr>
        <p:pic>
          <p:nvPicPr>
            <p:cNvPr id="109" name="Picture 14" descr="j0205462"/>
            <p:cNvPicPr/>
            <p:nvPr/>
          </p:nvPicPr>
          <p:blipFill>
            <a:blip r:embed="rId4"/>
            <a:stretch/>
          </p:blipFill>
          <p:spPr>
            <a:xfrm>
              <a:off x="7021440" y="5230800"/>
              <a:ext cx="125496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5"/>
            <p:cNvSpPr/>
            <p:nvPr/>
          </p:nvSpPr>
          <p:spPr>
            <a:xfrm>
              <a:off x="7021440" y="6219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ругие ГРБ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6"/>
          <p:cNvGrpSpPr/>
          <p:nvPr/>
        </p:nvGrpSpPr>
        <p:grpSpPr>
          <a:xfrm>
            <a:off x="3851280" y="3573360"/>
            <a:ext cx="1294920" cy="1295280"/>
            <a:chOff x="3851280" y="3573360"/>
            <a:chExt cx="1294920" cy="1295280"/>
          </a:xfrm>
        </p:grpSpPr>
        <p:pic>
          <p:nvPicPr>
            <p:cNvPr id="112" name="Picture 17" descr="j0205462"/>
            <p:cNvPicPr/>
            <p:nvPr/>
          </p:nvPicPr>
          <p:blipFill>
            <a:blip r:embed="rId5"/>
            <a:stretch/>
          </p:blipFill>
          <p:spPr>
            <a:xfrm>
              <a:off x="3851280" y="3573360"/>
              <a:ext cx="125460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Rectangle 18"/>
            <p:cNvSpPr/>
            <p:nvPr/>
          </p:nvSpPr>
          <p:spPr>
            <a:xfrm>
              <a:off x="3851280" y="4561560"/>
              <a:ext cx="129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РБ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4" name="AutoShape 19"/>
          <p:cNvCxnSpPr/>
          <p:nvPr/>
        </p:nvCxnSpPr>
        <p:spPr>
          <a:xfrm flipV="1" rot="10800000">
            <a:off x="1367640" y="4150080"/>
            <a:ext cx="2035800" cy="108036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AutoShape 20"/>
          <p:cNvCxnSpPr/>
          <p:nvPr/>
        </p:nvCxnSpPr>
        <p:spPr>
          <a:xfrm flipV="1" rot="16200000">
            <a:off x="2754000" y="1612080"/>
            <a:ext cx="1008720" cy="248544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AutoShape 21"/>
          <p:cNvCxnSpPr/>
          <p:nvPr/>
        </p:nvCxnSpPr>
        <p:spPr>
          <a:xfrm flipV="1">
            <a:off x="5616720" y="3283920"/>
            <a:ext cx="2088000" cy="86724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AutoShape 22"/>
          <p:cNvCxnSpPr/>
          <p:nvPr/>
        </p:nvCxnSpPr>
        <p:spPr>
          <a:xfrm flipH="1" rot="16200000">
            <a:off x="5390280" y="4050000"/>
            <a:ext cx="780120" cy="255960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8" name="Rectangle 23"/>
          <p:cNvSpPr/>
          <p:nvPr/>
        </p:nvSpPr>
        <p:spPr>
          <a:xfrm>
            <a:off x="3348000" y="3355920"/>
            <a:ext cx="2232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24000" y="112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Взаимосвязанные </a:t>
            </a: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показа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2045520" y="4240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5213880" y="530064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2259000" y="2421000"/>
            <a:ext cx="209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жбюдже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ч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5570640" y="3573360"/>
            <a:ext cx="209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жбюдже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ч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00120" y="1889280"/>
            <a:ext cx="8148600" cy="4416120"/>
          </a:xfrm>
          <a:prstGeom prst="rect">
            <a:avLst/>
          </a:prstGeom>
          <a:noFill/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46120" y="952560"/>
            <a:ext cx="85978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Взаимосвязанные расчеты 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4319640" y="4772160"/>
            <a:ext cx="1244160" cy="1391400"/>
            <a:chOff x="4319640" y="4772160"/>
            <a:chExt cx="1244160" cy="1391400"/>
          </a:xfrm>
        </p:grpSpPr>
        <p:pic>
          <p:nvPicPr>
            <p:cNvPr id="127" name="Picture 5" descr="j0205462"/>
            <p:cNvPicPr/>
            <p:nvPr/>
          </p:nvPicPr>
          <p:blipFill>
            <a:blip r:embed="rId1"/>
            <a:stretch/>
          </p:blipFill>
          <p:spPr>
            <a:xfrm>
              <a:off x="4319640" y="4772160"/>
              <a:ext cx="1205640" cy="9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Rectangle 6"/>
            <p:cNvSpPr/>
            <p:nvPr/>
          </p:nvSpPr>
          <p:spPr>
            <a:xfrm>
              <a:off x="4319640" y="5684400"/>
              <a:ext cx="124416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Автономное учрежд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7"/>
          <p:cNvGrpSpPr/>
          <p:nvPr/>
        </p:nvGrpSpPr>
        <p:grpSpPr>
          <a:xfrm>
            <a:off x="6629400" y="2967120"/>
            <a:ext cx="1758960" cy="1257120"/>
            <a:chOff x="6629400" y="2967120"/>
            <a:chExt cx="1758960" cy="1257120"/>
          </a:xfrm>
        </p:grpSpPr>
        <p:pic>
          <p:nvPicPr>
            <p:cNvPr id="130" name="Picture 8" descr="j0205462"/>
            <p:cNvPicPr/>
            <p:nvPr/>
          </p:nvPicPr>
          <p:blipFill>
            <a:blip r:embed="rId2"/>
            <a:stretch/>
          </p:blipFill>
          <p:spPr>
            <a:xfrm>
              <a:off x="7068960" y="2967120"/>
              <a:ext cx="85176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Rectangle 9"/>
            <p:cNvSpPr/>
            <p:nvPr/>
          </p:nvSpPr>
          <p:spPr>
            <a:xfrm>
              <a:off x="6629400" y="3745080"/>
              <a:ext cx="175896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Бюджетное учрежд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0"/>
          <p:cNvGrpSpPr/>
          <p:nvPr/>
        </p:nvGrpSpPr>
        <p:grpSpPr>
          <a:xfrm>
            <a:off x="1433520" y="2976480"/>
            <a:ext cx="1242720" cy="1391400"/>
            <a:chOff x="1433520" y="2976480"/>
            <a:chExt cx="1242720" cy="1391400"/>
          </a:xfrm>
        </p:grpSpPr>
        <p:pic>
          <p:nvPicPr>
            <p:cNvPr id="133" name="Picture 11" descr="j0205462"/>
            <p:cNvPicPr/>
            <p:nvPr/>
          </p:nvPicPr>
          <p:blipFill>
            <a:blip r:embed="rId3"/>
            <a:stretch/>
          </p:blipFill>
          <p:spPr>
            <a:xfrm>
              <a:off x="1433520" y="2976480"/>
              <a:ext cx="1204200" cy="9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12"/>
            <p:cNvSpPr/>
            <p:nvPr/>
          </p:nvSpPr>
          <p:spPr>
            <a:xfrm>
              <a:off x="1433520" y="3888720"/>
              <a:ext cx="124272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Казенное учрежд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4"/>
          <p:cNvGrpSpPr/>
          <p:nvPr/>
        </p:nvGrpSpPr>
        <p:grpSpPr>
          <a:xfrm>
            <a:off x="3871800" y="1488960"/>
            <a:ext cx="1427040" cy="1569960"/>
            <a:chOff x="3871800" y="1488960"/>
            <a:chExt cx="1427040" cy="1569960"/>
          </a:xfrm>
        </p:grpSpPr>
        <p:pic>
          <p:nvPicPr>
            <p:cNvPr id="136" name="Picture 15" descr="j0205462"/>
            <p:cNvPicPr/>
            <p:nvPr/>
          </p:nvPicPr>
          <p:blipFill>
            <a:blip r:embed="rId4"/>
            <a:stretch/>
          </p:blipFill>
          <p:spPr>
            <a:xfrm>
              <a:off x="3871800" y="1488960"/>
              <a:ext cx="1382760" cy="104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Rectangle 16"/>
            <p:cNvSpPr/>
            <p:nvPr/>
          </p:nvSpPr>
          <p:spPr>
            <a:xfrm>
              <a:off x="3871800" y="2549520"/>
              <a:ext cx="14270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ГРБС 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(Учредитель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8" name="AutoShape 17"/>
          <p:cNvCxnSpPr>
            <a:stCxn id="131" idx="2"/>
            <a:endCxn id="127" idx="3"/>
          </p:cNvCxnSpPr>
          <p:nvPr/>
        </p:nvCxnSpPr>
        <p:spPr>
          <a:xfrm rot="5400000">
            <a:off x="6018840" y="3732840"/>
            <a:ext cx="997560" cy="198324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9" name="AutoShape 18"/>
          <p:cNvCxnSpPr>
            <a:stCxn id="130" idx="1"/>
            <a:endCxn id="133" idx="3"/>
          </p:cNvCxnSpPr>
          <p:nvPr/>
        </p:nvCxnSpPr>
        <p:spPr>
          <a:xfrm flipV="1" rot="10800000">
            <a:off x="2637720" y="3384720"/>
            <a:ext cx="4431240" cy="41760"/>
          </a:xfrm>
          <a:prstGeom prst="bentConnector3">
            <a:avLst>
              <a:gd name="adj1" fmla="val 5001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0" name="AutoShape 19"/>
          <p:cNvCxnSpPr>
            <a:stCxn id="134" idx="2"/>
            <a:endCxn id="127" idx="1"/>
          </p:cNvCxnSpPr>
          <p:nvPr/>
        </p:nvCxnSpPr>
        <p:spPr>
          <a:xfrm flipH="1" rot="16200000">
            <a:off x="2761560" y="3664440"/>
            <a:ext cx="853200" cy="226440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1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СЕЛЕЗНЕВА ГАЛИНА АНАТОЛЬЕВНА</cp:lastModifiedBy>
  <dcterms:modified xsi:type="dcterms:W3CDTF">2014-02-03T13:46:58Z</dcterms:modified>
  <cp:revision>420</cp:revision>
  <dc:subject/>
  <dc:title>Слайд 1</dc:title>
</cp:coreProperties>
</file>