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9.wmf" ContentType="image/x-wmf"/>
  <Override PartName="/ppt/media/image14.png" ContentType="image/png"/>
  <Override PartName="/ppt/media/image18.wmf" ContentType="image/x-wmf"/>
  <Override PartName="/ppt/media/image17.wmf" ContentType="image/x-wmf"/>
  <Override PartName="/ppt/media/image1.jpeg" ContentType="image/jpeg"/>
  <Override PartName="/ppt/media/image2.wmf" ContentType="image/x-wmf"/>
  <Override PartName="/ppt/media/image3.jpeg" ContentType="image/jpeg"/>
  <Override PartName="/ppt/media/image15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6.wmf" ContentType="image/x-wmf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AutoShape 1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AutoShape 12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AutoShape 13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AutoShape 15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385128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21960" y="739440"/>
            <a:ext cx="493092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2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move the slide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0" y="938196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4"/>
          </p:nvPr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4522F-8E49-4F71-A7E5-5B96DB899A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1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BC3C9-EF16-4F22-A7E1-43C51D67D9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"/>
          <p:cNvSpPr/>
          <p:nvPr/>
        </p:nvSpPr>
        <p:spPr>
          <a:xfrm>
            <a:off x="3851280" y="9381960"/>
            <a:ext cx="2943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F896B-0ECC-4029-B5D6-CA1A4B08B4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851280" y="938196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00525-2E9E-4B9C-92AB-1ADB3C1488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930240" y="739800"/>
            <a:ext cx="4938840" cy="37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593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5AA63-3CA0-4C90-8371-1128319230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C6FEC-B0F2-4DC3-A7CE-12079EBDD1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0C5AD-6BA6-4F21-9C79-64E107B6F3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13267-4FED-471F-A2F4-41CDB495CF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6B753-613D-4CAD-B69C-DADF7BD2DF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51DB0-60DE-492C-A1BB-3CE2C370F1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F347F-56B2-4965-9D9E-C60EA38E3C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4249D-6B15-4BAE-9BE6-EA5DE727AC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25183-3063-4600-B2B0-654240CC08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998EA-2061-4187-AA77-6C13FB873B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DF7B-4BB7-48D9-B80E-29CD4009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9840" y="385524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0763-65F0-48D1-B419-7D3EB254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34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CF36-0465-4161-9AEA-A8E8807B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128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0272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984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128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0272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4F50-5136-4C20-8EB1-6323D583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2EB0-EC13-47E8-8A85-457DD015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22CB-1880-4F3B-8ADD-68E21056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01B4-C410-4BEC-8C24-8C3C4B8E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F5D9-7A0E-46CD-A3A1-2789DC5D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708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1929-9CD4-4EC0-88CF-DE12E80E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D48B-EA2D-4369-A7B5-9B657621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34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D31B-6B47-4458-BE8C-94E110A5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3B49-2CDC-4F93-B6DA-B08F0526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0030"/>
          </a:solidFill>
          <a:ln w="9360">
            <a:solidFill>
              <a:srgbClr val="00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0" y="455760"/>
            <a:ext cx="185760" cy="6402240"/>
          </a:xfrm>
          <a:custGeom>
            <a:avLst/>
            <a:gdLst>
              <a:gd name="textAreaLeft" fmla="*/ 0 w 185760"/>
              <a:gd name="textAreaRight" fmla="*/ 186120 w 185760"/>
              <a:gd name="textAreaTop" fmla="*/ 0 h 6402240"/>
              <a:gd name="textAreaBottom" fmla="*/ 6402600 h 6402240"/>
            </a:gdLst>
            <a:ahLst/>
            <a:rect l="textAreaLeft" t="textAreaTop" r="textAreaRight" b="textAreaBottom"/>
            <a:pathLst>
              <a:path w="117" h="4033">
                <a:moveTo>
                  <a:pt x="0" y="4033"/>
                </a:moveTo>
                <a:lnTo>
                  <a:pt x="0" y="0"/>
                </a:lnTo>
                <a:lnTo>
                  <a:pt x="117" y="117"/>
                </a:lnTo>
                <a:lnTo>
                  <a:pt x="112" y="4033"/>
                </a:lnTo>
                <a:lnTo>
                  <a:pt x="0" y="403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3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552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" name="Object 4"/>
          <p:cNvGraphicFramePr/>
          <p:nvPr/>
        </p:nvGraphicFramePr>
        <p:xfrm>
          <a:off x="8737560" y="0"/>
          <a:ext cx="4064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7560" y="0"/>
                    <a:ext cx="40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" name="Picture 5" descr=""/>
          <p:cNvPicPr/>
          <p:nvPr/>
        </p:nvPicPr>
        <p:blipFill>
          <a:blip r:embed="rId5"/>
          <a:stretch/>
        </p:blipFill>
        <p:spPr>
          <a:xfrm>
            <a:off x="7848720" y="0"/>
            <a:ext cx="868320" cy="4572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6"/>
          <p:cNvSpPr/>
          <p:nvPr/>
        </p:nvSpPr>
        <p:spPr>
          <a:xfrm>
            <a:off x="-1440" y="457200"/>
            <a:ext cx="9144000" cy="1969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760" h="124">
                <a:moveTo>
                  <a:pt x="5760" y="0"/>
                </a:moveTo>
                <a:lnTo>
                  <a:pt x="0" y="4"/>
                </a:lnTo>
                <a:lnTo>
                  <a:pt x="120" y="124"/>
                </a:lnTo>
                <a:lnTo>
                  <a:pt x="5758" y="124"/>
                </a:lnTo>
                <a:lnTo>
                  <a:pt x="5760" y="0"/>
                </a:lnTo>
                <a:close/>
              </a:path>
            </a:pathLst>
          </a:cu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2620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813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6.09.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720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№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2720" y="6534000"/>
            <a:ext cx="25671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E52A19A-45D4-4BDE-A468-35617E918F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2280" y="6237360"/>
            <a:ext cx="89917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24000" y="2421000"/>
            <a:ext cx="8820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938160" y="1009800"/>
            <a:ext cx="879480" cy="10825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324000" y="4941720"/>
            <a:ext cx="863892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епартамент бюджетной методолог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инфина Росс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514185"/>
                </a:solidFill>
                <a:latin typeface="Times New Roman"/>
              </a:rPr>
              <a:t>Отчетность за 2013 год</a:t>
            </a:r>
            <a:endParaRPr b="0" lang="en-US" sz="5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514185"/>
                </a:solidFill>
                <a:latin typeface="Times New Roman"/>
              </a:rPr>
              <a:t>Остатки на счетах</a:t>
            </a:r>
            <a:endParaRPr b="0" lang="en-US" sz="6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11280" y="1268280"/>
            <a:ext cx="388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 201 21 00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 201 23 00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 201 27 00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 201 34 00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30320" y="1487520"/>
            <a:ext cx="318132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514185"/>
                </a:solidFill>
                <a:latin typeface="Times New Roman"/>
              </a:rPr>
              <a:t>Отражение в учете</a:t>
            </a:r>
            <a:endParaRPr b="0" lang="en-US" sz="4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9840" y="1267920"/>
            <a:ext cx="887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змере сданной наличности инкассации или через банкомат, не зачисленной на 01.01.2014 на лицевой счет (счет 40116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т 1 201 23 510     Кт 1 201 34 610      500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числение средств на счет 401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01.01.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т 1 210 03 560     Кт 1 201 23 610    500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785080" cy="3887640"/>
          </a:xfrm>
          <a:prstGeom prst="rect">
            <a:avLst/>
          </a:prstGeom>
          <a:ln w="0">
            <a:noFill/>
          </a:ln>
        </p:spPr>
      </p:pic>
      <p:sp>
        <p:nvSpPr>
          <p:cNvPr id="99" name="Стрелка вниз 2"/>
          <p:cNvSpPr/>
          <p:nvPr/>
        </p:nvSpPr>
        <p:spPr>
          <a:xfrm>
            <a:off x="4643280" y="5229360"/>
            <a:ext cx="433440" cy="720720"/>
          </a:xfrm>
          <a:prstGeom prst="downArrow">
            <a:avLst>
              <a:gd name="adj1" fmla="val 50000"/>
              <a:gd name="adj2" fmla="val 4988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108000" y="4386240"/>
            <a:ext cx="4319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5800" y="1413000"/>
            <a:ext cx="8970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Пояснительная записка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9840" y="1628640"/>
            <a:ext cx="898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«В строке 174, графы 6 формы 0503130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 счету 1 201 23 000  «Денежные средства учреждения в кредитной организации в  пути»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казан остаток  1500,00  рублей в  сумме денежных  средств, внесенных  с использованием банковских кар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(сданных в учреждение инкассации), не зачисленных на 01.01.2014  на лицевой счет (на счет 40116)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Стрелка вниз 7"/>
          <p:cNvSpPr/>
          <p:nvPr/>
        </p:nvSpPr>
        <p:spPr>
          <a:xfrm>
            <a:off x="4140360" y="692280"/>
            <a:ext cx="431640" cy="792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Стрелка вниз 2"/>
          <p:cNvSpPr/>
          <p:nvPr/>
        </p:nvSpPr>
        <p:spPr>
          <a:xfrm>
            <a:off x="4627440" y="4653000"/>
            <a:ext cx="432000" cy="72072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929800" cy="3332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5043600" y="4572000"/>
            <a:ext cx="4181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5800" y="1413000"/>
            <a:ext cx="8970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Пояснительная записка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9840" y="1628640"/>
            <a:ext cx="898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 строке 176, графы 6 формы 050313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 счету 1 201 34 000 «Касса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казан остаток  1000,00 руб. в  сумме денежных  средств в виде резерва на расходы по предотвращению чрезвычайных ситуаций,  лимит остатк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редств в кассе установлен в размере 1500 рублей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Стрелка вниз 7"/>
          <p:cNvSpPr/>
          <p:nvPr/>
        </p:nvSpPr>
        <p:spPr>
          <a:xfrm>
            <a:off x="4140360" y="692280"/>
            <a:ext cx="431640" cy="792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Восстановить в учете долю участия в уставном капитале ФГУП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893080" cy="3154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2340000" y="4552920"/>
            <a:ext cx="44640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5800" y="476280"/>
            <a:ext cx="8970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514185"/>
                </a:solidFill>
                <a:latin typeface="Times New Roman"/>
              </a:rPr>
              <a:t>Обязательства</a:t>
            </a:r>
            <a:endParaRPr b="0" lang="en-US" sz="4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8000" y="1197000"/>
            <a:ext cx="8788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юджетный кодекс  Статья 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юджетные обязательства - расходные обязательства, подлежащие исполнению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в соответствующем финансовом год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енежные обязательства - обязанность получателя бюджетных средств уплатить  в соответствии с выполненными условиями гражданско-правовой сделки, заключенной в рамках его бюджетных полномочий, или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 соответствии с положениями закон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иного правового акта, условиями договора или соглаш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514185"/>
                </a:solidFill>
                <a:latin typeface="Times New Roman"/>
              </a:rPr>
              <a:t>Условия договора:</a:t>
            </a:r>
            <a:endParaRPr b="0" lang="en-US" sz="4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9840" y="1412640"/>
            <a:ext cx="87886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плата производится на основании счета, представляемого не позднее 10 числа месяца, следующего за расчетны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 декабрь  2013 –оплата в январ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язательства следующего г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т 1 501 23 223    Кт 1 502 21 22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т 1 502 21 223    Кт 1 502 22 22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514185"/>
                </a:solidFill>
                <a:latin typeface="Times New Roman"/>
              </a:rPr>
              <a:t>Положения Закона:</a:t>
            </a:r>
            <a:endParaRPr b="0" lang="en-US" sz="4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9840" y="1412640"/>
            <a:ext cx="87886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атья 333.14. Порядок и сроки уплаты налог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 Налог подлежит уплате в срок не позднее 20-го числа месяца, следующего за истекшим налоговым периодо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 4 квартал  2013 –оплата в январе  2014 г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язательства следующего (2014) г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т 1 501 23 290      Кт 1 502 21 29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т 1 502 21 290      Кт 1 502 22 29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5800" y="731880"/>
            <a:ext cx="897084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Отчетность за 2013 год ПБС, ГРБС, АДБ, ГАДБ</a:t>
            </a:r>
            <a:br>
              <a:rPr sz="2600"/>
            </a:b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по переданным полномочиям (ФАИП)</a:t>
            </a:r>
            <a:br>
              <a:rPr sz="2600"/>
            </a:b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59840" y="1844640"/>
            <a:ext cx="87886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иказ Минфина России от 28.12.2010 N 191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б утверждении Инструкции о порядке составления и представления годовой, квартальной и месячной отчетности об исполнении бюджетов бюджетной системы Российской Федерац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 изменениями, вступившими в силу с отчета за 2013 г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5800" y="549000"/>
            <a:ext cx="89708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Особенности составления отдельных форм пояснительной записки ( ф.0503160)</a:t>
            </a:r>
            <a:br>
              <a:rPr sz="3300"/>
            </a:b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за 2013 год</a:t>
            </a:r>
            <a:br>
              <a:rPr sz="3300"/>
            </a:br>
            <a:endParaRPr b="0" lang="en-US" sz="33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9840" y="2707920"/>
            <a:ext cx="87886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5800" y="475920"/>
            <a:ext cx="897084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Times New Roman"/>
              </a:rPr>
              <a:t>Положения Бюджетного кодекса</a:t>
            </a:r>
            <a:br>
              <a:rPr sz="3200"/>
            </a:br>
            <a:r>
              <a:rPr b="1" lang="ru-RU" sz="3200" spc="-1" strike="noStrike">
                <a:solidFill>
                  <a:srgbClr val="262699"/>
                </a:solidFill>
                <a:latin typeface="Times New Roman"/>
              </a:rPr>
              <a:t> Российской Федерации</a:t>
            </a:r>
            <a:endParaRPr b="0" lang="en-US" sz="3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9840" y="1628640"/>
            <a:ext cx="898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тья 265. Виды государственного (муниципального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финансового  контрол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осударственный (муниципальный) финансовый контрол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разделяется на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внешний и внутренни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предварительный и последующи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Заголовок 1"/>
          <p:cNvSpPr/>
          <p:nvPr/>
        </p:nvSpPr>
        <p:spPr>
          <a:xfrm>
            <a:off x="173160" y="692280"/>
            <a:ext cx="897084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нешний государственный (муниципальный) финансовый контрол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9840" y="1915920"/>
            <a:ext cx="8788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 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тная палата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трольно -счетные органы субъектов Р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контрольно - счетные органы муниципаль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00" y="731880"/>
            <a:ext cx="8970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Информация о результатах контрольных мероприятий </a:t>
            </a: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Федеральной  службы финансово-бюджетного надзора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8510400" cy="1873080"/>
          </a:xfrm>
          <a:prstGeom prst="rect">
            <a:avLst/>
          </a:prstGeom>
          <a:ln w="0">
            <a:noFill/>
          </a:ln>
        </p:spPr>
      </p:pic>
      <p:sp>
        <p:nvSpPr>
          <p:cNvPr id="129" name="Стрелка вниз 3"/>
          <p:cNvSpPr/>
          <p:nvPr/>
        </p:nvSpPr>
        <p:spPr>
          <a:xfrm>
            <a:off x="4284720" y="692280"/>
            <a:ext cx="503280" cy="720720"/>
          </a:xfrm>
          <a:prstGeom prst="downArrow">
            <a:avLst>
              <a:gd name="adj1" fmla="val 50000"/>
              <a:gd name="adj2" fmla="val 5012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5800" y="476280"/>
            <a:ext cx="8970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br>
              <a:rPr sz="2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Внутренний государственный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(муниципальный) финансовый контроль</a:t>
            </a:r>
            <a:br>
              <a:rPr sz="3600"/>
            </a:b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9840" y="1628280"/>
            <a:ext cx="8983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-  Федеральная  служба финансово-бюджетного надзо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-  Органы  государственного    финансового     контроля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сполнительной власти субъектов РФ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-  Органы  муниципального финансового  контрол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естных администрац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- Федеральное  казначейство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- финансовые  органы субъектов Р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- финансовые  органы муниципальных образов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5800" y="731880"/>
            <a:ext cx="8970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Информация о результатах контрольных мероприятий </a:t>
            </a: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Федеральной  службы финансово-бюджетного надзора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3" name="Стрелка вниз 3"/>
          <p:cNvSpPr/>
          <p:nvPr/>
        </p:nvSpPr>
        <p:spPr>
          <a:xfrm>
            <a:off x="4284720" y="692280"/>
            <a:ext cx="503280" cy="720720"/>
          </a:xfrm>
          <a:prstGeom prst="downArrow">
            <a:avLst>
              <a:gd name="adj1" fmla="val 50000"/>
              <a:gd name="adj2" fmla="val 5012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222120" y="2708280"/>
            <a:ext cx="892188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5800" y="549000"/>
            <a:ext cx="89708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Особенности составления отдельных форм отчетности бюджетных и автономных учреждений</a:t>
            </a:r>
            <a:br>
              <a:rPr sz="3300"/>
            </a:b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за 2013 год</a:t>
            </a:r>
            <a:br>
              <a:rPr sz="3300"/>
            </a:br>
            <a:endParaRPr b="0" lang="en-US" sz="33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9840" y="2707920"/>
            <a:ext cx="87886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79280" y="1068480"/>
          <a:ext cx="8964720" cy="5578560"/>
        </p:xfrm>
        <a:graphic>
          <a:graphicData uri="http://schemas.openxmlformats.org/drawingml/2006/table">
            <a:tbl>
              <a:tblPr/>
              <a:tblGrid>
                <a:gridCol w="2916360"/>
                <a:gridCol w="360360"/>
                <a:gridCol w="358920"/>
                <a:gridCol w="720720"/>
                <a:gridCol w="720720"/>
                <a:gridCol w="811080"/>
                <a:gridCol w="755640"/>
                <a:gridCol w="743040"/>
                <a:gridCol w="714240"/>
                <a:gridCol w="863640"/>
              </a:tblGrid>
              <a:tr h="281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11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лицевы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банковск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кассу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собственн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аренды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казания платных услуг (работ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756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штрафов, пеней, иных сумм принудительного изъят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56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езвозмездные  поступления от бюдже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наднациональных организаций и правительств  иностранных государ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международных финансовых организа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пераций с актива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основных сред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материаль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произведен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материальных запас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ценных бумаг, кроме ак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акций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иных финансов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до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14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выполнение государственного (муниципального) зада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иные цел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ые инвестиц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ые до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собенности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формирования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тчета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0503737</a:t>
            </a:r>
            <a:br>
              <a:rPr sz="2400"/>
            </a:b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7956720" y="4149720"/>
            <a:ext cx="1584000" cy="2492280"/>
          </a:xfrm>
          <a:prstGeom prst="wedgeRoundRectCallout">
            <a:avLst>
              <a:gd name="adj1" fmla="val -12439"/>
              <a:gd name="adj2" fmla="val -781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Отчет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ф. 0503737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Гр. 10 =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гр. 4 – гр. 9 (если гр. 4 не равна 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( ноль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собенности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формирования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тчета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0503737</a:t>
            </a:r>
            <a:br>
              <a:rPr sz="2400"/>
            </a:b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52360" y="1063800"/>
            <a:ext cx="8639280" cy="47304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6"/>
          <p:cNvSpPr/>
          <p:nvPr/>
        </p:nvSpPr>
        <p:spPr>
          <a:xfrm>
            <a:off x="3132000" y="3645000"/>
            <a:ext cx="5832720" cy="2305080"/>
          </a:xfrm>
          <a:prstGeom prst="wedgeRoundRectCallout">
            <a:avLst>
              <a:gd name="adj1" fmla="val -43148"/>
              <a:gd name="adj2" fmla="val -6895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- при получении денежных средств в кассу и возврату из нее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- при движении средств между валютным счетом и лицевым (покупка и продажа валюты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- при отражении средств в пути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(при использовании банковских карт для получения наличных денег в кассу учреждения и сдаче наличности через банкомат -199н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собенности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формирования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тчета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0503737</a:t>
            </a:r>
            <a:br>
              <a:rPr sz="2400"/>
            </a:b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254160" y="1312920"/>
            <a:ext cx="8637480" cy="472608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6"/>
          <p:cNvSpPr/>
          <p:nvPr/>
        </p:nvSpPr>
        <p:spPr>
          <a:xfrm>
            <a:off x="3924360" y="4797360"/>
            <a:ext cx="4824360" cy="1079640"/>
          </a:xfrm>
          <a:prstGeom prst="wedgeRoundRectCallout">
            <a:avLst>
              <a:gd name="adj1" fmla="val -67106"/>
              <a:gd name="adj2" fmla="val -866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при перечислении денежных средств между учреждением и его обособленным подразделением (филиалом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5800" y="731880"/>
            <a:ext cx="897084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Сводная отчетность за 2013 </a:t>
            </a:r>
            <a:br>
              <a:rPr sz="2600"/>
            </a:b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бюджетных и автономных учреждений</a:t>
            </a:r>
            <a:br>
              <a:rPr sz="2600"/>
            </a:b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59840" y="1844640"/>
            <a:ext cx="87886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иказ Минфина России от 25.03.2011 N 33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б утверждении Инструкции о порядке составления, представления годовой, квартальной бухгалтерской отчетности государственных (муниципальных) бюджетных и автономных учрежде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собенности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формирования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тчета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0503737</a:t>
            </a:r>
            <a:br>
              <a:rPr sz="2400"/>
            </a:b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254160" y="1312920"/>
            <a:ext cx="8637480" cy="472608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6"/>
          <p:cNvSpPr/>
          <p:nvPr/>
        </p:nvSpPr>
        <p:spPr>
          <a:xfrm>
            <a:off x="4211640" y="3284640"/>
            <a:ext cx="4680000" cy="3024000"/>
          </a:xfrm>
          <a:prstGeom prst="wedgeRoundRectCallout">
            <a:avLst>
              <a:gd name="adj1" fmla="val -76296"/>
              <a:gd name="adj2" fmla="val 2631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- при осуществлении оплаты в пределах остатка средств на лицевом счете 20 за счет других источников финансового обеспечения (2,3,4,7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- при осуществлении некассовых операций по исполнению обязательств, принятых за счет иных видов финансового обеспеч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179280" y="1017720"/>
          <a:ext cx="8964720" cy="5868720"/>
        </p:xfrm>
        <a:graphic>
          <a:graphicData uri="http://schemas.openxmlformats.org/drawingml/2006/table">
            <a:tbl>
              <a:tblPr/>
              <a:tblGrid>
                <a:gridCol w="2916360"/>
                <a:gridCol w="360360"/>
                <a:gridCol w="358920"/>
                <a:gridCol w="720720"/>
                <a:gridCol w="612720"/>
                <a:gridCol w="919080"/>
                <a:gridCol w="755640"/>
                <a:gridCol w="743040"/>
                <a:gridCol w="714240"/>
                <a:gridCol w="863640"/>
              </a:tblGrid>
              <a:tr h="281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лицевы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банковск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кассу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43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66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собственн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аренды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казания платных услуг (работ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756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штрафов, пеней, иных сумм принудительного изъят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56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езвозмездные  поступления от бюдже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36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наднациональных организаций и правительств  иностранных государ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международных финансовых организа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66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пераций с актива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основных сред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66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материаль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4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произведен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материальных запас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ценных бумаг, кроме ак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акций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иных финансов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до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выполнение государственного (муниципального) зада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иные цели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ые инвестиц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160"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ые доход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1300.0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964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Особенности формирования Отчета 0503737 </a:t>
            </a:r>
            <a:br>
              <a:rPr sz="2400"/>
            </a:b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по виду деятельности </a:t>
            </a: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«5» Субсидии на иные цели</a:t>
            </a: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1" name="Прямая соединительная линия 9"/>
          <p:cNvSpPr/>
          <p:nvPr/>
        </p:nvSpPr>
        <p:spPr>
          <a:xfrm>
            <a:off x="4572000" y="1773360"/>
            <a:ext cx="3672000" cy="45352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Прямая соединительная линия 11"/>
          <p:cNvSpPr/>
          <p:nvPr/>
        </p:nvSpPr>
        <p:spPr>
          <a:xfrm flipV="1">
            <a:off x="4500720" y="1773360"/>
            <a:ext cx="3743280" cy="44640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Скругленная прямоугольная выноска 5"/>
          <p:cNvSpPr/>
          <p:nvPr/>
        </p:nvSpPr>
        <p:spPr>
          <a:xfrm>
            <a:off x="4427640" y="4941720"/>
            <a:ext cx="2484360" cy="908280"/>
          </a:xfrm>
          <a:prstGeom prst="wedgeRoundRectCallout">
            <a:avLst>
              <a:gd name="adj1" fmla="val -76847"/>
              <a:gd name="adj2" fmla="val 113050"/>
              <a:gd name="adj3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бсидии на иные цели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Прямая соединительная линия 17"/>
          <p:cNvSpPr/>
          <p:nvPr/>
        </p:nvSpPr>
        <p:spPr>
          <a:xfrm flipV="1">
            <a:off x="5364000" y="6597720"/>
            <a:ext cx="3095640" cy="712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5219640" y="6597720"/>
            <a:ext cx="3024360" cy="712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Овал 10"/>
          <p:cNvSpPr/>
          <p:nvPr/>
        </p:nvSpPr>
        <p:spPr>
          <a:xfrm>
            <a:off x="34920" y="6308640"/>
            <a:ext cx="410544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Скругленная прямоугольная выноска 14"/>
          <p:cNvSpPr/>
          <p:nvPr/>
        </p:nvSpPr>
        <p:spPr>
          <a:xfrm>
            <a:off x="4822920" y="5850000"/>
            <a:ext cx="4213080" cy="603360"/>
          </a:xfrm>
          <a:prstGeom prst="wedgeRoundRectCallout">
            <a:avLst>
              <a:gd name="adj1" fmla="val -73513"/>
              <a:gd name="adj2" fmla="val 99592"/>
              <a:gd name="adj3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 неиспользованной субсидии 2012 го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79280" y="1068480"/>
          <a:ext cx="8964720" cy="5730840"/>
        </p:xfrm>
        <a:graphic>
          <a:graphicData uri="http://schemas.openxmlformats.org/drawingml/2006/table">
            <a:tbl>
              <a:tblPr/>
              <a:tblGrid>
                <a:gridCol w="2916360"/>
                <a:gridCol w="360360"/>
                <a:gridCol w="358920"/>
                <a:gridCol w="720720"/>
                <a:gridCol w="720720"/>
                <a:gridCol w="811080"/>
                <a:gridCol w="755640"/>
                <a:gridCol w="743040"/>
                <a:gridCol w="714240"/>
                <a:gridCol w="863640"/>
              </a:tblGrid>
              <a:tr h="281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11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лицевы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банковск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кассу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собственн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аренды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казания платных услуг (работ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756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штрафов, пеней, иных сумм принудительного изъят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56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езвозмездные  поступления от бюдже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наднациональных организаций и правительств  иностранных государ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международных финансовых организа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пераций с актива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основных сред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материаль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произведен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материальных запас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ценных бумаг, кроме ак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акций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иных финансов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до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выполнение государственного (муниципального) зада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иные цел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ые инвестиц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ые до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Особенности формирования Отчета 0503737 по виду деятельности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4 «Субсидии на государственное задание»</a:t>
            </a: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60" name="Прямая соединительная линия 9"/>
          <p:cNvSpPr/>
          <p:nvPr/>
        </p:nvSpPr>
        <p:spPr>
          <a:xfrm>
            <a:off x="4572000" y="1773360"/>
            <a:ext cx="3672000" cy="38876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Прямая соединительная линия 11"/>
          <p:cNvSpPr/>
          <p:nvPr/>
        </p:nvSpPr>
        <p:spPr>
          <a:xfrm flipV="1">
            <a:off x="4572000" y="1773000"/>
            <a:ext cx="3672000" cy="38876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Прямая соединительная линия 17"/>
          <p:cNvSpPr/>
          <p:nvPr/>
        </p:nvSpPr>
        <p:spPr>
          <a:xfrm flipV="1">
            <a:off x="4643280" y="6381360"/>
            <a:ext cx="3600720" cy="4762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Прямая соединительная линия 19"/>
          <p:cNvSpPr/>
          <p:nvPr/>
        </p:nvSpPr>
        <p:spPr>
          <a:xfrm>
            <a:off x="4572000" y="6381720"/>
            <a:ext cx="3672000" cy="4762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Скругленная прямоугольная выноска 16"/>
          <p:cNvSpPr/>
          <p:nvPr/>
        </p:nvSpPr>
        <p:spPr>
          <a:xfrm>
            <a:off x="4643280" y="5373720"/>
            <a:ext cx="3673800" cy="863640"/>
          </a:xfrm>
          <a:prstGeom prst="wedgeRoundRectCallout">
            <a:avLst>
              <a:gd name="adj1" fmla="val -60958"/>
              <a:gd name="adj2" fmla="val 19606"/>
              <a:gd name="adj3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бсидии на выполне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сударственного зад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Овал 10"/>
          <p:cNvSpPr/>
          <p:nvPr/>
        </p:nvSpPr>
        <p:spPr>
          <a:xfrm>
            <a:off x="0" y="5661000"/>
            <a:ext cx="4140360" cy="72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Скругленная прямоугольная выноска 12"/>
          <p:cNvSpPr/>
          <p:nvPr/>
        </p:nvSpPr>
        <p:spPr>
          <a:xfrm>
            <a:off x="4356000" y="1916280"/>
            <a:ext cx="5256360" cy="1800000"/>
          </a:xfrm>
          <a:prstGeom prst="wedgeRoundRectCallout">
            <a:avLst>
              <a:gd name="adj1" fmla="val -60384"/>
              <a:gd name="adj2" fmla="val -8407"/>
              <a:gd name="adj3" fmla="val 16667"/>
            </a:avLst>
          </a:prstGeom>
          <a:solidFill>
            <a:srgbClr val="ffffff"/>
          </a:solidFill>
          <a:ln w="38160">
            <a:solidFill>
              <a:srgbClr val="00cc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рат дебиторской задолженности прошлых лет п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ной деятельности, возникшей  до изменения тип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(КОСГУ130 (+) перечисление в доход бюджета  КОСГУ 130 (-) (счета 205,2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5800" y="1413000"/>
            <a:ext cx="8970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Пояснительная записка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59840" y="1628640"/>
            <a:ext cx="898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«В строке 040, графы 5 формы 0503737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 КОСГУ 130 «Доходы от оказания платных услуг (работ)»  показан остаток  900,00 руб. в  сумме возврата дебиторской задолженности прошлых лет, числившейся на счете 4 209 74 000  «Расчеты по ущербу материальных запасов», указанная задолженность сложилась по виду финансового обеспечения «Бюджетная деятельность» до изменения типа учрежд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Стрелка вниз 7"/>
          <p:cNvSpPr/>
          <p:nvPr/>
        </p:nvSpPr>
        <p:spPr>
          <a:xfrm>
            <a:off x="4321080" y="549360"/>
            <a:ext cx="432000" cy="79200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5800" y="476280"/>
            <a:ext cx="8970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br>
              <a:rPr sz="2600"/>
            </a:br>
            <a:br>
              <a:rPr sz="3600"/>
            </a:b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Статья 41 БК</a:t>
            </a:r>
            <a:br>
              <a:rPr sz="3600"/>
            </a:b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9840" y="1484280"/>
            <a:ext cx="8983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неналоговым доходам бюджетов относя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ходы от использования имущест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ходящегося в государственной или муниципальной собственности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а исключением имущества бюджетных и автономных учрежд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5800" y="476280"/>
            <a:ext cx="8970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br>
              <a:rPr sz="2600"/>
            </a:br>
            <a:br>
              <a:rPr sz="3600"/>
            </a:b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Статья 41 БК</a:t>
            </a:r>
            <a:br>
              <a:rPr sz="3600"/>
            </a:b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9840" y="1268280"/>
            <a:ext cx="8983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ходы от продажи имуществ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 находящегося в государственной или муниципальной собственности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а исключением имущества бюджетных и автономных учрежд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доходов от недостач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59840" y="1487520"/>
            <a:ext cx="8983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явлена недостача материальных запас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) списание материальных запасов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т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401 10 172    Кт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5 ХХ 4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ли   Дт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401 10 172    Кт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105 ХХ 4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доходов от недостач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9840" y="1487520"/>
            <a:ext cx="8983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числение доходов от возмещения ущерб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бственные дохо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т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209 74 560    Кт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401 10 17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несение  в кассу денежных средств в погашение недостач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т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201 34 510   Кт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209 74 66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некассовых операций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9840" y="1487520"/>
            <a:ext cx="8983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ерации по исполнению принятых денежных обязательств без движения денежных средств  на лицевом  счет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удержание из заработной  плат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- суммы остатка выданного аванса 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командировочные расходы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- суммы недостачи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5800" y="549360"/>
            <a:ext cx="89708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514185"/>
                </a:solidFill>
                <a:latin typeface="Times New Roman"/>
              </a:rPr>
              <a:t>Отражение в учете в рамках одного вида финансового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514185"/>
                </a:solidFill>
                <a:latin typeface="Times New Roman"/>
              </a:rPr>
              <a:t> обеспечения (субсидии на выполнение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514185"/>
                </a:solidFill>
                <a:latin typeface="Times New Roman"/>
              </a:rPr>
              <a:t> государственного задания)</a:t>
            </a:r>
            <a:endParaRPr b="0" lang="en-US" sz="28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59840" y="1844640"/>
            <a:ext cx="8983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держана из заработной платы невозвращенная сумм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ванса на оплату командировочных расходо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найму жилого помещения)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т 4 302 11 830     Кт 4 304 03 730    15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т 4 304 03 830     Кт 4 208 26 660    15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5800" y="549000"/>
            <a:ext cx="89708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Письмо Минфина России 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и Федерального казначейства 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от </a:t>
            </a:r>
            <a:r>
              <a:rPr b="0" lang="ru-RU" sz="3300" spc="-1" strike="noStrike">
                <a:solidFill>
                  <a:srgbClr val="000066"/>
                </a:solidFill>
                <a:latin typeface="Arial"/>
                <a:ea typeface="Arial"/>
              </a:rPr>
              <a:t>26.12.2013</a:t>
            </a:r>
            <a:br>
              <a:rPr sz="3300"/>
            </a:br>
            <a:br>
              <a:rPr sz="3300"/>
            </a:br>
            <a:r>
              <a:rPr b="0" lang="ru-RU" sz="3300" spc="-1" strike="noStrike">
                <a:solidFill>
                  <a:srgbClr val="000066"/>
                </a:solidFill>
                <a:latin typeface="Arial"/>
                <a:ea typeface="Arial"/>
              </a:rPr>
              <a:t> № 02-07-007/57698        № 42-7.4-05/2.3-870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300"/>
            </a:br>
            <a:endParaRPr b="0" lang="en-US" sz="33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59840" y="2707920"/>
            <a:ext cx="87886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б  особенностях  составления  и  представления  годовой бюджетной  отчетности  и  сводной  бухгалтерской отчетности государственных бюджетных и автономных учреждений главными администраторами средств федерального бюджета за 2013 го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Особенности формирования Отчета 0503737  некассовые операции</a:t>
            </a: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24000" y="907920"/>
          <a:ext cx="8496000" cy="5342040"/>
        </p:xfrm>
        <a:graphic>
          <a:graphicData uri="http://schemas.openxmlformats.org/drawingml/2006/table">
            <a:tbl>
              <a:tblPr/>
              <a:tblGrid>
                <a:gridCol w="2449440"/>
                <a:gridCol w="345960"/>
                <a:gridCol w="352440"/>
                <a:gridCol w="750960"/>
                <a:gridCol w="698400"/>
                <a:gridCol w="582840"/>
                <a:gridCol w="660240"/>
                <a:gridCol w="1082520"/>
                <a:gridCol w="654120"/>
                <a:gridCol w="919080"/>
              </a:tblGrid>
              <a:tr h="3124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. Расходы учрежден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0503737  с.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ицевы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анковск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ссу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ходы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1479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479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738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лата труда и начисления на выплаты по оплате труд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380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3880">
                <a:tc>
                  <a:txBody>
                    <a:bodyPr lIns="1479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заработная пла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479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738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иобретение работ, услуг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380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2240">
                <a:tc>
                  <a:txBody>
                    <a:bodyPr lIns="1479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работы, услуг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479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15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738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ходы по приобретению нефинансовых активов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380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3880">
                <a:tc>
                  <a:txBody>
                    <a:bodyPr lIns="2217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сновных средств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217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2217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материальных актив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217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2217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произведенных актив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217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Скругленная прямоугольная выноска 10"/>
          <p:cNvSpPr/>
          <p:nvPr/>
        </p:nvSpPr>
        <p:spPr>
          <a:xfrm>
            <a:off x="7451640" y="4024440"/>
            <a:ext cx="1800360" cy="576000"/>
          </a:xfrm>
          <a:prstGeom prst="wedgeRoundRectCallout">
            <a:avLst>
              <a:gd name="adj1" fmla="val -254416"/>
              <a:gd name="adj2" fmla="val 92226"/>
              <a:gd name="adj3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ерж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з.п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Скругленная прямоугольная выноска 11"/>
          <p:cNvSpPr/>
          <p:nvPr/>
        </p:nvSpPr>
        <p:spPr>
          <a:xfrm>
            <a:off x="4859280" y="6021360"/>
            <a:ext cx="2449440" cy="576360"/>
          </a:xfrm>
          <a:prstGeom prst="wedgeRoundRectCallout">
            <a:avLst>
              <a:gd name="adj1" fmla="val -103504"/>
              <a:gd name="adj2" fmla="val -94347"/>
              <a:gd name="adj3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стано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некассовых операций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59840" y="1341360"/>
            <a:ext cx="898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удержание из суммы, подлежащей оплате контрагенту, суммы начисленных штрафных санкций  за нарушение условий догово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Дт 4 401 20 225     Кт 4 302 25 730  3000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Дт 4 302 25 830     Кт 4 201 11 610  2850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Дт 4 302 25 830     Кт 4 304 06 730    150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некассовых операций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59840" y="1196640"/>
            <a:ext cx="8983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обенности формирования Отчета ф.0503737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ид финансового обеспечения «Субсидии на выполнение государственного задания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95280" y="2708280"/>
          <a:ext cx="8624880" cy="2736720"/>
        </p:xfrm>
        <a:graphic>
          <a:graphicData uri="http://schemas.openxmlformats.org/drawingml/2006/table">
            <a:tbl>
              <a:tblPr/>
              <a:tblGrid>
                <a:gridCol w="2522520"/>
                <a:gridCol w="285840"/>
                <a:gridCol w="355680"/>
                <a:gridCol w="739800"/>
                <a:gridCol w="758520"/>
                <a:gridCol w="890640"/>
                <a:gridCol w="712800"/>
                <a:gridCol w="701640"/>
                <a:gridCol w="774720"/>
                <a:gridCol w="882720"/>
              </a:tblGrid>
              <a:tr h="220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. Расходы учрежде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0503737  с.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ицевы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анковски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сс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ходы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0,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850,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,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0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21816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1816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0680">
                <a:tc>
                  <a:txBody>
                    <a:bodyPr lIns="10908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иобретение работ, услу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0908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21816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боты, услуги по содержанию имуществ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1816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0,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850,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,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0,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21816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работы, услуг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1816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некассовых операций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59840" y="1196640"/>
            <a:ext cx="8983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обенности формирования Отчета ф.0503737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ид финансового обеспечения «Субсидии на выполнение государственного задания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8712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некассовых операций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59840" y="1341360"/>
            <a:ext cx="898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Зачет суммы начисленных штрафных санкций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Дт 2 205 41 560     Кт 2 401 10 140  150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Дт 2 304 06 830     Кт 2 205 41 660  150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Стрелка вниз 1"/>
          <p:cNvSpPr/>
          <p:nvPr/>
        </p:nvSpPr>
        <p:spPr>
          <a:xfrm>
            <a:off x="4500720" y="5157720"/>
            <a:ext cx="576000" cy="93528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179280" y="1268280"/>
          <a:ext cx="8964720" cy="2830680"/>
        </p:xfrm>
        <a:graphic>
          <a:graphicData uri="http://schemas.openxmlformats.org/drawingml/2006/table">
            <a:tbl>
              <a:tblPr/>
              <a:tblGrid>
                <a:gridCol w="2916360"/>
                <a:gridCol w="360360"/>
                <a:gridCol w="358920"/>
                <a:gridCol w="720720"/>
                <a:gridCol w="612720"/>
                <a:gridCol w="919080"/>
                <a:gridCol w="665280"/>
                <a:gridCol w="833400"/>
                <a:gridCol w="714240"/>
                <a:gridCol w="863640"/>
              </a:tblGrid>
              <a:tr h="308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лицевы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банковск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кассу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собственн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95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аренды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казания платных услуг (работ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756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штрафов, пеней, иных сумм принудительного изъят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56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.00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8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езвозмездные  поступления от бюдже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Особенности формирования Отчета 0503737.Собственные доходы</a:t>
            </a: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99" name="Скругленная прямоугольная выноска 12"/>
          <p:cNvSpPr/>
          <p:nvPr/>
        </p:nvSpPr>
        <p:spPr>
          <a:xfrm>
            <a:off x="4716360" y="3429000"/>
            <a:ext cx="2016360" cy="792000"/>
          </a:xfrm>
          <a:prstGeom prst="wedgeRoundRectCallout">
            <a:avLst>
              <a:gd name="adj1" fmla="val -83287"/>
              <a:gd name="adj2" fmla="val -18333"/>
              <a:gd name="adj3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мма пени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держанных у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траген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некассовых операций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59840" y="1196640"/>
            <a:ext cx="8983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обенности формирования Отчета ф.0503737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ид финансового обеспечения «Собственные доходы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250920" y="2209680"/>
            <a:ext cx="87850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79280" y="757080"/>
          <a:ext cx="9217080" cy="6361200"/>
        </p:xfrm>
        <a:graphic>
          <a:graphicData uri="http://schemas.openxmlformats.org/drawingml/2006/table">
            <a:tbl>
              <a:tblPr/>
              <a:tblGrid>
                <a:gridCol w="2916360"/>
                <a:gridCol w="360360"/>
                <a:gridCol w="358920"/>
                <a:gridCol w="720720"/>
                <a:gridCol w="612720"/>
                <a:gridCol w="919080"/>
                <a:gridCol w="755640"/>
                <a:gridCol w="995400"/>
                <a:gridCol w="714240"/>
                <a:gridCol w="863640"/>
              </a:tblGrid>
              <a:tr h="281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09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лицевы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банковск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кассу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0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5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6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собственн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аренды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казания платных услуг (работ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.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000">
                <a:tc>
                  <a:txBody>
                    <a:bodyPr lIns="756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штрафов, пеней, иных сумм принудительного изъят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56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езвозмездные  поступления от бюдже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36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наднациональных организаций и правительств  иностранных государ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международных финансовых организа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пераций с актива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основных сред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материаль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24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произведен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24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материальных запас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ценных бумаг, кроме ак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95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акций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иных финансов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до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выполнение государственного (муниципального) зада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иные цели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ые инвестиц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080"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ые доход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Особенности формирования Отчета 0503737  некассовые операции</a:t>
            </a: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05" name="Скругленная прямоугольная выноска 5"/>
          <p:cNvSpPr/>
          <p:nvPr/>
        </p:nvSpPr>
        <p:spPr>
          <a:xfrm>
            <a:off x="4572000" y="1413000"/>
            <a:ext cx="2303640" cy="792000"/>
          </a:xfrm>
          <a:prstGeom prst="wedgeRoundRectCallout">
            <a:avLst>
              <a:gd name="adj1" fmla="val -79560"/>
              <a:gd name="adj2" fmla="val 107037"/>
              <a:gd name="adj3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мма доходов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держанны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нко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Особенности формирования Отчета 0503737  некассовые операции</a:t>
            </a: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24000" y="907920"/>
          <a:ext cx="8496000" cy="5342040"/>
        </p:xfrm>
        <a:graphic>
          <a:graphicData uri="http://schemas.openxmlformats.org/drawingml/2006/table">
            <a:tbl>
              <a:tblPr/>
              <a:tblGrid>
                <a:gridCol w="2449440"/>
                <a:gridCol w="345960"/>
                <a:gridCol w="352440"/>
                <a:gridCol w="750960"/>
                <a:gridCol w="698400"/>
                <a:gridCol w="582840"/>
                <a:gridCol w="660240"/>
                <a:gridCol w="1082520"/>
                <a:gridCol w="654120"/>
                <a:gridCol w="919080"/>
              </a:tblGrid>
              <a:tr h="3124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. Расходы учрежден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0503737  с.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ицевы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анковск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ссу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ходы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1479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479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738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лата труда и начисления на выплаты по оплате труд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380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1479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заработная пла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479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738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иобретение работ, услуг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380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2240">
                <a:tc>
                  <a:txBody>
                    <a:bodyPr lIns="1479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работы, услуг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479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738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ходы по приобретению нефинансовых активов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380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3880">
                <a:tc>
                  <a:txBody>
                    <a:bodyPr lIns="2217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сновных средств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217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2217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материальных актив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217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2217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произведенных актив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217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Скругленная прямоугольная выноска 11"/>
          <p:cNvSpPr/>
          <p:nvPr/>
        </p:nvSpPr>
        <p:spPr>
          <a:xfrm>
            <a:off x="4900680" y="4149720"/>
            <a:ext cx="1942920" cy="647640"/>
          </a:xfrm>
          <a:prstGeom prst="wedgeRoundRectCallout">
            <a:avLst>
              <a:gd name="adj1" fmla="val -122009"/>
              <a:gd name="adj2" fmla="val 96291"/>
              <a:gd name="adj3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нковск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луг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5800" y="549000"/>
            <a:ext cx="89708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Особенности составления бюджетной 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отчетности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за 2013 год</a:t>
            </a:r>
            <a:br>
              <a:rPr sz="3300"/>
            </a:br>
            <a:endParaRPr b="0" lang="en-US" sz="33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59840" y="2707920"/>
            <a:ext cx="87886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9036000" cy="611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5254560" y="4613400"/>
            <a:ext cx="388944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5800" y="1413000"/>
            <a:ext cx="8970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Пояснительная записка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9840" y="1628640"/>
            <a:ext cx="898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формация по ФАИП в текстовой части раздела 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Анализ показателей бухгалтерской отчетности субъекта бюджетной отчетност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разрезе инвестиционных проек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Стрелка вниз 7"/>
          <p:cNvSpPr/>
          <p:nvPr/>
        </p:nvSpPr>
        <p:spPr>
          <a:xfrm>
            <a:off x="4321080" y="692280"/>
            <a:ext cx="432000" cy="79200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5800" y="2060640"/>
            <a:ext cx="89708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endParaRPr b="0" lang="en-US" sz="33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8920" y="1125360"/>
            <a:ext cx="878868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Бюджетный кодек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тья 242. Завершение текущего финансового г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иказ Минфина России от 06.06.2008 № 56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«Об утверждении Порядка завершения операций по исполнению федерального бюджета в текущем финансовом году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п.4 ст.242 БК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использованные получателями бюджетных средств остатки бюджетных средств, находящиеся не на едином счете бюджета, не позднее двух последних рабочих дней текущего финансового года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длежат перечислению получателями бюджетных средств на единый счет бюдже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УЗЬМИН ИГОРЬ ЮРЬЕВИЧ</dc:creator>
  <dc:description/>
  <dc:language>en-US</dc:language>
  <cp:lastModifiedBy>СЕЛЕЗНЕВА ГАЛИНА АНАТОЛЬЕВНА</cp:lastModifiedBy>
  <cp:lastPrinted>2014-01-29T16:21:50Z</cp:lastPrinted>
  <dcterms:modified xsi:type="dcterms:W3CDTF">2014-02-03T10:47:15Z</dcterms:modified>
  <cp:revision>187</cp:revision>
  <dc:subject/>
  <dc:title>No Slide Title</dc:title>
</cp:coreProperties>
</file>