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E1F2-2348-4B49-8919-E508A2E7C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D99B-7633-466A-A38D-33096F08A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EAB6-4E4C-4BCC-9B86-D97B60177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8DD-CAC8-4E6A-ADFC-ECBE714F2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BD92-836C-4B87-B2D8-0896BE9E7B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741C-4D1B-4F9B-A24F-DA3930F84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785B-70A0-485F-8545-C433EAC59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DEB2-8DD0-406E-8E13-9BA78236ED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90E7-90B0-4DDB-BD25-2BAF48152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AF16-A0AE-4705-B7C2-E695C9C5C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7D7E-535C-44A4-8E44-BF3AD38DBC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5BE-4E53-4947-A9E3-BB5D9EB3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440-D331-4D8C-B77D-E948B9BF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CB3-D4C3-4043-AD45-CA7DF9E6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E77-7B7B-40FD-A572-A34C4EF2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9A2-A23F-493E-8279-E6CEE6FD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D51-6FAE-4CE2-B424-1403432C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613-5942-4999-BD4E-F4A95BA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FCA-41A0-469E-AEDC-F1264F21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9E1-2A3F-46AB-A6B4-7719E337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F4EF-780C-451B-9F7A-3291CC50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0247-4120-4326-969D-E1A681BE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6D3-5941-496C-AD18-0FB0D1E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9D34-790B-49EA-B474-894A69C16E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0DF0-C594-427F-9F80-7351A928AE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851280" y="5286240"/>
            <a:ext cx="508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Начальник Отдела анализа исполнения бюджетов Управления бюджетного учета и отчетности Федерального казначейства И.В. Ива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85840" y="1071720"/>
            <a:ext cx="85010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br>
              <a:rPr sz="3400"/>
            </a:br>
            <a:r>
              <a:rPr b="0" lang="ru-RU" sz="3600" spc="-1" strike="noStrike">
                <a:solidFill>
                  <a:srgbClr val="00349e"/>
                </a:solidFill>
                <a:latin typeface="Times New Roman"/>
              </a:rPr>
              <a:t>Отдельные вопросы формирования и представления Пояснительной записки к Отчёту об исполнении федерального бюджета за 2013 го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2 (С)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42920" y="1146240"/>
            <a:ext cx="7143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a4f"/>
                </a:solidFill>
                <a:latin typeface="Times New Roman"/>
              </a:rPr>
              <a:t>В разрезе: результатов деятельности подведомственных АУ/БУ </a:t>
            </a:r>
            <a:r>
              <a:rPr b="0" lang="ru-RU" sz="1800" spc="-1" strike="noStrike" u="sng">
                <a:solidFill>
                  <a:srgbClr val="001a4f"/>
                </a:solidFill>
                <a:uFillTx/>
                <a:latin typeface="Times New Roman"/>
              </a:rPr>
              <a:t>по выполнению государственного задания и выполнению иных ц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4200" y="2500200"/>
          <a:ext cx="8501040" cy="3900600"/>
        </p:xfrm>
        <a:graphic>
          <a:graphicData uri="http://schemas.openxmlformats.org/drawingml/2006/table">
            <a:tbl>
              <a:tblPr/>
              <a:tblGrid>
                <a:gridCol w="79560"/>
                <a:gridCol w="77760"/>
                <a:gridCol w="79200"/>
                <a:gridCol w="77760"/>
                <a:gridCol w="79560"/>
                <a:gridCol w="77760"/>
                <a:gridCol w="79200"/>
                <a:gridCol w="79560"/>
                <a:gridCol w="77760"/>
                <a:gridCol w="79560"/>
                <a:gridCol w="77760"/>
                <a:gridCol w="79200"/>
                <a:gridCol w="79560"/>
                <a:gridCol w="114120"/>
                <a:gridCol w="53280"/>
                <a:gridCol w="77760"/>
                <a:gridCol w="7956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79560"/>
                <a:gridCol w="77760"/>
                <a:gridCol w="79200"/>
                <a:gridCol w="78120"/>
                <a:gridCol w="7920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473040"/>
                <a:gridCol w="77760"/>
                <a:gridCol w="943200"/>
                <a:gridCol w="1259280"/>
                <a:gridCol w="943200"/>
                <a:gridCol w="1252440"/>
              </a:tblGrid>
              <a:tr h="207000">
                <a:tc gridSpan="1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, подраздела расходов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юджетной классифик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шение кредиторской задолженности, образовавшейся до 01.01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учающихся студен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тремонтированных общежи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46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расходов, предусмотренных Сводно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ой росписью на отчетны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308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3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65120" y="826920"/>
            <a:ext cx="8342280" cy="501048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3357720" y="3857760"/>
            <a:ext cx="3528720" cy="1271520"/>
          </a:xfrm>
          <a:prstGeom prst="wedgeRoundRectCallout">
            <a:avLst>
              <a:gd name="adj1" fmla="val -67620"/>
              <a:gd name="adj2" fmla="val -105712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ные законом (решением)показатели, действовавшие на 1 января текуще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09520" y="6040800"/>
            <a:ext cx="89074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ведения ф. 0503163 в МОУ ФК не представля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171440" y="952560"/>
            <a:ext cx="6929640" cy="5491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28920" y="0"/>
            <a:ext cx="46670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2198520" y="2490840"/>
            <a:ext cx="5261040" cy="308124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Формирование Сведени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ф. 050316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Критерии существенности устанавливаются ГРБС с учетом критериев установленных ФО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Относительная доля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Абсолютное значение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55920" y="1209600"/>
            <a:ext cx="6260760" cy="50356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/>
          <p:cNvSpPr/>
          <p:nvPr/>
        </p:nvSpPr>
        <p:spPr>
          <a:xfrm>
            <a:off x="4892760" y="2625840"/>
            <a:ext cx="4041720" cy="736560"/>
          </a:xfrm>
          <a:prstGeom prst="leftArrow">
            <a:avLst>
              <a:gd name="adj1" fmla="val 50000"/>
              <a:gd name="adj2" fmla="val 143152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атели стр. 010 ф. 0503127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4892760" y="3429000"/>
            <a:ext cx="4041720" cy="736560"/>
          </a:xfrm>
          <a:prstGeom prst="leftArrow">
            <a:avLst>
              <a:gd name="adj1" fmla="val 50000"/>
              <a:gd name="adj2" fmla="val 143152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атели стр. 200 ф. 0503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4892760" y="5033880"/>
            <a:ext cx="4041720" cy="736560"/>
          </a:xfrm>
          <a:prstGeom prst="leftArrow">
            <a:avLst>
              <a:gd name="adj1" fmla="val 50000"/>
              <a:gd name="adj2" fmla="val 143152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атели стр. 500 ф. 0503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14200" y="1071720"/>
            <a:ext cx="1901880" cy="1062000"/>
          </a:xfrm>
          <a:prstGeom prst="wedgeRoundRectCallout">
            <a:avLst>
              <a:gd name="adj1" fmla="val 209837"/>
              <a:gd name="adj2" fmla="val 149171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минус» Исполне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142920" y="3857760"/>
            <a:ext cx="1643040" cy="1204920"/>
          </a:xfrm>
          <a:prstGeom prst="wedgeRoundRectCallout">
            <a:avLst>
              <a:gd name="adj1" fmla="val 319166"/>
              <a:gd name="adj2" fmla="val -75638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я исполненного в утвержденном,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4720" y="0"/>
            <a:ext cx="46670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507320" y="6172200"/>
            <a:ext cx="40053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* - только в части исполненных показат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14200" y="1928880"/>
          <a:ext cx="8715600" cy="4411440"/>
        </p:xfrm>
        <a:graphic>
          <a:graphicData uri="http://schemas.openxmlformats.org/drawingml/2006/table">
            <a:tbl>
              <a:tblPr/>
              <a:tblGrid>
                <a:gridCol w="1498680"/>
                <a:gridCol w="388800"/>
                <a:gridCol w="949320"/>
                <a:gridCol w="959040"/>
                <a:gridCol w="1173240"/>
                <a:gridCol w="1873080"/>
                <a:gridCol w="1873440"/>
              </a:tblGrid>
              <a:tr h="277920">
                <a:tc rowSpan="2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по бюджетной классифик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е бюджетные назна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, ру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нено сумма, руб (гр.4 - гр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исполнения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отклонений от планового процента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Доходы бюджета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4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 1 16 27000 01 6000 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вязи с вступлением в силу ФЗ от 3.06.2011г. №120-ФЗ "О внесении изменений в Кодекс РФ об административных правонарушениях по вопросам пожарной безопасности" значительно увеличены размеры штраф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 1 13 02991 01 6000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дебиторской задолженности Фонда социального страхования РФ. Показатель не прогнозир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2"/>
          <p:cNvSpPr/>
          <p:nvPr/>
        </p:nvSpPr>
        <p:spPr>
          <a:xfrm>
            <a:off x="3786120" y="142920"/>
            <a:ext cx="3429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до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214200" y="142920"/>
            <a:ext cx="3357720" cy="1357200"/>
          </a:xfrm>
          <a:prstGeom prst="wedgeRoundRectCallout">
            <a:avLst>
              <a:gd name="adj1" fmla="val -28222"/>
              <a:gd name="adj2" fmla="val 80319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олняется в структуре прогноза, в случае отсутствия прогноза или если прогноз сформирован одной суммой по нескольким КБК – в структуре ф. 0503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572080" y="928800"/>
            <a:ext cx="2786040" cy="928440"/>
          </a:xfrm>
          <a:prstGeom prst="wedgeRoundRectCallout">
            <a:avLst>
              <a:gd name="adj1" fmla="val -153689"/>
              <a:gd name="adj2" fmla="val 71087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доходов на 2013 год, направленный письмом Минфина Росс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786120" y="142920"/>
            <a:ext cx="3429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2071800"/>
          <a:ext cx="8786880" cy="4074840"/>
        </p:xfrm>
        <a:graphic>
          <a:graphicData uri="http://schemas.openxmlformats.org/drawingml/2006/table">
            <a:tbl>
              <a:tblPr/>
              <a:tblGrid>
                <a:gridCol w="1511280"/>
                <a:gridCol w="390600"/>
                <a:gridCol w="1027080"/>
                <a:gridCol w="898560"/>
                <a:gridCol w="1182600"/>
                <a:gridCol w="1887480"/>
                <a:gridCol w="1889280"/>
              </a:tblGrid>
              <a:tr h="307800"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по бюджетной классифик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е бюджетные на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,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нено сумма, руб (гр.4 -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исполнени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отклонений от планового процента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асходы бюджета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 0108 0300301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5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соответствующих НПА, регламентирующих порядок финанс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 0705 4280000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63 031 7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3 031 7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я по итогам конкурсных процед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4"/>
          <p:cNvSpPr/>
          <p:nvPr/>
        </p:nvSpPr>
        <p:spPr>
          <a:xfrm>
            <a:off x="5500800" y="928800"/>
            <a:ext cx="3071880" cy="1000080"/>
          </a:xfrm>
          <a:prstGeom prst="wedgeRoundRectCallout">
            <a:avLst>
              <a:gd name="adj1" fmla="val 32462"/>
              <a:gd name="adj2" fmla="val 306134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причин неисполнения по расходам в совместном письме МФ и ФК от 2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12.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00040" y="642960"/>
            <a:ext cx="3643200" cy="1214280"/>
          </a:xfrm>
          <a:prstGeom prst="wedgeRoundRectCallout">
            <a:avLst>
              <a:gd name="adj1" fmla="val 68504"/>
              <a:gd name="adj2" fmla="val 277000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ражаются показатели, по которым сумма неисполненных назначений составляет 300 млн. рублей и выше, независимо от % испол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85840" y="1785960"/>
          <a:ext cx="8429400" cy="4500720"/>
        </p:xfrm>
        <a:graphic>
          <a:graphicData uri="http://schemas.openxmlformats.org/drawingml/2006/table">
            <a:tbl>
              <a:tblPr/>
              <a:tblGrid>
                <a:gridCol w="1400040"/>
                <a:gridCol w="362160"/>
                <a:gridCol w="888840"/>
                <a:gridCol w="895320"/>
                <a:gridCol w="1095480"/>
                <a:gridCol w="1893960"/>
                <a:gridCol w="1893600"/>
              </a:tblGrid>
              <a:tr h="516600"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по бюджетной классифик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е бюджетные на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,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нено сумма, руб (гр.4 -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исполнени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отклонений от планового процента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Источники финансирования дефицита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5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78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2 01 01 00 00 01 0000 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55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анному КБК отражена некассовая операция в сумме 45 000 000,00 рублей по выплате комиссионного вознаграждения агентам по размещению в 2013 году облигаций внутренних облигационных займов Российской Федерации на международном рынке капит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"/>
          <p:cNvSpPr/>
          <p:nvPr/>
        </p:nvSpPr>
        <p:spPr>
          <a:xfrm>
            <a:off x="3786120" y="142920"/>
            <a:ext cx="3429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источник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285920" y="642960"/>
            <a:ext cx="2857320" cy="714240"/>
          </a:xfrm>
          <a:prstGeom prst="wedgeRoundRectCallout">
            <a:avLst>
              <a:gd name="adj1" fmla="val -4740"/>
              <a:gd name="adj2" fmla="val 188532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по поступлениям, роспись по выбыт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42720" y="0"/>
            <a:ext cx="57387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6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2200" y="5222160"/>
            <a:ext cx="73659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ом числе и по показателям,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не содержащим отклон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ум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олненных бюджетных назначений от суммы назначений, утвержд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очненной бюджетной росписью в структуре Отчета ф. 050312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 случае отсутствия отклон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графа 6 Сведений ф. 0503166 не заполняе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еречень ФЦП – см. Совместное письмо МФ и ФК от 26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.12.201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2920" y="1071720"/>
          <a:ext cx="8786880" cy="4206600"/>
        </p:xfrm>
        <a:graphic>
          <a:graphicData uri="http://schemas.openxmlformats.org/drawingml/2006/table">
            <a:tbl>
              <a:tblPr/>
              <a:tblGrid>
                <a:gridCol w="1647720"/>
                <a:gridCol w="1033560"/>
                <a:gridCol w="1647720"/>
                <a:gridCol w="1135080"/>
                <a:gridCol w="1135080"/>
                <a:gridCol w="2187720"/>
              </a:tblGrid>
              <a:tr h="6375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,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целевой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и расходов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бюджетной классифик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о бюджетной росписью, с учетом изменений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отклон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ая целевая программа "Культура России (2012 - 2018 годы)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финансирование реконструкции объектов культурного наследия в субъектах Российской Федерации. Более подробную информацию о выполнении программы см. текстовую часть пояснительной записки ф. 0503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500 000 8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400 555 633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воевременная выдача разрешения на ввод в эксплуатацию газовой котельной, уточнение цены подрядных контрактов, а также  в связи с тем, что курс евро к российскому рублю был определен с учетом возможной инфля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ая целевая программа "Социально-экономическое развитие Чеченской Республики на 2008 - 2012 годы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7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ство  государственного Русского драматического театра им. М.Ю. Лермонтова, Национальной библиотеки Чеченской Республики, Национального музея Чеченской Республики в г. Гроз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470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470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заполняет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71440" y="142920"/>
            <a:ext cx="45241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8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69" name="Picture 1033" descr=""/>
          <p:cNvPicPr/>
          <p:nvPr/>
        </p:nvPicPr>
        <p:blipFill>
          <a:blip r:embed="rId1"/>
          <a:stretch/>
        </p:blipFill>
        <p:spPr>
          <a:xfrm>
            <a:off x="384120" y="1328760"/>
            <a:ext cx="8377200" cy="46432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34"/>
          <p:cNvSpPr/>
          <p:nvPr/>
        </p:nvSpPr>
        <p:spPr>
          <a:xfrm>
            <a:off x="608040" y="6099120"/>
            <a:ext cx="319392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3 Раздел с отчетности за 2013 г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3627720" y="1536840"/>
            <a:ext cx="249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тчет ф. 0503168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681920" y="2540160"/>
            <a:ext cx="244764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тчет ф. 050316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за исключением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имущества казны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591880" y="2540160"/>
            <a:ext cx="256212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тчет ф. 050316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имущество казны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63000" y="4213080"/>
            <a:ext cx="126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50400" y="4795920"/>
            <a:ext cx="126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71240" y="4213080"/>
            <a:ext cx="126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958640" y="4795920"/>
            <a:ext cx="126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12"/>
          <p:cNvCxnSpPr>
            <a:stCxn id="171" idx="1"/>
            <a:endCxn id="172" idx="0"/>
          </p:cNvCxnSpPr>
          <p:nvPr/>
        </p:nvCxnSpPr>
        <p:spPr>
          <a:xfrm flipV="1" rot="10800000">
            <a:off x="2905920" y="1754640"/>
            <a:ext cx="712080" cy="78516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79" name="AutoShape 13"/>
          <p:cNvCxnSpPr>
            <a:stCxn id="172" idx="2"/>
            <a:endCxn id="174" idx="3"/>
          </p:cNvCxnSpPr>
          <p:nvPr/>
        </p:nvCxnSpPr>
        <p:spPr>
          <a:xfrm rot="5400000">
            <a:off x="2212200" y="3738240"/>
            <a:ext cx="716760" cy="67212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80" name="AutoShape 14"/>
          <p:cNvCxnSpPr>
            <a:stCxn id="172" idx="2"/>
            <a:endCxn id="175" idx="3"/>
          </p:cNvCxnSpPr>
          <p:nvPr/>
        </p:nvCxnSpPr>
        <p:spPr>
          <a:xfrm rot="5400000">
            <a:off x="1914840" y="4023360"/>
            <a:ext cx="1299240" cy="68472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81" name="AutoShape 15"/>
          <p:cNvCxnSpPr>
            <a:stCxn id="171" idx="3"/>
            <a:endCxn id="173" idx="0"/>
          </p:cNvCxnSpPr>
          <p:nvPr/>
        </p:nvCxnSpPr>
        <p:spPr>
          <a:xfrm>
            <a:off x="6130800" y="1755360"/>
            <a:ext cx="742320" cy="78516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82" name="AutoShape 16"/>
          <p:cNvCxnSpPr>
            <a:stCxn id="173" idx="2"/>
            <a:endCxn id="176" idx="3"/>
          </p:cNvCxnSpPr>
          <p:nvPr/>
        </p:nvCxnSpPr>
        <p:spPr>
          <a:xfrm rot="5400000">
            <a:off x="6022080" y="3582720"/>
            <a:ext cx="1070640" cy="62964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83" name="AutoShape 17"/>
          <p:cNvCxnSpPr>
            <a:stCxn id="173" idx="2"/>
            <a:endCxn id="177" idx="3"/>
          </p:cNvCxnSpPr>
          <p:nvPr/>
        </p:nvCxnSpPr>
        <p:spPr>
          <a:xfrm rot="5400000">
            <a:off x="5724720" y="3867840"/>
            <a:ext cx="1653120" cy="64224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8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2071800" y="214200"/>
            <a:ext cx="92358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571680" y="1214280"/>
            <a:ext cx="7858080" cy="128592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 к Отчёту об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и бюджета ГРБ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571680" y="2786040"/>
            <a:ext cx="7858080" cy="157176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сводную информацию, сформированную путе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я и формирования показателей, оказавших существен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и характеризующих результаты деятельности ГРБ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71680" y="4714920"/>
            <a:ext cx="7858080" cy="150012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на основании данных отчетности подведомств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ателей бюджетных средств, бюджетных и автономных учреж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ний в соответствии с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ритериями, установленными ГРБ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том критериев, установленных финансовым орга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0200" y="142920"/>
            <a:ext cx="38102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9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915840" y="1087560"/>
            <a:ext cx="7442280" cy="5275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3994200" y="4900680"/>
            <a:ext cx="2951280" cy="10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903400" y="1757520"/>
            <a:ext cx="5583240" cy="868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42920" y="3571920"/>
            <a:ext cx="2759040" cy="857160"/>
          </a:xfrm>
          <a:prstGeom prst="wedgeRoundRectCallout">
            <a:avLst>
              <a:gd name="adj1" fmla="val 14407"/>
              <a:gd name="adj2" fmla="val -125236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мера счетов бюджетного учета (26 знако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4251240" y="4767120"/>
            <a:ext cx="2438640" cy="1271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4571640" y="4700520"/>
            <a:ext cx="2181240" cy="1338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43120" y="142920"/>
            <a:ext cx="35956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9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15840" y="1087560"/>
            <a:ext cx="7442280" cy="52750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9"/>
          <p:cNvSpPr/>
          <p:nvPr/>
        </p:nvSpPr>
        <p:spPr>
          <a:xfrm>
            <a:off x="4000680" y="2643120"/>
            <a:ext cx="4811400" cy="318636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яснительной записке (ф. 0503160) раскрываются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ичины увеличения доли нереальной к взысканию дебиторской задолженност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сроченной кредиторской задолженности в общем объеме дебиторской и кредиторской задолженности соответственно и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ичины образования существенных остатков (более 1 млрд. руб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ебиторской и кредиторской задолженности, а также указываются меры, принятые (принимаемые) для ее урегулир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20720" y="3228840"/>
            <a:ext cx="7736040" cy="3235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73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465120" y="952560"/>
            <a:ext cx="8277120" cy="2259000"/>
          </a:xfrm>
          <a:prstGeom prst="rect">
            <a:avLst/>
          </a:prstGeom>
          <a:ln w="0">
            <a:noFill/>
          </a:ln>
        </p:spPr>
      </p:pic>
      <p:sp>
        <p:nvSpPr>
          <p:cNvPr id="198" name="Oval 5"/>
          <p:cNvSpPr/>
          <p:nvPr/>
        </p:nvSpPr>
        <p:spPr>
          <a:xfrm>
            <a:off x="8292960" y="2492280"/>
            <a:ext cx="578160" cy="468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4764240" y="4767120"/>
            <a:ext cx="577800" cy="1070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01760" y="2492280"/>
            <a:ext cx="4106880" cy="4017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1684440" y="4834080"/>
            <a:ext cx="1476360" cy="8697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9"/>
          <p:cNvCxnSpPr>
            <a:stCxn id="198" idx="3"/>
            <a:endCxn id="199" idx="7"/>
          </p:cNvCxnSpPr>
          <p:nvPr/>
        </p:nvCxnSpPr>
        <p:spPr>
          <a:xfrm flipH="1">
            <a:off x="5256000" y="2903040"/>
            <a:ext cx="3123360" cy="20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" name="AutoShape 10"/>
          <p:cNvCxnSpPr>
            <a:stCxn id="201" idx="0"/>
            <a:endCxn id="200" idx="2"/>
          </p:cNvCxnSpPr>
          <p:nvPr/>
        </p:nvCxnSpPr>
        <p:spPr>
          <a:xfrm flipH="1" flipV="1" rot="5400000">
            <a:off x="1479240" y="3847320"/>
            <a:ext cx="1919880" cy="3420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14360" y="142920"/>
            <a:ext cx="55242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73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9960" y="2646360"/>
            <a:ext cx="5133960" cy="8701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5791320" y="5837400"/>
            <a:ext cx="3271680" cy="669600"/>
          </a:xfrm>
          <a:prstGeom prst="wedgeRoundRectCallout">
            <a:avLst>
              <a:gd name="adj1" fmla="val -59425"/>
              <a:gd name="adj2" fmla="val -396694"/>
              <a:gd name="adj3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затели итога по активу (пассиву)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28480" y="1488960"/>
          <a:ext cx="8277480" cy="4237200"/>
        </p:xfrm>
        <a:graphic>
          <a:graphicData uri="http://schemas.openxmlformats.org/drawingml/2006/table">
            <a:tbl>
              <a:tblPr/>
              <a:tblGrid>
                <a:gridCol w="2068560"/>
                <a:gridCol w="2071800"/>
                <a:gridCol w="2068560"/>
                <a:gridCol w="2068560"/>
              </a:tblGrid>
              <a:tr h="1059120"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счет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щий остато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ий остато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актив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00 0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 00 0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Rectangle 32"/>
          <p:cNvSpPr/>
          <p:nvPr/>
        </p:nvSpPr>
        <p:spPr>
          <a:xfrm>
            <a:off x="2325600" y="2359080"/>
            <a:ext cx="3400560" cy="3612960"/>
          </a:xfrm>
          <a:prstGeom prst="rect">
            <a:avLst/>
          </a:prstGeom>
          <a:noFill/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2340000" y="114480"/>
            <a:ext cx="5691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5840" y="1143000"/>
          <a:ext cx="8572320" cy="4786200"/>
        </p:xfrm>
        <a:graphic>
          <a:graphicData uri="http://schemas.openxmlformats.org/drawingml/2006/table">
            <a:tbl>
              <a:tblPr/>
              <a:tblGrid>
                <a:gridCol w="2859120"/>
                <a:gridCol w="463320"/>
                <a:gridCol w="268560"/>
                <a:gridCol w="361800"/>
                <a:gridCol w="538200"/>
                <a:gridCol w="285840"/>
                <a:gridCol w="285480"/>
                <a:gridCol w="885960"/>
                <a:gridCol w="2624040"/>
              </a:tblGrid>
              <a:tr h="412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расходов по Б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цели произведенных расх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оектирование прикладных систем и информационно-коммуникационной инфраструктуры,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 346 0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технической докум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нормативных правовых а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прочих докум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0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 346 0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выполнения текущей деятельн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6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курсов для 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е пользователей создаваемых прикладных систем (ПО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39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6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ие профессионального уровня сотруд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39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ие эффективности выполнения функц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Прочие расходы в области информационно-коммуникационных т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69 228,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на эксплуатацию информационно-коммуникационных подсис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 648 828,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AutoShape 4"/>
          <p:cNvSpPr/>
          <p:nvPr/>
        </p:nvSpPr>
        <p:spPr>
          <a:xfrm>
            <a:off x="4929120" y="6000840"/>
            <a:ext cx="4133880" cy="571320"/>
          </a:xfrm>
          <a:prstGeom prst="wedgeRoundRectCallout">
            <a:avLst>
              <a:gd name="adj1" fmla="val -1624"/>
              <a:gd name="adj2" fmla="val -135736"/>
              <a:gd name="adj3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лежат заполнению в т.ч. строки 050, 060,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928880" y="285840"/>
            <a:ext cx="6161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снительная записка - Таблица №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1"/>
          <a:stretch/>
        </p:blipFill>
        <p:spPr>
          <a:xfrm>
            <a:off x="272880" y="1074600"/>
            <a:ext cx="8514000" cy="14842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3"/>
          <p:cNvSpPr/>
          <p:nvPr/>
        </p:nvSpPr>
        <p:spPr>
          <a:xfrm>
            <a:off x="440640" y="2802600"/>
            <a:ext cx="816732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Формируется ГРБС по результатам контрольных мероприятий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веденных Федеральной службой финансово-бюджетного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адзора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Графа 1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наименования контрольных мероприяти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проверка, ревизия, обследование, и т.п.), </a:t>
            </a: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с указанием год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их завершения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Графа 2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наименование контрольного мероприятия с указанием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ериода, </a:t>
            </a: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за который проводилос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контрольное мероприятие в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формате «месяц.год – месяц.год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714680" y="114480"/>
            <a:ext cx="6316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снительная записка - Таблица №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73240" y="2977200"/>
            <a:ext cx="836676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. отражаются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результаты контрольных мероприятий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оведенных Счетной палатой Российской Федерац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 т.ч. в территориальных подразделениях органов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осударственной власти и подведомственных государственных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учреждениях и предприятиях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300" spc="-1" strike="noStrike" u="sng">
                <a:solidFill>
                  <a:srgbClr val="000066"/>
                </a:solidFill>
                <a:uFillTx/>
                <a:latin typeface="Times New Roman"/>
              </a:rPr>
              <a:t>в части переданных полномочий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 принятые по ним меры……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272880" y="1303200"/>
            <a:ext cx="8661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962000" y="114480"/>
            <a:ext cx="66200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200" spc="-1" strike="noStrike">
                <a:solidFill>
                  <a:srgbClr val="666666"/>
                </a:solidFill>
                <a:latin typeface="Times New Roman"/>
              </a:rPr>
              <a:t>Текстовая часть Пояснительная записки ф. 05031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01760" y="1757520"/>
            <a:ext cx="8405640" cy="61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снения причин образования остатков по счетам 1 201 21 000,1 201 23 000, 1 201 27 000, 1 201 34 000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б остатках по счету 1 106 10 000 в разрезе ЦСР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достижения запланированных результатов деятельност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бразования существенных остатков (более 1 млрд. руб.) дебиторской и кредиторской задолженност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суммах и причинах образования остатков средств на счетах автономных и бюджетных учреждений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500120" y="25718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4280" y="112680"/>
            <a:ext cx="70041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ложения к Пояснительной записке 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отнесение с показателями форм бюджетной отчет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60000" y="289404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86680" y="289404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874320" y="3973680"/>
            <a:ext cx="1112760" cy="32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608960" y="297324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128040" y="544356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886680" y="544356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2360" y="396540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765440" y="3762360"/>
            <a:ext cx="1633320" cy="1056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ланс исполнения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. 0503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299920" y="2408400"/>
            <a:ext cx="1454040" cy="1056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исполне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. 05031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AutoShape 14"/>
          <p:cNvCxnSpPr>
            <a:stCxn id="57" idx="2"/>
            <a:endCxn id="63" idx="0"/>
          </p:cNvCxnSpPr>
          <p:nvPr/>
        </p:nvCxnSpPr>
        <p:spPr>
          <a:xfrm flipH="1" rot="16200000">
            <a:off x="1742760" y="2922840"/>
            <a:ext cx="538920" cy="1140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6" name="AutoShape 15"/>
          <p:cNvCxnSpPr>
            <a:stCxn id="64" idx="3"/>
            <a:endCxn id="59" idx="1"/>
          </p:cNvCxnSpPr>
          <p:nvPr/>
        </p:nvCxnSpPr>
        <p:spPr>
          <a:xfrm>
            <a:off x="6764040" y="2941200"/>
            <a:ext cx="84060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7"/>
          <p:cNvCxnSpPr>
            <a:stCxn id="56" idx="2"/>
            <a:endCxn id="63" idx="0"/>
          </p:cNvCxnSpPr>
          <p:nvPr/>
        </p:nvCxnSpPr>
        <p:spPr>
          <a:xfrm rot="5400000">
            <a:off x="2830320" y="2976480"/>
            <a:ext cx="538920" cy="1033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8" name="AutoShape 18"/>
          <p:cNvCxnSpPr>
            <a:stCxn id="58" idx="1"/>
            <a:endCxn id="63" idx="3"/>
          </p:cNvCxnSpPr>
          <p:nvPr/>
        </p:nvCxnSpPr>
        <p:spPr>
          <a:xfrm flipV="1" rot="10800000">
            <a:off x="3398040" y="4137480"/>
            <a:ext cx="472320" cy="15804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9" name="AutoShape 19"/>
          <p:cNvCxnSpPr>
            <a:stCxn id="60" idx="0"/>
            <a:endCxn id="63" idx="2"/>
          </p:cNvCxnSpPr>
          <p:nvPr/>
        </p:nvCxnSpPr>
        <p:spPr>
          <a:xfrm flipV="1" rot="16200000">
            <a:off x="2827080" y="4585680"/>
            <a:ext cx="613440" cy="11023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0" name="AutoShape 20"/>
          <p:cNvCxnSpPr>
            <a:stCxn id="61" idx="0"/>
            <a:endCxn id="63" idx="2"/>
          </p:cNvCxnSpPr>
          <p:nvPr/>
        </p:nvCxnSpPr>
        <p:spPr>
          <a:xfrm flipH="1" flipV="1" rot="5400000">
            <a:off x="1705320" y="4566600"/>
            <a:ext cx="613440" cy="1140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1" name="AutoShape 21"/>
          <p:cNvCxnSpPr>
            <a:stCxn id="62" idx="3"/>
            <a:endCxn id="63" idx="1"/>
          </p:cNvCxnSpPr>
          <p:nvPr/>
        </p:nvCxnSpPr>
        <p:spPr>
          <a:xfrm>
            <a:off x="1188720" y="4130280"/>
            <a:ext cx="577080" cy="16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2" name="Text Box 22"/>
          <p:cNvSpPr/>
          <p:nvPr/>
        </p:nvSpPr>
        <p:spPr>
          <a:xfrm>
            <a:off x="203040" y="1698480"/>
            <a:ext cx="2649600" cy="569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ка ф.  0503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120551000, 13021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AutoShape 23"/>
          <p:cNvCxnSpPr>
            <a:stCxn id="72" idx="2"/>
            <a:endCxn id="56" idx="0"/>
          </p:cNvCxnSpPr>
          <p:nvPr/>
        </p:nvCxnSpPr>
        <p:spPr>
          <a:xfrm flipH="1" rot="16200000">
            <a:off x="2262960" y="1540440"/>
            <a:ext cx="619920" cy="2088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Text Box 24"/>
          <p:cNvSpPr/>
          <p:nvPr/>
        </p:nvSpPr>
        <p:spPr>
          <a:xfrm>
            <a:off x="5631480" y="543564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7592040" y="222408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AutoShape 26"/>
          <p:cNvCxnSpPr>
            <a:stCxn id="64" idx="3"/>
            <a:endCxn id="75" idx="1"/>
          </p:cNvCxnSpPr>
          <p:nvPr/>
        </p:nvCxnSpPr>
        <p:spPr>
          <a:xfrm flipV="1">
            <a:off x="6764400" y="2388960"/>
            <a:ext cx="824400" cy="5529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Text Box 27"/>
          <p:cNvSpPr/>
          <p:nvPr/>
        </p:nvSpPr>
        <p:spPr>
          <a:xfrm>
            <a:off x="6630120" y="396396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5411160" y="155412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29"/>
          <p:cNvCxnSpPr>
            <a:stCxn id="64" idx="0"/>
            <a:endCxn id="78" idx="2"/>
          </p:cNvCxnSpPr>
          <p:nvPr/>
        </p:nvCxnSpPr>
        <p:spPr>
          <a:xfrm flipV="1" rot="16200000">
            <a:off x="5734080" y="2116440"/>
            <a:ext cx="524880" cy="5940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Text Box 30"/>
          <p:cNvSpPr/>
          <p:nvPr/>
        </p:nvSpPr>
        <p:spPr>
          <a:xfrm>
            <a:off x="6658920" y="456732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AutoShape 31"/>
          <p:cNvCxnSpPr>
            <a:stCxn id="64" idx="2"/>
            <a:endCxn id="80" idx="1"/>
          </p:cNvCxnSpPr>
          <p:nvPr/>
        </p:nvCxnSpPr>
        <p:spPr>
          <a:xfrm flipH="1" rot="16200000">
            <a:off x="5711760" y="3789720"/>
            <a:ext cx="1256400" cy="62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32"/>
          <p:cNvCxnSpPr>
            <a:stCxn id="64" idx="2"/>
            <a:endCxn id="77" idx="1"/>
          </p:cNvCxnSpPr>
          <p:nvPr/>
        </p:nvCxnSpPr>
        <p:spPr>
          <a:xfrm flipH="1" rot="16200000">
            <a:off x="5998680" y="3502440"/>
            <a:ext cx="653400" cy="600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33"/>
          <p:cNvSpPr/>
          <p:nvPr/>
        </p:nvSpPr>
        <p:spPr>
          <a:xfrm>
            <a:off x="7364880" y="5435640"/>
            <a:ext cx="135792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лицы 1 -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214280" y="1429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3286080"/>
          <a:ext cx="8286840" cy="2710080"/>
        </p:xfrm>
        <a:graphic>
          <a:graphicData uri="http://schemas.openxmlformats.org/drawingml/2006/table">
            <a:tbl>
              <a:tblPr/>
              <a:tblGrid>
                <a:gridCol w="88920"/>
                <a:gridCol w="87480"/>
                <a:gridCol w="88560"/>
                <a:gridCol w="87480"/>
                <a:gridCol w="88920"/>
                <a:gridCol w="87480"/>
                <a:gridCol w="88560"/>
                <a:gridCol w="128880"/>
                <a:gridCol w="547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55440"/>
                <a:gridCol w="12060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56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56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1720"/>
              </a:tblGrid>
              <a:tr h="254160">
                <a:tc gridSpan="8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измен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лучат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 сред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, территориальные орга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режд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ном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8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3"/>
          <p:cNvSpPr/>
          <p:nvPr/>
        </p:nvSpPr>
        <p:spPr>
          <a:xfrm>
            <a:off x="2721240" y="1963800"/>
            <a:ext cx="221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ГРБС как получ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юджетных 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64720" y="1963800"/>
            <a:ext cx="221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ГРБС как получ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субсид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Соединительная линия уступом 7"/>
          <p:cNvCxnSpPr>
            <a:stCxn id="86" idx="2"/>
          </p:cNvCxnSpPr>
          <p:nvPr/>
        </p:nvCxnSpPr>
        <p:spPr>
          <a:xfrm flipH="1" rot="16200000">
            <a:off x="3313080" y="3061800"/>
            <a:ext cx="1702440" cy="67392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89" name="Соединительная линия уступом 8"/>
          <p:cNvCxnSpPr/>
          <p:nvPr/>
        </p:nvCxnSpPr>
        <p:spPr>
          <a:xfrm flipH="1" rot="16200000">
            <a:off x="5452920" y="3225240"/>
            <a:ext cx="1640520" cy="40248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90" name="Прямоугольник 9"/>
          <p:cNvSpPr/>
          <p:nvPr/>
        </p:nvSpPr>
        <p:spPr>
          <a:xfrm>
            <a:off x="357120" y="114300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ГРБС является бюджетным учреждением и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е имеет подведомственной се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214280" y="142920"/>
            <a:ext cx="72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040" y="3357720"/>
          <a:ext cx="8286840" cy="2709720"/>
        </p:xfrm>
        <a:graphic>
          <a:graphicData uri="http://schemas.openxmlformats.org/drawingml/2006/table">
            <a:tbl>
              <a:tblPr/>
              <a:tblGrid>
                <a:gridCol w="88920"/>
                <a:gridCol w="87480"/>
                <a:gridCol w="88560"/>
                <a:gridCol w="87480"/>
                <a:gridCol w="88920"/>
                <a:gridCol w="87480"/>
                <a:gridCol w="88560"/>
                <a:gridCol w="128880"/>
                <a:gridCol w="547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55440"/>
                <a:gridCol w="12060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56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56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1720"/>
              </a:tblGrid>
              <a:tr h="253800">
                <a:tc gridSpan="8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измен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лучат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 сред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, территориальные орга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режд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ном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8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3"/>
          <p:cNvSpPr/>
          <p:nvPr/>
        </p:nvSpPr>
        <p:spPr>
          <a:xfrm>
            <a:off x="857160" y="1643040"/>
            <a:ext cx="30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ГРБС как получ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бюджетных средств + БУ (1 ед.) – получатель по переданным полномоч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436280" y="2035080"/>
            <a:ext cx="24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ГРБС как получ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убсидий + БУ (3 е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Соединительная линия уступом 7"/>
          <p:cNvCxnSpPr/>
          <p:nvPr/>
        </p:nvCxnSpPr>
        <p:spPr>
          <a:xfrm flipH="1" rot="16200000">
            <a:off x="2308320" y="2763360"/>
            <a:ext cx="2157840" cy="2059920"/>
          </a:xfrm>
          <a:prstGeom prst="bentConnector3">
            <a:avLst>
              <a:gd name="adj1" fmla="val 49991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96" name="Соединительная линия уступом 8"/>
          <p:cNvCxnSpPr/>
          <p:nvPr/>
        </p:nvCxnSpPr>
        <p:spPr>
          <a:xfrm flipH="1" rot="16200000">
            <a:off x="4821840" y="3427920"/>
            <a:ext cx="2143800" cy="64332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97" name="Text Box 3"/>
          <p:cNvSpPr/>
          <p:nvPr/>
        </p:nvSpPr>
        <p:spPr>
          <a:xfrm>
            <a:off x="7066800" y="21780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У (2 е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Соединительная линия уступом 15"/>
          <p:cNvCxnSpPr/>
          <p:nvPr/>
        </p:nvCxnSpPr>
        <p:spPr>
          <a:xfrm rot="5400000">
            <a:off x="6178680" y="3536280"/>
            <a:ext cx="2286720" cy="357840"/>
          </a:xfrm>
          <a:prstGeom prst="bentConnector3">
            <a:avLst>
              <a:gd name="adj1" fmla="val 49992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99" name="Прямоугольник 12"/>
          <p:cNvSpPr/>
          <p:nvPr/>
        </p:nvSpPr>
        <p:spPr>
          <a:xfrm>
            <a:off x="142920" y="1000080"/>
            <a:ext cx="88581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ГРБС является бюджетным учреждением и </a:t>
            </a:r>
            <a:r>
              <a:rPr b="1" lang="ru-RU" sz="1700" spc="-1" strike="noStrike" u="sng">
                <a:solidFill>
                  <a:srgbClr val="ff0000"/>
                </a:solidFill>
                <a:uFillTx/>
                <a:latin typeface="Times New Roman"/>
              </a:rPr>
              <a:t>имеет подведомственную сеть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, включающую три БУ, из них одно – получатель по переданным полномочиям, и два А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214280" y="142920"/>
            <a:ext cx="72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3108240"/>
          <a:ext cx="8286840" cy="2710080"/>
        </p:xfrm>
        <a:graphic>
          <a:graphicData uri="http://schemas.openxmlformats.org/drawingml/2006/table">
            <a:tbl>
              <a:tblPr/>
              <a:tblGrid>
                <a:gridCol w="88920"/>
                <a:gridCol w="87480"/>
                <a:gridCol w="88560"/>
                <a:gridCol w="87480"/>
                <a:gridCol w="88920"/>
                <a:gridCol w="87480"/>
                <a:gridCol w="88560"/>
                <a:gridCol w="128880"/>
                <a:gridCol w="547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55440"/>
                <a:gridCol w="12060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56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56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1720"/>
              </a:tblGrid>
              <a:tr h="254160">
                <a:tc gridSpan="8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измен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лучат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 сред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, территориальные орга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режд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ном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8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3"/>
          <p:cNvSpPr/>
          <p:nvPr/>
        </p:nvSpPr>
        <p:spPr>
          <a:xfrm>
            <a:off x="4612680" y="171468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ГРБС как орган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ласти + 84 терорг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38520" y="17859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азен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Соединительная линия уступом 7"/>
          <p:cNvCxnSpPr>
            <a:stCxn id="102" idx="2"/>
          </p:cNvCxnSpPr>
          <p:nvPr/>
        </p:nvCxnSpPr>
        <p:spPr>
          <a:xfrm rot="5400000">
            <a:off x="3567240" y="2364480"/>
            <a:ext cx="2283480" cy="227520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05" name="Соединительная линия уступом 8"/>
          <p:cNvCxnSpPr/>
          <p:nvPr/>
        </p:nvCxnSpPr>
        <p:spPr>
          <a:xfrm flipH="1" rot="16200000">
            <a:off x="1177920" y="3178800"/>
            <a:ext cx="2358000" cy="429480"/>
          </a:xfrm>
          <a:prstGeom prst="bentConnector3">
            <a:avLst>
              <a:gd name="adj1" fmla="val 49992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106" name="Скругленная прямоугольная выноска 12"/>
          <p:cNvSpPr/>
          <p:nvPr/>
        </p:nvSpPr>
        <p:spPr>
          <a:xfrm>
            <a:off x="7715160" y="5357880"/>
            <a:ext cx="1285920" cy="1143000"/>
          </a:xfrm>
          <a:prstGeom prst="wedgeRoundRectCallout">
            <a:avLst>
              <a:gd name="adj1" fmla="val -28333"/>
              <a:gd name="adj2" fmla="val -88796"/>
              <a:gd name="adj3" fmla="val 16667"/>
            </a:avLst>
          </a:prstGeom>
          <a:solidFill>
            <a:srgbClr val="ffffff"/>
          </a:solidFill>
          <a:ln w="2556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В случае изменения </a:t>
            </a:r>
            <a:r>
              <a:rPr b="0" lang="ru-RU" sz="1400" spc="-1" strike="noStrike" u="sng">
                <a:solidFill>
                  <a:srgbClr val="001a4f"/>
                </a:solidFill>
                <a:uFillTx/>
                <a:latin typeface="Times New Roman"/>
                <a:ea typeface="Times New Roman"/>
              </a:rPr>
              <a:t>обязательно </a:t>
            </a:r>
            <a:r>
              <a:rPr b="0" lang="ru-RU" sz="1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указание НПА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0" y="1071720"/>
            <a:ext cx="9001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ГРБС является органом власти и </a:t>
            </a:r>
            <a:r>
              <a:rPr b="1" lang="ru-RU" sz="1700" spc="-1" strike="noStrike" u="sng">
                <a:solidFill>
                  <a:srgbClr val="ff0000"/>
                </a:solidFill>
                <a:uFillTx/>
                <a:latin typeface="Times New Roman"/>
              </a:rPr>
              <a:t>имеет подведомственную сеть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, включающую 84 территориальных органа и одно казенное учрежден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1 (ФГУП)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39600" y="2214720"/>
            <a:ext cx="1556280" cy="372600"/>
          </a:xfrm>
          <a:prstGeom prst="rect">
            <a:avLst/>
          </a:prstGeom>
          <a:noFill/>
          <a:ln w="93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imes New Roman"/>
              </a:rPr>
              <a:t>Всего ФГУП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940640" y="2214720"/>
            <a:ext cx="3458160" cy="372600"/>
          </a:xfrm>
          <a:prstGeom prst="rect">
            <a:avLst/>
          </a:prstGeom>
          <a:noFill/>
          <a:ln w="93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imes New Roman"/>
              </a:rPr>
              <a:t>ФГУП – получатели субсид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591200" y="1714680"/>
            <a:ext cx="5712120" cy="372600"/>
          </a:xfrm>
          <a:prstGeom prst="rect">
            <a:avLst/>
          </a:prstGeom>
          <a:noFill/>
          <a:ln w="93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imes New Roman"/>
              </a:rPr>
              <a:t>ФГУП – получатели по переданным полномочиям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1427040" y="4032360"/>
            <a:ext cx="706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6175440" y="3762360"/>
            <a:ext cx="7063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2519280" y="4032360"/>
            <a:ext cx="706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3610080" y="4032360"/>
            <a:ext cx="706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36"/>
          <p:cNvSpPr/>
          <p:nvPr/>
        </p:nvSpPr>
        <p:spPr>
          <a:xfrm>
            <a:off x="498600" y="6084720"/>
            <a:ext cx="5473440" cy="331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оказатели отражаются только по строке «Всего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82760" y="2832120"/>
          <a:ext cx="8229600" cy="3186000"/>
        </p:xfrm>
        <a:graphic>
          <a:graphicData uri="http://schemas.openxmlformats.org/drawingml/2006/table">
            <a:tbl>
              <a:tblPr/>
              <a:tblGrid>
                <a:gridCol w="53280"/>
                <a:gridCol w="87120"/>
                <a:gridCol w="88920"/>
                <a:gridCol w="87480"/>
                <a:gridCol w="88920"/>
                <a:gridCol w="871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7480"/>
                <a:gridCol w="88920"/>
                <a:gridCol w="87120"/>
                <a:gridCol w="88920"/>
                <a:gridCol w="87480"/>
                <a:gridCol w="88560"/>
                <a:gridCol w="87480"/>
                <a:gridCol w="88920"/>
                <a:gridCol w="87120"/>
                <a:gridCol w="88920"/>
                <a:gridCol w="87480"/>
                <a:gridCol w="87480"/>
                <a:gridCol w="8856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118800"/>
                <a:gridCol w="57240"/>
                <a:gridCol w="87480"/>
                <a:gridCol w="88920"/>
                <a:gridCol w="87120"/>
                <a:gridCol w="88920"/>
                <a:gridCol w="77040"/>
              </a:tblGrid>
              <a:tr h="274680">
                <a:tc gridSpan="8" rowSpan="4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3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 rowSpan="4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измен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 rowSpan="3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2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луч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2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ные 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, территориаль-н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ре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номные 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8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8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8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ая соединительная линия 18"/>
          <p:cNvSpPr/>
          <p:nvPr/>
        </p:nvSpPr>
        <p:spPr>
          <a:xfrm flipV="1">
            <a:off x="498600" y="4557240"/>
            <a:ext cx="8210520" cy="73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ая соединительная линия 20"/>
          <p:cNvSpPr/>
          <p:nvPr/>
        </p:nvSpPr>
        <p:spPr>
          <a:xfrm>
            <a:off x="498600" y="4557600"/>
            <a:ext cx="8210520" cy="66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Соединительная линия уступом 17"/>
          <p:cNvCxnSpPr/>
          <p:nvPr/>
        </p:nvCxnSpPr>
        <p:spPr>
          <a:xfrm rot="5400000">
            <a:off x="105840" y="4249800"/>
            <a:ext cx="3072240" cy="2160"/>
          </a:xfrm>
          <a:prstGeom prst="bentConnector3">
            <a:avLst>
              <a:gd name="adj1" fmla="val 49994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21" name="Соединительная линия уступом 21"/>
          <p:cNvCxnSpPr/>
          <p:nvPr/>
        </p:nvCxnSpPr>
        <p:spPr>
          <a:xfrm flipH="1" rot="16200000">
            <a:off x="2856600" y="3357360"/>
            <a:ext cx="3572280" cy="128628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22" name="Соединительная линия уступом 22"/>
          <p:cNvCxnSpPr/>
          <p:nvPr/>
        </p:nvCxnSpPr>
        <p:spPr>
          <a:xfrm flipH="1" rot="16200000">
            <a:off x="5322240" y="4035960"/>
            <a:ext cx="3072240" cy="429120"/>
          </a:xfrm>
          <a:prstGeom prst="bentConnector3">
            <a:avLst>
              <a:gd name="adj1" fmla="val 49994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123" name="Прямоугольник 28"/>
          <p:cNvSpPr/>
          <p:nvPr/>
        </p:nvSpPr>
        <p:spPr>
          <a:xfrm>
            <a:off x="21420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ГРБС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имеет подведомственные ФГУП (8 ед.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, из них: ФГУП (4 ед.) – получатели субсидий из ФБ, ФГУП (2 ед.) – получатели средств ФБ по переданным полномоч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2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42920" y="4499640"/>
            <a:ext cx="900108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В разрез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результатов 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функциональной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деятельности ГРБС в рамк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утвержденной бюджетной росписи 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(Сведения ф. 0503162)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результатов деятельности подведомственных АУ/БУ по выполн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  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государственного задания и выполнению иных целей (Сведения ф. 0503162 (С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6858000" y="4143240"/>
            <a:ext cx="2143080" cy="1214640"/>
          </a:xfrm>
          <a:prstGeom prst="wedgeRoundRectCallout">
            <a:avLst>
              <a:gd name="adj1" fmla="val -180550"/>
              <a:gd name="adj2" fmla="val -205439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в соответствии с национальным кодовым буквенным обозначением единицы измерения по ОКЕ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5840" y="1428840"/>
          <a:ext cx="8501040" cy="2778120"/>
        </p:xfrm>
        <a:graphic>
          <a:graphicData uri="http://schemas.openxmlformats.org/drawingml/2006/table">
            <a:tbl>
              <a:tblPr/>
              <a:tblGrid>
                <a:gridCol w="79200"/>
                <a:gridCol w="77760"/>
                <a:gridCol w="7956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7760"/>
                <a:gridCol w="79560"/>
                <a:gridCol w="79200"/>
                <a:gridCol w="114480"/>
                <a:gridCol w="5328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79560"/>
                <a:gridCol w="77760"/>
                <a:gridCol w="7956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79560"/>
                <a:gridCol w="77760"/>
                <a:gridCol w="472680"/>
                <a:gridCol w="77760"/>
                <a:gridCol w="943560"/>
                <a:gridCol w="1258920"/>
                <a:gridCol w="943560"/>
                <a:gridCol w="1252440"/>
              </a:tblGrid>
              <a:tr h="207000">
                <a:tc gridSpan="1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, подраздела расходов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юджетной классифик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46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расходов, предусмотренных Сводно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ой росписью на отчетны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42920" y="1571760"/>
          <a:ext cx="8858160" cy="4700520"/>
        </p:xfrm>
        <a:graphic>
          <a:graphicData uri="http://schemas.openxmlformats.org/drawingml/2006/table">
            <a:tbl>
              <a:tblPr/>
              <a:tblGrid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119160"/>
                <a:gridCol w="5328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491760"/>
                <a:gridCol w="82800"/>
                <a:gridCol w="983520"/>
                <a:gridCol w="1310040"/>
                <a:gridCol w="983520"/>
                <a:gridCol w="1306800"/>
              </a:tblGrid>
              <a:tr h="207000">
                <a:tc gridSpan="1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, подраздела расходов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юджетной классифик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8 1007700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одернизированных лаборатор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5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на финансовое обеспечение выполнения государственного 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0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на иные ц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1003 1008851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осударственных служащих, получивших субсидию на приобретение жилого помещ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2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2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 2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 7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46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расходов, предусмотренных Сводно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ой росписью на отчетны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 0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ая соединительная линия 2"/>
          <p:cNvSpPr/>
          <p:nvPr/>
        </p:nvSpPr>
        <p:spPr>
          <a:xfrm flipV="1">
            <a:off x="214200" y="4429080"/>
            <a:ext cx="8501040" cy="9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ая соединительная линия 3"/>
          <p:cNvSpPr/>
          <p:nvPr/>
        </p:nvSpPr>
        <p:spPr>
          <a:xfrm>
            <a:off x="214200" y="4429080"/>
            <a:ext cx="8501040" cy="9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585880" y="214200"/>
            <a:ext cx="33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0" y="92880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a4f"/>
                </a:solidFill>
                <a:latin typeface="Times New Roman"/>
              </a:rPr>
              <a:t>В разрезе: результатов </a:t>
            </a:r>
            <a:r>
              <a:rPr b="0" lang="ru-RU" sz="1800" spc="-1" strike="noStrike" u="sng">
                <a:solidFill>
                  <a:srgbClr val="001a4f"/>
                </a:solidFill>
                <a:uFillTx/>
                <a:latin typeface="Times New Roman"/>
              </a:rPr>
              <a:t>функциональной</a:t>
            </a:r>
            <a:r>
              <a:rPr b="0" lang="ru-RU" sz="1800" spc="-1" strike="noStrike">
                <a:solidFill>
                  <a:srgbClr val="001a4f"/>
                </a:solidFill>
                <a:latin typeface="Times New Roman"/>
              </a:rPr>
              <a:t> деятельности ГРБС в рамках утвержденной бюджетной роспи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5786280" y="642960"/>
            <a:ext cx="2500560" cy="857160"/>
          </a:xfrm>
          <a:prstGeom prst="wedgeRoundRectCallout">
            <a:avLst>
              <a:gd name="adj1" fmla="val -239115"/>
              <a:gd name="adj2" fmla="val 228217"/>
              <a:gd name="adj3" fmla="val 16667"/>
            </a:avLst>
          </a:prstGeom>
          <a:solidFill>
            <a:srgbClr val="ffff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труктуре кода ГРБС, Рз/Прз, ЦС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-142920" y="5786280"/>
            <a:ext cx="1428840" cy="928800"/>
          </a:xfrm>
          <a:prstGeom prst="wedgeRoundRectCallout">
            <a:avLst>
              <a:gd name="adj1" fmla="val 222611"/>
              <a:gd name="adj2" fmla="val -237148"/>
              <a:gd name="adj3" fmla="val 16667"/>
            </a:avLst>
          </a:prstGeom>
          <a:solidFill>
            <a:srgbClr val="ffff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личество заключенных согла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Овал 8"/>
          <p:cNvSpPr/>
          <p:nvPr/>
        </p:nvSpPr>
        <p:spPr>
          <a:xfrm>
            <a:off x="3714840" y="3714840"/>
            <a:ext cx="428400" cy="78588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СЕЛЕЗНЕВА ГАЛИНА АНАТОЛЬЕВНА</cp:lastModifiedBy>
  <dcterms:modified xsi:type="dcterms:W3CDTF">2014-02-03T10:47:50Z</dcterms:modified>
  <cp:revision>473</cp:revision>
  <dc:subject/>
  <dc:title>Слайд 1</dc:title>
</cp:coreProperties>
</file>