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1741-3E79-4718-A80C-84F99C65D484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0312-D406-4309-8584-AC0DA6CF5173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6AFA-E57E-49D3-87EF-95A01B02E53D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98FB-68F6-447F-A318-36D66A3E8D5D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3A50-A1CF-447C-B8F7-380A87EAA7B4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5C3-88D3-4881-B445-635F6983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CD4-3107-4958-ABF5-591AC688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7E1-B5C5-4B37-9DD0-DD87D499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32F-B157-4E80-ADB7-3AACA55A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171-D32A-496E-9754-2DDB7819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C6A-3769-4F05-A0AB-445AE250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F64-5348-4868-BA00-175A1511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8B5-038D-4C8F-944E-F9375B46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060-FD9D-424D-ACB0-3AA9EC14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7FE-1213-47BF-9335-D9657473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CA5-14A7-4431-A6EA-72AF9328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22A-EDE5-49E5-A2BA-0089A6F2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BA10-AF4E-4D36-8CF4-C8ADBC8036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539D-6716-42CD-8D6E-5DC35A302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97E25EAFB8F9B67EC5BDDC113D19E76805650DDF16C43DC466DF9517A9DBDB337E9756F21B7A82FK8y2M" TargetMode="External"/><Relationship Id="rId2" Type="http://schemas.openxmlformats.org/officeDocument/2006/relationships/hyperlink" Target="consultantplus://offline/ref=E97E25EAFB8F9B67EC5BDDC113D19E76805650DDF16C43DC466DF9517A9DBDB337E9756F21B0AB2BK8y0M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3"/>
          <p:cNvSpPr/>
          <p:nvPr/>
        </p:nvSpPr>
        <p:spPr>
          <a:xfrm>
            <a:off x="1403280" y="44280"/>
            <a:ext cx="64594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ФЕДЕРАЛЬНОЕ КАЗНАЧЕ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3535"/>
                </a:solidFill>
                <a:latin typeface="Calibri"/>
              </a:rPr>
              <a:t>МЕЖРЕГИОНАЛЬНОЕ ОПЕРАЦИОНН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480" y="1461960"/>
            <a:ext cx="9144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1166760"/>
            <a:ext cx="88236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9080" y="3860640"/>
            <a:ext cx="9144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1267920"/>
            <a:ext cx="7772400" cy="279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3535"/>
                </a:solidFill>
                <a:latin typeface="Calibri"/>
                <a:ea typeface="Times New Roman"/>
              </a:rPr>
              <a:t>Отдельные вопросы формирования бюджетной(бухгалтерской) отчетности финансовыми органами Российской Федерации и органами управления государственными внебюджетными фондами Российской Федерации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6920" y="5084640"/>
            <a:ext cx="759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53535"/>
                </a:solidFill>
                <a:latin typeface="Calibri"/>
                <a:ea typeface="Times New Roman"/>
              </a:rPr>
              <a:t>Докладчик</a:t>
            </a:r>
            <a:r>
              <a:rPr b="1" i="1" lang="en-US" sz="1600" spc="-1" strike="noStrike">
                <a:solidFill>
                  <a:srgbClr val="353535"/>
                </a:solidFill>
                <a:latin typeface="Calibri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53535"/>
                </a:solidFill>
                <a:latin typeface="Calibri"/>
                <a:ea typeface="Times New Roman"/>
              </a:rPr>
              <a:t>заместитель руководителя МОУ Ф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53535"/>
                </a:solidFill>
                <a:latin typeface="Calibri"/>
                <a:ea typeface="Times New Roman"/>
              </a:rPr>
              <a:t>Салдусова Б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617400" y="171144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Межтерриториальные расчеты за медицинскую помощь, оказанную застрахованным лицам за пределами территории субъекта РФ, в котором выдан полис ОМС, отражаются как МБ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68360" y="4619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ТФОМС субъект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6189840" y="46195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ТФОМС субъект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2268360" y="3824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КОСГУ 251        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4572000" y="3824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КОСГУ 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4920" y="189000"/>
            <a:ext cx="6769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Письмо Минфина России от 24.06.2014 № 02-05-10/3022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02.07.2014 №02-02-10/321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1042920" y="3094200"/>
            <a:ext cx="723960" cy="1342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2"/>
          <a:stretch/>
        </p:blipFill>
        <p:spPr>
          <a:xfrm>
            <a:off x="6621480" y="3048120"/>
            <a:ext cx="9349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"/>
          <p:cNvPicPr/>
          <p:nvPr/>
        </p:nvPicPr>
        <p:blipFill>
          <a:blip r:embed="rId1"/>
          <a:stretch/>
        </p:blipFill>
        <p:spPr>
          <a:xfrm>
            <a:off x="81000" y="1052640"/>
            <a:ext cx="8858160" cy="540072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4"/>
          <p:cNvSpPr/>
          <p:nvPr/>
        </p:nvSpPr>
        <p:spPr>
          <a:xfrm>
            <a:off x="1963800" y="4629240"/>
            <a:ext cx="3914640" cy="420480"/>
          </a:xfrm>
          <a:prstGeom prst="roundRect">
            <a:avLst>
              <a:gd name="adj" fmla="val 10032"/>
            </a:avLst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5"/>
          <p:cNvSpPr/>
          <p:nvPr/>
        </p:nvSpPr>
        <p:spPr>
          <a:xfrm>
            <a:off x="2098800" y="5130720"/>
            <a:ext cx="3913200" cy="285840"/>
          </a:xfrm>
          <a:prstGeom prst="roundRect">
            <a:avLst>
              <a:gd name="adj" fmla="val 10032"/>
            </a:avLst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ая выноска 16"/>
          <p:cNvSpPr/>
          <p:nvPr/>
        </p:nvSpPr>
        <p:spPr>
          <a:xfrm>
            <a:off x="250920" y="3573360"/>
            <a:ext cx="1079280" cy="503280"/>
          </a:xfrm>
          <a:prstGeom prst="wedgeRectCallout">
            <a:avLst>
              <a:gd name="adj1" fmla="val 105555"/>
              <a:gd name="adj2" fmla="val 103296"/>
            </a:avLst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верное за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ая выноска 18"/>
          <p:cNvSpPr/>
          <p:nvPr/>
        </p:nvSpPr>
        <p:spPr>
          <a:xfrm>
            <a:off x="6039000" y="2346480"/>
            <a:ext cx="1800000" cy="1554120"/>
          </a:xfrm>
          <a:prstGeom prst="wedgeRectCallout">
            <a:avLst>
              <a:gd name="adj1" fmla="val -55319"/>
              <a:gd name="adj2" fmla="val 107171"/>
            </a:avLst>
          </a:prstGeom>
          <a:solidFill>
            <a:srgbClr val="92d050"/>
          </a:solidFill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ильное заполнение кода ОКТМО  и элемен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Три разряда в коде ОКТМО только у Ненецкого А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Ханты-Мансийского АО и Ямало-Ненецкого А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ая выноска 10"/>
          <p:cNvSpPr/>
          <p:nvPr/>
        </p:nvSpPr>
        <p:spPr>
          <a:xfrm>
            <a:off x="6939000" y="4797360"/>
            <a:ext cx="1558800" cy="885960"/>
          </a:xfrm>
          <a:prstGeom prst="wedgeRectCallout">
            <a:avLst>
              <a:gd name="adj1" fmla="val -104564"/>
              <a:gd name="adj2" fmla="val -361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мер заполнения справки при перечислениях в Республику Кр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3"/>
          <p:cNvSpPr/>
          <p:nvPr/>
        </p:nvSpPr>
        <p:spPr>
          <a:xfrm>
            <a:off x="81000" y="260280"/>
            <a:ext cx="906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правка по консолидируемым расчетам ф.0503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2"/>
          <p:cNvSpPr/>
          <p:nvPr/>
        </p:nvSpPr>
        <p:spPr>
          <a:xfrm>
            <a:off x="1965240" y="4343400"/>
            <a:ext cx="3913200" cy="285840"/>
          </a:xfrm>
          <a:prstGeom prst="roundRect">
            <a:avLst>
              <a:gd name="adj" fmla="val 1003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1042920" y="1593720"/>
            <a:ext cx="31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Казенное учреждение субъект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871880" y="1592280"/>
            <a:ext cx="33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Бюджет муницип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16000" y="4581360"/>
            <a:ext cx="871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Сведения о движении нефинансовых активов консолидированного бюджета </a:t>
            </a:r>
            <a:r>
              <a:rPr b="0" lang="ru-RU" sz="1400" spc="-1" strike="noStrike" u="sng">
                <a:solidFill>
                  <a:srgbClr val="17bbfd"/>
                </a:solidFill>
                <a:uFillTx/>
                <a:latin typeface="Calibri"/>
                <a:ea typeface="Times New Roman"/>
                <a:hlinkClick r:id="rId1"/>
              </a:rPr>
              <a:t>(ф. 0503368)</a:t>
            </a: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 – формируется на основании данных консолидированных приложений </a:t>
            </a:r>
            <a:r>
              <a:rPr b="0" lang="ru-RU" sz="1400" spc="-1" strike="noStrike" u="sng">
                <a:solidFill>
                  <a:srgbClr val="17bbfd"/>
                </a:solidFill>
                <a:uFillTx/>
                <a:latin typeface="Calibri"/>
                <a:ea typeface="Times New Roman"/>
                <a:hlinkClick r:id="rId2"/>
              </a:rPr>
              <a:t>(ф. 0503168)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финансовых органов, путем суммирования одноименных показателей и исключения взаимосвязанных по передаче (получению)</a:t>
            </a:r>
            <a:r>
              <a:rPr b="1" i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 ИДЕНТИЧНЫХ </a:t>
            </a: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нефинансовых активов, произведенных в рамках межбюджетных отнош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(п.218 приказа 191н</a:t>
            </a:r>
            <a:r>
              <a:rPr b="0" lang="ru-RU" sz="1600" spc="-1" strike="noStrike">
                <a:solidFill>
                  <a:srgbClr val="353535"/>
                </a:solidFill>
                <a:latin typeface="Calibri"/>
                <a:ea typeface="Times New Roman"/>
              </a:rPr>
              <a:t>)</a:t>
            </a:r>
            <a:r>
              <a:rPr b="0" lang="ru-RU" sz="1600" spc="-1" strike="noStrike">
                <a:solidFill>
                  <a:srgbClr val="353535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258920" y="115920"/>
            <a:ext cx="662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дения о движении нефинансовых активов консолидированного бюджета ф.05033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2565360"/>
          <a:ext cx="3384720" cy="175248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Дт 1 40120 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«Расходы на перечисления другим бюджетам бюджетной системы РФ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т 1 10122 4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«Уменьшение стоимости жилых помещений – недвижимого имущества учрежд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292720" y="2565360"/>
          <a:ext cx="3656160" cy="1727280"/>
        </p:xfrm>
        <a:graphic>
          <a:graphicData uri="http://schemas.openxmlformats.org/drawingml/2006/table">
            <a:tbl>
              <a:tblPr/>
              <a:tblGrid>
                <a:gridCol w="3656160"/>
              </a:tblGrid>
              <a:tr h="8175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Дт 1 10851 3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«Увеличение стоимости недвижимого имущества, составляющего казн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т 1 40110 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«Доходы от поступлений от других бюджетов бюджетной системы РФ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Стрелка вправо с вырезом 5"/>
          <p:cNvSpPr/>
          <p:nvPr/>
        </p:nvSpPr>
        <p:spPr>
          <a:xfrm>
            <a:off x="3924360" y="3141720"/>
            <a:ext cx="1224000" cy="431640"/>
          </a:xfrm>
          <a:custGeom>
            <a:avLst/>
            <a:gdLst>
              <a:gd name="textAreaLeft" fmla="*/ 118080 w 1224000"/>
              <a:gd name="textAreaRight" fmla="*/ 1105920 w 1224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30" y="5400"/>
                </a:lnTo>
                <a:lnTo>
                  <a:pt x="17430" y="0"/>
                </a:lnTo>
                <a:lnTo>
                  <a:pt x="21600" y="10800"/>
                </a:lnTo>
                <a:lnTo>
                  <a:pt x="17430" y="21600"/>
                </a:lnTo>
                <a:lnTo>
                  <a:pt x="17430" y="16200"/>
                </a:lnTo>
                <a:lnTo>
                  <a:pt x="0" y="16200"/>
                </a:lnTo>
                <a:lnTo>
                  <a:pt x="208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2" descr=""/>
          <p:cNvPicPr/>
          <p:nvPr/>
        </p:nvPicPr>
        <p:blipFill>
          <a:blip r:embed="rId3"/>
          <a:stretch/>
        </p:blipFill>
        <p:spPr>
          <a:xfrm>
            <a:off x="468360" y="1252440"/>
            <a:ext cx="646200" cy="12384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"/>
          <p:cNvPicPr/>
          <p:nvPr/>
        </p:nvPicPr>
        <p:blipFill>
          <a:blip r:embed="rId4"/>
          <a:stretch/>
        </p:blipFill>
        <p:spPr>
          <a:xfrm>
            <a:off x="8217000" y="1484280"/>
            <a:ext cx="68904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1"/>
          <p:cNvSpPr/>
          <p:nvPr/>
        </p:nvSpPr>
        <p:spPr>
          <a:xfrm>
            <a:off x="1476360" y="77760"/>
            <a:ext cx="6408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дения о движении нефинансовых активов консолидированного бюджета ф.05033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3964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1 101 11 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1 108 51 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9"/>
          <p:cNvSpPr/>
          <p:nvPr/>
        </p:nvSpPr>
        <p:spPr>
          <a:xfrm>
            <a:off x="755640" y="4869000"/>
            <a:ext cx="431640" cy="6476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7"/>
          <p:cNvCxnSpPr/>
          <p:nvPr/>
        </p:nvCxnSpPr>
        <p:spPr>
          <a:xfrm>
            <a:off x="1908000" y="5192280"/>
            <a:ext cx="756720" cy="108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11" name="Загнутый угол 10"/>
          <p:cNvSpPr/>
          <p:nvPr/>
        </p:nvSpPr>
        <p:spPr>
          <a:xfrm>
            <a:off x="2700360" y="4869000"/>
            <a:ext cx="2951280" cy="936360"/>
          </a:xfrm>
          <a:prstGeom prst="foldedCorner">
            <a:avLst>
              <a:gd name="adj" fmla="val 16666"/>
            </a:avLst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анные показатели не являются идентичными, внутренние обороты между счетами 101 и 108 не исключ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411120" y="1052640"/>
            <a:ext cx="84088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03280" y="2452680"/>
          <a:ext cx="8389800" cy="2766960"/>
        </p:xfrm>
        <a:graphic>
          <a:graphicData uri="http://schemas.openxmlformats.org/drawingml/2006/table">
            <a:tbl>
              <a:tblPr/>
              <a:tblGrid>
                <a:gridCol w="1332000"/>
                <a:gridCol w="1162080"/>
                <a:gridCol w="755640"/>
                <a:gridCol w="1323720"/>
                <a:gridCol w="1295640"/>
                <a:gridCol w="1311120"/>
                <a:gridCol w="1209600"/>
              </a:tblGrid>
              <a:tr h="121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име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личие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Поступ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(увелич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Выбытие (уменьш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личие на кон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Машины и 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1Х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Вложения в основны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6Х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Box 4"/>
          <p:cNvSpPr/>
          <p:nvPr/>
        </p:nvSpPr>
        <p:spPr>
          <a:xfrm>
            <a:off x="763560" y="1303200"/>
            <a:ext cx="797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Отражение операций в ф.0503168 при принятии вложений в объекты основных средств к учету в состав основ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7200" y="2008080"/>
            <a:ext cx="80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Дт 1 101ХХ 310  Кт 1 106ХХ 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3"/>
          <p:cNvSpPr/>
          <p:nvPr/>
        </p:nvSpPr>
        <p:spPr>
          <a:xfrm>
            <a:off x="3203640" y="2008080"/>
            <a:ext cx="1295280" cy="412920"/>
          </a:xfrm>
          <a:prstGeom prst="ellipse">
            <a:avLst/>
          </a:prstGeom>
          <a:noFill/>
          <a:ln w="190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Соединительная линия уступом 7"/>
          <p:cNvCxnSpPr/>
          <p:nvPr/>
        </p:nvCxnSpPr>
        <p:spPr>
          <a:xfrm flipH="1" rot="16200000">
            <a:off x="3815640" y="2816640"/>
            <a:ext cx="1800720" cy="1008720"/>
          </a:xfrm>
          <a:prstGeom prst="bentConnector3">
            <a:avLst>
              <a:gd name="adj1" fmla="val 49990"/>
            </a:avLst>
          </a:prstGeom>
          <a:ln w="19080">
            <a:solidFill>
              <a:srgbClr val="00b0f0"/>
            </a:solidFill>
            <a:round/>
            <a:tailEnd len="med" type="arrow" w="med"/>
          </a:ln>
        </p:spPr>
      </p:cxnSp>
      <p:sp>
        <p:nvSpPr>
          <p:cNvPr id="118" name="Овал 10"/>
          <p:cNvSpPr/>
          <p:nvPr/>
        </p:nvSpPr>
        <p:spPr>
          <a:xfrm>
            <a:off x="4788000" y="2008080"/>
            <a:ext cx="1312920" cy="368280"/>
          </a:xfrm>
          <a:prstGeom prst="ellipse">
            <a:avLst/>
          </a:prstGeom>
          <a:noFill/>
          <a:ln w="190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Соединительная линия уступом 11"/>
          <p:cNvCxnSpPr>
            <a:stCxn id="118" idx="5"/>
          </p:cNvCxnSpPr>
          <p:nvPr/>
        </p:nvCxnSpPr>
        <p:spPr>
          <a:xfrm flipH="1" rot="16200000">
            <a:off x="5118840" y="3111120"/>
            <a:ext cx="2402640" cy="824760"/>
          </a:xfrm>
          <a:prstGeom prst="bentConnector3">
            <a:avLst>
              <a:gd name="adj1" fmla="val 49992"/>
            </a:avLst>
          </a:prstGeom>
          <a:ln w="19080">
            <a:solidFill>
              <a:srgbClr val="00b0f0"/>
            </a:solidFill>
            <a:round/>
            <a:tailEnd len="med" type="arrow" w="med"/>
          </a:ln>
        </p:spPr>
      </p:cxnSp>
      <p:sp>
        <p:nvSpPr>
          <p:cNvPr id="120" name="Прямоугольник 3"/>
          <p:cNvSpPr/>
          <p:nvPr/>
        </p:nvSpPr>
        <p:spPr>
          <a:xfrm>
            <a:off x="1835280" y="115920"/>
            <a:ext cx="54734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дения о движении нефинансовых активов ф.05031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39640" y="5445000"/>
            <a:ext cx="79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Операции по внутреннему перемещению объектов нефинансовых активов между МОЛ по графам 5,6 не заполня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15800" y="1557360"/>
          <a:ext cx="8280360" cy="3838680"/>
        </p:xfrm>
        <a:graphic>
          <a:graphicData uri="http://schemas.openxmlformats.org/drawingml/2006/table">
            <a:tbl>
              <a:tblPr/>
              <a:tblGrid>
                <a:gridCol w="1343160"/>
                <a:gridCol w="1119240"/>
                <a:gridCol w="745920"/>
                <a:gridCol w="1111320"/>
                <a:gridCol w="1349280"/>
                <a:gridCol w="1417680"/>
                <a:gridCol w="1193760"/>
              </a:tblGrid>
              <a:tr h="79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име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личие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Поступ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(увелич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Выбытие (уменьш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личие на кон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Амортизация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4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Амортизация основных средст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4</a:t>
                      </a:r>
                      <a:r>
                        <a:rPr b="1" lang="ru-RU" sz="1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00</a:t>
                      </a: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353535"/>
                          </a:solidFill>
                          <a:uFillTx/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из них</a:t>
                      </a:r>
                      <a:r>
                        <a:rPr b="0" lang="en-US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едвижим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4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особо цен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4</a:t>
                      </a:r>
                      <a:r>
                        <a:rPr b="1" lang="ru-RU" sz="1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20</a:t>
                      </a: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353535"/>
                          </a:solidFill>
                          <a:uFillTx/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2"/>
          <p:cNvSpPr/>
          <p:nvPr/>
        </p:nvSpPr>
        <p:spPr>
          <a:xfrm>
            <a:off x="415800" y="5388120"/>
            <a:ext cx="8280360" cy="89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</a:rPr>
              <a:t>Дт 4 104 </a:t>
            </a:r>
            <a:r>
              <a:rPr b="1" lang="ru-RU" sz="1800" spc="-1" strike="noStrike">
                <a:solidFill>
                  <a:srgbClr val="353535"/>
                </a:solidFill>
                <a:latin typeface="Calibri"/>
              </a:rPr>
              <a:t>30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</a:rPr>
              <a:t> 410   Кт 4 104 </a:t>
            </a:r>
            <a:r>
              <a:rPr b="1" lang="ru-RU" sz="1800" spc="-1" strike="noStrike">
                <a:solidFill>
                  <a:srgbClr val="353535"/>
                </a:solidFill>
                <a:latin typeface="Calibri"/>
              </a:rPr>
              <a:t>20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</a:rPr>
              <a:t> 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619280" y="115920"/>
            <a:ext cx="6192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дения о движении нефинансовых активов учреждения ф.05037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415800" y="11890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Перевод имущества из иного движимого (гр.30) в особо ценное (гр.2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9"/>
          <p:cNvSpPr/>
          <p:nvPr/>
        </p:nvSpPr>
        <p:spPr>
          <a:xfrm>
            <a:off x="2771640" y="5511960"/>
            <a:ext cx="3529080" cy="653760"/>
          </a:xfrm>
          <a:prstGeom prst="roundRect">
            <a:avLst>
              <a:gd name="adj" fmla="val 10032"/>
            </a:avLst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12"/>
          <p:cNvCxnSpPr/>
          <p:nvPr/>
        </p:nvCxnSpPr>
        <p:spPr>
          <a:xfrm flipV="1">
            <a:off x="4716000" y="3572640"/>
            <a:ext cx="2088360" cy="193932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28" name="Прямая со стрелкой 16"/>
          <p:cNvCxnSpPr/>
          <p:nvPr/>
        </p:nvCxnSpPr>
        <p:spPr>
          <a:xfrm flipV="1">
            <a:off x="5724360" y="5012640"/>
            <a:ext cx="936000" cy="68004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29" name="Скругленная прямоугольная выноска 26"/>
          <p:cNvSpPr/>
          <p:nvPr/>
        </p:nvSpPr>
        <p:spPr>
          <a:xfrm>
            <a:off x="1403280" y="1558800"/>
            <a:ext cx="943200" cy="576360"/>
          </a:xfrm>
          <a:prstGeom prst="wedgeRoundRectCallout">
            <a:avLst>
              <a:gd name="adj1" fmla="val 127555"/>
              <a:gd name="adj2" fmla="val 137671"/>
              <a:gd name="adj3" fmla="val 16667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р 050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р 3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327A-6E74-455A-AB71-3BC4767DFD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55640" y="260280"/>
            <a:ext cx="705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Требования к форматам текстовых файлов для годовой отчетности за 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826920" y="2757600"/>
            <a:ext cx="2657520" cy="1666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3484440" y="2276640"/>
            <a:ext cx="5202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Требования к форматам и способам передачи в электронном виде годовой, квартальной и месячной отчетности об исполнении консолидированного бюджета субъекта РФ и территориального государственного внебюджетного фонда, отчетности об исполнении бюджетов государственных внебюджетных фондов, представляемых в ФК (Версия 3.0.1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95F9-F41C-4377-AA37-EDC1E2633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619280" y="260280"/>
            <a:ext cx="619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Горячая линия по СУФ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568760" y="2276640"/>
            <a:ext cx="41180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Контактные данные службы технической поддерж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Тел. +7(495) 915 24 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Тел. +7(495) 915 24 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5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22334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1403280" y="44280"/>
            <a:ext cx="64594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ФЕДЕРАЛЬНОЕ КАЗНАЧЕ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3535"/>
                </a:solidFill>
                <a:latin typeface="Calibri"/>
              </a:rPr>
              <a:t>МЕЖРЕГИОНАЛЬНОЕ ОПЕРАЦИОНН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060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561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Приказы ФК о сроках сдачи годовой отчетности от 11.08.2014 №170, от 08</a:t>
            </a:r>
            <a:r>
              <a:rPr b="1" lang="en-US" sz="2000" spc="-1" strike="noStrike">
                <a:solidFill>
                  <a:srgbClr val="353535"/>
                </a:solidFill>
                <a:latin typeface="Calibri"/>
              </a:rPr>
              <a:t>.</a:t>
            </a: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12</a:t>
            </a:r>
            <a:r>
              <a:rPr b="1" lang="en-US" sz="2000" spc="-1" strike="noStrike">
                <a:solidFill>
                  <a:srgbClr val="353535"/>
                </a:solidFill>
                <a:latin typeface="Calibri"/>
              </a:rPr>
              <a:t>.</a:t>
            </a: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201 №19н, от 12.12.2014 № 21н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56" name="Рисунок 1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335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0C53-278D-4D33-A87C-A389D9721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619280" y="260280"/>
            <a:ext cx="619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рка взаимных рас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058760" y="1592280"/>
            <a:ext cx="7056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Сверка взаимных расчетов по переданным и полученным активам и обязательствам по состоянию на 01.10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692360" y="5229360"/>
            <a:ext cx="57909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Письмо МФ РФ от 26.09.2014 № 02-07-07/286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6" descr=""/>
          <p:cNvPicPr/>
          <p:nvPr/>
        </p:nvPicPr>
        <p:blipFill>
          <a:blip r:embed="rId1"/>
          <a:stretch/>
        </p:blipFill>
        <p:spPr>
          <a:xfrm>
            <a:off x="1436760" y="3270240"/>
            <a:ext cx="63007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07F7-2DA2-4551-BF9B-77DF38753E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619280" y="260280"/>
            <a:ext cx="619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рка взаимных рас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568520" y="1628640"/>
            <a:ext cx="6294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Сверка взаимных расчетов по переданным и полученным МБТ, а такж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там подтвержденных остатков МБТ прошлых лет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  по состоянию на 01.01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"/>
          <p:cNvPicPr/>
          <p:nvPr/>
        </p:nvPicPr>
        <p:blipFill>
          <a:blip r:embed="rId1"/>
          <a:stretch/>
        </p:blipFill>
        <p:spPr>
          <a:xfrm>
            <a:off x="1709640" y="3573360"/>
            <a:ext cx="601200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1476360" y="115920"/>
            <a:ext cx="6326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татистика представления отчетов ф.05033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на 01.10.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206280" y="1413000"/>
            <a:ext cx="8686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3070080" y="1795320"/>
            <a:ext cx="57913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       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В соответствии с пунктом 217 Приказа № 191 н от 28.12.2010 «Об утверждении инструкции о порядке составления и предоставления годовой, квартальной и месячной отчетности об исполнении бюджетов бюджетной системы Российской Федерации» ( в ред. Приказов Минфина России от 29.12.2011 № 191 н, от 26.10.2012 №138 н, от 19.12.2014  №157н) Пояснительная записка (ф.0503360) формируется в </a:t>
            </a: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структуре разделов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, предусмотренных пунктом 152, с отражением </a:t>
            </a: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иной информации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, существенно характеризующей исполнение консолидированного бюджета, не отраженной в приложениях, включаемых в Пояснительную записку (ф.050336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2330280" cy="2637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476360" y="260280"/>
            <a:ext cx="632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Основ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3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Пояснительная</a:t>
            </a: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записка</a:t>
            </a: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ф.0503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1"/>
          <a:srcRect l="0" t="4795" r="0" b="630"/>
          <a:stretch/>
        </p:blipFill>
        <p:spPr>
          <a:xfrm>
            <a:off x="1258920" y="1125360"/>
            <a:ext cx="6905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2674800"/>
            <a:ext cx="9144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52280" y="2827440"/>
            <a:ext cx="89917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Пояснительная записка ф.0503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rcRect l="0" t="4971" r="0" b="617"/>
          <a:stretch/>
        </p:blipFill>
        <p:spPr>
          <a:xfrm>
            <a:off x="539640" y="1268280"/>
            <a:ext cx="8406000" cy="5077080"/>
          </a:xfrm>
          <a:prstGeom prst="rect">
            <a:avLst/>
          </a:prstGeom>
          <a:ln w="0">
            <a:noFill/>
          </a:ln>
        </p:spPr>
      </p:pic>
      <p:cxnSp>
        <p:nvCxnSpPr>
          <p:cNvPr id="77" name="Прямая со стрелкой 4"/>
          <p:cNvCxnSpPr/>
          <p:nvPr/>
        </p:nvCxnSpPr>
        <p:spPr>
          <a:xfrm flipV="1">
            <a:off x="2339640" y="5266800"/>
            <a:ext cx="1152720" cy="145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Прямая со стрелкой 7"/>
          <p:cNvCxnSpPr/>
          <p:nvPr/>
        </p:nvCxnSpPr>
        <p:spPr>
          <a:xfrm>
            <a:off x="2339640" y="5516280"/>
            <a:ext cx="1152720" cy="1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3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ф.0503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1755720" y="1125360"/>
            <a:ext cx="5632560" cy="43261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rcRect l="0" t="0" r="9570" b="71457"/>
          <a:stretch/>
        </p:blipFill>
        <p:spPr>
          <a:xfrm>
            <a:off x="1755720" y="5524560"/>
            <a:ext cx="5632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GorelovAV</dc:creator>
  <dc:description/>
  <dc:language>en-US</dc:language>
  <cp:lastModifiedBy>Салдусова Байрта Владимировна</cp:lastModifiedBy>
  <cp:lastPrinted>2015-02-05T06:29:28Z</cp:lastPrinted>
  <dcterms:modified xsi:type="dcterms:W3CDTF">2015-02-05T06:31:57Z</dcterms:modified>
  <cp:revision>1804</cp:revision>
  <dc:subject/>
  <dc:title>GIS GMP</dc:title>
</cp:coreProperties>
</file>