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jpeg" ContentType="image/jpe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73B-CDBA-4E34-B134-C3EFD029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C1E-3D3A-4601-91E2-72956C9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651-5FA6-476A-ABC0-E9163CEF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DB1-407A-4B15-8AE4-F5C8FD51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499-CAAC-4A6D-978F-EA70A85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57D-2AF4-499C-9092-09C666C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C6C-09F6-45DE-9A81-2382AF7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A66-58AE-4285-96E2-C595473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C74-556C-4B08-98DA-B5058A73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271-EC9E-4F16-B836-476E891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923-17CF-471D-9F86-E2A4C67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0AF-05EF-4CB3-87A5-02FC06A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A65-2D36-4F1F-AB59-85CD93662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О практике применения нормативных правовых актов Минфина России по бюджетному учету и отчетности в органах Федерального казначейства, финансовых органах субъект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рриториальный орган 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endCxn id="117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7" idx="3"/>
            <a:endCxn id="121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3"/>
            <a:endCxn id="125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С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иональное отделение 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endCxn id="139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2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39" idx="3"/>
            <a:endCxn id="143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6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3"/>
            <a:endCxn id="147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60960" y="4797360"/>
            <a:ext cx="806400" cy="722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06920" y="56498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й орган субъек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50920" y="3789360"/>
            <a:ext cx="792360" cy="1063080"/>
            <a:chOff x="2050920" y="3789360"/>
            <a:chExt cx="792360" cy="10630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0920" y="378936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050920" y="454536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02320" y="2209680"/>
            <a:ext cx="1795320" cy="977040"/>
            <a:chOff x="5602320" y="2209680"/>
            <a:chExt cx="1795320" cy="9770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6050880" y="2209680"/>
              <a:ext cx="8690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602320" y="2879640"/>
              <a:ext cx="17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64000" y="378936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endCxn id="163" idx="1"/>
          </p:cNvCxnSpPr>
          <p:nvPr/>
        </p:nvCxnSpPr>
        <p:spPr>
          <a:xfrm>
            <a:off x="2771280" y="414288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flipV="1" rot="5400000">
            <a:off x="4600440" y="239184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rot="16200000">
            <a:off x="4397760" y="4903560"/>
            <a:ext cx="948240" cy="103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116000" y="5300640"/>
            <a:ext cx="2662200" cy="792360"/>
          </a:xfrm>
          <a:prstGeom prst="wedgeRoundRectCallout">
            <a:avLst>
              <a:gd name="adj1" fmla="val 71824"/>
              <a:gd name="adj2" fmla="val -75449"/>
              <a:gd name="adj3" fmla="val 16667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части ф. 0503151, представление осуществляется с учетом изменений вносимых в порядок представления в финансовый орган Отчета ф. 05031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4000" y="5229360"/>
            <a:ext cx="792000" cy="1062720"/>
            <a:chOff x="324000" y="5229360"/>
            <a:chExt cx="792000" cy="10627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24000" y="5229360"/>
              <a:ext cx="7671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24000" y="5985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479736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2" idx="3"/>
            <a:endCxn id="174" idx="1"/>
          </p:cNvCxnSpPr>
          <p:nvPr/>
        </p:nvCxnSpPr>
        <p:spPr>
          <a:xfrm flipV="1">
            <a:off x="1090440" y="5060520"/>
            <a:ext cx="889920" cy="54216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6" name=""/>
          <p:cNvGrpSpPr/>
          <p:nvPr/>
        </p:nvGrpSpPr>
        <p:grpSpPr>
          <a:xfrm>
            <a:off x="3635280" y="3429000"/>
            <a:ext cx="1871640" cy="853920"/>
            <a:chOff x="3635280" y="3429000"/>
            <a:chExt cx="1871640" cy="85392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4190040" y="3429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35280" y="3975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"/>
          <p:cNvCxnSpPr>
            <a:stCxn id="174" idx="3"/>
            <a:endCxn id="177" idx="1"/>
          </p:cNvCxnSpPr>
          <p:nvPr/>
        </p:nvCxnSpPr>
        <p:spPr>
          <a:xfrm flipV="1">
            <a:off x="3655800" y="3790440"/>
            <a:ext cx="533880" cy="1270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7093080" y="2133720"/>
            <a:ext cx="1655640" cy="853920"/>
            <a:chOff x="7093080" y="2133720"/>
            <a:chExt cx="1655640" cy="85392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7583760" y="213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093080" y="268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703840" y="350208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и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Отчетов 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5003280" y="378936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3" idx="0"/>
            <a:endCxn id="181" idx="1"/>
          </p:cNvCxnSpPr>
          <p:nvPr/>
        </p:nvCxnSpPr>
        <p:spPr>
          <a:xfrm flipH="1" flipV="1" rot="5400000">
            <a:off x="6558840" y="2477520"/>
            <a:ext cx="1007280" cy="1042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4360" y="3213000"/>
            <a:ext cx="1871640" cy="853920"/>
            <a:chOff x="684360" y="3213000"/>
            <a:chExt cx="1871640" cy="85392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1239120" y="3213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4360" y="3759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04000" y="3141720"/>
            <a:ext cx="1655640" cy="853920"/>
            <a:chOff x="6804000" y="3141720"/>
            <a:chExt cx="1655640" cy="8539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7294680" y="3141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04000" y="3688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780000" y="328464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0" idx="3"/>
          </p:cNvCxnSpPr>
          <p:nvPr/>
        </p:nvCxnSpPr>
        <p:spPr>
          <a:xfrm>
            <a:off x="2044800" y="3574800"/>
            <a:ext cx="1722960" cy="292680"/>
          </a:xfrm>
          <a:prstGeom prst="bentConnector3">
            <a:avLst>
              <a:gd name="adj1" fmla="val 499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3"/>
            <a:endCxn id="193" idx="1"/>
          </p:cNvCxnSpPr>
          <p:nvPr/>
        </p:nvCxnSpPr>
        <p:spPr>
          <a:xfrm flipV="1">
            <a:off x="5455800" y="3503160"/>
            <a:ext cx="1839240" cy="36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11560" y="1341360"/>
            <a:ext cx="748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отчетности по кассовому обслужи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ассовому исполнению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24360" y="2479680"/>
            <a:ext cx="1871640" cy="853920"/>
            <a:chOff x="3924360" y="2479680"/>
            <a:chExt cx="1871640" cy="8539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4479120" y="247968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24360" y="302652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0920" y="5456160"/>
            <a:ext cx="1655640" cy="853920"/>
            <a:chOff x="250920" y="5456160"/>
            <a:chExt cx="1655640" cy="85392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741600" y="545616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50920" y="60030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050920" y="233532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3"/>
            <a:endCxn id="202" idx="1"/>
          </p:cNvCxnSpPr>
          <p:nvPr/>
        </p:nvCxnSpPr>
        <p:spPr>
          <a:xfrm>
            <a:off x="3727440" y="2660760"/>
            <a:ext cx="751680" cy="18144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9" name=""/>
          <p:cNvGrpSpPr/>
          <p:nvPr/>
        </p:nvGrpSpPr>
        <p:grpSpPr>
          <a:xfrm>
            <a:off x="2698920" y="5383080"/>
            <a:ext cx="1655640" cy="853920"/>
            <a:chOff x="2698920" y="5383080"/>
            <a:chExt cx="1655640" cy="85392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318960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69892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48360" y="5373720"/>
            <a:ext cx="1655640" cy="853920"/>
            <a:chOff x="5148360" y="5373720"/>
            <a:chExt cx="1655640" cy="853920"/>
          </a:xfrm>
        </p:grpSpPr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5639040" y="537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8360" y="592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-36360" y="2624040"/>
            <a:ext cx="1871640" cy="853920"/>
            <a:chOff x="-36360" y="2624040"/>
            <a:chExt cx="1871640" cy="853920"/>
          </a:xfrm>
        </p:grpSpPr>
        <p:pic>
          <p:nvPicPr>
            <p:cNvPr id="216" name="" descr=""/>
            <p:cNvPicPr/>
            <p:nvPr/>
          </p:nvPicPr>
          <p:blipFill>
            <a:blip r:embed="rId5"/>
            <a:stretch/>
          </p:blipFill>
          <p:spPr>
            <a:xfrm>
              <a:off x="518400" y="26240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-36360" y="31708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"/>
          <p:cNvCxnSpPr/>
          <p:nvPr/>
        </p:nvCxnSpPr>
        <p:spPr>
          <a:xfrm flipV="1">
            <a:off x="1331640" y="2781000"/>
            <a:ext cx="727560" cy="235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7380360" y="5383080"/>
            <a:ext cx="1655640" cy="853920"/>
            <a:chOff x="7380360" y="5383080"/>
            <a:chExt cx="1655640" cy="853920"/>
          </a:xfrm>
        </p:grpSpPr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787104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38036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5092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84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59480" y="446868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317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5960" y="6330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- в части показателей ТФ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2276640"/>
            <a:ext cx="1511280" cy="12967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Свер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2" idx="0"/>
            <a:endCxn id="203" idx="2"/>
          </p:cNvCxnSpPr>
          <p:nvPr/>
        </p:nvCxnSpPr>
        <p:spPr>
          <a:xfrm flipH="1" flipV="1" rot="5400000">
            <a:off x="2406600" y="2013840"/>
            <a:ext cx="1137240" cy="3772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5" idx="0"/>
            <a:endCxn id="203" idx="2"/>
          </p:cNvCxnSpPr>
          <p:nvPr/>
        </p:nvCxnSpPr>
        <p:spPr>
          <a:xfrm flipV="1" rot="16200000">
            <a:off x="5960520" y="2231280"/>
            <a:ext cx="1137240" cy="3337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3" idx="0"/>
            <a:endCxn id="203" idx="2"/>
          </p:cNvCxnSpPr>
          <p:nvPr/>
        </p:nvCxnSpPr>
        <p:spPr>
          <a:xfrm flipH="1" flipV="1" rot="5400000">
            <a:off x="3620880" y="3228120"/>
            <a:ext cx="1137240" cy="1343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4" idx="0"/>
            <a:endCxn id="203" idx="2"/>
          </p:cNvCxnSpPr>
          <p:nvPr/>
        </p:nvCxnSpPr>
        <p:spPr>
          <a:xfrm flipV="1" rot="16200000">
            <a:off x="4854960" y="3336840"/>
            <a:ext cx="1137240" cy="1126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02" idx="3"/>
            <a:endCxn id="227" idx="1"/>
          </p:cNvCxnSpPr>
          <p:nvPr/>
        </p:nvCxnSpPr>
        <p:spPr>
          <a:xfrm>
            <a:off x="5284800" y="2841480"/>
            <a:ext cx="1232280" cy="208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796000" y="2565360"/>
            <a:ext cx="1871640" cy="1278720"/>
            <a:chOff x="5796000" y="2565360"/>
            <a:chExt cx="1871640" cy="12787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796000" y="3110760"/>
              <a:ext cx="187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635280" y="2205000"/>
            <a:ext cx="1676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муниципальному райо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7" idx="1"/>
          </p:cNvCxnSpPr>
          <p:nvPr/>
        </p:nvCxnSpPr>
        <p:spPr>
          <a:xfrm>
            <a:off x="5311800" y="2712960"/>
            <a:ext cx="1038600" cy="21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4" name=""/>
          <p:cNvCxnSpPr>
            <a:endCxn id="239" idx="1"/>
          </p:cNvCxnSpPr>
          <p:nvPr/>
        </p:nvCxnSpPr>
        <p:spPr>
          <a:xfrm flipV="1">
            <a:off x="2195280" y="2712600"/>
            <a:ext cx="1440360" cy="35784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484360" y="3716280"/>
            <a:ext cx="239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рай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endCxn id="245" idx="1"/>
          </p:cNvCxnSpPr>
          <p:nvPr/>
        </p:nvCxnSpPr>
        <p:spPr>
          <a:xfrm>
            <a:off x="1763640" y="3573360"/>
            <a:ext cx="721440" cy="651600"/>
          </a:xfrm>
          <a:prstGeom prst="bentConnector3">
            <a:avLst>
              <a:gd name="adj1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7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6" name=""/>
          <p:cNvCxnSpPr>
            <a:stCxn id="245" idx="2"/>
            <a:endCxn id="248" idx="3"/>
          </p:cNvCxnSpPr>
          <p:nvPr/>
        </p:nvCxnSpPr>
        <p:spPr>
          <a:xfrm rot="5400000">
            <a:off x="2542320" y="4664520"/>
            <a:ext cx="107532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5" idx="2"/>
            <a:endCxn id="251" idx="0"/>
          </p:cNvCxnSpPr>
          <p:nvPr/>
        </p:nvCxnSpPr>
        <p:spPr>
          <a:xfrm flipH="1" rot="16200000">
            <a:off x="3816360" y="4596480"/>
            <a:ext cx="714960" cy="98316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5" idx="2"/>
            <a:endCxn id="254" idx="0"/>
          </p:cNvCxnSpPr>
          <p:nvPr/>
        </p:nvCxnSpPr>
        <p:spPr>
          <a:xfrm flipH="1" rot="16200000">
            <a:off x="5221440" y="3192120"/>
            <a:ext cx="714960" cy="379152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5" idx="3"/>
            <a:endCxn id="238" idx="2"/>
          </p:cNvCxnSpPr>
          <p:nvPr/>
        </p:nvCxnSpPr>
        <p:spPr>
          <a:xfrm flipV="1">
            <a:off x="4881600" y="3841560"/>
            <a:ext cx="185184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796000" y="2565360"/>
            <a:ext cx="1871640" cy="1066680"/>
            <a:chOff x="5796000" y="2565360"/>
            <a:chExt cx="1871640" cy="106668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796000" y="311184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635280" y="202104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субъекту РФ и ТФОМ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3"/>
            <a:endCxn id="264" idx="1"/>
          </p:cNvCxnSpPr>
          <p:nvPr/>
        </p:nvCxnSpPr>
        <p:spPr>
          <a:xfrm>
            <a:off x="5311800" y="2436840"/>
            <a:ext cx="1038600" cy="489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endCxn id="266" idx="1"/>
          </p:cNvCxnSpPr>
          <p:nvPr/>
        </p:nvCxnSpPr>
        <p:spPr>
          <a:xfrm flipV="1">
            <a:off x="2195280" y="2436480"/>
            <a:ext cx="1440360" cy="450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484360" y="3068640"/>
            <a:ext cx="239724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субъекта)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ф. 050315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по бюджетам муниципальных районов, входящим в состав консолидированного бюджета субъекта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/>
          <p:nvPr/>
        </p:nvCxnSpPr>
        <p:spPr>
          <a:xfrm flipH="1" rot="16200000">
            <a:off x="1682640" y="3654000"/>
            <a:ext cx="88200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4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81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"/>
          <p:cNvCxnSpPr>
            <a:stCxn id="272" idx="2"/>
            <a:endCxn id="275" idx="3"/>
          </p:cNvCxnSpPr>
          <p:nvPr/>
        </p:nvCxnSpPr>
        <p:spPr>
          <a:xfrm rot="5400000">
            <a:off x="2674800" y="4797000"/>
            <a:ext cx="81036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2"/>
            <a:endCxn id="278" idx="0"/>
          </p:cNvCxnSpPr>
          <p:nvPr/>
        </p:nvCxnSpPr>
        <p:spPr>
          <a:xfrm flipH="1" rot="16200000">
            <a:off x="3948840" y="4728960"/>
            <a:ext cx="450000" cy="98316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2" idx="2"/>
            <a:endCxn id="281" idx="0"/>
          </p:cNvCxnSpPr>
          <p:nvPr/>
        </p:nvCxnSpPr>
        <p:spPr>
          <a:xfrm flipH="1" rot="16200000">
            <a:off x="5353920" y="3324600"/>
            <a:ext cx="450000" cy="379152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2" idx="3"/>
            <a:endCxn id="265" idx="2"/>
          </p:cNvCxnSpPr>
          <p:nvPr/>
        </p:nvCxnSpPr>
        <p:spPr>
          <a:xfrm flipV="1">
            <a:off x="4881600" y="3628800"/>
            <a:ext cx="1851840" cy="40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31760" y="1268280"/>
            <a:ext cx="74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тав операций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27280" y="1828800"/>
            <a:ext cx="1871640" cy="1065960"/>
            <a:chOff x="2627280" y="1828800"/>
            <a:chExt cx="1871640" cy="10659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3182040" y="1828800"/>
              <a:ext cx="80532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627280" y="237456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53964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3" name=""/>
          <p:cNvGrpSpPr/>
          <p:nvPr/>
        </p:nvGrpSpPr>
        <p:grpSpPr>
          <a:xfrm>
            <a:off x="4786200" y="1773360"/>
            <a:ext cx="1871640" cy="1065600"/>
            <a:chOff x="4786200" y="1773360"/>
            <a:chExt cx="1871640" cy="106560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340960" y="1773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86200" y="231876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905200" y="3429000"/>
            <a:ext cx="3463560" cy="407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деятельности (2,3,4,5,6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340000" y="5703840"/>
            <a:ext cx="64764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56400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364000" y="5703840"/>
            <a:ext cx="6480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651672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Источ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8317080" y="5703840"/>
            <a:ext cx="647640" cy="604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356000" y="292428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3933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3190800">
            <a:off x="2204280" y="3779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8291000">
            <a:off x="6669000" y="372528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29880" y="1644480"/>
            <a:ext cx="7587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кодов КОСГУ при касс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бслуживании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исьмо ФК в адрес ТОФК от 02.08.2013 № 42-7.4-05/2.2-4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544500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 у АУ/БУ отдельных полномо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1680" y="4876920"/>
            <a:ext cx="76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ний о порядке применения бюджетной класс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56000" y="2508120"/>
            <a:ext cx="486000" cy="648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6000" y="409248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539640" y="2967120"/>
            <a:ext cx="813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112536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92360" y="1413000"/>
            <a:ext cx="1895400" cy="1009440"/>
            <a:chOff x="3492360" y="1413000"/>
            <a:chExt cx="1895400" cy="1009440"/>
          </a:xfrm>
        </p:grpSpPr>
        <p:pic>
          <p:nvPicPr>
            <p:cNvPr id="50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4163760" y="141300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360" y="205416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4000" y="303840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62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764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91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33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1" idx="1"/>
            <a:endCxn id="52" idx="0"/>
          </p:cNvCxnSpPr>
          <p:nvPr/>
        </p:nvCxnSpPr>
        <p:spPr>
          <a:xfrm flipV="1" rot="10800000">
            <a:off x="1701000" y="2238120"/>
            <a:ext cx="179136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2"/>
          </p:cNvCxnSpPr>
          <p:nvPr/>
        </p:nvCxnSpPr>
        <p:spPr>
          <a:xfrm flipH="1" rot="16200000">
            <a:off x="4222440" y="2637360"/>
            <a:ext cx="616680" cy="183240"/>
          </a:xfrm>
          <a:prstGeom prst="bentConnector3">
            <a:avLst>
              <a:gd name="adj1" fmla="val 497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3"/>
            <a:endCxn id="54" idx="0"/>
          </p:cNvCxnSpPr>
          <p:nvPr/>
        </p:nvCxnSpPr>
        <p:spPr>
          <a:xfrm>
            <a:off x="5388120" y="2238480"/>
            <a:ext cx="214704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3"/>
          <p:cNvSpPr/>
          <p:nvPr/>
        </p:nvSpPr>
        <p:spPr>
          <a:xfrm>
            <a:off x="539640" y="548640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8880" y="46465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55768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бенности представления отче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764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9" idx="1"/>
            <a:endCxn id="60" idx="0"/>
          </p:cNvCxnSpPr>
          <p:nvPr/>
        </p:nvCxnSpPr>
        <p:spPr>
          <a:xfrm flipV="1" rot="10800000">
            <a:off x="1701000" y="4829760"/>
            <a:ext cx="12153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endCxn id="61" idx="0"/>
          </p:cNvCxnSpPr>
          <p:nvPr/>
        </p:nvCxnSpPr>
        <p:spPr>
          <a:xfrm flipH="1" rot="16200000">
            <a:off x="4295880" y="5217840"/>
            <a:ext cx="545040" cy="135360"/>
          </a:xfrm>
          <a:prstGeom prst="bentConnector3">
            <a:avLst>
              <a:gd name="adj1" fmla="val 49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9" idx="3"/>
            <a:endCxn id="62" idx="0"/>
          </p:cNvCxnSpPr>
          <p:nvPr/>
        </p:nvCxnSpPr>
        <p:spPr>
          <a:xfrm>
            <a:off x="6039000" y="4830480"/>
            <a:ext cx="14961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6" name="" descr="&amp;Ocy;&amp;fcy;&amp;icy;&amp;tscy;&amp;icy;&amp;acy;&amp;lcy;&amp;softcy;&amp;ncy;&amp;ycy;&amp;jcy; &amp;scy;&amp;acy;&amp;jcy;&amp;tcy; &amp;Fcy;&amp;iecy;&amp;dcy;&amp;iecy;&amp;rcy;&amp;acy;&amp;lcy;&amp;softcy;&amp;ncy;&amp;ocy;&amp;gcy;&amp;ocy; &amp;Kcy;&amp;acy;&amp;zcy;&amp;ncy;&amp;acy;&amp;chcy;&amp;iecy;&amp;jcy;&amp;scy;&amp;tcy;&amp;vcy;&amp;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1519200" y="2928960"/>
            <a:ext cx="610560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40360" y="3860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39240" y="1413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9240" y="4005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0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21840" y="1195560"/>
            <a:ext cx="710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кодов КОСГУ при касс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бслуживании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4284360" y="198900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03680" y="28512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операций проводимых бюджетны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втоном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4284360" y="37159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1800" y="457992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граничение по объектам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4327200" y="50479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4240" y="5911920"/>
            <a:ext cx="41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Инструкции № 162н, 174н, 183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операциям с бюджетными кредитами представляемыми в соответствии со ст. 93.6 Б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2720" y="1123920"/>
            <a:ext cx="74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ухгалтерские записи по операциям с бюджетными креди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8360" y="1800360"/>
          <a:ext cx="8351640" cy="4365360"/>
        </p:xfrm>
        <a:graphic>
          <a:graphicData uri="http://schemas.openxmlformats.org/drawingml/2006/table">
            <a:tbl>
              <a:tblPr/>
              <a:tblGrid>
                <a:gridCol w="2879640"/>
                <a:gridCol w="1440000"/>
                <a:gridCol w="1368360"/>
                <a:gridCol w="1368360"/>
                <a:gridCol w="1295280"/>
              </a:tblGrid>
              <a:tr h="94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ФК в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части кассового исполнения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ФК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 части исполнения федерального бюджета по главе 1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Федеральное казначей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е бюджетного кред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20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4 05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сление процентов по договору (в соответствии с законом о федеральном бюджете),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возврата основ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10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процентных платежей,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10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операциям с бюджетными кредитами представляемыми в соответствии со ст. 93.6 Б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9440" y="1123920"/>
            <a:ext cx="72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по операциям с бюджетными креди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ежду УФК и администратором ИФД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76360" y="2048040"/>
            <a:ext cx="1727280" cy="710640"/>
            <a:chOff x="1476360" y="2048040"/>
            <a:chExt cx="1727280" cy="71064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1988280" y="2048040"/>
              <a:ext cx="7434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76360" y="245160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 (глава 10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611280" y="1976400"/>
          <a:ext cx="8137440" cy="397332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по консолидируемым расчетам (ф. 05031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5940360" y="2048040"/>
            <a:ext cx="1727280" cy="710640"/>
            <a:chOff x="5940360" y="2048040"/>
            <a:chExt cx="1727280" cy="71064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6452280" y="2048040"/>
              <a:ext cx="7434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940360" y="245160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ИФ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67280" y="33037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424332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67280" y="50180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1547640" y="387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операций дополнительного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80680" y="1052640"/>
            <a:ext cx="64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ополнительный период (ст. 242 Бюджетного кодек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380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1.12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6360" y="3284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0328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32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9484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412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632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09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33440" y="3284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160720" y="5394240"/>
            <a:ext cx="576000" cy="693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66140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219708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95228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6120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688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0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67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24360" y="3284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385128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35232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388764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64320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5212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5488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5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77080" y="3284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770400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20504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774072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49592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23480" y="2349360"/>
            <a:ext cx="17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, в т.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06480" y="1844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24120" y="4292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я в Федеральном казначействе концепции межотчетного периода в соответствии с нормативными докум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" y="1606680"/>
            <a:ext cx="799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иповые операции межотчетного пери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нос показателей остатков по счетам учета в связ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ением бюджетной класс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дача показателей при реорганизации участник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участников бюджет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нос показателей по счетам санкционирования (проек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ректировка учетных данных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я в Федеральном казначействе концепции межотчетного периода в соответствии с нормативными докум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7400" y="10526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080" y="2637000"/>
            <a:ext cx="301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етом 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а и операц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ю сч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ходящие на дд.13.г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4160" y="2637000"/>
            <a:ext cx="301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етом 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а и операц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ю сч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ходящие на 01.01.гг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66880" y="264312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отче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1600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5764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54720" y="4292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57920" y="5783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20720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622200" y="5783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07988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52960" y="578340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рнал по про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3640" y="5229360"/>
            <a:ext cx="504720" cy="43164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2000" y="5229360"/>
            <a:ext cx="504720" cy="43164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5229360"/>
            <a:ext cx="615960" cy="485640"/>
          </a:xfrm>
          <a:prstGeom prst="rightArrow">
            <a:avLst>
              <a:gd name="adj1" fmla="val 50000"/>
              <a:gd name="adj2" fmla="val 31709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35680" y="5229360"/>
            <a:ext cx="615960" cy="485640"/>
          </a:xfrm>
          <a:prstGeom prst="rightArrow">
            <a:avLst>
              <a:gd name="adj1" fmla="val 50000"/>
              <a:gd name="adj2" fmla="val 31709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208764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39640" y="393228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39640" y="558972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362600" y="1123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еспечение специфики применения методологии уче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четности 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4292280" y="20556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6880" y="206064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6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292280" y="40003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06880" y="3867120"/>
            <a:ext cx="24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7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292640" y="5598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6880" y="5465880"/>
            <a:ext cx="24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8000" y="1916280"/>
            <a:ext cx="381636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580000" y="208764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580000" y="393228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5580000" y="558972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442200" y="20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42200" y="386712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6160" y="5465880"/>
            <a:ext cx="19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каз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8360" y="1916280"/>
            <a:ext cx="381636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68640" y="1405080"/>
            <a:ext cx="727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еобходимость нормативного регул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ламентация состава и периодичности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ическое обеспечение технологических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ичие «открытого» и «закрытого» кон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спечение возможности использования регистров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ным реквизитным соста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лизация взаимосвязи и соотве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ей регистров и показателей бюджетной отче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угие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8560" y="1123920"/>
            <a:ext cx="851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рмативное регулировани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Об утвер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ей формирования регист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ного учета в органах Федер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значейства при кассовом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 обслужива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втономных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ых организ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15960" y="11239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Структуры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900000" y="1916280"/>
            <a:ext cx="7848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и особенности формирования регистров уче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полнение ФБ, кассовое обслуживание бюджетов, Союзное государств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егистры – регистры; регистры – отчет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аланс консолидированного бюджета Российской Федерации и бюджетов государственных внебюджетных фондов на 01.01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12720" y="380988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362600" y="1123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еспечение специфики применения методологии уче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четности 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4365720" y="37778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79960" y="378936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6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1080" y="3638520"/>
            <a:ext cx="3816360" cy="100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580000" y="2879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231600" y="2859120"/>
            <a:ext cx="268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Рабочий план сч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аналитики (КЦ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8360" y="2708280"/>
            <a:ext cx="3816360" cy="26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15160" y="264960"/>
            <a:ext cx="6865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операциях бюджета по использованию субсидий, субвен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иных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00320" y="981000"/>
            <a:ext cx="7315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31888 – сверка с данными Главной книги (ф. 050407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80" y="1628640"/>
            <a:ext cx="792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облемы обеспечения сопоставимости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тсутствие однозначной привязки поступл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 потокам между ФБ и бюджетом су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тсутствие однозначной привязки возвратов прошлых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 потокам между ФБ и бюджетом субъекта и видам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………………………………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46600" y="5950080"/>
            <a:ext cx="51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исьмо ФК от 23.08.2013 №42-7.4-05/2.1-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6000" y="21337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56000" y="51577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15160" y="264960"/>
            <a:ext cx="6865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операциях бюджета по использованию субсидий, субвен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иных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00320" y="981000"/>
            <a:ext cx="7315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31888 – сверка с данными Главной книги (ф. 050407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822400" y="2133720"/>
            <a:ext cx="597240" cy="718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4000" y="3933720"/>
            <a:ext cx="8640720" cy="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0920" y="1773360"/>
            <a:ext cx="0" cy="43196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0720" y="26370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200" y="4581360"/>
            <a:ext cx="20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олидир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2924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4983120" y="2133720"/>
            <a:ext cx="596880" cy="718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360680" y="2924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7464600" y="2133720"/>
            <a:ext cx="596880" cy="7189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42160" y="2924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31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25800" y="2205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2822400" y="4576680"/>
            <a:ext cx="597240" cy="719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198520" y="53672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4983120" y="4576680"/>
            <a:ext cx="596880" cy="719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360680" y="536724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7464600" y="4576680"/>
            <a:ext cx="596880" cy="719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808680" y="53737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25800" y="4648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99080" y="4653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087320" y="364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4639320" y="364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2498040" y="36486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04480" y="189000"/>
            <a:ext cx="5976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06760" y="1347840"/>
            <a:ext cx="5710320" cy="4817880"/>
          </a:xfrm>
          <a:prstGeom prst="ellipse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по кодам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ЦС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ф.050332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60920" y="1951200"/>
            <a:ext cx="3656160" cy="3679560"/>
          </a:xfrm>
          <a:prstGeom prst="ellipse">
            <a:avLst/>
          </a:prstGeom>
          <a:blipFill rotWithShape="0">
            <a:blip r:embed="rId2">
              <a:alphaModFix amt="4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 по кодам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цел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ф.053188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8000" y="1125360"/>
            <a:ext cx="2592360" cy="1849680"/>
          </a:xfrm>
          <a:prstGeom prst="wedgeRoundRectCallout">
            <a:avLst>
              <a:gd name="adj1" fmla="val 76208"/>
              <a:gd name="adj2" fmla="val 121157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- со средствами ФБ представленных из субъектов РФ ГВБФ, на счетах ГВБФ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- с «не кодированным» остатком.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011680" y="331920"/>
            <a:ext cx="596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 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05264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орядок сверки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12640" y="1711440"/>
          <a:ext cx="8229600" cy="4454280"/>
        </p:xfrm>
        <a:graphic>
          <a:graphicData uri="http://schemas.openxmlformats.org/drawingml/2006/table">
            <a:tbl>
              <a:tblPr/>
              <a:tblGrid>
                <a:gridCol w="2743200"/>
                <a:gridCol w="912960"/>
                <a:gridCol w="4573440"/>
              </a:tblGrid>
              <a:tr h="736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318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033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всего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перации корректиров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начало перио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оступило из ФБ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оступило из ФБ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еречислено дебиторской задолженности прошлых л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сстановлено остатков МБТ прошлых лет»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перации корректиров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 остатков прошлых л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 остатков прошлых лет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из ФБ в объеме потреб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из ФБ в объеме потреб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573120" y="2486160"/>
            <a:ext cx="255888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1640" y="3860640"/>
            <a:ext cx="4176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4" idx="3"/>
            <a:endCxn id="475" idx="1"/>
          </p:cNvCxnSpPr>
          <p:nvPr/>
        </p:nvCxnSpPr>
        <p:spPr>
          <a:xfrm>
            <a:off x="3131640" y="2741400"/>
            <a:ext cx="1080360" cy="1516680"/>
          </a:xfrm>
          <a:prstGeom prst="bentConnector3">
            <a:avLst>
              <a:gd name="adj1" fmla="val 50000"/>
            </a:avLst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60640" y="222120"/>
            <a:ext cx="596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 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19280" y="105264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орядок сверки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12640" y="1784520"/>
          <a:ext cx="8229600" cy="3498840"/>
        </p:xfrm>
        <a:graphic>
          <a:graphicData uri="http://schemas.openxmlformats.org/drawingml/2006/table">
            <a:tbl>
              <a:tblPr/>
              <a:tblGrid>
                <a:gridCol w="2743200"/>
                <a:gridCol w="912960"/>
                <a:gridCol w="4573440"/>
              </a:tblGrid>
              <a:tr h="736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318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033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2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всег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конец периода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счетах ГВБФ за счет средств субъекта РФ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Кассовый расход всего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еречислено в местные бюджеты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плю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Кассовый расход местных бюджет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ссовый расход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плю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счетах ГВБФ за счет средств субъекта РФ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осстановление остатков целевых средств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(администратор МБ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35080" y="1746360"/>
          <a:ext cx="8369280" cy="3408120"/>
        </p:xfrm>
        <a:graphic>
          <a:graphicData uri="http://schemas.openxmlformats.org/drawingml/2006/table">
            <a:tbl>
              <a:tblPr/>
              <a:tblGrid>
                <a:gridCol w="1682640"/>
                <a:gridCol w="2583000"/>
                <a:gridCol w="410364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ие запис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бюджета, средства получателя (ФЛ или ЮЛ) средст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ление остатков с последующим возврат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51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4284720" y="2205000"/>
            <a:ext cx="2808360" cy="93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423040"/>
            <a:ext cx="8325000" cy="989640"/>
          </a:xfrm>
          <a:prstGeom prst="flowChartAlternateProcess">
            <a:avLst/>
          </a:prstGeom>
          <a:solidFill>
            <a:srgbClr val="17bbfd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основании Уведомления по расчетам между бюджетами (ф. 050481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указанием в гр. 4 показателя со знаком «мину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"/>
          <p:cNvCxnSpPr>
            <a:stCxn id="483" idx="1"/>
            <a:endCxn id="484" idx="0"/>
          </p:cNvCxnSpPr>
          <p:nvPr/>
        </p:nvCxnSpPr>
        <p:spPr>
          <a:xfrm flipH="1" flipV="1" rot="10800000">
            <a:off x="4274640" y="2673000"/>
            <a:ext cx="116640" cy="2750400"/>
          </a:xfrm>
          <a:prstGeom prst="bentConnector4">
            <a:avLst>
              <a:gd name="adj1" fmla="val -188854"/>
              <a:gd name="adj2" fmla="val 58541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осстановление остатков целевых средств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(ГРБС бюджета представившего МБ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35080" y="1746360"/>
          <a:ext cx="8369280" cy="3408120"/>
        </p:xfrm>
        <a:graphic>
          <a:graphicData uri="http://schemas.openxmlformats.org/drawingml/2006/table">
            <a:tbl>
              <a:tblPr/>
              <a:tblGrid>
                <a:gridCol w="1682640"/>
                <a:gridCol w="2583000"/>
                <a:gridCol w="410364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ие запис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бюджета, средства получателя (ФЛ или ЮЛ) средст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ление остатков с последующим возврат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20 2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51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4284720" y="2205000"/>
            <a:ext cx="2808360" cy="93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5423040"/>
            <a:ext cx="8325000" cy="989640"/>
          </a:xfrm>
          <a:prstGeom prst="flowChartAlternateProcess">
            <a:avLst/>
          </a:prstGeom>
          <a:solidFill>
            <a:srgbClr val="17bbfd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основании Уведомления по расчетам между бюджетами (ф. 050481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указанием в гр. 4 показателя со знаком «мину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9" idx="1"/>
            <a:endCxn id="490" idx="0"/>
          </p:cNvCxnSpPr>
          <p:nvPr/>
        </p:nvCxnSpPr>
        <p:spPr>
          <a:xfrm flipH="1" flipV="1" rot="10800000">
            <a:off x="4274640" y="2673000"/>
            <a:ext cx="116640" cy="2750400"/>
          </a:xfrm>
          <a:prstGeom prst="bentConnector4">
            <a:avLst>
              <a:gd name="adj1" fmla="val -188854"/>
              <a:gd name="adj2" fmla="val 58541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065120" y="260280"/>
            <a:ext cx="1851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Заголовок 3"/>
          <p:cNvSpPr/>
          <p:nvPr/>
        </p:nvSpPr>
        <p:spPr>
          <a:xfrm>
            <a:off x="1836720" y="105264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Расширение показателей Отчета ф. 05318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2276640"/>
            <a:ext cx="280836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3789360"/>
            <a:ext cx="2376360" cy="1008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5640" y="5011560"/>
            <a:ext cx="2376360" cy="50328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3573360"/>
            <a:ext cx="2808360" cy="23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92360" y="285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2276640"/>
            <a:ext cx="280836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0000" y="3789360"/>
            <a:ext cx="2376720" cy="1008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80000" y="5013360"/>
            <a:ext cx="2376720" cy="50328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64000" y="3573360"/>
            <a:ext cx="280836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16720" y="285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80000" y="5732640"/>
            <a:ext cx="237672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юджеты ГВБ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69480" y="16938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иказ ФК №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4920" y="1700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Заголовок 3"/>
          <p:cNvSpPr/>
          <p:nvPr/>
        </p:nvSpPr>
        <p:spPr>
          <a:xfrm>
            <a:off x="1332000" y="1052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статки целевых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2520" y="1844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364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240" y="40006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84520" y="1838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67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40" y="530064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9280" y="2205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501336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1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17280" y="162864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ежотч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27880" y="3995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2560" y="529596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9280" y="357336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560" y="2565360"/>
            <a:ext cx="10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Б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504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112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1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694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6516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1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4994280" y="2680920"/>
            <a:ext cx="48564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9960" y="357336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4111560"/>
            <a:ext cx="48600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5400" y="43610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5553000"/>
            <a:ext cx="48600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25400" y="500868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25400" y="597204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0000" y="3995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6480" y="529596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24000" y="1125360"/>
            <a:ext cx="81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 – новый отчетный 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годовая бюджетная отчетность за 20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160" y="2205000"/>
            <a:ext cx="896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частие в работе проводимой Минфином России по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внесению изменени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нормативные ак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по бюджетному учету и отчетности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овершенствования учетных и отчетных процед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беспече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ым казначейством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рганизационно-технол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отовности субъектов бюджетной отчетности к формир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дставлению годовой бюджетной отчетности за 2013 г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воевременное и качественное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представление годовой бюдже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тчетности за 2013 г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субъектами бюджетной отчетност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Заголовок 3"/>
          <p:cNvSpPr/>
          <p:nvPr/>
        </p:nvSpPr>
        <p:spPr>
          <a:xfrm>
            <a:off x="1332000" y="1052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статки целевых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42520" y="1844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4364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240" y="228132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184520" y="1838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6728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240" y="3581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05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3294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1928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17280" y="162864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ежотч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27880" y="2276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2560" y="357660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930000" y="2276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46480" y="357660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2622600" y="3435120"/>
            <a:ext cx="360360" cy="22208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600 h 2220840"/>
              <a:gd name="textAreaBottom" fmla="*/ 216324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484360" y="4797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94000" y="551196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домление ф. 05048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остат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7566120" y="3435120"/>
            <a:ext cx="360360" cy="22208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600 h 2220840"/>
              <a:gd name="textAreaBottom" fmla="*/ 216324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427880" y="4797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437520" y="551196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домление ф. 05048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Потреб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8786000">
            <a:off x="4442040" y="3011760"/>
            <a:ext cx="160884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36360" y="1052640"/>
            <a:ext cx="626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цепция аналитической обработки показателей бюджетной отчетности в ППО АСФК</a:t>
            </a:r>
            <a:endParaRPr b="1" lang="en-US" sz="17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78C-718F-4608-B106-A75E1F1CFF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428480" y="2862360"/>
            <a:ext cx="1768680" cy="1287360"/>
            <a:chOff x="1428480" y="2862360"/>
            <a:chExt cx="1768680" cy="1287360"/>
          </a:xfrm>
        </p:grpSpPr>
        <p:grpSp>
          <p:nvGrpSpPr>
            <p:cNvPr id="563" name="Group 52"/>
            <p:cNvGrpSpPr/>
            <p:nvPr/>
          </p:nvGrpSpPr>
          <p:grpSpPr>
            <a:xfrm>
              <a:off x="1909080" y="2862360"/>
              <a:ext cx="1008720" cy="843840"/>
              <a:chOff x="1909080" y="2862360"/>
              <a:chExt cx="1008720" cy="843840"/>
            </a:xfrm>
          </p:grpSpPr>
          <p:sp>
            <p:nvSpPr>
              <p:cNvPr id="564" name="Oval 53"/>
              <p:cNvSpPr/>
              <p:nvPr/>
            </p:nvSpPr>
            <p:spPr>
              <a:xfrm>
                <a:off x="1909080" y="3278160"/>
                <a:ext cx="1008720" cy="41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e7928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e4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5" name="Picture 54" descr="j0433944[1]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2862360"/>
                <a:ext cx="733680" cy="843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6" name=""/>
            <p:cNvSpPr/>
            <p:nvPr/>
          </p:nvSpPr>
          <p:spPr>
            <a:xfrm>
              <a:off x="1428480" y="3766320"/>
              <a:ext cx="1768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ользо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067280" y="170028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67280" y="263700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р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67280" y="3573360"/>
            <a:ext cx="1584360" cy="79236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067280" y="450864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граф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4" idx="6"/>
            <a:endCxn id="567" idx="1"/>
          </p:cNvCxnSpPr>
          <p:nvPr/>
        </p:nvCxnSpPr>
        <p:spPr>
          <a:xfrm flipV="1">
            <a:off x="2917440" y="2096640"/>
            <a:ext cx="1150200" cy="139104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4" idx="6"/>
            <a:endCxn id="568" idx="1"/>
          </p:cNvCxnSpPr>
          <p:nvPr/>
        </p:nvCxnSpPr>
        <p:spPr>
          <a:xfrm flipV="1">
            <a:off x="2917440" y="3033000"/>
            <a:ext cx="1150200" cy="45468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4" idx="6"/>
            <a:endCxn id="569" idx="1"/>
          </p:cNvCxnSpPr>
          <p:nvPr/>
        </p:nvCxnSpPr>
        <p:spPr>
          <a:xfrm>
            <a:off x="2917440" y="3487320"/>
            <a:ext cx="1150200" cy="48348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4" idx="6"/>
            <a:endCxn id="570" idx="1"/>
          </p:cNvCxnSpPr>
          <p:nvPr/>
        </p:nvCxnSpPr>
        <p:spPr>
          <a:xfrm>
            <a:off x="2917440" y="3487680"/>
            <a:ext cx="1150200" cy="141840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75" name="Picture 96" descr="j0433892[1]"/>
          <p:cNvPicPr/>
          <p:nvPr/>
        </p:nvPicPr>
        <p:blipFill>
          <a:blip r:embed="rId2"/>
          <a:stretch/>
        </p:blipFill>
        <p:spPr>
          <a:xfrm>
            <a:off x="7091280" y="2637000"/>
            <a:ext cx="1281240" cy="1584000"/>
          </a:xfrm>
          <a:prstGeom prst="rect">
            <a:avLst/>
          </a:prstGeom>
          <a:ln w="0">
            <a:noFill/>
          </a:ln>
        </p:spPr>
      </p:pic>
      <p:sp>
        <p:nvSpPr>
          <p:cNvPr id="576" name="TextBox 63"/>
          <p:cNvSpPr/>
          <p:nvPr/>
        </p:nvSpPr>
        <p:spPr>
          <a:xfrm>
            <a:off x="7145280" y="42433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"/>
          <p:cNvCxnSpPr>
            <a:stCxn id="567" idx="3"/>
            <a:endCxn id="575" idx="1"/>
          </p:cNvCxnSpPr>
          <p:nvPr/>
        </p:nvCxnSpPr>
        <p:spPr>
          <a:xfrm>
            <a:off x="5651280" y="2097000"/>
            <a:ext cx="1440360" cy="133272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endCxn id="575" idx="1"/>
          </p:cNvCxnSpPr>
          <p:nvPr/>
        </p:nvCxnSpPr>
        <p:spPr>
          <a:xfrm>
            <a:off x="5651280" y="3033720"/>
            <a:ext cx="1440360" cy="396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69" idx="3"/>
            <a:endCxn id="575" idx="1"/>
          </p:cNvCxnSpPr>
          <p:nvPr/>
        </p:nvCxnSpPr>
        <p:spPr>
          <a:xfrm flipV="1">
            <a:off x="5651280" y="3428640"/>
            <a:ext cx="1440360" cy="54216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0" idx="3"/>
            <a:endCxn id="575" idx="1"/>
          </p:cNvCxnSpPr>
          <p:nvPr/>
        </p:nvCxnSpPr>
        <p:spPr>
          <a:xfrm flipV="1">
            <a:off x="5651280" y="3428280"/>
            <a:ext cx="1440360" cy="147708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4067280" y="5732640"/>
            <a:ext cx="1584360" cy="576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6" idx="2"/>
            <a:endCxn id="581" idx="3"/>
          </p:cNvCxnSpPr>
          <p:nvPr/>
        </p:nvCxnSpPr>
        <p:spPr>
          <a:xfrm rot="5400000">
            <a:off x="5987160" y="4243320"/>
            <a:ext cx="1442160" cy="2115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81" idx="1"/>
            <a:endCxn id="566" idx="2"/>
          </p:cNvCxnSpPr>
          <p:nvPr/>
        </p:nvCxnSpPr>
        <p:spPr>
          <a:xfrm rot="10800000">
            <a:off x="2312280" y="4147560"/>
            <a:ext cx="1755000" cy="187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22200" y="1052280"/>
            <a:ext cx="5545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ПО АСФК: Форма анализа отчетности</a:t>
            </a:r>
            <a:endParaRPr b="1" lang="en-US" sz="17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77B-3CA5-450B-A8BB-B8578F51F4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5040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508720" y="1413000"/>
            <a:ext cx="3166920" cy="1295280"/>
          </a:xfrm>
          <a:prstGeom prst="wedgeRectCallout">
            <a:avLst>
              <a:gd name="adj1" fmla="val -55962"/>
              <a:gd name="adj2" fmla="val 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031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азрезе кодов территориальных У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508720" y="4221000"/>
            <a:ext cx="3024000" cy="1152720"/>
          </a:xfrm>
          <a:prstGeom prst="wedgeRectCallout">
            <a:avLst>
              <a:gd name="adj1" fmla="val -53726"/>
              <a:gd name="adj2" fmla="val 11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 с использованием механизма построения иерархии кодов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4687920" cy="54576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244000" cy="37400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932360" y="2349360"/>
            <a:ext cx="2376360" cy="1224000"/>
          </a:xfrm>
          <a:prstGeom prst="wedgeRectCallout">
            <a:avLst>
              <a:gd name="adj1" fmla="val -122277"/>
              <a:gd name="adj2" fmla="val 46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214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за определенный 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67280" y="5373720"/>
            <a:ext cx="3960720" cy="863640"/>
          </a:xfrm>
          <a:prstGeom prst="wedgeRectCallout">
            <a:avLst>
              <a:gd name="adj1" fmla="val -71282"/>
              <a:gd name="adj2" fmla="val -55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21432 в разрезе операционных дней иском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77600" y="149400"/>
            <a:ext cx="441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Хранение документов в электронном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от 30.12.2011 № 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04960" y="1692720"/>
            <a:ext cx="757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иказ ФК от 30.12.2011 № 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б утверждении Порядка хранения док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исполнению федерального бюдж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ссовому обслуживанию бюдж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юджетной системы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кассовому обслуживанию бюджетных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Times New Roman"/>
              </a:rPr>
              <a:t>не содержащих сведен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состав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ую тай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Федеральном казначействе и его орга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электронном ви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77600" y="149400"/>
            <a:ext cx="441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Хранение документов в электронном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от 03.09.2012 № 3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4360" y="198684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иказ ФК от 03.09.2012 № 34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«Об утверждении </a:t>
            </a:r>
            <a:r>
              <a:rPr b="1" lang="en-US" sz="2400" spc="-1" strike="noStrike">
                <a:solidFill>
                  <a:srgbClr val="ff388c"/>
                </a:solidFill>
                <a:latin typeface="Times New Roman"/>
              </a:rPr>
              <a:t>Положения о структуре электронного архива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спользуемого для организации хранения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, не содержащих сведений, составляющих государственную тайну, в Федеральном казначействе и его органах в электронном ви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Заголовок 3"/>
          <p:cNvSpPr/>
          <p:nvPr/>
        </p:nvSpPr>
        <p:spPr>
          <a:xfrm>
            <a:off x="2050920" y="105264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Настройка правил архивации и структуры архи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75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050920" y="3573360"/>
            <a:ext cx="2016360" cy="50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Заголовок 3"/>
          <p:cNvSpPr/>
          <p:nvPr/>
        </p:nvSpPr>
        <p:spPr>
          <a:xfrm>
            <a:off x="2050920" y="105264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Настройка правил архивации и структуры архи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921880" cy="46785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042920" y="2492280"/>
            <a:ext cx="1728720" cy="144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Унифицированный интерфейс доступа к архив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33280" y="1414440"/>
            <a:ext cx="8910720" cy="4678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55640" y="2492280"/>
            <a:ext cx="2016000" cy="1657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258920" y="1125360"/>
            <a:ext cx="72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иные текущие зада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400" y="2181240"/>
            <a:ext cx="8882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спечение ТОФК учета операций и формирование отче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кассовому обслуживанию исполнения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бюджетов государ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небюджетных фо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спечение ТОФК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воевременного и качественного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Главной книг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о кассовому исполнению федераль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разработка приказ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едерального казначейства «Об утвер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обенностей формирования регистров бюджетного у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12C-369A-4263-B970-909A8092CE15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D3F5-C92B-4A32-AE48-4CF60C5AB603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258920" y="1125360"/>
            <a:ext cx="72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перспективные зада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" y="2133720"/>
            <a:ext cx="891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астие в разработке и утверждении Минфином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федеральных стандарто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для государственного сект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еспечение учета операций и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четности ТОФК в условиях включения Федер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значейства в перечень участников платеж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в рамках Концепции реформирования системы бюдже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латеж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9280" y="3213000"/>
            <a:ext cx="4608360" cy="3168720"/>
          </a:xfrm>
          <a:custGeom>
            <a:avLst/>
            <a:gdLst/>
            <a:ahLst/>
            <a:rect l="l" t="t" r="r" b="b"/>
            <a:pathLst>
              <a:path w="2903" h="1996">
                <a:moveTo>
                  <a:pt x="2813" y="0"/>
                </a:moveTo>
                <a:lnTo>
                  <a:pt x="2813" y="816"/>
                </a:lnTo>
                <a:lnTo>
                  <a:pt x="2268" y="816"/>
                </a:lnTo>
                <a:lnTo>
                  <a:pt x="2268" y="1860"/>
                </a:lnTo>
                <a:lnTo>
                  <a:pt x="726" y="1860"/>
                </a:lnTo>
                <a:lnTo>
                  <a:pt x="726" y="1996"/>
                </a:lnTo>
                <a:lnTo>
                  <a:pt x="0" y="1996"/>
                </a:lnTo>
                <a:lnTo>
                  <a:pt x="0" y="181"/>
                </a:lnTo>
                <a:lnTo>
                  <a:pt x="771" y="181"/>
                </a:lnTo>
                <a:lnTo>
                  <a:pt x="771" y="45"/>
                </a:lnTo>
                <a:lnTo>
                  <a:pt x="2903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9560" y="137484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едение бюджетного учета при кассовом обслуживании ГВБ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для кассового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7440" y="3500280"/>
            <a:ext cx="8236080" cy="2889360"/>
            <a:chOff x="757440" y="3500280"/>
            <a:chExt cx="8236080" cy="2889360"/>
          </a:xfrm>
        </p:grpSpPr>
        <p:sp>
          <p:nvSpPr>
            <p:cNvPr id="90" name=""/>
            <p:cNvSpPr/>
            <p:nvPr/>
          </p:nvSpPr>
          <p:spPr>
            <a:xfrm>
              <a:off x="4214880" y="5661000"/>
              <a:ext cx="477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субъекта Российской Фед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7640" y="386064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ТФОМ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1640" y="3500280"/>
              <a:ext cx="37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муниципального рай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7440" y="602136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Ф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66520" y="4724280"/>
              <a:ext cx="31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городского окру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51280" y="2565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4149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3080" y="393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3080" y="5019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308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5800" y="1446120"/>
            <a:ext cx="695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Инструкцией № 191н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учет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осимых изменений 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рганам управления государ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ми фон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органам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государственным фондам ОМ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11920" y="1446120"/>
            <a:ext cx="6997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территориа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рганами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Приказом № 487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учет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осимых изменений 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рганам управления государ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ми фон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органам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государственным фондам ОМ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sony</cp:lastModifiedBy>
  <dcterms:modified xsi:type="dcterms:W3CDTF">2013-09-04T17:44:37Z</dcterms:modified>
  <cp:revision>372</cp:revision>
  <dc:subject/>
  <dc:title>Слайд 1</dc:title>
</cp:coreProperties>
</file>