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2.wmf" ContentType="image/x-wmf"/>
  <Override PartName="/ppt/media/image4.png" ContentType="image/png"/>
  <Override PartName="/ppt/media/image8.png" ContentType="image/png"/>
  <Override PartName="/ppt/media/image1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5.wmf" ContentType="image/x-wmf"/>
  <Override PartName="/ppt/media/image1.jpeg" ContentType="image/jpeg"/>
  <Override PartName="/ppt/media/image5.png" ContentType="image/png"/>
  <Override PartName="/ppt/media/image3.png" ContentType="image/png"/>
  <Override PartName="/ppt/media/image6.png" ContentType="image/png"/>
  <Override PartName="/ppt/media/image7.jpeg" ContentType="image/jpeg"/>
  <Override PartName="/ppt/media/image18.png" ContentType="image/png"/>
  <Override PartName="/ppt/media/image10.wmf" ContentType="image/x-wmf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10825163" cy="81216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F550E-B3D1-4363-9179-928A607E8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685960" y="140760"/>
            <a:ext cx="6819840" cy="59220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ctr">
            <a:noAutofit/>
          </a:bodyPr>
          <a:p>
            <a:pPr indent="0">
              <a:buNone/>
              <a:tabLst>
                <a:tab algn="l" pos="0"/>
                <a:tab algn="l" pos="1081080"/>
                <a:tab algn="l" pos="2162160"/>
                <a:tab algn="l" pos="3243240"/>
                <a:tab algn="l" pos="4324320"/>
                <a:tab algn="l" pos="5405400"/>
                <a:tab algn="l" pos="6486480"/>
                <a:tab algn="l" pos="7567560"/>
                <a:tab algn="l" pos="8648640"/>
                <a:tab algn="l" pos="9729720"/>
                <a:tab algn="l" pos="10810800"/>
              </a:tabLst>
            </a:pPr>
            <a:endParaRPr b="1" lang="en-US" sz="28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9640" y="1889280"/>
            <a:ext cx="9747360" cy="256140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081080"/>
                <a:tab algn="l" pos="2162160"/>
                <a:tab algn="l" pos="3243240"/>
                <a:tab algn="l" pos="4324320"/>
                <a:tab algn="l" pos="5405400"/>
                <a:tab algn="l" pos="6486480"/>
                <a:tab algn="l" pos="7567560"/>
                <a:tab algn="l" pos="8648640"/>
                <a:tab algn="l" pos="9729720"/>
                <a:tab algn="l" pos="108108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9640" y="4694400"/>
            <a:ext cx="9747360" cy="256140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081080"/>
                <a:tab algn="l" pos="2162160"/>
                <a:tab algn="l" pos="3243240"/>
                <a:tab algn="l" pos="4324320"/>
                <a:tab algn="l" pos="5405400"/>
                <a:tab algn="l" pos="6486480"/>
                <a:tab algn="l" pos="7567560"/>
                <a:tab algn="l" pos="8648640"/>
                <a:tab algn="l" pos="9729720"/>
                <a:tab algn="l" pos="108108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05411-5EDC-488B-AE1A-F273E8342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685960" y="140760"/>
            <a:ext cx="6819840" cy="59220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ctr">
            <a:noAutofit/>
          </a:bodyPr>
          <a:p>
            <a:pPr indent="0">
              <a:buNone/>
              <a:tabLst>
                <a:tab algn="l" pos="0"/>
                <a:tab algn="l" pos="1081080"/>
                <a:tab algn="l" pos="2162160"/>
                <a:tab algn="l" pos="3243240"/>
                <a:tab algn="l" pos="4324320"/>
                <a:tab algn="l" pos="5405400"/>
                <a:tab algn="l" pos="6486480"/>
                <a:tab algn="l" pos="7567560"/>
                <a:tab algn="l" pos="8648640"/>
                <a:tab algn="l" pos="9729720"/>
                <a:tab algn="l" pos="10810800"/>
              </a:tabLst>
            </a:pPr>
            <a:endParaRPr b="1" lang="en-US" sz="28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9640" y="1889280"/>
            <a:ext cx="4756680" cy="256140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081080"/>
                <a:tab algn="l" pos="2162160"/>
                <a:tab algn="l" pos="3243240"/>
                <a:tab algn="l" pos="4324320"/>
                <a:tab algn="l" pos="5405400"/>
                <a:tab algn="l" pos="6486480"/>
                <a:tab algn="l" pos="7567560"/>
                <a:tab algn="l" pos="8648640"/>
                <a:tab algn="l" pos="9729720"/>
                <a:tab algn="l" pos="108108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534640" y="1889280"/>
            <a:ext cx="4756680" cy="256140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081080"/>
                <a:tab algn="l" pos="2162160"/>
                <a:tab algn="l" pos="3243240"/>
                <a:tab algn="l" pos="4324320"/>
                <a:tab algn="l" pos="5405400"/>
                <a:tab algn="l" pos="6486480"/>
                <a:tab algn="l" pos="7567560"/>
                <a:tab algn="l" pos="8648640"/>
                <a:tab algn="l" pos="9729720"/>
                <a:tab algn="l" pos="108108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39640" y="4694400"/>
            <a:ext cx="4756680" cy="256140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081080"/>
                <a:tab algn="l" pos="2162160"/>
                <a:tab algn="l" pos="3243240"/>
                <a:tab algn="l" pos="4324320"/>
                <a:tab algn="l" pos="5405400"/>
                <a:tab algn="l" pos="6486480"/>
                <a:tab algn="l" pos="7567560"/>
                <a:tab algn="l" pos="8648640"/>
                <a:tab algn="l" pos="9729720"/>
                <a:tab algn="l" pos="108108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534640" y="4694400"/>
            <a:ext cx="4756680" cy="256140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081080"/>
                <a:tab algn="l" pos="2162160"/>
                <a:tab algn="l" pos="3243240"/>
                <a:tab algn="l" pos="4324320"/>
                <a:tab algn="l" pos="5405400"/>
                <a:tab algn="l" pos="6486480"/>
                <a:tab algn="l" pos="7567560"/>
                <a:tab algn="l" pos="8648640"/>
                <a:tab algn="l" pos="9729720"/>
                <a:tab algn="l" pos="108108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5E3CD-E537-441B-97C9-719A622F0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685960" y="140760"/>
            <a:ext cx="6819840" cy="59220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ctr">
            <a:noAutofit/>
          </a:bodyPr>
          <a:p>
            <a:pPr indent="0">
              <a:buNone/>
              <a:tabLst>
                <a:tab algn="l" pos="0"/>
                <a:tab algn="l" pos="1081080"/>
                <a:tab algn="l" pos="2162160"/>
                <a:tab algn="l" pos="3243240"/>
                <a:tab algn="l" pos="4324320"/>
                <a:tab algn="l" pos="5405400"/>
                <a:tab algn="l" pos="6486480"/>
                <a:tab algn="l" pos="7567560"/>
                <a:tab algn="l" pos="8648640"/>
                <a:tab algn="l" pos="9729720"/>
                <a:tab algn="l" pos="10810800"/>
              </a:tabLst>
            </a:pPr>
            <a:endParaRPr b="1" lang="en-US" sz="28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9640" y="1889280"/>
            <a:ext cx="3138480" cy="256140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081080"/>
                <a:tab algn="l" pos="2162160"/>
                <a:tab algn="l" pos="3243240"/>
                <a:tab algn="l" pos="4324320"/>
                <a:tab algn="l" pos="5405400"/>
                <a:tab algn="l" pos="6486480"/>
                <a:tab algn="l" pos="7567560"/>
                <a:tab algn="l" pos="8648640"/>
                <a:tab algn="l" pos="9729720"/>
                <a:tab algn="l" pos="108108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835440" y="1889280"/>
            <a:ext cx="3138480" cy="256140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081080"/>
                <a:tab algn="l" pos="2162160"/>
                <a:tab algn="l" pos="3243240"/>
                <a:tab algn="l" pos="4324320"/>
                <a:tab algn="l" pos="5405400"/>
                <a:tab algn="l" pos="6486480"/>
                <a:tab algn="l" pos="7567560"/>
                <a:tab algn="l" pos="8648640"/>
                <a:tab algn="l" pos="9729720"/>
                <a:tab algn="l" pos="108108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131240" y="1889280"/>
            <a:ext cx="3138480" cy="256140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081080"/>
                <a:tab algn="l" pos="2162160"/>
                <a:tab algn="l" pos="3243240"/>
                <a:tab algn="l" pos="4324320"/>
                <a:tab algn="l" pos="5405400"/>
                <a:tab algn="l" pos="6486480"/>
                <a:tab algn="l" pos="7567560"/>
                <a:tab algn="l" pos="8648640"/>
                <a:tab algn="l" pos="9729720"/>
                <a:tab algn="l" pos="108108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39640" y="4694400"/>
            <a:ext cx="3138480" cy="256140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081080"/>
                <a:tab algn="l" pos="2162160"/>
                <a:tab algn="l" pos="3243240"/>
                <a:tab algn="l" pos="4324320"/>
                <a:tab algn="l" pos="5405400"/>
                <a:tab algn="l" pos="6486480"/>
                <a:tab algn="l" pos="7567560"/>
                <a:tab algn="l" pos="8648640"/>
                <a:tab algn="l" pos="9729720"/>
                <a:tab algn="l" pos="108108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835440" y="4694400"/>
            <a:ext cx="3138480" cy="256140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081080"/>
                <a:tab algn="l" pos="2162160"/>
                <a:tab algn="l" pos="3243240"/>
                <a:tab algn="l" pos="4324320"/>
                <a:tab algn="l" pos="5405400"/>
                <a:tab algn="l" pos="6486480"/>
                <a:tab algn="l" pos="7567560"/>
                <a:tab algn="l" pos="8648640"/>
                <a:tab algn="l" pos="9729720"/>
                <a:tab algn="l" pos="108108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131240" y="4694400"/>
            <a:ext cx="3138480" cy="256140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081080"/>
                <a:tab algn="l" pos="2162160"/>
                <a:tab algn="l" pos="3243240"/>
                <a:tab algn="l" pos="4324320"/>
                <a:tab algn="l" pos="5405400"/>
                <a:tab algn="l" pos="6486480"/>
                <a:tab algn="l" pos="7567560"/>
                <a:tab algn="l" pos="8648640"/>
                <a:tab algn="l" pos="9729720"/>
                <a:tab algn="l" pos="108108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E1043-239B-4557-A17F-2BEC86305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685960" y="140760"/>
            <a:ext cx="6819840" cy="59220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ctr">
            <a:noAutofit/>
          </a:bodyPr>
          <a:p>
            <a:pPr indent="0">
              <a:buNone/>
              <a:tabLst>
                <a:tab algn="l" pos="0"/>
                <a:tab algn="l" pos="1081080"/>
                <a:tab algn="l" pos="2162160"/>
                <a:tab algn="l" pos="3243240"/>
                <a:tab algn="l" pos="4324320"/>
                <a:tab algn="l" pos="5405400"/>
                <a:tab algn="l" pos="6486480"/>
                <a:tab algn="l" pos="7567560"/>
                <a:tab algn="l" pos="8648640"/>
                <a:tab algn="l" pos="9729720"/>
                <a:tab algn="l" pos="10810800"/>
              </a:tabLst>
            </a:pPr>
            <a:endParaRPr b="1" lang="en-US" sz="28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39640" y="1889280"/>
            <a:ext cx="9747360" cy="53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75"/>
              </a:spcBef>
              <a:buNone/>
              <a:tabLst>
                <a:tab algn="l" pos="0"/>
                <a:tab algn="l" pos="1081080"/>
                <a:tab algn="l" pos="2162160"/>
                <a:tab algn="l" pos="3243240"/>
                <a:tab algn="l" pos="4324320"/>
                <a:tab algn="l" pos="5405400"/>
                <a:tab algn="l" pos="6486480"/>
                <a:tab algn="l" pos="7567560"/>
                <a:tab algn="l" pos="8648640"/>
                <a:tab algn="l" pos="9729720"/>
                <a:tab algn="l" pos="108108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D24E7-2773-4622-B0F4-4B6FD2B59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685960" y="140760"/>
            <a:ext cx="6819840" cy="59220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ctr">
            <a:noAutofit/>
          </a:bodyPr>
          <a:p>
            <a:pPr indent="0">
              <a:buNone/>
              <a:tabLst>
                <a:tab algn="l" pos="0"/>
                <a:tab algn="l" pos="1081080"/>
                <a:tab algn="l" pos="2162160"/>
                <a:tab algn="l" pos="3243240"/>
                <a:tab algn="l" pos="4324320"/>
                <a:tab algn="l" pos="5405400"/>
                <a:tab algn="l" pos="6486480"/>
                <a:tab algn="l" pos="7567560"/>
                <a:tab algn="l" pos="8648640"/>
                <a:tab algn="l" pos="9729720"/>
                <a:tab algn="l" pos="10810800"/>
              </a:tabLst>
            </a:pPr>
            <a:endParaRPr b="1" lang="en-US" sz="28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9640" y="1889280"/>
            <a:ext cx="9747360" cy="537048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081080"/>
                <a:tab algn="l" pos="2162160"/>
                <a:tab algn="l" pos="3243240"/>
                <a:tab algn="l" pos="4324320"/>
                <a:tab algn="l" pos="5405400"/>
                <a:tab algn="l" pos="6486480"/>
                <a:tab algn="l" pos="7567560"/>
                <a:tab algn="l" pos="8648640"/>
                <a:tab algn="l" pos="9729720"/>
                <a:tab algn="l" pos="108108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2CB1D-F7A5-4FDD-871C-C1C9F5DDD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685960" y="140760"/>
            <a:ext cx="6819840" cy="59220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ctr">
            <a:noAutofit/>
          </a:bodyPr>
          <a:p>
            <a:pPr indent="0">
              <a:buNone/>
              <a:tabLst>
                <a:tab algn="l" pos="0"/>
                <a:tab algn="l" pos="1081080"/>
                <a:tab algn="l" pos="2162160"/>
                <a:tab algn="l" pos="3243240"/>
                <a:tab algn="l" pos="4324320"/>
                <a:tab algn="l" pos="5405400"/>
                <a:tab algn="l" pos="6486480"/>
                <a:tab algn="l" pos="7567560"/>
                <a:tab algn="l" pos="8648640"/>
                <a:tab algn="l" pos="9729720"/>
                <a:tab algn="l" pos="10810800"/>
              </a:tabLst>
            </a:pPr>
            <a:endParaRPr b="1" lang="en-US" sz="28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9640" y="1889280"/>
            <a:ext cx="4756680" cy="537048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081080"/>
                <a:tab algn="l" pos="2162160"/>
                <a:tab algn="l" pos="3243240"/>
                <a:tab algn="l" pos="4324320"/>
                <a:tab algn="l" pos="5405400"/>
                <a:tab algn="l" pos="6486480"/>
                <a:tab algn="l" pos="7567560"/>
                <a:tab algn="l" pos="8648640"/>
                <a:tab algn="l" pos="9729720"/>
                <a:tab algn="l" pos="108108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534640" y="1889280"/>
            <a:ext cx="4756680" cy="537048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081080"/>
                <a:tab algn="l" pos="2162160"/>
                <a:tab algn="l" pos="3243240"/>
                <a:tab algn="l" pos="4324320"/>
                <a:tab algn="l" pos="5405400"/>
                <a:tab algn="l" pos="6486480"/>
                <a:tab algn="l" pos="7567560"/>
                <a:tab algn="l" pos="8648640"/>
                <a:tab algn="l" pos="9729720"/>
                <a:tab algn="l" pos="108108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01CE9-FA84-4914-A945-F02E22CF8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685960" y="140760"/>
            <a:ext cx="6819840" cy="59220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ctr">
            <a:noAutofit/>
          </a:bodyPr>
          <a:p>
            <a:pPr indent="0">
              <a:buNone/>
              <a:tabLst>
                <a:tab algn="l" pos="0"/>
                <a:tab algn="l" pos="1081080"/>
                <a:tab algn="l" pos="2162160"/>
                <a:tab algn="l" pos="3243240"/>
                <a:tab algn="l" pos="4324320"/>
                <a:tab algn="l" pos="5405400"/>
                <a:tab algn="l" pos="6486480"/>
                <a:tab algn="l" pos="7567560"/>
                <a:tab algn="l" pos="8648640"/>
                <a:tab algn="l" pos="9729720"/>
                <a:tab algn="l" pos="10810800"/>
              </a:tabLst>
            </a:pPr>
            <a:endParaRPr b="1" lang="en-US" sz="28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32843-4370-472D-84CA-7679BAC5D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685960" y="140760"/>
            <a:ext cx="6819840" cy="27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75"/>
              </a:spcBef>
              <a:tabLst>
                <a:tab algn="l" pos="0"/>
                <a:tab algn="l" pos="1081080"/>
                <a:tab algn="l" pos="2162160"/>
                <a:tab algn="l" pos="3243240"/>
                <a:tab algn="l" pos="4324320"/>
                <a:tab algn="l" pos="5405400"/>
                <a:tab algn="l" pos="6486480"/>
                <a:tab algn="l" pos="7567560"/>
                <a:tab algn="l" pos="8648640"/>
                <a:tab algn="l" pos="9729720"/>
                <a:tab algn="l" pos="108108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81180-EE3E-4C8C-9460-210AB79D6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685960" y="140760"/>
            <a:ext cx="6819840" cy="59220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ctr">
            <a:noAutofit/>
          </a:bodyPr>
          <a:p>
            <a:pPr indent="0">
              <a:buNone/>
              <a:tabLst>
                <a:tab algn="l" pos="0"/>
                <a:tab algn="l" pos="1081080"/>
                <a:tab algn="l" pos="2162160"/>
                <a:tab algn="l" pos="3243240"/>
                <a:tab algn="l" pos="4324320"/>
                <a:tab algn="l" pos="5405400"/>
                <a:tab algn="l" pos="6486480"/>
                <a:tab algn="l" pos="7567560"/>
                <a:tab algn="l" pos="8648640"/>
                <a:tab algn="l" pos="9729720"/>
                <a:tab algn="l" pos="10810800"/>
              </a:tabLst>
            </a:pPr>
            <a:endParaRPr b="1" lang="en-US" sz="28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9640" y="1889280"/>
            <a:ext cx="4756680" cy="256140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081080"/>
                <a:tab algn="l" pos="2162160"/>
                <a:tab algn="l" pos="3243240"/>
                <a:tab algn="l" pos="4324320"/>
                <a:tab algn="l" pos="5405400"/>
                <a:tab algn="l" pos="6486480"/>
                <a:tab algn="l" pos="7567560"/>
                <a:tab algn="l" pos="8648640"/>
                <a:tab algn="l" pos="9729720"/>
                <a:tab algn="l" pos="108108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534640" y="1889280"/>
            <a:ext cx="4756680" cy="537048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081080"/>
                <a:tab algn="l" pos="2162160"/>
                <a:tab algn="l" pos="3243240"/>
                <a:tab algn="l" pos="4324320"/>
                <a:tab algn="l" pos="5405400"/>
                <a:tab algn="l" pos="6486480"/>
                <a:tab algn="l" pos="7567560"/>
                <a:tab algn="l" pos="8648640"/>
                <a:tab algn="l" pos="9729720"/>
                <a:tab algn="l" pos="108108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39640" y="4694400"/>
            <a:ext cx="4756680" cy="256140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081080"/>
                <a:tab algn="l" pos="2162160"/>
                <a:tab algn="l" pos="3243240"/>
                <a:tab algn="l" pos="4324320"/>
                <a:tab algn="l" pos="5405400"/>
                <a:tab algn="l" pos="6486480"/>
                <a:tab algn="l" pos="7567560"/>
                <a:tab algn="l" pos="8648640"/>
                <a:tab algn="l" pos="9729720"/>
                <a:tab algn="l" pos="108108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ED428-BF4F-4700-A00C-E904FF2B0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685960" y="140760"/>
            <a:ext cx="6819840" cy="59220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ctr">
            <a:noAutofit/>
          </a:bodyPr>
          <a:p>
            <a:pPr indent="0">
              <a:buNone/>
              <a:tabLst>
                <a:tab algn="l" pos="0"/>
                <a:tab algn="l" pos="1081080"/>
                <a:tab algn="l" pos="2162160"/>
                <a:tab algn="l" pos="3243240"/>
                <a:tab algn="l" pos="4324320"/>
                <a:tab algn="l" pos="5405400"/>
                <a:tab algn="l" pos="6486480"/>
                <a:tab algn="l" pos="7567560"/>
                <a:tab algn="l" pos="8648640"/>
                <a:tab algn="l" pos="9729720"/>
                <a:tab algn="l" pos="10810800"/>
              </a:tabLst>
            </a:pPr>
            <a:endParaRPr b="1" lang="en-US" sz="28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9640" y="1889280"/>
            <a:ext cx="4756680" cy="537048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081080"/>
                <a:tab algn="l" pos="2162160"/>
                <a:tab algn="l" pos="3243240"/>
                <a:tab algn="l" pos="4324320"/>
                <a:tab algn="l" pos="5405400"/>
                <a:tab algn="l" pos="6486480"/>
                <a:tab algn="l" pos="7567560"/>
                <a:tab algn="l" pos="8648640"/>
                <a:tab algn="l" pos="9729720"/>
                <a:tab algn="l" pos="108108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534640" y="1889280"/>
            <a:ext cx="4756680" cy="256140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081080"/>
                <a:tab algn="l" pos="2162160"/>
                <a:tab algn="l" pos="3243240"/>
                <a:tab algn="l" pos="4324320"/>
                <a:tab algn="l" pos="5405400"/>
                <a:tab algn="l" pos="6486480"/>
                <a:tab algn="l" pos="7567560"/>
                <a:tab algn="l" pos="8648640"/>
                <a:tab algn="l" pos="9729720"/>
                <a:tab algn="l" pos="108108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534640" y="4694400"/>
            <a:ext cx="4756680" cy="256140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081080"/>
                <a:tab algn="l" pos="2162160"/>
                <a:tab algn="l" pos="3243240"/>
                <a:tab algn="l" pos="4324320"/>
                <a:tab algn="l" pos="5405400"/>
                <a:tab algn="l" pos="6486480"/>
                <a:tab algn="l" pos="7567560"/>
                <a:tab algn="l" pos="8648640"/>
                <a:tab algn="l" pos="9729720"/>
                <a:tab algn="l" pos="108108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D1448-18C8-4530-B30F-835D08232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685960" y="140760"/>
            <a:ext cx="6819840" cy="59220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ctr">
            <a:noAutofit/>
          </a:bodyPr>
          <a:p>
            <a:pPr indent="0">
              <a:buNone/>
              <a:tabLst>
                <a:tab algn="l" pos="0"/>
                <a:tab algn="l" pos="1081080"/>
                <a:tab algn="l" pos="2162160"/>
                <a:tab algn="l" pos="3243240"/>
                <a:tab algn="l" pos="4324320"/>
                <a:tab algn="l" pos="5405400"/>
                <a:tab algn="l" pos="6486480"/>
                <a:tab algn="l" pos="7567560"/>
                <a:tab algn="l" pos="8648640"/>
                <a:tab algn="l" pos="9729720"/>
                <a:tab algn="l" pos="10810800"/>
              </a:tabLst>
            </a:pPr>
            <a:endParaRPr b="1" lang="en-US" sz="28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9640" y="1889280"/>
            <a:ext cx="4756680" cy="256140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081080"/>
                <a:tab algn="l" pos="2162160"/>
                <a:tab algn="l" pos="3243240"/>
                <a:tab algn="l" pos="4324320"/>
                <a:tab algn="l" pos="5405400"/>
                <a:tab algn="l" pos="6486480"/>
                <a:tab algn="l" pos="7567560"/>
                <a:tab algn="l" pos="8648640"/>
                <a:tab algn="l" pos="9729720"/>
                <a:tab algn="l" pos="108108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534640" y="1889280"/>
            <a:ext cx="4756680" cy="256140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081080"/>
                <a:tab algn="l" pos="2162160"/>
                <a:tab algn="l" pos="3243240"/>
                <a:tab algn="l" pos="4324320"/>
                <a:tab algn="l" pos="5405400"/>
                <a:tab algn="l" pos="6486480"/>
                <a:tab algn="l" pos="7567560"/>
                <a:tab algn="l" pos="8648640"/>
                <a:tab algn="l" pos="9729720"/>
                <a:tab algn="l" pos="108108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9640" y="4694400"/>
            <a:ext cx="9747360" cy="256140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081080"/>
                <a:tab algn="l" pos="2162160"/>
                <a:tab algn="l" pos="3243240"/>
                <a:tab algn="l" pos="4324320"/>
                <a:tab algn="l" pos="5405400"/>
                <a:tab algn="l" pos="6486480"/>
                <a:tab algn="l" pos="7567560"/>
                <a:tab algn="l" pos="8648640"/>
                <a:tab algn="l" pos="9729720"/>
                <a:tab algn="l" pos="108108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BC764-A564-4AB1-B221-461043B95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Рисунок 6" descr="Shablon.jpg"/>
          <p:cNvPicPr/>
          <p:nvPr/>
        </p:nvPicPr>
        <p:blipFill>
          <a:blip r:embed="rId2"/>
          <a:stretch/>
        </p:blipFill>
        <p:spPr>
          <a:xfrm>
            <a:off x="0" y="0"/>
            <a:ext cx="10826640" cy="81201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685960" y="140760"/>
            <a:ext cx="6819840" cy="59220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ctr">
            <a:noAutofit/>
          </a:bodyPr>
          <a:p>
            <a:pPr indent="0">
              <a:buNone/>
              <a:tabLst>
                <a:tab algn="l" pos="0"/>
                <a:tab algn="l" pos="1081080"/>
                <a:tab algn="l" pos="2162160"/>
                <a:tab algn="l" pos="3243240"/>
                <a:tab algn="l" pos="4324320"/>
                <a:tab algn="l" pos="5405400"/>
                <a:tab algn="l" pos="6486480"/>
                <a:tab algn="l" pos="7567560"/>
                <a:tab algn="l" pos="8648640"/>
                <a:tab algn="l" pos="9729720"/>
                <a:tab algn="l" pos="10810800"/>
              </a:tabLst>
            </a:pPr>
            <a:r>
              <a:rPr b="1" lang="en-US" sz="2800" spc="-1" strike="noStrike">
                <a:solidFill>
                  <a:srgbClr val="00449e"/>
                </a:solidFill>
                <a:latin typeface="Calibri"/>
              </a:rPr>
              <a:t>Click to edit the title text format</a:t>
            </a:r>
            <a:endParaRPr b="1" lang="en-US" sz="28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39640" y="1889280"/>
            <a:ext cx="9747360" cy="537048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t">
            <a:normAutofit/>
          </a:bodyPr>
          <a:p>
            <a:pPr marL="406440" indent="-406440"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1081080"/>
                <a:tab algn="l" pos="2162160"/>
                <a:tab algn="l" pos="3243240"/>
                <a:tab algn="l" pos="4324320"/>
                <a:tab algn="l" pos="5405400"/>
                <a:tab algn="l" pos="6486480"/>
                <a:tab algn="l" pos="7567560"/>
                <a:tab algn="l" pos="8648640"/>
                <a:tab algn="l" pos="9729720"/>
                <a:tab algn="l" pos="108108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  <a:p>
            <a:pPr lvl="1" marL="880920" indent="-339480">
              <a:spcBef>
                <a:spcPts val="975"/>
              </a:spcBef>
              <a:buClr>
                <a:srgbClr val="000000"/>
              </a:buClr>
              <a:buFont typeface="Arial"/>
              <a:buChar char="–"/>
              <a:tabLst>
                <a:tab algn="l" pos="1081080"/>
                <a:tab algn="l" pos="2162160"/>
                <a:tab algn="l" pos="3243240"/>
                <a:tab algn="l" pos="4324320"/>
                <a:tab algn="l" pos="5405400"/>
                <a:tab algn="l" pos="6486480"/>
                <a:tab algn="l" pos="7567560"/>
                <a:tab algn="l" pos="8648640"/>
                <a:tab algn="l" pos="9729720"/>
                <a:tab algn="l" pos="108108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  <a:p>
            <a:pPr lvl="2" marL="1352520" indent="-271440"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1081080"/>
                <a:tab algn="l" pos="2162160"/>
                <a:tab algn="l" pos="3243240"/>
                <a:tab algn="l" pos="4324320"/>
                <a:tab algn="l" pos="5405400"/>
                <a:tab algn="l" pos="6486480"/>
                <a:tab algn="l" pos="7567560"/>
                <a:tab algn="l" pos="8648640"/>
                <a:tab algn="l" pos="9729720"/>
                <a:tab algn="l" pos="108108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  <a:p>
            <a:pPr lvl="3" marL="1893960" indent="-271440">
              <a:spcBef>
                <a:spcPts val="975"/>
              </a:spcBef>
              <a:buClr>
                <a:srgbClr val="000000"/>
              </a:buClr>
              <a:buFont typeface="Arial"/>
              <a:buChar char="–"/>
              <a:tabLst>
                <a:tab algn="l" pos="1081080"/>
                <a:tab algn="l" pos="2162160"/>
                <a:tab algn="l" pos="3243240"/>
                <a:tab algn="l" pos="4324320"/>
                <a:tab algn="l" pos="5405400"/>
                <a:tab algn="l" pos="6486480"/>
                <a:tab algn="l" pos="7567560"/>
                <a:tab algn="l" pos="8648640"/>
                <a:tab algn="l" pos="9729720"/>
                <a:tab algn="l" pos="108108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  <a:p>
            <a:pPr lvl="4" marL="2433600" indent="-270000">
              <a:spcBef>
                <a:spcPts val="975"/>
              </a:spcBef>
              <a:buClr>
                <a:srgbClr val="000000"/>
              </a:buClr>
              <a:buFont typeface="Arial"/>
              <a:buChar char="»"/>
              <a:tabLst>
                <a:tab algn="l" pos="1081080"/>
                <a:tab algn="l" pos="2162160"/>
                <a:tab algn="l" pos="3243240"/>
                <a:tab algn="l" pos="4324320"/>
                <a:tab algn="l" pos="5405400"/>
                <a:tab algn="l" pos="6486480"/>
                <a:tab algn="l" pos="7567560"/>
                <a:tab algn="l" pos="8648640"/>
                <a:tab algn="l" pos="9729720"/>
                <a:tab algn="l" pos="108108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  <a:p>
            <a:pPr lvl="5" marL="2433600" indent="-270000">
              <a:spcBef>
                <a:spcPts val="975"/>
              </a:spcBef>
              <a:buClr>
                <a:srgbClr val="000000"/>
              </a:buClr>
              <a:buFont typeface="Arial"/>
              <a:buChar char="»"/>
              <a:tabLst>
                <a:tab algn="l" pos="1081080"/>
                <a:tab algn="l" pos="2162160"/>
                <a:tab algn="l" pos="3243240"/>
                <a:tab algn="l" pos="4324320"/>
                <a:tab algn="l" pos="5405400"/>
                <a:tab algn="l" pos="6486480"/>
                <a:tab algn="l" pos="7567560"/>
                <a:tab algn="l" pos="8648640"/>
                <a:tab algn="l" pos="9729720"/>
                <a:tab algn="l" pos="108108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  <a:p>
            <a:pPr lvl="6" marL="2433600" indent="-270000">
              <a:spcBef>
                <a:spcPts val="975"/>
              </a:spcBef>
              <a:buClr>
                <a:srgbClr val="000000"/>
              </a:buClr>
              <a:buFont typeface="Arial"/>
              <a:buChar char="»"/>
              <a:tabLst>
                <a:tab algn="l" pos="1081080"/>
                <a:tab algn="l" pos="2162160"/>
                <a:tab algn="l" pos="3243240"/>
                <a:tab algn="l" pos="4324320"/>
                <a:tab algn="l" pos="5405400"/>
                <a:tab algn="l" pos="6486480"/>
                <a:tab algn="l" pos="7567560"/>
                <a:tab algn="l" pos="8648640"/>
                <a:tab algn="l" pos="9729720"/>
                <a:tab algn="l" pos="108108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539640" y="7527600"/>
            <a:ext cx="2525760" cy="43668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700080" y="7527600"/>
            <a:ext cx="3427560" cy="43668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61240" y="7527600"/>
            <a:ext cx="2525760" cy="43668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CFE3B-C210-49E0-B23A-19ECE11C0E73}" type="slidenum">
              <a:rPr b="0" lang="ru-RU" sz="14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wmf"/><Relationship Id="rId6" Type="http://schemas.openxmlformats.org/officeDocument/2006/relationships/image" Target="../media/image11.png"/><Relationship Id="rId7" Type="http://schemas.openxmlformats.org/officeDocument/2006/relationships/image" Target="../media/image12.wmf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image" Target="../media/image15.wmf"/><Relationship Id="rId12" Type="http://schemas.openxmlformats.org/officeDocument/2006/relationships/image" Target="../media/image2.png"/><Relationship Id="rId1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5.wmf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685960" y="140760"/>
            <a:ext cx="6819840" cy="59220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ctr">
            <a:noAutofit/>
          </a:bodyPr>
          <a:p>
            <a:pPr indent="0">
              <a:buNone/>
              <a:tabLst>
                <a:tab algn="l" pos="0"/>
                <a:tab algn="l" pos="1081080"/>
                <a:tab algn="l" pos="2162160"/>
                <a:tab algn="l" pos="3243240"/>
                <a:tab algn="l" pos="4324320"/>
                <a:tab algn="l" pos="5405400"/>
                <a:tab algn="l" pos="6486480"/>
                <a:tab algn="l" pos="7567560"/>
                <a:tab algn="l" pos="8648640"/>
                <a:tab algn="l" pos="9729720"/>
                <a:tab algn="l" pos="10810800"/>
              </a:tabLst>
            </a:pPr>
            <a:r>
              <a:rPr b="1" lang="ru-RU" sz="2800" spc="-1" strike="noStrike">
                <a:solidFill>
                  <a:srgbClr val="00449e"/>
                </a:solidFill>
                <a:latin typeface="Calibri"/>
              </a:rPr>
              <a:t>Федеральное казначейство</a:t>
            </a:r>
            <a:endParaRPr b="1" lang="en-US" sz="28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539640" y="1889280"/>
            <a:ext cx="9747360" cy="537048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t">
            <a:normAutofit/>
          </a:bodyPr>
          <a:p>
            <a:pPr marL="406440" indent="-406440" algn="ctr"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1081080"/>
                <a:tab algn="l" pos="2162160"/>
                <a:tab algn="l" pos="3243240"/>
                <a:tab algn="l" pos="4324320"/>
                <a:tab algn="l" pos="5405400"/>
                <a:tab algn="l" pos="6486480"/>
                <a:tab algn="l" pos="7567560"/>
                <a:tab algn="l" pos="8648640"/>
                <a:tab algn="l" pos="9729720"/>
                <a:tab algn="l" pos="108108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  <a:p>
            <a:pPr marL="406440" indent="-406440" algn="ctr"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1081080"/>
                <a:tab algn="l" pos="2162160"/>
                <a:tab algn="l" pos="3243240"/>
                <a:tab algn="l" pos="4324320"/>
                <a:tab algn="l" pos="5405400"/>
                <a:tab algn="l" pos="6486480"/>
                <a:tab algn="l" pos="7567560"/>
                <a:tab algn="l" pos="8648640"/>
                <a:tab algn="l" pos="9729720"/>
                <a:tab algn="l" pos="10810800"/>
              </a:tabLst>
            </a:pPr>
            <a:r>
              <a:rPr b="0" lang="ru-RU" sz="3900" spc="-1" strike="noStrike">
                <a:solidFill>
                  <a:srgbClr val="000000"/>
                </a:solidFill>
                <a:latin typeface="Calibri"/>
              </a:rPr>
              <a:t>Актуальные вопросы учета поступлений в бюджетную систему Российской Федерации и их распределение между бюджетами бюджетной системы Российской Федерации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~PP236.WAV" descr=""/>
          <p:cNvPicPr/>
          <p:nvPr/>
        </p:nvPicPr>
        <p:blipFill>
          <a:blip r:embed="rId1"/>
          <a:stretch/>
        </p:blipFill>
        <p:spPr>
          <a:xfrm>
            <a:off x="10318680" y="761220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685960" y="140760"/>
            <a:ext cx="6819840" cy="59220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ctr">
            <a:noAutofit/>
          </a:bodyPr>
          <a:p>
            <a:pPr indent="0">
              <a:buNone/>
              <a:tabLst>
                <a:tab algn="l" pos="0"/>
                <a:tab algn="l" pos="1081080"/>
                <a:tab algn="l" pos="2162160"/>
                <a:tab algn="l" pos="3243240"/>
                <a:tab algn="l" pos="4324320"/>
                <a:tab algn="l" pos="5405400"/>
                <a:tab algn="l" pos="6486480"/>
                <a:tab algn="l" pos="7567560"/>
                <a:tab algn="l" pos="8648640"/>
                <a:tab algn="l" pos="9729720"/>
                <a:tab algn="l" pos="10810800"/>
              </a:tabLst>
            </a:pPr>
            <a:r>
              <a:rPr b="1" lang="ru-RU" sz="2800" spc="-1" strike="noStrike">
                <a:solidFill>
                  <a:srgbClr val="00449e"/>
                </a:solidFill>
                <a:latin typeface="Calibri"/>
              </a:rPr>
              <a:t>Изменения, вносимые в приказ 92н</a:t>
            </a:r>
            <a:endParaRPr b="1" lang="en-US" sz="28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539640" y="1889280"/>
            <a:ext cx="9747360" cy="537048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t">
            <a:normAutofit/>
          </a:bodyPr>
          <a:p>
            <a:pPr marL="406440" indent="-4064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081080"/>
                <a:tab algn="l" pos="2162160"/>
                <a:tab algn="l" pos="3243240"/>
                <a:tab algn="l" pos="4324320"/>
                <a:tab algn="l" pos="5405400"/>
                <a:tab algn="l" pos="6486480"/>
                <a:tab algn="l" pos="7567560"/>
                <a:tab algn="l" pos="8648640"/>
                <a:tab algn="l" pos="9729720"/>
                <a:tab algn="l" pos="108108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зменение порядка учета доходов от уплаты акцизов на нефтепродукт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06440" indent="-4064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081080"/>
                <a:tab algn="l" pos="2162160"/>
                <a:tab algn="l" pos="3243240"/>
                <a:tab algn="l" pos="4324320"/>
                <a:tab algn="l" pos="5405400"/>
                <a:tab algn="l" pos="6486480"/>
                <a:tab algn="l" pos="7567560"/>
                <a:tab algn="l" pos="8648640"/>
                <a:tab algn="l" pos="9729720"/>
                <a:tab algn="l" pos="108108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ередача валютных ФК в МОУ ФК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06440" indent="-4064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081080"/>
                <a:tab algn="l" pos="2162160"/>
                <a:tab algn="l" pos="3243240"/>
                <a:tab algn="l" pos="4324320"/>
                <a:tab algn="l" pos="5405400"/>
                <a:tab algn="l" pos="6486480"/>
                <a:tab algn="l" pos="7567560"/>
                <a:tab algn="l" pos="8648640"/>
                <a:tab algn="l" pos="9729720"/>
                <a:tab algn="l" pos="108108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еестр администрируемых платежей ГАДБ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06440" indent="-4064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081080"/>
                <a:tab algn="l" pos="2162160"/>
                <a:tab algn="l" pos="3243240"/>
                <a:tab algn="l" pos="4324320"/>
                <a:tab algn="l" pos="5405400"/>
                <a:tab algn="l" pos="6486480"/>
                <a:tab algn="l" pos="7567560"/>
                <a:tab algn="l" pos="8648640"/>
                <a:tab algn="l" pos="9729720"/>
                <a:tab algn="l" pos="108108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ереход на ОКТМО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06440" indent="-4064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081080"/>
                <a:tab algn="l" pos="2162160"/>
                <a:tab algn="l" pos="3243240"/>
                <a:tab algn="l" pos="4324320"/>
                <a:tab algn="l" pos="5405400"/>
                <a:tab algn="l" pos="6486480"/>
                <a:tab algn="l" pos="7567560"/>
                <a:tab algn="l" pos="8648640"/>
                <a:tab algn="l" pos="9729720"/>
                <a:tab algn="l" pos="108108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ередача невыясненных поступлений между УФК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06440" indent="-4064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081080"/>
                <a:tab algn="l" pos="2162160"/>
                <a:tab algn="l" pos="3243240"/>
                <a:tab algn="l" pos="4324320"/>
                <a:tab algn="l" pos="5405400"/>
                <a:tab algn="l" pos="6486480"/>
                <a:tab algn="l" pos="7567560"/>
                <a:tab algn="l" pos="8648640"/>
                <a:tab algn="l" pos="9729720"/>
                <a:tab algn="l" pos="108108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еречисление излишне распределенных сумм в связи с межбюджетной задолженностью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06440" indent="-4064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081080"/>
                <a:tab algn="l" pos="2162160"/>
                <a:tab algn="l" pos="3243240"/>
                <a:tab algn="l" pos="4324320"/>
                <a:tab algn="l" pos="5405400"/>
                <a:tab algn="l" pos="6486480"/>
                <a:tab algn="l" pos="7567560"/>
                <a:tab algn="l" pos="8648640"/>
                <a:tab algn="l" pos="9729720"/>
                <a:tab algn="l" pos="108108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ассовое обслуживание ГВБФ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06440" indent="-4064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081080"/>
                <a:tab algn="l" pos="2162160"/>
                <a:tab algn="l" pos="3243240"/>
                <a:tab algn="l" pos="4324320"/>
                <a:tab algn="l" pos="5405400"/>
                <a:tab algn="l" pos="6486480"/>
                <a:tab algn="l" pos="7567560"/>
                <a:tab algn="l" pos="8648640"/>
                <a:tab algn="l" pos="9729720"/>
                <a:tab algn="l" pos="108108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еречисление поступлений, предназначавшихся федеральным учреждения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06440" indent="-4064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081080"/>
                <a:tab algn="l" pos="2162160"/>
                <a:tab algn="l" pos="3243240"/>
                <a:tab algn="l" pos="4324320"/>
                <a:tab algn="l" pos="5405400"/>
                <a:tab algn="l" pos="6486480"/>
                <a:tab algn="l" pos="7567560"/>
                <a:tab algn="l" pos="8648640"/>
                <a:tab algn="l" pos="9729720"/>
                <a:tab algn="l" pos="108108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~PP2227.WAV" descr=""/>
          <p:cNvPicPr/>
          <p:nvPr/>
        </p:nvPicPr>
        <p:blipFill>
          <a:blip r:embed="rId1"/>
          <a:stretch/>
        </p:blipFill>
        <p:spPr>
          <a:xfrm>
            <a:off x="10318680" y="761220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0" y="1179360"/>
            <a:ext cx="7358040" cy="6578640"/>
          </a:xfrm>
          <a:prstGeom prst="rect">
            <a:avLst/>
          </a:prstGeom>
          <a:ln w="0">
            <a:noFill/>
          </a:ln>
        </p:spPr>
      </p:pic>
      <p:sp>
        <p:nvSpPr>
          <p:cNvPr id="49" name="Text Box 3"/>
          <p:cNvSpPr/>
          <p:nvPr/>
        </p:nvSpPr>
        <p:spPr>
          <a:xfrm>
            <a:off x="1165320" y="243000"/>
            <a:ext cx="842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081080"/>
                <a:tab algn="l" pos="2162160"/>
                <a:tab algn="l" pos="3243240"/>
                <a:tab algn="l" pos="4324320"/>
                <a:tab algn="l" pos="5405400"/>
                <a:tab algn="l" pos="6486480"/>
                <a:tab algn="l" pos="7567560"/>
                <a:tab algn="l" pos="8648640"/>
                <a:tab algn="l" pos="9729720"/>
                <a:tab algn="l" pos="10810800"/>
              </a:tabLst>
            </a:pPr>
            <a:r>
              <a:rPr b="1" lang="ru-RU" sz="2400" spc="-1" strike="noStrike">
                <a:solidFill>
                  <a:srgbClr val="00449e"/>
                </a:solidFill>
                <a:latin typeface="Calibri"/>
              </a:rPr>
              <a:t>Указание в распоряжении  переводе денежных средств в бюджетную систему кодов ОКТМО и идентификатор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AutoShape 4"/>
          <p:cNvSpPr/>
          <p:nvPr/>
        </p:nvSpPr>
        <p:spPr>
          <a:xfrm>
            <a:off x="8292960" y="3700440"/>
            <a:ext cx="2376720" cy="2087640"/>
          </a:xfrm>
          <a:prstGeom prst="wedgeRectCallout">
            <a:avLst>
              <a:gd name="adj1" fmla="val -207819"/>
              <a:gd name="adj2" fmla="val 68962"/>
            </a:avLst>
          </a:prstGeom>
          <a:solidFill>
            <a:srgbClr val="ff388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1081080"/>
                <a:tab algn="l" pos="2162160"/>
                <a:tab algn="l" pos="3243240"/>
                <a:tab algn="l" pos="4324320"/>
                <a:tab algn="l" pos="5405400"/>
                <a:tab algn="l" pos="6486480"/>
                <a:tab algn="l" pos="7567560"/>
                <a:tab algn="l" pos="8648640"/>
                <a:tab algn="l" pos="9729720"/>
                <a:tab algn="l" pos="108108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 31.03.2014 в реквизите «Код» будет указываться уникальный идентификатор начисления (УИН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AutoShape 5"/>
          <p:cNvSpPr/>
          <p:nvPr/>
        </p:nvSpPr>
        <p:spPr>
          <a:xfrm>
            <a:off x="8726400" y="1755720"/>
            <a:ext cx="1727280" cy="863640"/>
          </a:xfrm>
          <a:prstGeom prst="wedgeRoundRectCallout">
            <a:avLst>
              <a:gd name="adj1" fmla="val -417787"/>
              <a:gd name="adj2" fmla="val 479962"/>
              <a:gd name="adj3" fmla="val 16667"/>
            </a:avLst>
          </a:prstGeom>
          <a:solidFill>
            <a:srgbClr val="ff388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81080"/>
                <a:tab algn="l" pos="2162160"/>
                <a:tab algn="l" pos="3243240"/>
                <a:tab algn="l" pos="4324320"/>
                <a:tab algn="l" pos="5405400"/>
                <a:tab algn="l" pos="6486480"/>
                <a:tab algn="l" pos="7567560"/>
                <a:tab algn="l" pos="8648640"/>
                <a:tab algn="l" pos="9729720"/>
                <a:tab algn="l" pos="108108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 01.01.20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81080"/>
                <a:tab algn="l" pos="2162160"/>
                <a:tab algn="l" pos="3243240"/>
                <a:tab algn="l" pos="4324320"/>
                <a:tab algn="l" pos="5405400"/>
                <a:tab algn="l" pos="6486480"/>
                <a:tab algn="l" pos="7567560"/>
                <a:tab algn="l" pos="8648640"/>
                <a:tab algn="l" pos="9729720"/>
                <a:tab algn="l" pos="108108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КТМО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AutoShape 6"/>
          <p:cNvSpPr/>
          <p:nvPr/>
        </p:nvSpPr>
        <p:spPr>
          <a:xfrm>
            <a:off x="8150400" y="6435720"/>
            <a:ext cx="2376360" cy="898560"/>
          </a:xfrm>
          <a:prstGeom prst="wedgeRectCallout">
            <a:avLst>
              <a:gd name="adj1" fmla="val -379027"/>
              <a:gd name="adj2" fmla="val -37856"/>
            </a:avLst>
          </a:prstGeom>
          <a:solidFill>
            <a:srgbClr val="ff388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81080"/>
                <a:tab algn="l" pos="2162160"/>
                <a:tab algn="l" pos="3243240"/>
                <a:tab algn="l" pos="4324320"/>
                <a:tab algn="l" pos="5405400"/>
                <a:tab algn="l" pos="6486480"/>
                <a:tab algn="l" pos="7567560"/>
                <a:tab algn="l" pos="8648640"/>
                <a:tab algn="l" pos="9729720"/>
                <a:tab algn="l" pos="108108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До 31.03.2014 УИН указывается в назначении платеж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~PP2695.WAV" descr=""/>
          <p:cNvPicPr/>
          <p:nvPr/>
        </p:nvPicPr>
        <p:blipFill>
          <a:blip r:embed="rId2"/>
          <a:stretch/>
        </p:blipFill>
        <p:spPr>
          <a:xfrm>
            <a:off x="10318680" y="761220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4"/>
          <p:cNvSpPr/>
          <p:nvPr/>
        </p:nvSpPr>
        <p:spPr>
          <a:xfrm>
            <a:off x="1165320" y="243000"/>
            <a:ext cx="842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081080"/>
                <a:tab algn="l" pos="2162160"/>
                <a:tab algn="l" pos="3243240"/>
                <a:tab algn="l" pos="4324320"/>
                <a:tab algn="l" pos="5405400"/>
                <a:tab algn="l" pos="6486480"/>
                <a:tab algn="l" pos="7567560"/>
                <a:tab algn="l" pos="8648640"/>
                <a:tab algn="l" pos="9729720"/>
                <a:tab algn="l" pos="10810800"/>
              </a:tabLst>
            </a:pPr>
            <a:r>
              <a:rPr b="1" lang="ru-RU" sz="2400" spc="-1" strike="noStrike">
                <a:solidFill>
                  <a:srgbClr val="00449e"/>
                </a:solidFill>
                <a:latin typeface="Calibri"/>
              </a:rPr>
              <a:t>Реестр администрируемых платежей (приложение № 7 к Порядку 92н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51" descr=""/>
          <p:cNvPicPr/>
          <p:nvPr/>
        </p:nvPicPr>
        <p:blipFill>
          <a:blip r:embed="rId1"/>
          <a:stretch/>
        </p:blipFill>
        <p:spPr>
          <a:xfrm>
            <a:off x="299880" y="2043000"/>
            <a:ext cx="10082520" cy="4451400"/>
          </a:xfrm>
          <a:prstGeom prst="rect">
            <a:avLst/>
          </a:prstGeom>
          <a:ln w="0">
            <a:noFill/>
          </a:ln>
        </p:spPr>
      </p:pic>
      <p:pic>
        <p:nvPicPr>
          <p:cNvPr id="56" name="~PP3677.WAV" descr=""/>
          <p:cNvPicPr/>
          <p:nvPr/>
        </p:nvPicPr>
        <p:blipFill>
          <a:blip r:embed="rId2"/>
          <a:stretch/>
        </p:blipFill>
        <p:spPr>
          <a:xfrm>
            <a:off x="10318680" y="761220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1" fill="hold"/>
                                        <p:tgtEl>
                                          <p:spTgt spid="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"/>
          <p:cNvPicPr/>
          <p:nvPr/>
        </p:nvPicPr>
        <p:blipFill>
          <a:blip r:embed="rId1"/>
          <a:stretch/>
        </p:blipFill>
        <p:spPr>
          <a:xfrm>
            <a:off x="444600" y="2043000"/>
            <a:ext cx="9361440" cy="3970440"/>
          </a:xfrm>
          <a:prstGeom prst="rect">
            <a:avLst/>
          </a:prstGeom>
          <a:ln w="0">
            <a:noFill/>
          </a:ln>
        </p:spPr>
      </p:pic>
      <p:sp>
        <p:nvSpPr>
          <p:cNvPr id="58" name="Text Box 5"/>
          <p:cNvSpPr/>
          <p:nvPr/>
        </p:nvSpPr>
        <p:spPr>
          <a:xfrm>
            <a:off x="1165320" y="0"/>
            <a:ext cx="84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081080"/>
                <a:tab algn="l" pos="2162160"/>
                <a:tab algn="l" pos="3243240"/>
                <a:tab algn="l" pos="4324320"/>
                <a:tab algn="l" pos="5405400"/>
                <a:tab algn="l" pos="6486480"/>
                <a:tab algn="l" pos="7567560"/>
                <a:tab algn="l" pos="8648640"/>
                <a:tab algn="l" pos="9729720"/>
                <a:tab algn="l" pos="10810800"/>
              </a:tabLst>
            </a:pPr>
            <a:r>
              <a:rPr b="1" lang="ru-RU" sz="2400" spc="-1" strike="noStrike">
                <a:solidFill>
                  <a:srgbClr val="00449e"/>
                </a:solidFill>
                <a:latin typeface="Calibri"/>
              </a:rPr>
              <a:t>Реестр платежей, ошибочно зачисленных на счет другого органа Федерального казначейства</a:t>
            </a:r>
            <a:br>
              <a:rPr sz="2400"/>
            </a:br>
            <a:r>
              <a:rPr b="1" lang="ru-RU" sz="2400" spc="-1" strike="noStrike">
                <a:solidFill>
                  <a:srgbClr val="00449e"/>
                </a:solidFill>
                <a:latin typeface="Calibri"/>
              </a:rPr>
              <a:t>(Приложение № 8 к Порядку № 92н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~PP2452.WAV" descr=""/>
          <p:cNvPicPr/>
          <p:nvPr/>
        </p:nvPicPr>
        <p:blipFill>
          <a:blip r:embed="rId2"/>
          <a:stretch/>
        </p:blipFill>
        <p:spPr>
          <a:xfrm>
            <a:off x="10318680" y="761220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1" fill="hold"/>
                                        <p:tgtEl>
                                          <p:spTgt spid="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685960" y="140760"/>
            <a:ext cx="6819840" cy="59220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ctr">
            <a:noAutofit/>
          </a:bodyPr>
          <a:p>
            <a:pPr indent="0">
              <a:buNone/>
              <a:tabLst>
                <a:tab algn="l" pos="0"/>
                <a:tab algn="l" pos="1081080"/>
                <a:tab algn="l" pos="2162160"/>
                <a:tab algn="l" pos="3243240"/>
                <a:tab algn="l" pos="4324320"/>
                <a:tab algn="l" pos="5405400"/>
                <a:tab algn="l" pos="6486480"/>
                <a:tab algn="l" pos="7567560"/>
                <a:tab algn="l" pos="8648640"/>
                <a:tab algn="l" pos="9729720"/>
                <a:tab algn="l" pos="10810800"/>
              </a:tabLst>
            </a:pPr>
            <a:endParaRPr b="1" lang="en-US" sz="28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9640" y="1889280"/>
            <a:ext cx="9747360" cy="537048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081080"/>
                <a:tab algn="l" pos="2162160"/>
                <a:tab algn="l" pos="3243240"/>
                <a:tab algn="l" pos="4324320"/>
                <a:tab algn="l" pos="5405400"/>
                <a:tab algn="l" pos="6486480"/>
                <a:tab algn="l" pos="7567560"/>
                <a:tab algn="l" pos="8648640"/>
                <a:tab algn="l" pos="9729720"/>
                <a:tab algn="l" pos="108108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64" descr="e-mail"/>
          <p:cNvPicPr/>
          <p:nvPr/>
        </p:nvPicPr>
        <p:blipFill>
          <a:blip r:embed="rId1"/>
          <a:stretch/>
        </p:blipFill>
        <p:spPr>
          <a:xfrm rot="7062000">
            <a:off x="3200400" y="3608280"/>
            <a:ext cx="657360" cy="6955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66" descr="папки"/>
          <p:cNvPicPr/>
          <p:nvPr/>
        </p:nvPicPr>
        <p:blipFill>
          <a:blip r:embed="rId2"/>
          <a:stretch/>
        </p:blipFill>
        <p:spPr>
          <a:xfrm>
            <a:off x="8366040" y="4275000"/>
            <a:ext cx="1008000" cy="87948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63"/>
          <p:cNvSpPr/>
          <p:nvPr/>
        </p:nvSpPr>
        <p:spPr>
          <a:xfrm flipH="1" flipV="1" rot="13265400">
            <a:off x="7286760" y="2979360"/>
            <a:ext cx="1728720" cy="5140440"/>
          </a:xfrm>
          <a:custGeom>
            <a:avLst/>
            <a:gdLst>
              <a:gd name="textAreaLeft" fmla="*/ 231480 w 1728720"/>
              <a:gd name="textAreaRight" fmla="*/ 1497240 w 1728720"/>
              <a:gd name="textAreaTop" fmla="*/ 1010520 h 5140440"/>
              <a:gd name="textAreaBottom" fmla="*/ 3615840 h 5140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495" stAng="-5400000" swAng="5400000"/>
                <a:lnTo>
                  <a:pt x="21600" y="10946"/>
                </a:lnTo>
                <a:arcTo wR="21600" hR="8495" stAng="0" swAng="1905633"/>
                <a:lnTo>
                  <a:pt x="11582" y="20276"/>
                </a:lnTo>
                <a:lnTo>
                  <a:pt x="0" y="18215"/>
                </a:lnTo>
                <a:lnTo>
                  <a:pt x="11582" y="13505"/>
                </a:lnTo>
                <a:lnTo>
                  <a:pt x="11582" y="15665"/>
                </a:lnTo>
                <a:arcTo wR="21600" hR="8495" stAng="1905633" swAng="-1708743"/>
                <a:lnTo>
                  <a:pt x="21374" y="9720"/>
                </a:lnTo>
                <a:arcTo wR="21600" hR="8495" stAng="-196891" swAng="-5203109"/>
                <a:close/>
              </a:path>
              <a:path fill="darkenLess" w="21600" h="21600">
                <a:moveTo>
                  <a:pt x="0" y="0"/>
                </a:moveTo>
                <a:arcTo wR="21600" hR="8495" stAng="-5400000" swAng="5400000"/>
                <a:lnTo>
                  <a:pt x="21600" y="10946"/>
                </a:lnTo>
                <a:arcTo wR="21600" hR="8495" stAng="0" swAng="-196891"/>
                <a:lnTo>
                  <a:pt x="21374" y="9720"/>
                </a:lnTo>
                <a:arcTo wR="21600" hR="8495" stAng="-196891" swAng="-5203109"/>
                <a:close/>
              </a:path>
            </a:pathLst>
          </a:custGeom>
          <a:blipFill rotWithShape="0">
            <a:blip r:embed="rId3"/>
            <a:srcRect/>
            <a:stretch/>
          </a:blipFill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1165320" y="0"/>
            <a:ext cx="84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1081080"/>
                <a:tab algn="l" pos="2162160"/>
                <a:tab algn="l" pos="3243240"/>
                <a:tab algn="l" pos="4324320"/>
                <a:tab algn="l" pos="5405400"/>
                <a:tab algn="l" pos="6486480"/>
                <a:tab algn="l" pos="7567560"/>
                <a:tab algn="l" pos="8648640"/>
                <a:tab algn="l" pos="9729720"/>
                <a:tab algn="l" pos="10810800"/>
              </a:tabLst>
            </a:pPr>
            <a:r>
              <a:rPr b="1" lang="ru-RU" sz="2400" spc="-1" strike="noStrike">
                <a:solidFill>
                  <a:srgbClr val="00449e"/>
                </a:solidFill>
                <a:latin typeface="Times New Roman"/>
                <a:ea typeface="Times New Roman"/>
              </a:rPr>
              <a:t>Уточнение невыясненных поступлений, зачисляемых в федеральный бюджет, поступивших на счета № 40101 других органов Федерального казначейств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" name="AutoShape 61"/>
          <p:cNvGrpSpPr/>
          <p:nvPr/>
        </p:nvGrpSpPr>
        <p:grpSpPr>
          <a:xfrm>
            <a:off x="2597040" y="3429360"/>
            <a:ext cx="1554120" cy="1990080"/>
            <a:chOff x="2597040" y="3429360"/>
            <a:chExt cx="1554120" cy="1990080"/>
          </a:xfrm>
        </p:grpSpPr>
        <p:pic>
          <p:nvPicPr>
            <p:cNvPr id="67" name="AutoShape 61" descr=""/>
            <p:cNvPicPr/>
            <p:nvPr/>
          </p:nvPicPr>
          <p:blipFill>
            <a:blip r:embed="rId4"/>
            <a:stretch/>
          </p:blipFill>
          <p:spPr>
            <a:xfrm>
              <a:off x="2597040" y="3429360"/>
              <a:ext cx="1554120" cy="199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 rot="3260400">
              <a:off x="2305800" y="4234680"/>
              <a:ext cx="201996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Group 60"/>
          <p:cNvGrpSpPr/>
          <p:nvPr/>
        </p:nvGrpSpPr>
        <p:grpSpPr>
          <a:xfrm>
            <a:off x="157320" y="1324080"/>
            <a:ext cx="2664720" cy="2158560"/>
            <a:chOff x="157320" y="1324080"/>
            <a:chExt cx="2664720" cy="2158560"/>
          </a:xfrm>
        </p:grpSpPr>
        <p:pic>
          <p:nvPicPr>
            <p:cNvPr id="70" name="Picture 57" descr="Дома в ромбе"/>
            <p:cNvPicPr/>
            <p:nvPr/>
          </p:nvPicPr>
          <p:blipFill>
            <a:blip r:embed="rId5"/>
            <a:stretch/>
          </p:blipFill>
          <p:spPr>
            <a:xfrm>
              <a:off x="157320" y="1324080"/>
              <a:ext cx="813240" cy="825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1" name="AutoShape 51"/>
            <p:cNvGrpSpPr/>
            <p:nvPr/>
          </p:nvGrpSpPr>
          <p:grpSpPr>
            <a:xfrm>
              <a:off x="497880" y="2018520"/>
              <a:ext cx="2324160" cy="1464120"/>
              <a:chOff x="497880" y="2018520"/>
              <a:chExt cx="2324160" cy="1464120"/>
            </a:xfrm>
          </p:grpSpPr>
          <p:pic>
            <p:nvPicPr>
              <p:cNvPr id="72" name="AutoShape 51" descr=""/>
              <p:cNvPicPr/>
              <p:nvPr/>
            </p:nvPicPr>
            <p:blipFill>
              <a:blip r:embed="rId6"/>
              <a:stretch/>
            </p:blipFill>
            <p:spPr>
              <a:xfrm>
                <a:off x="497880" y="2018520"/>
                <a:ext cx="2324160" cy="1464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3" name=""/>
              <p:cNvSpPr/>
              <p:nvPr/>
            </p:nvSpPr>
            <p:spPr>
              <a:xfrm>
                <a:off x="585000" y="2107080"/>
                <a:ext cx="2149200" cy="1289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pPr algn="ctr">
                  <a:spcBef>
                    <a:spcPts val="1312"/>
                  </a:spcBef>
                  <a:tabLst>
                    <a:tab algn="l" pos="0"/>
                    <a:tab algn="l" pos="1081080"/>
                    <a:tab algn="l" pos="2162160"/>
                    <a:tab algn="l" pos="3243240"/>
                    <a:tab algn="l" pos="4324320"/>
                    <a:tab algn="l" pos="5405400"/>
                    <a:tab algn="l" pos="6486480"/>
                    <a:tab algn="l" pos="7567560"/>
                    <a:tab algn="l" pos="8648640"/>
                    <a:tab algn="l" pos="9729720"/>
                    <a:tab algn="l" pos="10810800"/>
                  </a:tabLst>
                </a:pPr>
                <a:r>
                  <a:rPr b="1" lang="ru-RU" sz="2100" spc="-1" strike="noStrike">
                    <a:solidFill>
                      <a:srgbClr val="000000"/>
                    </a:solidFill>
                    <a:latin typeface="Times New Roman"/>
                  </a:rPr>
                  <a:t>Администратор доходов бюджета</a:t>
                </a:r>
                <a:endParaRPr b="0" lang="en-US" sz="2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4" name="Group 59"/>
          <p:cNvGrpSpPr/>
          <p:nvPr/>
        </p:nvGrpSpPr>
        <p:grpSpPr>
          <a:xfrm>
            <a:off x="7574040" y="1108080"/>
            <a:ext cx="2419200" cy="2464200"/>
            <a:chOff x="7574040" y="1108080"/>
            <a:chExt cx="2419200" cy="2464200"/>
          </a:xfrm>
        </p:grpSpPr>
        <p:sp>
          <p:nvSpPr>
            <p:cNvPr id="75" name="AutoShape 53"/>
            <p:cNvSpPr/>
            <p:nvPr/>
          </p:nvSpPr>
          <p:spPr>
            <a:xfrm>
              <a:off x="7574040" y="2052000"/>
              <a:ext cx="2149560" cy="1520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efd1"/>
                </a:gs>
                <a:gs pos="100000">
                  <a:srgbClr val="d1c39f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pPr algn="ctr">
                <a:spcBef>
                  <a:spcPts val="1312"/>
                </a:spcBef>
                <a:tabLst>
                  <a:tab algn="l" pos="0"/>
                  <a:tab algn="l" pos="1081080"/>
                  <a:tab algn="l" pos="2162160"/>
                  <a:tab algn="l" pos="3243240"/>
                  <a:tab algn="l" pos="4324320"/>
                  <a:tab algn="l" pos="5405400"/>
                  <a:tab algn="l" pos="6486480"/>
                  <a:tab algn="l" pos="7567560"/>
                  <a:tab algn="l" pos="8648640"/>
                  <a:tab algn="l" pos="9729720"/>
                  <a:tab algn="l" pos="10810800"/>
                </a:tabLst>
              </a:pPr>
              <a:r>
                <a:rPr b="1" lang="ru-RU" sz="2100" spc="-1" strike="noStrike">
                  <a:solidFill>
                    <a:srgbClr val="000000"/>
                  </a:solidFill>
                  <a:latin typeface="Times New Roman"/>
                </a:rPr>
                <a:t>Управление Федерального казначейства </a:t>
              </a:r>
              <a:r>
                <a:rPr b="1" lang="en-US" sz="21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6" name="Picture 55" descr="Дом"/>
            <p:cNvPicPr/>
            <p:nvPr/>
          </p:nvPicPr>
          <p:blipFill>
            <a:blip r:embed="rId7"/>
            <a:stretch/>
          </p:blipFill>
          <p:spPr>
            <a:xfrm>
              <a:off x="8724960" y="1108080"/>
              <a:ext cx="1268280" cy="10206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7" name="Picture 65" descr="папка мои документы"/>
          <p:cNvPicPr/>
          <p:nvPr/>
        </p:nvPicPr>
        <p:blipFill>
          <a:blip r:embed="rId8"/>
          <a:stretch/>
        </p:blipFill>
        <p:spPr>
          <a:xfrm>
            <a:off x="4694400" y="2403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67" descr="папка мои документы"/>
          <p:cNvPicPr/>
          <p:nvPr/>
        </p:nvPicPr>
        <p:blipFill>
          <a:blip r:embed="rId9"/>
          <a:stretch/>
        </p:blipFill>
        <p:spPr>
          <a:xfrm>
            <a:off x="8150400" y="4635360"/>
            <a:ext cx="792000" cy="792360"/>
          </a:xfrm>
          <a:prstGeom prst="rect">
            <a:avLst/>
          </a:prstGeom>
          <a:ln w="0">
            <a:noFill/>
          </a:ln>
        </p:spPr>
      </p:pic>
      <p:sp>
        <p:nvSpPr>
          <p:cNvPr id="79" name="AutoShape 62"/>
          <p:cNvSpPr/>
          <p:nvPr/>
        </p:nvSpPr>
        <p:spPr>
          <a:xfrm rot="12952800">
            <a:off x="5213520" y="759960"/>
            <a:ext cx="1512720" cy="4894200"/>
          </a:xfrm>
          <a:custGeom>
            <a:avLst/>
            <a:gdLst>
              <a:gd name="textAreaLeft" fmla="*/ 202680 w 1512720"/>
              <a:gd name="textAreaRight" fmla="*/ 1310040 w 1512720"/>
              <a:gd name="textAreaTop" fmla="*/ 962280 h 4894200"/>
              <a:gd name="textAreaBottom" fmla="*/ 3442320 h 489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495" stAng="-5400000" swAng="5400000"/>
                <a:lnTo>
                  <a:pt x="21600" y="10946"/>
                </a:lnTo>
                <a:arcTo wR="21600" hR="8495" stAng="0" swAng="1905633"/>
                <a:lnTo>
                  <a:pt x="11582" y="20276"/>
                </a:lnTo>
                <a:lnTo>
                  <a:pt x="0" y="18215"/>
                </a:lnTo>
                <a:lnTo>
                  <a:pt x="11582" y="13505"/>
                </a:lnTo>
                <a:lnTo>
                  <a:pt x="11582" y="15665"/>
                </a:lnTo>
                <a:arcTo wR="21600" hR="8495" stAng="1905633" swAng="-1708743"/>
                <a:lnTo>
                  <a:pt x="21374" y="9720"/>
                </a:lnTo>
                <a:arcTo wR="21600" hR="8495" stAng="-196891" swAng="-5203109"/>
                <a:close/>
              </a:path>
              <a:path fill="darkenLess" w="21600" h="21600">
                <a:moveTo>
                  <a:pt x="0" y="0"/>
                </a:moveTo>
                <a:arcTo wR="21600" hR="8495" stAng="-5400000" swAng="5400000"/>
                <a:lnTo>
                  <a:pt x="21600" y="10946"/>
                </a:lnTo>
                <a:arcTo wR="21600" hR="8495" stAng="0" swAng="-196891"/>
                <a:lnTo>
                  <a:pt x="21374" y="9720"/>
                </a:lnTo>
                <a:arcTo wR="21600" hR="8495" stAng="-196891" swAng="-5203109"/>
                <a:close/>
              </a:path>
            </a:pathLst>
          </a:custGeom>
          <a:blipFill rotWithShape="0">
            <a:blip r:embed="rId10"/>
            <a:srcRect/>
            <a:stretch/>
          </a:blipFill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68"/>
          <p:cNvSpPr/>
          <p:nvPr/>
        </p:nvSpPr>
        <p:spPr>
          <a:xfrm>
            <a:off x="949320" y="4059360"/>
            <a:ext cx="244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1081080"/>
                <a:tab algn="l" pos="2162160"/>
                <a:tab algn="l" pos="3243240"/>
                <a:tab algn="l" pos="4324320"/>
                <a:tab algn="l" pos="5405400"/>
                <a:tab algn="l" pos="6486480"/>
                <a:tab algn="l" pos="7567560"/>
                <a:tab algn="l" pos="8648640"/>
                <a:tab algn="l" pos="9729720"/>
                <a:tab algn="l" pos="108108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ведомление об уточнении вида и принадлежности платеж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" name="Group 58"/>
          <p:cNvGrpSpPr/>
          <p:nvPr/>
        </p:nvGrpSpPr>
        <p:grpSpPr>
          <a:xfrm>
            <a:off x="4118040" y="4564080"/>
            <a:ext cx="2311200" cy="2378520"/>
            <a:chOff x="4118040" y="4564080"/>
            <a:chExt cx="2311200" cy="2378520"/>
          </a:xfrm>
        </p:grpSpPr>
        <p:sp>
          <p:nvSpPr>
            <p:cNvPr id="82" name="AutoShape 52"/>
            <p:cNvSpPr/>
            <p:nvPr/>
          </p:nvSpPr>
          <p:spPr>
            <a:xfrm>
              <a:off x="4118040" y="5422320"/>
              <a:ext cx="2149560" cy="1520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efd1"/>
                </a:gs>
                <a:gs pos="100000">
                  <a:srgbClr val="d1c39f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pPr algn="ctr">
                <a:spcBef>
                  <a:spcPts val="1312"/>
                </a:spcBef>
                <a:tabLst>
                  <a:tab algn="l" pos="0"/>
                  <a:tab algn="l" pos="1081080"/>
                  <a:tab algn="l" pos="2162160"/>
                  <a:tab algn="l" pos="3243240"/>
                  <a:tab algn="l" pos="4324320"/>
                  <a:tab algn="l" pos="5405400"/>
                  <a:tab algn="l" pos="6486480"/>
                  <a:tab algn="l" pos="7567560"/>
                  <a:tab algn="l" pos="8648640"/>
                  <a:tab algn="l" pos="9729720"/>
                  <a:tab algn="l" pos="10810800"/>
                </a:tabLst>
              </a:pPr>
              <a:r>
                <a:rPr b="1" lang="ru-RU" sz="2100" spc="-1" strike="noStrike">
                  <a:solidFill>
                    <a:srgbClr val="000000"/>
                  </a:solidFill>
                  <a:latin typeface="Times New Roman"/>
                </a:rPr>
                <a:t>Управление Федерального казначейства </a:t>
              </a:r>
              <a:r>
                <a:rPr b="1" lang="en-US" sz="21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3" name="Picture 54" descr="Дом2"/>
            <p:cNvPicPr/>
            <p:nvPr/>
          </p:nvPicPr>
          <p:blipFill>
            <a:blip r:embed="rId11"/>
            <a:stretch/>
          </p:blipFill>
          <p:spPr>
            <a:xfrm>
              <a:off x="5060880" y="4564080"/>
              <a:ext cx="1368360" cy="979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4" name="Text Box 69"/>
          <p:cNvSpPr/>
          <p:nvPr/>
        </p:nvSpPr>
        <p:spPr>
          <a:xfrm>
            <a:off x="3036960" y="1324080"/>
            <a:ext cx="3024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1081080"/>
                <a:tab algn="l" pos="2162160"/>
                <a:tab algn="l" pos="3243240"/>
                <a:tab algn="l" pos="4324320"/>
                <a:tab algn="l" pos="5405400"/>
                <a:tab algn="l" pos="6486480"/>
                <a:tab algn="l" pos="7567560"/>
                <a:tab algn="l" pos="8648640"/>
                <a:tab algn="l" pos="9729720"/>
                <a:tab algn="l" pos="108108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еестр платежей, ошибочно зачисленных на счет другого органа Федерального казначейств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70"/>
          <p:cNvSpPr/>
          <p:nvPr/>
        </p:nvSpPr>
        <p:spPr>
          <a:xfrm>
            <a:off x="8292960" y="6004080"/>
            <a:ext cx="25336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1081080"/>
                <a:tab algn="l" pos="2162160"/>
                <a:tab algn="l" pos="3243240"/>
                <a:tab algn="l" pos="4324320"/>
                <a:tab algn="l" pos="5405400"/>
                <a:tab algn="l" pos="6486480"/>
                <a:tab algn="l" pos="7567560"/>
                <a:tab algn="l" pos="8648640"/>
                <a:tab algn="l" pos="9729720"/>
                <a:tab algn="l" pos="108108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еестр платежей, ошибочно зачисленных на счет другого органа ФК + информация из расчетных документов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~PP3035.WAV" descr=""/>
          <p:cNvPicPr/>
          <p:nvPr/>
        </p:nvPicPr>
        <p:blipFill>
          <a:blip r:embed="rId12"/>
          <a:stretch/>
        </p:blipFill>
        <p:spPr>
          <a:xfrm>
            <a:off x="10318680" y="761220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1" fill="hold"/>
                                        <p:tgtEl>
                                          <p:spTgt spid="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100240" y="141120"/>
            <a:ext cx="6842160" cy="96696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ctr">
            <a:noAutofit/>
          </a:bodyPr>
          <a:p>
            <a:pPr indent="0" algn="ctr">
              <a:buNone/>
              <a:tabLst>
                <a:tab algn="l" pos="0"/>
                <a:tab algn="l" pos="1081080"/>
                <a:tab algn="l" pos="2162160"/>
                <a:tab algn="l" pos="3243240"/>
                <a:tab algn="l" pos="4324320"/>
                <a:tab algn="l" pos="5405400"/>
                <a:tab algn="l" pos="6486480"/>
                <a:tab algn="l" pos="7567560"/>
                <a:tab algn="l" pos="8648640"/>
                <a:tab algn="l" pos="9729720"/>
                <a:tab algn="l" pos="10810800"/>
              </a:tabLst>
            </a:pPr>
            <a:r>
              <a:rPr b="1" lang="ru-RU" sz="2800" spc="-1" strike="noStrike">
                <a:solidFill>
                  <a:srgbClr val="00449e"/>
                </a:solidFill>
                <a:latin typeface="Calibri"/>
              </a:rPr>
              <a:t>Перечисление излишне распределенных поступлений</a:t>
            </a:r>
            <a:endParaRPr b="1" lang="en-US" sz="2800" spc="-1" strike="noStrike">
              <a:solidFill>
                <a:srgbClr val="00449e"/>
              </a:solidFill>
              <a:latin typeface="Calibri"/>
            </a:endParaRPr>
          </a:p>
        </p:txBody>
      </p:sp>
      <p:pic>
        <p:nvPicPr>
          <p:cNvPr id="88" name="Picture 3" descr="Дом"/>
          <p:cNvPicPr/>
          <p:nvPr/>
        </p:nvPicPr>
        <p:blipFill>
          <a:blip r:embed="rId1"/>
          <a:stretch/>
        </p:blipFill>
        <p:spPr>
          <a:xfrm>
            <a:off x="0" y="2187720"/>
            <a:ext cx="1380960" cy="11109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4" descr="Дом2"/>
          <p:cNvPicPr/>
          <p:nvPr/>
        </p:nvPicPr>
        <p:blipFill>
          <a:blip r:embed="rId2"/>
          <a:stretch/>
        </p:blipFill>
        <p:spPr>
          <a:xfrm>
            <a:off x="0" y="5859360"/>
            <a:ext cx="1525680" cy="1092240"/>
          </a:xfrm>
          <a:prstGeom prst="rect">
            <a:avLst/>
          </a:prstGeom>
          <a:ln w="0">
            <a:noFill/>
          </a:ln>
        </p:spPr>
      </p:pic>
      <p:grpSp>
        <p:nvGrpSpPr>
          <p:cNvPr id="90" name="AutoShape 5"/>
          <p:cNvGrpSpPr/>
          <p:nvPr/>
        </p:nvGrpSpPr>
        <p:grpSpPr>
          <a:xfrm>
            <a:off x="1743120" y="1428480"/>
            <a:ext cx="2806920" cy="1303920"/>
            <a:chOff x="1743120" y="1428480"/>
            <a:chExt cx="2806920" cy="1303920"/>
          </a:xfrm>
        </p:grpSpPr>
        <p:pic>
          <p:nvPicPr>
            <p:cNvPr id="91" name="AutoShape 5" descr=""/>
            <p:cNvPicPr/>
            <p:nvPr/>
          </p:nvPicPr>
          <p:blipFill>
            <a:blip r:embed="rId3"/>
            <a:stretch/>
          </p:blipFill>
          <p:spPr>
            <a:xfrm>
              <a:off x="1743120" y="1573200"/>
              <a:ext cx="2707200" cy="107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 rot="11479200">
              <a:off x="1811160" y="1684080"/>
              <a:ext cx="268704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" name="AutoShape 6"/>
          <p:cNvSpPr/>
          <p:nvPr/>
        </p:nvSpPr>
        <p:spPr>
          <a:xfrm>
            <a:off x="588960" y="1260360"/>
            <a:ext cx="2144880" cy="1165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e9eff"/>
              </a:gs>
              <a:gs pos="100000">
                <a:srgbClr val="5e9eff"/>
              </a:gs>
            </a:gsLst>
            <a:lin ang="18900000"/>
          </a:gra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spcBef>
                <a:spcPts val="1312"/>
              </a:spcBef>
              <a:tabLst>
                <a:tab algn="l" pos="0"/>
                <a:tab algn="l" pos="1081080"/>
                <a:tab algn="l" pos="2162160"/>
                <a:tab algn="l" pos="3243240"/>
                <a:tab algn="l" pos="4324320"/>
                <a:tab algn="l" pos="5405400"/>
                <a:tab algn="l" pos="6486480"/>
                <a:tab algn="l" pos="7567560"/>
                <a:tab algn="l" pos="8648640"/>
                <a:tab algn="l" pos="9729720"/>
                <a:tab algn="l" pos="108108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Times New Roman"/>
              </a:rPr>
              <a:t>Управление Федерального казначейства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7"/>
          <p:cNvSpPr/>
          <p:nvPr/>
        </p:nvSpPr>
        <p:spPr>
          <a:xfrm rot="19729800">
            <a:off x="4272480" y="2540880"/>
            <a:ext cx="2448000" cy="822960"/>
          </a:xfrm>
          <a:custGeom>
            <a:avLst/>
            <a:gdLst>
              <a:gd name="textAreaLeft" fmla="*/ 306000 w 2448000"/>
              <a:gd name="textAreaRight" fmla="*/ 2142000 w 2448000"/>
              <a:gd name="textAreaTop" fmla="*/ 205560 h 822960"/>
              <a:gd name="textAreaBottom" fmla="*/ 617400 h 8229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5e9eff"/>
              </a:gs>
              <a:gs pos="100000">
                <a:srgbClr val="5e9eff"/>
              </a:gs>
            </a:gsLst>
            <a:lin ang="20772000"/>
          </a:gradFill>
          <a:ln w="255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tabLst>
                <a:tab algn="l" pos="0"/>
                <a:tab algn="l" pos="1081080"/>
                <a:tab algn="l" pos="2162160"/>
                <a:tab algn="l" pos="3243240"/>
                <a:tab algn="l" pos="4324320"/>
                <a:tab algn="l" pos="5405400"/>
                <a:tab algn="l" pos="6486480"/>
                <a:tab algn="l" pos="7567560"/>
                <a:tab algn="l" pos="8648640"/>
                <a:tab algn="l" pos="9729720"/>
                <a:tab algn="l" pos="108108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согласование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8"/>
          <p:cNvSpPr/>
          <p:nvPr/>
        </p:nvSpPr>
        <p:spPr>
          <a:xfrm>
            <a:off x="1884240" y="2701440"/>
            <a:ext cx="2872080" cy="1520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e9eff"/>
              </a:gs>
              <a:gs pos="100000">
                <a:srgbClr val="5e9eff"/>
              </a:gs>
            </a:gsLst>
            <a:lin ang="18900000"/>
          </a:gradFill>
          <a:ln w="255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tabLst>
                <a:tab algn="l" pos="0"/>
                <a:tab algn="l" pos="1081080"/>
                <a:tab algn="l" pos="2162160"/>
                <a:tab algn="l" pos="3243240"/>
                <a:tab algn="l" pos="4324320"/>
                <a:tab algn="l" pos="5405400"/>
                <a:tab algn="l" pos="6486480"/>
                <a:tab algn="l" pos="7567560"/>
                <a:tab algn="l" pos="8648640"/>
                <a:tab algn="l" pos="9729720"/>
                <a:tab algn="l" pos="108108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Справка о межбюджетной задолженности (код по КФД 0521441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9"/>
          <p:cNvSpPr/>
          <p:nvPr/>
        </p:nvSpPr>
        <p:spPr>
          <a:xfrm>
            <a:off x="6060960" y="3203640"/>
            <a:ext cx="3894120" cy="1167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488c4">
                  <a:alpha val="50196"/>
                </a:srgbClr>
              </a:gs>
              <a:gs pos="100000">
                <a:srgbClr val="96ab94">
                  <a:alpha val="50196"/>
                </a:srgbClr>
              </a:gs>
            </a:gsLst>
            <a:lin ang="5400000"/>
          </a:gra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1081080"/>
                <a:tab algn="l" pos="2162160"/>
                <a:tab algn="l" pos="3243240"/>
                <a:tab algn="l" pos="4324320"/>
                <a:tab algn="l" pos="5405400"/>
                <a:tab algn="l" pos="6486480"/>
                <a:tab algn="l" pos="7567560"/>
                <a:tab algn="l" pos="8648640"/>
                <a:tab algn="l" pos="9729720"/>
                <a:tab algn="l" pos="108108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Операция перечисления излишне распределенных поступлений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10"/>
          <p:cNvSpPr/>
          <p:nvPr/>
        </p:nvSpPr>
        <p:spPr>
          <a:xfrm>
            <a:off x="7790040" y="2476440"/>
            <a:ext cx="360360" cy="720720"/>
          </a:xfrm>
          <a:prstGeom prst="down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8488c4">
                  <a:alpha val="50196"/>
                </a:srgbClr>
              </a:gs>
              <a:gs pos="100000">
                <a:srgbClr val="96ab94">
                  <a:alpha val="50196"/>
                </a:srgbClr>
              </a:gs>
            </a:gsLst>
            <a:lin ang="5400000"/>
          </a:gra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" name="AutoShape 11"/>
          <p:cNvGrpSpPr/>
          <p:nvPr/>
        </p:nvGrpSpPr>
        <p:grpSpPr>
          <a:xfrm>
            <a:off x="6546960" y="1231920"/>
            <a:ext cx="2755800" cy="1219320"/>
            <a:chOff x="6546960" y="1231920"/>
            <a:chExt cx="2755800" cy="1219320"/>
          </a:xfrm>
        </p:grpSpPr>
        <p:pic>
          <p:nvPicPr>
            <p:cNvPr id="99" name="AutoShape 11" descr=""/>
            <p:cNvPicPr/>
            <p:nvPr/>
          </p:nvPicPr>
          <p:blipFill>
            <a:blip r:embed="rId4"/>
            <a:stretch/>
          </p:blipFill>
          <p:spPr>
            <a:xfrm>
              <a:off x="6546960" y="1231920"/>
              <a:ext cx="275580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6622920" y="1317240"/>
              <a:ext cx="2606760" cy="105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pPr algn="ctr">
                <a:tabLst>
                  <a:tab algn="l" pos="0"/>
                  <a:tab algn="l" pos="1081080"/>
                  <a:tab algn="l" pos="2162160"/>
                  <a:tab algn="l" pos="3243240"/>
                  <a:tab algn="l" pos="4324320"/>
                  <a:tab algn="l" pos="5405400"/>
                  <a:tab algn="l" pos="6486480"/>
                  <a:tab algn="l" pos="7567560"/>
                  <a:tab algn="l" pos="8648640"/>
                  <a:tab algn="l" pos="9729720"/>
                  <a:tab algn="l" pos="10810800"/>
                </a:tabLst>
              </a:pPr>
              <a:r>
                <a:rPr b="0" lang="ru-RU" sz="2100" spc="-1" strike="noStrike">
                  <a:solidFill>
                    <a:srgbClr val="000000"/>
                  </a:solidFill>
                  <a:latin typeface="Times New Roman"/>
                </a:rPr>
                <a:t>Справка органа Федерального казначейства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1" name="Picture 12" descr=""/>
          <p:cNvPicPr/>
          <p:nvPr/>
        </p:nvPicPr>
        <p:blipFill>
          <a:blip r:embed="rId5"/>
          <a:stretch/>
        </p:blipFill>
        <p:spPr>
          <a:xfrm>
            <a:off x="2676600" y="4613400"/>
            <a:ext cx="8150040" cy="3144600"/>
          </a:xfrm>
          <a:prstGeom prst="rect">
            <a:avLst/>
          </a:prstGeom>
          <a:ln w="0">
            <a:noFill/>
          </a:ln>
        </p:spPr>
      </p:pic>
      <p:sp>
        <p:nvSpPr>
          <p:cNvPr id="102" name="AutoShape 13"/>
          <p:cNvSpPr/>
          <p:nvPr/>
        </p:nvSpPr>
        <p:spPr>
          <a:xfrm flipH="1" flipV="1" rot="9982200">
            <a:off x="1740960" y="4419000"/>
            <a:ext cx="2735280" cy="829080"/>
          </a:xfrm>
          <a:custGeom>
            <a:avLst/>
            <a:gdLst>
              <a:gd name="textAreaLeft" fmla="*/ 478440 w 2735280"/>
              <a:gd name="textAreaRight" fmla="*/ 1983240 w 2735280"/>
              <a:gd name="textAreaTop" fmla="*/ 110880 h 829080"/>
              <a:gd name="textAreaBottom" fmla="*/ 718200 h 82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blipFill rotWithShape="0">
            <a:blip r:embed="rId6"/>
            <a:srcRect/>
            <a:stretch/>
          </a:blipFill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AutoShape 14"/>
          <p:cNvSpPr/>
          <p:nvPr/>
        </p:nvSpPr>
        <p:spPr>
          <a:xfrm>
            <a:off x="372960" y="4644720"/>
            <a:ext cx="2160720" cy="1165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spcBef>
                <a:spcPts val="1312"/>
              </a:spcBef>
              <a:tabLst>
                <a:tab algn="l" pos="0"/>
                <a:tab algn="l" pos="1081080"/>
                <a:tab algn="l" pos="2162160"/>
                <a:tab algn="l" pos="3243240"/>
                <a:tab algn="l" pos="4324320"/>
                <a:tab algn="l" pos="5405400"/>
                <a:tab algn="l" pos="6486480"/>
                <a:tab algn="l" pos="7567560"/>
                <a:tab algn="l" pos="8648640"/>
                <a:tab algn="l" pos="9729720"/>
                <a:tab algn="l" pos="108108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Times New Roman"/>
              </a:rPr>
              <a:t>Финансовый орган субъекта РФ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~PP1622.WAV" descr=""/>
          <p:cNvPicPr/>
          <p:nvPr/>
        </p:nvPicPr>
        <p:blipFill>
          <a:blip r:embed="rId7"/>
          <a:stretch/>
        </p:blipFill>
        <p:spPr>
          <a:xfrm>
            <a:off x="10318680" y="761220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1" fill="hold"/>
                                        <p:tgtEl>
                                          <p:spTgt spid="1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4T07:53:23Z</dcterms:created>
  <dc:creator>vvnikolaev</dc:creator>
  <dc:description/>
  <dc:language>en-US</dc:language>
  <cp:lastModifiedBy>Тоша</cp:lastModifiedBy>
  <dcterms:modified xsi:type="dcterms:W3CDTF">2013-09-04T05:53:28Z</dcterms:modified>
  <cp:revision>174</cp:revision>
  <dc:subject/>
  <dc:title>Слайд 1</dc:title>
</cp:coreProperties>
</file>