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2DD-6021-443A-A578-5C134087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62B-44A1-412A-8C9E-5D05F997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411-38AD-417C-95B3-9986104E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9A7-AF4D-42AD-AACC-0A13A342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3AC-9C17-4F04-AE27-309AA288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081-88C2-4F58-9CB7-2441F890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C38-EBF3-49C4-A30D-99943119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E81-7FC5-428C-8123-02FB2B64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B20-2D42-483A-89C1-8CE3222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03B-52C7-4BD9-91D9-69A19248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299-E657-499F-B694-ECBE679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B9D-D00A-4C52-A017-55A8BC41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C4E2-9CD3-4CFA-8015-016CB178E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500120"/>
            <a:ext cx="8572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ДГОТОВИТЕЛЬНЫЕ МЕРОПРИЯТИЯ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 СДАЧЕ БЮДЖЕТНОЙ ОТЧЕТНОСТИ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ЗА 201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92876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уководитель Межрегионального операционного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ришин Дмитрий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1D14-B332-4782-B51C-E43AEBE3B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ение  изменений   в   конце   2012  года   в   НПА  Минфина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ламентирующие порядок  формирования и  представления  отче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  (бюджетная  отчетность – приказ  Минфина  России  от  26.10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8н; бухгалтерская отчетность бюджетных и автоном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фина России от 26.10.2012 № 139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изменения были внес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методологическ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250920" y="4941720"/>
            <a:ext cx="1008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979640" y="4365720"/>
            <a:ext cx="19429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12 отчетных форм из 23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и бюджетной отчет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52% отчетных фор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79640" y="5734080"/>
            <a:ext cx="1944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9 отчетных форм из 11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и бухгалтер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ости АУ и Б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81% отчетных фор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1187280" y="4723920"/>
            <a:ext cx="792360" cy="289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187280" y="5805360"/>
            <a:ext cx="79236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219640" y="4941720"/>
            <a:ext cx="1008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6948360" y="4292640"/>
            <a:ext cx="194328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10 отчетных форм из 17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и бюджетной отчет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58% отчетных фор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948360" y="5734080"/>
            <a:ext cx="1944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9 отчетных форм из 11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и бухгалтер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ости АУ и Б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81% отчетных фор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6156360" y="4723920"/>
            <a:ext cx="792000" cy="289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6156360" y="5805360"/>
            <a:ext cx="79200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D440-CDAD-44C1-B2A2-82FC94536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численные расхождения между ГРБС и ФО  в части  от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нных и полученных межбюджетных трансфертов при  прове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ерки данных Справок по консолидируемым расчетам (ф.0503125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организационн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4000" y="321300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числение межбюджетных трансфе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невыясненные поступ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755640" y="414972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верное оформление расчетных (платежных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кументов при перечислении межбюджет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нсфертов текущего финансового год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755640" y="501336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закрепления соответствующих КБ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нормативных актах главных администратор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администраторов) доходов бюдже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55640" y="587700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воевременное уточнение возврата остат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жбюджетных трансфертов с невыяснен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ступлений главными администратора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администраторами) доходов бюджет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68360" y="3933720"/>
            <a:ext cx="0" cy="237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468360" y="630864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468360" y="537372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68360" y="4437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003640" y="321300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воевременное прове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организационных мероприят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Б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435640" y="414972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завершенность процедуры реорган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РБС до конца финансового год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5435640" y="501336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зднее доведение соответствующей информаци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становленной НПА до Ф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5148360" y="3933720"/>
            <a:ext cx="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5148360" y="530064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5148360" y="4437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7C5E-29C4-49E9-BF83-A9CC8A7D5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79280" y="1600200"/>
            <a:ext cx="871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Многочисленные расхождения между ГРБС, ФО  в части от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нного и полученного имущества при проведении выверк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ок по консолидируемым расчетам (ф.0503125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организационн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340000" y="299736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ждение данных Справок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олидируемым расчетам ф.05031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счетам 040110180, 04012024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771640" y="429264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воевременное проведение выверки взаим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счетов по переданному и полученном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муществу между ГРБС, Ф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 срока представления годовой отчет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771640" y="537372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четкого описания механизм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язательной выверки взаимных расчет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 имуществу между ГРБС, Ф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484360" y="4653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484360" y="573408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2484360" y="3715920"/>
            <a:ext cx="0" cy="201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48CA-D597-4D94-89B6-3B748A9E7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техническ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24000" y="198900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огочисленные проблемы при загруз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четных форм от ГРБС, Ф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55640" y="328464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оответствие отчетных форм, направляем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РБС, ФО ТФ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755640" y="443700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зднее доведение ТФФ до ГРБС, Ф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5003640" y="198900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табильная работа программ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дуктов Федерального казначей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приеме отчет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435640" y="328464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табильная работа ППО «СЭД» по времен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ставки отчетов в МОУ ФК и передачи протокол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 результатам контроля отчетных форм ГРБС, Ф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435640" y="443700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 проведении обновлений ППО «АС Ф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ханизмы контроля отчетных форм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ализованные в прежних версиях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стают работать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5435640" y="551664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 внесении изменений в контрольны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тношения, изменения контролей в ППО «АС Ф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ализовываются со значительным отставание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468360" y="3645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468360" y="479736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5148360" y="3645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148360" y="479736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148360" y="5877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468360" y="2707920"/>
            <a:ext cx="0" cy="2089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5148360" y="2708280"/>
            <a:ext cx="0" cy="316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D8FB-1F56-441E-AFFB-F2E601FD3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248B-ABDA-4343-8C02-CA2533ACC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108000" y="857160"/>
            <a:ext cx="9036000" cy="4857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"/>
          <p:cNvPicPr/>
          <p:nvPr/>
        </p:nvPicPr>
        <p:blipFill>
          <a:blip r:embed="rId3"/>
          <a:stretch/>
        </p:blipFill>
        <p:spPr>
          <a:xfrm>
            <a:off x="1071720" y="5715000"/>
            <a:ext cx="6905520" cy="952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459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Шапка"/>
          <p:cNvPicPr/>
          <p:nvPr/>
        </p:nvPicPr>
        <p:blipFill>
          <a:blip r:embed="rId4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лагаемые решения по проблемам методологического характ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ение изменений в НПА, регламентирующие составление и представление отчетности, не позднее 01 ноября текущего финансов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ение изменений в Контрольные соотношения, и их доведение до ГРБС и ФО до 01 января следующего финансов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внесении изменений в НПА осуществлять их внедрение на пилотных ГРБС и Ф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редложения по совершенствованию процесса приема и обработки бюджетной (бухгалтерской) отчетности, представляемой ГРБС и 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9983-F933-4646-9BFC-CEC9B7E5B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ые решения по проблемам организационного характ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е информационных писем в адрес соответствующих ГРБС, ФО и ТОФК по результатам приема отчетности о наличии НВС в части межбюджетных трансфертов и необходимости их уточнения в установлен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совместной работы ТОФК и ФО с главными администраторами (администраторами) доходов бюджета по своевременному закреплению соответствующих КБК в нормативных а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ение изменений в приказ Федерального казначейства от 10.10.2008 № 8н в части осуществления контроля за оформлением платежных документов  клиентов при перечислении межбюджетных трансфертов текущего финансового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епление в НПА четкого описания механизма обязательной выверки взаимных расчетов по имуществу между ГРБС, ФО (возможно, по состоянию на 01.10 соответствующего финансового года через сдачу соответствующей отчетности в МОУ Ф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4F86-9DCE-4173-BBEC-F5DBACA51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ые решения по проблемам технического характ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едение ТФФ до ГРБС, ФО до 15 января следующего финанс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кая регламентация срока доработок ППО «АС ФК» с момента внесения изменений в Контрольные со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 регламента взаимодействия МОУ ФК и ОТР по оперативному устранению критических ошибок (до официального внесения изменений в Контрольные соотношения) в ППО «АС ФК» при принятии  годовой отче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2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9350-4057-4D20-B1FA-B758324A6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енности принятия отчетности в 2012 –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. – впервые МОУ ФК рассылает акты сверки взаим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. – впервые отчетность принимается МОУ Ф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. – впервые отчетность принимается с использованием ППО АС Ф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. – впервые принимается отчетность бюджетных и автономных учре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г. – впервые на постоянной основе формируется единая главная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F557-FC65-4ED2-B0FA-4B645CFA0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 это бы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года – трудности с формированием оперативной отче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еврале – апреле – принятие годовой отче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18 часов рабочий день и более, без выход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сравнительно планомерная сдача отчетов ТОФК и финорга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 главных распорядителей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ень позитивная оценка деятельности МОУ ФК со стороны ГР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6841-C87B-47D4-B143-CC49CC01E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еханизмы приема отчетности ГРБС, 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79280" y="1557360"/>
            <a:ext cx="1657440" cy="12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4067280" y="1413000"/>
            <a:ext cx="4825800" cy="35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1835280" y="1628640"/>
            <a:ext cx="2232000" cy="576360"/>
          </a:xfrm>
          <a:prstGeom prst="rightArrow">
            <a:avLst>
              <a:gd name="adj1" fmla="val 50000"/>
              <a:gd name="adj2" fmla="val 9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е фор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10800000">
            <a:off x="1835280" y="2133720"/>
            <a:ext cx="2232000" cy="576000"/>
          </a:xfrm>
          <a:prstGeom prst="rightArrow">
            <a:avLst>
              <a:gd name="adj1" fmla="val 50000"/>
              <a:gd name="adj2" fmla="val 968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токолы по видам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835280" y="3500280"/>
            <a:ext cx="2232000" cy="576360"/>
          </a:xfrm>
          <a:prstGeom prst="rightArrow">
            <a:avLst>
              <a:gd name="adj1" fmla="val 50000"/>
              <a:gd name="adj2" fmla="val 9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е фор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 rot="10800000">
            <a:off x="1835280" y="4005360"/>
            <a:ext cx="2232000" cy="576000"/>
          </a:xfrm>
          <a:prstGeom prst="rightArrow">
            <a:avLst>
              <a:gd name="adj1" fmla="val 50000"/>
              <a:gd name="adj2" fmla="val 968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токолы по видам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179280" y="3429000"/>
            <a:ext cx="1657440" cy="12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4211640" y="1989000"/>
            <a:ext cx="4537080" cy="172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роверка на соответствие ТФ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ведение форма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роведение внутридокументного контрол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докумен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Проведение внешнего контроля между различ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очниками (ГРБС, УФК, ФО, ГВБФ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4716360" y="4076640"/>
            <a:ext cx="3600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исходя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ламентированной Отче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5508720" y="5734080"/>
            <a:ext cx="2087640" cy="985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6300720" y="371628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5508720" y="4508640"/>
            <a:ext cx="2087640" cy="122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правл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вод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х фор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0"/>
          <p:cNvSpPr/>
          <p:nvPr/>
        </p:nvSpPr>
        <p:spPr>
          <a:xfrm>
            <a:off x="5508720" y="1557360"/>
            <a:ext cx="1942920" cy="35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У 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771984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8042400" y="6613560"/>
            <a:ext cx="11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хема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7B4-B2A2-44B0-986A-D7A775BA0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татистика количества принятой годовой отчетности от ГРБС, Ф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179280" y="4508640"/>
            <a:ext cx="122400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 48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четных фо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788000" y="4508640"/>
            <a:ext cx="122400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 7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четных фо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908000" y="3357720"/>
            <a:ext cx="24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28.12.2010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1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908000" y="4653000"/>
            <a:ext cx="24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25.03.2011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3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6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1908000" y="5877000"/>
            <a:ext cx="24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07.07.2005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4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443640" y="3429000"/>
            <a:ext cx="24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28.12.2010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1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443640" y="5805360"/>
            <a:ext cx="2448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25.03.2011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3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5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5186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ответствии с приказами Федерального казначейства от 29.11.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н, № 18н МОУ  ФК был осуществлен  прием отчетности з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ГРБС, Ф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V="1">
            <a:off x="1332000" y="4149360"/>
            <a:ext cx="576000" cy="43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1332000" y="5445000"/>
            <a:ext cx="57600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1403280" y="5013360"/>
            <a:ext cx="504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V="1">
            <a:off x="5940360" y="4220640"/>
            <a:ext cx="50328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5940360" y="5445000"/>
            <a:ext cx="50328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13AC-3CED-4007-8E6E-3B7509C51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хема представления отчетности за 2013 год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ГРБС, ФО  средствами ППО «СУФД -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nline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5186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соответствии   с   письмом   ФК  от 17.06.2013г.  № 42-7.4-05/10.6-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ность    в     2013     году     должна     представляться    сред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ПО «СУФД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324000" y="3645000"/>
            <a:ext cx="12236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324000" y="5445000"/>
            <a:ext cx="12236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780000" y="3357720"/>
            <a:ext cx="5113080" cy="33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1692360" y="4581360"/>
            <a:ext cx="1871640" cy="863640"/>
          </a:xfrm>
          <a:prstGeom prst="cloudCallout">
            <a:avLst>
              <a:gd name="adj1" fmla="val -8523"/>
              <a:gd name="adj2" fmla="val 4301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211640" y="3429000"/>
            <a:ext cx="424800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ал СУФ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online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V="1">
            <a:off x="1476360" y="5229360"/>
            <a:ext cx="35892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1547640" y="4581360"/>
            <a:ext cx="287640" cy="287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3564000" y="4941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3851280" y="4076640"/>
            <a:ext cx="144144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мпорт отчет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ор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5508720" y="4076640"/>
            <a:ext cx="151272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троль 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тветствие ТФФ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 справочнико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5292720" y="4365720"/>
            <a:ext cx="216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7236000" y="4076640"/>
            <a:ext cx="151272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дписа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х форм 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менением ЭЦ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7020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4211640" y="5373720"/>
            <a:ext cx="1871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смотр состоя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х фор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статусы обработки отчето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6588000" y="5373720"/>
            <a:ext cx="1871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смотр результа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тролей отчетных фор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протоколы по результата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трол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8378-B85A-4262-A2F8-C62455B03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стика сдачи отчетов ГРБС в МОУ ФК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8" descr=""/>
          <p:cNvPicPr/>
          <p:nvPr/>
        </p:nvPicPr>
        <p:blipFill>
          <a:blip r:embed="rId2"/>
          <a:stretch/>
        </p:blipFill>
        <p:spPr>
          <a:xfrm>
            <a:off x="357120" y="1428840"/>
            <a:ext cx="8501040" cy="478620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8096-E8FA-4F45-AA4F-0768D1A42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стика сдачи отчетов ГРБС в МОУ ФК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Содержимое 8"/>
          <p:cNvGraphicFramePr/>
          <p:nvPr/>
        </p:nvGraphicFramePr>
        <p:xfrm>
          <a:off x="214200" y="1671480"/>
          <a:ext cx="8715600" cy="4829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Содержимое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671480"/>
                    <a:ext cx="87156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E36A-9E5D-4295-AB6D-AAF4FBA12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возникших в процессе приема отчетности за 2012 год от ГРБС, 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692360" y="2276640"/>
            <a:ext cx="5759280" cy="12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при приеме отчетности ГРБС, Ф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95280" y="4653000"/>
            <a:ext cx="252108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олог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3419640" y="4653000"/>
            <a:ext cx="2447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6300720" y="4653000"/>
            <a:ext cx="2448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6732720" y="3500280"/>
            <a:ext cx="4316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2050920" y="3500280"/>
            <a:ext cx="4334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4643280" y="350028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3D68-FE26-4258-893A-771CAA76B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4:28:40Z</dcterms:created>
  <dc:creator>2567</dc:creator>
  <dc:description/>
  <dc:language>en-US</dc:language>
  <cp:lastModifiedBy>Гришин</cp:lastModifiedBy>
  <dcterms:modified xsi:type="dcterms:W3CDTF">2013-09-04T05:44:29Z</dcterms:modified>
  <cp:revision>45</cp:revision>
  <dc:subject/>
  <dc:title>Механизмы приема бюджетной отчетности ГРБС, ФО</dc:title>
</cp:coreProperties>
</file>