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1AE-B1B2-4F1A-8636-88296C42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D34-9FEA-4439-97CC-D73391A9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A6C-8BEB-4392-A379-F2FE819C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FCC-E31E-4E8A-A5ED-E3540FA8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D8A-4591-4776-969C-12E6401C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DB1-91BE-4770-84F0-10A0925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6F8-A86A-49E7-827E-8527EC21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00C-CDFD-40E8-A8F7-9B17552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289-140E-40CB-99A2-A7521A8C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8E3-5A03-42A2-A7D6-A6E7DE5D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53B-867C-4FB5-81BA-E458CEF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ACD-EA28-43D0-80CC-60E854F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3421-E256-4EF2-88ED-1B5F2627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ebelizh.ru/images_editor/875346_thumb.gif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9000" y="5661000"/>
            <a:ext cx="834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" y="999720"/>
            <a:ext cx="9160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российское совещание по вопросам бюджетного учета и отчет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811840" y="556416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logo"/>
          <p:cNvPicPr/>
          <p:nvPr/>
        </p:nvPicPr>
        <p:blipFill>
          <a:blip r:embed="rId2"/>
          <a:stretch/>
        </p:blipFill>
        <p:spPr>
          <a:xfrm>
            <a:off x="3095640" y="1968480"/>
            <a:ext cx="3674880" cy="435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166680" y="6072120"/>
            <a:ext cx="278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7 сентября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5000" y="765000"/>
            <a:ext cx="8915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проведения реорганизационных или ликвидацион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ликвидационной комиссии или органа (комиссии), уполномоченного учредителем на реорганизацию с назначением председателя ликвидационной комиссии при ликвидации учреждения или соответственно органа (комиссии) при реорганизации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очник финансирования расходов, связанных с проведением ликвидации или реорган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учреждений, которым передаются функции, права и обязанности, активы (финансовые и нефинансовые) и обязательства (далее - активы и обязательства) реорганизуемого или ликвидируем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казанных решениях обязательно отражаются вопросы, связанные с передачей имущества, в том числе Росимуществу с указанием даты, выполнения эт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8915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691920"/>
            <a:ext cx="8915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Минфину России необходимо выпу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234900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каз Министерства финансо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проведении процедуры реорганизации в госсек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8915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95000" y="2143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ОРЯДКУ ОТРАЖЕНИЯ В БУХГАЛТЕРСКОМ УЧЕТЕ ВХОДЯЩИХ ОСТАТКОВ ПО АКТИВАМ, ОБЯЗАТЕЛЬСТВАМ И ФИНАНСОВЫМ РЕЗУЛЬТАТАМ ПРИ ПРИНЯТИИ РЕШЕНИЯ О ПРЕОБРАЗОВАНИИ ГОСУДАРСТВЕННОГО (МУНИЦИПАЛЬНОГО) УЧРЕЖДЕНИЯ ПУТЕМ ИЗМЕНЕНИЯ Е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25 апреля 2011 г. N 02-06-07/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027D-108B-4DEF-B2D6-02BB6669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95000" y="1428840"/>
            <a:ext cx="9101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ОРЯДКУ ОТРАЖЕНИЯ В БУХГАЛТЕРСКОМ УЧЕТЕ И БУХГАЛТЕРСКОЙ ОТЧЕТНОСТИ ОПЕРАЦИЙ С АКТИВАМИ, ОБЯЗАТЕЛЬСТВАМИ И ФИНАНСОВЫМ РЕЗУЛЬТАТОМ ПРИ ПРИНЯТИИ РЕШЕНИЯ В ТЕЧЕНИЕ ФИНАНСОВОГО ГОДА О ПРЕОБРАЗОВАНИИ ГОСУДАРСТВЕННОГО (МУНИЦИПАЛЬНОГО) УЧРЕЖДЕНИЯ ПУТЕМ ИЗМЕНЕНИЯ Е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22 декабря 2011 г. N 02-06-07/5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4F6C-C550-4099-9AC2-7ED4CD76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95000" y="1857240"/>
            <a:ext cx="89154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02-03-07/50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42-7.4-05/5.1-7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6 декабр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5DF1-7796-461C-B705-4EE947A7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95000" y="1071720"/>
            <a:ext cx="8915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ЯДОК ОТКРЫТИЯ И ВЕДЕНИЯ ЛИЦЕВЫХ СЧЕТОВ ТЕРРИТОРИАЛЬНЫМИ ОРГАНАМИ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ФЕДЕРАЛЬНОЕ КАЗНАЧЕЙСТВО ПРИКАЗ от 29 декабря 2012 г. N 24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 ред. Приказов Казначейства РФ от 21.06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453-8DDD-4FE6-B44C-770F8B2E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857160"/>
            <a:ext cx="8915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 текущего финансового года, утвержденных «старому» главному распорядителю бюджетных средств до реорганизации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5000" y="3429000"/>
            <a:ext cx="89154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738360" y="3214800"/>
          <a:ext cx="8572320" cy="264312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117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нансовый орг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й распорядитель бюджетных средств (ГРБС) (Учредите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ное сторн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т  1 503 19 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 1 503 11 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8616-1AFD-484E-A19A-55F7E78C0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785880"/>
            <a:ext cx="8915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, доведенных (полученных) на текущий финансовый год «старым» главным распорядителем (распорядителем) бюджетных средств распорядителю (получателю) бюджетных средств до реорганизации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2520" y="2643120"/>
          <a:ext cx="8915400" cy="416880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434-ED82-49AD-BD60-C69E5F78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личение бюджетных ассигнований текущего финансового года, утвержденных «новому» главному распорядителю бюдже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09680" y="2500200"/>
          <a:ext cx="7143840" cy="4297320"/>
        </p:xfrm>
        <a:graphic>
          <a:graphicData uri="http://schemas.openxmlformats.org/drawingml/2006/table">
            <a:tbl>
              <a:tblPr/>
              <a:tblGrid>
                <a:gridCol w="3571920"/>
                <a:gridCol w="357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9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9EB-CDAB-4F5E-9450-196CDCD3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856800"/>
            <a:ext cx="8915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 текущего финансов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360" y="1600200"/>
          <a:ext cx="8915400" cy="42973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9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1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5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4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2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4 24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24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5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B2B-B26E-46A4-AA61-22381EC7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3680" y="765000"/>
            <a:ext cx="905040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реорганизации бюджетных и автономных учреж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6680" y="2357280"/>
            <a:ext cx="9204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244080" y="765000"/>
            <a:ext cx="544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9"/>
          <p:cNvSpPr/>
          <p:nvPr/>
        </p:nvSpPr>
        <p:spPr>
          <a:xfrm>
            <a:off x="3657600" y="5229360"/>
            <a:ext cx="5689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меститель начальника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юджетного учета и отчетности – главный 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.А. Зачин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личение бюджетных ассигнований текущего финансов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95360" y="1857240"/>
          <a:ext cx="8915400" cy="33829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9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1 503 12 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 1 503 13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3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5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C50D-1C12-49C4-9C18-C083C67E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857160"/>
            <a:ext cx="8915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ьшение лимитов бюджетных обязательств, утвержденных главному распорядителю бюдже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95360" y="1785960"/>
          <a:ext cx="9172440" cy="4832280"/>
        </p:xfrm>
        <a:graphic>
          <a:graphicData uri="http://schemas.openxmlformats.org/drawingml/2006/table">
            <a:tbl>
              <a:tblPr/>
              <a:tblGrid>
                <a:gridCol w="2457360"/>
                <a:gridCol w="2552760"/>
                <a:gridCol w="4162320"/>
              </a:tblGrid>
              <a:tr h="928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747-5431-4784-98C9-367E2C7D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личение лимитов бюджетных обязательств, утвержденных «новому» главному распорядителю бюджетных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23800" y="1432080"/>
          <a:ext cx="8915400" cy="536256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4457520"/>
              </a:tblGrid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000;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9520200" y="6459480"/>
            <a:ext cx="3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831-EABE-4B3C-964F-8EC6C9BD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сение изменений в показатели сметных на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360" y="1600200"/>
          <a:ext cx="8915400" cy="52484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71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бюджетных средств (ПБС) по старой подчин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бюджетных средств (ПБС) по новой подчин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7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4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7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4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7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4 10 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7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4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4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4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5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5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4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63D6-4271-4C57-B9A9-6E1742C4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К ПЛАНУ ФИНАНСОВО-ХОЗЯЙСТВЕННОЙ ДЕЯТЕЛЬНОСТИ ГОСУДАРСТВЕННОГО (МУНИЦИПАЛЬНОГО)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8 июля 2010 г. N 81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79F-C4F7-4E2F-B783-E68AFD6A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5000" y="857160"/>
            <a:ext cx="8915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КЦИЯ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VI. Особенности формирования бюджетной отчетности при реорганизации или ликвидации получателя бюджет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8 декабря 2010 г. N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ред. Приказа Минфина РФ от 29.12.2011 N 191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D6F-925D-4856-AA0F-DB3CCA134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7960" y="856800"/>
            <a:ext cx="9429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льный (ликвидационный) баланс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23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(ф. 050312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(ф. 05031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б исполнении смет доходов и расходов по приносящей доход деятельности главного распорядителя, распорядителя, получателя бюджетных средств (ф. 050313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(ф. 050312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ительная записка (ф. 05031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A41-5825-44D4-973A-6EEED0DD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8520" y="54900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организация бюдж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финансового органа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еобходимо включить в приказ 191н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 по поступлениям и выбытиям бюджет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(ф. 050314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 исполнения бюдже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ф. 050312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ф. 0503125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ф. 050311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кассовом поступлении и выбытии бюджет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(ф. 0503124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б исполнении бюдже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(ф. 0503117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движении денеж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(ф. 0503123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(ф. 050312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(ф. 050316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ФК__005"/>
          <p:cNvPicPr/>
          <p:nvPr/>
        </p:nvPicPr>
        <p:blipFill>
          <a:blip r:embed="rId10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9600" y="928440"/>
            <a:ext cx="942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Особенности формирования бухгалтерской отчетности при реорганизации или ликвидации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5 марта 2011 г. N 33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9310680" y="621504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8FE-F3F4-4225-B4A0-B9B626FD1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37600" y="785520"/>
            <a:ext cx="950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ительный (ликвидационный) баланс государственного (муниципального) учреждения (ф. 050383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учреждения (ф. 05037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заключению учреждением счетов бухгалтерского учета отчетного финансового года (ф. 05037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б исполнении плана учреждения по финансово-хозяйственной деятельности (ф. 050373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принятых учреждением обязательствах (ф. 050373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учреждения (ф. 050372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снительная записка к Балансу учреждения (ф. 05037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810-1C8C-4655-A769-B2A9314D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95000" y="1341360"/>
            <a:ext cx="891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 12.01.1996 N 7-ФЗ (ред. от 02.07.2013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О некоммерческих организациях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D9A-B7B1-47C5-8484-5C2203E2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016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83664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ключение счетов учреждени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 401 30 000 «Финансовый результат прошлых отчетных периодов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 210 02 000 «Расчеты с финансовым органом по поступления в бюдж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 304 05 000 «Расчеты по платежам из бюджета с финансовым орган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 401 30 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 401 10 000 «Доходы текущего финансового год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 401 30 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 401 30 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 401 20 000  «Расходы текущего финансового года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95360" y="2071800"/>
          <a:ext cx="8915400" cy="49370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нефинансовых актив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42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Х1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42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ХХ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4Х9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Номер слайда 3"/>
          <p:cNvSpPr/>
          <p:nvPr/>
        </p:nvSpPr>
        <p:spPr>
          <a:xfrm>
            <a:off x="9520200" y="6357960"/>
            <a:ext cx="3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9EE-8A62-468C-9DCF-77B8A598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785520"/>
            <a:ext cx="8915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5360" y="2143080"/>
          <a:ext cx="8915400" cy="4664160"/>
        </p:xfrm>
        <a:graphic>
          <a:graphicData uri="http://schemas.openxmlformats.org/drawingml/2006/table">
            <a:tbl>
              <a:tblPr/>
              <a:tblGrid>
                <a:gridCol w="2228760"/>
                <a:gridCol w="2228760"/>
                <a:gridCol w="2229120"/>
                <a:gridCol w="2228760"/>
              </a:tblGrid>
              <a:tr h="1739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и  недвижимого имущества и движимого особо ценного имущества, закрепленного Учредителем за Учреждением нового ти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сумме балансовой стоимости объектов нефинансовых активов, числящихся на балансовых счетах Рабочего плана сче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50F-337C-4008-9ADF-6A78E55F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умме финансовых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9600" y="3500280"/>
          <a:ext cx="9029520" cy="2473560"/>
        </p:xfrm>
        <a:graphic>
          <a:graphicData uri="http://schemas.openxmlformats.org/drawingml/2006/table">
            <a:tbl>
              <a:tblPr/>
              <a:tblGrid>
                <a:gridCol w="4292640"/>
                <a:gridCol w="4736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денежных средств учреждения на счет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3000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287-638D-43E2-B382-F6D09581F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9240" y="1071360"/>
            <a:ext cx="8915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2520" y="3429000"/>
          <a:ext cx="8915400" cy="19256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входящих остатков по счетам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000-0209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000-0209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205-E844-4C69-BB25-20673EE4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2160" y="1214280"/>
            <a:ext cx="8915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2520" y="3143160"/>
          <a:ext cx="8915400" cy="24685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входящих остатков по счетам кред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000-0303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000-0303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1D0-FA71-43A0-A1D4-B79D57BF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E2A-1D71-4DB5-A662-733833E7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52520" y="1920960"/>
          <a:ext cx="8915400" cy="47671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нефинансовых актив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ХХ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201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40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2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2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201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40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2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90C-7761-460B-B546-86CECA31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80880" y="1928880"/>
          <a:ext cx="8915400" cy="4664160"/>
        </p:xfrm>
        <a:graphic>
          <a:graphicData uri="http://schemas.openxmlformats.org/drawingml/2006/table">
            <a:tbl>
              <a:tblPr/>
              <a:tblGrid>
                <a:gridCol w="2229120"/>
                <a:gridCol w="2228760"/>
                <a:gridCol w="2228760"/>
                <a:gridCol w="2228760"/>
              </a:tblGrid>
              <a:tr h="1739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и  недвижимого имущества и движимого особо ценного имущества, закрепленного Учредителем за Учреждением нового ти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сумме балансовой стоимости объектов нефинансовых активов, числящихся на балансовых счетах Рабочего плана сче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641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30405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1018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641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30405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1018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FE5-4807-4CD9-86B8-35B3573FC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66680" y="2786040"/>
          <a:ext cx="9029880" cy="3565440"/>
        </p:xfrm>
        <a:graphic>
          <a:graphicData uri="http://schemas.openxmlformats.org/drawingml/2006/table">
            <a:tbl>
              <a:tblPr/>
              <a:tblGrid>
                <a:gridCol w="4292640"/>
                <a:gridCol w="47372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перечисления остатка денежных средств учреждения на новые сч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40110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2012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лансо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СГУ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лансо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 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ду доходов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2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10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D5E-4502-4865-B8B1-30EFA37A5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52520" y="3429000"/>
          <a:ext cx="8915400" cy="22003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оборотов по счетам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560-020900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4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127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560-020900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4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127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928440"/>
            <a:ext cx="8915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95000" y="1557360"/>
            <a:ext cx="891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едеральный зак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 03.11.2006 N 174-ФЗ (ред. от 03.12.201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Об автономных учреждениях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F12D-9518-4059-ACB9-AF0BAC5D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785880"/>
            <a:ext cx="8915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546F-E1F5-4F53-9A5A-F4C86732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23800" y="2500200"/>
          <a:ext cx="8915400" cy="2468520"/>
        </p:xfrm>
        <a:graphic>
          <a:graphicData uri="http://schemas.openxmlformats.org/drawingml/2006/table">
            <a:tbl>
              <a:tblPr/>
              <a:tblGrid>
                <a:gridCol w="4457880"/>
                <a:gridCol w="44575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оборотов по счетам кредиторской задолженности, образовавшейся в период с 1 января текущего года по дату ре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730-030300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730-030300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95000" y="1999800"/>
            <a:ext cx="8915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16 июня 2003 г. N 03-01-01/08-1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9381960" y="6286680"/>
            <a:ext cx="3859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B18-9A14-4673-B39A-95A840CF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Картинка 120 из 3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23960" y="2071800"/>
            <a:ext cx="5000760" cy="428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ФК__005"/>
          <p:cNvPicPr/>
          <p:nvPr/>
        </p:nvPicPr>
        <p:blipFill>
          <a:blip r:embed="rId3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4"/>
          <a:stretch/>
        </p:blipFill>
        <p:spPr>
          <a:xfrm>
            <a:off x="1017720" y="738360"/>
            <a:ext cx="788832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C42-09D8-4D8B-A067-AEB05801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15800" y="765000"/>
            <a:ext cx="2737080" cy="446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БС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ное (автономное) учре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6176880" y="692280"/>
            <a:ext cx="2952720" cy="24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БС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ное (автономное) учре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8"/>
          <p:cNvCxnSpPr/>
          <p:nvPr/>
        </p:nvCxnSpPr>
        <p:spPr>
          <a:xfrm>
            <a:off x="3152880" y="981000"/>
            <a:ext cx="3024720" cy="432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Овал 11"/>
          <p:cNvSpPr/>
          <p:nvPr/>
        </p:nvSpPr>
        <p:spPr>
          <a:xfrm>
            <a:off x="3513240" y="4292640"/>
            <a:ext cx="2952720" cy="22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втономное (бюджетное) учрежд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ыноска-облако 12"/>
          <p:cNvSpPr/>
          <p:nvPr/>
        </p:nvSpPr>
        <p:spPr>
          <a:xfrm>
            <a:off x="7184880" y="4581360"/>
            <a:ext cx="2505240" cy="190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зен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14"/>
          <p:cNvCxnSpPr/>
          <p:nvPr/>
        </p:nvCxnSpPr>
        <p:spPr>
          <a:xfrm flipH="1">
            <a:off x="5384520" y="2781000"/>
            <a:ext cx="792720" cy="165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6"/>
          <p:cNvCxnSpPr/>
          <p:nvPr/>
        </p:nvCxnSpPr>
        <p:spPr>
          <a:xfrm>
            <a:off x="8192880" y="3141720"/>
            <a:ext cx="361080" cy="158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Прямоугольник 18"/>
          <p:cNvSpPr/>
          <p:nvPr/>
        </p:nvSpPr>
        <p:spPr>
          <a:xfrm>
            <a:off x="3513240" y="1341360"/>
            <a:ext cx="2448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тельство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ий исполнительный орган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7689960" y="3357720"/>
            <a:ext cx="2216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тельство РФ Высший исполнительный орган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>
            <a:off x="3368520" y="3357720"/>
            <a:ext cx="338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едеральный орган исполнительной власти, осуществляющий функции и полномочия по выработке государственной политики и нормативно-правовому регулированию в установленной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95000" y="713880"/>
            <a:ext cx="89154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тельство Российской Федерации или высший орган исполнительной власти субъек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о реорганизации, в результате которого образуется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зен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осуществляется изменение подведомственности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32C7-40AF-488D-8461-B8393F9B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4520" y="1071360"/>
            <a:ext cx="9029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 исполнительной власти, осуществляющий функции и полномочия по выработке государственной политики и нормативно-правовому регулированию в установленной сфере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C50-C3C8-4C10-A19B-244E697B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95000" y="765000"/>
            <a:ext cx="89154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26.07.2010 N 5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DE2A-C954-49C9-AB37-E7B9CB8A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37960" y="785880"/>
            <a:ext cx="9429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должно содерж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наименование федеральных учреждений, участвующих в процессе реорганизации, с указанием их тип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форму реорган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наименование федерального учреждения (учреждений) после завершения процесса реорган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) наименование федерального органа (органов) исполнительной власти, осуществляющего функции и полномочия учредителя реорганизуемого федерального учреждения (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) информацию об изменении (сохранении) основных целей деятельности реорганизуемого учреждения (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) информацию об изменении (сохранении) штатной численности (для казенных 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) перечень мероприятий по реорганизации федерального учреждения с указанием сроков их прове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F809-1423-46A7-A0CE-803B823A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9:17:48Z</dcterms:created>
  <dc:creator>user</dc:creator>
  <dc:description/>
  <dc:language>en-US</dc:language>
  <cp:lastModifiedBy>user</cp:lastModifiedBy>
  <dcterms:modified xsi:type="dcterms:W3CDTF">2013-09-05T18:34:17Z</dcterms:modified>
  <cp:revision>788</cp:revision>
  <dc:subject/>
  <dc:title>Слайд 1</dc:title>
</cp:coreProperties>
</file>