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82D-A965-4A33-96BA-DD7347C2A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0ED5-4E3F-4381-B757-BB557FFD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FE7D-1A7C-420E-AAE2-B83B905C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59F8-CBFC-441F-9689-41076808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4DF5-A570-4655-95D4-F7DB5C1E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1B21-4E03-47A7-8344-6FFC88AC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3087-2DC4-489B-A1A9-94DAEEAB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1714-FEF9-4BBE-AF7D-B94A7C33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FC41-030C-4475-94EB-C9994B18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77E0-A4B4-437B-9FF6-7F00A1D0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5F93-8CCE-4955-A8A6-39724E4A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2CF6-6474-4774-843B-E4B2E5CD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7BEA-B1A9-4398-8030-39C4E5ED8D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Федерального казначей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Удмуртской Республик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2384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476360" y="189000"/>
            <a:ext cx="63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правление Федерального казначей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 Удмуртской Республ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4500720" y="4365720"/>
            <a:ext cx="3958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635280" y="5950080"/>
            <a:ext cx="23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сентябрь 201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42"/>
          <p:cNvSpPr/>
          <p:nvPr/>
        </p:nvSpPr>
        <p:spPr>
          <a:xfrm>
            <a:off x="900000" y="1700280"/>
            <a:ext cx="29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45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713800" cy="511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5"/>
          <p:cNvSpPr/>
          <p:nvPr/>
        </p:nvSpPr>
        <p:spPr>
          <a:xfrm>
            <a:off x="1476360" y="0"/>
            <a:ext cx="6335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Передача в Главную кни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571680" y="5715000"/>
            <a:ext cx="7929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500040" y="1143000"/>
            <a:ext cx="8001000" cy="450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sp>
        <p:nvSpPr>
          <p:cNvPr id="156" name="Oval 4"/>
          <p:cNvSpPr/>
          <p:nvPr/>
        </p:nvSpPr>
        <p:spPr>
          <a:xfrm>
            <a:off x="5143680" y="1643040"/>
            <a:ext cx="1214280" cy="3571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1"/>
          <p:cNvSpPr/>
          <p:nvPr/>
        </p:nvSpPr>
        <p:spPr>
          <a:xfrm>
            <a:off x="428760" y="565776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успешного выполнения операции статус документа принимает значение 801 «Актуализирова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159" name="TextBox 5"/>
          <p:cNvSpPr/>
          <p:nvPr/>
        </p:nvSpPr>
        <p:spPr>
          <a:xfrm>
            <a:off x="1476360" y="0"/>
            <a:ext cx="63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cc"/>
                </a:solidFill>
                <a:latin typeface="Times New Roman"/>
              </a:rPr>
              <a:t>Синхронизация докумен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cc"/>
                </a:solidFill>
                <a:latin typeface="Times New Roman"/>
              </a:rPr>
              <a:t>открытого и защищенного конту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785880" y="1285920"/>
            <a:ext cx="3286080" cy="4116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pic>
        <p:nvPicPr>
          <p:cNvPr id="166" name="Picture 3" descr=""/>
          <p:cNvPicPr/>
          <p:nvPr/>
        </p:nvPicPr>
        <p:blipFill>
          <a:blip r:embed="rId3"/>
          <a:stretch/>
        </p:blipFill>
        <p:spPr>
          <a:xfrm>
            <a:off x="5143680" y="1285920"/>
            <a:ext cx="3338280" cy="4127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sp>
        <p:nvSpPr>
          <p:cNvPr id="167" name="TextBox 12"/>
          <p:cNvSpPr/>
          <p:nvPr/>
        </p:nvSpPr>
        <p:spPr>
          <a:xfrm>
            <a:off x="428760" y="565776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успешного выполнения операции статус документа принимает значение 004 «Проведе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5"/>
          <p:cNvSpPr/>
          <p:nvPr/>
        </p:nvSpPr>
        <p:spPr>
          <a:xfrm>
            <a:off x="1476360" y="0"/>
            <a:ext cx="63356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Формирование исключений (тип ИО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в защищенном кон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85840" y="57859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полнении операции осуществляются исключения дублирования оборотов между открытым контуром и защищенным конту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285840" y="1071720"/>
            <a:ext cx="8686800" cy="4714560"/>
          </a:xfrm>
          <a:prstGeom prst="rect">
            <a:avLst/>
          </a:prstGeom>
          <a:ln w="0">
            <a:noFill/>
          </a:ln>
        </p:spPr>
      </p:pic>
      <p:sp>
        <p:nvSpPr>
          <p:cNvPr id="177" name="Oval 4"/>
          <p:cNvSpPr/>
          <p:nvPr/>
        </p:nvSpPr>
        <p:spPr>
          <a:xfrm>
            <a:off x="642960" y="1785960"/>
            <a:ext cx="1214280" cy="3571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179" name="TextBox 5"/>
          <p:cNvSpPr/>
          <p:nvPr/>
        </p:nvSpPr>
        <p:spPr>
          <a:xfrm>
            <a:off x="1476360" y="0"/>
            <a:ext cx="63356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Формирование исключений (тип ИО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в защищенном кон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57120" y="528588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успешного формирования документа с типом «ИОЗ» через «Выполнить» проводятся действия «Сформировать исключение», «Проверить наличие исключени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928800" y="1285920"/>
            <a:ext cx="3019320" cy="3743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3"/>
          <a:stretch/>
        </p:blipFill>
        <p:spPr>
          <a:xfrm>
            <a:off x="5286240" y="1285920"/>
            <a:ext cx="30196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189" name="TextBox 5"/>
          <p:cNvSpPr/>
          <p:nvPr/>
        </p:nvSpPr>
        <p:spPr>
          <a:xfrm>
            <a:off x="1476360" y="0"/>
            <a:ext cx="63356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Формирование исключений (тип ИО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в защищенном кон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-360" y="1071720"/>
            <a:ext cx="8929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завершения операции «Проверить наличие исключений»  документа с типом «ИОЗ» приобретает статус 003 «Зарегистрировано» и подлежит дальнейшей обработке аналогично документу с типом «КОЗ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642960" y="571500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вершается обработка документа с типом «ИОЗ» со статусом 004 «Проведе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2" descr=""/>
          <p:cNvPicPr/>
          <p:nvPr/>
        </p:nvPicPr>
        <p:blipFill>
          <a:blip r:embed="rId2"/>
          <a:stretch/>
        </p:blipFill>
        <p:spPr>
          <a:xfrm>
            <a:off x="214200" y="2000160"/>
            <a:ext cx="2071800" cy="3857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pic>
        <p:nvPicPr>
          <p:cNvPr id="197" name="Picture 2" descr=""/>
          <p:cNvPicPr/>
          <p:nvPr/>
        </p:nvPicPr>
        <p:blipFill>
          <a:blip r:embed="rId3"/>
          <a:stretch/>
        </p:blipFill>
        <p:spPr>
          <a:xfrm>
            <a:off x="4714920" y="2000160"/>
            <a:ext cx="2044800" cy="3857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pic>
        <p:nvPicPr>
          <p:cNvPr id="198" name="Picture 3" descr=""/>
          <p:cNvPicPr/>
          <p:nvPr/>
        </p:nvPicPr>
        <p:blipFill>
          <a:blip r:embed="rId4"/>
          <a:stretch/>
        </p:blipFill>
        <p:spPr>
          <a:xfrm>
            <a:off x="6858000" y="2000160"/>
            <a:ext cx="2081160" cy="3857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pic>
        <p:nvPicPr>
          <p:cNvPr id="199" name="Picture 23" descr=""/>
          <p:cNvPicPr/>
          <p:nvPr/>
        </p:nvPicPr>
        <p:blipFill>
          <a:blip r:embed="rId5"/>
          <a:stretch/>
        </p:blipFill>
        <p:spPr>
          <a:xfrm>
            <a:off x="2428920" y="2000160"/>
            <a:ext cx="2143080" cy="3857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5"/>
          <p:cNvSpPr/>
          <p:nvPr/>
        </p:nvSpPr>
        <p:spPr>
          <a:xfrm>
            <a:off x="1476360" y="0"/>
            <a:ext cx="63356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Визуальный  контроль показ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(защищенный контур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42960" y="1357200"/>
          <a:ext cx="7858080" cy="3916440"/>
        </p:xfrm>
        <a:graphic>
          <a:graphicData uri="http://schemas.openxmlformats.org/drawingml/2006/table">
            <a:tbl>
              <a:tblPr/>
              <a:tblGrid>
                <a:gridCol w="2619360"/>
                <a:gridCol w="2619360"/>
                <a:gridCol w="261936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 с типом ИОЗ «Исключения для учета организации исполнения бюджет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ри наличии оборотов в защищенном контур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ош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ая книга (ф.0504072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ткрытого контур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граф 2, 3 «Оборот по дебету, кредиту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граф 7,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чету 140220000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211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5"/>
          <p:cNvSpPr/>
          <p:nvPr/>
        </p:nvSpPr>
        <p:spPr>
          <a:xfrm>
            <a:off x="1476360" y="0"/>
            <a:ext cx="63356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Формирование Консолидированной Главной книги (ф.050407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6705720" cy="4105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sp>
        <p:nvSpPr>
          <p:cNvPr id="216" name="TextBox 10"/>
          <p:cNvSpPr/>
          <p:nvPr/>
        </p:nvSpPr>
        <p:spPr>
          <a:xfrm>
            <a:off x="428760" y="56437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ая Главная книга ф.0504072 сохраняется со статусом документа 002 «Провере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1476360" y="0"/>
            <a:ext cx="63356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Контроль Консолидированной Главной книги (ф.050407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2"/>
          <a:stretch/>
        </p:blipFill>
        <p:spPr>
          <a:xfrm>
            <a:off x="357120" y="1214280"/>
            <a:ext cx="8505720" cy="5143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sp>
        <p:nvSpPr>
          <p:cNvPr id="225" name="Oval 4"/>
          <p:cNvSpPr/>
          <p:nvPr/>
        </p:nvSpPr>
        <p:spPr>
          <a:xfrm>
            <a:off x="357120" y="4357800"/>
            <a:ext cx="6286680" cy="28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5"/>
          <p:cNvSpPr/>
          <p:nvPr/>
        </p:nvSpPr>
        <p:spPr>
          <a:xfrm>
            <a:off x="6715080" y="42148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!!!!!!!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0"/>
          <p:cNvSpPr/>
          <p:nvPr/>
        </p:nvSpPr>
        <p:spPr>
          <a:xfrm>
            <a:off x="1785960" y="14292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спешное прохождение контроля показателей Консолидированной Главной книги (ф.050407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Прямоугольник 44"/>
          <p:cNvGrpSpPr/>
          <p:nvPr/>
        </p:nvGrpSpPr>
        <p:grpSpPr>
          <a:xfrm>
            <a:off x="341280" y="4840200"/>
            <a:ext cx="2548080" cy="817560"/>
            <a:chOff x="341280" y="4840200"/>
            <a:chExt cx="2548080" cy="817560"/>
          </a:xfrm>
        </p:grpSpPr>
        <p:pic>
          <p:nvPicPr>
            <p:cNvPr id="232" name="Прямоугольник 44" descr=""/>
            <p:cNvPicPr/>
            <p:nvPr/>
          </p:nvPicPr>
          <p:blipFill>
            <a:blip r:embed="rId2"/>
            <a:stretch/>
          </p:blipFill>
          <p:spPr>
            <a:xfrm>
              <a:off x="341280" y="4840200"/>
              <a:ext cx="25480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357120" y="4857840"/>
              <a:ext cx="25210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2520" tIns="92520" bIns="9252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Блок-схема: процесс 50"/>
          <p:cNvSpPr/>
          <p:nvPr/>
        </p:nvSpPr>
        <p:spPr>
          <a:xfrm>
            <a:off x="2857680" y="3214800"/>
            <a:ext cx="3214440" cy="92844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с показателями оперативной отчетности (ф.0521432, ф.0521436, ф.0521458, ф.0521462,  ф.052146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Блок-схема: процесс 14"/>
          <p:cNvSpPr/>
          <p:nvPr/>
        </p:nvSpPr>
        <p:spPr>
          <a:xfrm>
            <a:off x="2928960" y="4429080"/>
            <a:ext cx="3286080" cy="78588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с показател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ячной отчет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.0503124, ф.0503140,  ф.052146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Блок-схема: процесс 18"/>
          <p:cNvSpPr/>
          <p:nvPr/>
        </p:nvSpPr>
        <p:spPr>
          <a:xfrm>
            <a:off x="2857680" y="2143080"/>
            <a:ext cx="3214440" cy="78588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на соответствие справочников в базах данных открытого и защищенного конту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Блок-схема: процесс 20"/>
          <p:cNvSpPr/>
          <p:nvPr/>
        </p:nvSpPr>
        <p:spPr>
          <a:xfrm>
            <a:off x="2857680" y="1143000"/>
            <a:ext cx="3214440" cy="71424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Консолидированной Главной книги (ф.050407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3"/>
          <p:cNvSpPr/>
          <p:nvPr/>
        </p:nvSpPr>
        <p:spPr>
          <a:xfrm>
            <a:off x="3786120" y="5653080"/>
            <a:ext cx="1368360" cy="4870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ь пройд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трелка вправо 27"/>
          <p:cNvSpPr/>
          <p:nvPr/>
        </p:nvSpPr>
        <p:spPr>
          <a:xfrm>
            <a:off x="5143680" y="5715000"/>
            <a:ext cx="150012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трелка влево 28"/>
          <p:cNvSpPr/>
          <p:nvPr/>
        </p:nvSpPr>
        <p:spPr>
          <a:xfrm flipV="1">
            <a:off x="2214720" y="5714280"/>
            <a:ext cx="1571400" cy="214200"/>
          </a:xfrm>
          <a:prstGeom prst="leftArrow">
            <a:avLst>
              <a:gd name="adj1" fmla="val 50000"/>
              <a:gd name="adj2" fmla="val 5002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трелка вниз 30"/>
          <p:cNvSpPr/>
          <p:nvPr/>
        </p:nvSpPr>
        <p:spPr>
          <a:xfrm>
            <a:off x="4286160" y="185724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трелка вниз 31"/>
          <p:cNvSpPr/>
          <p:nvPr/>
        </p:nvSpPr>
        <p:spPr>
          <a:xfrm>
            <a:off x="4286160" y="292896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трелка вниз 32"/>
          <p:cNvSpPr/>
          <p:nvPr/>
        </p:nvSpPr>
        <p:spPr>
          <a:xfrm>
            <a:off x="4357800" y="414324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трелка вниз 33"/>
          <p:cNvSpPr/>
          <p:nvPr/>
        </p:nvSpPr>
        <p:spPr>
          <a:xfrm>
            <a:off x="4357800" y="521496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Блок-схема: процесс 34"/>
          <p:cNvSpPr/>
          <p:nvPr/>
        </p:nvSpPr>
        <p:spPr>
          <a:xfrm>
            <a:off x="6715080" y="5143680"/>
            <a:ext cx="1714680" cy="1428480"/>
          </a:xfrm>
          <a:prstGeom prst="flowChartProcess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тчета об операциях по данным главной книги (ф.053198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5"/>
          <p:cNvSpPr/>
          <p:nvPr/>
        </p:nvSpPr>
        <p:spPr>
          <a:xfrm>
            <a:off x="5572080" y="5429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37"/>
          <p:cNvSpPr/>
          <p:nvPr/>
        </p:nvSpPr>
        <p:spPr>
          <a:xfrm>
            <a:off x="2786040" y="5429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Блок-схема: процесс 38"/>
          <p:cNvSpPr/>
          <p:nvPr/>
        </p:nvSpPr>
        <p:spPr>
          <a:xfrm>
            <a:off x="428760" y="5143680"/>
            <a:ext cx="1714320" cy="1428480"/>
          </a:xfrm>
          <a:prstGeom prst="flowChartProcess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и контроль устранения выявленных ошибоч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5"/>
          <p:cNvSpPr/>
          <p:nvPr/>
        </p:nvSpPr>
        <p:spPr>
          <a:xfrm>
            <a:off x="1476360" y="0"/>
            <a:ext cx="63356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Визуальный  контроль показ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(защищенный контур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3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428760" y="1214280"/>
          <a:ext cx="8286480" cy="5034240"/>
        </p:xfrm>
        <a:graphic>
          <a:graphicData uri="http://schemas.openxmlformats.org/drawingml/2006/table">
            <a:tbl>
              <a:tblPr/>
              <a:tblGrid>
                <a:gridCol w="1785960"/>
                <a:gridCol w="1285560"/>
                <a:gridCol w="1900440"/>
                <a:gridCol w="1314360"/>
                <a:gridCol w="2000160"/>
              </a:tblGrid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олидированная  Главная книга (ф.050407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 с типом ИГ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ош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ая книга (ф.0504072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ткрытого контур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ош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олидированный Журнал операций (ф.0504071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по сче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02 11 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 7, 8 «Оборот по дебету, кредиту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по сче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02 11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 7, 8 «Оборот по дебету, кредиту»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граф 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борот за ден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граф 7,8 «Оборот за день» + сумма операций защищенного контура (ЛБО полученные, внебанковские операции) при налич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обороты за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1476360" y="0"/>
            <a:ext cx="63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Цели и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7"/>
          <p:cNvSpPr/>
          <p:nvPr/>
        </p:nvSpPr>
        <p:spPr>
          <a:xfrm>
            <a:off x="214200" y="2928960"/>
            <a:ext cx="8715600" cy="164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>
                  <a:alpha val="50196"/>
                </a:srgbClr>
              </a:gs>
              <a:gs pos="50000">
                <a:srgbClr val="ffffff"/>
              </a:gs>
              <a:gs pos="100000">
                <a:srgbClr val="bbe0e3">
                  <a:alpha val="50196"/>
                </a:srgbClr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cc"/>
                </a:solidFill>
                <a:latin typeface="Times New Roman"/>
              </a:rPr>
              <a:t>Формирование Управлениями Федерального казначейства Главной книги (ф.0504072) , передача Отчета об операциях по данным Главной книги (ф.0531981) и Сведений о входящих остатках по счетам Главной  книги (ф.0531982) в Межрегиональное операционное управление Федерального казначей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214200" y="4929120"/>
            <a:ext cx="8715600" cy="17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>
                  <a:alpha val="50196"/>
                </a:srgbClr>
              </a:gs>
              <a:gs pos="50000">
                <a:srgbClr val="ffffff"/>
              </a:gs>
              <a:gs pos="100000">
                <a:srgbClr val="bbe0e3">
                  <a:alpha val="50196"/>
                </a:srgbClr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cc"/>
                </a:solidFill>
                <a:latin typeface="Times New Roman"/>
              </a:rPr>
              <a:t>Ежедневное формирование Межрегиональным операционным управлением Федерального казначейства Консолидированной Главной книги Федерального казначейства на основании сформированных Главных книг по каждому территориальному органу Федерального казначейства, сверка с показателями консолидированной отчетности Федерального казначе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8"/>
          <p:cNvSpPr/>
          <p:nvPr/>
        </p:nvSpPr>
        <p:spPr>
          <a:xfrm>
            <a:off x="3143160" y="2071800"/>
            <a:ext cx="3065400" cy="457200"/>
          </a:xfrm>
          <a:prstGeom prst="roundRect">
            <a:avLst>
              <a:gd name="adj" fmla="val 16667"/>
            </a:avLst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Arial"/>
                <a:ea typeface="Arial"/>
              </a:rPr>
              <a:t>Решаемые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571680" y="107172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66cc"/>
                </a:solidFill>
                <a:latin typeface="Times New Roman"/>
              </a:rPr>
              <a:t>Обеспечение Федеральным казначейством необходимой </a:t>
            </a:r>
            <a:r>
              <a:rPr b="0" lang="ru-RU" sz="18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66cc"/>
                </a:solidFill>
                <a:latin typeface="Times New Roman"/>
              </a:rPr>
              <a:t>информацией пользователей в режиме времени, близком к </a:t>
            </a:r>
            <a:r>
              <a:rPr b="0" lang="ru-RU" sz="18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66cc"/>
                </a:solidFill>
                <a:latin typeface="Times New Roman"/>
              </a:rPr>
              <a:t>реально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0"/>
          <p:cNvSpPr/>
          <p:nvPr/>
        </p:nvSpPr>
        <p:spPr>
          <a:xfrm>
            <a:off x="642960" y="1214280"/>
            <a:ext cx="151272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Arial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право 13"/>
          <p:cNvSpPr/>
          <p:nvPr/>
        </p:nvSpPr>
        <p:spPr>
          <a:xfrm rot="5400000">
            <a:off x="4462560" y="2610000"/>
            <a:ext cx="333360" cy="257040"/>
          </a:xfrm>
          <a:prstGeom prst="rightArrow">
            <a:avLst>
              <a:gd name="adj1" fmla="val 50000"/>
              <a:gd name="adj2" fmla="val 50021"/>
            </a:avLst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право 14"/>
          <p:cNvSpPr/>
          <p:nvPr/>
        </p:nvSpPr>
        <p:spPr>
          <a:xfrm rot="5400000">
            <a:off x="4462560" y="4610160"/>
            <a:ext cx="333360" cy="257040"/>
          </a:xfrm>
          <a:prstGeom prst="rightArrow">
            <a:avLst>
              <a:gd name="adj1" fmla="val 50000"/>
              <a:gd name="adj2" fmla="val 50021"/>
            </a:avLst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5"/>
          <p:cNvSpPr/>
          <p:nvPr/>
        </p:nvSpPr>
        <p:spPr>
          <a:xfrm>
            <a:off x="1476360" y="0"/>
            <a:ext cx="63356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Формирование Отчета об операц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(ф.0531981) в защищенном контур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" descr=""/>
          <p:cNvPicPr/>
          <p:nvPr/>
        </p:nvPicPr>
        <p:blipFill>
          <a:blip r:embed="rId2"/>
          <a:stretch/>
        </p:blipFill>
        <p:spPr>
          <a:xfrm>
            <a:off x="642960" y="1214280"/>
            <a:ext cx="7929720" cy="5286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66" name="TextBox 5"/>
          <p:cNvSpPr/>
          <p:nvPr/>
        </p:nvSpPr>
        <p:spPr>
          <a:xfrm>
            <a:off x="1476360" y="0"/>
            <a:ext cx="63356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Формирование отчета об операц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(ф.0531981) в защищенном конту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285840" y="1071720"/>
            <a:ext cx="8658000" cy="5643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74" name="TextBox 5"/>
          <p:cNvSpPr/>
          <p:nvPr/>
        </p:nvSpPr>
        <p:spPr>
          <a:xfrm>
            <a:off x="1476360" y="0"/>
            <a:ext cx="63356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Визуальный  контроль показ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(защищенный контур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285840" y="1357200"/>
          <a:ext cx="8572320" cy="4357800"/>
        </p:xfrm>
        <a:graphic>
          <a:graphicData uri="http://schemas.openxmlformats.org/drawingml/2006/table">
            <a:tbl>
              <a:tblPr/>
              <a:tblGrid>
                <a:gridCol w="1428840"/>
                <a:gridCol w="1500120"/>
                <a:gridCol w="2000160"/>
                <a:gridCol w="1500120"/>
                <a:gridCol w="2143080"/>
              </a:tblGrid>
              <a:tr h="217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 с типом ДГК «Отчет об операциях» (ф.053198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ош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олидирова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ая книга (ф.0504072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ош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олидированный Журнал операций (ф.050407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1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гр.2,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борот по дебету, кредиту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граф 7,8 «Оборот за день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обороты за д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4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10"/>
          <p:cNvSpPr/>
          <p:nvPr/>
        </p:nvSpPr>
        <p:spPr>
          <a:xfrm>
            <a:off x="1785960" y="142920"/>
            <a:ext cx="59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Утверждение отчета об операц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(ф.0531981) и отправка в МОУ Ф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Овал 12"/>
          <p:cNvGrpSpPr/>
          <p:nvPr/>
        </p:nvGrpSpPr>
        <p:grpSpPr>
          <a:xfrm>
            <a:off x="3432240" y="2816280"/>
            <a:ext cx="1463760" cy="1017360"/>
            <a:chOff x="3432240" y="2816280"/>
            <a:chExt cx="1463760" cy="1017360"/>
          </a:xfrm>
        </p:grpSpPr>
        <p:pic>
          <p:nvPicPr>
            <p:cNvPr id="288" name="Овал 12" descr=""/>
            <p:cNvPicPr/>
            <p:nvPr/>
          </p:nvPicPr>
          <p:blipFill>
            <a:blip r:embed="rId2"/>
            <a:stretch/>
          </p:blipFill>
          <p:spPr>
            <a:xfrm>
              <a:off x="3432240" y="2816280"/>
              <a:ext cx="146376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3695760" y="2989440"/>
              <a:ext cx="94140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65160" bIns="65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262626"/>
                  </a:solidFill>
                  <a:latin typeface="Tahoma"/>
                  <a:ea typeface="ＭＳ Ｐゴシック"/>
                </a:rPr>
                <a:t>СУФ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0" name="Picture 2" descr="arrow 58 icon"/>
          <p:cNvPicPr/>
          <p:nvPr/>
        </p:nvPicPr>
        <p:blipFill>
          <a:blip r:embed="rId3">
            <a:grayscl/>
          </a:blip>
          <a:stretch/>
        </p:blipFill>
        <p:spPr>
          <a:xfrm rot="20784000">
            <a:off x="2515680" y="308772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arrow 58 icon"/>
          <p:cNvPicPr/>
          <p:nvPr/>
        </p:nvPicPr>
        <p:blipFill>
          <a:blip r:embed="rId4">
            <a:grayscl/>
          </a:blip>
          <a:stretch/>
        </p:blipFill>
        <p:spPr>
          <a:xfrm rot="1958400">
            <a:off x="4944960" y="2948040"/>
            <a:ext cx="843120" cy="83664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8"/>
          <p:cNvSpPr/>
          <p:nvPr/>
        </p:nvSpPr>
        <p:spPr>
          <a:xfrm>
            <a:off x="6357960" y="47149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У 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5"/>
          <a:stretch/>
        </p:blipFill>
        <p:spPr>
          <a:xfrm>
            <a:off x="571680" y="2643120"/>
            <a:ext cx="1785600" cy="185760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1"/>
          <p:cNvSpPr/>
          <p:nvPr/>
        </p:nvSpPr>
        <p:spPr>
          <a:xfrm>
            <a:off x="428760" y="4643280"/>
            <a:ext cx="20574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ФК по Удмуртской Республ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Documents"/>
          <p:cNvSpPr/>
          <p:nvPr/>
        </p:nvSpPr>
        <p:spPr>
          <a:xfrm>
            <a:off x="3857760" y="5214960"/>
            <a:ext cx="544320" cy="66024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9"/>
          <p:cNvSpPr/>
          <p:nvPr/>
        </p:nvSpPr>
        <p:spPr>
          <a:xfrm>
            <a:off x="3574440" y="607212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то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Овал 23"/>
          <p:cNvGrpSpPr/>
          <p:nvPr/>
        </p:nvGrpSpPr>
        <p:grpSpPr>
          <a:xfrm>
            <a:off x="3432240" y="4102200"/>
            <a:ext cx="1463760" cy="1019160"/>
            <a:chOff x="3432240" y="4102200"/>
            <a:chExt cx="1463760" cy="1019160"/>
          </a:xfrm>
        </p:grpSpPr>
        <p:pic>
          <p:nvPicPr>
            <p:cNvPr id="298" name="Овал 23" descr=""/>
            <p:cNvPicPr/>
            <p:nvPr/>
          </p:nvPicPr>
          <p:blipFill>
            <a:blip r:embed="rId6"/>
            <a:stretch/>
          </p:blipFill>
          <p:spPr>
            <a:xfrm>
              <a:off x="3432240" y="4102200"/>
              <a:ext cx="146376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3695760" y="4275000"/>
              <a:ext cx="941400" cy="6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65160" bIns="65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262626"/>
                  </a:solidFill>
                  <a:latin typeface="Tahoma"/>
                  <a:ea typeface="ＭＳ Ｐゴシック"/>
                </a:rPr>
                <a:t>СЭ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0" name="Picture 2" descr="arrow 58 icon"/>
          <p:cNvPicPr/>
          <p:nvPr/>
        </p:nvPicPr>
        <p:blipFill>
          <a:blip r:embed="rId7">
            <a:grayscl/>
          </a:blip>
          <a:stretch/>
        </p:blipFill>
        <p:spPr>
          <a:xfrm rot="9429600">
            <a:off x="4916520" y="398772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arrow 58 icon"/>
          <p:cNvPicPr/>
          <p:nvPr/>
        </p:nvPicPr>
        <p:blipFill>
          <a:blip r:embed="rId8">
            <a:grayscl/>
          </a:blip>
          <a:stretch/>
        </p:blipFill>
        <p:spPr>
          <a:xfrm rot="13402800">
            <a:off x="2530080" y="4102200"/>
            <a:ext cx="836640" cy="836640"/>
          </a:xfrm>
          <a:prstGeom prst="rect">
            <a:avLst/>
          </a:prstGeom>
          <a:ln w="0">
            <a:noFill/>
          </a:ln>
        </p:spPr>
      </p:pic>
      <p:sp>
        <p:nvSpPr>
          <p:cNvPr id="302" name="Documents"/>
          <p:cNvSpPr/>
          <p:nvPr/>
        </p:nvSpPr>
        <p:spPr>
          <a:xfrm>
            <a:off x="3786120" y="2000160"/>
            <a:ext cx="544680" cy="6606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7" descr=""/>
          <p:cNvPicPr/>
          <p:nvPr/>
        </p:nvPicPr>
        <p:blipFill>
          <a:blip r:embed="rId9"/>
          <a:stretch/>
        </p:blipFill>
        <p:spPr>
          <a:xfrm>
            <a:off x="6215040" y="2643120"/>
            <a:ext cx="2000160" cy="1895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sp>
        <p:nvSpPr>
          <p:cNvPr id="304" name="Text Box 26"/>
          <p:cNvSpPr/>
          <p:nvPr/>
        </p:nvSpPr>
        <p:spPr>
          <a:xfrm>
            <a:off x="3500280" y="1214280"/>
            <a:ext cx="112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чет о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ерац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306" name="TextBox 5"/>
          <p:cNvSpPr/>
          <p:nvPr/>
        </p:nvSpPr>
        <p:spPr>
          <a:xfrm>
            <a:off x="1476360" y="0"/>
            <a:ext cx="63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Информация о принят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Отчета об операциях (ф.053198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9" descr=""/>
          <p:cNvPicPr/>
          <p:nvPr/>
        </p:nvPicPr>
        <p:blipFill>
          <a:blip r:embed="rId2"/>
          <a:stretch/>
        </p:blipFill>
        <p:spPr>
          <a:xfrm>
            <a:off x="214200" y="1285920"/>
            <a:ext cx="8339400" cy="5143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4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10"/>
          <p:cNvSpPr/>
          <p:nvPr/>
        </p:nvSpPr>
        <p:spPr>
          <a:xfrm>
            <a:off x="1785960" y="14292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РМ Руководителя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\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правленческий контур СП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2" descr=""/>
          <p:cNvPicPr/>
          <p:nvPr/>
        </p:nvPicPr>
        <p:blipFill>
          <a:blip r:embed="rId2"/>
          <a:stretch/>
        </p:blipFill>
        <p:spPr>
          <a:xfrm>
            <a:off x="4929120" y="2000160"/>
            <a:ext cx="3210120" cy="466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pic>
        <p:nvPicPr>
          <p:cNvPr id="320" name="Picture 13" descr=""/>
          <p:cNvPicPr/>
          <p:nvPr/>
        </p:nvPicPr>
        <p:blipFill>
          <a:blip r:embed="rId3"/>
          <a:stretch/>
        </p:blipFill>
        <p:spPr>
          <a:xfrm>
            <a:off x="714240" y="2071800"/>
            <a:ext cx="2881440" cy="466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pic>
        <p:nvPicPr>
          <p:cNvPr id="321" name="Picture 15" descr=""/>
          <p:cNvPicPr/>
          <p:nvPr/>
        </p:nvPicPr>
        <p:blipFill>
          <a:blip r:embed="rId4"/>
          <a:stretch/>
        </p:blipFill>
        <p:spPr>
          <a:xfrm>
            <a:off x="857160" y="2571840"/>
            <a:ext cx="7858080" cy="407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pic>
        <p:nvPicPr>
          <p:cNvPr id="322" name="Picture 16" descr=""/>
          <p:cNvPicPr/>
          <p:nvPr/>
        </p:nvPicPr>
        <p:blipFill>
          <a:blip r:embed="rId5"/>
          <a:stretch/>
        </p:blipFill>
        <p:spPr>
          <a:xfrm>
            <a:off x="857160" y="1071720"/>
            <a:ext cx="7215120" cy="628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pic>
        <p:nvPicPr>
          <p:cNvPr id="323" name="Picture 17" descr=""/>
          <p:cNvPicPr/>
          <p:nvPr/>
        </p:nvPicPr>
        <p:blipFill>
          <a:blip r:embed="rId6"/>
          <a:stretch/>
        </p:blipFill>
        <p:spPr>
          <a:xfrm>
            <a:off x="928800" y="1714680"/>
            <a:ext cx="4162320" cy="18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4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449280" algn="just">
              <a:lnSpc>
                <a:spcPct val="100000"/>
              </a:lnSpc>
              <a:buClr>
                <a:srgbClr val="014b6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Исключить из междокументального контроля показателей Главной книги (ф.0504072) с показателями оперативной отчетности,  контроль показателей  с Отчетом по данным главной книги (ф.0531981) за данный операционный день, который по технологии формируется после создания самой Главной кни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14b6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Реализовать процесс сверки ежемесячной бюджетной отчетности с показателями Главной книги  по другим бюджетам (республиканский, местны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10"/>
          <p:cNvSpPr/>
          <p:nvPr/>
        </p:nvSpPr>
        <p:spPr>
          <a:xfrm>
            <a:off x="1785960" y="14292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ед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4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marL="343080" indent="0" algn="ctr">
              <a:lnSpc>
                <a:spcPct val="9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cc"/>
                </a:solidFill>
                <a:latin typeface="Calibri"/>
                <a:ea typeface="ＭＳ Ｐゴシック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10"/>
          <p:cNvSpPr/>
          <p:nvPr/>
        </p:nvSpPr>
        <p:spPr>
          <a:xfrm>
            <a:off x="1785960" y="14292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правление Федерального казначей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 Удмуртской Республ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413000"/>
            <a:ext cx="8353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cc"/>
                </a:solidFill>
                <a:latin typeface="Times New Roman"/>
              </a:rPr>
              <a:t>«Главная бухгалтерская книга – сводный документ, в котором представлены итоговые данные по бухгалтерским отчетам и счетам» (Википедия-свободная энциклопедия).  </a:t>
            </a:r>
            <a:br>
              <a:rPr sz="2000"/>
            </a:b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7416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1476360" y="0"/>
            <a:ext cx="63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с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4572000" y="3141720"/>
            <a:ext cx="38876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4859280" y="2133720"/>
            <a:ext cx="3888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8209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1476360" y="0"/>
            <a:ext cx="63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казы Министерства финан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4572000" y="3141720"/>
            <a:ext cx="38876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642960" y="5000760"/>
            <a:ext cx="1633680" cy="590400"/>
          </a:xfrm>
          <a:prstGeom prst="rect">
            <a:avLst/>
          </a:prstGeom>
          <a:solidFill>
            <a:srgbClr val="a3a3e0"/>
          </a:soli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книга (ф.051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719680" y="4049640"/>
            <a:ext cx="1633680" cy="649440"/>
          </a:xfrm>
          <a:prstGeom prst="rect">
            <a:avLst/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 книга (ф.05040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1"/>
          <p:cNvSpPr/>
          <p:nvPr/>
        </p:nvSpPr>
        <p:spPr>
          <a:xfrm>
            <a:off x="285840" y="1143000"/>
            <a:ext cx="4143240" cy="5500800"/>
          </a:xfrm>
          <a:prstGeom prst="can">
            <a:avLst>
              <a:gd name="adj" fmla="val 10439"/>
            </a:avLst>
          </a:prstGeom>
          <a:solidFill>
            <a:srgbClr val="badde1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каз Министерства финан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 17 февраля 1999 года №15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Об утверждении Инстру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бухгалтерскому уче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полнения бюджетов»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1"/>
          <p:cNvSpPr/>
          <p:nvPr/>
        </p:nvSpPr>
        <p:spPr>
          <a:xfrm>
            <a:off x="4714920" y="1143000"/>
            <a:ext cx="4214880" cy="5500800"/>
          </a:xfrm>
          <a:prstGeom prst="can">
            <a:avLst>
              <a:gd name="adj" fmla="val 8712"/>
            </a:avLst>
          </a:prstGeom>
          <a:solidFill>
            <a:srgbClr val="badde1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каз Министерства финан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 15 декабря 2010 г. N 173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"Об утверждении форм первич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етных документов и регистров бухгалтер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ета, применяемых органами государствен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асти (государственными органами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ганами местного самоуправлен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ганами управления государственны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бюджетными фондами, государственны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кадемиями наук, государственны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муниципальными) учреждениями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тодических указаний по их применению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4857840" y="5715000"/>
            <a:ext cx="1406520" cy="55728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.050407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7215120" y="5715000"/>
            <a:ext cx="1276560" cy="649440"/>
          </a:xfrm>
          <a:prstGeom prst="rect">
            <a:avLst/>
          </a:prstGeom>
          <a:solidFill>
            <a:srgbClr val="a3a3e0"/>
          </a:soli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книга (ф.05040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2643120" y="5715000"/>
            <a:ext cx="1621080" cy="55728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мориальный ордер (ф.05120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право 34"/>
          <p:cNvSpPr/>
          <p:nvPr/>
        </p:nvSpPr>
        <p:spPr>
          <a:xfrm>
            <a:off x="6429240" y="5786280"/>
            <a:ext cx="64296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лево 35"/>
          <p:cNvSpPr/>
          <p:nvPr/>
        </p:nvSpPr>
        <p:spPr>
          <a:xfrm>
            <a:off x="1785960" y="5857920"/>
            <a:ext cx="785880" cy="4842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57120" y="5715000"/>
            <a:ext cx="1357560" cy="649440"/>
          </a:xfrm>
          <a:prstGeom prst="rect">
            <a:avLst/>
          </a:prstGeom>
          <a:solidFill>
            <a:srgbClr val="a3a3e0"/>
          </a:soli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книга (ф.051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413000"/>
            <a:ext cx="8353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1476360" y="0"/>
            <a:ext cx="63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облемы формирования консолидированной главной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66cc"/>
                </a:solidFill>
                <a:latin typeface="Times New Roman"/>
              </a:rPr>
              <a:t>При переходе на ППО «АСФК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cc"/>
                </a:solidFill>
                <a:latin typeface="Times New Roman"/>
              </a:rPr>
              <a:t>с 01 января 2011 го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екорректные остатки на начало года по балансовым счетам 40302 и 4050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ыявление и устранение недостатков в работе сис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роблемы с синхронизацией справочников, корректностью справочников открытого и закрытого контур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формирование КОЗ и ИО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66cc"/>
                </a:solidFill>
                <a:latin typeface="Times New Roman"/>
              </a:rPr>
              <a:t>При закрытии 2011 года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чета внутренних расчетов закрылись оборотами, а не остат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рицательные суммы, остатки на начало 2011 года по счетам 120211610, 140220000 в закрытом контуре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1476360" y="0"/>
            <a:ext cx="63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ункции формирования Консолидированной главной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4572000" y="3141720"/>
            <a:ext cx="38876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8"/>
          <p:cNvGrpSpPr/>
          <p:nvPr/>
        </p:nvGrpSpPr>
        <p:grpSpPr>
          <a:xfrm>
            <a:off x="142920" y="1714680"/>
            <a:ext cx="1071360" cy="2714400"/>
            <a:chOff x="142920" y="1714680"/>
            <a:chExt cx="1071360" cy="2714400"/>
          </a:xfrm>
        </p:grpSpPr>
        <p:sp>
          <p:nvSpPr>
            <p:cNvPr id="94" name="Скругленный прямоугольник 9"/>
            <p:cNvSpPr/>
            <p:nvPr/>
          </p:nvSpPr>
          <p:spPr>
            <a:xfrm>
              <a:off x="214200" y="1714680"/>
              <a:ext cx="1000080" cy="2714400"/>
            </a:xfrm>
            <a:custGeom>
              <a:avLst/>
              <a:gdLst>
                <a:gd name="textAreaLeft" fmla="*/ 29160 w 1000080"/>
                <a:gd name="textAreaRight" fmla="*/ 970920 w 1000080"/>
                <a:gd name="textAreaTop" fmla="*/ 29160 h 2714400"/>
                <a:gd name="textAreaBottom" fmla="*/ 2685240 h 2714400"/>
              </a:gdLst>
              <a:ahLst/>
              <a:rect l="textAreaLeft" t="textAreaTop" r="textAreaRight" b="textAreaBottom"/>
              <a:pathLst>
                <a:path w="21600" h="58613">
                  <a:moveTo>
                    <a:pt x="2160" y="0"/>
                  </a:moveTo>
                  <a:arcTo wR="2160" hR="2160" stAng="16200000" swAng="-5400000"/>
                  <a:lnTo>
                    <a:pt x="0" y="56453"/>
                  </a:lnTo>
                  <a:arcTo wR="2160" hR="2160" stAng="10800000" swAng="-5400000"/>
                  <a:lnTo>
                    <a:pt x="19440" y="5861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gradFill rotWithShape="0">
              <a:gsLst>
                <a:gs pos="0">
                  <a:srgbClr val="cfffff"/>
                </a:gs>
                <a:gs pos="100000">
                  <a:srgbClr val="f0ffff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Скругленный прямоугольник 4"/>
            <p:cNvSpPr/>
            <p:nvPr/>
          </p:nvSpPr>
          <p:spPr>
            <a:xfrm>
              <a:off x="142920" y="1714680"/>
              <a:ext cx="1042920" cy="2714400"/>
            </a:xfrm>
            <a:prstGeom prst="rect">
              <a:avLst/>
            </a:prstGeom>
            <a:gradFill rotWithShape="0">
              <a:gsLst>
                <a:gs pos="0">
                  <a:srgbClr val="cfffff"/>
                </a:gs>
                <a:gs pos="100000">
                  <a:srgbClr val="f0ffff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3320" rIns="13320" tIns="13320" bIns="13320" anchor="t">
              <a:noAutofit/>
            </a:bodyPr>
            <a:p>
              <a:pPr lvl="1" marL="57240" indent="-57240" algn="ctr">
                <a:lnSpc>
                  <a:spcPct val="90000"/>
                </a:lnSpc>
                <a:spcAft>
                  <a:spcPts val="264"/>
                </a:spcAft>
                <a:tabLst>
                  <a:tab algn="l" pos="0"/>
                  <a:tab algn="l" pos="311040"/>
                  <a:tab algn="l" pos="622440"/>
                  <a:tab algn="l" pos="933480"/>
                  <a:tab algn="l" pos="1244520"/>
                  <a:tab algn="l" pos="1555920"/>
                  <a:tab algn="l" pos="1866960"/>
                  <a:tab algn="l" pos="2178000"/>
                  <a:tab algn="l" pos="2489040"/>
                  <a:tab algn="l" pos="2800440"/>
                  <a:tab algn="l" pos="3111480"/>
                  <a:tab algn="l" pos="3422520"/>
                  <a:tab algn="l" pos="3733920"/>
                  <a:tab algn="l" pos="4044960"/>
                  <a:tab algn="l" pos="4356000"/>
                  <a:tab algn="l" pos="4667400"/>
                  <a:tab algn="l" pos="4978440"/>
                  <a:tab algn="l" pos="5289480"/>
                  <a:tab algn="l" pos="5600880"/>
                  <a:tab algn="l" pos="5911920"/>
                  <a:tab algn="l" pos="62229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формируется Отчет об операциях с типом документа «КОЗ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264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311040"/>
                  <a:tab algn="l" pos="622440"/>
                  <a:tab algn="l" pos="933480"/>
                  <a:tab algn="l" pos="1244520"/>
                  <a:tab algn="l" pos="1555920"/>
                  <a:tab algn="l" pos="1866960"/>
                  <a:tab algn="l" pos="2178000"/>
                  <a:tab algn="l" pos="2489040"/>
                  <a:tab algn="l" pos="2800440"/>
                  <a:tab algn="l" pos="3111480"/>
                  <a:tab algn="l" pos="3422520"/>
                  <a:tab algn="l" pos="3733920"/>
                  <a:tab algn="l" pos="4044960"/>
                  <a:tab algn="l" pos="4356000"/>
                  <a:tab algn="l" pos="4667400"/>
                  <a:tab algn="l" pos="4978440"/>
                  <a:tab algn="l" pos="5289480"/>
                  <a:tab algn="l" pos="5600880"/>
                  <a:tab algn="l" pos="5911920"/>
                  <a:tab algn="l" pos="62229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Группа 11"/>
          <p:cNvGrpSpPr/>
          <p:nvPr/>
        </p:nvGrpSpPr>
        <p:grpSpPr>
          <a:xfrm>
            <a:off x="1285920" y="1714680"/>
            <a:ext cx="1143000" cy="2714400"/>
            <a:chOff x="1285920" y="1714680"/>
            <a:chExt cx="1143000" cy="2714400"/>
          </a:xfrm>
        </p:grpSpPr>
        <p:sp>
          <p:nvSpPr>
            <p:cNvPr id="97" name="Скругленный прямоугольник 12"/>
            <p:cNvSpPr/>
            <p:nvPr/>
          </p:nvSpPr>
          <p:spPr>
            <a:xfrm>
              <a:off x="1285920" y="1714680"/>
              <a:ext cx="1143000" cy="2714400"/>
            </a:xfrm>
            <a:custGeom>
              <a:avLst/>
              <a:gdLst>
                <a:gd name="textAreaLeft" fmla="*/ 33480 w 1143000"/>
                <a:gd name="textAreaRight" fmla="*/ 1109520 w 1143000"/>
                <a:gd name="textAreaTop" fmla="*/ 33480 h 2714400"/>
                <a:gd name="textAreaBottom" fmla="*/ 2680920 h 2714400"/>
              </a:gdLst>
              <a:ahLst/>
              <a:rect l="textAreaLeft" t="textAreaTop" r="textAreaRight" b="textAreaBottom"/>
              <a:pathLst>
                <a:path w="21600" h="51286">
                  <a:moveTo>
                    <a:pt x="2160" y="0"/>
                  </a:moveTo>
                  <a:arcTo wR="2160" hR="2160" stAng="16200000" swAng="-5400000"/>
                  <a:lnTo>
                    <a:pt x="0" y="49126"/>
                  </a:lnTo>
                  <a:arcTo wR="2160" hR="2160" stAng="10800000" swAng="-5400000"/>
                  <a:lnTo>
                    <a:pt x="19440" y="51286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gradFill rotWithShape="0">
              <a:gsLst>
                <a:gs pos="0">
                  <a:srgbClr val="cfffff"/>
                </a:gs>
                <a:gs pos="100000">
                  <a:srgbClr val="f0ffff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Скругленный прямоугольник 4"/>
            <p:cNvSpPr/>
            <p:nvPr/>
          </p:nvSpPr>
          <p:spPr>
            <a:xfrm>
              <a:off x="1319040" y="1816200"/>
              <a:ext cx="1109880" cy="25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" rIns="13320" tIns="13320" bIns="13320" anchor="t">
              <a:noAutofit/>
            </a:bodyPr>
            <a:p>
              <a:pPr lvl="1" marL="57240" indent="-57240" algn="ctr">
                <a:lnSpc>
                  <a:spcPct val="90000"/>
                </a:lnSpc>
                <a:spcAft>
                  <a:spcPts val="264"/>
                </a:spcAft>
                <a:tabLst>
                  <a:tab algn="l" pos="0"/>
                  <a:tab algn="l" pos="311040"/>
                  <a:tab algn="l" pos="622440"/>
                  <a:tab algn="l" pos="933480"/>
                  <a:tab algn="l" pos="1244520"/>
                  <a:tab algn="l" pos="1555920"/>
                  <a:tab algn="l" pos="1866960"/>
                  <a:tab algn="l" pos="2178000"/>
                  <a:tab algn="l" pos="2489040"/>
                  <a:tab algn="l" pos="2800440"/>
                  <a:tab algn="l" pos="3111480"/>
                  <a:tab algn="l" pos="3422520"/>
                  <a:tab algn="l" pos="3733920"/>
                  <a:tab algn="l" pos="4044960"/>
                  <a:tab algn="l" pos="4356000"/>
                  <a:tab algn="l" pos="4667400"/>
                  <a:tab algn="l" pos="4978440"/>
                  <a:tab algn="l" pos="5289480"/>
                  <a:tab algn="l" pos="5600880"/>
                  <a:tab algn="l" pos="5911920"/>
                  <a:tab algn="l" pos="62229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осуществляется передача Отчета об операциях из открытого в защищенный конту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Группа 18"/>
          <p:cNvGrpSpPr/>
          <p:nvPr/>
        </p:nvGrpSpPr>
        <p:grpSpPr>
          <a:xfrm>
            <a:off x="571680" y="1071720"/>
            <a:ext cx="1261800" cy="501480"/>
            <a:chOff x="571680" y="1071720"/>
            <a:chExt cx="1261800" cy="501480"/>
          </a:xfrm>
        </p:grpSpPr>
        <p:sp>
          <p:nvSpPr>
            <p:cNvPr id="100" name="Скругленный прямоугольник 19"/>
            <p:cNvSpPr/>
            <p:nvPr/>
          </p:nvSpPr>
          <p:spPr>
            <a:xfrm>
              <a:off x="571680" y="1071720"/>
              <a:ext cx="1261800" cy="50148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Скругленный прямоугольник 4"/>
            <p:cNvSpPr/>
            <p:nvPr/>
          </p:nvSpPr>
          <p:spPr>
            <a:xfrm>
              <a:off x="585720" y="1085760"/>
              <a:ext cx="123336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11520" bIns="115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КРЫТЫЙ КОНТУ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Круговая стрелка 21"/>
          <p:cNvGrpSpPr/>
          <p:nvPr/>
        </p:nvGrpSpPr>
        <p:grpSpPr>
          <a:xfrm>
            <a:off x="2023920" y="1095480"/>
            <a:ext cx="1640160" cy="785160"/>
            <a:chOff x="2023920" y="1095480"/>
            <a:chExt cx="1640160" cy="785160"/>
          </a:xfrm>
        </p:grpSpPr>
        <p:pic>
          <p:nvPicPr>
            <p:cNvPr id="103" name="Круговая стрелка 21" descr=""/>
            <p:cNvPicPr/>
            <p:nvPr/>
          </p:nvPicPr>
          <p:blipFill>
            <a:blip r:embed="rId2"/>
            <a:stretch/>
          </p:blipFill>
          <p:spPr>
            <a:xfrm>
              <a:off x="2023920" y="1139760"/>
              <a:ext cx="1640160" cy="22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0700000">
              <a:off x="2220480" y="1250280"/>
              <a:ext cx="1262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Группа 22"/>
          <p:cNvGrpSpPr/>
          <p:nvPr/>
        </p:nvGrpSpPr>
        <p:grpSpPr>
          <a:xfrm>
            <a:off x="2643120" y="1785960"/>
            <a:ext cx="1143000" cy="2643120"/>
            <a:chOff x="2643120" y="1785960"/>
            <a:chExt cx="1143000" cy="2643120"/>
          </a:xfrm>
        </p:grpSpPr>
        <p:sp>
          <p:nvSpPr>
            <p:cNvPr id="106" name="Скругленный прямоугольник 23"/>
            <p:cNvSpPr/>
            <p:nvPr/>
          </p:nvSpPr>
          <p:spPr>
            <a:xfrm>
              <a:off x="2643120" y="1785960"/>
              <a:ext cx="1143000" cy="2643120"/>
            </a:xfrm>
            <a:custGeom>
              <a:avLst/>
              <a:gdLst>
                <a:gd name="textAreaLeft" fmla="*/ 33480 w 1143000"/>
                <a:gd name="textAreaRight" fmla="*/ 1109520 w 1143000"/>
                <a:gd name="textAreaTop" fmla="*/ 33480 h 2643120"/>
                <a:gd name="textAreaBottom" fmla="*/ 2609640 h 2643120"/>
              </a:gdLst>
              <a:ahLst/>
              <a:rect l="textAreaLeft" t="textAreaTop" r="textAreaRight" b="textAreaBottom"/>
              <a:pathLst>
                <a:path w="21600" h="49940">
                  <a:moveTo>
                    <a:pt x="2160" y="0"/>
                  </a:moveTo>
                  <a:arcTo wR="2160" hR="2160" stAng="16200000" swAng="-5400000"/>
                  <a:lnTo>
                    <a:pt x="0" y="47780"/>
                  </a:lnTo>
                  <a:arcTo wR="2160" hR="2160" stAng="10800000" swAng="-5400000"/>
                  <a:lnTo>
                    <a:pt x="19440" y="49940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Скругленный прямоугольник 4"/>
            <p:cNvSpPr/>
            <p:nvPr/>
          </p:nvSpPr>
          <p:spPr>
            <a:xfrm>
              <a:off x="2643120" y="1785960"/>
              <a:ext cx="1143000" cy="2643120"/>
            </a:xfrm>
            <a:prstGeom prst="rect">
              <a:avLst/>
            </a:prstGeom>
            <a:gradFill rotWithShape="0">
              <a:gsLst>
                <a:gs pos="0">
                  <a:srgbClr val="acace1"/>
                </a:gs>
                <a:gs pos="100000">
                  <a:srgbClr val="e9e9f7"/>
                </a:gs>
              </a:gsLst>
              <a:lin ang="16200000"/>
            </a:gradFill>
            <a:ln w="9360">
              <a:solidFill>
                <a:srgbClr val="29298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3320" rIns="13320" tIns="13320" bIns="13320" anchor="t">
              <a:noAutofit/>
            </a:bodyPr>
            <a:p>
              <a:pPr lvl="1" marL="57240" indent="-57240" algn="ctr">
                <a:lnSpc>
                  <a:spcPct val="90000"/>
                </a:lnSpc>
                <a:spcAft>
                  <a:spcPts val="264"/>
                </a:spcAft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обработка Отчета об операциях из открытого конту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Схема 43" descr=""/>
          <p:cNvPicPr/>
          <p:nvPr/>
        </p:nvPicPr>
        <p:blipFill>
          <a:blip r:embed="rId3"/>
          <a:stretch/>
        </p:blipFill>
        <p:spPr>
          <a:xfrm>
            <a:off x="171360" y="4705200"/>
            <a:ext cx="8875800" cy="1586160"/>
          </a:xfrm>
          <a:prstGeom prst="rect">
            <a:avLst/>
          </a:prstGeom>
          <a:ln w="0">
            <a:noFill/>
          </a:ln>
        </p:spPr>
      </p:pic>
      <p:grpSp>
        <p:nvGrpSpPr>
          <p:cNvPr id="109" name="Группа 49"/>
          <p:cNvGrpSpPr/>
          <p:nvPr/>
        </p:nvGrpSpPr>
        <p:grpSpPr>
          <a:xfrm>
            <a:off x="4714920" y="1071720"/>
            <a:ext cx="1857240" cy="501480"/>
            <a:chOff x="4714920" y="1071720"/>
            <a:chExt cx="1857240" cy="501480"/>
          </a:xfrm>
        </p:grpSpPr>
        <p:sp>
          <p:nvSpPr>
            <p:cNvPr id="110" name="Скругленный прямоугольник 50"/>
            <p:cNvSpPr/>
            <p:nvPr/>
          </p:nvSpPr>
          <p:spPr>
            <a:xfrm>
              <a:off x="4714920" y="1071720"/>
              <a:ext cx="1857240" cy="50148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Скругленный прямоугольник 4"/>
            <p:cNvSpPr/>
            <p:nvPr/>
          </p:nvSpPr>
          <p:spPr>
            <a:xfrm>
              <a:off x="4736880" y="1085760"/>
              <a:ext cx="1812960" cy="473040"/>
            </a:xfrm>
            <a:prstGeom prst="rect">
              <a:avLst/>
            </a:prstGeom>
            <a:gradFill rotWithShape="0">
              <a:gsLst>
                <a:gs pos="0">
                  <a:srgbClr val="acace1"/>
                </a:gs>
                <a:gs pos="100000">
                  <a:srgbClr val="e9e9f7"/>
                </a:gs>
              </a:gsLst>
              <a:lin ang="16200000"/>
            </a:gradFill>
            <a:ln w="9360">
              <a:solidFill>
                <a:srgbClr val="29298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7280" rIns="17280" tIns="11520" bIns="115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ЩИЩЕННЫЙ КОНТУ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Скругленный прямоугольник 4"/>
          <p:cNvSpPr/>
          <p:nvPr/>
        </p:nvSpPr>
        <p:spPr>
          <a:xfrm>
            <a:off x="5214960" y="1785960"/>
            <a:ext cx="1108080" cy="25858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320" rIns="13320" tIns="13320" bIns="13320" anchor="t">
            <a:noAutofit/>
          </a:bodyPr>
          <a:p>
            <a:pPr lvl="1" marL="57240" indent="-57240" algn="ctr">
              <a:lnSpc>
                <a:spcPct val="90000"/>
              </a:lnSpc>
              <a:spcAft>
                <a:spcPts val="264"/>
              </a:spcAft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рмируется Главная книга (ф.050407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4"/>
          <p:cNvSpPr/>
          <p:nvPr/>
        </p:nvSpPr>
        <p:spPr>
          <a:xfrm>
            <a:off x="6500880" y="1785960"/>
            <a:ext cx="1108080" cy="25858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320" rIns="13320" tIns="13320" bIns="13320" anchor="t">
            <a:noAutofit/>
          </a:bodyPr>
          <a:p>
            <a:pPr lvl="1" marL="57240" indent="-57240" algn="ctr">
              <a:lnSpc>
                <a:spcPct val="90000"/>
              </a:lnSpc>
              <a:spcAft>
                <a:spcPts val="264"/>
              </a:spcAft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рмируется Отчет об операциях по данным Главной книги (ф.053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240" indent="-57240" algn="ctr">
              <a:lnSpc>
                <a:spcPct val="90000"/>
              </a:lnSpc>
              <a:spcAft>
                <a:spcPts val="264"/>
              </a:spcAft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4"/>
          <p:cNvSpPr/>
          <p:nvPr/>
        </p:nvSpPr>
        <p:spPr>
          <a:xfrm>
            <a:off x="7858080" y="1785960"/>
            <a:ext cx="1143000" cy="25858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320" rIns="13320" tIns="13320" bIns="13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уществляется передача Отчета об операциях по данным Главной книги  (ф.053198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МОУ Ф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Группа 71"/>
          <p:cNvGrpSpPr/>
          <p:nvPr/>
        </p:nvGrpSpPr>
        <p:grpSpPr>
          <a:xfrm>
            <a:off x="3929040" y="1785960"/>
            <a:ext cx="1143000" cy="2643120"/>
            <a:chOff x="3929040" y="1785960"/>
            <a:chExt cx="1143000" cy="2643120"/>
          </a:xfrm>
        </p:grpSpPr>
        <p:sp>
          <p:nvSpPr>
            <p:cNvPr id="116" name="Скругленный прямоугольник 72"/>
            <p:cNvSpPr/>
            <p:nvPr/>
          </p:nvSpPr>
          <p:spPr>
            <a:xfrm>
              <a:off x="3929040" y="1785960"/>
              <a:ext cx="1143000" cy="2643120"/>
            </a:xfrm>
            <a:custGeom>
              <a:avLst/>
              <a:gdLst>
                <a:gd name="textAreaLeft" fmla="*/ 33480 w 1143000"/>
                <a:gd name="textAreaRight" fmla="*/ 1109520 w 1143000"/>
                <a:gd name="textAreaTop" fmla="*/ 33480 h 2643120"/>
                <a:gd name="textAreaBottom" fmla="*/ 2609640 h 2643120"/>
              </a:gdLst>
              <a:ahLst/>
              <a:rect l="textAreaLeft" t="textAreaTop" r="textAreaRight" b="textAreaBottom"/>
              <a:pathLst>
                <a:path w="21600" h="49940">
                  <a:moveTo>
                    <a:pt x="2160" y="0"/>
                  </a:moveTo>
                  <a:arcTo wR="2160" hR="2160" stAng="16200000" swAng="-5400000"/>
                  <a:lnTo>
                    <a:pt x="0" y="47780"/>
                  </a:lnTo>
                  <a:arcTo wR="2160" hR="2160" stAng="10800000" swAng="-5400000"/>
                  <a:lnTo>
                    <a:pt x="19440" y="49940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Скругленный прямоугольник 4"/>
            <p:cNvSpPr/>
            <p:nvPr/>
          </p:nvSpPr>
          <p:spPr>
            <a:xfrm>
              <a:off x="3929040" y="1785960"/>
              <a:ext cx="1143000" cy="2643120"/>
            </a:xfrm>
            <a:prstGeom prst="rect">
              <a:avLst/>
            </a:prstGeom>
            <a:gradFill rotWithShape="0">
              <a:gsLst>
                <a:gs pos="0">
                  <a:srgbClr val="acace1"/>
                </a:gs>
                <a:gs pos="100000">
                  <a:srgbClr val="e9e9f7"/>
                </a:gs>
              </a:gsLst>
              <a:lin ang="16200000"/>
            </a:gradFill>
            <a:ln w="9360">
              <a:solidFill>
                <a:srgbClr val="29298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3320" rIns="13320" tIns="13320" bIns="13320" anchor="t">
              <a:noAutofit/>
            </a:bodyPr>
            <a:p>
              <a:pPr lvl="1" marL="57240" indent="-57240" algn="ctr">
                <a:lnSpc>
                  <a:spcPct val="90000"/>
                </a:lnSpc>
                <a:spcAft>
                  <a:spcPts val="264"/>
                </a:spcAft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формируется Отчет об операциях с типом документа «ИОЗ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7240" indent="-57240" algn="ctr">
                <a:lnSpc>
                  <a:spcPct val="90000"/>
                </a:lnSpc>
                <a:spcAft>
                  <a:spcPts val="264"/>
                </a:spcAft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Picture 12" descr="flash, storage, usb icon"/>
          <p:cNvPicPr/>
          <p:nvPr/>
        </p:nvPicPr>
        <p:blipFill>
          <a:blip r:embed="rId4"/>
          <a:stretch/>
        </p:blipFill>
        <p:spPr>
          <a:xfrm rot="781200">
            <a:off x="2487600" y="1273320"/>
            <a:ext cx="581040" cy="581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flash, storage, usb icon"/>
          <p:cNvPicPr/>
          <p:nvPr/>
        </p:nvPicPr>
        <p:blipFill>
          <a:blip r:embed="rId5"/>
          <a:stretch/>
        </p:blipFill>
        <p:spPr>
          <a:xfrm rot="781200">
            <a:off x="2487600" y="1273320"/>
            <a:ext cx="5810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000" y="4941720"/>
            <a:ext cx="799308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1476360" y="0"/>
            <a:ext cx="63356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Формирование Отчета об опер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(тип документа «КОЗ»)</a:t>
            </a:r>
            <a:r>
              <a:rPr b="0" lang="ru-RU" sz="2400" spc="-1" strike="noStrike">
                <a:solidFill>
                  <a:srgbClr val="33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8569080" cy="3960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2"/>
          <p:cNvSpPr/>
          <p:nvPr/>
        </p:nvSpPr>
        <p:spPr>
          <a:xfrm>
            <a:off x="611280" y="515772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жим «Навигатор – Консолидация ГК: Отчеты об операциях – Отчет об операциях АСФК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полнить следующие поля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«Тип» – «КОЗ» – «Отчет об операциях – Консолидация учета Организации исполнения бюджета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«За операционный день» –  операционный день, за который необходимо получить отчет по операц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48000" y="1413000"/>
            <a:ext cx="3600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Защищенный контур: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1476360" y="260280"/>
            <a:ext cx="63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Отправка Отчета об опер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в закрытый контур</a:t>
            </a:r>
            <a:r>
              <a:rPr b="0" lang="ru-RU" sz="1800" spc="-1" strike="noStrike">
                <a:solidFill>
                  <a:srgbClr val="3366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4572000" y="3141720"/>
            <a:ext cx="38876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3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704080" cy="5229000"/>
          </a:xfrm>
          <a:prstGeom prst="rect">
            <a:avLst/>
          </a:prstGeom>
          <a:ln w="0">
            <a:noFill/>
          </a:ln>
        </p:spPr>
      </p:pic>
      <p:sp>
        <p:nvSpPr>
          <p:cNvPr id="139" name="Oval 4"/>
          <p:cNvSpPr/>
          <p:nvPr/>
        </p:nvSpPr>
        <p:spPr>
          <a:xfrm>
            <a:off x="357120" y="2571840"/>
            <a:ext cx="1143000" cy="285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"/>
          <p:cNvSpPr/>
          <p:nvPr/>
        </p:nvSpPr>
        <p:spPr>
          <a:xfrm>
            <a:off x="1476360" y="0"/>
            <a:ext cx="63356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Визуальный  контроль показ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«Обороты за день» (открытый контур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42960" y="1357200"/>
          <a:ext cx="7858080" cy="3751200"/>
        </p:xfrm>
        <a:graphic>
          <a:graphicData uri="http://schemas.openxmlformats.org/drawingml/2006/table">
            <a:tbl>
              <a:tblPr/>
              <a:tblGrid>
                <a:gridCol w="2619360"/>
                <a:gridCol w="2619360"/>
                <a:gridCol w="2619360"/>
              </a:tblGrid>
              <a:tr h="157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 с типом КОЗ «Отчет об операциях – Консолидация учета организации исполнения бюджет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ош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ая книга (ф.05040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ткрытого контур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1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граф 2, 3 «Оборот по дебету, кредиту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граф 7,8 «Оборот за период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7T12:43:59Z</dcterms:created>
  <dc:creator>2</dc:creator>
  <dc:description/>
  <dc:language>en-US</dc:language>
  <cp:lastModifiedBy>TitovaEV</cp:lastModifiedBy>
  <dcterms:modified xsi:type="dcterms:W3CDTF">2013-08-30T09:38:34Z</dcterms:modified>
  <cp:revision>352</cp:revision>
  <dc:subject/>
  <dc:title>Слайд 1</dc:title>
</cp:coreProperties>
</file>