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2126-9638-482E-889F-CD42A5412D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B37B-6FB7-445F-8ECD-C83D6C5B1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0A5D-FB80-4216-B0FB-393AD6F815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B8BF-1BCD-41BA-AE0E-C38D461B2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838-9EDB-41F1-A051-8BE6008744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1900-2B2D-44A1-B341-6DD20EA21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7DC-C8D2-46DD-8741-916F8314F7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163-F77D-4D22-B83C-70DBF38531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EED0-CCC2-4CE3-84B0-610B3BB14A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6BE6-F0F6-4DE9-B1AF-A193353FC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5FF-AD50-44C9-8787-82DE28D48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EFF-63BE-4CAD-A191-6074AECF9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AF31-7E23-4ADF-B239-ECC37F8E2B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0D8-F529-4C52-89BA-C6B6E9B12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9BA-CE46-4ABF-AC18-8DCEEDE64F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40B0-F254-4939-972C-9B536E8A55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9942-BD73-4E14-9CB4-EBB8C4ECD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CD1-A62E-412B-91F7-49933DC8AC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642-4E3B-42A2-84EB-E5958F6A1E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A535-9956-4869-A703-E6004E70F0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ABC1-0CD0-4026-B211-A78BBDF760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574D-E0FE-439A-BD78-01574B2AA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E31-31C4-4DD4-8B67-EAA56489E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BE0-0E9B-4A85-81D2-DFA701171A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1227-67D7-4877-8EB4-89A0F29F2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F0A-04DF-4D56-98C4-9A7E556F9A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A3A2-0DAF-40B8-B640-F3A605AB89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619D-2582-46FF-9454-18073872B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57CC-C2E3-492F-B9D4-F137708358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368-74EB-40DF-B64B-DF4122B3E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7D3-EB56-4A54-A909-AE77E7229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743C-9711-4E63-A2EF-06C7C0A7E4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1B79-87E6-462D-A83E-DA1F6AC5B1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800-1505-4647-9F08-43C413F7AA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8564-1FEA-44E4-930B-0D19567A6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B96-FEE1-4E32-B648-3E82E27AE9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FA4-DBC4-46BC-936C-7C8516E747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778A-3F43-4B2F-8FEB-029A60D19E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DC0-AD97-42E1-AF0C-E58F987126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58C4-622D-4A0B-B6B8-39D199235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64D0-1EC3-4B13-AE90-1B4F5EA1D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F05-BD2A-4351-B671-C2FBDBB7A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A65-EB38-4A93-825F-1657730237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329C-96FA-42DD-97DF-A9BDAB3EB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B62-0872-4219-9DFF-3F95134449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243-078F-4997-AA21-38B3FECDB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EF09-7379-4B78-B095-E4E4104FF2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83E-6EA3-47C8-A60C-0A839081C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9831-E666-43F6-9647-9740BD3E9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B8D1-533F-47CB-9B77-EDAA2A513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6FA6-2418-4B4B-B3B2-B179DAA87B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D422-A736-4AB6-BED9-C4C103B371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FD2A-37E2-441B-AD45-2D909210DB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29B1-0D83-4832-8023-FC95B1694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DBF9-BBDF-4CF7-891C-5B56D60C53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824F-0EFF-47A1-8023-B7F3C9416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F25-118D-425C-BDA2-593166D68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C97D-79A6-4482-A52C-8934EC2C9E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EF63-4B46-4722-A487-DB33FCDC4B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4FA2-5028-480E-93D5-D73C8C2F25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B29-F9C9-453F-BB3B-F688E0A7F4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CEA0-9A5F-4B45-A3E8-5C583FA51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46D-DD16-4D74-9164-4ACCC607D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7DC-CBF9-4C21-AB40-69074B4DFE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B434-C139-4568-9DAC-3CA594115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EFC-4658-4533-ACA7-21A9C763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E95-96B1-487D-BBFC-C0129F8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95D-D16C-43F5-8076-3BC21F6F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000-94E7-437B-A8D6-E45F7DA8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E2E-DE89-423B-92FF-A6EAEBD0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A22-2104-4137-919A-ADC5C91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D76-AD13-461E-89F4-C03D50FD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49F-3C24-4819-863E-DEAA84FD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60E-EBE7-46DA-A991-8B0BBEDC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5B8-326B-4C2A-BB80-6CBA1FC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14F-14B2-4B4C-BB02-D06D91A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404-8867-4F91-BB09-70C62556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DDC-06E9-4C5A-AC65-2067B9DE25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51E-9375-4CFF-82CC-09997CED6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6360" y="1181160"/>
            <a:ext cx="10350720" cy="38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Актуальные вопросы организации учетных и отчетных процедур в секторе государственного управления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Прямоугольник 46"/>
          <p:cNvSpPr/>
          <p:nvPr/>
        </p:nvSpPr>
        <p:spPr>
          <a:xfrm>
            <a:off x="6886440" y="5330880"/>
            <a:ext cx="46706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руководителя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ого казначейства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убовик А.В.,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. Сочи, 21.09.2017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E58-AE55-4300-AF95-13ECAEF6C74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197-D2EF-4352-931C-A95E2DD7FD0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тоги формирования и представления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годовой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641400" y="1066680"/>
            <a:ext cx="801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Итоги аудита Счетной палаты Российской Федерации (бюджетный учет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397160" y="1444680"/>
            <a:ext cx="1027728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проведения инвентаризации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учета инвестиций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учета объектов НИОКР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учета объектов нематериальных активов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учета дебиторской задолженности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учета объектов на забалансовых счетах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учета бюджетных данных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порядка формирования и представления отчетности (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ДБ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– получатель средств иного бюджет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!!!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…………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10131480" y="1692360"/>
            <a:ext cx="15732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62B-47AF-44C3-A275-B0C85C81F75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6504480" y="10666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Инвентаризаци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004760" y="1644480"/>
            <a:ext cx="10666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ведение инвентаризации обязательно перед составлением отчетности + :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установлении фактов хищений или злоупотреблений, а также порчи ценностей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лучае стихийных бедствий, пожара, аварий или других чрезвычайных ситуаций, вызванных экстремальными условиями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смене материально ответственных лиц (на день приемки - передачи дел)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передаче имущества организации в аренду, управление, безвозмездное пользование, а также выкупе, продаже комплекса объектов учета (имущественного комплекса)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других случаях, предусмотренных законодательством Российской Федерации или иными нормативными правовыми актами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85D-6BDE-4840-8982-AE4CAC68A29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11880" y="106668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Сверка расчетов с контрагентам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004760" y="1515960"/>
            <a:ext cx="10666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ая сверка расчетов: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четов с поставщиками и подрядчиками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четов с бюджетными и автономными учреждениями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четов с учредителем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четов по безвозмездно переданному (полученному)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муществу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четов с унитарными предприятиями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татков и оборотов по счетам в кредитных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изациях, показателей лицевых счетов открытых в органах ФК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BECD-FCE7-4B81-BA6D-D3838626182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2568960" y="1066680"/>
            <a:ext cx="89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Инвентаризация на уровне Российской Федерации в 2015 – 2017 гг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612720" y="1735200"/>
            <a:ext cx="11172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четы по невыясненным поступлениям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ебиторская задолженность по доходам и расходам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ъекты незавершенного строительства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блюдения уровня софинансирования расходных обязательств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1"/>
          <p:cNvSpPr/>
          <p:nvPr/>
        </p:nvSpPr>
        <p:spPr>
          <a:xfrm>
            <a:off x="5575320" y="4826160"/>
            <a:ext cx="627120" cy="7617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729520" y="5854680"/>
            <a:ext cx="85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тоги: учет значительного количества объектов и расчетов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 соответствовал установленным требования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например, 43% соглашен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897-15B2-49A5-8700-2D26E106B56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нвентаризация: основание проведени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903040" y="4394160"/>
            <a:ext cx="704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и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ого казначейств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 03.07.2017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6-01-09/41766 / 07-04-05/02-533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61400" y="1287360"/>
            <a:ext cx="773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ункт 4 разде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токола заседания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тельства Российской Федерации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 22.02.2017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вниз 1"/>
          <p:cNvSpPr/>
          <p:nvPr/>
        </p:nvSpPr>
        <p:spPr>
          <a:xfrm>
            <a:off x="6184800" y="31813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E61F-431E-4603-B321-DD4661398D9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варительные итоги инвентар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43040" y="716040"/>
          <a:ext cx="11153520" cy="6026040"/>
        </p:xfrm>
        <a:graphic>
          <a:graphicData uri="http://schemas.openxmlformats.org/drawingml/2006/table">
            <a:tbl>
              <a:tblPr/>
              <a:tblGrid>
                <a:gridCol w="3165480"/>
                <a:gridCol w="2394000"/>
                <a:gridCol w="2797200"/>
                <a:gridCol w="279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в рамках соглаше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нен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умма расходов на реализацию мероприятий, млрд. руб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4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75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средств федерального бюджета, млрд. руб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5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2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средств бюджетов субъектов (местных бюджетов), иных источников, млрд. руб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федерального бюджета,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бюджетов субъектов Российской Федерации (местных бюджетов), иных источников,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319-4A48-41D3-8F62-112343D8D3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варительные итоги инвентар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1560" y="1193760"/>
          <a:ext cx="6394320" cy="5213520"/>
        </p:xfrm>
        <a:graphic>
          <a:graphicData uri="http://schemas.openxmlformats.org/drawingml/2006/table">
            <a:tbl>
              <a:tblPr/>
              <a:tblGrid>
                <a:gridCol w="4289400"/>
                <a:gridCol w="21049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нено, млрд. руб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умма расходов на реализацию мероприятий, млрд. руб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7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ый расход из федерального бюджета, млрд. руб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2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8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ый расход из бюджетов субъектов Российской Федерации (местных бюджетов), иных источников, млрд. руб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й кассовый расход из федерального бюджета, млрд. руб. (плановый уровень соф-я –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8,9%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й кассовый расход из бюджетов субъектов Российской Федерации (местных бюджетов), млрд. руб. (плановый уровень соф-я –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1,1%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13" name="Прямоугольник 4"/>
          <p:cNvSpPr/>
          <p:nvPr/>
        </p:nvSpPr>
        <p:spPr>
          <a:xfrm>
            <a:off x="6095880" y="2371680"/>
            <a:ext cx="828720" cy="5619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6095880" y="4200480"/>
            <a:ext cx="828720" cy="5619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6095880" y="3095640"/>
            <a:ext cx="828720" cy="5619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095880" y="5205240"/>
            <a:ext cx="828720" cy="5623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9182520" y="30193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млрд. руб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9183240" y="401796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млрд. руб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Соединительная линия уступом 10"/>
          <p:cNvCxnSpPr>
            <a:stCxn id="113" idx="3"/>
            <a:endCxn id="117" idx="1"/>
          </p:cNvCxnSpPr>
          <p:nvPr/>
        </p:nvCxnSpPr>
        <p:spPr>
          <a:xfrm>
            <a:off x="6924600" y="2652480"/>
            <a:ext cx="2207520" cy="627480"/>
          </a:xfrm>
          <a:prstGeom prst="bentConnector3">
            <a:avLst>
              <a:gd name="adj1" fmla="val 49991"/>
            </a:avLst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20" name="Соединительная линия уступом 14"/>
          <p:cNvCxnSpPr>
            <a:stCxn id="114" idx="3"/>
            <a:endCxn id="117" idx="1"/>
          </p:cNvCxnSpPr>
          <p:nvPr/>
        </p:nvCxnSpPr>
        <p:spPr>
          <a:xfrm flipV="1">
            <a:off x="6924600" y="3279240"/>
            <a:ext cx="2207520" cy="1202400"/>
          </a:xfrm>
          <a:prstGeom prst="bentConnector3">
            <a:avLst>
              <a:gd name="adj1" fmla="val 49991"/>
            </a:avLst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21" name="Соединительная линия уступом 17"/>
          <p:cNvCxnSpPr>
            <a:stCxn id="115" idx="3"/>
            <a:endCxn id="118" idx="1"/>
          </p:cNvCxnSpPr>
          <p:nvPr/>
        </p:nvCxnSpPr>
        <p:spPr>
          <a:xfrm>
            <a:off x="6924600" y="3376080"/>
            <a:ext cx="2207520" cy="902520"/>
          </a:xfrm>
          <a:prstGeom prst="bentConnector3">
            <a:avLst>
              <a:gd name="adj1" fmla="val 65894"/>
            </a:avLst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22" name="Соединительная линия уступом 20"/>
          <p:cNvCxnSpPr>
            <a:stCxn id="116" idx="3"/>
          </p:cNvCxnSpPr>
          <p:nvPr/>
        </p:nvCxnSpPr>
        <p:spPr>
          <a:xfrm flipV="1">
            <a:off x="6924600" y="4279320"/>
            <a:ext cx="2207520" cy="1207080"/>
          </a:xfrm>
          <a:prstGeom prst="bentConnector3">
            <a:avLst>
              <a:gd name="adj1" fmla="val 66612"/>
            </a:avLst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A842-1D64-408D-9D6F-AD40FC728E5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варительные итоги инвентар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760" y="1009800"/>
          <a:ext cx="11763360" cy="5029200"/>
        </p:xfrm>
        <a:graphic>
          <a:graphicData uri="http://schemas.openxmlformats.org/drawingml/2006/table">
            <a:tbl>
              <a:tblPr/>
              <a:tblGrid>
                <a:gridCol w="5881680"/>
                <a:gridCol w="5881680"/>
              </a:tblGrid>
              <a:tr h="725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БС федерального бюджета, по направлениям деятельности которых выявлен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больший уровень невыполнения условий софинансир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промышленности и торговли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ая служба по надзору в сфере образования и нау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560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энергетики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сельского хозяйства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природных ресурсов и экологии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агентство по делам молодеж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764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агентство водных ресурсов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дорожное агент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48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культуры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экономического развития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584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здравоохранения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труда и социальной защиты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344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строительства и жилищно-коммунального хозяйства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ая служба по труду и занят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060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связи и массовых коммуникаций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архивное агент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образования и науки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агентство по туризм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548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агентство по рыболовств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ЧС Росс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344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внутренних дел Российской Федерации (Федеральная миграционная служб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е агентство по делам национальност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060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ая служба государственной регистрации, кадастра и картограф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спорта Российской Федер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840"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стерство Российской Федерации по делам Северного Кавказ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80" rIns="6480" tIns="648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D370-E4F0-45BA-ADD3-4BCB26CCB13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варительные итоги инвентар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506120" y="635040"/>
            <a:ext cx="64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</a:rPr>
              <a:t>Мероприятия, по которым выявлен наибольший уровень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</a:rPr>
              <a:t>невыполнения условий софинансировани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546120" y="1819440"/>
            <a:ext cx="1112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финансирование расходных обязательств по реализации мероприятий ФЦП «Юг России (2014 - 2020 годы)»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ЦП «Повышение устойчивости жилых домов, основных объектов и систем жизнеобеспечения в сейсмических районах РФ на 2009-2018 годы»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действие созданию в субъектах РФ новых мест в общеобразовательных организациях в рамках подпрограммы "Развитие дошкольного, общего и дополнительного образования детей" государственной программы РФ "Развитие образования" на 2013-2020 годы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7409-1740-4C26-A771-C638B7661FB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варительные итоги инвентар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506120" y="900000"/>
            <a:ext cx="64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</a:rPr>
              <a:t>Мероприятия, по которым выявлен наибольший уровень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</a:rPr>
              <a:t>невыполнения условий софинансировани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555480" y="1704960"/>
            <a:ext cx="111254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ализация мероприятий по подготовке и проведению чемпионата мира по футболу в 2018 году в РФ по подпрограмме «Автомобильные дороги» ФЦП «Развитие транспортной системы России (2010 – 2020 годы)» в рамках государственной программы РФ «Развитие транспортной системы»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витие внутреннего и въездного туризма в Российской Федерации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2011-2018 г.);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троительство и реконструкция автомобильных дорог общего пользования в рамках реализации подпрограммы «Автомобильные дороги» ФЦП «Развитие транспортной системы России (2010 - 2020 годы)»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6589-9E38-458C-9D70-E35B4A1C522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сновные вопрос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393920" y="1587600"/>
            <a:ext cx="102772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тоги формирования и представления годовой бюджетной отчетности на 01.01.2017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тдельные вопросы применения нормативных документов Минфина России при ведении бюджетного учета и формировании отчетност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2" descr="BD00028_"/>
          <p:cNvPicPr/>
          <p:nvPr/>
        </p:nvPicPr>
        <p:blipFill>
          <a:blip r:embed="rId1"/>
          <a:stretch/>
        </p:blipFill>
        <p:spPr>
          <a:xfrm>
            <a:off x="11006280" y="5816520"/>
            <a:ext cx="664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766-99EE-43A3-9106-D7E2D740B33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варительные итоги инвентар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390120" y="82548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</a:rPr>
              <a:t>Основные причины/«причины» невыполнения условий софинансировани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876240" y="1305000"/>
            <a:ext cx="88963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рудности юридического характера при оформлении документаци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о-климатические условия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существление расходов в 2017 году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соблюдение объёма софинансирования в следствии экономии, образовавшейся по итогам осуществления закупок для государственных (муниципальных) нужд……………………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10420200" y="4921200"/>
            <a:ext cx="14004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96E-82D9-4C82-A705-3E669D0B8AE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6041880" y="82548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Учет </a:t>
            </a:r>
            <a:r>
              <a:rPr b="0" lang="ru-RU" sz="2000" spc="-1" strike="noStrike">
                <a:solidFill>
                  <a:srgbClr val="2f5597"/>
                </a:solidFill>
                <a:latin typeface="Arial"/>
                <a:ea typeface="Arial"/>
              </a:rPr>
              <a:t>нефинансовых активов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876240" y="1305000"/>
            <a:ext cx="10715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тнесение произведенных затрат со счетов 0 106 00 000 на соответствующие аналитические счета 0 101 00 000 без оформления правоустанавливающих документов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правомерное отнесение на финансовый результат вложений в нефинансовые активы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ересчета стоимости земельных участков в связи с изменением кадастровой стоимост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EFB-7E06-4CE9-BD18-12FAB06F905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876240" y="1305000"/>
            <a:ext cx="10715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несение на финансовый результат расходов на создание программного обеспечения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одтверждающих документов по объектам незавершенного строительства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правомерное отражение в учете земельных участков;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6041880" y="82548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Учет </a:t>
            </a:r>
            <a:r>
              <a:rPr b="0" lang="ru-RU" sz="2000" spc="-1" strike="noStrike">
                <a:solidFill>
                  <a:srgbClr val="2f5597"/>
                </a:solidFill>
                <a:latin typeface="Arial"/>
                <a:ea typeface="Arial"/>
              </a:rPr>
              <a:t>нефинансовых активов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0F36-BF87-44E6-B43B-4B8F79848FA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258160" y="1089000"/>
            <a:ext cx="50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Учет </a:t>
            </a:r>
            <a:r>
              <a:rPr b="0" lang="ru-RU" sz="2000" spc="-1" strike="noStrike">
                <a:solidFill>
                  <a:srgbClr val="2f5597"/>
                </a:solidFill>
                <a:latin typeface="Arial"/>
                <a:ea typeface="Arial"/>
              </a:rPr>
              <a:t>финансовых активов и обязательств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95320" y="1711440"/>
            <a:ext cx="10715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соответствие расчетов между учредителем и учрежде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своевременное начисление обязательств по уплате платежей в бюджет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своевременное начисление дебиторской задолженности по штрафам за несвоевременное исполнение обязательств контрагентами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ереоценки активов, стоимость которых выражена в иностранной валюте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72E-C3D8-4BDB-914A-AB28E37CF5B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6108480" y="82548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</a:rPr>
              <a:t>Учет на забалансовых счетах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876240" y="1190520"/>
            <a:ext cx="1071576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рректное отражение показателей о неисключительных правах на программное 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рректное отражение показателей о переданных в аренду объектах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лное или некорректное отражение показателей о полученных в пользование объектах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рушение порядка учета подарков полученных должностными лицами в ходе официальных мероприятий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рушение порядка учета задатков на участие в конкурсе на закупку ТРУ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9F73-31BD-4A0D-AADE-B7C2D44F827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4533840" y="1066680"/>
            <a:ext cx="63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Учет бюджетных и денежных обязательств в органах</a:t>
            </a: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685960" y="202248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Счет 0 502 03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Принятые авансовые денежные обязательства»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392560" y="3006720"/>
            <a:ext cx="88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Счет 0 502 04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Авансовые денежные обязательства к исполнению»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183480" y="3965400"/>
            <a:ext cx="74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Счет 0 502 05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Исполненные денежные обязательства»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низ 5"/>
          <p:cNvSpPr/>
          <p:nvPr/>
        </p:nvSpPr>
        <p:spPr>
          <a:xfrm>
            <a:off x="6991200" y="4757760"/>
            <a:ext cx="484200" cy="69048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760920" y="590868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только для органов Федерального казначейства !!!!!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C98-0ED6-40E2-8A21-44344A3CB1F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440" y="1044720"/>
          <a:ext cx="11396520" cy="5748120"/>
        </p:xfrm>
        <a:graphic>
          <a:graphicData uri="http://schemas.openxmlformats.org/drawingml/2006/table">
            <a:tbl>
              <a:tblPr/>
              <a:tblGrid>
                <a:gridCol w="753840"/>
                <a:gridCol w="2175120"/>
                <a:gridCol w="2163600"/>
                <a:gridCol w="2102040"/>
                <a:gridCol w="2100240"/>
                <a:gridCol w="2101680"/>
              </a:tblGrid>
              <a:tr h="403920">
                <a:tc rowSpan="2"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2"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атель бюджетных средст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 Ф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6280"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обязательств (извещение, контракт, …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обязательств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плате аванс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2f5597"/>
                          </a:solidFill>
                          <a:latin typeface="Calibri"/>
                        </a:rPr>
                        <a:t>0 502 03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 502 04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ие авансового платеж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6 хх 5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2 11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4 05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2 12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 502 04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 502 05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рабо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20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2 хх 8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2 хх 7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6 хх 6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502 01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502 02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502 02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2f5597"/>
                          </a:solidFill>
                          <a:latin typeface="Calibri"/>
                        </a:rPr>
                        <a:t>0 502 03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нчательная опла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2 хх 7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4 05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502 02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49320" bIns="49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 502 05 хх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2600" marR="10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605C-7AE1-4AB7-9CFE-153D214DF92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3077280" y="1066680"/>
            <a:ext cx="73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Отчет о бюджетных и денежных обязательствах</a:t>
            </a:r>
            <a:r>
              <a:rPr b="0" lang="ru-RU" sz="2000" spc="-1" strike="noStrike">
                <a:solidFill>
                  <a:srgbClr val="2f5597"/>
                </a:solidFill>
                <a:latin typeface="Arial"/>
                <a:ea typeface="Arial"/>
              </a:rPr>
              <a:t> …. (ф. 0503129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1" descr=""/>
          <p:cNvPicPr/>
          <p:nvPr/>
        </p:nvPicPr>
        <p:blipFill>
          <a:blip r:embed="rId1"/>
          <a:stretch/>
        </p:blipFill>
        <p:spPr>
          <a:xfrm>
            <a:off x="415800" y="1825560"/>
            <a:ext cx="11352240" cy="3225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2"/>
          <p:cNvSpPr/>
          <p:nvPr/>
        </p:nvSpPr>
        <p:spPr>
          <a:xfrm>
            <a:off x="1577880" y="5730840"/>
            <a:ext cx="100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63c1"/>
                </a:solidFill>
                <a:latin typeface="Arial"/>
              </a:rPr>
              <a:t>Отчет ф. 0503129 (ФК) – Авансовые обязательства = Отчет ф. 0503128 (ГРБ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3345-985D-47F2-B221-0ED9926C4B6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4006800" y="106668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Формирование бюджетной отчетности по показателям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«внешних» АДБ – бухгалтерские запис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07960" y="1951200"/>
          <a:ext cx="11201400" cy="4381200"/>
        </p:xfrm>
        <a:graphic>
          <a:graphicData uri="http://schemas.openxmlformats.org/drawingml/2006/table">
            <a:tbl>
              <a:tblPr/>
              <a:tblGrid>
                <a:gridCol w="635040"/>
                <a:gridCol w="3492360"/>
                <a:gridCol w="4623120"/>
                <a:gridCol w="245088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 уч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ская запис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доходов бюдж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сление доходов по платежам в бюдж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205 хх 560 –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401 10 хх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доходов бюдж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доходов на л/с АД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210 02 ххх –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205 хх 6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доходов бюдж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ределение доходов в бюджеты с кодом элемента отличным от собственн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401 10 ххх –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210 02 хх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B206-0A55-4B98-A1B8-1D951EEBD61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4006800" y="106668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Формирование бюджетной отчетности по показателям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«внешних» АДБ – бухгалтерские запис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07960" y="1951200"/>
          <a:ext cx="11201400" cy="4189320"/>
        </p:xfrm>
        <a:graphic>
          <a:graphicData uri="http://schemas.openxmlformats.org/drawingml/2006/table">
            <a:tbl>
              <a:tblPr/>
              <a:tblGrid>
                <a:gridCol w="635040"/>
                <a:gridCol w="3492360"/>
                <a:gridCol w="4623120"/>
                <a:gridCol w="2450880"/>
              </a:tblGrid>
              <a:tr h="76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 уч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ская запис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й орга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доходов на единый счет бюдж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202 10 510 –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402 10 ххх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й орган, как администратор доходов бюджет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доходов на единый счет бюджета по доходам  администрируемым «внешними» АДБ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кодам элементов бюджета отличным от собственн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210 02 ххх –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563c1"/>
                          </a:solidFill>
                          <a:latin typeface="Calibri"/>
                        </a:rPr>
                        <a:t>1 401 10 хх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E3E2-41D2-4B90-8EA7-A44F0028D46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сновные вопрос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397160" y="1100160"/>
            <a:ext cx="102772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екущая практика технологической и функциональной централизац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тных и отчетных 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а федеральном уровне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задачи бухгалтерского блока Федерального казначейства и его территориальных органов на среднесрочную перспективу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2" descr="BD00028_"/>
          <p:cNvPicPr/>
          <p:nvPr/>
        </p:nvPicPr>
        <p:blipFill>
          <a:blip r:embed="rId1"/>
          <a:stretch/>
        </p:blipFill>
        <p:spPr>
          <a:xfrm>
            <a:off x="11006280" y="5816520"/>
            <a:ext cx="6649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6F3A-06D6-4E75-BC71-DCCA0FF46D6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3937320" y="1066680"/>
            <a:ext cx="75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Формирование бюджетной отчетности по показателям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«внешних» АДБ (</a:t>
            </a:r>
            <a:r>
              <a:rPr b="0" lang="ru-RU" sz="2400" spc="-1" strike="noStrike" u="sng">
                <a:solidFill>
                  <a:srgbClr val="2f5597"/>
                </a:solidFill>
                <a:uFillTx/>
                <a:latin typeface="Calibri"/>
                <a:ea typeface="Arial"/>
              </a:rPr>
              <a:t>пример – элемент бюджета совпадает</a:t>
            </a: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2477880" y="4299120"/>
            <a:ext cx="27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205 хх 560 – 1 401 10 хх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210 02 ххх – 1 205 хх 660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1 401 10 ххх – 1 210 02 хх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749960" y="2381400"/>
            <a:ext cx="51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НС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элемент бюджета 01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администрируемое поступление – элемент 01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распределение 70 % элемент 01/30 % элемент 02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трелка вниз 1"/>
          <p:cNvSpPr/>
          <p:nvPr/>
        </p:nvSpPr>
        <p:spPr>
          <a:xfrm>
            <a:off x="3606840" y="3651120"/>
            <a:ext cx="484200" cy="6098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12" descr=""/>
          <p:cNvPicPr/>
          <p:nvPr/>
        </p:nvPicPr>
        <p:blipFill>
          <a:blip r:embed="rId1"/>
          <a:stretch/>
        </p:blipFill>
        <p:spPr>
          <a:xfrm>
            <a:off x="9472680" y="2085840"/>
            <a:ext cx="865080" cy="862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2"/>
          <p:cNvSpPr/>
          <p:nvPr/>
        </p:nvSpPr>
        <p:spPr>
          <a:xfrm>
            <a:off x="8804160" y="309240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ый орган,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АДБ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Стрелка вниз 1"/>
          <p:cNvSpPr/>
          <p:nvPr/>
        </p:nvSpPr>
        <p:spPr>
          <a:xfrm>
            <a:off x="9677520" y="3765600"/>
            <a:ext cx="484200" cy="93960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8580960" y="4819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1 210 02 ххх - 1 401 10 хх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26"/>
          <p:cNvSpPr/>
          <p:nvPr/>
        </p:nvSpPr>
        <p:spPr>
          <a:xfrm>
            <a:off x="2044800" y="4140360"/>
            <a:ext cx="279360" cy="1155600"/>
          </a:xfrm>
          <a:custGeom>
            <a:avLst/>
            <a:gdLst>
              <a:gd name="textAreaLeft" fmla="*/ 178560 w 279360"/>
              <a:gd name="textAreaRight" fmla="*/ 279720 w 279360"/>
              <a:gd name="textAreaTop" fmla="*/ 29880 h 1155600"/>
              <a:gd name="textAreaBottom" fmla="*/ 11257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211320" y="4133880"/>
            <a:ext cx="174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ная книг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исполнению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юджета 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ом 01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28"/>
          <p:cNvSpPr/>
          <p:nvPr/>
        </p:nvSpPr>
        <p:spPr>
          <a:xfrm rot="16200000">
            <a:off x="9778680" y="3936960"/>
            <a:ext cx="279360" cy="2832120"/>
          </a:xfrm>
          <a:custGeom>
            <a:avLst/>
            <a:gdLst>
              <a:gd name="textAreaLeft" fmla="*/ 178560 w 279360"/>
              <a:gd name="textAreaRight" fmla="*/ 279720 w 279360"/>
              <a:gd name="textAreaTop" fmla="*/ 73800 h 2832120"/>
              <a:gd name="textAreaBottom" fmla="*/ 2758320 h 28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8366040" y="5667480"/>
            <a:ext cx="30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ная книга по исполнению бюджета 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ом 02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1" descr="FNS"/>
          <p:cNvPicPr/>
          <p:nvPr/>
        </p:nvPicPr>
        <p:blipFill>
          <a:blip r:embed="rId2"/>
          <a:stretch/>
        </p:blipFill>
        <p:spPr>
          <a:xfrm>
            <a:off x="503280" y="2487600"/>
            <a:ext cx="92376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9CC4-467E-4677-870C-9E08C6E48A7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746880" y="1066680"/>
            <a:ext cx="78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Формирование бюджетной отчетности по показателям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«внешних» АДБ (</a:t>
            </a:r>
            <a:r>
              <a:rPr b="0" lang="ru-RU" sz="2400" spc="-1" strike="noStrike" u="sng">
                <a:solidFill>
                  <a:srgbClr val="2f5597"/>
                </a:solidFill>
                <a:uFillTx/>
                <a:latin typeface="Calibri"/>
                <a:ea typeface="Arial"/>
              </a:rPr>
              <a:t>пример – элемент бюджета не совпадает</a:t>
            </a: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764720" y="2381400"/>
            <a:ext cx="48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НС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элемент бюджета 01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администрируемое поступление – элемент 08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распределение 100 % элемент 08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1"/>
          <p:cNvSpPr/>
          <p:nvPr/>
        </p:nvSpPr>
        <p:spPr>
          <a:xfrm>
            <a:off x="3606840" y="3651120"/>
            <a:ext cx="484200" cy="6098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12" descr=""/>
          <p:cNvPicPr/>
          <p:nvPr/>
        </p:nvPicPr>
        <p:blipFill>
          <a:blip r:embed="rId1"/>
          <a:stretch/>
        </p:blipFill>
        <p:spPr>
          <a:xfrm>
            <a:off x="9472680" y="2085840"/>
            <a:ext cx="865080" cy="862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8804160" y="309240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ый орган,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АДБ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трелка вниз 1"/>
          <p:cNvSpPr/>
          <p:nvPr/>
        </p:nvSpPr>
        <p:spPr>
          <a:xfrm>
            <a:off x="9664560" y="3765600"/>
            <a:ext cx="484200" cy="546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2044800" y="4203720"/>
            <a:ext cx="279360" cy="1155600"/>
          </a:xfrm>
          <a:custGeom>
            <a:avLst/>
            <a:gdLst>
              <a:gd name="textAreaLeft" fmla="*/ 178560 w 279360"/>
              <a:gd name="textAreaRight" fmla="*/ 279720 w 279360"/>
              <a:gd name="textAreaTop" fmla="*/ 29880 h 1155600"/>
              <a:gd name="textAreaBottom" fmla="*/ 11257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11320" y="4133880"/>
            <a:ext cx="174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ная книг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исполнению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юджета 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ом 01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14"/>
          <p:cNvSpPr/>
          <p:nvPr/>
        </p:nvSpPr>
        <p:spPr>
          <a:xfrm rot="16200000">
            <a:off x="9778680" y="3936960"/>
            <a:ext cx="279360" cy="2832120"/>
          </a:xfrm>
          <a:custGeom>
            <a:avLst/>
            <a:gdLst>
              <a:gd name="textAreaLeft" fmla="*/ 178560 w 279360"/>
              <a:gd name="textAreaRight" fmla="*/ 279720 w 279360"/>
              <a:gd name="textAreaTop" fmla="*/ 73800 h 2832120"/>
              <a:gd name="textAreaBottom" fmla="*/ 2758320 h 28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8366040" y="5667480"/>
            <a:ext cx="30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ная книга по исполнению бюджета 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ом 0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6" descr="FNS"/>
          <p:cNvPicPr/>
          <p:nvPr/>
        </p:nvPicPr>
        <p:blipFill>
          <a:blip r:embed="rId2"/>
          <a:stretch/>
        </p:blipFill>
        <p:spPr>
          <a:xfrm>
            <a:off x="503280" y="2487600"/>
            <a:ext cx="923760" cy="9428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7"/>
          <p:cNvSpPr/>
          <p:nvPr/>
        </p:nvSpPr>
        <p:spPr>
          <a:xfrm>
            <a:off x="2515680" y="5695920"/>
            <a:ext cx="27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205 хх 560 – 1 401 10 хх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210 02 ххх – 1 205 хх 660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401 10 ххх – 1 210 02 хх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2095560" y="5549760"/>
            <a:ext cx="279360" cy="1155960"/>
          </a:xfrm>
          <a:custGeom>
            <a:avLst/>
            <a:gdLst>
              <a:gd name="textAreaLeft" fmla="*/ 178560 w 279360"/>
              <a:gd name="textAreaRight" fmla="*/ 279720 w 279360"/>
              <a:gd name="textAreaTop" fmla="*/ 29880 h 1155960"/>
              <a:gd name="textAreaBottom" fmla="*/ 1126080 h 115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262080" y="5479920"/>
            <a:ext cx="174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ная книг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исполнению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юджета 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ом 0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0" descr="Blok"/>
          <p:cNvPicPr/>
          <p:nvPr/>
        </p:nvPicPr>
        <p:blipFill>
          <a:blip r:embed="rId3"/>
          <a:stretch/>
        </p:blipFill>
        <p:spPr>
          <a:xfrm>
            <a:off x="3467160" y="439416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Blok"/>
          <p:cNvPicPr/>
          <p:nvPr/>
        </p:nvPicPr>
        <p:blipFill>
          <a:blip r:embed="rId4"/>
          <a:stretch/>
        </p:blipFill>
        <p:spPr>
          <a:xfrm>
            <a:off x="9474120" y="4381560"/>
            <a:ext cx="749520" cy="749160"/>
          </a:xfrm>
          <a:prstGeom prst="rect">
            <a:avLst/>
          </a:prstGeom>
          <a:ln w="0">
            <a:noFill/>
          </a:ln>
        </p:spPr>
      </p:pic>
      <p:sp>
        <p:nvSpPr>
          <p:cNvPr id="212" name="Line 22"/>
          <p:cNvSpPr/>
          <p:nvPr/>
        </p:nvSpPr>
        <p:spPr>
          <a:xfrm>
            <a:off x="2362320" y="6413400"/>
            <a:ext cx="302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3A44-31AD-43D3-9D83-61DFB1530B9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4664160" y="106668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Своевременность представления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502280" y="1803240"/>
            <a:ext cx="9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рок представления отчет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едельная дата (период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я отчетност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казатели которой достоверн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во всех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ущественных отношениях и могут быть использованы пользователем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 для принятия управленческих решений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266480" y="411480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истемная проблема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е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установленные срок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без соблюд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комплектности и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остоверности  ее показателей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E398-2C8A-43AF-A040-4E4875F8CA6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ставление отчетности (федеральный уровень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625760" y="1123920"/>
            <a:ext cx="1012176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риказ Минфина России от 16.11.2016 № 209н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 внесении изменений в некоторые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азы Минфина России в целях совершенствования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го (бухгалтерского) учета и отчетности»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Стрелка вниз 45"/>
          <p:cNvSpPr/>
          <p:nvPr/>
        </p:nvSpPr>
        <p:spPr>
          <a:xfrm>
            <a:off x="5979960" y="3581280"/>
            <a:ext cx="1081080" cy="95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2584440" y="4800600"/>
            <a:ext cx="7873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дел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I - X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«Порядо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едставл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й отчетности…………»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258-36FD-4EAA-B72F-235FDF0B21E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ставление отчетности (субъекты РФ, ГВБФ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96" descr="j0433892[1]"/>
          <p:cNvPicPr/>
          <p:nvPr/>
        </p:nvPicPr>
        <p:blipFill>
          <a:blip r:embed="rId1"/>
          <a:stretch/>
        </p:blipFill>
        <p:spPr>
          <a:xfrm>
            <a:off x="2211480" y="1547640"/>
            <a:ext cx="1079280" cy="13352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5"/>
          <p:cNvSpPr/>
          <p:nvPr/>
        </p:nvSpPr>
        <p:spPr>
          <a:xfrm>
            <a:off x="2311920" y="30211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С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1091520" y="543888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ИИС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Электронный бюджет»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52"/>
          <p:cNvGrpSpPr/>
          <p:nvPr/>
        </p:nvGrpSpPr>
        <p:grpSpPr>
          <a:xfrm>
            <a:off x="8962920" y="2583000"/>
            <a:ext cx="1007640" cy="844200"/>
            <a:chOff x="8962920" y="2583000"/>
            <a:chExt cx="1007640" cy="844200"/>
          </a:xfrm>
        </p:grpSpPr>
        <p:sp>
          <p:nvSpPr>
            <p:cNvPr id="229" name="Oval 53"/>
            <p:cNvSpPr/>
            <p:nvPr/>
          </p:nvSpPr>
          <p:spPr>
            <a:xfrm>
              <a:off x="8962920" y="299916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Picture 54" descr="j0433944[1]"/>
            <p:cNvPicPr/>
            <p:nvPr/>
          </p:nvPicPr>
          <p:blipFill>
            <a:blip r:embed="rId2"/>
            <a:stretch/>
          </p:blipFill>
          <p:spPr>
            <a:xfrm>
              <a:off x="9144720" y="258300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52"/>
          <p:cNvSpPr/>
          <p:nvPr/>
        </p:nvSpPr>
        <p:spPr>
          <a:xfrm>
            <a:off x="8201520" y="3541680"/>
            <a:ext cx="2596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бъекты отчетности</a:t>
            </a:r>
            <a:endParaRPr b="1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96" descr="j0433892[1]"/>
          <p:cNvPicPr/>
          <p:nvPr/>
        </p:nvPicPr>
        <p:blipFill>
          <a:blip r:embed="rId3"/>
          <a:stretch/>
        </p:blipFill>
        <p:spPr>
          <a:xfrm>
            <a:off x="5305320" y="1549440"/>
            <a:ext cx="1079640" cy="1334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4"/>
          <p:cNvSpPr/>
          <p:nvPr/>
        </p:nvSpPr>
        <p:spPr>
          <a:xfrm>
            <a:off x="5565600" y="2928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ФД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AutoShape 55"/>
          <p:cNvCxnSpPr>
            <a:stCxn id="231" idx="2"/>
            <a:endCxn id="235" idx="3"/>
          </p:cNvCxnSpPr>
          <p:nvPr/>
        </p:nvCxnSpPr>
        <p:spPr>
          <a:xfrm rot="5400000">
            <a:off x="6278760" y="1516680"/>
            <a:ext cx="815400" cy="5626800"/>
          </a:xfrm>
          <a:prstGeom prst="bentConnector2">
            <a:avLst/>
          </a:prstGeom>
          <a:ln w="19080">
            <a:solidFill>
              <a:srgbClr val="0563c1"/>
            </a:solidFill>
            <a:miter/>
            <a:tailEnd len="med" type="triangle" w="med"/>
          </a:ln>
        </p:spPr>
      </p:cxnSp>
      <p:cxnSp>
        <p:nvCxnSpPr>
          <p:cNvPr id="236" name="AutoShape 56"/>
          <p:cNvCxnSpPr>
            <a:stCxn id="230" idx="1"/>
            <a:endCxn id="232" idx="3"/>
          </p:cNvCxnSpPr>
          <p:nvPr/>
        </p:nvCxnSpPr>
        <p:spPr>
          <a:xfrm rot="10800000">
            <a:off x="6384240" y="2216880"/>
            <a:ext cx="2761200" cy="788400"/>
          </a:xfrm>
          <a:prstGeom prst="bentConnector3">
            <a:avLst>
              <a:gd name="adj1" fmla="val 4996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57"/>
          <p:cNvCxnSpPr>
            <a:stCxn id="232" idx="1"/>
            <a:endCxn id="225" idx="3"/>
          </p:cNvCxnSpPr>
          <p:nvPr/>
        </p:nvCxnSpPr>
        <p:spPr>
          <a:xfrm rot="10800000">
            <a:off x="3290040" y="2215440"/>
            <a:ext cx="2015280" cy="2160"/>
          </a:xfrm>
          <a:prstGeom prst="bentConnector3">
            <a:avLst>
              <a:gd name="adj1" fmla="val 499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8" name="Picture 58" descr="budget-gov-ru"/>
          <p:cNvPicPr/>
          <p:nvPr/>
        </p:nvPicPr>
        <p:blipFill>
          <a:blip r:embed="rId4"/>
          <a:stretch/>
        </p:blipFill>
        <p:spPr>
          <a:xfrm>
            <a:off x="901800" y="4227480"/>
            <a:ext cx="2971800" cy="10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8559-797B-4E50-A1D9-3435B90DB99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ставление отчетности (федеральный уровень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ая соединительная линия 4"/>
          <p:cNvSpPr/>
          <p:nvPr/>
        </p:nvSpPr>
        <p:spPr>
          <a:xfrm>
            <a:off x="907920" y="1428840"/>
            <a:ext cx="11071440" cy="126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6"/>
          <p:cNvSpPr/>
          <p:nvPr/>
        </p:nvSpPr>
        <p:spPr>
          <a:xfrm>
            <a:off x="1631880" y="93996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ория …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ая соединительная линия 6"/>
          <p:cNvSpPr/>
          <p:nvPr/>
        </p:nvSpPr>
        <p:spPr>
          <a:xfrm flipH="1">
            <a:off x="1020240" y="925560"/>
            <a:ext cx="19080" cy="57564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946080" y="5494320"/>
            <a:ext cx="4176720" cy="1260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ая соединительная линия 8"/>
          <p:cNvSpPr/>
          <p:nvPr/>
        </p:nvSpPr>
        <p:spPr>
          <a:xfrm>
            <a:off x="946080" y="4475160"/>
            <a:ext cx="4164120" cy="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ая соединительная линия 9"/>
          <p:cNvSpPr/>
          <p:nvPr/>
        </p:nvSpPr>
        <p:spPr>
          <a:xfrm>
            <a:off x="946080" y="3627360"/>
            <a:ext cx="4189320" cy="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ая соединительная линия 10"/>
          <p:cNvSpPr/>
          <p:nvPr/>
        </p:nvSpPr>
        <p:spPr>
          <a:xfrm>
            <a:off x="946080" y="2455920"/>
            <a:ext cx="4176720" cy="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Рисунок 12" descr=""/>
          <p:cNvPicPr/>
          <p:nvPr/>
        </p:nvPicPr>
        <p:blipFill>
          <a:blip r:embed="rId1"/>
          <a:stretch/>
        </p:blipFill>
        <p:spPr>
          <a:xfrm>
            <a:off x="2649600" y="4638600"/>
            <a:ext cx="573120" cy="571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0" descr="FK"/>
          <p:cNvPicPr/>
          <p:nvPr/>
        </p:nvPicPr>
        <p:blipFill>
          <a:blip r:embed="rId2"/>
          <a:stretch/>
        </p:blipFill>
        <p:spPr>
          <a:xfrm>
            <a:off x="2251080" y="36734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i?id=106927965-45-72&amp;n=16"/>
          <p:cNvPicPr/>
          <p:nvPr/>
        </p:nvPicPr>
        <p:blipFill>
          <a:blip r:embed="rId3"/>
          <a:stretch/>
        </p:blipFill>
        <p:spPr>
          <a:xfrm>
            <a:off x="2576520" y="2708280"/>
            <a:ext cx="401760" cy="476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3"/>
          <p:cNvSpPr/>
          <p:nvPr/>
        </p:nvSpPr>
        <p:spPr>
          <a:xfrm>
            <a:off x="3013200" y="279252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инфин Росси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4"/>
          <p:cNvSpPr/>
          <p:nvPr/>
        </p:nvSpPr>
        <p:spPr>
          <a:xfrm>
            <a:off x="2767680" y="375300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ое казначейство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Рисунок 66" descr=""/>
          <p:cNvPicPr/>
          <p:nvPr/>
        </p:nvPicPr>
        <p:blipFill>
          <a:blip r:embed="rId4"/>
          <a:stretch/>
        </p:blipFill>
        <p:spPr>
          <a:xfrm>
            <a:off x="3103560" y="56610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16" descr=""/>
          <p:cNvPicPr/>
          <p:nvPr/>
        </p:nvPicPr>
        <p:blipFill>
          <a:blip r:embed="rId5"/>
          <a:stretch/>
        </p:blipFill>
        <p:spPr>
          <a:xfrm>
            <a:off x="2131920" y="5711760"/>
            <a:ext cx="536760" cy="4381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74" descr=""/>
          <p:cNvPicPr/>
          <p:nvPr/>
        </p:nvPicPr>
        <p:blipFill>
          <a:blip r:embed="rId6"/>
          <a:stretch/>
        </p:blipFill>
        <p:spPr>
          <a:xfrm>
            <a:off x="3697200" y="56610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16" descr=""/>
          <p:cNvPicPr/>
          <p:nvPr/>
        </p:nvPicPr>
        <p:blipFill>
          <a:blip r:embed="rId7"/>
          <a:stretch/>
        </p:blipFill>
        <p:spPr>
          <a:xfrm>
            <a:off x="1363680" y="5711760"/>
            <a:ext cx="536400" cy="4381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8"/>
          <p:cNvSpPr/>
          <p:nvPr/>
        </p:nvSpPr>
        <p:spPr>
          <a:xfrm>
            <a:off x="3382920" y="62704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АУ/БУ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79" descr=""/>
          <p:cNvPicPr/>
          <p:nvPr/>
        </p:nvPicPr>
        <p:blipFill>
          <a:blip r:embed="rId8"/>
          <a:stretch/>
        </p:blipFill>
        <p:spPr>
          <a:xfrm>
            <a:off x="2433600" y="1682640"/>
            <a:ext cx="522360" cy="4730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0"/>
          <p:cNvSpPr/>
          <p:nvPr/>
        </p:nvSpPr>
        <p:spPr>
          <a:xfrm>
            <a:off x="3190320" y="1765440"/>
            <a:ext cx="15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авительство РФ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Стрелка вправо 23"/>
          <p:cNvSpPr/>
          <p:nvPr/>
        </p:nvSpPr>
        <p:spPr>
          <a:xfrm rot="16200000">
            <a:off x="1289880" y="4739400"/>
            <a:ext cx="1504800" cy="33840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трелка вправо 24"/>
          <p:cNvSpPr/>
          <p:nvPr/>
        </p:nvSpPr>
        <p:spPr>
          <a:xfrm rot="16200000">
            <a:off x="2928960" y="4717800"/>
            <a:ext cx="1460520" cy="3366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Стрелка вправо 25"/>
          <p:cNvSpPr/>
          <p:nvPr/>
        </p:nvSpPr>
        <p:spPr>
          <a:xfrm rot="16200000">
            <a:off x="2747880" y="4178160"/>
            <a:ext cx="380880" cy="3366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49"/>
          <p:cNvSpPr/>
          <p:nvPr/>
        </p:nvSpPr>
        <p:spPr>
          <a:xfrm>
            <a:off x="2401200" y="51958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БС, ГАДБ…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0"/>
          <p:cNvSpPr/>
          <p:nvPr/>
        </p:nvSpPr>
        <p:spPr>
          <a:xfrm>
            <a:off x="1380600" y="627048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АДБ, РБС, ПБС…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 rot="16200000">
            <a:off x="2697840" y="3410640"/>
            <a:ext cx="380880" cy="3380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 rot="16200000">
            <a:off x="2698560" y="2249280"/>
            <a:ext cx="379440" cy="3380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ая соединительная линия 47"/>
          <p:cNvSpPr/>
          <p:nvPr/>
        </p:nvSpPr>
        <p:spPr>
          <a:xfrm flipH="1">
            <a:off x="5109840" y="912960"/>
            <a:ext cx="19080" cy="57560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7435800" y="914400"/>
            <a:ext cx="28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ктика …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ая соединительная линия 4"/>
          <p:cNvSpPr/>
          <p:nvPr/>
        </p:nvSpPr>
        <p:spPr>
          <a:xfrm>
            <a:off x="5086440" y="1911240"/>
            <a:ext cx="69404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ая соединительная линия 4"/>
          <p:cNvSpPr/>
          <p:nvPr/>
        </p:nvSpPr>
        <p:spPr>
          <a:xfrm>
            <a:off x="8261280" y="1441440"/>
            <a:ext cx="6480" cy="11430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64"/>
          <p:cNvSpPr/>
          <p:nvPr/>
        </p:nvSpPr>
        <p:spPr>
          <a:xfrm>
            <a:off x="5744520" y="150480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ое казначейство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64"/>
          <p:cNvSpPr/>
          <p:nvPr/>
        </p:nvSpPr>
        <p:spPr>
          <a:xfrm>
            <a:off x="9489960" y="151776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убъекты отчетност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64"/>
          <p:cNvSpPr/>
          <p:nvPr/>
        </p:nvSpPr>
        <p:spPr>
          <a:xfrm>
            <a:off x="5553360" y="2050920"/>
            <a:ext cx="254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 стабильность работы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ункционала, наличие ошибок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8356680" y="3046320"/>
            <a:ext cx="3835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тсутствие должной регламентаци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дур формирования и представления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 в т.ч. в ГИИС «Электронный бюджет»;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тсутствие четкого разделения полномочий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замещений при подписании документов;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личие «фантомных» ПБС и учреждений;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8369280" y="5326200"/>
            <a:ext cx="3759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«сужение» и/или «трансформация» ГРБС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ребований установленных Минфином России;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 знание ПБС положений текущих НПА и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зъяснений Минфина России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64"/>
          <p:cNvSpPr/>
          <p:nvPr/>
        </p:nvSpPr>
        <p:spPr>
          <a:xfrm>
            <a:off x="8466120" y="2076480"/>
            <a:ext cx="34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 готовность ведомственного ППО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66"/>
          <p:cNvSpPr/>
          <p:nvPr/>
        </p:nvSpPr>
        <p:spPr>
          <a:xfrm>
            <a:off x="5651640" y="26748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хнологическая не готовность пользователе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4"/>
          <p:cNvSpPr/>
          <p:nvPr/>
        </p:nvSpPr>
        <p:spPr>
          <a:xfrm>
            <a:off x="8242200" y="3003480"/>
            <a:ext cx="19080" cy="36450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ая соединительная линия 52"/>
          <p:cNvSpPr/>
          <p:nvPr/>
        </p:nvSpPr>
        <p:spPr>
          <a:xfrm>
            <a:off x="5124600" y="2573280"/>
            <a:ext cx="6877080" cy="1260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ая соединительная линия 52"/>
          <p:cNvSpPr/>
          <p:nvPr/>
        </p:nvSpPr>
        <p:spPr>
          <a:xfrm>
            <a:off x="5111640" y="3005280"/>
            <a:ext cx="6877080" cy="1260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1AE4-642C-482D-8C93-1EF9A2B5718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4793040" y="106668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Контроль и анализ показателе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1008000" y="2023920"/>
            <a:ext cx="1779480" cy="1541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678240" y="3870360"/>
            <a:ext cx="24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трукции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57н, 162н, 174н, 183н,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91н, 162н, 33н, 65н;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ъяснения МФ РФ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Стрелка вправо 1"/>
          <p:cNvSpPr/>
          <p:nvPr/>
        </p:nvSpPr>
        <p:spPr>
          <a:xfrm>
            <a:off x="3376440" y="246708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Рисунок 2" descr=""/>
          <p:cNvPicPr/>
          <p:nvPr/>
        </p:nvPicPr>
        <p:blipFill>
          <a:blip r:embed="rId2"/>
          <a:stretch/>
        </p:blipFill>
        <p:spPr>
          <a:xfrm>
            <a:off x="5610240" y="20239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4568040" y="4148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72c4"/>
                </a:solidFill>
                <a:latin typeface="Calibri"/>
                <a:ea typeface="Arial"/>
              </a:rPr>
              <a:t>Формализованные требовани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72c4"/>
                </a:solidFill>
                <a:latin typeface="Calibri"/>
                <a:ea typeface="Arial"/>
              </a:rPr>
              <a:t>(контрольные соотношения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Стрелка вправо 9"/>
          <p:cNvSpPr/>
          <p:nvPr/>
        </p:nvSpPr>
        <p:spPr>
          <a:xfrm>
            <a:off x="8016840" y="23796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Рисунок 3" descr=""/>
          <p:cNvPicPr/>
          <p:nvPr/>
        </p:nvPicPr>
        <p:blipFill>
          <a:blip r:embed="rId3"/>
          <a:stretch/>
        </p:blipFill>
        <p:spPr>
          <a:xfrm>
            <a:off x="9782280" y="1976400"/>
            <a:ext cx="1214280" cy="12891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213840" y="414828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втоматизированные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цедуры контрол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FCDB-5D57-4714-BC6C-3C7F6275C61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4793040" y="95868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Контроль и анализ показателе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10"/>
          <p:cNvSpPr/>
          <p:nvPr/>
        </p:nvSpPr>
        <p:spPr>
          <a:xfrm>
            <a:off x="184320" y="15289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Инструкция № 65н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ВР 406 «Приобретение объектов недвижимого имуществ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сударственными (муниципальными) учреждениями»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отражаются расходы ГМУ по осуществлению капитальных вложений на приобретение объектов недвижимого имущества в государственную (муниципальную) собственность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ВР 407 «Строительство (реконструкция) объектов недвижимого имущества государственными (муниципальными) учреждениями» - отражаются расходы ГМУ по осуществлению капитальных вложений в объекты капитального строительства государственной (муниципальной) собственности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12"/>
          <p:cNvSpPr/>
          <p:nvPr/>
        </p:nvSpPr>
        <p:spPr>
          <a:xfrm rot="10800000">
            <a:off x="6279840" y="1606680"/>
            <a:ext cx="693720" cy="3998880"/>
          </a:xfrm>
          <a:custGeom>
            <a:avLst/>
            <a:gdLst>
              <a:gd name="textAreaLeft" fmla="*/ 443160 w 693720"/>
              <a:gd name="textAreaRight" fmla="*/ 694080 w 693720"/>
              <a:gd name="textAreaTop" fmla="*/ 74520 h 3998880"/>
              <a:gd name="textAreaBottom" fmla="*/ 3924360 h 399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5"/>
                  <a:pt x="10800" y="1290"/>
                </a:cubicBezTo>
                <a:lnTo>
                  <a:pt x="10800" y="9510"/>
                </a:lnTo>
                <a:cubicBezTo>
                  <a:pt x="10800" y="10155"/>
                  <a:pt x="5400" y="10800"/>
                  <a:pt x="0" y="10800"/>
                </a:cubicBezTo>
                <a:cubicBezTo>
                  <a:pt x="5400" y="10800"/>
                  <a:pt x="10800" y="11445"/>
                  <a:pt x="10800" y="12090"/>
                </a:cubicBezTo>
                <a:lnTo>
                  <a:pt x="10800" y="20310"/>
                </a:lnTo>
                <a:cubicBezTo>
                  <a:pt x="10800" y="2095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7335360" y="3052800"/>
            <a:ext cx="427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троль показателя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казатели по КВР 406, 407 в бюджетной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 не допустимы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684360" y="5775480"/>
            <a:ext cx="10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На 01.08.2017 не обеспечено: Республика Бурятия, Республика Дагестан, Республика Тыва, Республика Саха (Якутия), Красноярский край, Амурская область, Архангельская область, Курганская область, Оренбургская область, Пермский край, Чукотский автономный округ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6DD8-F1E7-4E7A-85ED-3C73021D517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1004760" y="4991040"/>
            <a:ext cx="10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Факты исполнения бюджетов, входящих в состав соответствующего консолидированного бюджета субъекта Российской Федерации с превышением кассовых расходов над ЛБО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ьяновская область, Архангельская область, Ивановская область, Владимировская область,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спублика Дагестан, Карачаево-Черкесская Республика, Республика Северная Осетия-Алания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501480" y="1566720"/>
            <a:ext cx="111636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ый кодекс Российской Федерации, ст. 219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Исполнение бюджета по расходам осуществляется в порядке, установленном соответствующим финансовым органом (органом управления государственным внебюджетным фондом), с соблюдением требований настоящего Кодекса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 Исполнение бюджета по расходам предусматривает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нятие и учет бюджетных и денежных обязательств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дтверждение денежных обязательств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анкционирование оплаты денежных обязательств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дтверждение исполнения денежных обязательств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. Получатель бюджетных средств принимает бюджетные обязательства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 пределах доведе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до него лимитов бюджетных обязательств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ая соединительная линия 3"/>
          <p:cNvSpPr/>
          <p:nvPr/>
        </p:nvSpPr>
        <p:spPr>
          <a:xfrm>
            <a:off x="401760" y="4927680"/>
            <a:ext cx="1146780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4793040" y="106668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Контроль и анализ показателе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B29-DB83-4216-A566-E22071ADE89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352760" y="0"/>
            <a:ext cx="752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Текущее состояние учетных и отчетных процедур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4481640" y="598320"/>
            <a:ext cx="68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Проблемные вопрос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(федеральный уровень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803160" y="1514520"/>
            <a:ext cx="11211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омплектование учреждений квалифицированными кадрами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тсутствие унифицированных бизнес-процессов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едостаточная автоматизация процедур ведения бюджетного учета и формирования бюджетной отчетности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централизованный характер используемых информационных систем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ысокие транзакционные издержки, связанные с многочисленными выверками учетных и отчетных данных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едостаточный внутренний контроль учетных и отчетных данных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7"/>
          <p:cNvSpPr/>
          <p:nvPr/>
        </p:nvSpPr>
        <p:spPr>
          <a:xfrm>
            <a:off x="5577840" y="5802480"/>
            <a:ext cx="51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ачество и своевременность  учетных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и отчетных показателе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Стрелка вниз 26"/>
          <p:cNvSpPr/>
          <p:nvPr/>
        </p:nvSpPr>
        <p:spPr>
          <a:xfrm rot="10800000">
            <a:off x="1142640" y="5978160"/>
            <a:ext cx="484200" cy="514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трелка вниз 27"/>
          <p:cNvSpPr/>
          <p:nvPr/>
        </p:nvSpPr>
        <p:spPr>
          <a:xfrm>
            <a:off x="5072040" y="5978520"/>
            <a:ext cx="484200" cy="514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25"/>
          <p:cNvSpPr/>
          <p:nvPr/>
        </p:nvSpPr>
        <p:spPr>
          <a:xfrm>
            <a:off x="266760" y="5648400"/>
            <a:ext cx="11782440" cy="190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29"/>
          <p:cNvSpPr/>
          <p:nvPr/>
        </p:nvSpPr>
        <p:spPr>
          <a:xfrm>
            <a:off x="1633680" y="603108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оимость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6FB-7D58-440B-ADEA-7D1DFBF3771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тоги формирования и представления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годовой бюджетной отчетности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(баланс федерального бюджета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749680" y="1023840"/>
            <a:ext cx="81738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9DA9-8541-465E-8439-3919E083089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Заголовок 1"/>
          <p:cNvSpPr/>
          <p:nvPr/>
        </p:nvSpPr>
        <p:spPr>
          <a:xfrm>
            <a:off x="4352760" y="0"/>
            <a:ext cx="752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Текущее состояние учетных и отчетных процедур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3274920" y="598320"/>
            <a:ext cx="863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Проблемные вопрос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(федеральный уровень)</a:t>
            </a:r>
            <a:r>
              <a:rPr b="0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 – подходы к решению –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мнение проверяющи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816120" y="1730520"/>
            <a:ext cx="11210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Проверка» отчетности на уровне каждого получателя средств федерального бюджета,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ого бюджетного и автономного учрежд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комиссий Федерального казначейства по рассмотрению результатов приема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 документов учетной политики главных администраторов средств федерального бюдже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ярное проведение разъяснительных мероприят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ение результатов представления бюджетной отчетности на заседиях Правительства Р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дение учета и формирование отчетности за получателей средств федерального бюджета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12B7-B4A7-41AA-AC51-928D5833663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4352760" y="0"/>
            <a:ext cx="752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кущее состояние учетных и отчетных процедур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кругленный прямоугольник 1"/>
          <p:cNvSpPr/>
          <p:nvPr/>
        </p:nvSpPr>
        <p:spPr>
          <a:xfrm>
            <a:off x="295200" y="2390760"/>
            <a:ext cx="3457800" cy="6285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ормативное правовое регулирова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295200" y="3203640"/>
            <a:ext cx="3457800" cy="6285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тодическое обеспеч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Скругленный прямоугольник 6"/>
          <p:cNvSpPr/>
          <p:nvPr/>
        </p:nvSpPr>
        <p:spPr>
          <a:xfrm>
            <a:off x="295200" y="4048200"/>
            <a:ext cx="3457800" cy="6285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ехнологическое  обеспеч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95200" y="5661000"/>
            <a:ext cx="3457800" cy="6285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инансовое обеспеч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Скругленный прямоугольник 8"/>
          <p:cNvSpPr/>
          <p:nvPr/>
        </p:nvSpPr>
        <p:spPr>
          <a:xfrm>
            <a:off x="295200" y="4861080"/>
            <a:ext cx="3457800" cy="6285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дровое обеспеч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4481640" y="595440"/>
            <a:ext cx="68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Федеральный уровен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Скругленный прямоугольник 10"/>
          <p:cNvSpPr/>
          <p:nvPr/>
        </p:nvSpPr>
        <p:spPr>
          <a:xfrm>
            <a:off x="295200" y="1544760"/>
            <a:ext cx="3457800" cy="6285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убъекты учета и отчетност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31"/>
          <p:cNvSpPr/>
          <p:nvPr/>
        </p:nvSpPr>
        <p:spPr>
          <a:xfrm>
            <a:off x="4481640" y="1544760"/>
            <a:ext cx="7549920" cy="62856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9 ГРБС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 800 получателей бюджетных средст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4481640" y="2395440"/>
            <a:ext cx="7549920" cy="62892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диная методология Минфина России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1"/>
          <p:cNvSpPr/>
          <p:nvPr/>
        </p:nvSpPr>
        <p:spPr>
          <a:xfrm>
            <a:off x="4481640" y="3203640"/>
            <a:ext cx="7549920" cy="62856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ы учетной политики утверждаемые субъектами учета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отчетности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31"/>
          <p:cNvSpPr/>
          <p:nvPr/>
        </p:nvSpPr>
        <p:spPr>
          <a:xfrm>
            <a:off x="4481640" y="4048200"/>
            <a:ext cx="7549920" cy="62856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личное ППО. Основные поставщики: «1С», «Парус», «Кварта»,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Барс» и др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31"/>
          <p:cNvSpPr/>
          <p:nvPr/>
        </p:nvSpPr>
        <p:spPr>
          <a:xfrm>
            <a:off x="4481640" y="4861080"/>
            <a:ext cx="7549920" cy="62856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0 чел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кая 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31"/>
          <p:cNvSpPr/>
          <p:nvPr/>
        </p:nvSpPr>
        <p:spPr>
          <a:xfrm>
            <a:off x="4481640" y="5661000"/>
            <a:ext cx="7549920" cy="62856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6 000 000 тыс. руб./год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Стрелка вправо 2"/>
          <p:cNvSpPr/>
          <p:nvPr/>
        </p:nvSpPr>
        <p:spPr>
          <a:xfrm>
            <a:off x="3871800" y="1655640"/>
            <a:ext cx="490680" cy="486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Стрелка вправо 18"/>
          <p:cNvSpPr/>
          <p:nvPr/>
        </p:nvSpPr>
        <p:spPr>
          <a:xfrm>
            <a:off x="3871800" y="2462040"/>
            <a:ext cx="490680" cy="484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Стрелка вправо 19"/>
          <p:cNvSpPr/>
          <p:nvPr/>
        </p:nvSpPr>
        <p:spPr>
          <a:xfrm>
            <a:off x="3871800" y="3274920"/>
            <a:ext cx="490680" cy="484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Стрелка вправо 20"/>
          <p:cNvSpPr/>
          <p:nvPr/>
        </p:nvSpPr>
        <p:spPr>
          <a:xfrm>
            <a:off x="3871800" y="4119480"/>
            <a:ext cx="490680" cy="484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Стрелка вправо 21"/>
          <p:cNvSpPr/>
          <p:nvPr/>
        </p:nvSpPr>
        <p:spPr>
          <a:xfrm>
            <a:off x="3871800" y="4938840"/>
            <a:ext cx="490680" cy="484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Стрелка вправо 22"/>
          <p:cNvSpPr/>
          <p:nvPr/>
        </p:nvSpPr>
        <p:spPr>
          <a:xfrm>
            <a:off x="3863880" y="5732640"/>
            <a:ext cx="488880" cy="4838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A01-F893-4169-8894-F30DE9CCF6D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тратегия изменений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4176720" y="882720"/>
            <a:ext cx="68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Централизация и специализаци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1"/>
          <p:cNvSpPr/>
          <p:nvPr/>
        </p:nvSpPr>
        <p:spPr>
          <a:xfrm>
            <a:off x="1200240" y="1735200"/>
            <a:ext cx="1055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Технологическ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программно-технических решений, обеспечивающих функционирование единого информационного пространства ведения учета и формирования отчетности субъектами учетных и отчетных процедур, однократность ввода информации и унификацию БП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Функциональна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чу субъектами учетных и отчетных процедур полномочий по ведению учета и формированию отчетности специализированному органу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8" descr="MCj04338000000[1]"/>
          <p:cNvPicPr/>
          <p:nvPr/>
        </p:nvPicPr>
        <p:blipFill>
          <a:blip r:embed="rId1"/>
          <a:stretch/>
        </p:blipFill>
        <p:spPr>
          <a:xfrm>
            <a:off x="399960" y="1785960"/>
            <a:ext cx="647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8" descr="MCj04338000000[1]"/>
          <p:cNvPicPr/>
          <p:nvPr/>
        </p:nvPicPr>
        <p:blipFill>
          <a:blip r:embed="rId2"/>
          <a:stretch/>
        </p:blipFill>
        <p:spPr>
          <a:xfrm>
            <a:off x="409680" y="471024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D5BA-61F2-4077-A0E7-43F0AB52CB1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тратегия изменений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4164120" y="679320"/>
            <a:ext cx="68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Функциональная централизация и специализаци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9" descr="здание"/>
          <p:cNvPicPr/>
          <p:nvPr/>
        </p:nvPicPr>
        <p:blipFill>
          <a:blip r:embed="rId1"/>
          <a:stretch/>
        </p:blipFill>
        <p:spPr>
          <a:xfrm>
            <a:off x="5657760" y="257184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Больница"/>
          <p:cNvPicPr/>
          <p:nvPr/>
        </p:nvPicPr>
        <p:blipFill>
          <a:blip r:embed="rId2"/>
          <a:stretch/>
        </p:blipFill>
        <p:spPr>
          <a:xfrm>
            <a:off x="10972800" y="1587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Универитет"/>
          <p:cNvPicPr/>
          <p:nvPr/>
        </p:nvPicPr>
        <p:blipFill>
          <a:blip r:embed="rId3"/>
          <a:stretch/>
        </p:blipFill>
        <p:spPr>
          <a:xfrm>
            <a:off x="10985400" y="2685960"/>
            <a:ext cx="882720" cy="722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Больница"/>
          <p:cNvPicPr/>
          <p:nvPr/>
        </p:nvPicPr>
        <p:blipFill>
          <a:blip r:embed="rId4"/>
          <a:stretch/>
        </p:blipFill>
        <p:spPr>
          <a:xfrm>
            <a:off x="11074320" y="3543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Универитет"/>
          <p:cNvPicPr/>
          <p:nvPr/>
        </p:nvPicPr>
        <p:blipFill>
          <a:blip r:embed="rId5"/>
          <a:stretch/>
        </p:blipFill>
        <p:spPr>
          <a:xfrm>
            <a:off x="11049120" y="4667400"/>
            <a:ext cx="882360" cy="7221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4"/>
          <p:cNvSpPr/>
          <p:nvPr/>
        </p:nvSpPr>
        <p:spPr>
          <a:xfrm>
            <a:off x="8255160" y="2247840"/>
            <a:ext cx="2246040" cy="486000"/>
          </a:xfrm>
          <a:prstGeom prst="leftArrow">
            <a:avLst>
              <a:gd name="adj1" fmla="val 50000"/>
              <a:gd name="adj2" fmla="val 11553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8191440" y="4356000"/>
            <a:ext cx="2246400" cy="486000"/>
          </a:xfrm>
          <a:prstGeom prst="leftArrow">
            <a:avLst>
              <a:gd name="adj1" fmla="val 50000"/>
              <a:gd name="adj2" fmla="val 11555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998600" y="3751200"/>
            <a:ext cx="21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ециализированный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 (учреждение)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8288280" y="16066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дача функц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19" descr="Больница"/>
          <p:cNvPicPr/>
          <p:nvPr/>
        </p:nvPicPr>
        <p:blipFill>
          <a:blip r:embed="rId6"/>
          <a:stretch/>
        </p:blipFill>
        <p:spPr>
          <a:xfrm>
            <a:off x="254160" y="16509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Универитет"/>
          <p:cNvPicPr/>
          <p:nvPr/>
        </p:nvPicPr>
        <p:blipFill>
          <a:blip r:embed="rId7"/>
          <a:stretch/>
        </p:blipFill>
        <p:spPr>
          <a:xfrm>
            <a:off x="304920" y="2749680"/>
            <a:ext cx="882360" cy="722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1" descr="Больница"/>
          <p:cNvPicPr/>
          <p:nvPr/>
        </p:nvPicPr>
        <p:blipFill>
          <a:blip r:embed="rId8"/>
          <a:stretch/>
        </p:blipFill>
        <p:spPr>
          <a:xfrm>
            <a:off x="393840" y="36068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" descr="Универитет"/>
          <p:cNvPicPr/>
          <p:nvPr/>
        </p:nvPicPr>
        <p:blipFill>
          <a:blip r:embed="rId9"/>
          <a:stretch/>
        </p:blipFill>
        <p:spPr>
          <a:xfrm>
            <a:off x="393840" y="4730760"/>
            <a:ext cx="882360" cy="72216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23"/>
          <p:cNvSpPr/>
          <p:nvPr/>
        </p:nvSpPr>
        <p:spPr>
          <a:xfrm rot="10800000">
            <a:off x="1790640" y="2222280"/>
            <a:ext cx="2246400" cy="485640"/>
          </a:xfrm>
          <a:prstGeom prst="leftArrow">
            <a:avLst>
              <a:gd name="adj1" fmla="val 50000"/>
              <a:gd name="adj2" fmla="val 115641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25"/>
          <p:cNvSpPr/>
          <p:nvPr/>
        </p:nvSpPr>
        <p:spPr>
          <a:xfrm rot="10800000">
            <a:off x="1727280" y="4330440"/>
            <a:ext cx="2246400" cy="485640"/>
          </a:xfrm>
          <a:prstGeom prst="leftArrow">
            <a:avLst>
              <a:gd name="adj1" fmla="val 50000"/>
              <a:gd name="adj2" fmla="val 115641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1780560" y="158112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моч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1884960" y="380376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моч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8069760" y="370188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ункц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3756960" y="606420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опущение: полномочие – совокупность функций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4527720" y="514980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 и внешние функ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D001-8692-43AC-A842-98D6A4516C4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3317760" y="46980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Цели централизации функций  ведения бюджетного учета и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формирования отчетности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72960" y="1860480"/>
            <a:ext cx="1160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472c4"/>
                </a:solidFill>
                <a:latin typeface="Arial"/>
                <a:ea typeface="Arial"/>
              </a:rPr>
              <a:t>Повышение эффективност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нения бухгалтерской функции в секторе государственного управления Российской Федераци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утем трансформации действующей организационно-функциональной моде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ведения бюджетного учета и формирования бюджетной отчетности в централизованную модель с концентрацией основных операционных издержек в Федеральном казначействе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9C44-17A1-42B9-963F-8BA96351620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Централизация функци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3908520" y="106668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Положения Бюджетного кодекса Российской Федер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89720" y="1565280"/>
            <a:ext cx="11891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58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лавный распорядитель (распорядитель) бюджетных средств в случаях, установленных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тельством Российской Федерации, высшим исполнительным органом государственной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сти субъекта Российской Федерации (местной администрацией), в порядке, установленном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овым органом, в соответствии с общими требованиями, установленными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ом финансов Российской Федерации, вправе принять решение о передаче: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их бюджетных полномоч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лучателя бюджетных средст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ходящимся в его ведении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чателям бюджетных сред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Федеральному казначейству (финансовому органу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бъекта Российской Федерации, муниципального образования);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номочий получателей бюджетных средст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ходящихся в ведении главного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рядителя бюджетных средств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угим получателям бюджетных средств, находящимся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его ведении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65160" y="59310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БС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7714800" y="586728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БС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42" descr="BD00028_"/>
          <p:cNvPicPr/>
          <p:nvPr/>
        </p:nvPicPr>
        <p:blipFill>
          <a:blip r:embed="rId1"/>
          <a:stretch/>
        </p:blipFill>
        <p:spPr>
          <a:xfrm>
            <a:off x="3449520" y="5816520"/>
            <a:ext cx="665280" cy="62244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9"/>
          <p:cNvSpPr/>
          <p:nvPr/>
        </p:nvSpPr>
        <p:spPr>
          <a:xfrm>
            <a:off x="6019920" y="5829480"/>
            <a:ext cx="1214280" cy="485640"/>
          </a:xfrm>
          <a:prstGeom prst="rightArrow">
            <a:avLst>
              <a:gd name="adj1" fmla="val 50000"/>
              <a:gd name="adj2" fmla="val 62509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DD8C-22B8-4EA7-BE74-E2C4FBA5F58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"/>
          <p:cNvSpPr/>
          <p:nvPr/>
        </p:nvSpPr>
        <p:spPr>
          <a:xfrm>
            <a:off x="4095720" y="76320"/>
            <a:ext cx="78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Трансформация организационно-функциональной модели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(пример федерального уровня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239840" y="1190520"/>
          <a:ext cx="10458360" cy="5419800"/>
        </p:xfrm>
        <a:graphic>
          <a:graphicData uri="http://schemas.openxmlformats.org/drawingml/2006/table">
            <a:tbl>
              <a:tblPr/>
              <a:tblGrid>
                <a:gridCol w="2133720"/>
                <a:gridCol w="2163600"/>
                <a:gridCol w="3200400"/>
                <a:gridCol w="296064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 мод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пективная мод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олог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ты, инструк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фин Росс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фин Росс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ое обеспеч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ы учетной полит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казначейство, ГРБ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е обеспеч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ламен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казначейство, ГРБ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ое обеспеч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з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фин России, Федеральное казначейство, 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фин России, Федеральное казначей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-процесс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ФХ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 контро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казначейство, 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казначейство, ГРБ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b9bd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та, своевременность и ка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, РБС, ПБС, АДБ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казначей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B1D-C32F-4497-B803-FFE63B43F65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Модель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348280" y="134460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ы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5454000" y="131904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урналы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ераций, Г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7647480" y="11685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ь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4018680" y="13446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т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ерац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23"/>
          <p:cNvSpPr/>
          <p:nvPr/>
        </p:nvSpPr>
        <p:spPr>
          <a:xfrm flipH="1">
            <a:off x="809280" y="2171880"/>
            <a:ext cx="1054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24"/>
          <p:cNvSpPr/>
          <p:nvPr/>
        </p:nvSpPr>
        <p:spPr>
          <a:xfrm>
            <a:off x="3868560" y="1187280"/>
            <a:ext cx="0" cy="499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25"/>
          <p:cNvSpPr/>
          <p:nvPr/>
        </p:nvSpPr>
        <p:spPr>
          <a:xfrm flipH="1">
            <a:off x="5424480" y="1230480"/>
            <a:ext cx="7920" cy="49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7148520" y="1292400"/>
            <a:ext cx="12600" cy="48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9"/>
          <p:cNvSpPr/>
          <p:nvPr/>
        </p:nvSpPr>
        <p:spPr>
          <a:xfrm>
            <a:off x="7273800" y="3336840"/>
            <a:ext cx="11034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AutoShape 29"/>
          <p:cNvSpPr/>
          <p:nvPr/>
        </p:nvSpPr>
        <p:spPr>
          <a:xfrm>
            <a:off x="5565600" y="3327480"/>
            <a:ext cx="137160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30"/>
          <p:cNvSpPr/>
          <p:nvPr/>
        </p:nvSpPr>
        <p:spPr>
          <a:xfrm>
            <a:off x="3990960" y="3327480"/>
            <a:ext cx="129060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AutoShape 31"/>
          <p:cNvSpPr/>
          <p:nvPr/>
        </p:nvSpPr>
        <p:spPr>
          <a:xfrm>
            <a:off x="2314440" y="3327480"/>
            <a:ext cx="139716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32"/>
          <p:cNvSpPr/>
          <p:nvPr/>
        </p:nvSpPr>
        <p:spPr>
          <a:xfrm flipH="1">
            <a:off x="809280" y="3213000"/>
            <a:ext cx="1054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AutoShape 33"/>
          <p:cNvSpPr/>
          <p:nvPr/>
        </p:nvSpPr>
        <p:spPr>
          <a:xfrm>
            <a:off x="7273800" y="4213080"/>
            <a:ext cx="11034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AutoShape 34"/>
          <p:cNvSpPr/>
          <p:nvPr/>
        </p:nvSpPr>
        <p:spPr>
          <a:xfrm>
            <a:off x="5622840" y="4194000"/>
            <a:ext cx="131436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AutoShape 36"/>
          <p:cNvSpPr/>
          <p:nvPr/>
        </p:nvSpPr>
        <p:spPr>
          <a:xfrm>
            <a:off x="3990960" y="4203720"/>
            <a:ext cx="129060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AutoShape 37"/>
          <p:cNvSpPr/>
          <p:nvPr/>
        </p:nvSpPr>
        <p:spPr>
          <a:xfrm>
            <a:off x="2314440" y="4203720"/>
            <a:ext cx="139716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Line 38"/>
          <p:cNvSpPr/>
          <p:nvPr/>
        </p:nvSpPr>
        <p:spPr>
          <a:xfrm flipH="1">
            <a:off x="809280" y="4089240"/>
            <a:ext cx="1054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44"/>
          <p:cNvSpPr/>
          <p:nvPr/>
        </p:nvSpPr>
        <p:spPr>
          <a:xfrm flipH="1">
            <a:off x="809280" y="4965840"/>
            <a:ext cx="1054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45"/>
          <p:cNvSpPr/>
          <p:nvPr/>
        </p:nvSpPr>
        <p:spPr>
          <a:xfrm>
            <a:off x="7273800" y="5076720"/>
            <a:ext cx="11034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46"/>
          <p:cNvSpPr/>
          <p:nvPr/>
        </p:nvSpPr>
        <p:spPr>
          <a:xfrm>
            <a:off x="5622840" y="5057640"/>
            <a:ext cx="131436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48"/>
          <p:cNvSpPr/>
          <p:nvPr/>
        </p:nvSpPr>
        <p:spPr>
          <a:xfrm>
            <a:off x="3990960" y="5067360"/>
            <a:ext cx="12906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49"/>
          <p:cNvSpPr/>
          <p:nvPr/>
        </p:nvSpPr>
        <p:spPr>
          <a:xfrm>
            <a:off x="2314440" y="5067360"/>
            <a:ext cx="139716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4348080" y="690480"/>
            <a:ext cx="68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Функциональная часть модел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24"/>
          <p:cNvSpPr/>
          <p:nvPr/>
        </p:nvSpPr>
        <p:spPr>
          <a:xfrm>
            <a:off x="2244600" y="1187280"/>
            <a:ext cx="0" cy="499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118520" y="15318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997920" y="242244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екуща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AutoShape 19"/>
          <p:cNvSpPr/>
          <p:nvPr/>
        </p:nvSpPr>
        <p:spPr>
          <a:xfrm>
            <a:off x="7292880" y="2432160"/>
            <a:ext cx="1103400" cy="6728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29"/>
          <p:cNvSpPr/>
          <p:nvPr/>
        </p:nvSpPr>
        <p:spPr>
          <a:xfrm>
            <a:off x="5584680" y="2422440"/>
            <a:ext cx="137160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AutoShape 30"/>
          <p:cNvSpPr/>
          <p:nvPr/>
        </p:nvSpPr>
        <p:spPr>
          <a:xfrm>
            <a:off x="4010040" y="2422440"/>
            <a:ext cx="129060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AutoShape 31"/>
          <p:cNvSpPr/>
          <p:nvPr/>
        </p:nvSpPr>
        <p:spPr>
          <a:xfrm>
            <a:off x="2333520" y="2422440"/>
            <a:ext cx="139716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27"/>
          <p:cNvSpPr/>
          <p:nvPr/>
        </p:nvSpPr>
        <p:spPr>
          <a:xfrm>
            <a:off x="8516880" y="1568520"/>
            <a:ext cx="0" cy="46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7265520" y="1585800"/>
            <a:ext cx="115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дельная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свод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8597160" y="17161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солидир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8580600" y="3336840"/>
            <a:ext cx="13176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AutoShape 33"/>
          <p:cNvSpPr/>
          <p:nvPr/>
        </p:nvSpPr>
        <p:spPr>
          <a:xfrm>
            <a:off x="8580600" y="4213080"/>
            <a:ext cx="13176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AutoShape 45"/>
          <p:cNvSpPr/>
          <p:nvPr/>
        </p:nvSpPr>
        <p:spPr>
          <a:xfrm>
            <a:off x="8580600" y="5076720"/>
            <a:ext cx="13176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AutoShape 19"/>
          <p:cNvSpPr/>
          <p:nvPr/>
        </p:nvSpPr>
        <p:spPr>
          <a:xfrm>
            <a:off x="8599320" y="2432160"/>
            <a:ext cx="1317960" cy="6728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352160" y="343044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1352160" y="43401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2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352160" y="52038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3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27"/>
          <p:cNvSpPr/>
          <p:nvPr/>
        </p:nvSpPr>
        <p:spPr>
          <a:xfrm>
            <a:off x="10018800" y="1301760"/>
            <a:ext cx="15840" cy="48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10039320" y="1393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23"/>
          <p:cNvSpPr/>
          <p:nvPr/>
        </p:nvSpPr>
        <p:spPr>
          <a:xfrm flipH="1" flipV="1">
            <a:off x="7161120" y="1568520"/>
            <a:ext cx="28735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19"/>
          <p:cNvSpPr/>
          <p:nvPr/>
        </p:nvSpPr>
        <p:spPr>
          <a:xfrm>
            <a:off x="10126800" y="2400480"/>
            <a:ext cx="1101600" cy="6728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AutoShape 45"/>
          <p:cNvSpPr/>
          <p:nvPr/>
        </p:nvSpPr>
        <p:spPr>
          <a:xfrm>
            <a:off x="10126800" y="5089680"/>
            <a:ext cx="1103040" cy="6728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AutoShape 19"/>
          <p:cNvSpPr/>
          <p:nvPr/>
        </p:nvSpPr>
        <p:spPr>
          <a:xfrm>
            <a:off x="10126800" y="3294000"/>
            <a:ext cx="110160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f0d9"/>
              </a:gs>
              <a:gs pos="100000">
                <a:srgbClr val="e1ecf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БП + ФК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AutoShape 19"/>
          <p:cNvSpPr/>
          <p:nvPr/>
        </p:nvSpPr>
        <p:spPr>
          <a:xfrm>
            <a:off x="10126800" y="4194000"/>
            <a:ext cx="110160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f0d9"/>
              </a:gs>
              <a:gs pos="100000">
                <a:srgbClr val="e1ecf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БП + ФК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11D7-1F17-465A-9866-9E1D6B1B989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Заголовок 1"/>
          <p:cNvSpPr/>
          <p:nvPr/>
        </p:nvSpPr>
        <p:spPr>
          <a:xfrm>
            <a:off x="3317760" y="1260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Модель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1"/>
          <p:cNvSpPr/>
          <p:nvPr/>
        </p:nvSpPr>
        <p:spPr>
          <a:xfrm>
            <a:off x="4348080" y="690480"/>
            <a:ext cx="68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Организационная часть модел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40"/>
          <p:cNvSpPr/>
          <p:nvPr/>
        </p:nvSpPr>
        <p:spPr>
          <a:xfrm>
            <a:off x="8854560" y="1674720"/>
            <a:ext cx="236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41"/>
          <p:cNvSpPr/>
          <p:nvPr/>
        </p:nvSpPr>
        <p:spPr>
          <a:xfrm>
            <a:off x="5890680" y="166680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42"/>
          <p:cNvSpPr/>
          <p:nvPr/>
        </p:nvSpPr>
        <p:spPr>
          <a:xfrm>
            <a:off x="3313800" y="162576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одическ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AutoShape 46"/>
          <p:cNvSpPr/>
          <p:nvPr/>
        </p:nvSpPr>
        <p:spPr>
          <a:xfrm>
            <a:off x="3203640" y="260352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AutoShape 47"/>
          <p:cNvSpPr/>
          <p:nvPr/>
        </p:nvSpPr>
        <p:spPr>
          <a:xfrm>
            <a:off x="6022800" y="261612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AutoShape 48"/>
          <p:cNvSpPr/>
          <p:nvPr/>
        </p:nvSpPr>
        <p:spPr>
          <a:xfrm>
            <a:off x="8804160" y="261612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AutoShape 50"/>
          <p:cNvSpPr/>
          <p:nvPr/>
        </p:nvSpPr>
        <p:spPr>
          <a:xfrm>
            <a:off x="3203640" y="35560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51"/>
          <p:cNvSpPr/>
          <p:nvPr/>
        </p:nvSpPr>
        <p:spPr>
          <a:xfrm>
            <a:off x="6022800" y="35686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8804160" y="35686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3165480" y="454644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5985000" y="455940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55"/>
          <p:cNvSpPr/>
          <p:nvPr/>
        </p:nvSpPr>
        <p:spPr>
          <a:xfrm>
            <a:off x="8766000" y="455940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AutoShape 56"/>
          <p:cNvSpPr/>
          <p:nvPr/>
        </p:nvSpPr>
        <p:spPr>
          <a:xfrm>
            <a:off x="3165480" y="5511960"/>
            <a:ext cx="2286000" cy="63468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AutoShape 57"/>
          <p:cNvSpPr/>
          <p:nvPr/>
        </p:nvSpPr>
        <p:spPr>
          <a:xfrm>
            <a:off x="5985000" y="552456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AutoShape 58"/>
          <p:cNvSpPr/>
          <p:nvPr/>
        </p:nvSpPr>
        <p:spPr>
          <a:xfrm>
            <a:off x="8766000" y="552456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59"/>
          <p:cNvSpPr/>
          <p:nvPr/>
        </p:nvSpPr>
        <p:spPr>
          <a:xfrm>
            <a:off x="1073160" y="2413080"/>
            <a:ext cx="1036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60"/>
          <p:cNvSpPr/>
          <p:nvPr/>
        </p:nvSpPr>
        <p:spPr>
          <a:xfrm>
            <a:off x="1073160" y="3365640"/>
            <a:ext cx="1030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61"/>
          <p:cNvSpPr/>
          <p:nvPr/>
        </p:nvSpPr>
        <p:spPr>
          <a:xfrm>
            <a:off x="1073160" y="4394160"/>
            <a:ext cx="1028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62"/>
          <p:cNvSpPr/>
          <p:nvPr/>
        </p:nvSpPr>
        <p:spPr>
          <a:xfrm>
            <a:off x="1073160" y="5346720"/>
            <a:ext cx="102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63"/>
          <p:cNvSpPr/>
          <p:nvPr/>
        </p:nvSpPr>
        <p:spPr>
          <a:xfrm>
            <a:off x="5769000" y="165096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65"/>
          <p:cNvSpPr/>
          <p:nvPr/>
        </p:nvSpPr>
        <p:spPr>
          <a:xfrm>
            <a:off x="8512200" y="1625760"/>
            <a:ext cx="0" cy="47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62"/>
          <p:cNvSpPr/>
          <p:nvPr/>
        </p:nvSpPr>
        <p:spPr>
          <a:xfrm>
            <a:off x="2886120" y="1674720"/>
            <a:ext cx="0" cy="47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42"/>
          <p:cNvSpPr/>
          <p:nvPr/>
        </p:nvSpPr>
        <p:spPr>
          <a:xfrm>
            <a:off x="1301040" y="16984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дель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221840" y="278748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екуща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558080" y="37958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58080" y="4705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2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1558080" y="5581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3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647-BF65-4540-A1A4-F820D876EF1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Модель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"/>
          <p:cNvSpPr/>
          <p:nvPr/>
        </p:nvSpPr>
        <p:spPr>
          <a:xfrm>
            <a:off x="4348080" y="690480"/>
            <a:ext cx="68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Примеры моделей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- Росаккредитация (Ф3 + О3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893600" y="20574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ы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5614560" y="2044800"/>
            <a:ext cx="184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урналы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й, Г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7588080" y="2108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ь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3893400" y="204480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т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й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3630600" y="1893960"/>
            <a:ext cx="0" cy="21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Line 11"/>
          <p:cNvSpPr/>
          <p:nvPr/>
        </p:nvSpPr>
        <p:spPr>
          <a:xfrm>
            <a:off x="5535720" y="1893960"/>
            <a:ext cx="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12"/>
          <p:cNvSpPr/>
          <p:nvPr/>
        </p:nvSpPr>
        <p:spPr>
          <a:xfrm>
            <a:off x="7389720" y="188136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14"/>
          <p:cNvSpPr/>
          <p:nvPr/>
        </p:nvSpPr>
        <p:spPr>
          <a:xfrm>
            <a:off x="7513560" y="3075120"/>
            <a:ext cx="1854360" cy="6728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AutoShape 16"/>
          <p:cNvSpPr/>
          <p:nvPr/>
        </p:nvSpPr>
        <p:spPr>
          <a:xfrm>
            <a:off x="5599080" y="3075120"/>
            <a:ext cx="1701720" cy="6728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17"/>
          <p:cNvSpPr/>
          <p:nvPr/>
        </p:nvSpPr>
        <p:spPr>
          <a:xfrm>
            <a:off x="3719520" y="3075120"/>
            <a:ext cx="1701720" cy="6728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AutoShape 18"/>
          <p:cNvSpPr/>
          <p:nvPr/>
        </p:nvSpPr>
        <p:spPr>
          <a:xfrm>
            <a:off x="1776240" y="3049560"/>
            <a:ext cx="170208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19"/>
          <p:cNvSpPr/>
          <p:nvPr/>
        </p:nvSpPr>
        <p:spPr>
          <a:xfrm flipH="1">
            <a:off x="1355760" y="2909880"/>
            <a:ext cx="100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8281800" y="4414680"/>
            <a:ext cx="236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5448960" y="436572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3015000" y="436572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одическ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23"/>
          <p:cNvSpPr/>
          <p:nvPr/>
        </p:nvSpPr>
        <p:spPr>
          <a:xfrm>
            <a:off x="2630520" y="53434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24"/>
          <p:cNvSpPr/>
          <p:nvPr/>
        </p:nvSpPr>
        <p:spPr>
          <a:xfrm>
            <a:off x="5450040" y="53560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25"/>
          <p:cNvSpPr/>
          <p:nvPr/>
        </p:nvSpPr>
        <p:spPr>
          <a:xfrm>
            <a:off x="8231040" y="53560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26"/>
          <p:cNvSpPr/>
          <p:nvPr/>
        </p:nvSpPr>
        <p:spPr>
          <a:xfrm>
            <a:off x="2313000" y="515304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27"/>
          <p:cNvSpPr/>
          <p:nvPr/>
        </p:nvSpPr>
        <p:spPr>
          <a:xfrm>
            <a:off x="2262240" y="610560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28"/>
          <p:cNvSpPr/>
          <p:nvPr/>
        </p:nvSpPr>
        <p:spPr>
          <a:xfrm>
            <a:off x="5234040" y="4441680"/>
            <a:ext cx="0" cy="19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29"/>
          <p:cNvSpPr/>
          <p:nvPr/>
        </p:nvSpPr>
        <p:spPr>
          <a:xfrm>
            <a:off x="8053560" y="442908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9464760" y="198432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9770400" y="20829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AutoShape 14"/>
          <p:cNvSpPr/>
          <p:nvPr/>
        </p:nvSpPr>
        <p:spPr>
          <a:xfrm>
            <a:off x="9543960" y="3049560"/>
            <a:ext cx="185436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9570-4734-4ECB-85E9-E9A6EE12439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тоги формирования и представления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годовой бюджетной отчетности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(консолидированный баланс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2647800" y="1027080"/>
            <a:ext cx="8197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835-A206-4FBD-9654-CFEBAC33DEE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Модель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"/>
          <p:cNvSpPr/>
          <p:nvPr/>
        </p:nvSpPr>
        <p:spPr>
          <a:xfrm>
            <a:off x="4348080" y="690480"/>
            <a:ext cx="68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Примеры моделей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- «силовой блок» ГРБС(Ф2 + О2)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436480" y="184644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ы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6157440" y="1833480"/>
            <a:ext cx="184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урналы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й, Г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 Box 19"/>
          <p:cNvSpPr/>
          <p:nvPr/>
        </p:nvSpPr>
        <p:spPr>
          <a:xfrm>
            <a:off x="8302680" y="18972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ь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20"/>
          <p:cNvSpPr/>
          <p:nvPr/>
        </p:nvSpPr>
        <p:spPr>
          <a:xfrm>
            <a:off x="4436280" y="183348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т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й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21"/>
          <p:cNvSpPr/>
          <p:nvPr/>
        </p:nvSpPr>
        <p:spPr>
          <a:xfrm>
            <a:off x="4173480" y="1682640"/>
            <a:ext cx="0" cy="21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6078600" y="1682640"/>
            <a:ext cx="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24"/>
          <p:cNvSpPr/>
          <p:nvPr/>
        </p:nvSpPr>
        <p:spPr>
          <a:xfrm>
            <a:off x="8062920" y="167004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30"/>
          <p:cNvSpPr/>
          <p:nvPr/>
        </p:nvSpPr>
        <p:spPr>
          <a:xfrm>
            <a:off x="8228160" y="2863800"/>
            <a:ext cx="185400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31"/>
          <p:cNvSpPr/>
          <p:nvPr/>
        </p:nvSpPr>
        <p:spPr>
          <a:xfrm>
            <a:off x="6256440" y="2863800"/>
            <a:ext cx="1638360" cy="67320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33"/>
          <p:cNvSpPr/>
          <p:nvPr/>
        </p:nvSpPr>
        <p:spPr>
          <a:xfrm>
            <a:off x="4262400" y="2863800"/>
            <a:ext cx="1701720" cy="67320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34"/>
          <p:cNvSpPr/>
          <p:nvPr/>
        </p:nvSpPr>
        <p:spPr>
          <a:xfrm>
            <a:off x="2319480" y="2838600"/>
            <a:ext cx="1701720" cy="6728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45"/>
          <p:cNvSpPr/>
          <p:nvPr/>
        </p:nvSpPr>
        <p:spPr>
          <a:xfrm flipH="1">
            <a:off x="1562040" y="2673360"/>
            <a:ext cx="103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6"/>
          <p:cNvSpPr/>
          <p:nvPr/>
        </p:nvSpPr>
        <p:spPr>
          <a:xfrm>
            <a:off x="8610120" y="4230720"/>
            <a:ext cx="236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7"/>
          <p:cNvSpPr/>
          <p:nvPr/>
        </p:nvSpPr>
        <p:spPr>
          <a:xfrm>
            <a:off x="5802840" y="421488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8"/>
          <p:cNvSpPr/>
          <p:nvPr/>
        </p:nvSpPr>
        <p:spPr>
          <a:xfrm>
            <a:off x="3256560" y="421488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одическо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49"/>
          <p:cNvSpPr/>
          <p:nvPr/>
        </p:nvSpPr>
        <p:spPr>
          <a:xfrm>
            <a:off x="2959200" y="5159520"/>
            <a:ext cx="2286000" cy="63468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0"/>
          <p:cNvSpPr/>
          <p:nvPr/>
        </p:nvSpPr>
        <p:spPr>
          <a:xfrm>
            <a:off x="5778360" y="517212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5b9bd5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51"/>
          <p:cNvSpPr/>
          <p:nvPr/>
        </p:nvSpPr>
        <p:spPr>
          <a:xfrm>
            <a:off x="8559720" y="517212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ccff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БП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52"/>
          <p:cNvSpPr/>
          <p:nvPr/>
        </p:nvSpPr>
        <p:spPr>
          <a:xfrm>
            <a:off x="2641680" y="496872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53"/>
          <p:cNvSpPr/>
          <p:nvPr/>
        </p:nvSpPr>
        <p:spPr>
          <a:xfrm>
            <a:off x="2590920" y="59212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54"/>
          <p:cNvSpPr/>
          <p:nvPr/>
        </p:nvSpPr>
        <p:spPr>
          <a:xfrm>
            <a:off x="5562720" y="4257720"/>
            <a:ext cx="0" cy="19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55"/>
          <p:cNvSpPr/>
          <p:nvPr/>
        </p:nvSpPr>
        <p:spPr>
          <a:xfrm>
            <a:off x="8381880" y="42451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484560" y="6369120"/>
            <a:ext cx="67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* - выделенные сотрудники ФК находящиеся в «периметре» ГРБ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10182240" y="1631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10442520" y="1973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10439280" y="2838600"/>
            <a:ext cx="1406520" cy="67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f0d9"/>
              </a:gs>
              <a:gs pos="100000">
                <a:srgbClr val="e1ecf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БП + ФК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F220-D314-44CA-9D05-BA61C0E34E1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одходы к централизаци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"/>
          <p:cNvSpPr/>
          <p:nvPr/>
        </p:nvSpPr>
        <p:spPr>
          <a:xfrm>
            <a:off x="4348080" y="690480"/>
            <a:ext cx="68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«Дерево решений» + риск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Скругленный прямоугольник 1"/>
          <p:cNvSpPr/>
          <p:nvPr/>
        </p:nvSpPr>
        <p:spPr>
          <a:xfrm>
            <a:off x="1011240" y="1911240"/>
            <a:ext cx="2870280" cy="638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иповой государственный орган?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Скругленный прямоугольник 6"/>
          <p:cNvSpPr/>
          <p:nvPr/>
        </p:nvSpPr>
        <p:spPr>
          <a:xfrm>
            <a:off x="8839080" y="1911240"/>
            <a:ext cx="3057480" cy="638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 обороны и безопасност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Скругленный прямоугольник 7"/>
          <p:cNvSpPr/>
          <p:nvPr/>
        </p:nvSpPr>
        <p:spPr>
          <a:xfrm>
            <a:off x="4772160" y="1911240"/>
            <a:ext cx="3057480" cy="638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ециализированный государственный орган?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Соединительная линия уступом 3"/>
          <p:cNvCxnSpPr>
            <a:stCxn id="522" idx="3"/>
            <a:endCxn id="524" idx="0"/>
          </p:cNvCxnSpPr>
          <p:nvPr/>
        </p:nvCxnSpPr>
        <p:spPr>
          <a:xfrm flipV="1">
            <a:off x="3881520" y="1910520"/>
            <a:ext cx="2419560" cy="320040"/>
          </a:xfrm>
          <a:prstGeom prst="bentConnector4">
            <a:avLst>
              <a:gd name="adj1" fmla="val 24300"/>
              <a:gd name="adj2" fmla="val 171621"/>
            </a:avLst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526" name="TextBox 10"/>
          <p:cNvSpPr/>
          <p:nvPr/>
        </p:nvSpPr>
        <p:spPr>
          <a:xfrm>
            <a:off x="3947400" y="1841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7" name="Соединительная линия уступом 15"/>
          <p:cNvCxnSpPr>
            <a:stCxn id="524" idx="3"/>
            <a:endCxn id="523" idx="0"/>
          </p:cNvCxnSpPr>
          <p:nvPr/>
        </p:nvCxnSpPr>
        <p:spPr>
          <a:xfrm flipV="1">
            <a:off x="7829280" y="1910520"/>
            <a:ext cx="2539080" cy="320040"/>
          </a:xfrm>
          <a:prstGeom prst="bentConnector4">
            <a:avLst>
              <a:gd name="adj1" fmla="val 23255"/>
              <a:gd name="adj2" fmla="val 171621"/>
            </a:avLst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528" name="TextBox 21"/>
          <p:cNvSpPr/>
          <p:nvPr/>
        </p:nvSpPr>
        <p:spPr>
          <a:xfrm>
            <a:off x="7895520" y="18414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9" name="Соединительная линия уступом 25"/>
          <p:cNvCxnSpPr>
            <a:stCxn id="522" idx="2"/>
            <a:endCxn id="530" idx="0"/>
          </p:cNvCxnSpPr>
          <p:nvPr/>
        </p:nvCxnSpPr>
        <p:spPr>
          <a:xfrm rot="5400000">
            <a:off x="1478160" y="3064680"/>
            <a:ext cx="1483560" cy="452880"/>
          </a:xfrm>
          <a:prstGeom prst="bentConnector3">
            <a:avLst>
              <a:gd name="adj1" fmla="val 50000"/>
            </a:avLst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531" name="TextBox 31"/>
          <p:cNvSpPr/>
          <p:nvPr/>
        </p:nvSpPr>
        <p:spPr>
          <a:xfrm>
            <a:off x="2008080" y="29210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Скругленный прямоугольник 33"/>
          <p:cNvSpPr/>
          <p:nvPr/>
        </p:nvSpPr>
        <p:spPr>
          <a:xfrm>
            <a:off x="465120" y="4032360"/>
            <a:ext cx="3057480" cy="13953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ача всех функц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ФК (Ф3, О1,О2,О3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Стрелка вниз 37"/>
          <p:cNvSpPr/>
          <p:nvPr/>
        </p:nvSpPr>
        <p:spPr>
          <a:xfrm>
            <a:off x="1936800" y="1279440"/>
            <a:ext cx="485640" cy="4888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Скругленный прямоугольник 41"/>
          <p:cNvSpPr/>
          <p:nvPr/>
        </p:nvSpPr>
        <p:spPr>
          <a:xfrm>
            <a:off x="4344840" y="4032360"/>
            <a:ext cx="3057840" cy="13953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ача функции ведения регистров и формирования отчетности (Ф2, О1,О2,О3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4" name="Соединительная линия уступом 42"/>
          <p:cNvCxnSpPr>
            <a:stCxn id="524" idx="2"/>
            <a:endCxn id="533" idx="0"/>
          </p:cNvCxnSpPr>
          <p:nvPr/>
        </p:nvCxnSpPr>
        <p:spPr>
          <a:xfrm rot="5400000">
            <a:off x="5345280" y="3077280"/>
            <a:ext cx="1483560" cy="427680"/>
          </a:xfrm>
          <a:prstGeom prst="bentConnector3">
            <a:avLst>
              <a:gd name="adj1" fmla="val 50000"/>
            </a:avLst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535" name="TextBox 46"/>
          <p:cNvSpPr/>
          <p:nvPr/>
        </p:nvSpPr>
        <p:spPr>
          <a:xfrm>
            <a:off x="5870520" y="2916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Скругленный прямоугольник 54"/>
          <p:cNvSpPr/>
          <p:nvPr/>
        </p:nvSpPr>
        <p:spPr>
          <a:xfrm>
            <a:off x="8470800" y="4032360"/>
            <a:ext cx="3057480" cy="13953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жедневное (ежемесячное) представление информации в ФК (текущая модель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7" name="Соединительная линия уступом 55"/>
          <p:cNvCxnSpPr>
            <a:stCxn id="523" idx="2"/>
            <a:endCxn id="536" idx="0"/>
          </p:cNvCxnSpPr>
          <p:nvPr/>
        </p:nvCxnSpPr>
        <p:spPr>
          <a:xfrm rot="5400000">
            <a:off x="9441720" y="3106440"/>
            <a:ext cx="1483560" cy="369000"/>
          </a:xfrm>
          <a:prstGeom prst="bentConnector3">
            <a:avLst>
              <a:gd name="adj1" fmla="val 50000"/>
            </a:avLst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538" name="Text Box 23"/>
          <p:cNvSpPr/>
          <p:nvPr/>
        </p:nvSpPr>
        <p:spPr>
          <a:xfrm>
            <a:off x="763560" y="5916600"/>
            <a:ext cx="83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ки: сопротивление со стороны ГРБС;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контроля; организация управленческого учета …………….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57D-75DD-423C-B0A7-E6B8033D539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тратегия изменений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"/>
          <p:cNvSpPr/>
          <p:nvPr/>
        </p:nvSpPr>
        <p:spPr>
          <a:xfrm>
            <a:off x="3821040" y="882720"/>
            <a:ext cx="72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Централизация и специализация на уровне ФК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6" descr="Больница"/>
          <p:cNvPicPr/>
          <p:nvPr/>
        </p:nvPicPr>
        <p:blipFill>
          <a:blip r:embed="rId1"/>
          <a:stretch/>
        </p:blipFill>
        <p:spPr>
          <a:xfrm>
            <a:off x="10972800" y="1790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Универитет"/>
          <p:cNvPicPr/>
          <p:nvPr/>
        </p:nvPicPr>
        <p:blipFill>
          <a:blip r:embed="rId2"/>
          <a:stretch/>
        </p:blipFill>
        <p:spPr>
          <a:xfrm>
            <a:off x="10985400" y="2889360"/>
            <a:ext cx="882720" cy="722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Больница"/>
          <p:cNvPicPr/>
          <p:nvPr/>
        </p:nvPicPr>
        <p:blipFill>
          <a:blip r:embed="rId3"/>
          <a:stretch/>
        </p:blipFill>
        <p:spPr>
          <a:xfrm>
            <a:off x="11074320" y="444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Универитет"/>
          <p:cNvPicPr/>
          <p:nvPr/>
        </p:nvPicPr>
        <p:blipFill>
          <a:blip r:embed="rId4"/>
          <a:stretch/>
        </p:blipFill>
        <p:spPr>
          <a:xfrm>
            <a:off x="11049120" y="5568840"/>
            <a:ext cx="882360" cy="7225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0"/>
          <p:cNvSpPr/>
          <p:nvPr/>
        </p:nvSpPr>
        <p:spPr>
          <a:xfrm>
            <a:off x="8217000" y="3111480"/>
            <a:ext cx="2246040" cy="485640"/>
          </a:xfrm>
          <a:prstGeom prst="leftArrow">
            <a:avLst>
              <a:gd name="adj1" fmla="val 50000"/>
              <a:gd name="adj2" fmla="val 11562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8166240" y="5537160"/>
            <a:ext cx="2246040" cy="485640"/>
          </a:xfrm>
          <a:prstGeom prst="leftArrow">
            <a:avLst>
              <a:gd name="adj1" fmla="val 50000"/>
              <a:gd name="adj2" fmla="val 11562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4808520" y="394344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ТОФК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8237520" y="1631880"/>
            <a:ext cx="207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саккредитация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дача функц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ения учет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выплаты з/п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14" descr="Больница"/>
          <p:cNvPicPr/>
          <p:nvPr/>
        </p:nvPicPr>
        <p:blipFill>
          <a:blip r:embed="rId5"/>
          <a:stretch/>
        </p:blipFill>
        <p:spPr>
          <a:xfrm>
            <a:off x="254160" y="1854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5" descr="Универитет"/>
          <p:cNvPicPr/>
          <p:nvPr/>
        </p:nvPicPr>
        <p:blipFill>
          <a:blip r:embed="rId6"/>
          <a:stretch/>
        </p:blipFill>
        <p:spPr>
          <a:xfrm>
            <a:off x="304920" y="2952720"/>
            <a:ext cx="882360" cy="7225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6" descr="Больница"/>
          <p:cNvPicPr/>
          <p:nvPr/>
        </p:nvPicPr>
        <p:blipFill>
          <a:blip r:embed="rId7"/>
          <a:stretch/>
        </p:blipFill>
        <p:spPr>
          <a:xfrm>
            <a:off x="393840" y="4432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Универитет"/>
          <p:cNvPicPr/>
          <p:nvPr/>
        </p:nvPicPr>
        <p:blipFill>
          <a:blip r:embed="rId8"/>
          <a:stretch/>
        </p:blipFill>
        <p:spPr>
          <a:xfrm>
            <a:off x="393840" y="5556240"/>
            <a:ext cx="882360" cy="72216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18"/>
          <p:cNvSpPr/>
          <p:nvPr/>
        </p:nvSpPr>
        <p:spPr>
          <a:xfrm rot="10800000">
            <a:off x="1778040" y="3136680"/>
            <a:ext cx="2246400" cy="485640"/>
          </a:xfrm>
          <a:prstGeom prst="leftArrow">
            <a:avLst>
              <a:gd name="adj1" fmla="val 50000"/>
              <a:gd name="adj2" fmla="val 115641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AutoShape 19"/>
          <p:cNvSpPr/>
          <p:nvPr/>
        </p:nvSpPr>
        <p:spPr>
          <a:xfrm rot="10800000">
            <a:off x="1727280" y="5524200"/>
            <a:ext cx="2246400" cy="485640"/>
          </a:xfrm>
          <a:prstGeom prst="leftArrow">
            <a:avLst>
              <a:gd name="adj1" fmla="val 50000"/>
              <a:gd name="adj2" fmla="val 115641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833480" y="1708200"/>
            <a:ext cx="188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ее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КУ «ЦОКР»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мочий ПБ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главе 100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1853280" y="4667400"/>
            <a:ext cx="18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мочия по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ю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7771680" y="462924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бюджет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т БО и ДО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30" descr="FK"/>
          <p:cNvPicPr/>
          <p:nvPr/>
        </p:nvPicPr>
        <p:blipFill>
          <a:blip r:embed="rId9"/>
          <a:stretch/>
        </p:blipFill>
        <p:spPr>
          <a:xfrm>
            <a:off x="5897520" y="300996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04800" y="147240"/>
            <a:ext cx="775044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Организационно-функциональная модель Федерального казначейства в рамках обеспечения централизации учетных процедур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Прямая соединительная линия 51"/>
          <p:cNvSpPr/>
          <p:nvPr/>
        </p:nvSpPr>
        <p:spPr>
          <a:xfrm flipV="1">
            <a:off x="652320" y="5643720"/>
            <a:ext cx="1102392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ая соединительная линия 59"/>
          <p:cNvSpPr/>
          <p:nvPr/>
        </p:nvSpPr>
        <p:spPr>
          <a:xfrm flipV="1">
            <a:off x="584280" y="6501960"/>
            <a:ext cx="11023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ая соединительная линия 65"/>
          <p:cNvSpPr/>
          <p:nvPr/>
        </p:nvSpPr>
        <p:spPr>
          <a:xfrm flipV="1">
            <a:off x="525600" y="2670120"/>
            <a:ext cx="1108224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Прямая соединительная линия 29"/>
          <p:cNvSpPr/>
          <p:nvPr/>
        </p:nvSpPr>
        <p:spPr>
          <a:xfrm>
            <a:off x="2141640" y="1407960"/>
            <a:ext cx="1440" cy="51310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1"/>
          <p:cNvSpPr/>
          <p:nvPr/>
        </p:nvSpPr>
        <p:spPr>
          <a:xfrm>
            <a:off x="348480" y="1935000"/>
            <a:ext cx="184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</a:rPr>
              <a:t>1-ы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ологически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76"/>
          <p:cNvSpPr/>
          <p:nvPr/>
        </p:nvSpPr>
        <p:spPr>
          <a:xfrm>
            <a:off x="418680" y="3238560"/>
            <a:ext cx="171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</a:rPr>
              <a:t>2-о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77"/>
          <p:cNvSpPr/>
          <p:nvPr/>
        </p:nvSpPr>
        <p:spPr>
          <a:xfrm>
            <a:off x="261360" y="457668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  <a:ea typeface="Arial"/>
              </a:rPr>
              <a:t>3-и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онно-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налитически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Прямая соединительная линия 78"/>
          <p:cNvSpPr/>
          <p:nvPr/>
        </p:nvSpPr>
        <p:spPr>
          <a:xfrm>
            <a:off x="10190160" y="1368360"/>
            <a:ext cx="0" cy="5130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Прямая соединительная линия 79"/>
          <p:cNvSpPr/>
          <p:nvPr/>
        </p:nvSpPr>
        <p:spPr>
          <a:xfrm flipV="1">
            <a:off x="525600" y="1755720"/>
            <a:ext cx="1108224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8" descr="i?id=106927965-45-72&amp;n=16"/>
          <p:cNvPicPr/>
          <p:nvPr/>
        </p:nvPicPr>
        <p:blipFill>
          <a:blip r:embed="rId1"/>
          <a:stretch/>
        </p:blipFill>
        <p:spPr>
          <a:xfrm>
            <a:off x="2448000" y="1900080"/>
            <a:ext cx="611280" cy="7272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32"/>
          <p:cNvSpPr/>
          <p:nvPr/>
        </p:nvSpPr>
        <p:spPr>
          <a:xfrm>
            <a:off x="3206880" y="19731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фин Росс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БМ, ДИТ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30" descr="FK"/>
          <p:cNvPicPr/>
          <p:nvPr/>
        </p:nvPicPr>
        <p:blipFill>
          <a:blip r:embed="rId2"/>
          <a:stretch/>
        </p:blipFill>
        <p:spPr>
          <a:xfrm>
            <a:off x="2432160" y="2849400"/>
            <a:ext cx="666720" cy="6685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3"/>
          <p:cNvSpPr/>
          <p:nvPr/>
        </p:nvSpPr>
        <p:spPr>
          <a:xfrm>
            <a:off x="3128040" y="289728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ое казначейство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управления ЦА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12" descr=""/>
          <p:cNvPicPr/>
          <p:nvPr/>
        </p:nvPicPr>
        <p:blipFill>
          <a:blip r:embed="rId3"/>
          <a:stretch/>
        </p:blipFill>
        <p:spPr>
          <a:xfrm>
            <a:off x="2517840" y="4660920"/>
            <a:ext cx="685800" cy="6825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85"/>
          <p:cNvSpPr/>
          <p:nvPr/>
        </p:nvSpPr>
        <p:spPr>
          <a:xfrm>
            <a:off x="3212640" y="462744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нтры компетен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дельные ТОФК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Рисунок 12" descr=""/>
          <p:cNvPicPr/>
          <p:nvPr/>
        </p:nvPicPr>
        <p:blipFill>
          <a:blip r:embed="rId4"/>
          <a:stretch/>
        </p:blipFill>
        <p:spPr>
          <a:xfrm>
            <a:off x="2674800" y="568656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12" descr=""/>
          <p:cNvPicPr/>
          <p:nvPr/>
        </p:nvPicPr>
        <p:blipFill>
          <a:blip r:embed="rId5"/>
          <a:stretch/>
        </p:blipFill>
        <p:spPr>
          <a:xfrm>
            <a:off x="2411280" y="57848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88"/>
          <p:cNvSpPr/>
          <p:nvPr/>
        </p:nvSpPr>
        <p:spPr>
          <a:xfrm>
            <a:off x="507960" y="5664240"/>
            <a:ext cx="154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  <a:ea typeface="Arial"/>
              </a:rPr>
              <a:t>4-ы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перационны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89"/>
          <p:cNvSpPr/>
          <p:nvPr/>
        </p:nvSpPr>
        <p:spPr>
          <a:xfrm>
            <a:off x="3357000" y="5896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Прямая соединительная линия 90"/>
          <p:cNvSpPr/>
          <p:nvPr/>
        </p:nvSpPr>
        <p:spPr>
          <a:xfrm>
            <a:off x="6323040" y="1407960"/>
            <a:ext cx="0" cy="51310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3"/>
          <p:cNvSpPr/>
          <p:nvPr/>
        </p:nvSpPr>
        <p:spPr>
          <a:xfrm>
            <a:off x="800640" y="1392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92"/>
          <p:cNvSpPr/>
          <p:nvPr/>
        </p:nvSpPr>
        <p:spPr>
          <a:xfrm>
            <a:off x="3528360" y="1392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бъекты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93"/>
          <p:cNvSpPr/>
          <p:nvPr/>
        </p:nvSpPr>
        <p:spPr>
          <a:xfrm>
            <a:off x="7670880" y="13921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94"/>
          <p:cNvSpPr/>
          <p:nvPr/>
        </p:nvSpPr>
        <p:spPr>
          <a:xfrm>
            <a:off x="10629000" y="1392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95"/>
          <p:cNvSpPr/>
          <p:nvPr/>
        </p:nvSpPr>
        <p:spPr>
          <a:xfrm>
            <a:off x="10274040" y="18464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ци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96"/>
          <p:cNvSpPr/>
          <p:nvPr/>
        </p:nvSpPr>
        <p:spPr>
          <a:xfrm>
            <a:off x="10310760" y="3351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ци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97"/>
          <p:cNvSpPr/>
          <p:nvPr/>
        </p:nvSpPr>
        <p:spPr>
          <a:xfrm>
            <a:off x="10139040" y="45655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руг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98"/>
          <p:cNvSpPr/>
          <p:nvPr/>
        </p:nvSpPr>
        <p:spPr>
          <a:xfrm>
            <a:off x="10318680" y="5621400"/>
            <a:ext cx="14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34"/>
          <p:cNvSpPr/>
          <p:nvPr/>
        </p:nvSpPr>
        <p:spPr>
          <a:xfrm>
            <a:off x="6426360" y="1832040"/>
            <a:ext cx="358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бщих требований к порядку ведения бюджетного учета и формирования бюджетной отчетности,  технологического обеспечения указанных процедур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00"/>
          <p:cNvSpPr/>
          <p:nvPr/>
        </p:nvSpPr>
        <p:spPr>
          <a:xfrm>
            <a:off x="6426360" y="2778120"/>
            <a:ext cx="370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бухгалтер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и методическое сопровождение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 централизованного ведения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го учета и формирования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й отчетности в ГИИС «Электронный бюджет»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01"/>
          <p:cNvSpPr/>
          <p:nvPr/>
        </p:nvSpPr>
        <p:spPr>
          <a:xfrm>
            <a:off x="6342480" y="4503600"/>
            <a:ext cx="3955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 пользователей по вопросам работы в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ИИС «Электронный бюджет», мониторинг и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упреждение методических, технологических и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х проблем, формирование и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 аналитической информации и т.п.,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е с ГРБС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02"/>
          <p:cNvSpPr/>
          <p:nvPr/>
        </p:nvSpPr>
        <p:spPr>
          <a:xfrm>
            <a:off x="6437520" y="5904000"/>
            <a:ext cx="34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дение бюджетного учета и формирование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й отчетности, мониторинг ПУиО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Прямая соединительная линия 103"/>
          <p:cNvSpPr/>
          <p:nvPr/>
        </p:nvSpPr>
        <p:spPr>
          <a:xfrm flipV="1">
            <a:off x="623880" y="4495320"/>
            <a:ext cx="11023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12"/>
          <p:cNvSpPr/>
          <p:nvPr/>
        </p:nvSpPr>
        <p:spPr>
          <a:xfrm>
            <a:off x="3191760" y="375444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ые администраторы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ств бюджет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14"/>
          <p:cNvSpPr/>
          <p:nvPr/>
        </p:nvSpPr>
        <p:spPr>
          <a:xfrm>
            <a:off x="6415200" y="3992400"/>
            <a:ext cx="31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учетной и отчетной политики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Рисунок 116" descr=""/>
          <p:cNvPicPr/>
          <p:nvPr/>
        </p:nvPicPr>
        <p:blipFill>
          <a:blip r:embed="rId6"/>
          <a:stretch/>
        </p:blipFill>
        <p:spPr>
          <a:xfrm>
            <a:off x="2327400" y="3711600"/>
            <a:ext cx="898560" cy="733320"/>
          </a:xfrm>
          <a:prstGeom prst="rect">
            <a:avLst/>
          </a:prstGeom>
          <a:ln w="0">
            <a:noFill/>
          </a:ln>
        </p:spPr>
      </p:pic>
      <p:sp>
        <p:nvSpPr>
          <p:cNvPr id="597" name="Номер слайда 3"/>
          <p:cNvSpPr/>
          <p:nvPr/>
        </p:nvSpPr>
        <p:spPr>
          <a:xfrm>
            <a:off x="10790280" y="635652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D7B1-9A88-4ECC-8DF3-FA678E2219F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204800" y="285480"/>
            <a:ext cx="775044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Реформирование системы бюджетных платежей –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новая учетная модель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10790280" y="635652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915-3A05-466D-A593-AF66448E829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0" descr="ЦБРФ"/>
          <p:cNvPicPr/>
          <p:nvPr/>
        </p:nvPicPr>
        <p:blipFill>
          <a:blip r:embed="rId1"/>
          <a:stretch/>
        </p:blipFill>
        <p:spPr>
          <a:xfrm>
            <a:off x="87480" y="3398760"/>
            <a:ext cx="122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1" name="Рисунок 12" descr=""/>
          <p:cNvPicPr/>
          <p:nvPr/>
        </p:nvPicPr>
        <p:blipFill>
          <a:blip r:embed="rId2"/>
          <a:stretch/>
        </p:blipFill>
        <p:spPr>
          <a:xfrm>
            <a:off x="2030400" y="361476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602" name="AutoShape 42"/>
          <p:cNvSpPr/>
          <p:nvPr/>
        </p:nvSpPr>
        <p:spPr>
          <a:xfrm>
            <a:off x="1238400" y="3759120"/>
            <a:ext cx="792000" cy="486000"/>
          </a:xfrm>
          <a:prstGeom prst="leftRightArrow">
            <a:avLst>
              <a:gd name="adj1" fmla="val 50000"/>
              <a:gd name="adj2" fmla="val 3244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AutoShape 43"/>
          <p:cNvSpPr/>
          <p:nvPr/>
        </p:nvSpPr>
        <p:spPr>
          <a:xfrm>
            <a:off x="1771560" y="1819440"/>
            <a:ext cx="7345440" cy="4321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44"/>
          <p:cNvSpPr/>
          <p:nvPr/>
        </p:nvSpPr>
        <p:spPr>
          <a:xfrm>
            <a:off x="2822400" y="1913040"/>
            <a:ext cx="1584360" cy="4032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4032000"/>
              <a:gd name="textAreaBottom" fmla="*/ 3954960 h 4032000"/>
            </a:gdLst>
            <a:ahLst/>
            <a:rect l="textAreaLeft" t="textAreaTop" r="textAreaRight" b="textAreaBottom"/>
            <a:pathLst>
              <a:path w="21600" h="54962">
                <a:moveTo>
                  <a:pt x="3600" y="0"/>
                </a:moveTo>
                <a:arcTo wR="3600" hR="3600" stAng="16200000" swAng="-5400000"/>
                <a:lnTo>
                  <a:pt x="0" y="51362"/>
                </a:lnTo>
                <a:arcTo wR="3600" hR="3600" stAng="10800000" swAng="-5400000"/>
                <a:lnTo>
                  <a:pt x="18000" y="549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значейски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че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45"/>
          <p:cNvSpPr/>
          <p:nvPr/>
        </p:nvSpPr>
        <p:spPr>
          <a:xfrm>
            <a:off x="4551480" y="1913040"/>
            <a:ext cx="2376360" cy="403200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4032000"/>
              <a:gd name="textAreaBottom" fmla="*/ 3916080 h 4032000"/>
            </a:gdLst>
            <a:ahLst/>
            <a:rect l="textAreaLeft" t="textAreaTop" r="textAreaRight" b="textAreaBottom"/>
            <a:pathLst>
              <a:path w="21600" h="36647">
                <a:moveTo>
                  <a:pt x="3600" y="0"/>
                </a:moveTo>
                <a:arcTo wR="3600" hR="3600" stAng="16200000" swAng="-5400000"/>
                <a:lnTo>
                  <a:pt x="0" y="33047"/>
                </a:lnTo>
                <a:arcTo wR="3600" hR="3600" stAng="10800000" swAng="-5400000"/>
                <a:lnTo>
                  <a:pt x="18000" y="36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Сче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казначейского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учет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46"/>
          <p:cNvSpPr/>
          <p:nvPr/>
        </p:nvSpPr>
        <p:spPr>
          <a:xfrm>
            <a:off x="4695840" y="4432320"/>
            <a:ext cx="2087640" cy="503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 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\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7"/>
          <p:cNvSpPr/>
          <p:nvPr/>
        </p:nvSpPr>
        <p:spPr>
          <a:xfrm>
            <a:off x="4695840" y="3639960"/>
            <a:ext cx="208764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48"/>
          <p:cNvSpPr/>
          <p:nvPr/>
        </p:nvSpPr>
        <p:spPr>
          <a:xfrm>
            <a:off x="4694400" y="5153040"/>
            <a:ext cx="2087280" cy="64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ая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49"/>
          <p:cNvSpPr/>
          <p:nvPr/>
        </p:nvSpPr>
        <p:spPr>
          <a:xfrm>
            <a:off x="7070760" y="1913040"/>
            <a:ext cx="1655640" cy="201600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000"/>
              <a:gd name="textAreaBottom" fmla="*/ 1935360 h 2016000"/>
            </a:gdLst>
            <a:ahLst/>
            <a:rect l="textAreaLeft" t="textAreaTop" r="textAreaRight" b="textAreaBottom"/>
            <a:pathLst>
              <a:path w="21600" h="26300">
                <a:moveTo>
                  <a:pt x="3600" y="0"/>
                </a:moveTo>
                <a:arcTo wR="3600" hR="3600" stAng="16200000" swAng="-5400000"/>
                <a:lnTo>
                  <a:pt x="0" y="22700"/>
                </a:lnTo>
                <a:arcTo wR="3600" hR="3600" stAng="10800000" swAng="-5400000"/>
                <a:lnTo>
                  <a:pt x="18000" y="26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значейская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4118040" y="378468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6638760" y="3784680"/>
            <a:ext cx="574920" cy="485640"/>
          </a:xfrm>
          <a:prstGeom prst="rightArrow">
            <a:avLst>
              <a:gd name="adj1" fmla="val 50000"/>
              <a:gd name="adj2" fmla="val 2959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52"/>
          <p:cNvSpPr/>
          <p:nvPr/>
        </p:nvSpPr>
        <p:spPr>
          <a:xfrm>
            <a:off x="4694400" y="2994120"/>
            <a:ext cx="2087280" cy="503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 учет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53"/>
          <p:cNvSpPr/>
          <p:nvPr/>
        </p:nvSpPr>
        <p:spPr>
          <a:xfrm>
            <a:off x="2015640" y="44258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54"/>
          <p:cNvSpPr/>
          <p:nvPr/>
        </p:nvSpPr>
        <p:spPr>
          <a:xfrm>
            <a:off x="7070760" y="4073400"/>
            <a:ext cx="1655640" cy="187164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1871640"/>
              <a:gd name="textAreaBottom" fmla="*/ 1791000 h 1871640"/>
            </a:gdLst>
            <a:ahLst/>
            <a:rect l="textAreaLeft" t="textAreaTop" r="textAreaRight" b="textAreaBottom"/>
            <a:pathLst>
              <a:path w="21600" h="24417">
                <a:moveTo>
                  <a:pt x="3600" y="0"/>
                </a:moveTo>
                <a:arcTo wR="3600" hR="3600" stAng="16200000" swAng="-5400000"/>
                <a:lnTo>
                  <a:pt x="0" y="20817"/>
                </a:lnTo>
                <a:arcTo wR="3600" hR="3600" stAng="10800000" swAng="-5400000"/>
                <a:lnTo>
                  <a:pt x="18000" y="24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тическая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клиенто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55"/>
          <p:cNvSpPr/>
          <p:nvPr/>
        </p:nvSpPr>
        <p:spPr>
          <a:xfrm>
            <a:off x="9276480" y="20383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есение изменений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Бюджетный кодекс РФ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56"/>
          <p:cNvSpPr/>
          <p:nvPr/>
        </p:nvSpPr>
        <p:spPr>
          <a:xfrm>
            <a:off x="10325160" y="2781360"/>
            <a:ext cx="485640" cy="658800"/>
          </a:xfrm>
          <a:prstGeom prst="downArrow">
            <a:avLst>
              <a:gd name="adj1" fmla="val 50000"/>
              <a:gd name="adj2" fmla="val 3391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57"/>
          <p:cNvSpPr/>
          <p:nvPr/>
        </p:nvSpPr>
        <p:spPr>
          <a:xfrm>
            <a:off x="9850320" y="3676680"/>
            <a:ext cx="15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казы МФ,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рукции,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и…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58"/>
          <p:cNvSpPr/>
          <p:nvPr/>
        </p:nvSpPr>
        <p:spPr>
          <a:xfrm>
            <a:off x="9272520" y="542916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чая группа МФ и 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AutoShape 59"/>
          <p:cNvSpPr/>
          <p:nvPr/>
        </p:nvSpPr>
        <p:spPr>
          <a:xfrm>
            <a:off x="10337760" y="4686480"/>
            <a:ext cx="485640" cy="633240"/>
          </a:xfrm>
          <a:prstGeom prst="upArrow">
            <a:avLst>
              <a:gd name="adj1" fmla="val 50000"/>
              <a:gd name="adj2" fmla="val 32598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204800" y="285480"/>
            <a:ext cx="775044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Реформирование системы бюджетных платежей –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новая учетная модель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10790280" y="635652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5C2-77B3-41A0-B012-4421CD5DA8B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"/>
          <p:cNvSpPr/>
          <p:nvPr/>
        </p:nvSpPr>
        <p:spPr>
          <a:xfrm>
            <a:off x="4424400" y="1096920"/>
            <a:ext cx="68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130400" y="1227240"/>
          <a:ext cx="10358280" cy="3002040"/>
        </p:xfrm>
        <a:graphic>
          <a:graphicData uri="http://schemas.openxmlformats.org/drawingml/2006/table">
            <a:tbl>
              <a:tblPr/>
              <a:tblGrid>
                <a:gridCol w="183960"/>
                <a:gridCol w="187560"/>
                <a:gridCol w="185760"/>
                <a:gridCol w="185400"/>
                <a:gridCol w="184320"/>
                <a:gridCol w="190440"/>
                <a:gridCol w="189000"/>
                <a:gridCol w="189000"/>
                <a:gridCol w="228600"/>
                <a:gridCol w="266760"/>
                <a:gridCol w="215640"/>
                <a:gridCol w="252360"/>
                <a:gridCol w="252720"/>
                <a:gridCol w="252360"/>
                <a:gridCol w="249120"/>
                <a:gridCol w="196920"/>
                <a:gridCol w="244440"/>
                <a:gridCol w="250920"/>
                <a:gridCol w="196560"/>
                <a:gridCol w="227160"/>
                <a:gridCol w="233280"/>
                <a:gridCol w="227160"/>
                <a:gridCol w="507960"/>
                <a:gridCol w="368280"/>
                <a:gridCol w="447840"/>
                <a:gridCol w="209520"/>
                <a:gridCol w="212760"/>
                <a:gridCol w="212400"/>
                <a:gridCol w="212760"/>
                <a:gridCol w="212760"/>
                <a:gridCol w="211320"/>
                <a:gridCol w="212760"/>
                <a:gridCol w="210960"/>
                <a:gridCol w="212760"/>
                <a:gridCol w="212760"/>
                <a:gridCol w="212760"/>
                <a:gridCol w="212760"/>
                <a:gridCol w="212760"/>
                <a:gridCol w="210960"/>
                <a:gridCol w="212760"/>
                <a:gridCol w="211320"/>
                <a:gridCol w="212400"/>
                <a:gridCol w="212760"/>
                <a:gridCol w="212760"/>
                <a:gridCol w="212760"/>
              </a:tblGrid>
              <a:tr h="614520">
                <a:tc gridSpan="5" rowSpan="3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счета казначей-ского уч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валю-т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нтификатор участника системы казначейских платеж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-вый номер сч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аналитической классифик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 rowSpan="3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бюджетной классифик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нтификатор бюджета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2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организации в реестровой записи Реестра УБП и НУБ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ТО ФК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560" rIns="75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ый номе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"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210960"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7560" rIns="75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00349e"/>
                      </a:solidFill>
                    </a:lnL>
                    <a:lnR w="5760">
                      <a:solidFill>
                        <a:srgbClr val="00349e"/>
                      </a:solidFill>
                    </a:lnR>
                    <a:lnT w="5760">
                      <a:solidFill>
                        <a:srgbClr val="00349e"/>
                      </a:solidFill>
                    </a:lnT>
                    <a:lnB w="5760">
                      <a:solidFill>
                        <a:srgbClr val="00349e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624" name="Rectangle 181"/>
          <p:cNvSpPr/>
          <p:nvPr/>
        </p:nvSpPr>
        <p:spPr>
          <a:xfrm>
            <a:off x="1104840" y="4518000"/>
            <a:ext cx="1043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112 – кассовые выплаты получателей средств федерального бюджета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10 – российский рубль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6 – Управление Федерального казначейства по Тульской области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001 – код федерального бюджета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7777 – код организации по Сводному реестру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01 – порядковый номер лицевого счета, открытого организации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00 – код дополнительной аналитической классификации;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711301090016000244 – код бюджетной классифика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04800" y="285480"/>
            <a:ext cx="775044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Реформирование системы бюджетных платежей –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новая учетная модель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10790280" y="635652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1603-B514-46FE-A829-1AFB7790AB1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2"/>
          <p:cNvSpPr/>
          <p:nvPr/>
        </p:nvSpPr>
        <p:spPr>
          <a:xfrm>
            <a:off x="1393920" y="1587600"/>
            <a:ext cx="102772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аланс операций в системе казначейских платежей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чет о движении денежных средств в системе казначейских платежей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чет об управлении остатками на едином казначейском счете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яснительная записка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Рисунок 2" descr=""/>
          <p:cNvPicPr/>
          <p:nvPr/>
        </p:nvPicPr>
        <p:blipFill>
          <a:blip r:embed="rId1"/>
          <a:stretch/>
        </p:blipFill>
        <p:spPr>
          <a:xfrm>
            <a:off x="797040" y="177012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2" descr=""/>
          <p:cNvPicPr/>
          <p:nvPr/>
        </p:nvPicPr>
        <p:blipFill>
          <a:blip r:embed="rId2"/>
          <a:stretch/>
        </p:blipFill>
        <p:spPr>
          <a:xfrm>
            <a:off x="797040" y="291312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630" name="Рисунок 2" descr=""/>
          <p:cNvPicPr/>
          <p:nvPr/>
        </p:nvPicPr>
        <p:blipFill>
          <a:blip r:embed="rId3"/>
          <a:stretch/>
        </p:blipFill>
        <p:spPr>
          <a:xfrm>
            <a:off x="797040" y="466560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2" descr=""/>
          <p:cNvPicPr/>
          <p:nvPr/>
        </p:nvPicPr>
        <p:blipFill>
          <a:blip r:embed="rId4"/>
          <a:stretch/>
        </p:blipFill>
        <p:spPr>
          <a:xfrm>
            <a:off x="797040" y="58341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63A-DA8B-4173-9616-CAE14074E01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4648320" y="20016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Основные задачи бухгалтерского блока Федерального казначейства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8" descr="MCj04338000000[1]"/>
          <p:cNvPicPr/>
          <p:nvPr/>
        </p:nvPicPr>
        <p:blipFill>
          <a:blip r:embed="rId1"/>
          <a:stretch/>
        </p:blipFill>
        <p:spPr>
          <a:xfrm>
            <a:off x="765000" y="1714680"/>
            <a:ext cx="648000" cy="561960"/>
          </a:xfrm>
          <a:prstGeom prst="rect">
            <a:avLst/>
          </a:prstGeom>
          <a:ln w="0">
            <a:noFill/>
          </a:ln>
        </p:spPr>
      </p:pic>
      <p:sp>
        <p:nvSpPr>
          <p:cNvPr id="635" name="TextBox 2"/>
          <p:cNvSpPr/>
          <p:nvPr/>
        </p:nvSpPr>
        <p:spPr>
          <a:xfrm>
            <a:off x="1436760" y="1535040"/>
            <a:ext cx="102772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ершение «отладки» механизмов ведения казначейского учета бюджетных и денежных обязательств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ведения казначейского учета бюджетных и денежных обязательств с переходом указанных объектов учета на федеральном уровне в Федеральное казначейство;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ерехода на «новую» учетную модель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48" descr="MCj04338000000[1]"/>
          <p:cNvPicPr/>
          <p:nvPr/>
        </p:nvPicPr>
        <p:blipFill>
          <a:blip r:embed="rId2"/>
          <a:stretch/>
        </p:blipFill>
        <p:spPr>
          <a:xfrm>
            <a:off x="749160" y="3429000"/>
            <a:ext cx="648000" cy="561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8" descr="MCj04338000000[1]"/>
          <p:cNvPicPr/>
          <p:nvPr/>
        </p:nvPicPr>
        <p:blipFill>
          <a:blip r:embed="rId3"/>
          <a:stretch/>
        </p:blipFill>
        <p:spPr>
          <a:xfrm>
            <a:off x="698400" y="574056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7ADB-406E-42D6-ACEF-10035BB8B1C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4648320" y="20016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Основные задачи бухгалтерского блока Федерального казначейства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8" descr="MCj04338000000[1]"/>
          <p:cNvPicPr/>
          <p:nvPr/>
        </p:nvPicPr>
        <p:blipFill>
          <a:blip r:embed="rId1"/>
          <a:stretch/>
        </p:blipFill>
        <p:spPr>
          <a:xfrm>
            <a:off x="735120" y="1709640"/>
            <a:ext cx="647640" cy="5619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2"/>
          <p:cNvSpPr/>
          <p:nvPr/>
        </p:nvSpPr>
        <p:spPr>
          <a:xfrm>
            <a:off x="1474920" y="1539720"/>
            <a:ext cx="102772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технологической централизации процедур представления бюджетной (бухгалтерской) отчетности получателями средств федерального бюджета, финансовыми органами, органами управления ГВБ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функциональной централизации ведения бюджетного учета «пилотных» федеральных органов исполнительной власти, их территориальных органов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48" descr="MCj04338000000[1]"/>
          <p:cNvPicPr/>
          <p:nvPr/>
        </p:nvPicPr>
        <p:blipFill>
          <a:blip r:embed="rId2"/>
          <a:stretch/>
        </p:blipFill>
        <p:spPr>
          <a:xfrm>
            <a:off x="760320" y="460044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414B-6E34-408A-9CFD-DA24EBF8BBA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42" descr="BD00028_"/>
          <p:cNvPicPr/>
          <p:nvPr/>
        </p:nvPicPr>
        <p:blipFill>
          <a:blip r:embed="rId1"/>
          <a:stretch/>
        </p:blipFill>
        <p:spPr>
          <a:xfrm>
            <a:off x="8300880" y="2298600"/>
            <a:ext cx="2113200" cy="19764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6"/>
          <p:cNvSpPr/>
          <p:nvPr/>
        </p:nvSpPr>
        <p:spPr>
          <a:xfrm>
            <a:off x="3465360" y="2760840"/>
            <a:ext cx="43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9270-C9ED-47BE-BFAF-E64080019FB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317760" y="114480"/>
            <a:ext cx="88743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Формирование и представление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(финансовые органы субъектов Российской Федерации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95200" y="2128680"/>
            <a:ext cx="6429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спублика Татарстан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ород Москва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Ханты-Мансийский автономный округ – Югра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язанская область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спублика Мордовия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сковская область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7562880" y="212868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еченская Республика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раснодарский край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спублика Адыгея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емеровская область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логодская область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увашская Республ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FE2-77DE-4E2F-99CA-D634E335CDF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Заголовок 1"/>
          <p:cNvSpPr/>
          <p:nvPr/>
        </p:nvSpPr>
        <p:spPr>
          <a:xfrm>
            <a:off x="1206360" y="1181160"/>
            <a:ext cx="1035072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  <a:ea typeface="Arial"/>
              </a:rPr>
              <a:t>Задачи централизации учетных и отчетных процедур на федеральном уровне.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Arial"/>
                <a:ea typeface="Arial"/>
              </a:rPr>
              <a:t>Роль органов Федерального казначейств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Прямоугольник 46"/>
          <p:cNvSpPr/>
          <p:nvPr/>
        </p:nvSpPr>
        <p:spPr>
          <a:xfrm>
            <a:off x="6886440" y="5330880"/>
            <a:ext cx="46706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руководителя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ого казначейства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убовик А.В.,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. Сочи, 21.09.2017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A630-7C2C-4D0F-9DCF-D906E9B9E88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4648320" y="20016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Основные задачи Отделов централизованной бухгалтерии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48" descr="MCj04338000000[1]"/>
          <p:cNvPicPr/>
          <p:nvPr/>
        </p:nvPicPr>
        <p:blipFill>
          <a:blip r:embed="rId1"/>
          <a:stretch/>
        </p:blipFill>
        <p:spPr>
          <a:xfrm>
            <a:off x="735120" y="1709640"/>
            <a:ext cx="647640" cy="561960"/>
          </a:xfrm>
          <a:prstGeom prst="rect">
            <a:avLst/>
          </a:prstGeom>
          <a:ln w="0">
            <a:noFill/>
          </a:ln>
        </p:spPr>
      </p:pic>
      <p:sp>
        <p:nvSpPr>
          <p:cNvPr id="652" name="TextBox 2"/>
          <p:cNvSpPr/>
          <p:nvPr/>
        </p:nvSpPr>
        <p:spPr>
          <a:xfrm>
            <a:off x="1474920" y="1539720"/>
            <a:ext cx="102772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технологической централизации процедур представления бюджетной (бухгалтерской) отчетности получателями средств федерального 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функциональной централизации ведения бюджетного учета «пилотных» федеральных органов исполнительной власти, их территориальных органов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48" descr="MCj04338000000[1]"/>
          <p:cNvPicPr/>
          <p:nvPr/>
        </p:nvPicPr>
        <p:blipFill>
          <a:blip r:embed="rId2"/>
          <a:stretch/>
        </p:blipFill>
        <p:spPr>
          <a:xfrm>
            <a:off x="696960" y="400356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CF6-AD47-4600-96F9-EE20F9B43A8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4648320" y="20016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Основные задачи Отделов централизованной бухгалтерии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831320" y="1755720"/>
            <a:ext cx="8902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кадрового потенциала;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тение компетенции;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субъектами учета;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-методическое обеспечение 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субъектов учета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9" descr="Указание"/>
          <p:cNvPicPr/>
          <p:nvPr/>
        </p:nvPicPr>
        <p:blipFill>
          <a:blip r:embed="rId1"/>
          <a:stretch/>
        </p:blipFill>
        <p:spPr>
          <a:xfrm>
            <a:off x="622440" y="167652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0" descr="Указание"/>
          <p:cNvPicPr/>
          <p:nvPr/>
        </p:nvPicPr>
        <p:blipFill>
          <a:blip r:embed="rId2"/>
          <a:stretch/>
        </p:blipFill>
        <p:spPr>
          <a:xfrm>
            <a:off x="622440" y="167652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2" descr="Указание"/>
          <p:cNvPicPr/>
          <p:nvPr/>
        </p:nvPicPr>
        <p:blipFill>
          <a:blip r:embed="rId3"/>
          <a:stretch/>
        </p:blipFill>
        <p:spPr>
          <a:xfrm>
            <a:off x="647640" y="262908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3" descr="Указание"/>
          <p:cNvPicPr/>
          <p:nvPr/>
        </p:nvPicPr>
        <p:blipFill>
          <a:blip r:embed="rId4"/>
          <a:stretch/>
        </p:blipFill>
        <p:spPr>
          <a:xfrm>
            <a:off x="660240" y="3708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4" descr="Указание"/>
          <p:cNvPicPr/>
          <p:nvPr/>
        </p:nvPicPr>
        <p:blipFill>
          <a:blip r:embed="rId5"/>
          <a:stretch/>
        </p:blipFill>
        <p:spPr>
          <a:xfrm>
            <a:off x="647640" y="4584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9"/>
          <p:cNvSpPr/>
          <p:nvPr/>
        </p:nvSpPr>
        <p:spPr>
          <a:xfrm>
            <a:off x="771480" y="3259080"/>
            <a:ext cx="2844720" cy="158760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AutoShape 10"/>
          <p:cNvSpPr/>
          <p:nvPr/>
        </p:nvSpPr>
        <p:spPr>
          <a:xfrm>
            <a:off x="3235320" y="3259080"/>
            <a:ext cx="3200400" cy="157500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AutoShape 11"/>
          <p:cNvSpPr/>
          <p:nvPr/>
        </p:nvSpPr>
        <p:spPr>
          <a:xfrm>
            <a:off x="5902200" y="3246480"/>
            <a:ext cx="3251160" cy="242568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8810640" y="3246480"/>
            <a:ext cx="2933640" cy="242568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DDC-65D0-431E-94D0-53251CA7A66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3998880" y="187200"/>
            <a:ext cx="815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Трансформация организационной модели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бухгалтерского блока Федерального казначейства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878400" y="3583080"/>
            <a:ext cx="22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БС и учреждениям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3586320" y="3354480"/>
            <a:ext cx="232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БС (РБС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одно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консолидированной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491520" y="378612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е ГРБС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одно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консолидированной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9164160" y="3710160"/>
            <a:ext cx="240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одно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консолидированной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и об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полнен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едерального бюдже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Прямая соединительная линия 7"/>
          <p:cNvSpPr/>
          <p:nvPr/>
        </p:nvSpPr>
        <p:spPr>
          <a:xfrm>
            <a:off x="3429000" y="1155600"/>
            <a:ext cx="9360" cy="488628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Прямая соединительная линия 7"/>
          <p:cNvSpPr/>
          <p:nvPr/>
        </p:nvSpPr>
        <p:spPr>
          <a:xfrm>
            <a:off x="6172200" y="1155600"/>
            <a:ext cx="9360" cy="486108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Прямая соединительная линия 7"/>
          <p:cNvSpPr/>
          <p:nvPr/>
        </p:nvSpPr>
        <p:spPr>
          <a:xfrm>
            <a:off x="9004320" y="1143000"/>
            <a:ext cx="9360" cy="4924440"/>
          </a:xfrm>
          <a:prstGeom prst="line">
            <a:avLst/>
          </a:prstGeom>
          <a:ln w="648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AutoShape 18"/>
          <p:cNvSpPr/>
          <p:nvPr/>
        </p:nvSpPr>
        <p:spPr>
          <a:xfrm>
            <a:off x="784080" y="2220840"/>
            <a:ext cx="5639040" cy="91440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AutoShape 19"/>
          <p:cNvSpPr/>
          <p:nvPr/>
        </p:nvSpPr>
        <p:spPr>
          <a:xfrm>
            <a:off x="5952960" y="2220840"/>
            <a:ext cx="5803920" cy="91440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20"/>
          <p:cNvSpPr/>
          <p:nvPr/>
        </p:nvSpPr>
        <p:spPr>
          <a:xfrm>
            <a:off x="912960" y="236700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централизованной бухгалтер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ЦА), Отделы централизованной бухгалтер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21"/>
          <p:cNvSpPr/>
          <p:nvPr/>
        </p:nvSpPr>
        <p:spPr>
          <a:xfrm>
            <a:off x="6661440" y="248112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региональное операционное управлени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22"/>
          <p:cNvSpPr/>
          <p:nvPr/>
        </p:nvSpPr>
        <p:spPr>
          <a:xfrm>
            <a:off x="822240" y="1332000"/>
            <a:ext cx="10934640" cy="68580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23"/>
          <p:cNvSpPr/>
          <p:nvPr/>
        </p:nvSpPr>
        <p:spPr>
          <a:xfrm>
            <a:off x="2228760" y="1477800"/>
            <a:ext cx="83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бюджетного учета и отчетности (ЦА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22"/>
          <p:cNvSpPr/>
          <p:nvPr/>
        </p:nvSpPr>
        <p:spPr>
          <a:xfrm>
            <a:off x="797040" y="5819760"/>
            <a:ext cx="10934640" cy="60480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делы учета и отчетности по операциям бюджетов ТО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AutoShape 22"/>
          <p:cNvSpPr/>
          <p:nvPr/>
        </p:nvSpPr>
        <p:spPr>
          <a:xfrm>
            <a:off x="797040" y="4930920"/>
            <a:ext cx="5613120" cy="718920"/>
          </a:xfrm>
          <a:prstGeom prst="roundRect">
            <a:avLst>
              <a:gd name="adj" fmla="val 16667"/>
            </a:avLst>
          </a:prstGeom>
          <a:solidFill>
            <a:srgbClr val="5b9bd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дение учета и формирование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и ФОИВ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04800" y="147240"/>
            <a:ext cx="775044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  <a:ea typeface="Arial"/>
              </a:rPr>
              <a:t>Организационно-функциональная модель Федерального казначейства в рамках обеспечения централизации учетных процедур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Прямая соединительная линия 51"/>
          <p:cNvSpPr/>
          <p:nvPr/>
        </p:nvSpPr>
        <p:spPr>
          <a:xfrm flipV="1">
            <a:off x="652320" y="5643720"/>
            <a:ext cx="1102392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Прямая соединительная линия 59"/>
          <p:cNvSpPr/>
          <p:nvPr/>
        </p:nvSpPr>
        <p:spPr>
          <a:xfrm flipV="1">
            <a:off x="584280" y="6501960"/>
            <a:ext cx="11023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Прямая соединительная линия 65"/>
          <p:cNvSpPr/>
          <p:nvPr/>
        </p:nvSpPr>
        <p:spPr>
          <a:xfrm flipV="1">
            <a:off x="525600" y="2670120"/>
            <a:ext cx="1108224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Прямая соединительная линия 29"/>
          <p:cNvSpPr/>
          <p:nvPr/>
        </p:nvSpPr>
        <p:spPr>
          <a:xfrm>
            <a:off x="2141640" y="1407960"/>
            <a:ext cx="1440" cy="51310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31"/>
          <p:cNvSpPr/>
          <p:nvPr/>
        </p:nvSpPr>
        <p:spPr>
          <a:xfrm>
            <a:off x="348480" y="1935000"/>
            <a:ext cx="184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</a:rPr>
              <a:t>1-ы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ологически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76"/>
          <p:cNvSpPr/>
          <p:nvPr/>
        </p:nvSpPr>
        <p:spPr>
          <a:xfrm>
            <a:off x="418680" y="3238560"/>
            <a:ext cx="171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</a:rPr>
              <a:t>2-о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77"/>
          <p:cNvSpPr/>
          <p:nvPr/>
        </p:nvSpPr>
        <p:spPr>
          <a:xfrm>
            <a:off x="261360" y="457668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  <a:ea typeface="Arial"/>
              </a:rPr>
              <a:t>3-и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онно-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налитически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Прямая соединительная линия 78"/>
          <p:cNvSpPr/>
          <p:nvPr/>
        </p:nvSpPr>
        <p:spPr>
          <a:xfrm>
            <a:off x="10190160" y="1368360"/>
            <a:ext cx="0" cy="5130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Прямая соединительная линия 79"/>
          <p:cNvSpPr/>
          <p:nvPr/>
        </p:nvSpPr>
        <p:spPr>
          <a:xfrm flipV="1">
            <a:off x="525600" y="1755720"/>
            <a:ext cx="11082240" cy="7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8" descr="i?id=106927965-45-72&amp;n=16"/>
          <p:cNvPicPr/>
          <p:nvPr/>
        </p:nvPicPr>
        <p:blipFill>
          <a:blip r:embed="rId1"/>
          <a:stretch/>
        </p:blipFill>
        <p:spPr>
          <a:xfrm>
            <a:off x="2448000" y="1900080"/>
            <a:ext cx="611280" cy="727200"/>
          </a:xfrm>
          <a:prstGeom prst="rect">
            <a:avLst/>
          </a:prstGeom>
          <a:ln w="0">
            <a:noFill/>
          </a:ln>
        </p:spPr>
      </p:pic>
      <p:sp>
        <p:nvSpPr>
          <p:cNvPr id="694" name="TextBox 32"/>
          <p:cNvSpPr/>
          <p:nvPr/>
        </p:nvSpPr>
        <p:spPr>
          <a:xfrm>
            <a:off x="3206880" y="19731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фин Росс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БМ, ДИТ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30" descr="FK"/>
          <p:cNvPicPr/>
          <p:nvPr/>
        </p:nvPicPr>
        <p:blipFill>
          <a:blip r:embed="rId2"/>
          <a:stretch/>
        </p:blipFill>
        <p:spPr>
          <a:xfrm>
            <a:off x="2432160" y="2849400"/>
            <a:ext cx="666720" cy="668520"/>
          </a:xfrm>
          <a:prstGeom prst="rect">
            <a:avLst/>
          </a:prstGeom>
          <a:ln w="0">
            <a:noFill/>
          </a:ln>
        </p:spPr>
      </p:pic>
      <p:sp>
        <p:nvSpPr>
          <p:cNvPr id="696" name="TextBox 83"/>
          <p:cNvSpPr/>
          <p:nvPr/>
        </p:nvSpPr>
        <p:spPr>
          <a:xfrm>
            <a:off x="3128040" y="289728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ое казначейство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управления ЦА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Рисунок 12" descr=""/>
          <p:cNvPicPr/>
          <p:nvPr/>
        </p:nvPicPr>
        <p:blipFill>
          <a:blip r:embed="rId3"/>
          <a:stretch/>
        </p:blipFill>
        <p:spPr>
          <a:xfrm>
            <a:off x="2517840" y="4660920"/>
            <a:ext cx="685800" cy="682560"/>
          </a:xfrm>
          <a:prstGeom prst="rect">
            <a:avLst/>
          </a:prstGeom>
          <a:ln w="0">
            <a:noFill/>
          </a:ln>
        </p:spPr>
      </p:pic>
      <p:sp>
        <p:nvSpPr>
          <p:cNvPr id="698" name="TextBox 85"/>
          <p:cNvSpPr/>
          <p:nvPr/>
        </p:nvSpPr>
        <p:spPr>
          <a:xfrm>
            <a:off x="3212640" y="462744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нтры компетен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дельные ТОФК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12" descr=""/>
          <p:cNvPicPr/>
          <p:nvPr/>
        </p:nvPicPr>
        <p:blipFill>
          <a:blip r:embed="rId4"/>
          <a:stretch/>
        </p:blipFill>
        <p:spPr>
          <a:xfrm>
            <a:off x="2674800" y="568656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 12" descr=""/>
          <p:cNvPicPr/>
          <p:nvPr/>
        </p:nvPicPr>
        <p:blipFill>
          <a:blip r:embed="rId5"/>
          <a:stretch/>
        </p:blipFill>
        <p:spPr>
          <a:xfrm>
            <a:off x="2411280" y="57848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701" name="TextBox 88"/>
          <p:cNvSpPr/>
          <p:nvPr/>
        </p:nvSpPr>
        <p:spPr>
          <a:xfrm>
            <a:off x="507960" y="5664240"/>
            <a:ext cx="154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Arial"/>
                <a:ea typeface="Arial"/>
              </a:rPr>
              <a:t>4-ый уровень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перационны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89"/>
          <p:cNvSpPr/>
          <p:nvPr/>
        </p:nvSpPr>
        <p:spPr>
          <a:xfrm>
            <a:off x="3357000" y="5896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ФК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Прямая соединительная линия 90"/>
          <p:cNvSpPr/>
          <p:nvPr/>
        </p:nvSpPr>
        <p:spPr>
          <a:xfrm>
            <a:off x="6323040" y="1407960"/>
            <a:ext cx="0" cy="51310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33"/>
          <p:cNvSpPr/>
          <p:nvPr/>
        </p:nvSpPr>
        <p:spPr>
          <a:xfrm>
            <a:off x="800640" y="1392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92"/>
          <p:cNvSpPr/>
          <p:nvPr/>
        </p:nvSpPr>
        <p:spPr>
          <a:xfrm>
            <a:off x="3528360" y="1392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бъекты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93"/>
          <p:cNvSpPr/>
          <p:nvPr/>
        </p:nvSpPr>
        <p:spPr>
          <a:xfrm>
            <a:off x="7670880" y="13921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94"/>
          <p:cNvSpPr/>
          <p:nvPr/>
        </p:nvSpPr>
        <p:spPr>
          <a:xfrm>
            <a:off x="10629000" y="1392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95"/>
          <p:cNvSpPr/>
          <p:nvPr/>
        </p:nvSpPr>
        <p:spPr>
          <a:xfrm>
            <a:off x="10274040" y="18464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ци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96"/>
          <p:cNvSpPr/>
          <p:nvPr/>
        </p:nvSpPr>
        <p:spPr>
          <a:xfrm>
            <a:off x="10310760" y="3351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ция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97"/>
          <p:cNvSpPr/>
          <p:nvPr/>
        </p:nvSpPr>
        <p:spPr>
          <a:xfrm>
            <a:off x="10139040" y="45655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руг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98"/>
          <p:cNvSpPr/>
          <p:nvPr/>
        </p:nvSpPr>
        <p:spPr>
          <a:xfrm>
            <a:off x="10318680" y="5621400"/>
            <a:ext cx="14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едерации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4"/>
          <p:cNvSpPr/>
          <p:nvPr/>
        </p:nvSpPr>
        <p:spPr>
          <a:xfrm>
            <a:off x="6426360" y="1832040"/>
            <a:ext cx="358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бщих требований к порядку ведения бюджетного учета и формирования бюджетной отчетности,  технологического обеспечения указанных процедур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00"/>
          <p:cNvSpPr/>
          <p:nvPr/>
        </p:nvSpPr>
        <p:spPr>
          <a:xfrm>
            <a:off x="6426360" y="2778120"/>
            <a:ext cx="370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бухгалтер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и методическое сопровождение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 централизованного ведения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го учета и формирования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й отчетности в ГИИС «Электронный бюджет»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01"/>
          <p:cNvSpPr/>
          <p:nvPr/>
        </p:nvSpPr>
        <p:spPr>
          <a:xfrm>
            <a:off x="6342480" y="4503600"/>
            <a:ext cx="3955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 пользователей по вопросам работы в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ИИС «Электронный бюджет», мониторинг и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упреждение методических, технологических и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х проблем, формирование и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 аналитической информации и т.п.,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е с ГРБС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02"/>
          <p:cNvSpPr/>
          <p:nvPr/>
        </p:nvSpPr>
        <p:spPr>
          <a:xfrm>
            <a:off x="6437520" y="5904000"/>
            <a:ext cx="34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дение бюджетного учета и формирование 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й отчетности, мониторинг ПУиО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Прямая соединительная линия 103"/>
          <p:cNvSpPr/>
          <p:nvPr/>
        </p:nvSpPr>
        <p:spPr>
          <a:xfrm flipV="1">
            <a:off x="623880" y="4495320"/>
            <a:ext cx="11023560" cy="9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12"/>
          <p:cNvSpPr/>
          <p:nvPr/>
        </p:nvSpPr>
        <p:spPr>
          <a:xfrm>
            <a:off x="3191760" y="375444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ые администраторы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ств бюджет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14"/>
          <p:cNvSpPr/>
          <p:nvPr/>
        </p:nvSpPr>
        <p:spPr>
          <a:xfrm>
            <a:off x="6415200" y="3992400"/>
            <a:ext cx="31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учетной и отчетной политики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Рисунок 116" descr=""/>
          <p:cNvPicPr/>
          <p:nvPr/>
        </p:nvPicPr>
        <p:blipFill>
          <a:blip r:embed="rId6"/>
          <a:stretch/>
        </p:blipFill>
        <p:spPr>
          <a:xfrm>
            <a:off x="2327400" y="3711600"/>
            <a:ext cx="898560" cy="733320"/>
          </a:xfrm>
          <a:prstGeom prst="rect">
            <a:avLst/>
          </a:prstGeom>
          <a:ln w="0">
            <a:noFill/>
          </a:ln>
        </p:spPr>
      </p:pic>
      <p:sp>
        <p:nvSpPr>
          <p:cNvPr id="720" name="Номер слайда 3"/>
          <p:cNvSpPr/>
          <p:nvPr/>
        </p:nvSpPr>
        <p:spPr>
          <a:xfrm>
            <a:off x="10790280" y="635652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78B-C1E7-4DA5-9E06-0E6D9575393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A9A-A153-4C56-9A75-643779D7AAD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3317760" y="114480"/>
            <a:ext cx="88743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Формирование и представление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территориальные органы Федерального казначейства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39800" y="2128680"/>
            <a:ext cx="5113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Псковской област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Смоленской област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Иркутской област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Калужской област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554880" y="2128680"/>
            <a:ext cx="53067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Республике Коми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ФК по Краснодарскому краю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Архангельской области и Ненецкому АО;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ФК по Московск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F8F6-8210-4EA3-8C91-62BDFE38142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317760" y="114480"/>
            <a:ext cx="8874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дельные вопросы ведения бюджетного учета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 формирования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хема 2" descr=""/>
          <p:cNvPicPr/>
          <p:nvPr/>
        </p:nvPicPr>
        <p:blipFill>
          <a:blip r:embed="rId1"/>
          <a:stretch/>
        </p:blipFill>
        <p:spPr>
          <a:xfrm>
            <a:off x="5535720" y="907920"/>
            <a:ext cx="6570720" cy="5114880"/>
          </a:xfrm>
          <a:prstGeom prst="rect">
            <a:avLst/>
          </a:prstGeom>
          <a:ln w="0">
            <a:noFill/>
          </a:ln>
        </p:spPr>
      </p:pic>
      <p:pic>
        <p:nvPicPr>
          <p:cNvPr id="76" name="Схема 3" descr=""/>
          <p:cNvPicPr/>
          <p:nvPr/>
        </p:nvPicPr>
        <p:blipFill>
          <a:blip r:embed="rId2"/>
          <a:stretch/>
        </p:blipFill>
        <p:spPr>
          <a:xfrm>
            <a:off x="426960" y="523800"/>
            <a:ext cx="4407120" cy="5748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2518920" y="630864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верх задача»: упрощение без потери качества и содержания…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2"/>
          <p:cNvSpPr/>
          <p:nvPr/>
        </p:nvSpPr>
        <p:spPr>
          <a:xfrm>
            <a:off x="8610480" y="649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2DE1-55C9-48E6-A39F-5B634460509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3317760" y="114480"/>
            <a:ext cx="887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тоги формирования и представления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годовой бюджетной отчетност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4659480" y="880920"/>
            <a:ext cx="59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Calibri"/>
                <a:ea typeface="Arial"/>
              </a:rPr>
              <a:t>Итоги аудита Счетной палаты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644920" y="1476360"/>
          <a:ext cx="8583480" cy="5180040"/>
        </p:xfrm>
        <a:graphic>
          <a:graphicData uri="http://schemas.openxmlformats.org/drawingml/2006/table">
            <a:tbl>
              <a:tblPr/>
              <a:tblGrid>
                <a:gridCol w="466560"/>
                <a:gridCol w="5664240"/>
                <a:gridCol w="1227240"/>
                <a:gridCol w="1225440"/>
              </a:tblGrid>
              <a:tr h="49068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8100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я федеральных законов и постановлений Правительства Российской Федерации при использовании средств федерального бюджета, а также при оказании услуг населению государственными учреждения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212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я ведения бухгалтерского учета, составления и представления бухгалтерской (финансовой) отчет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032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я в сфере управления и распоряжения государственной (муниципальной) собственность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7500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я при осуществлении государственных (муниципальных) закупок и закупок отдельными видами юридических ли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656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я, допущенные при строительстве, реконструкции, техническом перевооружении, а также приобретении объектов государственной собствен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032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средств федерального бюджета без достижения социально-экономического результа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116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наруш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008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я, имеющие признаки нецелев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9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800"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197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2" name="TextBox 2"/>
          <p:cNvSpPr/>
          <p:nvPr/>
        </p:nvSpPr>
        <p:spPr>
          <a:xfrm>
            <a:off x="10254960" y="12128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рд. руб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Вольф Елена Владимировна</cp:lastModifiedBy>
  <cp:lastPrinted>2017-01-13T05:18:49Z</cp:lastPrinted>
  <dcterms:modified xsi:type="dcterms:W3CDTF">2017-09-25T14:20:42Z</dcterms:modified>
  <cp:revision>1049</cp:revision>
  <dc:subject/>
  <dc:title>Презентация PowerPoint</dc:title>
</cp:coreProperties>
</file>