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86B-9800-444D-931C-1763EB9D8D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B2DD-4488-4CD5-9073-F0EEAD32D6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CFC5-675B-41F1-90FA-79F34C753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905-3E2C-4CE6-94F4-C9FE221EA2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546-76AC-4498-8C39-34470FCD8A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A6A2-C4FA-49C8-96A2-E753557AD6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0C4E-008D-4BF1-A32F-4E0D06BA0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FA9E-6083-40F6-9C81-0B247D95F5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9E5-247C-4638-990A-B51D36D5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C5A-F219-4B88-A715-3C83561A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D8C80-1E49-4AE2-8D8D-1F6F61A5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57272-0A5E-4155-9803-2E46CC42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4594D-1285-4A28-96C2-D63E20B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1359-18B7-4124-8DAA-980F1008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FF3D-BBC9-4AA2-838F-DDFFC0D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D9CD2-1CBF-4470-9547-ACEAA9BE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8C448-ED92-4C4E-BE88-EC8CBA92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45ECF-5E21-43B6-937B-0A95FFC8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227C8-FFDB-47E2-A6B6-F4AF8EA8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F1AC0-3206-47EA-A076-F39B3282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BFE-60BA-4F45-BC5D-BF94647F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C920A-D9CE-4FED-A32F-6A572F7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27660-AB4A-4724-99E5-73CC1A1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557A9-B34D-4121-B5DA-9211207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396D7-DFE2-48FB-8E53-438D2114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368ED-7242-4243-A7E6-4C1F37C4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AC90-9AC9-4884-851F-DE84647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90FD2-1AE0-4973-B181-6A119D7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B6F74-E2AB-47D0-B118-D494C13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541D4-0CEB-42EE-9766-59204974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BAAF7-F809-4431-AA59-FA679F41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460-BFCF-4FE0-BFA1-9AE16061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24E4C-642A-4BB1-9F5E-EBD4C99F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DCD15-B5D9-4541-9E6A-DB10F6C9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EE7B-C361-4429-9DCF-B8EB390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82951-74B6-4974-AE8B-05C2741C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C1587-3748-45BF-ACCA-87DE300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7AE90-2BCE-4CD4-9AA8-0DB101B7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E65F1-7A42-4486-B4B9-19F1554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7721-3BDE-4A69-9E73-6A95F5D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35540-B8C6-4ED8-8C29-6FB7804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8B3BC-7C0C-4FA8-AED2-77249CE7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47F8-916E-43D2-9DF4-6F2D7A99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C6E2-7B46-42CF-9F89-C2D63F6B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2090-20E3-436B-AAE5-FB4D0757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EDF54-24E7-461B-A2F1-F68C3E1C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D8E6F-E71E-4071-BD36-883FBB97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3BA64-932B-48A7-A783-7106810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BD846-289F-4420-BE52-B2F6E223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CA7E6-F1A4-4768-90AD-2204ECBF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8B9A4-277D-4B9D-98E1-527D5E6A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697E1-0198-42DF-AB32-A36103BC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6AE3C-DD72-46FA-BFC7-FC005A2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806-7FB7-4562-9C8A-B63A009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B7083-3AAF-476F-A2D0-EC3FFBC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9DC24-07FB-4DBF-B92F-9F63EFE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AF2D2-9B94-4000-AB84-36709B2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7F659-D40C-487B-BAE3-560B598C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74367-0A0C-4933-A8E0-1C3920D3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FB432-C0D4-4734-BBB8-574D16DF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A156A-0AF3-4979-BAB1-A657D5B9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E7AFE-243E-4FA4-83EB-EEAE8040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3715F-DBDF-4919-A8ED-E4FE38A2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5507B-1B50-407E-A8A8-C34C429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F5A-8720-4F1D-BFDE-69524317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C8840-72A2-43B2-916B-C098B781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50ECB-D1EA-4DEB-9F38-3B3932B6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7EC09-9EBF-4C9B-86E8-41EB63C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8927F-5486-4A2E-BE1C-56E14E8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AC761-194D-4565-95C6-816E01C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24BC2-DF63-4BE3-ADA3-1FDC7FF4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6E9A7-C026-492E-9BBE-01CF4BB7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B6FB4-6E67-44D8-BFC4-25F9DAB2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78A73-7CE8-4B57-9460-8F6BDEBF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BAAF6-6F91-476A-8E5A-3DF28B97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9358-DC7C-4627-AFB7-76EEE01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2B7A4-49CC-49B1-A0F2-070CF69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B43A7-0A07-4CC7-9ADA-67257E52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8E0C5-A2BB-4C4C-A844-EA057A2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D16F1-D20E-40A5-8FA9-720A0A5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A7418-2840-444F-9C71-716A4F8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0EBCE-15ED-40D7-A2F0-394F5B1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8289A-154A-4243-B99A-888E8275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9B734-01CD-4DA0-91D0-EDD2DE2F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5F284-4C64-415C-BD7B-A69EEF26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37291-3A6A-41EC-B06C-6FDAD705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20C-1411-4F95-B42D-1B9F412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8EAE4-1812-4BB7-9123-C33BD40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D1118-408F-413C-AF06-C8B202E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7C917-179C-4C27-88C4-66B4E8AF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4ECEC-8458-4D69-94FB-B65E615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AA0CF-5EA5-4B72-9275-65E6063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09F27-2B97-4E83-A12F-59F737B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A041C-2F09-4A70-B94F-95A9051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441FA-7DD0-4881-AF2D-B27A56C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0A50F-F0F0-4EF7-A6FB-238973D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0B3E0-4EC1-44B4-AAA4-3AB13C18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43E-1D3C-4542-A2E1-3CF7F8B7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274E42-CC52-490E-BE0D-10E823B9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22200-85E8-47E4-9377-23B6C4E4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96171-DBA9-4A42-B917-8184E2A5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4853D-A855-4D2C-8341-6E2573EF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1A5C4-2DE0-4F0B-ACBE-4075425F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2819D-46A9-4309-9ED4-2C12B866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F8085-D8D1-4882-A75C-47D197BA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14BE1-F8F1-431D-AA7B-D77FD27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E45F4-9716-420F-80B7-F0659937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51068-739C-4424-AE40-6C6DA9D9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CA69-E5F3-49E7-8277-AC7D6AD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33EB7-10D6-42C4-BAF2-D8614424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9A2E2-35E4-42C5-94CA-2B4B01E2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729A4-DCA3-4F41-BD29-7ED07836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63CA3-836E-40B7-9C1B-601274D1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040F3-1D57-4A1F-8AAD-D93AD80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B2389-5D36-482E-B123-BE2AB31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88D83-5B5F-4D0B-9DF2-40F7BE6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9EBA7-C501-42EA-A068-5323D6A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1B40A-082E-488A-9C8E-77A7CF5D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FD931-CAF2-4A52-A9A7-210A8BD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D0B-BCDE-4B58-8F87-0D45DCA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9922-97CB-4EA8-810A-AC90476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44E58-8F31-46F4-91ED-285B145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ED06E-ABEF-4CD2-94C7-CD58E91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0B6EF-17C8-453B-9092-082C235B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4A9F2-845C-42E5-A392-147E33F1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7CF9B-FCD9-4BB6-B0DF-8170AF6F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C53C-4B66-4D51-B311-1D19E61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F166-9120-428B-A8B2-E492CBAA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FC00-F261-4C7D-AA49-EEBDA1C3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31E6-1A24-4D46-9E05-805AD995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04D6-8C3F-40EE-AAD2-88E7F3DC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932D-7D3E-459F-8EF6-1C6F7AB3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2B82-598E-46C2-B50D-3EEEB015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D248-0313-4A87-B0BF-15CC5C30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7B91-44AE-47BE-8F06-B28B82E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BC7-1AAC-40E5-8E65-5024F79D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8EAD-FA83-46F2-9DE7-584C977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9B71-3A05-4694-B971-A52477E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3179-279D-479F-9E80-998C1B7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E932-AD38-4951-9D37-0028C9E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7255-640A-4081-AD38-817803B3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DD84-8127-492F-A054-94011C8F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38E4-8E6D-4592-8BEC-77205B5F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F323-B3F9-4340-91C8-AC59335C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1948-FEE1-42E8-8F69-E81945C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B942-2FDF-4A64-83F6-A1BD06F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5D9-E94E-4BDC-8065-CBE360B5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85C9-2937-48E2-823A-F52DEED5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1C3E-B115-4C7A-A53D-101D0B88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D481-4341-407A-A78C-7F808B7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ECF0-CAB3-4CA9-AD7B-177EEAC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5CB0-F6C8-4AE5-AEBB-AB17703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A37A-E5E5-4E89-94D1-726F6FE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04E4-F1FC-4F32-951A-AC5BCED9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C17C-91A2-4B32-9443-6B16FBA0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FA61-08D3-4EBF-8850-1077DC77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A62E-D0FA-415B-A08D-C5461248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655-7183-4171-8A34-815FDE1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896C-14F6-4686-A45E-A57CAE6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C1C2-010A-44DB-BF45-3058EE9A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46D4-8C84-4C86-9080-FFC50919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653C-B9E9-436D-89F3-AE9A8A22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10F1-6A4B-49F5-B08A-34FAC8E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2036-DFC2-40A2-A0F9-3A257D7A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0A64-523D-4B0C-8CB2-1834E62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7028-708D-4DC7-9764-B731AD5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2AF5-0C64-4934-BAD6-D683482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1AC15-F835-4D2B-ADFE-5D296750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D82-D93A-45E5-8EA9-86DF8B2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7EFC-C229-4BFB-87E5-EB40A8B7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73D4-2445-4DC7-AFEF-F189725A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9F447-339B-4901-BF96-A6A87CB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5117C-1ED8-4EE3-986D-63481F7E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0EAF-691A-4DD0-8650-8ECBA58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150E7-F25E-407B-AB28-34FCE77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E2A6-1A12-42A7-8F0F-EF4D388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552B-D651-4CF6-BA5C-9095E98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654C-7473-47E1-9062-581C100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90F4-270F-4283-92DE-0B975A3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154-DFB7-4061-8D1E-A69698A0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EEAD-DA0A-43E8-9EFC-56F6A6AC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74C80-7B69-42D1-9930-11A8E976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46A7-9022-4D0E-B610-D648D917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F9E8-74DA-491A-9FEE-421BADC8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D4E55-EE8D-4534-9330-0D015ED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F45EB-A796-4509-BD38-9114085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1CF7-5119-429F-99D6-BCE73876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FA73-2A10-4C7A-A7D5-0BA1E2B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0651-1E00-4174-A69D-1D44635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E3BB-262D-4F12-8207-227A50A6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5D3-68A0-4F86-9C25-AF52072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D06ED-FAF3-487D-AD06-A110513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212D-3EC8-4888-88EB-A4DB70D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DEA5-60D5-410E-BA2E-B03AA25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ABC6-2BE2-4A4F-A02B-EB297637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3037-5EE3-4152-B8FA-341BA9D6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A48BD-2947-4C33-86AD-92D5CE59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C76CB-50ED-4256-91A0-8D6D418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B847C-3ADF-4EE0-A5F4-77F3EADA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7CEEA-88AF-4322-B2DA-4C0268BE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F428-DA9C-4317-BEBC-983341CC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E6C-51BA-48C9-AF3E-6F88110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3BF7-0EF4-4F9D-8183-24C0F3C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3EB48-A834-4B7D-837A-781949C7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23010-8182-4C67-9AC1-58AC2B7D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22B8-87C2-4ED3-AFF0-CAFED8C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4522-8563-4655-B9BE-94474D1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DA7F4-F1D6-48FC-A076-316F3BA2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DBF05-980D-4826-A7AA-3711578F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3FB20-F3D1-4462-B596-191B2B0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82419-3177-4D81-A253-008A7412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509E0-622E-40A0-8266-37E1F9BA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BC2-1B3F-4A68-A80E-FEF29911D19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5A28-C4BC-4F08-9135-6E352888E1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18B4-14CC-42D3-9EBF-49149E0EE3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5B4F-66AD-4515-96C7-B227202EFD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5BE0-164C-4FBE-AE81-69F8F54F59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EEB-5B25-4A3D-AEBF-8A0F4503EF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1DE1-9749-4D76-A38D-BA1046CCDCD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B99-590D-4953-87BE-604C45C116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250-0CCE-4150-A038-9B76DFF4D8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A8A-E6FA-47D3-9D7C-95EEC325DE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A03-621A-42DE-8707-71326B7D67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81E0-1666-412C-AFA7-60C97DB957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2D9-15C9-45AF-94FB-B9336871214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0D7-344A-4221-B000-CAD407E4AF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91E-BD8E-456B-8984-B3AAFFC977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FBB1-BD4D-4A00-AE88-CD033BA367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8EF5-C2C9-4715-8306-EB065FBB8F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0274-5CAC-4A37-980F-D7D57F116FE3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Рисунок 2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479268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1FE-2245-4CCA-8E4D-BB92FE439CBF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Прямоугольник 9"/>
          <p:cNvSpPr/>
          <p:nvPr/>
        </p:nvSpPr>
        <p:spPr>
          <a:xfrm>
            <a:off x="1476360" y="1341360"/>
            <a:ext cx="7343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Подходы к оценке эффективности организации бухгалтерского (бюджетного) учета в публично-правовых образов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"/>
          <p:cNvSpPr/>
          <p:nvPr/>
        </p:nvSpPr>
        <p:spPr>
          <a:xfrm>
            <a:off x="2700360" y="4149720"/>
            <a:ext cx="471636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entury Gothic"/>
              </a:rPr>
              <a:t>ЕРЖЕН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entury Gothic"/>
              </a:rPr>
              <a:t>Роман Валерь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04040"/>
                </a:solidFill>
                <a:latin typeface="Century Gothic"/>
              </a:rPr>
              <a:t>к.э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04040"/>
                </a:solidFill>
                <a:latin typeface="Century Gothic"/>
              </a:rPr>
              <a:t>Генеральный директор НПЦ ГОСУ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1"/>
          <p:cNvSpPr/>
          <p:nvPr/>
        </p:nvSpPr>
        <p:spPr>
          <a:xfrm>
            <a:off x="3564000" y="6165720"/>
            <a:ext cx="3240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Дагомы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C37C-6C02-4634-8BC3-A4955841F30C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Прямоугольник 3"/>
          <p:cNvSpPr/>
          <p:nvPr/>
        </p:nvSpPr>
        <p:spPr>
          <a:xfrm>
            <a:off x="1619280" y="593640"/>
            <a:ext cx="7345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Централизованная бухгалтерия: методика расчета экономического эфф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Прямоугольник 4"/>
          <p:cNvSpPr/>
          <p:nvPr/>
        </p:nvSpPr>
        <p:spPr>
          <a:xfrm>
            <a:off x="1835280" y="2133720"/>
            <a:ext cx="691344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ье предложена универсальная методика расчета экономического эффекта от использования бухгалтерско-финансового инсорсинга в публично-правовом образовании. На основе данных проекта по централизации бухгалтерского (бюджетного) учета в г.Кызыл республики Тыва проведен расчет экономического эффекта. Подтверждена целесообразность принятия решений администрацией города об инвестировании в создание централизованной бухгалтерии в г.Кызыл. Указано о получении публично-правовым образованием дополнительного – неэкономического эффекта от использования инсорси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5"/>
          <p:cNvSpPr/>
          <p:nvPr/>
        </p:nvSpPr>
        <p:spPr>
          <a:xfrm>
            <a:off x="5003640" y="587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 «Бюджетный учет», октябрь 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Диаграмма 32" descr=""/>
          <p:cNvPicPr/>
          <p:nvPr/>
        </p:nvPicPr>
        <p:blipFill>
          <a:blip r:embed="rId1"/>
          <a:stretch/>
        </p:blipFill>
        <p:spPr>
          <a:xfrm>
            <a:off x="-6480" y="2944800"/>
            <a:ext cx="4584960" cy="3919680"/>
          </a:xfrm>
          <a:prstGeom prst="rect">
            <a:avLst/>
          </a:prstGeom>
          <a:ln w="0">
            <a:noFill/>
          </a:ln>
        </p:spPr>
      </p:pic>
      <p:pic>
        <p:nvPicPr>
          <p:cNvPr id="1194" name="Диаграмма 31" descr=""/>
          <p:cNvPicPr/>
          <p:nvPr/>
        </p:nvPicPr>
        <p:blipFill>
          <a:blip r:embed="rId2"/>
          <a:stretch/>
        </p:blipFill>
        <p:spPr>
          <a:xfrm>
            <a:off x="4565520" y="2944800"/>
            <a:ext cx="4657680" cy="3919680"/>
          </a:xfrm>
          <a:prstGeom prst="rect">
            <a:avLst/>
          </a:prstGeom>
          <a:ln w="0">
            <a:noFill/>
          </a:ln>
        </p:spPr>
      </p:pic>
      <p:sp>
        <p:nvSpPr>
          <p:cNvPr id="1195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2F3-3245-4962-9CBC-F5E5446F4D43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0" y="1444680"/>
          <a:ext cx="9144000" cy="1481040"/>
        </p:xfrm>
        <a:graphic>
          <a:graphicData uri="http://schemas.openxmlformats.org/drawingml/2006/table">
            <a:tbl>
              <a:tblPr/>
              <a:tblGrid>
                <a:gridCol w="1027080"/>
                <a:gridCol w="2922480"/>
                <a:gridCol w="1892520"/>
                <a:gridCol w="1805040"/>
                <a:gridCol w="1496880"/>
              </a:tblGrid>
              <a:tr h="4665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ая с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ат б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внедрения Ц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ле внедрения Ц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7" name="TextBox 13"/>
          <p:cNvSpPr/>
          <p:nvPr/>
        </p:nvSpPr>
        <p:spPr>
          <a:xfrm>
            <a:off x="1476360" y="6224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аудита эффективности организации бухгалтерского (бюджетного) учета в МО город Усть-Илимск Иркутской обла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Надпись 8"/>
          <p:cNvSpPr/>
          <p:nvPr/>
        </p:nvSpPr>
        <p:spPr>
          <a:xfrm>
            <a:off x="1500120" y="5818320"/>
            <a:ext cx="3143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Лучший показатель по реги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ая соединительная линия 22"/>
          <p:cNvSpPr/>
          <p:nvPr/>
        </p:nvSpPr>
        <p:spPr>
          <a:xfrm>
            <a:off x="1500120" y="5846760"/>
            <a:ext cx="3000600" cy="0"/>
          </a:xfrm>
          <a:prstGeom prst="line">
            <a:avLst/>
          </a:prstGeom>
          <a:ln cap="rnd" w="22320">
            <a:solidFill>
              <a:srgbClr val="ff000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Надпись 8"/>
          <p:cNvSpPr/>
          <p:nvPr/>
        </p:nvSpPr>
        <p:spPr>
          <a:xfrm>
            <a:off x="6245280" y="4081320"/>
            <a:ext cx="28987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Лучший показатель по реги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ая соединительная линия 34"/>
          <p:cNvSpPr/>
          <p:nvPr/>
        </p:nvSpPr>
        <p:spPr>
          <a:xfrm>
            <a:off x="6232680" y="4108320"/>
            <a:ext cx="2766960" cy="0"/>
          </a:xfrm>
          <a:prstGeom prst="line">
            <a:avLst/>
          </a:prstGeom>
          <a:ln cap="rnd" w="22320">
            <a:solidFill>
              <a:srgbClr val="ff000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B58-2553-45C0-BE63-E4A060361A39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15"/>
          <p:cNvSpPr/>
          <p:nvPr/>
        </p:nvSpPr>
        <p:spPr>
          <a:xfrm>
            <a:off x="1476360" y="4716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имые критерии оценки эффективности организации бухгалтерского (бюджетного) учета в МО город Усть-Илимск Иркут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539640" y="1413000"/>
          <a:ext cx="8280360" cy="5248080"/>
        </p:xfrm>
        <a:graphic>
          <a:graphicData uri="http://schemas.openxmlformats.org/drawingml/2006/table">
            <a:tbl>
              <a:tblPr/>
              <a:tblGrid>
                <a:gridCol w="6264360"/>
                <a:gridCol w="2016000"/>
              </a:tblGrid>
              <a:tr h="320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временные бюджетные инвестиции в организацию централизованного уче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ая сумма оптимизации расходов бюдже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5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высвободившихся средств бюджета от эффекта централизации за 6 лет (накопительным итог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 неэффе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07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ционные 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окупаемости проекта по централиз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результативности автомат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3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чность отчетных и первичных данных (соответствие сформированных отчетов в ИСБУ с отчетами на bus.gov.r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очно по учреждениям - соотве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чего дня специалистов бухгал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стью нормирова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D6D0-419B-4099-A4A3-8DF427CFF23C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3"/>
          <p:cNvSpPr/>
          <p:nvPr/>
        </p:nvSpPr>
        <p:spPr>
          <a:xfrm>
            <a:off x="1476360" y="1484280"/>
            <a:ext cx="7272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принятия решений при выборе организационно-технической формы учета каждый руководитель, ответственный за деятельность и выделяемые на ее осуществление ресурсы (финансы, люди, технологии) полагается на необоснованную субъективную оценку эффек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ираемые критерии для оценивания степени эффективности организации учета на местном уровне носят, в основном, описательный характер, процедура выбора эталонных значений - интуитивная, процессы измерения и сравнения - трудно формализуемые. Сформированные в результате оценки не всегда являются объектив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пределенности и пробелы в формализации критериев пригодности информационных технологий к использованию в учетном информационном процессе на уровне ППО провоцируют локальных экспертов на субъективность при оценивании их функциональных свой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8"/>
          <p:cNvSpPr/>
          <p:nvPr/>
        </p:nvSpPr>
        <p:spPr>
          <a:xfrm>
            <a:off x="1763640" y="728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Номер слайда 2"/>
          <p:cNvSpPr/>
          <p:nvPr/>
        </p:nvSpPr>
        <p:spPr>
          <a:xfrm>
            <a:off x="611280" y="765000"/>
            <a:ext cx="58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1024-84A2-49EA-BAE2-650DE89449E0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Box 1"/>
          <p:cNvSpPr/>
          <p:nvPr/>
        </p:nvSpPr>
        <p:spPr>
          <a:xfrm>
            <a:off x="1668600" y="213372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Рисунок 1" descr=""/>
          <p:cNvPicPr/>
          <p:nvPr/>
        </p:nvPicPr>
        <p:blipFill>
          <a:blip r:embed="rId1"/>
          <a:stretch/>
        </p:blipFill>
        <p:spPr>
          <a:xfrm>
            <a:off x="5816520" y="306864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1211" name="Rectangle 3"/>
          <p:cNvSpPr/>
          <p:nvPr/>
        </p:nvSpPr>
        <p:spPr>
          <a:xfrm>
            <a:off x="5940360" y="5275440"/>
            <a:ext cx="30956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entury Gothic"/>
              </a:rPr>
              <a:t>ЕРЖЕНИН Р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04040"/>
                </a:solidFill>
                <a:latin typeface="Century Gothic"/>
              </a:rPr>
              <a:t>к.э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040"/>
                </a:solidFill>
                <a:latin typeface="Century Gothic"/>
              </a:rPr>
              <a:t>e@guche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Рисунок 2" descr=""/>
          <p:cNvPicPr/>
          <p:nvPr/>
        </p:nvPicPr>
        <p:blipFill>
          <a:blip r:embed="rId2"/>
          <a:stretch/>
        </p:blipFill>
        <p:spPr>
          <a:xfrm>
            <a:off x="4427640" y="4303800"/>
            <a:ext cx="12952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21:17:18Z</dcterms:created>
  <dc:creator>Kate</dc:creator>
  <dc:description/>
  <dc:language>en-US</dc:language>
  <cp:lastModifiedBy>Учетная запись Майкрософт</cp:lastModifiedBy>
  <dcterms:modified xsi:type="dcterms:W3CDTF">2017-09-20T06:34:40Z</dcterms:modified>
  <cp:revision>135</cp:revision>
  <dc:subject/>
  <dc:title>Понятие бюджетирования</dc:title>
</cp:coreProperties>
</file>