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F85-FE21-4F87-AD89-C9099FF10E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CBAB-AA0B-4654-BBD7-9D0970C1F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ижайшее время начнутся активные работы по формированию в системе «Электронный бюджет» ведомственных перечней услуг и работ, а также по внесению предложений по изменению базовых переч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ми органами Федерального казначейства осуществляется постоянный мониторинг подключения организаций субъектов и муниципальных образований к функционалу системы «Электронный бюд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айде представлен рейтинг субъектов Российской Федерации, построенный исходя из процентного соотношения подключенных организаций к целевому значению по состоянию на 2 октября 201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целом можно констатировать, что большая часть субъектов успешно подключилась к системе «Электронный бюджет» и готова к его исполь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D276-D935-4EA6-BE72-902663E85B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FA8-251E-4B04-B313-A60687DF36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ADAC-3969-47D4-88A6-F4B5289900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884-33E0-4E89-A14F-9EF202C6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7ED-003F-4581-893B-94C5ED3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B2F-60C7-4FC2-BC8F-643788C5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C97-0E44-4086-8012-1E14A003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1F7-9274-47AB-960E-CDED083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211-C1B1-48EE-AAB4-0F3C3032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7D3-576E-4526-9F80-2F15E19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3CB-0D4B-47A2-97E1-82EE088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369-8AD3-4570-9DA5-3EE125A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06C-6D29-4717-B5B8-F77FA36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6BE-A5CA-4C9C-A5F5-69D45D1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CCA-C25E-47E2-9C91-9DF5BCB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B85-ED8F-4D9C-81CB-4DD35E7AA5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A0A1-3E79-4FDA-A143-ADE54D2D4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622520" y="1616040"/>
            <a:ext cx="87073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Актуальные вопросы учета и отчетности по межбюджетным трансфер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5862600" y="49816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чальник отдела отчетности об исполнении бюджетов Управления бюджетного учета и отчет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.Е. Мар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BC5-5E4F-4858-AEFC-3B3AEBD89DD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185760" y="97776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7776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AutoShape 4"/>
          <p:cNvSpPr/>
          <p:nvPr/>
        </p:nvSpPr>
        <p:spPr>
          <a:xfrm>
            <a:off x="820404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2 19 ххххх хх хххх 151 121002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738600" y="5027760"/>
            <a:ext cx="1020600" cy="122544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ок межбюджетных трансфертов на лицевом счете, подлежащий возврату в федеральный бюдж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113508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859c"/>
                </a:solidFill>
                <a:latin typeface="Cambria"/>
                <a:ea typeface="Arial"/>
              </a:rPr>
              <a:t>ВОЗВРАТ В ТЕКУЩЕМ ФИНАНСОВОМ ГОДУ ДЕБИТОРСКОЙ ЗАДОЛЖЕННОСТИ ПРОШЛЫХ ЛЕТ, ПО РАНЕЕ ПРОИЗВЕДЕННЫХ РАСХОДАМ ЗА СЧЕТ ЦЕЛЕВЫХ СРЕДСТВ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4356-A15D-43F8-A173-A0544C1511F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7440" y="1763640"/>
          <a:ext cx="11598480" cy="3702240"/>
        </p:xfrm>
        <a:graphic>
          <a:graphicData uri="http://schemas.openxmlformats.org/drawingml/2006/table">
            <a:tbl>
              <a:tblPr/>
              <a:tblGrid>
                <a:gridCol w="7728120"/>
                <a:gridCol w="2054160"/>
                <a:gridCol w="1816200"/>
              </a:tblGrid>
              <a:tr h="30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 случае, если по данным бюджетного учета числится дебиторская задолженность по ранее произведенным расхода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ление дебиторской задолженности прошлых лет, источником финансового обеспечения которой являлись целевые средства, от должник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 1 210 02 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Р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00 660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В случае, если по данным бюджетного учета не числится дебиторская задолженность по ранее произведенным расхода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 средств от долж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ление дебиторской задолженности от долж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 1 205 31 5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 1 210 02 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 1 401 10 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Р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31 6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нятие к учету сумм восстановленного остатка целевых средств прошлых отчетных периодов, ранее отнесенных на до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401 10 1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205 51 6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числение обязательств по возврату неиспользованного остатка целевых средств прошлых л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205 51 5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205 51 6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озврат неиспользованного остатка целевых средств прошлых лет за счет возврата дебиторской задолженности прошлых л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205 51 5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ДБ</a:t>
                      </a:r>
                      <a:r>
                        <a:rPr b="1" lang="ru-RU" sz="13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1 210 02 1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Прямоугольник 6"/>
          <p:cNvSpPr/>
          <p:nvPr/>
        </p:nvSpPr>
        <p:spPr>
          <a:xfrm>
            <a:off x="100080" y="5583240"/>
            <a:ext cx="1179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носом на счет 120531000 задолженности по возврату в бюджет авансовых платежей прошлых лет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Б - указывается 1 - 17 разряды кода классификации доходов бюджетов 000 1 13 02990 00 0000 130 «Прочие доходы от компенсации затрат государства»;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Б1 - указывается 1 - 17 разряды кода классификации доходов бюджетов 000 2 02 00000 01 0000 151 «Безвозмездные поступления от других бюджетов бюджетной системы Российской Федерации»;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Б2 -  указывается 1 - 17 разряды кода классификации доходов бюджетов 000 2 19 00000 02 0000 151 «Возврат остатков субсидий, субвенций и иных межбюджетных трансфертов, имеющих целевое назначение, прошлых лет из бюджетов субъектов Российской Федерации», в коде дохода для отражения поступления в бюджет указывается код подвида доходов 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2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Б1 - указывается 1 - 17 разряды кода классификации расходов бюджетов. 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8A4-27BD-4C5C-B770-7CBA5E89961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Схема 13" descr=""/>
          <p:cNvPicPr/>
          <p:nvPr/>
        </p:nvPicPr>
        <p:blipFill>
          <a:blip r:embed="rId1"/>
          <a:stretch/>
        </p:blipFill>
        <p:spPr>
          <a:xfrm>
            <a:off x="1504800" y="1871640"/>
            <a:ext cx="9875880" cy="47847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2044800" y="1243080"/>
            <a:ext cx="932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озврат неиспользованных остатков межбюджетных трансфертов прош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Консолидируемые рас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1"/>
          <p:cNvSpPr/>
          <p:nvPr/>
        </p:nvSpPr>
        <p:spPr>
          <a:xfrm>
            <a:off x="1893960" y="5616720"/>
            <a:ext cx="1592280" cy="57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а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. 0503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397400" y="2552760"/>
            <a:ext cx="1592280" cy="57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а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. 0503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7769160" y="5508720"/>
            <a:ext cx="1592280" cy="579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ра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. 0503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301680" y="2073240"/>
            <a:ext cx="1592280" cy="57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нтраг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Выгнутая вверх стрелка 2"/>
          <p:cNvSpPr/>
          <p:nvPr/>
        </p:nvSpPr>
        <p:spPr>
          <a:xfrm rot="2338800">
            <a:off x="2098440" y="2212920"/>
            <a:ext cx="1458720" cy="517680"/>
          </a:xfrm>
          <a:custGeom>
            <a:avLst/>
            <a:gdLst>
              <a:gd name="textAreaLeft" fmla="*/ 316080 w 1458720"/>
              <a:gd name="textAreaRight" fmla="*/ 1077840 w 145872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64" hR="21600" stAng="10800000" swAng="5400000"/>
                <a:lnTo>
                  <a:pt x="11279" y="0"/>
                </a:lnTo>
                <a:arcTo wR="9364" hR="21600" stAng="-5400000" swAng="3553265"/>
                <a:lnTo>
                  <a:pt x="21303" y="16200"/>
                </a:lnTo>
                <a:lnTo>
                  <a:pt x="19685" y="21600"/>
                </a:lnTo>
                <a:lnTo>
                  <a:pt x="17472" y="16200"/>
                </a:lnTo>
                <a:lnTo>
                  <a:pt x="18430" y="16200"/>
                </a:lnTo>
                <a:arcTo wR="9364" hR="21600" stAng="-1846735" swAng="-3400173"/>
                <a:lnTo>
                  <a:pt x="10321" y="113"/>
                </a:lnTo>
                <a:arcTo wR="9364" hR="21600" stAng="-5553093" swAng="-5246907"/>
                <a:close/>
              </a:path>
              <a:path fill="darkenLess" w="21600" h="21600">
                <a:moveTo>
                  <a:pt x="0" y="21600"/>
                </a:moveTo>
                <a:arcTo wR="9364" hR="21600" stAng="10800000" swAng="5400000"/>
                <a:lnTo>
                  <a:pt x="9364" y="0"/>
                </a:lnTo>
                <a:arcTo wR="9364" hR="21600" stAng="-5400000" swAng="153093"/>
                <a:lnTo>
                  <a:pt x="10321" y="113"/>
                </a:lnTo>
                <a:arcTo wR="9364" hR="21600" stAng="-5553093" swAng="-5246907"/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34AB-5C15-4452-ABA9-3FFE2EE827E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1480" y="1795320"/>
          <a:ext cx="11188800" cy="3125880"/>
        </p:xfrm>
        <a:graphic>
          <a:graphicData uri="http://schemas.openxmlformats.org/drawingml/2006/table">
            <a:tbl>
              <a:tblPr/>
              <a:tblGrid>
                <a:gridCol w="4313520"/>
                <a:gridCol w="3351240"/>
                <a:gridCol w="3524040"/>
              </a:tblGrid>
              <a:tr h="91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 по возврату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к учету восстановленного остатка межбюджетных трансфертов прошлых отчетных периодов, ранее отнесенных на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неиспользованных остатков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7"/>
          <p:cNvSpPr/>
          <p:nvPr/>
        </p:nvSpPr>
        <p:spPr>
          <a:xfrm>
            <a:off x="660240" y="947880"/>
            <a:ext cx="112460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зыскание межбюджетных трансфер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в связи с выявленными фактами нецелевого использо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859c"/>
                </a:solidFill>
                <a:latin typeface="Cambria"/>
              </a:rPr>
              <a:t>главным распорядителем бюджетных средств, предоставивших межбюджетный трансферт, контрольными орган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64960" y="5592600"/>
            <a:ext cx="11838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тся уточнение положений приказа Минфина России от 06.12.2010 № 162н «Об утверждении Плана счетов бюджетного учета и Инструкции по его применению» в части отражения операций по возврату до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540-F044-4984-8D32-E0D16074991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85760" y="97776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7776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AutoShape 4"/>
          <p:cNvSpPr/>
          <p:nvPr/>
        </p:nvSpPr>
        <p:spPr>
          <a:xfrm>
            <a:off x="8204040" y="4816440"/>
            <a:ext cx="981360" cy="137952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2 19 ххххх хх хххх 151 121002151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7062840" y="5191200"/>
            <a:ext cx="1019160" cy="142236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140110151 в корреспонденции кредитом счета 1205516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5D6-0BE7-4EF3-AA99-CCAFB66B9B2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28480" y="3154320"/>
          <a:ext cx="11190600" cy="1509840"/>
        </p:xfrm>
        <a:graphic>
          <a:graphicData uri="http://schemas.openxmlformats.org/drawingml/2006/table">
            <a:tbl>
              <a:tblPr/>
              <a:tblGrid>
                <a:gridCol w="4314960"/>
                <a:gridCol w="3349800"/>
                <a:gridCol w="3525840"/>
              </a:tblGrid>
              <a:tr h="77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 по возврату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излишне взысканных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9000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9000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Прямоугольник 7"/>
          <p:cNvSpPr/>
          <p:nvPr/>
        </p:nvSpPr>
        <p:spPr>
          <a:xfrm>
            <a:off x="538200" y="1486080"/>
            <a:ext cx="1124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озврат излишне взысканных межбюджетных трансфертов прошлых отчетных пер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Предоставленных в рамках федеральной целевой программы «Развитие физической культуры и спорта в Российской Федерации на 2006-2015 год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120600" y="2382840"/>
            <a:ext cx="1190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11.05.2017 № 355 «О внесении изменений в некоторые приказы Министерства финансов Российской Федерации о бесспорном взыскании суммы средств, предоставленных из федерального бюджета бюджетам субъектов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228600" y="4867200"/>
            <a:ext cx="8325000" cy="1582200"/>
          </a:xfrm>
          <a:prstGeom prst="flowChartAlternateProcess">
            <a:avLst/>
          </a:prstGeom>
          <a:solidFill>
            <a:srgbClr val="0000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ерации по восстановлению доходов подлежащих возврату из федерального бюджета отражаются аналогично операциям во восстановлению неиспользованного остатка целевых средств, подлежащих возврату в федеральный бюджет с противоположным зна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CE91-A451-4FA8-AC6D-30221F0BF9B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185760" y="988920"/>
          <a:ext cx="11620440" cy="57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88920"/>
                    <a:ext cx="1162044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4"/>
          <p:cNvSpPr/>
          <p:nvPr/>
        </p:nvSpPr>
        <p:spPr>
          <a:xfrm>
            <a:off x="8204040" y="4816440"/>
            <a:ext cx="1209960" cy="128736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дебетового оборота по счету 2 19 ххххх хх хххх 151 12100215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ажаются в гр. 10 со знаком «МИНУ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64480" y="4821120"/>
            <a:ext cx="1217520" cy="1514520"/>
          </a:xfrm>
          <a:prstGeom prst="wedgeRoundRectCallout">
            <a:avLst>
              <a:gd name="adj1" fmla="val -2736"/>
              <a:gd name="adj2" fmla="val -7035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олжны соответствовать данным кредитового оборота по счету 140110151 в корреспонденции дебетом счета 120551560. </a:t>
            </a: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ажаются в гр. 9  со знаком «МИНУ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E177-377C-4C2F-AB39-6E36A68FAFC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9800" y="4002120"/>
          <a:ext cx="11188800" cy="1865160"/>
        </p:xfrm>
        <a:graphic>
          <a:graphicData uri="http://schemas.openxmlformats.org/drawingml/2006/table">
            <a:tbl>
              <a:tblPr/>
              <a:tblGrid>
                <a:gridCol w="3949920"/>
                <a:gridCol w="3714480"/>
                <a:gridCol w="35244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распорядитель бюджетных средств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федерального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исление средств из бюджета субъекта Российской Федерации в федеральный бюджет в связи с недостижением результа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ХХХХ ХХХХХХХХХХ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91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ХХХХ ХХХХХХХХХХ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6 49010 01 0000 140 </a:t>
                      </a:r>
                      <a:r>
                        <a:rPr b="1" lang="ru-RU" sz="1400" spc="-1" strike="noStrike">
                          <a:solidFill>
                            <a:srgbClr val="ebf1d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6 49010 01 0000 140 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676520" y="1644480"/>
            <a:ext cx="9785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859c"/>
                </a:solidFill>
                <a:latin typeface="Cambria"/>
              </a:rPr>
              <a:t>Перечисление средств из бюджета субъекта Российской Федерации в федеральный бюджет в случае неисполнения условий соглашений о предоставлении субсидий из федерального бюджета бюджету субъекта Российской Федерации за недостижение субъектом Российской Федерации установленных значений показателей результативности осуществления расходов бюджета субъекта Российской Федерации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168120" y="6080040"/>
            <a:ext cx="117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становление Правительства РФ от 30.09.2014 № 999 «О формировании, предоставлении и распределении субсидий из федерального бюджета бюджетам субъекто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ая прямоугольная выноска 8"/>
          <p:cNvSpPr/>
          <p:nvPr/>
        </p:nvSpPr>
        <p:spPr>
          <a:xfrm>
            <a:off x="1265400" y="2751120"/>
            <a:ext cx="3412800" cy="1122480"/>
          </a:xfrm>
          <a:prstGeom prst="wedgeRoundRectCallout">
            <a:avLst>
              <a:gd name="adj1" fmla="val 45296"/>
              <a:gd name="adj2" fmla="val 145000"/>
              <a:gd name="adj3" fmla="val 16667"/>
            </a:avLst>
          </a:prstGeom>
          <a:noFill/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ерации не относятся к межбюджетным расчетам, не подлежат консолидации, не отражаются 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равке ф.0503125, Отчете ф. 05033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673-FEF4-4025-B05E-5F9D5197BAD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3419640" y="1666800"/>
            <a:ext cx="2592360" cy="22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ганы управления государственными внебюджетными фондам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5"/>
          <p:cNvSpPr/>
          <p:nvPr/>
        </p:nvSpPr>
        <p:spPr>
          <a:xfrm>
            <a:off x="6286680" y="1657440"/>
            <a:ext cx="2592360" cy="22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Финансовые органы субъектов Российской Федерации (муниципальных образова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6"/>
          <p:cNvSpPr/>
          <p:nvPr/>
        </p:nvSpPr>
        <p:spPr>
          <a:xfrm>
            <a:off x="9185400" y="1657440"/>
            <a:ext cx="2592360" cy="22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ганы управления территориальными государственными внебюджетными фон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4314960" y="125568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частники межбюджетных расч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1"/>
          <p:cNvSpPr/>
          <p:nvPr/>
        </p:nvSpPr>
        <p:spPr>
          <a:xfrm>
            <a:off x="523800" y="1657440"/>
            <a:ext cx="2592360" cy="22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авные администраторы средств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кругленный прямоугольник 11"/>
          <p:cNvSpPr/>
          <p:nvPr/>
        </p:nvSpPr>
        <p:spPr>
          <a:xfrm>
            <a:off x="7750080" y="4151160"/>
            <a:ext cx="3094200" cy="951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правка ф. 0503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сверка расчетов и консолид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1"/>
          <p:cNvSpPr/>
          <p:nvPr/>
        </p:nvSpPr>
        <p:spPr>
          <a:xfrm>
            <a:off x="3795840" y="5410080"/>
            <a:ext cx="4160880" cy="951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правка ф. 0503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сверка расчетов и консолид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Соединитель: уступ 2"/>
          <p:cNvCxnSpPr>
            <a:endCxn id="162" idx="1"/>
          </p:cNvCxnSpPr>
          <p:nvPr/>
        </p:nvCxnSpPr>
        <p:spPr>
          <a:xfrm>
            <a:off x="1699920" y="3881160"/>
            <a:ext cx="2096280" cy="2004120"/>
          </a:xfrm>
          <a:prstGeom prst="bentConnector3">
            <a:avLst>
              <a:gd name="adj1" fmla="val 240"/>
            </a:avLst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4" name="Соединитель: уступ 13"/>
          <p:cNvCxnSpPr>
            <a:stCxn id="161" idx="2"/>
          </p:cNvCxnSpPr>
          <p:nvPr/>
        </p:nvCxnSpPr>
        <p:spPr>
          <a:xfrm rot="5400000">
            <a:off x="8209440" y="4848840"/>
            <a:ext cx="835560" cy="1342080"/>
          </a:xfrm>
          <a:prstGeom prst="bentConnector2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5" name="Прямая со стрелкой 17"/>
          <p:cNvCxnSpPr>
            <a:stCxn id="156" idx="2"/>
          </p:cNvCxnSpPr>
          <p:nvPr/>
        </p:nvCxnSpPr>
        <p:spPr>
          <a:xfrm>
            <a:off x="4716000" y="3881520"/>
            <a:ext cx="1080" cy="152928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6" name="Прямая со стрелкой 14"/>
          <p:cNvCxnSpPr/>
          <p:nvPr/>
        </p:nvCxnSpPr>
        <p:spPr>
          <a:xfrm>
            <a:off x="8205480" y="3871800"/>
            <a:ext cx="1080" cy="28008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7" name="Прямая со стрелкой 15"/>
          <p:cNvCxnSpPr/>
          <p:nvPr/>
        </p:nvCxnSpPr>
        <p:spPr>
          <a:xfrm>
            <a:off x="10010520" y="3881160"/>
            <a:ext cx="1080" cy="27036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68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6F6E-AB2A-417E-A9D2-B7A8CEF9CC9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8000" y="1528920"/>
          <a:ext cx="11136240" cy="2739960"/>
        </p:xfrm>
        <a:graphic>
          <a:graphicData uri="http://schemas.openxmlformats.org/drawingml/2006/table">
            <a:tbl>
              <a:tblPr/>
              <a:tblGrid>
                <a:gridCol w="831600"/>
                <a:gridCol w="1413000"/>
                <a:gridCol w="1495440"/>
                <a:gridCol w="3573360"/>
                <a:gridCol w="914400"/>
                <a:gridCol w="830160"/>
                <a:gridCol w="2078280"/>
              </a:tblGrid>
              <a:tr h="550800">
                <a:tc grid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равка ф. 0503125 (1 206 51 560) </a:t>
                      </a:r>
                      <a:r>
                        <a:rPr b="0" lang="ru-RU" sz="25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ГРБС субъекта РФ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П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Т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сч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-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ч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00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2 0901 00000</a:t>
                      </a:r>
                      <a:r>
                        <a:rPr b="0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ххх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52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6 51 5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4 05 2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1"/>
          <p:cNvSpPr/>
          <p:nvPr/>
        </p:nvSpPr>
        <p:spPr>
          <a:xfrm>
            <a:off x="6499080" y="1601640"/>
            <a:ext cx="309564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32"/>
          <p:cNvSpPr/>
          <p:nvPr/>
        </p:nvSpPr>
        <p:spPr>
          <a:xfrm>
            <a:off x="6858000" y="462600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кого бюджета перечислялос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субъекта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AutoShape 33"/>
          <p:cNvCxnSpPr/>
          <p:nvPr/>
        </p:nvCxnSpPr>
        <p:spPr>
          <a:xfrm flipH="1" rot="16200000">
            <a:off x="7323840" y="3210120"/>
            <a:ext cx="2436120" cy="396000"/>
          </a:xfrm>
          <a:prstGeom prst="bentConnector3">
            <a:avLst>
              <a:gd name="adj1" fmla="val 49674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4" name="Rectangle 34"/>
          <p:cNvSpPr/>
          <p:nvPr/>
        </p:nvSpPr>
        <p:spPr>
          <a:xfrm>
            <a:off x="5951520" y="2714760"/>
            <a:ext cx="647640" cy="57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35"/>
          <p:cNvSpPr/>
          <p:nvPr/>
        </p:nvSpPr>
        <p:spPr>
          <a:xfrm>
            <a:off x="3546360" y="462600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еречислялос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ая субсид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AutoShape 36"/>
          <p:cNvCxnSpPr>
            <a:stCxn id="174" idx="2"/>
            <a:endCxn id="175" idx="0"/>
          </p:cNvCxnSpPr>
          <p:nvPr/>
        </p:nvCxnSpPr>
        <p:spPr>
          <a:xfrm rot="5400000">
            <a:off x="5034960" y="3385800"/>
            <a:ext cx="1335960" cy="1145520"/>
          </a:xfrm>
          <a:prstGeom prst="bentConnector3">
            <a:avLst>
              <a:gd name="adj1" fmla="val 50000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7" name="Rectangle 37"/>
          <p:cNvSpPr/>
          <p:nvPr/>
        </p:nvSpPr>
        <p:spPr>
          <a:xfrm>
            <a:off x="1243080" y="275436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AutoShape 38"/>
          <p:cNvCxnSpPr>
            <a:stCxn id="177" idx="2"/>
            <a:endCxn id="179" idx="0"/>
          </p:cNvCxnSpPr>
          <p:nvPr/>
        </p:nvCxnSpPr>
        <p:spPr>
          <a:xfrm flipH="1" rot="16200000">
            <a:off x="1026000" y="3833640"/>
            <a:ext cx="1296000" cy="289440"/>
          </a:xfrm>
          <a:prstGeom prst="bentConnector3">
            <a:avLst>
              <a:gd name="adj1" fmla="val 49986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AutoShape 39"/>
          <p:cNvSpPr/>
          <p:nvPr/>
        </p:nvSpPr>
        <p:spPr>
          <a:xfrm>
            <a:off x="235080" y="4626000"/>
            <a:ext cx="316836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бюджет перечислялос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ы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4021200" y="198360"/>
            <a:ext cx="80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рмативные правовые акты, регламентирующие порядок ведения учета и составления отчетности по межбюджетным трансфер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Placeholder 3"/>
          <p:cNvSpPr/>
          <p:nvPr/>
        </p:nvSpPr>
        <p:spPr>
          <a:xfrm>
            <a:off x="2147760" y="3345840"/>
            <a:ext cx="9925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Приказ Минфина России от 28.12.2010 № 191н «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0" descr="C:\Users\2839\Desktop\Учет и Отчетность\books.png"/>
          <p:cNvPicPr/>
          <p:nvPr/>
        </p:nvPicPr>
        <p:blipFill>
          <a:blip r:embed="rId1"/>
          <a:stretch/>
        </p:blipFill>
        <p:spPr>
          <a:xfrm>
            <a:off x="119160" y="2987640"/>
            <a:ext cx="1633320" cy="163368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3"/>
          <p:cNvSpPr/>
          <p:nvPr/>
        </p:nvSpPr>
        <p:spPr>
          <a:xfrm>
            <a:off x="11646000" y="6434280"/>
            <a:ext cx="35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A3B5-93DE-4606-90EB-F3DBCDF9BB0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Placeholder 3"/>
          <p:cNvSpPr/>
          <p:nvPr/>
        </p:nvSpPr>
        <p:spPr>
          <a:xfrm>
            <a:off x="2147760" y="2374560"/>
            <a:ext cx="9925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Приказ Минфина России от 06.12.2010 № 162н «Об утверждении Плана счетов бюджетного учета и Инструкции по его применению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Placeholder 3"/>
          <p:cNvSpPr/>
          <p:nvPr/>
        </p:nvSpPr>
        <p:spPr>
          <a:xfrm>
            <a:off x="2068560" y="4579920"/>
            <a:ext cx="99248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Письмо Федерального казначейства от 11.12.2012 № 42-7.4-05/2.1-704 «О порядке составления и представления финансовыми органами субъектов Российской Федерации Отчета об использовании межбюджетных трансфертов из федерального бюджета субъектами Российской Федерации, муниципальными образованиями и территориальным государственным внебюджетным фондом (ф. 0503324)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Placeholder 3"/>
          <p:cNvSpPr/>
          <p:nvPr/>
        </p:nvSpPr>
        <p:spPr>
          <a:xfrm>
            <a:off x="2147760" y="1436400"/>
            <a:ext cx="9925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Приказ Минфина России от 01.07.2013 № 65н «Об утверждении Указаний о порядке применения бюджетной классификации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C79-A095-452F-B48E-4ED71831FC5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78000" y="1530360"/>
          <a:ext cx="10955160" cy="2739960"/>
        </p:xfrm>
        <a:graphic>
          <a:graphicData uri="http://schemas.openxmlformats.org/drawingml/2006/table">
            <a:tbl>
              <a:tblPr/>
              <a:tblGrid>
                <a:gridCol w="817560"/>
                <a:gridCol w="1390320"/>
                <a:gridCol w="1470240"/>
                <a:gridCol w="3517920"/>
                <a:gridCol w="898560"/>
                <a:gridCol w="815760"/>
                <a:gridCol w="2044800"/>
              </a:tblGrid>
              <a:tr h="550800">
                <a:tc grid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равка ф. 0503125 (1 205 51 660) </a:t>
                      </a:r>
                      <a:r>
                        <a:rPr b="0" lang="ru-RU" sz="25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АДБ МО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П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Т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сч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-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ч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6543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 2 02 2</a:t>
                      </a:r>
                      <a:r>
                        <a:rPr b="0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ххх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05 0000 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10 02 1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31"/>
          <p:cNvSpPr/>
          <p:nvPr/>
        </p:nvSpPr>
        <p:spPr>
          <a:xfrm>
            <a:off x="6499080" y="1601640"/>
            <a:ext cx="151128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6858000" y="462600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бюджет поступил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ы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5" name="AutoShape 33"/>
          <p:cNvCxnSpPr/>
          <p:nvPr/>
        </p:nvCxnSpPr>
        <p:spPr>
          <a:xfrm flipH="1" rot="16200000">
            <a:off x="6901560" y="2729880"/>
            <a:ext cx="2580480" cy="1187640"/>
          </a:xfrm>
          <a:prstGeom prst="bentConnector3">
            <a:avLst>
              <a:gd name="adj1" fmla="val 49713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Rectangle 34"/>
          <p:cNvSpPr/>
          <p:nvPr/>
        </p:nvSpPr>
        <p:spPr>
          <a:xfrm>
            <a:off x="5094360" y="2746440"/>
            <a:ext cx="79380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3546360" y="462600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оступил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ая субсид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AutoShape 36"/>
          <p:cNvCxnSpPr>
            <a:stCxn id="186" idx="2"/>
            <a:endCxn id="187" idx="0"/>
          </p:cNvCxnSpPr>
          <p:nvPr/>
        </p:nvCxnSpPr>
        <p:spPr>
          <a:xfrm rot="5400000">
            <a:off x="4587120" y="3722400"/>
            <a:ext cx="1446840" cy="361080"/>
          </a:xfrm>
          <a:prstGeom prst="bentConnector3">
            <a:avLst>
              <a:gd name="adj1" fmla="val 50000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9" name="Rectangle 37"/>
          <p:cNvSpPr/>
          <p:nvPr/>
        </p:nvSpPr>
        <p:spPr>
          <a:xfrm>
            <a:off x="1243080" y="276696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0" name="AutoShape 38"/>
          <p:cNvCxnSpPr>
            <a:stCxn id="189" idx="2"/>
            <a:endCxn id="191" idx="0"/>
          </p:cNvCxnSpPr>
          <p:nvPr/>
        </p:nvCxnSpPr>
        <p:spPr>
          <a:xfrm flipH="1" rot="16200000">
            <a:off x="1032120" y="3839760"/>
            <a:ext cx="1283400" cy="289440"/>
          </a:xfrm>
          <a:prstGeom prst="bentConnector3">
            <a:avLst>
              <a:gd name="adj1" fmla="val 50000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1" name="AutoShape 39"/>
          <p:cNvSpPr/>
          <p:nvPr/>
        </p:nvSpPr>
        <p:spPr>
          <a:xfrm>
            <a:off x="235080" y="4626000"/>
            <a:ext cx="3168360" cy="1008000"/>
          </a:xfrm>
          <a:prstGeom prst="roundRect">
            <a:avLst>
              <a:gd name="adj" fmla="val 16667"/>
            </a:avLst>
          </a:prstGeom>
          <a:solidFill>
            <a:srgbClr val="4f81bd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кого бюджета поступил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субъекта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AutoShape 43"/>
          <p:cNvCxnSpPr>
            <a:stCxn id="191" idx="2"/>
          </p:cNvCxnSpPr>
          <p:nvPr/>
        </p:nvCxnSpPr>
        <p:spPr>
          <a:xfrm flipH="1">
            <a:off x="1818720" y="5633640"/>
            <a:ext cx="1080" cy="577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248-7F4A-4414-979A-BC6CE032105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809640" y="1457280"/>
            <a:ext cx="8858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alibri"/>
              </a:rPr>
              <a:t>Исполнено (КВР 5хх) = Исполнено (КДБ 202)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alibri"/>
              <a:ea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27120" y="2000160"/>
          <a:ext cx="10726560" cy="4211640"/>
        </p:xfrm>
        <a:graphic>
          <a:graphicData uri="http://schemas.openxmlformats.org/drawingml/2006/table">
            <a:tbl>
              <a:tblPr/>
              <a:tblGrid>
                <a:gridCol w="2235240"/>
                <a:gridCol w="2317680"/>
                <a:gridCol w="2397240"/>
                <a:gridCol w="1935000"/>
                <a:gridCol w="1841400"/>
              </a:tblGrid>
              <a:tr h="79236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олидированный бюдже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ы подлежащие исключению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Р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райо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5504-442D-40E5-97FF-74492B01B85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Схема 1" descr=""/>
          <p:cNvPicPr/>
          <p:nvPr/>
        </p:nvPicPr>
        <p:blipFill>
          <a:blip r:embed="rId1"/>
          <a:stretch/>
        </p:blipFill>
        <p:spPr>
          <a:xfrm>
            <a:off x="1390680" y="1103400"/>
            <a:ext cx="10672560" cy="5425920"/>
          </a:xfrm>
          <a:prstGeom prst="rect">
            <a:avLst/>
          </a:prstGeom>
          <a:ln w="0">
            <a:noFill/>
          </a:ln>
        </p:spPr>
      </p:pic>
      <p:sp>
        <p:nvSpPr>
          <p:cNvPr id="200" name="Заголовок 2"/>
          <p:cNvSpPr/>
          <p:nvPr/>
        </p:nvSpPr>
        <p:spPr>
          <a:xfrm>
            <a:off x="4486320" y="85680"/>
            <a:ext cx="7410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Заголовок 2"/>
          <p:cNvSpPr/>
          <p:nvPr/>
        </p:nvSpPr>
        <p:spPr>
          <a:xfrm>
            <a:off x="4638600" y="531720"/>
            <a:ext cx="74106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 при отнесении поступающих сумм на невыясненные поступ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33E-5AAE-4773-B6A1-1E1A8188B48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хема 1" descr=""/>
          <p:cNvPicPr/>
          <p:nvPr/>
        </p:nvPicPr>
        <p:blipFill>
          <a:blip r:embed="rId1"/>
          <a:stretch/>
        </p:blipFill>
        <p:spPr>
          <a:xfrm>
            <a:off x="1390680" y="1079640"/>
            <a:ext cx="10672560" cy="5424480"/>
          </a:xfrm>
          <a:prstGeom prst="rect">
            <a:avLst/>
          </a:prstGeom>
          <a:ln w="0">
            <a:noFill/>
          </a:ln>
        </p:spPr>
      </p:pic>
      <p:sp>
        <p:nvSpPr>
          <p:cNvPr id="204" name="Заголовок 2"/>
          <p:cNvSpPr/>
          <p:nvPr/>
        </p:nvSpPr>
        <p:spPr>
          <a:xfrm>
            <a:off x="4486320" y="85680"/>
            <a:ext cx="741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Заголовок 2"/>
          <p:cNvSpPr/>
          <p:nvPr/>
        </p:nvSpPr>
        <p:spPr>
          <a:xfrm>
            <a:off x="4638600" y="531720"/>
            <a:ext cx="74106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 при отнесении поступающих сумм на невыясненные поступ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ABF-58CF-4DB4-A4CA-2BA3D3A3A6F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Схема 1" descr=""/>
          <p:cNvPicPr/>
          <p:nvPr/>
        </p:nvPicPr>
        <p:blipFill>
          <a:blip r:embed="rId1"/>
          <a:stretch/>
        </p:blipFill>
        <p:spPr>
          <a:xfrm>
            <a:off x="1390680" y="1103400"/>
            <a:ext cx="10672560" cy="5425920"/>
          </a:xfrm>
          <a:prstGeom prst="rect">
            <a:avLst/>
          </a:prstGeom>
          <a:ln w="0">
            <a:noFill/>
          </a:ln>
        </p:spPr>
      </p:pic>
      <p:sp>
        <p:nvSpPr>
          <p:cNvPr id="208" name="Заголовок 2"/>
          <p:cNvSpPr/>
          <p:nvPr/>
        </p:nvSpPr>
        <p:spPr>
          <a:xfrm>
            <a:off x="4486320" y="85680"/>
            <a:ext cx="7410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Заголовок 2"/>
          <p:cNvSpPr/>
          <p:nvPr/>
        </p:nvSpPr>
        <p:spPr>
          <a:xfrm>
            <a:off x="4638600" y="531720"/>
            <a:ext cx="74106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нсолидация межбюджетных расчетов при отнесении поступающих сумм на невыясненные поступ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BE7-804C-4049-B45B-A65600CFF33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Диаграмма 4" descr=""/>
          <p:cNvPicPr/>
          <p:nvPr/>
        </p:nvPicPr>
        <p:blipFill>
          <a:blip r:embed="rId1"/>
          <a:stretch/>
        </p:blipFill>
        <p:spPr>
          <a:xfrm>
            <a:off x="590400" y="1384200"/>
            <a:ext cx="11339640" cy="4894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шибки, влияющие на консолидацию взаимосвязанных показателей по межбюджетным расчетам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EF9-E097-4074-8B69-3EEDE8479BC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шибки, влияющие на консолидацию взаимосвязанных показателей по межбюджетным расчетам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5" name="Схема 6" descr=""/>
          <p:cNvPicPr/>
          <p:nvPr/>
        </p:nvPicPr>
        <p:blipFill>
          <a:blip r:embed="rId1"/>
          <a:stretch/>
        </p:blipFill>
        <p:spPr>
          <a:xfrm>
            <a:off x="1133640" y="1047600"/>
            <a:ext cx="107172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39E-AE49-4A0A-913F-E3F4889437E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1434960" y="1305000"/>
            <a:ext cx="101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имере Субсидии бюджетам субъектов Российской Федерации на содействие достижению целевых показателей реализации региональных программ развития агропромышл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Использование целевых  межбюджетных трансферто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28480" y="2133720"/>
          <a:ext cx="10701360" cy="4170240"/>
        </p:xfrm>
        <a:graphic>
          <a:graphicData uri="http://schemas.openxmlformats.org/drawingml/2006/table">
            <a:tbl>
              <a:tblPr/>
              <a:tblGrid>
                <a:gridCol w="990720"/>
                <a:gridCol w="2243160"/>
                <a:gridCol w="879480"/>
                <a:gridCol w="1233360"/>
                <a:gridCol w="1517760"/>
                <a:gridCol w="1278000"/>
                <a:gridCol w="1279440"/>
                <a:gridCol w="1279440"/>
              </a:tblGrid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ГРБ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ЦС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БК доходов К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ило из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овый рас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аток на 01.07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Бур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723 816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278 079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5 737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Даге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 425 332,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 118 715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6 617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алмык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 848 45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 777 666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 792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арел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496 139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475 39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 747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город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9 750 99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9 484 15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6 838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 850 16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 762 286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 875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кут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 184 652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 182 935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717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573 906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 113 169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 460 737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 858 11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 807 189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 922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5 035 348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 884 371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0 976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енбург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 790 399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 995 254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795 145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зе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 673 322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 672 577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44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мский кр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262 563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 837 593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424 969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7 375 062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6 372 752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002 31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ме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525 559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064 501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461 05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Алт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И0255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43020000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131 439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119 510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 928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0" name="Овал 11" descr=""/>
          <p:cNvPicPr/>
          <p:nvPr/>
        </p:nvPicPr>
        <p:blipFill>
          <a:blip r:embed="rId1"/>
          <a:stretch/>
        </p:blipFill>
        <p:spPr>
          <a:xfrm>
            <a:off x="6986520" y="2693880"/>
            <a:ext cx="2138400" cy="3762360"/>
          </a:xfrm>
          <a:prstGeom prst="rect">
            <a:avLst/>
          </a:prstGeom>
          <a:ln w="0">
            <a:noFill/>
          </a:ln>
        </p:spPr>
      </p:pic>
      <p:pic>
        <p:nvPicPr>
          <p:cNvPr id="221" name="Овал 12" descr=""/>
          <p:cNvPicPr/>
          <p:nvPr/>
        </p:nvPicPr>
        <p:blipFill>
          <a:blip r:embed="rId2"/>
          <a:stretch/>
        </p:blipFill>
        <p:spPr>
          <a:xfrm>
            <a:off x="9985320" y="2693880"/>
            <a:ext cx="2139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298-E00F-47FF-B17E-223831AC96A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9760" y="1327320"/>
          <a:ext cx="11288520" cy="4728960"/>
        </p:xfrm>
        <a:graphic>
          <a:graphicData uri="http://schemas.openxmlformats.org/drawingml/2006/table">
            <a:tbl>
              <a:tblPr/>
              <a:tblGrid>
                <a:gridCol w="653760"/>
                <a:gridCol w="1224000"/>
                <a:gridCol w="3446640"/>
                <a:gridCol w="463320"/>
                <a:gridCol w="876600"/>
                <a:gridCol w="1377720"/>
                <a:gridCol w="1096920"/>
                <a:gridCol w="1098720"/>
                <a:gridCol w="1050840"/>
              </a:tblGrid>
              <a:tr h="861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ГРБ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ЦС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БК доходов К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ило из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овый рас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аток на 01.07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бюджету Красноярского края на софинансирование строительства объектов капитального строительства, необходимых для подготовки и проведения XXIX Всемирной зимней универсиады 2019 года в г. Красноярс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0455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501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7 552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8 830 05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1 278 05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баров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субъектов Российской Федерации на адресную финансовую поддержку спортивных организаций, осуществляющих подготовку спортивного резерва для сборных команд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0250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5081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 077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7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субъектов Российской Федерации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0054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0051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00 00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883 777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3 083 777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ежбюджетные трансферты, передаваемые бюджетам субъектов Российской Федерации на реализацию мероприятий по подготовке и проведению чемпионата мира по футболу в 2018 году в Российской Федерации в целях строительства и/или реконструкции спортивных объектов, а также развития метрополитенов в г. Санкт-Петербурге и г. Нижнем Новгор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30251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245154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 745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Использование целевых межбюджетных трансферто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327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92E-A9C6-4D30-B2B3-532632F5171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Бюджетная классификация расходов бюджетов по предоставлению межбюджетных трансферто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Схема 9" descr=""/>
          <p:cNvPicPr/>
          <p:nvPr/>
        </p:nvPicPr>
        <p:blipFill>
          <a:blip r:embed="rId1"/>
          <a:stretch/>
        </p:blipFill>
        <p:spPr>
          <a:xfrm>
            <a:off x="212760" y="1420920"/>
            <a:ext cx="11807640" cy="5217840"/>
          </a:xfrm>
          <a:prstGeom prst="rect">
            <a:avLst/>
          </a:prstGeom>
          <a:ln w="0">
            <a:noFill/>
          </a:ln>
        </p:spPr>
      </p:pic>
      <p:grpSp>
        <p:nvGrpSpPr>
          <p:cNvPr id="59" name="TextBox 1"/>
          <p:cNvGrpSpPr/>
          <p:nvPr/>
        </p:nvGrpSpPr>
        <p:grpSpPr>
          <a:xfrm>
            <a:off x="3041640" y="957240"/>
            <a:ext cx="7321680" cy="609480"/>
            <a:chOff x="3041640" y="957240"/>
            <a:chExt cx="7321680" cy="609480"/>
          </a:xfrm>
        </p:grpSpPr>
        <p:pic>
          <p:nvPicPr>
            <p:cNvPr id="60" name="TextBox 1" descr=""/>
            <p:cNvPicPr/>
            <p:nvPr/>
          </p:nvPicPr>
          <p:blipFill>
            <a:blip r:embed="rId2"/>
            <a:stretch/>
          </p:blipFill>
          <p:spPr>
            <a:xfrm>
              <a:off x="3041640" y="957240"/>
              <a:ext cx="7321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103560" y="1023840"/>
              <a:ext cx="71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Межбюджетные трансферт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Номер слайда 3"/>
          <p:cNvSpPr/>
          <p:nvPr/>
        </p:nvSpPr>
        <p:spPr>
          <a:xfrm>
            <a:off x="9344160" y="6326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AC0-A766-48E0-88AF-0C931E2C6BDA}" type="slidenum">
              <a:rPr b="1" lang="ru-RU" sz="1400" spc="-1" strike="noStrike">
                <a:solidFill>
                  <a:srgbClr val="898989"/>
                </a:solidFill>
                <a:latin typeface="Cambri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Бюджетная классификация доходов бюджетов по получению и возврату межбюджетных трансферто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Схема 9" descr=""/>
          <p:cNvPicPr/>
          <p:nvPr/>
        </p:nvPicPr>
        <p:blipFill>
          <a:blip r:embed="rId1"/>
          <a:stretch/>
        </p:blipFill>
        <p:spPr>
          <a:xfrm>
            <a:off x="274680" y="1420920"/>
            <a:ext cx="11679120" cy="5217840"/>
          </a:xfrm>
          <a:prstGeom prst="rect">
            <a:avLst/>
          </a:prstGeom>
          <a:ln w="0">
            <a:noFill/>
          </a:ln>
        </p:spPr>
      </p:pic>
      <p:grpSp>
        <p:nvGrpSpPr>
          <p:cNvPr id="65" name="TextBox 1"/>
          <p:cNvGrpSpPr/>
          <p:nvPr/>
        </p:nvGrpSpPr>
        <p:grpSpPr>
          <a:xfrm>
            <a:off x="4535640" y="853920"/>
            <a:ext cx="7315200" cy="609840"/>
            <a:chOff x="4535640" y="853920"/>
            <a:chExt cx="7315200" cy="609840"/>
          </a:xfrm>
        </p:grpSpPr>
        <p:pic>
          <p:nvPicPr>
            <p:cNvPr id="66" name="TextBox 1" descr=""/>
            <p:cNvPicPr/>
            <p:nvPr/>
          </p:nvPicPr>
          <p:blipFill>
            <a:blip r:embed="rId2"/>
            <a:stretch/>
          </p:blipFill>
          <p:spPr>
            <a:xfrm>
              <a:off x="4535640" y="853920"/>
              <a:ext cx="73152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95760" y="920880"/>
              <a:ext cx="71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Межбюджетные трансферт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Номер слайда 3"/>
          <p:cNvSpPr/>
          <p:nvPr/>
        </p:nvSpPr>
        <p:spPr>
          <a:xfrm>
            <a:off x="9344160" y="6326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1CB-1AB1-4E5E-9015-33FC476EE070}" type="slidenum">
              <a:rPr b="1" lang="ru-RU" sz="1400" spc="-1" strike="noStrike">
                <a:solidFill>
                  <a:srgbClr val="898989"/>
                </a:solidFill>
                <a:latin typeface="Cambri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A86D-C1C8-45F4-9D57-63733A1E2C3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хема 1" descr=""/>
          <p:cNvPicPr/>
          <p:nvPr/>
        </p:nvPicPr>
        <p:blipFill>
          <a:blip r:embed="rId1"/>
          <a:stretch/>
        </p:blipFill>
        <p:spPr>
          <a:xfrm>
            <a:off x="1463760" y="1182600"/>
            <a:ext cx="9862920" cy="5419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Коды группы подвида доходов для отражения доходов от возврата целевых межбюджетных трансфертов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401760" y="3255840"/>
            <a:ext cx="1411200" cy="96372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нак ''плюс'' 7"/>
          <p:cNvSpPr/>
          <p:nvPr/>
        </p:nvSpPr>
        <p:spPr>
          <a:xfrm>
            <a:off x="2308320" y="3233880"/>
            <a:ext cx="512640" cy="561960"/>
          </a:xfrm>
          <a:custGeom>
            <a:avLst/>
            <a:gdLst/>
            <a:ahLst/>
            <a:rect l="l" t="t" r="r" b="b"/>
            <a:pathLst>
              <a:path w="512763" h="561975">
                <a:moveTo>
                  <a:pt x="67967" y="220687"/>
                </a:moveTo>
                <a:lnTo>
                  <a:pt x="196081" y="220687"/>
                </a:lnTo>
                <a:lnTo>
                  <a:pt x="196081" y="74490"/>
                </a:lnTo>
                <a:lnTo>
                  <a:pt x="316682" y="74490"/>
                </a:lnTo>
                <a:lnTo>
                  <a:pt x="316682" y="220687"/>
                </a:lnTo>
                <a:lnTo>
                  <a:pt x="444796" y="220687"/>
                </a:lnTo>
                <a:lnTo>
                  <a:pt x="444796" y="341288"/>
                </a:lnTo>
                <a:lnTo>
                  <a:pt x="316682" y="341288"/>
                </a:lnTo>
                <a:lnTo>
                  <a:pt x="316682" y="487485"/>
                </a:lnTo>
                <a:lnTo>
                  <a:pt x="196081" y="487485"/>
                </a:lnTo>
                <a:lnTo>
                  <a:pt x="196081" y="341288"/>
                </a:lnTo>
                <a:lnTo>
                  <a:pt x="67967" y="341288"/>
                </a:lnTo>
                <a:lnTo>
                  <a:pt x="67967" y="220687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Знак ''минус'' 5"/>
          <p:cNvSpPr/>
          <p:nvPr/>
        </p:nvSpPr>
        <p:spPr>
          <a:xfrm>
            <a:off x="2365200" y="4122720"/>
            <a:ext cx="420840" cy="449280"/>
          </a:xfrm>
          <a:custGeom>
            <a:avLst/>
            <a:gdLst/>
            <a:ahLst/>
            <a:rect l="l" t="t" r="r" b="b"/>
            <a:pathLst>
              <a:path w="420688" h="449262">
                <a:moveTo>
                  <a:pt x="55762" y="171798"/>
                </a:moveTo>
                <a:lnTo>
                  <a:pt x="364926" y="171798"/>
                </a:lnTo>
                <a:lnTo>
                  <a:pt x="364926" y="277464"/>
                </a:lnTo>
                <a:lnTo>
                  <a:pt x="55762" y="277464"/>
                </a:lnTo>
                <a:lnTo>
                  <a:pt x="55762" y="17179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нак ''минус'' 9"/>
          <p:cNvSpPr/>
          <p:nvPr/>
        </p:nvSpPr>
        <p:spPr>
          <a:xfrm>
            <a:off x="2184480" y="4970520"/>
            <a:ext cx="420480" cy="450720"/>
          </a:xfrm>
          <a:custGeom>
            <a:avLst/>
            <a:gdLst/>
            <a:ahLst/>
            <a:rect l="l" t="t" r="r" b="b"/>
            <a:pathLst>
              <a:path w="420688" h="450850">
                <a:moveTo>
                  <a:pt x="55762" y="172405"/>
                </a:moveTo>
                <a:lnTo>
                  <a:pt x="364926" y="172405"/>
                </a:lnTo>
                <a:lnTo>
                  <a:pt x="364926" y="278445"/>
                </a:lnTo>
                <a:lnTo>
                  <a:pt x="55762" y="278445"/>
                </a:lnTo>
                <a:lnTo>
                  <a:pt x="55762" y="172405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нак ''минус'' 10"/>
          <p:cNvSpPr/>
          <p:nvPr/>
        </p:nvSpPr>
        <p:spPr>
          <a:xfrm>
            <a:off x="1690560" y="5827680"/>
            <a:ext cx="420840" cy="449280"/>
          </a:xfrm>
          <a:custGeom>
            <a:avLst/>
            <a:gdLst/>
            <a:ahLst/>
            <a:rect l="l" t="t" r="r" b="b"/>
            <a:pathLst>
              <a:path w="420687" h="449262">
                <a:moveTo>
                  <a:pt x="55762" y="171798"/>
                </a:moveTo>
                <a:lnTo>
                  <a:pt x="364925" y="171798"/>
                </a:lnTo>
                <a:lnTo>
                  <a:pt x="364925" y="277464"/>
                </a:lnTo>
                <a:lnTo>
                  <a:pt x="55762" y="277464"/>
                </a:lnTo>
                <a:lnTo>
                  <a:pt x="55762" y="17179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нак ''плюс'' 11"/>
          <p:cNvSpPr/>
          <p:nvPr/>
        </p:nvSpPr>
        <p:spPr>
          <a:xfrm>
            <a:off x="2082960" y="2341440"/>
            <a:ext cx="514080" cy="561960"/>
          </a:xfrm>
          <a:custGeom>
            <a:avLst/>
            <a:gdLst/>
            <a:ahLst/>
            <a:rect l="l" t="t" r="r" b="b"/>
            <a:pathLst>
              <a:path w="514350" h="561975">
                <a:moveTo>
                  <a:pt x="68177" y="220500"/>
                </a:moveTo>
                <a:lnTo>
                  <a:pt x="196687" y="220500"/>
                </a:lnTo>
                <a:lnTo>
                  <a:pt x="196687" y="74490"/>
                </a:lnTo>
                <a:lnTo>
                  <a:pt x="317663" y="74490"/>
                </a:lnTo>
                <a:lnTo>
                  <a:pt x="317663" y="220500"/>
                </a:lnTo>
                <a:lnTo>
                  <a:pt x="446173" y="220500"/>
                </a:lnTo>
                <a:lnTo>
                  <a:pt x="446173" y="341475"/>
                </a:lnTo>
                <a:lnTo>
                  <a:pt x="317663" y="341475"/>
                </a:lnTo>
                <a:lnTo>
                  <a:pt x="317663" y="487485"/>
                </a:lnTo>
                <a:lnTo>
                  <a:pt x="196687" y="487485"/>
                </a:lnTo>
                <a:lnTo>
                  <a:pt x="196687" y="341475"/>
                </a:lnTo>
                <a:lnTo>
                  <a:pt x="68177" y="341475"/>
                </a:lnTo>
                <a:lnTo>
                  <a:pt x="68177" y="2205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нак ''плюс'' 12"/>
          <p:cNvSpPr/>
          <p:nvPr/>
        </p:nvSpPr>
        <p:spPr>
          <a:xfrm>
            <a:off x="1633680" y="1455840"/>
            <a:ext cx="512640" cy="561960"/>
          </a:xfrm>
          <a:custGeom>
            <a:avLst/>
            <a:gdLst/>
            <a:ahLst/>
            <a:rect l="l" t="t" r="r" b="b"/>
            <a:pathLst>
              <a:path w="512762" h="561975">
                <a:moveTo>
                  <a:pt x="67967" y="220687"/>
                </a:moveTo>
                <a:lnTo>
                  <a:pt x="196080" y="220687"/>
                </a:lnTo>
                <a:lnTo>
                  <a:pt x="196080" y="74490"/>
                </a:lnTo>
                <a:lnTo>
                  <a:pt x="316682" y="74490"/>
                </a:lnTo>
                <a:lnTo>
                  <a:pt x="316682" y="220687"/>
                </a:lnTo>
                <a:lnTo>
                  <a:pt x="444795" y="220687"/>
                </a:lnTo>
                <a:lnTo>
                  <a:pt x="444795" y="341288"/>
                </a:lnTo>
                <a:lnTo>
                  <a:pt x="316682" y="341288"/>
                </a:lnTo>
                <a:lnTo>
                  <a:pt x="316682" y="487485"/>
                </a:lnTo>
                <a:lnTo>
                  <a:pt x="196080" y="487485"/>
                </a:lnTo>
                <a:lnTo>
                  <a:pt x="196080" y="341288"/>
                </a:lnTo>
                <a:lnTo>
                  <a:pt x="67967" y="341288"/>
                </a:lnTo>
                <a:lnTo>
                  <a:pt x="67967" y="220687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8066-E566-48A1-8D09-21AD197A40F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20560" y="1044720"/>
          <a:ext cx="11190600" cy="3993840"/>
        </p:xfrm>
        <a:graphic>
          <a:graphicData uri="http://schemas.openxmlformats.org/drawingml/2006/table">
            <a:tbl>
              <a:tblPr/>
              <a:tblGrid>
                <a:gridCol w="4314960"/>
                <a:gridCol w="3349800"/>
                <a:gridCol w="35258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распорядитель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от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/получение межбюджетных трансфертов (в порядке авансирования, в том числе «под потребность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ие дотаций, предоставление межбюджетных трансфертов в порядке компенсации ранее произведенных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403 3620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 51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 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расходов, отнесение на финансов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20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2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 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2 51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401 10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Выгнутая вниз стрелка 5"/>
          <p:cNvSpPr/>
          <p:nvPr/>
        </p:nvSpPr>
        <p:spPr>
          <a:xfrm>
            <a:off x="6296040" y="2084400"/>
            <a:ext cx="2911320" cy="249120"/>
          </a:xfrm>
          <a:custGeom>
            <a:avLst/>
            <a:gdLst>
              <a:gd name="textAreaLeft" fmla="*/ 704520 w 2911320"/>
              <a:gd name="textAreaRight" fmla="*/ 2175840 w 291132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53" hR="21600" stAng="10800000" swAng="-5400000"/>
                <a:lnTo>
                  <a:pt x="10916" y="21600"/>
                </a:lnTo>
                <a:arcTo wR="10453" hR="21600" stAng="5400000" swAng="-3715097"/>
                <a:lnTo>
                  <a:pt x="21268" y="5400"/>
                </a:lnTo>
                <a:lnTo>
                  <a:pt x="21138" y="0"/>
                </a:lnTo>
                <a:lnTo>
                  <a:pt x="20343" y="5400"/>
                </a:lnTo>
                <a:lnTo>
                  <a:pt x="20574" y="5400"/>
                </a:lnTo>
                <a:arcTo wR="10453" hR="21600" stAng="1684903" swAng="3678245"/>
                <a:lnTo>
                  <a:pt x="10685" y="21595"/>
                </a:lnTo>
                <a:arcTo wR="10453" hR="21600" stAng="5436852" swAng="5363148"/>
                <a:close/>
              </a:path>
              <a:path fill="darkenLess" w="21600" h="21600">
                <a:moveTo>
                  <a:pt x="0" y="0"/>
                </a:moveTo>
                <a:arcTo wR="10453" hR="21600" stAng="10800000" swAng="-5400000"/>
                <a:lnTo>
                  <a:pt x="10916" y="21600"/>
                </a:lnTo>
                <a:arcTo wR="10453" hR="21600" stAng="5400000" swAng="36852"/>
                <a:lnTo>
                  <a:pt x="10685" y="21595"/>
                </a:lnTo>
                <a:arcTo wR="10453" hR="21600" stAng="5436852" swAng="5363148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54040" y="5168880"/>
          <a:ext cx="11190240" cy="1270080"/>
        </p:xfrm>
        <a:graphic>
          <a:graphicData uri="http://schemas.openxmlformats.org/drawingml/2006/table">
            <a:tbl>
              <a:tblPr/>
              <a:tblGrid>
                <a:gridCol w="4314960"/>
                <a:gridCol w="3349440"/>
                <a:gridCol w="3525840"/>
              </a:tblGrid>
              <a:tr h="61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от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распорядитель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излишне порученных межбюджетных трансфертов в текущем финансов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304 05 2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6C1-88C1-47B3-8A9F-702D569CFF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603440" y="1170000"/>
            <a:ext cx="10107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средств в пути в части межбюджетных трансферт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54040" y="2178000"/>
          <a:ext cx="10402920" cy="2882880"/>
        </p:xfrm>
        <a:graphic>
          <a:graphicData uri="http://schemas.openxmlformats.org/drawingml/2006/table">
            <a:tbl>
              <a:tblPr/>
              <a:tblGrid>
                <a:gridCol w="3432240"/>
                <a:gridCol w="3689280"/>
                <a:gridCol w="328140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перечисленных в последний рабочий день отчетного периода средств на ЛС АД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– 1 205 51 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выписка из ЛС АД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4 151 – 1 210 02 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Справка ф. 05314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2 12 510 – 1 402 10 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Справка ф. 05314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ление средств в доход бюджета в первый рабочий день следующего отчетного пери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 – 1 210 04 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2 11 510 – 1 202 12 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5"/>
          <p:cNvSpPr/>
          <p:nvPr/>
        </p:nvSpPr>
        <p:spPr>
          <a:xfrm>
            <a:off x="1082520" y="63025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ф. 0503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954960" y="630252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ф. 05031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6482880" y="62816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ф. 05031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30"/>
          <p:cNvCxnSpPr/>
          <p:nvPr/>
        </p:nvCxnSpPr>
        <p:spPr>
          <a:xfrm rot="5400000">
            <a:off x="1756800" y="3362400"/>
            <a:ext cx="3242160" cy="2597760"/>
          </a:xfrm>
          <a:prstGeom prst="bentConnector3">
            <a:avLst>
              <a:gd name="adj1" fmla="val 7671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cxnSp>
        <p:nvCxnSpPr>
          <p:cNvPr id="92" name="Соединительная линия уступом 14"/>
          <p:cNvCxnSpPr/>
          <p:nvPr/>
        </p:nvCxnSpPr>
        <p:spPr>
          <a:xfrm flipH="1" rot="16200000">
            <a:off x="4448880" y="3588120"/>
            <a:ext cx="2709000" cy="270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B0AE-D02A-41A6-BFF4-ADDDB6646B6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85760" y="990720"/>
          <a:ext cx="1162044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990720"/>
                    <a:ext cx="1162044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/>
          <p:cNvSpPr/>
          <p:nvPr/>
        </p:nvSpPr>
        <p:spPr>
          <a:xfrm>
            <a:off x="6653160" y="4816440"/>
            <a:ext cx="996840" cy="1751040"/>
          </a:xfrm>
          <a:prstGeom prst="wedgeRoundRectCallout">
            <a:avLst>
              <a:gd name="adj1" fmla="val -44620"/>
              <a:gd name="adj2" fmla="val -65069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ый расход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201, 40204, 40404 в части сумм, исполненных за счет МБТ из федерального бюдж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6хх000, 1302хх000 , кроме </a:t>
            </a:r>
            <a:r>
              <a:rPr b="0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651, 30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519880" y="5027760"/>
            <a:ext cx="1006200" cy="1539720"/>
          </a:xfrm>
          <a:prstGeom prst="wedgeRoundRectCallout">
            <a:avLst>
              <a:gd name="adj1" fmla="val -5263"/>
              <a:gd name="adj2" fmla="val -80861"/>
              <a:gd name="adj3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средств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201, 40204, 40404 + 40101(в последний день отчетного периода) в части сумм МБТ, поступивших из федерального бюдж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551000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4FC-1327-46AB-AD3A-EDDE30CFA52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4720" y="2176560"/>
          <a:ext cx="11190240" cy="3093840"/>
        </p:xfrm>
        <a:graphic>
          <a:graphicData uri="http://schemas.openxmlformats.org/drawingml/2006/table">
            <a:tbl>
              <a:tblPr/>
              <a:tblGrid>
                <a:gridCol w="4314960"/>
                <a:gridCol w="3349440"/>
                <a:gridCol w="3525840"/>
              </a:tblGrid>
              <a:tr h="77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 по возврату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 доходов бюджета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сление задолженности по возврату/ от возврата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702 022П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523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6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/поступление неиспользованных остатков межбюджетных трансфертов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2 0000 151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10 02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8 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20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a6a6a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r>
                        <a:rPr b="1" lang="ru-RU" sz="1400" spc="-1" strike="noStrike">
                          <a:solidFill>
                            <a:srgbClr val="e6e0e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205 51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Заголовок 2"/>
          <p:cNvSpPr/>
          <p:nvPr/>
        </p:nvSpPr>
        <p:spPr>
          <a:xfrm>
            <a:off x="4486320" y="85680"/>
            <a:ext cx="74102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Cambria"/>
                <a:ea typeface="Arial"/>
              </a:rPr>
              <a:t>Отражение в учете операций с межбюджетными трансфер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2133720" y="1515960"/>
            <a:ext cx="9327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mbria"/>
              </a:rPr>
              <a:t>Возврат неиспользованных остатков межбюджетных трансфертов прош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низ стрелка 5"/>
          <p:cNvSpPr/>
          <p:nvPr/>
        </p:nvSpPr>
        <p:spPr>
          <a:xfrm>
            <a:off x="5799240" y="4829040"/>
            <a:ext cx="3416040" cy="123840"/>
          </a:xfrm>
          <a:custGeom>
            <a:avLst/>
            <a:gdLst>
              <a:gd name="textAreaLeft" fmla="*/ 842400 w 3416040"/>
              <a:gd name="textAreaRight" fmla="*/ 2558160 w 3416040"/>
              <a:gd name="textAreaTop" fmla="*/ 16560 h 123840"/>
              <a:gd name="textAreaBottom" fmla="*/ 10728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-3742079"/>
                <a:lnTo>
                  <a:pt x="21262" y="5400"/>
                </a:lnTo>
                <a:lnTo>
                  <a:pt x="21405" y="0"/>
                </a:lnTo>
                <a:lnTo>
                  <a:pt x="20871" y="5400"/>
                </a:lnTo>
                <a:lnTo>
                  <a:pt x="20969" y="5400"/>
                </a:lnTo>
                <a:arcTo wR="10654" hR="21600" stAng="1657921" swAng="3726561"/>
                <a:lnTo>
                  <a:pt x="10751" y="21599"/>
                </a:lnTo>
                <a:arcTo wR="10654" hR="21600" stAng="5415518" swAng="5384482"/>
                <a:close/>
              </a:path>
              <a:path fill="darkenLess" w="21600" h="21600">
                <a:moveTo>
                  <a:pt x="0" y="0"/>
                </a:moveTo>
                <a:arcTo wR="10654" hR="21600" stAng="10800000" swAng="-5400000"/>
                <a:lnTo>
                  <a:pt x="10849" y="21600"/>
                </a:lnTo>
                <a:arcTo wR="10654" hR="21600" stAng="5400000" swAng="15518"/>
                <a:lnTo>
                  <a:pt x="10751" y="21599"/>
                </a:lnTo>
                <a:arcTo wR="10654" hR="21600" stAng="5415518" swAng="538448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Выгнутая вниз стрелка 6"/>
          <p:cNvSpPr/>
          <p:nvPr/>
        </p:nvSpPr>
        <p:spPr>
          <a:xfrm>
            <a:off x="3168720" y="4829040"/>
            <a:ext cx="6796080" cy="247680"/>
          </a:xfrm>
          <a:custGeom>
            <a:avLst/>
            <a:gdLst>
              <a:gd name="textAreaLeft" fmla="*/ 1683000 w 6796080"/>
              <a:gd name="textAreaRight" fmla="*/ 5172840 w 679608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-5400000"/>
                <a:lnTo>
                  <a:pt x="21600" y="0"/>
                </a:lnTo>
                <a:lnTo>
                  <a:pt x="21594" y="0"/>
                </a:lnTo>
                <a:lnTo>
                  <a:pt x="21587" y="0"/>
                </a:lnTo>
                <a:lnTo>
                  <a:pt x="21397" y="0"/>
                </a:lnTo>
                <a:arcTo wR="10699" hR="21600" stAng="0" swAng="5368722"/>
                <a:lnTo>
                  <a:pt x="10895" y="21596"/>
                </a:lnTo>
                <a:arcTo wR="10699" hR="21600" stAng="5431278" swAng="5368722"/>
                <a:close/>
              </a:path>
              <a:path fill="darkenLess" w="21600" h="21600">
                <a:moveTo>
                  <a:pt x="0" y="0"/>
                </a:moveTo>
                <a:arcTo wR="10699" hR="21600" stAng="10800000" swAng="-5400000"/>
                <a:lnTo>
                  <a:pt x="11092" y="21600"/>
                </a:lnTo>
                <a:arcTo wR="10699" hR="21600" stAng="5400000" swAng="31278"/>
                <a:lnTo>
                  <a:pt x="10895" y="21596"/>
                </a:lnTo>
                <a:arcTo wR="10699" hR="21600" stAng="5431278" swAng="5368722"/>
                <a:close/>
              </a:path>
            </a:pathLst>
          </a:custGeom>
          <a:solidFill>
            <a:srgbClr val="ff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64960" y="5734080"/>
            <a:ext cx="11838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уется уточнение положений приказа Минфина России от 06.12.2010 № 162н «Об утверждении Плана счетов бюджетного учета и Инструкции по его применению» в части отражения операций по возврату до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HP</cp:lastModifiedBy>
  <cp:lastPrinted>2016-09-26T07:22:18Z</cp:lastPrinted>
  <dcterms:modified xsi:type="dcterms:W3CDTF">2017-09-21T07:03:48Z</dcterms:modified>
  <cp:revision>1013</cp:revision>
  <dc:subject/>
  <dc:title>Презентация PowerPoint</dc:title>
</cp:coreProperties>
</file>