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3.jpeg" ContentType="image/jpeg"/>
  <Override PartName="/ppt/media/image22.png" ContentType="image/png"/>
  <Override PartName="/ppt/media/image1.jpeg" ContentType="image/jpe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4E05-F3BA-4C04-B78F-8F3645BF9B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123D-18C0-4C90-BCF3-3A85FC4EED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FF40-C2E0-460F-A0E7-0472538192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аю внимание на настрой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Отображение панели быстрого просмотр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крывать панель быстрого просмотра если не выбрана, скрывать всегда, не скр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Режим отображения панели быстрого просмотр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 умолчанию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ерну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разверну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удобства режим просмотра по умолчанию можно поставить – свернута, при необходимости данную панель можно разверну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7F1E-C5F2-4CA4-BF00-407A095420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50FC-8A23-49FA-943C-D6A82B41CF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ы входные параметры, процедуры формирования, структуры показателей заголовка отдельно по каждому территориальному органу ГВФ РФ с учетом обслуживания в одном ТОФК более одного территориального органа ГВФ РФ для следующ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40A9-7F32-4E46-B01E-3392516F0D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исание параметра «Финансовый орган». 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метр «Финансовый орган» обязателен для запол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указания в параметре «Уровень бюджета» бюджета с уровнем «4», в качестве финансового органа пользователю доступен список УБП бюджета, указанного в параметре «Бюджет», для которых открыт лицевой счет с кодом 12 (5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араметр заполнен значением «Все», отчет формируется в целом по бюдже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других уровней бюджета параметр «Финансовый орган» не используется (по умолчанию, значение «Все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метр «Финансовый орган» описан в пользовательской документации: РП "РУКОВОДСТВО ПО ВЕДЕНИЮ ГЛАВНОЙ КНИГИ ОРГАНА ФЕДЕРАЛЬНОГО КАЗНАЧЕЙСТВА И ФОРМИРОВАНИЮ РЕГИСТРОВ БУХГАЛТЕРСКОГО УЧЕТА", РП "РУКОВОДСТВО ПО ФОРМИРОВАНИЮ РЕГЛАМЕНТИРОВАННОЙ БЮДЖЕТНОЙ ОТЧЕТНОСТИ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имере регистра «Ведомость учета внутренних расчет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горитм форм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регистра выполняется отдельно по территориальному органу ГВФ РФ, указанному в параметре «Финансовый орган». По справочнику «Ведение лицевых счетов» по л/с указанного территориального органа определяется привязка к расчетному счету № 40401 (40402). Далее, по номеру расчетного счета определяется список л/с УБП, подведомственных данному территориальному органу: в справочнике «Ведение лицевых счетов» для них должны быть указаны те же реквизиты расчетного счета, что и для л/с территориального органа. Формирование регистра осуществляется на основании л/с, определенных по описанному выше алгорит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B16E-6687-471E-9118-9164926436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исание параметра «Финансовый орган». 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метр «Финансовый орган» обязателен для запол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указания в параметре «Уровень бюджета» бюджета с уровнем «4», в качестве финансового органа пользователю доступен список УБП бюджета, указанного в параметре «Бюджет», для которых открыт лицевой счет с кодом 12 (5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араметр заполнен значением «Все», отчет формируется в целом по бюдже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других уровней бюджета параметр «Финансовый орган» не используется (по умолчанию, значение «Все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метр «Финансовый орган» описан в пользовательской документации: РП "РУКОВОДСТВО ПО ВЕДЕНИЮ ГЛАВНОЙ КНИГИ ОРГАНА ФЕДЕРАЛЬНОГО КАЗНАЧЕЙСТВА И ФОРМИРОВАНИЮ РЕГИСТРОВ БУХГАЛТЕРСКОГО УЧЕТА", РП "РУКОВОДСТВО ПО ФОРМИРОВАНИЮ РЕГЛАМЕНТИРОВАННОЙ БЮДЖЕТНОЙ ОТЧЕТНОСТИ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имере регистра «Ведомость учета внутренних расчет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горитм форм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регистра выполняется отдельно по территориальному органу ГВФ РФ, указанному в параметре «Финансовый орган». По справочнику «Ведение лицевых счетов» по л/с указанного территориального органа определяется привязка к расчетному счету № 40401 (40402). Далее, по номеру расчетного счета определяется список л/с УБП, подведомственных данному территориальному органу: в справочнике «Ведение лицевых счетов» для них должны быть указаны те же реквизиты расчетного счета, что и для л/с территориального органа. Формирование регистра осуществляется на основании л/с, определенных по описанному выше алгорит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9B57-3897-4BEA-9B8F-8A1F0E6BEB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головок регис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головке сформированного регистра по строке «Бюджет», после наименования бюджета, в скобках указывается наименование территориального органа ГВФ РФ, заданного во входном параметре «Финансовый орган». В случае незаполнения параметра «Финансовый орган» конкретным значением, наименования территориального органа ГВФ РФ не указыв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сводной формы регистра осуществляется в целом по бюджету в ранее реализованном поряд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EB1D-2E12-4AB0-967C-F8DC7E610C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878C-8867-49C4-8BBE-92A46B931A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Для формирования отчета необходим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Выполнить вход в рабочее место Пользователя отчетности: «Меню – Учет и отчетность – Формирование и представление отчетност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Для создания нового отчета необходимо нажать кнопку «Создать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ыбрать «Сформировать статистику» на панели инструментов списковой ф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B5E4-50FB-4011-8A91-E2FF4DA11C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Для формирования отчета необходим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Выполнить вход в рабочее место Пользователя отчетности: «Меню – Учет и отчетность – Формирование и представление отчетност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Для создания нового отчета необходимо нажать кнопку «Создать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ыбрать «Сформировать статистику» на панели инструментов списковой ф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B9CE-C46D-495F-AE97-1590247295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D207-47E1-44DA-A2C1-F6AEFFCF4C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2880-3744-4F67-B17D-5D4A2F9E0D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267B-D16D-4FE2-AC1A-F14AE25B2F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 по ведению НСИ ТОФК для лицевого счета по переданным полномочиям с кодом "14" в справочнике "Ведение лицевых счетов" ППО "АСФК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EB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" на вкладке "Передаваемые полномочия: письма" устанавливает признак "Ведение бух. учета в рамках переданных полномочий" в значение "Да" в случае если организация, принявшая полномочия, наделена полномочиями по ведению бюджетного учета и составлению бюджетной отчетности по операциям, проводимым в рамках переданных полномочий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молчанию для данного признака выставлено значение "Нет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8934-7A41-40C1-A667-752A1A1063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сформированного отчета в параметре – Код учереждения, принявшего переданные полномочия – проставиться код по Сводному реестру организации которой должена быть передана отчетная фор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F9B1-A0F5-4BEA-822D-0A8E9A2966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чет после прохождения ЖЦ по факту Предоставления будет доступен на просмотр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C916-AC64-4031-AF94-FAC2193BF4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BCCA-F62C-4B8B-826A-05CDD73952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– дерево навигации «Субъекты отчетности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– поля выбора отчетного пери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– дерево навигации «Комплекты отчетности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– списковая форма докум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 – панель быстрого просмотра выделенного документа. На данной панели отображаются вкладки Подписи, История изменения документа, Лист согласования. ПО УМОЛЧАНИЮ ОТОБРАЖАЕТСЯ ПРИ ВЫДЕЛЕНИИ ЛЮБОГО ДОКУ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4D8B-F424-4492-BBF6-8BCC6B5FD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FD26-933D-480E-A7E9-EA7BFF50A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E8FC-90CA-4FDD-88B2-CCBD2A873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F19C-2F8D-4309-84BB-B6D2D5A71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5A833-4133-440B-A47D-783DAEA36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8C0B-A4C9-488B-90BB-761760E53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835D4-E6D1-4D82-969D-0B4A036C1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83232-1F9D-4A0A-9A49-DED94CFD2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9962C-3A18-4BC3-9097-D619AB1844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9178-7E47-48A8-AE9E-C2240BABF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FAD6D-170B-4562-A004-8242DD897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8607-1013-4C36-A3AD-37F7B7369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34DB-6988-44F2-9332-3A9FB503149E}" type="slidenum"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04400" y="3330360"/>
            <a:ext cx="6805800" cy="23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5e5d"/>
                </a:solidFill>
                <a:latin typeface="Arial"/>
              </a:rPr>
              <a:t>Особенности формирования и представления бюджетной (бухгалтерской) отчетности в используемых информационных системах Федерального казначейства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5" name="Text Box 54"/>
          <p:cNvSpPr/>
          <p:nvPr/>
        </p:nvSpPr>
        <p:spPr>
          <a:xfrm>
            <a:off x="135720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660C-FF63-43BE-97C3-A8B862D1136C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3600" y="115920"/>
            <a:ext cx="730404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811f"/>
                </a:solidFill>
                <a:latin typeface="Times New Roman"/>
              </a:rPr>
              <a:t>Особенности настроек формы ПУиО ЭБ</a:t>
            </a:r>
            <a:br>
              <a:rPr sz="2800"/>
            </a:b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30" name="Прямоугольник 9"/>
          <p:cNvSpPr/>
          <p:nvPr/>
        </p:nvSpPr>
        <p:spPr>
          <a:xfrm>
            <a:off x="138240" y="687240"/>
            <a:ext cx="72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5e5d"/>
                </a:solidFill>
                <a:latin typeface="Arial"/>
              </a:rPr>
              <a:t>Параметры Настройки клиента. Режим отображения панели быстрого просмотр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3" descr=""/>
          <p:cNvPicPr/>
          <p:nvPr/>
        </p:nvPicPr>
        <p:blipFill>
          <a:blip r:embed="rId1"/>
          <a:stretch/>
        </p:blipFill>
        <p:spPr>
          <a:xfrm>
            <a:off x="138240" y="1465200"/>
            <a:ext cx="3025800" cy="19242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6" descr=""/>
          <p:cNvPicPr/>
          <p:nvPr/>
        </p:nvPicPr>
        <p:blipFill>
          <a:blip r:embed="rId2"/>
          <a:stretch/>
        </p:blipFill>
        <p:spPr>
          <a:xfrm>
            <a:off x="3444840" y="1425600"/>
            <a:ext cx="2603520" cy="19638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14"/>
          <p:cNvSpPr/>
          <p:nvPr/>
        </p:nvSpPr>
        <p:spPr>
          <a:xfrm>
            <a:off x="5100480" y="2843280"/>
            <a:ext cx="1038240" cy="279360"/>
          </a:xfrm>
          <a:prstGeom prst="rect">
            <a:avLst/>
          </a:prstGeom>
          <a:noFill/>
          <a:ln w="28440">
            <a:solidFill>
              <a:srgbClr val="f38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8" descr=""/>
          <p:cNvPicPr/>
          <p:nvPr/>
        </p:nvPicPr>
        <p:blipFill>
          <a:blip r:embed="rId3"/>
          <a:stretch/>
        </p:blipFill>
        <p:spPr>
          <a:xfrm>
            <a:off x="138240" y="4197240"/>
            <a:ext cx="3781440" cy="249552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16"/>
          <p:cNvSpPr/>
          <p:nvPr/>
        </p:nvSpPr>
        <p:spPr>
          <a:xfrm>
            <a:off x="655560" y="1838160"/>
            <a:ext cx="1506600" cy="382680"/>
          </a:xfrm>
          <a:prstGeom prst="rect">
            <a:avLst/>
          </a:prstGeom>
          <a:noFill/>
          <a:ln w="28440">
            <a:solidFill>
              <a:srgbClr val="f38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17"/>
          <p:cNvSpPr/>
          <p:nvPr/>
        </p:nvSpPr>
        <p:spPr>
          <a:xfrm>
            <a:off x="138240" y="3419640"/>
            <a:ext cx="72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5e5d"/>
                </a:solidFill>
                <a:latin typeface="Arial"/>
              </a:rPr>
              <a:t>Параметры Настройки клиента. Количество строк в списк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18"/>
          <p:cNvSpPr/>
          <p:nvPr/>
        </p:nvSpPr>
        <p:spPr>
          <a:xfrm>
            <a:off x="1736640" y="4819680"/>
            <a:ext cx="1101960" cy="324000"/>
          </a:xfrm>
          <a:prstGeom prst="rect">
            <a:avLst/>
          </a:prstGeom>
          <a:noFill/>
          <a:ln w="28440">
            <a:solidFill>
              <a:srgbClr val="f38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ED7A-A73D-49C9-B99B-D273D0DB543E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57200" y="1600200"/>
            <a:ext cx="822960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605e5d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5e5d"/>
                </a:solidFill>
                <a:latin typeface="Times New Roman"/>
              </a:rPr>
              <a:t>АСФК</a:t>
            </a:r>
            <a:r>
              <a:rPr b="1" lang="en-US" sz="2800" spc="-1" strike="noStrike">
                <a:solidFill>
                  <a:srgbClr val="605e5d"/>
                </a:solidFill>
                <a:latin typeface="Times New Roman"/>
              </a:rPr>
              <a:t>. </a:t>
            </a:r>
            <a:r>
              <a:rPr b="1" lang="ru-RU" sz="2800" spc="-1" strike="noStrike">
                <a:solidFill>
                  <a:srgbClr val="605e5d"/>
                </a:solidFill>
                <a:latin typeface="Times New Roman"/>
              </a:rPr>
              <a:t>Изменения в формирование регистров учета и отчетн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6F9D-C33B-4ACD-86A2-43367D5CC59B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3600" y="115920"/>
            <a:ext cx="730404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3811f"/>
                </a:solidFill>
                <a:latin typeface="Times New Roman"/>
              </a:rPr>
              <a:t>Изменения в части формирования регистров учета и отчетности ГВФ РФ в случае раздельного кассового обслуживания более одного территориального органа ГВФ РФ в одном ТОФК.</a:t>
            </a:r>
            <a:endParaRPr b="1" lang="en-US" sz="16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90680" y="1343160"/>
            <a:ext cx="822960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5e5d"/>
                </a:solidFill>
                <a:latin typeface="Arial"/>
              </a:rPr>
              <a:t> 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1949400" y="3921120"/>
            <a:ext cx="7101000" cy="1310760"/>
          </a:xfrm>
          <a:prstGeom prst="rect">
            <a:avLst/>
          </a:prstGeom>
          <a:gradFill rotWithShape="0">
            <a:gsLst>
              <a:gs pos="0">
                <a:srgbClr val="ffae85"/>
              </a:gs>
              <a:gs pos="100000">
                <a:srgbClr val="ffe5d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605e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5e5d"/>
                </a:solidFill>
                <a:latin typeface="Arial"/>
              </a:rPr>
              <a:t>«Баланс по операциям кассового обслуживания исполнения бюджета» (ф. 0503150);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605e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5e5d"/>
                </a:solidFill>
                <a:latin typeface="Arial"/>
              </a:rPr>
              <a:t>«Справка по заключению счетов бюджетного учета отчетного финансового года» (ф. 0503110);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605e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5e5d"/>
                </a:solidFill>
                <a:latin typeface="Arial"/>
              </a:rPr>
              <a:t>«Отчет по поступлениям и выбытиям» (ф. 0503151)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1914480" y="1838160"/>
            <a:ext cx="7105680" cy="179748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605e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5e5d"/>
                </a:solidFill>
                <a:latin typeface="Arial"/>
              </a:rPr>
              <a:t>«Журнал по прочим операциям» (ф. 0504071);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605e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5e5d"/>
                </a:solidFill>
                <a:latin typeface="Arial"/>
              </a:rPr>
              <a:t>«Главная книга» (ф. 0504072);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605e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5e5d"/>
                </a:solidFill>
                <a:latin typeface="Arial"/>
              </a:rPr>
              <a:t>«Многографная карточка» (ф. 0504054);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605e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5e5d"/>
                </a:solidFill>
                <a:latin typeface="Arial"/>
              </a:rPr>
              <a:t>«Ведомость учета внутренних расчетов между органами, осуществляющими кассовое обслуживание исполнения бюджета» (ф. 0504061)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 algn="just">
              <a:buClr>
                <a:srgbClr val="605e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Группа 8" descr=""/>
          <p:cNvPicPr/>
          <p:nvPr/>
        </p:nvPicPr>
        <p:blipFill>
          <a:blip r:embed="rId1"/>
          <a:stretch/>
        </p:blipFill>
        <p:spPr>
          <a:xfrm>
            <a:off x="66600" y="1828800"/>
            <a:ext cx="1890720" cy="1828800"/>
          </a:xfrm>
          <a:prstGeom prst="rect">
            <a:avLst/>
          </a:prstGeom>
          <a:ln w="0">
            <a:noFill/>
          </a:ln>
        </p:spPr>
      </p:pic>
      <p:pic>
        <p:nvPicPr>
          <p:cNvPr id="146" name="Группа 11" descr=""/>
          <p:cNvPicPr/>
          <p:nvPr/>
        </p:nvPicPr>
        <p:blipFill>
          <a:blip r:embed="rId2"/>
          <a:stretch/>
        </p:blipFill>
        <p:spPr>
          <a:xfrm>
            <a:off x="49320" y="3925800"/>
            <a:ext cx="1846080" cy="13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1614-D4A4-4B56-958D-0331C39AFB18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3600" y="115920"/>
            <a:ext cx="730404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3811f"/>
                </a:solidFill>
                <a:latin typeface="Times New Roman"/>
              </a:rPr>
              <a:t>АСФК</a:t>
            </a:r>
            <a:r>
              <a:rPr b="1" lang="en-US" sz="2800" spc="-1" strike="noStrike">
                <a:solidFill>
                  <a:srgbClr val="f3811f"/>
                </a:solidFill>
                <a:latin typeface="Times New Roman"/>
              </a:rPr>
              <a:t>. </a:t>
            </a:r>
            <a:r>
              <a:rPr b="1" lang="ru-RU" sz="2800" spc="-1" strike="noStrike">
                <a:solidFill>
                  <a:srgbClr val="f3811f"/>
                </a:solidFill>
                <a:latin typeface="Times New Roman"/>
              </a:rPr>
              <a:t>Изменения в формирование регистров учета и отчетности</a:t>
            </a:r>
            <a:br>
              <a:rPr sz="2800"/>
            </a:b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65120" y="1298520"/>
            <a:ext cx="822960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5e5d"/>
                </a:solidFill>
                <a:latin typeface="Arial"/>
              </a:rPr>
              <a:t> 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5e5d"/>
                </a:solidFill>
                <a:latin typeface="Arial"/>
              </a:rPr>
              <a:t> 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5e5d"/>
                </a:solidFill>
                <a:latin typeface="Arial"/>
              </a:rPr>
              <a:t> 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5e5d"/>
                </a:solidFill>
                <a:latin typeface="Arial"/>
              </a:rPr>
              <a:t> 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593640" y="1897200"/>
            <a:ext cx="5935680" cy="473364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7"/>
          <p:cNvSpPr/>
          <p:nvPr/>
        </p:nvSpPr>
        <p:spPr>
          <a:xfrm>
            <a:off x="2451240" y="1122480"/>
            <a:ext cx="4852800" cy="580680"/>
          </a:xfrm>
          <a:prstGeom prst="rect">
            <a:avLst/>
          </a:prstGeom>
          <a:gradFill rotWithShape="0">
            <a:gsLst>
              <a:gs pos="0">
                <a:srgbClr val="ffae85"/>
              </a:gs>
              <a:gs pos="100000">
                <a:srgbClr val="ffe5d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605e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5e5d"/>
                </a:solidFill>
                <a:latin typeface="Arial"/>
              </a:rPr>
              <a:t>Описание параметра «Финансовый орган»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605e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5e5d"/>
                </a:solidFill>
                <a:latin typeface="Arial"/>
              </a:rPr>
              <a:t>Алгоритм Формирования регистра по ФО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55D4-99C4-4DEA-AAB2-3BF059AE3777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3600" y="115920"/>
            <a:ext cx="730404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3811f"/>
                </a:solidFill>
                <a:latin typeface="Times New Roman"/>
              </a:rPr>
              <a:t>АСФК</a:t>
            </a:r>
            <a:r>
              <a:rPr b="1" lang="en-US" sz="2800" spc="-1" strike="noStrike">
                <a:solidFill>
                  <a:srgbClr val="f3811f"/>
                </a:solidFill>
                <a:latin typeface="Times New Roman"/>
              </a:rPr>
              <a:t>. </a:t>
            </a:r>
            <a:r>
              <a:rPr b="1" lang="ru-RU" sz="2800" spc="-1" strike="noStrike">
                <a:solidFill>
                  <a:srgbClr val="f3811f"/>
                </a:solidFill>
                <a:latin typeface="Times New Roman"/>
              </a:rPr>
              <a:t>Алгоритм формирования регистра по ФО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65120" y="1298520"/>
            <a:ext cx="822960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5e5d"/>
                </a:solidFill>
                <a:latin typeface="Arial"/>
              </a:rPr>
              <a:t> 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5e5d"/>
                </a:solidFill>
                <a:latin typeface="Arial"/>
              </a:rPr>
              <a:t> 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5e5d"/>
                </a:solidFill>
                <a:latin typeface="Arial"/>
              </a:rPr>
              <a:t> 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5e5d"/>
                </a:solidFill>
                <a:latin typeface="Arial"/>
              </a:rPr>
              <a:t> 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465120" y="1011240"/>
            <a:ext cx="3473640" cy="27702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6"/>
          <p:cNvSpPr/>
          <p:nvPr/>
        </p:nvSpPr>
        <p:spPr>
          <a:xfrm>
            <a:off x="4133880" y="1981080"/>
            <a:ext cx="4852800" cy="580680"/>
          </a:xfrm>
          <a:prstGeom prst="rect">
            <a:avLst/>
          </a:prstGeom>
          <a:gradFill rotWithShape="0">
            <a:gsLst>
              <a:gs pos="0">
                <a:srgbClr val="ffae85"/>
              </a:gs>
              <a:gs pos="100000">
                <a:srgbClr val="ffe5d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605e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5e5d"/>
                </a:solidFill>
                <a:latin typeface="Arial"/>
              </a:rPr>
              <a:t>Описание параметра «Финансовый орган»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605e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5e5d"/>
                </a:solidFill>
                <a:latin typeface="Arial"/>
              </a:rPr>
              <a:t>Алгоритм Формирования регистра по ФО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E800-E58D-4D0C-AC71-64FF7BFAA389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3600" y="115920"/>
            <a:ext cx="730404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3811f"/>
                </a:solidFill>
                <a:latin typeface="Times New Roman"/>
              </a:rPr>
              <a:t>АСФК</a:t>
            </a:r>
            <a:r>
              <a:rPr b="1" lang="en-US" sz="2800" spc="-1" strike="noStrike">
                <a:solidFill>
                  <a:srgbClr val="f3811f"/>
                </a:solidFill>
                <a:latin typeface="Times New Roman"/>
              </a:rPr>
              <a:t>. </a:t>
            </a:r>
            <a:r>
              <a:rPr b="1" lang="ru-RU" sz="2800" spc="-1" strike="noStrike">
                <a:solidFill>
                  <a:srgbClr val="f3811f"/>
                </a:solidFill>
                <a:latin typeface="Times New Roman"/>
              </a:rPr>
              <a:t>Изменения заголовка регистра</a:t>
            </a:r>
            <a:br>
              <a:rPr sz="2800"/>
            </a:b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65120" y="1298520"/>
            <a:ext cx="822960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5e5d"/>
                </a:solidFill>
                <a:latin typeface="Arial"/>
              </a:rPr>
              <a:t>  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5e5d"/>
                </a:solidFill>
                <a:latin typeface="Arial"/>
              </a:rPr>
              <a:t> 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5e5d"/>
                </a:solidFill>
                <a:latin typeface="Arial"/>
              </a:rPr>
              <a:t> 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8" descr=""/>
          <p:cNvPicPr/>
          <p:nvPr/>
        </p:nvPicPr>
        <p:blipFill>
          <a:blip r:embed="rId1"/>
          <a:stretch/>
        </p:blipFill>
        <p:spPr>
          <a:xfrm>
            <a:off x="0" y="1817640"/>
            <a:ext cx="909972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76CF-FE2A-45C1-AA73-55E1E4712D42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57200" y="1600200"/>
            <a:ext cx="822960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605e5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5e5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05e5d"/>
                </a:solidFill>
                <a:latin typeface="Times New Roman"/>
              </a:rPr>
              <a:t>Формирование статистики в ПУиО ЭБ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331920" y="573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B621-62EE-463E-8D54-21E3E646145F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3600" y="115920"/>
            <a:ext cx="730404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811f"/>
                </a:solidFill>
                <a:latin typeface="Times New Roman"/>
              </a:rPr>
              <a:t>Формирование статистики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pic>
        <p:nvPicPr>
          <p:cNvPr id="166" name="Рисунок 2" descr=""/>
          <p:cNvPicPr/>
          <p:nvPr/>
        </p:nvPicPr>
        <p:blipFill>
          <a:blip r:embed="rId1"/>
          <a:stretch/>
        </p:blipFill>
        <p:spPr>
          <a:xfrm>
            <a:off x="15840" y="1220760"/>
            <a:ext cx="7756560" cy="13255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" descr=""/>
          <p:cNvPicPr/>
          <p:nvPr/>
        </p:nvPicPr>
        <p:blipFill>
          <a:blip r:embed="rId2"/>
          <a:stretch/>
        </p:blipFill>
        <p:spPr>
          <a:xfrm>
            <a:off x="15840" y="3222720"/>
            <a:ext cx="7385040" cy="358452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1"/>
          <p:cNvSpPr/>
          <p:nvPr/>
        </p:nvSpPr>
        <p:spPr>
          <a:xfrm>
            <a:off x="244440" y="2684520"/>
            <a:ext cx="81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5e5d"/>
                </a:solidFill>
                <a:latin typeface="Arial"/>
              </a:rPr>
              <a:t>Форма Статистики предоставления отчетност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586C-4F21-434E-B68F-6A2552E29DC9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3600" y="115920"/>
            <a:ext cx="730404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811f"/>
                </a:solidFill>
                <a:latin typeface="Times New Roman"/>
              </a:rPr>
              <a:t>Формирование статистики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2303640" y="3994200"/>
            <a:ext cx="5840280" cy="1310760"/>
          </a:xfrm>
          <a:prstGeom prst="rect">
            <a:avLst/>
          </a:prstGeom>
          <a:gradFill rotWithShape="0">
            <a:gsLst>
              <a:gs pos="0">
                <a:srgbClr val="ffae85"/>
              </a:gs>
              <a:gs pos="100000">
                <a:srgbClr val="ffe5d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605e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5e5d"/>
                </a:solidFill>
                <a:latin typeface="Arial"/>
              </a:rPr>
              <a:t>Просрочено дней от даты предоставления первого отчета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605e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5e5d"/>
                </a:solidFill>
                <a:latin typeface="Arial"/>
              </a:rPr>
              <a:t>Количество замен по отчетной форме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605e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5e5d"/>
                </a:solidFill>
                <a:latin typeface="Arial"/>
              </a:rPr>
              <a:t>Количество не предоставленных формы субъектами отчетности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оугольник 7"/>
          <p:cNvSpPr/>
          <p:nvPr/>
        </p:nvSpPr>
        <p:spPr>
          <a:xfrm>
            <a:off x="2303640" y="1911240"/>
            <a:ext cx="5840280" cy="179748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605e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5e5d"/>
                </a:solidFill>
                <a:latin typeface="Arial"/>
              </a:rPr>
              <a:t>Отчетная дата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605e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5e5d"/>
                </a:solidFill>
                <a:latin typeface="Arial"/>
              </a:rPr>
              <a:t>ТОФК административной принадлежности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605e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5e5d"/>
                </a:solidFill>
                <a:latin typeface="Arial"/>
              </a:rPr>
              <a:t>Выбор отчетных форм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605e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5e5d"/>
                </a:solidFill>
                <a:latin typeface="Arial"/>
              </a:rPr>
              <a:t>Выбор субъектов отчетности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605e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5e5d"/>
                </a:solidFill>
                <a:latin typeface="Arial"/>
              </a:rPr>
              <a:t>Признак предоставления отчетной формы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Группа 8" descr=""/>
          <p:cNvPicPr/>
          <p:nvPr/>
        </p:nvPicPr>
        <p:blipFill>
          <a:blip r:embed="rId1"/>
          <a:stretch/>
        </p:blipFill>
        <p:spPr>
          <a:xfrm>
            <a:off x="420840" y="1901880"/>
            <a:ext cx="1809720" cy="1828800"/>
          </a:xfrm>
          <a:prstGeom prst="rect">
            <a:avLst/>
          </a:prstGeom>
          <a:ln w="0">
            <a:noFill/>
          </a:ln>
        </p:spPr>
      </p:pic>
      <p:pic>
        <p:nvPicPr>
          <p:cNvPr id="174" name="Группа 11" descr=""/>
          <p:cNvPicPr/>
          <p:nvPr/>
        </p:nvPicPr>
        <p:blipFill>
          <a:blip r:embed="rId2"/>
          <a:stretch/>
        </p:blipFill>
        <p:spPr>
          <a:xfrm>
            <a:off x="365040" y="3998880"/>
            <a:ext cx="1854360" cy="13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1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3EB8-471E-40E0-ACB9-678776333AAF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25" descr="circle_422_239"/>
          <p:cNvPicPr/>
          <p:nvPr/>
        </p:nvPicPr>
        <p:blipFill>
          <a:blip r:embed="rId1"/>
          <a:stretch/>
        </p:blipFill>
        <p:spPr>
          <a:xfrm>
            <a:off x="2752560" y="2982960"/>
            <a:ext cx="3480120" cy="217476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4"/>
          <p:cNvSpPr/>
          <p:nvPr/>
        </p:nvSpPr>
        <p:spPr>
          <a:xfrm>
            <a:off x="1816560" y="1371600"/>
            <a:ext cx="526464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811f"/>
                </a:solidFill>
                <a:latin typeface="Arial"/>
              </a:rPr>
              <a:t>Спасибо за внимание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0789-1D1C-4C51-AB19-F42EB70516D9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17240" y="4255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811f"/>
                </a:solidFill>
                <a:latin typeface="Arial"/>
              </a:rPr>
              <a:t>Оглавление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57200" y="1600200"/>
            <a:ext cx="822960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605e5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5e5d"/>
                </a:solidFill>
                <a:latin typeface="Times New Roman"/>
              </a:rPr>
              <a:t>Особенности предоставления ф. 0503129 по переданным полномочиям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605e5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5e5d"/>
                </a:solidFill>
                <a:latin typeface="Times New Roman"/>
              </a:rPr>
              <a:t>Изменения в формирование регистров учета и отчетности ГВФ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605e5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5e5d"/>
                </a:solidFill>
                <a:latin typeface="Times New Roman"/>
              </a:rPr>
              <a:t>Особенности настроек формы ПУиО ЭБ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605e5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5e5d"/>
                </a:solidFill>
                <a:latin typeface="Times New Roman"/>
              </a:rPr>
              <a:t>Формирование статистики в ПУиО ЭБ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5F78-07B5-4321-B559-F8A22FD83A36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1600200"/>
            <a:ext cx="822960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605e5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5e5d"/>
                </a:solidFill>
                <a:latin typeface="Times New Roman"/>
              </a:rPr>
              <a:t>Особенности предоставления «Отчета о бюджетных и денежных обязательствах получателей средств федерального бюджета и администраторов источников финансирования дефицита федерального бюджета» ф. 050312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F384-457D-493F-8C6A-998CAFA3533F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3600" y="115920"/>
            <a:ext cx="730404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811f"/>
                </a:solidFill>
                <a:latin typeface="Times New Roman"/>
              </a:rPr>
              <a:t>Предоставление ф. 0503129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93" name="Овал 1"/>
          <p:cNvSpPr/>
          <p:nvPr/>
        </p:nvSpPr>
        <p:spPr>
          <a:xfrm>
            <a:off x="939960" y="1355760"/>
            <a:ext cx="3676320" cy="3452760"/>
          </a:xfrm>
          <a:prstGeom prst="ellipse">
            <a:avLst/>
          </a:prstGeom>
          <a:gradFill rotWithShape="0">
            <a:gsLst>
              <a:gs pos="0">
                <a:srgbClr val="fbbea0"/>
              </a:gs>
              <a:gs pos="100000">
                <a:srgbClr val="fda77d"/>
              </a:gs>
            </a:gsLst>
            <a:lin ang="5400000"/>
          </a:gradFill>
          <a:ln w="6480">
            <a:solidFill>
              <a:srgbClr val="f38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149480" y="1700280"/>
            <a:ext cx="325728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4f4e"/>
                </a:solidFill>
                <a:latin typeface="Arial"/>
              </a:rPr>
              <a:t>Всего </a:t>
            </a:r>
            <a:r>
              <a:rPr b="1" i="1" lang="ru-RU" sz="2000" spc="-1" strike="noStrike" u="sng">
                <a:solidFill>
                  <a:srgbClr val="514f4e"/>
                </a:solidFill>
                <a:uFillTx/>
                <a:latin typeface="Arial"/>
              </a:rPr>
              <a:t>10133</a:t>
            </a:r>
            <a:r>
              <a:rPr b="1" lang="ru-RU" sz="2000" spc="-1" strike="noStrike">
                <a:solidFill>
                  <a:srgbClr val="514f4e"/>
                </a:solidFill>
                <a:latin typeface="Arial"/>
              </a:rPr>
              <a:t>  за 01.09.2017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4f4e"/>
                </a:solidFill>
                <a:latin typeface="Arial"/>
              </a:rPr>
              <a:t>В ПУиО ЭБ ф. 0503129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3411360" y="3363840"/>
            <a:ext cx="4705560" cy="2003400"/>
          </a:xfrm>
          <a:prstGeom prst="rect">
            <a:avLst/>
          </a:prstGeom>
          <a:noFill/>
          <a:ln w="28440">
            <a:solidFill>
              <a:srgbClr val="f38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Дуга 4"/>
          <p:cNvSpPr/>
          <p:nvPr/>
        </p:nvSpPr>
        <p:spPr>
          <a:xfrm>
            <a:off x="1224000" y="1355760"/>
            <a:ext cx="3392280" cy="3452760"/>
          </a:xfrm>
          <a:custGeom>
            <a:avLst/>
            <a:gdLst/>
            <a:ahLst/>
            <a:rect l="l" t="t" r="r" b="b"/>
            <a:pathLst>
              <a:path stroke="0" w="3392487" h="3452813">
                <a:moveTo>
                  <a:pt x="3368520" y="2015597"/>
                </a:moveTo>
                <a:cubicBezTo>
                  <a:pt x="3260760" y="2661089"/>
                  <a:pt x="2803504" y="3188991"/>
                  <a:pt x="2187805" y="3378732"/>
                </a:cubicBezTo>
                <a:lnTo>
                  <a:pt x="1696244" y="1726407"/>
                </a:lnTo>
                <a:lnTo>
                  <a:pt x="3368520" y="2015597"/>
                </a:lnTo>
                <a:close/>
              </a:path>
              <a:path fill="none" w="3392487" h="3452813">
                <a:moveTo>
                  <a:pt x="3368520" y="2015597"/>
                </a:moveTo>
                <a:cubicBezTo>
                  <a:pt x="3260760" y="2661089"/>
                  <a:pt x="2803504" y="3188991"/>
                  <a:pt x="2187805" y="3378732"/>
                </a:cubicBezTo>
              </a:path>
            </a:pathLst>
          </a:custGeom>
          <a:solidFill>
            <a:srgbClr val="ffc000"/>
          </a:solidFill>
          <a:ln w="28440">
            <a:solidFill>
              <a:srgbClr val="f38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4476600" y="3746520"/>
            <a:ext cx="37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4f4e"/>
                </a:solidFill>
                <a:latin typeface="Arial"/>
              </a:rPr>
              <a:t>По переданным полномочиям предоставлено </a:t>
            </a:r>
            <a:r>
              <a:rPr b="1" i="1" lang="ru-RU" sz="2000" spc="-1" strike="noStrike" u="sng">
                <a:solidFill>
                  <a:srgbClr val="514f4e"/>
                </a:solidFill>
                <a:uFillTx/>
                <a:latin typeface="Arial"/>
              </a:rPr>
              <a:t>407</a:t>
            </a:r>
            <a:r>
              <a:rPr b="1" lang="ru-RU" sz="2000" spc="-1" strike="noStrike">
                <a:solidFill>
                  <a:srgbClr val="514f4e"/>
                </a:solidFill>
                <a:latin typeface="Arial"/>
              </a:rPr>
              <a:t> форм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2319-BB77-43A8-B0B4-CC63DEFE7BE5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439200"/>
            <a:ext cx="730404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811f"/>
                </a:solidFill>
                <a:latin typeface="Arial"/>
              </a:rPr>
              <a:t>Особенности предоставление отчета (ф. 0503129) в части отражения данных по 14 л/с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62080" y="1446120"/>
            <a:ext cx="822960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5e5d"/>
                </a:solidFill>
                <a:latin typeface="Times New Roman"/>
                <a:ea typeface="Times New Roman"/>
              </a:rPr>
              <a:t>Условия формирования ф. 0503129 по переданным полномочиям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Рисунок 2" descr=""/>
          <p:cNvPicPr/>
          <p:nvPr/>
        </p:nvPicPr>
        <p:blipFill>
          <a:blip r:embed="rId1"/>
          <a:stretch/>
        </p:blipFill>
        <p:spPr>
          <a:xfrm>
            <a:off x="457200" y="1995480"/>
            <a:ext cx="7686720" cy="46832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6"/>
          <p:cNvSpPr/>
          <p:nvPr/>
        </p:nvSpPr>
        <p:spPr>
          <a:xfrm>
            <a:off x="4376880" y="5805360"/>
            <a:ext cx="3066840" cy="298440"/>
          </a:xfrm>
          <a:prstGeom prst="rect">
            <a:avLst/>
          </a:prstGeom>
          <a:noFill/>
          <a:ln w="28440">
            <a:solidFill>
              <a:srgbClr val="f38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5075280" y="4567320"/>
            <a:ext cx="3068640" cy="298440"/>
          </a:xfrm>
          <a:prstGeom prst="rect">
            <a:avLst/>
          </a:prstGeom>
          <a:noFill/>
          <a:ln w="28440">
            <a:solidFill>
              <a:srgbClr val="f38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B2D0-48AF-4C63-9230-5B56E87A9ADD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439200"/>
            <a:ext cx="730404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811f"/>
                </a:solidFill>
                <a:latin typeface="Arial"/>
              </a:rPr>
              <a:t>Особенности предоставление отчета (ф. 0503129) в части отражения данных по 14 л/с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62080" y="1446120"/>
            <a:ext cx="822960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5e5d"/>
                </a:solidFill>
                <a:latin typeface="Times New Roman"/>
                <a:ea typeface="Times New Roman"/>
              </a:rPr>
              <a:t>Условия формирования ф. 0503129 по переданным полномочиям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Рисунок 3" descr=""/>
          <p:cNvPicPr/>
          <p:nvPr/>
        </p:nvPicPr>
        <p:blipFill>
          <a:blip r:embed="rId1"/>
          <a:stretch/>
        </p:blipFill>
        <p:spPr>
          <a:xfrm>
            <a:off x="331920" y="1882800"/>
            <a:ext cx="6894360" cy="468612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8"/>
          <p:cNvSpPr/>
          <p:nvPr/>
        </p:nvSpPr>
        <p:spPr>
          <a:xfrm>
            <a:off x="4898880" y="5149800"/>
            <a:ext cx="2786040" cy="424080"/>
          </a:xfrm>
          <a:prstGeom prst="rect">
            <a:avLst/>
          </a:prstGeom>
          <a:noFill/>
          <a:ln w="28440">
            <a:solidFill>
              <a:srgbClr val="f38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10"/>
          <p:cNvSpPr/>
          <p:nvPr/>
        </p:nvSpPr>
        <p:spPr>
          <a:xfrm>
            <a:off x="7326360" y="3608280"/>
            <a:ext cx="1635120" cy="932040"/>
          </a:xfrm>
          <a:prstGeom prst="rect">
            <a:avLst/>
          </a:prstGeom>
          <a:noFill/>
          <a:ln w="28440">
            <a:solidFill>
              <a:srgbClr val="f38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Прямая со стрелкой 5"/>
          <p:cNvCxnSpPr/>
          <p:nvPr/>
        </p:nvCxnSpPr>
        <p:spPr>
          <a:xfrm flipV="1">
            <a:off x="7040160" y="4366440"/>
            <a:ext cx="616680" cy="1026360"/>
          </a:xfrm>
          <a:prstGeom prst="straightConnector1">
            <a:avLst/>
          </a:prstGeom>
          <a:ln w="28440">
            <a:solidFill>
              <a:srgbClr val="f3811f"/>
            </a:solidFill>
            <a:miter/>
            <a:tailEnd len="med" type="triangle" w="med"/>
          </a:ln>
        </p:spPr>
      </p:cxnSp>
      <p:sp>
        <p:nvSpPr>
          <p:cNvPr id="111" name="TextBox 11"/>
          <p:cNvSpPr/>
          <p:nvPr/>
        </p:nvSpPr>
        <p:spPr>
          <a:xfrm>
            <a:off x="7510320" y="3892680"/>
            <a:ext cx="16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811f"/>
                </a:solidFill>
                <a:latin typeface="Arial"/>
              </a:rPr>
              <a:t>001</a:t>
            </a:r>
            <a:r>
              <a:rPr b="1" lang="en-US" sz="2000" spc="-1" strike="noStrike">
                <a:solidFill>
                  <a:srgbClr val="f3811f"/>
                </a:solidFill>
                <a:latin typeface="Arial"/>
              </a:rPr>
              <a:t>X</a:t>
            </a:r>
            <a:r>
              <a:rPr b="1" lang="ru-RU" sz="2000" spc="-1" strike="noStrike">
                <a:solidFill>
                  <a:srgbClr val="f3811f"/>
                </a:solidFill>
                <a:latin typeface="Arial"/>
              </a:rPr>
              <a:t>111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2470-C268-448B-AE49-86989EC9B473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439200"/>
            <a:ext cx="730404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811f"/>
                </a:solidFill>
                <a:latin typeface="Arial"/>
              </a:rPr>
              <a:t>Особенности предоставление отчета (ф. 0503129) в части отражения данных по 14 л/с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62080" y="1446120"/>
            <a:ext cx="822960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5e5d"/>
                </a:solidFill>
                <a:latin typeface="Times New Roman"/>
                <a:ea typeface="Times New Roman"/>
              </a:rPr>
              <a:t>Условия формирования ф. 0503129 по переданным полномочиям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2" descr=""/>
          <p:cNvPicPr/>
          <p:nvPr/>
        </p:nvPicPr>
        <p:blipFill>
          <a:blip r:embed="rId1"/>
          <a:stretch/>
        </p:blipFill>
        <p:spPr>
          <a:xfrm>
            <a:off x="0" y="2668680"/>
            <a:ext cx="9144000" cy="152064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8"/>
          <p:cNvSpPr/>
          <p:nvPr/>
        </p:nvSpPr>
        <p:spPr>
          <a:xfrm>
            <a:off x="7761240" y="3164040"/>
            <a:ext cx="1382760" cy="812520"/>
          </a:xfrm>
          <a:prstGeom prst="rect">
            <a:avLst/>
          </a:prstGeom>
          <a:noFill/>
          <a:ln w="28440">
            <a:solidFill>
              <a:srgbClr val="f38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3846600" y="4535640"/>
            <a:ext cx="4711680" cy="1322280"/>
          </a:xfrm>
          <a:prstGeom prst="rect">
            <a:avLst/>
          </a:prstGeom>
          <a:noFill/>
          <a:ln w="28440">
            <a:solidFill>
              <a:srgbClr val="f38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846600" y="4448160"/>
            <a:ext cx="445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4f4e"/>
                </a:solidFill>
                <a:latin typeface="Arial"/>
              </a:rPr>
              <a:t>Отчет Представлен пользователю отчетности </a:t>
            </a:r>
            <a:r>
              <a:rPr b="1" lang="en-US" sz="2000" spc="-1" strike="noStrike">
                <a:solidFill>
                  <a:srgbClr val="514f4e"/>
                </a:solidFill>
                <a:latin typeface="Arial"/>
              </a:rPr>
              <a:t>07401</a:t>
            </a:r>
            <a:r>
              <a:rPr b="1" lang="en-US" sz="2000" spc="-1" strike="noStrike">
                <a:solidFill>
                  <a:srgbClr val="f3811f"/>
                </a:solidFill>
                <a:latin typeface="Arial"/>
              </a:rPr>
              <a:t>001X1116</a:t>
            </a:r>
            <a:r>
              <a:rPr b="1" lang="en-US" sz="2000" spc="-1" strike="noStrike">
                <a:solidFill>
                  <a:srgbClr val="514f4e"/>
                </a:solidFill>
                <a:latin typeface="Arial"/>
              </a:rPr>
              <a:t>00000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9" name="Прямая со стрелкой 7"/>
          <p:cNvCxnSpPr/>
          <p:nvPr/>
        </p:nvCxnSpPr>
        <p:spPr>
          <a:xfrm flipH="1">
            <a:off x="8299080" y="3874680"/>
            <a:ext cx="743760" cy="842040"/>
          </a:xfrm>
          <a:prstGeom prst="straightConnector1">
            <a:avLst/>
          </a:prstGeom>
          <a:ln w="28440">
            <a:solidFill>
              <a:srgbClr val="f3811f"/>
            </a:solidFill>
            <a:miter/>
            <a:tailEnd len="med" type="triangle" w="med"/>
          </a:ln>
        </p:spPr>
      </p:cxnSp>
      <p:sp>
        <p:nvSpPr>
          <p:cNvPr id="120" name="Прямоугольник 14"/>
          <p:cNvSpPr/>
          <p:nvPr/>
        </p:nvSpPr>
        <p:spPr>
          <a:xfrm>
            <a:off x="4691160" y="3273480"/>
            <a:ext cx="1382760" cy="812880"/>
          </a:xfrm>
          <a:prstGeom prst="rect">
            <a:avLst/>
          </a:prstGeom>
          <a:noFill/>
          <a:ln w="28440">
            <a:solidFill>
              <a:srgbClr val="f38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0021-0930-4B9A-875F-0937448C826F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57200" y="1600200"/>
            <a:ext cx="822960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605e5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5e5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05e5d"/>
                </a:solidFill>
                <a:latin typeface="Times New Roman"/>
              </a:rPr>
              <a:t>Особенности настроек формы ПУиО ЭБ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2017-08-15_11-15-54"/>
          <p:cNvPicPr/>
          <p:nvPr/>
        </p:nvPicPr>
        <p:blipFill>
          <a:blip r:embed="rId1"/>
          <a:stretch/>
        </p:blipFill>
        <p:spPr>
          <a:xfrm>
            <a:off x="169920" y="1803240"/>
            <a:ext cx="8412120" cy="4264200"/>
          </a:xfrm>
          <a:prstGeom prst="rect">
            <a:avLst/>
          </a:prstGeom>
          <a:ln w="0">
            <a:noFill/>
          </a:ln>
        </p:spPr>
      </p:pic>
      <p:sp>
        <p:nvSpPr>
          <p:cNvPr id="124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6FF4-7509-4578-A709-B33F8BF35EE1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3600" y="115920"/>
            <a:ext cx="730404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811f"/>
                </a:solidFill>
                <a:latin typeface="Times New Roman"/>
              </a:rPr>
              <a:t>Особенности настроек формы ПУиО ЭБ</a:t>
            </a:r>
            <a:br>
              <a:rPr sz="2800"/>
            </a:b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5961240" y="2259000"/>
            <a:ext cx="715680" cy="281160"/>
          </a:xfrm>
          <a:prstGeom prst="rect">
            <a:avLst/>
          </a:prstGeom>
          <a:noFill/>
          <a:ln w="28440">
            <a:solidFill>
              <a:srgbClr val="f38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1"/>
          <p:cNvSpPr/>
          <p:nvPr/>
        </p:nvSpPr>
        <p:spPr>
          <a:xfrm>
            <a:off x="355680" y="1157400"/>
            <a:ext cx="72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5e5d"/>
                </a:solidFill>
                <a:latin typeface="Arial"/>
              </a:rPr>
              <a:t>Панель быстрого просмотра выделенного документа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06:57:33Z</dcterms:created>
  <dc:creator>PowerLexis</dc:creator>
  <dc:description/>
  <dc:language>en-US</dc:language>
  <cp:lastModifiedBy>Вольф Елена Владимировна</cp:lastModifiedBy>
  <dcterms:modified xsi:type="dcterms:W3CDTF">2017-09-26T14:34:29Z</dcterms:modified>
  <cp:revision>571</cp:revision>
  <dc:subject/>
  <dc:title>Корпоративный шаблон презентаций компании ОТР</dc:title>
</cp:coreProperties>
</file>