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9D4-EFC9-4A5B-AC37-D7793972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5B7-F079-4DCB-B922-5AE5F317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BA8-BF57-4E8D-B742-D8A17AC3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953-9E2D-47BD-8480-7557FF47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A9E-E61F-4BD8-BACF-A01D64F8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FBD-7159-4264-B59F-4ADDF5CE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E255-61C0-4524-9C9C-26C0E277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779-C50F-4364-983B-835067E7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4065-780E-4558-8B15-EF0F17BF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D3CD-20B4-45F4-A052-0B495B44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F45-8851-4FEB-94FD-68173804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13E1-50CF-4F72-AFD4-16DF5742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7955-F872-4868-95DA-71BC591A326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C1BB-07A9-4CBD-ABF9-E58BF011B3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8160" y="1131840"/>
            <a:ext cx="8877600" cy="19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  <a:ea typeface="Tahoma"/>
              </a:rPr>
              <a:t>Вопросы реализации порядка мониторинг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 Light"/>
                <a:ea typeface="Tahoma"/>
              </a:rPr>
              <a:t>в Федеральном казначейств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 Light"/>
                <a:ea typeface="Tahoma"/>
              </a:rPr>
              <a:t>информации, представляемой в подсистему «Учет и отчетность» государственной интегрированной информационной системы «Электронный бюджет»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629560" y="5400720"/>
            <a:ext cx="328608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 Light"/>
              </a:rPr>
              <a:t>заместитель начальника Управления централизованной бухгалтери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 Light"/>
              </a:rPr>
              <a:t>заместитель главного бухгал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 Light"/>
              </a:rPr>
              <a:t>В.И. Мороз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57240" y="1832040"/>
            <a:ext cx="5505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БЛАГОДАРЮ ЗА ВНИМАНИЕ!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104760" y="2708280"/>
            <a:ext cx="36766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ЗАДАЧИ МОНИТОРИНГА ИНФОРМАЦИИ, ПРЕДСТАВЛЯЕМОЙ В ПУиО ГИИС «ЭЛЕКТРОННЫЙ БЮДЖЕ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4410000" y="2305080"/>
            <a:ext cx="68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предварительная проверка бюджетной (бухгалтерской) отчетно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ая соединительная линия 4"/>
          <p:cNvSpPr/>
          <p:nvPr/>
        </p:nvSpPr>
        <p:spPr>
          <a:xfrm flipV="1">
            <a:off x="4334040" y="2838600"/>
            <a:ext cx="7000560" cy="936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ая соединительная линия 7"/>
          <p:cNvSpPr/>
          <p:nvPr/>
        </p:nvSpPr>
        <p:spPr>
          <a:xfrm flipV="1">
            <a:off x="4324320" y="2181240"/>
            <a:ext cx="7000920" cy="936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4410000" y="2895480"/>
            <a:ext cx="6810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мониторинг своевременной сдачи бюджетной (бухгалтерской) отчетно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ая соединительная линия 9"/>
          <p:cNvSpPr/>
          <p:nvPr/>
        </p:nvSpPr>
        <p:spPr>
          <a:xfrm flipV="1">
            <a:off x="4334040" y="3476160"/>
            <a:ext cx="7000560" cy="97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4400640" y="3552840"/>
            <a:ext cx="681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повышение качества представляемой бюджетной (бухгалтерской) отчетно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ая соединительная линия 11"/>
          <p:cNvSpPr/>
          <p:nvPr/>
        </p:nvSpPr>
        <p:spPr>
          <a:xfrm flipV="1">
            <a:off x="4334040" y="4123800"/>
            <a:ext cx="7000560" cy="97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12"/>
          <p:cNvSpPr/>
          <p:nvPr/>
        </p:nvSpPr>
        <p:spPr>
          <a:xfrm flipV="1">
            <a:off x="4334040" y="4743000"/>
            <a:ext cx="7000560" cy="97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4400640" y="4172040"/>
            <a:ext cx="681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мониторинг соответствия сдаваемой бюджетной (бухгалтерской) отчетности установленным требов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400" y="2708280"/>
            <a:ext cx="2381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 Light"/>
              </a:rPr>
              <a:t>ВЗАИМОДЕЙСТВИЕ ТОФК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 Light"/>
              </a:rPr>
              <a:t>С  СУБЪЕКТАМИ ОТЧЕТНОСТИ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1147680" y="1519200"/>
            <a:ext cx="600120" cy="11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109"/>
          <p:cNvSpPr/>
          <p:nvPr/>
        </p:nvSpPr>
        <p:spPr>
          <a:xfrm>
            <a:off x="1290600" y="4389480"/>
            <a:ext cx="600120" cy="95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10"/>
          <p:cNvSpPr/>
          <p:nvPr/>
        </p:nvSpPr>
        <p:spPr>
          <a:xfrm>
            <a:off x="1816200" y="4889520"/>
            <a:ext cx="600120" cy="95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8"/>
          <p:cNvSpPr/>
          <p:nvPr/>
        </p:nvSpPr>
        <p:spPr>
          <a:xfrm>
            <a:off x="3695760" y="1630440"/>
            <a:ext cx="7029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проведение мониторинга информации, представляемой в подсистему «Учет и отчетность» ГИИС «Электронный бюдже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39"/>
          <p:cNvSpPr/>
          <p:nvPr/>
        </p:nvSpPr>
        <p:spPr>
          <a:xfrm flipV="1">
            <a:off x="3733920" y="2220480"/>
            <a:ext cx="7000920" cy="1116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41"/>
          <p:cNvSpPr/>
          <p:nvPr/>
        </p:nvSpPr>
        <p:spPr>
          <a:xfrm flipV="1">
            <a:off x="3724200" y="1555920"/>
            <a:ext cx="7000920" cy="79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2"/>
          <p:cNvSpPr/>
          <p:nvPr/>
        </p:nvSpPr>
        <p:spPr>
          <a:xfrm>
            <a:off x="3705120" y="2230560"/>
            <a:ext cx="70581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оказание консультационной помощи субъектам отчетности при работе с подсистемой «Учет и отчетность» ГИИС «Электронный                      бюдже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43"/>
          <p:cNvSpPr/>
          <p:nvPr/>
        </p:nvSpPr>
        <p:spPr>
          <a:xfrm flipV="1">
            <a:off x="3733920" y="3049200"/>
            <a:ext cx="7000920" cy="97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4"/>
          <p:cNvSpPr/>
          <p:nvPr/>
        </p:nvSpPr>
        <p:spPr>
          <a:xfrm>
            <a:off x="3695760" y="3040200"/>
            <a:ext cx="70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оказание помощи в экстренном получении ключа ЭП для работы в подсистеме «Учет и отчетность» ГИИС «Электронный бюдже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45"/>
          <p:cNvSpPr/>
          <p:nvPr/>
        </p:nvSpPr>
        <p:spPr>
          <a:xfrm flipV="1">
            <a:off x="3733920" y="3706920"/>
            <a:ext cx="7000920" cy="936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46"/>
          <p:cNvSpPr/>
          <p:nvPr/>
        </p:nvSpPr>
        <p:spPr>
          <a:xfrm flipV="1">
            <a:off x="3743280" y="4287960"/>
            <a:ext cx="7000920" cy="936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7"/>
          <p:cNvSpPr/>
          <p:nvPr/>
        </p:nvSpPr>
        <p:spPr>
          <a:xfrm>
            <a:off x="3695760" y="3811680"/>
            <a:ext cx="70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контроль актуального состояния справочника организац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48"/>
          <p:cNvSpPr/>
          <p:nvPr/>
        </p:nvSpPr>
        <p:spPr>
          <a:xfrm flipV="1">
            <a:off x="3743280" y="5049360"/>
            <a:ext cx="7000920" cy="97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9"/>
          <p:cNvSpPr/>
          <p:nvPr/>
        </p:nvSpPr>
        <p:spPr>
          <a:xfrm>
            <a:off x="3695760" y="4335480"/>
            <a:ext cx="70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оказание всесторонней помощи субъектам мониторинга, не сдавшим отчетность в установленный ср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Группа 2"/>
          <p:cNvGrpSpPr/>
          <p:nvPr/>
        </p:nvGrpSpPr>
        <p:grpSpPr>
          <a:xfrm>
            <a:off x="2762280" y="1324080"/>
            <a:ext cx="8086680" cy="4510080"/>
            <a:chOff x="2762280" y="1324080"/>
            <a:chExt cx="8086680" cy="4510080"/>
          </a:xfrm>
        </p:grpSpPr>
        <p:sp>
          <p:nvSpPr>
            <p:cNvPr id="69" name="Прямоугольник 22"/>
            <p:cNvSpPr/>
            <p:nvPr/>
          </p:nvSpPr>
          <p:spPr>
            <a:xfrm>
              <a:off x="3600360" y="1324080"/>
              <a:ext cx="7248600" cy="838080"/>
            </a:xfrm>
            <a:prstGeom prst="rect">
              <a:avLst/>
            </a:prstGeom>
            <a:solidFill>
              <a:srgbClr val="deebf7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Прямоугольник 5"/>
            <p:cNvSpPr/>
            <p:nvPr/>
          </p:nvSpPr>
          <p:spPr>
            <a:xfrm>
              <a:off x="2762280" y="1476360"/>
              <a:ext cx="1019160" cy="6858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Прямоугольник 24"/>
            <p:cNvSpPr/>
            <p:nvPr/>
          </p:nvSpPr>
          <p:spPr>
            <a:xfrm>
              <a:off x="3605040" y="2224080"/>
              <a:ext cx="7243920" cy="838080"/>
            </a:xfrm>
            <a:prstGeom prst="rect">
              <a:avLst/>
            </a:prstGeom>
            <a:solidFill>
              <a:srgbClr val="deebf7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Прямоугольник 25"/>
            <p:cNvSpPr/>
            <p:nvPr/>
          </p:nvSpPr>
          <p:spPr>
            <a:xfrm>
              <a:off x="2766960" y="2376360"/>
              <a:ext cx="1014120" cy="6858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Прямоугольник 26"/>
            <p:cNvSpPr/>
            <p:nvPr/>
          </p:nvSpPr>
          <p:spPr>
            <a:xfrm>
              <a:off x="3605040" y="3159360"/>
              <a:ext cx="7243920" cy="838080"/>
            </a:xfrm>
            <a:prstGeom prst="rect">
              <a:avLst/>
            </a:prstGeom>
            <a:solidFill>
              <a:srgbClr val="deebf7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Прямоугольник 27"/>
            <p:cNvSpPr/>
            <p:nvPr/>
          </p:nvSpPr>
          <p:spPr>
            <a:xfrm>
              <a:off x="2766960" y="3313080"/>
              <a:ext cx="1014120" cy="6858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Прямоугольник 28"/>
            <p:cNvSpPr/>
            <p:nvPr/>
          </p:nvSpPr>
          <p:spPr>
            <a:xfrm>
              <a:off x="3605040" y="4091040"/>
              <a:ext cx="7243920" cy="838080"/>
            </a:xfrm>
            <a:prstGeom prst="rect">
              <a:avLst/>
            </a:prstGeom>
            <a:solidFill>
              <a:srgbClr val="deebf7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оугольник 29"/>
            <p:cNvSpPr/>
            <p:nvPr/>
          </p:nvSpPr>
          <p:spPr>
            <a:xfrm>
              <a:off x="2766960" y="4243680"/>
              <a:ext cx="1014120" cy="6858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оугольник 30"/>
            <p:cNvSpPr/>
            <p:nvPr/>
          </p:nvSpPr>
          <p:spPr>
            <a:xfrm>
              <a:off x="3605040" y="4996080"/>
              <a:ext cx="7243920" cy="838080"/>
            </a:xfrm>
            <a:prstGeom prst="rect">
              <a:avLst/>
            </a:prstGeom>
            <a:solidFill>
              <a:srgbClr val="deebf7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Прямоугольник 31"/>
            <p:cNvSpPr/>
            <p:nvPr/>
          </p:nvSpPr>
          <p:spPr>
            <a:xfrm>
              <a:off x="2766960" y="5148360"/>
              <a:ext cx="1014120" cy="6858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47"/>
            <p:cNvSpPr/>
            <p:nvPr/>
          </p:nvSpPr>
          <p:spPr>
            <a:xfrm>
              <a:off x="3076560" y="155268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50"/>
            <p:cNvSpPr/>
            <p:nvPr/>
          </p:nvSpPr>
          <p:spPr>
            <a:xfrm>
              <a:off x="3076560" y="245268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51"/>
            <p:cNvSpPr/>
            <p:nvPr/>
          </p:nvSpPr>
          <p:spPr>
            <a:xfrm>
              <a:off x="3076560" y="339084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52"/>
            <p:cNvSpPr/>
            <p:nvPr/>
          </p:nvSpPr>
          <p:spPr>
            <a:xfrm>
              <a:off x="3085920" y="432468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53"/>
            <p:cNvSpPr/>
            <p:nvPr/>
          </p:nvSpPr>
          <p:spPr>
            <a:xfrm>
              <a:off x="3071520" y="522936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55"/>
            <p:cNvSpPr/>
            <p:nvPr/>
          </p:nvSpPr>
          <p:spPr>
            <a:xfrm>
              <a:off x="3781440" y="1390680"/>
              <a:ext cx="7067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 Light"/>
                </a:rPr>
                <a:t>УФК по субъекту РФ 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Calibri Light"/>
                </a:rPr>
                <a:t>не контролирует </a:t>
              </a:r>
              <a:r>
                <a:rPr b="0" lang="ru-RU" sz="1600" spc="-1" strike="noStrike">
                  <a:solidFill>
                    <a:srgbClr val="000000"/>
                  </a:solidFill>
                  <a:latin typeface="Calibri Light"/>
                </a:rPr>
                <a:t>представление бюджетной (бухгалтерской) отчетности субъектом мониторинга позже установленного срока сдачи отчетност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56"/>
            <p:cNvSpPr/>
            <p:nvPr/>
          </p:nvSpPr>
          <p:spPr>
            <a:xfrm>
              <a:off x="3781440" y="2400480"/>
              <a:ext cx="706752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 Light"/>
                </a:rPr>
                <a:t>УФК по субъекту РФ не оказывает помощь субъекту мониторинга в экстренном получении ключа ЭП во время сдачи отчетност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TextBox 57"/>
            <p:cNvSpPr/>
            <p:nvPr/>
          </p:nvSpPr>
          <p:spPr>
            <a:xfrm>
              <a:off x="3781440" y="3353040"/>
              <a:ext cx="7067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 Light"/>
                </a:rPr>
                <a:t>УФК по субъекту РФ 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Calibri Light"/>
                </a:rPr>
                <a:t>требует</a:t>
              </a:r>
              <a:r>
                <a:rPr b="0" lang="ru-RU" sz="1600" spc="-1" strike="noStrike">
                  <a:solidFill>
                    <a:srgbClr val="000000"/>
                  </a:solidFill>
                  <a:latin typeface="Calibri Light"/>
                </a:rPr>
                <a:t> внести изменения в сформированную бюджетную (бухгалтерскую) отчетность субъекта мониторинг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58"/>
            <p:cNvSpPr/>
            <p:nvPr/>
          </p:nvSpPr>
          <p:spPr>
            <a:xfrm>
              <a:off x="3781440" y="4267440"/>
              <a:ext cx="706752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 Light"/>
                </a:rPr>
                <a:t>УФК по субъекту РФ, не вникая в суть проблемы субъекта мониторинга, просит завести обращение в СУЭ Ф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59"/>
            <p:cNvSpPr/>
            <p:nvPr/>
          </p:nvSpPr>
          <p:spPr>
            <a:xfrm>
              <a:off x="3781440" y="5210280"/>
              <a:ext cx="706752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 Light"/>
                </a:rPr>
                <a:t>УФК по субъекту РФ, не поддерживают в актуальном состоянии справочник организаци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Заголовок 1"/>
          <p:cNvSpPr/>
          <p:nvPr/>
        </p:nvSpPr>
        <p:spPr>
          <a:xfrm>
            <a:off x="104760" y="2994120"/>
            <a:ext cx="2809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ИТОГИ ОСУЩЕСТВЛЕНИЯ МОНИТОРИНГА ИНФОРМАЦИИ, ПРЕДСТАВЛЯЕМОЙ В ПУиО ГИИС «ЭЛЕКТРОННЫЙ БЮДЖЕТ» 201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1"/>
          <p:cNvSpPr/>
          <p:nvPr/>
        </p:nvSpPr>
        <p:spPr>
          <a:xfrm>
            <a:off x="104760" y="2438280"/>
            <a:ext cx="305748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ВНЕСЕНИЕ ИЗМЕНЕНИЙ В ПОРЯДОК МОНИТОРИНГА ИНФОРМАЦИИ В ПОДСИСТЕМ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«УЧЕТ И ОТЧЕТНОСТЬ» ГИИС «ЭЛЕКТРОННЫЙ БЮДЖЕ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4334040" y="2305080"/>
            <a:ext cx="68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уточнение формы Сведений о результатах мониторинга информации, представляемой в подсистему «Учет и отчетность» ГИИС «Электронный бюдже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ая соединительная линия 7"/>
          <p:cNvSpPr/>
          <p:nvPr/>
        </p:nvSpPr>
        <p:spPr>
          <a:xfrm flipV="1">
            <a:off x="4324320" y="2181240"/>
            <a:ext cx="7000920" cy="936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ая соединительная линия 9"/>
          <p:cNvSpPr/>
          <p:nvPr/>
        </p:nvSpPr>
        <p:spPr>
          <a:xfrm flipV="1">
            <a:off x="4305240" y="3228480"/>
            <a:ext cx="7000920" cy="97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4334040" y="3257640"/>
            <a:ext cx="6810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уточнение сроков формирования информации по  мониторингу отчетности в подсистеме «Учет и отчетность» ГИИС «Электронный бюдже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11"/>
          <p:cNvSpPr/>
          <p:nvPr/>
        </p:nvSpPr>
        <p:spPr>
          <a:xfrm flipV="1">
            <a:off x="4334040" y="4123800"/>
            <a:ext cx="7000560" cy="97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12"/>
          <p:cNvSpPr/>
          <p:nvPr/>
        </p:nvSpPr>
        <p:spPr>
          <a:xfrm flipV="1">
            <a:off x="4343400" y="4857840"/>
            <a:ext cx="7000920" cy="936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4324320" y="4172040"/>
            <a:ext cx="68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уточнение Порядка мониторинга информации в подсистеме «Учет и отчетность ГИИС «Электронный бюдже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2"/>
          <p:cNvSpPr/>
          <p:nvPr/>
        </p:nvSpPr>
        <p:spPr>
          <a:xfrm>
            <a:off x="7391520" y="1266840"/>
            <a:ext cx="3552840" cy="4886280"/>
          </a:xfrm>
          <a:prstGeom prst="rect">
            <a:avLst/>
          </a:prstGeom>
          <a:noFill/>
          <a:ln w="1260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1"/>
          <p:cNvSpPr/>
          <p:nvPr/>
        </p:nvSpPr>
        <p:spPr>
          <a:xfrm>
            <a:off x="1333440" y="942840"/>
            <a:ext cx="10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 Light"/>
              </a:rPr>
              <a:t>ИТОГИ ОСУЩЕСТВЛЕНИЯ МОНИТОРИНГА ИНФОРМАЦИИ, ПРЕДСТАВЛЯЕМОЙ В ПУиО ГИИС «ЭЛЕКТРОННЫЙ БЮДЖЕТ» В 201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09640" y="2179800"/>
          <a:ext cx="10667880" cy="1528560"/>
        </p:xfrm>
        <a:graphic>
          <a:graphicData uri="http://schemas.openxmlformats.org/drawingml/2006/table">
            <a:tbl>
              <a:tblPr/>
              <a:tblGrid>
                <a:gridCol w="44640"/>
                <a:gridCol w="543960"/>
                <a:gridCol w="1516320"/>
                <a:gridCol w="542520"/>
                <a:gridCol w="2653200"/>
                <a:gridCol w="515880"/>
                <a:gridCol w="428040"/>
                <a:gridCol w="893160"/>
                <a:gridCol w="460080"/>
                <a:gridCol w="594720"/>
                <a:gridCol w="590400"/>
                <a:gridCol w="480600"/>
                <a:gridCol w="514080"/>
                <a:gridCol w="890280"/>
              </a:tblGrid>
              <a:tr h="3092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а по Б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БП/НУБ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 информ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 представления информ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ичие арифметических и логических ошиб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ветствие показателей данным классиикаторов и справочни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крытие информации в составе пояснительной запис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ветствие показателей бюджетных и денежн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типа субъекта монитор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ламентирова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Прямоугольник 3"/>
          <p:cNvSpPr/>
          <p:nvPr/>
        </p:nvSpPr>
        <p:spPr>
          <a:xfrm>
            <a:off x="8639280" y="1809720"/>
            <a:ext cx="2305080" cy="1382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Раздел 1 Сведени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38080" y="3884760"/>
          <a:ext cx="10620360" cy="766440"/>
        </p:xfrm>
        <a:graphic>
          <a:graphicData uri="http://schemas.openxmlformats.org/drawingml/2006/table">
            <a:tbl>
              <a:tblPr/>
              <a:tblGrid>
                <a:gridCol w="495360"/>
                <a:gridCol w="1562040"/>
                <a:gridCol w="542880"/>
                <a:gridCol w="2657520"/>
                <a:gridCol w="524160"/>
                <a:gridCol w="428400"/>
                <a:gridCol w="885960"/>
                <a:gridCol w="457200"/>
                <a:gridCol w="590400"/>
                <a:gridCol w="609840"/>
                <a:gridCol w="504720"/>
                <a:gridCol w="495360"/>
                <a:gridCol w="866520"/>
              </a:tblGrid>
              <a:tr h="76644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ое агентство по делам молодеж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Ч18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ОЕ ГОСУДАРСТВЕННОЕ БЮДЖЕТНОЕ УЧРЕЖДЕНИЕ "РОССИЙСКИЙ ЦЕНТР ГРАЖДАНСКОГО И ПАТРИОТИЧЕСКОГО ВОСПИТАНИЯ ДЕТЕЙ И МОЛОДЕЖИ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7.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2.0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ет отчетов ф. 0503295, 0503725, 0503760,0503793</a:t>
                      </a: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847800" y="5132520"/>
          <a:ext cx="10629720" cy="1071360"/>
        </p:xfrm>
        <a:graphic>
          <a:graphicData uri="http://schemas.openxmlformats.org/drawingml/2006/table">
            <a:tbl>
              <a:tblPr/>
              <a:tblGrid>
                <a:gridCol w="466560"/>
                <a:gridCol w="1543320"/>
                <a:gridCol w="533160"/>
                <a:gridCol w="2743200"/>
                <a:gridCol w="514440"/>
                <a:gridCol w="419040"/>
                <a:gridCol w="876240"/>
                <a:gridCol w="457200"/>
                <a:gridCol w="581040"/>
                <a:gridCol w="600120"/>
                <a:gridCol w="523800"/>
                <a:gridCol w="495360"/>
                <a:gridCol w="876240"/>
              </a:tblGrid>
              <a:tr h="107136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ая служба по гидрометеорологии и мониторингу окружающе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25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ППИ ФГБУ "НИЦ "ПЛАНЕТА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07.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состоянию на 11.07.2017 нет отчета по форме 0503295, 0503725, 0503760,  05037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2"/>
          <p:cNvSpPr/>
          <p:nvPr/>
        </p:nvSpPr>
        <p:spPr>
          <a:xfrm>
            <a:off x="8477280" y="1143000"/>
            <a:ext cx="3552840" cy="4886280"/>
          </a:xfrm>
          <a:prstGeom prst="rect">
            <a:avLst/>
          </a:prstGeom>
          <a:noFill/>
          <a:ln w="1260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400" y="2994120"/>
            <a:ext cx="2809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 Light"/>
              </a:rPr>
              <a:t>ИТОГИ ОСУЩЕСТВЛЕНИЯ МОНИТОРИНГА ИНФОРМАЦИИ, ПРЕДСТАВЛЯЕМОЙ В ПУиО ГИИС «ЭЛЕКТРОННЫЙ БЮДЖЕТ» 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 Light"/>
              </a:rPr>
              <a:t>2017 Г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65520" y="1343160"/>
          <a:ext cx="8245440" cy="4460760"/>
        </p:xfrm>
        <a:graphic>
          <a:graphicData uri="http://schemas.openxmlformats.org/drawingml/2006/table">
            <a:tbl>
              <a:tblPr/>
              <a:tblGrid>
                <a:gridCol w="1989000"/>
                <a:gridCol w="2082960"/>
                <a:gridCol w="1716120"/>
                <a:gridCol w="2457360"/>
              </a:tblGrid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УФК по субъекту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Субъект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Раздел чек-ли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Комментарий УФК по субъекту РФ в чек-листе, направленном в Центр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УФК по Псковск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Псковский филиал ФГКУ Росгранстр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Общие с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Авария УиО ГИИС «Электронный бюджет»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D 101662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796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УФК по Ленинградск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Следственное управление Следственного комите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Российской Федерации по Ленинградск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Сведения об арифметических и логических ошибках, дополнительного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 Ligh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Имеются расхождения. Получателю направлены данные для анализа расхожде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 Ligh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Ошибки в разделе 1 «Доход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7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УФК по Калининградск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Отдел государственной фельдъегерской службы Российской Федерации 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г. Калинингра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Сведения об арифметических и логических ошибках, дополнительного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Комплект отчетности (кроме ф. 0503125, 0503123) не загружен по вине субъекта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13"/>
          <p:cNvSpPr/>
          <p:nvPr/>
        </p:nvSpPr>
        <p:spPr>
          <a:xfrm>
            <a:off x="11068200" y="2514600"/>
            <a:ext cx="761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ffc000"/>
                </a:solidFill>
                <a:latin typeface="Calibri Light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"/>
          <p:cNvSpPr/>
          <p:nvPr/>
        </p:nvSpPr>
        <p:spPr>
          <a:xfrm>
            <a:off x="8163000" y="885960"/>
            <a:ext cx="2781360" cy="3045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Раздел 2 Сведе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2"/>
          <p:cNvSpPr/>
          <p:nvPr/>
        </p:nvSpPr>
        <p:spPr>
          <a:xfrm>
            <a:off x="7391520" y="1266840"/>
            <a:ext cx="3552840" cy="4886280"/>
          </a:xfrm>
          <a:prstGeom prst="rect">
            <a:avLst/>
          </a:prstGeom>
          <a:noFill/>
          <a:ln w="1260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1"/>
          <p:cNvSpPr/>
          <p:nvPr/>
        </p:nvSpPr>
        <p:spPr>
          <a:xfrm>
            <a:off x="1333440" y="942840"/>
            <a:ext cx="10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 Light"/>
              </a:rPr>
              <a:t>ИТОГИ ОСУЩЕСТВЛЕНИЯ МОНИТОРИНГА ИНФОРМАЦИИ, ПРЕДСТАВЛЯЕМОЙ В ПУиО ГИИС «ЭЛЕКТРОННЫЙ БЮДЖЕТ» В 201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8639280" y="1809720"/>
            <a:ext cx="2305080" cy="1382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Раздел 3 Сведени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28720" y="2387520"/>
          <a:ext cx="11020320" cy="776520"/>
        </p:xfrm>
        <a:graphic>
          <a:graphicData uri="http://schemas.openxmlformats.org/drawingml/2006/table">
            <a:tbl>
              <a:tblPr/>
              <a:tblGrid>
                <a:gridCol w="304920"/>
                <a:gridCol w="2304720"/>
                <a:gridCol w="419400"/>
                <a:gridCol w="2228760"/>
                <a:gridCol w="971640"/>
                <a:gridCol w="1904760"/>
                <a:gridCol w="2886120"/>
              </a:tblGrid>
              <a:tr h="157320">
                <a:tc gridSpan="2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а по Б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БП/НУБ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обязательного треб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ентар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типа субъекта монитор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838080" y="3710160"/>
          <a:ext cx="11010960" cy="828360"/>
        </p:xfrm>
        <a:graphic>
          <a:graphicData uri="http://schemas.openxmlformats.org/drawingml/2006/table">
            <a:tbl>
              <a:tblPr/>
              <a:tblGrid>
                <a:gridCol w="304920"/>
                <a:gridCol w="2279520"/>
                <a:gridCol w="436680"/>
                <a:gridCol w="2217600"/>
                <a:gridCol w="914400"/>
                <a:gridCol w="1962360"/>
                <a:gridCol w="2895480"/>
              </a:tblGrid>
              <a:tr h="82836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ое агентство по делам молодеж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Х97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ОЕ ГОСУДАРСТВЕННОЕ БЮДЖЕТНОЕ УЧРЕЖДЕНИЕ "МЕЖДУНАРОДНЫЙ МОЛОДЕЖНЫЙ ЦЕНТР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?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ояснительной записке не указана информация о не предоставленных отчетах ф.0503295, 0503725, 050379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866880" y="4711680"/>
          <a:ext cx="10953720" cy="784080"/>
        </p:xfrm>
        <a:graphic>
          <a:graphicData uri="http://schemas.openxmlformats.org/drawingml/2006/table">
            <a:tbl>
              <a:tblPr/>
              <a:tblGrid>
                <a:gridCol w="280800"/>
                <a:gridCol w="2300400"/>
                <a:gridCol w="419040"/>
                <a:gridCol w="2219400"/>
                <a:gridCol w="942840"/>
                <a:gridCol w="1920960"/>
                <a:gridCol w="2870280"/>
              </a:tblGrid>
              <a:tr h="784080">
                <a:tc>
                  <a:txBody>
                    <a:bodyPr lIns="9360" rIns="936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ое агентство лесного хозяй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X69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ЛИАЛ ФЕДЕРАЛЬНОГО БЮДЖЕТНОГО УЧРЕЖДЕНИЯ "РОССИЙСКИЙ ЦЕНТР ЗАЩИТЫ ЛЕСА""ЦЕНТР ЗАЩИТЫ ЛЕСА КРАСНОДАРСКОГО КРАЯ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 56 Инструкции, утвержденной Приказом Минфина России от 25.03.2011 N 33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ительная записка отсутствуе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838080" y="5767560"/>
          <a:ext cx="11010960" cy="623880"/>
        </p:xfrm>
        <a:graphic>
          <a:graphicData uri="http://schemas.openxmlformats.org/drawingml/2006/table">
            <a:tbl>
              <a:tblPr/>
              <a:tblGrid>
                <a:gridCol w="314280"/>
                <a:gridCol w="2305080"/>
                <a:gridCol w="409680"/>
                <a:gridCol w="2219400"/>
                <a:gridCol w="933480"/>
                <a:gridCol w="1981080"/>
                <a:gridCol w="2847960"/>
              </a:tblGrid>
              <a:tr h="623880"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нистерство юстиции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88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авление Министерства юстиции Российской Федерации по Астраханской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 1.2.8.1 совместного письма Минфина России и Федерального казначейства от 07.04.2017 № 07-04-05/02-3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раскрыта информация о факторах, повлиявших на объем и динамику заключения контрактов (договоров), предусмотренных к исполнению в 2017 го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Прямая соединительная линия 16"/>
          <p:cNvSpPr/>
          <p:nvPr/>
        </p:nvSpPr>
        <p:spPr>
          <a:xfrm>
            <a:off x="847800" y="3162240"/>
            <a:ext cx="110109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ая соединительная линия 18"/>
          <p:cNvSpPr/>
          <p:nvPr/>
        </p:nvSpPr>
        <p:spPr>
          <a:xfrm>
            <a:off x="847800" y="4724280"/>
            <a:ext cx="0" cy="77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Овал 60"/>
          <p:cNvSpPr/>
          <p:nvPr/>
        </p:nvSpPr>
        <p:spPr>
          <a:xfrm>
            <a:off x="3867120" y="942840"/>
            <a:ext cx="5857920" cy="5324760"/>
          </a:xfrm>
          <a:prstGeom prst="ellipse">
            <a:avLst/>
          </a:prstGeom>
          <a:noFill/>
          <a:ln w="889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760" y="2708280"/>
            <a:ext cx="2085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 Light"/>
              </a:rPr>
              <a:t>КАЧЕСТВО РАБОТЫ ТОФК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2190600" y="2224080"/>
            <a:ext cx="4781880" cy="32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Скругленный прямоугольник 5"/>
          <p:cNvSpPr/>
          <p:nvPr/>
        </p:nvSpPr>
        <p:spPr>
          <a:xfrm>
            <a:off x="2333520" y="1752480"/>
            <a:ext cx="3629160" cy="924120"/>
          </a:xfrm>
          <a:prstGeom prst="roundRect">
            <a:avLst>
              <a:gd name="adj" fmla="val 16667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 Light"/>
              </a:rPr>
              <a:t>АНКЕТИРОВА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 Light"/>
              </a:rPr>
              <a:t>субъектов отчет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2476440" y="2819520"/>
            <a:ext cx="430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опрос субъектов отчетности о качестве консультирования сотрудниками УФК по субъекту РФ;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2476440" y="3691080"/>
            <a:ext cx="43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опрос субъектов отчетности о качестве функционирования подсистемы «Учет и отчетность» ГИИС «Электронный бюджет»;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2476440" y="4576680"/>
            <a:ext cx="43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пожелания и предложения по развитию подсистемы «Учет и отчетность» ГИИС «Электронный бюджет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10"/>
          <p:cNvSpPr/>
          <p:nvPr/>
        </p:nvSpPr>
        <p:spPr>
          <a:xfrm>
            <a:off x="7172280" y="2224080"/>
            <a:ext cx="4781520" cy="32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11"/>
          <p:cNvSpPr/>
          <p:nvPr/>
        </p:nvSpPr>
        <p:spPr>
          <a:xfrm>
            <a:off x="7277040" y="1762200"/>
            <a:ext cx="3629160" cy="923760"/>
          </a:xfrm>
          <a:prstGeom prst="roundRect">
            <a:avLst>
              <a:gd name="adj" fmla="val 16667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 Light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 Light"/>
              </a:rPr>
              <a:t>анкетир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7458120" y="2828880"/>
            <a:ext cx="420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улучшение качества консультирования сотрудниками УФК по субъекту РФ;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7458120" y="4281480"/>
            <a:ext cx="420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предложения по развитию подсистемы «Учет и отчетность» ГИИС «Электронный бюджет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8"/>
          <p:cNvSpPr/>
          <p:nvPr/>
        </p:nvSpPr>
        <p:spPr>
          <a:xfrm>
            <a:off x="7458120" y="3448080"/>
            <a:ext cx="420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улучшение качества обработки обращений субъектов отчетности, направленных в СУЭ ФК;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Равнобедренный треугольник 61"/>
          <p:cNvSpPr/>
          <p:nvPr/>
        </p:nvSpPr>
        <p:spPr>
          <a:xfrm>
            <a:off x="8520120" y="1409760"/>
            <a:ext cx="609480" cy="35244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Равнобедренный треугольник 62"/>
          <p:cNvSpPr/>
          <p:nvPr/>
        </p:nvSpPr>
        <p:spPr>
          <a:xfrm rot="18683400">
            <a:off x="8410680" y="5438520"/>
            <a:ext cx="609480" cy="35244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6:27:21Z</dcterms:created>
  <dc:creator>Mazur Nataliya</dc:creator>
  <dc:description/>
  <dc:language>en-US</dc:language>
  <cp:lastModifiedBy>Морозова Венера Илимдаровна</cp:lastModifiedBy>
  <cp:lastPrinted>2017-09-15T11:44:15Z</cp:lastPrinted>
  <dcterms:modified xsi:type="dcterms:W3CDTF">2017-09-19T12:12:32Z</dcterms:modified>
  <cp:revision>628</cp:revision>
  <dc:subject/>
  <dc:title>Презентация PowerPoint</dc:title>
</cp:coreProperties>
</file>