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dt" idx="4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ftr" idx="4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 type="sldNum" idx="4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86CB-A2A9-4E51-B2F3-B428F92CAD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няли в этом месяце но довели до свих в следующем – сваить так как приняли (с учетом изменений) !!!! Не смотря ни на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2FD-19EF-4E93-BF1D-46F70111BE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98BE361-7236-4ADF-9F23-DE2EB0ACCD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DC2-43B4-4BE4-B237-D60F4613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ED7-B843-455E-B6D6-CE1B0953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2CAFE-FD5E-4C25-BD57-3E026BB0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DEC7F-52EB-4756-8D94-8FA6647A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BC155-A1AB-4778-983A-F55D15C8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5073D-9FF3-4E1D-ACF7-5495C5CE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53619-9473-4EE4-8033-62389BF9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2725C-783B-490C-90DF-ABD5CAE0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9CA7C-AF09-4697-A9B7-11C990BB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DC6D5-E729-4FF0-B00B-52071A64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95130-9780-4881-BE78-BBAA7504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D24D6-9D7F-4D78-AD90-A949137E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FD3-4848-4CDC-8329-1FF9E41B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13E61-2EB4-414D-B891-4A4A9F75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C9867-8DA7-4385-9065-D801773C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17E2B-9594-45B8-B0C7-02B26E82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65E09-2417-4C69-B1A1-D54D7C70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44C7D-682B-4546-AA7D-69683E9C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1DA44-E9CF-49F5-9052-194A5908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626C9-D96E-48BF-AA2C-560FE348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5857F-DF74-4857-B93E-F84ED1D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BBA72-5A50-4E28-A963-03856B81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C09E0-D378-4AAD-920D-F30270BA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326-7DBA-40C1-B7C6-C3474514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820FF-3774-4288-AE12-7B0DB5DF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7CF72-FB76-4A2A-AFB9-A5D722E1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B9335-5374-48E7-B036-820E4DCA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94697-0470-48DB-9210-ACED2902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95876-D8F1-4F3E-AC7A-CEB4F352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77C3A-8BDA-4860-9FEC-69E424CF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13D0C-FD37-4E6A-98A0-B12F8051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ACCFD-16E2-4222-A3EC-ACDC1B3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A265C-4EED-4329-BF3C-06D68CBF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8EACC-E9DB-4BA2-81E3-53D0D6ED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6468-9D81-4F47-BAC8-2336C37F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D9C1D-B950-4E82-9461-B4437E9B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66A89-D0BD-468C-B915-9C05A0ED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004CC-4664-48B9-9089-02FCF782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52410-13BD-4C4A-9B19-FF76F735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86307-DC01-4C13-B4DD-D5337A42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B0089-5897-4C38-9311-B820AE21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AE586-0376-4667-BD62-AE9FBD3C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23572-4AF9-47B4-8D1E-96EE0181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4D3A5-B2BB-4DEC-95A6-82B03E68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4CAF9-B49E-4265-AFD8-68914C21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B94D-5069-4A52-A6C8-8A32D8E6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F8FCF-AB97-4DD5-9E6D-13BA206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CE536-6B4E-495C-BE49-DC01274E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A8919-C5F4-4C74-A91E-6CAD3714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467CD-560D-4E34-93C7-84678617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FD743-8889-4935-B2CB-A040ED5B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3DA62-C436-4F04-94B5-EF5A5378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52BB2-A72B-43D5-BBE9-CFC133CB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FA411-86EB-463D-819D-7D899692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D93C3-CD94-4BF7-90DB-6D2D11C8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84F58-35C7-436D-8423-70CE7325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14BB-4875-442C-BA47-BD748CFA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5C2B6-7E3C-4DFA-943F-BAA1F70B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0B2B5-1B66-423A-9444-F62C11B4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CB50B-494F-467B-B7B4-91AF32A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6BB02-6DCB-4847-924D-2303A540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5F83A-5A07-4322-9F7B-0C8A2DE3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83E4F-5E94-4A4B-A7E5-AA8CE192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FB7A6-5513-4174-8D08-0BC0894C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21105-0CDD-439C-A960-E26661BE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61656-371E-49AC-8AAB-6986719E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AB967-972A-4398-ABD0-1EC3257B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31A4-A560-44ED-B031-77BA01BB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C3762-8742-4182-812E-5A2A7035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9152F-63C5-4B22-90DD-F0444085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D0AEF-B3C7-49B4-B823-9C1E739D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71C10-2CBF-4511-A32F-A2431C6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39547-C195-42E3-A4EA-AC0D98FA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8D6F7-86BB-476B-9715-AA4660D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00D1B-7369-4ACF-8B85-870ECCC4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61642-BF3F-4023-8783-4689DD30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071BC-FF2E-48F8-B2A7-56CA9A3A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78BD-6A40-4879-B91C-24CE82FB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F9D1-AA3D-40B9-A93C-677297FE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6257-E08D-46F7-B799-485E7EF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970-28F2-4A53-A420-8485AC7C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1060-37DC-477F-8E07-4ED978B9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CF0B-0282-4E4B-9629-9D7B024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B4D4-6B38-4EF0-A636-3BA88E61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7436-2F6B-4F88-B9E2-0EBAF620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1E91-2E54-4EA2-A13B-A603AE21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89A2-ED18-49D9-8609-283FAE1D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3BB5-BFAB-4669-84B0-E0C2470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C690-1005-419E-90AB-2E7B2C50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BBA4-AA14-4578-A0EF-5CBC4635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9C7D-A6A4-4081-AA1D-AA69D8B1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68C-DF94-4785-B7B1-295096E2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4049-7909-476F-91EF-D232AFAD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F5AF-D30F-4F95-87AE-96F018A8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AD65-C142-4440-A6CE-E85C249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83B4-46D7-47A0-91E1-8F6965F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795D4-1F7A-4279-832E-AA31F6CF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9FA1D-4B56-44CE-8623-38438449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7BF4-3342-4697-A35C-767D75FC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A837-3CD5-407F-BA02-6BBDF6D1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A847-4722-4618-BA33-91F3A861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8360-F540-4AC8-9D45-3EB1F04A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750-446F-489D-A852-346F4499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AE12-E1C8-4E4F-9D6B-675578F3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1C93-10DE-44A4-AD03-5905FFCF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80D8-920E-42B7-83C0-3455DA3B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9D55-B4B1-4124-A89B-AF145B13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BE83-BCF3-4ABF-BFA6-45B90BF4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CE2B-3AE3-49CA-A921-DB38BCA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AA702-0B9B-430B-A7C2-076B59A0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A9C8-A614-44F5-8439-527B94CB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467F-E134-427F-9599-7712DA6E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53E7-A586-4DD6-A5E0-C8DEAB16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F5C-020A-4C29-9DEA-A769E07E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9A13F-C87E-4987-A215-453E1F0E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0184A-3E10-40B3-AEC5-8AE057C9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3217D-0124-412E-8C02-242B801C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1A68-8D03-4A68-8A1B-BC9B4B5A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7F5AB-58F2-4B16-BCE6-79E4D9DB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D0D9-3417-4233-93F2-33792520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99259-1072-408A-A787-F28E998C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0A36B-9943-481B-BDB2-F2E8F918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5366-5EF7-4F4E-82ED-7EEEC785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B361D-C6A1-4B24-8C6C-6918FC32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9F0-3B45-4880-9CC5-57FE9EAA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118D2-0642-47BC-A096-9016A0DA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6A878-924D-4813-974D-E07A7294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19422-7688-4AE8-8C15-64733E62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D7E57-2FB1-4871-867F-621EC0DF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B23B0-6CF2-4D54-96E9-9E388BD8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6D1FD-2933-4533-B1D7-2F3AE636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4BD31-AEEA-485D-BAA4-444DA86C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60DD5-4AA3-4606-A12B-985F6DA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4CA18-0167-4255-AE76-E39F274C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8374-85D2-4610-8408-40DE031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D74-A835-41EB-B6CA-4DD236E9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9C75A-245D-4D31-901E-B8DEE09F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E11E9-526C-4A41-95FB-F47D5EAE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029EA-6C40-4910-A0E3-A2CF20B4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272AA-B37D-4014-9BDE-627DFD4D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33B0-83D2-47DF-9AD4-0EDB47BB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719B2-FE55-4B59-B3E9-83E6114A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ED83E-EB42-4940-B523-908ABCE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373D0-49A8-4BE2-BF3D-81BB042A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3BEA0-96C5-4575-983F-36ADCF7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BE048-8587-4238-B777-157760E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807-1A89-4EB7-9350-D6EFA236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04D64-6C5B-4382-B965-AD314DB3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5F3E-E5D5-4E7C-B838-5BFA936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F1B51-FD7A-4CB8-87B1-C8740396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E11EB-6A66-4C24-8AC3-9626C211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EE155-97A2-4229-AB3A-0A724AF8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9ED9-8886-4352-A02A-E9954051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AC05A-622A-494D-9D36-3716AD5D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C0974-48D8-46FE-BEC6-4710ADDB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2B8BB-21BA-4B0F-9779-EBB8892B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126B4-CD5F-48D8-A8DF-616962B0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984-75A4-477C-8156-0AC51B09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D3042-163D-4C2B-8D3B-FE15BA0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A1446-405D-403A-93F8-8D069822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8B0C5-79AB-46F0-B7DB-6872669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6EEC2-EA5E-4E7B-8FCA-9AB054D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6567A-03AC-4B73-935B-D853804F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476B0-3D0E-48C9-9919-DE86A27D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D99AC-FD08-4969-9D53-1F9FF001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FBA52-8FA5-4F0B-AD45-F12981A8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754EE-1BFA-4CD5-92AE-7C2C55B8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70A44-79C9-4796-890B-593106C8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368E-EA1B-49E2-9CAD-2E7EF6C204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3132-13DF-4670-B5FE-D4AF05CFC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4D91-EFDF-457C-AA03-A24163E8A0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59B8-01F3-49D8-B01B-CE794221E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091A-8F53-4E54-8190-1C4BFE8AD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523E-496D-4EBC-BE24-06541DADE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FCD8-02B8-4324-9A32-57E589C48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192E-912B-463E-8E61-AC19DB90A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1A79-53FA-40BE-B34B-066890EF6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31D1-E618-4B9F-96B9-76BFB16DC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71B1-30AF-46AC-9ECC-ED46282788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86DC-98A0-47CD-BCC2-046ACD270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C0ED-A4C3-44BD-9543-3D3D3192D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F525-67B7-4F66-84C7-31FDC80F3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3240" cy="180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6" descr="Shablon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24360" y="115920"/>
            <a:ext cx="7680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56D-0537-4A1E-BEF4-24E812196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1"/>
          <p:cNvSpPr/>
          <p:nvPr/>
        </p:nvSpPr>
        <p:spPr>
          <a:xfrm>
            <a:off x="2905200" y="1128600"/>
            <a:ext cx="83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바탕"/>
              </a:rPr>
              <a:t>О практике применения нормативных правовых актов Минфина России по бюджетному учету и отчетности в финансовых органах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75D0-5113-42EF-942E-9BAAF0B6A23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Заголовок 1"/>
          <p:cNvSpPr/>
          <p:nvPr/>
        </p:nvSpPr>
        <p:spPr>
          <a:xfrm>
            <a:off x="7656480" y="5372280"/>
            <a:ext cx="32781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mbria"/>
                <a:ea typeface="Arial"/>
              </a:rPr>
              <a:t>Кривенец Анна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mbria"/>
                <a:ea typeface="Arial"/>
              </a:rPr>
              <a:t>21.09.20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BD08-0063-47CA-BBCE-41A73EFA7E9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1965240" y="876240"/>
          <a:ext cx="9083880" cy="5786640"/>
        </p:xfrm>
        <a:graphic>
          <a:graphicData uri="http://schemas.openxmlformats.org/drawingml/2006/table">
            <a:tbl>
              <a:tblPr/>
              <a:tblGrid>
                <a:gridCol w="4430880"/>
                <a:gridCol w="2327040"/>
                <a:gridCol w="2325960"/>
              </a:tblGrid>
              <a:tr h="5493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субъекта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01.01.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01.01.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27 004 971 65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15 430 738 015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Моск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1 940 689 89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96 523 710 098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Санкт-Петербур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 983 824 646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 474 503 234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юме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330 208 872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738 251 672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077 858 312,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242 866 258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яр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814 069 419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 685 496 962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мало-Ненецкий автономны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727 960 962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886 083 243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ар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128 874 331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 359 308 622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246 131 423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195 715 148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хали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599 915 098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392 003 249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нты-Мансийский автономный округ - Юг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319 216 082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763 183 197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жегоро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041 810 731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 308 664 116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Башкорто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790 691 261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295 010 119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Саха (Яку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852 008 713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435 663 280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Татарстан (Татарста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926 678 13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404 408 805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яби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038 990 068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456 537 306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51 527 124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443 887 497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Даге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637 213 897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038 929 011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нингра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764 410 403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166 440 479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ченская Респу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954 651 589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106 680 388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дл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003 844 492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674 369 936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Ингуше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371 640 840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447 831 73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929 317 035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32 646 572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ор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498 714 002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977 318 419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059 653 829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748 428 751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баров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876 548 848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524 395 824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ингра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098 536 167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804 625 661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81040" y="152280"/>
            <a:ext cx="66582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Сведения о вложения в недвижимое имущество (показатели по счету 1 106 10 000 за 2016 год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1" name="Рисунок 12" descr=""/>
          <p:cNvPicPr/>
          <p:nvPr/>
        </p:nvPicPr>
        <p:blipFill>
          <a:blip r:embed="rId1"/>
          <a:stretch/>
        </p:blipFill>
        <p:spPr>
          <a:xfrm>
            <a:off x="1266840" y="4394160"/>
            <a:ext cx="698400" cy="7858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9" descr="zavod"/>
          <p:cNvPicPr/>
          <p:nvPr/>
        </p:nvPicPr>
        <p:blipFill>
          <a:blip r:embed="rId2"/>
          <a:stretch/>
        </p:blipFill>
        <p:spPr>
          <a:xfrm>
            <a:off x="422280" y="4989600"/>
            <a:ext cx="955800" cy="7221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9" descr="http://2.bp.blogspot.com/-lswdIBWSkTo/U8VCPdFnGjI/AAAAAAAAI8U/JxOrtZVeebg/s1600/man_leaning_on_big_red_question_mark.jpg"/>
          <p:cNvPicPr/>
          <p:nvPr/>
        </p:nvPicPr>
        <p:blipFill>
          <a:blip r:embed="rId3"/>
          <a:stretch/>
        </p:blipFill>
        <p:spPr>
          <a:xfrm>
            <a:off x="669960" y="1968480"/>
            <a:ext cx="946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913040" y="360360"/>
            <a:ext cx="1051560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Отражение плановых показателей 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Отчете об исполнении бюджета ф. 0503117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8643960" y="6300720"/>
            <a:ext cx="27432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E5C3-CB1A-4EF5-A7CB-7B94C7807F0B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Прямоугольник 4" descr=""/>
          <p:cNvPicPr/>
          <p:nvPr/>
        </p:nvPicPr>
        <p:blipFill>
          <a:blip r:embed="rId1"/>
          <a:stretch/>
        </p:blipFill>
        <p:spPr>
          <a:xfrm>
            <a:off x="725400" y="1427040"/>
            <a:ext cx="2127240" cy="2230560"/>
          </a:xfrm>
          <a:prstGeom prst="rect">
            <a:avLst/>
          </a:prstGeom>
          <a:ln w="0">
            <a:noFill/>
          </a:ln>
        </p:spPr>
      </p:pic>
      <p:pic>
        <p:nvPicPr>
          <p:cNvPr id="697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2828880" y="1847880"/>
            <a:ext cx="1255680" cy="554040"/>
          </a:xfrm>
          <a:prstGeom prst="rect">
            <a:avLst/>
          </a:prstGeom>
          <a:ln w="0">
            <a:noFill/>
          </a:ln>
        </p:spPr>
      </p:pic>
      <p:pic>
        <p:nvPicPr>
          <p:cNvPr id="698" name="Прямоугольник 7" descr=""/>
          <p:cNvPicPr/>
          <p:nvPr/>
        </p:nvPicPr>
        <p:blipFill>
          <a:blip r:embed="rId3"/>
          <a:stretch/>
        </p:blipFill>
        <p:spPr>
          <a:xfrm>
            <a:off x="3865680" y="1481040"/>
            <a:ext cx="2224080" cy="2243160"/>
          </a:xfrm>
          <a:prstGeom prst="rect">
            <a:avLst/>
          </a:prstGeom>
          <a:ln w="0">
            <a:noFill/>
          </a:ln>
        </p:spPr>
      </p:pic>
      <p:pic>
        <p:nvPicPr>
          <p:cNvPr id="699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6066000" y="1847880"/>
            <a:ext cx="1255680" cy="554040"/>
          </a:xfrm>
          <a:prstGeom prst="rect">
            <a:avLst/>
          </a:prstGeom>
          <a:ln w="0">
            <a:noFill/>
          </a:ln>
        </p:spPr>
      </p:pic>
      <p:pic>
        <p:nvPicPr>
          <p:cNvPr id="700" name="Прямоугольник 9" descr=""/>
          <p:cNvPicPr/>
          <p:nvPr/>
        </p:nvPicPr>
        <p:blipFill>
          <a:blip r:embed="rId5"/>
          <a:stretch/>
        </p:blipFill>
        <p:spPr>
          <a:xfrm>
            <a:off x="7175520" y="1463760"/>
            <a:ext cx="2230560" cy="2243160"/>
          </a:xfrm>
          <a:prstGeom prst="rect">
            <a:avLst/>
          </a:prstGeom>
          <a:ln w="0">
            <a:noFill/>
          </a:ln>
        </p:spPr>
      </p:pic>
      <p:grpSp>
        <p:nvGrpSpPr>
          <p:cNvPr id="701" name="Прямоугольник 12"/>
          <p:cNvGrpSpPr/>
          <p:nvPr/>
        </p:nvGrpSpPr>
        <p:grpSpPr>
          <a:xfrm>
            <a:off x="347760" y="2786040"/>
            <a:ext cx="6796080" cy="1627200"/>
            <a:chOff x="347760" y="2786040"/>
            <a:chExt cx="6796080" cy="1627200"/>
          </a:xfrm>
        </p:grpSpPr>
        <p:pic>
          <p:nvPicPr>
            <p:cNvPr id="702" name="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347760" y="2786040"/>
              <a:ext cx="679608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3720" y="2862360"/>
              <a:ext cx="6645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кон города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Утвердить основные характеристики бюджета города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 2017 год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) общий объем доходов бюджета города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сумме 1 758 614 013,0 тыс. рублей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4" name="Прямая со стрелкой 13" descr=""/>
          <p:cNvPicPr/>
          <p:nvPr/>
        </p:nvPicPr>
        <p:blipFill>
          <a:blip r:embed="rId7"/>
          <a:stretch/>
        </p:blipFill>
        <p:spPr>
          <a:xfrm>
            <a:off x="7004160" y="3303720"/>
            <a:ext cx="1304640" cy="377640"/>
          </a:xfrm>
          <a:prstGeom prst="rect">
            <a:avLst/>
          </a:prstGeom>
          <a:ln w="0">
            <a:noFill/>
          </a:ln>
        </p:spPr>
      </p:pic>
      <p:grpSp>
        <p:nvGrpSpPr>
          <p:cNvPr id="705" name="Прямоугольник 14"/>
          <p:cNvGrpSpPr/>
          <p:nvPr/>
        </p:nvGrpSpPr>
        <p:grpSpPr>
          <a:xfrm>
            <a:off x="8217000" y="2786040"/>
            <a:ext cx="3243240" cy="1249560"/>
            <a:chOff x="8217000" y="2786040"/>
            <a:chExt cx="3243240" cy="1249560"/>
          </a:xfrm>
        </p:grpSpPr>
        <p:pic>
          <p:nvPicPr>
            <p:cNvPr id="706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8217000" y="2786040"/>
              <a:ext cx="324324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8292960" y="2862360"/>
              <a:ext cx="309420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Итого в  Отчете  –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 758 614 013,0 тыс. рублей без детализации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8" name="Прямоугольник 17"/>
          <p:cNvGrpSpPr/>
          <p:nvPr/>
        </p:nvGrpSpPr>
        <p:grpSpPr>
          <a:xfrm>
            <a:off x="347760" y="4383000"/>
            <a:ext cx="6796080" cy="1627200"/>
            <a:chOff x="347760" y="4383000"/>
            <a:chExt cx="6796080" cy="1627200"/>
          </a:xfrm>
        </p:grpSpPr>
        <p:pic>
          <p:nvPicPr>
            <p:cNvPr id="709" name="Прямоугольник 17" descr=""/>
            <p:cNvPicPr/>
            <p:nvPr/>
          </p:nvPicPr>
          <p:blipFill>
            <a:blip r:embed="rId9"/>
            <a:stretch/>
          </p:blipFill>
          <p:spPr>
            <a:xfrm>
              <a:off x="347760" y="4383000"/>
              <a:ext cx="679608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23720" y="4459320"/>
              <a:ext cx="6645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. Утвердить основные характеристики бюджета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Территориального фонда обязательного медицинского страхования … (далее - Фонд) на 2017 год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) общий объем доходов бюджета Фонда в сумме 216 386 566,3 тыс. рублей, в том числе за счет МБТ (отд. приложение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1" name="Прямая со стрелкой 18" descr=""/>
          <p:cNvPicPr/>
          <p:nvPr/>
        </p:nvPicPr>
        <p:blipFill>
          <a:blip r:embed="rId10"/>
          <a:stretch/>
        </p:blipFill>
        <p:spPr>
          <a:xfrm>
            <a:off x="7004160" y="5022720"/>
            <a:ext cx="1304640" cy="378000"/>
          </a:xfrm>
          <a:prstGeom prst="rect">
            <a:avLst/>
          </a:prstGeom>
          <a:ln w="0">
            <a:noFill/>
          </a:ln>
        </p:spPr>
      </p:pic>
      <p:grpSp>
        <p:nvGrpSpPr>
          <p:cNvPr id="712" name="Прямоугольник 19"/>
          <p:cNvGrpSpPr/>
          <p:nvPr/>
        </p:nvGrpSpPr>
        <p:grpSpPr>
          <a:xfrm>
            <a:off x="8217000" y="4505400"/>
            <a:ext cx="3243240" cy="1249200"/>
            <a:chOff x="8217000" y="4505400"/>
            <a:chExt cx="3243240" cy="1249200"/>
          </a:xfrm>
        </p:grpSpPr>
        <p:pic>
          <p:nvPicPr>
            <p:cNvPr id="713" name="Прямоугольник 19" descr=""/>
            <p:cNvPicPr/>
            <p:nvPr/>
          </p:nvPicPr>
          <p:blipFill>
            <a:blip r:embed="rId11"/>
            <a:stretch/>
          </p:blipFill>
          <p:spPr>
            <a:xfrm>
              <a:off x="8217000" y="4505400"/>
              <a:ext cx="32432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8292960" y="4579920"/>
              <a:ext cx="309420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Итого в  Отчете  – 216 386 566,3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тыс. рублей с детализацией по МБТ в структуре закона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Выноска-облако 15"/>
          <p:cNvSpPr/>
          <p:nvPr/>
        </p:nvSpPr>
        <p:spPr>
          <a:xfrm>
            <a:off x="9339120" y="1125360"/>
            <a:ext cx="2667240" cy="124488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он актуальный  на отчетную  да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C563-2D56-422A-BD6B-E4003B2D151E}" type="slidenum">
              <a:rPr b="1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rcRect l="1069" t="23223" r="59346" b="7475"/>
          <a:stretch/>
        </p:blipFill>
        <p:spPr>
          <a:xfrm>
            <a:off x="1574640" y="1117440"/>
            <a:ext cx="7561440" cy="5546880"/>
          </a:xfrm>
          <a:prstGeom prst="rect">
            <a:avLst/>
          </a:prstGeom>
          <a:ln w="0">
            <a:noFill/>
          </a:ln>
        </p:spPr>
      </p:pic>
      <p:sp>
        <p:nvSpPr>
          <p:cNvPr id="718" name="Овал 4"/>
          <p:cNvSpPr/>
          <p:nvPr/>
        </p:nvSpPr>
        <p:spPr>
          <a:xfrm>
            <a:off x="4640400" y="4838760"/>
            <a:ext cx="44956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Овал 6"/>
          <p:cNvSpPr/>
          <p:nvPr/>
        </p:nvSpPr>
        <p:spPr>
          <a:xfrm>
            <a:off x="4640400" y="4552920"/>
            <a:ext cx="4495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4670280" y="399960"/>
            <a:ext cx="615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ражение плановых показателей в Отчете не соответствует показателям утвержденного Закона о бюдж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4822920" y="1584360"/>
            <a:ext cx="3787560" cy="108000"/>
          </a:xfrm>
          <a:prstGeom prst="rect">
            <a:avLst/>
          </a:prstGeom>
          <a:solidFill>
            <a:srgbClr val="7f7f7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Выноска 1 3"/>
          <p:cNvSpPr/>
          <p:nvPr/>
        </p:nvSpPr>
        <p:spPr>
          <a:xfrm>
            <a:off x="9682200" y="3479760"/>
            <a:ext cx="1989000" cy="1058760"/>
          </a:xfrm>
          <a:prstGeom prst="borderCallout1">
            <a:avLst>
              <a:gd name="adj1" fmla="val 18750"/>
              <a:gd name="adj2" fmla="val -8333"/>
              <a:gd name="adj3" fmla="val 110101"/>
              <a:gd name="adj4" fmla="val -34500"/>
            </a:avLst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тоговая сумма не соответствует Закону о бюдже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Выноска 1 9"/>
          <p:cNvSpPr/>
          <p:nvPr/>
        </p:nvSpPr>
        <p:spPr>
          <a:xfrm>
            <a:off x="9699480" y="4695840"/>
            <a:ext cx="1990800" cy="1703520"/>
          </a:xfrm>
          <a:prstGeom prst="borderCallout1">
            <a:avLst>
              <a:gd name="adj1" fmla="val 18750"/>
              <a:gd name="adj2" fmla="val -8333"/>
              <a:gd name="adj3" fmla="val 14888"/>
              <a:gd name="adj4" fmla="val -33810"/>
            </a:avLst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Законе о бюджета отсутствуют утвержденные показатели по МБ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DA5D-3A03-41DE-9545-8B6B5681B7A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Заголовок 1"/>
          <p:cNvSpPr/>
          <p:nvPr/>
        </p:nvSpPr>
        <p:spPr>
          <a:xfrm>
            <a:off x="1890720" y="241200"/>
            <a:ext cx="1051560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Arial"/>
              </a:rPr>
              <a:t>Расчет не исполненных назначений в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Arial"/>
              </a:rPr>
              <a:t>Отчете об исполнении бюджета ф. 0531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1" descr=""/>
          <p:cNvPicPr/>
          <p:nvPr/>
        </p:nvPicPr>
        <p:blipFill>
          <a:blip r:embed="rId1"/>
          <a:stretch/>
        </p:blipFill>
        <p:spPr>
          <a:xfrm>
            <a:off x="1017720" y="1739880"/>
            <a:ext cx="9277200" cy="390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7" name="Прямоугольник 6"/>
          <p:cNvSpPr/>
          <p:nvPr/>
        </p:nvSpPr>
        <p:spPr>
          <a:xfrm>
            <a:off x="2776680" y="5816520"/>
            <a:ext cx="669744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. 6 = гр. 4 – гр. 5 (если в гр. 4 есть значе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8" name="Соединительная линия уступом 8"/>
          <p:cNvCxnSpPr>
            <a:stCxn id="727" idx="3"/>
          </p:cNvCxnSpPr>
          <p:nvPr/>
        </p:nvCxnSpPr>
        <p:spPr>
          <a:xfrm flipH="1" flipV="1">
            <a:off x="8983440" y="4046040"/>
            <a:ext cx="491040" cy="2139120"/>
          </a:xfrm>
          <a:prstGeom prst="bentConnector4">
            <a:avLst>
              <a:gd name="adj1" fmla="val -46515"/>
              <a:gd name="adj2" fmla="val 58609"/>
            </a:avLst>
          </a:prstGeom>
          <a:ln w="6480">
            <a:solidFill>
              <a:srgbClr val="000000"/>
            </a:solidFill>
            <a:prstDash val="lgDash"/>
            <a:miter/>
            <a:tailEnd len="med" type="arrow" w="med"/>
          </a:ln>
        </p:spPr>
      </p:cxnSp>
      <p:sp>
        <p:nvSpPr>
          <p:cNvPr id="729" name="Выноска-облако 10"/>
          <p:cNvSpPr/>
          <p:nvPr/>
        </p:nvSpPr>
        <p:spPr>
          <a:xfrm>
            <a:off x="266760" y="1514520"/>
            <a:ext cx="2666880" cy="1244520"/>
          </a:xfrm>
          <a:prstGeom prst="cloudCallout">
            <a:avLst>
              <a:gd name="adj1" fmla="val 93564"/>
              <a:gd name="adj2" fmla="val 450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БК с учетом подви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1"/>
          <p:cNvSpPr/>
          <p:nvPr/>
        </p:nvSpPr>
        <p:spPr>
          <a:xfrm>
            <a:off x="5904000" y="4475160"/>
            <a:ext cx="1074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Прямоугольник 9"/>
          <p:cNvSpPr/>
          <p:nvPr/>
        </p:nvSpPr>
        <p:spPr>
          <a:xfrm>
            <a:off x="8947080" y="4495680"/>
            <a:ext cx="1074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Выноска 1 2"/>
          <p:cNvSpPr/>
          <p:nvPr/>
        </p:nvSpPr>
        <p:spPr>
          <a:xfrm>
            <a:off x="10663200" y="1500120"/>
            <a:ext cx="1116000" cy="190188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Доходы бюджета все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. 6 =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.4 - гр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7E78-80FC-4D5F-840D-B4F308BCDDFB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Заголовок 1"/>
          <p:cNvSpPr/>
          <p:nvPr/>
        </p:nvSpPr>
        <p:spPr>
          <a:xfrm>
            <a:off x="1890720" y="685800"/>
            <a:ext cx="1051560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Arial"/>
              </a:rPr>
              <a:t>Вопросы в отражения плановых назначений в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Arial"/>
              </a:rPr>
              <a:t>Отчете об исполнении консолидированного бюджета ф. 0533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5"/>
          <p:cNvSpPr/>
          <p:nvPr/>
        </p:nvSpPr>
        <p:spPr>
          <a:xfrm>
            <a:off x="1386000" y="2217600"/>
            <a:ext cx="4227480" cy="143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о МБ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Прямоугольник 11"/>
          <p:cNvSpPr/>
          <p:nvPr/>
        </p:nvSpPr>
        <p:spPr>
          <a:xfrm>
            <a:off x="1320840" y="3800520"/>
            <a:ext cx="4292640" cy="184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личная детализация данных по бюджетам субъекта, муниципальных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Прямоугольник 12"/>
          <p:cNvSpPr/>
          <p:nvPr/>
        </p:nvSpPr>
        <p:spPr>
          <a:xfrm>
            <a:off x="6626160" y="2217600"/>
            <a:ext cx="4227480" cy="143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евременно вносить изменения в Зак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Прямоугольник 13"/>
          <p:cNvSpPr/>
          <p:nvPr/>
        </p:nvSpPr>
        <p:spPr>
          <a:xfrm>
            <a:off x="6561000" y="3800520"/>
            <a:ext cx="4292640" cy="227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комендовать всем ФО консолидированного бюджета утверждать плановые показатели в законе в единой структуре – решение Субъекта РФ + возможно рекомендации МФ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9" name="Прямая со стрелкой 7"/>
          <p:cNvCxnSpPr/>
          <p:nvPr/>
        </p:nvCxnSpPr>
        <p:spPr>
          <a:xfrm>
            <a:off x="5613120" y="3104640"/>
            <a:ext cx="1013400" cy="10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0" name="Прямая со стрелкой 16"/>
          <p:cNvCxnSpPr/>
          <p:nvPr/>
        </p:nvCxnSpPr>
        <p:spPr>
          <a:xfrm>
            <a:off x="5547960" y="4516560"/>
            <a:ext cx="1013400" cy="10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1410-6736-4412-B32F-108B02DC21B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WordArt 3"/>
          <p:cNvSpPr txBox="1"/>
          <p:nvPr/>
        </p:nvSpPr>
        <p:spPr>
          <a:xfrm>
            <a:off x="809640" y="1457280"/>
            <a:ext cx="8858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bri"/>
              </a:rPr>
              <a:t>Утверждено (КВР 5хх) = Утверждено (КДБ 202)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743" name="Line 4"/>
          <p:cNvSpPr/>
          <p:nvPr/>
        </p:nvSpPr>
        <p:spPr>
          <a:xfrm flipH="1">
            <a:off x="4951440" y="1224000"/>
            <a:ext cx="287280" cy="7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723960" y="2033640"/>
          <a:ext cx="9937800" cy="4211640"/>
        </p:xfrm>
        <a:graphic>
          <a:graphicData uri="http://schemas.openxmlformats.org/drawingml/2006/table">
            <a:tbl>
              <a:tblPr/>
              <a:tblGrid>
                <a:gridCol w="1944720"/>
                <a:gridCol w="2017800"/>
                <a:gridCol w="2085840"/>
                <a:gridCol w="1512720"/>
                <a:gridCol w="2376720"/>
              </a:tblGrid>
              <a:tr h="79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ые назначе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олидированный бюдже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ы подлежащие исключению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Р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райо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34B4-8DE0-433D-AE6F-01855C468D5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WordArt 3"/>
          <p:cNvSpPr txBox="1"/>
          <p:nvPr/>
        </p:nvSpPr>
        <p:spPr>
          <a:xfrm>
            <a:off x="809640" y="1457280"/>
            <a:ext cx="8858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bri"/>
              </a:rPr>
              <a:t>Исполнено (КВР 5хх) = Исполнено (КДБ 202)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bri"/>
              <a:ea typeface="Calibri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627120" y="2000160"/>
          <a:ext cx="10726560" cy="4211640"/>
        </p:xfrm>
        <a:graphic>
          <a:graphicData uri="http://schemas.openxmlformats.org/drawingml/2006/table">
            <a:tbl>
              <a:tblPr/>
              <a:tblGrid>
                <a:gridCol w="2235240"/>
                <a:gridCol w="2317680"/>
                <a:gridCol w="2397240"/>
                <a:gridCol w="1935000"/>
                <a:gridCol w="1841400"/>
              </a:tblGrid>
              <a:tr h="79236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олидированный бюдже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ы подлежащие исключению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Р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 райо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1B45-940D-4C99-BC7E-211EBF8DB1C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Рисунок 5" descr=""/>
          <p:cNvPicPr/>
          <p:nvPr/>
        </p:nvPicPr>
        <p:blipFill>
          <a:blip r:embed="rId1"/>
          <a:stretch/>
        </p:blipFill>
        <p:spPr>
          <a:xfrm>
            <a:off x="217440" y="766800"/>
            <a:ext cx="11744280" cy="4768920"/>
          </a:xfrm>
          <a:prstGeom prst="rect">
            <a:avLst/>
          </a:prstGeom>
          <a:ln w="0">
            <a:noFill/>
          </a:ln>
        </p:spPr>
      </p:pic>
      <p:sp>
        <p:nvSpPr>
          <p:cNvPr id="750" name="TextBox 6"/>
          <p:cNvSpPr/>
          <p:nvPr/>
        </p:nvSpPr>
        <p:spPr>
          <a:xfrm>
            <a:off x="4262400" y="241200"/>
            <a:ext cx="68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Форма 0503127 ПБС федерального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Скругленный прямоугольник 7"/>
          <p:cNvSpPr/>
          <p:nvPr/>
        </p:nvSpPr>
        <p:spPr>
          <a:xfrm>
            <a:off x="4356000" y="2824200"/>
            <a:ext cx="1117800" cy="256860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2568600"/>
              <a:gd name="textAreaBottom" fmla="*/ 2514240 h 2568600"/>
            </a:gdLst>
            <a:ahLst/>
            <a:rect l="textAreaLeft" t="textAreaTop" r="textAreaRight" b="textAreaBottom"/>
            <a:pathLst>
              <a:path w="21600" h="49626">
                <a:moveTo>
                  <a:pt x="3600" y="0"/>
                </a:moveTo>
                <a:arcTo wR="3600" hR="3600" stAng="16200000" swAng="-5400000"/>
                <a:lnTo>
                  <a:pt x="0" y="46026"/>
                </a:lnTo>
                <a:arcTo wR="3600" hR="3600" stAng="10800000" swAng="-5400000"/>
                <a:lnTo>
                  <a:pt x="18000" y="49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356B-9E63-4623-A0C9-10CD0AD6F91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Скругленный прямоугольник 7"/>
          <p:cNvSpPr/>
          <p:nvPr/>
        </p:nvSpPr>
        <p:spPr>
          <a:xfrm>
            <a:off x="5230800" y="2944800"/>
            <a:ext cx="1708200" cy="2568600"/>
          </a:xfrm>
          <a:custGeom>
            <a:avLst/>
            <a:gdLst>
              <a:gd name="textAreaLeft" fmla="*/ 83160 w 1708200"/>
              <a:gd name="textAreaRight" fmla="*/ 1625040 w 1708200"/>
              <a:gd name="textAreaTop" fmla="*/ 83160 h 2568600"/>
              <a:gd name="textAreaBottom" fmla="*/ 2485440 h 2568600"/>
            </a:gdLst>
            <a:ahLst/>
            <a:rect l="textAreaLeft" t="textAreaTop" r="textAreaRight" b="textAreaBottom"/>
            <a:pathLst>
              <a:path w="21600" h="32477">
                <a:moveTo>
                  <a:pt x="3600" y="0"/>
                </a:moveTo>
                <a:arcTo wR="3600" hR="3600" stAng="16200000" swAng="-5400000"/>
                <a:lnTo>
                  <a:pt x="0" y="28877"/>
                </a:lnTo>
                <a:arcTo wR="3600" hR="3600" stAng="10800000" swAng="-5400000"/>
                <a:lnTo>
                  <a:pt x="18000" y="32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8"/>
          <p:cNvSpPr/>
          <p:nvPr/>
        </p:nvSpPr>
        <p:spPr>
          <a:xfrm>
            <a:off x="4262400" y="295200"/>
            <a:ext cx="68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Форма 0503127 ГРБС как ПБС федерального бюдж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Рисунок 10" descr=""/>
          <p:cNvPicPr/>
          <p:nvPr/>
        </p:nvPicPr>
        <p:blipFill>
          <a:blip r:embed="rId1"/>
          <a:stretch/>
        </p:blipFill>
        <p:spPr>
          <a:xfrm>
            <a:off x="135000" y="1541520"/>
            <a:ext cx="117252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A033-F6E3-4C22-99C4-2CD80661698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Рисунок 9" descr=""/>
          <p:cNvPicPr/>
          <p:nvPr/>
        </p:nvPicPr>
        <p:blipFill>
          <a:blip r:embed="rId1"/>
          <a:stretch/>
        </p:blipFill>
        <p:spPr>
          <a:xfrm>
            <a:off x="177840" y="1486080"/>
            <a:ext cx="11748960" cy="4533840"/>
          </a:xfrm>
          <a:prstGeom prst="rect">
            <a:avLst/>
          </a:prstGeom>
          <a:ln w="0">
            <a:noFill/>
          </a:ln>
        </p:spPr>
      </p:pic>
      <p:sp>
        <p:nvSpPr>
          <p:cNvPr id="758" name="TextBox 10"/>
          <p:cNvSpPr/>
          <p:nvPr/>
        </p:nvSpPr>
        <p:spPr>
          <a:xfrm>
            <a:off x="4262400" y="295200"/>
            <a:ext cx="68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Форма 0503127 ГРБС федерального бюдж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E964-A18D-4741-9DAC-CADBBBBE661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Заголовок 1"/>
          <p:cNvSpPr/>
          <p:nvPr/>
        </p:nvSpPr>
        <p:spPr>
          <a:xfrm>
            <a:off x="1890720" y="114480"/>
            <a:ext cx="1051560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Arial"/>
              </a:rPr>
              <a:t>Штрафы или возврат остатков МБ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Схема 5" descr=""/>
          <p:cNvPicPr/>
          <p:nvPr/>
        </p:nvPicPr>
        <p:blipFill>
          <a:blip r:embed="rId1"/>
          <a:stretch/>
        </p:blipFill>
        <p:spPr>
          <a:xfrm>
            <a:off x="281160" y="743040"/>
            <a:ext cx="11771280" cy="460368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6"/>
          <p:cNvSpPr/>
          <p:nvPr/>
        </p:nvSpPr>
        <p:spPr>
          <a:xfrm>
            <a:off x="42840" y="1434960"/>
            <a:ext cx="27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части возвратов остатков, взысканных в федеральный бюджет в соответствии с решениями Минфина Росси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4" name="Группа 17"/>
          <p:cNvGrpSpPr/>
          <p:nvPr/>
        </p:nvGrpSpPr>
        <p:grpSpPr>
          <a:xfrm>
            <a:off x="1180800" y="5162040"/>
            <a:ext cx="2090880" cy="263880"/>
            <a:chOff x="1180800" y="5162040"/>
            <a:chExt cx="2090880" cy="263880"/>
          </a:xfrm>
        </p:grpSpPr>
        <p:sp>
          <p:nvSpPr>
            <p:cNvPr id="615" name="Прямая соединительная линия 12"/>
            <p:cNvSpPr/>
            <p:nvPr/>
          </p:nvSpPr>
          <p:spPr>
            <a:xfrm>
              <a:off x="3262320" y="5162400"/>
              <a:ext cx="9360" cy="26352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Прямая соединительная линия 14"/>
            <p:cNvSpPr/>
            <p:nvPr/>
          </p:nvSpPr>
          <p:spPr>
            <a:xfrm flipH="1">
              <a:off x="1180800" y="5425920"/>
              <a:ext cx="2081160" cy="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7" name="Прямая со стрелкой 16"/>
            <p:cNvCxnSpPr/>
            <p:nvPr/>
          </p:nvCxnSpPr>
          <p:spPr>
            <a:xfrm flipV="1">
              <a:off x="1180800" y="5162040"/>
              <a:ext cx="1080" cy="26424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sp>
        <p:nvSpPr>
          <p:cNvPr id="618" name="TextBox 18"/>
          <p:cNvSpPr/>
          <p:nvPr/>
        </p:nvSpPr>
        <p:spPr>
          <a:xfrm>
            <a:off x="42840" y="5540400"/>
            <a:ext cx="46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точнение на КБК 116…140 – ГРБС Ф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точнение с (-) 219…151 на расходы 853 КВ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063880" y="62064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Начисление учреждени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 доходов  по субсидии на выполн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государственного (муниципального) зад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1 вариант:  через доходы будущих периодов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774800" y="1628640"/>
          <a:ext cx="8642520" cy="3703680"/>
        </p:xfrm>
        <a:graphic>
          <a:graphicData uri="http://schemas.openxmlformats.org/drawingml/2006/table">
            <a:tbl>
              <a:tblPr/>
              <a:tblGrid>
                <a:gridCol w="287280"/>
                <a:gridCol w="2521080"/>
                <a:gridCol w="2160720"/>
                <a:gridCol w="2089080"/>
                <a:gridCol w="158436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операц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исление доходов будущих периодов в сумме субсидий на выполнение государственного (муниципального) зад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 00 0000000000 1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05 30 000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0 00 0000000000 1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05 31 560)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 00 0000000000 1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01 40 1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0 00 0000000000 1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01 40 1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люченное в текущем году соглашение на очередной финансов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знание доходами текущего (отчетного) периода доходов будущих периодов субсидий на выполнение государственного (муниципального) зад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 00 0000000000 1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01 40 1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 00 0000000000 1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01 10 1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упление в текущем году даты получения субсидии, установленной соглашение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61" name="Прямая со стрелкой 2"/>
          <p:cNvCxnSpPr/>
          <p:nvPr/>
        </p:nvCxnSpPr>
        <p:spPr>
          <a:xfrm>
            <a:off x="1793880" y="5957640"/>
            <a:ext cx="8425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5-конечная звезда 3"/>
          <p:cNvSpPr/>
          <p:nvPr/>
        </p:nvSpPr>
        <p:spPr>
          <a:xfrm>
            <a:off x="3216240" y="5805360"/>
            <a:ext cx="432000" cy="3603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5-конечная звезда 7"/>
          <p:cNvSpPr/>
          <p:nvPr/>
        </p:nvSpPr>
        <p:spPr>
          <a:xfrm>
            <a:off x="7608960" y="5803920"/>
            <a:ext cx="431640" cy="3589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Прямая соединительная линия 8"/>
          <p:cNvSpPr/>
          <p:nvPr/>
        </p:nvSpPr>
        <p:spPr>
          <a:xfrm>
            <a:off x="5735520" y="5805360"/>
            <a:ext cx="0" cy="357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Прямоугольник 9"/>
          <p:cNvSpPr/>
          <p:nvPr/>
        </p:nvSpPr>
        <p:spPr>
          <a:xfrm>
            <a:off x="4800600" y="6165720"/>
            <a:ext cx="1943280" cy="35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1.01.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Прямоугольник 1"/>
          <p:cNvSpPr/>
          <p:nvPr/>
        </p:nvSpPr>
        <p:spPr>
          <a:xfrm>
            <a:off x="9178920" y="412920"/>
            <a:ext cx="207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сьмо МФ Р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1 апреля 2016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2-06-07/194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63520" y="596880"/>
            <a:ext cx="7753320" cy="82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Начисление учредителе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расходов  по предоставлению субсид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на выполнение  государственного (муниципального) задани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1 способ: в виде расходов текущего год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1992240" y="1913040"/>
          <a:ext cx="7747200" cy="2468520"/>
        </p:xfrm>
        <a:graphic>
          <a:graphicData uri="http://schemas.openxmlformats.org/drawingml/2006/table">
            <a:tbl>
              <a:tblPr/>
              <a:tblGrid>
                <a:gridCol w="2173320"/>
                <a:gridCol w="1895400"/>
                <a:gridCol w="1838520"/>
                <a:gridCol w="1839960"/>
              </a:tblGrid>
              <a:tr h="54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операц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исление расходов по предоставлению субсидий на выполнение государственного (муниципального) зад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х хх  хххххххххх  6х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20 2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х хх  хххххххххх  6х1 1 302 41 7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упление даты перечисления субсидии в соответствии с заключенным  соглашение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9" name="Прямоугольник 1"/>
          <p:cNvSpPr/>
          <p:nvPr/>
        </p:nvSpPr>
        <p:spPr>
          <a:xfrm>
            <a:off x="2279520" y="5445000"/>
            <a:ext cx="633744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0" name="Прямая со стрелкой 10"/>
          <p:cNvCxnSpPr/>
          <p:nvPr/>
        </p:nvCxnSpPr>
        <p:spPr>
          <a:xfrm>
            <a:off x="1793880" y="5382720"/>
            <a:ext cx="8425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1" name="5-конечная звезда 13"/>
          <p:cNvSpPr/>
          <p:nvPr/>
        </p:nvSpPr>
        <p:spPr>
          <a:xfrm>
            <a:off x="7608960" y="5229360"/>
            <a:ext cx="431640" cy="360360"/>
          </a:xfrm>
          <a:custGeom>
            <a:avLst/>
            <a:gdLst/>
            <a:ahLst/>
            <a:rect l="l" t="t" r="r" b="b"/>
            <a:pathLst>
              <a:path w="431800" h="360363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6"/>
                </a:lnTo>
                <a:lnTo>
                  <a:pt x="349333" y="360362"/>
                </a:lnTo>
                <a:lnTo>
                  <a:pt x="215900" y="275291"/>
                </a:lnTo>
                <a:lnTo>
                  <a:pt x="82467" y="360362"/>
                </a:lnTo>
                <a:lnTo>
                  <a:pt x="133435" y="222716"/>
                </a:lnTo>
                <a:lnTo>
                  <a:pt x="0" y="13764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Прямая соединительная линия 14"/>
          <p:cNvSpPr/>
          <p:nvPr/>
        </p:nvSpPr>
        <p:spPr>
          <a:xfrm>
            <a:off x="5735520" y="5230800"/>
            <a:ext cx="0" cy="358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Прямоугольник 15"/>
          <p:cNvSpPr/>
          <p:nvPr/>
        </p:nvSpPr>
        <p:spPr>
          <a:xfrm>
            <a:off x="4800600" y="5591160"/>
            <a:ext cx="194328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1.01.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Прямоугольник 2"/>
          <p:cNvSpPr/>
          <p:nvPr/>
        </p:nvSpPr>
        <p:spPr>
          <a:xfrm>
            <a:off x="9954720" y="28440"/>
            <a:ext cx="202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исьмо МФ РФ о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05.04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02-06-07/111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Прямоугольник 3"/>
          <p:cNvSpPr/>
          <p:nvPr/>
        </p:nvSpPr>
        <p:spPr>
          <a:xfrm>
            <a:off x="10032840" y="934920"/>
            <a:ext cx="2132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изнание обязательств с их отнесением на финансовый результат текущего финансового года осуществляется в бюджетном учете Учредителя по методу начисления</a:t>
            </a:r>
            <a:r>
              <a:rPr b="0" lang="ru-RU" sz="1600" spc="-1" strike="noStrike">
                <a:solidFill>
                  <a:srgbClr val="2f2f2f"/>
                </a:solidFill>
                <a:latin typeface="Roboto"/>
                <a:ea typeface="Arial"/>
              </a:rPr>
              <a:t> по наступлении даты предоставления субсидии в соответствии с условиями соглашения вне зависимости от факта перечисления субсиди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10" descr=""/>
          <p:cNvPicPr/>
          <p:nvPr/>
        </p:nvPicPr>
        <p:blipFill>
          <a:blip r:embed="rId1"/>
          <a:srcRect l="3189" t="0" r="7095" b="0"/>
          <a:stretch/>
        </p:blipFill>
        <p:spPr>
          <a:xfrm>
            <a:off x="9360" y="955800"/>
            <a:ext cx="12182760" cy="5092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77" name="Номер слайда 3"/>
          <p:cNvSpPr/>
          <p:nvPr/>
        </p:nvSpPr>
        <p:spPr>
          <a:xfrm>
            <a:off x="8610480" y="57848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11F6-9B6C-43D2-946F-19FBFCB21E3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Прямоугольник 1"/>
          <p:cNvSpPr/>
          <p:nvPr/>
        </p:nvSpPr>
        <p:spPr>
          <a:xfrm>
            <a:off x="3670200" y="255600"/>
            <a:ext cx="67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ведения по дебиторской и кредиторской задолженности ф. 0503169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Скругленный прямоугольник 10"/>
          <p:cNvSpPr/>
          <p:nvPr/>
        </p:nvSpPr>
        <p:spPr>
          <a:xfrm>
            <a:off x="3467160" y="3975120"/>
            <a:ext cx="1743120" cy="6001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та оказания услу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Скругленный прямоугольник 12"/>
          <p:cNvSpPr/>
          <p:nvPr/>
        </p:nvSpPr>
        <p:spPr>
          <a:xfrm>
            <a:off x="5210280" y="3975120"/>
            <a:ext cx="1992240" cy="6001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рок оплаты в соответствии с условиями догов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Скругленный прямоугольник 13"/>
          <p:cNvSpPr/>
          <p:nvPr/>
        </p:nvSpPr>
        <p:spPr>
          <a:xfrm>
            <a:off x="130320" y="3986280"/>
            <a:ext cx="1800000" cy="6001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0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дебиторская задолж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Скругленный прямоугольник 14"/>
          <p:cNvSpPr/>
          <p:nvPr/>
        </p:nvSpPr>
        <p:spPr>
          <a:xfrm>
            <a:off x="130320" y="4481640"/>
            <a:ext cx="1800000" cy="6001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0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дебиторская задолж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Скругленный прямоугольник 15"/>
          <p:cNvSpPr/>
          <p:nvPr/>
        </p:nvSpPr>
        <p:spPr>
          <a:xfrm>
            <a:off x="3460680" y="4575240"/>
            <a:ext cx="1755720" cy="5065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та перечисления аван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Скругленный прямоугольник 17"/>
          <p:cNvSpPr/>
          <p:nvPr/>
        </p:nvSpPr>
        <p:spPr>
          <a:xfrm>
            <a:off x="5235480" y="4572000"/>
            <a:ext cx="1992240" cy="5349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та исполнения  по контра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Скругленный прямоугольник 18"/>
          <p:cNvSpPr/>
          <p:nvPr/>
        </p:nvSpPr>
        <p:spPr>
          <a:xfrm>
            <a:off x="130320" y="5027760"/>
            <a:ext cx="1800000" cy="6760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0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кредитор. задолж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Скругленный прямоугольник 19"/>
          <p:cNvSpPr/>
          <p:nvPr/>
        </p:nvSpPr>
        <p:spPr>
          <a:xfrm>
            <a:off x="3460680" y="5081760"/>
            <a:ext cx="1774800" cy="7426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та подписания акта принятых рабо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Скругленный прямоугольник 20"/>
          <p:cNvSpPr/>
          <p:nvPr/>
        </p:nvSpPr>
        <p:spPr>
          <a:xfrm>
            <a:off x="5229360" y="5121360"/>
            <a:ext cx="2468520" cy="7030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условий гос. контра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ечении 30 со дня подписания акт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Скругленный прямоугольник 21"/>
          <p:cNvSpPr/>
          <p:nvPr/>
        </p:nvSpPr>
        <p:spPr>
          <a:xfrm>
            <a:off x="142920" y="5713560"/>
            <a:ext cx="1800360" cy="7761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0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кредиторская задолж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Скругленный прямоугольник 22"/>
          <p:cNvSpPr/>
          <p:nvPr/>
        </p:nvSpPr>
        <p:spPr>
          <a:xfrm>
            <a:off x="3724200" y="5826240"/>
            <a:ext cx="3248280" cy="6379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может бы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Прямоугольник 2"/>
          <p:cNvSpPr/>
          <p:nvPr/>
        </p:nvSpPr>
        <p:spPr>
          <a:xfrm>
            <a:off x="7581960" y="955800"/>
            <a:ext cx="4559400" cy="961920"/>
          </a:xfrm>
          <a:prstGeom prst="rect">
            <a:avLst/>
          </a:prstGeom>
          <a:solidFill>
            <a:srgbClr val="deebf7"/>
          </a:solidFill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и на графы 3 и 4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та в Гр. 3 меньше или равна Дате в Гр.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та в Гр. 4 меньше или равна Отчетной да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536400" y="1268280"/>
            <a:ext cx="2810160" cy="169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4"/>
          <p:cNvSpPr/>
          <p:nvPr/>
        </p:nvSpPr>
        <p:spPr>
          <a:xfrm>
            <a:off x="3738600" y="278748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003B-A996-49E3-A4ED-E084DD06725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858960" y="1429920"/>
            <a:ext cx="10515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Включение в отчетность данных избирательных комиссий субъектов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C84C-8B64-49B9-9B04-CA1C7B99CD4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Рисунок 1" descr=""/>
          <p:cNvPicPr/>
          <p:nvPr/>
        </p:nvPicPr>
        <p:blipFill>
          <a:blip r:embed="rId1"/>
          <a:srcRect l="0" t="10955" r="0" b="5177"/>
          <a:stretch/>
        </p:blipFill>
        <p:spPr>
          <a:xfrm>
            <a:off x="-9360" y="712800"/>
            <a:ext cx="12201480" cy="5753160"/>
          </a:xfrm>
          <a:prstGeom prst="rect">
            <a:avLst/>
          </a:prstGeom>
          <a:ln w="0">
            <a:noFill/>
          </a:ln>
        </p:spPr>
      </p:pic>
      <p:sp>
        <p:nvSpPr>
          <p:cNvPr id="622" name="Заголовок 1"/>
          <p:cNvSpPr/>
          <p:nvPr/>
        </p:nvSpPr>
        <p:spPr>
          <a:xfrm>
            <a:off x="1890720" y="114480"/>
            <a:ext cx="1051560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Arial"/>
              </a:rPr>
              <a:t>Территориальные избирательные коми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Овал 3"/>
          <p:cNvSpPr/>
          <p:nvPr/>
        </p:nvSpPr>
        <p:spPr>
          <a:xfrm>
            <a:off x="6642000" y="4370400"/>
            <a:ext cx="1197000" cy="847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Овал 7"/>
          <p:cNvSpPr/>
          <p:nvPr/>
        </p:nvSpPr>
        <p:spPr>
          <a:xfrm>
            <a:off x="644400" y="1981080"/>
            <a:ext cx="2106720" cy="847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Овал 8"/>
          <p:cNvSpPr/>
          <p:nvPr/>
        </p:nvSpPr>
        <p:spPr>
          <a:xfrm>
            <a:off x="3164040" y="5857920"/>
            <a:ext cx="5446440" cy="847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38360" y="2814120"/>
            <a:ext cx="10515600" cy="254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Минэнерго России (022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Федеральная служба по надзору в сфере природопользования (048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Рослесхоз (053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Росрыболовство (076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Роспортебнадзор (141);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 Light"/>
              </a:rPr>
              <a:t>ФНС (182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МВД (188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1960" y="5376960"/>
            <a:ext cx="1051560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нные федеральные органы отчетность в финансовые органы субъектов РФ по доходам с элементом «01» не сдаю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06D8-AEDA-4353-B9D8-FDA591DD837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3094200" y="458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Доходы федерального бюджета (код элемента = 01), которы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распределяю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в бюджеты субъектов РФ (местные бюдже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3863880" y="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1862280" y="64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Отражение в отчетности администрируемых дох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Прямоугольник 16"/>
          <p:cNvSpPr/>
          <p:nvPr/>
        </p:nvSpPr>
        <p:spPr>
          <a:xfrm>
            <a:off x="1703520" y="1017720"/>
            <a:ext cx="8496000" cy="9363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е Федеральной налоговой службы администрирует доходы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КБК 182 1 01 02001 01 0000 110 «Налог на доходы физических лиц …» (элем. 01 «Федеральный бюджет»), распределяемые в бюджет субъекта Р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Прямоугольник 20"/>
          <p:cNvSpPr/>
          <p:nvPr/>
        </p:nvSpPr>
        <p:spPr>
          <a:xfrm>
            <a:off x="1114560" y="4894200"/>
            <a:ext cx="4620960" cy="8733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ражение в учете и отчетности  доходов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финансовым органом  субъекта РФ, в т.ч. как АД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Прямоугольник 5"/>
          <p:cNvSpPr/>
          <p:nvPr/>
        </p:nvSpPr>
        <p:spPr>
          <a:xfrm>
            <a:off x="2116080" y="2170080"/>
            <a:ext cx="3600360" cy="5763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числение дох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Прямоугольник 14"/>
          <p:cNvSpPr/>
          <p:nvPr/>
        </p:nvSpPr>
        <p:spPr>
          <a:xfrm>
            <a:off x="2116080" y="2967120"/>
            <a:ext cx="3586320" cy="72072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числение доходов на счет 401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Прямоугольник 15"/>
          <p:cNvSpPr/>
          <p:nvPr/>
        </p:nvSpPr>
        <p:spPr>
          <a:xfrm>
            <a:off x="2116080" y="3868560"/>
            <a:ext cx="3579840" cy="71928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пределение в доход бюджета субъек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Прямоугольник 27"/>
          <p:cNvSpPr/>
          <p:nvPr/>
        </p:nvSpPr>
        <p:spPr>
          <a:xfrm>
            <a:off x="6335640" y="2170080"/>
            <a:ext cx="3863880" cy="5763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т 1 205 11 560   Кт 1 401 10 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Прямоугольник 28"/>
          <p:cNvSpPr/>
          <p:nvPr/>
        </p:nvSpPr>
        <p:spPr>
          <a:xfrm>
            <a:off x="6335640" y="2967120"/>
            <a:ext cx="3863880" cy="72072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т 1 210 02 110    Кт 1 205 11 6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(Дт 1 210 04 110    Кт 1 210 02 110)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Прямоугольник 29"/>
          <p:cNvSpPr/>
          <p:nvPr/>
        </p:nvSpPr>
        <p:spPr>
          <a:xfrm>
            <a:off x="6335640" y="3868560"/>
            <a:ext cx="3863880" cy="71928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т 1 401 10 110    Кт 1 210 02 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(Дт 1 401 10 110    Кт 1 210 04 110 )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0" name="Прямая со стрелкой 26"/>
          <p:cNvCxnSpPr>
            <a:stCxn id="634" idx="3"/>
            <a:endCxn id="637" idx="1"/>
          </p:cNvCxnSpPr>
          <p:nvPr/>
        </p:nvCxnSpPr>
        <p:spPr>
          <a:xfrm>
            <a:off x="5716440" y="2457000"/>
            <a:ext cx="619920" cy="1080"/>
          </a:xfrm>
          <a:prstGeom prst="straightConnector1">
            <a:avLst/>
          </a:prstGeom>
          <a:ln w="12600">
            <a:solidFill>
              <a:srgbClr val="758085"/>
            </a:solidFill>
            <a:miter/>
            <a:tailEnd len="med" type="arrow" w="med"/>
          </a:ln>
        </p:spPr>
      </p:cxnSp>
      <p:cxnSp>
        <p:nvCxnSpPr>
          <p:cNvPr id="641" name="Прямая со стрелкой 31"/>
          <p:cNvCxnSpPr>
            <a:stCxn id="635" idx="3"/>
            <a:endCxn id="638" idx="1"/>
          </p:cNvCxnSpPr>
          <p:nvPr/>
        </p:nvCxnSpPr>
        <p:spPr>
          <a:xfrm>
            <a:off x="5702040" y="3327120"/>
            <a:ext cx="633960" cy="1080"/>
          </a:xfrm>
          <a:prstGeom prst="straightConnector1">
            <a:avLst/>
          </a:prstGeom>
          <a:ln w="12600">
            <a:solidFill>
              <a:srgbClr val="758085"/>
            </a:solidFill>
            <a:miter/>
            <a:tailEnd len="med" type="arrow" w="med"/>
          </a:ln>
        </p:spPr>
      </p:cxnSp>
      <p:cxnSp>
        <p:nvCxnSpPr>
          <p:cNvPr id="642" name="Прямая со стрелкой 33"/>
          <p:cNvCxnSpPr>
            <a:stCxn id="636" idx="3"/>
            <a:endCxn id="639" idx="1"/>
          </p:cNvCxnSpPr>
          <p:nvPr/>
        </p:nvCxnSpPr>
        <p:spPr>
          <a:xfrm>
            <a:off x="5695560" y="4227120"/>
            <a:ext cx="640440" cy="1080"/>
          </a:xfrm>
          <a:prstGeom prst="straightConnector1">
            <a:avLst/>
          </a:prstGeom>
          <a:ln w="12600">
            <a:solidFill>
              <a:srgbClr val="758085"/>
            </a:solidFill>
            <a:miter/>
            <a:tailEnd len="med" type="arrow" w="med"/>
          </a:ln>
        </p:spPr>
      </p:cxnSp>
      <p:sp>
        <p:nvSpPr>
          <p:cNvPr id="643" name="Прямоугольник 40"/>
          <p:cNvSpPr/>
          <p:nvPr/>
        </p:nvSpPr>
        <p:spPr>
          <a:xfrm>
            <a:off x="125280" y="1122480"/>
            <a:ext cx="120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. 78 Инструкции 162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исьмо МФ РФ от 05.07.2012  № 02-06-07/25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Прямоугольник 43"/>
          <p:cNvSpPr/>
          <p:nvPr/>
        </p:nvSpPr>
        <p:spPr>
          <a:xfrm>
            <a:off x="1523880" y="6005520"/>
            <a:ext cx="932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* бухгалтерские записи при распределении доходов на следующий день после их зачисления на счет 401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Прямоугольник 45"/>
          <p:cNvSpPr/>
          <p:nvPr/>
        </p:nvSpPr>
        <p:spPr>
          <a:xfrm>
            <a:off x="6377040" y="4894200"/>
            <a:ext cx="5815080" cy="6843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т 1 202 11 510  Кт 1 402 10 110 (Отчет ф. 0503124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т 1 210 02 110  Кт 1 401 10 110 (Отчет ф. 05031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6" name="Прямая со стрелкой 46"/>
          <p:cNvCxnSpPr/>
          <p:nvPr/>
        </p:nvCxnSpPr>
        <p:spPr>
          <a:xfrm>
            <a:off x="5726160" y="5343120"/>
            <a:ext cx="660600" cy="10440"/>
          </a:xfrm>
          <a:prstGeom prst="straightConnector1">
            <a:avLst/>
          </a:prstGeom>
          <a:ln w="12600">
            <a:solidFill>
              <a:srgbClr val="758085"/>
            </a:solidFill>
            <a:miter/>
            <a:tailEnd len="med" type="arrow" w="med"/>
          </a:ln>
        </p:spPr>
      </p:cxnSp>
      <p:sp>
        <p:nvSpPr>
          <p:cNvPr id="647" name="Прямая соединительная линия 52"/>
          <p:cNvSpPr/>
          <p:nvPr/>
        </p:nvSpPr>
        <p:spPr>
          <a:xfrm>
            <a:off x="1847880" y="1954080"/>
            <a:ext cx="0" cy="2273400"/>
          </a:xfrm>
          <a:prstGeom prst="line">
            <a:avLst/>
          </a:prstGeom>
          <a:ln w="1260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Прямая соединительная линия 54"/>
          <p:cNvSpPr/>
          <p:nvPr/>
        </p:nvSpPr>
        <p:spPr>
          <a:xfrm>
            <a:off x="1847880" y="2457360"/>
            <a:ext cx="268200" cy="0"/>
          </a:xfrm>
          <a:prstGeom prst="line">
            <a:avLst/>
          </a:prstGeom>
          <a:ln w="1260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Прямая соединительная линия 56"/>
          <p:cNvSpPr/>
          <p:nvPr/>
        </p:nvSpPr>
        <p:spPr>
          <a:xfrm>
            <a:off x="1847880" y="3327480"/>
            <a:ext cx="268200" cy="0"/>
          </a:xfrm>
          <a:prstGeom prst="line">
            <a:avLst/>
          </a:prstGeom>
          <a:ln w="1260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Прямая соединительная линия 58"/>
          <p:cNvSpPr/>
          <p:nvPr/>
        </p:nvSpPr>
        <p:spPr>
          <a:xfrm>
            <a:off x="1847880" y="4227480"/>
            <a:ext cx="268200" cy="0"/>
          </a:xfrm>
          <a:prstGeom prst="line">
            <a:avLst/>
          </a:prstGeom>
          <a:ln w="1260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Прямая соединительная линия 22527"/>
          <p:cNvSpPr/>
          <p:nvPr/>
        </p:nvSpPr>
        <p:spPr>
          <a:xfrm>
            <a:off x="1703520" y="4762440"/>
            <a:ext cx="8642160" cy="0"/>
          </a:xfrm>
          <a:prstGeom prst="line">
            <a:avLst/>
          </a:prstGeom>
          <a:ln w="12600">
            <a:solidFill>
              <a:srgbClr val="75808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Номер слайда 1"/>
          <p:cNvSpPr/>
          <p:nvPr/>
        </p:nvSpPr>
        <p:spPr>
          <a:xfrm>
            <a:off x="8737560" y="610560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45A-F29C-45A0-8612-B47647431D9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Текст 2" descr=""/>
          <p:cNvPicPr/>
          <p:nvPr/>
        </p:nvPicPr>
        <p:blipFill>
          <a:blip r:embed="rId1"/>
          <a:stretch/>
        </p:blipFill>
        <p:spPr>
          <a:xfrm>
            <a:off x="463680" y="1547640"/>
            <a:ext cx="11204280" cy="5249880"/>
          </a:xfrm>
          <a:prstGeom prst="rect">
            <a:avLst/>
          </a:prstGeom>
          <a:ln w="0">
            <a:noFill/>
          </a:ln>
        </p:spPr>
      </p:pic>
      <p:sp>
        <p:nvSpPr>
          <p:cNvPr id="65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8850-2F59-44A9-99F9-5711600C2D7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3056040" y="412920"/>
            <a:ext cx="88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Федеральные гос. органы - а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инистраторы доход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субъектов РФ (муниципальных образований) с кодами элемента с 02 по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10437840" y="3970440"/>
            <a:ext cx="164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Штрафы по КБК 116..1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Скругленный прямоугольник 1"/>
          <p:cNvSpPr/>
          <p:nvPr/>
        </p:nvSpPr>
        <p:spPr>
          <a:xfrm>
            <a:off x="177840" y="2016000"/>
            <a:ext cx="10260000" cy="461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3863880" y="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2208240" y="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Отражение в отчетности администрируемых дох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Прямоугольник 16"/>
          <p:cNvSpPr/>
          <p:nvPr/>
        </p:nvSpPr>
        <p:spPr>
          <a:xfrm>
            <a:off x="85680" y="1268280"/>
            <a:ext cx="8232840" cy="10083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правление Федеральной налоговой службы администрирует доход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КБК 182 1 01 01012 02 0000 110 «Налог на прибыль организаций… зачисляемый в бюджеты субъектов РФ» с элементом 02 «Бюджет субъекта Российской Федераци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Прямоугольник 20"/>
          <p:cNvSpPr/>
          <p:nvPr/>
        </p:nvSpPr>
        <p:spPr>
          <a:xfrm>
            <a:off x="230040" y="5454720"/>
            <a:ext cx="11835000" cy="9795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инансовым органом субъекта РФ отчетности об исполнении бюдже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Прямоугольник 5"/>
          <p:cNvSpPr/>
          <p:nvPr/>
        </p:nvSpPr>
        <p:spPr>
          <a:xfrm>
            <a:off x="498600" y="2421000"/>
            <a:ext cx="3600360" cy="5763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числение дох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Прямоугольник 14"/>
          <p:cNvSpPr/>
          <p:nvPr/>
        </p:nvSpPr>
        <p:spPr>
          <a:xfrm>
            <a:off x="498600" y="2997360"/>
            <a:ext cx="3585960" cy="112212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числение доходов на счет 401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распределение в бюджет субъекта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Прямоугольник 15"/>
          <p:cNvSpPr/>
          <p:nvPr/>
        </p:nvSpPr>
        <p:spPr>
          <a:xfrm>
            <a:off x="498600" y="4119480"/>
            <a:ext cx="7807320" cy="9651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ние отчетности АДБ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Отчеты 0503127,0503123,  0503130, 0503121, 0503164, 0503110, 050316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Прямоугольник 27"/>
          <p:cNvSpPr/>
          <p:nvPr/>
        </p:nvSpPr>
        <p:spPr>
          <a:xfrm>
            <a:off x="4718160" y="2421000"/>
            <a:ext cx="3600360" cy="5763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т 1 205 11 560   Кт 1 401 10 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Прямоугольник 28"/>
          <p:cNvSpPr/>
          <p:nvPr/>
        </p:nvSpPr>
        <p:spPr>
          <a:xfrm>
            <a:off x="4718160" y="3218040"/>
            <a:ext cx="3587760" cy="72072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т 1 210 02 110    Кт 1 205 11 6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Прямоугольник 29"/>
          <p:cNvSpPr/>
          <p:nvPr/>
        </p:nvSpPr>
        <p:spPr>
          <a:xfrm>
            <a:off x="8889840" y="4119480"/>
            <a:ext cx="3175200" cy="965160"/>
          </a:xfrm>
          <a:prstGeom prst="rect">
            <a:avLst/>
          </a:prstGeom>
          <a:solidFill>
            <a:srgbClr val="e3f2c7"/>
          </a:solidFill>
          <a:ln w="2556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тавление отчетности в финансовый орган бюджета субъекта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8" name="Прямая со стрелкой 26"/>
          <p:cNvCxnSpPr>
            <a:stCxn id="662" idx="3"/>
            <a:endCxn id="665" idx="1"/>
          </p:cNvCxnSpPr>
          <p:nvPr/>
        </p:nvCxnSpPr>
        <p:spPr>
          <a:xfrm>
            <a:off x="4098960" y="2707920"/>
            <a:ext cx="619920" cy="1080"/>
          </a:xfrm>
          <a:prstGeom prst="straightConnector1">
            <a:avLst/>
          </a:prstGeom>
          <a:ln w="12600">
            <a:solidFill>
              <a:srgbClr val="758085"/>
            </a:solidFill>
            <a:miter/>
            <a:tailEnd len="med" type="arrow" w="med"/>
          </a:ln>
        </p:spPr>
      </p:cxnSp>
      <p:cxnSp>
        <p:nvCxnSpPr>
          <p:cNvPr id="669" name="Прямая со стрелкой 31"/>
          <p:cNvCxnSpPr>
            <a:stCxn id="663" idx="3"/>
            <a:endCxn id="666" idx="1"/>
          </p:cNvCxnSpPr>
          <p:nvPr/>
        </p:nvCxnSpPr>
        <p:spPr>
          <a:xfrm>
            <a:off x="4084560" y="3558960"/>
            <a:ext cx="634320" cy="19800"/>
          </a:xfrm>
          <a:prstGeom prst="straightConnector1">
            <a:avLst/>
          </a:prstGeom>
          <a:ln w="12600">
            <a:solidFill>
              <a:srgbClr val="758085"/>
            </a:solidFill>
            <a:miter/>
            <a:tailEnd len="med" type="arrow" w="med"/>
          </a:ln>
        </p:spPr>
      </p:cxnSp>
      <p:cxnSp>
        <p:nvCxnSpPr>
          <p:cNvPr id="670" name="Прямая со стрелкой 33"/>
          <p:cNvCxnSpPr>
            <a:stCxn id="664" idx="3"/>
            <a:endCxn id="667" idx="1"/>
          </p:cNvCxnSpPr>
          <p:nvPr/>
        </p:nvCxnSpPr>
        <p:spPr>
          <a:xfrm>
            <a:off x="8305920" y="4601880"/>
            <a:ext cx="584640" cy="1080"/>
          </a:xfrm>
          <a:prstGeom prst="straightConnector1">
            <a:avLst/>
          </a:prstGeom>
          <a:ln w="12600">
            <a:solidFill>
              <a:srgbClr val="758085"/>
            </a:solidFill>
            <a:miter/>
            <a:tailEnd len="med" type="arrow" w="med"/>
          </a:ln>
        </p:spPr>
      </p:cxnSp>
      <p:sp>
        <p:nvSpPr>
          <p:cNvPr id="671" name="Прямоугольник 40"/>
          <p:cNvSpPr/>
          <p:nvPr/>
        </p:nvSpPr>
        <p:spPr>
          <a:xfrm>
            <a:off x="1703520" y="988920"/>
            <a:ext cx="65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. 78 Инструкции 162н, разд.5 Инструкции 191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Прямая соединительная линия 52"/>
          <p:cNvSpPr/>
          <p:nvPr/>
        </p:nvSpPr>
        <p:spPr>
          <a:xfrm>
            <a:off x="230040" y="2276640"/>
            <a:ext cx="0" cy="2325600"/>
          </a:xfrm>
          <a:prstGeom prst="line">
            <a:avLst/>
          </a:prstGeom>
          <a:ln w="1260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Прямая соединительная линия 54"/>
          <p:cNvSpPr/>
          <p:nvPr/>
        </p:nvSpPr>
        <p:spPr>
          <a:xfrm>
            <a:off x="230040" y="2708280"/>
            <a:ext cx="268560" cy="0"/>
          </a:xfrm>
          <a:prstGeom prst="line">
            <a:avLst/>
          </a:prstGeom>
          <a:ln w="1260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Прямая соединительная линия 56"/>
          <p:cNvSpPr/>
          <p:nvPr/>
        </p:nvSpPr>
        <p:spPr>
          <a:xfrm flipV="1">
            <a:off x="230040" y="3558960"/>
            <a:ext cx="268560" cy="19080"/>
          </a:xfrm>
          <a:prstGeom prst="line">
            <a:avLst/>
          </a:prstGeom>
          <a:ln w="1260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Прямая соединительная линия 58"/>
          <p:cNvSpPr/>
          <p:nvPr/>
        </p:nvSpPr>
        <p:spPr>
          <a:xfrm>
            <a:off x="230040" y="4602240"/>
            <a:ext cx="268560" cy="0"/>
          </a:xfrm>
          <a:prstGeom prst="line">
            <a:avLst/>
          </a:prstGeom>
          <a:ln w="1260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BC34-112F-4CF1-BDA1-2E67B961EC8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7" name="Соединительная линия уступом 12"/>
          <p:cNvCxnSpPr/>
          <p:nvPr/>
        </p:nvCxnSpPr>
        <p:spPr>
          <a:xfrm rot="5400000">
            <a:off x="8470800" y="5036040"/>
            <a:ext cx="545400" cy="292680"/>
          </a:xfrm>
          <a:prstGeom prst="bentConnector3">
            <a:avLst>
              <a:gd name="adj1" fmla="val 50000"/>
            </a:avLst>
          </a:prstGeom>
          <a:ln w="9360">
            <a:solidFill>
              <a:srgbClr val="5c72b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181040" y="228600"/>
            <a:ext cx="66582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Отчетность по администрируемым доходам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Сведения ф. 053369 за 2016 год по счету 1 205 11 000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8577360" y="6351480"/>
            <a:ext cx="2776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4EC-BAC1-4786-8978-AA1C153E1AC1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854360" y="3594240"/>
          <a:ext cx="9909000" cy="2649240"/>
        </p:xfrm>
        <a:graphic>
          <a:graphicData uri="http://schemas.openxmlformats.org/drawingml/2006/table">
            <a:tbl>
              <a:tblPr/>
              <a:tblGrid>
                <a:gridCol w="3197160"/>
                <a:gridCol w="1677960"/>
                <a:gridCol w="1677960"/>
                <a:gridCol w="1677960"/>
                <a:gridCol w="1677960"/>
              </a:tblGrid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субъекта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задолженности на начало года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росрочен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задолженности на конец пери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росрочен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Даге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6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000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бардино-Балкарская Республ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15 17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Калмык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8 8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4 6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баров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039,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траха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8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я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9 862,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9 307,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ар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2 488,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66 753,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пец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 85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3 75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ада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6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ьян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7 382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6 063,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ачаево-Черкесская Республ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котский автономный окру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 163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 262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1917720" y="1054080"/>
          <a:ext cx="9855360" cy="2336760"/>
        </p:xfrm>
        <a:graphic>
          <a:graphicData uri="http://schemas.openxmlformats.org/drawingml/2006/table">
            <a:tbl>
              <a:tblPr/>
              <a:tblGrid>
                <a:gridCol w="3179880"/>
                <a:gridCol w="1668240"/>
                <a:gridCol w="1668600"/>
                <a:gridCol w="1670040"/>
                <a:gridCol w="1668600"/>
              </a:tblGrid>
              <a:tr h="382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субъекта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задолженности на начал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росрочен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задолженности на конец пери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росрочен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Даге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504 491,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бардино-Балкарская Республ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 412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Калмык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баров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6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 874,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траха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 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ар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5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ада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8 057,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ьян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 512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6 994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котский автономный окру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2" name="Picture 9" descr="http://2.bp.blogspot.com/-lswdIBWSkTo/U8VCPdFnGjI/AAAAAAAAI8U/JxOrtZVeebg/s1600/man_leaning_on_big_red_question_mark.jpg"/>
          <p:cNvPicPr/>
          <p:nvPr/>
        </p:nvPicPr>
        <p:blipFill>
          <a:blip r:embed="rId1"/>
          <a:stretch/>
        </p:blipFill>
        <p:spPr>
          <a:xfrm>
            <a:off x="669960" y="1968480"/>
            <a:ext cx="946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46200" y="2331720"/>
            <a:ext cx="4975200" cy="13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1603-9A40-45C2-8F4B-4992206F657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3133800" y="585720"/>
            <a:ext cx="88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дминистраторы доходов государственных внебюджетных фондов (элементы бюджета с 06 по 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Рисунок 2" descr=""/>
          <p:cNvPicPr/>
          <p:nvPr/>
        </p:nvPicPr>
        <p:blipFill>
          <a:blip r:embed="rId1"/>
          <a:stretch/>
        </p:blipFill>
        <p:spPr>
          <a:xfrm>
            <a:off x="9937800" y="4564080"/>
            <a:ext cx="1284120" cy="14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"/>
          <p:cNvGraphicFramePr/>
          <p:nvPr/>
        </p:nvGraphicFramePr>
        <p:xfrm>
          <a:off x="2946240" y="1765440"/>
          <a:ext cx="6375600" cy="3835440"/>
        </p:xfrm>
        <a:graphic>
          <a:graphicData uri="http://schemas.openxmlformats.org/drawingml/2006/table">
            <a:tbl>
              <a:tblPr/>
              <a:tblGrid>
                <a:gridCol w="3187800"/>
                <a:gridCol w="318780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Федеральные АДБ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Бюдже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е казначейство (100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ФНС (1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ПФР, ФСС, ФОМ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С (161)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МС, ПФР, ФСС, ТФО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ФОМС  (3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HP</cp:lastModifiedBy>
  <cp:lastPrinted>2016-09-12T05:27:35Z</cp:lastPrinted>
  <dcterms:modified xsi:type="dcterms:W3CDTF">2017-09-21T06:58:41Z</dcterms:modified>
  <cp:revision>833</cp:revision>
  <dc:subject/>
  <dc:title>Презентация PowerPoint</dc:title>
</cp:coreProperties>
</file>