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728-789C-4315-90C4-152301D955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DA31D51-7455-488A-87EF-940FF9B07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A80-59F2-466F-BA9C-1D6578B4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8BC-5990-4454-B66B-5C1F012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027-ACF3-4C18-B6F2-D08F3335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54F-37C1-4A5D-B6FA-04EA3787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626-C6D0-4AAA-8BCA-8D41FCD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851-A044-4A9D-881B-03797E47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EBC-D55B-4675-8B94-6B8F60F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135-EE41-4D28-90F3-267DD34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6DE-B051-460F-B88D-344BDA35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C9C-AD46-4FAC-A106-1CB600D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DF9-0D65-4BFB-914C-A1BEBCF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47C-D566-4C57-8620-581DB4E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C387-5F56-40CD-B6B6-2E4DA38EB9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0CB-3D0F-435C-895D-4168BFACF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459240" y="465120"/>
            <a:ext cx="81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바탕"/>
              </a:rPr>
              <a:t>Особенности формирования отчетности о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943360" y="4822920"/>
            <a:ext cx="45385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436b"/>
                </a:solidFill>
                <a:latin typeface="Cambria"/>
              </a:rPr>
              <a:t>Зайцев Павел Борис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436b"/>
                </a:solidFill>
                <a:latin typeface="Cambria"/>
              </a:rPr>
              <a:t>Началь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436b"/>
                </a:solidFill>
                <a:latin typeface="Cambria"/>
              </a:rPr>
              <a:t>Отдела отчетности об исполнении бюджетов Управления бюджетного учета и отчетности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0575-922E-4395-99A9-2584589B4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16120" y="801720"/>
          <a:ext cx="10047240" cy="2930400"/>
        </p:xfrm>
        <a:graphic>
          <a:graphicData uri="http://schemas.openxmlformats.org/drawingml/2006/table">
            <a:tbl>
              <a:tblPr/>
              <a:tblGrid>
                <a:gridCol w="3568680"/>
                <a:gridCol w="555480"/>
                <a:gridCol w="371520"/>
                <a:gridCol w="338400"/>
                <a:gridCol w="858600"/>
                <a:gridCol w="324000"/>
                <a:gridCol w="1244520"/>
                <a:gridCol w="1393920"/>
                <a:gridCol w="1392120"/>
              </a:tblGrid>
              <a:tr h="1666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ХОДЫ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схода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бюджетной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ные   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олненные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а –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9 006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86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закупки товаров, работ и услуг для обеспечения государственных (муниципальных) нуж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8 247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юридическим лицам (кроме некоммерческих организаций), индивидуальным предпринимателям, физическим лицам - производителям товаров, работ,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9120" y="4102200"/>
          <a:ext cx="10515600" cy="2541600"/>
        </p:xfrm>
        <a:graphic>
          <a:graphicData uri="http://schemas.openxmlformats.org/drawingml/2006/table">
            <a:tbl>
              <a:tblPr/>
              <a:tblGrid>
                <a:gridCol w="1533600"/>
                <a:gridCol w="214200"/>
                <a:gridCol w="206280"/>
                <a:gridCol w="250920"/>
                <a:gridCol w="571680"/>
                <a:gridCol w="312480"/>
                <a:gridCol w="825480"/>
                <a:gridCol w="825480"/>
                <a:gridCol w="825480"/>
                <a:gridCol w="824040"/>
                <a:gridCol w="825480"/>
                <a:gridCol w="825480"/>
                <a:gridCol w="825480"/>
                <a:gridCol w="824040"/>
                <a:gridCol w="825480"/>
              </a:tblGrid>
              <a:tr h="10476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юджетные обязательства текущего (отчетного) финансового года по расходам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29 932,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12 609,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10 097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774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8172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172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93 76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6 445,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4 081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 758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5500800" y="333360"/>
            <a:ext cx="36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Прямая со стрелкой 10"/>
          <p:cNvCxnSpPr/>
          <p:nvPr/>
        </p:nvCxnSpPr>
        <p:spPr>
          <a:xfrm flipH="1">
            <a:off x="3526920" y="2277720"/>
            <a:ext cx="3926880" cy="300276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Прямая со стрелкой 12"/>
          <p:cNvCxnSpPr/>
          <p:nvPr/>
        </p:nvCxnSpPr>
        <p:spPr>
          <a:xfrm flipH="1">
            <a:off x="3537720" y="3085920"/>
            <a:ext cx="3925080" cy="336780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TextBox 9"/>
          <p:cNvSpPr/>
          <p:nvPr/>
        </p:nvSpPr>
        <p:spPr>
          <a:xfrm>
            <a:off x="4351320" y="3732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68A-C39D-4432-B134-DB0C02541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8320" y="689040"/>
          <a:ext cx="10047600" cy="2930400"/>
        </p:xfrm>
        <a:graphic>
          <a:graphicData uri="http://schemas.openxmlformats.org/drawingml/2006/table">
            <a:tbl>
              <a:tblPr/>
              <a:tblGrid>
                <a:gridCol w="3568680"/>
                <a:gridCol w="555840"/>
                <a:gridCol w="371520"/>
                <a:gridCol w="338040"/>
                <a:gridCol w="858960"/>
                <a:gridCol w="323640"/>
                <a:gridCol w="1244880"/>
                <a:gridCol w="1393560"/>
                <a:gridCol w="1392480"/>
              </a:tblGrid>
              <a:tr h="1666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ХОДЫ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схода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бюджетной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ные   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олненные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а –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9 006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86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закупки товаров, работ и услуг для обеспечения государственных (муниципальных) нуж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8 247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юридическим лицам (кроме некоммерческих организаций), индивидуальным предпринимателям, физическим лицам - производителям товаров, работ,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7"/>
          <p:cNvSpPr/>
          <p:nvPr/>
        </p:nvSpPr>
        <p:spPr>
          <a:xfrm>
            <a:off x="5560920" y="17784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8640" y="3878280"/>
          <a:ext cx="10515600" cy="2979720"/>
        </p:xfrm>
        <a:graphic>
          <a:graphicData uri="http://schemas.openxmlformats.org/drawingml/2006/table">
            <a:tbl>
              <a:tblPr/>
              <a:tblGrid>
                <a:gridCol w="1901880"/>
                <a:gridCol w="206640"/>
                <a:gridCol w="196560"/>
                <a:gridCol w="239760"/>
                <a:gridCol w="549360"/>
                <a:gridCol w="299880"/>
                <a:gridCol w="792360"/>
                <a:gridCol w="790560"/>
                <a:gridCol w="790560"/>
                <a:gridCol w="792000"/>
                <a:gridCol w="790560"/>
                <a:gridCol w="792360"/>
                <a:gridCol w="790560"/>
                <a:gridCol w="792000"/>
                <a:gridCol w="790560"/>
              </a:tblGrid>
              <a:tr h="10008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юджетные обязательства текущего (отчетного) финансового года по расходам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29 932,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12 609,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10 097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774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78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8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93 76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6 445,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4 081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 758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1" name="Прямая со стрелкой 10"/>
          <p:cNvCxnSpPr/>
          <p:nvPr/>
        </p:nvCxnSpPr>
        <p:spPr>
          <a:xfrm flipH="1">
            <a:off x="3742920" y="2112840"/>
            <a:ext cx="3796560" cy="293472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Прямая со стрелкой 12"/>
          <p:cNvCxnSpPr/>
          <p:nvPr/>
        </p:nvCxnSpPr>
        <p:spPr>
          <a:xfrm flipH="1">
            <a:off x="3742920" y="2820600"/>
            <a:ext cx="3796560" cy="308052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TextBox 9"/>
          <p:cNvSpPr/>
          <p:nvPr/>
        </p:nvSpPr>
        <p:spPr>
          <a:xfrm>
            <a:off x="4989600" y="355284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812880" y="177480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имость показателей между отчетными фор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7340760" y="2854440"/>
            <a:ext cx="35528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5 Отч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. 0503128-Н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ВР 461, 462, 464, 465, 612, 6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6"/>
          <p:cNvSpPr/>
          <p:nvPr/>
        </p:nvSpPr>
        <p:spPr>
          <a:xfrm>
            <a:off x="812880" y="2854440"/>
            <a:ext cx="35528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4 Отч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. 0503738-Н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овина рамки 2"/>
          <p:cNvSpPr/>
          <p:nvPr/>
        </p:nvSpPr>
        <p:spPr>
          <a:xfrm rot="18990600">
            <a:off x="5122440" y="3281040"/>
            <a:ext cx="531720" cy="534960"/>
          </a:xfrm>
          <a:custGeom>
            <a:avLst/>
            <a:gdLst/>
            <a:ahLst/>
            <a:rect l="l" t="t" r="r" b="b"/>
            <a:pathLst>
              <a:path w="531812" h="534987">
                <a:moveTo>
                  <a:pt x="0" y="0"/>
                </a:moveTo>
                <a:lnTo>
                  <a:pt x="531812" y="0"/>
                </a:lnTo>
                <a:lnTo>
                  <a:pt x="355595" y="177269"/>
                </a:lnTo>
                <a:lnTo>
                  <a:pt x="177269" y="177269"/>
                </a:lnTo>
                <a:lnTo>
                  <a:pt x="177269" y="356660"/>
                </a:lnTo>
                <a:lnTo>
                  <a:pt x="0" y="534987"/>
                </a:lnTo>
                <a:lnTo>
                  <a:pt x="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Равно 3"/>
          <p:cNvSpPr/>
          <p:nvPr/>
        </p:nvSpPr>
        <p:spPr>
          <a:xfrm>
            <a:off x="5388120" y="3267000"/>
            <a:ext cx="846000" cy="565200"/>
          </a:xfrm>
          <a:custGeom>
            <a:avLst/>
            <a:gdLst/>
            <a:ahLst/>
            <a:rect l="l" t="t" r="r" b="b"/>
            <a:pathLst>
              <a:path w="846138" h="565150">
                <a:moveTo>
                  <a:pt x="112156" y="116421"/>
                </a:moveTo>
                <a:lnTo>
                  <a:pt x="733982" y="116421"/>
                </a:lnTo>
                <a:lnTo>
                  <a:pt x="733982" y="249344"/>
                </a:lnTo>
                <a:lnTo>
                  <a:pt x="112156" y="249344"/>
                </a:lnTo>
                <a:lnTo>
                  <a:pt x="112156" y="116421"/>
                </a:lnTo>
                <a:close/>
                <a:moveTo>
                  <a:pt x="112156" y="315806"/>
                </a:moveTo>
                <a:lnTo>
                  <a:pt x="733982" y="315806"/>
                </a:lnTo>
                <a:lnTo>
                  <a:pt x="733982" y="448729"/>
                </a:lnTo>
                <a:lnTo>
                  <a:pt x="112156" y="448729"/>
                </a:lnTo>
                <a:lnTo>
                  <a:pt x="112156" y="315806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812880" y="487692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КБК в формате ХХХХ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YYYYY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ХХ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7BCB-C595-45D9-BDD8-F03097453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5"/>
          <p:cNvSpPr/>
          <p:nvPr/>
        </p:nvSpPr>
        <p:spPr>
          <a:xfrm>
            <a:off x="4562640" y="1828800"/>
            <a:ext cx="2639880" cy="3537000"/>
          </a:xfrm>
          <a:custGeom>
            <a:avLst/>
            <a:gdLst>
              <a:gd name="textAreaLeft" fmla="*/ 128880 w 2639880"/>
              <a:gd name="textAreaRight" fmla="*/ 2511000 w 2639880"/>
              <a:gd name="textAreaTop" fmla="*/ 128880 h 3537000"/>
              <a:gd name="textAreaBottom" fmla="*/ 3408120 h 3537000"/>
            </a:gdLst>
            <a:ahLst/>
            <a:rect l="textAreaLeft" t="textAreaTop" r="textAreaRight" b="textAreaBottom"/>
            <a:pathLst>
              <a:path w="21600" h="28939">
                <a:moveTo>
                  <a:pt x="3600" y="0"/>
                </a:moveTo>
                <a:arcTo wR="3600" hR="3600" stAng="16200000" swAng="-5400000"/>
                <a:lnTo>
                  <a:pt x="0" y="25339"/>
                </a:lnTo>
                <a:arcTo wR="3600" hR="3600" stAng="10800000" swAng="-5400000"/>
                <a:lnTo>
                  <a:pt x="18000" y="28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ность по национальным проек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6"/>
          <p:cNvSpPr/>
          <p:nvPr/>
        </p:nvSpPr>
        <p:spPr>
          <a:xfrm>
            <a:off x="347760" y="1828800"/>
            <a:ext cx="2084400" cy="3537000"/>
          </a:xfrm>
          <a:custGeom>
            <a:avLst/>
            <a:gdLst>
              <a:gd name="textAreaLeft" fmla="*/ 101520 w 2084400"/>
              <a:gd name="textAreaRight" fmla="*/ 1982880 w 2084400"/>
              <a:gd name="textAreaTop" fmla="*/ 101520 h 3537000"/>
              <a:gd name="textAreaBottom" fmla="*/ 3435480 h 3537000"/>
            </a:gdLst>
            <a:ahLst/>
            <a:rect l="textAreaLeft" t="textAreaTop" r="textAreaRight" b="textAreaBottom"/>
            <a:pathLst>
              <a:path w="21600" h="36650">
                <a:moveTo>
                  <a:pt x="3600" y="0"/>
                </a:moveTo>
                <a:arcTo wR="3600" hR="3600" stAng="16200000" swAng="-5400000"/>
                <a:lnTo>
                  <a:pt x="0" y="33050"/>
                </a:lnTo>
                <a:arcTo wR="3600" hR="3600" stAng="10800000" swAng="-5400000"/>
                <a:lnTo>
                  <a:pt x="18000" y="366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9d98c"/>
          </a:solidFill>
          <a:ln w="2556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, ГВБФ, ГРБС Ф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9333000" y="1828800"/>
            <a:ext cx="2152440" cy="353700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3537000"/>
              <a:gd name="textAreaBottom" fmla="*/ 3432240 h 3537000"/>
            </a:gdLst>
            <a:ahLst/>
            <a:rect l="textAreaLeft" t="textAreaTop" r="textAreaRight" b="textAreaBottom"/>
            <a:pathLst>
              <a:path w="21600" h="35492">
                <a:moveTo>
                  <a:pt x="3600" y="0"/>
                </a:moveTo>
                <a:arcTo wR="3600" hR="3600" stAng="16200000" swAng="-5400000"/>
                <a:lnTo>
                  <a:pt x="0" y="31892"/>
                </a:lnTo>
                <a:arcTo wR="3600" hR="3600" stAng="10800000" swAng="-5400000"/>
                <a:lnTo>
                  <a:pt x="18000" y="35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e3ae"/>
          </a:solidFill>
          <a:ln w="2556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трелка вправо 1"/>
          <p:cNvSpPr/>
          <p:nvPr/>
        </p:nvSpPr>
        <p:spPr>
          <a:xfrm>
            <a:off x="2432160" y="3355920"/>
            <a:ext cx="2130480" cy="7333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9d98c"/>
          </a:solidFill>
          <a:ln w="28440">
            <a:solidFill>
              <a:srgbClr val="1b4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лево 8"/>
          <p:cNvSpPr/>
          <p:nvPr/>
        </p:nvSpPr>
        <p:spPr>
          <a:xfrm>
            <a:off x="7202520" y="3355920"/>
            <a:ext cx="2130480" cy="733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9de3ae"/>
          </a:solidFill>
          <a:ln w="28440">
            <a:solidFill>
              <a:srgbClr val="1b4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7392960" y="1828800"/>
            <a:ext cx="1785960" cy="13460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2 рабочих дня (ф. 0503117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4 рабочих д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(ф. 050312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2587680" y="2190600"/>
            <a:ext cx="1755720" cy="9842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Установленные с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009-CAAB-4F25-B251-CBFCD431C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577-34DC-42F9-8619-3BE33CC4D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71"/>
          <p:cNvSpPr/>
          <p:nvPr/>
        </p:nvSpPr>
        <p:spPr>
          <a:xfrm>
            <a:off x="2286000" y="1100160"/>
            <a:ext cx="70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роки представления за 2019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87280" y="51847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73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1187280" y="2908440"/>
            <a:ext cx="240696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1187280" y="40435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4307040" y="2908440"/>
            <a:ext cx="252540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-й рабочий день месяца, следующего за отчетным (15.01.20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4307040" y="4043520"/>
            <a:ext cx="25254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.01.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4307040" y="5184720"/>
            <a:ext cx="25254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7.02.202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4.02.202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ФО, ГВБ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7383600" y="2908440"/>
            <a:ext cx="418464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 (за декабр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7383600" y="40435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годов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год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7383600" y="51847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годов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год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187280" y="2122560"/>
            <a:ext cx="24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4307040" y="212256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7383600" y="21225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лект отчетности в ПУиО Э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>
            <a:off x="1035000" y="2700360"/>
            <a:ext cx="106887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F23-3D6C-46F7-BA0E-0FFB17A73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71"/>
          <p:cNvSpPr/>
          <p:nvPr/>
        </p:nvSpPr>
        <p:spPr>
          <a:xfrm>
            <a:off x="2286000" y="1100160"/>
            <a:ext cx="70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роки представления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1187280" y="51847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73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187280" y="2305080"/>
            <a:ext cx="240696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187280" y="3338640"/>
            <a:ext cx="240696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307040" y="2305080"/>
            <a:ext cx="240660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-й рабочий день месяца, следующего за отче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307040" y="3338640"/>
            <a:ext cx="240660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 число месяца, следующего за отчетным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ФО, ГВБ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 месячной, квартальной отчетност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ГРБС Ф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4307040" y="5184720"/>
            <a:ext cx="24066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8 число месяца, следующего за отче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7383600" y="2305080"/>
            <a:ext cx="418464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7383600" y="3338640"/>
            <a:ext cx="418464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7383600" y="51847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1187280" y="1736640"/>
            <a:ext cx="24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4307040" y="173664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7364520" y="173664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лект отчетности в ПУиО Э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17"/>
          <p:cNvSpPr/>
          <p:nvPr/>
        </p:nvSpPr>
        <p:spPr>
          <a:xfrm>
            <a:off x="1035000" y="2104920"/>
            <a:ext cx="106887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3"/>
          <p:cNvSpPr/>
          <p:nvPr/>
        </p:nvSpPr>
        <p:spPr>
          <a:xfrm>
            <a:off x="4307040" y="4162320"/>
            <a:ext cx="2406600" cy="0"/>
          </a:xfrm>
          <a:prstGeom prst="line">
            <a:avLst/>
          </a:prstGeom>
          <a:ln w="25560">
            <a:solidFill>
              <a:srgbClr val="8fb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4"/>
          <p:cNvSpPr/>
          <p:nvPr/>
        </p:nvSpPr>
        <p:spPr>
          <a:xfrm>
            <a:off x="3738600" y="278748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C1B-9B6F-46EA-927D-F35B772FB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8575560" y="62960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488-FC57-4969-B245-6A5C79A23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343400" y="255600"/>
            <a:ext cx="7205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408560" y="1900080"/>
            <a:ext cx="337320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 бюджетных обязательствах (ф. 0503128) в части обязательств по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 в ходе исполнения соответствующих бюдже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12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8055000" y="1900080"/>
            <a:ext cx="337356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б обязательствах учреждения, содержащий данные о принятии и исполнении учреждением обязательств в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73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906560" y="5900760"/>
            <a:ext cx="84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ериодичность представления - ежемесяч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65280" y="1900080"/>
            <a:ext cx="337320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б исполнении бюджета (ф. 0503117), содержащий данные по исполнению бюджета в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117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157400" y="138744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900680" y="138744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,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8547120" y="1063800"/>
            <a:ext cx="23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У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,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C9DC-9D17-4ABA-BEDD-C3494D534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450720" y="1593720"/>
            <a:ext cx="1140156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твертый разряд кода целевой статьи (00 0 X0 00000), отражающий расходы на национальный проект (программу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лексный план, соответствует буквенному значе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 - национальный проект "Культур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 - национальная программа "Цифровая экономика Российской Федераци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 - национальный проект "Образование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 - национальный проект "Жилье и городская сред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 - национальный проект "Экология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 - национальный проект "Малое и среднее предпринимательство и поддержка индивидуальной предприним инициативы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 - национальный проект "Производительность труда и поддержка занятост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- национальный проект "Здравоохранение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 - национальный проект "Демография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 - национальный проект "Безопасные и качественные автомобильные дорог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 - национальный проект "Наук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 - национальный проект "Международная кооперация и экспорт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 - Комплексный план модернизации и расширения магистральной инфраструк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25480" y="1069920"/>
            <a:ext cx="96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иложение № 11 к Приказу Минфина России от 08.08.2018 № 132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540" t="0" r="0" b="0"/>
          <a:stretch/>
        </p:blipFill>
        <p:spPr>
          <a:xfrm>
            <a:off x="112680" y="755640"/>
            <a:ext cx="11068200" cy="6045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424160" y="6059520"/>
            <a:ext cx="10559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 3 </a:t>
            </a:r>
            <a:r>
              <a:rPr b="1" i="1" lang="mr-IN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лько по показателям нацпроек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ка 900 «Источники финансирования» не заполняе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581280" y="1839960"/>
            <a:ext cx="5132520" cy="801720"/>
          </a:xfrm>
          <a:prstGeom prst="wedgeRoundRectCallout">
            <a:avLst>
              <a:gd name="adj1" fmla="val -64597"/>
              <a:gd name="adj2" fmla="val 63601"/>
              <a:gd name="adj3" fmla="val 16667"/>
            </a:avLst>
          </a:prstGeom>
          <a:solidFill>
            <a:srgbClr val="fffcc1"/>
          </a:solidFill>
          <a:ln w="22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вка по финансовым периодам (год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581280" y="2787480"/>
            <a:ext cx="5132520" cy="463680"/>
          </a:xfrm>
          <a:prstGeom prst="wedgeRoundRectCallout">
            <a:avLst>
              <a:gd name="adj1" fmla="val -62837"/>
              <a:gd name="adj2" fmla="val 7027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1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3581280" y="3352680"/>
            <a:ext cx="5132520" cy="405000"/>
          </a:xfrm>
          <a:prstGeom prst="wedgeRoundRectCallout">
            <a:avLst>
              <a:gd name="adj1" fmla="val -61680"/>
              <a:gd name="adj2" fmla="val 14055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2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581280" y="3848040"/>
            <a:ext cx="5132520" cy="405000"/>
          </a:xfrm>
          <a:prstGeom prst="wedgeRoundRectCallout">
            <a:avLst>
              <a:gd name="adj1" fmla="val -61583"/>
              <a:gd name="adj2" fmla="val 14055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3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581280" y="4432320"/>
            <a:ext cx="5132520" cy="404640"/>
          </a:xfrm>
          <a:prstGeom prst="wedgeRoundRectCallout">
            <a:avLst>
              <a:gd name="adj1" fmla="val -59800"/>
              <a:gd name="adj2" fmla="val 39212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4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581280" y="5510160"/>
            <a:ext cx="5132520" cy="405000"/>
          </a:xfrm>
          <a:prstGeom prst="wedgeRoundRectCallout">
            <a:avLst>
              <a:gd name="adj1" fmla="val -60925"/>
              <a:gd name="adj2" fmla="val 1509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6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2.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8872560" y="2787480"/>
            <a:ext cx="3216240" cy="46368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8872560" y="3314880"/>
            <a:ext cx="3216240" cy="4633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8871120" y="384804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8871120" y="439740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8871120" y="493704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3581280" y="4983120"/>
            <a:ext cx="5132520" cy="405000"/>
          </a:xfrm>
          <a:prstGeom prst="wedgeRoundRectCallout">
            <a:avLst>
              <a:gd name="adj1" fmla="val -59555"/>
              <a:gd name="adj2" fmla="val 6949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5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90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502.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8871120" y="5487840"/>
            <a:ext cx="3214440" cy="46368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4"/>
          <p:cNvSpPr/>
          <p:nvPr/>
        </p:nvSpPr>
        <p:spPr>
          <a:xfrm>
            <a:off x="7485120" y="322200"/>
            <a:ext cx="38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Отчет ф.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5B6D-3CD1-4CB2-97F3-08197865C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198360" y="4667400"/>
            <a:ext cx="11490480" cy="9572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46000" y="1060560"/>
          <a:ext cx="10299960" cy="5732280"/>
        </p:xfrm>
        <a:graphic>
          <a:graphicData uri="http://schemas.openxmlformats.org/drawingml/2006/table">
            <a:tbl>
              <a:tblPr/>
              <a:tblGrid>
                <a:gridCol w="2013120"/>
                <a:gridCol w="189000"/>
                <a:gridCol w="263520"/>
                <a:gridCol w="255600"/>
                <a:gridCol w="625320"/>
                <a:gridCol w="255600"/>
                <a:gridCol w="539640"/>
                <a:gridCol w="768600"/>
                <a:gridCol w="769680"/>
                <a:gridCol w="770040"/>
                <a:gridCol w="770040"/>
                <a:gridCol w="770040"/>
                <a:gridCol w="769680"/>
                <a:gridCol w="770040"/>
                <a:gridCol w="770040"/>
              </a:tblGrid>
              <a:tr h="174600"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"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язательства финансовых годов, следующих за текущим (отчетным) финансовым годом, 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5760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сход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47 779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 445 909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84 602 629,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редного финансового года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07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894497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445909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84 602 629,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софинансирование капитальных вложений в объекты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538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83298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го года, следующего за очередны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00 836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515 674,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33 813 495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 890 334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00 836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515 674,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 890 334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го года, следующего за очередны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71 896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</a:tr>
              <a:tr h="2793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</a:tr>
              <a:tr h="3870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71 896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</a:tr>
              <a:tr h="14112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иные очередные года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ным обязательств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2300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300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тложенным обязательств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2300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300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576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выплатам источников финансирования дефицита бюдж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Прямоугольная выноска 11"/>
          <p:cNvSpPr/>
          <p:nvPr/>
        </p:nvSpPr>
        <p:spPr>
          <a:xfrm>
            <a:off x="3174840" y="2401920"/>
            <a:ext cx="4434120" cy="2000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be6b3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яется с учетом планового периода на 2022 год в случае принятия закона, доведения бюджетных ассигнований, ЛБ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963720" y="1555920"/>
            <a:ext cx="9897840" cy="41814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ая выноска 1"/>
          <p:cNvSpPr/>
          <p:nvPr/>
        </p:nvSpPr>
        <p:spPr>
          <a:xfrm>
            <a:off x="5913360" y="2173320"/>
            <a:ext cx="2778120" cy="2660760"/>
          </a:xfrm>
          <a:prstGeom prst="wedgeRectCallout">
            <a:avLst>
              <a:gd name="adj1" fmla="val -58439"/>
              <a:gd name="adj2" fmla="val -51337"/>
            </a:avLst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чиная с отчетности за 2019 год и далее – ежемесяч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ая выноска 4"/>
          <p:cNvSpPr/>
          <p:nvPr/>
        </p:nvSpPr>
        <p:spPr>
          <a:xfrm>
            <a:off x="2217600" y="2741760"/>
            <a:ext cx="2778120" cy="2658960"/>
          </a:xfrm>
          <a:prstGeom prst="wedgeRectCallout">
            <a:avLst>
              <a:gd name="adj1" fmla="val 27884"/>
              <a:gd name="adj2" fmla="val -72319"/>
            </a:avLst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только по видам деятельности 5 и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F83-AF5B-46AD-B75F-1543A1854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rcRect l="4836" t="23398" r="48276" b="34015"/>
          <a:stretch/>
        </p:blipFill>
        <p:spPr>
          <a:xfrm>
            <a:off x="184320" y="1136520"/>
            <a:ext cx="11715480" cy="47372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5"/>
          <p:cNvSpPr/>
          <p:nvPr/>
        </p:nvSpPr>
        <p:spPr>
          <a:xfrm>
            <a:off x="3716280" y="939960"/>
            <a:ext cx="1752480" cy="1747800"/>
          </a:xfrm>
          <a:prstGeom prst="ellipse">
            <a:avLst/>
          </a:prstGeom>
          <a:noFill/>
          <a:ln w="50760">
            <a:solidFill>
              <a:srgbClr val="002060"/>
            </a:solidFill>
            <a:miter/>
          </a:ln>
          <a:effectLst>
            <a:outerShdw dist="2304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653080" y="2687760"/>
            <a:ext cx="4303800" cy="2589120"/>
          </a:xfrm>
          <a:prstGeom prst="wedgeEllipseCallout">
            <a:avLst>
              <a:gd name="adj1" fmla="val -58384"/>
              <a:gd name="adj2" fmla="val -58240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Подразде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Целевая статья в части кода НП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КВ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D57-8D9C-48FB-BA8E-5CFA8838A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FBE5-B8C9-4488-9AA2-4B8B1429D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343400" y="37260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6"/>
          <p:cNvSpPr/>
          <p:nvPr/>
        </p:nvSpPr>
        <p:spPr>
          <a:xfrm>
            <a:off x="536400" y="1951200"/>
            <a:ext cx="1122840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536400" y="2055960"/>
            <a:ext cx="1122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графе 3 Отчета  0503738-Н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коды бюджетной классификации, содержащие в соответствующих разрядах коды разделов, подразделов, целевых статей, содержащих в 4 – 5 разрядах кода целевой статьи коды основных мероприятий целевых статей расходов на реализацию национальных проектов (программ), а также комплексного плана модернизации и расширения магистральной инфраструктуры (региональных проектов в составе национальных проектов), видов расходов классификации расходов бюджетов Российской Федерации, без формирования промежуточных итогов по группировочным кодам бюджетной классификации 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X XX 000YY YYYYY XX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4466880" y="142704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четы  0503738-Н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812880" y="154620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имость отчетных форм для ФО, ГВБ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4616280" y="2266920"/>
            <a:ext cx="24735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8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812880" y="2266920"/>
            <a:ext cx="24717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17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Равно 19"/>
          <p:cNvSpPr/>
          <p:nvPr/>
        </p:nvSpPr>
        <p:spPr>
          <a:xfrm>
            <a:off x="3584520" y="2668680"/>
            <a:ext cx="844560" cy="565200"/>
          </a:xfrm>
          <a:custGeom>
            <a:avLst/>
            <a:gdLst/>
            <a:ahLst/>
            <a:rect l="l" t="t" r="r" b="b"/>
            <a:pathLst>
              <a:path w="844550" h="565150">
                <a:moveTo>
                  <a:pt x="111945" y="116421"/>
                </a:moveTo>
                <a:lnTo>
                  <a:pt x="732605" y="116421"/>
                </a:lnTo>
                <a:lnTo>
                  <a:pt x="732605" y="249344"/>
                </a:lnTo>
                <a:lnTo>
                  <a:pt x="111945" y="249344"/>
                </a:lnTo>
                <a:lnTo>
                  <a:pt x="111945" y="116421"/>
                </a:lnTo>
                <a:close/>
                <a:moveTo>
                  <a:pt x="111945" y="315806"/>
                </a:moveTo>
                <a:lnTo>
                  <a:pt x="732605" y="315806"/>
                </a:lnTo>
                <a:lnTo>
                  <a:pt x="732605" y="448729"/>
                </a:lnTo>
                <a:lnTo>
                  <a:pt x="111945" y="448729"/>
                </a:lnTo>
                <a:lnTo>
                  <a:pt x="111945" y="315806"/>
                </a:lnTo>
                <a:close/>
              </a:path>
            </a:pathLst>
          </a:custGeom>
          <a:solidFill>
            <a:srgbClr val="b5cee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7089840" y="22669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8364600" y="243540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ускается отклонение на отчеты (ф. 0503128-НП), содержащих только данные плановых пер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812880" y="4722840"/>
            <a:ext cx="24717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17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8720280" y="4722840"/>
            <a:ext cx="24732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8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право 1"/>
          <p:cNvSpPr/>
          <p:nvPr/>
        </p:nvSpPr>
        <p:spPr>
          <a:xfrm>
            <a:off x="3762360" y="5078520"/>
            <a:ext cx="4602240" cy="655560"/>
          </a:xfrm>
          <a:prstGeom prst="rightArrow">
            <a:avLst>
              <a:gd name="adj1" fmla="val 50000"/>
              <a:gd name="adj2" fmla="val 50020"/>
            </a:avLst>
          </a:prstGeom>
          <a:noFill/>
          <a:ln w="2844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762360" y="4218120"/>
            <a:ext cx="46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личии Отчета (ф. 0503117-НП) должен быть представлен Отчет (ф. 0503128-НП) по аналогичному ОКТ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645E-32E9-4E30-9B2D-409DBD34B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Зайцев Павел Борисович</cp:lastModifiedBy>
  <cp:lastPrinted>2020-01-21T17:37:01Z</cp:lastPrinted>
  <dcterms:modified xsi:type="dcterms:W3CDTF">2020-01-22T16:46:48Z</dcterms:modified>
  <cp:revision>1031</cp:revision>
  <dc:subject/>
  <dc:title>Презентация PowerPoint</dc:title>
</cp:coreProperties>
</file>