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1B6-E977-452B-996E-589BEDD0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318-2013-459C-9AEE-66FE9E7B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CDC-BA07-4417-8EE6-FD5C03FE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0A7-FA45-46A6-95B8-A7E651E7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BCF-8878-44FC-8099-A34EB1AE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AC9-35E3-49AE-BD4C-31FD8D9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AF4-0738-48C3-92B1-C6D6DC0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C42-807D-4B7C-9CDD-9C36813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DEB-3C71-4F71-80B8-5128E3B9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1B2-B599-40D9-B5E0-63A37CF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A84-E60F-4980-A1B1-789BED8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DE1-5292-4BF1-AD26-4AF12A3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703-F6E4-46D2-9DE1-414AA47C4E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2B6-C203-42B6-B80E-BD4067E15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34920" y="1446120"/>
            <a:ext cx="11509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РЕЗУЛЬТАТЫ ПРЕДСТАВЛЕНИЯ ГОДОВОЙ БЮДЖЕТНОЙ (БУХГАЛТЕРСКОЙ) ОТЧЕТНОСТИ В ПУиО ГИИС «ЭЛЕКТРОННЫЙ БЮДЖЕ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08000" y="3716280"/>
            <a:ext cx="60483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начальник Отдела централизованной отчетности Управления централизованной бухгал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С. Вязь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80920" y="364680"/>
            <a:ext cx="10515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Рейтинг ГРБ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 flipV="1">
            <a:off x="324000" y="2642760"/>
            <a:ext cx="5481360" cy="46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71440" y="2035080"/>
            <a:ext cx="55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ТОП-10 ГРБС своевременно представивших бюджетную (бухгалтерскую) отчет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90680" y="32608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092 Минфин Рос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447840" y="304632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90680" y="2917800"/>
            <a:ext cx="21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007 ФАНО Рос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447840" y="338940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90680" y="36194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096 Роскомнадзо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447840" y="376704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2978280" y="291780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172 Росстандар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7"/>
          <p:cNvSpPr/>
          <p:nvPr/>
        </p:nvSpPr>
        <p:spPr>
          <a:xfrm>
            <a:off x="447840" y="412920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501480" y="431496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161 ФАС  Рос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9"/>
          <p:cNvSpPr/>
          <p:nvPr/>
        </p:nvSpPr>
        <p:spPr>
          <a:xfrm>
            <a:off x="447840" y="448164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3"/>
          <p:cNvSpPr/>
          <p:nvPr/>
        </p:nvSpPr>
        <p:spPr>
          <a:xfrm>
            <a:off x="2982960" y="399240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322 ФССП Рос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4"/>
          <p:cNvSpPr/>
          <p:nvPr/>
        </p:nvSpPr>
        <p:spPr>
          <a:xfrm>
            <a:off x="2935440" y="304956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492120" y="397368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107 Росави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2944800" y="3392640"/>
            <a:ext cx="6840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982960" y="323208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303 УД Президента РФ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8"/>
          <p:cNvSpPr/>
          <p:nvPr/>
        </p:nvSpPr>
        <p:spPr>
          <a:xfrm>
            <a:off x="2941560" y="3767040"/>
            <a:ext cx="6840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2987640" y="361800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321 Росреест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0"/>
          <p:cNvSpPr/>
          <p:nvPr/>
        </p:nvSpPr>
        <p:spPr>
          <a:xfrm>
            <a:off x="2943360" y="4125960"/>
            <a:ext cx="6804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2982960" y="4325760"/>
            <a:ext cx="319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438 Судебный департамен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при Верховном суде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2"/>
          <p:cNvSpPr/>
          <p:nvPr/>
        </p:nvSpPr>
        <p:spPr>
          <a:xfrm>
            <a:off x="2944800" y="4481640"/>
            <a:ext cx="68400" cy="66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3" descr="Вырезка экрана"/>
          <p:cNvPicPr/>
          <p:nvPr/>
        </p:nvPicPr>
        <p:blipFill>
          <a:blip r:embed="rId3"/>
          <a:stretch/>
        </p:blipFill>
        <p:spPr>
          <a:xfrm>
            <a:off x="6411960" y="2151000"/>
            <a:ext cx="59403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880920" y="365040"/>
            <a:ext cx="105156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Статистика за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5"/>
          <p:cNvSpPr/>
          <p:nvPr/>
        </p:nvSpPr>
        <p:spPr>
          <a:xfrm flipV="1">
            <a:off x="324000" y="2638440"/>
            <a:ext cx="4333680" cy="9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71440" y="2035080"/>
            <a:ext cx="471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ТОП-5 ГРБС с </a:t>
            </a:r>
            <a:r>
              <a:rPr b="1" i="1" lang="ru-RU" sz="1600" spc="-1" strike="noStrike">
                <a:solidFill>
                  <a:srgbClr val="5b9bd5"/>
                </a:solidFill>
                <a:latin typeface="Cambria"/>
              </a:rPr>
              <a:t>наибольшим</a:t>
            </a:r>
            <a:r>
              <a:rPr b="1" i="1" lang="ru-RU" sz="1600" spc="-1" strike="noStrike" baseline="30000">
                <a:solidFill>
                  <a:srgbClr val="767171"/>
                </a:solidFill>
                <a:latin typeface="Cambria"/>
              </a:rPr>
              <a:t>1</a:t>
            </a: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 количеством замен форм бюджетной (бухгалтерской) отче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7"/>
          <p:cNvSpPr/>
          <p:nvPr/>
        </p:nvSpPr>
        <p:spPr>
          <a:xfrm flipV="1">
            <a:off x="6810480" y="2647440"/>
            <a:ext cx="4333680" cy="97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6748560" y="2035080"/>
            <a:ext cx="47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ТОП-5 ГРБС с </a:t>
            </a:r>
            <a:r>
              <a:rPr b="1" i="1" lang="ru-RU" sz="1600" spc="-1" strike="noStrike">
                <a:solidFill>
                  <a:srgbClr val="70ad47"/>
                </a:solidFill>
                <a:latin typeface="Cambria"/>
              </a:rPr>
              <a:t>наименьшим</a:t>
            </a:r>
            <a:r>
              <a:rPr b="1" i="1" lang="ru-RU" sz="1600" spc="-1" strike="noStrike" baseline="30000">
                <a:solidFill>
                  <a:srgbClr val="767171"/>
                </a:solidFill>
                <a:latin typeface="Cambria"/>
              </a:rPr>
              <a:t>2</a:t>
            </a: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 количеством замен форм бюджетной (бухгалтерской) отче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Диаграмма 9" descr=""/>
          <p:cNvPicPr/>
          <p:nvPr/>
        </p:nvPicPr>
        <p:blipFill>
          <a:blip r:embed="rId1"/>
          <a:stretch/>
        </p:blipFill>
        <p:spPr>
          <a:xfrm>
            <a:off x="285840" y="27622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1"/>
          <p:cNvSpPr/>
          <p:nvPr/>
        </p:nvSpPr>
        <p:spPr>
          <a:xfrm>
            <a:off x="376200" y="5826240"/>
            <a:ext cx="1113480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767171"/>
                </a:solidFill>
                <a:latin typeface="Cambria"/>
              </a:rPr>
              <a:t>1</a:t>
            </a:r>
            <a:r>
              <a:rPr b="0" lang="ru-RU" sz="1400" spc="-1" strike="noStrike">
                <a:solidFill>
                  <a:srgbClr val="767171"/>
                </a:solidFill>
                <a:latin typeface="Cambria"/>
              </a:rPr>
              <a:t>в ТОП-5 ГРБС с </a:t>
            </a:r>
            <a:r>
              <a:rPr b="0" i="1" lang="ru-RU" sz="1400" spc="-1" strike="noStrike">
                <a:solidFill>
                  <a:srgbClr val="767171"/>
                </a:solidFill>
                <a:latin typeface="Cambria"/>
              </a:rPr>
              <a:t>наибольшим</a:t>
            </a:r>
            <a:r>
              <a:rPr b="0" lang="ru-RU" sz="1400" spc="-1" strike="noStrike">
                <a:solidFill>
                  <a:srgbClr val="767171"/>
                </a:solidFill>
                <a:latin typeface="Cambria"/>
              </a:rPr>
              <a:t> количеством замен включены ГРБС, имеющие долю в совокупном количестве замен, свыше 5%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67171"/>
                </a:solidFill>
                <a:latin typeface="Cambria"/>
              </a:rPr>
              <a:t>Совокупное количество замен форм бюджетной (бухгалтерской) отчетности </a:t>
            </a: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138 79</a:t>
            </a:r>
            <a:r>
              <a:rPr b="0" lang="en-US" sz="14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767171"/>
                </a:solidFill>
                <a:latin typeface="Cambria"/>
              </a:rPr>
              <a:t>шт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767171"/>
                </a:solidFill>
                <a:latin typeface="Cambria"/>
              </a:rPr>
              <a:t>2</a:t>
            </a:r>
            <a:r>
              <a:rPr b="0" lang="ru-RU" sz="1400" spc="-1" strike="noStrike">
                <a:solidFill>
                  <a:srgbClr val="767171"/>
                </a:solidFill>
                <a:latin typeface="Cambria"/>
              </a:rPr>
              <a:t>в ТОП-5 ГРБС с </a:t>
            </a:r>
            <a:r>
              <a:rPr b="0" i="1" lang="ru-RU" sz="1400" spc="-1" strike="noStrike">
                <a:solidFill>
                  <a:srgbClr val="767171"/>
                </a:solidFill>
                <a:latin typeface="Cambria"/>
              </a:rPr>
              <a:t>наименьшим</a:t>
            </a:r>
            <a:r>
              <a:rPr b="0" lang="ru-RU" sz="1400" spc="-1" strike="noStrike">
                <a:solidFill>
                  <a:srgbClr val="767171"/>
                </a:solidFill>
                <a:latin typeface="Cambria"/>
              </a:rPr>
              <a:t> количеством замен включены ГРБС, имеющие долю в совокупном количестве замен, менее 5%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Диаграмма 12" descr=""/>
          <p:cNvPicPr/>
          <p:nvPr/>
        </p:nvPicPr>
        <p:blipFill>
          <a:blip r:embed="rId2"/>
          <a:stretch/>
        </p:blipFill>
        <p:spPr>
          <a:xfrm>
            <a:off x="6845400" y="2809800"/>
            <a:ext cx="4535280" cy="2706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фото\Снимок экрана 2018-06-28 в 0.12.13.png"/>
          <p:cNvPicPr/>
          <p:nvPr/>
        </p:nvPicPr>
        <p:blipFill>
          <a:blip r:embed="rId3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E:\фото\Снимок экрана 2018-06-28 в 0.12.24.png"/>
          <p:cNvPicPr/>
          <p:nvPr/>
        </p:nvPicPr>
        <p:blipFill>
          <a:blip r:embed="rId4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Основные ошибки и замечания в ходе представления годовой бюджетной (бухгалтерской) отчетности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ПУиО ГИИС «Электронный бюджет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0920" y="364680"/>
            <a:ext cx="10515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Основные ошиб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19120" y="2035080"/>
            <a:ext cx="433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Неполный комплект бюджет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(бухгалтерской) отче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52360" y="2749680"/>
            <a:ext cx="330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Cambria"/>
              </a:rPr>
              <a:t>В ходе представления бюджетной (бухгалтерской) отчетности не формировались формы отчетности, не имеющие числовых значений показателей, в статусе «Показатели отсутствую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200160" y="194328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mbr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Группа 26"/>
          <p:cNvGrpSpPr/>
          <p:nvPr/>
        </p:nvGrpSpPr>
        <p:grpSpPr>
          <a:xfrm>
            <a:off x="3610080" y="1951200"/>
            <a:ext cx="4381560" cy="2595960"/>
            <a:chOff x="3610080" y="1951200"/>
            <a:chExt cx="4381560" cy="2595960"/>
          </a:xfrm>
        </p:grpSpPr>
        <p:sp>
          <p:nvSpPr>
            <p:cNvPr id="89" name="Прямая соединительная линия 12"/>
            <p:cNvSpPr/>
            <p:nvPr/>
          </p:nvSpPr>
          <p:spPr>
            <a:xfrm>
              <a:off x="3676680" y="2638440"/>
              <a:ext cx="417204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3"/>
            <p:cNvSpPr/>
            <p:nvPr/>
          </p:nvSpPr>
          <p:spPr>
            <a:xfrm>
              <a:off x="3981240" y="2073240"/>
              <a:ext cx="401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67171"/>
                  </a:solidFill>
                  <a:latin typeface="Cambria"/>
                </a:rPr>
                <a:t>Направление «пустых» фор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67171"/>
                  </a:solidFill>
                  <a:latin typeface="Cambria"/>
                </a:rPr>
                <a:t>бюджетной (бухгалтерской) отчет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4"/>
            <p:cNvSpPr/>
            <p:nvPr/>
          </p:nvSpPr>
          <p:spPr>
            <a:xfrm>
              <a:off x="3681360" y="2749680"/>
              <a:ext cx="39006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67171"/>
                  </a:solidFill>
                  <a:latin typeface="Cambria"/>
                </a:rPr>
                <a:t>В ходе представления бюджетной (бухгалтерской) отчетности формы, не имеющие числовых значений показателей, вместо представления в статусе «Показатели отсутствуют» формировались, подписывались и направлялись в иных статусах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6"/>
            <p:cNvSpPr/>
            <p:nvPr/>
          </p:nvSpPr>
          <p:spPr>
            <a:xfrm>
              <a:off x="3610080" y="1951200"/>
              <a:ext cx="62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c000"/>
                  </a:solidFill>
                  <a:latin typeface="Cambria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Группа 27"/>
          <p:cNvGrpSpPr/>
          <p:nvPr/>
        </p:nvGrpSpPr>
        <p:grpSpPr>
          <a:xfrm>
            <a:off x="7886880" y="1951200"/>
            <a:ext cx="4419360" cy="2352600"/>
            <a:chOff x="7886880" y="1951200"/>
            <a:chExt cx="4419360" cy="2352600"/>
          </a:xfrm>
        </p:grpSpPr>
        <p:sp>
          <p:nvSpPr>
            <p:cNvPr id="94" name="TextBox 18"/>
            <p:cNvSpPr/>
            <p:nvPr/>
          </p:nvSpPr>
          <p:spPr>
            <a:xfrm>
              <a:off x="7948440" y="2749680"/>
              <a:ext cx="3862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67171"/>
                  </a:solidFill>
                  <a:latin typeface="Cambria"/>
                </a:rPr>
                <a:t>В ходе представления бюджетной (бухгалтерской) отчетности формы отчетности, имеющие числовые значения показателей, представлялись в статусе «Показатели отсутствуют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Прямая соединительная линия 19"/>
            <p:cNvSpPr/>
            <p:nvPr/>
          </p:nvSpPr>
          <p:spPr>
            <a:xfrm flipV="1">
              <a:off x="7972560" y="2610000"/>
              <a:ext cx="4133880" cy="187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20"/>
            <p:cNvSpPr/>
            <p:nvPr/>
          </p:nvSpPr>
          <p:spPr>
            <a:xfrm>
              <a:off x="8263080" y="2063880"/>
              <a:ext cx="404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67171"/>
                  </a:solidFill>
                  <a:latin typeface="Cambria"/>
                </a:rPr>
                <a:t>Направление «пустых» фор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67171"/>
                  </a:solidFill>
                  <a:latin typeface="Cambria"/>
                </a:rPr>
                <a:t>бюджетной (бухгалтерской) отчет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21"/>
            <p:cNvSpPr/>
            <p:nvPr/>
          </p:nvSpPr>
          <p:spPr>
            <a:xfrm>
              <a:off x="7886880" y="1951200"/>
              <a:ext cx="62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c000"/>
                  </a:solidFill>
                  <a:latin typeface="Cambria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Прямая соединительная линия 31"/>
          <p:cNvSpPr/>
          <p:nvPr/>
        </p:nvSpPr>
        <p:spPr>
          <a:xfrm>
            <a:off x="333360" y="2647800"/>
            <a:ext cx="321948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0920" y="364680"/>
            <a:ext cx="10515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Основные ошиб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Прямая соединительная линия 7"/>
          <p:cNvSpPr/>
          <p:nvPr/>
        </p:nvSpPr>
        <p:spPr>
          <a:xfrm flipV="1">
            <a:off x="333360" y="2638440"/>
            <a:ext cx="4591080" cy="9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19120" y="2035080"/>
            <a:ext cx="45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Своевременность представления бюджетной (бухгалтерской) отче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299880" y="2749680"/>
            <a:ext cx="44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Формирование (загрузка) форм бюджетной (бухгалтерской) отчетности в ПУиО ГИИС «Электронный бюджет» осуществлялась с нарушением сроков, установленных п. 288, 289 Инструкции № 191н и п.  8.1 Инструкции № 33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200160" y="194328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mbri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81"/>
          <p:cNvSpPr/>
          <p:nvPr/>
        </p:nvSpPr>
        <p:spPr>
          <a:xfrm>
            <a:off x="6715080" y="33433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представление Пояснительной записки в статусе «Показатели отсутствуют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82"/>
          <p:cNvSpPr/>
          <p:nvPr/>
        </p:nvSpPr>
        <p:spPr>
          <a:xfrm>
            <a:off x="6637320" y="350352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83"/>
          <p:cNvSpPr/>
          <p:nvPr/>
        </p:nvSpPr>
        <p:spPr>
          <a:xfrm>
            <a:off x="6637320" y="416412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84"/>
          <p:cNvSpPr/>
          <p:nvPr/>
        </p:nvSpPr>
        <p:spPr>
          <a:xfrm>
            <a:off x="6715080" y="3998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Пояснительная записка не принимается вышестоящей организаци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85"/>
          <p:cNvSpPr/>
          <p:nvPr/>
        </p:nvSpPr>
        <p:spPr>
          <a:xfrm>
            <a:off x="6637320" y="511164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6"/>
          <p:cNvSpPr/>
          <p:nvPr/>
        </p:nvSpPr>
        <p:spPr>
          <a:xfrm>
            <a:off x="6723000" y="4954680"/>
            <a:ext cx="43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в Пояснительной записке не приводятся пояснения расхождений с контрольными соотнош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7"/>
          <p:cNvSpPr/>
          <p:nvPr/>
        </p:nvSpPr>
        <p:spPr>
          <a:xfrm>
            <a:off x="6672240" y="202572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Пояснительная запи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(ф. 0503160/ф. 050376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88"/>
          <p:cNvSpPr/>
          <p:nvPr/>
        </p:nvSpPr>
        <p:spPr>
          <a:xfrm>
            <a:off x="6637320" y="2822400"/>
            <a:ext cx="77760" cy="86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89"/>
          <p:cNvSpPr/>
          <p:nvPr/>
        </p:nvSpPr>
        <p:spPr>
          <a:xfrm>
            <a:off x="6723000" y="2660760"/>
            <a:ext cx="43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непредставление Пояснительной запис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90"/>
          <p:cNvSpPr/>
          <p:nvPr/>
        </p:nvSpPr>
        <p:spPr>
          <a:xfrm flipV="1">
            <a:off x="6486480" y="2629080"/>
            <a:ext cx="4591080" cy="9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1"/>
          <p:cNvSpPr/>
          <p:nvPr/>
        </p:nvSpPr>
        <p:spPr>
          <a:xfrm>
            <a:off x="6353280" y="193356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mbr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1"/>
          <p:cNvSpPr/>
          <p:nvPr/>
        </p:nvSpPr>
        <p:spPr>
          <a:xfrm>
            <a:off x="880920" y="365040"/>
            <a:ext cx="105156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Мониторинг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ая соединительная линия 7"/>
          <p:cNvSpPr/>
          <p:nvPr/>
        </p:nvSpPr>
        <p:spPr>
          <a:xfrm>
            <a:off x="333360" y="2638440"/>
            <a:ext cx="518148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262080" y="202572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Задачи мониторинга информации, представленной в ПУиО ГИИС «ЭБ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581040" y="26719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выявление нарушений контрольных соотнош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484200" y="283212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484200" y="356544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581040" y="3403440"/>
            <a:ext cx="50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выявление логических и арифметических ошиб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20"/>
          <p:cNvSpPr/>
          <p:nvPr/>
        </p:nvSpPr>
        <p:spPr>
          <a:xfrm>
            <a:off x="6448320" y="2638440"/>
            <a:ext cx="524844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6434280" y="202572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Цели и ожидания от мониторинга информации, представленной в ПУиО ГИИС «ЭБ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3"/>
          <p:cNvSpPr/>
          <p:nvPr/>
        </p:nvSpPr>
        <p:spPr>
          <a:xfrm>
            <a:off x="6715080" y="2671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проведение ГРБС работы над ошибк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4"/>
          <p:cNvSpPr/>
          <p:nvPr/>
        </p:nvSpPr>
        <p:spPr>
          <a:xfrm>
            <a:off x="6647040" y="283212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5"/>
          <p:cNvSpPr/>
          <p:nvPr/>
        </p:nvSpPr>
        <p:spPr>
          <a:xfrm>
            <a:off x="6656400" y="331776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26"/>
          <p:cNvSpPr/>
          <p:nvPr/>
        </p:nvSpPr>
        <p:spPr>
          <a:xfrm>
            <a:off x="6715080" y="3156120"/>
            <a:ext cx="50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избежание выявленных ошибок в последующ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6"/>
          <p:cNvSpPr/>
          <p:nvPr/>
        </p:nvSpPr>
        <p:spPr>
          <a:xfrm>
            <a:off x="252360" y="2025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Пожелания к дальнейшей совместной работе в ПУиО ГИИС «ЭБ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571680" y="336708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своевременно инициировать внесение изменений в справочник субъектов отчетности ПУиО ГИИС «ЭБ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484200" y="283212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474840" y="3527280"/>
            <a:ext cx="77760" cy="86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579600" y="267012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указывать причину отклонения формы бюджетной (бухгалтерской) отчет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880920" y="365040"/>
            <a:ext cx="105156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7171"/>
                </a:solidFill>
                <a:latin typeface="Calibri Light"/>
              </a:rPr>
              <a:t>Пожел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48"/>
          <p:cNvSpPr/>
          <p:nvPr/>
        </p:nvSpPr>
        <p:spPr>
          <a:xfrm>
            <a:off x="333360" y="2638440"/>
            <a:ext cx="5181480" cy="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E:\фото\Снимок экрана 2018-06-28 в 0.12.13.png"/>
          <p:cNvPicPr/>
          <p:nvPr/>
        </p:nvPicPr>
        <p:blipFill>
          <a:blip r:embed="rId1"/>
          <a:stretch/>
        </p:blipFill>
        <p:spPr>
          <a:xfrm>
            <a:off x="100080" y="95400"/>
            <a:ext cx="2743200" cy="97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E:\фото\Снимок экрана 2018-06-28 в 0.12.24.png"/>
          <p:cNvPicPr/>
          <p:nvPr/>
        </p:nvPicPr>
        <p:blipFill>
          <a:blip r:embed="rId2"/>
          <a:srcRect l="7004" t="0" r="7004" b="0"/>
          <a:stretch/>
        </p:blipFill>
        <p:spPr>
          <a:xfrm>
            <a:off x="11342520" y="5996160"/>
            <a:ext cx="866880" cy="39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E:\фото\rawpixel-678089-unsplash.jpg"/>
          <p:cNvPicPr/>
          <p:nvPr/>
        </p:nvPicPr>
        <p:blipFill>
          <a:blip r:embed="rId3"/>
          <a:stretch/>
        </p:blipFill>
        <p:spPr>
          <a:xfrm>
            <a:off x="6764400" y="2031840"/>
            <a:ext cx="5427720" cy="31640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4"/>
          <p:cNvSpPr/>
          <p:nvPr/>
        </p:nvSpPr>
        <p:spPr>
          <a:xfrm>
            <a:off x="571680" y="430704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7171"/>
                </a:solidFill>
                <a:latin typeface="Cambria"/>
              </a:rPr>
              <a:t>заблаговременно получать сертификат ключа проверки ЭП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474840" y="4467240"/>
            <a:ext cx="77760" cy="85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ufk</cp:lastModifiedBy>
  <cp:lastPrinted>2018-06-28T09:58:57Z</cp:lastPrinted>
  <dcterms:modified xsi:type="dcterms:W3CDTF">2018-06-29T05:34:01Z</dcterms:modified>
  <cp:revision>706</cp:revision>
  <dc:subject/>
  <dc:title>Презентация PowerPoint</dc:title>
</cp:coreProperties>
</file>