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902B-D249-4CE9-B44A-38FCF661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CE0-0673-4B73-AFAE-470673DE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FC5-008C-4A46-B346-997DACEB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CC2A-28F8-4939-9BC9-A753C067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7685-6217-4DCB-9ED1-51AFD891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55B-F8DF-4446-BD8C-D36CC793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907-2559-424D-A740-01F3952D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3145-5FAC-45ED-BC96-16ECF96D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FAA1-418D-4BAD-8E4E-5EDA37BB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67B-E727-459B-B00A-6B6E3AA3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DBA-1E9B-4F2A-BA78-A41C8E9F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B744-429D-423C-9E27-38B1E39C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AE52-9002-44F8-BBD5-53F18818AA2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2B04-B5AD-49AD-A77C-36FD3DDB2D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дзаголовок 2"/>
          <p:cNvSpPr/>
          <p:nvPr/>
        </p:nvSpPr>
        <p:spPr>
          <a:xfrm>
            <a:off x="0" y="2421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7915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2387"/>
                </a:solidFill>
                <a:latin typeface="Arial"/>
              </a:rPr>
              <a:t>Мероприятия Межрегионального операционного УФК, осуществляемые в рамках подготовки к приему годовой бюджетной (бухгалтерской) отчетности за 201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333360"/>
            <a:ext cx="795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2387"/>
                </a:solidFill>
                <a:latin typeface="Arial"/>
              </a:rPr>
              <a:t>Межрегиональное операционное управление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23760" y="6575400"/>
            <a:ext cx="9167760" cy="282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003640" y="4437000"/>
            <a:ext cx="295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4724280"/>
            <a:ext cx="33843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меститель руководителя Межрегионального операционного УФ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.М. Го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9e"/>
                </a:solidFill>
                <a:latin typeface="Arial"/>
              </a:rPr>
              <a:t>Количество нормативно установленных отчетных форм для субъектов бюджетной отчетности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260280"/>
            <a:ext cx="792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2387"/>
                </a:solidFill>
                <a:latin typeface="Arial"/>
              </a:rPr>
              <a:t>Межрегиональное операционное управление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1773360"/>
          <a:ext cx="8569080" cy="4750920"/>
        </p:xfrm>
        <a:graphic>
          <a:graphicData uri="http://schemas.openxmlformats.org/drawingml/2006/table">
            <a:tbl>
              <a:tblPr/>
              <a:tblGrid>
                <a:gridCol w="1857240"/>
                <a:gridCol w="1854360"/>
                <a:gridCol w="1487160"/>
                <a:gridCol w="1486080"/>
                <a:gridCol w="188424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6ea4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убъектов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6ea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отчетных форм субъектов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6ea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енное соотнош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6ea4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месяч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6ea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6ea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Ф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8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</a:tr>
              <a:tr h="72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Б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0" y="6524640"/>
            <a:ext cx="9144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250920" y="1268280"/>
            <a:ext cx="8713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2387"/>
                </a:solidFill>
                <a:latin typeface="Arial"/>
              </a:rPr>
              <a:t>Основные ошибки финансовых органов субъектов Российской Федерации</a:t>
            </a:r>
            <a:r>
              <a:rPr b="1" lang="en-US" sz="1800" spc="-1" strike="noStrike">
                <a:solidFill>
                  <a:srgbClr val="16238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хождение консолидированных данных в отчетности ФО и ГРБС по межбюджетным трансфер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хождение консолидированных данных в отчетности ФО и ГРБС по переданному и полученному имущ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шибки форматного контро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92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2387"/>
                </a:solidFill>
                <a:latin typeface="Arial"/>
              </a:rPr>
              <a:t>Межрегиональное операционное управление Федерального казначейства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50920" y="1268280"/>
            <a:ext cx="871380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2387"/>
                </a:solidFill>
                <a:latin typeface="Arial"/>
              </a:rPr>
              <a:t>Мероприятия, направленные на недопущение расхождений по межбюджетным трансфер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правление МОУ ФК с августа 2013 года, в адрес ГРБС, ФО и УФК по субъектам Российской Федерации писем о суммах межбюджетных трансфертов, зачисленных на невыясненные поступления, и необходимости их оперативного уточ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правление МОУ ФК 16.12.2013 и 09.01.2014, в адрес УФК по субъектам Российской Федерации информационных писем о перечислении из федерального бюджета межбюджетных трансфертов в разрезе расчетных документо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92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2387"/>
                </a:solidFill>
                <a:latin typeface="Arial"/>
              </a:rPr>
              <a:t>Межрегиональное операционное управление Федерального казначейства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50920" y="1268280"/>
            <a:ext cx="87138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Arial"/>
              </a:rPr>
              <a:t>Мероприятия, направленные на недопущение расхождений по переданному и полученному имущ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ьмо Минфина России от 20.09.2013 № 02-06-0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3916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 проведении промежуточной сверки взаимосвязанных расчетов по переданным и полученным активам и обязательствам по состоянию на 01.10.2013 ГРБС, ФО и ГВБФ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иод с 12.11.2013 - 18.11.2013 проведение МОУ ФК промежуточной сверки взаимосвязанных расчетов по переданному и полученному имуществу между ГРБС, ФО и ГВБФ по состоянию на 01.10.2013 с ежедневным направлением протоколов внешнего 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92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2387"/>
                </a:solidFill>
                <a:latin typeface="Arial"/>
              </a:rPr>
              <a:t>Межрегиональное операционное управление Федерального казначейства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68360" y="1341360"/>
            <a:ext cx="844704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Arial"/>
              </a:rPr>
              <a:t>Перевод на ППО «СУФД – </a:t>
            </a:r>
            <a:r>
              <a:rPr b="1" lang="en-US" sz="2000" spc="-1" strike="noStrike">
                <a:solidFill>
                  <a:srgbClr val="162387"/>
                </a:solidFill>
                <a:latin typeface="Arial"/>
              </a:rPr>
              <a:t>on-line</a:t>
            </a:r>
            <a:r>
              <a:rPr b="1" lang="ru-RU" sz="2000" spc="-1" strike="noStrike">
                <a:solidFill>
                  <a:srgbClr val="162387"/>
                </a:solidFill>
                <a:latin typeface="Arial"/>
              </a:rPr>
              <a:t>» финансовых органов субъектов Российской Федерации</a:t>
            </a:r>
            <a:r>
              <a:rPr b="1" lang="ru-RU" sz="1800" spc="-1" strike="noStrike">
                <a:solidFill>
                  <a:srgbClr val="16238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ьмо Федерального казначейства от 17.06.2013 № 42-7.4-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6-364 «О порядке представления финансовыми органами субъектов Российской Федерации бюджетной (бухгалтерской) отчет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ирование ППО «СУФД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при участии 15 ФО в период с июля по декабрь 201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ьмо Федерального казначейства о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.12.2013 № 42.7.4-05/10.6-827 «О направлении актуализированных Требований к представлению ГРБС, ФО и ГВБФ отчетности с использованием ППО «СУФД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ьмо Федерального казначейства от 18.12.2013 № 42-7.4-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1-825 «Об обеспечении электронного обмена с финансовыми орган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23.12.2013 – 01.02.201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 договоров об обмене электронными документами между МОУ ФК и финансовыми органами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921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2387"/>
                </a:solidFill>
                <a:latin typeface="Arial"/>
              </a:rPr>
              <a:t>Межрегиональное операционное управление Федерального казначейства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8129</cp:lastModifiedBy>
  <dcterms:modified xsi:type="dcterms:W3CDTF">2014-02-04T16:48:38Z</dcterms:modified>
  <cp:revision>153</cp:revision>
  <dc:subject/>
  <dc:title>Слайд 1</dc:title>
</cp:coreProperties>
</file>