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17.wmf" ContentType="image/x-wmf"/>
  <Override PartName="/ppt/media/image15.wmf" ContentType="image/x-wmf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16.wmf" ContentType="image/x-wmf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AutoShape 1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AutoShape 2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AutoShape 12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AutoShape 13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AutoShape 14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AutoShape 15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385128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21960" y="739440"/>
            <a:ext cx="493092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2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move the slide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0" y="938196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4"/>
          </p:nvPr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D42C3-8082-4087-9C20-25631F1E44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1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B7BD6-0B5C-4188-84D9-A8752FD7E4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1"/>
          <p:cNvSpPr/>
          <p:nvPr/>
        </p:nvSpPr>
        <p:spPr>
          <a:xfrm>
            <a:off x="3851280" y="9381960"/>
            <a:ext cx="2943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B95A3-CA05-4EDB-9564-C2EFACE83D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851280" y="938196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133FB-14D7-40BA-B280-84901093D0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930240" y="739800"/>
            <a:ext cx="4938840" cy="37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907920" y="4690800"/>
            <a:ext cx="49593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49840" y="938052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BE14160-54D1-48A3-8CFA-8DF9A59CF7E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51280" y="938052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9F7EA8-645D-4834-B771-EF6A29E819A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34004-88BB-49EC-9AF5-EFABC3D486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830DD-A81B-407F-A3C1-FB83E0CC05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50C0F-3E3C-4E18-B070-84A3E1BD48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14E66-F319-4B74-AB80-E17A48378F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86327-FD05-433C-A2B6-06F9BE064A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8C1CA-CFFC-4AF9-B79A-A75D1FE7F2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1BCFD-7D09-4F80-AE82-9C1BC05DAE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7D1B3-642C-4301-B881-65F9634E2D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3D05E-8204-49FE-8350-592C9ADECB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8B260-77A9-4F58-9D90-33EA765223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9730-6F7E-4D37-B66D-22629CC0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7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9840" y="3855240"/>
            <a:ext cx="87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3B72-0F89-4A94-A730-C89ED382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34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E552-8D00-44A7-AC02-887907CF6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31280" y="148752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02720" y="148752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9840" y="385524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31280" y="385524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02720" y="385524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BB95-7713-496C-AB24-91A975F8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88C6-21A8-4DDA-9732-6602AAB8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D000-C0AB-474A-BCBA-46AD4372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81FD-7436-4CF4-B1BC-0F20416F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118B-42B3-4DC7-AA9D-EE997491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708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851A-34C4-4BE5-96C5-6A80F140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D661-3ED4-4440-826A-115764EF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34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5650-E91F-4E32-ABC6-93458FD0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87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C459-E850-466A-85B8-00AE8B3C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000030"/>
          </a:solidFill>
          <a:ln w="9360">
            <a:solidFill>
              <a:srgbClr val="000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0" y="455760"/>
            <a:ext cx="185760" cy="6402240"/>
          </a:xfrm>
          <a:custGeom>
            <a:avLst/>
            <a:gdLst>
              <a:gd name="textAreaLeft" fmla="*/ 0 w 185760"/>
              <a:gd name="textAreaRight" fmla="*/ 186120 w 185760"/>
              <a:gd name="textAreaTop" fmla="*/ 0 h 6402240"/>
              <a:gd name="textAreaBottom" fmla="*/ 6402600 h 6402240"/>
            </a:gdLst>
            <a:ahLst/>
            <a:rect l="textAreaLeft" t="textAreaTop" r="textAreaRight" b="textAreaBottom"/>
            <a:pathLst>
              <a:path w="117" h="4033">
                <a:moveTo>
                  <a:pt x="0" y="4033"/>
                </a:moveTo>
                <a:lnTo>
                  <a:pt x="0" y="0"/>
                </a:lnTo>
                <a:lnTo>
                  <a:pt x="117" y="117"/>
                </a:lnTo>
                <a:lnTo>
                  <a:pt x="112" y="4033"/>
                </a:lnTo>
                <a:lnTo>
                  <a:pt x="0" y="403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3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55284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" name="Object 4"/>
          <p:cNvGraphicFramePr/>
          <p:nvPr/>
        </p:nvGraphicFramePr>
        <p:xfrm>
          <a:off x="8737560" y="0"/>
          <a:ext cx="4064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37560" y="0"/>
                    <a:ext cx="406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" name="Picture 5" descr=""/>
          <p:cNvPicPr/>
          <p:nvPr/>
        </p:nvPicPr>
        <p:blipFill>
          <a:blip r:embed="rId5"/>
          <a:stretch/>
        </p:blipFill>
        <p:spPr>
          <a:xfrm>
            <a:off x="7848720" y="0"/>
            <a:ext cx="868320" cy="457200"/>
          </a:xfrm>
          <a:prstGeom prst="rect">
            <a:avLst/>
          </a:prstGeom>
          <a:ln w="0">
            <a:noFill/>
          </a:ln>
        </p:spPr>
      </p:pic>
      <p:sp>
        <p:nvSpPr>
          <p:cNvPr id="6" name="AutoShape 6"/>
          <p:cNvSpPr/>
          <p:nvPr/>
        </p:nvSpPr>
        <p:spPr>
          <a:xfrm>
            <a:off x="-1440" y="457200"/>
            <a:ext cx="9144000" cy="1969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760" h="124">
                <a:moveTo>
                  <a:pt x="5760" y="0"/>
                </a:moveTo>
                <a:lnTo>
                  <a:pt x="0" y="4"/>
                </a:lnTo>
                <a:lnTo>
                  <a:pt x="120" y="124"/>
                </a:lnTo>
                <a:lnTo>
                  <a:pt x="5758" y="124"/>
                </a:lnTo>
                <a:lnTo>
                  <a:pt x="5760" y="0"/>
                </a:lnTo>
                <a:close/>
              </a:path>
            </a:pathLst>
          </a:custGeom>
          <a:gradFill rotWithShape="0">
            <a:gsLst>
              <a:gs pos="0">
                <a:srgbClr val="00003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2620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813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6.09.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7208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№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2720" y="6534000"/>
            <a:ext cx="256716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6AD2F8F-3EF9-447F-94BA-7F67F5C776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2280" y="6237360"/>
            <a:ext cx="89917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24000" y="2421000"/>
            <a:ext cx="8820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938160" y="1009800"/>
            <a:ext cx="879480" cy="10825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324000" y="4941720"/>
            <a:ext cx="863892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Департамент бюджетной методолог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Минфина Росс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514185"/>
                </a:solidFill>
                <a:latin typeface="Times New Roman"/>
              </a:rPr>
              <a:t>Отчетность за 2013 год</a:t>
            </a:r>
            <a:endParaRPr b="0" lang="en-US" sz="5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5800" y="1413000"/>
            <a:ext cx="8970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Пояснительная записка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9840" y="1341360"/>
            <a:ext cx="89838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формация в текстовой части раздела 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Анализ показателей бухгалтерской отчетности  субъекта  бюджетной отчетност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указанием объектов, по сверке с контрагентом дата регистрации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екращения прав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еративного управления у передающей стороны возникла в 2013г., а дата возникновения права у принимающей стороны – в 2014г. (или не возникла на дату представления отчетности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Стрелка вниз 7"/>
          <p:cNvSpPr/>
          <p:nvPr/>
        </p:nvSpPr>
        <p:spPr>
          <a:xfrm>
            <a:off x="4427640" y="549360"/>
            <a:ext cx="431640" cy="79200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5800" y="2060640"/>
            <a:ext cx="89708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endParaRPr b="0" lang="en-US" sz="33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8920" y="1125360"/>
            <a:ext cx="8788680" cy="48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Бюджетный кодек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атья 242. Завершение текущего финансового г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6. Финансовый орган устанавливает порядок обеспечения получателей бюджетных средств при завершении текущего финансового года наличными деньгами, необходимыми для осуществления их деятельности в нерабочие праздничные дни в Российской Федерации в январе очередного финансового год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п.4 ст.242 БК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использованные получателями бюджетных средств остатки бюджетных средств, находящиеся не на едином счете бюджета, не позднее двух последних рабочих дней текущего финансового года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одлежат перечислению получателями бюджетных средств на единый счет бюдже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514185"/>
                </a:solidFill>
                <a:latin typeface="Times New Roman"/>
              </a:rPr>
              <a:t>Остатки на счетах</a:t>
            </a:r>
            <a:endParaRPr b="0" lang="en-US" sz="6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11280" y="1268280"/>
            <a:ext cx="388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 201 21 00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 201 23 00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 201 27 00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 201 34 00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30320" y="1487520"/>
            <a:ext cx="318132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514185"/>
                </a:solidFill>
                <a:latin typeface="Times New Roman"/>
              </a:rPr>
              <a:t>Отражение в учете</a:t>
            </a:r>
            <a:endParaRPr b="0" lang="en-US" sz="4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9840" y="1267920"/>
            <a:ext cx="887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змере сданной наличности инкассации или через банкомат, не зачисленной на 01.01.2014 на лицевой счет (счет 40116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т 1 201 23 510     Кт 1 201 34 610      500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числение средств на счет 401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01.01.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т 1 210 03 560     Кт 1 201 23 610    500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785080" cy="3887640"/>
          </a:xfrm>
          <a:prstGeom prst="rect">
            <a:avLst/>
          </a:prstGeom>
          <a:ln w="0">
            <a:noFill/>
          </a:ln>
        </p:spPr>
      </p:pic>
      <p:sp>
        <p:nvSpPr>
          <p:cNvPr id="109" name="Стрелка вниз 2"/>
          <p:cNvSpPr/>
          <p:nvPr/>
        </p:nvSpPr>
        <p:spPr>
          <a:xfrm>
            <a:off x="4643280" y="5229360"/>
            <a:ext cx="433440" cy="720720"/>
          </a:xfrm>
          <a:prstGeom prst="downArrow">
            <a:avLst>
              <a:gd name="adj1" fmla="val 50000"/>
              <a:gd name="adj2" fmla="val 4988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108000" y="4386240"/>
            <a:ext cx="43196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5800" y="1413000"/>
            <a:ext cx="8970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Пояснительная записка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9840" y="1628640"/>
            <a:ext cx="898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«В строке 174, графы 6 формы 0503130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по счету 1 201 23 000  «Денежные средства учреждения в кредитной организации в  пути»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показан остаток  500,00  рублей в  сумме денежных  средств, внесенных  с использованием банковских кар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(сданных в учреждение инкассации), не зачисленных на 01.01.2014  на лицевой счет (на счет 40116)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Стрелка вниз 7"/>
          <p:cNvSpPr/>
          <p:nvPr/>
        </p:nvSpPr>
        <p:spPr>
          <a:xfrm>
            <a:off x="4140360" y="692280"/>
            <a:ext cx="431640" cy="79200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Стрелка вниз 2"/>
          <p:cNvSpPr/>
          <p:nvPr/>
        </p:nvSpPr>
        <p:spPr>
          <a:xfrm>
            <a:off x="4627440" y="4653000"/>
            <a:ext cx="432000" cy="72072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929800" cy="3332160"/>
          </a:xfrm>
          <a:prstGeom prst="rect">
            <a:avLst/>
          </a:prstGeom>
          <a:ln w="0">
            <a:noFill/>
          </a:ln>
        </p:spPr>
      </p:pic>
      <p:sp>
        <p:nvSpPr>
          <p:cNvPr id="116" name="Скругленный прямоугольник 1"/>
          <p:cNvSpPr/>
          <p:nvPr/>
        </p:nvSpPr>
        <p:spPr>
          <a:xfrm>
            <a:off x="5059440" y="4529160"/>
            <a:ext cx="3905280" cy="2212920"/>
          </a:xfrm>
          <a:prstGeom prst="roundRect">
            <a:avLst>
              <a:gd name="adj" fmla="val 16667"/>
            </a:avLst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формация об остатках по счету 1 201 34 000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 ПБС- с пояснением целей и указанием лимитов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пояснительной записк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Скругленный прямоугольник 5"/>
          <p:cNvSpPr/>
          <p:nvPr/>
        </p:nvSpPr>
        <p:spPr>
          <a:xfrm>
            <a:off x="458640" y="4554360"/>
            <a:ext cx="3905280" cy="2211480"/>
          </a:xfrm>
          <a:prstGeom prst="roundRect">
            <a:avLst>
              <a:gd name="adj" fmla="val 16667"/>
            </a:avLst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формация об остатках по счету 1 201 34 000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 ГРБС- обобщенные данн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дставленные в отчетах ПБ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5800" y="1413000"/>
            <a:ext cx="8970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Пояснительная записка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9840" y="1412640"/>
            <a:ext cx="8983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В строке 176, графы 6 формы 050313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по счету 1 201 34 000 «Касса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показан остаток  1000,00 руб. в  сумме денежных  средств в виде резерва на расходы по предотвращению чрезвычайных ситуаций,  лимит остатка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средств в кассе установлен в размере 1500 рублей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Стрелка вниз 7"/>
          <p:cNvSpPr/>
          <p:nvPr/>
        </p:nvSpPr>
        <p:spPr>
          <a:xfrm>
            <a:off x="4354560" y="549360"/>
            <a:ext cx="431640" cy="79200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893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Восстановить в учете долю участия в уставном капитале ГУП (МУП)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893080" cy="3154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2340000" y="4552920"/>
            <a:ext cx="446400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5800" y="731880"/>
            <a:ext cx="897084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Отчетность за 2013 год ПБС, ГРБС, АДБ, ГАДБ</a:t>
            </a:r>
            <a:br>
              <a:rPr sz="2600"/>
            </a:b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по переданным полномочиям (ФАИП)</a:t>
            </a:r>
            <a:br>
              <a:rPr sz="2600"/>
            </a:b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59840" y="1844640"/>
            <a:ext cx="87886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иказ Минфина России от 28.12.2010 N 191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б утверждении Инструкции о порядке составления и представления годовой, квартальной и месячной отчетности об исполнении бюджетов бюджетной системы Российской Федераци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 изменениями, вступившими в силу с отчета за 2013 го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5800" y="476280"/>
            <a:ext cx="8970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514185"/>
                </a:solidFill>
                <a:latin typeface="Times New Roman"/>
              </a:rPr>
              <a:t>Обязательства</a:t>
            </a:r>
            <a:endParaRPr b="0" lang="en-US" sz="4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8000" y="1125360"/>
            <a:ext cx="87883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Бюджетный кодекс  Статья 6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юджетные обязательства - расходные обязательства, подлежащие исполнению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в соответствующем финансовом год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енежные обязательства - обязанность получателя бюджетных средств уплатить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 соответствии с выполненными условиями гражданско-правовой сделк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заключенной в рамках его бюджетных полномочий, или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 соответствии с положениями закон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иного правового акта, условиями договора или соглаше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00" y="476280"/>
            <a:ext cx="8970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514185"/>
                </a:solidFill>
                <a:latin typeface="Times New Roman"/>
              </a:rPr>
              <a:t>Обязательства</a:t>
            </a:r>
            <a:endParaRPr b="0" lang="en-US" sz="4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8000" y="1197000"/>
            <a:ext cx="8788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57н  п.30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язательства участника бюджетного процесса - обусловленные законом, иным нормативным правовым актом, договором или соглашением обязанности публично-правового образования (Российской Федерации, субъекта Российской Федерации, муниципального образования) или действующего от его имени учреждения, предоставить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 соответствующем финансовом году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физическому или юридическому лицу, иному публично-правовому образованию, субъекту международного права средства из соответствующего бюджет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5800" y="476280"/>
            <a:ext cx="8970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514185"/>
                </a:solidFill>
                <a:latin typeface="Times New Roman"/>
              </a:rPr>
              <a:t>Обязательства</a:t>
            </a:r>
            <a:endParaRPr b="0" lang="en-US" sz="4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50560" y="1052640"/>
            <a:ext cx="8645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ъекты учета раздела «Санкционирование расходов экономического субъекта» учитываются по аналитическим группам синтетического счета объектов учета, формируемых по финансовым периода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lain" startAt="10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Санкционирование по текущему финансовому год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0  - Санкционирование по первому году, следующему за текущим (очередным финансовым годом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0 - Санкционирование по второму году, следующему за текущим (первым годом, следующим за очередным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40 - Санкционирование по второму году, следующему за очередны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7920" y="764640"/>
            <a:ext cx="88660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Получены лимиты бюджетных обязательств в 2013 году: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9840" y="1487160"/>
            <a:ext cx="8788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екущего года (2013 года) –КБК по 171н (КБК 2013 года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т 1 501 15 200             Кт 1 501 13 2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т 1 501 15 300             Кт 1 501 13 3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чередного финансового года (2014) – КБК по 65 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КБК  2014 года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т 1 501 25 200             Кт 1 501 23 2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т 1 501 25 300             Кт 1 501 23 3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514185"/>
                </a:solidFill>
                <a:latin typeface="Times New Roman"/>
              </a:rPr>
              <a:t>Условия договора:</a:t>
            </a:r>
            <a:endParaRPr b="0" lang="en-US" sz="4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59840" y="1412640"/>
            <a:ext cx="87886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плата производится на основании счета, представляемого не позднее 10 числа месяца, следующего за расчетны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 декабрь  2013 –оплата в январ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язательства следующего (2014) г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т 1 501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 223    Кт 1 502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 22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т 1 502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 223    Кт 1 502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 22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Стрелка вправо 1"/>
          <p:cNvSpPr/>
          <p:nvPr/>
        </p:nvSpPr>
        <p:spPr>
          <a:xfrm flipV="1">
            <a:off x="611280" y="3008160"/>
            <a:ext cx="792000" cy="144720"/>
          </a:xfrm>
          <a:prstGeom prst="rightArrow">
            <a:avLst>
              <a:gd name="adj1" fmla="val 50000"/>
              <a:gd name="adj2" fmla="val 4976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514185"/>
                </a:solidFill>
                <a:latin typeface="Times New Roman"/>
              </a:rPr>
              <a:t>Положения Закона:</a:t>
            </a:r>
            <a:endParaRPr b="0" lang="en-US" sz="4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9840" y="1412640"/>
            <a:ext cx="87886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атья 333.14. Порядок и сроки уплаты налог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. Налог подлежит уплате в срок не позднее 20-го числа месяца, следующего за истекшим налоговым периодо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 4 квартал  2013 –оплата 20 января  2014 г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язательства следующего (2014) г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т 1 501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 290      Кт 1 502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 29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т 1 502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 290      Кт 1 502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 29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Стрелка вправо 1"/>
          <p:cNvSpPr/>
          <p:nvPr/>
        </p:nvSpPr>
        <p:spPr>
          <a:xfrm>
            <a:off x="755640" y="3500280"/>
            <a:ext cx="792000" cy="119160"/>
          </a:xfrm>
          <a:prstGeom prst="rightArrow">
            <a:avLst>
              <a:gd name="adj1" fmla="val 50000"/>
              <a:gd name="adj2" fmla="val 49387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Отчет о принятых бюджетных  обязательствах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50920" y="1268280"/>
          <a:ext cx="8785080" cy="3772080"/>
        </p:xfrm>
        <a:graphic>
          <a:graphicData uri="http://schemas.openxmlformats.org/drawingml/2006/table">
            <a:tbl>
              <a:tblPr/>
              <a:tblGrid>
                <a:gridCol w="1546200"/>
                <a:gridCol w="298440"/>
                <a:gridCol w="644400"/>
                <a:gridCol w="679680"/>
                <a:gridCol w="753840"/>
                <a:gridCol w="757440"/>
                <a:gridCol w="650880"/>
                <a:gridCol w="657000"/>
                <a:gridCol w="741600"/>
                <a:gridCol w="682560"/>
                <a:gridCol w="707760"/>
                <a:gridCol w="665280"/>
              </a:tblGrid>
              <a:tr h="1620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верждено (доведено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ято обязательств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 row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исполн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560">
                <a:tc rowSpan="5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20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год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х обязательств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нежных обязательств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о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митов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нежных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ят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ят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ифи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ссигнова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р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р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язательств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нежн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ци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язательств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вержденн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вержденн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язательств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язательств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5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Бюджетные обязательства по расходам, всего: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10332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0332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луги связ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Б 2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,00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,00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,00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,00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ы, услуги по содержанию имущества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Б 2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00,00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00,00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50,00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50,00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,00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расход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Б 2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,00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,00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,00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,00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0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Прямоугольник 4"/>
          <p:cNvSpPr/>
          <p:nvPr/>
        </p:nvSpPr>
        <p:spPr>
          <a:xfrm>
            <a:off x="3203640" y="2994120"/>
            <a:ext cx="1008000" cy="43488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 501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 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Стрелка вниз 5"/>
          <p:cNvSpPr/>
          <p:nvPr/>
        </p:nvSpPr>
        <p:spPr>
          <a:xfrm>
            <a:off x="7812000" y="5100480"/>
            <a:ext cx="432000" cy="358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Скругленный прямоугольник 6"/>
          <p:cNvSpPr/>
          <p:nvPr/>
        </p:nvSpPr>
        <p:spPr>
          <a:xfrm>
            <a:off x="6300720" y="5518080"/>
            <a:ext cx="2719440" cy="1152720"/>
          </a:xfrm>
          <a:prstGeom prst="roundRect">
            <a:avLst>
              <a:gd name="adj" fmla="val 16667"/>
            </a:avLst>
          </a:prstGeom>
          <a:solidFill>
            <a:srgbClr val="47f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чины неисполнения в текстовой части пояснительной записк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Выноска со стрелкой влево 7"/>
          <p:cNvSpPr/>
          <p:nvPr/>
        </p:nvSpPr>
        <p:spPr>
          <a:xfrm>
            <a:off x="8893080" y="2565360"/>
            <a:ext cx="2232000" cy="1727280"/>
          </a:xfrm>
          <a:prstGeom prst="leftArrowCallout">
            <a:avLst>
              <a:gd name="adj1" fmla="val 25002"/>
              <a:gd name="adj2" fmla="val 25000"/>
              <a:gd name="adj3" fmla="val 25000"/>
              <a:gd name="adj4" fmla="val 64983"/>
            </a:avLst>
          </a:prstGeom>
          <a:solidFill>
            <a:srgbClr val="c2ff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т требований к увязк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. 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 ф. 050316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920" y="731520"/>
            <a:ext cx="886608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Не исполнено бюджетных (денежных) обязательств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в текстовой части пояснительной записки – причины неисполнения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2421000"/>
          <a:ext cx="8640720" cy="3200400"/>
        </p:xfrm>
        <a:graphic>
          <a:graphicData uri="http://schemas.openxmlformats.org/drawingml/2006/table">
            <a:tbl>
              <a:tblPr/>
              <a:tblGrid>
                <a:gridCol w="1403280"/>
                <a:gridCol w="7237440"/>
              </a:tblGrid>
              <a:tr h="457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Г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 неисполнения принятых обязательст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агентами нарушены сроки выполнения работ, работы по договору в установленный срок не выполне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агентами нарушены сроки выполнения работ, документы на оплату представлены 31.12.2013, исполнение денежных обязательств - январь 20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ы –основания для принятия и исполнения обязательств получены в январе 2014 г, сроки исполнения  принятых обязательств - 2013 год, контрагентами нарушены сроки представления докумен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Стрелка вниз 4"/>
          <p:cNvSpPr/>
          <p:nvPr/>
        </p:nvSpPr>
        <p:spPr>
          <a:xfrm>
            <a:off x="4748040" y="1125360"/>
            <a:ext cx="432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5800" y="549000"/>
            <a:ext cx="89708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Особенности составления отдельных форм пояснительной записки ( ф.0503160)</a:t>
            </a:r>
            <a:br>
              <a:rPr sz="3300"/>
            </a:b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за 2013 год</a:t>
            </a:r>
            <a:br>
              <a:rPr sz="3300"/>
            </a:br>
            <a:endParaRPr b="0" lang="en-US" sz="33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9840" y="2707920"/>
            <a:ext cx="87886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5800" y="475920"/>
            <a:ext cx="897084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Times New Roman"/>
              </a:rPr>
              <a:t>Положения Бюджетного кодекса</a:t>
            </a:r>
            <a:br>
              <a:rPr sz="3200"/>
            </a:br>
            <a:r>
              <a:rPr b="1" lang="ru-RU" sz="3200" spc="-1" strike="noStrike">
                <a:solidFill>
                  <a:srgbClr val="262699"/>
                </a:solidFill>
                <a:latin typeface="Times New Roman"/>
              </a:rPr>
              <a:t> Российской Федерации</a:t>
            </a:r>
            <a:endParaRPr b="0" lang="en-US" sz="32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59840" y="1628640"/>
            <a:ext cx="898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атья 265. Виды государственного (муниципального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финансового  контрол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осударственный (муниципальный) финансовый контрол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дразделяется на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нешни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нутрен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5800" y="731880"/>
            <a:ext cx="897084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Сводная отчетность за 2013 </a:t>
            </a:r>
            <a:br>
              <a:rPr sz="2600"/>
            </a:b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бюджетных и автономных учреждений</a:t>
            </a:r>
            <a:br>
              <a:rPr sz="2600"/>
            </a:b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59840" y="1844640"/>
            <a:ext cx="87886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иказ Минфина России от 25.03.2011 N 33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б утверждении Инструкции о порядке составления, представления годовой, квартальной бухгалтерской отчетности государственных (муниципальных) бюджетных и автономных учрежде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00" y="476280"/>
            <a:ext cx="8970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 </a:t>
            </a:r>
            <a:br>
              <a:rPr sz="2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Внутренний государственный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(муниципальный) финансовый контроль</a:t>
            </a:r>
            <a:br>
              <a:rPr sz="3600"/>
            </a:b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59840" y="1628280"/>
            <a:ext cx="8983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-  Федеральная  служба финансово-бюджетного надзор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-  Органы  государственного    финансового     контроля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исполнительной власти субъектов РФ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-  Органы  муниципального финансового  контрол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местных администрац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===========================================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- Федеральное  казначейство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- финансовые  органы субъектов РФ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- финансовые  органы муниципальных образова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5800" y="731880"/>
            <a:ext cx="897084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 </a:t>
            </a:r>
            <a:br>
              <a:rPr sz="2600"/>
            </a:b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Информация о результатах контрольных мероприятий </a:t>
            </a: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-органов государственного (муниципального) финансового контроля</a:t>
            </a: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-Федеральной  службы финансово-бюджетного надзора</a:t>
            </a:r>
            <a:br>
              <a:rPr sz="2600"/>
            </a:b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324000" y="3284640"/>
            <a:ext cx="8510400" cy="2376360"/>
          </a:xfrm>
          <a:prstGeom prst="rect">
            <a:avLst/>
          </a:prstGeom>
          <a:ln w="0">
            <a:noFill/>
          </a:ln>
        </p:spPr>
      </p:pic>
      <p:sp>
        <p:nvSpPr>
          <p:cNvPr id="156" name="Стрелка вниз 3"/>
          <p:cNvSpPr/>
          <p:nvPr/>
        </p:nvSpPr>
        <p:spPr>
          <a:xfrm>
            <a:off x="4284720" y="692280"/>
            <a:ext cx="503280" cy="720720"/>
          </a:xfrm>
          <a:prstGeom prst="downArrow">
            <a:avLst>
              <a:gd name="adj1" fmla="val 50000"/>
              <a:gd name="adj2" fmla="val 50121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Заголовок 1"/>
          <p:cNvSpPr/>
          <p:nvPr/>
        </p:nvSpPr>
        <p:spPr>
          <a:xfrm>
            <a:off x="173160" y="692280"/>
            <a:ext cx="897084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Внешний государственный (муниципальный) финансовый контрол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59840" y="1915920"/>
            <a:ext cx="8788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 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тная палата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трольно -счетные органы субъектов Р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контрольно - счетные органы муниципаль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5800" y="731880"/>
            <a:ext cx="8970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 </a:t>
            </a:r>
            <a:br>
              <a:rPr sz="2600"/>
            </a:b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Информация о результатах контрольных мероприятий </a:t>
            </a: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-контрольно-счетных органов </a:t>
            </a:r>
            <a:br>
              <a:rPr sz="2600"/>
            </a:b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-Счетной Палаты РФ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61" name="Стрелка вниз 3"/>
          <p:cNvSpPr/>
          <p:nvPr/>
        </p:nvSpPr>
        <p:spPr>
          <a:xfrm>
            <a:off x="4278240" y="549360"/>
            <a:ext cx="501840" cy="720720"/>
          </a:xfrm>
          <a:prstGeom prst="downArrow">
            <a:avLst>
              <a:gd name="adj1" fmla="val 50000"/>
              <a:gd name="adj2" fmla="val 50265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222120" y="2997360"/>
            <a:ext cx="892188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5800" y="549000"/>
            <a:ext cx="89708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Особенности составления отдельных форм отчетности бюджетных и автономных учреждений</a:t>
            </a:r>
            <a:br>
              <a:rPr sz="3300"/>
            </a:b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за 2013 год</a:t>
            </a:r>
            <a:br>
              <a:rPr sz="3300"/>
            </a:br>
            <a:endParaRPr b="0" lang="en-US" sz="33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59840" y="2707920"/>
            <a:ext cx="87886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5800" y="620640"/>
            <a:ext cx="897084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Баланс государственного (муниципального) учреждения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 (ф. 0503730)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50920" y="1773360"/>
          <a:ext cx="8893080" cy="3720960"/>
        </p:xfrm>
        <a:graphic>
          <a:graphicData uri="http://schemas.openxmlformats.org/drawingml/2006/table">
            <a:tbl>
              <a:tblPr/>
              <a:tblGrid>
                <a:gridCol w="2819160"/>
                <a:gridCol w="255600"/>
                <a:gridCol w="897120"/>
                <a:gridCol w="831960"/>
                <a:gridCol w="657000"/>
                <a:gridCol w="498600"/>
                <a:gridCol w="857160"/>
                <a:gridCol w="854280"/>
                <a:gridCol w="664920"/>
                <a:gridCol w="557280"/>
              </a:tblGrid>
              <a:tr h="660240">
                <a:tc>
                  <a:txBody>
                    <a:bodyPr lIns="39492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9492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орма 0503730 с. 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 начало год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 конец отчетного периода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тро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ность с целевыми средствам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ность по оказанию услуг (работ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редства в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ность с целевыми средствам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ность по оказанию услуг (работ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редства в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 К Т И 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ременно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ременно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поряжен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поряжен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36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ложения в нефинансовые активы (010600000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39492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9492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39492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недвижимое имущество учреждения (010610000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9492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39492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особо ценное движимое имущество учреждения (010620000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9492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39492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иное движимое имущество учреждения (010630000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9492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39492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предметы лизинга (010640000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9492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Прямоугольник 4"/>
          <p:cNvSpPr/>
          <p:nvPr/>
        </p:nvSpPr>
        <p:spPr>
          <a:xfrm>
            <a:off x="3780000" y="4076640"/>
            <a:ext cx="4824360" cy="576360"/>
          </a:xfrm>
          <a:prstGeom prst="rect">
            <a:avLst/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татки по счету 0 106 10 000 разъяснены в текстовой части пояснительной запис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50920" y="1844640"/>
          <a:ext cx="8893080" cy="3800520"/>
        </p:xfrm>
        <a:graphic>
          <a:graphicData uri="http://schemas.openxmlformats.org/drawingml/2006/table">
            <a:tbl>
              <a:tblPr/>
              <a:tblGrid>
                <a:gridCol w="2711520"/>
                <a:gridCol w="244440"/>
                <a:gridCol w="863640"/>
                <a:gridCol w="799920"/>
                <a:gridCol w="631800"/>
                <a:gridCol w="820800"/>
                <a:gridCol w="824040"/>
                <a:gridCol w="820440"/>
                <a:gridCol w="640080"/>
                <a:gridCol w="536400"/>
              </a:tblGrid>
              <a:tr h="190440">
                <a:tc>
                  <a:txBody>
                    <a:bodyPr lIns="39492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9492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орма 0503730 с. 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640">
                <a:tc row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 К Т И В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стро- ки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 начало го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 конец отчетного перио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ность с целевыми средствами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ность по оказанию услуг (работ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редства во временном распоряжении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ность с целевыми средствами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ность по оказанию услуг (работ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редства во временном распоряжении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II. 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инансовые активы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нежные средства учреждения (020100000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7080">
                <a:tc>
                  <a:txBody>
                    <a:bodyPr lIns="39492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 лицевых счетах в органе казначейства (020111000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9492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39492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редства в органе казначейства в пути  (020113000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9492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800">
                <a:tc>
                  <a:txBody>
                    <a:bodyPr lIns="39492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 счетах в кредитной организации (020121000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9492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39492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редства в кредитной организации в пути (020123000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9492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39492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ккредитивы на счетах учреждения в кредитной организации (020126000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9492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39492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редства в иностранной валюте на счетах в кредитной организации (020127000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9492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39492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асса (020134000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9492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080">
                <a:tc>
                  <a:txBody>
                    <a:bodyPr lIns="39492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нежные документы (020135000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9492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39492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редства, размещенные на депозиты в кредитной организации (02012200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9492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Баланс государственного (муниципального) учреждения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 (ф. 0503730)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70" name="Скругленный прямоугольник 1"/>
          <p:cNvSpPr/>
          <p:nvPr/>
        </p:nvSpPr>
        <p:spPr>
          <a:xfrm>
            <a:off x="5219640" y="5084640"/>
            <a:ext cx="3924360" cy="865440"/>
          </a:xfrm>
          <a:prstGeom prst="roundRect">
            <a:avLst>
              <a:gd name="adj" fmla="val 16667"/>
            </a:avLst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таток по счету 201 22 000 только у автономны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147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514185"/>
                </a:solidFill>
                <a:latin typeface="Times New Roman"/>
              </a:rPr>
              <a:t>Статья 298 ГК</a:t>
            </a:r>
            <a:endParaRPr b="0" lang="en-US" sz="28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8000" y="1052640"/>
            <a:ext cx="8856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Бюджетное учреждение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ез согласия собственника не вправе распоряжаться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особо ценным движимым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муществом,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закрепленны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за ним собственником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или приобретенным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юджетным учреждением за счет средств, выделенных ему собственником на приобретение такого имущества,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 также недвижимым имущество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втономное учреждение без согласия собственника не вправе распоряжаться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недвижимым имуществом и особо ценным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вижимым имуществом,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закрепленными за ним собственником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ли приобретенными автономным учреждением за счет средств, выделенных ему собственником на приобретение такого имуществ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6553080" y="6534000"/>
            <a:ext cx="25671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5EE6169-4B0B-42E3-9014-F3E7AF7E3C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549000"/>
            <a:ext cx="814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514185"/>
                </a:solidFill>
                <a:latin typeface="Times New Roman"/>
              </a:rPr>
              <a:t>Особо ценное движимое имущество</a:t>
            </a:r>
            <a:endParaRPr b="0" lang="en-US" sz="28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07640" y="1699920"/>
            <a:ext cx="921708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«О некоммерческих организациях» от 12.01.1996 № 7-ФЗ   пункт 11 статья 9.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«Об автономных учреждениях» от 03.11.2006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74-ФЗ статья 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Имущество, без которого осуществление учреждением своей уставной деятельности  (основных видов деятельности)  будет существенно затруднено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6553080" y="6534000"/>
            <a:ext cx="25671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D916017-DA9F-46FB-92A4-1194759BB2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160200" y="1773360"/>
          <a:ext cx="8788680" cy="4010040"/>
        </p:xfrm>
        <a:graphic>
          <a:graphicData uri="http://schemas.openxmlformats.org/drawingml/2006/table">
            <a:tbl>
              <a:tblPr/>
              <a:tblGrid>
                <a:gridCol w="3108600"/>
                <a:gridCol w="279360"/>
                <a:gridCol w="676080"/>
                <a:gridCol w="665280"/>
                <a:gridCol w="717480"/>
                <a:gridCol w="544680"/>
                <a:gridCol w="774720"/>
                <a:gridCol w="688680"/>
                <a:gridCol w="725760"/>
                <a:gridCol w="608040"/>
              </a:tblGrid>
              <a:tr h="2174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 начало год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 конец отчетного периода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тро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ност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ност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редства в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ност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ност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редства в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 К Т И В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 целевым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оказанию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ременном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 целевым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оказанию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ременном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редствам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слуг (работ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поряжени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редствам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слуг (работ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поряжени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I.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финансовые активы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907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сновные средства (балансовая стоимость, 010100000)*, всего                                                                     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2178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178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2178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движимое имущество учреждения (010110000)*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178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2178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собо ценное движимое имущество учреждения (010120000)*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178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2178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ое движимое имущество учреждения (010130000)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178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2178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едметы лизинга (010140000)*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178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Прямоугольник 4"/>
          <p:cNvSpPr/>
          <p:nvPr/>
        </p:nvSpPr>
        <p:spPr>
          <a:xfrm>
            <a:off x="3924360" y="4724280"/>
            <a:ext cx="5018040" cy="576360"/>
          </a:xfrm>
          <a:prstGeom prst="rect">
            <a:avLst/>
          </a:prstGeom>
          <a:solidFill>
            <a:srgbClr val="47ffd1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т требования о равенстве данным Перечня ОЦД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Баланс государственного (муниципального) учреждения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 (ф. 0503730)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5800" y="731880"/>
            <a:ext cx="897084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Письмо Минфина России и Федерального казначейства от 24.12.2013 </a:t>
            </a:r>
            <a:br>
              <a:rPr sz="2600"/>
            </a:b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№№ 02-07-007/57102 и 42-7.4-05/2.1-854 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59840" y="2133360"/>
            <a:ext cx="8788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 особенностях составления и представления годовой отчетности финансовыми органами субъектов Российской Федерации и органами управления государственными внебюджетными фондами за 2013 го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0" y="620640"/>
          <a:ext cx="9144000" cy="5424480"/>
        </p:xfrm>
        <a:graphic>
          <a:graphicData uri="http://schemas.openxmlformats.org/drawingml/2006/table">
            <a:tbl>
              <a:tblPr/>
              <a:tblGrid>
                <a:gridCol w="3122640"/>
                <a:gridCol w="412560"/>
                <a:gridCol w="690840"/>
                <a:gridCol w="768240"/>
                <a:gridCol w="692280"/>
                <a:gridCol w="614160"/>
                <a:gridCol w="774720"/>
                <a:gridCol w="728640"/>
                <a:gridCol w="728640"/>
                <a:gridCol w="611280"/>
              </a:tblGrid>
              <a:tr h="189000">
                <a:tc rowSpan="5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 К Т И 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стро- к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 начало го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 конец отчетного перио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ность с целевыми средства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ность по оказанию услуг (работ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редства в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ность с целевыми средства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ность по оказанию услуг (работ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редства в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ременн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ремен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поряжен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поряжен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90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чие расчеты с дебиторами (02100000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3024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четы по НДС по приобретенным материальным ценностям, работам, услугам (02100100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0240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3024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четы с финансовым органом по наличным денежным средствам (02100300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0240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3024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четы с прочими дебиторами (02100500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0240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360">
                <a:tc>
                  <a:txBody>
                    <a:bodyPr lIns="3024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четы с учредителем (021006000)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0240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520">
                <a:tc>
                  <a:txBody>
                    <a:bodyPr lIns="3024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казатель уменьшения балансовой стоимости ОЦИ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0240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3024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истая стоимость ОЦИ (стр. 336+стр.337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0240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TextBox 1"/>
          <p:cNvSpPr/>
          <p:nvPr/>
        </p:nvSpPr>
        <p:spPr>
          <a:xfrm>
            <a:off x="971640" y="11592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аланс (ф. 050373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Прямоугольник 4"/>
          <p:cNvSpPr/>
          <p:nvPr/>
        </p:nvSpPr>
        <p:spPr>
          <a:xfrm>
            <a:off x="4151160" y="2852640"/>
            <a:ext cx="4807080" cy="1727280"/>
          </a:xfrm>
          <a:prstGeom prst="rect">
            <a:avLst/>
          </a:prstGeom>
          <a:solidFill>
            <a:srgbClr val="47ffd1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чет 210 06 000 – недвижимое   имущество бюджетные учреждения (4 +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движимое  автономные учреждения (4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ЦДИ (по 4) – бюджетные, автономные учреждения после изменения тип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ЦДИ (2+4+7) -закрепленно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Прямоугольник 5"/>
          <p:cNvSpPr/>
          <p:nvPr/>
        </p:nvSpPr>
        <p:spPr>
          <a:xfrm>
            <a:off x="4151160" y="4724280"/>
            <a:ext cx="4753080" cy="865440"/>
          </a:xfrm>
          <a:prstGeom prst="rect">
            <a:avLst/>
          </a:prstGeom>
          <a:solidFill>
            <a:srgbClr val="d2d2f4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умма амортизации по имуществу с ограниченным правом распоряжения, балансовая стоимость которого отражена на счете 210 06 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Прямоугольник 6"/>
          <p:cNvSpPr/>
          <p:nvPr/>
        </p:nvSpPr>
        <p:spPr>
          <a:xfrm>
            <a:off x="2604960" y="3873600"/>
            <a:ext cx="145116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алансовая стоимост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Прямоугольник 7"/>
          <p:cNvSpPr/>
          <p:nvPr/>
        </p:nvSpPr>
        <p:spPr>
          <a:xfrm>
            <a:off x="4140360" y="5661000"/>
            <a:ext cx="4763880" cy="360360"/>
          </a:xfrm>
          <a:prstGeom prst="rect">
            <a:avLst/>
          </a:prstGeom>
          <a:solidFill>
            <a:srgbClr val="d2d2f4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мма строк 336 и 33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Прямоугольник 8"/>
          <p:cNvSpPr/>
          <p:nvPr/>
        </p:nvSpPr>
        <p:spPr>
          <a:xfrm>
            <a:off x="4078440" y="1955880"/>
            <a:ext cx="4825800" cy="360360"/>
          </a:xfrm>
          <a:prstGeom prst="rect">
            <a:avLst/>
          </a:prstGeom>
          <a:solidFill>
            <a:srgbClr val="d2d2f4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30 = 331+333+335+33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358920" y="1461960"/>
          <a:ext cx="8785080" cy="4978440"/>
        </p:xfrm>
        <a:graphic>
          <a:graphicData uri="http://schemas.openxmlformats.org/drawingml/2006/table">
            <a:tbl>
              <a:tblPr/>
              <a:tblGrid>
                <a:gridCol w="3000240"/>
                <a:gridCol w="395280"/>
                <a:gridCol w="665280"/>
                <a:gridCol w="738000"/>
                <a:gridCol w="663480"/>
                <a:gridCol w="590760"/>
                <a:gridCol w="744480"/>
                <a:gridCol w="700200"/>
                <a:gridCol w="699840"/>
                <a:gridCol w="587520"/>
              </a:tblGrid>
              <a:tr h="194400">
                <a:tc rowSpan="5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 К Т И 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стро- к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 начало го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 конец отчетного перио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ность с целевыми средства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ность по оказанию услуг (работ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редства в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ность с целевыми средства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ность по оказанию услуг (работ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редства в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ременн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ремен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поряжен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поряжен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44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чие расчеты с дебиторами (02100000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4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3024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четы по НДС по приобретенным материальным ценностям, работам, услугам (02100100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0240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3024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четы с финансовым органом по наличным денежным средствам (02100300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0240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3024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четы с прочими дебиторами (02100500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0240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3024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четы с учредителем (021006000)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0240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3024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казатель уменьшения балансовой стоимости ОЦИ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0240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3024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истая стоимость ОЦИ (стр. 336+стр.337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0240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TextBox 1"/>
          <p:cNvSpPr/>
          <p:nvPr/>
        </p:nvSpPr>
        <p:spPr>
          <a:xfrm>
            <a:off x="250920" y="692280"/>
            <a:ext cx="8785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аланс государственного (муниципального) учреждения (ф. 050373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Прямоугольник 4"/>
          <p:cNvSpPr/>
          <p:nvPr/>
        </p:nvSpPr>
        <p:spPr>
          <a:xfrm>
            <a:off x="4284720" y="4799160"/>
            <a:ext cx="4859280" cy="720720"/>
          </a:xfrm>
          <a:prstGeom prst="rect">
            <a:avLst/>
          </a:prstGeom>
          <a:solidFill>
            <a:srgbClr val="47ffd1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т требования о равенстве показателя строки 336 сумме строк 011+0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179280" y="1068480"/>
          <a:ext cx="8964720" cy="5578560"/>
        </p:xfrm>
        <a:graphic>
          <a:graphicData uri="http://schemas.openxmlformats.org/drawingml/2006/table">
            <a:tbl>
              <a:tblPr/>
              <a:tblGrid>
                <a:gridCol w="2916360"/>
                <a:gridCol w="360360"/>
                <a:gridCol w="358920"/>
                <a:gridCol w="720720"/>
                <a:gridCol w="720720"/>
                <a:gridCol w="811080"/>
                <a:gridCol w="755640"/>
                <a:gridCol w="743040"/>
                <a:gridCol w="714240"/>
                <a:gridCol w="863640"/>
              </a:tblGrid>
              <a:tr h="2811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твержд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полнено плановых 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 исполн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11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показател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тро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нали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лицевы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банковск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кассу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кассовым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и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режден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перациям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- все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собственност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аренды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оказания платных услуг (работ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756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штрафов, пеней, иных сумм принудительного изъят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56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езвозмездные  поступления от бюджет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368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ступления от наднациональных организаций и правительств  иностранных государст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ступления от международных финансовых организац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операций с активам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основных средст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нематериальн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непроизведенн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материальных запас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ценных бумаг, кроме акц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акций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иных финансов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чие доход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140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сидии на выполнение государственного (муниципального) зада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сидии на иные цел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ные инвестиц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ые доход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Особенности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формирования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Отчета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0503737</a:t>
            </a:r>
            <a:br>
              <a:rPr sz="2400"/>
            </a:b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6588000" y="4056120"/>
            <a:ext cx="2448000" cy="1800000"/>
          </a:xfrm>
          <a:prstGeom prst="wedgeRoundRectCallout">
            <a:avLst>
              <a:gd name="adj1" fmla="val 31912"/>
              <a:gd name="adj2" fmla="val -162782"/>
              <a:gd name="adj3" fmla="val 16667"/>
            </a:avLst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Отчет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ф. 0503737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Гр. 10 =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гр. 4 – гр. 9 (если гр. 4 не равна 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( ноль)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Особенности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формирования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Отчета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0503737</a:t>
            </a:r>
            <a:br>
              <a:rPr sz="2400"/>
            </a:b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52360" y="1063800"/>
            <a:ext cx="8639280" cy="473040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"/>
          <p:cNvSpPr/>
          <p:nvPr/>
        </p:nvSpPr>
        <p:spPr>
          <a:xfrm>
            <a:off x="3132000" y="3645000"/>
            <a:ext cx="5832720" cy="2520720"/>
          </a:xfrm>
          <a:prstGeom prst="wedgeRoundRectCallout">
            <a:avLst>
              <a:gd name="adj1" fmla="val -43148"/>
              <a:gd name="adj2" fmla="val -68958"/>
              <a:gd name="adj3" fmla="val 16667"/>
            </a:avLst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- при получении денежных средств в кассу и возврату из нее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- при движении средств между валютным счетом и лицевым (покупка и продажа валюты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- при отражении средств в пути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(при использовании банковских карт для получения наличных денег в кассу учреждения и сдаче наличности через банкомат -199н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Особенности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формирования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Отчета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0503737</a:t>
            </a:r>
            <a:br>
              <a:rPr sz="2400"/>
            </a:b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254160" y="1312920"/>
            <a:ext cx="8637480" cy="47260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3924360" y="4797360"/>
            <a:ext cx="4824360" cy="1079640"/>
          </a:xfrm>
          <a:prstGeom prst="wedgeRoundRectCallout">
            <a:avLst>
              <a:gd name="adj1" fmla="val -67106"/>
              <a:gd name="adj2" fmla="val -8666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при перечислении денежных средств между учреждением и его обособленным подразделением (филиалом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Особенности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формирования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Отчета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0503737</a:t>
            </a:r>
            <a:br>
              <a:rPr sz="2400"/>
            </a:b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254160" y="1312920"/>
            <a:ext cx="8637480" cy="472608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6"/>
          <p:cNvSpPr/>
          <p:nvPr/>
        </p:nvSpPr>
        <p:spPr>
          <a:xfrm>
            <a:off x="4211640" y="3068640"/>
            <a:ext cx="4680000" cy="3240000"/>
          </a:xfrm>
          <a:prstGeom prst="wedgeRoundRectCallout">
            <a:avLst>
              <a:gd name="adj1" fmla="val -74666"/>
              <a:gd name="adj2" fmla="val 28074"/>
              <a:gd name="adj3" fmla="val 16667"/>
            </a:avLst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- при осуществлении оплаты в пределах остатка средств на лицевом счете обязательств, принятых за счет других источников финансового обеспечения (2,3,4,7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- при осуществлении некассовых операций по исполнению обязательств, принятых за счет иных видов финансового обеспеч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179280" y="1017720"/>
          <a:ext cx="8964720" cy="5868720"/>
        </p:xfrm>
        <a:graphic>
          <a:graphicData uri="http://schemas.openxmlformats.org/drawingml/2006/table">
            <a:tbl>
              <a:tblPr/>
              <a:tblGrid>
                <a:gridCol w="2916360"/>
                <a:gridCol w="360360"/>
                <a:gridCol w="358920"/>
                <a:gridCol w="720720"/>
                <a:gridCol w="612720"/>
                <a:gridCol w="919080"/>
                <a:gridCol w="755640"/>
                <a:gridCol w="743040"/>
                <a:gridCol w="714240"/>
                <a:gridCol w="863640"/>
              </a:tblGrid>
              <a:tr h="2811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твержд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полнено плановых 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 исполн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показател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тро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нали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лицевы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банковск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кассу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кассовым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5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и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режден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перациям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43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66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- все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собственност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аренды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оказания платных услуг (работ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4800">
                <a:tc>
                  <a:txBody>
                    <a:bodyPr lIns="756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штрафов, пеней, иных сумм принудительного изъят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56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езвозмездные  поступления от бюджет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368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ступления от наднациональных организаций и правительств  иностранных государст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ступления от международных финансовых организац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66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операций с активам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основных средст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668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нематериальн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48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непроизведенн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материальных запас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56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ценных бумаг, кроме акц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акций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900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иных финансов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0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чие доход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сидии на выполнение государственного (муниципального) зада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20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сидии на иные цели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ные инвестиц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3960"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ые доход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1300.0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964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Особенности формирования Отчета 0503737 </a:t>
            </a:r>
            <a:br>
              <a:rPr sz="2400"/>
            </a:b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по виду деятельности </a:t>
            </a: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«5» Субсидии на иные цели</a:t>
            </a:r>
            <a:endParaRPr b="0" lang="en-US" sz="2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04" name="Прямая соединительная линия 9"/>
          <p:cNvSpPr/>
          <p:nvPr/>
        </p:nvSpPr>
        <p:spPr>
          <a:xfrm>
            <a:off x="4572000" y="1773360"/>
            <a:ext cx="3672000" cy="45352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Прямая соединительная линия 11"/>
          <p:cNvSpPr/>
          <p:nvPr/>
        </p:nvSpPr>
        <p:spPr>
          <a:xfrm flipV="1">
            <a:off x="4500720" y="1773360"/>
            <a:ext cx="3743280" cy="44640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Скругленная прямоугольная выноска 5"/>
          <p:cNvSpPr/>
          <p:nvPr/>
        </p:nvSpPr>
        <p:spPr>
          <a:xfrm>
            <a:off x="4427640" y="4941720"/>
            <a:ext cx="2484360" cy="908280"/>
          </a:xfrm>
          <a:prstGeom prst="wedgeRoundRectCallout">
            <a:avLst>
              <a:gd name="adj1" fmla="val -76847"/>
              <a:gd name="adj2" fmla="val 113050"/>
              <a:gd name="adj3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бсидии на иные цели 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Прямая соединительная линия 17"/>
          <p:cNvSpPr/>
          <p:nvPr/>
        </p:nvSpPr>
        <p:spPr>
          <a:xfrm flipV="1">
            <a:off x="5364000" y="6597720"/>
            <a:ext cx="3095640" cy="712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Прямая соединительная линия 19"/>
          <p:cNvSpPr/>
          <p:nvPr/>
        </p:nvSpPr>
        <p:spPr>
          <a:xfrm>
            <a:off x="5219640" y="6597720"/>
            <a:ext cx="3024360" cy="712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Овал 10"/>
          <p:cNvSpPr/>
          <p:nvPr/>
        </p:nvSpPr>
        <p:spPr>
          <a:xfrm>
            <a:off x="34920" y="6308640"/>
            <a:ext cx="410544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Скругленная прямоугольная выноска 14"/>
          <p:cNvSpPr/>
          <p:nvPr/>
        </p:nvSpPr>
        <p:spPr>
          <a:xfrm>
            <a:off x="4822920" y="5850000"/>
            <a:ext cx="4213080" cy="603360"/>
          </a:xfrm>
          <a:prstGeom prst="wedgeRoundRectCallout">
            <a:avLst>
              <a:gd name="adj1" fmla="val -73513"/>
              <a:gd name="adj2" fmla="val 99592"/>
              <a:gd name="adj3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т неиспользованной субсидии 2012 го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179280" y="1068480"/>
          <a:ext cx="8964720" cy="5730840"/>
        </p:xfrm>
        <a:graphic>
          <a:graphicData uri="http://schemas.openxmlformats.org/drawingml/2006/table">
            <a:tbl>
              <a:tblPr/>
              <a:tblGrid>
                <a:gridCol w="2916360"/>
                <a:gridCol w="360360"/>
                <a:gridCol w="358920"/>
                <a:gridCol w="720720"/>
                <a:gridCol w="720720"/>
                <a:gridCol w="811080"/>
                <a:gridCol w="755640"/>
                <a:gridCol w="743040"/>
                <a:gridCol w="714240"/>
                <a:gridCol w="863640"/>
              </a:tblGrid>
              <a:tr h="2811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твержд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полнено плановых 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 исполн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11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показател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тро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нали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лицевы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банковск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кассу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кассовым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и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режден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перациям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- все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собственност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аренды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оказания платных услуг (работ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756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штрафов, пеней, иных сумм принудительного изъят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56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езвозмездные  поступления от бюджет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368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ступления от наднациональных организаций и правительств  иностранных государст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ступления от международных финансовых организац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операций с активам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основных средст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нематериальн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непроизведенн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материальных запас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ценных бумаг, кроме акц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акций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иных финансов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чие доход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368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сидии на выполнение государственного (муниципального) зада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сидии на иные цел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ные инвестиц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ые доход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Особенности формирования Отчета 0503737 по виду деятельности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4 «Субсидии на государственное задание»</a:t>
            </a:r>
            <a:endParaRPr b="0" lang="en-US" sz="2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13" name="Прямая соединительная линия 9"/>
          <p:cNvSpPr/>
          <p:nvPr/>
        </p:nvSpPr>
        <p:spPr>
          <a:xfrm>
            <a:off x="4572000" y="1773360"/>
            <a:ext cx="3672000" cy="38876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Прямая соединительная линия 11"/>
          <p:cNvSpPr/>
          <p:nvPr/>
        </p:nvSpPr>
        <p:spPr>
          <a:xfrm flipV="1">
            <a:off x="4572000" y="1773000"/>
            <a:ext cx="3672000" cy="38876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Прямая соединительная линия 17"/>
          <p:cNvSpPr/>
          <p:nvPr/>
        </p:nvSpPr>
        <p:spPr>
          <a:xfrm flipV="1">
            <a:off x="4643280" y="6381360"/>
            <a:ext cx="3600720" cy="4762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Прямая соединительная линия 19"/>
          <p:cNvSpPr/>
          <p:nvPr/>
        </p:nvSpPr>
        <p:spPr>
          <a:xfrm>
            <a:off x="4572000" y="6381720"/>
            <a:ext cx="3672000" cy="4762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Скругленная прямоугольная выноска 16"/>
          <p:cNvSpPr/>
          <p:nvPr/>
        </p:nvSpPr>
        <p:spPr>
          <a:xfrm>
            <a:off x="4643280" y="5373720"/>
            <a:ext cx="3673800" cy="863640"/>
          </a:xfrm>
          <a:prstGeom prst="wedgeRoundRectCallout">
            <a:avLst>
              <a:gd name="adj1" fmla="val -60958"/>
              <a:gd name="adj2" fmla="val 19606"/>
              <a:gd name="adj3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бсидии на выполнен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сударственного зад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Овал 10"/>
          <p:cNvSpPr/>
          <p:nvPr/>
        </p:nvSpPr>
        <p:spPr>
          <a:xfrm>
            <a:off x="0" y="5661000"/>
            <a:ext cx="4140360" cy="720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Скругленная прямоугольная выноска 12"/>
          <p:cNvSpPr/>
          <p:nvPr/>
        </p:nvSpPr>
        <p:spPr>
          <a:xfrm>
            <a:off x="4356000" y="1916280"/>
            <a:ext cx="5256360" cy="1800000"/>
          </a:xfrm>
          <a:prstGeom prst="wedgeRoundRectCallout">
            <a:avLst>
              <a:gd name="adj1" fmla="val -60384"/>
              <a:gd name="adj2" fmla="val -8407"/>
              <a:gd name="adj3" fmla="val 16667"/>
            </a:avLst>
          </a:prstGeom>
          <a:solidFill>
            <a:srgbClr val="ffffff"/>
          </a:solidFill>
          <a:ln w="38160">
            <a:solidFill>
              <a:srgbClr val="00cc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врат дебиторской задолженности прошлых лет п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ной деятельности, возникшей  до изменения тип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(КОСГУ130 (+) перечисление в доход бюджета  КОСГУ 130 (-) (счета 205,20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5800" y="1413000"/>
            <a:ext cx="8970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Пояснительная записка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59840" y="1628640"/>
            <a:ext cx="898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«В строке 040, графы 5 формы 0503737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о КОСГУ 130 «Доходы от оказания платных услуг (работ)»  показан остаток  900,00 руб. в  сумме возврата дебиторской задолженности прошлых лет, числившейся на счете 4 205 30 000 , указанная задолженность сложилась по виду финансового обеспечения «Бюджетная деятельность» до изменения типа учрежде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Стрелка вниз 7"/>
          <p:cNvSpPr/>
          <p:nvPr/>
        </p:nvSpPr>
        <p:spPr>
          <a:xfrm>
            <a:off x="4321080" y="549360"/>
            <a:ext cx="432000" cy="79200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5800" y="476280"/>
            <a:ext cx="8970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 </a:t>
            </a:r>
            <a:br>
              <a:rPr sz="2600"/>
            </a:br>
            <a:br>
              <a:rPr sz="3600"/>
            </a:b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Статья 41 БК</a:t>
            </a:r>
            <a:br>
              <a:rPr sz="3600"/>
            </a:b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59840" y="1484280"/>
            <a:ext cx="8983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неналоговым доходам бюджетов относятс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ходы от использования имуществ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аходящегося в государственной или муниципальной собственности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за исключением имущества бюджетных и автономных учрежд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5800" y="549000"/>
            <a:ext cx="89708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Письмо Минфина России 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и Федерального казначейства 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от </a:t>
            </a:r>
            <a:r>
              <a:rPr b="0" lang="ru-RU" sz="3300" spc="-1" strike="noStrike">
                <a:solidFill>
                  <a:srgbClr val="000066"/>
                </a:solidFill>
                <a:latin typeface="Arial"/>
                <a:ea typeface="Arial"/>
              </a:rPr>
              <a:t>26.12.2013</a:t>
            </a:r>
            <a:br>
              <a:rPr sz="3300"/>
            </a:br>
            <a:br>
              <a:rPr sz="3300"/>
            </a:br>
            <a:r>
              <a:rPr b="0" lang="ru-RU" sz="3300" spc="-1" strike="noStrike">
                <a:solidFill>
                  <a:srgbClr val="000066"/>
                </a:solidFill>
                <a:latin typeface="Arial"/>
                <a:ea typeface="Arial"/>
              </a:rPr>
              <a:t> № 02-07-007/57698        № 42-7.4-05/2.3-870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300"/>
            </a:br>
            <a:endParaRPr b="0" lang="en-US" sz="33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59840" y="2707920"/>
            <a:ext cx="87886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б  особенностях  составления  и  представления  годовой  бюджетной  отчетности  и  сводной  бухгалтерской отчетности государственных бюджетных и автономных учреждений главными администраторами средств федерального бюджета за 2013 го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5800" y="476280"/>
            <a:ext cx="8970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 </a:t>
            </a:r>
            <a:br>
              <a:rPr sz="2600"/>
            </a:br>
            <a:br>
              <a:rPr sz="3600"/>
            </a:b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Статья 41 БК</a:t>
            </a:r>
            <a:br>
              <a:rPr sz="3600"/>
            </a:b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59840" y="1268280"/>
            <a:ext cx="8983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ходы от продажи имуществ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 находящегося в государственной или муниципальной собственности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за исключением имущества бюджетных и автономных учрежд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514185"/>
                </a:solidFill>
                <a:latin typeface="Times New Roman"/>
              </a:rPr>
              <a:t>Отражение в учете доходов от недостач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59840" y="1487520"/>
            <a:ext cx="89838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явлена недостача материальных запас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) списание материальных запасов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т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401 10 172    Кт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05 ХХ 4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ли   Дт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401 10 172    Кт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105 ХХ 4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514185"/>
                </a:solidFill>
                <a:latin typeface="Times New Roman"/>
              </a:rPr>
              <a:t>Отражение в учете доходов от недостач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59840" y="1487520"/>
            <a:ext cx="89838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числение доходов от возмещения ущерб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обственные доход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т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209 74 560    Кт 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401 10 17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несение  в кассу денежных средств в погашение недостач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т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201 34 510   Кт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209 74 66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514185"/>
                </a:solidFill>
                <a:latin typeface="Times New Roman"/>
              </a:rPr>
              <a:t>Отражение в учете некассовых операций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59840" y="1487520"/>
            <a:ext cx="89838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перации по исполнению принятых денежных обязательств без движения денежных средств  на лицевом  счете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удержание из заработной  плат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- суммы остатка выданного аванса 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командировочные расходы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- суммы недостачи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5800" y="549360"/>
            <a:ext cx="89708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514185"/>
                </a:solidFill>
                <a:latin typeface="Times New Roman"/>
              </a:rPr>
              <a:t>Отражение в учете в рамках одного вида финансового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514185"/>
                </a:solidFill>
                <a:latin typeface="Times New Roman"/>
              </a:rPr>
              <a:t> обеспечения (субсидии на выполнение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514185"/>
                </a:solidFill>
                <a:latin typeface="Times New Roman"/>
              </a:rPr>
              <a:t> государственного задания)</a:t>
            </a:r>
            <a:endParaRPr b="0" lang="en-US" sz="28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59840" y="1844640"/>
            <a:ext cx="8983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держана из заработной платы невозвращенная сумма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ванса на оплату командировочных расходо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найму жилого помещения)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т 4 302 11 830     Кт 4 304 03 730    15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т 4 304 03 830     Кт 4 208 26 660    15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Особенности формирования Отчета 0503737  некассовые операции</a:t>
            </a:r>
            <a:endParaRPr b="0" lang="en-US" sz="2400" spc="-1" strike="noStrike">
              <a:solidFill>
                <a:srgbClr val="514185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24000" y="907920"/>
          <a:ext cx="8496000" cy="5342040"/>
        </p:xfrm>
        <a:graphic>
          <a:graphicData uri="http://schemas.openxmlformats.org/drawingml/2006/table">
            <a:tbl>
              <a:tblPr/>
              <a:tblGrid>
                <a:gridCol w="2449440"/>
                <a:gridCol w="345960"/>
                <a:gridCol w="352440"/>
                <a:gridCol w="750960"/>
                <a:gridCol w="698400"/>
                <a:gridCol w="582840"/>
                <a:gridCol w="660240"/>
                <a:gridCol w="1082520"/>
                <a:gridCol w="654120"/>
                <a:gridCol w="919080"/>
              </a:tblGrid>
              <a:tr h="3124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. Расходы учреждени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орма 0503737  с.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7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полнено плановых назначен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показател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твержден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 исполнен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тро-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нали-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ицевы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анковск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ассу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кассовы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ик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режден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перация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ходы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- всег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1479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479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738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плата труда и начисления на выплаты по оплате труд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380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1479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заработная плат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479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738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иобретение работ, услуг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380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2240">
                <a:tc>
                  <a:txBody>
                    <a:bodyPr lIns="1479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чие работы, услуг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479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15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738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ходы по приобретению нефинансовых активов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380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3880">
                <a:tc>
                  <a:txBody>
                    <a:bodyPr lIns="2217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сновных средств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217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2217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материальных актив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217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2217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произведенных актив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217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Скругленная прямоугольная выноска 10"/>
          <p:cNvSpPr/>
          <p:nvPr/>
        </p:nvSpPr>
        <p:spPr>
          <a:xfrm>
            <a:off x="7451640" y="4024440"/>
            <a:ext cx="1800360" cy="576000"/>
          </a:xfrm>
          <a:prstGeom prst="wedgeRoundRectCallout">
            <a:avLst>
              <a:gd name="adj1" fmla="val -254416"/>
              <a:gd name="adj2" fmla="val 92226"/>
              <a:gd name="adj3" fmla="val 16667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держ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 з.п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Скругленная прямоугольная выноска 11"/>
          <p:cNvSpPr/>
          <p:nvPr/>
        </p:nvSpPr>
        <p:spPr>
          <a:xfrm>
            <a:off x="4859280" y="6021360"/>
            <a:ext cx="2449440" cy="576360"/>
          </a:xfrm>
          <a:prstGeom prst="wedgeRoundRectCallout">
            <a:avLst>
              <a:gd name="adj1" fmla="val -103504"/>
              <a:gd name="adj2" fmla="val -94347"/>
              <a:gd name="adj3" fmla="val 16667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станов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514185"/>
                </a:solidFill>
                <a:latin typeface="Times New Roman"/>
              </a:rPr>
              <a:t>Отражение в учете некассовых операций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59840" y="1341360"/>
            <a:ext cx="8983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удержание из суммы, подлежащей оплате контрагенту, суммы начисленных штрафных санкций  за нарушение условий догово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Дт 4 401 20 225     Кт 4 302 25 730  3000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Дт 4 302 25 830     Кт 4 201 11 610  2850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Дт 4 302 25 830     Кт 4 304 06 730    150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514185"/>
                </a:solidFill>
                <a:latin typeface="Times New Roman"/>
              </a:rPr>
              <a:t>Отражение в учете некассовых операций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59840" y="1196640"/>
            <a:ext cx="8983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обенности формирования Отчета ф.0503737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ид финансового обеспечения «Субсидии на выполнение государственного задания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395280" y="2708280"/>
          <a:ext cx="8624880" cy="2736720"/>
        </p:xfrm>
        <a:graphic>
          <a:graphicData uri="http://schemas.openxmlformats.org/drawingml/2006/table">
            <a:tbl>
              <a:tblPr/>
              <a:tblGrid>
                <a:gridCol w="2522520"/>
                <a:gridCol w="285840"/>
                <a:gridCol w="355680"/>
                <a:gridCol w="739800"/>
                <a:gridCol w="757080"/>
                <a:gridCol w="892080"/>
                <a:gridCol w="712800"/>
                <a:gridCol w="701640"/>
                <a:gridCol w="774720"/>
                <a:gridCol w="882720"/>
              </a:tblGrid>
              <a:tr h="219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. Расходы учрежде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орма 0503737  с.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54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полнено плановых назначени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" marR="9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" marR="9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показател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твержден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 исполнен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тро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нали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ицевы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анковски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ассу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кассовым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ик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реждени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перациям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ходы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- всег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0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85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00,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21816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1816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0680">
                <a:tc>
                  <a:txBody>
                    <a:bodyPr lIns="10908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иобретение работ, услуг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0908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21816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боты, услуги по содержанию имуществ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1816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0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85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0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21816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чие работы, услуг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1816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514185"/>
                </a:solidFill>
                <a:latin typeface="Times New Roman"/>
              </a:rPr>
              <a:t>Отражение в учете некассовых операций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59840" y="1196640"/>
            <a:ext cx="8983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обенности формирования Отчета ф.0503737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ид финансового обеспечения «Субсидии на выполнение государственного задания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1" descr=""/>
          <p:cNvPicPr/>
          <p:nvPr/>
        </p:nvPicPr>
        <p:blipFill>
          <a:blip r:embed="rId1"/>
          <a:stretch/>
        </p:blipFill>
        <p:spPr>
          <a:xfrm>
            <a:off x="324000" y="2565360"/>
            <a:ext cx="8712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514185"/>
                </a:solidFill>
                <a:latin typeface="Times New Roman"/>
              </a:rPr>
              <a:t>Отражение в учете некассовых операций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59840" y="1341360"/>
            <a:ext cx="8983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Зачет суммы начисленных штрафных санкций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Дт 2 205 41 560     Кт 2 401 10 140  150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Дт 2 304 06 830     Кт 2 205 41 660  150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Стрелка вниз 1"/>
          <p:cNvSpPr/>
          <p:nvPr/>
        </p:nvSpPr>
        <p:spPr>
          <a:xfrm>
            <a:off x="4500720" y="5157720"/>
            <a:ext cx="576000" cy="93528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5800" y="549000"/>
            <a:ext cx="89708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Особенности составления бюджетной 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отчетности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за 2013 год</a:t>
            </a:r>
            <a:br>
              <a:rPr sz="3300"/>
            </a:br>
            <a:endParaRPr b="0" lang="en-US" sz="33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9840" y="2707920"/>
            <a:ext cx="87886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179280" y="1268280"/>
          <a:ext cx="8964720" cy="2830680"/>
        </p:xfrm>
        <a:graphic>
          <a:graphicData uri="http://schemas.openxmlformats.org/drawingml/2006/table">
            <a:tbl>
              <a:tblPr/>
              <a:tblGrid>
                <a:gridCol w="2916360"/>
                <a:gridCol w="360360"/>
                <a:gridCol w="358920"/>
                <a:gridCol w="720720"/>
                <a:gridCol w="612720"/>
                <a:gridCol w="919080"/>
                <a:gridCol w="665280"/>
                <a:gridCol w="833400"/>
                <a:gridCol w="714240"/>
                <a:gridCol w="863640"/>
              </a:tblGrid>
              <a:tr h="3081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твержд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полнено плановых 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 исполн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показател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тро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нали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лицевы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банковск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кассу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кассовым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38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и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режден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перациям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- все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8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собственност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80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аренды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оказания платных услуг (работ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756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штрафов, пеней, иных сумм принудительного изъят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56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.00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04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езвозмездные  поступления от бюджет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Особенности формирования Отчета 0503737.Собственные доходы</a:t>
            </a:r>
            <a:endParaRPr b="0" lang="en-US" sz="2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52" name="Скругленная прямоугольная выноска 12"/>
          <p:cNvSpPr/>
          <p:nvPr/>
        </p:nvSpPr>
        <p:spPr>
          <a:xfrm>
            <a:off x="4716360" y="3429000"/>
            <a:ext cx="2016360" cy="792000"/>
          </a:xfrm>
          <a:prstGeom prst="wedgeRoundRectCallout">
            <a:avLst>
              <a:gd name="adj1" fmla="val -83287"/>
              <a:gd name="adj2" fmla="val -18333"/>
              <a:gd name="adj3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мма пени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держанных у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траген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514185"/>
                </a:solidFill>
                <a:latin typeface="Times New Roman"/>
              </a:rPr>
              <a:t>Отражение в учете некассовых операций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59840" y="1196640"/>
            <a:ext cx="8983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обенности формирования Отчета ф.0503737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ид финансового обеспечения «Собственные доходы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250920" y="2209680"/>
            <a:ext cx="87850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179280" y="757080"/>
          <a:ext cx="9217080" cy="6361200"/>
        </p:xfrm>
        <a:graphic>
          <a:graphicData uri="http://schemas.openxmlformats.org/drawingml/2006/table">
            <a:tbl>
              <a:tblPr/>
              <a:tblGrid>
                <a:gridCol w="2916360"/>
                <a:gridCol w="360360"/>
                <a:gridCol w="358920"/>
                <a:gridCol w="720720"/>
                <a:gridCol w="612720"/>
                <a:gridCol w="919080"/>
                <a:gridCol w="755640"/>
                <a:gridCol w="995400"/>
                <a:gridCol w="714240"/>
                <a:gridCol w="863640"/>
              </a:tblGrid>
              <a:tr h="2811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твержд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полнено плановых 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 исполн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128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показател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тро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нали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лицевы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банковск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кассу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кассовы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12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и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режден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перация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5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6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- все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собственност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04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аренды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оказания платных услуг (работ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0.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756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штрафов, пеней, иных сумм принудительного изъят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56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езвозмездные  поступления от бюджет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368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ступления от наднациональных организаций и правительств  иностранных государст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ступления от международных финансовых организац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2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операций с активам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основных средст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28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нематериальн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24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непроизведенн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материальных запас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160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ценных бумаг, кроме акц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95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акций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40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иных финансов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04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чие доход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688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сидии на выполнение государственного (муниципального) зада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сидии на иные цели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ные инвестиц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520"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ые доход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Особенности формирования Отчета 0503737  некассовые операции</a:t>
            </a:r>
            <a:endParaRPr b="0" lang="en-US" sz="2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58" name="Скругленная прямоугольная выноска 5"/>
          <p:cNvSpPr/>
          <p:nvPr/>
        </p:nvSpPr>
        <p:spPr>
          <a:xfrm>
            <a:off x="4572000" y="1413000"/>
            <a:ext cx="2303640" cy="792000"/>
          </a:xfrm>
          <a:prstGeom prst="wedgeRoundRectCallout">
            <a:avLst>
              <a:gd name="adj1" fmla="val -79560"/>
              <a:gd name="adj2" fmla="val 107037"/>
              <a:gd name="adj3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мма доходов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держанны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анком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Особенности формирования Отчета 0503737  некассовые операции</a:t>
            </a:r>
            <a:endParaRPr b="0" lang="en-US" sz="2400" spc="-1" strike="noStrike">
              <a:solidFill>
                <a:srgbClr val="514185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24000" y="907920"/>
          <a:ext cx="8496000" cy="5342040"/>
        </p:xfrm>
        <a:graphic>
          <a:graphicData uri="http://schemas.openxmlformats.org/drawingml/2006/table">
            <a:tbl>
              <a:tblPr/>
              <a:tblGrid>
                <a:gridCol w="2449440"/>
                <a:gridCol w="345960"/>
                <a:gridCol w="352440"/>
                <a:gridCol w="750960"/>
                <a:gridCol w="698400"/>
                <a:gridCol w="582840"/>
                <a:gridCol w="660240"/>
                <a:gridCol w="1082520"/>
                <a:gridCol w="654120"/>
                <a:gridCol w="919080"/>
              </a:tblGrid>
              <a:tr h="3124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. Расходы учреждени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орма 0503737  с.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7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полнено плановых назначен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показател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твержден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 исполнен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тро-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нали-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ицевы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анковск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ассу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кассовы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ик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режден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перация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ходы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- всег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1479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479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738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плата труда и начисления на выплаты по оплате труд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380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1479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заработная плат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479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738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иобретение работ, услуг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380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2240">
                <a:tc>
                  <a:txBody>
                    <a:bodyPr lIns="1479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чие работы, услуг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479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738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ходы по приобретению нефинансовых активов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380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3880">
                <a:tc>
                  <a:txBody>
                    <a:bodyPr lIns="2217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сновных средств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217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2217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материальных актив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217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2217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произведенных актив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217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Скругленная прямоугольная выноска 11"/>
          <p:cNvSpPr/>
          <p:nvPr/>
        </p:nvSpPr>
        <p:spPr>
          <a:xfrm>
            <a:off x="4900680" y="4149720"/>
            <a:ext cx="1942920" cy="647640"/>
          </a:xfrm>
          <a:prstGeom prst="wedgeRoundRectCallout">
            <a:avLst>
              <a:gd name="adj1" fmla="val -122009"/>
              <a:gd name="adj2" fmla="val 96291"/>
              <a:gd name="adj3" fmla="val 16667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нковск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луг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9036000" cy="611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5254560" y="4613400"/>
            <a:ext cx="388944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5800" y="1413000"/>
            <a:ext cx="8970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Пояснительная записка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9840" y="1628640"/>
            <a:ext cx="898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формация по капитальным вложениям в текстовой части раздела 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Анализ показателей бухгалтерской отчетности субъекта бюджетной отчетност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разрезе инвестиционных проек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Стрелка вниз 7"/>
          <p:cNvSpPr/>
          <p:nvPr/>
        </p:nvSpPr>
        <p:spPr>
          <a:xfrm>
            <a:off x="4321080" y="692280"/>
            <a:ext cx="432000" cy="79200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Баланс (ф. 0503130)</a:t>
            </a:r>
            <a:br>
              <a:rPr sz="2600"/>
            </a:b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49120" y="1197000"/>
          <a:ext cx="8894880" cy="3162240"/>
        </p:xfrm>
        <a:graphic>
          <a:graphicData uri="http://schemas.openxmlformats.org/drawingml/2006/table">
            <a:tbl>
              <a:tblPr/>
              <a:tblGrid>
                <a:gridCol w="3441960"/>
                <a:gridCol w="285480"/>
                <a:gridCol w="944640"/>
                <a:gridCol w="944640"/>
                <a:gridCol w="907920"/>
                <a:gridCol w="906480"/>
                <a:gridCol w="866880"/>
                <a:gridCol w="596880"/>
              </a:tblGrid>
              <a:tr h="384120">
                <a:tc>
                  <a:txBody>
                    <a:bodyPr lIns="45720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5720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орма 0503130 с. 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 К Т И 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стро- к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 начало год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 конец отчетного период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ная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редства в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ная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редства в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ременно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ременно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ост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поряжен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ост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поряжен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финансовые активы в пути (010700000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45720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5720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45720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движимое имущество учреждения в пути (01071000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5720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?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45720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ое движимое имущество учреждения в пути (010730000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5720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45720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едметы лизинга в пути (010740000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5720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Скругленный прямоугольник 4"/>
          <p:cNvSpPr/>
          <p:nvPr/>
        </p:nvSpPr>
        <p:spPr>
          <a:xfrm>
            <a:off x="250920" y="4437000"/>
            <a:ext cx="6553080" cy="2376720"/>
          </a:xfrm>
          <a:prstGeom prst="roundRect">
            <a:avLst>
              <a:gd name="adj" fmla="val 16667"/>
            </a:avLst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нятие к учету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и выбытие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 учета объектов недвижимого имущества, права на которые подлежат в соответствии с законодательством РФ государственной регистрации с обязательным приложением документов, подтверждающих государственную регистрацию права или сделку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зникновение права и прекращение права на основании документа подтверждающего регистрацию возникновения права или его прекращ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Стрелка вниз 5"/>
          <p:cNvSpPr/>
          <p:nvPr/>
        </p:nvSpPr>
        <p:spPr>
          <a:xfrm>
            <a:off x="3395520" y="5843520"/>
            <a:ext cx="108000" cy="21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Стрелка вниз 6"/>
          <p:cNvSpPr/>
          <p:nvPr/>
        </p:nvSpPr>
        <p:spPr>
          <a:xfrm>
            <a:off x="7020000" y="4508640"/>
            <a:ext cx="504720" cy="187308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УЗЬМИН ИГОРЬ ЮРЬЕВИЧ</dc:creator>
  <dc:description/>
  <dc:language>en-US</dc:language>
  <cp:lastModifiedBy>СЕЛЕЗНЕВА ГАЛИНА АНАТОЛЬЕВНА</cp:lastModifiedBy>
  <cp:lastPrinted>2014-02-05T05:48:37Z</cp:lastPrinted>
  <dcterms:modified xsi:type="dcterms:W3CDTF">2014-02-05T05:57:06Z</dcterms:modified>
  <cp:revision>219</cp:revision>
  <dc:subject/>
  <dc:title>No Slide Title</dc:title>
</cp:coreProperties>
</file>