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E7A-F121-4175-9787-216F0B7A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94E-6969-40D3-8B94-C553709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CC3-4014-46E2-8EA0-5F1CE3D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23E-45C8-4394-BEA3-E9ECC2FB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B36-4B12-4160-AC99-5131D5B4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FD9-0EEA-4BE1-9B9A-53EDDFE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B85-30C2-408B-8A3E-B645B2C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8D7-B6A3-4E9D-A0BD-C4C7621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903-A70C-443A-BDB9-B5BE299F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35F-A318-477F-ACF0-CF4A1911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55D-C65C-4308-A5FC-C73130E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556-8742-497E-A3A7-3F6F816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469-37EA-4484-A2CC-31B842BA71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36B-298A-4BFC-8E42-D94557BD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15800" y="1557360"/>
            <a:ext cx="89298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вопросы представления годовой бюджетной отчетности территориальными органами Федерального казначейства в Межрегиональное операционное управление Федерального казначе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отчетности о кассов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и бюджетов Межрегионального операционного УФ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ашурина Лариса Валерьев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0A9-10BF-4564-861A-1032FB88F7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15800" y="1413000"/>
            <a:ext cx="9047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3213000"/>
            <a:ext cx="799308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каз Федерального казначейства от 27 декабря 2012 г. № 4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Об утверждении Особенностей формирования бюджетной отч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 кассовому исполнению федерального бюджета, кассовому обслужива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сполнения бюджетов бюджетной системы Российской Федер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ых учреждений, автономных учреждений и и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рганизаций территориальными органами Федерального казначей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648720" cy="55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0520" y="1268280"/>
            <a:ext cx="8856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жрегиональное операционное управлени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13240" y="3789360"/>
            <a:ext cx="388800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 АПРЕЛЯ 201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ОНЧА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 об исполн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основании годов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ов УФ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ленных д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 февраля 201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5600" y="1916280"/>
            <a:ext cx="432000" cy="10080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у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520" y="3789360"/>
            <a:ext cx="360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ФЕВРАЛЯ 2014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ВАР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 об исполн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го бюдж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. 0503117 на основа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ов УФ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ленных в январе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состоянию на 01.01.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2924280"/>
            <a:ext cx="928872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 бюджета за 2013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B47-460F-434C-B2DA-0CB9076454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1197000"/>
            <a:ext cx="9577080" cy="5111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5800" y="1844640"/>
            <a:ext cx="9290160" cy="39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каз Федерального казначейства «О сроках представления год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ой отчетности по кассовому обслуживанию исполнения бюдже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ой системы Российской Федерации, бюджетных учрежден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, кассовому исполн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дерального бюджета и кассовому обслуживанию исполнения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оюзного государства за 2013 год территориальными орга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» № 222 от 30.09.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B4E-3DB0-463C-AD86-6FEFA7B0EA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34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4520" y="1341360"/>
            <a:ext cx="9217080" cy="41752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ступлений в первый рабочий день следующ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четного периода доходов от уплаты АКЦИЗОВ,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ответствии со статьёй 56 Бюджетного кодек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оссийской Федерации, распределённых уполномоче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ом Федерального казначейства (Управлением Федераль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значейства по Смоленской области) в последний рабоч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ь отчетного периода отражён в пись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 № 42-7.4-05/2.6-568 от 06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818-E1A2-49AD-97C1-1BC694A4C5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648720" cy="54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6160" y="1341360"/>
            <a:ext cx="8569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равка по заключению счетов бюджетного учета отч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инансового года (форма 0503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равка по заключению счетов бюджетного учета отч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инансового года органа, осуществляющего кассовое обслуж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ых учреждений, автономных учреждени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ых организаций (форма 05031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548000">
            <a:off x="2576160" y="3357720"/>
            <a:ext cx="576360" cy="1587240"/>
          </a:xfrm>
          <a:prstGeom prst="downArrow">
            <a:avLst>
              <a:gd name="adj1" fmla="val 49861"/>
              <a:gd name="adj2" fmla="val 68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За 2013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923000">
            <a:off x="6192720" y="3352320"/>
            <a:ext cx="576360" cy="1514520"/>
          </a:xfrm>
          <a:prstGeom prst="downArrow">
            <a:avLst>
              <a:gd name="adj1" fmla="val 50000"/>
              <a:gd name="adj2" fmla="val 65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За 2014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1240" y="4797360"/>
            <a:ext cx="3240000" cy="1295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яются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й орга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6160" y="4869000"/>
            <a:ext cx="3095640" cy="13683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финансовый орга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редоставл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Умножение 6"/>
          <p:cNvSpPr/>
          <p:nvPr/>
        </p:nvSpPr>
        <p:spPr>
          <a:xfrm>
            <a:off x="1784520" y="5084640"/>
            <a:ext cx="1143000" cy="792360"/>
          </a:xfrm>
          <a:custGeom>
            <a:avLst/>
            <a:gdLst/>
            <a:ahLst/>
            <a:rect l="l" t="t" r="r" b="b"/>
            <a:pathLst>
              <a:path w="711200" h="393700">
                <a:moveTo>
                  <a:pt x="148389" y="135064"/>
                </a:moveTo>
                <a:lnTo>
                  <a:pt x="193236" y="54050"/>
                </a:lnTo>
                <a:lnTo>
                  <a:pt x="355600" y="143930"/>
                </a:lnTo>
                <a:lnTo>
                  <a:pt x="517964" y="54050"/>
                </a:lnTo>
                <a:lnTo>
                  <a:pt x="562811" y="135064"/>
                </a:lnTo>
                <a:lnTo>
                  <a:pt x="451197" y="196850"/>
                </a:lnTo>
                <a:lnTo>
                  <a:pt x="562811" y="258636"/>
                </a:lnTo>
                <a:lnTo>
                  <a:pt x="517964" y="339650"/>
                </a:lnTo>
                <a:lnTo>
                  <a:pt x="355600" y="249770"/>
                </a:lnTo>
                <a:lnTo>
                  <a:pt x="193236" y="339650"/>
                </a:lnTo>
                <a:lnTo>
                  <a:pt x="148389" y="258636"/>
                </a:lnTo>
                <a:lnTo>
                  <a:pt x="260003" y="196850"/>
                </a:lnTo>
                <a:lnTo>
                  <a:pt x="148389" y="135064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C26-864E-4E17-8691-4259D25E6E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308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520" y="1700280"/>
            <a:ext cx="9217080" cy="37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рядок учета и формирование бюджетной отчет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ерриториальными органами Федерального казначейства п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ерациям по кассовому обслуживанию федеральных бюдже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реждений центров реабилитации Фонда социаль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рахования Российской Федерации отражён в пись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 № 42-7.4-05/2.2-58 от 28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B8-10D1-4361-A624-83E6E4CD63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880" y="1052640"/>
            <a:ext cx="9217080" cy="532908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Федерального казначейства № 2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 1 ноября 2013 года «Об утверждении Особенно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ормирования бюджетной отчетности по кассов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ю федерального бюджета, кассовому обслужив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я бюджетов бюджетной системы 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ции, бюджетных учреждений, автоном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реждений и иных организаций территориаль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ами Федерального казначейств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Справке по консолидируемым расчетам (ф. 0503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кассовому обслуживанию бюджетных учрежд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 в графе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Номер счета бюджетного учета» ук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д соответствующего счета (9 знаков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Не требуется отражение кода главы главного распорядителя бюджетных сред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CBE-52C4-4C2A-8085-9B2C7B10A0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08160" y="170028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961-BB48-4EFB-8963-0F091F23BDB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8:55:19Z</dcterms:created>
  <dc:creator>2456</dc:creator>
  <dc:description/>
  <dc:language>en-US</dc:language>
  <cp:lastModifiedBy>0487</cp:lastModifiedBy>
  <dcterms:modified xsi:type="dcterms:W3CDTF">2014-02-04T15:47:08Z</dcterms:modified>
  <cp:revision>160</cp:revision>
  <dc:subject/>
  <dc:title>Отдел доведения бюджетных данных Межрегионального операционного управления Федерального казначейства</dc:title>
</cp:coreProperties>
</file>