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50.jpeg" ContentType="image/jpeg"/>
  <Override PartName="/ppt/media/image13.png" ContentType="image/png"/>
  <Override PartName="/ppt/media/image51.png" ContentType="image/png"/>
  <Override PartName="/ppt/media/image48.jpeg" ContentType="image/jpeg"/>
  <Override PartName="/ppt/media/image53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9.jpeg" ContentType="image/jpeg"/>
  <Override PartName="/ppt/media/image38.png" ContentType="image/png"/>
  <Override PartName="/ppt/media/image30.jpeg" ContentType="image/jpeg"/>
  <Override PartName="/ppt/media/image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CFE-44A3-4AE4-B7AC-B18A7374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586-58EB-479D-9300-6CE86F25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4A3-CB2E-4DA0-A40A-C9C784D7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946-805E-49E2-927C-2730FB45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DE58-13E9-49AC-9911-112DAAAE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059F-2D2E-425C-AB56-EF0E1A0C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2ED-C433-482E-97F9-5D3A6DE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845C-3194-4B36-B85A-DA5CB65F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2A86-4E47-4025-BF9C-8FDBAE67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6200" y="537840"/>
            <a:ext cx="82090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8722-4A72-437E-AFAA-466A3BC4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308E-3226-46A3-A6CA-608F74F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A96-106F-4B59-BC96-A3A8718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8FA6-4FE9-42DC-9F10-B529765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F6E9-9B3B-41D3-82F6-DDEC03D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BA2D-B530-43E2-ADA0-1B2893EF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AA5F-B803-46FE-A2DE-FE7A1CFF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BA08-619D-407F-95DE-C8D21EEE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362-94B7-4604-AF4E-354E487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713-2234-490D-89DA-BF729202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495-DC47-4BF8-A42F-A62C5CAD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6200" y="537840"/>
            <a:ext cx="82090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E2C-876E-415E-AE6F-71808625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CB6-AA8A-44D7-9E01-4EE35165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CA0-AD31-46FA-9881-E07633B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C2A-3303-403A-BF6F-6A250BB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6d6fc7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77960" indent="-298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97000" indent="-23976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76520" indent="-23976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152800" indent="-23652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152800" indent="-23652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152800" indent="-23652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4908600"/>
            <a:ext cx="468360" cy="20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EFF-1607-4885-8C78-13AFCDC03836}" type="slidenum">
              <a:rPr b="0" lang="ru-RU" sz="15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grpSp>
        <p:nvGrpSpPr>
          <p:cNvPr id="5" name="Group 12"/>
          <p:cNvGrpSpPr/>
          <p:nvPr/>
        </p:nvGrpSpPr>
        <p:grpSpPr>
          <a:xfrm>
            <a:off x="0" y="0"/>
            <a:ext cx="9144000" cy="514440"/>
            <a:chOff x="0" y="0"/>
            <a:chExt cx="9144000" cy="514440"/>
          </a:xfrm>
        </p:grpSpPr>
        <p:sp>
          <p:nvSpPr>
            <p:cNvPr id="6" name="Rectangle 9"/>
            <p:cNvSpPr/>
            <p:nvPr/>
          </p:nvSpPr>
          <p:spPr>
            <a:xfrm>
              <a:off x="0" y="0"/>
              <a:ext cx="9144000" cy="514440"/>
            </a:xfrm>
            <a:prstGeom prst="rect">
              <a:avLst/>
            </a:prstGeom>
            <a:solidFill>
              <a:srgbClr val="030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0" bIns="46800" anchor="ctr" anchorCtr="1">
              <a:noAutofit/>
            </a:bodyPr>
            <a:p>
              <a:pPr marL="90360" indent="14400">
                <a:lnSpc>
                  <a:spcPct val="1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УФК по Оренбургской области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ttp://orenburg.roskazna.ru</a:t>
              </a:r>
              <a:endParaRPr b="1" lang="en-US" sz="1600" spc="-1" strike="noStrike">
                <a:solidFill>
                  <a:srgbClr val="003864"/>
                </a:solidFill>
                <a:latin typeface="Arial"/>
              </a:endParaRPr>
            </a:p>
          </p:txBody>
        </p:sp>
        <p:pic>
          <p:nvPicPr>
            <p:cNvPr id="7" name="Picture 10" descr="4"/>
            <p:cNvPicPr/>
            <p:nvPr/>
          </p:nvPicPr>
          <p:blipFill>
            <a:blip r:embed="rId2"/>
            <a:stretch/>
          </p:blipFill>
          <p:spPr>
            <a:xfrm>
              <a:off x="73080" y="0"/>
              <a:ext cx="558720" cy="492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003864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3864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864"/>
              </a:solidFill>
              <a:latin typeface="Calibri"/>
            </a:endParaRPr>
          </a:p>
          <a:p>
            <a:pPr lvl="1" marL="777960" indent="-298440">
              <a:spcBef>
                <a:spcPts val="601"/>
              </a:spcBef>
              <a:buClr>
                <a:srgbClr val="003864"/>
              </a:buClr>
              <a:buFont typeface="Calibri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3864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864"/>
              </a:solidFill>
              <a:latin typeface="Calibri"/>
            </a:endParaRPr>
          </a:p>
          <a:p>
            <a:pPr lvl="2" marL="1197000" indent="-239760">
              <a:spcBef>
                <a:spcPts val="601"/>
              </a:spcBef>
              <a:buClr>
                <a:srgbClr val="003864"/>
              </a:buClr>
              <a:buFont typeface="Calibri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386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864"/>
              </a:solidFill>
              <a:latin typeface="Calibri"/>
            </a:endParaRPr>
          </a:p>
          <a:p>
            <a:pPr lvl="3" marL="1676520" indent="-239760">
              <a:spcBef>
                <a:spcPts val="601"/>
              </a:spcBef>
              <a:buClr>
                <a:srgbClr val="003864"/>
              </a:buClr>
              <a:buFont typeface="Calibri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3864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864"/>
              </a:solidFill>
              <a:latin typeface="Calibri"/>
            </a:endParaRPr>
          </a:p>
          <a:p>
            <a:pPr lvl="4" marL="2152800" indent="-236520">
              <a:spcBef>
                <a:spcPts val="601"/>
              </a:spcBef>
              <a:buClr>
                <a:srgbClr val="003864"/>
              </a:buClr>
              <a:buFont typeface="Calibri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3864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864"/>
              </a:solidFill>
              <a:latin typeface="Calibri"/>
            </a:endParaRPr>
          </a:p>
          <a:p>
            <a:pPr lvl="5" marL="2152800" indent="-236520">
              <a:spcBef>
                <a:spcPts val="601"/>
              </a:spcBef>
              <a:buClr>
                <a:srgbClr val="003864"/>
              </a:buClr>
              <a:buFont typeface="Calibri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3864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864"/>
              </a:solidFill>
              <a:latin typeface="Calibri"/>
            </a:endParaRPr>
          </a:p>
          <a:p>
            <a:pPr lvl="6" marL="2152800" indent="-236520">
              <a:spcBef>
                <a:spcPts val="601"/>
              </a:spcBef>
              <a:buClr>
                <a:srgbClr val="003864"/>
              </a:buClr>
              <a:buFont typeface="Calibri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3864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864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386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CC86-47FB-4C49-969E-21AA58F9B2DA}" type="slidenum">
              <a:rPr b="0" lang="ru-RU" sz="1500" spc="-1" strike="noStrike">
                <a:solidFill>
                  <a:srgbClr val="003864"/>
                </a:solidFill>
                <a:latin typeface="Calibri"/>
              </a:rPr>
              <a:t>&lt;number&gt;</a:t>
            </a:fld>
            <a:endParaRPr b="1" lang="en-US" sz="15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3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jpe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asu.gov.ru/" TargetMode="External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501480" y="3214800"/>
            <a:ext cx="86425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ческие аспекты оценки эффективности деятельности ТОФК, </a:t>
            </a:r>
            <a:endParaRPr b="1" lang="en-US" sz="32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структурных подразделений и сотрудников</a:t>
            </a:r>
            <a:endParaRPr b="1" lang="en-US" sz="3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5786280" y="3751200"/>
            <a:ext cx="2735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ик отдела внутреннего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я и аудита 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Ф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Оренбургской области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А. Кажаев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500040" y="3643200"/>
            <a:ext cx="1457280" cy="13366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5" descr="222.png"/>
          <p:cNvPicPr/>
          <p:nvPr/>
        </p:nvPicPr>
        <p:blipFill>
          <a:blip r:embed="rId2"/>
          <a:stretch/>
        </p:blipFill>
        <p:spPr>
          <a:xfrm>
            <a:off x="7215120" y="642960"/>
            <a:ext cx="16988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Прямоугольник 5" descr=""/>
          <p:cNvPicPr/>
          <p:nvPr/>
        </p:nvPicPr>
        <p:blipFill>
          <a:blip r:embed="rId1"/>
          <a:stretch/>
        </p:blipFill>
        <p:spPr>
          <a:xfrm>
            <a:off x="1994040" y="920880"/>
            <a:ext cx="5357520" cy="43164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785880" y="571680"/>
            <a:ext cx="7929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Интегральная оценка структурных подразделений УФК по Оренбургской области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grpSp>
        <p:nvGrpSpPr>
          <p:cNvPr id="208" name="Rectangle 7"/>
          <p:cNvGrpSpPr/>
          <p:nvPr/>
        </p:nvGrpSpPr>
        <p:grpSpPr>
          <a:xfrm>
            <a:off x="3681360" y="1627200"/>
            <a:ext cx="2073240" cy="549360"/>
            <a:chOff x="3681360" y="1627200"/>
            <a:chExt cx="2073240" cy="549360"/>
          </a:xfrm>
        </p:grpSpPr>
        <p:pic>
          <p:nvPicPr>
            <p:cNvPr id="209" name="Rectangle 7" descr=""/>
            <p:cNvPicPr/>
            <p:nvPr/>
          </p:nvPicPr>
          <p:blipFill>
            <a:blip r:embed="rId2"/>
            <a:stretch/>
          </p:blipFill>
          <p:spPr>
            <a:xfrm>
              <a:off x="3681360" y="1627200"/>
              <a:ext cx="20732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714840" y="1660680"/>
              <a:ext cx="2016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Материалы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проверок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2610000" y="2590920"/>
            <a:ext cx="1796760" cy="920520"/>
            <a:chOff x="2610000" y="2590920"/>
            <a:chExt cx="1796760" cy="920520"/>
          </a:xfrm>
        </p:grpSpPr>
        <p:pic>
          <p:nvPicPr>
            <p:cNvPr id="212" name="Rectangle 8" descr=""/>
            <p:cNvPicPr/>
            <p:nvPr/>
          </p:nvPicPr>
          <p:blipFill>
            <a:blip r:embed="rId3"/>
            <a:stretch/>
          </p:blipFill>
          <p:spPr>
            <a:xfrm>
              <a:off x="2610000" y="2590920"/>
              <a:ext cx="17967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643120" y="2625840"/>
              <a:ext cx="1735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Протокол 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заседания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Контрольного 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совета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5108400" y="2590920"/>
            <a:ext cx="1846440" cy="761760"/>
            <a:chOff x="5108400" y="2590920"/>
            <a:chExt cx="1846440" cy="761760"/>
          </a:xfrm>
        </p:grpSpPr>
        <p:pic>
          <p:nvPicPr>
            <p:cNvPr id="215" name="Rectangle 9" descr=""/>
            <p:cNvPicPr/>
            <p:nvPr/>
          </p:nvPicPr>
          <p:blipFill>
            <a:blip r:embed="rId4"/>
            <a:stretch/>
          </p:blipFill>
          <p:spPr>
            <a:xfrm>
              <a:off x="5108400" y="2590920"/>
              <a:ext cx="18464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43680" y="2625840"/>
              <a:ext cx="1785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Расчет 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интегральной 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оценки</a:t>
              </a:r>
              <a:r>
                <a:rPr b="1" lang="ru-RU" sz="1800" spc="-1" strike="noStrike">
                  <a:solidFill>
                    <a:srgbClr val="003864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17" name="Rectangle 10"/>
          <p:cNvGrpSpPr/>
          <p:nvPr/>
        </p:nvGrpSpPr>
        <p:grpSpPr>
          <a:xfrm>
            <a:off x="3754440" y="3986280"/>
            <a:ext cx="1914480" cy="646200"/>
            <a:chOff x="3754440" y="3986280"/>
            <a:chExt cx="1914480" cy="646200"/>
          </a:xfrm>
        </p:grpSpPr>
        <p:pic>
          <p:nvPicPr>
            <p:cNvPr id="218" name="Rectangle 10" descr=""/>
            <p:cNvPicPr/>
            <p:nvPr/>
          </p:nvPicPr>
          <p:blipFill>
            <a:blip r:embed="rId5"/>
            <a:stretch/>
          </p:blipFill>
          <p:spPr>
            <a:xfrm>
              <a:off x="3754440" y="3986280"/>
              <a:ext cx="1914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786120" y="4017960"/>
              <a:ext cx="18576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Решение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руководителя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1400" spc="-1" strike="noStrike">
                  <a:solidFill>
                    <a:srgbClr val="003864"/>
                  </a:solidFill>
                  <a:latin typeface="Arial"/>
                </a:rPr>
                <a:t>УФК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20" name="AutoShape 12"/>
          <p:cNvGrpSpPr/>
          <p:nvPr/>
        </p:nvGrpSpPr>
        <p:grpSpPr>
          <a:xfrm>
            <a:off x="3780000" y="2163600"/>
            <a:ext cx="579240" cy="439920"/>
            <a:chOff x="3780000" y="2163600"/>
            <a:chExt cx="579240" cy="439920"/>
          </a:xfrm>
        </p:grpSpPr>
        <p:pic>
          <p:nvPicPr>
            <p:cNvPr id="221" name="AutoShape 12" descr=""/>
            <p:cNvPicPr/>
            <p:nvPr/>
          </p:nvPicPr>
          <p:blipFill>
            <a:blip r:embed="rId6"/>
            <a:stretch/>
          </p:blipFill>
          <p:spPr>
            <a:xfrm>
              <a:off x="3780000" y="2163600"/>
              <a:ext cx="57924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2197080"/>
              <a:ext cx="2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23" name="AutoShape 13"/>
          <p:cNvGrpSpPr/>
          <p:nvPr/>
        </p:nvGrpSpPr>
        <p:grpSpPr>
          <a:xfrm>
            <a:off x="5065560" y="2163600"/>
            <a:ext cx="579600" cy="439920"/>
            <a:chOff x="5065560" y="2163600"/>
            <a:chExt cx="579600" cy="439920"/>
          </a:xfrm>
        </p:grpSpPr>
        <p:pic>
          <p:nvPicPr>
            <p:cNvPr id="224" name="AutoShape 13" descr=""/>
            <p:cNvPicPr/>
            <p:nvPr/>
          </p:nvPicPr>
          <p:blipFill>
            <a:blip r:embed="rId7"/>
            <a:stretch/>
          </p:blipFill>
          <p:spPr>
            <a:xfrm>
              <a:off x="5065560" y="2163600"/>
              <a:ext cx="57960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251320" y="2197080"/>
              <a:ext cx="2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26" name="AutoShape 14"/>
          <p:cNvGrpSpPr/>
          <p:nvPr/>
        </p:nvGrpSpPr>
        <p:grpSpPr>
          <a:xfrm>
            <a:off x="3968640" y="3505320"/>
            <a:ext cx="1657440" cy="438120"/>
            <a:chOff x="3968640" y="3505320"/>
            <a:chExt cx="1657440" cy="438120"/>
          </a:xfrm>
        </p:grpSpPr>
        <p:pic>
          <p:nvPicPr>
            <p:cNvPr id="227" name="AutoShape 14" descr=""/>
            <p:cNvPicPr/>
            <p:nvPr/>
          </p:nvPicPr>
          <p:blipFill>
            <a:blip r:embed="rId8"/>
            <a:stretch/>
          </p:blipFill>
          <p:spPr>
            <a:xfrm>
              <a:off x="3968640" y="3505320"/>
              <a:ext cx="16574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451400" y="3540240"/>
              <a:ext cx="700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pic>
        <p:nvPicPr>
          <p:cNvPr id="229" name="Picture 17" descr="http://www.bpost.kg/sites/default/files/photo/stol11_14.jpg"/>
          <p:cNvPicPr/>
          <p:nvPr/>
        </p:nvPicPr>
        <p:blipFill>
          <a:blip r:embed="rId9"/>
          <a:stretch/>
        </p:blipFill>
        <p:spPr>
          <a:xfrm>
            <a:off x="357120" y="3965400"/>
            <a:ext cx="1689120" cy="963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31" name="Picture 3" descr="8165115-3d-man-conference-standing-near-a-blank-board"/>
          <p:cNvPicPr/>
          <p:nvPr/>
        </p:nvPicPr>
        <p:blipFill>
          <a:blip r:embed="rId10"/>
          <a:stretch/>
        </p:blipFill>
        <p:spPr>
          <a:xfrm>
            <a:off x="7358040" y="3911760"/>
            <a:ext cx="1484280" cy="974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33" name="Picture 2" descr="http://fotohomka.ru/images/Nov/02/6800a0663a79985d928c829f2fe86ac8/4.jpg"/>
          <p:cNvPicPr/>
          <p:nvPr/>
        </p:nvPicPr>
        <p:blipFill>
          <a:blip r:embed="rId11"/>
          <a:stretch/>
        </p:blipFill>
        <p:spPr>
          <a:xfrm>
            <a:off x="7358040" y="1017720"/>
            <a:ext cx="1407960" cy="1050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"/>
          <p:cNvPicPr/>
          <p:nvPr/>
        </p:nvPicPr>
        <p:blipFill>
          <a:blip r:embed="rId12"/>
          <a:stretch/>
        </p:blipFill>
        <p:spPr>
          <a:xfrm>
            <a:off x="500040" y="1071720"/>
            <a:ext cx="128592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лючение соглашений об информационном взаимодействии с контрольно-счетными органами</a:t>
            </a:r>
            <a:endParaRPr b="1" lang="en-US" sz="1600" spc="-1" strike="noStrike">
              <a:solidFill>
                <a:srgbClr val="6d6fc7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1357200" y="2928960"/>
            <a:ext cx="936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800" spc="-1" strike="noStrike">
                <a:solidFill>
                  <a:srgbClr val="003864"/>
                </a:solidFill>
                <a:latin typeface="Arial"/>
              </a:rPr>
              <a:t>80 %</a:t>
            </a:r>
            <a:endParaRPr b="1" lang="en-US" sz="2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37" name="Rectangle 64"/>
          <p:cNvSpPr/>
          <p:nvPr/>
        </p:nvSpPr>
        <p:spPr>
          <a:xfrm>
            <a:off x="6858000" y="2928960"/>
            <a:ext cx="115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800" spc="-1" strike="noStrike">
                <a:solidFill>
                  <a:srgbClr val="003864"/>
                </a:solidFill>
                <a:latin typeface="Arial"/>
              </a:rPr>
              <a:t>100 %</a:t>
            </a:r>
            <a:endParaRPr b="1" lang="en-US" sz="2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38" name="Picture 10" descr="http://player.myshared.ru/326190/data/images/img98.jpg"/>
          <p:cNvPicPr/>
          <p:nvPr/>
        </p:nvPicPr>
        <p:blipFill>
          <a:blip r:embed="rId1"/>
          <a:stretch/>
        </p:blipFill>
        <p:spPr>
          <a:xfrm>
            <a:off x="3429000" y="2428920"/>
            <a:ext cx="2460600" cy="159048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7"/>
          <p:cNvSpPr/>
          <p:nvPr/>
        </p:nvSpPr>
        <p:spPr>
          <a:xfrm>
            <a:off x="3714840" y="4179960"/>
            <a:ext cx="1873080" cy="485640"/>
          </a:xfrm>
          <a:prstGeom prst="leftRightArrow">
            <a:avLst>
              <a:gd name="adj1" fmla="val 50000"/>
              <a:gd name="adj2" fmla="val 5785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800" spc="-1" strike="noStrike">
                <a:solidFill>
                  <a:srgbClr val="003864"/>
                </a:solidFill>
                <a:latin typeface="Arial"/>
              </a:rPr>
              <a:t>ППО «СУФД»</a:t>
            </a: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0" name="Rectangle 70"/>
          <p:cNvSpPr/>
          <p:nvPr/>
        </p:nvSpPr>
        <p:spPr>
          <a:xfrm>
            <a:off x="755640" y="1274760"/>
            <a:ext cx="7704000" cy="70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я контрольно-счетных органов муниципальных образований Оренбургской 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сти,  с которыми заключены  соглашения об информационном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аимодействии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755640" y="2192400"/>
            <a:ext cx="208908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роприятие 12.1.</a:t>
            </a:r>
            <a:endParaRPr b="1" lang="en-US" sz="11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ратегической карты </a:t>
            </a:r>
            <a:endParaRPr b="1" lang="en-US" sz="11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значейства России </a:t>
            </a:r>
            <a:endParaRPr b="1" lang="en-US" sz="11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 31.12.2015 </a:t>
            </a:r>
            <a:endParaRPr b="1" lang="en-US" sz="11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2" name="Rectangle 74"/>
          <p:cNvSpPr/>
          <p:nvPr/>
        </p:nvSpPr>
        <p:spPr>
          <a:xfrm>
            <a:off x="6357960" y="2197080"/>
            <a:ext cx="2160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1" lang="en-US" sz="11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 01.03.2015</a:t>
            </a:r>
            <a:endParaRPr b="1" lang="en-US" sz="11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43" name="Picture 75" descr=""/>
          <p:cNvPicPr/>
          <p:nvPr/>
        </p:nvPicPr>
        <p:blipFill>
          <a:blip r:embed="rId2"/>
          <a:stretch/>
        </p:blipFill>
        <p:spPr>
          <a:xfrm>
            <a:off x="6143760" y="3268800"/>
            <a:ext cx="2628720" cy="151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6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2628720" cy="1584360"/>
          </a:xfrm>
          <a:prstGeom prst="rect">
            <a:avLst/>
          </a:prstGeom>
          <a:ln w="0">
            <a:noFill/>
          </a:ln>
        </p:spPr>
      </p:pic>
      <p:sp>
        <p:nvSpPr>
          <p:cNvPr id="245" name="Line 80"/>
          <p:cNvSpPr/>
          <p:nvPr/>
        </p:nvSpPr>
        <p:spPr>
          <a:xfrm flipH="1">
            <a:off x="3058920" y="1978200"/>
            <a:ext cx="433080" cy="32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46" name="Line 81"/>
          <p:cNvSpPr/>
          <p:nvPr/>
        </p:nvSpPr>
        <p:spPr>
          <a:xfrm>
            <a:off x="5715000" y="1982880"/>
            <a:ext cx="504720" cy="323640"/>
          </a:xfrm>
          <a:prstGeom prst="line">
            <a:avLst/>
          </a:prstGeom>
          <a:ln w="28440">
            <a:solidFill>
              <a:srgbClr val="0066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8480" y="642960"/>
            <a:ext cx="6429240" cy="482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пробация методики Минтруда России</a:t>
            </a:r>
            <a:endParaRPr b="1" lang="en-US" sz="2800" spc="-1" strike="noStrike">
              <a:solidFill>
                <a:srgbClr val="6d6fc7"/>
              </a:solidFill>
              <a:latin typeface="Calibri"/>
            </a:endParaRPr>
          </a:p>
        </p:txBody>
      </p:sp>
      <p:grpSp>
        <p:nvGrpSpPr>
          <p:cNvPr id="248" name="Прямоугольник 10"/>
          <p:cNvGrpSpPr/>
          <p:nvPr/>
        </p:nvGrpSpPr>
        <p:grpSpPr>
          <a:xfrm>
            <a:off x="255600" y="1200240"/>
            <a:ext cx="2054160" cy="647640"/>
            <a:chOff x="255600" y="1200240"/>
            <a:chExt cx="2054160" cy="647640"/>
          </a:xfrm>
        </p:grpSpPr>
        <p:pic>
          <p:nvPicPr>
            <p:cNvPr id="249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255600" y="1200240"/>
              <a:ext cx="20541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85840" y="1231920"/>
              <a:ext cx="2000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Минтруд России</a:t>
              </a: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51" name="Прямоугольник 11"/>
          <p:cNvGrpSpPr/>
          <p:nvPr/>
        </p:nvGrpSpPr>
        <p:grpSpPr>
          <a:xfrm>
            <a:off x="2828880" y="1200240"/>
            <a:ext cx="2054160" cy="647640"/>
            <a:chOff x="2828880" y="1200240"/>
            <a:chExt cx="2054160" cy="647640"/>
          </a:xfrm>
        </p:grpSpPr>
        <p:pic>
          <p:nvPicPr>
            <p:cNvPr id="252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828880" y="1200240"/>
              <a:ext cx="20541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857680" y="1231920"/>
              <a:ext cx="20001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Федеральное казначейство</a:t>
              </a: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254" name="Прямоугольник 12"/>
          <p:cNvGrpSpPr/>
          <p:nvPr/>
        </p:nvGrpSpPr>
        <p:grpSpPr>
          <a:xfrm>
            <a:off x="5400720" y="1200240"/>
            <a:ext cx="3627360" cy="969840"/>
            <a:chOff x="5400720" y="1200240"/>
            <a:chExt cx="3627360" cy="969840"/>
          </a:xfrm>
        </p:grpSpPr>
        <p:pic>
          <p:nvPicPr>
            <p:cNvPr id="2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5400720" y="1200240"/>
              <a:ext cx="3627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429160" y="1231920"/>
              <a:ext cx="357192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УФК по Московской области</a:t>
              </a:r>
              <a:endParaRPr b="1" lang="en-US" sz="1200" spc="-1" strike="noStrike">
                <a:solidFill>
                  <a:srgbClr val="003864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УФК по Нижегородской области</a:t>
              </a:r>
              <a:endParaRPr b="1" lang="en-US" sz="1200" spc="-1" strike="noStrike">
                <a:solidFill>
                  <a:srgbClr val="003864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6d6fc7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6d6fc7"/>
                  </a:solidFill>
                  <a:uFillTx/>
                  <a:latin typeface="Calibri"/>
                </a:rPr>
                <a:t>УФК по Оренбургской области</a:t>
              </a:r>
              <a:endParaRPr b="1" lang="en-US" sz="1200" spc="-1" strike="noStrike">
                <a:solidFill>
                  <a:srgbClr val="003864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УФК по Самарской области</a:t>
              </a:r>
              <a:endParaRPr b="1" lang="en-US" sz="1200" spc="-1" strike="noStrike">
                <a:solidFill>
                  <a:srgbClr val="003864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Межрегиональное операционное УФК</a:t>
              </a:r>
              <a:endParaRPr b="1" lang="en-US" sz="12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sp>
        <p:nvSpPr>
          <p:cNvPr id="257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58" name="Рисунок 166" descr=""/>
          <p:cNvPicPr/>
          <p:nvPr/>
        </p:nvPicPr>
        <p:blipFill>
          <a:blip r:embed="rId4"/>
          <a:stretch/>
        </p:blipFill>
        <p:spPr>
          <a:xfrm>
            <a:off x="285840" y="2571840"/>
            <a:ext cx="372960" cy="40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259" name="Прямая со стрелкой 35"/>
          <p:cNvCxnSpPr/>
          <p:nvPr/>
        </p:nvCxnSpPr>
        <p:spPr>
          <a:xfrm>
            <a:off x="2356920" y="1553760"/>
            <a:ext cx="429480" cy="2520"/>
          </a:xfrm>
          <a:prstGeom prst="straightConnector1">
            <a:avLst/>
          </a:prstGeom>
          <a:ln w="25560">
            <a:solidFill>
              <a:srgbClr val="005a58"/>
            </a:solidFill>
            <a:miter/>
            <a:tailEnd len="med" type="arrow" w="med"/>
          </a:ln>
        </p:spPr>
      </p:cxnSp>
      <p:cxnSp>
        <p:nvCxnSpPr>
          <p:cNvPr id="260" name="Прямая со стрелкой 37"/>
          <p:cNvCxnSpPr/>
          <p:nvPr/>
        </p:nvCxnSpPr>
        <p:spPr>
          <a:xfrm>
            <a:off x="4928760" y="1553760"/>
            <a:ext cx="429480" cy="2520"/>
          </a:xfrm>
          <a:prstGeom prst="straightConnector1">
            <a:avLst/>
          </a:prstGeom>
          <a:ln w="25560">
            <a:solidFill>
              <a:srgbClr val="005a58"/>
            </a:solidFill>
            <a:miter/>
            <a:tailEnd len="med" type="arrow" w="med"/>
          </a:ln>
        </p:spPr>
      </p:cxnSp>
      <p:pic>
        <p:nvPicPr>
          <p:cNvPr id="261" name="Рисунок 42" descr=""/>
          <p:cNvPicPr/>
          <p:nvPr/>
        </p:nvPicPr>
        <p:blipFill>
          <a:blip r:embed="rId5"/>
          <a:stretch/>
        </p:blipFill>
        <p:spPr>
          <a:xfrm>
            <a:off x="285840" y="3286080"/>
            <a:ext cx="372960" cy="40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2" name="Рисунок 43" descr=""/>
          <p:cNvPicPr/>
          <p:nvPr/>
        </p:nvPicPr>
        <p:blipFill>
          <a:blip r:embed="rId6"/>
          <a:stretch/>
        </p:blipFill>
        <p:spPr>
          <a:xfrm>
            <a:off x="285840" y="4000680"/>
            <a:ext cx="372960" cy="40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3" name="Прямоугольник 47" descr=""/>
          <p:cNvPicPr/>
          <p:nvPr/>
        </p:nvPicPr>
        <p:blipFill>
          <a:blip r:embed="rId7"/>
          <a:stretch/>
        </p:blipFill>
        <p:spPr>
          <a:xfrm>
            <a:off x="566640" y="2090880"/>
            <a:ext cx="4584960" cy="457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2"/>
          <p:cNvSpPr/>
          <p:nvPr/>
        </p:nvSpPr>
        <p:spPr>
          <a:xfrm>
            <a:off x="714240" y="2532240"/>
            <a:ext cx="7286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Разработать Классификатор показателей оценки результативности профессиональной служебной деятельности федеральных государственных гражданских служащих территориальных органов Федерального казначейства;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Устанавливать размер повышающих коэффициентов в зависимости от количества предметов внутреннего  контроля, по которым сотрудник осуществляет внутренний контроль по уровню подчиненности; 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Применять показатели оценки результативности профессиональной служебной деятельности федеральных государственных гражданских служащих территориальных органов Федерального казначейства к сотрудникам осуществляющим в установленном порядке кассовое обслуживание исполнения бюджета субъекта Российской  Федерации, местных бюджетов, бюджетов государственных внебюджетных фондов.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24000" y="1924200"/>
            <a:ext cx="86421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3071880" y="3000240"/>
            <a:ext cx="27115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5" descr=""/>
          <p:cNvPicPr/>
          <p:nvPr/>
        </p:nvPicPr>
        <p:blipFill>
          <a:blip r:embed="rId1"/>
          <a:stretch/>
        </p:blipFill>
        <p:spPr>
          <a:xfrm>
            <a:off x="96840" y="579600"/>
            <a:ext cx="9053640" cy="1023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571680" y="2036880"/>
            <a:ext cx="2571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864"/>
                </a:solidFill>
                <a:latin typeface="Arial"/>
              </a:rPr>
              <a:t>Формирование комплексной системы государственного менеджмента в Федеральном казначействе</a:t>
            </a:r>
            <a:endParaRPr b="1" lang="en-US" sz="2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214960" y="1714680"/>
            <a:ext cx="292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Развитие системы оценки эффективности деятельности органов Федерального казначейства. 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grpSp>
        <p:nvGrpSpPr>
          <p:cNvPr id="94" name="Месяц 18"/>
          <p:cNvGrpSpPr/>
          <p:nvPr/>
        </p:nvGrpSpPr>
        <p:grpSpPr>
          <a:xfrm>
            <a:off x="2773440" y="1822320"/>
            <a:ext cx="963360" cy="2006640"/>
            <a:chOff x="2773440" y="1822320"/>
            <a:chExt cx="963360" cy="2006640"/>
          </a:xfrm>
        </p:grpSpPr>
        <p:pic>
          <p:nvPicPr>
            <p:cNvPr id="95" name="Месяц 18" descr=""/>
            <p:cNvPicPr/>
            <p:nvPr/>
          </p:nvPicPr>
          <p:blipFill>
            <a:blip r:embed="rId2"/>
            <a:stretch/>
          </p:blipFill>
          <p:spPr>
            <a:xfrm>
              <a:off x="2773440" y="1822320"/>
              <a:ext cx="96336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rot="10800000">
              <a:off x="3286080" y="2336400"/>
              <a:ext cx="30312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97" name="Нашивка 21"/>
          <p:cNvGrpSpPr/>
          <p:nvPr/>
        </p:nvGrpSpPr>
        <p:grpSpPr>
          <a:xfrm>
            <a:off x="3816360" y="1994040"/>
            <a:ext cx="1352520" cy="547560"/>
            <a:chOff x="3816360" y="1994040"/>
            <a:chExt cx="1352520" cy="547560"/>
          </a:xfrm>
        </p:grpSpPr>
        <p:pic>
          <p:nvPicPr>
            <p:cNvPr id="98" name="Нашивка 21" descr=""/>
            <p:cNvPicPr/>
            <p:nvPr/>
          </p:nvPicPr>
          <p:blipFill>
            <a:blip r:embed="rId3"/>
            <a:stretch/>
          </p:blipFill>
          <p:spPr>
            <a:xfrm>
              <a:off x="3816360" y="1994040"/>
              <a:ext cx="13525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20785200">
              <a:off x="3979800" y="2146320"/>
              <a:ext cx="1071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Calibri"/>
                </a:rPr>
                <a:t>12.3</a:t>
              </a: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pic>
        <p:nvPicPr>
          <p:cNvPr id="100" name="Picture 22" descr=""/>
          <p:cNvPicPr/>
          <p:nvPr/>
        </p:nvPicPr>
        <p:blipFill>
          <a:blip r:embed="rId4"/>
          <a:stretch/>
        </p:blipFill>
        <p:spPr>
          <a:xfrm>
            <a:off x="71280" y="3929040"/>
            <a:ext cx="7844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01" name="Нашивка 28"/>
          <p:cNvGrpSpPr/>
          <p:nvPr/>
        </p:nvGrpSpPr>
        <p:grpSpPr>
          <a:xfrm>
            <a:off x="5194440" y="2766960"/>
            <a:ext cx="657000" cy="781200"/>
            <a:chOff x="5194440" y="2766960"/>
            <a:chExt cx="657000" cy="781200"/>
          </a:xfrm>
        </p:grpSpPr>
        <p:pic>
          <p:nvPicPr>
            <p:cNvPr id="102" name="Нашивка 28" descr=""/>
            <p:cNvPicPr/>
            <p:nvPr/>
          </p:nvPicPr>
          <p:blipFill>
            <a:blip r:embed="rId5"/>
            <a:stretch/>
          </p:blipFill>
          <p:spPr>
            <a:xfrm>
              <a:off x="5194440" y="2766960"/>
              <a:ext cx="6570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rot="7511400">
              <a:off x="5244120" y="3067560"/>
              <a:ext cx="471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04" name="Нашивка 29"/>
          <p:cNvGrpSpPr/>
          <p:nvPr/>
        </p:nvGrpSpPr>
        <p:grpSpPr>
          <a:xfrm>
            <a:off x="6467400" y="3097080"/>
            <a:ext cx="341280" cy="1060560"/>
            <a:chOff x="6467400" y="3097080"/>
            <a:chExt cx="341280" cy="1060560"/>
          </a:xfrm>
        </p:grpSpPr>
        <p:pic>
          <p:nvPicPr>
            <p:cNvPr id="105" name="Нашивка 29" descr=""/>
            <p:cNvPicPr/>
            <p:nvPr/>
          </p:nvPicPr>
          <p:blipFill>
            <a:blip r:embed="rId6"/>
            <a:stretch/>
          </p:blipFill>
          <p:spPr>
            <a:xfrm>
              <a:off x="6467400" y="3097080"/>
              <a:ext cx="3412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5400000">
              <a:off x="6296040" y="3490920"/>
              <a:ext cx="695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07" name="Нашивка 30"/>
          <p:cNvGrpSpPr/>
          <p:nvPr/>
        </p:nvGrpSpPr>
        <p:grpSpPr>
          <a:xfrm>
            <a:off x="7454880" y="2766960"/>
            <a:ext cx="658800" cy="781200"/>
            <a:chOff x="7454880" y="2766960"/>
            <a:chExt cx="658800" cy="781200"/>
          </a:xfrm>
        </p:grpSpPr>
        <p:pic>
          <p:nvPicPr>
            <p:cNvPr id="108" name="Нашивка 30" descr=""/>
            <p:cNvPicPr/>
            <p:nvPr/>
          </p:nvPicPr>
          <p:blipFill>
            <a:blip r:embed="rId7"/>
            <a:stretch/>
          </p:blipFill>
          <p:spPr>
            <a:xfrm>
              <a:off x="7454880" y="2766960"/>
              <a:ext cx="6588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3295200">
              <a:off x="7601400" y="3067920"/>
              <a:ext cx="471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sp>
        <p:nvSpPr>
          <p:cNvPr id="110" name="TextBox 12"/>
          <p:cNvSpPr/>
          <p:nvPr/>
        </p:nvSpPr>
        <p:spPr>
          <a:xfrm>
            <a:off x="3929040" y="364320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Экономическая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эффективность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7286760" y="369720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Социальная эффективность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5572080" y="428616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864"/>
                </a:solidFill>
                <a:latin typeface="Arial"/>
              </a:rPr>
              <a:t>Результативность деятельности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8604360" y="4908600"/>
            <a:ext cx="468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7D6C-CBB7-4BC1-B335-96ACCE9E4417}" type="slidenum">
              <a:rPr b="0" lang="ru-RU" sz="15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4200" y="588960"/>
          <a:ext cx="8715600" cy="4272120"/>
        </p:xfrm>
        <a:graphic>
          <a:graphicData uri="http://schemas.openxmlformats.org/drawingml/2006/table">
            <a:tbl>
              <a:tblPr/>
              <a:tblGrid>
                <a:gridCol w="744480"/>
                <a:gridCol w="4395960"/>
                <a:gridCol w="1638360"/>
                <a:gridCol w="1936800"/>
              </a:tblGrid>
              <a:tr h="960480">
                <a:tc gridSpan="4"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аблица оценки результативности профессиональной служебной деятельности федерального государственного гражданского служащего, замещающего должность руководителя Управления Федерального казначейства по Оренбургской области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_____________________________________ 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 ____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____ 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 г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6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№  </a:t>
                      </a:r>
                      <a:r>
                        <a:rPr b="0" lang="ru-RU" sz="11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п/п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Наименование Показателя деятельности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Вес Показателя деятельности (%)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Оценка выполнения Показателя деятельности 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(«Да-Нет»)</a:t>
                      </a:r>
                      <a:endParaRPr b="1" lang="en-US" sz="11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</a:tr>
              <a:tr h="59688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1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Соответствие организации и осуществления учета поступлений в бюджетную систему Российской Федерации и их распределения между бюджетами бюджетной системы Российской Федерации, установленным требованиям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12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«Да»</a:t>
                      </a:r>
                      <a:endParaRPr b="1" lang="en-US" sz="9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</a:tr>
              <a:tr h="48096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2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Соответствие организации и осуществления электронных расчетов в системе банковских расчетов между УФК и учреждениями Банка России и кредитными организациями установленным требованиям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«Да»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</a:tr>
              <a:tr h="46332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3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Соответствие организации кассового исполнения федерального бюджета и исполнения бюджета Союзного государства установленным требованиям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13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«Да»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</a:tr>
              <a:tr h="22572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…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</a:tr>
              <a:tr h="19368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…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f2"/>
                    </a:solidFill>
                  </a:tcPr>
                </a:tc>
              </a:tr>
              <a:tr h="59688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16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Соответствие организации деятельности по мобилизационной подготовке, гражданской обороне, воинскому учету и бронирования граждан, пребывающих в запасе установленным требованиям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3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5a58"/>
                          </a:solidFill>
                          <a:latin typeface="Calibri"/>
                        </a:rPr>
                        <a:t>«Да»</a:t>
                      </a: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38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e5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8"/>
          <p:cNvSpPr/>
          <p:nvPr/>
        </p:nvSpPr>
        <p:spPr>
          <a:xfrm>
            <a:off x="214200" y="4875120"/>
            <a:ext cx="40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Общая оценка результативности деятельности 100 %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кругленный прямоугольник 7"/>
          <p:cNvSpPr/>
          <p:nvPr/>
        </p:nvSpPr>
        <p:spPr>
          <a:xfrm>
            <a:off x="7429680" y="3786120"/>
            <a:ext cx="1285560" cy="11970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8604360" y="4908600"/>
            <a:ext cx="468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2C29-51D0-4847-A0A5-08FF389D566A}" type="slidenum">
              <a:rPr b="0" lang="ru-RU" sz="15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214200" y="642960"/>
            <a:ext cx="88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6d6fc7"/>
                </a:solidFill>
                <a:latin typeface="Arial"/>
              </a:rPr>
              <a:t>Об оценке результативности деятельности заместителей руководителей</a:t>
            </a:r>
            <a:r>
              <a:rPr b="1" lang="en-US" sz="1600" spc="-1" strike="noStrike">
                <a:solidFill>
                  <a:srgbClr val="6d6fc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d6fc7"/>
                </a:solidFill>
                <a:latin typeface="Arial"/>
              </a:rPr>
              <a:t>ТОФК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grpSp>
        <p:nvGrpSpPr>
          <p:cNvPr id="119" name="Блок-схема: процесс 4"/>
          <p:cNvGrpSpPr/>
          <p:nvPr/>
        </p:nvGrpSpPr>
        <p:grpSpPr>
          <a:xfrm>
            <a:off x="109440" y="1182600"/>
            <a:ext cx="2914920" cy="768600"/>
            <a:chOff x="109440" y="1182600"/>
            <a:chExt cx="2914920" cy="768600"/>
          </a:xfrm>
        </p:grpSpPr>
        <p:pic>
          <p:nvPicPr>
            <p:cNvPr id="120" name="Блок-схема: процесс 4" descr=""/>
            <p:cNvPicPr/>
            <p:nvPr/>
          </p:nvPicPr>
          <p:blipFill>
            <a:blip r:embed="rId2"/>
            <a:stretch/>
          </p:blipFill>
          <p:spPr>
            <a:xfrm>
              <a:off x="109440" y="1182600"/>
              <a:ext cx="291492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2920" y="1214280"/>
              <a:ext cx="28573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Calibri"/>
                </a:rPr>
                <a:t>Показатели деятельности заместителей руководителя ТОФК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22" name="TextBox 15"/>
          <p:cNvGrpSpPr/>
          <p:nvPr/>
        </p:nvGrpSpPr>
        <p:grpSpPr>
          <a:xfrm>
            <a:off x="-19080" y="3078000"/>
            <a:ext cx="3962520" cy="2079720"/>
            <a:chOff x="-19080" y="3078000"/>
            <a:chExt cx="3962520" cy="2079720"/>
          </a:xfrm>
        </p:grpSpPr>
        <p:pic>
          <p:nvPicPr>
            <p:cNvPr id="123" name="TextBox 15" descr=""/>
            <p:cNvPicPr/>
            <p:nvPr/>
          </p:nvPicPr>
          <p:blipFill>
            <a:blip r:embed="rId3"/>
            <a:stretch/>
          </p:blipFill>
          <p:spPr>
            <a:xfrm>
              <a:off x="-19080" y="3078000"/>
              <a:ext cx="396252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097080"/>
              <a:ext cx="3929040" cy="20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1. Обеспечение координации (</a:t>
              </a:r>
              <a:r>
                <a:rPr b="1" lang="ru-RU" sz="10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непосредственного</a:t>
              </a: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 руководства) деятельности структурного подразделения  Управления в пределах возложенных полномочий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2. Обеспечение планирования, организации и осуществления внутреннего контроля структурном подразделении  Управления  при выполнении функций и осуществлении полномочий с применением методов «самоконтроль» и «контроль по уровню подчиненности»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3. Своевременное и качественное выполнение особо важных и сложных заданий и поручений ФК, руководителя   Управления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4. Обеспечение своевременного и качественного рассмотрения в установленном порядке обращений граждан и юридических лиц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5. Отсутствие нарушений законодательных и иных нормативных правовых актов Российской Федерации, приказов Федерального казначейства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25" name="TextBox 16"/>
          <p:cNvGrpSpPr/>
          <p:nvPr/>
        </p:nvGrpSpPr>
        <p:grpSpPr>
          <a:xfrm>
            <a:off x="5194440" y="1195560"/>
            <a:ext cx="3962160" cy="2352600"/>
            <a:chOff x="5194440" y="1195560"/>
            <a:chExt cx="3962160" cy="2352600"/>
          </a:xfrm>
        </p:grpSpPr>
        <p:pic>
          <p:nvPicPr>
            <p:cNvPr id="126" name="TextBox 16" descr=""/>
            <p:cNvPicPr/>
            <p:nvPr/>
          </p:nvPicPr>
          <p:blipFill>
            <a:blip r:embed="rId4"/>
            <a:stretch/>
          </p:blipFill>
          <p:spPr>
            <a:xfrm>
              <a:off x="5194440" y="1195560"/>
              <a:ext cx="396216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214960" y="1214280"/>
              <a:ext cx="3929040" cy="23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. Соблюдение законодательства Российской Федерации, законодательства субъекта Российской Федерации и местных нормативных актов по курируемым направлениям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2. Соблюдение установленных сроков сдачи полной и достоверной отчетности по курируемым направлениям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3. Обеспечение взаимодействия с учреждениями Банка России и иными кредитными учреждениями, внебюджетными фондами, администраторами поступлений в бюджеты, распорядителями и получателями средств бюджетов бюджетной системы Российской Федерации, финансовыми органами, другими органами государственной власти, организациями и гражданами по курируемым направлениям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4. Обеспечение взаимодействия с Федеральным казначейством, УФК по субъектам РФ и Управлением;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5. Соблюдение служебного поведения и (или)  служебного распорядка Управления</a:t>
              </a:r>
              <a:endParaRPr b="1" lang="en-US" sz="9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28" name="Стрелка вправо с вырезом 21"/>
          <p:cNvGrpSpPr/>
          <p:nvPr/>
        </p:nvGrpSpPr>
        <p:grpSpPr>
          <a:xfrm>
            <a:off x="1238400" y="1951200"/>
            <a:ext cx="590400" cy="1096920"/>
            <a:chOff x="1238400" y="1951200"/>
            <a:chExt cx="590400" cy="1096920"/>
          </a:xfrm>
        </p:grpSpPr>
        <p:pic>
          <p:nvPicPr>
            <p:cNvPr id="129" name="Стрелка вправо с вырезом 21" descr=""/>
            <p:cNvPicPr/>
            <p:nvPr/>
          </p:nvPicPr>
          <p:blipFill>
            <a:blip r:embed="rId5"/>
            <a:stretch/>
          </p:blipFill>
          <p:spPr>
            <a:xfrm>
              <a:off x="1238400" y="1951200"/>
              <a:ext cx="5904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5400000">
              <a:off x="1152000" y="2384280"/>
              <a:ext cx="766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33"/>
                  </a:solidFill>
                  <a:latin typeface="Calibri"/>
                </a:rPr>
                <a:t>Базовые</a:t>
              </a:r>
              <a:endParaRPr b="1" lang="en-US" sz="12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31" name="Стрелка вправо с вырезом 22"/>
          <p:cNvGrpSpPr/>
          <p:nvPr/>
        </p:nvGrpSpPr>
        <p:grpSpPr>
          <a:xfrm>
            <a:off x="3179520" y="1878120"/>
            <a:ext cx="1701720" cy="1809720"/>
            <a:chOff x="3179520" y="1878120"/>
            <a:chExt cx="1701720" cy="1809720"/>
          </a:xfrm>
        </p:grpSpPr>
        <p:pic>
          <p:nvPicPr>
            <p:cNvPr id="132" name="Стрелка вправо с вырезом 22" descr=""/>
            <p:cNvPicPr/>
            <p:nvPr/>
          </p:nvPicPr>
          <p:blipFill>
            <a:blip r:embed="rId6"/>
            <a:stretch/>
          </p:blipFill>
          <p:spPr>
            <a:xfrm>
              <a:off x="3179520" y="1878120"/>
              <a:ext cx="17017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2577600">
              <a:off x="3126960" y="2708280"/>
              <a:ext cx="1908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33"/>
                  </a:solidFill>
                  <a:latin typeface="Calibri"/>
                </a:rPr>
                <a:t>Принимаемые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34" name="TextBox 23"/>
          <p:cNvGrpSpPr/>
          <p:nvPr/>
        </p:nvGrpSpPr>
        <p:grpSpPr>
          <a:xfrm>
            <a:off x="4054320" y="3693960"/>
            <a:ext cx="3029040" cy="1354320"/>
            <a:chOff x="4054320" y="3693960"/>
            <a:chExt cx="3029040" cy="1354320"/>
          </a:xfrm>
        </p:grpSpPr>
        <p:pic>
          <p:nvPicPr>
            <p:cNvPr id="135" name="TextBox 23" descr=""/>
            <p:cNvPicPr/>
            <p:nvPr/>
          </p:nvPicPr>
          <p:blipFill>
            <a:blip r:embed="rId7"/>
            <a:stretch/>
          </p:blipFill>
          <p:spPr>
            <a:xfrm>
              <a:off x="4054320" y="3693960"/>
              <a:ext cx="30290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71960" y="3714840"/>
              <a:ext cx="30002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1. Своевременное и качественное планирование и выполнение мероприятий  иных плановых документов Федерального казначейства и Управления;</a:t>
              </a:r>
              <a:endParaRPr b="1" lang="en-US" sz="1000" spc="-1" strike="noStrike">
                <a:solidFill>
                  <a:srgbClr val="00386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864"/>
                  </a:solidFill>
                  <a:latin typeface="Times New Roman"/>
                  <a:ea typeface="Times New Roman"/>
                </a:rPr>
                <a:t>2. Своевременное и качественное планирование  и выполнение мероприятий иных плановых документов Федерального казначейства и   Управления</a:t>
              </a:r>
              <a:endParaRPr b="1" lang="en-US" sz="10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37" name="Стрелка вправо с вырезом 27"/>
          <p:cNvGrpSpPr/>
          <p:nvPr/>
        </p:nvGrpSpPr>
        <p:grpSpPr>
          <a:xfrm>
            <a:off x="3236760" y="1127160"/>
            <a:ext cx="1938600" cy="469800"/>
            <a:chOff x="3236760" y="1127160"/>
            <a:chExt cx="1938600" cy="469800"/>
          </a:xfrm>
        </p:grpSpPr>
        <p:pic>
          <p:nvPicPr>
            <p:cNvPr id="138" name="Стрелка вправо с вырезом 27" descr=""/>
            <p:cNvPicPr/>
            <p:nvPr/>
          </p:nvPicPr>
          <p:blipFill>
            <a:blip r:embed="rId8"/>
            <a:stretch/>
          </p:blipFill>
          <p:spPr>
            <a:xfrm>
              <a:off x="3236760" y="1127160"/>
              <a:ext cx="19386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379680" y="1273320"/>
              <a:ext cx="16700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33"/>
                  </a:solidFill>
                  <a:latin typeface="Calibri"/>
                </a:rPr>
                <a:t>Специальные</a:t>
              </a:r>
              <a:endParaRPr b="1" lang="en-US" sz="14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3"/>
          <p:cNvSpPr/>
          <p:nvPr/>
        </p:nvSpPr>
        <p:spPr>
          <a:xfrm>
            <a:off x="8604360" y="4908600"/>
            <a:ext cx="468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1D4A-AE40-424D-9299-B4366C3DD61D}" type="slidenum">
              <a:rPr b="0" lang="ru-RU" sz="15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6200" y="537840"/>
            <a:ext cx="8209080" cy="53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яя оценка УФК по Оренбургской области по итогам 2015 года</a:t>
            </a:r>
            <a:endParaRPr b="1" lang="en-US" sz="1800" spc="-1" strike="noStrike">
              <a:solidFill>
                <a:srgbClr val="6d6fc7"/>
              </a:solidFill>
              <a:latin typeface="Calibri"/>
            </a:endParaRPr>
          </a:p>
        </p:txBody>
      </p:sp>
      <p:grpSp>
        <p:nvGrpSpPr>
          <p:cNvPr id="142" name="Скругленный прямоугольник 5"/>
          <p:cNvGrpSpPr/>
          <p:nvPr/>
        </p:nvGrpSpPr>
        <p:grpSpPr>
          <a:xfrm>
            <a:off x="469800" y="1359000"/>
            <a:ext cx="3840120" cy="701640"/>
            <a:chOff x="469800" y="1359000"/>
            <a:chExt cx="3840120" cy="701640"/>
          </a:xfrm>
        </p:grpSpPr>
        <p:pic>
          <p:nvPicPr>
            <p:cNvPr id="143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69800" y="1359000"/>
              <a:ext cx="38401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31720" y="1424160"/>
              <a:ext cx="372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Главы муниципальных образований Оренбургской области - </a:t>
              </a: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96</a:t>
              </a:r>
              <a:endParaRPr b="1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45" name="Скругленный прямоугольник 6"/>
          <p:cNvGrpSpPr/>
          <p:nvPr/>
        </p:nvGrpSpPr>
        <p:grpSpPr>
          <a:xfrm>
            <a:off x="469800" y="2273400"/>
            <a:ext cx="3840120" cy="804600"/>
            <a:chOff x="469800" y="2273400"/>
            <a:chExt cx="3840120" cy="804600"/>
          </a:xfrm>
        </p:grpSpPr>
        <p:pic>
          <p:nvPicPr>
            <p:cNvPr id="14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469800" y="2273400"/>
              <a:ext cx="38401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36400" y="2340000"/>
              <a:ext cx="37134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Главы сельских поселений муниципальных образований Оренбургской области - </a:t>
              </a: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343</a:t>
              </a:r>
              <a:endParaRPr b="1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48" name="Скругленный прямоугольник 7"/>
          <p:cNvGrpSpPr/>
          <p:nvPr/>
        </p:nvGrpSpPr>
        <p:grpSpPr>
          <a:xfrm>
            <a:off x="396720" y="3292560"/>
            <a:ext cx="3913200" cy="803160"/>
            <a:chOff x="396720" y="3292560"/>
            <a:chExt cx="3913200" cy="803160"/>
          </a:xfrm>
        </p:grpSpPr>
        <p:pic>
          <p:nvPicPr>
            <p:cNvPr id="149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96720" y="3292560"/>
              <a:ext cx="39132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65120" y="3359160"/>
              <a:ext cx="378468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Отделения государственных внебюджетных фондов Оренбургской области - </a:t>
              </a: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40</a:t>
              </a:r>
              <a:endParaRPr b="1" lang="en-US" sz="20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51" name="Скругленный прямоугольник 9"/>
          <p:cNvGrpSpPr/>
          <p:nvPr/>
        </p:nvGrpSpPr>
        <p:grpSpPr>
          <a:xfrm>
            <a:off x="4754520" y="1359000"/>
            <a:ext cx="3913200" cy="1079280"/>
            <a:chOff x="4754520" y="1359000"/>
            <a:chExt cx="3913200" cy="1079280"/>
          </a:xfrm>
        </p:grpSpPr>
        <p:pic>
          <p:nvPicPr>
            <p:cNvPr id="152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754520" y="1359000"/>
              <a:ext cx="39132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35520" y="1442880"/>
              <a:ext cx="37591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олучатели бюджетных средств, лицевые счета которых открыты в УФК по Оренбургской области</a:t>
              </a:r>
              <a:endParaRPr b="1" lang="en-US" sz="16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54" name="Стрелка вправо с вырезом 14"/>
          <p:cNvGrpSpPr/>
          <p:nvPr/>
        </p:nvGrpSpPr>
        <p:grpSpPr>
          <a:xfrm>
            <a:off x="1951200" y="969840"/>
            <a:ext cx="377640" cy="365400"/>
            <a:chOff x="1951200" y="969840"/>
            <a:chExt cx="377640" cy="365400"/>
          </a:xfrm>
        </p:grpSpPr>
        <p:pic>
          <p:nvPicPr>
            <p:cNvPr id="155" name="Стрелка вправо с вырезом 14" descr=""/>
            <p:cNvPicPr/>
            <p:nvPr/>
          </p:nvPicPr>
          <p:blipFill>
            <a:blip r:embed="rId5"/>
            <a:stretch/>
          </p:blipFill>
          <p:spPr>
            <a:xfrm>
              <a:off x="1951200" y="969840"/>
              <a:ext cx="3776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 rot="5400000">
              <a:off x="2069640" y="1090440"/>
              <a:ext cx="1461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57" name="Стрелка вправо с вырезом 15"/>
          <p:cNvGrpSpPr/>
          <p:nvPr/>
        </p:nvGrpSpPr>
        <p:grpSpPr>
          <a:xfrm>
            <a:off x="6450120" y="969840"/>
            <a:ext cx="377640" cy="365400"/>
            <a:chOff x="6450120" y="969840"/>
            <a:chExt cx="377640" cy="365400"/>
          </a:xfrm>
        </p:grpSpPr>
        <p:pic>
          <p:nvPicPr>
            <p:cNvPr id="158" name="Стрелка вправо с вырезом 15" descr=""/>
            <p:cNvPicPr/>
            <p:nvPr/>
          </p:nvPicPr>
          <p:blipFill>
            <a:blip r:embed="rId6"/>
            <a:stretch/>
          </p:blipFill>
          <p:spPr>
            <a:xfrm>
              <a:off x="6450120" y="969840"/>
              <a:ext cx="3776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5400000">
              <a:off x="6570000" y="1090440"/>
              <a:ext cx="1461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sp>
        <p:nvSpPr>
          <p:cNvPr id="160" name="Левая фигурная скобка 16"/>
          <p:cNvSpPr/>
          <p:nvPr/>
        </p:nvSpPr>
        <p:spPr>
          <a:xfrm>
            <a:off x="142920" y="1339920"/>
            <a:ext cx="285840" cy="29462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946240"/>
              <a:gd name="textAreaBottom" fmla="*/ 2939040 h 29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"/>
                  <a:pt x="10800" y="175"/>
                </a:cubicBezTo>
                <a:lnTo>
                  <a:pt x="10800" y="10625"/>
                </a:lnTo>
                <a:cubicBezTo>
                  <a:pt x="10800" y="10713"/>
                  <a:pt x="5400" y="10800"/>
                  <a:pt x="0" y="10800"/>
                </a:cubicBezTo>
                <a:cubicBezTo>
                  <a:pt x="5400" y="10800"/>
                  <a:pt x="10800" y="10888"/>
                  <a:pt x="10800" y="10975"/>
                </a:cubicBezTo>
                <a:lnTo>
                  <a:pt x="10800" y="21425"/>
                </a:lnTo>
                <a:cubicBezTo>
                  <a:pt x="10800" y="21513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61" name="Picture 34" descr=""/>
          <p:cNvPicPr/>
          <p:nvPr/>
        </p:nvPicPr>
        <p:blipFill>
          <a:blip r:embed="rId7"/>
          <a:stretch/>
        </p:blipFill>
        <p:spPr>
          <a:xfrm>
            <a:off x="5429160" y="2732040"/>
            <a:ext cx="22147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2138400" cy="1466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"/>
          <p:cNvPicPr/>
          <p:nvPr/>
        </p:nvPicPr>
        <p:blipFill>
          <a:blip r:embed="rId2"/>
          <a:stretch/>
        </p:blipFill>
        <p:spPr>
          <a:xfrm>
            <a:off x="357120" y="3429000"/>
            <a:ext cx="2292480" cy="148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6" descr=""/>
          <p:cNvPicPr/>
          <p:nvPr/>
        </p:nvPicPr>
        <p:blipFill>
          <a:blip r:embed="rId3"/>
          <a:stretch/>
        </p:blipFill>
        <p:spPr>
          <a:xfrm>
            <a:off x="6500880" y="3643200"/>
            <a:ext cx="2143080" cy="141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4" descr=""/>
          <p:cNvPicPr/>
          <p:nvPr/>
        </p:nvPicPr>
        <p:blipFill>
          <a:blip r:embed="rId4"/>
          <a:stretch/>
        </p:blipFill>
        <p:spPr>
          <a:xfrm>
            <a:off x="6572160" y="1000080"/>
            <a:ext cx="2090880" cy="1500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5"/>
          <a:stretch/>
        </p:blipFill>
        <p:spPr>
          <a:xfrm>
            <a:off x="3643200" y="2357280"/>
            <a:ext cx="2057400" cy="13496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3786120" y="2571840"/>
            <a:ext cx="18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ФК по Оренбургской области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grpSp>
        <p:nvGrpSpPr>
          <p:cNvPr id="168" name="Стрелка вправо с вырезом 11"/>
          <p:cNvGrpSpPr/>
          <p:nvPr/>
        </p:nvGrpSpPr>
        <p:grpSpPr>
          <a:xfrm>
            <a:off x="5778360" y="2114640"/>
            <a:ext cx="665280" cy="519120"/>
            <a:chOff x="5778360" y="2114640"/>
            <a:chExt cx="665280" cy="519120"/>
          </a:xfrm>
        </p:grpSpPr>
        <p:pic>
          <p:nvPicPr>
            <p:cNvPr id="169" name="Стрелка вправо с вырезом 11" descr=""/>
            <p:cNvPicPr/>
            <p:nvPr/>
          </p:nvPicPr>
          <p:blipFill>
            <a:blip r:embed="rId6"/>
            <a:stretch/>
          </p:blipFill>
          <p:spPr>
            <a:xfrm>
              <a:off x="5778360" y="2114640"/>
              <a:ext cx="665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9914600">
              <a:off x="5922720" y="2284560"/>
              <a:ext cx="438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71" name="Стрелка вправо с вырезом 12"/>
          <p:cNvGrpSpPr/>
          <p:nvPr/>
        </p:nvGrpSpPr>
        <p:grpSpPr>
          <a:xfrm>
            <a:off x="2908440" y="3535200"/>
            <a:ext cx="725400" cy="549360"/>
            <a:chOff x="2908440" y="3535200"/>
            <a:chExt cx="725400" cy="549360"/>
          </a:xfrm>
        </p:grpSpPr>
        <p:pic>
          <p:nvPicPr>
            <p:cNvPr id="172" name="Стрелка вправо с вырезом 12" descr=""/>
            <p:cNvPicPr/>
            <p:nvPr/>
          </p:nvPicPr>
          <p:blipFill>
            <a:blip r:embed="rId7"/>
            <a:stretch/>
          </p:blipFill>
          <p:spPr>
            <a:xfrm>
              <a:off x="2908440" y="3535200"/>
              <a:ext cx="7254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9159600">
              <a:off x="2990520" y="3726000"/>
              <a:ext cx="501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74" name="Стрелка вправо с вырезом 13"/>
          <p:cNvGrpSpPr/>
          <p:nvPr/>
        </p:nvGrpSpPr>
        <p:grpSpPr>
          <a:xfrm>
            <a:off x="5632560" y="3608280"/>
            <a:ext cx="761760" cy="561960"/>
            <a:chOff x="5632560" y="3608280"/>
            <a:chExt cx="761760" cy="561960"/>
          </a:xfrm>
        </p:grpSpPr>
        <p:pic>
          <p:nvPicPr>
            <p:cNvPr id="175" name="Стрелка вправо с вырезом 13" descr=""/>
            <p:cNvPicPr/>
            <p:nvPr/>
          </p:nvPicPr>
          <p:blipFill>
            <a:blip r:embed="rId8"/>
            <a:stretch/>
          </p:blipFill>
          <p:spPr>
            <a:xfrm>
              <a:off x="5632560" y="3608280"/>
              <a:ext cx="7617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626000">
              <a:off x="5775480" y="3805200"/>
              <a:ext cx="5396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grpSp>
        <p:nvGrpSpPr>
          <p:cNvPr id="177" name="Стрелка вправо с вырезом 14"/>
          <p:cNvGrpSpPr/>
          <p:nvPr/>
        </p:nvGrpSpPr>
        <p:grpSpPr>
          <a:xfrm>
            <a:off x="2809800" y="2090880"/>
            <a:ext cx="731880" cy="493560"/>
            <a:chOff x="2809800" y="2090880"/>
            <a:chExt cx="731880" cy="493560"/>
          </a:xfrm>
        </p:grpSpPr>
        <p:pic>
          <p:nvPicPr>
            <p:cNvPr id="178" name="Стрелка вправо с вырезом 14" descr=""/>
            <p:cNvPicPr/>
            <p:nvPr/>
          </p:nvPicPr>
          <p:blipFill>
            <a:blip r:embed="rId9"/>
            <a:stretch/>
          </p:blipFill>
          <p:spPr>
            <a:xfrm>
              <a:off x="2809800" y="2090880"/>
              <a:ext cx="731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 rot="12012000">
              <a:off x="2916000" y="2263320"/>
              <a:ext cx="4791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864"/>
                </a:solidFill>
                <a:latin typeface="Arial"/>
              </a:endParaRPr>
            </a:p>
          </p:txBody>
        </p:sp>
      </p:grpSp>
      <p:sp>
        <p:nvSpPr>
          <p:cNvPr id="180" name="TextBox 18"/>
          <p:cNvSpPr/>
          <p:nvPr/>
        </p:nvSpPr>
        <p:spPr>
          <a:xfrm rot="19778400">
            <a:off x="5527440" y="1908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864"/>
                </a:solidFill>
                <a:latin typeface="Arial"/>
              </a:rPr>
              <a:t>Квартальная отчетность</a:t>
            </a:r>
            <a:endParaRPr b="1" lang="en-US" sz="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 rot="19852200">
            <a:off x="2671560" y="333072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864"/>
                </a:solidFill>
                <a:latin typeface="Arial"/>
              </a:rPr>
              <a:t>Квартальная отчетность</a:t>
            </a:r>
            <a:endParaRPr b="1" lang="en-US" sz="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2" name="TextBox 20"/>
          <p:cNvSpPr/>
          <p:nvPr/>
        </p:nvSpPr>
        <p:spPr>
          <a:xfrm rot="1389000">
            <a:off x="2889000" y="18702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864"/>
                </a:solidFill>
                <a:latin typeface="Arial"/>
              </a:rPr>
              <a:t>Квартальная отчетность</a:t>
            </a:r>
            <a:endParaRPr b="1" lang="en-US" sz="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3" name="TextBox 18"/>
          <p:cNvSpPr/>
          <p:nvPr/>
        </p:nvSpPr>
        <p:spPr>
          <a:xfrm>
            <a:off x="6500880" y="1357200"/>
            <a:ext cx="221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Arial"/>
              </a:rPr>
              <a:t>Главный федеральный инспектор по Оренбургской области аппарата полномочного представителя Президента  РФ в Приволжском федеральном округе</a:t>
            </a:r>
            <a:endParaRPr b="1" lang="en-US" sz="10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 rot="1345200">
            <a:off x="5651280" y="351324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3864"/>
                </a:solidFill>
                <a:latin typeface="Arial"/>
              </a:rPr>
              <a:t>По запросу</a:t>
            </a:r>
            <a:endParaRPr b="1" lang="en-US" sz="8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6429240" y="4071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ТУ Росфиннадзор в Оренбургской области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428760" y="3643200"/>
            <a:ext cx="214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Arial"/>
              </a:rPr>
              <a:t>Полномочный представитель 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Arial"/>
              </a:rPr>
              <a:t>Президента РФ 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Arial"/>
              </a:rPr>
              <a:t>в Приволжском 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Arial"/>
              </a:rPr>
              <a:t>федеральном округе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87" name="TextBox 26"/>
          <p:cNvSpPr/>
          <p:nvPr/>
        </p:nvSpPr>
        <p:spPr>
          <a:xfrm>
            <a:off x="714240" y="1428840"/>
            <a:ext cx="157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куратура Оренбургской области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88" name="Прямоугольник 27" descr=""/>
          <p:cNvPicPr/>
          <p:nvPr/>
        </p:nvPicPr>
        <p:blipFill>
          <a:blip r:embed="rId10"/>
          <a:stretch/>
        </p:blipFill>
        <p:spPr>
          <a:xfrm>
            <a:off x="1712880" y="438120"/>
            <a:ext cx="5986440" cy="53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http://www.bpost.kg/sites/default/files/photo/stol11_14.jpg"/>
          <p:cNvPicPr/>
          <p:nvPr/>
        </p:nvPicPr>
        <p:blipFill>
          <a:blip r:embed="rId11"/>
          <a:stretch/>
        </p:blipFill>
        <p:spPr>
          <a:xfrm>
            <a:off x="3786120" y="1000080"/>
            <a:ext cx="1714680" cy="1305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1" descr=""/>
          <p:cNvPicPr/>
          <p:nvPr/>
        </p:nvPicPr>
        <p:blipFill>
          <a:blip r:embed="rId12"/>
          <a:stretch/>
        </p:blipFill>
        <p:spPr>
          <a:xfrm>
            <a:off x="3786120" y="3857760"/>
            <a:ext cx="1727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2"/>
          <p:cNvSpPr/>
          <p:nvPr/>
        </p:nvSpPr>
        <p:spPr>
          <a:xfrm>
            <a:off x="8604360" y="4908600"/>
            <a:ext cx="468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84AA-EDB9-4650-A856-DC929A3820C1}" type="slidenum">
              <a:rPr b="0" lang="ru-RU" sz="15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92" name="Рисунок 1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6900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71280" y="1126800"/>
            <a:ext cx="907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4" name="Rectangle 45"/>
          <p:cNvSpPr/>
          <p:nvPr/>
        </p:nvSpPr>
        <p:spPr>
          <a:xfrm>
            <a:off x="403560" y="642960"/>
            <a:ext cx="84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6d6fc7"/>
                </a:solidFill>
                <a:latin typeface="Arial"/>
              </a:rPr>
              <a:t>Дополнительные показатели для расчета Индекса эффективности деятельности 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6d6fc7"/>
                </a:solidFill>
                <a:latin typeface="Arial"/>
              </a:rPr>
              <a:t>Федерального казначейства для информирования общества и граждан 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135720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바탕"/>
              </a:rPr>
              <a:t>Дополнительные показател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바탕"/>
              </a:rPr>
              <a:t>(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для расчета Роз):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Рр - сумма денежных средств, на которые исполнены решения налоговых органов о взыскании налога, сбора, пеней и штрафов и исполнительные документы (ППО </a:t>
            </a:r>
            <a:r>
              <a:rPr b="1" lang="ru-RU" sz="1400" spc="-1" strike="noStrike">
                <a:solidFill>
                  <a:srgbClr val="003864"/>
                </a:solidFill>
                <a:latin typeface="Arial"/>
                <a:ea typeface="바탕"/>
              </a:rPr>
              <a:t>«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АСФК</a:t>
            </a:r>
            <a:r>
              <a:rPr b="1" lang="ru-RU" sz="1400" spc="-1" strike="noStrike">
                <a:solidFill>
                  <a:srgbClr val="003864"/>
                </a:solidFill>
                <a:latin typeface="Arial"/>
                <a:ea typeface="바탕"/>
              </a:rPr>
              <a:t>»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);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Рбк - сумма денежных средств по предоставленным Федеральным казначейством бюджетным кредитам на пополнение остатков средств на счетах бюджетов субъектов Российской Федерации (местных бюджетов) (ППО </a:t>
            </a:r>
            <a:r>
              <a:rPr b="1" lang="ru-RU" sz="1400" spc="-1" strike="noStrike">
                <a:solidFill>
                  <a:srgbClr val="003864"/>
                </a:solidFill>
                <a:latin typeface="Arial"/>
                <a:ea typeface="바탕"/>
              </a:rPr>
              <a:t>«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Аналитический учет бюджетных кредитов на пополнение остатков средств на счетах бюджетах субъектов РФ (местных бюджетов)</a:t>
            </a:r>
            <a:r>
              <a:rPr b="1" lang="ru-RU" sz="1400" spc="-1" strike="noStrike">
                <a:solidFill>
                  <a:srgbClr val="003864"/>
                </a:solidFill>
                <a:latin typeface="Arial"/>
                <a:ea typeface="바탕"/>
              </a:rPr>
              <a:t>»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);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Ре - сумма денежных средств, по размещенным Федеральным казначейством средствам федерального бюджета по договорам РЕПО с привлечением Банка России (ППО </a:t>
            </a:r>
            <a:r>
              <a:rPr b="1" lang="ru-RU" sz="1400" spc="-1" strike="noStrike">
                <a:solidFill>
                  <a:srgbClr val="003864"/>
                </a:solidFill>
                <a:latin typeface="Arial"/>
                <a:ea typeface="바탕"/>
              </a:rPr>
              <a:t>«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Управление ликвидностью единого счета федерального бюджета (ЛЕКС)</a:t>
            </a:r>
            <a:r>
              <a:rPr b="1" lang="ru-RU" sz="1400" spc="-1" strike="noStrike">
                <a:solidFill>
                  <a:srgbClr val="003864"/>
                </a:solidFill>
                <a:latin typeface="Arial"/>
                <a:ea typeface="바탕"/>
              </a:rPr>
              <a:t>»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).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Итого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바탕"/>
              </a:rPr>
              <a:t>Роз = Рп + Рв + Рл + Рк + Рю+ Рр+ Рбк+ Ре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196" name="Picture 4" descr="M:\OBMEN_FK\05\Коллегия 2013\Человечки\фонды\iCAWVJ6AC.jpg"/>
          <p:cNvPicPr/>
          <p:nvPr/>
        </p:nvPicPr>
        <p:blipFill>
          <a:blip r:embed="rId1"/>
          <a:stretch/>
        </p:blipFill>
        <p:spPr>
          <a:xfrm>
            <a:off x="71280" y="1785960"/>
            <a:ext cx="405000" cy="301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M:\OBMEN_FK\05\Коллегия 2013\Человечки\фонды\iCAWVJ6AC.jpg"/>
          <p:cNvPicPr/>
          <p:nvPr/>
        </p:nvPicPr>
        <p:blipFill>
          <a:blip r:embed="rId2"/>
          <a:stretch/>
        </p:blipFill>
        <p:spPr>
          <a:xfrm>
            <a:off x="71280" y="2357280"/>
            <a:ext cx="405000" cy="301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M:\OBMEN_FK\05\Коллегия 2013\Человечки\фонды\iCAWVJ6AC.jpg"/>
          <p:cNvPicPr/>
          <p:nvPr/>
        </p:nvPicPr>
        <p:blipFill>
          <a:blip r:embed="rId3"/>
          <a:stretch/>
        </p:blipFill>
        <p:spPr>
          <a:xfrm>
            <a:off x="71280" y="3500280"/>
            <a:ext cx="405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2"/>
          <p:cNvSpPr/>
          <p:nvPr/>
        </p:nvSpPr>
        <p:spPr>
          <a:xfrm>
            <a:off x="8604360" y="4908600"/>
            <a:ext cx="468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295B-4914-44FA-A240-D27BD03A9104}" type="slidenum">
              <a:rPr b="0" lang="ru-RU" sz="15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1" lang="en-US" sz="15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500040" y="1285920"/>
            <a:ext cx="8501040" cy="36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щие коэффициенты </a:t>
            </a:r>
            <a:r>
              <a:rPr b="1" lang="ru-RU" sz="14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(Кп) к показателю Роз: </a:t>
            </a:r>
            <a:endParaRPr b="1" lang="en-US" sz="14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Кгас - количество участников ГАС «Управление» и количество выданных сертификатов ключей проверки электронных подписей (Доступ к открытой части портала ГАС «Управление» осуществляется по адресу: </a:t>
            </a:r>
            <a:r>
              <a:rPr b="1" lang="ru-RU" sz="12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  <a:hlinkClick r:id="rId1"/>
              </a:rPr>
              <a:t>http://gasu.gov.ru/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).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Коос - количество участников ООС для размещения информации о государственных (муниципальных) учреждениях (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www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bus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gov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ru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) и количество выданных сертификатов ключей проверки электронных подписей (ППО «АСФК»);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Кз - количество участников ООС для размещения информации о размещении заказов на поставки товаров, выполнение работ, оказание услуг (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www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zakupki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gov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ru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) и количество выданных сертификатов ключей проверки электронных подписей (ППО «СЭД 1 контур»);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Кэб - количество участников ГИИС «Электронный бюджет» и количество выданных сертификатов ключей проверки электронных подписей (Портал ГИИС «Электронный бюджет» 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budget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gov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ru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).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Кп =0,0001 * (Кгас+Коос+Кз+Кэб)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Индекс эффективности деятельности Федерального казначейства для информирования общества и граждан будет рассчитываться по формуле: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864"/>
                </a:solidFill>
                <a:latin typeface="Times New Roman"/>
                <a:ea typeface="Times New Roman"/>
              </a:rPr>
              <a:t>Эог = (Роз *  Кп) / З</a:t>
            </a:r>
            <a:endParaRPr b="1" lang="en-US" sz="1200" spc="-1" strike="noStrike">
              <a:solidFill>
                <a:srgbClr val="003864"/>
              </a:solidFill>
              <a:latin typeface="Arial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357120" y="642960"/>
            <a:ext cx="821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6d6fc7"/>
                </a:solidFill>
                <a:latin typeface="Arial"/>
              </a:rPr>
              <a:t>Повышающие коэффициенты для расчета</a:t>
            </a:r>
            <a:r>
              <a:rPr b="1" lang="en-US" sz="1600" spc="-1" strike="noStrike">
                <a:solidFill>
                  <a:srgbClr val="6d6fc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d6fc7"/>
                </a:solidFill>
                <a:latin typeface="Arial"/>
              </a:rPr>
              <a:t>Индекса эффективности деятельности Федерального казначейства для 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6d6fc7"/>
                </a:solidFill>
                <a:latin typeface="Arial"/>
              </a:rPr>
              <a:t>информирования общества и граждан </a:t>
            </a:r>
            <a:endParaRPr b="1" lang="en-US" sz="1600" spc="-1" strike="noStrike">
              <a:solidFill>
                <a:srgbClr val="003864"/>
              </a:solidFill>
              <a:latin typeface="Arial"/>
            </a:endParaRPr>
          </a:p>
        </p:txBody>
      </p:sp>
      <p:pic>
        <p:nvPicPr>
          <p:cNvPr id="202" name="Picture 4" descr="M:\OBMEN_FK\05\Коллегия 2013\Человечки\фонды\iCAWVJ6AC.jpg"/>
          <p:cNvPicPr/>
          <p:nvPr/>
        </p:nvPicPr>
        <p:blipFill>
          <a:blip r:embed="rId2"/>
          <a:stretch/>
        </p:blipFill>
        <p:spPr>
          <a:xfrm>
            <a:off x="142920" y="1714680"/>
            <a:ext cx="404640" cy="301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M:\OBMEN_FK\05\Коллегия 2013\Человечки\фонды\iCAWVJ6AC.jpg"/>
          <p:cNvPicPr/>
          <p:nvPr/>
        </p:nvPicPr>
        <p:blipFill>
          <a:blip r:embed="rId3"/>
          <a:stretch/>
        </p:blipFill>
        <p:spPr>
          <a:xfrm>
            <a:off x="142920" y="2428920"/>
            <a:ext cx="404640" cy="30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:\OBMEN_FK\05\Коллегия 2013\Человечки\фонды\iCAWVJ6AC.jpg"/>
          <p:cNvPicPr/>
          <p:nvPr/>
        </p:nvPicPr>
        <p:blipFill>
          <a:blip r:embed="rId4"/>
          <a:stretch/>
        </p:blipFill>
        <p:spPr>
          <a:xfrm>
            <a:off x="142920" y="2786040"/>
            <a:ext cx="404640" cy="30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:\OBMEN_FK\05\Коллегия 2013\Человечки\фонды\iCAWVJ6AC.jpg"/>
          <p:cNvPicPr/>
          <p:nvPr/>
        </p:nvPicPr>
        <p:blipFill>
          <a:blip r:embed="rId5"/>
          <a:stretch/>
        </p:blipFill>
        <p:spPr>
          <a:xfrm>
            <a:off x="142920" y="3500280"/>
            <a:ext cx="404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0:19:13Z</dcterms:created>
  <dc:creator/>
  <dc:description/>
  <dc:language>en-US</dc:language>
  <cp:lastModifiedBy/>
  <dcterms:modified xsi:type="dcterms:W3CDTF">2015-12-17T12:34:37Z</dcterms:modified>
  <cp:revision>136</cp:revision>
  <dc:subject/>
  <dc:title>   Еремина Галина Федоровна</dc:title>
</cp:coreProperties>
</file>