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875-59FA-464E-A369-B2AE197F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3F9-D452-408B-A2DA-E109CD68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298-D964-4D60-A310-7C45A88C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D48-2F70-4C19-BD04-4CF98302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A2F-A0C6-4F8D-A83A-5377C728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B26-9840-4E78-9619-358CE45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253-7A10-403D-8662-040245AC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A30-6368-4647-870D-1B2E8D6C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FBD-F320-4285-AB09-53F282E8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C06-9F5F-4DE3-BB40-0E0D5B6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554-0E72-4A32-BF20-64E5072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599-DF89-4370-BE5B-0BF6463A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1FC6-8E85-4BD0-8B04-9AC9A0DFF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6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71468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О практике применения нормативных правовых актов Минфина России по бюджетному учету и отчетности в органах Федерального казначейства, финансовых органах субъекто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7137360" y="2205000"/>
            <a:ext cx="2006280" cy="1609560"/>
            <a:chOff x="7137360" y="2205000"/>
            <a:chExt cx="2006280" cy="160956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638840" y="2205000"/>
              <a:ext cx="97164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137360" y="3182760"/>
              <a:ext cx="2006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инансовый орг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0" y="2205000"/>
            <a:ext cx="1603440" cy="1690920"/>
            <a:chOff x="0" y="2205000"/>
            <a:chExt cx="1603440" cy="169092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57040" y="2205000"/>
              <a:ext cx="102672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3523320"/>
              <a:ext cx="16034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Бан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564000" y="2276640"/>
            <a:ext cx="2006280" cy="1334880"/>
            <a:chOff x="3564000" y="2276640"/>
            <a:chExt cx="2006280" cy="1334880"/>
          </a:xfrm>
        </p:grpSpPr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4065480" y="2276640"/>
              <a:ext cx="971640" cy="10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564000" y="3254040"/>
              <a:ext cx="2006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25653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4360" y="25653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5157720"/>
            <a:ext cx="1503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6263"/>
              <a:gd name="adj5" fmla="val -368231"/>
              <a:gd name="adj6" fmla="val 156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ы,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5157720"/>
            <a:ext cx="1503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6263"/>
              <a:gd name="adj5" fmla="val -368231"/>
              <a:gd name="adj6" fmla="val 156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ы,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137360" y="2205000"/>
            <a:ext cx="2006280" cy="1609560"/>
            <a:chOff x="7137360" y="2205000"/>
            <a:chExt cx="2006280" cy="160956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7638840" y="2205000"/>
              <a:ext cx="97164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137360" y="3182760"/>
              <a:ext cx="2006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инансовый орг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0" y="2205000"/>
            <a:ext cx="1603440" cy="1690920"/>
            <a:chOff x="0" y="2205000"/>
            <a:chExt cx="1603440" cy="169092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257040" y="2205000"/>
              <a:ext cx="102672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3523320"/>
              <a:ext cx="16034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Бан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Новый сервис сверки показателей ФО 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2"/>
          <p:cNvGrpSpPr/>
          <p:nvPr/>
        </p:nvGrpSpPr>
        <p:grpSpPr>
          <a:xfrm>
            <a:off x="7004160" y="1484280"/>
            <a:ext cx="1007640" cy="844200"/>
            <a:chOff x="7004160" y="1484280"/>
            <a:chExt cx="1007640" cy="844200"/>
          </a:xfrm>
        </p:grpSpPr>
        <p:sp>
          <p:nvSpPr>
            <p:cNvPr id="90" name="Oval 53"/>
            <p:cNvSpPr/>
            <p:nvPr/>
          </p:nvSpPr>
          <p:spPr>
            <a:xfrm>
              <a:off x="7004160" y="190044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54" descr="j0433944[1]"/>
            <p:cNvPicPr/>
            <p:nvPr/>
          </p:nvPicPr>
          <p:blipFill>
            <a:blip r:embed="rId1"/>
            <a:stretch/>
          </p:blipFill>
          <p:spPr>
            <a:xfrm>
              <a:off x="7185960" y="148428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6858360" y="2389320"/>
            <a:ext cx="1454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ин. орга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6" descr="j0433892[1]"/>
          <p:cNvPicPr/>
          <p:nvPr/>
        </p:nvPicPr>
        <p:blipFill>
          <a:blip r:embed="rId2"/>
          <a:stretch/>
        </p:blipFill>
        <p:spPr>
          <a:xfrm>
            <a:off x="324000" y="2924280"/>
            <a:ext cx="1280880" cy="15843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2"/>
          <p:cNvGrpSpPr/>
          <p:nvPr/>
        </p:nvGrpSpPr>
        <p:grpSpPr>
          <a:xfrm>
            <a:off x="7075440" y="3357720"/>
            <a:ext cx="1007640" cy="844200"/>
            <a:chOff x="7075440" y="3357720"/>
            <a:chExt cx="1007640" cy="844200"/>
          </a:xfrm>
        </p:grpSpPr>
        <p:sp>
          <p:nvSpPr>
            <p:cNvPr id="95" name="Oval 53"/>
            <p:cNvSpPr/>
            <p:nvPr/>
          </p:nvSpPr>
          <p:spPr>
            <a:xfrm>
              <a:off x="7075440" y="377388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54" descr="j0433944[1]"/>
            <p:cNvPicPr/>
            <p:nvPr/>
          </p:nvPicPr>
          <p:blipFill>
            <a:blip r:embed="rId3"/>
            <a:stretch/>
          </p:blipFill>
          <p:spPr>
            <a:xfrm>
              <a:off x="7257240" y="335772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6996600" y="4262400"/>
            <a:ext cx="1387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7004160" y="5229360"/>
            <a:ext cx="1007640" cy="844200"/>
            <a:chOff x="7004160" y="5229360"/>
            <a:chExt cx="1007640" cy="844200"/>
          </a:xfrm>
        </p:grpSpPr>
        <p:sp>
          <p:nvSpPr>
            <p:cNvPr id="99" name="Oval 53"/>
            <p:cNvSpPr/>
            <p:nvPr/>
          </p:nvSpPr>
          <p:spPr>
            <a:xfrm>
              <a:off x="7004160" y="564552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j0433944[1]"/>
            <p:cNvPicPr/>
            <p:nvPr/>
          </p:nvPicPr>
          <p:blipFill>
            <a:blip r:embed="rId4"/>
            <a:stretch/>
          </p:blipFill>
          <p:spPr>
            <a:xfrm>
              <a:off x="7185960" y="522936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6805800" y="6134040"/>
            <a:ext cx="144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ГРБС, ПБ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6" descr="j0433892[1]"/>
          <p:cNvPicPr/>
          <p:nvPr/>
        </p:nvPicPr>
        <p:blipFill>
          <a:blip r:embed="rId5"/>
          <a:stretch/>
        </p:blipFill>
        <p:spPr>
          <a:xfrm>
            <a:off x="3851280" y="3141720"/>
            <a:ext cx="1281240" cy="1584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7040" y="4365720"/>
            <a:ext cx="25354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О АС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14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Лицевые с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Аналитические регис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1440" y="47912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ПО СУФ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92" idx="1"/>
            <a:endCxn id="102" idx="0"/>
          </p:cNvCxnSpPr>
          <p:nvPr/>
        </p:nvCxnSpPr>
        <p:spPr>
          <a:xfrm flipV="1" rot="10800000">
            <a:off x="4492080" y="2578680"/>
            <a:ext cx="2362680" cy="562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5" idx="2"/>
            <a:endCxn id="102" idx="3"/>
          </p:cNvCxnSpPr>
          <p:nvPr/>
        </p:nvCxnSpPr>
        <p:spPr>
          <a:xfrm rot="10800000">
            <a:off x="5131800" y="3933000"/>
            <a:ext cx="1943640" cy="5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9" idx="2"/>
            <a:endCxn id="104" idx="3"/>
          </p:cNvCxnSpPr>
          <p:nvPr/>
        </p:nvCxnSpPr>
        <p:spPr>
          <a:xfrm rot="10800000">
            <a:off x="5172840" y="4974480"/>
            <a:ext cx="1831320" cy="880200"/>
          </a:xfrm>
          <a:prstGeom prst="bentConnector3">
            <a:avLst>
              <a:gd name="adj1" fmla="val 499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4793040" y="222876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Отчет ф. 05033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53400" y="350028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Отчет ф. 05031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9040" y="465300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Отчет ф. 05031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71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4720" y="1736640"/>
            <a:ext cx="9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Новый сервис сверки показателей ФО 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2"/>
          <p:cNvGrpSpPr/>
          <p:nvPr/>
        </p:nvGrpSpPr>
        <p:grpSpPr>
          <a:xfrm>
            <a:off x="7004160" y="1484280"/>
            <a:ext cx="1007640" cy="844200"/>
            <a:chOff x="7004160" y="1484280"/>
            <a:chExt cx="1007640" cy="844200"/>
          </a:xfrm>
        </p:grpSpPr>
        <p:sp>
          <p:nvSpPr>
            <p:cNvPr id="117" name="Oval 53"/>
            <p:cNvSpPr/>
            <p:nvPr/>
          </p:nvSpPr>
          <p:spPr>
            <a:xfrm>
              <a:off x="7004160" y="190044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54" descr="j0433944[1]"/>
            <p:cNvPicPr/>
            <p:nvPr/>
          </p:nvPicPr>
          <p:blipFill>
            <a:blip r:embed="rId1"/>
            <a:stretch/>
          </p:blipFill>
          <p:spPr>
            <a:xfrm>
              <a:off x="7185960" y="148428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6858360" y="2389320"/>
            <a:ext cx="1454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ин. орга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6" descr="j0433892[1]"/>
          <p:cNvPicPr/>
          <p:nvPr/>
        </p:nvPicPr>
        <p:blipFill>
          <a:blip r:embed="rId2"/>
          <a:stretch/>
        </p:blipFill>
        <p:spPr>
          <a:xfrm>
            <a:off x="324000" y="2924280"/>
            <a:ext cx="128088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2"/>
          <p:cNvGrpSpPr/>
          <p:nvPr/>
        </p:nvGrpSpPr>
        <p:grpSpPr>
          <a:xfrm>
            <a:off x="7075440" y="3357720"/>
            <a:ext cx="1007640" cy="844200"/>
            <a:chOff x="7075440" y="3357720"/>
            <a:chExt cx="1007640" cy="844200"/>
          </a:xfrm>
        </p:grpSpPr>
        <p:sp>
          <p:nvSpPr>
            <p:cNvPr id="122" name="Oval 53"/>
            <p:cNvSpPr/>
            <p:nvPr/>
          </p:nvSpPr>
          <p:spPr>
            <a:xfrm>
              <a:off x="7075440" y="377388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54" descr="j0433944[1]"/>
            <p:cNvPicPr/>
            <p:nvPr/>
          </p:nvPicPr>
          <p:blipFill>
            <a:blip r:embed="rId3"/>
            <a:stretch/>
          </p:blipFill>
          <p:spPr>
            <a:xfrm>
              <a:off x="7257240" y="335772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6996600" y="4262400"/>
            <a:ext cx="1387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2"/>
          <p:cNvGrpSpPr/>
          <p:nvPr/>
        </p:nvGrpSpPr>
        <p:grpSpPr>
          <a:xfrm>
            <a:off x="7004160" y="5229360"/>
            <a:ext cx="1007640" cy="844200"/>
            <a:chOff x="7004160" y="5229360"/>
            <a:chExt cx="1007640" cy="844200"/>
          </a:xfrm>
        </p:grpSpPr>
        <p:sp>
          <p:nvSpPr>
            <p:cNvPr id="126" name="Oval 53"/>
            <p:cNvSpPr/>
            <p:nvPr/>
          </p:nvSpPr>
          <p:spPr>
            <a:xfrm>
              <a:off x="7004160" y="564552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54" descr="j0433944[1]"/>
            <p:cNvPicPr/>
            <p:nvPr/>
          </p:nvPicPr>
          <p:blipFill>
            <a:blip r:embed="rId4"/>
            <a:stretch/>
          </p:blipFill>
          <p:spPr>
            <a:xfrm>
              <a:off x="7185960" y="522936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6805800" y="6134040"/>
            <a:ext cx="144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ГРБС, ПБ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6" descr="j0433892[1]"/>
          <p:cNvPicPr/>
          <p:nvPr/>
        </p:nvPicPr>
        <p:blipFill>
          <a:blip r:embed="rId5"/>
          <a:stretch/>
        </p:blipFill>
        <p:spPr>
          <a:xfrm>
            <a:off x="3851280" y="3141720"/>
            <a:ext cx="1281240" cy="158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1440" y="47912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ПО СУФ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19" idx="1"/>
            <a:endCxn id="129" idx="0"/>
          </p:cNvCxnSpPr>
          <p:nvPr/>
        </p:nvCxnSpPr>
        <p:spPr>
          <a:xfrm flipV="1" rot="10800000">
            <a:off x="4492080" y="2578680"/>
            <a:ext cx="2362680" cy="5626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2" name=""/>
          <p:cNvCxnSpPr>
            <a:stCxn id="122" idx="2"/>
            <a:endCxn id="129" idx="3"/>
          </p:cNvCxnSpPr>
          <p:nvPr/>
        </p:nvCxnSpPr>
        <p:spPr>
          <a:xfrm rot="10800000">
            <a:off x="5131800" y="3933000"/>
            <a:ext cx="1943640" cy="5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3" name=""/>
          <p:cNvCxnSpPr/>
          <p:nvPr/>
        </p:nvCxnSpPr>
        <p:spPr>
          <a:xfrm rot="10800000">
            <a:off x="5147640" y="4941000"/>
            <a:ext cx="1830960" cy="88020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695600" y="328464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Протоколы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2268360" y="371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4720" y="1736640"/>
            <a:ext cx="9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6880" y="213372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Протокол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9120" y="359712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Протокол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9120" y="465300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Протокол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7040" y="4365720"/>
            <a:ext cx="25354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О АС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14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Лицевые с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Аналитические регис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кодов видов расходов кодам КОСГ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1557360"/>
            <a:ext cx="904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азания № 65н, Приложение № 5 «Таблица соответствия видов расходов классификации расходов бюджетов и статей (подстатей) классификации операций сектора государственного управления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2781360"/>
          <a:ext cx="8640720" cy="3722400"/>
        </p:xfrm>
        <a:graphic>
          <a:graphicData uri="http://schemas.openxmlformats.org/drawingml/2006/table">
            <a:tbl>
              <a:tblPr/>
              <a:tblGrid>
                <a:gridCol w="1033560"/>
                <a:gridCol w="3287880"/>
                <a:gridCol w="1071360"/>
                <a:gridCol w="324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ка товаров, работ, услуг в сфере информационно-коммуникационных технолог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ная плата за пользование имуще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851280" y="5877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522936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40059"/>
                </a:solidFill>
                <a:latin typeface="Arial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Классификация средств поступающих во врем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распоряжение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993000" y="3429000"/>
            <a:ext cx="2150640" cy="1335240"/>
            <a:chOff x="6993000" y="3429000"/>
            <a:chExt cx="2150640" cy="133524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7530480" y="3429000"/>
              <a:ext cx="104148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993000" y="4406760"/>
              <a:ext cx="2150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чре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3581280"/>
            <a:ext cx="1027080" cy="107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906560" y="5165640"/>
            <a:ext cx="1027080" cy="107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762200" y="1996920"/>
            <a:ext cx="1027080" cy="1071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03480" y="3141720"/>
            <a:ext cx="2376720" cy="485640"/>
          </a:xfrm>
          <a:prstGeom prst="leftArrow">
            <a:avLst>
              <a:gd name="adj1" fmla="val 50000"/>
              <a:gd name="adj2" fmla="val 12235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47840" y="4508640"/>
            <a:ext cx="2303640" cy="485640"/>
          </a:xfrm>
          <a:prstGeom prst="rightArrow">
            <a:avLst>
              <a:gd name="adj1" fmla="val 50000"/>
              <a:gd name="adj2" fmla="val 118588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1399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-»180</a:t>
            </a: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e40059"/>
                </a:solidFill>
                <a:uFillTx/>
                <a:latin typeface="Arial"/>
              </a:rPr>
              <a:t>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440" y="45086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e40059"/>
                </a:solidFill>
                <a:uFillTx/>
                <a:latin typeface="Arial"/>
              </a:rPr>
              <a:t>5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6227640" y="4581360"/>
            <a:ext cx="289080" cy="27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6588000" y="3213000"/>
            <a:ext cx="289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11280" y="112536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еречисление средств между ТФОМС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межтерриториальных расчетах по оказанию медицинской помощи застрахова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997680" y="436392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193880" y="582948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Ф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165320" y="436392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24800" y="582948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Ф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867200"/>
            <a:ext cx="2879640" cy="486000"/>
          </a:xfrm>
          <a:prstGeom prst="leftArrow">
            <a:avLst>
              <a:gd name="adj1" fmla="val 50000"/>
              <a:gd name="adj2" fmla="val 14813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8520" y="458136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49120" y="458136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24000" y="61578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+ внесение изменений в законы ТФО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916280"/>
            <a:ext cx="86043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исьмо Минфина Росси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 27.06.2014 № 02-05-11/3134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«…О применении видов расходов бюджетной классификации Российской Федерации…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еречисление средств из бюджетов субъектов РФ в ТФОМС на социальное страхование неработающе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53080" y="2773440"/>
            <a:ext cx="2017440" cy="485640"/>
          </a:xfrm>
          <a:prstGeom prst="leftArrow">
            <a:avLst>
              <a:gd name="adj1" fmla="val 50000"/>
              <a:gd name="adj2" fmla="val 103855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201080" y="2197080"/>
            <a:ext cx="139032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314160" y="2341440"/>
            <a:ext cx="1097280" cy="1521000"/>
            <a:chOff x="3314160" y="2341440"/>
            <a:chExt cx="1097280" cy="152100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3384360" y="2341440"/>
              <a:ext cx="102708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314160" y="34941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959160" y="3662280"/>
            <a:ext cx="182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олномоч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2781360"/>
            <a:ext cx="1800360" cy="485640"/>
          </a:xfrm>
          <a:prstGeom prst="leftArrow">
            <a:avLst>
              <a:gd name="adj1" fmla="val 50000"/>
              <a:gd name="adj2" fmla="val 9268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08320" y="54388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(</a:t>
            </a:r>
            <a:r>
              <a:rPr b="0" lang="en-US" sz="1800" spc="-1" strike="noStrike" u="sng">
                <a:solidFill>
                  <a:srgbClr val="e40059"/>
                </a:solidFill>
                <a:uFillTx/>
                <a:latin typeface="Arial"/>
              </a:rPr>
              <a:t>КР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Х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47600" y="54388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(КДБ) Х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55240" y="54309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(</a:t>
            </a:r>
            <a:r>
              <a:rPr b="0" lang="en-US" sz="1800" spc="-1" strike="noStrike" u="sng">
                <a:solidFill>
                  <a:srgbClr val="e40059"/>
                </a:solidFill>
                <a:uFillTx/>
                <a:latin typeface="Arial"/>
              </a:rPr>
              <a:t>КР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Х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76" idx="0"/>
            <a:endCxn id="183" idx="0"/>
          </p:cNvCxnSpPr>
          <p:nvPr/>
        </p:nvCxnSpPr>
        <p:spPr>
          <a:xfrm>
            <a:off x="6770520" y="3016080"/>
            <a:ext cx="186480" cy="242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6" idx="1"/>
            <a:endCxn id="184" idx="0"/>
          </p:cNvCxnSpPr>
          <p:nvPr/>
        </p:nvCxnSpPr>
        <p:spPr>
          <a:xfrm flipH="1" flipV="1" rot="10800000">
            <a:off x="4752000" y="3015720"/>
            <a:ext cx="45000" cy="2423520"/>
          </a:xfrm>
          <a:prstGeom prst="bentConnector4">
            <a:avLst>
              <a:gd name="adj1" fmla="val -513709"/>
              <a:gd name="adj2" fmla="val 550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0"/>
            <a:endCxn id="185" idx="0"/>
          </p:cNvCxnSpPr>
          <p:nvPr/>
        </p:nvCxnSpPr>
        <p:spPr>
          <a:xfrm flipH="1">
            <a:off x="2202840" y="3024000"/>
            <a:ext cx="640440" cy="2407320"/>
          </a:xfrm>
          <a:prstGeom prst="bentConnector4">
            <a:avLst>
              <a:gd name="adj1" fmla="val -35714"/>
              <a:gd name="adj2" fmla="val 550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160" y="255744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1989000"/>
            <a:ext cx="6300720" cy="252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8028000" y="5589720"/>
            <a:ext cx="9540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086360" y="1197000"/>
            <a:ext cx="2501640" cy="66816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Отчет ф. 050373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95680" y="3076560"/>
            <a:ext cx="577800" cy="668520"/>
          </a:xfrm>
          <a:custGeom>
            <a:avLst/>
            <a:gdLst>
              <a:gd name="textAreaLeft" fmla="*/ 28080 w 577800"/>
              <a:gd name="textAreaRight" fmla="*/ 549720 w 5778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4989">
                <a:moveTo>
                  <a:pt x="3600" y="0"/>
                </a:moveTo>
                <a:arcTo wR="3600" hR="3600" stAng="16200000" swAng="-5400000"/>
                <a:lnTo>
                  <a:pt x="0" y="21389"/>
                </a:lnTo>
                <a:arcTo wR="3600" hR="3600" stAng="10800000" swAng="-5400000"/>
                <a:lnTo>
                  <a:pt x="18000" y="2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14640" y="3076560"/>
            <a:ext cx="576360" cy="6685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52">
                <a:moveTo>
                  <a:pt x="3600" y="0"/>
                </a:moveTo>
                <a:arcTo wR="3600" hR="3600" stAng="16200000" swAng="-5400000"/>
                <a:lnTo>
                  <a:pt x="0" y="21452"/>
                </a:lnTo>
                <a:arcTo wR="3600" hR="3600" stAng="10800000" swAng="-5400000"/>
                <a:lnTo>
                  <a:pt x="18000" y="25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0600" y="3078000"/>
            <a:ext cx="576000" cy="66852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67">
                <a:moveTo>
                  <a:pt x="3600" y="0"/>
                </a:moveTo>
                <a:arcTo wR="3600" hR="3600" stAng="16200000" swAng="-5400000"/>
                <a:lnTo>
                  <a:pt x="0" y="21467"/>
                </a:lnTo>
                <a:arcTo wR="3600" hR="3600" stAng="10800000" swAng="-5400000"/>
                <a:lnTo>
                  <a:pt x="18000" y="25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24760" y="3076560"/>
            <a:ext cx="576000" cy="66852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67">
                <a:moveTo>
                  <a:pt x="3600" y="0"/>
                </a:moveTo>
                <a:arcTo wR="3600" hR="3600" stAng="16200000" swAng="-5400000"/>
                <a:lnTo>
                  <a:pt x="0" y="21467"/>
                </a:lnTo>
                <a:arcTo wR="3600" hR="3600" stAng="10800000" swAng="-5400000"/>
                <a:lnTo>
                  <a:pt x="18000" y="25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0360" y="3076560"/>
            <a:ext cx="576360" cy="6685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52">
                <a:moveTo>
                  <a:pt x="3600" y="0"/>
                </a:moveTo>
                <a:arcTo wR="3600" hR="3600" stAng="16200000" swAng="-5400000"/>
                <a:lnTo>
                  <a:pt x="0" y="21452"/>
                </a:lnTo>
                <a:arcTo wR="3600" hR="3600" stAng="10800000" swAng="-5400000"/>
                <a:lnTo>
                  <a:pt x="18000" y="25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3" idx="0"/>
          </p:cNvCxnSpPr>
          <p:nvPr/>
        </p:nvCxnSpPr>
        <p:spPr>
          <a:xfrm flipV="1" rot="10800000">
            <a:off x="2983680" y="2239560"/>
            <a:ext cx="2372400" cy="83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/>
          <p:nvPr/>
        </p:nvCxnSpPr>
        <p:spPr>
          <a:xfrm rot="5400000">
            <a:off x="4172040" y="1883160"/>
            <a:ext cx="1212120" cy="11343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endCxn id="197" idx="0"/>
          </p:cNvCxnSpPr>
          <p:nvPr/>
        </p:nvCxnSpPr>
        <p:spPr>
          <a:xfrm>
            <a:off x="5355720" y="2239920"/>
            <a:ext cx="2313720" cy="83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 flipH="1" rot="16200000">
            <a:off x="4741560" y="2459880"/>
            <a:ext cx="1213560" cy="2304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3913200" y="4148280"/>
            <a:ext cx="2886120" cy="66816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КОСГУ 1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93880" y="4148280"/>
            <a:ext cx="577800" cy="668160"/>
          </a:xfrm>
          <a:custGeom>
            <a:avLst/>
            <a:gdLst>
              <a:gd name="textAreaLeft" fmla="*/ 28080 w 577800"/>
              <a:gd name="textAreaRight" fmla="*/ 549720 w 577800"/>
              <a:gd name="textAreaTop" fmla="*/ 28080 h 668160"/>
              <a:gd name="textAreaBottom" fmla="*/ 640080 h 668160"/>
            </a:gdLst>
            <a:ahLst/>
            <a:rect l="textAreaLeft" t="textAreaTop" r="textAreaRight" b="textAreaBottom"/>
            <a:pathLst>
              <a:path w="21600" h="24976">
                <a:moveTo>
                  <a:pt x="3600" y="0"/>
                </a:moveTo>
                <a:arcTo wR="3600" hR="3600" stAng="16200000" swAng="-5400000"/>
                <a:lnTo>
                  <a:pt x="0" y="21376"/>
                </a:lnTo>
                <a:arcTo wR="3600" hR="3600" stAng="10800000" swAng="-5400000"/>
                <a:lnTo>
                  <a:pt x="18000" y="249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78560" y="4149720"/>
            <a:ext cx="578160" cy="668520"/>
          </a:xfrm>
          <a:custGeom>
            <a:avLst/>
            <a:gdLst>
              <a:gd name="textAreaLeft" fmla="*/ 28080 w 578160"/>
              <a:gd name="textAreaRight" fmla="*/ 550080 w 5781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4974">
                <a:moveTo>
                  <a:pt x="3600" y="0"/>
                </a:moveTo>
                <a:arcTo wR="3600" hR="3600" stAng="16200000" swAng="-5400000"/>
                <a:lnTo>
                  <a:pt x="0" y="21374"/>
                </a:lnTo>
                <a:arcTo wR="3600" hR="3600" stAng="10800000" swAng="-5400000"/>
                <a:lnTo>
                  <a:pt x="18000" y="24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93880" y="5351400"/>
            <a:ext cx="576360" cy="6685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52">
                <a:moveTo>
                  <a:pt x="3600" y="0"/>
                </a:moveTo>
                <a:arcTo wR="3600" hR="3600" stAng="16200000" swAng="-5400000"/>
                <a:lnTo>
                  <a:pt x="0" y="21452"/>
                </a:lnTo>
                <a:arcTo wR="3600" hR="3600" stAng="10800000" swAng="-5400000"/>
                <a:lnTo>
                  <a:pt x="18000" y="25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11760" y="5351400"/>
            <a:ext cx="576000" cy="66852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67">
                <a:moveTo>
                  <a:pt x="3600" y="0"/>
                </a:moveTo>
                <a:arcTo wR="3600" hR="3600" stAng="16200000" swAng="-5400000"/>
                <a:lnTo>
                  <a:pt x="0" y="21467"/>
                </a:lnTo>
                <a:arcTo wR="3600" hR="3600" stAng="10800000" swAng="-5400000"/>
                <a:lnTo>
                  <a:pt x="18000" y="25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67360" y="5353200"/>
            <a:ext cx="576360" cy="6681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160"/>
              <a:gd name="textAreaBottom" fmla="*/ 640080 h 668160"/>
            </a:gdLst>
            <a:ahLst/>
            <a:rect l="textAreaLeft" t="textAreaTop" r="textAreaRight" b="textAreaBottom"/>
            <a:pathLst>
              <a:path w="21600" h="25038">
                <a:moveTo>
                  <a:pt x="3600" y="0"/>
                </a:moveTo>
                <a:arcTo wR="3600" hR="3600" stAng="16200000" swAng="-5400000"/>
                <a:lnTo>
                  <a:pt x="0" y="21438"/>
                </a:lnTo>
                <a:arcTo wR="3600" hR="3600" stAng="10800000" swAng="-5400000"/>
                <a:lnTo>
                  <a:pt x="18000" y="250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1520" y="5351400"/>
            <a:ext cx="576000" cy="66852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67">
                <a:moveTo>
                  <a:pt x="3600" y="0"/>
                </a:moveTo>
                <a:arcTo wR="3600" hR="3600" stAng="16200000" swAng="-5400000"/>
                <a:lnTo>
                  <a:pt x="0" y="21467"/>
                </a:lnTo>
                <a:arcTo wR="3600" hR="3600" stAng="10800000" swAng="-5400000"/>
                <a:lnTo>
                  <a:pt x="18000" y="25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77120" y="5351400"/>
            <a:ext cx="576360" cy="6685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52">
                <a:moveTo>
                  <a:pt x="3600" y="0"/>
                </a:moveTo>
                <a:arcTo wR="3600" hR="3600" stAng="16200000" swAng="-5400000"/>
                <a:lnTo>
                  <a:pt x="0" y="21452"/>
                </a:lnTo>
                <a:arcTo wR="3600" hR="3600" stAng="10800000" swAng="-5400000"/>
                <a:lnTo>
                  <a:pt x="18000" y="25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440" y="4235400"/>
            <a:ext cx="1329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Arial"/>
              </a:rPr>
              <a:t>Доход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" y="5457960"/>
            <a:ext cx="1460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Arial"/>
              </a:rPr>
              <a:t>Расход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92" idx="2"/>
          </p:cNvCxnSpPr>
          <p:nvPr/>
        </p:nvCxnSpPr>
        <p:spPr>
          <a:xfrm flipH="1" rot="16200000">
            <a:off x="5315400" y="1885680"/>
            <a:ext cx="1191600" cy="1150200"/>
          </a:xfrm>
          <a:prstGeom prst="bentConnector3">
            <a:avLst>
              <a:gd name="adj1" fmla="val 498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1170000" cy="1093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2852640"/>
            <a:ext cx="2232000" cy="10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36600" y="2511360"/>
          <a:ext cx="8534520" cy="2524320"/>
        </p:xfrm>
        <a:graphic>
          <a:graphicData uri="http://schemas.openxmlformats.org/drawingml/2006/table">
            <a:tbl>
              <a:tblPr/>
              <a:tblGrid>
                <a:gridCol w="2462040"/>
                <a:gridCol w="3227400"/>
                <a:gridCol w="2845080"/>
              </a:tblGrid>
              <a:tr h="81468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 gridSpan="3"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Принятие к учету влож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м-учредител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4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?????????????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4 33 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4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?????????????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401 10 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6111720" y="3651120"/>
            <a:ext cx="2695680" cy="534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62440" y="1287360"/>
            <a:ext cx="2889360" cy="1158840"/>
          </a:xfrm>
          <a:prstGeom prst="wedgeRoundRectCallout">
            <a:avLst>
              <a:gd name="adj1" fmla="val -24189"/>
              <a:gd name="adj2" fmla="val 152166"/>
              <a:gd name="adj3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Д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хх 1 14 00000 00 0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ххх 1 11 09000 00 000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97080" y="3651120"/>
            <a:ext cx="2694240" cy="534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25600" y="1287360"/>
            <a:ext cx="2759040" cy="1138320"/>
          </a:xfrm>
          <a:prstGeom prst="wedgeRoundRectCallout">
            <a:avLst>
              <a:gd name="adj1" fmla="val -13712"/>
              <a:gd name="adj2" fmla="val 154018"/>
              <a:gd name="adj3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ххх 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zzzz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0000000 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54680" y="1757520"/>
            <a:ext cx="256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028000" y="5589720"/>
            <a:ext cx="954000" cy="892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101080" y="1268280"/>
            <a:ext cx="4316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4983120" y="4971960"/>
            <a:ext cx="1244160" cy="1194120"/>
            <a:chOff x="4983120" y="4971960"/>
            <a:chExt cx="1244160" cy="11941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983120" y="4971960"/>
              <a:ext cx="12056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983120" y="5884920"/>
              <a:ext cx="1244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Б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807320" y="4971960"/>
            <a:ext cx="1242720" cy="1194120"/>
            <a:chOff x="7807320" y="4971960"/>
            <a:chExt cx="1242720" cy="119412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7807320" y="4971960"/>
              <a:ext cx="12042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07320" y="5884920"/>
              <a:ext cx="1242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АДБ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08000" y="1779480"/>
            <a:ext cx="1242720" cy="1225080"/>
            <a:chOff x="108000" y="1779480"/>
            <a:chExt cx="1242720" cy="1225080"/>
          </a:xfrm>
        </p:grpSpPr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108000" y="1779480"/>
              <a:ext cx="120420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08000" y="2693160"/>
              <a:ext cx="124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4" name=""/>
          <p:cNvCxnSpPr>
            <a:stCxn id="235" idx="1"/>
          </p:cNvCxnSpPr>
          <p:nvPr/>
        </p:nvCxnSpPr>
        <p:spPr>
          <a:xfrm rot="10800000">
            <a:off x="1301040" y="2247120"/>
            <a:ext cx="2664360" cy="1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36" name=""/>
          <p:cNvGrpSpPr/>
          <p:nvPr/>
        </p:nvGrpSpPr>
        <p:grpSpPr>
          <a:xfrm>
            <a:off x="3965400" y="1814400"/>
            <a:ext cx="1242720" cy="1194120"/>
            <a:chOff x="3965400" y="1814400"/>
            <a:chExt cx="1242720" cy="1194120"/>
          </a:xfrm>
        </p:grpSpPr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3965400" y="1814400"/>
              <a:ext cx="12042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965400" y="2727360"/>
              <a:ext cx="1242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ОФК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774800" y="1265400"/>
            <a:ext cx="231156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311040" indent="-311040">
              <a:buClr>
                <a:srgbClr val="000000"/>
              </a:buClr>
              <a:buFont typeface="Arial"/>
              <a:buAutoNum type="arabicPeriod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олномочия п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предоставлению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МБ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. Л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550280" y="1779480"/>
            <a:ext cx="1242360" cy="1391400"/>
            <a:chOff x="7550280" y="1779480"/>
            <a:chExt cx="1242360" cy="1391400"/>
          </a:xfrm>
        </p:grpSpPr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7550280" y="1779480"/>
              <a:ext cx="120384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50280" y="2691720"/>
              <a:ext cx="12423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инансовый орга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3" name=""/>
          <p:cNvCxnSpPr>
            <a:stCxn id="241" idx="1"/>
            <a:endCxn id="237" idx="3"/>
          </p:cNvCxnSpPr>
          <p:nvPr/>
        </p:nvCxnSpPr>
        <p:spPr>
          <a:xfrm flipV="1" rot="10800000">
            <a:off x="5169600" y="2229480"/>
            <a:ext cx="2380680" cy="35640"/>
          </a:xfrm>
          <a:prstGeom prst="bentConnector3">
            <a:avLst>
              <a:gd name="adj1" fmla="val 5003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247720" y="1646280"/>
            <a:ext cx="2457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. Уведомление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наличии Л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26" idx="0"/>
            <a:endCxn id="238" idx="2"/>
          </p:cNvCxnSpPr>
          <p:nvPr/>
        </p:nvCxnSpPr>
        <p:spPr>
          <a:xfrm flipV="1" rot="16200000">
            <a:off x="4105080" y="3490200"/>
            <a:ext cx="1964520" cy="999000"/>
          </a:xfrm>
          <a:prstGeom prst="bentConnector3">
            <a:avLst>
              <a:gd name="adj1" fmla="val 5003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4475520" y="3645000"/>
            <a:ext cx="1362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. ЗК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29" idx="1"/>
            <a:endCxn id="238" idx="3"/>
          </p:cNvCxnSpPr>
          <p:nvPr/>
        </p:nvCxnSpPr>
        <p:spPr>
          <a:xfrm rot="10800000">
            <a:off x="5207760" y="2867760"/>
            <a:ext cx="2599560" cy="255528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6401880" y="3968640"/>
            <a:ext cx="25304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.1 Перечисле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 доход бюдж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81720" y="4184640"/>
            <a:ext cx="2048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.2 Кассова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ыпла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2546280" y="4838760"/>
            <a:ext cx="770040" cy="803160"/>
          </a:xfrm>
          <a:prstGeom prst="rect">
            <a:avLst/>
          </a:prstGeom>
          <a:ln w="0">
            <a:noFill/>
          </a:ln>
        </p:spPr>
      </p:pic>
      <p:cxnSp>
        <p:nvCxnSpPr>
          <p:cNvPr id="251" name=""/>
          <p:cNvCxnSpPr>
            <a:stCxn id="250" idx="3"/>
            <a:endCxn id="238" idx="1"/>
          </p:cNvCxnSpPr>
          <p:nvPr/>
        </p:nvCxnSpPr>
        <p:spPr>
          <a:xfrm flipV="1">
            <a:off x="3315960" y="2868120"/>
            <a:ext cx="649800" cy="2372400"/>
          </a:xfrm>
          <a:prstGeom prst="bentConnector3">
            <a:avLst>
              <a:gd name="adj1" fmla="val 49833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1492560" y="2247840"/>
            <a:ext cx="2074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. Докумен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492120" y="4881600"/>
            <a:ext cx="577800" cy="693720"/>
          </a:xfrm>
          <a:prstGeom prst="rect">
            <a:avLst/>
          </a:prstGeom>
          <a:ln w="0">
            <a:noFill/>
          </a:ln>
        </p:spPr>
      </p:pic>
      <p:cxnSp>
        <p:nvCxnSpPr>
          <p:cNvPr id="254" name=""/>
          <p:cNvCxnSpPr>
            <a:stCxn id="253" idx="0"/>
            <a:endCxn id="233" idx="2"/>
          </p:cNvCxnSpPr>
          <p:nvPr/>
        </p:nvCxnSpPr>
        <p:spPr>
          <a:xfrm flipV="1" rot="16200000">
            <a:off x="-182880" y="3917160"/>
            <a:ext cx="1877040" cy="518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36680" y="3251160"/>
            <a:ext cx="20030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7. Учет 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отчет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 передаче полномоч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о представлению МБ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140328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воп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1644480"/>
            <a:ext cx="837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Итог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формирования и представления годовой бюджетной (бухгалтерской) отчетности за 2013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тдельные вопрос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ведения учета и формирования отчетности, применения бюджетной класс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Подготовка к формировани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 представлению годовой бюджетной отчетности за 2014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сновные аспек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разработки и внедрения новой учетной модели Федерального казначейства в рамках реформирования системы бюджетных плате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Межбюджетные трансферты из федерального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611280" y="1125360"/>
            <a:ext cx="81374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Реорганизация Минрегиона России (глава 309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зиден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 08.09.2014 № 6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б упразднении Министерства регион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7640" y="393372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34600" y="5348160"/>
            <a:ext cx="66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Передача операций с межбюджетными трансфер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(Минфин, Минстрой и ЖК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й учет невыясненных поступ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50920" y="1197000"/>
          <a:ext cx="8642160" cy="5064120"/>
        </p:xfrm>
        <a:graphic>
          <a:graphicData uri="http://schemas.openxmlformats.org/drawingml/2006/table">
            <a:tbl>
              <a:tblPr/>
              <a:tblGrid>
                <a:gridCol w="1873080"/>
                <a:gridCol w="1727280"/>
                <a:gridCol w="1657440"/>
                <a:gridCol w="1657080"/>
                <a:gridCol w="172728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й орг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министратор невыясненных поступ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НВС (год 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10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2 11 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10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10 02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5 81 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5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ие НВС (год Х + 1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10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хх хх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5 81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10 02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й учет невыясненных поступ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50920" y="1197000"/>
          <a:ext cx="8642160" cy="5237280"/>
        </p:xfrm>
        <a:graphic>
          <a:graphicData uri="http://schemas.openxmlformats.org/drawingml/2006/table">
            <a:tbl>
              <a:tblPr/>
              <a:tblGrid>
                <a:gridCol w="1873080"/>
                <a:gridCol w="1727280"/>
                <a:gridCol w="1657440"/>
                <a:gridCol w="1657080"/>
                <a:gridCol w="172728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й орг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министратор невыясненных поступ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ие НВС (год Х +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8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10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хх хх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5 81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10 02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 НВС от другого ТОФК (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обытие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год Х + 1,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год возникновения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 - 1), </a:t>
                      </a:r>
                      <a:r>
                        <a:rPr b="1" i="1" lang="en-US" sz="20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30,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11 01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10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304 04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5 81 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(Х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(Х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й учет невыясненных поступ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6400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7236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41920" y="114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11253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05120" y="1125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7280" y="1197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3284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515772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88200" y="2154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162000" y="55720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8280" y="40176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63320" y="34750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зс19 (Х) =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0080" y="34750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с19 (Х)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0080" y="39085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с19 (Х) =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64600" y="434016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+ зс19 (Х-1) =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56358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18280" y="22446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=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62640" y="5348160"/>
            <a:ext cx="11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Х-1 =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=  8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18842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–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00720" y="53481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–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18921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Х –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32400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Мероприятия в 2014-2015 гг. по обеспечению формирования и представления годовой бюджетной отчетности за 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2640" y="1557360"/>
            <a:ext cx="7981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становл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сроко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редставления отче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ве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собенностей формирова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довой бюджетной отчетности за 2014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аботка/доработка и утверж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форм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электронного обме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ри представлении отчетност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аботка/доработка и утверж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контро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соотношени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для показателей отчетности представля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ведение дополнительной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видеоконференц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по вопро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ормирования и представления отчетности за 2014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8604360" y="605628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1268280"/>
            <a:ext cx="8604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роект Приказа Минфина Росси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«О дополнительной бюджетной отчетности представляемой главными распорядителями средств федерального бюджета, финансовыми органами субъектов Российской Федерации, органами управления государственными внебюджетными фондам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40360" y="4869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324000" y="60148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Справка ф. 0503125 по счетам 1 401 10 151, 1 401 20 251 на 01.10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бюджетной (бухгалтерской) отчетности за 201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 отче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1080" y="154296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ансовые органы, органы управления ГВБФ, ГРБС Ф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50920" y="2119320"/>
          <a:ext cx="8642160" cy="18860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8720"/>
                <a:gridCol w="1728720"/>
                <a:gridCol w="17272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7524720" y="3487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4149720"/>
            <a:ext cx="87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рриториальные органы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50920" y="4581360"/>
          <a:ext cx="8642160" cy="18860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8720"/>
                <a:gridCol w="1728720"/>
                <a:gridCol w="17272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бюджетной (бухгалтерской) отчетности за 201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 отче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1080" y="154296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ансовые органы, органы управления ГВБФ, ГРБС Ф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(в части Справки ф. 0503125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2479680"/>
          <a:ext cx="8642160" cy="18860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8720"/>
                <a:gridCol w="1728720"/>
                <a:gridCol w="17272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2.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2.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бюджетной (бухгалтерской) отчетности за 201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11280" y="112536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представления годовой бюджетной отчетности финансовыми органами Республики Крым и г. Севастополь за 2014 г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1080" y="220500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рок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18.03.20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24.03.20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15 года. В части Справки по консолидируемым расчетам (ф. 0503125) в срок до 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20.02.20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2852640"/>
            <a:ext cx="871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остав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ан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о финансовых результатах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об исполнении бюдж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1080" y="544500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рядок представле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формат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ующим направлением на бумажн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ителе с сопроводительным письмом в МОУ Ф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4292640"/>
            <a:ext cx="87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рядок составления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оответствии с законодательством действующим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5"/>
          <p:cNvSpPr/>
          <p:nvPr/>
        </p:nvSpPr>
        <p:spPr>
          <a:xfrm>
            <a:off x="1547640" y="4428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о кассовому обслуживанию бюджетов бюджетной системы и кассовому исполнению федерального бюджета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бюджетной отчетност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7200" y="1773360"/>
            <a:ext cx="8608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Приказ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Федерального казначейства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т 11.08.2014 № 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О сроках представления годовой бюджетной отчетности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ссовому обслуживанию исполнения бюджетов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истемы Российской Федерации …………  за 2014 год……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проек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риказа Федерального казначейства «Об утвер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обенностей формирования бюджетной отчетности по кассов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сполнению федерального бюдж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ссовому обслуживанию исполнения бюджетов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истемы Российской Федерации………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птимизация процедур формирования и предст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перативной отче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54764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Отчет об исполнении консолидированного бюджета 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359000"/>
            <a:ext cx="4103640" cy="300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3960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796000" y="2565360"/>
            <a:ext cx="485640" cy="1224000"/>
          </a:xfrm>
          <a:prstGeom prst="upDownArrow">
            <a:avLst>
              <a:gd name="adj1" fmla="val 50000"/>
              <a:gd name="adj2" fmla="val 50174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547640" y="4428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о кассовому обслуживанию бюджетов бюджетной системы и кассовому исполнению федерального бюджета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птимизация процедур формирования оперативной отче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96" descr="j0433892[1]"/>
          <p:cNvPicPr/>
          <p:nvPr/>
        </p:nvPicPr>
        <p:blipFill>
          <a:blip r:embed="rId1"/>
          <a:stretch/>
        </p:blipFill>
        <p:spPr>
          <a:xfrm>
            <a:off x="7308720" y="1557360"/>
            <a:ext cx="989280" cy="1224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168320" y="278136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СФК( 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6" descr="j0433892[1]"/>
          <p:cNvPicPr/>
          <p:nvPr/>
        </p:nvPicPr>
        <p:blipFill>
          <a:blip r:embed="rId2"/>
          <a:stretch/>
        </p:blipFill>
        <p:spPr>
          <a:xfrm>
            <a:off x="7308720" y="3284640"/>
            <a:ext cx="989280" cy="1224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174080" y="453240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СФК (З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50920" y="3538440"/>
            <a:ext cx="1080720" cy="1185840"/>
            <a:chOff x="250920" y="3538440"/>
            <a:chExt cx="1080720" cy="118584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250920" y="3538440"/>
              <a:ext cx="104724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50920" y="4443120"/>
              <a:ext cx="1080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987640" y="220500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ератив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че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87640" y="4005360"/>
            <a:ext cx="1800360" cy="57600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4" idx="3"/>
            <a:endCxn id="326" idx="1"/>
          </p:cNvCxnSpPr>
          <p:nvPr/>
        </p:nvCxnSpPr>
        <p:spPr>
          <a:xfrm flipV="1">
            <a:off x="1298520" y="2493360"/>
            <a:ext cx="1689840" cy="149292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4" idx="3"/>
            <a:endCxn id="327" idx="1"/>
          </p:cNvCxnSpPr>
          <p:nvPr/>
        </p:nvCxnSpPr>
        <p:spPr>
          <a:xfrm>
            <a:off x="1298520" y="3985920"/>
            <a:ext cx="1689840" cy="30852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6" idx="3"/>
            <a:endCxn id="319" idx="1"/>
          </p:cNvCxnSpPr>
          <p:nvPr/>
        </p:nvCxnSpPr>
        <p:spPr>
          <a:xfrm flipV="1">
            <a:off x="4788000" y="2169720"/>
            <a:ext cx="2521440" cy="3247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7" idx="3"/>
            <a:endCxn id="321" idx="1"/>
          </p:cNvCxnSpPr>
          <p:nvPr/>
        </p:nvCxnSpPr>
        <p:spPr>
          <a:xfrm flipV="1">
            <a:off x="4788000" y="3897000"/>
            <a:ext cx="2521440" cy="39744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987640" y="5589720"/>
            <a:ext cx="1800360" cy="57600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кеты КП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96" descr="j0433892[1]"/>
          <p:cNvPicPr/>
          <p:nvPr/>
        </p:nvPicPr>
        <p:blipFill>
          <a:blip r:embed="rId4"/>
          <a:stretch/>
        </p:blipFill>
        <p:spPr>
          <a:xfrm>
            <a:off x="7308720" y="4964040"/>
            <a:ext cx="989280" cy="1224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7575480" y="618804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П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24" idx="3"/>
            <a:endCxn id="332" idx="1"/>
          </p:cNvCxnSpPr>
          <p:nvPr/>
        </p:nvCxnSpPr>
        <p:spPr>
          <a:xfrm>
            <a:off x="1298520" y="3986280"/>
            <a:ext cx="1689840" cy="18928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2" idx="3"/>
            <a:endCxn id="333" idx="1"/>
          </p:cNvCxnSpPr>
          <p:nvPr/>
        </p:nvCxnSpPr>
        <p:spPr>
          <a:xfrm flipV="1">
            <a:off x="4788000" y="5576400"/>
            <a:ext cx="2521440" cy="30240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5724360" y="2924280"/>
            <a:ext cx="57636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8000" y="1644480"/>
            <a:ext cx="8370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каз Минфин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от 29 августа 2013 г. № 227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«Об утверждении концепции реформирования системы бюджетных платежей на период до 2017 го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хват опера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1600" y="191628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ссовое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15040" y="184464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ссовое обслу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юджет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0880" y="522936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ссовое 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14680" y="537372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ff"/>
                </a:solidFill>
                <a:latin typeface="Arial"/>
              </a:rPr>
              <a:t>«Активные»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ff"/>
                </a:solidFill>
                <a:latin typeface="Arial"/>
              </a:rPr>
              <a:t>?????????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2520" y="4005360"/>
            <a:ext cx="155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Федер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казначе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2800400">
            <a:off x="2843280" y="242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9064400">
            <a:off x="5219640" y="242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8506200">
            <a:off x="2700360" y="4723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324400">
            <a:off x="543564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бъекты уч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8000" y="1644480"/>
            <a:ext cx="837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Финансовые а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редства бюджетов, средства неучастников бюджетного процесса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бяз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асчеты по средствам клиентов, расчеты по НВП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Финансовый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финансовый результата деятель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Санкционирование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ссигнования, ЛБО,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язательств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абалансовые с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F037-53E3-4B78-BC31-AE34570A38C5}" type="slidenum">
              <a:rPr b="1" lang="en-US" sz="1200" spc="-1" strike="noStrike">
                <a:solidFill>
                  <a:srgbClr val="002060"/>
                </a:solidFill>
                <a:latin typeface="Calibri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«Архитектура» номера счета казначейского учет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1280" y="2133720"/>
            <a:ext cx="2376360" cy="50472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3070080"/>
            <a:ext cx="2376360" cy="50508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4005360"/>
            <a:ext cx="2376360" cy="50472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494172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лассифика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знак поступлени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ы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95720" y="2198520"/>
            <a:ext cx="33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ньги, расчет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БО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35280" y="220680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94640" y="313380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юджет, ГРБС, ПБС, АУ/БУ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35280" y="314172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97520" y="40705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ОФК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35280" y="407844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97160" y="514980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БК, код цели, код объекта ФАИП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35280" y="5157720"/>
            <a:ext cx="976320" cy="358920"/>
          </a:xfrm>
          <a:prstGeom prst="rightArrow">
            <a:avLst>
              <a:gd name="adj1" fmla="val 50000"/>
              <a:gd name="adj2" fmla="val 68004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2280" y="2997360"/>
            <a:ext cx="748692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ормативное регулирование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роект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Приказа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Об утверждении особенностей формирования регист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юджетного учета в органах 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значейства при кассовом исполн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едерального бюджета, кассовом обслуживан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юджетов бюджетной системы Российской Федер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юджетных и автономных учрежд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ных организац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028000" y="5575320"/>
            <a:ext cx="954000" cy="8920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140360" y="2133720"/>
            <a:ext cx="792000" cy="64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24000" y="12621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Внесение изменений в Приказ Минфина России № 173н + реализация Концепции реформирования системы бюджетных платеж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9B31-D561-414D-BDD5-7C5026C4881A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FD8B-547C-4129-BB2D-1BC4523EDD50}" type="slidenum">
              <a:rPr b="0" lang="en-US" sz="14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4764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Консолидированный балан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154764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Отчет о финансовых результат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деятельност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2200" y="1341360"/>
            <a:ext cx="8497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197000"/>
            <a:ext cx="860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исьмо Минфина России 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Федерального казначейств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от 24.12.2013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№№ </a:t>
            </a: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02-07-007/57102 и 42-7.4-05/2.3-85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«Об особенностях составления 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редставления годовой отчетност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финансовыми органами субъекто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Российской Федерации и органами управлен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государственными внебюджетным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фондами за 2013 год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54764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Отчет об исполнении консолидированного бюджета 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" y="1700280"/>
            <a:ext cx="8370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Финансовые органы субъектов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истерство финансов Чувашской Республ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истерство финансов Том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Территориальные органы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ФК по Самар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ФК по Смолен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ФК по Челябин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ФК по Свердлов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региональное операционное упр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13000"/>
            <a:ext cx="860400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исьм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Федерального казначейств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от 01.07.2014 № 42-7.4-05/2.1-40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«Об итогах формирования и представления финансовыми органами субъектов Российской Федерации и органами управления государственными внебюджетными фондами годовой бюджетной отчетности за 2013 год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Внесение изменений в учетные показа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909800"/>
            <a:ext cx="90486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струкция № 157н, п.1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шибка за отчетный период, обнаруженная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до момента предст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бухгалтерской отчетности и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не требующая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внесения изменения д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регистрах бухгалтерского уч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исправляется путем зачерк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кой чертой неправильных сумм……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шибка,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обнаруженная до момента представления бухгалтерск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и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требующая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внесения изменений в регистр бухгалтерского уч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зависимости от ее характера, отражается последним днем …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шибка, обнаруженная в регистрах бухгалтерского учета за отчетный период,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который бухгалтерская отчетность в установленном порядке уже представлен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зависимости от ее характера,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отражается датой обнаружения ошиб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2323</cp:lastModifiedBy>
  <dcterms:modified xsi:type="dcterms:W3CDTF">2014-09-10T04:50:13Z</dcterms:modified>
  <cp:revision>476</cp:revision>
  <dc:subject/>
  <dc:title>Слайд 1</dc:title>
</cp:coreProperties>
</file>