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F7A-B605-440A-9498-A20D7090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6E1-1ABC-4594-A46C-B4B79D19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59D-B540-4611-A6EF-7A4E0BEE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54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2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54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2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252-15CA-4D42-BA8E-4597A4A9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39B-BE9D-4764-921A-1DA89D61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813-9CDC-47E4-A1D0-8966DF2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69A-FBE0-444C-A990-E72CF360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299-6B90-4116-866B-52B478A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85960" y="140760"/>
            <a:ext cx="6819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2C9-397E-4B6D-AD41-D0BBBC8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8B2-5265-4BAA-BBC6-2B0F25D4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9FD-1574-4936-8306-9B8574D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B21-F73A-40C0-98DB-8C215FC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10826640" cy="812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94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352520" indent="-27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892160" indent="-269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7DA-2E43-4A17-9932-0D17125739B3}" type="datetime">
              <a:rPr b="0" lang="ru-RU" sz="14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0080" y="7527600"/>
            <a:ext cx="34275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612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A29-17B5-4623-B1C4-EBA385DF0546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FACB608E8246192CC6889842008E8BACB974555A6CE5874F4703098BF9FB0A1848E533B86A9113CMEECR" TargetMode="External"/><Relationship Id="rId2" Type="http://schemas.openxmlformats.org/officeDocument/2006/relationships/hyperlink" Target="consultantplus://offline/ref=1FACB608E8246192CC6889842008E8BACB974555A6CE5874F4703098BF9FB0A1848E533B86A9113CMEECR" TargetMode="External"/><Relationship Id="rId3" Type="http://schemas.openxmlformats.org/officeDocument/2006/relationships/hyperlink" Target="consultantplus://offline/ref=1FACB608E8246192CC6889842008E8BACB974555A6CE5874F4703098BF9FB0A1848E533B86A9113CMEECR" TargetMode="External"/><Relationship Id="rId4" Type="http://schemas.openxmlformats.org/officeDocument/2006/relationships/hyperlink" Target="consultantplus://offline/ref=1FACB608E8246192CC6889842008E8BACB974555A6CE5874F4703098BF9FB0A1848E533B86A9113CMEECR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BC2-2B9E-4197-88D1-7F1DEBB680DE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741320" y="243000"/>
            <a:ext cx="75614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100" spc="-1" strike="noStrike">
                <a:solidFill>
                  <a:srgbClr val="254061"/>
                </a:solidFill>
                <a:latin typeface="Times New Roman"/>
              </a:rPr>
              <a:t>ФЕДЕРАЛЬНОЕ  КАЗНАЧЕЙСТВ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413320" y="6364440"/>
            <a:ext cx="5413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тдел организации распределения поступлений между бюджетами Управления совершенствования функциональной деятельности Федерального казначей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04960" y="1827360"/>
            <a:ext cx="8869320" cy="2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которые актуальные вопросы учета поступлений в бюджетную систему Российской Федерации и их распределения между бюджетами бюджетной систем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4CE-6E25-4095-B4FA-FB3ECD75D146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5320" y="171000"/>
            <a:ext cx="86407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Урегулирование межбюджетной задолженности прошлых лет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(1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684440"/>
            <a:ext cx="9747360" cy="518472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исьмо ФК №42-7.4-05/5.4 -540 от 03.09.2014 об использовании в работе  письма МФ РФ №02-08/22328 по наделению ФК полномочиями по согласованию Справки о межбюджетной задолженности за федеральный бюдж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едложения ФК по установлению единого порядка погашения межбюджетной задолженн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язи с тем, что на основании Справки ОФК перерасчет поступлений между бюджетами, обслуживающимися в разных ТОФК, произведен быть не может, в целях единообразия проведения операций погашения межбюджетной задолженности прошлых лет одного бюджета перед другим бюджетом предлагается изменить установленный абзацем первым пункта 21 Порядка № 125н механизм проведения указанных операций и проводить указанные операции не на основании Справки ОФК, а на основан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явки на возврат (код формы по КФД 0531803)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формляемой финансовым органом (органом управления государственным внебюджетным фондом), в бюджет которого в прошлые годы были излишне распределены суммы поступл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AFE-61D9-46D0-BFB3-96092A5668EA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65320" y="242640"/>
            <a:ext cx="86407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Урегулирование межбюджетной задолженности прошлых лет</a:t>
            </a: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 (2)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32000"/>
            <a:ext cx="9747360" cy="622440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 algn="ctr">
              <a:spcBef>
                <a:spcPts val="451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ок погашения межбюджетной задолж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ФК, в котором возникла межбюджетная задолженность прошлых лет, формирует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 межбюджетной задолженности, подписывает ее и направляет в финансовый орган (орган управления государственным внебюджетным фондом), перед бюджетом которого возникла задолжен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ый орган (орган управления государственным внебюджетным фондом), перед бюджетом которого возникла задолженность, не позднее трех рабочих дней со дня, следующего за днем получения от ТОФК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межбюджетной задолженности, подписывает указанный документ и направляет его в финансовый орган (орган управления государственным внебюджетным фондом), в бюджет которого в прошлые годы были излишне распределены суммы поступл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ый орган (орган управления государственным внебюджетным фондом), в бюджет которого в прошлые годы были излишне распределены суммы поступлений, в случае согласия с суммой задолженности, указанной в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 о межбюджетной задолженности, в течение трех рабочих дней со дня, следующего за днем получения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межбюджетной задолженности, подписывает указанный документ и направляет в ТОФК по месту своего обслуживания Заявку на возврат на сумму возникшей задолж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C75-900E-410D-AF70-6B578288B03B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8600" y="316080"/>
            <a:ext cx="9217080" cy="5918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100" spc="-1" strike="noStrike">
                <a:solidFill>
                  <a:srgbClr val="00449e"/>
                </a:solidFill>
                <a:latin typeface="Times New Roman"/>
              </a:rPr>
              <a:t>Оптимизация процедур исполнения возвратов акцизов на нефтепродукты</a:t>
            </a:r>
            <a:endParaRPr b="1" lang="en-US" sz="21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468080"/>
            <a:ext cx="9747360" cy="579132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письмо ФК  и МФ РФ 100 от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1.2014 № 02-08-05/1596 / № 42-7.4-05/5.4-36 по вопросу учета и распределения доходов от уплаты акцизов на автомобильный и прямогонный бензин, дизельное топливо, моторные масла для дизельных и (или) карбюраторных (инжекторных) двигателей, подлежащих зачислению в бюджеты субъектов Российской Федерации (далее – акцизы на нефтепродукты), а также доходов от уплаты акцизов на топливо печное бытовое, вырабатываемое из дизельных фракций прямой перегонки и (или) вторичного происхождения, кипящих в интервале температур от 280 до 360 градусов Цельсия, производимое на территори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рядка возврата акцизов на нефтепродукты в части обеспечения возможности осуществлять возврат средств плательщику за счет всех видов акцизных кодов (на уровне МОУ Ф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- отсутствие задержек по исполнению возвратов акцизов на нефтепродук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2AE-EDA9-467C-8BAE-74B1BB20DD5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5880" y="140760"/>
            <a:ext cx="8629560" cy="893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Отражение операции передачи невыясненных поступлений федерального бюджета  из УФК в другой УФК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8000"/>
          </a:bodyPr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ерация передачи НВС ФБ между УФК осуществляется без перечисления денежных средств  (в отчетности по лицевым счетам в графе "зачеты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аналитических регистрах по 125н передача НВС ФБ отражае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урнал регистрации внебанковских операций (код по КФД 0531459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одная ведомость учета поступлений (код по КФД 0531469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авка о перечисленных поступлениях в бюджет (код по КФД 0531467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авка о перечислении поступлений в бюджеты (код по КФД 0531468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чет об операциях по поступлениям в бюджетную систему Российской Федерации, учитываемым органами Федерального казначейства (ф. 050315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омость невыясненных поступ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ерации по передаче/приему НВС отражаются как поступления ФБ, минуя счет 4010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астоящее время налоговые органы не используют форму Уведомления , установленную приказом ФК №8 н.Вопрос находится в стадии реш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1E2-4C27-43E1-A34A-2465DC47DAB2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совещание"/>
          <p:cNvPicPr/>
          <p:nvPr/>
        </p:nvPicPr>
        <p:blipFill>
          <a:blip r:embed="rId1"/>
          <a:stretch/>
        </p:blipFill>
        <p:spPr>
          <a:xfrm>
            <a:off x="1812960" y="1468440"/>
            <a:ext cx="2095560" cy="1571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372960" y="1395360"/>
            <a:ext cx="5545080" cy="604836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6048360"/>
              <a:gd name="textAreaBottom" fmla="*/ 604872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28" y="0"/>
                </a:lnTo>
                <a:lnTo>
                  <a:pt x="21600" y="10800"/>
                </a:lnTo>
                <a:lnTo>
                  <a:pt x="1782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8875400">
            <a:off x="2545560" y="2680200"/>
            <a:ext cx="879480" cy="903240"/>
          </a:xfrm>
          <a:prstGeom prst="rtTriangle">
            <a:avLst/>
          </a:prstGeom>
          <a:solidFill>
            <a:srgbClr val="99ccff"/>
          </a:solidFill>
          <a:ln w="63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88960" y="5356080"/>
            <a:ext cx="460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едусмотрена интеграция Поиска НВС с ГИС ГМП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566040" y="1395360"/>
            <a:ext cx="3743280" cy="6048360"/>
          </a:xfrm>
          <a:prstGeom prst="rect">
            <a:avLst/>
          </a:prstGeom>
          <a:noFill/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ение в ГИС ГМП информации о поступлениях, учтенных ТОФК как НВС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ение в ГИС ГМП информации о порядке возврата / уточнения НВ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92240" y="17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Перспективы внедрения раздела по поиску НВС Ф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949320" y="3916440"/>
            <a:ext cx="4103640" cy="1223640"/>
            <a:chOff x="949320" y="3916440"/>
            <a:chExt cx="4103640" cy="1223640"/>
          </a:xfrm>
        </p:grpSpPr>
        <p:sp>
          <p:nvSpPr>
            <p:cNvPr id="66" name="Прямоугольник с двумя скругленными противолежащими углами 40"/>
            <p:cNvSpPr/>
            <p:nvPr/>
          </p:nvSpPr>
          <p:spPr>
            <a:xfrm>
              <a:off x="949320" y="3916440"/>
              <a:ext cx="4103640" cy="1223640"/>
            </a:xfrm>
            <a:prstGeom prst="pie">
              <a:avLst/>
            </a:prstGeom>
            <a:solidFill>
              <a:srgbClr val="99ccff">
                <a:alpha val="15000"/>
              </a:srgbClr>
            </a:solidFill>
            <a:ln w="63360">
              <a:solidFill>
                <a:srgbClr val="95b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Picture 2" descr="Файл:Schetnaya palata.Emblema.gif"/>
            <p:cNvPicPr/>
            <p:nvPr/>
          </p:nvPicPr>
          <p:blipFill>
            <a:blip r:embed="rId2"/>
            <a:stretch/>
          </p:blipFill>
          <p:spPr>
            <a:xfrm>
              <a:off x="3613320" y="4492440"/>
              <a:ext cx="3664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Файл:Roskazna.png"/>
            <p:cNvPicPr/>
            <p:nvPr/>
          </p:nvPicPr>
          <p:blipFill>
            <a:blip r:embed="rId3"/>
            <a:stretch/>
          </p:blipFill>
          <p:spPr>
            <a:xfrm>
              <a:off x="2100240" y="4492440"/>
              <a:ext cx="3888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2" descr="Файл:FAS.Emblema.gif"/>
            <p:cNvPicPr/>
            <p:nvPr/>
          </p:nvPicPr>
          <p:blipFill>
            <a:blip r:embed="rId4"/>
            <a:stretch/>
          </p:blipFill>
          <p:spPr>
            <a:xfrm>
              <a:off x="1380960" y="4132080"/>
              <a:ext cx="4017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0" descr="Файл:COA of Rosfinmonitoring.png"/>
            <p:cNvPicPr/>
            <p:nvPr/>
          </p:nvPicPr>
          <p:blipFill>
            <a:blip r:embed="rId5"/>
            <a:stretch/>
          </p:blipFill>
          <p:spPr>
            <a:xfrm>
              <a:off x="4334040" y="4060800"/>
              <a:ext cx="3952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7" descr="Файл:Coat of Arms of the Russian Federation.svg"/>
            <p:cNvPicPr/>
            <p:nvPr/>
          </p:nvPicPr>
          <p:blipFill>
            <a:blip r:embed="rId6"/>
            <a:stretch/>
          </p:blipFill>
          <p:spPr>
            <a:xfrm>
              <a:off x="2820960" y="4132080"/>
              <a:ext cx="40320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FC1-8996-4661-83F6-C78927A77273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140760"/>
            <a:ext cx="80215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Учет невыясненных поступлени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563760" y="1827360"/>
            <a:ext cx="1089972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ения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ть ведомость по невыясненным поступлениям, администратором которых является ФК, т.е. по КБК 100117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0">
              <a:spcBef>
                <a:spcPts val="6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9800" y="140760"/>
            <a:ext cx="72356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Реестр администрируемых платеже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7120" y="1344600"/>
            <a:ext cx="9747360" cy="1571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400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лены предложения по внесению изменений в приказ ФК 24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полнительно для открытия лицевого счета администратора доходов бюджета представля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естр администрируемых платежей по форме согласно приложению № __ к настоящему Порядку (код формы по КФД ________)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74B2-FC45-41A2-BD99-9AFBA32BD7A5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27120" y="2773440"/>
            <a:ext cx="95724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876-E310-47C6-ACE0-FB9BEA0E979C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Петрова</cp:lastModifiedBy>
  <dcterms:modified xsi:type="dcterms:W3CDTF">2014-09-10T05:41:58Z</dcterms:modified>
  <cp:revision>200</cp:revision>
  <dc:subject/>
  <dc:title>Слайд 1</dc:title>
</cp:coreProperties>
</file>