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E63-B167-40DC-8EF3-BDCE73F1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5E2B-C646-42A8-AF6D-6E8E42EF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90F-0975-48A7-9298-A012576E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A5B-7EFA-4699-BAE1-3865146E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CB0-1B0F-4845-94ED-6FB7DCDE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5F84-3FB5-4A7A-9318-223B5C7C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FD8A-58F8-4973-8A41-9F00AB4D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541-E383-4018-BE87-8194AAC2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6A33-C5B8-4307-A32F-C48F7F79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7FF6-AA9E-4D82-A211-A5C60539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614C-2C29-4F60-A2D2-3030DF91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31A-7871-4413-929C-1E120842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83D7-E206-4FFE-979D-0F9C2D72AEC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0C4A-D9CC-4F72-A964-F5C2489039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21DD-73EA-4908-AFD6-6BCBDF00C6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79280" y="177336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2387"/>
                </a:solidFill>
                <a:latin typeface="Book Antiqua"/>
              </a:rPr>
              <a:t>Вопросы взаимодействия Межрегионального операционного УФК и УФК по субъектам Российской Федерации в процессе формирования бюджетной 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500720" y="3789360"/>
            <a:ext cx="4340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Book Antiqua"/>
              </a:rPr>
              <a:t>Заместитель руководите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Book Antiqua"/>
              </a:rPr>
              <a:t>Межрегионального операционного управления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Book Antiqua"/>
              </a:rPr>
              <a:t>Горина Наталия Михайловна</a:t>
            </a:r>
            <a:r>
              <a:rPr b="1" lang="ru-RU" sz="1600" spc="-1" strike="noStrike">
                <a:solidFill>
                  <a:srgbClr val="16238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492360" y="5838840"/>
            <a:ext cx="193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2387"/>
                </a:solidFill>
                <a:latin typeface="Book Antiqua"/>
              </a:rPr>
              <a:t>10 сентября 2014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8D98-1D37-4B04-BEFF-7EF4764671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7704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Book Antiqua"/>
              </a:rPr>
              <a:t>Взаимодействие функциональных отделов Межрегионального операционного УФК с территориальными органами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Book Antiqua"/>
              </a:rPr>
              <a:t>Федерального казначейства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0" y="1052640"/>
            <a:ext cx="2411280" cy="5329080"/>
          </a:xfrm>
          <a:prstGeom prst="flowChartAlternateProcess">
            <a:avLst/>
          </a:prstGeom>
          <a:solidFill>
            <a:srgbClr val="d6e5ee"/>
          </a:solidFill>
          <a:ln w="38160">
            <a:solidFill>
              <a:srgbClr val="162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484360" y="981000"/>
            <a:ext cx="6551640" cy="5472360"/>
          </a:xfrm>
          <a:prstGeom prst="flowChartAlternateProcess">
            <a:avLst/>
          </a:prstGeom>
          <a:solidFill>
            <a:srgbClr val="d6e5ee"/>
          </a:solidFill>
          <a:ln w="38160">
            <a:solidFill>
              <a:srgbClr val="162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108000" y="1197000"/>
            <a:ext cx="2232000" cy="1295280"/>
          </a:xfrm>
          <a:prstGeom prst="flowChartProcess">
            <a:avLst/>
          </a:prstGeom>
          <a:solidFill>
            <a:srgbClr val="ccecff"/>
          </a:solidFill>
          <a:ln w="38160">
            <a:solidFill>
              <a:srgbClr val="162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108000" y="1197000"/>
            <a:ext cx="223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Book Antiqua"/>
              </a:rPr>
              <a:t>Отдел бюджетного учета и отчетности по операциям бюджет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Начальник отде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Ахмярова И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6"/>
          <p:cNvSpPr/>
          <p:nvPr/>
        </p:nvSpPr>
        <p:spPr>
          <a:xfrm>
            <a:off x="2771640" y="1197000"/>
            <a:ext cx="2089440" cy="1224000"/>
          </a:xfrm>
          <a:prstGeom prst="flowChartProcess">
            <a:avLst/>
          </a:prstGeom>
          <a:solidFill>
            <a:srgbClr val="ccecff"/>
          </a:solidFill>
          <a:ln w="38160">
            <a:solidFill>
              <a:srgbClr val="162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/>
          <p:cNvSpPr/>
          <p:nvPr/>
        </p:nvSpPr>
        <p:spPr>
          <a:xfrm>
            <a:off x="4859280" y="1197000"/>
            <a:ext cx="1944720" cy="1224000"/>
          </a:xfrm>
          <a:prstGeom prst="flowChartProcess">
            <a:avLst/>
          </a:prstGeom>
          <a:solidFill>
            <a:srgbClr val="ccecff"/>
          </a:solidFill>
          <a:ln w="38160">
            <a:solidFill>
              <a:srgbClr val="162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/>
          <p:cNvSpPr/>
          <p:nvPr/>
        </p:nvSpPr>
        <p:spPr>
          <a:xfrm>
            <a:off x="6804000" y="1197000"/>
            <a:ext cx="2016000" cy="1224000"/>
          </a:xfrm>
          <a:prstGeom prst="flowChartProcess">
            <a:avLst/>
          </a:prstGeom>
          <a:solidFill>
            <a:srgbClr val="ccecff"/>
          </a:solidFill>
          <a:ln w="38160">
            <a:solidFill>
              <a:srgbClr val="162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2843280" y="1197000"/>
            <a:ext cx="201600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Book Antiqua"/>
              </a:rPr>
              <a:t>Отдел отчетности о кассовом исполнении бюджет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Начальник от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Кашурина Л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4859280" y="1125360"/>
            <a:ext cx="19652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Book Antiqua"/>
              </a:rPr>
              <a:t>Отдел консолидированной отчетнос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Начальник от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Ульянов К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6732720" y="1197000"/>
            <a:ext cx="216036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Book Antiqua"/>
              </a:rPr>
              <a:t>Отдел отчетности об исполнении федерального бюдже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Начальник от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Леонова М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"/>
          <p:cNvSpPr/>
          <p:nvPr/>
        </p:nvSpPr>
        <p:spPr>
          <a:xfrm>
            <a:off x="2843280" y="2421000"/>
            <a:ext cx="2016000" cy="3816360"/>
          </a:xfrm>
          <a:prstGeom prst="upArrowCallout">
            <a:avLst>
              <a:gd name="adj1" fmla="val 19622"/>
              <a:gd name="adj2" fmla="val 25000"/>
              <a:gd name="adj3" fmla="val 8878"/>
              <a:gd name="adj4" fmla="val 1385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5"/>
          <p:cNvSpPr/>
          <p:nvPr/>
        </p:nvSpPr>
        <p:spPr>
          <a:xfrm>
            <a:off x="2843280" y="2637000"/>
            <a:ext cx="2000160" cy="43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прием бюджетной отчетности по кассовому обслуживанию исполнения бюджетов бюджетной системы Р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прием бюджетной отчетности по кассовому исполнению федерального бюдже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прием бюджетной отчетности по кассовому обслуживанию бюджетных учреждений, автономных учреждений и иных организаци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прием Отчетов об операциях по данным Главной книг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контроль за своевременностью, полнотой и качеством представления данных по базовым показателям для информационно-аналитической системы ключевых показателей исполнения бюджетов бюджетной системы Р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6"/>
          <p:cNvSpPr/>
          <p:nvPr/>
        </p:nvSpPr>
        <p:spPr>
          <a:xfrm>
            <a:off x="179280" y="2492280"/>
            <a:ext cx="2089080" cy="3816360"/>
          </a:xfrm>
          <a:prstGeom prst="upArrowCallout">
            <a:avLst>
              <a:gd name="adj1" fmla="val 19622"/>
              <a:gd name="adj2" fmla="val 25000"/>
              <a:gd name="adj3" fmla="val 8567"/>
              <a:gd name="adj4" fmla="val 1385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0"/>
          <p:cNvSpPr/>
          <p:nvPr/>
        </p:nvSpPr>
        <p:spPr>
          <a:xfrm>
            <a:off x="179280" y="3213000"/>
            <a:ext cx="20368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осуществление сверки внутриказначейских расч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ием отчетности по кассовому обслуживанию исполнения бюджета Союзного государ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1"/>
          <p:cNvSpPr/>
          <p:nvPr/>
        </p:nvSpPr>
        <p:spPr>
          <a:xfrm>
            <a:off x="4932360" y="2421000"/>
            <a:ext cx="1871640" cy="1584360"/>
          </a:xfrm>
          <a:prstGeom prst="upArrowCallout">
            <a:avLst>
              <a:gd name="adj1" fmla="val 23147"/>
              <a:gd name="adj2" fmla="val 29533"/>
              <a:gd name="adj3" fmla="val 6259"/>
              <a:gd name="adj4" fmla="val 2344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5"/>
          <p:cNvSpPr/>
          <p:nvPr/>
        </p:nvSpPr>
        <p:spPr>
          <a:xfrm>
            <a:off x="4932360" y="292428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осуществление свер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направленных межбюджетных трансфер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6"/>
          <p:cNvSpPr/>
          <p:nvPr/>
        </p:nvSpPr>
        <p:spPr>
          <a:xfrm>
            <a:off x="6948360" y="2421000"/>
            <a:ext cx="1871640" cy="1079280"/>
          </a:xfrm>
          <a:prstGeom prst="upArrowCallout">
            <a:avLst>
              <a:gd name="adj1" fmla="val 35746"/>
              <a:gd name="adj2" fmla="val 43354"/>
              <a:gd name="adj3" fmla="val 10338"/>
              <a:gd name="adj4" fmla="val 3761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7"/>
          <p:cNvSpPr/>
          <p:nvPr/>
        </p:nvSpPr>
        <p:spPr>
          <a:xfrm>
            <a:off x="6948360" y="263700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осуществление сверки отчетности, представленной ГРБС с отчетностью ТОФ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4932360" y="4292640"/>
            <a:ext cx="1871640" cy="86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0"/>
          <p:cNvSpPr/>
          <p:nvPr/>
        </p:nvSpPr>
        <p:spPr>
          <a:xfrm>
            <a:off x="4932360" y="424980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осуществление сверки отчетности, представленной ФО с отчетностью ТОФ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4"/>
          <p:cNvSpPr/>
          <p:nvPr/>
        </p:nvSpPr>
        <p:spPr>
          <a:xfrm>
            <a:off x="7885080" y="3500280"/>
            <a:ext cx="0" cy="2233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5"/>
          <p:cNvSpPr/>
          <p:nvPr/>
        </p:nvSpPr>
        <p:spPr>
          <a:xfrm flipH="1">
            <a:off x="4858920" y="5734080"/>
            <a:ext cx="302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6"/>
          <p:cNvSpPr/>
          <p:nvPr/>
        </p:nvSpPr>
        <p:spPr>
          <a:xfrm>
            <a:off x="5867280" y="515772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9"/>
          <p:cNvSpPr/>
          <p:nvPr/>
        </p:nvSpPr>
        <p:spPr>
          <a:xfrm>
            <a:off x="5148360" y="5805360"/>
            <a:ext cx="26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40000"/>
                </a:solidFill>
                <a:latin typeface="Book Antiqua"/>
              </a:rPr>
              <a:t>передача информации о выявленных расхождения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5774-F3D5-4BE9-8A55-3602A78926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7848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Book Antiqua"/>
              </a:rPr>
              <a:t>Взаимодействие функциональных отделов Межрегионального операционного УФК с территориальными органами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Book Antiqua"/>
              </a:rPr>
              <a:t>Федерального казначейства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08000" y="1197000"/>
            <a:ext cx="1873080" cy="1079640"/>
          </a:xfrm>
          <a:prstGeom prst="rect">
            <a:avLst/>
          </a:prstGeom>
          <a:solidFill>
            <a:srgbClr val="ccecff"/>
          </a:solidFill>
          <a:ln w="38160">
            <a:solidFill>
              <a:srgbClr val="162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484360" y="1197000"/>
            <a:ext cx="1873440" cy="1079640"/>
          </a:xfrm>
          <a:prstGeom prst="rect">
            <a:avLst/>
          </a:prstGeom>
          <a:solidFill>
            <a:srgbClr val="ccecff"/>
          </a:solidFill>
          <a:ln w="38160">
            <a:solidFill>
              <a:srgbClr val="162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4859280" y="1052640"/>
            <a:ext cx="1873440" cy="1224000"/>
          </a:xfrm>
          <a:prstGeom prst="rect">
            <a:avLst/>
          </a:prstGeom>
          <a:solidFill>
            <a:srgbClr val="ccecff"/>
          </a:solidFill>
          <a:ln w="38160">
            <a:solidFill>
              <a:srgbClr val="162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7093080" y="1197000"/>
            <a:ext cx="1873080" cy="1079640"/>
          </a:xfrm>
          <a:prstGeom prst="rect">
            <a:avLst/>
          </a:prstGeom>
          <a:solidFill>
            <a:srgbClr val="ccecff"/>
          </a:solidFill>
          <a:ln w="38160">
            <a:solidFill>
              <a:srgbClr val="162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108000" y="2349360"/>
            <a:ext cx="2089080" cy="3816360"/>
          </a:xfrm>
          <a:prstGeom prst="upArrowCallout">
            <a:avLst>
              <a:gd name="adj1" fmla="val 19622"/>
              <a:gd name="adj2" fmla="val 25000"/>
              <a:gd name="adj3" fmla="val 8567"/>
              <a:gd name="adj4" fmla="val 1385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2268360" y="2349360"/>
            <a:ext cx="2374920" cy="3816360"/>
          </a:xfrm>
          <a:prstGeom prst="upArrowCallout">
            <a:avLst>
              <a:gd name="adj1" fmla="val 19622"/>
              <a:gd name="adj2" fmla="val 25000"/>
              <a:gd name="adj3" fmla="val 7536"/>
              <a:gd name="adj4" fmla="val 1385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4716360" y="2349360"/>
            <a:ext cx="2089080" cy="3816360"/>
          </a:xfrm>
          <a:prstGeom prst="upArrowCallout">
            <a:avLst>
              <a:gd name="adj1" fmla="val 19622"/>
              <a:gd name="adj2" fmla="val 25000"/>
              <a:gd name="adj3" fmla="val 8567"/>
              <a:gd name="adj4" fmla="val 1385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4"/>
          <p:cNvSpPr/>
          <p:nvPr/>
        </p:nvSpPr>
        <p:spPr>
          <a:xfrm>
            <a:off x="6948360" y="2349360"/>
            <a:ext cx="2089440" cy="3816360"/>
          </a:xfrm>
          <a:prstGeom prst="upArrowCallout">
            <a:avLst>
              <a:gd name="adj1" fmla="val 19622"/>
              <a:gd name="adj2" fmla="val 25000"/>
              <a:gd name="adj3" fmla="val 8566"/>
              <a:gd name="adj4" fmla="val 1385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123480" y="1268280"/>
            <a:ext cx="16772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Book Antiqua"/>
              </a:rPr>
              <a:t>Отдел доходо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Начальник от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Арешев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2559600" y="1278000"/>
            <a:ext cx="17168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Book Antiqua"/>
              </a:rPr>
              <a:t>Отдел расходов</a:t>
            </a:r>
            <a:r>
              <a:rPr b="0" lang="ru-RU" sz="13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Начальник отде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Дмитриева О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>
            <a:off x="4859280" y="1052640"/>
            <a:ext cx="18716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Book Antiqua"/>
              </a:rPr>
              <a:t>Отдел обслуживания силовых ведомст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Book Antiqua"/>
              </a:rPr>
              <a:t>Начальник отде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Book Antiqua"/>
              </a:rPr>
              <a:t>Кулешова О.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7093080" y="1197000"/>
            <a:ext cx="18921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Book Antiqua"/>
              </a:rPr>
              <a:t>Отдел доведения бюджет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Начальник от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Башлыкова Л.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2268360" y="2565360"/>
            <a:ext cx="2374920" cy="39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Book Antiqua"/>
              </a:rPr>
              <a:t>прием Сведений об объемах средств, перечисляемых на расчетные (дебетовые) карты получателей средств федерального бюджета, получателей средств бюджетов государственных внебюджетных фондов Российской Федерации, федеральных бюджетных учреждений, федеральных автономных учреждений и их структурных (обособленных) подразделений (ф.053161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Book Antiqua"/>
              </a:rPr>
              <a:t>прием Отчета об исполнении бюджетных обязательст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 Antiqua"/>
              </a:rPr>
              <a:t>(ф.053170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Book Antiqua"/>
              </a:rPr>
              <a:t>прием Отчета об исполнении бюджетных обязательств, принятых в целях реализации федеральной адресной инвестиционной программы (ф.053173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4"/>
          <p:cNvSpPr/>
          <p:nvPr/>
        </p:nvSpPr>
        <p:spPr>
          <a:xfrm>
            <a:off x="179280" y="2565360"/>
            <a:ext cx="189252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Book Antiqua"/>
              </a:rPr>
              <a:t>прием Сведений о суммах возвратов (возмещений) и суммах уплаты процентов при нарушении срока возврата (возмещения) из федерального бюджета излишне уплаченных (взысканных) платежей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Book Antiqua"/>
              </a:rPr>
              <a:t>(ф.050704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Book Antiqua"/>
              </a:rPr>
              <a:t>формирование  Сводных сведений по данным лицевых счетов подведомственных администраторов доходов бюджета главного администратора (администратора, осуществляющего полномочия главного администратора) доходов бюджета (ф. 053182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4767120" y="2833560"/>
            <a:ext cx="19656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ием Отчета об исполнении бюджетных обяза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(ф.05317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ием Отчета об исполнении бюджетных обязательств, принятых в целях реализации федеральной адресной инвестиционно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(ф.053173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7000920" y="2897280"/>
            <a:ext cx="203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формирование  Сводных данных по лицевым счетам подведомственных учреждений главного распорядителя (распорядителя) бюджетны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(ф. 05318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ED5A-4593-405B-8652-B843A274DC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Группа 8"/>
          <p:cNvGrpSpPr/>
          <p:nvPr/>
        </p:nvGrpSpPr>
        <p:grpSpPr>
          <a:xfrm>
            <a:off x="0" y="857160"/>
            <a:ext cx="9144000" cy="6000840"/>
            <a:chOff x="0" y="857160"/>
            <a:chExt cx="9144000" cy="6000840"/>
          </a:xfrm>
        </p:grpSpPr>
        <p:pic>
          <p:nvPicPr>
            <p:cNvPr id="95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60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Скругленная прямоугольная выноска 10"/>
            <p:cNvSpPr/>
            <p:nvPr/>
          </p:nvSpPr>
          <p:spPr>
            <a:xfrm>
              <a:off x="2786040" y="4429080"/>
              <a:ext cx="1500120" cy="1000080"/>
            </a:xfrm>
            <a:prstGeom prst="wedgeRoundRectCallout">
              <a:avLst>
                <a:gd name="adj1" fmla="val -30685"/>
                <a:gd name="adj2" fmla="val -80643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1"/>
            <p:cNvSpPr/>
            <p:nvPr/>
          </p:nvSpPr>
          <p:spPr>
            <a:xfrm>
              <a:off x="2857320" y="4500720"/>
              <a:ext cx="15001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Верное ОКТМО: 78000000 (ОКТМО субъекта, перечислившего средства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Box 12"/>
          <p:cNvSpPr/>
          <p:nvPr/>
        </p:nvSpPr>
        <p:spPr>
          <a:xfrm>
            <a:off x="7572240" y="3940200"/>
            <a:ext cx="121464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00103022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001000011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Группа 13"/>
          <p:cNvGrpSpPr/>
          <p:nvPr/>
        </p:nvGrpSpPr>
        <p:grpSpPr>
          <a:xfrm>
            <a:off x="7358040" y="4786200"/>
            <a:ext cx="1643040" cy="1000080"/>
            <a:chOff x="7358040" y="4786200"/>
            <a:chExt cx="1643040" cy="1000080"/>
          </a:xfrm>
        </p:grpSpPr>
        <p:sp>
          <p:nvSpPr>
            <p:cNvPr id="100" name="Скругленная прямоугольная выноска 14"/>
            <p:cNvSpPr/>
            <p:nvPr/>
          </p:nvSpPr>
          <p:spPr>
            <a:xfrm>
              <a:off x="7429320" y="4786200"/>
              <a:ext cx="1500480" cy="1000080"/>
            </a:xfrm>
            <a:prstGeom prst="wedgeRoundRectCallout">
              <a:avLst>
                <a:gd name="adj1" fmla="val -34995"/>
                <a:gd name="adj2" fmla="val -11388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15"/>
            <p:cNvSpPr/>
            <p:nvPr/>
          </p:nvSpPr>
          <p:spPr>
            <a:xfrm>
              <a:off x="7358040" y="5000400"/>
              <a:ext cx="164304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Верное КБК: 100103022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0010000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Прямоугольник 11"/>
          <p:cNvSpPr/>
          <p:nvPr/>
        </p:nvSpPr>
        <p:spPr>
          <a:xfrm>
            <a:off x="928800" y="142920"/>
            <a:ext cx="70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 оформления Заявки на возврат  сумм возврата доходов от уплаты акцизов на печное топливо (страница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4675-12EF-4864-887B-5D4FECA54D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8"/>
          <p:cNvSpPr/>
          <p:nvPr/>
        </p:nvSpPr>
        <p:spPr>
          <a:xfrm>
            <a:off x="3357720" y="207180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78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ая прямоугольная выноска 9"/>
          <p:cNvSpPr/>
          <p:nvPr/>
        </p:nvSpPr>
        <p:spPr>
          <a:xfrm>
            <a:off x="3857760" y="2643120"/>
            <a:ext cx="1500120" cy="890640"/>
          </a:xfrm>
          <a:prstGeom prst="wedgeRoundRectCallout">
            <a:avLst>
              <a:gd name="adj1" fmla="val -35129"/>
              <a:gd name="adj2" fmla="val -93675"/>
              <a:gd name="adj3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ерное ОКТМО: 78000000 (ОКТМО субъекта, перечислившего средств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2571840" y="2072880"/>
            <a:ext cx="12142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100103022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00100001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ая прямоугольная выноска 11"/>
          <p:cNvSpPr/>
          <p:nvPr/>
        </p:nvSpPr>
        <p:spPr>
          <a:xfrm>
            <a:off x="1428840" y="2643120"/>
            <a:ext cx="1643040" cy="890640"/>
          </a:xfrm>
          <a:prstGeom prst="wedgeRoundRectCallout">
            <a:avLst>
              <a:gd name="adj1" fmla="val 38888"/>
              <a:gd name="adj2" fmla="val -90800"/>
              <a:gd name="adj3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ерное КБК: 10010302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0010000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7"/>
          <p:cNvSpPr/>
          <p:nvPr/>
        </p:nvSpPr>
        <p:spPr>
          <a:xfrm>
            <a:off x="1214280" y="142920"/>
            <a:ext cx="714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 оформления Заявки на возврат  сумм возврата доходов от уплаты акцизов на печное топливо (страница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9398-9947-468A-AE13-BA71259ADA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857240" y="1000080"/>
            <a:ext cx="5343840" cy="5553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2286000" y="4858920"/>
            <a:ext cx="12142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100103022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00100001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ая прямоугольная выноска 6"/>
          <p:cNvSpPr/>
          <p:nvPr/>
        </p:nvSpPr>
        <p:spPr>
          <a:xfrm>
            <a:off x="357120" y="5072040"/>
            <a:ext cx="1643040" cy="1000080"/>
          </a:xfrm>
          <a:prstGeom prst="wedgeRoundRectCallout">
            <a:avLst>
              <a:gd name="adj1" fmla="val 73611"/>
              <a:gd name="adj2" fmla="val -51087"/>
              <a:gd name="adj3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ерное КБК в поле «Назначение платежа»: 10010302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0010000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ая прямоугольная выноска 7"/>
          <p:cNvSpPr/>
          <p:nvPr/>
        </p:nvSpPr>
        <p:spPr>
          <a:xfrm>
            <a:off x="4786200" y="5143680"/>
            <a:ext cx="1500480" cy="1000080"/>
          </a:xfrm>
          <a:prstGeom prst="wedgeRoundRectCallout">
            <a:avLst>
              <a:gd name="adj1" fmla="val -86708"/>
              <a:gd name="adj2" fmla="val -72333"/>
              <a:gd name="adj3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286080" y="4795560"/>
            <a:ext cx="12146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360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7800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ая прямоугольная выноска 10"/>
          <p:cNvSpPr/>
          <p:nvPr/>
        </p:nvSpPr>
        <p:spPr>
          <a:xfrm>
            <a:off x="357120" y="3786120"/>
            <a:ext cx="1714680" cy="1000080"/>
          </a:xfrm>
          <a:prstGeom prst="wedgeRoundRectCallout">
            <a:avLst>
              <a:gd name="adj1" fmla="val 66851"/>
              <a:gd name="adj2" fmla="val 56958"/>
              <a:gd name="adj3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ерное КБК в 104 поле: 10010302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0010000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1"/>
          <p:cNvSpPr/>
          <p:nvPr/>
        </p:nvSpPr>
        <p:spPr>
          <a:xfrm>
            <a:off x="4714920" y="5214960"/>
            <a:ext cx="1500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ерное ОКТМО: 78000000 (ОКТМО субъекта, перечислившего средств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12"/>
          <p:cNvSpPr/>
          <p:nvPr/>
        </p:nvSpPr>
        <p:spPr>
          <a:xfrm>
            <a:off x="7286760" y="3857760"/>
            <a:ext cx="1000080" cy="1440"/>
          </a:xfrm>
          <a:prstGeom prst="line">
            <a:avLst/>
          </a:prstGeom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13"/>
          <p:cNvSpPr/>
          <p:nvPr/>
        </p:nvSpPr>
        <p:spPr>
          <a:xfrm>
            <a:off x="2428920" y="4857840"/>
            <a:ext cx="1000080" cy="1440"/>
          </a:xfrm>
          <a:prstGeom prst="line">
            <a:avLst/>
          </a:prstGeom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2286000" y="4787280"/>
            <a:ext cx="121428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360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100103022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00100001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5"/>
          <p:cNvSpPr/>
          <p:nvPr/>
        </p:nvSpPr>
        <p:spPr>
          <a:xfrm>
            <a:off x="785880" y="142920"/>
            <a:ext cx="728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ример платежного поручения, сформированного на основании Заявки на возврат  сумм возврата доходов от уплаты акцизов на печное топли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6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A07A-E3D2-4EDA-A03E-E1B1880DBF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3000240" y="1071720"/>
            <a:ext cx="6143760" cy="2143080"/>
          </a:xfrm>
          <a:prstGeom prst="rect">
            <a:avLst/>
          </a:pr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ашивка 5"/>
          <p:cNvSpPr/>
          <p:nvPr/>
        </p:nvSpPr>
        <p:spPr>
          <a:xfrm>
            <a:off x="3500280" y="1071720"/>
            <a:ext cx="857520" cy="2143080"/>
          </a:xfrm>
          <a:custGeom>
            <a:avLst/>
            <a:gdLst>
              <a:gd name="textAreaLeft" fmla="*/ 0 w 857520"/>
              <a:gd name="textAreaRight" fmla="*/ 857880 w 857520"/>
              <a:gd name="textAreaTop" fmla="*/ 0 h 2143080"/>
              <a:gd name="textAreaBottom" fmla="*/ 214344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ятиугольник 6"/>
          <p:cNvSpPr/>
          <p:nvPr/>
        </p:nvSpPr>
        <p:spPr>
          <a:xfrm>
            <a:off x="3000240" y="1071720"/>
            <a:ext cx="857520" cy="2143080"/>
          </a:xfrm>
          <a:custGeom>
            <a:avLst/>
            <a:gdLst>
              <a:gd name="textAreaLeft" fmla="*/ 0 w 857520"/>
              <a:gd name="textAreaRight" fmla="*/ 857880 w 857520"/>
              <a:gd name="textAreaTop" fmla="*/ 0 h 2143080"/>
              <a:gd name="textAreaBottom" fmla="*/ 214344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7"/>
          <p:cNvSpPr/>
          <p:nvPr/>
        </p:nvSpPr>
        <p:spPr>
          <a:xfrm>
            <a:off x="4357800" y="1214280"/>
            <a:ext cx="478620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инистерство экономического развития Российской Федерации в 3-дневный срок после рассмотрения и одобрения Правительством Российской Федерации прогноза направляет прогноз в Министерство финансов Российской Федерации для представления Министерством финансов Российской Федерации в Правительство Российской Федерации в составе документов и материалов, подлежащих внесению в Государственную Думу Федерального Собрания Российской Федерации одновременно с проектом федерального закона о федеральном бюджете на очередной финансовый год и плановый период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роки разработки прогноза определяются Приказом Министерства экономического развития Российской Федерац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8"/>
          <p:cNvSpPr/>
          <p:nvPr/>
        </p:nvSpPr>
        <p:spPr>
          <a:xfrm>
            <a:off x="3000240" y="3286080"/>
            <a:ext cx="6143760" cy="3286080"/>
          </a:xfrm>
          <a:prstGeom prst="rect">
            <a:avLst/>
          </a:pr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ашивка 9"/>
          <p:cNvSpPr/>
          <p:nvPr/>
        </p:nvSpPr>
        <p:spPr>
          <a:xfrm>
            <a:off x="3429000" y="3286080"/>
            <a:ext cx="866880" cy="3286080"/>
          </a:xfrm>
          <a:custGeom>
            <a:avLst/>
            <a:gdLst>
              <a:gd name="textAreaLeft" fmla="*/ 0 w 866880"/>
              <a:gd name="textAreaRight" fmla="*/ 867240 w 866880"/>
              <a:gd name="textAreaTop" fmla="*/ 0 h 3286080"/>
              <a:gd name="textAreaBottom" fmla="*/ 328644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ятиугольник 10"/>
          <p:cNvSpPr/>
          <p:nvPr/>
        </p:nvSpPr>
        <p:spPr>
          <a:xfrm>
            <a:off x="3000240" y="3286080"/>
            <a:ext cx="795600" cy="3286080"/>
          </a:xfrm>
          <a:custGeom>
            <a:avLst/>
            <a:gdLst>
              <a:gd name="textAreaLeft" fmla="*/ 0 w 795600"/>
              <a:gd name="textAreaRight" fmla="*/ 795960 w 795600"/>
              <a:gd name="textAreaTop" fmla="*/ 0 h 3286080"/>
              <a:gd name="textAreaBottom" fmla="*/ 328644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4214880" y="3362760"/>
            <a:ext cx="48416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жрегиональное операционное управление Федерального казначейства представляет в соответствующие управления Федерального казначейства по субъектам Российской Федерации  Прогноз поступлений доходов от уплаты акцизов на нефтепродукты на год и на плановый период в разрезе кодов бюджетной классификации Российской Федерации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течение пяти рабочих дней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с момента получения от Федерального казначейства необходимой информ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случае уточнения Министерством финансов Российской Федерации прогнозируемых поступлений акцизов на нефтепродукты, подлежащих распределению в консолидированные бюджеты субъектов Российской Федерации на текущий финансовый год и на плановый период, Федеральное казначейство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течение трех рабочих дней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момента получения указанной информации от Министерства финансов Российской Федерации направляет ее в Межрегиональное операционное управление Федерального казначейств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Управление Федерального казначейства представляет в соответствующий финансовый орган субъекта Российской Федерации Прогноз поступлений доходов от уплаты акцизов на нефтепродукты на год и на плановый период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течение пяти рабочих дней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с момента получения необходимой информации от Межрегионального операционного управления Федерального казначейства, при условии установления законом субъекта Российской Федерации нормативов распределения в бюджет субъекта Российской Федерации и в местные бюджет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285840" y="1071720"/>
            <a:ext cx="2286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тановление Правительства РФ от 22.07.2009 N 596 "О порядке разработки прогноза социально-экономического развития Российской Федерации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14200" y="3162240"/>
            <a:ext cx="2571840" cy="34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Казначейства России от 30.12.2013 N 328 "О наделении территориальных органов Федерального казначейства отдельными полномочиями главного администратора (администратора) доходов бюджетов субъектов Российской Федерации и местных бюджетов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2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857160" y="0"/>
            <a:ext cx="714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Этапы формирования и сроки представления в финансовые органы субъектов Российской Федерации и муниципальных образований прогноза поступлений по акцизам на нефтепродук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5B43-5478-41D1-BE5D-55C876BB55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4"/>
          <p:cNvSpPr/>
          <p:nvPr/>
        </p:nvSpPr>
        <p:spPr>
          <a:xfrm rot="5400000">
            <a:off x="5857560" y="5357880"/>
            <a:ext cx="428760" cy="11430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1143000"/>
              <a:gd name="textAreaBottom" fmla="*/ 1122120 h 1143000"/>
            </a:gdLst>
            <a:ahLst/>
            <a:rect l="textAreaLeft" t="textAreaTop" r="textAreaRight" b="textAreaBottom"/>
            <a:pathLst>
              <a:path w="21600" h="57552">
                <a:moveTo>
                  <a:pt x="3600" y="0"/>
                </a:moveTo>
                <a:arcTo wR="3600" hR="3600" stAng="16200000" swAng="-5400000"/>
                <a:lnTo>
                  <a:pt x="0" y="53952"/>
                </a:lnTo>
                <a:arcTo wR="3600" hR="3600" stAng="10800000" swAng="-5400000"/>
                <a:lnTo>
                  <a:pt x="18000" y="57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5715000" y="578628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спределение по норматива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Shape 6" descr=""/>
          <p:cNvPicPr/>
          <p:nvPr/>
        </p:nvPicPr>
        <p:blipFill>
          <a:blip r:embed="rId1"/>
          <a:stretch/>
        </p:blipFill>
        <p:spPr>
          <a:xfrm>
            <a:off x="5778360" y="4595760"/>
            <a:ext cx="2054520" cy="993960"/>
          </a:xfrm>
          <a:prstGeom prst="rect">
            <a:avLst/>
          </a:prstGeom>
          <a:ln w="0">
            <a:noFill/>
          </a:ln>
        </p:spPr>
      </p:pic>
      <p:sp>
        <p:nvSpPr>
          <p:cNvPr id="140" name="Скругленный прямоугольник 7"/>
          <p:cNvSpPr/>
          <p:nvPr/>
        </p:nvSpPr>
        <p:spPr>
          <a:xfrm rot="5400000">
            <a:off x="2821320" y="4179240"/>
            <a:ext cx="428760" cy="121428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1214280"/>
              <a:gd name="textAreaBottom" fmla="*/ 1193400 h 1214280"/>
            </a:gdLst>
            <a:ahLst/>
            <a:rect l="textAreaLeft" t="textAreaTop" r="textAreaRight" b="textAreaBottom"/>
            <a:pathLst>
              <a:path w="21600" h="61140">
                <a:moveTo>
                  <a:pt x="3600" y="0"/>
                </a:moveTo>
                <a:arcTo wR="3600" hR="3600" stAng="16200000" swAng="-5400000"/>
                <a:lnTo>
                  <a:pt x="0" y="57540"/>
                </a:lnTo>
                <a:arcTo wR="3600" hR="3600" stAng="10800000" swAng="-5400000"/>
                <a:lnTo>
                  <a:pt x="18000" y="6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8"/>
          <p:cNvSpPr/>
          <p:nvPr/>
        </p:nvSpPr>
        <p:spPr>
          <a:xfrm rot="5400000">
            <a:off x="6931080" y="896040"/>
            <a:ext cx="709920" cy="1857240"/>
          </a:xfrm>
          <a:custGeom>
            <a:avLst/>
            <a:gdLst>
              <a:gd name="textAreaLeft" fmla="*/ 34560 w 709920"/>
              <a:gd name="textAreaRight" fmla="*/ 675360 w 709920"/>
              <a:gd name="textAreaTop" fmla="*/ 34560 h 1857240"/>
              <a:gd name="textAreaBottom" fmla="*/ 1822680 h 1857240"/>
            </a:gdLst>
            <a:ahLst/>
            <a:rect l="textAreaLeft" t="textAreaTop" r="textAreaRight" b="textAreaBottom"/>
            <a:pathLst>
              <a:path w="21600" h="56491">
                <a:moveTo>
                  <a:pt x="3600" y="0"/>
                </a:moveTo>
                <a:arcTo wR="3600" hR="3600" stAng="16200000" swAng="-5400000"/>
                <a:lnTo>
                  <a:pt x="0" y="52891"/>
                </a:lnTo>
                <a:arcTo wR="3600" hR="3600" stAng="10800000" swAng="-5400000"/>
                <a:lnTo>
                  <a:pt x="18000" y="56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df9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9"/>
          <p:cNvSpPr/>
          <p:nvPr/>
        </p:nvSpPr>
        <p:spPr>
          <a:xfrm rot="5400000">
            <a:off x="4217040" y="1661040"/>
            <a:ext cx="709560" cy="1857600"/>
          </a:xfrm>
          <a:custGeom>
            <a:avLst/>
            <a:gdLst>
              <a:gd name="textAreaLeft" fmla="*/ 34560 w 709560"/>
              <a:gd name="textAreaRight" fmla="*/ 675000 w 709560"/>
              <a:gd name="textAreaTop" fmla="*/ 34560 h 1857600"/>
              <a:gd name="textAreaBottom" fmla="*/ 1823040 h 1857600"/>
            </a:gdLst>
            <a:ahLst/>
            <a:rect l="textAreaLeft" t="textAreaTop" r="textAreaRight" b="textAreaBottom"/>
            <a:pathLst>
              <a:path w="21600" h="56530">
                <a:moveTo>
                  <a:pt x="3600" y="0"/>
                </a:moveTo>
                <a:arcTo wR="3600" hR="3600" stAng="16200000" swAng="-5400000"/>
                <a:lnTo>
                  <a:pt x="0" y="52930"/>
                </a:lnTo>
                <a:arcTo wR="3600" hR="3600" stAng="10800000" swAng="-5400000"/>
                <a:lnTo>
                  <a:pt x="18000" y="565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df97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10"/>
          <p:cNvSpPr/>
          <p:nvPr/>
        </p:nvSpPr>
        <p:spPr>
          <a:xfrm rot="5400000">
            <a:off x="1501920" y="896040"/>
            <a:ext cx="709920" cy="1857240"/>
          </a:xfrm>
          <a:custGeom>
            <a:avLst/>
            <a:gdLst>
              <a:gd name="textAreaLeft" fmla="*/ 34560 w 709920"/>
              <a:gd name="textAreaRight" fmla="*/ 675360 w 709920"/>
              <a:gd name="textAreaTop" fmla="*/ 34560 h 1857240"/>
              <a:gd name="textAreaBottom" fmla="*/ 1822680 h 1857240"/>
            </a:gdLst>
            <a:ahLst/>
            <a:rect l="textAreaLeft" t="textAreaTop" r="textAreaRight" b="textAreaBottom"/>
            <a:pathLst>
              <a:path w="21600" h="56491">
                <a:moveTo>
                  <a:pt x="3600" y="0"/>
                </a:moveTo>
                <a:arcTo wR="3600" hR="3600" stAng="16200000" swAng="-5400000"/>
                <a:lnTo>
                  <a:pt x="0" y="52891"/>
                </a:lnTo>
                <a:arcTo wR="3600" hR="3600" stAng="10800000" swAng="-5400000"/>
                <a:lnTo>
                  <a:pt x="18000" y="56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df97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1"/>
          <p:cNvSpPr/>
          <p:nvPr/>
        </p:nvSpPr>
        <p:spPr>
          <a:xfrm rot="5400000">
            <a:off x="4287960" y="2626200"/>
            <a:ext cx="709920" cy="2000520"/>
          </a:xfrm>
          <a:custGeom>
            <a:avLst/>
            <a:gdLst>
              <a:gd name="textAreaLeft" fmla="*/ 34560 w 709920"/>
              <a:gd name="textAreaRight" fmla="*/ 675360 w 709920"/>
              <a:gd name="textAreaTop" fmla="*/ 34560 h 2000520"/>
              <a:gd name="textAreaBottom" fmla="*/ 1965960 h 2000520"/>
            </a:gdLst>
            <a:ahLst/>
            <a:rect l="textAreaLeft" t="textAreaTop" r="textAreaRight" b="textAreaBottom"/>
            <a:pathLst>
              <a:path w="21600" h="60848">
                <a:moveTo>
                  <a:pt x="3600" y="0"/>
                </a:moveTo>
                <a:arcTo wR="3600" hR="3600" stAng="16200000" swAng="-5400000"/>
                <a:lnTo>
                  <a:pt x="0" y="57248"/>
                </a:lnTo>
                <a:arcTo wR="3600" hR="3600" stAng="10800000" swAng="-5400000"/>
                <a:lnTo>
                  <a:pt x="18000" y="60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3e0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12"/>
          <p:cNvSpPr/>
          <p:nvPr/>
        </p:nvSpPr>
        <p:spPr>
          <a:xfrm rot="5400000">
            <a:off x="4412160" y="4588920"/>
            <a:ext cx="819000" cy="1928520"/>
          </a:xfrm>
          <a:custGeom>
            <a:avLst/>
            <a:gdLst>
              <a:gd name="textAreaLeft" fmla="*/ 39960 w 819000"/>
              <a:gd name="textAreaRight" fmla="*/ 779040 w 819000"/>
              <a:gd name="textAreaTop" fmla="*/ 39960 h 1928520"/>
              <a:gd name="textAreaBottom" fmla="*/ 1888560 h 1928520"/>
            </a:gdLst>
            <a:ahLst/>
            <a:rect l="textAreaLeft" t="textAreaTop" r="textAreaRight" b="textAreaBottom"/>
            <a:pathLst>
              <a:path w="21600" h="50849">
                <a:moveTo>
                  <a:pt x="3600" y="0"/>
                </a:moveTo>
                <a:arcTo wR="3600" hR="3600" stAng="16200000" swAng="-5400000"/>
                <a:lnTo>
                  <a:pt x="0" y="47249"/>
                </a:lnTo>
                <a:arcTo wR="3600" hR="3600" stAng="10800000" swAng="-5400000"/>
                <a:lnTo>
                  <a:pt x="18000" y="50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3e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13"/>
          <p:cNvSpPr/>
          <p:nvPr/>
        </p:nvSpPr>
        <p:spPr>
          <a:xfrm rot="5400000">
            <a:off x="1431000" y="3624840"/>
            <a:ext cx="709560" cy="1857600"/>
          </a:xfrm>
          <a:custGeom>
            <a:avLst/>
            <a:gdLst>
              <a:gd name="textAreaLeft" fmla="*/ 34560 w 709560"/>
              <a:gd name="textAreaRight" fmla="*/ 675000 w 709560"/>
              <a:gd name="textAreaTop" fmla="*/ 34560 h 1857600"/>
              <a:gd name="textAreaBottom" fmla="*/ 1823040 h 1857600"/>
            </a:gdLst>
            <a:ahLst/>
            <a:rect l="textAreaLeft" t="textAreaTop" r="textAreaRight" b="textAreaBottom"/>
            <a:pathLst>
              <a:path w="21600" h="56530">
                <a:moveTo>
                  <a:pt x="3600" y="0"/>
                </a:moveTo>
                <a:arcTo wR="3600" hR="3600" stAng="16200000" swAng="-5400000"/>
                <a:lnTo>
                  <a:pt x="0" y="52930"/>
                </a:lnTo>
                <a:arcTo wR="3600" hR="3600" stAng="10800000" swAng="-5400000"/>
                <a:lnTo>
                  <a:pt x="18000" y="565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3e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Скругленная соединительная линия 14"/>
          <p:cNvCxnSpPr>
            <a:stCxn id="143" idx="1"/>
            <a:endCxn id="141" idx="1"/>
          </p:cNvCxnSpPr>
          <p:nvPr/>
        </p:nvCxnSpPr>
        <p:spPr>
          <a:xfrm flipH="1" flipV="1" rot="5400000">
            <a:off x="4571640" y="-1245240"/>
            <a:ext cx="2520" cy="5431680"/>
          </a:xfrm>
          <a:prstGeom prst="curvedConnector5">
            <a:avLst>
              <a:gd name="adj1" fmla="val 25883333"/>
              <a:gd name="adj2" fmla="val 49996"/>
              <a:gd name="adj3" fmla="val 25883333"/>
            </a:avLst>
          </a:prstGeom>
          <a:ln cap="sq" w="63360">
            <a:solidFill>
              <a:srgbClr val="00b050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148" name="Shape 15"/>
          <p:cNvCxnSpPr>
            <a:stCxn id="143" idx="3"/>
            <a:endCxn id="142" idx="2"/>
          </p:cNvCxnSpPr>
          <p:nvPr/>
        </p:nvCxnSpPr>
        <p:spPr>
          <a:xfrm flipH="1" rot="16200000">
            <a:off x="2544480" y="1491120"/>
            <a:ext cx="410040" cy="1786680"/>
          </a:xfrm>
          <a:prstGeom prst="curvedConnector2">
            <a:avLst/>
          </a:prstGeom>
          <a:ln cap="sq" w="63360">
            <a:solidFill>
              <a:srgbClr val="00b050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149" name="Shape 16"/>
          <p:cNvCxnSpPr>
            <a:stCxn id="142" idx="0"/>
            <a:endCxn id="141" idx="3"/>
          </p:cNvCxnSpPr>
          <p:nvPr/>
        </p:nvCxnSpPr>
        <p:spPr>
          <a:xfrm flipV="1">
            <a:off x="5500440" y="2179080"/>
            <a:ext cx="1786680" cy="410040"/>
          </a:xfrm>
          <a:prstGeom prst="curvedConnector2">
            <a:avLst/>
          </a:prstGeom>
          <a:ln cap="sq" w="63360">
            <a:solidFill>
              <a:srgbClr val="00b050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150" name="Shape 17"/>
          <p:cNvCxnSpPr>
            <a:stCxn id="144" idx="2"/>
            <a:endCxn id="146" idx="1"/>
          </p:cNvCxnSpPr>
          <p:nvPr/>
        </p:nvCxnSpPr>
        <p:spPr>
          <a:xfrm flipV="1" rot="10800000">
            <a:off x="1785240" y="3625560"/>
            <a:ext cx="1857960" cy="573840"/>
          </a:xfrm>
          <a:prstGeom prst="curvedConnector2">
            <a:avLst/>
          </a:prstGeom>
          <a:ln w="63360">
            <a:solidFill>
              <a:srgbClr val="0070c0"/>
            </a:solidFill>
            <a:miter/>
            <a:tailEnd len="med" type="stealth" w="med"/>
          </a:ln>
        </p:spPr>
      </p:cxnSp>
      <p:sp>
        <p:nvSpPr>
          <p:cNvPr id="151" name="TextBox 18"/>
          <p:cNvSpPr/>
          <p:nvPr/>
        </p:nvSpPr>
        <p:spPr>
          <a:xfrm>
            <a:off x="3857760" y="5072040"/>
            <a:ext cx="192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Территориальные органы Федерального казначей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Стрелка вправо 19"/>
          <p:cNvGrpSpPr/>
          <p:nvPr/>
        </p:nvGrpSpPr>
        <p:grpSpPr>
          <a:xfrm>
            <a:off x="4352760" y="2992320"/>
            <a:ext cx="365400" cy="341280"/>
            <a:chOff x="4352760" y="2992320"/>
            <a:chExt cx="365400" cy="341280"/>
          </a:xfrm>
        </p:grpSpPr>
        <p:pic>
          <p:nvPicPr>
            <p:cNvPr id="153" name="Стрелка вправо 19" descr=""/>
            <p:cNvPicPr/>
            <p:nvPr/>
          </p:nvPicPr>
          <p:blipFill>
            <a:blip r:embed="rId2"/>
            <a:stretch/>
          </p:blipFill>
          <p:spPr>
            <a:xfrm>
              <a:off x="4352760" y="2992320"/>
              <a:ext cx="36540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 rot="5400000">
              <a:off x="4413240" y="3033720"/>
              <a:ext cx="24624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20"/>
          <p:cNvSpPr/>
          <p:nvPr/>
        </p:nvSpPr>
        <p:spPr>
          <a:xfrm>
            <a:off x="1000080" y="150012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Arial"/>
              </a:rPr>
              <a:t>Федеральная налоговая служба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1"/>
          <p:cNvSpPr/>
          <p:nvPr/>
        </p:nvSpPr>
        <p:spPr>
          <a:xfrm>
            <a:off x="3571920" y="2214720"/>
            <a:ext cx="192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Arial"/>
              </a:rPr>
              <a:t>Министерство финансо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2"/>
          <p:cNvSpPr/>
          <p:nvPr/>
        </p:nvSpPr>
        <p:spPr>
          <a:xfrm>
            <a:off x="6286680" y="1428840"/>
            <a:ext cx="200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Arial"/>
              </a:rPr>
              <a:t>Министерство экономического развития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3"/>
          <p:cNvSpPr/>
          <p:nvPr/>
        </p:nvSpPr>
        <p:spPr>
          <a:xfrm>
            <a:off x="3643200" y="3357720"/>
            <a:ext cx="20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Федеральное казначейство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4"/>
          <p:cNvSpPr/>
          <p:nvPr/>
        </p:nvSpPr>
        <p:spPr>
          <a:xfrm>
            <a:off x="785880" y="4286160"/>
            <a:ext cx="20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Межрегиональное операционное У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5"/>
          <p:cNvSpPr/>
          <p:nvPr/>
        </p:nvSpPr>
        <p:spPr>
          <a:xfrm>
            <a:off x="6715080" y="3929040"/>
            <a:ext cx="2071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Финансовые органы субъекта Российской Федерации и муниципальных образован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extBox 26" descr=""/>
          <p:cNvPicPr/>
          <p:nvPr/>
        </p:nvPicPr>
        <p:blipFill>
          <a:blip r:embed="rId3"/>
          <a:stretch/>
        </p:blipFill>
        <p:spPr>
          <a:xfrm>
            <a:off x="3408480" y="1122480"/>
            <a:ext cx="2322360" cy="2617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7"/>
          <p:cNvSpPr/>
          <p:nvPr/>
        </p:nvSpPr>
        <p:spPr>
          <a:xfrm>
            <a:off x="5643720" y="2214720"/>
            <a:ext cx="92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8"/>
          <p:cNvSpPr/>
          <p:nvPr/>
        </p:nvSpPr>
        <p:spPr>
          <a:xfrm>
            <a:off x="2643120" y="371484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рогноз общей суммы поступлений по акциза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9"/>
          <p:cNvSpPr/>
          <p:nvPr/>
        </p:nvSpPr>
        <p:spPr>
          <a:xfrm>
            <a:off x="2214720" y="50720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рогноз по КБК в разрезе субъектов Р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30"/>
          <p:cNvSpPr/>
          <p:nvPr/>
        </p:nvSpPr>
        <p:spPr>
          <a:xfrm>
            <a:off x="5715000" y="4857840"/>
            <a:ext cx="1571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рогноз по КБК  для субъекта РФ и местных бюджето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1"/>
          <p:cNvSpPr/>
          <p:nvPr/>
        </p:nvSpPr>
        <p:spPr>
          <a:xfrm rot="5400000">
            <a:off x="7215120" y="3428640"/>
            <a:ext cx="857160" cy="1857600"/>
          </a:xfrm>
          <a:custGeom>
            <a:avLst/>
            <a:gdLst>
              <a:gd name="textAreaLeft" fmla="*/ 41760 w 857160"/>
              <a:gd name="textAreaRight" fmla="*/ 815400 w 857160"/>
              <a:gd name="textAreaTop" fmla="*/ 41760 h 1857600"/>
              <a:gd name="textAreaBottom" fmla="*/ 1815840 h 1857600"/>
            </a:gdLst>
            <a:ahLst/>
            <a:rect l="textAreaLeft" t="textAreaTop" r="textAreaRight" b="textAreaBottom"/>
            <a:pathLst>
              <a:path w="21600" h="46800">
                <a:moveTo>
                  <a:pt x="3600" y="0"/>
                </a:moveTo>
                <a:arcTo wR="3600" hR="3600" stAng="16200000" swAng="-5400000"/>
                <a:lnTo>
                  <a:pt x="0" y="43200"/>
                </a:lnTo>
                <a:arcTo wR="3600" hR="3600" stAng="10800000" swAng="-5400000"/>
                <a:lnTo>
                  <a:pt x="18000" y="46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e9f12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2"/>
          <p:cNvSpPr/>
          <p:nvPr/>
        </p:nvSpPr>
        <p:spPr>
          <a:xfrm>
            <a:off x="2500200" y="2214720"/>
            <a:ext cx="9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3"/>
          <p:cNvSpPr/>
          <p:nvPr/>
        </p:nvSpPr>
        <p:spPr>
          <a:xfrm>
            <a:off x="0" y="5873760"/>
            <a:ext cx="1643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ФНС в качестве заинтересованного федерального органа исполнительной в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5"/>
          <p:cNvSpPr/>
          <p:nvPr/>
        </p:nvSpPr>
        <p:spPr>
          <a:xfrm>
            <a:off x="4572000" y="2928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рогноз общей суммы поступлений по акциза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6"/>
          <p:cNvSpPr/>
          <p:nvPr/>
        </p:nvSpPr>
        <p:spPr>
          <a:xfrm>
            <a:off x="2643120" y="457200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спределение по норматива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Shape 37"/>
          <p:cNvCxnSpPr>
            <a:stCxn id="146" idx="3"/>
          </p:cNvCxnSpPr>
          <p:nvPr/>
        </p:nvCxnSpPr>
        <p:spPr>
          <a:xfrm flipH="1" rot="16200000">
            <a:off x="2382120" y="4311360"/>
            <a:ext cx="878400" cy="2072520"/>
          </a:xfrm>
          <a:prstGeom prst="curvedConnector2">
            <a:avLst/>
          </a:prstGeom>
          <a:ln w="63360">
            <a:solidFill>
              <a:srgbClr val="0070c0"/>
            </a:solidFill>
            <a:miter/>
            <a:tailEnd len="med" type="stealth" w="med"/>
          </a:ln>
        </p:spPr>
      </p:cxnSp>
      <p:sp>
        <p:nvSpPr>
          <p:cNvPr id="172" name="Прямоугольник 50"/>
          <p:cNvSpPr/>
          <p:nvPr/>
        </p:nvSpPr>
        <p:spPr>
          <a:xfrm>
            <a:off x="785880" y="0"/>
            <a:ext cx="764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Порядок составления и представления в финансовые органы субъектов Российской Федерации и муниципальных образований прогноза поступлений по акцизам на нефтепродук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8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Горина Наталия Михайловна</cp:lastModifiedBy>
  <dcterms:modified xsi:type="dcterms:W3CDTF">2014-09-09T14:45:12Z</dcterms:modified>
  <cp:revision>159</cp:revision>
  <dc:subject/>
  <dc:title>Слайд 1</dc:title>
</cp:coreProperties>
</file>