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2.png" ContentType="image/png"/>
  <Override PartName="/ppt/media/image17.gif" ContentType="image/gif"/>
  <Override PartName="/ppt/media/image13.wmf" ContentType="image/x-wmf"/>
  <Override PartName="/ppt/media/image16.png" ContentType="image/png"/>
  <Override PartName="/ppt/media/image15.jpeg" ContentType="image/jpeg"/>
  <Override PartName="/ppt/media/image12.png" ContentType="image/png"/>
  <Override PartName="/ppt/media/image3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2.jpeg" ContentType="image/jpeg"/>
  <Override PartName="/ppt/media/image31.png" ContentType="image/png"/>
  <Override PartName="/ppt/media/image14.wmf" ContentType="image/x-wmf"/>
  <Override PartName="/ppt/media/image29.png" ContentType="image/png"/>
  <Override PartName="/ppt/media/image41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7.jpeg" ContentType="image/jpeg"/>
  <Override PartName="/ppt/media/image3.jpeg" ContentType="image/jpe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BF548-7A1B-4669-8D57-9793BD1976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ом о контрактной системе и принятыми в его исполнение нормативными правовыми актами для Федерального казначейства, наряду с ведением реестра контрактов, определены новые направления функциональной работы и возложены новые полномоч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едение реестра банковских гарантий (с 31.03.2014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едение перечня банков (с 01.01.2014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пределение порядка регистрации заказчиков и иных лиц на ОО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рамках полномочий, установленных 44-ФЗ и 223-ФЗ) (с 01.01.2014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существление контрольных полномочий (с 2016 год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Номер слайда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D08AD-904E-4E5A-9FAB-0F00E2FD25B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29B7-6FEF-4CE7-96CC-B1A76B7E3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30F3-E836-490B-880B-FADA744D4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A17A-822E-4B95-88FB-B2C533043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8EA7-FD9F-44C7-8B3D-0B121D317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CDB3-8C5E-4872-A6E1-016959FB4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AD5A-3F49-45A7-877C-F24B90C3B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8C09-ED41-4BF0-8D4A-45BED68EF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BCC9-36E8-49B1-BDE1-D91FABB11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1866-DC6C-4DF7-9B9E-316ADEE5F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824F-51F1-4016-847C-9D53DFD6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087B-C24B-49EE-ADD2-95E33256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C31A-F97E-47D6-9E96-ABE796EA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6B0A-153C-40A3-B6A6-FBE0DCB8D21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65871-2D24-4189-8CB9-69EFFDDDC8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6.png"/><Relationship Id="rId10" Type="http://schemas.openxmlformats.org/officeDocument/2006/relationships/image" Target="../media/image37.jpe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4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gif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1.jpeg"/><Relationship Id="rId7" Type="http://schemas.openxmlformats.org/officeDocument/2006/relationships/image" Target="../media/image29.png"/><Relationship Id="rId8" Type="http://schemas.openxmlformats.org/officeDocument/2006/relationships/image" Target="../media/image27.png"/><Relationship Id="rId9" Type="http://schemas.openxmlformats.org/officeDocument/2006/relationships/image" Target="../media/image30.png"/><Relationship Id="rId10" Type="http://schemas.openxmlformats.org/officeDocument/2006/relationships/image" Target="../media/image27.png"/><Relationship Id="rId11" Type="http://schemas.openxmlformats.org/officeDocument/2006/relationships/image" Target="../media/image31.png"/><Relationship Id="rId12" Type="http://schemas.openxmlformats.org/officeDocument/2006/relationships/image" Target="../media/image27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68360" y="2276640"/>
            <a:ext cx="8229600" cy="190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ЫЕ НАПРАВЛЕНИЯ 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ВЕРШЕНСТВОВАНИЯ ФУНКЦИОНАЛЬНОЙ ДЕЯТЕЛЬНОСТИ КАЗНАЧЕЙСТВА РОСС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53360" cy="971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4500720" y="5300640"/>
            <a:ext cx="43923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ьник Управления совершенствования функциональной деятельности Федерального казначе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С. Вас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63"/>
          <p:cNvSpPr/>
          <p:nvPr/>
        </p:nvSpPr>
        <p:spPr>
          <a:xfrm>
            <a:off x="1547640" y="260280"/>
            <a:ext cx="59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ФЕДЕРАЛЬНОЕ  КАЗНАЧЕЙ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961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558ed5"/>
            </a:outerShdw>
          </a:effectLst>
        </p:spPr>
      </p:pic>
      <p:sp>
        <p:nvSpPr>
          <p:cNvPr id="184" name="Text Box 6"/>
          <p:cNvSpPr/>
          <p:nvPr/>
        </p:nvSpPr>
        <p:spPr>
          <a:xfrm>
            <a:off x="3987720" y="3062160"/>
            <a:ext cx="165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2060"/>
                </a:solidFill>
                <a:latin typeface="Times New Roman"/>
              </a:rPr>
              <a:t>Единый докумен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6059520" y="306216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2060"/>
                </a:solidFill>
                <a:latin typeface="Times New Roman"/>
              </a:rPr>
              <a:t>Единый докумен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611280" y="5445000"/>
            <a:ext cx="86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Скругленный прямоугольник 78"/>
          <p:cNvSpPr/>
          <p:nvPr/>
        </p:nvSpPr>
        <p:spPr>
          <a:xfrm>
            <a:off x="285840" y="1928880"/>
            <a:ext cx="1785960" cy="114300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Информация и документы о выданной банковской гарант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Скругленный прямоугольник 78"/>
          <p:cNvSpPr/>
          <p:nvPr/>
        </p:nvSpPr>
        <p:spPr>
          <a:xfrm>
            <a:off x="3059280" y="1919160"/>
            <a:ext cx="1785600" cy="114300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Информация и документы о заключенном контракте (в т.ч. об обеспечении контракт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Скругленный прямоугольник 78"/>
          <p:cNvSpPr/>
          <p:nvPr/>
        </p:nvSpPr>
        <p:spPr>
          <a:xfrm>
            <a:off x="4987800" y="1919160"/>
            <a:ext cx="1785960" cy="114480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Сведения о бюджетном обяз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Скругленный прямоугольник 78"/>
          <p:cNvSpPr/>
          <p:nvPr/>
        </p:nvSpPr>
        <p:spPr>
          <a:xfrm>
            <a:off x="6916680" y="1919160"/>
            <a:ext cx="1785960" cy="114480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Информация и документы о заключенном соглаш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Стрелка вправо 46"/>
          <p:cNvGrpSpPr/>
          <p:nvPr/>
        </p:nvGrpSpPr>
        <p:grpSpPr>
          <a:xfrm>
            <a:off x="1030320" y="3193920"/>
            <a:ext cx="371520" cy="341280"/>
            <a:chOff x="1030320" y="3193920"/>
            <a:chExt cx="371520" cy="341280"/>
          </a:xfrm>
        </p:grpSpPr>
        <p:pic>
          <p:nvPicPr>
            <p:cNvPr id="192" name="Стрелка вправо 46" descr=""/>
            <p:cNvPicPr/>
            <p:nvPr/>
          </p:nvPicPr>
          <p:blipFill>
            <a:blip r:embed="rId2"/>
            <a:stretch/>
          </p:blipFill>
          <p:spPr>
            <a:xfrm>
              <a:off x="1030320" y="3193920"/>
              <a:ext cx="37152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 rot="5400000">
              <a:off x="1103400" y="3252960"/>
              <a:ext cx="21744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Стрелка вправо 47"/>
          <p:cNvGrpSpPr/>
          <p:nvPr/>
        </p:nvGrpSpPr>
        <p:grpSpPr>
          <a:xfrm>
            <a:off x="4730760" y="3260880"/>
            <a:ext cx="371520" cy="336240"/>
            <a:chOff x="4730760" y="3260880"/>
            <a:chExt cx="371520" cy="336240"/>
          </a:xfrm>
        </p:grpSpPr>
        <p:pic>
          <p:nvPicPr>
            <p:cNvPr id="195" name="Стрелка вправо 47" descr=""/>
            <p:cNvPicPr/>
            <p:nvPr/>
          </p:nvPicPr>
          <p:blipFill>
            <a:blip r:embed="rId3"/>
            <a:stretch/>
          </p:blipFill>
          <p:spPr>
            <a:xfrm>
              <a:off x="4730760" y="3260880"/>
              <a:ext cx="371520" cy="33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 rot="5400000">
              <a:off x="4805640" y="3315240"/>
              <a:ext cx="217440" cy="14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Стрелка вправо 48"/>
          <p:cNvGrpSpPr/>
          <p:nvPr/>
        </p:nvGrpSpPr>
        <p:grpSpPr>
          <a:xfrm>
            <a:off x="6729480" y="3260880"/>
            <a:ext cx="372960" cy="336240"/>
            <a:chOff x="6729480" y="3260880"/>
            <a:chExt cx="372960" cy="336240"/>
          </a:xfrm>
        </p:grpSpPr>
        <p:pic>
          <p:nvPicPr>
            <p:cNvPr id="198" name="Стрелка вправо 48" descr=""/>
            <p:cNvPicPr/>
            <p:nvPr/>
          </p:nvPicPr>
          <p:blipFill>
            <a:blip r:embed="rId4"/>
            <a:stretch/>
          </p:blipFill>
          <p:spPr>
            <a:xfrm>
              <a:off x="6729480" y="3260880"/>
              <a:ext cx="372960" cy="33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 rot="5400000">
              <a:off x="6806520" y="3315600"/>
              <a:ext cx="21744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Стрелка вправо 50"/>
          <p:cNvGrpSpPr/>
          <p:nvPr/>
        </p:nvGrpSpPr>
        <p:grpSpPr>
          <a:xfrm>
            <a:off x="1030320" y="3981600"/>
            <a:ext cx="371520" cy="334800"/>
            <a:chOff x="1030320" y="3981600"/>
            <a:chExt cx="371520" cy="334800"/>
          </a:xfrm>
        </p:grpSpPr>
        <p:pic>
          <p:nvPicPr>
            <p:cNvPr id="201" name="Стрелка вправо 50" descr=""/>
            <p:cNvPicPr/>
            <p:nvPr/>
          </p:nvPicPr>
          <p:blipFill>
            <a:blip r:embed="rId5"/>
            <a:stretch/>
          </p:blipFill>
          <p:spPr>
            <a:xfrm>
              <a:off x="1030320" y="3981600"/>
              <a:ext cx="371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 rot="5400000">
              <a:off x="1103400" y="4038840"/>
              <a:ext cx="21744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Прямоугольник 69"/>
          <p:cNvGrpSpPr/>
          <p:nvPr/>
        </p:nvGrpSpPr>
        <p:grpSpPr>
          <a:xfrm>
            <a:off x="274680" y="4773600"/>
            <a:ext cx="1504800" cy="682560"/>
            <a:chOff x="274680" y="4773600"/>
            <a:chExt cx="1504800" cy="682560"/>
          </a:xfrm>
        </p:grpSpPr>
        <p:pic>
          <p:nvPicPr>
            <p:cNvPr id="204" name="Прямоугольник 69" descr=""/>
            <p:cNvPicPr/>
            <p:nvPr/>
          </p:nvPicPr>
          <p:blipFill>
            <a:blip r:embed="rId6"/>
            <a:stretch/>
          </p:blipFill>
          <p:spPr>
            <a:xfrm>
              <a:off x="274680" y="4773600"/>
              <a:ext cx="150480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285840" y="4786200"/>
              <a:ext cx="1484280" cy="65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Реестр банковских гаранти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Двойная стрелка влево/вправо 1"/>
          <p:cNvSpPr/>
          <p:nvPr/>
        </p:nvSpPr>
        <p:spPr>
          <a:xfrm>
            <a:off x="1857240" y="5000760"/>
            <a:ext cx="792360" cy="244440"/>
          </a:xfrm>
          <a:prstGeom prst="leftRightArrow">
            <a:avLst>
              <a:gd name="adj1" fmla="val 50000"/>
              <a:gd name="adj2" fmla="val 5001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Прямоугольник 34"/>
          <p:cNvGrpSpPr/>
          <p:nvPr/>
        </p:nvGrpSpPr>
        <p:grpSpPr>
          <a:xfrm>
            <a:off x="2687760" y="4773600"/>
            <a:ext cx="1506240" cy="682560"/>
            <a:chOff x="2687760" y="4773600"/>
            <a:chExt cx="1506240" cy="682560"/>
          </a:xfrm>
        </p:grpSpPr>
        <p:pic>
          <p:nvPicPr>
            <p:cNvPr id="208" name="Прямоугольник 34" descr=""/>
            <p:cNvPicPr/>
            <p:nvPr/>
          </p:nvPicPr>
          <p:blipFill>
            <a:blip r:embed="rId7"/>
            <a:stretch/>
          </p:blipFill>
          <p:spPr>
            <a:xfrm>
              <a:off x="2687760" y="4773600"/>
              <a:ext cx="150624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2698920" y="4786200"/>
              <a:ext cx="1484280" cy="65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Реестр государственных контракт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Прямоугольник 36"/>
          <p:cNvGrpSpPr/>
          <p:nvPr/>
        </p:nvGrpSpPr>
        <p:grpSpPr>
          <a:xfrm>
            <a:off x="5145120" y="4773600"/>
            <a:ext cx="1504800" cy="682560"/>
            <a:chOff x="5145120" y="4773600"/>
            <a:chExt cx="1504800" cy="682560"/>
          </a:xfrm>
        </p:grpSpPr>
        <p:pic>
          <p:nvPicPr>
            <p:cNvPr id="211" name="Прямоугольник 36" descr=""/>
            <p:cNvPicPr/>
            <p:nvPr/>
          </p:nvPicPr>
          <p:blipFill>
            <a:blip r:embed="rId8"/>
            <a:stretch/>
          </p:blipFill>
          <p:spPr>
            <a:xfrm>
              <a:off x="5145120" y="4773600"/>
              <a:ext cx="150480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5156280" y="4786200"/>
              <a:ext cx="1484280" cy="65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Учет Б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Прямоугольник 37"/>
          <p:cNvGrpSpPr/>
          <p:nvPr/>
        </p:nvGrpSpPr>
        <p:grpSpPr>
          <a:xfrm>
            <a:off x="7491240" y="4754520"/>
            <a:ext cx="1513080" cy="682560"/>
            <a:chOff x="7491240" y="4754520"/>
            <a:chExt cx="1513080" cy="682560"/>
          </a:xfrm>
        </p:grpSpPr>
        <p:pic>
          <p:nvPicPr>
            <p:cNvPr id="214" name="Прямоугольник 37" descr=""/>
            <p:cNvPicPr/>
            <p:nvPr/>
          </p:nvPicPr>
          <p:blipFill>
            <a:blip r:embed="rId9"/>
            <a:stretch/>
          </p:blipFill>
          <p:spPr>
            <a:xfrm>
              <a:off x="7491240" y="4754520"/>
              <a:ext cx="151308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7505640" y="4768920"/>
              <a:ext cx="148608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Реестр соглашени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Двойная стрелка влево/вправо 38"/>
          <p:cNvSpPr/>
          <p:nvPr/>
        </p:nvSpPr>
        <p:spPr>
          <a:xfrm>
            <a:off x="4292640" y="4981680"/>
            <a:ext cx="792000" cy="244440"/>
          </a:xfrm>
          <a:prstGeom prst="leftRightArrow">
            <a:avLst>
              <a:gd name="adj1" fmla="val 50000"/>
              <a:gd name="adj2" fmla="val 4999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Двойная стрелка влево/вправо 39"/>
          <p:cNvSpPr/>
          <p:nvPr/>
        </p:nvSpPr>
        <p:spPr>
          <a:xfrm>
            <a:off x="6643800" y="5000760"/>
            <a:ext cx="792000" cy="244440"/>
          </a:xfrm>
          <a:prstGeom prst="leftRightArrow">
            <a:avLst>
              <a:gd name="adj1" fmla="val 50000"/>
              <a:gd name="adj2" fmla="val 4999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Прямая со стрелкой 33"/>
          <p:cNvCxnSpPr/>
          <p:nvPr/>
        </p:nvCxnSpPr>
        <p:spPr>
          <a:xfrm>
            <a:off x="4997520" y="4100040"/>
            <a:ext cx="792720" cy="500760"/>
          </a:xfrm>
          <a:prstGeom prst="straightConnector1">
            <a:avLst/>
          </a:prstGeom>
          <a:ln w="22320">
            <a:solidFill>
              <a:srgbClr val="604a7b"/>
            </a:solidFill>
            <a:prstDash val="sysDash"/>
            <a:miter/>
            <a:tailEnd len="med" type="arrow" w="med"/>
          </a:ln>
        </p:spPr>
      </p:cxnSp>
      <p:cxnSp>
        <p:nvCxnSpPr>
          <p:cNvPr id="219" name="Прямая со стрелкой 35"/>
          <p:cNvCxnSpPr/>
          <p:nvPr/>
        </p:nvCxnSpPr>
        <p:spPr>
          <a:xfrm flipH="1">
            <a:off x="4055760" y="4100040"/>
            <a:ext cx="792720" cy="500760"/>
          </a:xfrm>
          <a:prstGeom prst="straightConnector1">
            <a:avLst/>
          </a:prstGeom>
          <a:ln w="22320">
            <a:solidFill>
              <a:srgbClr val="604a7b"/>
            </a:solidFill>
            <a:prstDash val="sysDash"/>
            <a:miter/>
            <a:tailEnd len="med" type="arrow" w="med"/>
          </a:ln>
        </p:spPr>
      </p:cxnSp>
      <p:cxnSp>
        <p:nvCxnSpPr>
          <p:cNvPr id="220" name="Прямая со стрелкой 40"/>
          <p:cNvCxnSpPr/>
          <p:nvPr/>
        </p:nvCxnSpPr>
        <p:spPr>
          <a:xfrm>
            <a:off x="7000920" y="4071600"/>
            <a:ext cx="792720" cy="500760"/>
          </a:xfrm>
          <a:prstGeom prst="straightConnector1">
            <a:avLst/>
          </a:prstGeom>
          <a:ln w="22320">
            <a:solidFill>
              <a:srgbClr val="604a7b"/>
            </a:solidFill>
            <a:prstDash val="sysDash"/>
            <a:miter/>
            <a:tailEnd len="med" type="arrow" w="med"/>
          </a:ln>
        </p:spPr>
      </p:cxnSp>
      <p:cxnSp>
        <p:nvCxnSpPr>
          <p:cNvPr id="221" name="Прямая со стрелкой 41"/>
          <p:cNvCxnSpPr/>
          <p:nvPr/>
        </p:nvCxnSpPr>
        <p:spPr>
          <a:xfrm flipH="1">
            <a:off x="6059160" y="4071600"/>
            <a:ext cx="792720" cy="500760"/>
          </a:xfrm>
          <a:prstGeom prst="straightConnector1">
            <a:avLst/>
          </a:prstGeom>
          <a:ln w="22320">
            <a:solidFill>
              <a:srgbClr val="604a7b"/>
            </a:solidFill>
            <a:prstDash val="sysDash"/>
            <a:miter/>
            <a:tailEnd len="med" type="arrow" w="med"/>
          </a:ln>
        </p:spPr>
      </p:cxnSp>
      <p:sp>
        <p:nvSpPr>
          <p:cNvPr id="222" name="Скругленный прямоугольник 4"/>
          <p:cNvSpPr/>
          <p:nvPr/>
        </p:nvSpPr>
        <p:spPr>
          <a:xfrm>
            <a:off x="139680" y="4419720"/>
            <a:ext cx="8929800" cy="1430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218"/>
          <p:cNvSpPr/>
          <p:nvPr/>
        </p:nvSpPr>
        <p:spPr>
          <a:xfrm>
            <a:off x="71280" y="3645000"/>
            <a:ext cx="8929800" cy="385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69739"/>
              </a:gs>
              <a:gs pos="100000">
                <a:srgbClr val="96ab94"/>
              </a:gs>
            </a:gsLst>
            <a:lin ang="13500000"/>
          </a:gradFill>
          <a:ln w="9360">
            <a:solidFill>
              <a:srgbClr val="7d60a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Федеральное казначей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Дуга 7"/>
          <p:cNvSpPr/>
          <p:nvPr/>
        </p:nvSpPr>
        <p:spPr>
          <a:xfrm>
            <a:off x="2771640" y="1736640"/>
            <a:ext cx="5977080" cy="647640"/>
          </a:xfrm>
          <a:custGeom>
            <a:avLst/>
            <a:gdLst>
              <a:gd name="textAreaLeft" fmla="*/ 34920 w 5977080"/>
              <a:gd name="textAreaRight" fmla="*/ 5977440 w 5977080"/>
              <a:gd name="textAreaTop" fmla="*/ 0 h 647640"/>
              <a:gd name="textAreaBottom" fmla="*/ 324000 h 647640"/>
            </a:gdLst>
            <a:ahLst/>
            <a:rect l="textAreaLeft" t="textAreaTop" r="textAreaRight" b="textAreaBottom"/>
            <a:pathLst>
              <a:path stroke="0" w="5976938" h="647700">
                <a:moveTo>
                  <a:pt x="35239" y="274264"/>
                </a:moveTo>
                <a:lnTo>
                  <a:pt x="35238" y="274264"/>
                </a:lnTo>
                <a:arcTo wR="2988469" hR="323850" stAng="-10742284" swAng="10742292"/>
                <a:lnTo>
                  <a:pt x="2988469" y="323850"/>
                </a:lnTo>
                <a:close/>
              </a:path>
              <a:path fill="none" w="5976938" h="647700">
                <a:moveTo>
                  <a:pt x="35239" y="274264"/>
                </a:moveTo>
                <a:lnTo>
                  <a:pt x="35238" y="274264"/>
                </a:lnTo>
                <a:arcTo wR="2988469" hR="323850" stAng="-10742284" swAng="10742292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218"/>
          <p:cNvSpPr/>
          <p:nvPr/>
        </p:nvSpPr>
        <p:spPr>
          <a:xfrm>
            <a:off x="285840" y="1143000"/>
            <a:ext cx="1785960" cy="50472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9360">
            <a:solidFill>
              <a:srgbClr val="7d60a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Бан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218"/>
          <p:cNvSpPr/>
          <p:nvPr/>
        </p:nvSpPr>
        <p:spPr>
          <a:xfrm>
            <a:off x="4906800" y="1158840"/>
            <a:ext cx="1785960" cy="50472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9360">
            <a:solidFill>
              <a:srgbClr val="7d60a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Заказч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37" descr="E:\Человечки\predlogenie_dlya_aktivistov_otvetstvennih_initsiativnih_lyudey__1.jpg"/>
          <p:cNvPicPr/>
          <p:nvPr/>
        </p:nvPicPr>
        <p:blipFill>
          <a:blip r:embed="rId10"/>
          <a:stretch/>
        </p:blipFill>
        <p:spPr>
          <a:xfrm>
            <a:off x="6702480" y="5445000"/>
            <a:ext cx="1824120" cy="11131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5" descr="C:\Documents and Settings\AUrustenov\Рабочий стол\СЛАЙДЫ МСФООС\Для слайдов\globe-europe.jpg"/>
          <p:cNvPicPr/>
          <p:nvPr/>
        </p:nvPicPr>
        <p:blipFill>
          <a:blip r:embed="rId11"/>
          <a:stretch/>
        </p:blipFill>
        <p:spPr>
          <a:xfrm>
            <a:off x="6480000" y="847800"/>
            <a:ext cx="871560" cy="8650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1" descr="C:\Documents and Settings\AUrustenov\Рабочий стол\СЛАЙДЫ МСФООС\Для слайдов\0.png"/>
          <p:cNvPicPr/>
          <p:nvPr/>
        </p:nvPicPr>
        <p:blipFill>
          <a:blip r:embed="rId12"/>
          <a:stretch/>
        </p:blipFill>
        <p:spPr>
          <a:xfrm>
            <a:off x="6381720" y="5711760"/>
            <a:ext cx="836640" cy="83520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30" descr="gg.png"/>
          <p:cNvPicPr/>
          <p:nvPr/>
        </p:nvPicPr>
        <p:blipFill>
          <a:blip r:embed="rId13"/>
          <a:stretch/>
        </p:blipFill>
        <p:spPr>
          <a:xfrm>
            <a:off x="2567160" y="3706920"/>
            <a:ext cx="298440" cy="315720"/>
          </a:xfrm>
          <a:prstGeom prst="rect">
            <a:avLst/>
          </a:prstGeom>
          <a:ln w="0">
            <a:noFill/>
          </a:ln>
        </p:spPr>
      </p:pic>
      <p:sp>
        <p:nvSpPr>
          <p:cNvPr id="231" name="TextBox 51"/>
          <p:cNvSpPr/>
          <p:nvPr/>
        </p:nvSpPr>
        <p:spPr>
          <a:xfrm>
            <a:off x="826920" y="115920"/>
            <a:ext cx="7747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ХРОНИЗАЦИЯ ПРОЦЕССОВ ВЕДЕНИЯ РЕЕСТРА КОНТРАКТОВ, РЕЕСТРА БАНКОВСКИХ ГАРАНТИЙ, РЕЕСТРА СОГЛАШЕНИЙ, УЧЕТА БЮДЖЕТНЫХ ОБЯЗАТЕЛЬСТВ (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1" descr="C:\Documents and Settings\2741\Рабочий стол\Слайды Артюхину\Шапка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023840"/>
          </a:xfrm>
          <a:prstGeom prst="rect">
            <a:avLst/>
          </a:prstGeom>
          <a:ln w="0">
            <a:noFill/>
          </a:ln>
        </p:spPr>
      </p:pic>
      <p:sp>
        <p:nvSpPr>
          <p:cNvPr id="233" name="TextBox 1"/>
          <p:cNvSpPr/>
          <p:nvPr/>
        </p:nvSpPr>
        <p:spPr>
          <a:xfrm>
            <a:off x="1835280" y="292428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Номер слайда 8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E0D29-04E6-421D-9825-DD44FBBC52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2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53360" cy="971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5"/>
          <p:cNvSpPr/>
          <p:nvPr/>
        </p:nvSpPr>
        <p:spPr>
          <a:xfrm>
            <a:off x="971640" y="189000"/>
            <a:ext cx="66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МЕРОПРИЯТИЯ СТРАТЕГИЧЕСКОЙ КАРТЫ КАЗНАЧЕЙСТВА РОССИИ НА 2014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Номер слайда 6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00DC2-05B1-4F5A-9E8C-3C13C36BE85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Скругленный прямоугольник 7"/>
          <p:cNvGrpSpPr/>
          <p:nvPr/>
        </p:nvGrpSpPr>
        <p:grpSpPr>
          <a:xfrm>
            <a:off x="237960" y="1042920"/>
            <a:ext cx="8740800" cy="596880"/>
            <a:chOff x="237960" y="1042920"/>
            <a:chExt cx="8740800" cy="596880"/>
          </a:xfrm>
        </p:grpSpPr>
        <p:pic>
          <p:nvPicPr>
            <p:cNvPr id="58" name="Скругленный 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37960" y="1042920"/>
              <a:ext cx="874080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279360" y="1081080"/>
              <a:ext cx="8656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ероприятие 1.1.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беспечение с 1 января 2015 года операций по счету 40116 с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спользованием пластиковых карт в интересах публично-правовых образован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Скругленный прямоугольник 8"/>
          <p:cNvGrpSpPr/>
          <p:nvPr/>
        </p:nvGrpSpPr>
        <p:grpSpPr>
          <a:xfrm>
            <a:off x="237960" y="1689120"/>
            <a:ext cx="8740800" cy="669960"/>
            <a:chOff x="237960" y="1689120"/>
            <a:chExt cx="8740800" cy="669960"/>
          </a:xfrm>
        </p:grpSpPr>
        <p:pic>
          <p:nvPicPr>
            <p:cNvPr id="61" name="Скругленный прямоугольник 8" descr=""/>
            <p:cNvPicPr/>
            <p:nvPr/>
          </p:nvPicPr>
          <p:blipFill>
            <a:blip r:embed="rId4"/>
            <a:stretch/>
          </p:blipFill>
          <p:spPr>
            <a:xfrm>
              <a:off x="237960" y="1689120"/>
              <a:ext cx="874080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282600" y="1731960"/>
              <a:ext cx="865044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ероприятие 1.3.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вышение качества кассового обслуживания исполнения бюджетов субъектов Российской Федерации и муниципальных образований и осуществление учета операций со средствами неучастников бюджетного процесс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Скругленный прямоугольник 11"/>
          <p:cNvGrpSpPr/>
          <p:nvPr/>
        </p:nvGrpSpPr>
        <p:grpSpPr>
          <a:xfrm>
            <a:off x="237960" y="2408400"/>
            <a:ext cx="8740800" cy="457200"/>
            <a:chOff x="237960" y="2408400"/>
            <a:chExt cx="8740800" cy="457200"/>
          </a:xfrm>
        </p:grpSpPr>
        <p:pic>
          <p:nvPicPr>
            <p:cNvPr id="64" name="Скругленный прямоугольник 11" descr=""/>
            <p:cNvPicPr/>
            <p:nvPr/>
          </p:nvPicPr>
          <p:blipFill>
            <a:blip r:embed="rId5"/>
            <a:stretch/>
          </p:blipFill>
          <p:spPr>
            <a:xfrm>
              <a:off x="237960" y="2408400"/>
              <a:ext cx="87408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272880" y="2441520"/>
              <a:ext cx="867096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ероприятие 1.5.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вышение качества кассового обслуживания исполнения бюджетов государственных внебюджетных фонд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Скругленный прямоугольник 13"/>
          <p:cNvGrpSpPr/>
          <p:nvPr/>
        </p:nvGrpSpPr>
        <p:grpSpPr>
          <a:xfrm>
            <a:off x="237960" y="2914560"/>
            <a:ext cx="8740800" cy="889200"/>
            <a:chOff x="237960" y="2914560"/>
            <a:chExt cx="8740800" cy="889200"/>
          </a:xfrm>
        </p:grpSpPr>
        <p:pic>
          <p:nvPicPr>
            <p:cNvPr id="67" name="Скругленный прямоугольник 13" descr=""/>
            <p:cNvPicPr/>
            <p:nvPr/>
          </p:nvPicPr>
          <p:blipFill>
            <a:blip r:embed="rId6"/>
            <a:stretch/>
          </p:blipFill>
          <p:spPr>
            <a:xfrm>
              <a:off x="237960" y="2914560"/>
              <a:ext cx="8740800" cy="8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293760" y="2967120"/>
              <a:ext cx="862812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ероприятие 1.8.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зработка механизма доведения в электронном виде главными распорядителями средств федерального бюджета до высших органов исполнительной власти субъектов Российской Федерации соглашения о предоставлении субсидий, субвенций, иных межбюджетных трансфертов, имеющих целевое назначен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Скругленный прямоугольник 14"/>
          <p:cNvGrpSpPr/>
          <p:nvPr/>
        </p:nvGrpSpPr>
        <p:grpSpPr>
          <a:xfrm>
            <a:off x="237960" y="3846600"/>
            <a:ext cx="8740800" cy="744480"/>
            <a:chOff x="237960" y="3846600"/>
            <a:chExt cx="8740800" cy="744480"/>
          </a:xfrm>
        </p:grpSpPr>
        <p:pic>
          <p:nvPicPr>
            <p:cNvPr id="70" name="Скругленный прямоугольник 14" descr=""/>
            <p:cNvPicPr/>
            <p:nvPr/>
          </p:nvPicPr>
          <p:blipFill>
            <a:blip r:embed="rId7"/>
            <a:stretch/>
          </p:blipFill>
          <p:spPr>
            <a:xfrm>
              <a:off x="237960" y="3846600"/>
              <a:ext cx="8740800" cy="7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287280" y="3895560"/>
              <a:ext cx="864252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ероприятие 1.9.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зработка механизма доведения в электронном виде главными распорядителями средств федерального бюджета до федеральных учреждений соглашения о предоставлении субсидии на финансовое обеспечение выполнения ими государственного задания и самого государственного зада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Скругленный прямоугольник 15"/>
          <p:cNvGrpSpPr/>
          <p:nvPr/>
        </p:nvGrpSpPr>
        <p:grpSpPr>
          <a:xfrm>
            <a:off x="237960" y="4638600"/>
            <a:ext cx="8740800" cy="603360"/>
            <a:chOff x="237960" y="4638600"/>
            <a:chExt cx="8740800" cy="603360"/>
          </a:xfrm>
        </p:grpSpPr>
        <p:pic>
          <p:nvPicPr>
            <p:cNvPr id="73" name="Скругленный прямоугольник 15" descr=""/>
            <p:cNvPicPr/>
            <p:nvPr/>
          </p:nvPicPr>
          <p:blipFill>
            <a:blip r:embed="rId8"/>
            <a:stretch/>
          </p:blipFill>
          <p:spPr>
            <a:xfrm>
              <a:off x="237960" y="4638600"/>
              <a:ext cx="874080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279360" y="4681440"/>
              <a:ext cx="8656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ероприятие 1.11.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овершенствование контроля, осуществляемого органами Федерального казначейства за исполнением отдельных государственных контракт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Скругленный прямоугольник 16"/>
          <p:cNvGrpSpPr/>
          <p:nvPr/>
        </p:nvGrpSpPr>
        <p:grpSpPr>
          <a:xfrm>
            <a:off x="274680" y="5291280"/>
            <a:ext cx="8704080" cy="523800"/>
            <a:chOff x="274680" y="5291280"/>
            <a:chExt cx="8704080" cy="523800"/>
          </a:xfrm>
        </p:grpSpPr>
        <p:pic>
          <p:nvPicPr>
            <p:cNvPr id="76" name="Скругленный прямоугольник 16" descr=""/>
            <p:cNvPicPr/>
            <p:nvPr/>
          </p:nvPicPr>
          <p:blipFill>
            <a:blip r:embed="rId9"/>
            <a:stretch/>
          </p:blipFill>
          <p:spPr>
            <a:xfrm>
              <a:off x="274680" y="5291280"/>
              <a:ext cx="870408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311040" y="5326200"/>
              <a:ext cx="86281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ероприятие 6.3.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огласование новой редакции Бюджетного кодекса Российской Федерации и подготовка предложений по внесению изменений в законодательные акты Российской Федерац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Скругленный прямоугольник 17"/>
          <p:cNvGrpSpPr/>
          <p:nvPr/>
        </p:nvGrpSpPr>
        <p:grpSpPr>
          <a:xfrm>
            <a:off x="237960" y="5864400"/>
            <a:ext cx="8740800" cy="529920"/>
            <a:chOff x="237960" y="5864400"/>
            <a:chExt cx="8740800" cy="529920"/>
          </a:xfrm>
        </p:grpSpPr>
        <p:pic>
          <p:nvPicPr>
            <p:cNvPr id="79" name="Скругленный прямоугольник 17" descr=""/>
            <p:cNvPicPr/>
            <p:nvPr/>
          </p:nvPicPr>
          <p:blipFill>
            <a:blip r:embed="rId10"/>
            <a:stretch/>
          </p:blipFill>
          <p:spPr>
            <a:xfrm>
              <a:off x="237960" y="5864400"/>
              <a:ext cx="874080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276120" y="5902200"/>
              <a:ext cx="8663040" cy="45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ероприятие 8.2.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зработка и внедрение механизма синхронизации процессов ведения реестра контрактов, реестра банковских гарантий, реестра соглашений, учета бюджетных обязательст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53360" cy="83664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82" name="Прямая соединительная линия 13"/>
          <p:cNvSpPr/>
          <p:nvPr/>
        </p:nvSpPr>
        <p:spPr>
          <a:xfrm>
            <a:off x="5724360" y="1484280"/>
            <a:ext cx="0" cy="4465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84" name="Скругленный прямоугольник 7"/>
          <p:cNvSpPr/>
          <p:nvPr/>
        </p:nvSpPr>
        <p:spPr>
          <a:xfrm>
            <a:off x="5940360" y="1484280"/>
            <a:ext cx="2879640" cy="4465800"/>
          </a:xfrm>
          <a:custGeom>
            <a:avLst/>
            <a:gdLst>
              <a:gd name="textAreaLeft" fmla="*/ 140400 w 2879640"/>
              <a:gd name="textAreaRight" fmla="*/ 2739240 w 2879640"/>
              <a:gd name="textAreaTop" fmla="*/ 140400 h 4465800"/>
              <a:gd name="textAreaBottom" fmla="*/ 4325400 h 4465800"/>
            </a:gdLst>
            <a:ahLst/>
            <a:rect l="textAreaLeft" t="textAreaTop" r="textAreaRight" b="textAreaBottom"/>
            <a:pathLst>
              <a:path w="21600" h="33496">
                <a:moveTo>
                  <a:pt x="3600" y="0"/>
                </a:moveTo>
                <a:arcTo wR="3600" hR="3600" stAng="16200000" swAng="-5400000"/>
                <a:lnTo>
                  <a:pt x="0" y="29896"/>
                </a:lnTo>
                <a:arcTo wR="3600" hR="3600" stAng="10800000" swAng="-5400000"/>
                <a:lnTo>
                  <a:pt x="18000" y="334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СФК более 30 вариантов схем кассового обслуживания из которых реально работают только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3"/>
          <a:stretch/>
        </p:blipFill>
        <p:spPr>
          <a:xfrm>
            <a:off x="108000" y="1484280"/>
            <a:ext cx="5472000" cy="4465800"/>
          </a:xfrm>
          <a:prstGeom prst="rect">
            <a:avLst/>
          </a:prstGeom>
          <a:ln w="0">
            <a:noFill/>
          </a:ln>
        </p:spPr>
      </p:pic>
      <p:sp>
        <p:nvSpPr>
          <p:cNvPr id="86" name="TextBox 16"/>
          <p:cNvSpPr/>
          <p:nvPr/>
        </p:nvSpPr>
        <p:spPr>
          <a:xfrm>
            <a:off x="1116000" y="189000"/>
            <a:ext cx="7210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ТАНДАРТИЗАЦИЯ ВАРИАНТОВ КАССОВОГО ОБСЛУЖИ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53360" cy="83664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89" name="TextBox 4"/>
          <p:cNvSpPr/>
          <p:nvPr/>
        </p:nvSpPr>
        <p:spPr>
          <a:xfrm>
            <a:off x="1403280" y="18900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МАТРИЦА ПОДВАРИАНТОВ КАССОВОГО</a:t>
            </a:r>
            <a:r>
              <a:rPr b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ОБСЛУЖИ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84360" y="1397160"/>
          <a:ext cx="7704000" cy="3139920"/>
        </p:xfrm>
        <a:graphic>
          <a:graphicData uri="http://schemas.openxmlformats.org/drawingml/2006/table">
            <a:tbl>
              <a:tblPr/>
              <a:tblGrid>
                <a:gridCol w="1284120"/>
                <a:gridCol w="1284480"/>
                <a:gridCol w="1284120"/>
                <a:gridCol w="1284120"/>
                <a:gridCol w="1284480"/>
                <a:gridCol w="1282680"/>
              </a:tblGrid>
              <a:tr h="122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ведение БА, ЛБ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ФР в пределах свободных остат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чет Б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анкционир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6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рытие л/с Ф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6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рытие л/с УБ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шан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91" name="Скругленный прямоугольник 6"/>
          <p:cNvSpPr/>
          <p:nvPr/>
        </p:nvSpPr>
        <p:spPr>
          <a:xfrm>
            <a:off x="1332000" y="4724280"/>
            <a:ext cx="640872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варианта кассового обслужи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кругленный прямоугольник 7"/>
          <p:cNvSpPr/>
          <p:nvPr/>
        </p:nvSpPr>
        <p:spPr>
          <a:xfrm>
            <a:off x="1332000" y="5516640"/>
            <a:ext cx="640872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и, которые могут передаваться органам Федерального казначейства по исполнению бюджетов в соответствии с Соглашением, осуществляемые в рамках указанных вариа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трелка углом 8"/>
          <p:cNvSpPr/>
          <p:nvPr/>
        </p:nvSpPr>
        <p:spPr>
          <a:xfrm rot="16200000">
            <a:off x="899280" y="4580640"/>
            <a:ext cx="504720" cy="360360"/>
          </a:xfrm>
          <a:custGeom>
            <a:avLst/>
            <a:gdLst/>
            <a:ahLst/>
            <a:rect l="l" t="t" r="r" b="b"/>
            <a:pathLst>
              <a:path w="504825" h="360363">
                <a:moveTo>
                  <a:pt x="0" y="360363"/>
                </a:moveTo>
                <a:lnTo>
                  <a:pt x="0" y="193551"/>
                </a:lnTo>
                <a:lnTo>
                  <a:pt x="0" y="193551"/>
                </a:lnTo>
                <a:arcTo wR="157659" hR="157659" stAng="10800000" swAng="5400000"/>
                <a:lnTo>
                  <a:pt x="414734" y="35892"/>
                </a:lnTo>
                <a:lnTo>
                  <a:pt x="414734" y="0"/>
                </a:lnTo>
                <a:lnTo>
                  <a:pt x="504825" y="80938"/>
                </a:lnTo>
                <a:lnTo>
                  <a:pt x="414734" y="161875"/>
                </a:lnTo>
                <a:lnTo>
                  <a:pt x="414734" y="125983"/>
                </a:lnTo>
                <a:lnTo>
                  <a:pt x="157659" y="125983"/>
                </a:lnTo>
                <a:lnTo>
                  <a:pt x="157659" y="125983"/>
                </a:lnTo>
                <a:arcTo wR="67568" hR="67568" stAng="-5400000" swAng="-5400000"/>
                <a:lnTo>
                  <a:pt x="90091" y="360363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0"/>
          </a:gradFill>
          <a:ln w="9360">
            <a:solidFill>
              <a:srgbClr val="4a7eb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трелка углом 13"/>
          <p:cNvSpPr/>
          <p:nvPr/>
        </p:nvSpPr>
        <p:spPr>
          <a:xfrm flipV="1" rot="16200000">
            <a:off x="6228000" y="4077360"/>
            <a:ext cx="3384720" cy="360360"/>
          </a:xfrm>
          <a:custGeom>
            <a:avLst/>
            <a:gdLst/>
            <a:ahLst/>
            <a:rect l="l" t="t" r="r" b="b"/>
            <a:pathLst>
              <a:path w="3384550" h="360363">
                <a:moveTo>
                  <a:pt x="0" y="360363"/>
                </a:moveTo>
                <a:lnTo>
                  <a:pt x="0" y="193551"/>
                </a:lnTo>
                <a:lnTo>
                  <a:pt x="0" y="193551"/>
                </a:lnTo>
                <a:arcTo wR="157659" hR="157659" stAng="10800000" swAng="5400000"/>
                <a:lnTo>
                  <a:pt x="3294459" y="35892"/>
                </a:lnTo>
                <a:lnTo>
                  <a:pt x="3294459" y="0"/>
                </a:lnTo>
                <a:lnTo>
                  <a:pt x="3384550" y="80938"/>
                </a:lnTo>
                <a:lnTo>
                  <a:pt x="3294459" y="161875"/>
                </a:lnTo>
                <a:lnTo>
                  <a:pt x="3294459" y="125983"/>
                </a:lnTo>
                <a:lnTo>
                  <a:pt x="157659" y="125983"/>
                </a:lnTo>
                <a:lnTo>
                  <a:pt x="157659" y="125983"/>
                </a:lnTo>
                <a:arcTo wR="67568" hR="67568" stAng="-5400000" swAng="-5400000"/>
                <a:lnTo>
                  <a:pt x="90091" y="360363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53360" cy="83664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96" name="TextBox 8"/>
          <p:cNvSpPr/>
          <p:nvPr/>
        </p:nvSpPr>
        <p:spPr>
          <a:xfrm>
            <a:off x="1258920" y="907920"/>
            <a:ext cx="698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</a:rPr>
              <a:t>Результаты мониторинга лицевых счетов, открытых ПБС субъектов РФ, находящимся за пределами территории субъектов РФ по состоянию на 16.06.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Диаграмма 6"/>
          <p:cNvGraphicFramePr/>
          <p:nvPr/>
        </p:nvGraphicFramePr>
        <p:xfrm>
          <a:off x="0" y="1484280"/>
          <a:ext cx="4500720" cy="4897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8" name="Диаграмма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484280"/>
                    <a:ext cx="450072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Диаграмма 11"/>
          <p:cNvGraphicFramePr/>
          <p:nvPr/>
        </p:nvGraphicFramePr>
        <p:xfrm>
          <a:off x="4356000" y="1484280"/>
          <a:ext cx="4788000" cy="48974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00" name="Диаграмма 1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56000" y="1484280"/>
                    <a:ext cx="478800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1" name="Picture 2" descr=""/>
          <p:cNvPicPr/>
          <p:nvPr/>
        </p:nvPicPr>
        <p:blipFill>
          <a:blip r:embed="rId6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102" name="TextBox 7"/>
          <p:cNvSpPr/>
          <p:nvPr/>
        </p:nvSpPr>
        <p:spPr>
          <a:xfrm>
            <a:off x="1332000" y="0"/>
            <a:ext cx="6769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СОВЕРШЕНСТВОВАНИЕ МЕХАНИЗМОВ ОСУЩЕСТВЛЕНИЯ ОПЕРАЦИЙ СО СРЕДСТВАМИ БЮДЖЕТОВ СУБЪЕКТОВ РФ В ЧАСТИ ПРОВЕДЕНИЯ ОПЕРАЦИЙ ПРЕДСТВАВИТЕЛЬСТВ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53360" cy="836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6"/>
          <p:cNvSpPr/>
          <p:nvPr/>
        </p:nvSpPr>
        <p:spPr>
          <a:xfrm>
            <a:off x="1258920" y="0"/>
            <a:ext cx="6842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РЕДЛАГАЕМАЯ СХЕМА УЧЕТА ОПЕРАЦИЙ НА ЛИЦЕВЫХ СЧЕТАХ ПРЕДСТАВИТЕЛЬСТВ СУБЪЕКТОВ РФ, ОТКРЫТЫХ В ОРГАНАХ ФЕДЕРАЛЬНОГО КАЗНАЧЕЙ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03B1F-61F9-4CAF-902E-399987EFCDA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M:\OBMEN_FK\05\Коллегия 2013\Человечки\Veltec Kirby Specialist 1.jpg"/>
          <p:cNvPicPr/>
          <p:nvPr/>
        </p:nvPicPr>
        <p:blipFill>
          <a:blip r:embed="rId3"/>
          <a:stretch/>
        </p:blipFill>
        <p:spPr>
          <a:xfrm>
            <a:off x="7596360" y="1197000"/>
            <a:ext cx="1008000" cy="10843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9" descr=""/>
          <p:cNvPicPr/>
          <p:nvPr/>
        </p:nvPicPr>
        <p:blipFill>
          <a:blip r:embed="rId4"/>
          <a:stretch/>
        </p:blipFill>
        <p:spPr>
          <a:xfrm>
            <a:off x="590400" y="1176480"/>
            <a:ext cx="1043280" cy="1116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C:\Documents and Settings\2324\Мои документы\ТезисыСлайды\Человечки\MB900254443.GIF"/>
          <p:cNvPicPr/>
          <p:nvPr/>
        </p:nvPicPr>
        <p:blipFill>
          <a:blip r:embed="rId5"/>
          <a:stretch/>
        </p:blipFill>
        <p:spPr>
          <a:xfrm>
            <a:off x="2700360" y="1844640"/>
            <a:ext cx="2808360" cy="153036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17"/>
          <p:cNvGrpSpPr/>
          <p:nvPr/>
        </p:nvGrpSpPr>
        <p:grpSpPr>
          <a:xfrm>
            <a:off x="3203640" y="3357720"/>
            <a:ext cx="2160000" cy="1439640"/>
            <a:chOff x="3203640" y="3357720"/>
            <a:chExt cx="2160000" cy="1439640"/>
          </a:xfrm>
        </p:grpSpPr>
        <p:sp>
          <p:nvSpPr>
            <p:cNvPr id="111" name="Прямоугольник 14"/>
            <p:cNvSpPr/>
            <p:nvPr/>
          </p:nvSpPr>
          <p:spPr>
            <a:xfrm>
              <a:off x="3419640" y="3501360"/>
              <a:ext cx="149796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Ф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Прямоугольник 15"/>
            <p:cNvSpPr/>
            <p:nvPr/>
          </p:nvSpPr>
          <p:spPr>
            <a:xfrm>
              <a:off x="3203640" y="3357720"/>
              <a:ext cx="2160000" cy="1439640"/>
            </a:xfrm>
            <a:prstGeom prst="rect">
              <a:avLst/>
            </a:prstGeom>
            <a:noFill/>
            <a:ln w="25560">
              <a:solidFill>
                <a:srgbClr val="63252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Рисунок 30" descr="gg.png"/>
          <p:cNvPicPr/>
          <p:nvPr/>
        </p:nvPicPr>
        <p:blipFill>
          <a:blip r:embed="rId6"/>
          <a:stretch/>
        </p:blipFill>
        <p:spPr>
          <a:xfrm>
            <a:off x="3340080" y="3713040"/>
            <a:ext cx="592200" cy="603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60" descr=""/>
          <p:cNvPicPr/>
          <p:nvPr/>
        </p:nvPicPr>
        <p:blipFill>
          <a:blip r:embed="rId7"/>
          <a:stretch/>
        </p:blipFill>
        <p:spPr>
          <a:xfrm>
            <a:off x="3992400" y="3876840"/>
            <a:ext cx="1451160" cy="81108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18"/>
          <p:cNvSpPr/>
          <p:nvPr/>
        </p:nvSpPr>
        <p:spPr>
          <a:xfrm>
            <a:off x="5724360" y="1197000"/>
            <a:ext cx="2880000" cy="1727280"/>
          </a:xfrm>
          <a:prstGeom prst="rect">
            <a:avLst/>
          </a:prstGeom>
          <a:noFill/>
          <a:ln w="255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19"/>
          <p:cNvSpPr/>
          <p:nvPr/>
        </p:nvSpPr>
        <p:spPr>
          <a:xfrm>
            <a:off x="395280" y="1125360"/>
            <a:ext cx="2160720" cy="1511640"/>
          </a:xfrm>
          <a:prstGeom prst="rect">
            <a:avLst/>
          </a:prstGeom>
          <a:noFill/>
          <a:ln w="25560">
            <a:solidFill>
              <a:srgbClr val="2c945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20"/>
          <p:cNvSpPr/>
          <p:nvPr/>
        </p:nvSpPr>
        <p:spPr>
          <a:xfrm>
            <a:off x="2340000" y="1557360"/>
            <a:ext cx="3527280" cy="1871640"/>
          </a:xfrm>
          <a:prstGeom prst="rect">
            <a:avLst/>
          </a:prstGeom>
          <a:noFill/>
          <a:ln w="2556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21"/>
          <p:cNvSpPr/>
          <p:nvPr/>
        </p:nvSpPr>
        <p:spPr>
          <a:xfrm>
            <a:off x="3203640" y="1557360"/>
            <a:ext cx="201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УФ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22"/>
          <p:cNvSpPr/>
          <p:nvPr/>
        </p:nvSpPr>
        <p:spPr>
          <a:xfrm>
            <a:off x="5796000" y="2276640"/>
            <a:ext cx="273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ИНОРГАН СУБЪЕКТА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РБС СУБЪЕКТА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23"/>
          <p:cNvSpPr/>
          <p:nvPr/>
        </p:nvSpPr>
        <p:spPr>
          <a:xfrm>
            <a:off x="250920" y="2205000"/>
            <a:ext cx="2233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ДСТАВИТЕЛЬСТВО СУБЪЕКТА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5"/>
          <p:cNvSpPr/>
          <p:nvPr/>
        </p:nvSpPr>
        <p:spPr>
          <a:xfrm>
            <a:off x="179280" y="3645000"/>
            <a:ext cx="2737080" cy="1371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редставительствам субъектов РФ открываются 03 лицевые счета в ТОФК на едином счете соответствующего бюджета субъекта РФ или лицевые счета получателя бюджетных средств  в финансовом органе субъекта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6"/>
          <p:cNvSpPr/>
          <p:nvPr/>
        </p:nvSpPr>
        <p:spPr>
          <a:xfrm>
            <a:off x="179280" y="5084640"/>
            <a:ext cx="2737080" cy="1189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бмен информацией между Представительством субъекта РФ, Финорганом субъекта РФ, ГРБС субъекта РФ, в чьем ведении оно находится и ТОФК осуществляется через ППО «СУФД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Скругленный прямоугольник 25"/>
          <p:cNvSpPr/>
          <p:nvPr/>
        </p:nvSpPr>
        <p:spPr>
          <a:xfrm>
            <a:off x="3276720" y="5013360"/>
            <a:ext cx="5688000" cy="4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Разработана Дорожная карта по открытию в ТОФК лицевых счетов Представительствам субъектов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кругленный прямоугольник 26"/>
          <p:cNvSpPr/>
          <p:nvPr/>
        </p:nvSpPr>
        <p:spPr>
          <a:xfrm>
            <a:off x="3276720" y="5516640"/>
            <a:ext cx="568800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дготовлен проект совместного письма Минфина России и Федерального казначейства в адрес ТОФК и финансовых органов субъектов РФ об открытии лицевых счетов Представительствам в ТОФК или финансовых органах субъектов РФ в условиях осуществления информационного обмена через ППО «СУФД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кругленный прямоугольник 27"/>
          <p:cNvSpPr/>
          <p:nvPr/>
        </p:nvSpPr>
        <p:spPr>
          <a:xfrm>
            <a:off x="5580000" y="3860640"/>
            <a:ext cx="3384720" cy="1009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оприятия  по открытию лицевых счетов представительствам субъектов РФ в органах Федерального казначейст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53360" cy="971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"/>
          <p:cNvPicPr/>
          <p:nvPr/>
        </p:nvPicPr>
        <p:blipFill>
          <a:blip r:embed="rId2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4"/>
          <p:cNvSpPr/>
          <p:nvPr/>
        </p:nvSpPr>
        <p:spPr>
          <a:xfrm>
            <a:off x="1258920" y="1700280"/>
            <a:ext cx="1081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1258920" y="214200"/>
            <a:ext cx="6985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Arial"/>
                <a:ea typeface="Times New Roman"/>
              </a:rPr>
              <a:t>СОВЕРШЕНСТВОВАНИЕ КОНТРОЛЯ, ОСУЩЕСТВЛЯЕМОГО ОРГАНАМИ ФЕДЕРАЛЬНОГО КАЗНАЧЕЙСТВА, ЗА ИСПОЛНЕНИЕМ ОТДЕЛЬНЫХ ГОСУДАРСТВЕННЫХ  КОНТРАКТОВ РОССИЙСКОЙ ФЕДЕР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Rectangle 6"/>
          <p:cNvGrpSpPr/>
          <p:nvPr/>
        </p:nvGrpSpPr>
        <p:grpSpPr>
          <a:xfrm>
            <a:off x="865080" y="2023920"/>
            <a:ext cx="7608960" cy="3565800"/>
            <a:chOff x="865080" y="2023920"/>
            <a:chExt cx="7608960" cy="3565800"/>
          </a:xfrm>
        </p:grpSpPr>
        <p:pic>
          <p:nvPicPr>
            <p:cNvPr id="131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2023920"/>
              <a:ext cx="7608960" cy="356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971640" y="2060640"/>
              <a:ext cx="7416720" cy="34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сширить перечень юридических лиц, лицевые счета которым подлежат открытию в органах Федерального казначейства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и постановке на учет бюджетных обязательств предусмотреть представление в органы ФК документов, содержащих разрешительные надписи на реализацию инвестиционных проектов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.    При санкционировании предусмотреть контроль за использованием генподрядчиком авансовых платежей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.   Разработать механизм взаимодействия с контролирующими органами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Rectangle 6"/>
          <p:cNvGrpSpPr/>
          <p:nvPr/>
        </p:nvGrpSpPr>
        <p:grpSpPr>
          <a:xfrm>
            <a:off x="1047600" y="1085760"/>
            <a:ext cx="7188480" cy="803520"/>
            <a:chOff x="1047600" y="1085760"/>
            <a:chExt cx="7188480" cy="803520"/>
          </a:xfrm>
        </p:grpSpPr>
        <p:pic>
          <p:nvPicPr>
            <p:cNvPr id="134" name="Rectangle 6" descr=""/>
            <p:cNvPicPr/>
            <p:nvPr/>
          </p:nvPicPr>
          <p:blipFill>
            <a:blip r:embed="rId4"/>
            <a:stretch/>
          </p:blipFill>
          <p:spPr>
            <a:xfrm>
              <a:off x="1047600" y="1085760"/>
              <a:ext cx="7188480" cy="80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1116000" y="1125360"/>
              <a:ext cx="7056360" cy="68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10253f"/>
                  </a:solidFill>
                  <a:latin typeface="Times New Roman"/>
                  <a:ea typeface="Times New Roman"/>
                </a:rPr>
                <a:t>В рамках реализации данного мероприятия планируется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Rectangle 9"/>
          <p:cNvGrpSpPr/>
          <p:nvPr/>
        </p:nvGrpSpPr>
        <p:grpSpPr>
          <a:xfrm>
            <a:off x="901800" y="5688000"/>
            <a:ext cx="8053200" cy="268200"/>
            <a:chOff x="901800" y="5688000"/>
            <a:chExt cx="8053200" cy="268200"/>
          </a:xfrm>
        </p:grpSpPr>
        <p:pic>
          <p:nvPicPr>
            <p:cNvPr id="137" name="Rectangle 9" descr=""/>
            <p:cNvPicPr/>
            <p:nvPr/>
          </p:nvPicPr>
          <p:blipFill>
            <a:blip r:embed="rId5"/>
            <a:stretch/>
          </p:blipFill>
          <p:spPr>
            <a:xfrm>
              <a:off x="901800" y="5688000"/>
              <a:ext cx="8053200" cy="2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971640" y="5732640"/>
              <a:ext cx="7921440" cy="1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Rectangle 9"/>
          <p:cNvGrpSpPr/>
          <p:nvPr/>
        </p:nvGrpSpPr>
        <p:grpSpPr>
          <a:xfrm>
            <a:off x="8321760" y="1085760"/>
            <a:ext cx="272880" cy="5229360"/>
            <a:chOff x="8321760" y="1085760"/>
            <a:chExt cx="272880" cy="5229360"/>
          </a:xfrm>
        </p:grpSpPr>
        <p:pic>
          <p:nvPicPr>
            <p:cNvPr id="140" name="Rectangle 9" descr=""/>
            <p:cNvPicPr/>
            <p:nvPr/>
          </p:nvPicPr>
          <p:blipFill>
            <a:blip r:embed="rId6"/>
            <a:stretch/>
          </p:blipFill>
          <p:spPr>
            <a:xfrm>
              <a:off x="8321760" y="1085760"/>
              <a:ext cx="272880" cy="522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 rot="5400000">
              <a:off x="5903280" y="3608280"/>
              <a:ext cx="5113440" cy="1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Номер слайда 9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1E2A3-8FBB-45C3-8202-3614F2F836C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FEC46-536B-4E10-9842-84166BFF00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1332000" y="26028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Arial"/>
                <a:ea typeface="Times New Roman"/>
              </a:rPr>
              <a:t>ОСНО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Прямоугольник 6"/>
          <p:cNvGrpSpPr/>
          <p:nvPr/>
        </p:nvGrpSpPr>
        <p:grpSpPr>
          <a:xfrm>
            <a:off x="579600" y="1305000"/>
            <a:ext cx="7705440" cy="4211640"/>
            <a:chOff x="579600" y="1305000"/>
            <a:chExt cx="7705440" cy="4211640"/>
          </a:xfrm>
        </p:grpSpPr>
        <p:pic>
          <p:nvPicPr>
            <p:cNvPr id="146" name="Прямоугольник 6" descr=""/>
            <p:cNvPicPr/>
            <p:nvPr/>
          </p:nvPicPr>
          <p:blipFill>
            <a:blip r:embed="rId1"/>
            <a:stretch/>
          </p:blipFill>
          <p:spPr>
            <a:xfrm>
              <a:off x="579600" y="1305000"/>
              <a:ext cx="7705440" cy="421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684360" y="1341360"/>
              <a:ext cx="7488000" cy="41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истема бюджетных платежей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азначейское обслуживание исполнения бюджетов бюджетной системы, а также проведения операций со средствами НУБ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правление средствами на едином казначейском счет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нформационное обеспечение бюджетного процесс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рганизация исполнения судебных актов, предусматривающих обращение взыскания на средства бюджетных и автономных учрежден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оставление финансовой отчетности государственного сектор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Rectangle 9"/>
          <p:cNvGrpSpPr/>
          <p:nvPr/>
        </p:nvGrpSpPr>
        <p:grpSpPr>
          <a:xfrm>
            <a:off x="615960" y="5619600"/>
            <a:ext cx="8265960" cy="293760"/>
            <a:chOff x="615960" y="5619600"/>
            <a:chExt cx="8265960" cy="293760"/>
          </a:xfrm>
        </p:grpSpPr>
        <p:pic>
          <p:nvPicPr>
            <p:cNvPr id="149" name="Rectangle 9" descr=""/>
            <p:cNvPicPr/>
            <p:nvPr/>
          </p:nvPicPr>
          <p:blipFill>
            <a:blip r:embed="rId2"/>
            <a:stretch/>
          </p:blipFill>
          <p:spPr>
            <a:xfrm>
              <a:off x="615960" y="5619600"/>
              <a:ext cx="8265960" cy="29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684360" y="5661000"/>
              <a:ext cx="813564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Rectangle 9"/>
          <p:cNvGrpSpPr/>
          <p:nvPr/>
        </p:nvGrpSpPr>
        <p:grpSpPr>
          <a:xfrm>
            <a:off x="8248680" y="1225440"/>
            <a:ext cx="272880" cy="5119920"/>
            <a:chOff x="8248680" y="1225440"/>
            <a:chExt cx="272880" cy="5119920"/>
          </a:xfrm>
        </p:grpSpPr>
        <p:pic>
          <p:nvPicPr>
            <p:cNvPr id="152" name="Rectangle 9" descr=""/>
            <p:cNvPicPr/>
            <p:nvPr/>
          </p:nvPicPr>
          <p:blipFill>
            <a:blip r:embed="rId3"/>
            <a:stretch/>
          </p:blipFill>
          <p:spPr>
            <a:xfrm>
              <a:off x="8248680" y="1225440"/>
              <a:ext cx="272880" cy="511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 rot="5400000">
              <a:off x="5890680" y="3693960"/>
              <a:ext cx="4996080" cy="1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Picture 1" descr=""/>
          <p:cNvPicPr/>
          <p:nvPr/>
        </p:nvPicPr>
        <p:blipFill>
          <a:blip r:embed="rId4"/>
          <a:stretch/>
        </p:blipFill>
        <p:spPr>
          <a:xfrm>
            <a:off x="-9360" y="0"/>
            <a:ext cx="9153360" cy="971640"/>
          </a:xfrm>
          <a:prstGeom prst="rect">
            <a:avLst/>
          </a:prstGeom>
          <a:ln w="0">
            <a:noFill/>
          </a:ln>
        </p:spPr>
      </p:pic>
      <p:sp>
        <p:nvSpPr>
          <p:cNvPr id="155" name="TextBox 8"/>
          <p:cNvSpPr/>
          <p:nvPr/>
        </p:nvSpPr>
        <p:spPr>
          <a:xfrm>
            <a:off x="1187280" y="189000"/>
            <a:ext cx="681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НОВАЯ РЕДАКЦИЯ БЮДЖЕТНОГО КОДЕКС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РОССИЙСКОЙ ФЕДЕ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4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C:\Users\Di\Dropbox\Проект! Закупки\PPT\CheckMark.png"/>
          <p:cNvPicPr/>
          <p:nvPr/>
        </p:nvPicPr>
        <p:blipFill>
          <a:blip r:embed="rId1"/>
          <a:stretch/>
        </p:blipFill>
        <p:spPr>
          <a:xfrm>
            <a:off x="428760" y="1928880"/>
            <a:ext cx="641160" cy="573120"/>
          </a:xfrm>
          <a:prstGeom prst="rect">
            <a:avLst/>
          </a:prstGeom>
          <a:ln w="0">
            <a:noFill/>
          </a:ln>
        </p:spPr>
      </p:pic>
      <p:grpSp>
        <p:nvGrpSpPr>
          <p:cNvPr id="158" name="Прямоугольник с двумя скругленными соседними углами 22"/>
          <p:cNvGrpSpPr/>
          <p:nvPr/>
        </p:nvGrpSpPr>
        <p:grpSpPr>
          <a:xfrm>
            <a:off x="615960" y="1871640"/>
            <a:ext cx="7985160" cy="1042920"/>
            <a:chOff x="615960" y="1871640"/>
            <a:chExt cx="7985160" cy="1042920"/>
          </a:xfrm>
        </p:grpSpPr>
        <p:pic>
          <p:nvPicPr>
            <p:cNvPr id="159" name="Прямоугольник с двумя скругленными соседними углами 22" descr=""/>
            <p:cNvPicPr/>
            <p:nvPr/>
          </p:nvPicPr>
          <p:blipFill>
            <a:blip r:embed="rId2"/>
            <a:stretch/>
          </p:blipFill>
          <p:spPr>
            <a:xfrm>
              <a:off x="615960" y="1871640"/>
              <a:ext cx="798516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722160" y="1947960"/>
              <a:ext cx="7778880" cy="84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едение реестра банковских гаранти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1" name="Picture 2" descr="C:\Users\Di\Dropbox\Проект! Закупки\PPT\CheckMark.png"/>
          <p:cNvPicPr/>
          <p:nvPr/>
        </p:nvPicPr>
        <p:blipFill>
          <a:blip r:embed="rId3"/>
          <a:stretch/>
        </p:blipFill>
        <p:spPr>
          <a:xfrm>
            <a:off x="900000" y="2133720"/>
            <a:ext cx="557280" cy="573120"/>
          </a:xfrm>
          <a:prstGeom prst="rect">
            <a:avLst/>
          </a:prstGeom>
          <a:ln w="9360">
            <a:solidFill>
              <a:srgbClr val="fac090"/>
            </a:solidFill>
            <a:miter/>
          </a:ln>
        </p:spPr>
      </p:pic>
      <p:pic>
        <p:nvPicPr>
          <p:cNvPr id="162" name="Picture 2" descr="C:\Users\Di\Dropbox\Проект! Закупки\PPT\CheckMark.png"/>
          <p:cNvPicPr/>
          <p:nvPr/>
        </p:nvPicPr>
        <p:blipFill>
          <a:blip r:embed="rId4"/>
          <a:stretch/>
        </p:blipFill>
        <p:spPr>
          <a:xfrm>
            <a:off x="900000" y="2133720"/>
            <a:ext cx="557280" cy="57456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с двумя скругленными соседними углами 24"/>
          <p:cNvSpPr/>
          <p:nvPr/>
        </p:nvSpPr>
        <p:spPr>
          <a:xfrm rot="10800000">
            <a:off x="4775040" y="5324040"/>
            <a:ext cx="4129200" cy="430200"/>
          </a:xfrm>
          <a:custGeom>
            <a:avLst/>
            <a:gdLst>
              <a:gd name="textAreaLeft" fmla="*/ 23760 w 4129200"/>
              <a:gd name="textAreaRight" fmla="*/ 4105440 w 4129200"/>
              <a:gd name="textAreaTop" fmla="*/ 23760 h 430200"/>
              <a:gd name="textAreaBottom" fmla="*/ 430560 h 430200"/>
            </a:gdLst>
            <a:ahLst/>
            <a:rect l="textAreaLeft" t="textAreaTop" r="textAreaRight" b="textAreaBottom"/>
            <a:pathLst>
              <a:path w="4129088" h="430213">
                <a:moveTo>
                  <a:pt x="81999" y="0"/>
                </a:moveTo>
                <a:lnTo>
                  <a:pt x="4047089" y="0"/>
                </a:lnTo>
                <a:lnTo>
                  <a:pt x="4047089" y="0"/>
                </a:lnTo>
                <a:arcTo wR="81999" hR="81999" stAng="-5400000" swAng="5400000"/>
                <a:lnTo>
                  <a:pt x="4129088" y="430213"/>
                </a:lnTo>
                <a:lnTo>
                  <a:pt x="0" y="430213"/>
                </a:lnTo>
                <a:lnTo>
                  <a:pt x="0" y="81999"/>
                </a:lnTo>
                <a:lnTo>
                  <a:pt x="0" y="81999"/>
                </a:lnTo>
                <a:arcTo wR="81999" hR="81999" stAng="10800000" swAng="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с двумя скругленными соседними углами 25"/>
          <p:cNvSpPr/>
          <p:nvPr/>
        </p:nvSpPr>
        <p:spPr>
          <a:xfrm rot="10800000">
            <a:off x="4786200" y="5299200"/>
            <a:ext cx="4129200" cy="758880"/>
          </a:xfrm>
          <a:custGeom>
            <a:avLst/>
            <a:gdLst>
              <a:gd name="textAreaLeft" fmla="*/ 42120 w 4129200"/>
              <a:gd name="textAreaRight" fmla="*/ 4087080 w 4129200"/>
              <a:gd name="textAreaTop" fmla="*/ 42120 h 758880"/>
              <a:gd name="textAreaBottom" fmla="*/ 759240 h 758880"/>
            </a:gdLst>
            <a:ahLst/>
            <a:rect l="textAreaLeft" t="textAreaTop" r="textAreaRight" b="textAreaBottom"/>
            <a:pathLst>
              <a:path w="4129087" h="758825">
                <a:moveTo>
                  <a:pt x="144632" y="0"/>
                </a:moveTo>
                <a:lnTo>
                  <a:pt x="3984455" y="0"/>
                </a:lnTo>
                <a:lnTo>
                  <a:pt x="3984455" y="0"/>
                </a:lnTo>
                <a:arcTo wR="144632" hR="144632" stAng="-5400000" swAng="5400000"/>
                <a:lnTo>
                  <a:pt x="4129087" y="758825"/>
                </a:lnTo>
                <a:lnTo>
                  <a:pt x="0" y="758825"/>
                </a:lnTo>
                <a:lnTo>
                  <a:pt x="0" y="144632"/>
                </a:lnTo>
                <a:lnTo>
                  <a:pt x="0" y="144632"/>
                </a:lnTo>
                <a:arcTo wR="144632" hR="144632" stAng="10800000" swAng="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" descr="C:\Users\Di\Dropbox\Проект! Закупки\PPT\CheckMark.png"/>
          <p:cNvPicPr/>
          <p:nvPr/>
        </p:nvPicPr>
        <p:blipFill>
          <a:blip r:embed="rId5"/>
          <a:stretch/>
        </p:blipFill>
        <p:spPr>
          <a:xfrm>
            <a:off x="428760" y="5214960"/>
            <a:ext cx="556920" cy="5745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" descr=""/>
          <p:cNvPicPr/>
          <p:nvPr/>
        </p:nvPicPr>
        <p:blipFill>
          <a:blip r:embed="rId6"/>
          <a:stretch/>
        </p:blipFill>
        <p:spPr>
          <a:xfrm>
            <a:off x="0" y="0"/>
            <a:ext cx="9153360" cy="97164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2"/>
          <p:cNvSpPr/>
          <p:nvPr/>
        </p:nvSpPr>
        <p:spPr>
          <a:xfrm>
            <a:off x="1332000" y="1125360"/>
            <a:ext cx="64087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лномочия Федерального казначей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контрактной систе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Прямоугольник с двумя скругленными соседними углами 35"/>
          <p:cNvGrpSpPr/>
          <p:nvPr/>
        </p:nvGrpSpPr>
        <p:grpSpPr>
          <a:xfrm>
            <a:off x="615960" y="3097080"/>
            <a:ext cx="7985160" cy="987480"/>
            <a:chOff x="615960" y="3097080"/>
            <a:chExt cx="7985160" cy="987480"/>
          </a:xfrm>
        </p:grpSpPr>
        <p:pic>
          <p:nvPicPr>
            <p:cNvPr id="169" name="Прямоугольник с двумя скругленными соседними углами 35" descr=""/>
            <p:cNvPicPr/>
            <p:nvPr/>
          </p:nvPicPr>
          <p:blipFill>
            <a:blip r:embed="rId7"/>
            <a:stretch/>
          </p:blipFill>
          <p:spPr>
            <a:xfrm>
              <a:off x="615960" y="3097080"/>
              <a:ext cx="798516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719280" y="3170160"/>
              <a:ext cx="7785000" cy="79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пределение порядка регистрации заказчиков и иных лиц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 ООС (Федеральные законы 44-ФЗ и 223-ФЗ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1" name="Picture 2" descr="C:\Users\Di\Dropbox\Проект! Закупки\PPT\CheckMark.png"/>
          <p:cNvPicPr/>
          <p:nvPr/>
        </p:nvPicPr>
        <p:blipFill>
          <a:blip r:embed="rId8"/>
          <a:stretch/>
        </p:blipFill>
        <p:spPr>
          <a:xfrm>
            <a:off x="900000" y="3284640"/>
            <a:ext cx="557280" cy="573120"/>
          </a:xfrm>
          <a:prstGeom prst="rect">
            <a:avLst/>
          </a:prstGeom>
          <a:ln w="9360">
            <a:solidFill>
              <a:srgbClr val="fac090"/>
            </a:solidFill>
            <a:miter/>
          </a:ln>
        </p:spPr>
      </p:pic>
      <p:grpSp>
        <p:nvGrpSpPr>
          <p:cNvPr id="172" name="Прямоугольник с двумя скругленными соседними углами 38"/>
          <p:cNvGrpSpPr/>
          <p:nvPr/>
        </p:nvGrpSpPr>
        <p:grpSpPr>
          <a:xfrm>
            <a:off x="615960" y="4395960"/>
            <a:ext cx="7985160" cy="841320"/>
            <a:chOff x="615960" y="4395960"/>
            <a:chExt cx="7985160" cy="841320"/>
          </a:xfrm>
        </p:grpSpPr>
        <p:pic>
          <p:nvPicPr>
            <p:cNvPr id="173" name="Прямоугольник с двумя скругленными соседними углами 38" descr=""/>
            <p:cNvPicPr/>
            <p:nvPr/>
          </p:nvPicPr>
          <p:blipFill>
            <a:blip r:embed="rId9"/>
            <a:stretch/>
          </p:blipFill>
          <p:spPr>
            <a:xfrm>
              <a:off x="615960" y="4395960"/>
              <a:ext cx="79851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714240" y="4460760"/>
              <a:ext cx="779652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едение реестров контракт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5" name="Picture 2" descr="C:\Users\Di\Dropbox\Проект! Закупки\PPT\CheckMark.png"/>
          <p:cNvPicPr/>
          <p:nvPr/>
        </p:nvPicPr>
        <p:blipFill>
          <a:blip r:embed="rId10"/>
          <a:stretch/>
        </p:blipFill>
        <p:spPr>
          <a:xfrm>
            <a:off x="900000" y="4508640"/>
            <a:ext cx="557280" cy="573120"/>
          </a:xfrm>
          <a:prstGeom prst="rect">
            <a:avLst/>
          </a:prstGeom>
          <a:ln w="9360">
            <a:solidFill>
              <a:srgbClr val="fac090"/>
            </a:solidFill>
            <a:miter/>
          </a:ln>
        </p:spPr>
      </p:pic>
      <p:grpSp>
        <p:nvGrpSpPr>
          <p:cNvPr id="176" name="Прямоугольник с двумя скругленными соседними углами 45"/>
          <p:cNvGrpSpPr/>
          <p:nvPr/>
        </p:nvGrpSpPr>
        <p:grpSpPr>
          <a:xfrm>
            <a:off x="615960" y="5456160"/>
            <a:ext cx="7985160" cy="852480"/>
            <a:chOff x="615960" y="5456160"/>
            <a:chExt cx="7985160" cy="852480"/>
          </a:xfrm>
        </p:grpSpPr>
        <p:pic>
          <p:nvPicPr>
            <p:cNvPr id="177" name="Прямоугольник с двумя скругленными соседними углами 45" descr=""/>
            <p:cNvPicPr/>
            <p:nvPr/>
          </p:nvPicPr>
          <p:blipFill>
            <a:blip r:embed="rId11"/>
            <a:stretch/>
          </p:blipFill>
          <p:spPr>
            <a:xfrm>
              <a:off x="615960" y="5456160"/>
              <a:ext cx="798516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712800" y="5540400"/>
              <a:ext cx="7797960" cy="6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нтроль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часть 5 статьи 99 Федерального закона № 44-ФЗ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" name="Picture 2" descr="C:\Users\Di\Dropbox\Проект! Закупки\PPT\CheckMark.png"/>
          <p:cNvPicPr/>
          <p:nvPr/>
        </p:nvPicPr>
        <p:blipFill>
          <a:blip r:embed="rId12"/>
          <a:stretch/>
        </p:blipFill>
        <p:spPr>
          <a:xfrm>
            <a:off x="900000" y="5589720"/>
            <a:ext cx="557280" cy="574560"/>
          </a:xfrm>
          <a:prstGeom prst="rect">
            <a:avLst/>
          </a:prstGeom>
          <a:ln w="9360">
            <a:solidFill>
              <a:srgbClr val="fac090"/>
            </a:solidFill>
            <a:miter/>
          </a:ln>
        </p:spPr>
      </p:pic>
      <p:sp>
        <p:nvSpPr>
          <p:cNvPr id="180" name="Номер слайда 26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09340-6DC0-4CBA-A94F-BACBDF9206E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3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182" name="TextBox 23"/>
          <p:cNvSpPr/>
          <p:nvPr/>
        </p:nvSpPr>
        <p:spPr>
          <a:xfrm>
            <a:off x="755640" y="115920"/>
            <a:ext cx="7848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ХРОНИЗАЦИЯ ПРОЦЕССОВ ВЕДЕНИЯ РЕЕСТРА КОНТРАКТОВ, РЕЕСТРА БАНКОВСКИХ ГАРАНТИЙ, РЕЕСТРА СОГЛАШЕНИЙ, УЧЕТА БЮДЖЕТНЫХ ОБЯЗАТЕЛЬСТВ (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айпазов</cp:lastModifiedBy>
  <dcterms:modified xsi:type="dcterms:W3CDTF">2014-09-10T04:33:32Z</dcterms:modified>
  <cp:revision>225</cp:revision>
  <dc:subject/>
  <dc:title>Слайд 1</dc:title>
</cp:coreProperties>
</file>