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EF4372-F1C8-4814-9AAA-0EFCFD618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40D0F7-C455-47E7-A72A-DCADB1831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03F525-A69E-4828-AF60-B31CA81FF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A12FF9-D9E7-43DA-8B86-6CEAE3855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DD09CA-E332-4E1F-A094-6C72F83789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47A249-173B-46A7-AF56-C4A5FB792F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A4C555-178B-4DAE-BC3C-1B9B1C514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715-4BA3-4DBF-86A8-5C40A563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9C5-496A-4707-A003-373E51A3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77501-A71E-4858-A0B2-656AC20E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47F18-2FE7-47A5-9E26-F28EA7DF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F810A-F02B-4A5E-8F6B-06AE4A45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90FFA-5AB6-47A1-AEE0-FE30537D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9B8CE-3634-48AE-B293-959ED2DF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61143-3EB7-461E-B276-3E73373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306C2-3E8B-47C9-B4D0-DFED9979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6CA47-1556-4530-8BFB-75F267AB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BE23A-6CCF-40EE-92AC-FDBA9946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6E446-DBE4-4FF7-A4D7-B0D267BB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F60-6DEC-489C-B9F2-53C9938A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457CD-6FED-4632-811D-50E8B52B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F3B3E-A407-42DF-B7C1-8DC99D5D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85FB4-F37B-4D08-9A70-5012873D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C088F-F32E-45AD-BD3A-F6F6DD0A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B7797-6B9E-470F-8B73-1C5B1AF8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7F8C1-A04B-47DF-91A1-B1CD5330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E8133-E22E-464E-94F7-9C1CE8AC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C8474-F52D-48D7-8F00-AB3EEEF1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19071-715A-4583-A203-C964D145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3BFC3-9572-42D0-B03C-F9253EE9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301-46F2-4C3F-95D6-CFB9380B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2630F-50D4-4622-82D1-067E3F9D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B9AE6-600F-4A31-9C69-3D6951CC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A036A-0EA2-485B-9162-7DBD42A6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90B63-82FD-47FA-B52D-5B632AD5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086A4-ABF6-457A-B191-1A32B3D0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C02C8-BFE6-4E3C-BBD7-0AEE6A60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613C5-15C5-4AE6-8E25-C1284B1C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61410-B8A8-4AE2-8857-0BC8AA6F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9CF25-74C9-4AF5-9905-19D12151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9484A-7640-4170-A225-E0FFB7D1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82ED-B3B7-4DC1-9A2A-95D6B8B1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28CA2-310C-4207-9EF7-D3C8CC3F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CFAA3-CD5C-46CB-AC4F-005AF728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4B99C-AEEF-4090-B01A-D401688E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90080-C016-43D8-BE65-2951F0A9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4CC68-DDE5-4E45-AF0D-949CF398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CC9C0-32B5-402F-A2DD-73352A43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51D77-F770-46C2-BE01-21F0612B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5319E-9C1A-4695-BDA7-68D2024A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37FEC-19B8-4191-B457-A520F899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E64AA-1DB1-4E2A-8868-F68CE14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99CA-1F06-4530-8E5B-AF29CEA8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6C7DC-E41D-4ACB-82A4-CBF2760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4169B-AFE9-4B7A-A985-0D3441F9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DD2A9-CF4C-4BF8-A8E5-8488DC08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7E72A-A5D5-43B1-850D-4E92EFA2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4F758-FFF1-4D15-9888-2B399578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04C0-B42D-47D3-AFA8-2CAFC88E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B76C-0142-48C2-9808-46514BDC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4DE6-A059-400B-9D0A-F942BDF4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C3E1-CAC6-40D3-9DEF-C68802C9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6E53-0C9E-4E7D-B3DA-8E15C118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AFB-6367-4810-A7F8-A0870482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A4B2-FCBA-4996-8DF2-7A462B8F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C451-741E-4091-97EF-A730FEF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3168-1BA3-4F6B-972B-807741DE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702D-5D6C-4201-82C8-6E06ED90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A4EE-E142-4844-92A4-6F5EC1B5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001DC-1766-4E2E-81AE-08BC8570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00D0-53B2-4ACB-8D80-23D9443F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03ED-7BDA-4DA6-B644-71B1CF92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E9B3-A811-48D6-9F86-5278AEBA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8846-43CF-40CE-B3DC-FE4DF73C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D1B-66B0-4194-84A2-038C14C7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A8FB-6C0F-4972-BF9B-89050367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8531-1AAA-47EB-A94C-71BC0A27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1D7C-E4EB-4AC0-85D1-0D907DD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8E4B-5303-4576-A2E4-A72EB54A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DCE2-ACAC-4726-BD0C-294A27FA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C8A9F-ADD9-461D-9E54-6FB89FD9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790E-6DF6-44D8-9626-79050155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5773-5B09-4231-8E9F-9116CB0D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1D1CA-1902-4284-AFD4-1CB5B6EC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C310-3B34-42FA-A19C-0FFE4BF1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308-F54D-4C3E-871D-C1C1AA60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50042-CF1C-41B0-8132-B72BDE93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988C-183E-414A-BFE4-545E9F14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C9C1-2556-4023-A42F-D4DB208D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A5653-2DE1-440F-ADA8-982DA6C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1F4B0-9CC3-4183-A958-6C722A22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8414-0507-4A18-BDFC-1977730A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CF2D-14B1-4E03-8FB6-546A7434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91D5-0AE2-4FF9-93E2-6F7D81A6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1101A-3CCF-4276-AE3F-46730733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76008-F1B3-4E18-B4CE-2C966D9C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CBF-BD4E-4FBE-9D22-9E254D31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1382C-B4E8-4023-B52A-2A416ACC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41516-2A27-4783-98C9-27ACFCF7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C0F65-FEB7-49A3-B1AB-18B1D223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1B2F-4412-4B60-9E29-78CCB0CC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5857F-72F8-4DF6-B2BC-3B807369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4CE1C-D23F-439F-82EE-3A58B10B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75263-94C8-4888-99FD-3B8F219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274AE-A731-4F32-9CE4-C35CE756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4BB4-8A86-4368-979B-938B0329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A703-50E6-4CDD-9251-7E730029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5DD-7221-4C8A-8274-2AC82111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A42C1-0D92-4BF5-88C6-F9F4E750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8F563-29F8-4B8F-B0A4-0B256702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5F39D-F31D-4EDE-B176-3BBEE74B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C9F0F-440C-4532-A512-676B2DA5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75AE-7069-4382-81F8-9CABD3F5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A8071-D847-4705-9B38-6A7FFCF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FBCFB-990E-4C5A-A63E-86F49FA7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EA071-DF49-49A0-9179-1534D3FC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3C3BB-003B-4157-A5D2-CC235345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7A9DB-10E3-42DB-9BF1-969E2256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8AA-7570-4F4E-AD0A-4E66C063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CB9B0-91AD-49F1-8947-EB3CBE27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D0A1D-D320-47A1-96BA-E01E672C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6890F-C10B-4CE5-8715-805FA56D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D0A1D-10E1-49A4-990E-51650351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DA9C-B533-4197-9E4E-B47AE0AF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49973-F9C4-4DBF-8BA0-59F31DB3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5E4D-3DEA-4FF8-AB0C-8361AB2E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2F06D-B15C-4C83-AD87-9FABFD4B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01432-3284-4A6A-AE9B-7AD65E46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FEF2D-4288-4D25-B520-5B6DE42E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5BC-F698-4587-B6CC-0F803C3C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56380-BBB0-4C08-ABED-BC1365F7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E9D27-ED46-410D-AE91-765E75C4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3D20-9521-4929-A0F3-8C14D90E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DDACC-4767-4288-8201-8090490A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EFE6E-30E5-4D64-9885-15306373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2773A-576D-41E1-BC13-F223688A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79202-58EC-48A3-A48B-CF8129E7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C2950-4692-4ABC-BB16-D06CADF2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7A840-6E7B-4DB7-A686-C83A2E9B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33A3-FE53-4D42-B484-09543D5F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CE6-5F9A-47A8-B63C-CCE520E6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EA273-6DE8-4B85-934B-52D1F4B6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F4DD2-5AA0-47D4-BA8F-83FC717A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33475-9668-441A-90FF-8478F27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DF38D-A14D-4D8F-AB55-13238B8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A0B94-F9DB-45EE-AB5A-913714B0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F25C3-9A92-40A6-971F-2D43732D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422A8-43ED-4CB8-8453-4054A867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B360C-C4D8-47EA-910A-543A9E06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3899D-2ACF-4834-B8C2-2210081E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B1467-0BD2-4D2B-927C-7C626ABE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13B3-9C6B-4BC1-910B-9210A908D42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3150-D7D8-4C7B-8534-41C4D4214B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3EB2-B674-4DAC-B56F-93A0BB3527F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19D4-A005-4CED-B8D8-170F8FCC2E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2C5F-FF1D-4801-80AB-5E30DA19EE4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8A93-D7DA-43B3-9702-565EA4ED86C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3130-9523-4B03-B51E-A60082494D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FD7A-2427-4D53-BED9-87882A400FF5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BA9C-45EA-41FD-AC0E-08AE30A608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39F0-1821-493D-B20C-FFE43765F06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2C80-2DE9-4FB2-B75B-817E4DDD8A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2B09-F7A5-48FF-8D62-FA91EA1CAA2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7221-791E-4052-BE35-A2EC171CAD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A958-0530-4E7A-8A48-7478BF54A868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60BE-81D1-455E-9DB3-1829D1F70C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152F-11A0-4C89-9F20-D2BF121BEB1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0AD4-05D4-400E-B32E-9B067FFF533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BCAE-51D2-4D46-A224-78078F8FC81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5BF2-9225-44AD-ABAF-3252FB9EBD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73BC-CD37-4261-BC2E-F7D8728C98B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BCAA-A05C-4B48-9FAA-14EB038451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093A-A7FD-4E80-B63C-C5CFF0C9F0D2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AF05-29F4-4A40-BE4D-CE94C56CD23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19080" y="6553080"/>
            <a:ext cx="9124920" cy="304920"/>
          </a:xfrm>
          <a:prstGeom prst="rect">
            <a:avLst/>
          </a:prstGeom>
          <a:ln w="0">
            <a:noFill/>
          </a:ln>
        </p:spPr>
      </p:pic>
      <p:sp>
        <p:nvSpPr>
          <p:cNvPr id="513" name="Номер слайда 5"/>
          <p:cNvSpPr/>
          <p:nvPr/>
        </p:nvSpPr>
        <p:spPr>
          <a:xfrm>
            <a:off x="70102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582F-478B-4949-A4F2-9702A484736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68360" y="1773360"/>
            <a:ext cx="8461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ы кассового обслуживания исполнения бюджетов бюджетной системы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2671920" y="5661000"/>
            <a:ext cx="6257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ик Отдела методического обеспеч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сового обслуживания исполнения бюджет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В. Малах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16" name="TextBox 63"/>
          <p:cNvSpPr/>
          <p:nvPr/>
        </p:nvSpPr>
        <p:spPr>
          <a:xfrm>
            <a:off x="1403280" y="42552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ОЗВРАТ ДЕБИТОРСКОЙ ЗАДОЛЖЕННОСТИ ПРОШЛЫХ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18BC-E93E-4C84-9A49-93194A19CC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Прямоугольник 13"/>
          <p:cNvSpPr/>
          <p:nvPr/>
        </p:nvSpPr>
        <p:spPr>
          <a:xfrm>
            <a:off x="3333600" y="2154240"/>
            <a:ext cx="512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оступили ЗКР ПБС субъекта на сумму 10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Прямоугольник 15"/>
          <p:cNvSpPr/>
          <p:nvPr/>
        </p:nvSpPr>
        <p:spPr>
          <a:xfrm>
            <a:off x="2050920" y="171144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оступил возврат дебиторской задолженности на сумму 10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Прямоугольник 16"/>
          <p:cNvSpPr/>
          <p:nvPr/>
        </p:nvSpPr>
        <p:spPr>
          <a:xfrm>
            <a:off x="3851280" y="32338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ММА ПОДКРЕПЛЕНИЯ равна 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Прямая соединительная линия 18"/>
          <p:cNvSpPr/>
          <p:nvPr/>
        </p:nvSpPr>
        <p:spPr>
          <a:xfrm>
            <a:off x="1908000" y="3213000"/>
            <a:ext cx="662472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Прямоугольник 19"/>
          <p:cNvSpPr/>
          <p:nvPr/>
        </p:nvSpPr>
        <p:spPr>
          <a:xfrm>
            <a:off x="2050920" y="126828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таток  целевых средств на начало дня 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Прямоугольник 23"/>
          <p:cNvSpPr/>
          <p:nvPr/>
        </p:nvSpPr>
        <p:spPr>
          <a:xfrm>
            <a:off x="2700360" y="41893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озвращена дебиторская задолженность прошлых лет в ФБ на сумму 10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Прямоугольник 24"/>
          <p:cNvSpPr/>
          <p:nvPr/>
        </p:nvSpPr>
        <p:spPr>
          <a:xfrm>
            <a:off x="3924360" y="582624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ММА ПОДКРЕПЛЕНИЯ равна 15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Прямая соединительная линия 25"/>
          <p:cNvSpPr/>
          <p:nvPr/>
        </p:nvSpPr>
        <p:spPr>
          <a:xfrm>
            <a:off x="2050920" y="5805360"/>
            <a:ext cx="655344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Прямоугольник 26"/>
          <p:cNvSpPr/>
          <p:nvPr/>
        </p:nvSpPr>
        <p:spPr>
          <a:xfrm>
            <a:off x="3019320" y="3860640"/>
            <a:ext cx="55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таток  целевых средств на начало дня 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Прямая соединительная линия 28"/>
          <p:cNvSpPr/>
          <p:nvPr/>
        </p:nvSpPr>
        <p:spPr>
          <a:xfrm>
            <a:off x="1619280" y="1197000"/>
            <a:ext cx="0" cy="511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Прямая соединительная линия 30"/>
          <p:cNvSpPr/>
          <p:nvPr/>
        </p:nvSpPr>
        <p:spPr>
          <a:xfrm>
            <a:off x="179280" y="3716280"/>
            <a:ext cx="8425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Прямоугольник 39"/>
          <p:cNvSpPr/>
          <p:nvPr/>
        </p:nvSpPr>
        <p:spPr>
          <a:xfrm>
            <a:off x="2340000" y="2565360"/>
            <a:ext cx="61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c22"/>
                </a:solidFill>
                <a:latin typeface="Times New Roman"/>
                <a:ea typeface="Times New Roman"/>
              </a:rPr>
              <a:t>Остаток  целевых средств на момент расчета суммы подкрепления 10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Прямоугольник 40"/>
          <p:cNvSpPr/>
          <p:nvPr/>
        </p:nvSpPr>
        <p:spPr>
          <a:xfrm>
            <a:off x="2411280" y="5148360"/>
            <a:ext cx="61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c22"/>
                </a:solidFill>
                <a:latin typeface="Times New Roman"/>
                <a:ea typeface="Times New Roman"/>
              </a:rPr>
              <a:t>Остаток  целевых средств на момент расчета суммы подкрепления минус 10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Прямоугольник 41"/>
          <p:cNvSpPr/>
          <p:nvPr/>
        </p:nvSpPr>
        <p:spPr>
          <a:xfrm>
            <a:off x="324000" y="191628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ень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Прямоугольник 42"/>
          <p:cNvSpPr/>
          <p:nvPr/>
        </p:nvSpPr>
        <p:spPr>
          <a:xfrm>
            <a:off x="324000" y="453060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ень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Прямоугольник 43"/>
          <p:cNvSpPr/>
          <p:nvPr/>
        </p:nvSpPr>
        <p:spPr>
          <a:xfrm>
            <a:off x="3405240" y="4797360"/>
            <a:ext cx="512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оступили ЗКР ПБС субъекта на сумму 5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7232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2671560" y="5660640"/>
            <a:ext cx="6257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ик Отдела методического обеспече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сового обслуживания исполнения бюджет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В. Малах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24920" cy="304920"/>
          </a:xfrm>
          <a:prstGeom prst="rect">
            <a:avLst/>
          </a:prstGeom>
          <a:ln w="0">
            <a:noFill/>
          </a:ln>
        </p:spPr>
      </p:pic>
      <p:sp>
        <p:nvSpPr>
          <p:cNvPr id="518" name="Номер слайда 16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410C-7883-4D88-B3C5-EB225E18D94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714240" y="324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4863"/>
                </a:solidFill>
                <a:latin typeface="Times New Roman"/>
              </a:rPr>
              <a:t>ПОВЫШЕНИЕ КАЧЕСТВА КОИБ СУБЪЕКТОВ РФ (МО) И УЧЕТА ОПЕРАЦИЙ СО СРЕДСТВАМИ НУБ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0"/>
          <p:cNvSpPr/>
          <p:nvPr/>
        </p:nvSpPr>
        <p:spPr>
          <a:xfrm>
            <a:off x="214200" y="714240"/>
            <a:ext cx="8715600" cy="6143760"/>
          </a:xfrm>
          <a:prstGeom prst="horizontalScrol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0" y="928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ширение сферы применения Сводной ЗКР (ф. 05318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8" descr=""/>
          <p:cNvPicPr/>
          <p:nvPr/>
        </p:nvPicPr>
        <p:blipFill>
          <a:blip r:embed="rId3"/>
          <a:srcRect l="2067" t="23253" r="21850" b="12918"/>
          <a:stretch/>
        </p:blipFill>
        <p:spPr>
          <a:xfrm>
            <a:off x="214200" y="1428840"/>
            <a:ext cx="3714840" cy="236052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14"/>
          <p:cNvSpPr/>
          <p:nvPr/>
        </p:nvSpPr>
        <p:spPr>
          <a:xfrm>
            <a:off x="285840" y="1500120"/>
            <a:ext cx="928440" cy="367560"/>
          </a:xfrm>
          <a:prstGeom prst="rect">
            <a:avLst/>
          </a:prstGeom>
          <a:solidFill>
            <a:srgbClr val="c4e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1000" spc="-1" strike="noStrike">
                <a:solidFill>
                  <a:srgbClr val="31859c"/>
                </a:solidFill>
                <a:latin typeface="Times New Roman"/>
              </a:rPr>
              <a:t>Сводная ЗК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3929040" y="1796040"/>
            <a:ext cx="507204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точнен реквизитный состав электронного формуляра «Сводная ЗКР», что позволяет применять Сводную ЗКР при перечислении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БТ из бюджетов бюджетной системы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убсидий на выполнение государственного задания, иных субсидий бюджетным (автономным) учреждени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нежных средств в форме субсидий бюджетным (автономным) учреждением своим обособленным подразделени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рплаты (алиментов), социальных выплат населению, выплат по соцстрахованию, при их перечислении на банковские счета физл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928800" y="3715920"/>
            <a:ext cx="8001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нежных средств на счет № 40116 удаленным получателям, уполномоченным подразделени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логов и сборов в бюджеты бюджетной системы РФ в случаях, предусмотренных Приказом № 8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1000080" y="4291920"/>
            <a:ext cx="792972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менение Сводной ЗКР не предусмотрено для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ведения внебанковских опер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ведения операций в рамках внутриказначейских расчетов в части перераспределения средств между органом управления ГВФ РФ и территориальным органом ГВФ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сания средств с лицевого счета для учета операций со средствами, поступающими во временное распоряжение ПБС, а также лицевого счета иного получателя бюджетных сред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Прямоугольник 18" descr=""/>
          <p:cNvPicPr/>
          <p:nvPr/>
        </p:nvPicPr>
        <p:blipFill>
          <a:blip r:embed="rId4"/>
          <a:stretch/>
        </p:blipFill>
        <p:spPr>
          <a:xfrm>
            <a:off x="-353880" y="3608280"/>
            <a:ext cx="2006640" cy="1970280"/>
          </a:xfrm>
          <a:prstGeom prst="rect">
            <a:avLst/>
          </a:prstGeom>
          <a:ln w="0">
            <a:noFill/>
          </a:ln>
        </p:spPr>
      </p:pic>
      <p:sp>
        <p:nvSpPr>
          <p:cNvPr id="528" name="Line 17"/>
          <p:cNvSpPr/>
          <p:nvPr/>
        </p:nvSpPr>
        <p:spPr>
          <a:xfrm flipV="1">
            <a:off x="1000080" y="5572080"/>
            <a:ext cx="7927920" cy="46080"/>
          </a:xfrm>
          <a:prstGeom prst="line">
            <a:avLst/>
          </a:prstGeom>
          <a:ln w="57240">
            <a:solidFill>
              <a:srgbClr val="ee7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 flipV="1">
            <a:off x="1000080" y="5954760"/>
            <a:ext cx="7929720" cy="46080"/>
          </a:xfrm>
          <a:prstGeom prst="line">
            <a:avLst/>
          </a:prstGeom>
          <a:ln w="57240">
            <a:solidFill>
              <a:srgbClr val="ee7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1071720" y="5572440"/>
            <a:ext cx="77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Times New Roman"/>
              </a:rPr>
              <a:t>ФК подготовлен проект  письма о порядке и правилах применения Сводной ЗК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7650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63"/>
          <p:cNvSpPr/>
          <p:nvPr/>
        </p:nvSpPr>
        <p:spPr>
          <a:xfrm>
            <a:off x="1547640" y="260280"/>
            <a:ext cx="63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СВОДНАЯ  ЗАЯВКА  НА  КАССОВЫЙ  РАС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6" descr=""/>
          <p:cNvPicPr/>
          <p:nvPr/>
        </p:nvPicPr>
        <p:blipFill>
          <a:blip r:embed="rId2"/>
          <a:stretch/>
        </p:blipFill>
        <p:spPr>
          <a:xfrm>
            <a:off x="142920" y="785880"/>
            <a:ext cx="8786880" cy="4786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1"/>
          <p:cNvSpPr/>
          <p:nvPr/>
        </p:nvSpPr>
        <p:spPr>
          <a:xfrm>
            <a:off x="714240" y="857160"/>
            <a:ext cx="2271960" cy="628920"/>
          </a:xfrm>
          <a:prstGeom prst="wedgeEllipseCallout">
            <a:avLst>
              <a:gd name="adj1" fmla="val 114810"/>
              <a:gd name="adj2" fmla="val 18886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. 1-7 – единые для всего доку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3"/>
          <p:cNvSpPr/>
          <p:nvPr/>
        </p:nvSpPr>
        <p:spPr>
          <a:xfrm>
            <a:off x="500040" y="557208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именение клиентом Сводной ЗКР возможно при условии, что оплата ДО осуществляется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 одному коду бюджетной классификации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 рамках одного Б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без представления документов, подтверждающих возникновение Д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1"/>
          <p:cNvSpPr/>
          <p:nvPr/>
        </p:nvSpPr>
        <p:spPr>
          <a:xfrm>
            <a:off x="6572160" y="5000760"/>
            <a:ext cx="2271960" cy="628560"/>
          </a:xfrm>
          <a:prstGeom prst="wedgeEllipseCallout">
            <a:avLst>
              <a:gd name="adj1" fmla="val 138"/>
              <a:gd name="adj2" fmla="val -10034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ая сумма гр. 18 = сумме гр.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179280" y="6164280"/>
            <a:ext cx="5761080" cy="360360"/>
          </a:xfrm>
          <a:prstGeom prst="rect">
            <a:avLst/>
          </a:prstGeom>
          <a:solidFill>
            <a:srgbClr val="098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780000" y="6164280"/>
            <a:ext cx="5113080" cy="360360"/>
          </a:xfrm>
          <a:prstGeom prst="rect">
            <a:avLst/>
          </a:prstGeom>
          <a:solidFill>
            <a:srgbClr val="054863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549D-6301-4ECE-BBCD-DA2061EED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50920" y="333360"/>
            <a:ext cx="85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Прямоугольник 34"/>
          <p:cNvSpPr/>
          <p:nvPr/>
        </p:nvSpPr>
        <p:spPr>
          <a:xfrm>
            <a:off x="1476360" y="1628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1071720" y="11520"/>
            <a:ext cx="73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4863"/>
                </a:solidFill>
                <a:latin typeface="Times New Roman"/>
              </a:rPr>
              <a:t>ОТДЕЛЬНЫЕ ВОПРОСЫ КОИБ СУБЪЕКТОВ РФ (МО) И УЧЕТА ОПЕРАЦИЙ СО СРЕДСТВАМИ НУБ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179280" y="1052640"/>
            <a:ext cx="871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4"/>
          <p:cNvSpPr/>
          <p:nvPr/>
        </p:nvSpPr>
        <p:spPr>
          <a:xfrm>
            <a:off x="2786040" y="1000080"/>
            <a:ext cx="6357960" cy="242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313"/>
          <p:cNvSpPr/>
          <p:nvPr/>
        </p:nvSpPr>
        <p:spPr>
          <a:xfrm>
            <a:off x="0" y="3500280"/>
            <a:ext cx="4464000" cy="0"/>
          </a:xfrm>
          <a:prstGeom prst="line">
            <a:avLst/>
          </a:prstGeom>
          <a:ln w="63360">
            <a:solidFill>
              <a:srgbClr val="ee7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314"/>
          <p:cNvSpPr/>
          <p:nvPr/>
        </p:nvSpPr>
        <p:spPr>
          <a:xfrm>
            <a:off x="0" y="6143760"/>
            <a:ext cx="4464000" cy="0"/>
          </a:xfrm>
          <a:prstGeom prst="line">
            <a:avLst/>
          </a:prstGeom>
          <a:ln w="63360">
            <a:solidFill>
              <a:srgbClr val="ee7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16"/>
          <p:cNvSpPr/>
          <p:nvPr/>
        </p:nvSpPr>
        <p:spPr>
          <a:xfrm>
            <a:off x="0" y="1285920"/>
            <a:ext cx="285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органом ФК бюджетных обязательств ПБС бюджета субъекта РФ (М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2857680" y="1011960"/>
            <a:ext cx="6286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номочия по учету БО передаются органу ФК на основании Соглашения об осуществлении отдельных функций по исполнению бюджет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 БО - в рамках технической возможности ФК (Приказ МФ РФ №98н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ядок устанавливает ФО (ст. 215.1, 219 Б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ПО АСФК реализована возможность проведения контроля БО ПБС бюджета субъекта РФ (МБ) на соответствие «Информации о Сведениях о госконтрактах» и «Информации о Сведениях об исполнении (расторжении) госонтрактов», размещенной на  соответствующем официальном сайте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16"/>
          <p:cNvSpPr/>
          <p:nvPr/>
        </p:nvSpPr>
        <p:spPr>
          <a:xfrm>
            <a:off x="142920" y="357192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крытие в органе ФК лицевых счетов НУБ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4"/>
          <p:cNvSpPr/>
          <p:nvPr/>
        </p:nvSpPr>
        <p:spPr>
          <a:xfrm>
            <a:off x="2786040" y="3571920"/>
            <a:ext cx="6357960" cy="250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8"/>
          <p:cNvSpPr/>
          <p:nvPr/>
        </p:nvSpPr>
        <p:spPr>
          <a:xfrm>
            <a:off x="2786040" y="3513600"/>
            <a:ext cx="63579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работан проект приказ ФК «О порядке осуществления ТОФК операций со средствами юр. лица (его обособленного подразделения), не являющегося УБП»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работан проект приказ ФК «О внесении изменений в Порядок открытия и ведения лицевых счетов ТОФК, утвержденный пр. ФК от 29.12.2012 № 24н»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региональным операторам, осуществляющим деятельность по обеспечению проведения капремонта в многоквартирных домах – нет оснований для открытия л. сч. в ТОФК (ст. 180 ЖК РФ) (МФ РФ направлены предложения в Минстрой России о внесении изменений в Ж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28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55" name="TextBox 63"/>
          <p:cNvSpPr/>
          <p:nvPr/>
        </p:nvSpPr>
        <p:spPr>
          <a:xfrm>
            <a:off x="1428840" y="0"/>
            <a:ext cx="64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ЫЕ ВОПРОСЫ ФИНАНСИРОВАНИЯ ЦЕЛЕВЫХ РАСХОДОВ БЮДЖЕТОВ СУБЪЕКТОВ РФ (МБ) ПОД ФАКТИЧЕСКУЮ ПОТРЕБ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91F1-9F46-4330-838B-2092B0AA6F4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Прямая со стрелкой 11"/>
          <p:cNvCxnSpPr/>
          <p:nvPr/>
        </p:nvCxnSpPr>
        <p:spPr>
          <a:xfrm>
            <a:off x="142920" y="3785760"/>
            <a:ext cx="8712720" cy="1080"/>
          </a:xfrm>
          <a:prstGeom prst="straightConnector1">
            <a:avLst/>
          </a:prstGeom>
          <a:ln w="66600">
            <a:solidFill>
              <a:srgbClr val="4a7ebb"/>
            </a:solidFill>
            <a:miter/>
            <a:tailEnd len="med" type="stealth" w="med"/>
          </a:ln>
        </p:spPr>
      </p:cxnSp>
      <p:sp>
        <p:nvSpPr>
          <p:cNvPr id="558" name="Text Box 4"/>
          <p:cNvSpPr/>
          <p:nvPr/>
        </p:nvSpPr>
        <p:spPr>
          <a:xfrm>
            <a:off x="108000" y="6093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й механиз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0" y="114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механиз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214200" y="15717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ие ЛБО на 14 л/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79280" y="394668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ие ЛБО на 03 л/с ГРБС Ф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42920" y="2000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ие ПОФР на 03 л/с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79280" y="5373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целевых средств на 4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067280" y="393372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поступлений и перечисление целевых средств на 402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227640" y="39337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ие ПОФ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3 л/с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0" y="25718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ЗКР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214200" y="30002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целевых средств на 402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227640" y="4581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ЗКР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4067280" y="206064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ссовый расход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622764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ссовый расход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Прямая соединительная линия 29"/>
          <p:cNvSpPr/>
          <p:nvPr/>
        </p:nvSpPr>
        <p:spPr>
          <a:xfrm>
            <a:off x="3851280" y="1125360"/>
            <a:ext cx="0" cy="518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179280" y="4365720"/>
            <a:ext cx="345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Представление ЗКР ГРБС Ф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……………………………</a:t>
            </a:r>
            <a:r>
              <a:rPr b="1" lang="ru-RU" sz="20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……………………………</a:t>
            </a:r>
            <a:r>
              <a:rPr b="1" lang="ru-RU" sz="20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Прямая соединительная линия 32"/>
          <p:cNvSpPr/>
          <p:nvPr/>
        </p:nvSpPr>
        <p:spPr>
          <a:xfrm>
            <a:off x="6012000" y="1125360"/>
            <a:ext cx="0" cy="518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Прямая соединительная линия 34"/>
          <p:cNvSpPr/>
          <p:nvPr/>
        </p:nvSpPr>
        <p:spPr>
          <a:xfrm>
            <a:off x="142920" y="1571760"/>
            <a:ext cx="8712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Прямая соединительная линия 35"/>
          <p:cNvSpPr/>
          <p:nvPr/>
        </p:nvSpPr>
        <p:spPr>
          <a:xfrm>
            <a:off x="250920" y="6093000"/>
            <a:ext cx="8713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Прямоугольник 36"/>
          <p:cNvSpPr/>
          <p:nvPr/>
        </p:nvSpPr>
        <p:spPr>
          <a:xfrm>
            <a:off x="3004920" y="12142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1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Прямоугольник 37"/>
          <p:cNvSpPr/>
          <p:nvPr/>
        </p:nvSpPr>
        <p:spPr>
          <a:xfrm>
            <a:off x="5148360" y="12142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2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Прямоугольник 38"/>
          <p:cNvSpPr/>
          <p:nvPr/>
        </p:nvSpPr>
        <p:spPr>
          <a:xfrm>
            <a:off x="8076960" y="12142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3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Прямоугольник 39"/>
          <p:cNvSpPr/>
          <p:nvPr/>
        </p:nvSpPr>
        <p:spPr>
          <a:xfrm>
            <a:off x="3064680" y="60832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1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Прямоугольник 40"/>
          <p:cNvSpPr/>
          <p:nvPr/>
        </p:nvSpPr>
        <p:spPr>
          <a:xfrm>
            <a:off x="5282280" y="60832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2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Прямоугольник 41"/>
          <p:cNvSpPr/>
          <p:nvPr/>
        </p:nvSpPr>
        <p:spPr>
          <a:xfrm>
            <a:off x="8105760" y="60753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3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Группа 15" descr=""/>
          <p:cNvPicPr/>
          <p:nvPr/>
        </p:nvPicPr>
        <p:blipFill>
          <a:blip r:embed="rId3"/>
          <a:stretch/>
        </p:blipFill>
        <p:spPr>
          <a:xfrm>
            <a:off x="2054160" y="841320"/>
            <a:ext cx="5462640" cy="40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85" name="TextBox 63"/>
          <p:cNvSpPr/>
          <p:nvPr/>
        </p:nvSpPr>
        <p:spPr>
          <a:xfrm>
            <a:off x="1403280" y="33336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РЕМЯ ПЕРЕЧИСЛЕНИЯ ЦЕЛЕВЫХ СРЕДСТВ В РАМКАХ ОДНОГО ОПЕРАЦИОННОГО Д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FE24-2825-449D-B9EC-06C463FC73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3"/>
          <a:stretch/>
        </p:blipFill>
        <p:spPr>
          <a:xfrm>
            <a:off x="428760" y="1000080"/>
            <a:ext cx="5545080" cy="5472000"/>
          </a:xfrm>
          <a:prstGeom prst="rect">
            <a:avLst/>
          </a:prstGeom>
          <a:ln w="0">
            <a:noFill/>
          </a:ln>
        </p:spPr>
      </p:pic>
      <p:sp>
        <p:nvSpPr>
          <p:cNvPr id="588" name="AutoShape 10"/>
          <p:cNvSpPr/>
          <p:nvPr/>
        </p:nvSpPr>
        <p:spPr>
          <a:xfrm>
            <a:off x="6000840" y="1571760"/>
            <a:ext cx="3000240" cy="457200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4572000"/>
              <a:gd name="textAreaBottom" fmla="*/ 4425840 h 4572000"/>
            </a:gdLst>
            <a:ahLst/>
            <a:rect l="textAreaLeft" t="textAreaTop" r="textAreaRight" b="textAreaBottom"/>
            <a:pathLst>
              <a:path w="21600" h="32914">
                <a:moveTo>
                  <a:pt x="3600" y="0"/>
                </a:moveTo>
                <a:arcTo wR="3600" hR="3600" stAng="16200000" swAng="-5400000"/>
                <a:lnTo>
                  <a:pt x="0" y="29314"/>
                </a:lnTo>
                <a:arcTo wR="3600" hR="3600" stAng="10800000" swAng="-5400000"/>
                <a:lnTo>
                  <a:pt x="18000" y="32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данны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изнес-процессом подкреп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диного счета бюджета субъек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Ф и кассовые выплаты получа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ств бюджета субъекта РФ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точником финансов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я которых являю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евые средства, осуществляю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амках одного рабочего дн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лучае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субъект РФ находи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дном часовом поясе с Москво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огого соблюдения отражен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Бизнес-процессе  време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ождения докумен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91" name="TextBox 63"/>
          <p:cNvSpPr/>
          <p:nvPr/>
        </p:nvSpPr>
        <p:spPr>
          <a:xfrm>
            <a:off x="1403280" y="333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ТАТОК, ДОСТУПНЫЙ К РАСПРЕДЕЛ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3872-A813-45AA-9421-5973CEEF76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179280" y="4149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расчета остатка, доступного к распределению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для бюджетов, в которых Соглашением предусмотрено доведение ПОФР в пределах свободного остатка на едином счете, т.к. до момента подкрепления ПОФР по новому механизму «на бумаге» уменьшают остаток, доступный к распред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Прямоугольник 37"/>
          <p:cNvSpPr/>
          <p:nvPr/>
        </p:nvSpPr>
        <p:spPr>
          <a:xfrm>
            <a:off x="684360" y="1341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е правило: </a:t>
            </a: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рганы ФК принимают платежные документы ПБС субъекта в пределах свободного остатка на едином сч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Прямоугольник 30"/>
          <p:cNvSpPr/>
          <p:nvPr/>
        </p:nvSpPr>
        <p:spPr>
          <a:xfrm>
            <a:off x="684360" y="2133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Новый механизм: </a:t>
            </a: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рганы ФК принимают платежные документы ПБС субъекта в пределах ЛБО на 14 л/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вниз 33"/>
          <p:cNvSpPr/>
          <p:nvPr/>
        </p:nvSpPr>
        <p:spPr>
          <a:xfrm>
            <a:off x="3924360" y="2852640"/>
            <a:ext cx="1008000" cy="79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e39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Прямоугольник 42"/>
          <p:cNvSpPr/>
          <p:nvPr/>
        </p:nvSpPr>
        <p:spPr>
          <a:xfrm>
            <a:off x="684360" y="36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Даже в случае «0» на счете бюджета, органы ФК  принимают ЗКР ПБ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63"/>
          <p:cNvSpPr/>
          <p:nvPr/>
        </p:nvSpPr>
        <p:spPr>
          <a:xfrm>
            <a:off x="1403280" y="333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ТАТОК, ДОСТУПНЫЙ К РАСПРЕДЕЛ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A676-C4F4-4708-99FB-767B151C7AA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24000" y="1197000"/>
          <a:ext cx="8064360" cy="4824360"/>
        </p:xfrm>
        <a:graphic>
          <a:graphicData uri="http://schemas.openxmlformats.org/drawingml/2006/table">
            <a:tbl>
              <a:tblPr/>
              <a:tblGrid>
                <a:gridCol w="403200"/>
                <a:gridCol w="1846080"/>
                <a:gridCol w="738360"/>
                <a:gridCol w="1403280"/>
                <a:gridCol w="896760"/>
                <a:gridCol w="1389240"/>
                <a:gridCol w="1387440"/>
              </a:tblGrid>
              <a:tr h="162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ступления и выб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остаток средств бюджета на начало дня,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 целевых средств, подлежащих контролю на начало дня,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ых средств на начало дня,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троки ф. 8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ок целевых средств на едином счете бюджета в разрезе КЦ на начало дн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ы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ок целевых средств на едином счете бюджета в разрезе КЦ на конец дн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 rowSpan="7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, субвенции и иные межбюджетные трансферты, имеющие целевое назначение, подлежащие контролю, всего: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по кодам цели: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, субвенции, контроль за использованием которых не возложен на органы Федерального казначейства, всего: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по кодам цели (при наличии):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, 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поступления и выплаты всего: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неклассифицированные поступлени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ы из л/с бюдж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ы из л/с АИФДБ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выплат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остаток средств бюджета на конец дня, 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х средств, подлежащих контролю, на конец дня,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ых средств на конец дня,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 gridSpan="7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Распределение предельных объемов финансир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0">
                <a:tc gridSpan="6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остаток средств бюджета, не связанный ПОФР, на начало дн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">
                <a:tc gridSpan="6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исключением ПОФР, доведенных по новому механиз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докумен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цел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ное расписа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05.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"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ное расписа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05.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0600"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ное расписа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05.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еделено ПОРФ 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по целевым средствам, подлежащим контролю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 по целевым средствам, предоставляемым по новому механиз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7600">
                <a:tc gridSpan="6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остаток средств бюджета, не связанный ПОФР на конец дн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исключением ПОФР, доведенных по новому механиз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05" name="TextBox 63"/>
          <p:cNvSpPr/>
          <p:nvPr/>
        </p:nvSpPr>
        <p:spPr>
          <a:xfrm>
            <a:off x="1403280" y="42552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ОЗВРАТ ДЕБИТОРСКОЙ ЗАДОЛЖЕННОСТИ ПРОШЛЫХ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AC02-CDF3-4834-84EA-DC1EE487DC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Прямоугольник 9"/>
          <p:cNvSpPr/>
          <p:nvPr/>
        </p:nvSpPr>
        <p:spPr>
          <a:xfrm>
            <a:off x="5651640" y="3635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ММА ПОДКРЕ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Прямоугольник 10"/>
          <p:cNvSpPr/>
          <p:nvPr/>
        </p:nvSpPr>
        <p:spPr>
          <a:xfrm>
            <a:off x="2771640" y="162864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УММА ПРИНЯТЫХ, НО НЕ ИСПОЛНЕННЫХ ЗКР ПБС СУБЪЕКТА РФ ПО СООТВЕТСТВУЮЩЕМУ КОДУ Ц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Прямоугольник 11"/>
          <p:cNvSpPr/>
          <p:nvPr/>
        </p:nvSpPr>
        <p:spPr>
          <a:xfrm>
            <a:off x="2987640" y="2349360"/>
            <a:ext cx="58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ТАТОК ЦЕЛЕВЫХ СРЕДСТВ НА ЕДИНОМ СЧЕТЕ БЮДЖЕТА СУБЪЕКТА РФ ПО СООТВЕТСТВУЮЩЕМУ КОДУ Ц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Прямоугольник 12"/>
          <p:cNvSpPr/>
          <p:nvPr/>
        </p:nvSpPr>
        <p:spPr>
          <a:xfrm>
            <a:off x="2268360" y="177336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ая соединительная линия 14"/>
          <p:cNvSpPr/>
          <p:nvPr/>
        </p:nvSpPr>
        <p:spPr>
          <a:xfrm>
            <a:off x="2916360" y="3429000"/>
            <a:ext cx="583236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Прямоугольная выноска 17"/>
          <p:cNvSpPr/>
          <p:nvPr/>
        </p:nvSpPr>
        <p:spPr>
          <a:xfrm>
            <a:off x="179280" y="3933720"/>
            <a:ext cx="4608720" cy="1656000"/>
          </a:xfrm>
          <a:prstGeom prst="wedgeRectCallout">
            <a:avLst>
              <a:gd name="adj1" fmla="val 40865"/>
              <a:gd name="adj2" fmla="val -11512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озврат ГРБС ФБ целевых средств в сумме подтвержденной потреб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0253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уммы подкрепления по аннулированным ЗК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0253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озврат дебиторской задолженности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екущего года и прошлых ле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- отрицательный остаток целевых сред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Прямоугольник 20"/>
          <p:cNvSpPr/>
          <p:nvPr/>
        </p:nvSpPr>
        <p:spPr>
          <a:xfrm>
            <a:off x="5003640" y="4508640"/>
            <a:ext cx="38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c2a"/>
                </a:solidFill>
                <a:latin typeface="Times New Roman"/>
                <a:ea typeface="Times New Roman"/>
              </a:rPr>
              <a:t>!!! Органы Федерального казначейства не обладают полномочиями по проверке источников образования остатка целевых сред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3:01:31Z</dcterms:created>
  <dc:creator>User49</dc:creator>
  <dc:description/>
  <dc:language>en-US</dc:language>
  <cp:lastModifiedBy>2302</cp:lastModifiedBy>
  <dcterms:modified xsi:type="dcterms:W3CDTF">2014-09-09T15:30:24Z</dcterms:modified>
  <cp:revision>546</cp:revision>
  <dc:subject/>
  <dc:title>О перспективах развития Федерального казначейства</dc:title>
</cp:coreProperties>
</file>