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82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1132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108-937E-4C79-8CD5-6B26CE75F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1168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C33-5FE3-4A3C-9CE5-E19BDF4D6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14920" y="937260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0B4EC99-BDE7-416C-82ED-C2AD688C0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4920" y="937260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E1D728C-C848-4132-978C-5203B06B8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251-BB6C-4CCB-AA76-5EB07C8D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759-183D-4CFB-A7B3-682FCC0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957-AEE8-49BE-AE00-6FCE1914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654-4114-4F78-9A25-9D41C265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B63-9D23-4A63-B226-0C68A15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898-F601-4D4C-ABCD-6F2233B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047-015B-424F-A412-FA60F95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7A6-1D31-43E7-A61D-9E0DCEB6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AC3-EEEA-4CBD-96FA-499976B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8BD-3B23-4C67-86F9-2CF9745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0F1-E3BF-459F-A556-19987C5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ADD-BBE7-49E3-8CE5-4D2BA41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F7E0-0CE8-4920-9159-06A1F62AC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Times New Roman"/>
              </a:rPr>
              <a:t>Отдельные вопросы, связанные с обеспечением с 1 января 2015 года наличными денежными средствами организаций, лицевые счета которым открыты в финансовых органах субъектов Российской Федерации (муниципальных образован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57880" y="5143680"/>
            <a:ext cx="35272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.Л. Засып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чальник Отдела обеспечения взаимодействия с банковской системой Управления совершенствования функц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857160" y="214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</a:rPr>
              <a:t>ОСНОВНЫЕ ПОЛОЖЕНИЯ, ПРЕДУСМОТРЕННЫЕ ПРИКАЗОМ ФЕДЕРАЛЬНОГО КАЗНАЧЕЙСТВА от 30.06.2014 № 10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хема 8" descr=""/>
          <p:cNvPicPr/>
          <p:nvPr/>
        </p:nvPicPr>
        <p:blipFill>
          <a:blip r:embed="rId1"/>
          <a:stretch/>
        </p:blipFill>
        <p:spPr>
          <a:xfrm>
            <a:off x="1401840" y="1474920"/>
            <a:ext cx="7102440" cy="554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:\OBMEN_FK\05\Коллегия 2013\Человечки\event-image-poster.jpg"/>
          <p:cNvPicPr/>
          <p:nvPr/>
        </p:nvPicPr>
        <p:blipFill>
          <a:blip r:embed="rId2"/>
          <a:stretch/>
        </p:blipFill>
        <p:spPr>
          <a:xfrm>
            <a:off x="142920" y="150012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5EAC-D02F-48DD-B447-D8B6FA2A76F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СНОВНЫЕ МЕРОПРИЯТИЯ ДОРОЖНОЙ КАРТЫ </a:t>
            </a:r>
            <a:br>
              <a:rPr sz="18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 ОБЕСПЕЧЕНИЮ ОРГАНИЗАЦИЙ НАЛИЧНЫМИ</a:t>
            </a:r>
            <a:br>
              <a:rPr sz="18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ДЕНЕЖНЫМИ СРЕДСТВАМИ </a:t>
            </a:r>
            <a:br>
              <a:rPr sz="1800"/>
            </a:b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8748720" y="623736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Прямоугольник с двумя скругленными соседними углами 11"/>
          <p:cNvGrpSpPr/>
          <p:nvPr/>
        </p:nvGrpSpPr>
        <p:grpSpPr>
          <a:xfrm>
            <a:off x="317520" y="963720"/>
            <a:ext cx="4132080" cy="2359080"/>
            <a:chOff x="317520" y="963720"/>
            <a:chExt cx="4132080" cy="2359080"/>
          </a:xfrm>
        </p:grpSpPr>
        <p:pic>
          <p:nvPicPr>
            <p:cNvPr id="58" name="Прямоугольник с двумя скругленными соседними углами 11" descr=""/>
            <p:cNvPicPr/>
            <p:nvPr/>
          </p:nvPicPr>
          <p:blipFill>
            <a:blip r:embed="rId1"/>
            <a:stretch/>
          </p:blipFill>
          <p:spPr>
            <a:xfrm>
              <a:off x="317520" y="963720"/>
              <a:ext cx="41320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44680" y="1143000"/>
              <a:ext cx="36828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Дорожной карты и согласование ее с финансовым органом субъекта Российской Федерации в срок до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 сентября 2014 г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" descr="C:\Users\Di\Dropbox\Проект! Закупки\PPT\CheckMark.png"/>
          <p:cNvPicPr/>
          <p:nvPr/>
        </p:nvPicPr>
        <p:blipFill>
          <a:blip r:embed="rId2"/>
          <a:stretch/>
        </p:blipFill>
        <p:spPr>
          <a:xfrm>
            <a:off x="500040" y="1428840"/>
            <a:ext cx="322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с двумя скругленными соседними углами 13"/>
          <p:cNvGrpSpPr/>
          <p:nvPr/>
        </p:nvGrpSpPr>
        <p:grpSpPr>
          <a:xfrm>
            <a:off x="390600" y="3462480"/>
            <a:ext cx="4132080" cy="2365200"/>
            <a:chOff x="390600" y="3462480"/>
            <a:chExt cx="4132080" cy="2365200"/>
          </a:xfrm>
        </p:grpSpPr>
        <p:pic>
          <p:nvPicPr>
            <p:cNvPr id="62" name="Прямоугольник с двумя скругленными соседними углами 13" descr=""/>
            <p:cNvPicPr/>
            <p:nvPr/>
          </p:nvPicPr>
          <p:blipFill>
            <a:blip r:embed="rId3"/>
            <a:stretch/>
          </p:blipFill>
          <p:spPr>
            <a:xfrm>
              <a:off x="390600" y="3462480"/>
              <a:ext cx="41320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15960" y="364320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совещаний-тренингов с участием представителей финансовых органов субъектов Российской Федерации (муниципальных образований) по разъяснению положений приказа Федерального казначейства от 30.06.201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с двумя скругленными соседними углами 14"/>
          <p:cNvGrpSpPr/>
          <p:nvPr/>
        </p:nvGrpSpPr>
        <p:grpSpPr>
          <a:xfrm>
            <a:off x="4675320" y="963720"/>
            <a:ext cx="4133880" cy="2359080"/>
            <a:chOff x="4675320" y="963720"/>
            <a:chExt cx="4133880" cy="2359080"/>
          </a:xfrm>
        </p:grpSpPr>
        <p:pic>
          <p:nvPicPr>
            <p:cNvPr id="65" name="Прямоугольник с двумя скругленными соседними углами 14" descr=""/>
            <p:cNvPicPr/>
            <p:nvPr/>
          </p:nvPicPr>
          <p:blipFill>
            <a:blip r:embed="rId4"/>
            <a:stretch/>
          </p:blipFill>
          <p:spPr>
            <a:xfrm>
              <a:off x="4675320" y="963720"/>
              <a:ext cx="41338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02120" y="114300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е извещения о проведении открытого аукциона в электронной форме на оказание банковских услуг по обслуживанию счетов № 40116 в срок до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5 сентября 2014 года.</a:t>
              </a:r>
              <a:r>
                <a:rPr b="0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рямоугольник с двумя скругленными соседними углами 15"/>
          <p:cNvGrpSpPr/>
          <p:nvPr/>
        </p:nvGrpSpPr>
        <p:grpSpPr>
          <a:xfrm>
            <a:off x="4675320" y="3389400"/>
            <a:ext cx="4133880" cy="2365200"/>
            <a:chOff x="4675320" y="3389400"/>
            <a:chExt cx="4133880" cy="2365200"/>
          </a:xfrm>
        </p:grpSpPr>
        <p:pic>
          <p:nvPicPr>
            <p:cNvPr id="68" name="Прямоугольник с двумя скругленными соседними углами 15" descr=""/>
            <p:cNvPicPr/>
            <p:nvPr/>
          </p:nvPicPr>
          <p:blipFill>
            <a:blip r:embed="rId5"/>
            <a:stretch/>
          </p:blipFill>
          <p:spPr>
            <a:xfrm>
              <a:off x="4675320" y="3389400"/>
              <a:ext cx="41338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902120" y="357192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случае признания аукционов в электронной форме по обслуживанию счетов № 40116 несостоявшимися осуществить в установленном порядке открытие счетов № 40116 в подразделениях Банка России в срок до </a:t>
              </a:r>
              <a:r>
                <a:rPr b="1" lang="en-US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ноября 2014 года</a:t>
              </a:r>
              <a:r>
                <a:rPr b="0" lang="en-US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2" descr="C:\Users\Di\Dropbox\Проект! Закупки\PPT\CheckMark.png"/>
          <p:cNvPicPr/>
          <p:nvPr/>
        </p:nvPicPr>
        <p:blipFill>
          <a:blip r:embed="rId6"/>
          <a:stretch/>
        </p:blipFill>
        <p:spPr>
          <a:xfrm>
            <a:off x="500040" y="378612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Di\Dropbox\Проект! Закупки\PPT\CheckMark.png"/>
          <p:cNvPicPr/>
          <p:nvPr/>
        </p:nvPicPr>
        <p:blipFill>
          <a:blip r:embed="rId7"/>
          <a:stretch/>
        </p:blipFill>
        <p:spPr>
          <a:xfrm>
            <a:off x="4786200" y="135720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Di\Dropbox\Проект! Закупки\PPT\CheckMark.png"/>
          <p:cNvPicPr/>
          <p:nvPr/>
        </p:nvPicPr>
        <p:blipFill>
          <a:blip r:embed="rId8"/>
          <a:stretch/>
        </p:blipFill>
        <p:spPr>
          <a:xfrm>
            <a:off x="4786200" y="378612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:\Человечки\predlogenie_dlya_aktivistov_otvetstvennih_initsiativnih_lyudey__1.jpg"/>
          <p:cNvPicPr/>
          <p:nvPr/>
        </p:nvPicPr>
        <p:blipFill>
          <a:blip r:embed="rId9"/>
          <a:stretch/>
        </p:blipFill>
        <p:spPr>
          <a:xfrm>
            <a:off x="3786120" y="5740560"/>
            <a:ext cx="1714680" cy="774720"/>
          </a:xfrm>
          <a:prstGeom prst="rect">
            <a:avLst/>
          </a:prstGeom>
          <a:ln w="0">
            <a:noFill/>
          </a:ln>
        </p:spPr>
      </p:pic>
      <p:grpSp>
        <p:nvGrpSpPr>
          <p:cNvPr id="74" name="Прямоугольник с двумя скругленными соседними углами 22"/>
          <p:cNvGrpSpPr/>
          <p:nvPr/>
        </p:nvGrpSpPr>
        <p:grpSpPr>
          <a:xfrm>
            <a:off x="317520" y="1103400"/>
            <a:ext cx="4132080" cy="2365200"/>
            <a:chOff x="317520" y="1103400"/>
            <a:chExt cx="4132080" cy="2365200"/>
          </a:xfrm>
        </p:grpSpPr>
        <p:pic>
          <p:nvPicPr>
            <p:cNvPr id="75" name="Прямоугольник с двумя скругленными соседними углами 22" descr=""/>
            <p:cNvPicPr/>
            <p:nvPr/>
          </p:nvPicPr>
          <p:blipFill>
            <a:blip r:embed="rId10"/>
            <a:stretch/>
          </p:blipFill>
          <p:spPr>
            <a:xfrm>
              <a:off x="317520" y="1103400"/>
              <a:ext cx="41320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44680" y="1285920"/>
              <a:ext cx="36828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Дорожной карты и согласование ее с финансовым органом субъекта Российской Федерации в срок до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1 сентября 2014 г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соседними углами 23"/>
          <p:cNvGrpSpPr/>
          <p:nvPr/>
        </p:nvGrpSpPr>
        <p:grpSpPr>
          <a:xfrm>
            <a:off x="4675320" y="1103400"/>
            <a:ext cx="4133880" cy="2365200"/>
            <a:chOff x="4675320" y="1103400"/>
            <a:chExt cx="4133880" cy="2365200"/>
          </a:xfrm>
        </p:grpSpPr>
        <p:pic>
          <p:nvPicPr>
            <p:cNvPr id="78" name="Прямоугольник с двумя скругленными соседними углами 23" descr=""/>
            <p:cNvPicPr/>
            <p:nvPr/>
          </p:nvPicPr>
          <p:blipFill>
            <a:blip r:embed="rId11"/>
            <a:stretch/>
          </p:blipFill>
          <p:spPr>
            <a:xfrm>
              <a:off x="4675320" y="1103400"/>
              <a:ext cx="41338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902120" y="128592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е извещения о проведении открытого аукциона в электронной форме на оказание банковских услуг по обслуживанию счетов № 40116 в срок до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5 сентября 2014 года.</a:t>
              </a:r>
              <a:r>
                <a:rPr b="0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C:\Users\Di\Dropbox\Проект! Закупки\PPT\CheckMark.png"/>
          <p:cNvPicPr/>
          <p:nvPr/>
        </p:nvPicPr>
        <p:blipFill>
          <a:blip r:embed="rId12"/>
          <a:stretch/>
        </p:blipFill>
        <p:spPr>
          <a:xfrm>
            <a:off x="428760" y="171468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Di\Dropbox\Проект! Закупки\PPT\CheckMark.png"/>
          <p:cNvPicPr/>
          <p:nvPr/>
        </p:nvPicPr>
        <p:blipFill>
          <a:blip r:embed="rId13"/>
          <a:stretch/>
        </p:blipFill>
        <p:spPr>
          <a:xfrm>
            <a:off x="4786200" y="1643040"/>
            <a:ext cx="32220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8" descr=""/>
          <p:cNvPicPr/>
          <p:nvPr/>
        </p:nvPicPr>
        <p:blipFill>
          <a:blip r:embed="rId1"/>
          <a:stretch/>
        </p:blipFill>
        <p:spPr>
          <a:xfrm>
            <a:off x="549360" y="1133640"/>
            <a:ext cx="8094600" cy="89028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4"/>
          <p:cNvSpPr/>
          <p:nvPr/>
        </p:nvSpPr>
        <p:spPr>
          <a:xfrm>
            <a:off x="571680" y="3571920"/>
            <a:ext cx="3857400" cy="21430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381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, если изменяются существенные условия государственного контракта - необходимо руководствоваться статьей 95 Федерального закона от 05.04.2013 № 44-Ф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000760" y="3571920"/>
            <a:ext cx="3786120" cy="21430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существенные условия государственного контракта не изменяются-  продолжить работу по обслуживанию счетов № 40116 в рамках ранее заключенных государственных контра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080" y="214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ВЕДЕНИЕ АУКЦИОНОВ В ЭЛЕКТРОН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2765\Рабочий стол\слайды\Человечки\199394-yana.jpg"/>
          <p:cNvPicPr/>
          <p:nvPr/>
        </p:nvPicPr>
        <p:blipFill>
          <a:blip r:embed="rId2"/>
          <a:stretch/>
        </p:blipFill>
        <p:spPr>
          <a:xfrm>
            <a:off x="3857760" y="2071800"/>
            <a:ext cx="1500120" cy="1428480"/>
          </a:xfrm>
          <a:prstGeom prst="rect">
            <a:avLst/>
          </a:prstGeom>
          <a:ln w="0">
            <a:noFill/>
          </a:ln>
        </p:spPr>
      </p:pic>
      <p:grpSp>
        <p:nvGrpSpPr>
          <p:cNvPr id="87" name="Стрелка вправо 11"/>
          <p:cNvGrpSpPr/>
          <p:nvPr/>
        </p:nvGrpSpPr>
        <p:grpSpPr>
          <a:xfrm>
            <a:off x="2170080" y="2981160"/>
            <a:ext cx="378000" cy="481320"/>
            <a:chOff x="2170080" y="2981160"/>
            <a:chExt cx="378000" cy="481320"/>
          </a:xfrm>
        </p:grpSpPr>
        <p:pic>
          <p:nvPicPr>
            <p:cNvPr id="88" name="Стрелка вправо 11" descr=""/>
            <p:cNvPicPr/>
            <p:nvPr/>
          </p:nvPicPr>
          <p:blipFill>
            <a:blip r:embed="rId3"/>
            <a:stretch/>
          </p:blipFill>
          <p:spPr>
            <a:xfrm>
              <a:off x="2170080" y="2981160"/>
              <a:ext cx="3780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5400000">
              <a:off x="2178360" y="3105720"/>
              <a:ext cx="3571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8"/>
          <p:cNvGrpSpPr/>
          <p:nvPr/>
        </p:nvGrpSpPr>
        <p:grpSpPr>
          <a:xfrm>
            <a:off x="5643720" y="2143080"/>
            <a:ext cx="2000160" cy="714600"/>
            <a:chOff x="5643720" y="2143080"/>
            <a:chExt cx="2000160" cy="714600"/>
          </a:xfrm>
        </p:grpSpPr>
        <p:sp>
          <p:nvSpPr>
            <p:cNvPr id="91" name="TextBox 7"/>
            <p:cNvSpPr/>
            <p:nvPr/>
          </p:nvSpPr>
          <p:spPr>
            <a:xfrm>
              <a:off x="5643720" y="2214360"/>
              <a:ext cx="2000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Т НЕОБХОДИ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Скругленный прямоугольник 13"/>
            <p:cNvSpPr/>
            <p:nvPr/>
          </p:nvSpPr>
          <p:spPr>
            <a:xfrm>
              <a:off x="5643720" y="2143080"/>
              <a:ext cx="2000160" cy="714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eb4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5"/>
          <p:cNvGrpSpPr/>
          <p:nvPr/>
        </p:nvGrpSpPr>
        <p:grpSpPr>
          <a:xfrm>
            <a:off x="1500120" y="2143080"/>
            <a:ext cx="2071800" cy="714600"/>
            <a:chOff x="1500120" y="2143080"/>
            <a:chExt cx="2071800" cy="714600"/>
          </a:xfrm>
        </p:grpSpPr>
        <p:sp>
          <p:nvSpPr>
            <p:cNvPr id="94" name="TextBox 6"/>
            <p:cNvSpPr/>
            <p:nvPr/>
          </p:nvSpPr>
          <p:spPr>
            <a:xfrm>
              <a:off x="1785600" y="2357280"/>
              <a:ext cx="17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ОБХОДИ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Скругленный прямоугольник 17"/>
            <p:cNvSpPr/>
            <p:nvPr/>
          </p:nvSpPr>
          <p:spPr>
            <a:xfrm>
              <a:off x="1500120" y="2143080"/>
              <a:ext cx="2000520" cy="714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eb4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22"/>
          <p:cNvGrpSpPr/>
          <p:nvPr/>
        </p:nvGrpSpPr>
        <p:grpSpPr>
          <a:xfrm>
            <a:off x="6456240" y="2981160"/>
            <a:ext cx="378000" cy="481320"/>
            <a:chOff x="6456240" y="2981160"/>
            <a:chExt cx="378000" cy="481320"/>
          </a:xfrm>
        </p:grpSpPr>
        <p:pic>
          <p:nvPicPr>
            <p:cNvPr id="97" name="Стрелка вправо 22" descr=""/>
            <p:cNvPicPr/>
            <p:nvPr/>
          </p:nvPicPr>
          <p:blipFill>
            <a:blip r:embed="rId4"/>
            <a:stretch/>
          </p:blipFill>
          <p:spPr>
            <a:xfrm>
              <a:off x="6456240" y="2981160"/>
              <a:ext cx="3780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5400000">
              <a:off x="6466320" y="3105720"/>
              <a:ext cx="3571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8810640" y="6308640"/>
            <a:ext cx="3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874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Блок-схема: процесс 41"/>
          <p:cNvGrpSpPr/>
          <p:nvPr/>
        </p:nvGrpSpPr>
        <p:grpSpPr>
          <a:xfrm>
            <a:off x="5194440" y="1547640"/>
            <a:ext cx="3108240" cy="2043360"/>
            <a:chOff x="5194440" y="1547640"/>
            <a:chExt cx="3108240" cy="2043360"/>
          </a:xfrm>
        </p:grpSpPr>
        <p:pic>
          <p:nvPicPr>
            <p:cNvPr id="103" name="Блок-схема: процесс 41" descr=""/>
            <p:cNvPicPr/>
            <p:nvPr/>
          </p:nvPicPr>
          <p:blipFill>
            <a:blip r:embed="rId1"/>
            <a:stretch/>
          </p:blipFill>
          <p:spPr>
            <a:xfrm>
              <a:off x="5194440" y="1547640"/>
              <a:ext cx="310824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214960" y="1571760"/>
              <a:ext cx="30718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разрабатывается с учетом положений, установленных законодательством  РФ  о контрактной системе в сфере закупок товаров, работ, услуг для государственных и муниципальных нуж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32" descr="C:\Users\Екатерина\Pictures\2012-06-20 001\13747.jpg"/>
          <p:cNvPicPr/>
          <p:nvPr/>
        </p:nvPicPr>
        <p:blipFill>
          <a:blip r:embed="rId2"/>
          <a:stretch/>
        </p:blipFill>
        <p:spPr>
          <a:xfrm>
            <a:off x="1214280" y="4643280"/>
            <a:ext cx="1785960" cy="1984680"/>
          </a:xfrm>
          <a:prstGeom prst="rect">
            <a:avLst/>
          </a:prstGeom>
          <a:ln w="0">
            <a:noFill/>
          </a:ln>
        </p:spPr>
      </p:pic>
      <p:grpSp>
        <p:nvGrpSpPr>
          <p:cNvPr id="106" name="Блок-схема: процесс 22"/>
          <p:cNvGrpSpPr/>
          <p:nvPr/>
        </p:nvGrpSpPr>
        <p:grpSpPr>
          <a:xfrm>
            <a:off x="5261040" y="3760920"/>
            <a:ext cx="3114720" cy="2043000"/>
            <a:chOff x="5261040" y="3760920"/>
            <a:chExt cx="3114720" cy="2043000"/>
          </a:xfrm>
        </p:grpSpPr>
        <p:pic>
          <p:nvPicPr>
            <p:cNvPr id="107" name="Блок-схема: процесс 22" descr=""/>
            <p:cNvPicPr/>
            <p:nvPr/>
          </p:nvPicPr>
          <p:blipFill>
            <a:blip r:embed="rId3"/>
            <a:stretch/>
          </p:blipFill>
          <p:spPr>
            <a:xfrm>
              <a:off x="5261040" y="3760920"/>
              <a:ext cx="31147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86240" y="3786120"/>
              <a:ext cx="30718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разрабатывается с учетом норм, установленных приказом Федерального казначейства № 10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Штриховая стрелка вправо 24"/>
          <p:cNvSpPr/>
          <p:nvPr/>
        </p:nvSpPr>
        <p:spPr>
          <a:xfrm>
            <a:off x="3357720" y="2714760"/>
            <a:ext cx="1334880" cy="2214360"/>
          </a:xfrm>
          <a:prstGeom prst="pie">
            <a:avLst/>
          </a:prstGeom>
          <a:solidFill>
            <a:srgbClr val="953735"/>
          </a:solidFill>
          <a:ln w="38160">
            <a:solidFill>
              <a:srgbClr val="953735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Блок-схема: процесс 11"/>
          <p:cNvGrpSpPr/>
          <p:nvPr/>
        </p:nvGrpSpPr>
        <p:grpSpPr>
          <a:xfrm>
            <a:off x="401760" y="2901960"/>
            <a:ext cx="2689200" cy="1762200"/>
            <a:chOff x="401760" y="2901960"/>
            <a:chExt cx="2689200" cy="1762200"/>
          </a:xfrm>
        </p:grpSpPr>
        <p:pic>
          <p:nvPicPr>
            <p:cNvPr id="111" name="Блок-схема: процесс 11" descr=""/>
            <p:cNvPicPr/>
            <p:nvPr/>
          </p:nvPicPr>
          <p:blipFill>
            <a:blip r:embed="rId4"/>
            <a:stretch/>
          </p:blipFill>
          <p:spPr>
            <a:xfrm>
              <a:off x="401760" y="2901960"/>
              <a:ext cx="26892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8760" y="2928960"/>
              <a:ext cx="264312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я об аукционе в электронной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2"/>
          <p:cNvSpPr/>
          <p:nvPr/>
        </p:nvSpPr>
        <p:spPr>
          <a:xfrm>
            <a:off x="1500120" y="214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СОБЕННОСТИ ДОКУМЕНТАЦИИ ОБ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ЭЛЕКТРОН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4" descr="1"/>
          <p:cNvPicPr/>
          <p:nvPr/>
        </p:nvPicPr>
        <p:blipFill>
          <a:blip r:embed="rId5"/>
          <a:stretch/>
        </p:blipFill>
        <p:spPr>
          <a:xfrm rot="9382200">
            <a:off x="950760" y="1247400"/>
            <a:ext cx="1554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28440" y="2999880"/>
            <a:ext cx="745308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Засыпкина</dc:creator>
  <dc:description/>
  <dc:language>en-US</dc:language>
  <cp:lastModifiedBy>2303</cp:lastModifiedBy>
  <dcterms:modified xsi:type="dcterms:W3CDTF">2014-09-10T05:06:00Z</dcterms:modified>
  <cp:revision>574</cp:revision>
  <dc:subject/>
  <dc:title>Слайд 1</dc:title>
</cp:coreProperties>
</file>