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A24-084E-445B-B722-F67A88E6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747-6CA2-4B13-A38B-88ED312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C6F-E4CF-409E-A814-7CBE3AE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2C9-C975-4F98-ACC4-C8272ED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6A6-1D74-436A-8394-0AFBAAF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62F-7100-4F13-8D00-7932086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039-DC40-4104-A469-ECE70F2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D54-F737-4621-BE9C-63EC348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FD2-84EA-42FB-8D75-63E80C01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EBA-1CE2-4409-AC03-DFC9FDA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096-E6E6-4F9A-AA88-85E2C05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582-0B51-4D2E-AC23-6BEC6BE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0480-D6C6-4AD8-A6EB-09FE232B8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дзаголовок 2"/>
          <p:cNvSpPr/>
          <p:nvPr/>
        </p:nvSpPr>
        <p:spPr>
          <a:xfrm>
            <a:off x="142920" y="1857240"/>
            <a:ext cx="88581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62387"/>
                </a:solidFill>
                <a:latin typeface="Arial"/>
              </a:rPr>
              <a:t>Повышение качества кассового обслуживания исполнения бюджетов Пенсионного фонда Российской Федерации и Фонда социального страхования Российской Федерации территориальными органами Федерального казначей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92720" y="5157720"/>
            <a:ext cx="374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ик Отдела кассового обслуживания исполнения бюджетов государственных внебюджетных фондов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.А. Ковал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08000" y="544500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912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Направления совершенствования кассового обслуживания исполнения бюджетов государственных внебюджетных фондов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E236-ABE1-4D23-88D3-9E05316617D9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826920" y="1844640"/>
            <a:ext cx="7561440" cy="1008720"/>
            <a:chOff x="826920" y="1844640"/>
            <a:chExt cx="7561440" cy="1008720"/>
          </a:xfrm>
        </p:grpSpPr>
        <p:sp>
          <p:nvSpPr>
            <p:cNvPr id="48" name="AutoShape 12"/>
            <p:cNvSpPr/>
            <p:nvPr/>
          </p:nvSpPr>
          <p:spPr>
            <a:xfrm>
              <a:off x="826920" y="1844640"/>
              <a:ext cx="7561440" cy="100728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1031040" y="1844640"/>
              <a:ext cx="717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менение Сводной заявки на кассовый расход (для уплаты налогов) (код формы по КФ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531860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осуществлении кассовых выплат клиент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826920" y="4437000"/>
            <a:ext cx="7561440" cy="1051920"/>
            <a:chOff x="826920" y="4437000"/>
            <a:chExt cx="7561440" cy="1051920"/>
          </a:xfrm>
        </p:grpSpPr>
        <p:sp>
          <p:nvSpPr>
            <p:cNvPr id="51" name="AutoShape 12"/>
            <p:cNvSpPr/>
            <p:nvPr/>
          </p:nvSpPr>
          <p:spPr>
            <a:xfrm>
              <a:off x="826920" y="4437000"/>
              <a:ext cx="7561440" cy="105192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1031040" y="4437000"/>
              <a:ext cx="717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реход к функционированию единых счетов ПФР и ФСС РФ по аналогии с единым счетом федерального бюдж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6"/>
          <p:cNvGrpSpPr/>
          <p:nvPr/>
        </p:nvGrpSpPr>
        <p:grpSpPr>
          <a:xfrm>
            <a:off x="826920" y="3284640"/>
            <a:ext cx="7561440" cy="729720"/>
            <a:chOff x="826920" y="3284640"/>
            <a:chExt cx="7561440" cy="729720"/>
          </a:xfrm>
        </p:grpSpPr>
        <p:sp>
          <p:nvSpPr>
            <p:cNvPr id="54" name="AutoShape 12"/>
            <p:cNvSpPr/>
            <p:nvPr/>
          </p:nvSpPr>
          <p:spPr>
            <a:xfrm>
              <a:off x="826920" y="3284640"/>
              <a:ext cx="7561440" cy="72972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1031040" y="3284640"/>
              <a:ext cx="71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36180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спользование механизма «Автосанкционирование» при осуществлении кассовых выплат клиента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5" descr="MC900423567[1]"/>
          <p:cNvPicPr/>
          <p:nvPr/>
        </p:nvPicPr>
        <p:blipFill>
          <a:blip r:embed="rId1"/>
          <a:stretch/>
        </p:blipFill>
        <p:spPr>
          <a:xfrm>
            <a:off x="179280" y="1773360"/>
            <a:ext cx="6080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MC900423567[1]"/>
          <p:cNvPicPr/>
          <p:nvPr/>
        </p:nvPicPr>
        <p:blipFill>
          <a:blip r:embed="rId2"/>
          <a:stretch/>
        </p:blipFill>
        <p:spPr>
          <a:xfrm>
            <a:off x="179280" y="3068640"/>
            <a:ext cx="608040" cy="112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MC900423567[1]"/>
          <p:cNvPicPr/>
          <p:nvPr/>
        </p:nvPicPr>
        <p:blipFill>
          <a:blip r:embed="rId3"/>
          <a:stretch/>
        </p:blipFill>
        <p:spPr>
          <a:xfrm>
            <a:off x="179280" y="4365720"/>
            <a:ext cx="6080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561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именение Сводной заявки на кассовый расход (для уплаты налогов) (код формы по КФД 0531860)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3B4-DADD-4CA0-9EDD-752E6402ADF1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7021440" cy="23526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1"/>
          <p:cNvSpPr/>
          <p:nvPr/>
        </p:nvSpPr>
        <p:spPr>
          <a:xfrm>
            <a:off x="3059280" y="3500280"/>
            <a:ext cx="2808000" cy="64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829"/>
          <p:cNvSpPr/>
          <p:nvPr/>
        </p:nvSpPr>
        <p:spPr>
          <a:xfrm>
            <a:off x="539640" y="443700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дная заявка на кассовый расход (для уплаты налогов) будет использоваться не только для уплаты налогов, но и для осуществления любых кассовых выплат                                              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в том числе для перечисления социальных выплат и пособий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семи участниками бюджетного процесса                                                                                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в том числе государственными внебюджетными фонд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830"/>
          <p:cNvSpPr/>
          <p:nvPr/>
        </p:nvSpPr>
        <p:spPr>
          <a:xfrm>
            <a:off x="179280" y="1125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0000"/>
                </a:solidFill>
                <a:latin typeface="Arial"/>
              </a:rPr>
              <a:t>После внесения изменений в приказы Федерального казначейства                от 17 июня 2013 г. № 6н и                 от 23 августа 2013 г. № 1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6480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одкрепление счетов № 40101 УФК для осуществления возврата (зачета, уточнения) администраторами доходов бюджетов государственных внебюджетных фондов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956-CA37-4CAE-90A5-6D9758A6B8D2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0920" y="49417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репление счетов № 40101 УФК для осуществления возврата (зачета, уточнения) администраторами доходов бюджетов государственных внебюджетных фондов будет осуществляться по аналогии с федеральным бюджетом со счетов № 40401 (№ 40402)     МОУ ФК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на основании Консолидированных заявок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ученных от У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79280" y="1125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0000"/>
                </a:solidFill>
                <a:latin typeface="Arial"/>
              </a:rPr>
              <a:t>После внесения изменений в приказ Министерства финансов Российской Федерации от 18 декабря 2013 г. № 12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6084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полагаемая схема функционирования единого счета      № 40401 «Пенсионный фонд Российской Федерации»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023E-D588-4415-8895-DD9C11E45AA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24000" y="551664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324000" y="907920"/>
          <a:ext cx="8424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424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5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полагаемая схема функционирования единого счета              № 40402 «Фонд социального страхования Российской Федерации»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CE4-DC76-483E-8390-6601BF110E64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4000" y="551664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324000" y="907920"/>
          <a:ext cx="8424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424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561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ставление клиентами Расшифровки к расчетному документу (код формы по КФД 0531806) 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6C65-EFD1-4115-B9FC-DF4DC9BE98D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2637000"/>
            <a:ext cx="4103640" cy="139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0000"/>
                </a:solidFill>
                <a:latin typeface="Arial"/>
              </a:rPr>
              <a:t>Абзац 9 пункта 20 приказа Федерального казначейства от 23 августа 2013 г. № 12н  </a:t>
            </a:r>
            <a:r>
              <a:rPr b="1" lang="ru-RU" sz="1200" spc="-1" strike="noStrike">
                <a:solidFill>
                  <a:srgbClr val="162387"/>
                </a:solidFill>
                <a:latin typeface="Arial"/>
              </a:rPr>
              <a:t>(действующая реда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сшифровка к расчетному документу (код формы по КФД 0531806) не представляется, если в расчетном докум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 реквизите «Назначение платежа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указаны необходимые коды бюджетной классифик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1125360"/>
            <a:ext cx="42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несения изменений в приказ Федерального казначейства                от 23 августа 2013 г. № 1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с 1 января 201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08780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324000" y="4869000"/>
            <a:ext cx="4103640" cy="139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0000"/>
                </a:solidFill>
                <a:latin typeface="Arial"/>
              </a:rPr>
              <a:t>Абзац 9 пункта 20 приказа Федерального казначейства от 23 августа 2013 г. № 12н       </a:t>
            </a:r>
            <a:r>
              <a:rPr b="1" lang="ru-RU" sz="1200" spc="-1" strike="noStrike">
                <a:solidFill>
                  <a:srgbClr val="162387"/>
                </a:solidFill>
                <a:latin typeface="Arial"/>
              </a:rPr>
              <a:t>(новая реда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сшифровка к расчетному документу (код формы по КФД 0531806) не представляется, если в расчетном докум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 электронном вид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указаны необходимые коды бюджетной классифик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1692360" y="4149720"/>
            <a:ext cx="143964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4716360" y="1197000"/>
            <a:ext cx="4248360" cy="511164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 flipH="1">
            <a:off x="4716000" y="1197000"/>
            <a:ext cx="4248360" cy="511164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912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ерспективы расширения эксперимента по выплате социальных пособий ФСС РФ на счета физических лиц</a:t>
            </a: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в 2015 году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198-5FB6-43E3-B9CF-3A356E496B35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1116000" y="1268280"/>
          <a:ext cx="7083360" cy="54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7083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ВКС</cp:lastModifiedBy>
  <dcterms:modified xsi:type="dcterms:W3CDTF">2014-09-10T05:21:41Z</dcterms:modified>
  <cp:revision>102</cp:revision>
  <dc:subject/>
  <dc:title>Слайд 1</dc:title>
</cp:coreProperties>
</file>