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B0B28-64F9-4EE2-A588-40D4B98863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B3923-FBD6-4D3D-8A6F-6366D4FF9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AD153-DAF2-4CC8-8FD8-E99F0060AA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Верхний колонтитул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EF6-091C-4441-8C21-19031913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57D-A96B-4CD5-855D-B9FA59E6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10D-1157-4265-8032-98D9564E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5C1-6866-4E4E-8868-5915A772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3D21-3975-4D3A-B3CA-F7B1A47F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2F1-0370-4413-AFEC-95F1AAE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F08-5073-4AD3-BA2C-ED931D4F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69E-EE0C-43D6-9229-3CA2EFB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0E7-1E39-4B19-8F48-91AE31A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B71-FB52-45C7-9461-A352BD97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FEBC-2BA2-43DE-9445-A9E7C53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A79-CD3A-4EFD-B8CB-17CD677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8C5-3257-445E-A65C-CB9F038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8E29-7667-4083-A016-EA7FC3A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1012-370E-49B7-9C66-714064A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6D01-9742-4153-9DFD-DB3AF14F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8E8-5278-4ABF-A195-16C9A611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432D-DE16-4145-B34B-3B0334B0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02BE-7214-466C-830E-B20F441F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1DB1-00CB-430A-882C-63CC587D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295E-F4A9-4EE8-8F9D-222F0933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EA75-847C-4BF3-BB2E-A9D67E8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759-3A1E-4275-8E6B-57383AA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644F-4A81-4A66-97D6-A7E8C2D9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A093-EB70-4C75-A6EB-61AEA66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5E76-2BB4-4CAA-8B0B-5434077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577B-0CF5-44ED-9484-E54FBE3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E46B-24DE-4069-805C-D7B2FB62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3AF1-2200-4FF3-B418-8F2A7327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0AED-3024-4806-99D7-80164521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20E0-2352-4809-A163-A1F84761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F551-CD12-402C-82F6-71AB407B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F2F0-D8B8-4859-BDE5-A31438F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7D9-DE9F-40E7-8CCC-9FCCB056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8906-1B20-4DCD-B6C5-956164C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0F75-4274-431F-8C04-353D480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A75C-C2C9-4629-A791-00228C92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E3FD-7D1C-40D8-95C9-B2E9B5C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C779-AB90-406C-B0C8-1FEDA1F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3A1C-CDCF-4EB5-B7FF-5B18720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2B44-9831-47DB-B582-C9B035A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5809-A7BC-4B6D-9966-4AEF8E8E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CCE5-3077-46B4-8284-BE33C16C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2389-3BC1-4111-8450-57BA79C6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822-3DEC-433A-B888-C56D612A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08D73-68B4-45DB-8DD5-FDF17E5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61EE-E88B-40A7-83D2-F8AB32D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36F6-AF21-488A-9012-757C2DC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1582-8C9B-4248-BFFE-44AC09CE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D8FC-B2DF-4D64-BF8A-49A94DB4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E5C9-69FB-4F6C-BA85-334E6D6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DF5EA-D64E-4C11-A710-D8078FE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2876-258E-446F-81DA-5CCA0DE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CA65-6D15-4CDE-86CE-8A11FBC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C6DD-9414-4523-A4C1-4E7671AB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D31-C044-4F56-8EDF-ED20FCC3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EAE6-A5F5-4FC9-ACCD-B872F2BE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45DB4-E792-43A2-89B5-B127B52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752C9-C6EE-466E-A791-540E7864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E1FD3-52C6-431B-9FF5-92565960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F6D5-A7DB-40C7-B282-7AD156E4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6EA3-A89E-4D96-BE93-B24D40E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66B5-6EE9-49CE-BB74-82D03C50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1058F-C314-4CBA-B864-FD88DF9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5E1E0-82F5-4131-B4D7-63F718D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C751-8910-4A1D-A648-EEA0F26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0DC-800D-4CCD-A75B-EC6F135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9558-065A-4775-B86C-A18469C7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8B92-75AF-43B8-B94A-D6108A5E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88A6-C24D-4A21-AF83-494FC944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88F-A0AC-4630-BD7B-A7F1ED5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886-E101-4C2B-B96C-D31BF29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A7A9-08B7-48FF-A0E9-EE4E7E8301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AAFAF88-252C-402C-B61D-E5960C4945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72AE-DF42-43BD-B4C0-DBCBD305D5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34F4351-DAC2-4753-8740-6921563255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49BF-D24F-48D3-9105-490664913CE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809CC2-D14E-46C3-886C-493FBDCEA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/>
            <a:ahLst/>
            <a:rect l="l" t="t" r="r" b="b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/>
            <a:ahLst/>
            <a:rect l="l" t="t" r="r" b="b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1A69-4047-4E74-A051-AB33F8C756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70C7B85-197E-4C3E-9E5F-893EFCED6E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/>
            <a:ahLst/>
            <a:rect l="l" t="t" r="r" b="b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177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/>
            <a:ahLst/>
            <a:rect l="l" t="t" r="r" b="b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CDA9-7E30-42E7-B5D3-141922E491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EAD0B7B-7F9E-40D5-8E6B-37D335DAA7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/>
            <a:ahLst/>
            <a:rect l="l" t="t" r="r" b="b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/>
            <a:ahLst/>
            <a:rect l="l" t="t" r="r" b="b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2655-AF2F-45EE-93D6-C198FED68CD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49167B4-1827-4E82-9AFD-1EEFD4AC8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95280" y="14439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Актуальные вопросы администрирования доходов бюджетов бюджетной систем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MF_emblema [Converted]"/>
          <p:cNvPicPr/>
          <p:nvPr/>
        </p:nvPicPr>
        <p:blipFill>
          <a:blip r:embed="rId1"/>
          <a:stretch/>
        </p:blipFill>
        <p:spPr>
          <a:xfrm>
            <a:off x="755640" y="83664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0" y="486900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ладчик: О.В. Парш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ьник отдела методологии исполнения бюджетов по доходам и источникам финансирования дефицита Департамента бюджетной метод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57120" y="414324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840" y="691920"/>
            <a:ext cx="86598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Изменения</a:t>
            </a: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в БК РФ</a:t>
            </a: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ст. 160.1 «Бюджетные полномочия главного администратора (администратора) доходов бюджета»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Главный администратор доходов бюджета обладает следующими бюджетными полномочиями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      ….</a:t>
            </a:r>
            <a:br>
              <a:rPr sz="32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станавливает методику прогнозирования поступлений доходов в бюджет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160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2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«Бюджетные полномочия главного администратора (администратора) источников финансирования дефицита бюджета» </a:t>
            </a:r>
            <a:br>
              <a:rPr sz="2400"/>
            </a:b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….</a:t>
            </a: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Главный администратор источников финансирования дефицита бюджета обладает следующими бюджетными полномочиями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: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станавливает методику прогнозирования поступлений по источникам финансирования дефицита бюджета</a:t>
            </a:r>
            <a:br>
              <a:rPr sz="3200"/>
            </a:b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0" name="Прямоугольник 2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97080" y="63036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21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главу 23.3 части второй Налогового кодекса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50920" y="2349000"/>
            <a:ext cx="8542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лава 25.3. ГОСУДАРСТВЕННАЯ ПОШЛ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оном предусмотрена индексация размеров государственной пошлины за совершение юридически значимых действий на уровень накопленной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2009 года по 2014 год инфляци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он вступает в силу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1 января 2015 года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 Положения Закона в части установления государственной пошлины за лицензирование деятельности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 управлению многоквартирными домам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вступили в силу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1 сентября 2014 года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оном предусмотрен понижающий коэффициент 0,7 для оплаты государственной пошлины в электронной форме через порталы государственных и муниципальных услуг. Согласно Закону указанные положения применяются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1 января 2015 года по 1 января 2019 год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97080" y="563040"/>
            <a:ext cx="8785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21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главу 23.3 части второй Налогового кодекса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</a:rPr>
              <a:t>                </a:t>
            </a:r>
            <a:r>
              <a:rPr b="0" i="1" lang="ru-RU" sz="2400" spc="-1" strike="noStrike">
                <a:solidFill>
                  <a:srgbClr val="00b0f0"/>
                </a:solidFill>
                <a:latin typeface="Times New Roman"/>
              </a:rPr>
              <a:t>Приказ Минфина России от 29</a:t>
            </a:r>
            <a:r>
              <a:rPr b="0" i="1" lang="en-US" sz="2400" spc="-1" strike="noStrike">
                <a:solidFill>
                  <a:srgbClr val="00b0f0"/>
                </a:solidFill>
                <a:latin typeface="Times New Roman"/>
              </a:rPr>
              <a:t>.08.2014 </a:t>
            </a:r>
            <a:r>
              <a:rPr b="0" i="1" lang="ru-RU" sz="2400" spc="-1" strike="noStrike">
                <a:solidFill>
                  <a:srgbClr val="00b0f0"/>
                </a:solidFill>
                <a:latin typeface="Times New Roman"/>
              </a:rPr>
              <a:t>№ 88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000 1 08 07400 01 0000 110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 Государственная пошлина за действия уполномоченных органов субъектов Российской Федерации, связанные с лицензированием предпринимательской деятельности по управлению многоквартирными до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640" y="112500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50560" y="2781360"/>
            <a:ext cx="8785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50. Налоговые доходы федеральн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ой пошлины за совершение федеральными органами исполнительной власти юридически значимых действий в случае подачи заявления и (или) документов, необходимых для их совершения, в многофункциональный центр предоставления государственных и муниципальных услуг - по нормативу 50 проце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60" y="99540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50560" y="2349360"/>
            <a:ext cx="8785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56. Налоговые доходы бюджетов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за действия уполномоченных органов субъектов Российской Федерации, связанные с лицензированием предпринимательской деятельности по управлению многоквартирными дом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ой пошлины (подлежащей зачислению по месту государственной регистрации, совершения юридически значимых действий или выдачи документов) за совершение федеральными органами исполнительной власти юридически значимых действий в случае подачи заявления и (или) документов, необходимых для их совершения, в многофункциональный центр предоставления государственных и муниципальных услуг - по нормативу 50 процен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3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, удостоверяющего личность гражданина Российской Федерации за пределами территории Российской Федераци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4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 государственная пошлина за выдачу паспорта, удостоверяющего личность гражданина Российской Федерации за пределами территории Российской Федерации, содержащего электронный носитель информации (паспорта нового поколения)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5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, удостоверяющего личность гражданина Российской Федерации за пределами территории Российской Федерации, гражданину Российской Федерации в возрасте до 14 лет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995040"/>
            <a:ext cx="8785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2800"/>
            </a:b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8000" y="213336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6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 государственная пошлина за выдачу паспорта, удостоверяющего личность гражданина Российской Федерации за пределами территории Российской Федерации, содержащего электронный носитель информации (паспорта нового поколения), гражданину Российской Федерации в возрасте до 14 лет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7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несение изменений в паспорт, удостоверяющего личность гражданина Российской Федерации за пределами территории Российской Федераци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000 1 08 07010 01 0000 110 «Государственная пошлина за регистрацию юридических лиц, физических лиц в качестве индивидуальных предпринимателей, изменений, вносимых в учредительные документы юридического лица и другие юридически значимые действия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риме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0 – 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000 1 08 07020 01 0000 110 «Государственная пошлина за государственную регистрацию прав, ограничений (обременений) прав на недвижимое имущество и сделок с ним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риме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0 – (при обращении через многофункциональные центры)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34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 гражданина Российской Федераци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35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 гражданина Российской Федерации взамен утраченного или пришедшего в негодность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79280" y="2708280"/>
            <a:ext cx="885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000 1 08 07141 01 0000 110 «Государственная пошлина за государственную регистрацию транспортных средств и иные юридически значимые действия уполномоченных федеральных государственных органов, связанных с изменением и выдачей документов на транспортные средства, регистрационных знаков, водительских удостоверений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риме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0 – (при обращении через многофункциональные центр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514185"/>
                </a:solidFill>
                <a:uFillTx/>
                <a:latin typeface="Times New Roman"/>
              </a:rPr>
              <a:t>Администрирование штрафов</a:t>
            </a:r>
            <a:br>
              <a:rPr sz="38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налагаемых на основании протоколов составленных должностными лицами контрольно-счетных органов субъектов Российской Фед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Times New Roman"/>
              </a:rPr>
              <a:t>Вариант 1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ГАД = КСО субъекта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протоко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Times New Roman"/>
              </a:rPr>
              <a:t>Вариант 2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ГАД = ОИВ субъекта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протоко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1"/>
          <p:cNvSpPr/>
          <p:nvPr/>
        </p:nvSpPr>
        <p:spPr>
          <a:xfrm>
            <a:off x="539640" y="3141720"/>
            <a:ext cx="2592360" cy="7920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СО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ны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трелка вправо 5"/>
          <p:cNvSpPr/>
          <p:nvPr/>
        </p:nvSpPr>
        <p:spPr>
          <a:xfrm>
            <a:off x="3492360" y="3429000"/>
            <a:ext cx="2087640" cy="13824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6194520" y="3141720"/>
            <a:ext cx="2409840" cy="7920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ировой суд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3508200" y="5300640"/>
            <a:ext cx="2127600" cy="2127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9"/>
          <p:cNvSpPr/>
          <p:nvPr/>
        </p:nvSpPr>
        <p:spPr>
          <a:xfrm>
            <a:off x="539640" y="5084640"/>
            <a:ext cx="25923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СО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ны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6194520" y="5119560"/>
            <a:ext cx="240984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ИВ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"/>
          <p:cNvSpPr/>
          <p:nvPr/>
        </p:nvSpPr>
        <p:spPr>
          <a:xfrm>
            <a:off x="7975440" y="549360"/>
            <a:ext cx="1152720" cy="43164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Проект федерального закона № 529548-6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Бюджетный кодекс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2492280"/>
            <a:ext cx="8324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атья 41. Виды доходов бюдж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6. Нормативные правовые акты, договоры, в соответствии с которыми уплачиваются платежи, являющиеся источниками неналоговых доходов бюджетов, должны предусматривать положения о порядке их исчисления, размере, сроках и (или) условиях уплат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7991640" y="53964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181080" y="77904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Проект федерального закона № 529548-6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Бюджетный кодекс Российской Федерации»   </a:t>
            </a:r>
            <a:br>
              <a:rPr sz="3200"/>
            </a:b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атья 160.1. Бюджетные полномочия главного администратора (администратора) доходов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дминистратор доходов бюджета обладает следующими бюджетными полномочи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     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принимает решение о признании безнадежными к    взысканию и списании начисленных сумм платежей в бюджет, уплата и (или) взыскание которых невозможны, в соответствии с законодательством Российской Федерации  и (или) общими требованиями, установленных Министерством финансов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Проект федерального закона № 529548-6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Бюджетный кодекс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47840" y="2491920"/>
            <a:ext cx="8324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ведение новой ст. 47.1 «Перечень и реестры источников доходов бюджетов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зменения в ст. 160.1 «Бюджетные полномочия главного администратора (администратора) доходов бюджет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зменения в ст. 165 «Бюджетные полномочия Министерства финансо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зменения в ст. 166.1 «Бюджетные полномочия Федерального казначейств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797256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74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Статья 4</a:t>
            </a:r>
            <a:r>
              <a:rPr b="0" lang="en-US" sz="2800" spc="-1" strike="noStrike">
                <a:solidFill>
                  <a:srgbClr val="514185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.1 БК РФ «Перечень и реестры источников доходов бюджетов»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98" name="Овал 4"/>
          <p:cNvSpPr/>
          <p:nvPr/>
        </p:nvSpPr>
        <p:spPr>
          <a:xfrm>
            <a:off x="3568680" y="1557360"/>
            <a:ext cx="2927520" cy="120492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естр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9"/>
          <p:cNvSpPr/>
          <p:nvPr/>
        </p:nvSpPr>
        <p:spPr>
          <a:xfrm>
            <a:off x="684360" y="2970360"/>
            <a:ext cx="1584000" cy="86832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Ф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10"/>
          <p:cNvSpPr/>
          <p:nvPr/>
        </p:nvSpPr>
        <p:spPr>
          <a:xfrm>
            <a:off x="3951360" y="3753000"/>
            <a:ext cx="2160360" cy="1079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су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1"/>
          <p:cNvSpPr/>
          <p:nvPr/>
        </p:nvSpPr>
        <p:spPr>
          <a:xfrm>
            <a:off x="900000" y="5229360"/>
            <a:ext cx="2341800" cy="1079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мес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2"/>
          <p:cNvSpPr/>
          <p:nvPr/>
        </p:nvSpPr>
        <p:spPr>
          <a:xfrm>
            <a:off x="6732720" y="4869000"/>
            <a:ext cx="2411280" cy="108108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гос. внеб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3"/>
          <p:cNvSpPr/>
          <p:nvPr/>
        </p:nvSpPr>
        <p:spPr>
          <a:xfrm>
            <a:off x="3844800" y="5362560"/>
            <a:ext cx="2374920" cy="10796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тер. 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бюд.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2700360" y="2970360"/>
            <a:ext cx="1655640" cy="21873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187360"/>
              <a:gd name="textAreaBottom" fmla="*/ 2187720 h 2187360"/>
            </a:gdLst>
            <a:ahLst/>
            <a:rect l="textAreaLeft" t="textAreaTop" r="textAreaRight" b="textAreaBottom"/>
            <a:pathLst>
              <a:path w="2149434" h="1579418">
                <a:moveTo>
                  <a:pt x="2149434" y="0"/>
                </a:moveTo>
                <a:lnTo>
                  <a:pt x="0" y="1579418"/>
                </a:ln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9"/>
          <p:cNvSpPr/>
          <p:nvPr/>
        </p:nvSpPr>
        <p:spPr>
          <a:xfrm flipH="1">
            <a:off x="2268360" y="2565360"/>
            <a:ext cx="1440000" cy="517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H="1">
            <a:off x="5032080" y="2970360"/>
            <a:ext cx="291960" cy="7347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олилиния 23"/>
          <p:cNvSpPr/>
          <p:nvPr/>
        </p:nvSpPr>
        <p:spPr>
          <a:xfrm>
            <a:off x="5353200" y="2762280"/>
            <a:ext cx="1379520" cy="252252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2522520"/>
              <a:gd name="textAreaBottom" fmla="*/ 2522880 h 2522520"/>
            </a:gdLst>
            <a:ahLst/>
            <a:rect l="textAreaLeft" t="textAreaTop" r="textAreaRight" b="textAreaBottom"/>
            <a:pathLst>
              <a:path w="2032362" h="2470067">
                <a:moveTo>
                  <a:pt x="1425039" y="0"/>
                </a:moveTo>
                <a:cubicBezTo>
                  <a:pt x="1810986" y="571994"/>
                  <a:pt x="2196934" y="1143989"/>
                  <a:pt x="1959428" y="1555667"/>
                </a:cubicBezTo>
                <a:cubicBezTo>
                  <a:pt x="1721922" y="1967345"/>
                  <a:pt x="860961" y="2218706"/>
                  <a:pt x="0" y="2470067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6"/>
          <p:cNvSpPr/>
          <p:nvPr/>
        </p:nvSpPr>
        <p:spPr>
          <a:xfrm>
            <a:off x="6659640" y="2421000"/>
            <a:ext cx="1152360" cy="23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0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82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Изменения в ст. 160.1 БК РФ «Бюджетные полномочия главного администратора (администратора) доходов бюджета»</a:t>
            </a:r>
            <a:br>
              <a:rPr sz="4000"/>
            </a:b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324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ведет реестр источников доходов бюджета по закрепленным за ним источникам доходов на основании перечня источников доходов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Изменения в ст. 165 БК РФ «Бюджетные полномочия Министерства финансов Российской Федерации»</a:t>
            </a:r>
            <a:br>
              <a:rPr sz="4000"/>
            </a:b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68360" y="3573360"/>
            <a:ext cx="83246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     …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формирует и ведет реестр источников доходов Российской Федерации, реестр источников доходов федерального бюдже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Изменения в ст. 166.1 БК РФ «Бюджетные полномочия Федерального казначейства»</a:t>
            </a:r>
            <a:br>
              <a:rPr sz="4000"/>
            </a:b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47840" y="3715920"/>
            <a:ext cx="8324640" cy="23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формирует и ведет перечень источников доходов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ВКС</cp:lastModifiedBy>
  <cp:lastPrinted>2014-09-08T15:41:05Z</cp:lastPrinted>
  <dcterms:modified xsi:type="dcterms:W3CDTF">2014-09-09T05:26:42Z</dcterms:modified>
  <cp:revision>1282</cp:revision>
  <dc:subject/>
  <dc:title>No Slide Title</dc:title>
</cp:coreProperties>
</file>