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469-166D-48BF-A7ED-C9082EC3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D18-0E38-47A8-9ED5-ED6140FA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15C-7506-42F0-812E-3F3315B4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605-2B7D-40D6-B602-72F3F62E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021B-6DD0-4FC4-9DE9-28D3AD8B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2E2F-B331-4709-A9A2-084BDEB7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761D-50AF-400B-B58F-F241437D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4234-730E-431B-B8EE-138F5DE1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FE9A-756C-4EB7-A111-F3759A36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7215-940E-44E1-828D-3285F4F3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A36E-481E-43B9-AF09-0C90DBDC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461-F36D-4B66-B0BA-0071D456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5AC0-04CD-47FA-95B1-1175D8B3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5470-451A-4576-A213-E93C1C5A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1B75-0CF7-48E5-9DEA-30167EBF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295E-561D-4273-ADEC-EF191F31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BE2C-399C-4F85-91F7-72D228D1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4F8-03C3-4FBE-9C20-E0DAE61F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605-9063-420C-A9E9-6F8A9390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8F7-8009-444A-840E-5719D572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4CB-8575-4BF1-A49D-46DBE974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830-BEC7-444D-9129-D6745C08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ED5-323A-43B7-9E70-EB1D1A4D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0A5-1195-44A0-9725-0FBE8185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06F7-1F0F-4DD2-B705-D121275BE1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7798-E4E2-4484-8F48-C2DB15F7B3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onsultantplus://offline/ref=F6FB5C1B6D4C50AC3AD02BD1E4005CDAEAB9C73CF27A740D54C50DE6C13C31C4C3BB73543124C74F46xDE" TargetMode="External"/><Relationship Id="rId3" Type="http://schemas.openxmlformats.org/officeDocument/2006/relationships/hyperlink" Target="consultantplus://offline/ref=AF3581FC2D8EB4CB9C49FEBD2A87781CA2BD41FB84A57B4DE929D7B786040E45E62AABC1F6068E2FhE71E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1476360" y="1700280"/>
            <a:ext cx="6480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тдельные вопросы формирования годовой, квартальной и ежемесячной отчетности об исполнении консолидированного бюджета субъекта Российской Федерации и бюджетов государственных внебюджетных фондов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796000" y="5229360"/>
            <a:ext cx="316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50920" y="333360"/>
            <a:ext cx="85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АЗНАЧЕЙСТВО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683520" y="5516640"/>
            <a:ext cx="534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Кривенец А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Управление бюджетного учета и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 об исполнении бюдж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1125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рядок консолидации показ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(Инструкция № 191н, п. 210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79440" y="2133360"/>
            <a:ext cx="84405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 случае, если на отчетную дату операции по взаимосвязанным расчетам между бюджетами исполнены </a:t>
            </a:r>
            <a:r>
              <a:rPr b="0" lang="ru-RU" sz="2500" spc="-1" strike="noStrike">
                <a:solidFill>
                  <a:srgbClr val="000066"/>
                </a:solidFill>
                <a:latin typeface="Arial"/>
              </a:rPr>
              <a:t>по КБК, не предназначенным для их отражения,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66"/>
                </a:solidFill>
                <a:latin typeface="Arial"/>
              </a:rPr>
              <a:t>суммы таких операций подлежат отражению в графах 15, 17 на основании информации, указанной в разделе 3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«Анализ отчета об исполнении бюджета субъектом бюджетной отчетности» Пояснительной записки ф. 0503160, </a:t>
            </a:r>
            <a:r>
              <a:rPr b="0" lang="ru-RU" sz="2500" spc="-1" strike="noStrike" u="sng">
                <a:solidFill>
                  <a:srgbClr val="000066"/>
                </a:solidFill>
                <a:uFillTx/>
                <a:latin typeface="Arial"/>
              </a:rPr>
              <a:t>Пояснительной записки ф. 0503360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соответствующего финансового орган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AD42-BF0E-4C51-A188-2B7F722670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0080" y="115920"/>
            <a:ext cx="7027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Порядок отражения плановых показателей по доходам в Отчете (ф. 0503127)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9972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. 3, 4 формирует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отражением группировочных кодов в структуре утвержденных законом (решением) о бюджете бюджетных назначений по доходам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сумм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твержденны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текущий финансовый год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он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решением) о бюджете плановых показателей по закрепленным за ГАД доход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(Инструкция № 191н, п. 54, 55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EB55-6D67-431E-89AA-FBAD47C1B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2920" y="2571840"/>
          <a:ext cx="8643960" cy="3240000"/>
        </p:xfrm>
        <a:graphic>
          <a:graphicData uri="http://schemas.openxmlformats.org/drawingml/2006/table">
            <a:tbl>
              <a:tblPr/>
              <a:tblGrid>
                <a:gridCol w="3071880"/>
                <a:gridCol w="1643040"/>
                <a:gridCol w="1928880"/>
                <a:gridCol w="2000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Б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овые назначения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сполненные на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1 00 00000 00 0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1 01 01012 02 0000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1 05 04000 02 0000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2 00 00000 00 0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000,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2 02 02019 02 0000 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5" name="Группа 7"/>
          <p:cNvGrpSpPr/>
          <p:nvPr/>
        </p:nvGrpSpPr>
        <p:grpSpPr>
          <a:xfrm>
            <a:off x="7215120" y="3429000"/>
            <a:ext cx="430200" cy="1501920"/>
            <a:chOff x="7215120" y="3429000"/>
            <a:chExt cx="430200" cy="1501920"/>
          </a:xfrm>
        </p:grpSpPr>
        <p:sp>
          <p:nvSpPr>
            <p:cNvPr id="146" name="Прямая соединительная линия 8"/>
            <p:cNvSpPr/>
            <p:nvPr/>
          </p:nvSpPr>
          <p:spPr>
            <a:xfrm flipH="1" flipV="1">
              <a:off x="7216200" y="4929480"/>
              <a:ext cx="428760" cy="1440"/>
            </a:xfrm>
            <a:prstGeom prst="line">
              <a:avLst/>
            </a:prstGeom>
            <a:ln w="19080">
              <a:solidFill>
                <a:srgbClr val="fe32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ая соединительная линия 9"/>
            <p:cNvSpPr/>
            <p:nvPr/>
          </p:nvSpPr>
          <p:spPr>
            <a:xfrm flipV="1">
              <a:off x="7215120" y="3430440"/>
              <a:ext cx="1440" cy="1499040"/>
            </a:xfrm>
            <a:prstGeom prst="line">
              <a:avLst/>
            </a:prstGeom>
            <a:ln w="19080">
              <a:solidFill>
                <a:srgbClr val="fe32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Прямая со стрелкой 10"/>
            <p:cNvCxnSpPr/>
            <p:nvPr/>
          </p:nvCxnSpPr>
          <p:spPr>
            <a:xfrm>
              <a:off x="7216200" y="3429000"/>
              <a:ext cx="429480" cy="2160"/>
            </a:xfrm>
            <a:prstGeom prst="straightConnector1">
              <a:avLst/>
            </a:prstGeom>
            <a:ln w="19080">
              <a:solidFill>
                <a:srgbClr val="fe3288"/>
              </a:solidFill>
              <a:miter/>
              <a:tailEnd len="med" type="arrow" w="med"/>
            </a:ln>
          </p:spPr>
        </p:cxnSp>
        <p:sp>
          <p:nvSpPr>
            <p:cNvPr id="149" name="Прямая соединительная линия 11"/>
            <p:cNvSpPr/>
            <p:nvPr/>
          </p:nvSpPr>
          <p:spPr>
            <a:xfrm flipH="1" flipV="1">
              <a:off x="7216200" y="3786120"/>
              <a:ext cx="428760" cy="1440"/>
            </a:xfrm>
            <a:prstGeom prst="line">
              <a:avLst/>
            </a:prstGeom>
            <a:ln w="19080">
              <a:solidFill>
                <a:srgbClr val="fe32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Содержимое 2"/>
          <p:cNvSpPr/>
          <p:nvPr/>
        </p:nvSpPr>
        <p:spPr>
          <a:xfrm>
            <a:off x="142920" y="5786280"/>
            <a:ext cx="8786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 Законом о бюджете утверждены плановые назначения по АДБ по укрепленным к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0080" y="115920"/>
            <a:ext cx="7027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Порядок отражения плановых показателей по доходам в Отчете (ф. 0503127)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99972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. 3, 4 формирует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отражением группировочных кодов в структуре утвержденных законом (решением) о бюджете бюджетных назначений по доходам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сумм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твержденны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текущий финансовый год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он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решением) о бюджете плановых показателей по закрепленным за ГАД доход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(Инструкция № 191н, п. 54, 55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DDAF-CBF6-4337-86CA-C4834E912F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4200" y="2571840"/>
          <a:ext cx="8643960" cy="3240000"/>
        </p:xfrm>
        <a:graphic>
          <a:graphicData uri="http://schemas.openxmlformats.org/drawingml/2006/table">
            <a:tbl>
              <a:tblPr/>
              <a:tblGrid>
                <a:gridCol w="3071880"/>
                <a:gridCol w="1643040"/>
                <a:gridCol w="1928880"/>
                <a:gridCol w="2000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Б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овые назначения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сполненные на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1 00 00000 00 0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1 01 01012 02 0000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1 05 04000 02 0000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2 00 00000 00 0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000,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2 02 02019 02 0000 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55" name="Группа 7"/>
          <p:cNvGrpSpPr/>
          <p:nvPr/>
        </p:nvGrpSpPr>
        <p:grpSpPr>
          <a:xfrm>
            <a:off x="7215120" y="3429000"/>
            <a:ext cx="430200" cy="1857240"/>
            <a:chOff x="7215120" y="3429000"/>
            <a:chExt cx="430200" cy="1857240"/>
          </a:xfrm>
        </p:grpSpPr>
        <p:sp>
          <p:nvSpPr>
            <p:cNvPr id="156" name="Прямая соединительная линия 8"/>
            <p:cNvSpPr/>
            <p:nvPr/>
          </p:nvSpPr>
          <p:spPr>
            <a:xfrm flipH="1" flipV="1">
              <a:off x="7216200" y="5284800"/>
              <a:ext cx="428760" cy="1440"/>
            </a:xfrm>
            <a:prstGeom prst="line">
              <a:avLst/>
            </a:prstGeom>
            <a:ln w="19080">
              <a:solidFill>
                <a:srgbClr val="fe32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Прямая соединительная линия 9"/>
            <p:cNvSpPr/>
            <p:nvPr/>
          </p:nvSpPr>
          <p:spPr>
            <a:xfrm flipV="1">
              <a:off x="7215120" y="3430080"/>
              <a:ext cx="1440" cy="1854360"/>
            </a:xfrm>
            <a:prstGeom prst="line">
              <a:avLst/>
            </a:prstGeom>
            <a:ln w="19080">
              <a:solidFill>
                <a:srgbClr val="fe32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Прямая со стрелкой 10"/>
            <p:cNvCxnSpPr/>
            <p:nvPr/>
          </p:nvCxnSpPr>
          <p:spPr>
            <a:xfrm>
              <a:off x="7216200" y="3429000"/>
              <a:ext cx="429480" cy="2160"/>
            </a:xfrm>
            <a:prstGeom prst="straightConnector1">
              <a:avLst/>
            </a:prstGeom>
            <a:ln w="19080">
              <a:solidFill>
                <a:srgbClr val="fe3288"/>
              </a:solidFill>
              <a:miter/>
              <a:tailEnd len="med" type="arrow" w="med"/>
            </a:ln>
          </p:spPr>
        </p:cxnSp>
        <p:sp>
          <p:nvSpPr>
            <p:cNvPr id="159" name="Прямая соединительная линия 11"/>
            <p:cNvSpPr/>
            <p:nvPr/>
          </p:nvSpPr>
          <p:spPr>
            <a:xfrm flipH="1" flipV="1">
              <a:off x="7216200" y="4143240"/>
              <a:ext cx="428760" cy="1440"/>
            </a:xfrm>
            <a:prstGeom prst="line">
              <a:avLst/>
            </a:prstGeom>
            <a:ln w="19080">
              <a:solidFill>
                <a:srgbClr val="fe32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Прямая соединительная линия 13"/>
          <p:cNvSpPr/>
          <p:nvPr/>
        </p:nvSpPr>
        <p:spPr>
          <a:xfrm>
            <a:off x="142920" y="3786120"/>
            <a:ext cx="88581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4"/>
          <p:cNvSpPr/>
          <p:nvPr/>
        </p:nvSpPr>
        <p:spPr>
          <a:xfrm>
            <a:off x="142920" y="4929120"/>
            <a:ext cx="88581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одержимое 2"/>
          <p:cNvSpPr/>
          <p:nvPr/>
        </p:nvSpPr>
        <p:spPr>
          <a:xfrm>
            <a:off x="142920" y="5786280"/>
            <a:ext cx="8786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 Законом о бюджете утверждены плановые назначения по АДБ по детализированным к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0" y="1000080"/>
            <a:ext cx="91440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7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показателей Справки (ф. 0503125) с идентичными показателями других участников консолидированного бюджета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тность указания кодов бюджетной класс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 Справки в части передачи имущества бюджетным и автономным учреждениям – недопусти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людение соответствия кодов счетов по передаваемым и принимаемым активам и обязательств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рка взаимосвязанных расчетов осуществлялась до апреля 201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замена Справок (ф.0503125) за 2013 год осуществлялась  более 100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вка по консолидируемым расчетам (ф. 05031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трелка вниз 4"/>
          <p:cNvSpPr/>
          <p:nvPr/>
        </p:nvSpPr>
        <p:spPr>
          <a:xfrm>
            <a:off x="3643200" y="4357800"/>
            <a:ext cx="1785960" cy="71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A920-556D-42E9-9D2C-3BA31F28F1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0" y="1000080"/>
            <a:ext cx="896472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тность указания КБК в структуре номера счета бюджетного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людение структуры КБ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тность отражения показателей по операциям передачи Учредителем нефинансовых активов подведомственным бюджетным и автономным учрежд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ывались коды раздела расходов без указания подраздела (например, 23 ФО указали ФКР: 01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03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00,…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ывались коды доходов без указания необходимой детализации (например, 2 ФО указали КБК 111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000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0000 1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мена Справок (ф.0503110) за 2013 год осуществлялась 411 р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вка по заключению счетов бюджетного учета отчетного финансового года (ф. 05031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низ 5"/>
          <p:cNvSpPr/>
          <p:nvPr/>
        </p:nvSpPr>
        <p:spPr>
          <a:xfrm>
            <a:off x="3571920" y="3929040"/>
            <a:ext cx="22143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4013-6441-479A-990F-071447412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0" y="1000080"/>
            <a:ext cx="896472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тность и полнота заполнения раздела 3 Отчета (ф. 05033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и корректность пояснений по допустимым отклонениям с данными ТОФК  (Отчет  об  операциях консолидированного бюджета субъекта РФ по использованию субсидий … (ф. 05318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показателей в разделе 2 по укрупненным (некорректным) видам расходов –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пусти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 3 Отчета (ф.0503324) не заполнен у трех финансов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на Отчета (ф.0503324) за 2013 год осуществлялась 61 р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чет об использовании межбюджетных трансфер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федерального бюджета субъектами Российской Федерации, муниципальными образованиями и территориальным государственным внебюджетным фон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ф. 050332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трелка вниз 5"/>
          <p:cNvSpPr/>
          <p:nvPr/>
        </p:nvSpPr>
        <p:spPr>
          <a:xfrm>
            <a:off x="3214800" y="4714920"/>
            <a:ext cx="22143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33B4-4265-493C-924D-C0B7A5307B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Порядок отражения классификации расходов в Отчете (ф. 05033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214960" y="10526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ОГЛАСОВАНИЕ С ГРБ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1841400" y="1484280"/>
            <a:ext cx="2185920" cy="82224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ежбюджетн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ансфер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4127400" y="398448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меется 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казаниях МФ РФ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65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484200" y="3984480"/>
            <a:ext cx="2185920" cy="8208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ЦСР по роспис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1841400" y="2698920"/>
            <a:ext cx="2185920" cy="82224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меется в Сводно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бюджетной роспис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3056040" y="527040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оответствующ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ЦСР по 65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Прямая со стрелкой 19"/>
          <p:cNvCxnSpPr>
            <a:stCxn id="180" idx="2"/>
            <a:endCxn id="183" idx="0"/>
          </p:cNvCxnSpPr>
          <p:nvPr/>
        </p:nvCxnSpPr>
        <p:spPr>
          <a:xfrm flipH="1">
            <a:off x="2932920" y="2306520"/>
            <a:ext cx="2520" cy="393120"/>
          </a:xfrm>
          <a:prstGeom prst="straightConnector1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186" name="AutoShape 5"/>
          <p:cNvSpPr/>
          <p:nvPr/>
        </p:nvSpPr>
        <p:spPr>
          <a:xfrm>
            <a:off x="5842080" y="527040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ЦС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ххх589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1055520" y="291312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6342120" y="419904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3413160" y="419904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0"/>
          <p:cNvSpPr/>
          <p:nvPr/>
        </p:nvSpPr>
        <p:spPr>
          <a:xfrm>
            <a:off x="4056120" y="291312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Shape 43"/>
          <p:cNvCxnSpPr>
            <a:stCxn id="183" idx="1"/>
          </p:cNvCxnSpPr>
          <p:nvPr/>
        </p:nvCxnSpPr>
        <p:spPr>
          <a:xfrm flipV="1" rot="10800000">
            <a:off x="1126440" y="3108960"/>
            <a:ext cx="714960" cy="87516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192" name="Shape 45"/>
          <p:cNvCxnSpPr>
            <a:stCxn id="183" idx="3"/>
          </p:cNvCxnSpPr>
          <p:nvPr/>
        </p:nvCxnSpPr>
        <p:spPr>
          <a:xfrm>
            <a:off x="4027320" y="3109680"/>
            <a:ext cx="743760" cy="87516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193" name="Shape 46"/>
          <p:cNvCxnSpPr/>
          <p:nvPr/>
        </p:nvCxnSpPr>
        <p:spPr>
          <a:xfrm flipV="1" rot="10800000">
            <a:off x="3412440" y="4412880"/>
            <a:ext cx="714960" cy="87552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194" name="Shape 47"/>
          <p:cNvCxnSpPr>
            <a:stCxn id="181" idx="3"/>
          </p:cNvCxnSpPr>
          <p:nvPr/>
        </p:nvCxnSpPr>
        <p:spPr>
          <a:xfrm>
            <a:off x="6313320" y="4395960"/>
            <a:ext cx="772560" cy="89280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195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F7AE-FC92-49AF-850E-CF716BCFC4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Порядок отражения классификации доходов в Отчете (ф. 05033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5214960" y="10717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ОГЛАСОВАНИЕ С ГРБ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2739960" y="1143000"/>
            <a:ext cx="2185920" cy="82224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ежбюджетны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ансфер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311640" y="4929120"/>
            <a:ext cx="2571480" cy="135756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д доход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02 02999 00 0000 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02 03999 00 0000 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02 04999 00 0000 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02 09000 00 0000 15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954000" y="4929120"/>
            <a:ext cx="2185920" cy="78588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оответствующи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д доход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668600" y="364320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меется 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казаниях МФ РФ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65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Прямая со стрелкой 19"/>
          <p:cNvCxnSpPr>
            <a:stCxn id="198" idx="2"/>
            <a:endCxn id="203" idx="0"/>
          </p:cNvCxnSpPr>
          <p:nvPr/>
        </p:nvCxnSpPr>
        <p:spPr>
          <a:xfrm flipH="1">
            <a:off x="3831840" y="1965240"/>
            <a:ext cx="2160" cy="535680"/>
          </a:xfrm>
          <a:prstGeom prst="straightConnector1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04" name="Прямоугольник 37"/>
          <p:cNvSpPr/>
          <p:nvPr/>
        </p:nvSpPr>
        <p:spPr>
          <a:xfrm>
            <a:off x="1954080" y="257184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0"/>
          <p:cNvSpPr/>
          <p:nvPr/>
        </p:nvSpPr>
        <p:spPr>
          <a:xfrm>
            <a:off x="4954680" y="257184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hape 43"/>
          <p:cNvCxnSpPr/>
          <p:nvPr/>
        </p:nvCxnSpPr>
        <p:spPr>
          <a:xfrm flipV="1" rot="10800000">
            <a:off x="2025000" y="2785680"/>
            <a:ext cx="714960" cy="87552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207" name="Shape 45"/>
          <p:cNvCxnSpPr>
            <a:stCxn id="201" idx="3"/>
          </p:cNvCxnSpPr>
          <p:nvPr/>
        </p:nvCxnSpPr>
        <p:spPr>
          <a:xfrm>
            <a:off x="3854520" y="4054320"/>
            <a:ext cx="743760" cy="87552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03" name="AutoShape 8"/>
          <p:cNvSpPr/>
          <p:nvPr/>
        </p:nvSpPr>
        <p:spPr>
          <a:xfrm>
            <a:off x="2739960" y="250020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дтвержде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Shape 20"/>
          <p:cNvCxnSpPr>
            <a:stCxn id="201" idx="1"/>
          </p:cNvCxnSpPr>
          <p:nvPr/>
        </p:nvCxnSpPr>
        <p:spPr>
          <a:xfrm flipV="1" rot="10800000">
            <a:off x="1096200" y="4053240"/>
            <a:ext cx="572400" cy="89316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09" name="AutoShape 5"/>
          <p:cNvSpPr/>
          <p:nvPr/>
        </p:nvSpPr>
        <p:spPr>
          <a:xfrm>
            <a:off x="5168880" y="3643200"/>
            <a:ext cx="2571840" cy="78588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д доход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19 00000 00 0000 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hape 22"/>
          <p:cNvCxnSpPr/>
          <p:nvPr/>
        </p:nvCxnSpPr>
        <p:spPr>
          <a:xfrm>
            <a:off x="4954320" y="2786040"/>
            <a:ext cx="743400" cy="87552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11" name="Прямоугольник 23"/>
          <p:cNvSpPr/>
          <p:nvPr/>
        </p:nvSpPr>
        <p:spPr>
          <a:xfrm>
            <a:off x="954000" y="378612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B09D-0096-4C48-B5E6-A53A65D524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55"/>
          <p:cNvSpPr/>
          <p:nvPr/>
        </p:nvSpPr>
        <p:spPr>
          <a:xfrm>
            <a:off x="3882960" y="385776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Примеры некорректного отражения показателей в Отчете (ф. 0503324)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57120" y="1000080"/>
            <a:ext cx="842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шибочное отраж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ЦСР ххх5898 при наличии соответствующей ЦС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и наличии подтвержденной потребности наличие остатка по КБК 219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1A5A-B673-4297-9EE3-0DE38D69C3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42920" y="2643120"/>
          <a:ext cx="8858160" cy="3321000"/>
        </p:xfrm>
        <a:graphic>
          <a:graphicData uri="http://schemas.openxmlformats.org/drawingml/2006/table">
            <a:tbl>
              <a:tblPr/>
              <a:tblGrid>
                <a:gridCol w="2052720"/>
                <a:gridCol w="576000"/>
                <a:gridCol w="571680"/>
                <a:gridCol w="1373040"/>
                <a:gridCol w="711360"/>
                <a:gridCol w="644400"/>
                <a:gridCol w="876240"/>
                <a:gridCol w="695520"/>
                <a:gridCol w="714240"/>
                <a:gridCol w="6429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С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дохода по Б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и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совый рас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щено в Ф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щено из Ф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23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субъектов Российской Федерации на софинансирование капитальных вложений в объекты государственной (муниципальной)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И5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207702000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</a:tr>
              <a:tr h="923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из бюджетов субъектов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хх58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90200002000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923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из бюджетов субъектов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И5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0200002000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</a:tr>
            </a:tbl>
          </a:graphicData>
        </a:graphic>
      </p:graphicFrame>
      <p:sp>
        <p:nvSpPr>
          <p:cNvPr id="218" name="Овал 15"/>
          <p:cNvSpPr/>
          <p:nvPr/>
        </p:nvSpPr>
        <p:spPr>
          <a:xfrm rot="598200">
            <a:off x="123840" y="4622760"/>
            <a:ext cx="714240" cy="1500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Знак запрета 18"/>
          <p:cNvSpPr/>
          <p:nvPr/>
        </p:nvSpPr>
        <p:spPr>
          <a:xfrm>
            <a:off x="142920" y="4286160"/>
            <a:ext cx="714240" cy="64296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Выгнутая влево стрелка 19"/>
          <p:cNvSpPr/>
          <p:nvPr/>
        </p:nvSpPr>
        <p:spPr>
          <a:xfrm rot="10540200">
            <a:off x="8535600" y="3443040"/>
            <a:ext cx="401760" cy="971280"/>
          </a:xfrm>
          <a:custGeom>
            <a:avLst/>
            <a:gdLst>
              <a:gd name="textAreaLeft" fmla="*/ 53640 w 401760"/>
              <a:gd name="textAreaRight" fmla="*/ 348120 w 401760"/>
              <a:gd name="textAreaTop" fmla="*/ 205200 h 971280"/>
              <a:gd name="textAreaBottom" fmla="*/ 716040 h 97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6" stAng="-5400000" swAng="-5400000"/>
                <a:lnTo>
                  <a:pt x="0" y="11359"/>
                </a:lnTo>
                <a:arcTo wR="21600" hR="9126" stAng="10800000" swAng="-3248816"/>
                <a:lnTo>
                  <a:pt x="15293" y="21202"/>
                </a:lnTo>
                <a:lnTo>
                  <a:pt x="21600" y="19368"/>
                </a:lnTo>
                <a:lnTo>
                  <a:pt x="15293" y="16737"/>
                </a:lnTo>
                <a:lnTo>
                  <a:pt x="15293" y="17853"/>
                </a:lnTo>
                <a:arcTo wR="21600" hR="9126" stAng="7551184" swAng="3069936"/>
                <a:lnTo>
                  <a:pt x="162" y="10242"/>
                </a:lnTo>
                <a:arcTo wR="21600" hR="9126" stAng="-10621120" swAng="5221120"/>
                <a:close/>
              </a:path>
              <a:path fill="darkenLess" w="21600" h="21600">
                <a:moveTo>
                  <a:pt x="21600" y="0"/>
                </a:moveTo>
                <a:arcTo wR="21600" hR="9126" stAng="-5400000" swAng="-5400000"/>
                <a:lnTo>
                  <a:pt x="0" y="9126"/>
                </a:lnTo>
                <a:arcTo wR="21600" hR="9126" stAng="10800000" swAng="-178880"/>
                <a:lnTo>
                  <a:pt x="162" y="10242"/>
                </a:lnTo>
                <a:arcTo wR="21600" hR="9126" stAng="-10621120" swAng="5221120"/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Выгнутая вверх стрелка 20"/>
          <p:cNvSpPr/>
          <p:nvPr/>
        </p:nvSpPr>
        <p:spPr>
          <a:xfrm rot="16200000">
            <a:off x="1928880" y="3857760"/>
            <a:ext cx="1000080" cy="428400"/>
          </a:xfrm>
          <a:custGeom>
            <a:avLst/>
            <a:gdLst>
              <a:gd name="textAreaLeft" fmla="*/ 209880 w 1000080"/>
              <a:gd name="textAreaRight" fmla="*/ 736920 w 100008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64" hR="21600" stAng="10800000" swAng="5400000"/>
                <a:lnTo>
                  <a:pt x="11379" y="0"/>
                </a:lnTo>
                <a:arcTo wR="9064" hR="21600" stAng="-5400000" swAng="3503756"/>
                <a:lnTo>
                  <a:pt x="21312" y="16200"/>
                </a:lnTo>
                <a:lnTo>
                  <a:pt x="19286" y="21600"/>
                </a:lnTo>
                <a:lnTo>
                  <a:pt x="16683" y="16200"/>
                </a:lnTo>
                <a:lnTo>
                  <a:pt x="17840" y="16200"/>
                </a:lnTo>
                <a:arcTo wR="9064" hR="21600" stAng="-1896244" swAng="-3318194"/>
                <a:lnTo>
                  <a:pt x="10222" y="177"/>
                </a:lnTo>
                <a:arcTo wR="9064" hR="21600" stAng="-5585562" swAng="-5214438"/>
                <a:close/>
              </a:path>
              <a:path fill="darkenLess" w="21600" h="21600">
                <a:moveTo>
                  <a:pt x="0" y="21600"/>
                </a:moveTo>
                <a:arcTo wR="9064" hR="21600" stAng="10800000" swAng="5400000"/>
                <a:lnTo>
                  <a:pt x="9064" y="0"/>
                </a:lnTo>
                <a:arcTo wR="9064" hR="21600" stAng="-5400000" swAng="185562"/>
                <a:lnTo>
                  <a:pt x="10222" y="177"/>
                </a:lnTo>
                <a:arcTo wR="9064" hR="21600" stAng="-5585562" swAng="-5214438"/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0" y="981000"/>
            <a:ext cx="896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яснительная записка (ф. 0503360, 05031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08000" y="1214280"/>
            <a:ext cx="896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ичие и качество пояснений, отражаемых в Пояснительных записк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е причин по допустимым отклонениям в контрольных соотнош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е операций по взаимосвязанным расчетам между бюджетами, которые исполнены по кодам бюджетной классификации Российской Федерации, не предназначенным для их отражения (п. 212 Инструкции 191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031B-8699-407D-9ED3-8F8437B8AB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0" y="1000080"/>
            <a:ext cx="896472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ий уровень своевременности и качества формирования отче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ое финансовое управление Кемеровской обла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партамент финансов г. Москвы; Департамент финансов, бюджетной и налоговой политики администрации Владимирской области; Департамент финансов Ивановской области; Департамент финансов Ярославской области; Департамент финансов Орловской области; Комитет финансов Новгородской области; Министерство финансов Краснодарского края;  Министерство финансов Республики Марий Эл; Министерство финансов Ставропольского края; Министерство финансов Рязанской области; Министерство финансов Республики Алтай; Министерство финансов Чеченской Республики; Министерство финансов Хабаровского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ерство финансов Калужской области; Министерство финансов Пермского края; Министерство финансов Республики Адыгея;  Управление финансов Липецкой области; Управление финансов администрации города Байконур; Финансовое управление Тамб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временность представления и качество 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EFFA-10AD-499D-9074-FA0D739602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179280" y="907920"/>
            <a:ext cx="87854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расчетов с учредителем по счету 0 210 06 000 «Расчеты с учредителем» с данными  по счету 1 204 33 000 «Участие в государственных (муниципальных) учреждения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и корректность пояснения причин расхождения между финансовым результатом деятельности, отраженным в Балансе ф. 0503730 и в Отчете о финансовых результатах деятельности учреждени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(ф. 050372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Справки по консолидируемым расчетам учреждени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(ф. 0503725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счету 0 304 06 00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части бухгалтерских операций по изменению типа казенного учреждения на бюджетное или автономное, или при изменении типа бюджетного или автономного учреждения на казенное в течение финансов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ухгалтерская отче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юджетных и автоном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D87A-3C14-48DA-AD82-5658E8119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30C6-B007-4E82-86AE-A8B367FE50AC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0179-C448-4128-8687-859486336B59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4"/>
          <p:cNvSpPr/>
          <p:nvPr/>
        </p:nvSpPr>
        <p:spPr>
          <a:xfrm>
            <a:off x="2556000" y="162864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0" y="1000080"/>
            <a:ext cx="896472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блюдение сроков представления годовой бюджетной отчетности за 2013 год (не соблюдено одним финансовым орган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чество показателей отче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о итогам приема отчетности за 2013 год 90 % финансовых органов бюджетов субъектов Российской Федерации в уже представленную бюджетную отчетность вносили исправления и корректиров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временность представления и качество 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низ 4"/>
          <p:cNvSpPr/>
          <p:nvPr/>
        </p:nvSpPr>
        <p:spPr>
          <a:xfrm>
            <a:off x="3357720" y="4214880"/>
            <a:ext cx="1785960" cy="1143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0" y="542916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е количество замен представленных форм при сдаче отчетности за 2013 год составило 4 077 раз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*с учетом Справок (ф. 0503125) и Отчетности бюджетных и автономных учреждений (форм 05037хх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49B5-E77E-49AC-B555-60DEFCB501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1000080"/>
            <a:ext cx="914400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7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ие взаимосвязанных показателей с отчетностью УФК, ГРБС, БУ/А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татки денежных средств (счет 1 202 хх 000) = данные УФК (счет 1 203 хх 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татки межбюджетных трансфертов с ГРБС (счета 205, 206, 3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анс исполнения бюджета ФО, ГВБФ (ф. 0503120, 05033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2040-0599-4566-9EF0-A8509C04B7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0" y="1000080"/>
            <a:ext cx="914400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7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взаимосвязанных показателей с отчетностью УФК, ГРБС, БУ/А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казатели ОЦИ (счет 1 204 33 000) с данными АУ и БУ (счет 0 210 06 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казатели субсидий на иные цели (1 206 41 000) с данными АУ/БУ (5 205 81 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тки по строкам 171 «денежные средства учреждения на лицевых счетах в органе казначейства (020111000)», 172 «денежные средства учреждения в органе казначейства в пути (020113000)» -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допуст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анс исполнения бюджета ФО, ГВБФ (ф. 0503120, 05033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3656-93F5-4FBC-8C60-22C4121ECE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1000080"/>
            <a:ext cx="914400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валюты баланса без должных осн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показателей строк 690 «Результат по кассовым операциям бюджета (0 402 00 000)» и 800 «Результат прошлых отчетных периодов по кассовому исполнению бюджета (0 402 30 000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анс исполнения бюджета ФО, ГВБФ (ф. 0503120, 05033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4"/>
          <p:cNvSpPr/>
          <p:nvPr/>
        </p:nvSpPr>
        <p:spPr>
          <a:xfrm>
            <a:off x="3429000" y="4214880"/>
            <a:ext cx="1785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0" y="52149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замены представленных Балансов (ф. 0503320) составило 99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авление контроля отчетности по остаткам денежных средств с данными УФК и ЦБ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11BF-A28D-41F7-8077-09AF2C728C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0" y="1000080"/>
            <a:ext cx="896472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1080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показателей кассового исполнения бюджета с данными У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показателей по межбюджетным трансфертам с данными ГРБС и своевременность уточнения невыясненных по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максимально полной консолидации взаимосвязанных расчетов на уровне финансовых органов субъект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 об ис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олидированного бюджета (ф. 05033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0" y="4714920"/>
            <a:ext cx="9144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E62A-E976-4BC5-A400-FB4F095944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 об исполнении бюдж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1125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рядок отражения плановых показ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(Инструкция № 191н, п. 134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395280" y="2205000"/>
            <a:ext cx="2185920" cy="82224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охо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6364440" y="213660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6427800" y="4413240"/>
            <a:ext cx="2185920" cy="82224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инансир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395280" y="4479840"/>
            <a:ext cx="2185920" cy="8208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Дефицит/Профицит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3411360" y="3809880"/>
            <a:ext cx="218628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кон о бюдже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3411360" y="2806560"/>
            <a:ext cx="218628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Бюджетна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спис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10"/>
          <p:cNvCxnSpPr>
            <a:stCxn id="122" idx="3"/>
            <a:endCxn id="123" idx="1"/>
          </p:cNvCxnSpPr>
          <p:nvPr/>
        </p:nvCxnSpPr>
        <p:spPr>
          <a:xfrm flipV="1">
            <a:off x="2581200" y="4220280"/>
            <a:ext cx="830880" cy="670680"/>
          </a:xfrm>
          <a:prstGeom prst="bentConnector3">
            <a:avLst>
              <a:gd name="adj1" fmla="val 49891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6" name="AutoShape 11"/>
          <p:cNvCxnSpPr>
            <a:stCxn id="119" idx="3"/>
            <a:endCxn id="123" idx="1"/>
          </p:cNvCxnSpPr>
          <p:nvPr/>
        </p:nvCxnSpPr>
        <p:spPr>
          <a:xfrm>
            <a:off x="2581200" y="2616120"/>
            <a:ext cx="830880" cy="1605600"/>
          </a:xfrm>
          <a:prstGeom prst="bentConnector3">
            <a:avLst>
              <a:gd name="adj1" fmla="val 49891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7" name="AutoShape 12"/>
          <p:cNvCxnSpPr>
            <a:stCxn id="120" idx="1"/>
            <a:endCxn id="124" idx="0"/>
          </p:cNvCxnSpPr>
          <p:nvPr/>
        </p:nvCxnSpPr>
        <p:spPr>
          <a:xfrm flipV="1" rot="10800000">
            <a:off x="4504680" y="2547720"/>
            <a:ext cx="1859760" cy="259200"/>
          </a:xfrm>
          <a:prstGeom prst="bentConnector2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28" name="AutoShape 13"/>
          <p:cNvCxnSpPr>
            <a:stCxn id="121" idx="0"/>
            <a:endCxn id="124" idx="3"/>
          </p:cNvCxnSpPr>
          <p:nvPr/>
        </p:nvCxnSpPr>
        <p:spPr>
          <a:xfrm flipV="1" rot="16200000">
            <a:off x="5961600" y="2853000"/>
            <a:ext cx="1195920" cy="1924560"/>
          </a:xfrm>
          <a:prstGeom prst="bentConnector2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29" name="AutoShape 14"/>
          <p:cNvCxnSpPr>
            <a:stCxn id="121" idx="1"/>
            <a:endCxn id="123" idx="3"/>
          </p:cNvCxnSpPr>
          <p:nvPr/>
        </p:nvCxnSpPr>
        <p:spPr>
          <a:xfrm rot="10800000">
            <a:off x="5596920" y="4221000"/>
            <a:ext cx="830880" cy="603720"/>
          </a:xfrm>
          <a:prstGeom prst="bentConnector3">
            <a:avLst>
              <a:gd name="adj1" fmla="val 50065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0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4FDB-7652-4A48-A9F5-C20036583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 об исполнении бюдж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11280" y="1125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рядок консолидации плановых показ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(Инструкция № 191н, п. 209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79440" y="1986480"/>
            <a:ext cx="84405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 случае наличия односторонних плановых показателей по взаимосвязанным расчетам между бюджетами (</a:t>
            </a:r>
            <a:r>
              <a:rPr b="0" lang="ru-RU" sz="2900" spc="-1" strike="noStrike">
                <a:solidFill>
                  <a:srgbClr val="000066"/>
                </a:solidFill>
                <a:latin typeface="Arial"/>
              </a:rPr>
              <a:t>плановые назначения по выбытиям не соответствуют плановым назначениям по поступлениям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) в графах 5, 7 в соответствующих разделах отчета указывается </a:t>
            </a:r>
            <a:r>
              <a:rPr b="0" lang="ru-RU" sz="2900" spc="-1" strike="noStrike">
                <a:solidFill>
                  <a:srgbClr val="000066"/>
                </a:solidFill>
                <a:latin typeface="Arial"/>
              </a:rPr>
              <a:t>меньший из указанных плановых показателей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5"/>
          <p:cNvSpPr txBox="1"/>
          <p:nvPr/>
        </p:nvSpPr>
        <p:spPr>
          <a:xfrm>
            <a:off x="755640" y="5950080"/>
            <a:ext cx="769140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Утверждено (КОСГУ 251) = Утверждено (КОСГУ 151)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>
            <a:off x="4414320" y="5805360"/>
            <a:ext cx="249480" cy="594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6D1D-2B6E-4CD5-93FD-129898B7D7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2:40:53Z</dcterms:created>
  <dc:creator>ежик</dc:creator>
  <dc:description/>
  <dc:language>en-US</dc:language>
  <cp:lastModifiedBy>Johhnny</cp:lastModifiedBy>
  <dcterms:modified xsi:type="dcterms:W3CDTF">2014-09-11T09:43:38Z</dcterms:modified>
  <cp:revision>510</cp:revision>
  <dc:subject/>
  <dc:title>Основные вопросы формирования бюджетной отчетности и изменения, вносимые в Инструкцию 128н</dc:title>
</cp:coreProperties>
</file>