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F9E-6D35-4C96-8E46-0A39EE46AB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7131-3083-43BD-92A0-26DCCFDE02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C6A-3284-4F1B-A0AD-9875C4B9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BE3-27F0-4F71-80A4-73353BF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410-0A99-4284-9924-F4E7C19E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8B2-DE86-4BFE-B9B7-F1EF6BB7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91C-8A4D-47DE-848E-0C5FB34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CBF-A3B0-4F92-BFA8-A3C2F1BE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CF2-661C-495F-9397-90B0073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E4A-6A80-46A0-9D73-B2B298F3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A28-A7A2-42B5-B855-D36AB880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DAB-89B0-47EA-AB35-B85E29B5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A18-4E3F-4C2F-A71C-6EB2174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525-358C-49E6-B5EA-4699E4FA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B71D-2828-4840-994D-90293F4895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95F8-B81B-4180-A1A8-0BFBD44A6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72E-5D6A-4852-8438-F80AE7273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051440" y="10440"/>
            <a:ext cx="8140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mbria"/>
              </a:rPr>
              <a:t>Формирование и представление бюджетной (бухгалтерской) отчетности на 01.01.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3"/>
          <p:cNvSpPr/>
          <p:nvPr/>
        </p:nvSpPr>
        <p:spPr>
          <a:xfrm>
            <a:off x="925560" y="1355760"/>
            <a:ext cx="2571840" cy="57132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то и как формируе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10"/>
          <p:cNvSpPr/>
          <p:nvPr/>
        </p:nvSpPr>
        <p:spPr>
          <a:xfrm>
            <a:off x="925560" y="2008080"/>
            <a:ext cx="257184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инфина Росс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91н, № 33н, …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4"/>
          <p:cNvSpPr/>
          <p:nvPr/>
        </p:nvSpPr>
        <p:spPr>
          <a:xfrm>
            <a:off x="3649680" y="1355760"/>
            <a:ext cx="2658960" cy="57132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гда представляе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15"/>
          <p:cNvSpPr/>
          <p:nvPr/>
        </p:nvSpPr>
        <p:spPr>
          <a:xfrm>
            <a:off x="3649680" y="2000160"/>
            <a:ext cx="265896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ы Федерального казначейства № 24н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6н, локальные а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16"/>
          <p:cNvSpPr/>
          <p:nvPr/>
        </p:nvSpPr>
        <p:spPr>
          <a:xfrm>
            <a:off x="9161640" y="1355760"/>
            <a:ext cx="2687400" cy="57132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чего начинае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17"/>
          <p:cNvSpPr/>
          <p:nvPr/>
        </p:nvSpPr>
        <p:spPr>
          <a:xfrm>
            <a:off x="9161640" y="2000160"/>
            <a:ext cx="268740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вентаризация и выверка расчетов, уточнение опера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20"/>
          <p:cNvSpPr/>
          <p:nvPr/>
        </p:nvSpPr>
        <p:spPr>
          <a:xfrm>
            <a:off x="925560" y="3198960"/>
            <a:ext cx="2538360" cy="57132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что обращаем вним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21"/>
          <p:cNvSpPr/>
          <p:nvPr/>
        </p:nvSpPr>
        <p:spPr>
          <a:xfrm>
            <a:off x="925560" y="3865680"/>
            <a:ext cx="253836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мечания контрольно-счетных органов, рискоемкие направ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13"/>
          <p:cNvSpPr/>
          <p:nvPr/>
        </p:nvSpPr>
        <p:spPr>
          <a:xfrm>
            <a:off x="3649680" y="3197160"/>
            <a:ext cx="2658960" cy="57168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то с ПП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22"/>
          <p:cNvSpPr/>
          <p:nvPr/>
        </p:nvSpPr>
        <p:spPr>
          <a:xfrm>
            <a:off x="3649680" y="3863880"/>
            <a:ext cx="265896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тверждены ТФ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дет подготовка ГИИС «ЭБ», действующая Э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23"/>
          <p:cNvSpPr/>
          <p:nvPr/>
        </p:nvSpPr>
        <p:spPr>
          <a:xfrm>
            <a:off x="9161640" y="3197160"/>
            <a:ext cx="2687400" cy="57168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 можно получить консультацию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24"/>
          <p:cNvSpPr/>
          <p:nvPr/>
        </p:nvSpPr>
        <p:spPr>
          <a:xfrm>
            <a:off x="9161640" y="3863880"/>
            <a:ext cx="268740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ФК, УЦБ, МОУ ФК, УБУиО, Минфин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25"/>
          <p:cNvSpPr/>
          <p:nvPr/>
        </p:nvSpPr>
        <p:spPr>
          <a:xfrm>
            <a:off x="6492960" y="3197160"/>
            <a:ext cx="2484360" cy="57168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куда такие контр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26"/>
          <p:cNvSpPr/>
          <p:nvPr/>
        </p:nvSpPr>
        <p:spPr>
          <a:xfrm>
            <a:off x="6492960" y="3863880"/>
            <a:ext cx="248436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инфина Росс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91н, № 33н, …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27"/>
          <p:cNvSpPr/>
          <p:nvPr/>
        </p:nvSpPr>
        <p:spPr>
          <a:xfrm>
            <a:off x="3649680" y="5092560"/>
            <a:ext cx="2658960" cy="57168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му это все над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28"/>
          <p:cNvSpPr/>
          <p:nvPr/>
        </p:nvSpPr>
        <p:spPr>
          <a:xfrm>
            <a:off x="3649680" y="5757840"/>
            <a:ext cx="265896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ебования законодатель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29"/>
          <p:cNvSpPr/>
          <p:nvPr/>
        </p:nvSpPr>
        <p:spPr>
          <a:xfrm>
            <a:off x="6492960" y="1355760"/>
            <a:ext cx="2484360" cy="57132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если не успевае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0"/>
          <p:cNvSpPr/>
          <p:nvPr/>
        </p:nvSpPr>
        <p:spPr>
          <a:xfrm>
            <a:off x="6492960" y="2000160"/>
            <a:ext cx="248436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. КоА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33"/>
          <p:cNvSpPr/>
          <p:nvPr/>
        </p:nvSpPr>
        <p:spPr>
          <a:xfrm>
            <a:off x="6492960" y="5092560"/>
            <a:ext cx="2484360" cy="57168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гда это все закончитс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4"/>
          <p:cNvSpPr/>
          <p:nvPr/>
        </p:nvSpPr>
        <p:spPr>
          <a:xfrm>
            <a:off x="6492960" y="5757840"/>
            <a:ext cx="2484360" cy="806400"/>
          </a:xfrm>
          <a:prstGeom prst="roundRect">
            <a:avLst>
              <a:gd name="adj" fmla="val 16667"/>
            </a:avLst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сентябр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ufk</cp:lastModifiedBy>
  <cp:lastPrinted>2017-06-08T05:23:50Z</cp:lastPrinted>
  <dcterms:modified xsi:type="dcterms:W3CDTF">2018-01-19T05:32:31Z</dcterms:modified>
  <cp:revision>963</cp:revision>
  <dc:subject/>
  <dc:title>Презентация PowerPoint</dc:title>
</cp:coreProperties>
</file>