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4C6F-A6FB-4A2F-9C25-F8FD6D6D09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5B24-8B2E-4C00-8DF6-04E91037BC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E3AB-6682-4E53-AAED-9BD09617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DC2-CBA9-46E4-973E-00484A6F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B8E-DB0A-4CC1-BF32-05869233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4F49-9228-4550-AC4B-5E20A679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AF32-633F-4F17-B3FD-EB9517BF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19F-2FA2-4C2E-A0ED-2E0E3C32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4C1-10AE-48E3-AF00-47F2FF75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7C73-3D0C-459E-AC53-37F5EB94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6E2B-2EFC-452F-87E7-4A100792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4FF0-F559-47DA-896E-A37FC90A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D97C-C9D6-4ABE-9039-D4930503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84CA-DEA7-47C5-840A-6AA189E6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FDC5-8295-47AA-BBB3-D9C3504008D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7A6B-999F-4FF9-92FF-34FA1940E8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622520" y="1616040"/>
            <a:ext cx="870732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Актуальные вопросы учета и отчетности по межбюджетным трансферт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5862600" y="4981680"/>
            <a:ext cx="6095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ачальник отдела методического обеспече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централизованного ведения учета и отчетност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о-правовых образован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правления бюджетного учета и отчетност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Федерального казначейств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.Е. Марко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11F1-9839-44E5-8720-9D7F0EBFFAF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4120" y="2489040"/>
          <a:ext cx="11190240" cy="2926080"/>
        </p:xfrm>
        <a:graphic>
          <a:graphicData uri="http://schemas.openxmlformats.org/drawingml/2006/table">
            <a:tbl>
              <a:tblPr/>
              <a:tblGrid>
                <a:gridCol w="4314960"/>
                <a:gridCol w="3349440"/>
                <a:gridCol w="3525840"/>
              </a:tblGrid>
              <a:tr h="606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убъект Р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РБС Ф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сление задолженности по возврату/ от возврата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 401 10 1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2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218 25520 01 1002 151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 401 10 1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/поступление неиспользованных остатков межбюджетных трансфертов прошлых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2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2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Заголовок 2"/>
          <p:cNvSpPr/>
          <p:nvPr/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mbria"/>
                <a:ea typeface="Arial"/>
              </a:rPr>
              <a:t>Отражение в учете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2301840" y="1211400"/>
            <a:ext cx="93283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mbria"/>
              </a:rPr>
              <a:t>ВОЗВРАТ В ТЕКУЩЕМ ФИНАНСОВОМ ГОДУ ДЕБИТОРСКОЙ ЗАДОЛЖЕННОСТИ ПРОШЛЫХ ЛЕТ, ПО РАНЕЕ ПРОИЗВЕДЕННЫМ РАСХОДАМ ЗА СЧЕТ ЦЕЛЕВЫХ СРЕДСТ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Выгнутая вниз стрелка 5"/>
          <p:cNvSpPr/>
          <p:nvPr/>
        </p:nvSpPr>
        <p:spPr>
          <a:xfrm>
            <a:off x="5662440" y="4964040"/>
            <a:ext cx="3416400" cy="123840"/>
          </a:xfrm>
          <a:custGeom>
            <a:avLst/>
            <a:gdLst>
              <a:gd name="textAreaLeft" fmla="*/ 842400 w 3416400"/>
              <a:gd name="textAreaRight" fmla="*/ 2558520 w 3416400"/>
              <a:gd name="textAreaTop" fmla="*/ 16560 h 123840"/>
              <a:gd name="textAreaBottom" fmla="*/ 10728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654" hR="21600" stAng="10800000" swAng="-5400000"/>
                <a:lnTo>
                  <a:pt x="10849" y="21600"/>
                </a:lnTo>
                <a:arcTo wR="10654" hR="21600" stAng="5400000" swAng="-3742079"/>
                <a:lnTo>
                  <a:pt x="21262" y="5400"/>
                </a:lnTo>
                <a:lnTo>
                  <a:pt x="21405" y="0"/>
                </a:lnTo>
                <a:lnTo>
                  <a:pt x="20871" y="5400"/>
                </a:lnTo>
                <a:lnTo>
                  <a:pt x="20969" y="5400"/>
                </a:lnTo>
                <a:arcTo wR="10654" hR="21600" stAng="1657921" swAng="3726561"/>
                <a:lnTo>
                  <a:pt x="10751" y="21599"/>
                </a:lnTo>
                <a:arcTo wR="10654" hR="21600" stAng="5415518" swAng="5384482"/>
                <a:close/>
              </a:path>
              <a:path fill="darkenLess" w="21600" h="21600">
                <a:moveTo>
                  <a:pt x="0" y="0"/>
                </a:moveTo>
                <a:arcTo wR="10654" hR="21600" stAng="10800000" swAng="-5400000"/>
                <a:lnTo>
                  <a:pt x="10849" y="21600"/>
                </a:lnTo>
                <a:arcTo wR="10654" hR="21600" stAng="5400000" swAng="15518"/>
                <a:lnTo>
                  <a:pt x="10751" y="21599"/>
                </a:lnTo>
                <a:arcTo wR="10654" hR="21600" stAng="5415518" swAng="5384482"/>
                <a:close/>
              </a:path>
            </a:pathLst>
          </a:custGeom>
          <a:solidFill>
            <a:srgbClr val="ff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Выгнутая вниз стрелка 6"/>
          <p:cNvSpPr/>
          <p:nvPr/>
        </p:nvSpPr>
        <p:spPr>
          <a:xfrm>
            <a:off x="3032280" y="4964040"/>
            <a:ext cx="6796080" cy="247680"/>
          </a:xfrm>
          <a:custGeom>
            <a:avLst/>
            <a:gdLst>
              <a:gd name="textAreaLeft" fmla="*/ 1683000 w 6796080"/>
              <a:gd name="textAreaRight" fmla="*/ 5172840 w 6796080"/>
              <a:gd name="textAreaTop" fmla="*/ 33120 h 247680"/>
              <a:gd name="textAreaBottom" fmla="*/ 2145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699" hR="21600" stAng="10800000" swAng="-5400000"/>
                <a:lnTo>
                  <a:pt x="11092" y="21600"/>
                </a:lnTo>
                <a:arcTo wR="10699" hR="21600" stAng="5400000" swAng="-5400000"/>
                <a:lnTo>
                  <a:pt x="21600" y="0"/>
                </a:lnTo>
                <a:lnTo>
                  <a:pt x="21594" y="0"/>
                </a:lnTo>
                <a:lnTo>
                  <a:pt x="21587" y="0"/>
                </a:lnTo>
                <a:lnTo>
                  <a:pt x="21397" y="0"/>
                </a:lnTo>
                <a:arcTo wR="10699" hR="21600" stAng="0" swAng="5368722"/>
                <a:lnTo>
                  <a:pt x="10895" y="21596"/>
                </a:lnTo>
                <a:arcTo wR="10699" hR="21600" stAng="5431278" swAng="5368722"/>
                <a:close/>
              </a:path>
              <a:path fill="darkenLess" w="21600" h="21600">
                <a:moveTo>
                  <a:pt x="0" y="0"/>
                </a:moveTo>
                <a:arcTo wR="10699" hR="21600" stAng="10800000" swAng="-5400000"/>
                <a:lnTo>
                  <a:pt x="11092" y="21600"/>
                </a:lnTo>
                <a:arcTo wR="10699" hR="21600" stAng="5400000" swAng="31278"/>
                <a:lnTo>
                  <a:pt x="10895" y="21596"/>
                </a:lnTo>
                <a:arcTo wR="10699" hR="21600" stAng="5431278" swAng="5368722"/>
                <a:close/>
              </a:path>
            </a:pathLst>
          </a:custGeom>
          <a:solidFill>
            <a:srgbClr val="ff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264960" y="5732640"/>
            <a:ext cx="118382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нение приказа Минфина России от 06.12.2010 № 162н «Об утверждении Плана счетов бюджетного учета и Инструкции по его применению» (приказ Минфина от 31.10.2017 № 172н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части отражения операций по возврату неиспользованных целевых средст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ятно 1 8"/>
          <p:cNvSpPr/>
          <p:nvPr/>
        </p:nvSpPr>
        <p:spPr>
          <a:xfrm>
            <a:off x="754200" y="1492200"/>
            <a:ext cx="2004840" cy="1058760"/>
          </a:xfrm>
          <a:prstGeom prst="irregularSeal1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буд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7C0A-FF61-476D-888D-A40E9151955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Object 3"/>
          <p:cNvGraphicFramePr/>
          <p:nvPr/>
        </p:nvGraphicFramePr>
        <p:xfrm>
          <a:off x="185760" y="977760"/>
          <a:ext cx="11620440" cy="572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977760"/>
                    <a:ext cx="1162044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mbria"/>
                <a:ea typeface="Arial"/>
              </a:rPr>
              <a:t>Отражение в отчетности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7062840" y="4998960"/>
            <a:ext cx="1019160" cy="1422360"/>
          </a:xfrm>
          <a:prstGeom prst="wedgeRoundRectCallout">
            <a:avLst>
              <a:gd name="adj1" fmla="val -5263"/>
              <a:gd name="adj2" fmla="val -80861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должны соответствовать данным дебетового оборота по счету </a:t>
            </a: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19 … 151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40110 151 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рреспонденции кредитом счета 1205516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2827440" y="5381640"/>
            <a:ext cx="1019160" cy="1039680"/>
          </a:xfrm>
          <a:prstGeom prst="wedgeRoundRectCallout">
            <a:avLst>
              <a:gd name="adj1" fmla="val -541"/>
              <a:gd name="adj2" fmla="val -62634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БК доходов группы, подгруппы </a:t>
            </a: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19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торым в осуществляется возврат целевых средст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8107200" y="4816440"/>
            <a:ext cx="981360" cy="1379520"/>
          </a:xfrm>
          <a:prstGeom prst="wedgeRoundRectCallout">
            <a:avLst>
              <a:gd name="adj1" fmla="val -44620"/>
              <a:gd name="adj2" fmla="val -65069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должны соответствовать данным дебетового оборота по счету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19 … 151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21002 151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C7E1-E1FA-47DF-93CE-3AE63F4952D7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Отражение в учете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12640" y="2494080"/>
          <a:ext cx="11188800" cy="3081240"/>
        </p:xfrm>
        <a:graphic>
          <a:graphicData uri="http://schemas.openxmlformats.org/drawingml/2006/table">
            <a:tbl>
              <a:tblPr/>
              <a:tblGrid>
                <a:gridCol w="4313520"/>
                <a:gridCol w="3350880"/>
                <a:gridCol w="3524400"/>
              </a:tblGrid>
              <a:tr h="577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убъект Р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РБС Ф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к учету восстановленного остатка межбюджетных трансфертов прошлых отчетных периодов, ранее отнесенных на расходы, подлежащих взыск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401 10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 52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6 51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 523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401 20 2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сление задолженности по возврату/ от возврата межбюджетных трансфертов, подлежащих взыск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3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2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6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/поступление взысканных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Прямоугольник 7"/>
          <p:cNvSpPr/>
          <p:nvPr/>
        </p:nvSpPr>
        <p:spPr>
          <a:xfrm>
            <a:off x="660240" y="947880"/>
            <a:ext cx="1124604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mbria"/>
              </a:rPr>
              <a:t>Взыскание межбюджетных трансферт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1859c"/>
                </a:solidFill>
                <a:latin typeface="Cambria"/>
              </a:rPr>
              <a:t>в связи с выявленными фактами нецелевого использова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1859c"/>
                </a:solidFill>
                <a:latin typeface="Cambria"/>
              </a:rPr>
              <a:t>главным распорядителем бюджетных средств, предоставивших межбюджетный трансферт, контрольными органа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ятно 1 9"/>
          <p:cNvSpPr/>
          <p:nvPr/>
        </p:nvSpPr>
        <p:spPr>
          <a:xfrm>
            <a:off x="512640" y="1701720"/>
            <a:ext cx="2006640" cy="1059120"/>
          </a:xfrm>
          <a:prstGeom prst="irregularSeal1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бы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Выгнутая вниз стрелка 8"/>
          <p:cNvSpPr/>
          <p:nvPr/>
        </p:nvSpPr>
        <p:spPr>
          <a:xfrm>
            <a:off x="5662440" y="5276880"/>
            <a:ext cx="3416400" cy="123840"/>
          </a:xfrm>
          <a:custGeom>
            <a:avLst/>
            <a:gdLst>
              <a:gd name="textAreaLeft" fmla="*/ 842400 w 3416400"/>
              <a:gd name="textAreaRight" fmla="*/ 2558520 w 3416400"/>
              <a:gd name="textAreaTop" fmla="*/ 16560 h 123840"/>
              <a:gd name="textAreaBottom" fmla="*/ 10728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654" hR="21600" stAng="10800000" swAng="-5400000"/>
                <a:lnTo>
                  <a:pt x="10849" y="21600"/>
                </a:lnTo>
                <a:arcTo wR="10654" hR="21600" stAng="5400000" swAng="-3742079"/>
                <a:lnTo>
                  <a:pt x="21262" y="5400"/>
                </a:lnTo>
                <a:lnTo>
                  <a:pt x="21405" y="0"/>
                </a:lnTo>
                <a:lnTo>
                  <a:pt x="20871" y="5400"/>
                </a:lnTo>
                <a:lnTo>
                  <a:pt x="20969" y="5400"/>
                </a:lnTo>
                <a:arcTo wR="10654" hR="21600" stAng="1657921" swAng="3726561"/>
                <a:lnTo>
                  <a:pt x="10751" y="21599"/>
                </a:lnTo>
                <a:arcTo wR="10654" hR="21600" stAng="5415518" swAng="5384482"/>
                <a:close/>
              </a:path>
              <a:path fill="darkenLess" w="21600" h="21600">
                <a:moveTo>
                  <a:pt x="0" y="0"/>
                </a:moveTo>
                <a:arcTo wR="10654" hR="21600" stAng="10800000" swAng="-5400000"/>
                <a:lnTo>
                  <a:pt x="10849" y="21600"/>
                </a:lnTo>
                <a:arcTo wR="10654" hR="21600" stAng="5400000" swAng="15518"/>
                <a:lnTo>
                  <a:pt x="10751" y="21599"/>
                </a:lnTo>
                <a:arcTo wR="10654" hR="21600" stAng="5415518" swAng="5384482"/>
                <a:close/>
              </a:path>
            </a:pathLst>
          </a:custGeom>
          <a:solidFill>
            <a:srgbClr val="ff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Выгнутая вниз стрелка 10"/>
          <p:cNvSpPr/>
          <p:nvPr/>
        </p:nvSpPr>
        <p:spPr>
          <a:xfrm>
            <a:off x="3032280" y="5276880"/>
            <a:ext cx="6796080" cy="247680"/>
          </a:xfrm>
          <a:custGeom>
            <a:avLst/>
            <a:gdLst>
              <a:gd name="textAreaLeft" fmla="*/ 1683000 w 6796080"/>
              <a:gd name="textAreaRight" fmla="*/ 5172840 w 6796080"/>
              <a:gd name="textAreaTop" fmla="*/ 33120 h 247680"/>
              <a:gd name="textAreaBottom" fmla="*/ 2145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699" hR="21600" stAng="10800000" swAng="-5400000"/>
                <a:lnTo>
                  <a:pt x="11092" y="21600"/>
                </a:lnTo>
                <a:arcTo wR="10699" hR="21600" stAng="5400000" swAng="-5400000"/>
                <a:lnTo>
                  <a:pt x="21600" y="0"/>
                </a:lnTo>
                <a:lnTo>
                  <a:pt x="21594" y="0"/>
                </a:lnTo>
                <a:lnTo>
                  <a:pt x="21587" y="0"/>
                </a:lnTo>
                <a:lnTo>
                  <a:pt x="21397" y="0"/>
                </a:lnTo>
                <a:arcTo wR="10699" hR="21600" stAng="0" swAng="5368722"/>
                <a:lnTo>
                  <a:pt x="10895" y="21596"/>
                </a:lnTo>
                <a:arcTo wR="10699" hR="21600" stAng="5431278" swAng="5368722"/>
                <a:close/>
              </a:path>
              <a:path fill="darkenLess" w="21600" h="21600">
                <a:moveTo>
                  <a:pt x="0" y="0"/>
                </a:moveTo>
                <a:arcTo wR="10699" hR="21600" stAng="10800000" swAng="-5400000"/>
                <a:lnTo>
                  <a:pt x="11092" y="21600"/>
                </a:lnTo>
                <a:arcTo wR="10699" hR="21600" stAng="5400000" swAng="31278"/>
                <a:lnTo>
                  <a:pt x="10895" y="21596"/>
                </a:lnTo>
                <a:arcTo wR="10699" hR="21600" stAng="5431278" swAng="5368722"/>
                <a:close/>
              </a:path>
            </a:pathLst>
          </a:custGeom>
          <a:solidFill>
            <a:srgbClr val="ff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6DDE-79FF-4B1A-AB2F-61DEAF8E10E7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Object 3"/>
          <p:cNvGraphicFramePr/>
          <p:nvPr/>
        </p:nvGraphicFramePr>
        <p:xfrm>
          <a:off x="185760" y="969840"/>
          <a:ext cx="11620440" cy="572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969840"/>
                    <a:ext cx="1162044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AutoShape 4"/>
          <p:cNvSpPr/>
          <p:nvPr/>
        </p:nvSpPr>
        <p:spPr>
          <a:xfrm>
            <a:off x="7062840" y="4998960"/>
            <a:ext cx="1019160" cy="1422360"/>
          </a:xfrm>
          <a:prstGeom prst="wedgeRoundRectCallout">
            <a:avLst>
              <a:gd name="adj1" fmla="val -5263"/>
              <a:gd name="adj2" fmla="val -80861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должны соответствовать данным дебетового оборота по счету </a:t>
            </a: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02 … 151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40110 151 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рреспонденции кредитом счета 1205516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mbria"/>
                <a:ea typeface="Arial"/>
              </a:rPr>
              <a:t>Отражение в отчетности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2827440" y="5381640"/>
            <a:ext cx="1019160" cy="1231920"/>
          </a:xfrm>
          <a:prstGeom prst="wedgeRoundRectCallout">
            <a:avLst>
              <a:gd name="adj1" fmla="val -541"/>
              <a:gd name="adj2" fmla="val -62634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БК доходов группы, подгруппы </a:t>
            </a: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02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торым в предыдущие годы были предоставлены целевые средст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8107200" y="4816440"/>
            <a:ext cx="981360" cy="1379520"/>
          </a:xfrm>
          <a:prstGeom prst="wedgeRoundRectCallout">
            <a:avLst>
              <a:gd name="adj1" fmla="val -44620"/>
              <a:gd name="adj2" fmla="val -65069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должны соответствовать данным дебетового оборота по счету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19 … 151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21002 151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938E-77BA-4240-86EA-AB697DCF7AA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mbria"/>
                <a:ea typeface="Arial"/>
              </a:rPr>
              <a:t>Отражение в учете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38120" y="2760840"/>
          <a:ext cx="11188800" cy="2442960"/>
        </p:xfrm>
        <a:graphic>
          <a:graphicData uri="http://schemas.openxmlformats.org/drawingml/2006/table">
            <a:tbl>
              <a:tblPr/>
              <a:tblGrid>
                <a:gridCol w="4313160"/>
                <a:gridCol w="3351240"/>
                <a:gridCol w="3524400"/>
              </a:tblGrid>
              <a:tr h="672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убъект Р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РБС Ф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к учету восстановленного остатка межбюджетных трансфертов прошлых отчетных периодов, ранее отнесенных на расходы, подлежащих взыск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401 10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3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3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401 10 1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/поступление взысканных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Прямоугольник 7"/>
          <p:cNvSpPr/>
          <p:nvPr/>
        </p:nvSpPr>
        <p:spPr>
          <a:xfrm>
            <a:off x="660240" y="947880"/>
            <a:ext cx="1124604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mbria"/>
              </a:rPr>
              <a:t>Взыскание межбюджетных трансферт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1859c"/>
                </a:solidFill>
                <a:latin typeface="Cambria"/>
              </a:rPr>
              <a:t>в связи с выявленными фактами нецелевого использова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1859c"/>
                </a:solidFill>
                <a:latin typeface="Cambria"/>
              </a:rPr>
              <a:t>главным распорядителем бюджетных средств, предоставивших межбюджетный трансферт, контрольными органа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8"/>
          <p:cNvSpPr/>
          <p:nvPr/>
        </p:nvSpPr>
        <p:spPr>
          <a:xfrm>
            <a:off x="264960" y="5732640"/>
            <a:ext cx="118382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нение приказа Минфина России от 06.12.2010 № 162н «Об утверждении Плана счетов бюджетного учета и Инструкции по его применению» (приказ Минфина от 31.10.2017 № 172н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части отражения операций по возврату неиспользованных целевых средст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ятно 1 9"/>
          <p:cNvSpPr/>
          <p:nvPr/>
        </p:nvSpPr>
        <p:spPr>
          <a:xfrm>
            <a:off x="512640" y="1701720"/>
            <a:ext cx="2006640" cy="1059120"/>
          </a:xfrm>
          <a:prstGeom prst="irregularSeal1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буд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Выгнутая вниз стрелка 8"/>
          <p:cNvSpPr/>
          <p:nvPr/>
        </p:nvSpPr>
        <p:spPr>
          <a:xfrm>
            <a:off x="5662440" y="4908600"/>
            <a:ext cx="3416400" cy="123840"/>
          </a:xfrm>
          <a:custGeom>
            <a:avLst/>
            <a:gdLst>
              <a:gd name="textAreaLeft" fmla="*/ 842400 w 3416400"/>
              <a:gd name="textAreaRight" fmla="*/ 2558520 w 3416400"/>
              <a:gd name="textAreaTop" fmla="*/ 16560 h 123840"/>
              <a:gd name="textAreaBottom" fmla="*/ 10728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654" hR="21600" stAng="10800000" swAng="-5400000"/>
                <a:lnTo>
                  <a:pt x="10849" y="21600"/>
                </a:lnTo>
                <a:arcTo wR="10654" hR="21600" stAng="5400000" swAng="-3742079"/>
                <a:lnTo>
                  <a:pt x="21262" y="5400"/>
                </a:lnTo>
                <a:lnTo>
                  <a:pt x="21405" y="0"/>
                </a:lnTo>
                <a:lnTo>
                  <a:pt x="20871" y="5400"/>
                </a:lnTo>
                <a:lnTo>
                  <a:pt x="20969" y="5400"/>
                </a:lnTo>
                <a:arcTo wR="10654" hR="21600" stAng="1657921" swAng="3726561"/>
                <a:lnTo>
                  <a:pt x="10751" y="21599"/>
                </a:lnTo>
                <a:arcTo wR="10654" hR="21600" stAng="5415518" swAng="5384482"/>
                <a:close/>
              </a:path>
              <a:path fill="darkenLess" w="21600" h="21600">
                <a:moveTo>
                  <a:pt x="0" y="0"/>
                </a:moveTo>
                <a:arcTo wR="10654" hR="21600" stAng="10800000" swAng="-5400000"/>
                <a:lnTo>
                  <a:pt x="10849" y="21600"/>
                </a:lnTo>
                <a:arcTo wR="10654" hR="21600" stAng="5400000" swAng="15518"/>
                <a:lnTo>
                  <a:pt x="10751" y="21599"/>
                </a:lnTo>
                <a:arcTo wR="10654" hR="21600" stAng="5415518" swAng="5384482"/>
                <a:close/>
              </a:path>
            </a:pathLst>
          </a:custGeom>
          <a:solidFill>
            <a:srgbClr val="ff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Выгнутая вниз стрелка 10"/>
          <p:cNvSpPr/>
          <p:nvPr/>
        </p:nvSpPr>
        <p:spPr>
          <a:xfrm>
            <a:off x="3032280" y="4908600"/>
            <a:ext cx="6796080" cy="247680"/>
          </a:xfrm>
          <a:custGeom>
            <a:avLst/>
            <a:gdLst>
              <a:gd name="textAreaLeft" fmla="*/ 1683000 w 6796080"/>
              <a:gd name="textAreaRight" fmla="*/ 5172840 w 6796080"/>
              <a:gd name="textAreaTop" fmla="*/ 33120 h 247680"/>
              <a:gd name="textAreaBottom" fmla="*/ 2145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699" hR="21600" stAng="10800000" swAng="-5400000"/>
                <a:lnTo>
                  <a:pt x="11092" y="21600"/>
                </a:lnTo>
                <a:arcTo wR="10699" hR="21600" stAng="5400000" swAng="-5400000"/>
                <a:lnTo>
                  <a:pt x="21600" y="0"/>
                </a:lnTo>
                <a:lnTo>
                  <a:pt x="21594" y="0"/>
                </a:lnTo>
                <a:lnTo>
                  <a:pt x="21587" y="0"/>
                </a:lnTo>
                <a:lnTo>
                  <a:pt x="21397" y="0"/>
                </a:lnTo>
                <a:arcTo wR="10699" hR="21600" stAng="0" swAng="5368722"/>
                <a:lnTo>
                  <a:pt x="10895" y="21596"/>
                </a:lnTo>
                <a:arcTo wR="10699" hR="21600" stAng="5431278" swAng="5368722"/>
                <a:close/>
              </a:path>
              <a:path fill="darkenLess" w="21600" h="21600">
                <a:moveTo>
                  <a:pt x="0" y="0"/>
                </a:moveTo>
                <a:arcTo wR="10699" hR="21600" stAng="10800000" swAng="-5400000"/>
                <a:lnTo>
                  <a:pt x="11092" y="21600"/>
                </a:lnTo>
                <a:arcTo wR="10699" hR="21600" stAng="5400000" swAng="31278"/>
                <a:lnTo>
                  <a:pt x="10895" y="21596"/>
                </a:lnTo>
                <a:arcTo wR="10699" hR="21600" stAng="5431278" swAng="5368722"/>
                <a:close/>
              </a:path>
            </a:pathLst>
          </a:custGeom>
          <a:solidFill>
            <a:srgbClr val="ff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A15B-9274-4290-8D0E-9E368CE4BFA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185760" y="977760"/>
          <a:ext cx="11620440" cy="572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977760"/>
                    <a:ext cx="1162044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mbria"/>
                <a:ea typeface="Arial"/>
              </a:rPr>
              <a:t>Отражение в отчетности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062840" y="4998960"/>
            <a:ext cx="1019160" cy="1422360"/>
          </a:xfrm>
          <a:prstGeom prst="wedgeRoundRectCallout">
            <a:avLst>
              <a:gd name="adj1" fmla="val -5263"/>
              <a:gd name="adj2" fmla="val -80861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должны соответствовать данным дебетового оборота по счету </a:t>
            </a: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19 … 151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40110 151 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рреспонденции кредитом счета 1205516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2827440" y="5381640"/>
            <a:ext cx="1019160" cy="1039680"/>
          </a:xfrm>
          <a:prstGeom prst="wedgeRoundRectCallout">
            <a:avLst>
              <a:gd name="adj1" fmla="val -541"/>
              <a:gd name="adj2" fmla="val -62634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БК доходов группы, подгруппы </a:t>
            </a: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19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торым в осуществляется возврат целевых средст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8107200" y="4816440"/>
            <a:ext cx="981360" cy="1379520"/>
          </a:xfrm>
          <a:prstGeom prst="wedgeRoundRectCallout">
            <a:avLst>
              <a:gd name="adj1" fmla="val -44620"/>
              <a:gd name="adj2" fmla="val -65069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должны соответствовать данным дебетового оборота по счету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19 … 151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21002 151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6E4C-F923-4928-AB77-23F60FB22E3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mbria"/>
                <a:ea typeface="Arial"/>
              </a:rPr>
              <a:t>Отражение в учете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28480" y="3040200"/>
          <a:ext cx="11190600" cy="2054160"/>
        </p:xfrm>
        <a:graphic>
          <a:graphicData uri="http://schemas.openxmlformats.org/drawingml/2006/table">
            <a:tbl>
              <a:tblPr/>
              <a:tblGrid>
                <a:gridCol w="4314960"/>
                <a:gridCol w="3349800"/>
                <a:gridCol w="3525840"/>
              </a:tblGrid>
              <a:tr h="64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убъект Р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РБС Ф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/поступление излишне взысканных межбюджетных трансфертов прошлых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000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000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9000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03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9000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03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к учету возвращенных излишне взысканных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000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000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401 10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000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03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401 10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000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03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Прямоугольник 7"/>
          <p:cNvSpPr/>
          <p:nvPr/>
        </p:nvSpPr>
        <p:spPr>
          <a:xfrm>
            <a:off x="538200" y="1486080"/>
            <a:ext cx="112442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mbria"/>
              </a:rPr>
              <a:t>Возврат </a:t>
            </a:r>
            <a:r>
              <a:rPr b="1" lang="ru-RU" sz="1800" spc="-1" strike="noStrike" u="sng">
                <a:solidFill>
                  <a:srgbClr val="31859c"/>
                </a:solidFill>
                <a:uFillTx/>
                <a:latin typeface="Cambria"/>
              </a:rPr>
              <a:t>излишне</a:t>
            </a:r>
            <a:r>
              <a:rPr b="1" lang="ru-RU" sz="1800" spc="-1" strike="noStrike">
                <a:solidFill>
                  <a:srgbClr val="31859c"/>
                </a:solidFill>
                <a:latin typeface="Cambria"/>
              </a:rPr>
              <a:t> взысканных межбюджетных трансфертов прошлых отчетных перио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mbria"/>
              </a:rPr>
              <a:t>Предоставленных в рамках федеральной целевой программы «Развитие физической культуры и спорта в Российской Федерации на 2006-2015 год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1"/>
          <p:cNvSpPr/>
          <p:nvPr/>
        </p:nvSpPr>
        <p:spPr>
          <a:xfrm>
            <a:off x="120600" y="2382840"/>
            <a:ext cx="1190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фина России от 11.05.2017 № 355 «О внесении изменений в некоторые приказы Министерства финансов Российской Федерации о бесспорном взыскании суммы средств, предоставленных из федерального бюджета бюджетам субъектов Российской Федераци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AutoShape 19"/>
          <p:cNvSpPr/>
          <p:nvPr/>
        </p:nvSpPr>
        <p:spPr>
          <a:xfrm>
            <a:off x="538200" y="5308560"/>
            <a:ext cx="8324640" cy="1582200"/>
          </a:xfrm>
          <a:prstGeom prst="flowChartAlternateProcess">
            <a:avLst/>
          </a:prstGeom>
          <a:solidFill>
            <a:srgbClr val="0000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перации по восстановлению доходов подлежащих возврату из федерального бюджета отражаются аналогично операциям во восстановлению неиспользованного остатка целевых средств, подлежащих возврату в федеральный бюджет 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с противоположным знак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Выгнутая вниз стрелка 8"/>
          <p:cNvSpPr/>
          <p:nvPr/>
        </p:nvSpPr>
        <p:spPr>
          <a:xfrm>
            <a:off x="5662440" y="4795920"/>
            <a:ext cx="3416400" cy="123840"/>
          </a:xfrm>
          <a:custGeom>
            <a:avLst/>
            <a:gdLst>
              <a:gd name="textAreaLeft" fmla="*/ 842400 w 3416400"/>
              <a:gd name="textAreaRight" fmla="*/ 2558520 w 3416400"/>
              <a:gd name="textAreaTop" fmla="*/ 16560 h 123840"/>
              <a:gd name="textAreaBottom" fmla="*/ 10728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654" hR="21600" stAng="10800000" swAng="-5400000"/>
                <a:lnTo>
                  <a:pt x="10849" y="21600"/>
                </a:lnTo>
                <a:arcTo wR="10654" hR="21600" stAng="5400000" swAng="-3742079"/>
                <a:lnTo>
                  <a:pt x="21262" y="5400"/>
                </a:lnTo>
                <a:lnTo>
                  <a:pt x="21405" y="0"/>
                </a:lnTo>
                <a:lnTo>
                  <a:pt x="20871" y="5400"/>
                </a:lnTo>
                <a:lnTo>
                  <a:pt x="20969" y="5400"/>
                </a:lnTo>
                <a:arcTo wR="10654" hR="21600" stAng="1657921" swAng="3726561"/>
                <a:lnTo>
                  <a:pt x="10751" y="21599"/>
                </a:lnTo>
                <a:arcTo wR="10654" hR="21600" stAng="5415518" swAng="5384482"/>
                <a:close/>
              </a:path>
              <a:path fill="darkenLess" w="21600" h="21600">
                <a:moveTo>
                  <a:pt x="0" y="0"/>
                </a:moveTo>
                <a:arcTo wR="10654" hR="21600" stAng="10800000" swAng="-5400000"/>
                <a:lnTo>
                  <a:pt x="10849" y="21600"/>
                </a:lnTo>
                <a:arcTo wR="10654" hR="21600" stAng="5400000" swAng="15518"/>
                <a:lnTo>
                  <a:pt x="10751" y="21599"/>
                </a:lnTo>
                <a:arcTo wR="10654" hR="21600" stAng="5415518" swAng="5384482"/>
                <a:close/>
              </a:path>
            </a:pathLst>
          </a:custGeom>
          <a:solidFill>
            <a:srgbClr val="ff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Выгнутая вниз стрелка 9"/>
          <p:cNvSpPr/>
          <p:nvPr/>
        </p:nvSpPr>
        <p:spPr>
          <a:xfrm>
            <a:off x="3032280" y="4795920"/>
            <a:ext cx="6796080" cy="247680"/>
          </a:xfrm>
          <a:custGeom>
            <a:avLst/>
            <a:gdLst>
              <a:gd name="textAreaLeft" fmla="*/ 1683000 w 6796080"/>
              <a:gd name="textAreaRight" fmla="*/ 5172840 w 6796080"/>
              <a:gd name="textAreaTop" fmla="*/ 33120 h 247680"/>
              <a:gd name="textAreaBottom" fmla="*/ 2145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699" hR="21600" stAng="10800000" swAng="-5400000"/>
                <a:lnTo>
                  <a:pt x="11092" y="21600"/>
                </a:lnTo>
                <a:arcTo wR="10699" hR="21600" stAng="5400000" swAng="-5400000"/>
                <a:lnTo>
                  <a:pt x="21600" y="0"/>
                </a:lnTo>
                <a:lnTo>
                  <a:pt x="21594" y="0"/>
                </a:lnTo>
                <a:lnTo>
                  <a:pt x="21587" y="0"/>
                </a:lnTo>
                <a:lnTo>
                  <a:pt x="21397" y="0"/>
                </a:lnTo>
                <a:arcTo wR="10699" hR="21600" stAng="0" swAng="5368722"/>
                <a:lnTo>
                  <a:pt x="10895" y="21596"/>
                </a:lnTo>
                <a:arcTo wR="10699" hR="21600" stAng="5431278" swAng="5368722"/>
                <a:close/>
              </a:path>
              <a:path fill="darkenLess" w="21600" h="21600">
                <a:moveTo>
                  <a:pt x="0" y="0"/>
                </a:moveTo>
                <a:arcTo wR="10699" hR="21600" stAng="10800000" swAng="-5400000"/>
                <a:lnTo>
                  <a:pt x="11092" y="21600"/>
                </a:lnTo>
                <a:arcTo wR="10699" hR="21600" stAng="5400000" swAng="31278"/>
                <a:lnTo>
                  <a:pt x="10895" y="21596"/>
                </a:lnTo>
                <a:arcTo wR="10699" hR="21600" stAng="5431278" swAng="5368722"/>
                <a:close/>
              </a:path>
            </a:pathLst>
          </a:custGeom>
          <a:solidFill>
            <a:srgbClr val="ff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CAA5-00D2-4556-82F3-56F7B122DF9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Object 3"/>
          <p:cNvGraphicFramePr/>
          <p:nvPr/>
        </p:nvGraphicFramePr>
        <p:xfrm>
          <a:off x="185760" y="988920"/>
          <a:ext cx="11620440" cy="572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988920"/>
                    <a:ext cx="1162044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AutoShape 4"/>
          <p:cNvSpPr/>
          <p:nvPr/>
        </p:nvSpPr>
        <p:spPr>
          <a:xfrm>
            <a:off x="8204040" y="4816440"/>
            <a:ext cx="1076400" cy="1544760"/>
          </a:xfrm>
          <a:prstGeom prst="wedgeRoundRectCallout">
            <a:avLst>
              <a:gd name="adj1" fmla="val -44620"/>
              <a:gd name="adj2" fmla="val -65069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должны соответствовать данным дебетового оборота по счету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19 … 151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21002 151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ражаются в гр. 10 со знаком «МИНУС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7050240" y="4821120"/>
            <a:ext cx="1031760" cy="1836720"/>
          </a:xfrm>
          <a:prstGeom prst="wedgeRoundRectCallout">
            <a:avLst>
              <a:gd name="adj1" fmla="val -2736"/>
              <a:gd name="adj2" fmla="val -70351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должны соответствовать данным кредитового оборота по счету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19 … 151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40110 151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рреспонденции дебетом счета 120551560. </a:t>
            </a:r>
            <a:r>
              <a:rPr b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ражаются в гр. 9  со знаком «МИНУС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Заголовок 2"/>
          <p:cNvSpPr/>
          <p:nvPr/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mbria"/>
                <a:ea typeface="Arial"/>
              </a:rPr>
              <a:t>Отражение в отчетности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617B-AF8D-41C5-B016-B945CA2E0C2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9800" y="4002120"/>
          <a:ext cx="11188800" cy="1865160"/>
        </p:xfrm>
        <a:graphic>
          <a:graphicData uri="http://schemas.openxmlformats.org/drawingml/2006/table">
            <a:tbl>
              <a:tblPr/>
              <a:tblGrid>
                <a:gridCol w="3949920"/>
                <a:gridCol w="3714480"/>
                <a:gridCol w="3524400"/>
              </a:tblGrid>
              <a:tr h="517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убъект Р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РБС Ф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числение средств из бюджета субъекта Российской Федерации в федеральный бюджет в связи с недостижением результатив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ХХХХ ХХХХХХХХХХ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5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302 91 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ХХХХ ХХХХХХХХХХ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5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304 05 2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6 49010 01 0000 140 </a:t>
                      </a:r>
                      <a:r>
                        <a:rPr b="1" lang="ru-RU" sz="1400" spc="-1" strike="noStrike">
                          <a:solidFill>
                            <a:srgbClr val="ebf1de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4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6 49010 01 0000 140 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Заголовок 2"/>
          <p:cNvSpPr/>
          <p:nvPr/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mbria"/>
                <a:ea typeface="Arial"/>
              </a:rPr>
              <a:t>Отражение в учете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1"/>
          <p:cNvSpPr/>
          <p:nvPr/>
        </p:nvSpPr>
        <p:spPr>
          <a:xfrm>
            <a:off x="1820880" y="968400"/>
            <a:ext cx="978516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1859c"/>
                </a:solidFill>
                <a:latin typeface="Cambria"/>
              </a:rPr>
              <a:t>Перечисление средств из бюджета субъекта Российской Федерации в федеральный бюджет в случае неисполнения условий соглашений о предоставлении субсидий из федерального бюджета бюджету субъекта Российской Федерации за недостижение субъектом Российской Федерации установленных значений показателей результативности осуществления расходов бюджета субъекта Российской Федерации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168120" y="6080040"/>
            <a:ext cx="117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Постановление Правительства РФ от 30.09.2014 № 999 «О формировании, предоставлении и распределении субсидий из федерального бюджета бюджетам субъектов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12" descr="http://www.shkola-48.ru/data/objects/412/images/vazhno.jpg"/>
          <p:cNvPicPr/>
          <p:nvPr/>
        </p:nvPicPr>
        <p:blipFill>
          <a:blip r:embed="rId1"/>
          <a:stretch/>
        </p:blipFill>
        <p:spPr>
          <a:xfrm>
            <a:off x="176040" y="2319480"/>
            <a:ext cx="1306800" cy="1528560"/>
          </a:xfrm>
          <a:prstGeom prst="rect">
            <a:avLst/>
          </a:prstGeom>
          <a:ln w="0">
            <a:noFill/>
          </a:ln>
        </p:spPr>
      </p:pic>
      <p:sp>
        <p:nvSpPr>
          <p:cNvPr id="162" name="Выноска 1 9"/>
          <p:cNvSpPr/>
          <p:nvPr/>
        </p:nvSpPr>
        <p:spPr>
          <a:xfrm>
            <a:off x="4486320" y="2543040"/>
            <a:ext cx="7262640" cy="118584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ть операции –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ШТРАФ, ПРИМЕНЕНИЕ САНКЦИЙ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перация не классифицируется как возврат неиспользованных остатков целевых средств, не относится к межбюджетным расчетам, не подлежит консолидации, не отражается в Справке ф. 0503125, Отчете ф. 05033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EEDA-36AB-4A52-A008-4AF4B545715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252360" y="1730520"/>
            <a:ext cx="11692080" cy="4717800"/>
          </a:xfrm>
          <a:prstGeom prst="rect">
            <a:avLst/>
          </a:prstGeom>
          <a:ln w="0">
            <a:noFill/>
          </a:ln>
        </p:spPr>
      </p:pic>
      <p:sp>
        <p:nvSpPr>
          <p:cNvPr id="165" name="Скругленный прямоугольник 7"/>
          <p:cNvSpPr/>
          <p:nvPr/>
        </p:nvSpPr>
        <p:spPr>
          <a:xfrm>
            <a:off x="4330800" y="4869000"/>
            <a:ext cx="2816280" cy="393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Скругленный прямоугольник 8"/>
          <p:cNvSpPr/>
          <p:nvPr/>
        </p:nvSpPr>
        <p:spPr>
          <a:xfrm>
            <a:off x="2414520" y="4924440"/>
            <a:ext cx="297000" cy="338040"/>
          </a:xfrm>
          <a:custGeom>
            <a:avLst/>
            <a:gdLst>
              <a:gd name="textAreaLeft" fmla="*/ 14400 w 297000"/>
              <a:gd name="textAreaRight" fmla="*/ 282600 w 297000"/>
              <a:gd name="textAreaTop" fmla="*/ 14400 h 338040"/>
              <a:gd name="textAreaBottom" fmla="*/ 323640 h 338040"/>
            </a:gdLst>
            <a:ahLst/>
            <a:rect l="textAreaLeft" t="textAreaTop" r="textAreaRight" b="textAreaBottom"/>
            <a:pathLst>
              <a:path w="21600" h="24581">
                <a:moveTo>
                  <a:pt x="3600" y="0"/>
                </a:moveTo>
                <a:arcTo wR="3600" hR="3600" stAng="16200000" swAng="-5400000"/>
                <a:lnTo>
                  <a:pt x="0" y="20981"/>
                </a:lnTo>
                <a:arcTo wR="3600" hR="3600" stAng="10800000" swAng="-5400000"/>
                <a:lnTo>
                  <a:pt x="18000" y="24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Скругленный прямоугольник 9"/>
          <p:cNvSpPr/>
          <p:nvPr/>
        </p:nvSpPr>
        <p:spPr>
          <a:xfrm>
            <a:off x="8021520" y="5575320"/>
            <a:ext cx="1627200" cy="384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Скругленный прямоугольник 11"/>
          <p:cNvSpPr/>
          <p:nvPr/>
        </p:nvSpPr>
        <p:spPr>
          <a:xfrm>
            <a:off x="2414520" y="5533920"/>
            <a:ext cx="297000" cy="385920"/>
          </a:xfrm>
          <a:custGeom>
            <a:avLst/>
            <a:gdLst>
              <a:gd name="textAreaLeft" fmla="*/ 14400 w 297000"/>
              <a:gd name="textAreaRight" fmla="*/ 282600 w 297000"/>
              <a:gd name="textAreaTop" fmla="*/ 14400 h 385920"/>
              <a:gd name="textAreaBottom" fmla="*/ 371520 h 385920"/>
            </a:gdLst>
            <a:ahLst/>
            <a:rect l="textAreaLeft" t="textAreaTop" r="textAreaRight" b="textAreaBottom"/>
            <a:pathLst>
              <a:path w="21600" h="28059">
                <a:moveTo>
                  <a:pt x="3600" y="0"/>
                </a:moveTo>
                <a:arcTo wR="3600" hR="3600" stAng="16200000" swAng="-5400000"/>
                <a:lnTo>
                  <a:pt x="0" y="24459"/>
                </a:lnTo>
                <a:arcTo wR="3600" hR="3600" stAng="10800000" swAng="-5400000"/>
                <a:lnTo>
                  <a:pt x="18000" y="280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Скругленная прямоугольная выноска 10"/>
          <p:cNvSpPr/>
          <p:nvPr/>
        </p:nvSpPr>
        <p:spPr>
          <a:xfrm>
            <a:off x="2840040" y="4981680"/>
            <a:ext cx="1403280" cy="1066680"/>
          </a:xfrm>
          <a:prstGeom prst="wedgeRoundRectCallout">
            <a:avLst>
              <a:gd name="adj1" fmla="val -71462"/>
              <a:gd name="adj2" fmla="val -10189"/>
              <a:gd name="adj3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ерации с целевыми средствами прошлых лет и текущего года по соответствующему коду цел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12"/>
          <p:cNvSpPr/>
          <p:nvPr/>
        </p:nvSpPr>
        <p:spPr>
          <a:xfrm>
            <a:off x="4170240" y="157320"/>
            <a:ext cx="77742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Cambria"/>
              </a:rPr>
              <a:t>Особенности отражения показателей в Отчете об операциях консолидированного бюджета субъекта Российской Федерации и бюджетов государственных внебюджетных фондов по использованию субсидий, субвенций и иных межбюджетных трансфертов, имеющих целевое назначение, предоставленных из федерального бюджета и подлежащих учету на лицевых счетах, открытых в территориальных органах Федерального казначейства (ф. 0531888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9109-DBDF-4EB0-85A7-34737B727C5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365040" y="1844640"/>
            <a:ext cx="1159344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Операции с межбюджетными трансферт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Операции по реструктуризации государственного дол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Избирательные комис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4773960" y="557280"/>
            <a:ext cx="446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вопро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304920" y="1179360"/>
            <a:ext cx="11485440" cy="5302440"/>
          </a:xfrm>
          <a:prstGeom prst="rect">
            <a:avLst/>
          </a:prstGeom>
          <a:ln w="0">
            <a:noFill/>
          </a:ln>
        </p:spPr>
      </p:pic>
      <p:sp>
        <p:nvSpPr>
          <p:cNvPr id="172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A055-B0D6-4A63-8CE1-264D0D32A07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Скругленный прямоугольник 7"/>
          <p:cNvSpPr/>
          <p:nvPr/>
        </p:nvSpPr>
        <p:spPr>
          <a:xfrm>
            <a:off x="7099200" y="4708440"/>
            <a:ext cx="1836720" cy="336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Скругленный прямоугольник 8"/>
          <p:cNvSpPr/>
          <p:nvPr/>
        </p:nvSpPr>
        <p:spPr>
          <a:xfrm>
            <a:off x="890640" y="4708440"/>
            <a:ext cx="223920" cy="336600"/>
          </a:xfrm>
          <a:custGeom>
            <a:avLst/>
            <a:gdLst>
              <a:gd name="textAreaLeft" fmla="*/ 10800 w 223920"/>
              <a:gd name="textAreaRight" fmla="*/ 213120 w 223920"/>
              <a:gd name="textAreaTop" fmla="*/ 10800 h 336600"/>
              <a:gd name="textAreaBottom" fmla="*/ 325800 h 336600"/>
            </a:gdLst>
            <a:ahLst/>
            <a:rect l="textAreaLeft" t="textAreaTop" r="textAreaRight" b="textAreaBottom"/>
            <a:pathLst>
              <a:path w="21600" h="32452">
                <a:moveTo>
                  <a:pt x="3600" y="0"/>
                </a:moveTo>
                <a:arcTo wR="3600" hR="3600" stAng="16200000" swAng="-5400000"/>
                <a:lnTo>
                  <a:pt x="0" y="28852"/>
                </a:lnTo>
                <a:arcTo wR="3600" hR="3600" stAng="10800000" swAng="-5400000"/>
                <a:lnTo>
                  <a:pt x="18000" y="324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Скругленный прямоугольник 9"/>
          <p:cNvSpPr/>
          <p:nvPr/>
        </p:nvSpPr>
        <p:spPr>
          <a:xfrm>
            <a:off x="9809280" y="4708440"/>
            <a:ext cx="1628640" cy="3286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Скругленный прямоугольник 11"/>
          <p:cNvSpPr/>
          <p:nvPr/>
        </p:nvSpPr>
        <p:spPr>
          <a:xfrm>
            <a:off x="1130400" y="4708440"/>
            <a:ext cx="241200" cy="336600"/>
          </a:xfrm>
          <a:custGeom>
            <a:avLst/>
            <a:gdLst>
              <a:gd name="textAreaLeft" fmla="*/ 11520 w 241200"/>
              <a:gd name="textAreaRight" fmla="*/ 229680 w 241200"/>
              <a:gd name="textAreaTop" fmla="*/ 11520 h 336600"/>
              <a:gd name="textAreaBottom" fmla="*/ 325080 h 336600"/>
            </a:gdLst>
            <a:ahLst/>
            <a:rect l="textAreaLeft" t="textAreaTop" r="textAreaRight" b="textAreaBottom"/>
            <a:pathLst>
              <a:path w="21600" h="30131">
                <a:moveTo>
                  <a:pt x="3600" y="0"/>
                </a:moveTo>
                <a:arcTo wR="3600" hR="3600" stAng="16200000" swAng="-5400000"/>
                <a:lnTo>
                  <a:pt x="0" y="26531"/>
                </a:lnTo>
                <a:arcTo wR="3600" hR="3600" stAng="10800000" swAng="-5400000"/>
                <a:lnTo>
                  <a:pt x="18000" y="301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Скругленная прямоугольная выноска 10"/>
          <p:cNvSpPr/>
          <p:nvPr/>
        </p:nvSpPr>
        <p:spPr>
          <a:xfrm>
            <a:off x="9023400" y="3754440"/>
            <a:ext cx="2766960" cy="898560"/>
          </a:xfrm>
          <a:prstGeom prst="wedgeRoundRectCallout">
            <a:avLst>
              <a:gd name="adj1" fmla="val 8685"/>
              <a:gd name="adj2" fmla="val 66879"/>
              <a:gd name="adj3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рицательный остаток допустим в связи с характером предоставления целевых средств (могут быть предоставлены в порядке компенсации ранее произведенных расход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13"/>
          <p:cNvSpPr/>
          <p:nvPr/>
        </p:nvSpPr>
        <p:spPr>
          <a:xfrm>
            <a:off x="4170240" y="157320"/>
            <a:ext cx="7774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7375e"/>
                </a:solidFill>
                <a:latin typeface="Cambria"/>
              </a:rPr>
              <a:t>Особенности отражения показателей в Отчете об операциях консолидированного бюджета субъекта Российской Федерации и бюджетов государственных внебюджетных фондов по использованию субсидий, субвенций и иных межбюджетных трансфертов, имеющих целевое назначение, предоставленных из федерального бюджета и подлежащих учету на лицевых счетах, открытых в территориальных органах Федерального казначейства (ф. 053188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F3B3-8E7A-4F6B-ACBD-30F5B30EC46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72960" y="1395360"/>
            <a:ext cx="11571480" cy="5310360"/>
          </a:xfrm>
          <a:prstGeom prst="rect">
            <a:avLst/>
          </a:prstGeom>
          <a:ln w="0">
            <a:noFill/>
          </a:ln>
        </p:spPr>
      </p:pic>
      <p:sp>
        <p:nvSpPr>
          <p:cNvPr id="181" name="Скругленный прямоугольник 5"/>
          <p:cNvSpPr/>
          <p:nvPr/>
        </p:nvSpPr>
        <p:spPr>
          <a:xfrm>
            <a:off x="10410840" y="2438280"/>
            <a:ext cx="1027080" cy="4002120"/>
          </a:xfrm>
          <a:custGeom>
            <a:avLst/>
            <a:gdLst>
              <a:gd name="textAreaLeft" fmla="*/ 50040 w 1027080"/>
              <a:gd name="textAreaRight" fmla="*/ 977040 w 1027080"/>
              <a:gd name="textAreaTop" fmla="*/ 50040 h 4002120"/>
              <a:gd name="textAreaBottom" fmla="*/ 3952080 h 4002120"/>
            </a:gdLst>
            <a:ahLst/>
            <a:rect l="textAreaLeft" t="textAreaTop" r="textAreaRight" b="textAreaBottom"/>
            <a:pathLst>
              <a:path w="21600" h="84145">
                <a:moveTo>
                  <a:pt x="3600" y="0"/>
                </a:moveTo>
                <a:arcTo wR="3600" hR="3600" stAng="16200000" swAng="-5400000"/>
                <a:lnTo>
                  <a:pt x="0" y="80545"/>
                </a:lnTo>
                <a:arcTo wR="3600" hR="3600" stAng="10800000" swAng="-5400000"/>
                <a:lnTo>
                  <a:pt x="18000" y="841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Скругленная прямоугольная выноска 6"/>
          <p:cNvSpPr/>
          <p:nvPr/>
        </p:nvSpPr>
        <p:spPr>
          <a:xfrm>
            <a:off x="4508640" y="2855880"/>
            <a:ext cx="2766960" cy="1965240"/>
          </a:xfrm>
          <a:prstGeom prst="wedgeRoundRectCallout">
            <a:avLst>
              <a:gd name="adj1" fmla="val 168402"/>
              <a:gd name="adj2" fmla="val 13101"/>
              <a:gd name="adj3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бразовавшаяся кредиторская задолженность федерального бюджета перед бюджетами субъектов Российской Федерации подлежит отражению в учете и отчетности на 01.01.2018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огашение кредиторской задолженности осуществляется за счет ЛБО текущего финансового года на представление целевых средств, а при их недостаточности, за счет БА очередного финансового года (письмо Минфина России от 04.12.2017 № 09-10-07/80361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8"/>
          <p:cNvSpPr/>
          <p:nvPr/>
        </p:nvSpPr>
        <p:spPr>
          <a:xfrm>
            <a:off x="4170240" y="157320"/>
            <a:ext cx="7774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7375e"/>
                </a:solidFill>
                <a:latin typeface="Cambria"/>
              </a:rPr>
              <a:t>Особенности отражения показателей в Отчете об операциях консолидированного бюджета субъекта Российской Федерации и бюджетов государственных внебюджетных фондов по использованию субсидий, субвенций и иных межбюджетных трансфертов, имеющих целевое назначение, предоставленных из федерального бюджета и подлежащих учету на лицевых счетах, открытых в территориальных органах Федерального казначейства (ф. 053188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37F0-2CC4-4E3F-BC09-E6EAD79711F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503280" y="1263600"/>
            <a:ext cx="11183760" cy="5265720"/>
          </a:xfrm>
          <a:prstGeom prst="rect">
            <a:avLst/>
          </a:prstGeom>
          <a:ln w="0">
            <a:noFill/>
          </a:ln>
        </p:spPr>
      </p:pic>
      <p:sp>
        <p:nvSpPr>
          <p:cNvPr id="186" name="Скругленный прямоугольник 4"/>
          <p:cNvSpPr/>
          <p:nvPr/>
        </p:nvSpPr>
        <p:spPr>
          <a:xfrm>
            <a:off x="10226520" y="2614680"/>
            <a:ext cx="1660680" cy="4002120"/>
          </a:xfrm>
          <a:custGeom>
            <a:avLst/>
            <a:gdLst>
              <a:gd name="textAreaLeft" fmla="*/ 81000 w 1660680"/>
              <a:gd name="textAreaRight" fmla="*/ 1579680 w 1660680"/>
              <a:gd name="textAreaTop" fmla="*/ 81000 h 4002120"/>
              <a:gd name="textAreaBottom" fmla="*/ 3921120 h 4002120"/>
            </a:gdLst>
            <a:ahLst/>
            <a:rect l="textAreaLeft" t="textAreaTop" r="textAreaRight" b="textAreaBottom"/>
            <a:pathLst>
              <a:path w="21600" h="52048">
                <a:moveTo>
                  <a:pt x="3600" y="0"/>
                </a:moveTo>
                <a:arcTo wR="3600" hR="3600" stAng="16200000" swAng="-5400000"/>
                <a:lnTo>
                  <a:pt x="0" y="48448"/>
                </a:lnTo>
                <a:arcTo wR="3600" hR="3600" stAng="10800000" swAng="-5400000"/>
                <a:lnTo>
                  <a:pt x="18000" y="520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Скругленная прямоугольная выноска 6"/>
          <p:cNvSpPr/>
          <p:nvPr/>
        </p:nvSpPr>
        <p:spPr>
          <a:xfrm>
            <a:off x="4508640" y="3313080"/>
            <a:ext cx="2766960" cy="1989000"/>
          </a:xfrm>
          <a:prstGeom prst="wedgeRoundRectCallout">
            <a:avLst>
              <a:gd name="adj1" fmla="val 169851"/>
              <a:gd name="adj2" fmla="val -2222"/>
              <a:gd name="adj3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орректировка остатков, сложившихся за счет округления при расчете суммы софинансирова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(письмо Федерального казначейств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т 13.09.2017 № 07-04-05/05-729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т 12.12.2017 № 07-04-05/05-954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 Отчете ф. 0503324 финансовые органы отражаю показатели по данным </a:t>
            </a: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ого учет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не подгонять под Отчет ф. 0531888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8"/>
          <p:cNvSpPr/>
          <p:nvPr/>
        </p:nvSpPr>
        <p:spPr>
          <a:xfrm>
            <a:off x="4170240" y="157320"/>
            <a:ext cx="7774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7375e"/>
                </a:solidFill>
                <a:latin typeface="Cambria"/>
              </a:rPr>
              <a:t>Особенности отражения показателей в Отчете об операциях консолидированного бюджета субъекта Российской Федерации и бюджетов государственных внебюджетных фондов по использованию субсидий, субвенций и иных межбюджетных трансфертов, имеющих целевое назначение, предоставленных из федерального бюджета и подлежащих учету на лицевых счетах, открытых в территориальных органах Федерального казначейства (ф. 053188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F43C-5002-49F7-8405-1EB82443A67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3"/>
          <p:cNvSpPr/>
          <p:nvPr/>
        </p:nvSpPr>
        <p:spPr>
          <a:xfrm>
            <a:off x="488880" y="2363760"/>
            <a:ext cx="1130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исьмо Минфина России от 24.01.2013 №02-06-07/227 «О порядке отражения в бюджетном учете и бюджетной отчетности операций, связанных с реструктуризацией обязательств (задолженности) субъектов Российской Федерации перед Российской Федерацией по бюджетным кредитам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4"/>
          <p:cNvSpPr/>
          <p:nvPr/>
        </p:nvSpPr>
        <p:spPr>
          <a:xfrm>
            <a:off x="1765440" y="919080"/>
            <a:ext cx="10210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13.12.2017 № 1531 «О проведении в 2017 году реструктуризации обязательств (задолженности) субъектов Российской Федерации перед Российской Федерацией по бюджетным кредитам» (вместе с «Правилами проведения в 2017 году реструктуризации обязательств (задолженности) субъектов Российской Федерации перед Российской Федерацией по бюджетным кредитам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5"/>
          <p:cNvSpPr/>
          <p:nvPr/>
        </p:nvSpPr>
        <p:spPr>
          <a:xfrm>
            <a:off x="279360" y="5537160"/>
            <a:ext cx="105570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КДБ - код по бюджетной классификации доходов федерального бюджета по процентам, полученным от предоставления бюджетных кредитов (000 111 03000 01 0000 120 «Проценты, полученные от предоставления бюджетных кредитов внутри страны»)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Б - код по бюджетной классификации расходов бюджета субъекта Российской Федерации по обслуживанию государственного долга (000 1301 0000000 000 231)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Ф1 - код по бюджетной классификации источников финансирования дефицита федерального бюджета (000 0106 06 00 01 0000 540 «Бюджетные кредиты, предоставленные внутри страны в валюте Российской Федерации»)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Ф2 - код по бюджетной классификации источников финансирования дефицита бюджета субъекта Российской Федерации (000 0103 00 00 02 0000 710 «Получение бюджетных кредитов от других бюджетов бюджетной системы Российской Федерации в валюте Российской Федерации»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165240" y="2887560"/>
            <a:ext cx="8440560" cy="2971800"/>
          </a:xfrm>
          <a:prstGeom prst="rect">
            <a:avLst/>
          </a:prstGeom>
          <a:ln w="0">
            <a:noFill/>
          </a:ln>
        </p:spPr>
      </p:pic>
      <p:sp>
        <p:nvSpPr>
          <p:cNvPr id="194" name="Скругленный прямоугольник 1"/>
          <p:cNvSpPr/>
          <p:nvPr/>
        </p:nvSpPr>
        <p:spPr>
          <a:xfrm>
            <a:off x="8045280" y="2887560"/>
            <a:ext cx="3384720" cy="441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правка ф. 050312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 строке «неденежные расчеты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Скругленный прямоугольник 8"/>
          <p:cNvSpPr/>
          <p:nvPr/>
        </p:nvSpPr>
        <p:spPr>
          <a:xfrm>
            <a:off x="7346880" y="3625920"/>
            <a:ext cx="1925640" cy="94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убъект Р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 счету 1301117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 указанием в гр. 8 счета 1301118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Скругленный прямоугольник 9"/>
          <p:cNvSpPr/>
          <p:nvPr/>
        </p:nvSpPr>
        <p:spPr>
          <a:xfrm>
            <a:off x="9864720" y="3625920"/>
            <a:ext cx="1925640" cy="94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инфин Росс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 счету 12071154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 указанием в гр. 8 счета 12071164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E861-D3F8-4E5B-8919-EC4B907B82B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1058760" y="730080"/>
            <a:ext cx="11012760" cy="32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1859c"/>
                </a:solidFill>
                <a:latin typeface="Cambria"/>
              </a:rPr>
              <a:t>Постановление ЦИК России от 06.12.2017 № 113/925-7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1859c"/>
                </a:solidFill>
                <a:latin typeface="Cambria"/>
              </a:rPr>
              <a:t>«О внесении изменений в Инструкцию о порядке открытия и ведения счетов, учета, отчетности и перечисления денежных средств, выделенных из федерального бюджета Центральной избирательной </a:t>
            </a:r>
            <a:r>
              <a:rPr b="1" lang="ru-RU" sz="3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комиссии</a:t>
            </a:r>
            <a:r>
              <a:rPr b="1" lang="ru-RU" sz="3000" spc="-1" strike="noStrike">
                <a:solidFill>
                  <a:srgbClr val="31859c"/>
                </a:solidFill>
                <a:latin typeface="Cambria"/>
              </a:rPr>
              <a:t> Российской Федерации, другим избирательным комиссиям, комиссиям референдума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Скругленный прямоугольник 4"/>
          <p:cNvSpPr/>
          <p:nvPr/>
        </p:nvSpPr>
        <p:spPr>
          <a:xfrm>
            <a:off x="851040" y="4290840"/>
            <a:ext cx="2205000" cy="930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рриториальная ЦИК - ПБ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Стрелка вправо 5"/>
          <p:cNvSpPr/>
          <p:nvPr/>
        </p:nvSpPr>
        <p:spPr>
          <a:xfrm>
            <a:off x="3384720" y="4227480"/>
            <a:ext cx="5060880" cy="9939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казатели исполнения бюджета включаются в отчет об исполнении бюджета ПП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Скругленный прямоугольник 6"/>
          <p:cNvSpPr/>
          <p:nvPr/>
        </p:nvSpPr>
        <p:spPr>
          <a:xfrm>
            <a:off x="8920080" y="4290840"/>
            <a:ext cx="2205000" cy="930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инансовый орг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2327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F544-9797-46C0-BDD6-C91F75F3D1C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364B-3251-4B40-B57B-61DA6B96FF7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6800" y="1044720"/>
          <a:ext cx="11214360" cy="3993840"/>
        </p:xfrm>
        <a:graphic>
          <a:graphicData uri="http://schemas.openxmlformats.org/drawingml/2006/table">
            <a:tbl>
              <a:tblPr/>
              <a:tblGrid>
                <a:gridCol w="4043520"/>
                <a:gridCol w="3638520"/>
                <a:gridCol w="3532320"/>
              </a:tblGrid>
              <a:tr h="73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распорядитель средств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федераль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ор доходов бюджета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убъекта РФ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ение/получение межбюджетных трансфертов (в порядке авансирования, в том числе «под потребность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 52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6 51 5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2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304 05 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ение дотаций, предоставление межбюджетных трансфертов в порядке компенсации ранее произведенных ра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403 3620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49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1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302 51 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403 3620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49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1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304 05 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403 3620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49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1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401 20 2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403 3620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49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 51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302 51 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 1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49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 1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49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 1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49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 1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49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401 10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расходов, отнесение на финансовы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2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401 20 2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2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02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 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2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302 51 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2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6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401 10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Заголовок 2"/>
          <p:cNvSpPr/>
          <p:nvPr/>
        </p:nvSpPr>
        <p:spPr>
          <a:xfrm>
            <a:off x="4122720" y="104760"/>
            <a:ext cx="79754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mbria"/>
                <a:ea typeface="Arial"/>
              </a:rPr>
              <a:t>Отражение в учете операци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mbria"/>
                <a:ea typeface="Arial"/>
              </a:rPr>
              <a:t>межбюджетными трансферт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mbria"/>
                <a:ea typeface="Arial"/>
              </a:rPr>
              <a:t>в текущем год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Выгнутая вниз стрелка 5"/>
          <p:cNvSpPr/>
          <p:nvPr/>
        </p:nvSpPr>
        <p:spPr>
          <a:xfrm>
            <a:off x="6296040" y="2084400"/>
            <a:ext cx="2911320" cy="249120"/>
          </a:xfrm>
          <a:custGeom>
            <a:avLst/>
            <a:gdLst>
              <a:gd name="textAreaLeft" fmla="*/ 704520 w 2911320"/>
              <a:gd name="textAreaRight" fmla="*/ 2175840 w 2911320"/>
              <a:gd name="textAreaTop" fmla="*/ 33120 h 249120"/>
              <a:gd name="textAreaBottom" fmla="*/ 21600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453" hR="21600" stAng="10800000" swAng="-5400000"/>
                <a:lnTo>
                  <a:pt x="10916" y="21600"/>
                </a:lnTo>
                <a:arcTo wR="10453" hR="21600" stAng="5400000" swAng="-3715097"/>
                <a:lnTo>
                  <a:pt x="21268" y="5400"/>
                </a:lnTo>
                <a:lnTo>
                  <a:pt x="21138" y="0"/>
                </a:lnTo>
                <a:lnTo>
                  <a:pt x="20343" y="5400"/>
                </a:lnTo>
                <a:lnTo>
                  <a:pt x="20574" y="5400"/>
                </a:lnTo>
                <a:arcTo wR="10453" hR="21600" stAng="1684903" swAng="3678245"/>
                <a:lnTo>
                  <a:pt x="10685" y="21595"/>
                </a:lnTo>
                <a:arcTo wR="10453" hR="21600" stAng="5436852" swAng="5363148"/>
                <a:close/>
              </a:path>
              <a:path fill="darkenLess" w="21600" h="21600">
                <a:moveTo>
                  <a:pt x="0" y="0"/>
                </a:moveTo>
                <a:arcTo wR="10453" hR="21600" stAng="10800000" swAng="-5400000"/>
                <a:lnTo>
                  <a:pt x="10916" y="21600"/>
                </a:lnTo>
                <a:arcTo wR="10453" hR="21600" stAng="5400000" swAng="36852"/>
                <a:lnTo>
                  <a:pt x="10685" y="21595"/>
                </a:lnTo>
                <a:arcTo wR="10453" hR="21600" stAng="5436852" swAng="5363148"/>
                <a:close/>
              </a:path>
            </a:pathLst>
          </a:custGeom>
          <a:solidFill>
            <a:srgbClr val="ff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04720" y="5168880"/>
          <a:ext cx="11239560" cy="1270080"/>
        </p:xfrm>
        <a:graphic>
          <a:graphicData uri="http://schemas.openxmlformats.org/drawingml/2006/table">
            <a:tbl>
              <a:tblPr/>
              <a:tblGrid>
                <a:gridCol w="4043520"/>
                <a:gridCol w="3633840"/>
                <a:gridCol w="3562200"/>
              </a:tblGrid>
              <a:tr h="612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ор доходов бюджета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убъекта РФ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распорядитель средств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федераль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 излишне порученных межбюджетных трансфертов в текущем финансов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2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304 05 2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2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6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Пятно 1 7"/>
          <p:cNvSpPr/>
          <p:nvPr/>
        </p:nvSpPr>
        <p:spPr>
          <a:xfrm>
            <a:off x="10171080" y="0"/>
            <a:ext cx="2092320" cy="1228680"/>
          </a:xfrm>
          <a:prstGeom prst="irregularSeal1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сполнение бюдж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5289-15CB-44C1-9293-394420032C1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185760" y="990720"/>
          <a:ext cx="11620440" cy="57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990720"/>
                    <a:ext cx="11620440" cy="57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AutoShape 4"/>
          <p:cNvSpPr/>
          <p:nvPr/>
        </p:nvSpPr>
        <p:spPr>
          <a:xfrm>
            <a:off x="6653160" y="4816440"/>
            <a:ext cx="996840" cy="1751040"/>
          </a:xfrm>
          <a:prstGeom prst="wedgeRoundRectCallout">
            <a:avLst>
              <a:gd name="adj1" fmla="val -44620"/>
              <a:gd name="adj2" fmla="val -65069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совый расход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201, 40204, 40404 в части сумм, исполненных за счет МБТ из федерального бюджет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06хх000, 1302хх000 , кроме </a:t>
            </a:r>
            <a:r>
              <a:rPr b="0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651, 30251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5519880" y="5027760"/>
            <a:ext cx="1006200" cy="1539720"/>
          </a:xfrm>
          <a:prstGeom prst="wedgeRoundRectCallout">
            <a:avLst>
              <a:gd name="adj1" fmla="val -5263"/>
              <a:gd name="adj2" fmla="val -80861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ление средств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201, 40204, 40404 + 40101(в последний день отчетного периода) в части сумм МБТ, поступивших из федерального бюджет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0551000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mbria"/>
                <a:ea typeface="Arial"/>
              </a:rPr>
              <a:t>Отражение в отчетности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56D6-940E-4159-B759-949E73F8207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04720" y="2176560"/>
          <a:ext cx="11190240" cy="2798640"/>
        </p:xfrm>
        <a:graphic>
          <a:graphicData uri="http://schemas.openxmlformats.org/drawingml/2006/table">
            <a:tbl>
              <a:tblPr/>
              <a:tblGrid>
                <a:gridCol w="4314960"/>
                <a:gridCol w="3349440"/>
                <a:gridCol w="3525840"/>
              </a:tblGrid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убъект Р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РБС Ф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сление задолженности по возврату/ от возврата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23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6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/поступление неиспользованных остатков межбюджетных трансфертов прошлых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Заголовок 2"/>
          <p:cNvSpPr/>
          <p:nvPr/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Отражение в учете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1"/>
          <p:cNvSpPr/>
          <p:nvPr/>
        </p:nvSpPr>
        <p:spPr>
          <a:xfrm>
            <a:off x="2133720" y="1128600"/>
            <a:ext cx="93279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mbria"/>
              </a:rPr>
              <a:t>Возврат остатков межбюджетных трансфертов прошлых лет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1859c"/>
                </a:solidFill>
                <a:uFillTx/>
                <a:latin typeface="Cambria"/>
              </a:rPr>
              <a:t>числящихся на счетах бюджетов субъектов РФ (муниципальных образовани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Выгнутая вниз стрелка 5"/>
          <p:cNvSpPr/>
          <p:nvPr/>
        </p:nvSpPr>
        <p:spPr>
          <a:xfrm>
            <a:off x="5799240" y="4829040"/>
            <a:ext cx="3416040" cy="123840"/>
          </a:xfrm>
          <a:custGeom>
            <a:avLst/>
            <a:gdLst>
              <a:gd name="textAreaLeft" fmla="*/ 842400 w 3416040"/>
              <a:gd name="textAreaRight" fmla="*/ 2558160 w 3416040"/>
              <a:gd name="textAreaTop" fmla="*/ 16560 h 123840"/>
              <a:gd name="textAreaBottom" fmla="*/ 10728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654" hR="21600" stAng="10800000" swAng="-5400000"/>
                <a:lnTo>
                  <a:pt x="10849" y="21600"/>
                </a:lnTo>
                <a:arcTo wR="10654" hR="21600" stAng="5400000" swAng="-3742079"/>
                <a:lnTo>
                  <a:pt x="21262" y="5400"/>
                </a:lnTo>
                <a:lnTo>
                  <a:pt x="21405" y="0"/>
                </a:lnTo>
                <a:lnTo>
                  <a:pt x="20871" y="5400"/>
                </a:lnTo>
                <a:lnTo>
                  <a:pt x="20969" y="5400"/>
                </a:lnTo>
                <a:arcTo wR="10654" hR="21600" stAng="1657921" swAng="3726561"/>
                <a:lnTo>
                  <a:pt x="10751" y="21599"/>
                </a:lnTo>
                <a:arcTo wR="10654" hR="21600" stAng="5415518" swAng="5384482"/>
                <a:close/>
              </a:path>
              <a:path fill="darkenLess" w="21600" h="21600">
                <a:moveTo>
                  <a:pt x="0" y="0"/>
                </a:moveTo>
                <a:arcTo wR="10654" hR="21600" stAng="10800000" swAng="-5400000"/>
                <a:lnTo>
                  <a:pt x="10849" y="21600"/>
                </a:lnTo>
                <a:arcTo wR="10654" hR="21600" stAng="5400000" swAng="15518"/>
                <a:lnTo>
                  <a:pt x="10751" y="21599"/>
                </a:lnTo>
                <a:arcTo wR="10654" hR="21600" stAng="5415518" swAng="5384482"/>
                <a:close/>
              </a:path>
            </a:pathLst>
          </a:custGeom>
          <a:solidFill>
            <a:srgbClr val="ff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Выгнутая вниз стрелка 6"/>
          <p:cNvSpPr/>
          <p:nvPr/>
        </p:nvSpPr>
        <p:spPr>
          <a:xfrm>
            <a:off x="3168720" y="4829040"/>
            <a:ext cx="6796080" cy="247680"/>
          </a:xfrm>
          <a:custGeom>
            <a:avLst/>
            <a:gdLst>
              <a:gd name="textAreaLeft" fmla="*/ 1683000 w 6796080"/>
              <a:gd name="textAreaRight" fmla="*/ 5172840 w 6796080"/>
              <a:gd name="textAreaTop" fmla="*/ 33120 h 247680"/>
              <a:gd name="textAreaBottom" fmla="*/ 2145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699" hR="21600" stAng="10800000" swAng="-5400000"/>
                <a:lnTo>
                  <a:pt x="11092" y="21600"/>
                </a:lnTo>
                <a:arcTo wR="10699" hR="21600" stAng="5400000" swAng="-5400000"/>
                <a:lnTo>
                  <a:pt x="21600" y="0"/>
                </a:lnTo>
                <a:lnTo>
                  <a:pt x="21594" y="0"/>
                </a:lnTo>
                <a:lnTo>
                  <a:pt x="21587" y="0"/>
                </a:lnTo>
                <a:lnTo>
                  <a:pt x="21397" y="0"/>
                </a:lnTo>
                <a:arcTo wR="10699" hR="21600" stAng="0" swAng="5368722"/>
                <a:lnTo>
                  <a:pt x="10895" y="21596"/>
                </a:lnTo>
                <a:arcTo wR="10699" hR="21600" stAng="5431278" swAng="5368722"/>
                <a:close/>
              </a:path>
              <a:path fill="darkenLess" w="21600" h="21600">
                <a:moveTo>
                  <a:pt x="0" y="0"/>
                </a:moveTo>
                <a:arcTo wR="10699" hR="21600" stAng="10800000" swAng="-5400000"/>
                <a:lnTo>
                  <a:pt x="11092" y="21600"/>
                </a:lnTo>
                <a:arcTo wR="10699" hR="21600" stAng="5400000" swAng="31278"/>
                <a:lnTo>
                  <a:pt x="10895" y="21596"/>
                </a:lnTo>
                <a:arcTo wR="10699" hR="21600" stAng="5431278" swAng="5368722"/>
                <a:close/>
              </a:path>
            </a:pathLst>
          </a:custGeom>
          <a:solidFill>
            <a:srgbClr val="ff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264960" y="5732640"/>
            <a:ext cx="1183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ЕНИЙ В ПОРЯДКЕ УЧЕТА НЕТ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5480" y="407880"/>
            <a:ext cx="801864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mbria"/>
                <a:ea typeface="Arial"/>
              </a:rPr>
              <a:t>Порядок возврата неиспользованных целевых средств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0403-F731-4B27-A8C0-DF0C2771488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706320" y="2301840"/>
            <a:ext cx="10852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242. Завершение текущего финансового г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использованные по состоянию на 1 январ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кущего финансового года межбюджетные трансферты, полученные в форме субсидий, субвенций и иных межбюджетных трансфертов, имеющих целевое назначение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исключением межбюджетных трансфер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сточником финансового обеспечения которых являются бюджетные ассигновани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ервного фонда Президента Российской Федер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ат возврату в доход бюджета, из которого они были ранее предоставле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течение первых 15 рабочих дней текущего финансового го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706320" y="1660680"/>
            <a:ext cx="801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mbria"/>
                <a:ea typeface="Arial"/>
              </a:rPr>
              <a:t>Бюджетный кодекс Российской Федер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2" descr="http://www.shkola-48.ru/data/objects/412/images/vazhno.jpg"/>
          <p:cNvPicPr/>
          <p:nvPr/>
        </p:nvPicPr>
        <p:blipFill>
          <a:blip r:embed="rId1"/>
          <a:stretch/>
        </p:blipFill>
        <p:spPr>
          <a:xfrm>
            <a:off x="706320" y="4917960"/>
            <a:ext cx="1306800" cy="1528920"/>
          </a:xfrm>
          <a:prstGeom prst="rect">
            <a:avLst/>
          </a:prstGeom>
          <a:ln w="0">
            <a:noFill/>
          </a:ln>
        </p:spPr>
      </p:pic>
      <p:sp>
        <p:nvSpPr>
          <p:cNvPr id="77" name="Выноска 1 1"/>
          <p:cNvSpPr/>
          <p:nvPr/>
        </p:nvSpPr>
        <p:spPr>
          <a:xfrm>
            <a:off x="4643280" y="4676760"/>
            <a:ext cx="6705720" cy="108252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ту подлежат все остатки указанных целевых средств, сложившиеся как на счетах субъектов Российской Федераци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 и на счетах муниципальных образова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C565-93C9-40B8-AD12-7C32FF2124A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185760" y="977760"/>
          <a:ext cx="11620440" cy="572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977760"/>
                    <a:ext cx="1162044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AutoShape 4"/>
          <p:cNvSpPr/>
          <p:nvPr/>
        </p:nvSpPr>
        <p:spPr>
          <a:xfrm>
            <a:off x="8107200" y="4816440"/>
            <a:ext cx="981360" cy="1379520"/>
          </a:xfrm>
          <a:prstGeom prst="wedgeRoundRectCallout">
            <a:avLst>
              <a:gd name="adj1" fmla="val -44620"/>
              <a:gd name="adj2" fmla="val -65069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должны соответствовать данным дебетового оборота по счету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19 … 151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21002 151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3573360" y="5027760"/>
            <a:ext cx="1185840" cy="1225440"/>
          </a:xfrm>
          <a:prstGeom prst="wedgeRoundRectCallout">
            <a:avLst>
              <a:gd name="adj1" fmla="val -5263"/>
              <a:gd name="adj2" fmla="val -80861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ользованный остаток межбюджетных трансфертов на лицевом счете, подлежащий возврату в федеральный бюдже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mbria"/>
                <a:ea typeface="Arial"/>
              </a:rPr>
              <a:t>Отражение в отчетности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1135080"/>
            <a:ext cx="105156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1859c"/>
                </a:solidFill>
                <a:latin typeface="Cambria"/>
                <a:ea typeface="Arial"/>
              </a:rPr>
              <a:t>ВОЗВРАТ В ТЕКУЩЕМ ФИНАНСОВОМ ГОДУ ДЕБИТОРСКОЙ ЗАДОЛЖЕННОСТИ ПРОШЛЫХ ЛЕТ, ПО РАНЕЕ ПРОИЗВЕДЕННЫХ РАСХОДАМ ЗА СЧЕТ ЦЕЛЕВЫХ СРЕДСТВ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BFA5-4CE2-4772-AD48-564232CBA78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Заголовок 2"/>
          <p:cNvSpPr/>
          <p:nvPr/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mbria"/>
                <a:ea typeface="Arial"/>
              </a:rPr>
              <a:t>Отражение в учете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ятно 1 2"/>
          <p:cNvSpPr/>
          <p:nvPr/>
        </p:nvSpPr>
        <p:spPr>
          <a:xfrm>
            <a:off x="762120" y="976320"/>
            <a:ext cx="2157120" cy="1798560"/>
          </a:xfrm>
          <a:prstGeom prst="irregularSeal1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бы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04720" y="2411280"/>
          <a:ext cx="11190240" cy="3146400"/>
        </p:xfrm>
        <a:graphic>
          <a:graphicData uri="http://schemas.openxmlformats.org/drawingml/2006/table">
            <a:tbl>
              <a:tblPr/>
              <a:tblGrid>
                <a:gridCol w="4314960"/>
                <a:gridCol w="3349440"/>
                <a:gridCol w="3525840"/>
              </a:tblGrid>
              <a:tr h="4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убъект Р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РБС Ф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инятие к учету сумм восстановленного остатка целевых средств прошлых отчетных периодов, ранее отнесенных на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401 10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 52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6 51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 523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401 20 2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сление задолженности по возврату/ от возврата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2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2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6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/поступление неиспользованных остатков межбюджетных трансфертов прошлых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2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2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Выгнутая вниз стрелка 9"/>
          <p:cNvSpPr/>
          <p:nvPr/>
        </p:nvSpPr>
        <p:spPr>
          <a:xfrm>
            <a:off x="5799240" y="5076720"/>
            <a:ext cx="3416040" cy="123840"/>
          </a:xfrm>
          <a:custGeom>
            <a:avLst/>
            <a:gdLst>
              <a:gd name="textAreaLeft" fmla="*/ 842400 w 3416040"/>
              <a:gd name="textAreaRight" fmla="*/ 2558160 w 3416040"/>
              <a:gd name="textAreaTop" fmla="*/ 16560 h 123840"/>
              <a:gd name="textAreaBottom" fmla="*/ 10728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654" hR="21600" stAng="10800000" swAng="-5400000"/>
                <a:lnTo>
                  <a:pt x="10849" y="21600"/>
                </a:lnTo>
                <a:arcTo wR="10654" hR="21600" stAng="5400000" swAng="-3742079"/>
                <a:lnTo>
                  <a:pt x="21262" y="5400"/>
                </a:lnTo>
                <a:lnTo>
                  <a:pt x="21405" y="0"/>
                </a:lnTo>
                <a:lnTo>
                  <a:pt x="20871" y="5400"/>
                </a:lnTo>
                <a:lnTo>
                  <a:pt x="20969" y="5400"/>
                </a:lnTo>
                <a:arcTo wR="10654" hR="21600" stAng="1657921" swAng="3726561"/>
                <a:lnTo>
                  <a:pt x="10751" y="21599"/>
                </a:lnTo>
                <a:arcTo wR="10654" hR="21600" stAng="5415518" swAng="5384482"/>
                <a:close/>
              </a:path>
              <a:path fill="darkenLess" w="21600" h="21600">
                <a:moveTo>
                  <a:pt x="0" y="0"/>
                </a:moveTo>
                <a:arcTo wR="10654" hR="21600" stAng="10800000" swAng="-5400000"/>
                <a:lnTo>
                  <a:pt x="10849" y="21600"/>
                </a:lnTo>
                <a:arcTo wR="10654" hR="21600" stAng="5400000" swAng="15518"/>
                <a:lnTo>
                  <a:pt x="10751" y="21599"/>
                </a:lnTo>
                <a:arcTo wR="10654" hR="21600" stAng="5415518" swAng="5384482"/>
                <a:close/>
              </a:path>
            </a:pathLst>
          </a:custGeom>
          <a:solidFill>
            <a:srgbClr val="ff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Выгнутая вниз стрелка 10"/>
          <p:cNvSpPr/>
          <p:nvPr/>
        </p:nvSpPr>
        <p:spPr>
          <a:xfrm>
            <a:off x="3168720" y="5076720"/>
            <a:ext cx="6796080" cy="247680"/>
          </a:xfrm>
          <a:custGeom>
            <a:avLst/>
            <a:gdLst>
              <a:gd name="textAreaLeft" fmla="*/ 1683000 w 6796080"/>
              <a:gd name="textAreaRight" fmla="*/ 5172840 w 6796080"/>
              <a:gd name="textAreaTop" fmla="*/ 33120 h 247680"/>
              <a:gd name="textAreaBottom" fmla="*/ 2145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699" hR="21600" stAng="10800000" swAng="-5400000"/>
                <a:lnTo>
                  <a:pt x="11092" y="21600"/>
                </a:lnTo>
                <a:arcTo wR="10699" hR="21600" stAng="5400000" swAng="-5400000"/>
                <a:lnTo>
                  <a:pt x="21600" y="0"/>
                </a:lnTo>
                <a:lnTo>
                  <a:pt x="21594" y="0"/>
                </a:lnTo>
                <a:lnTo>
                  <a:pt x="21587" y="0"/>
                </a:lnTo>
                <a:lnTo>
                  <a:pt x="21397" y="0"/>
                </a:lnTo>
                <a:arcTo wR="10699" hR="21600" stAng="0" swAng="5368722"/>
                <a:lnTo>
                  <a:pt x="10895" y="21596"/>
                </a:lnTo>
                <a:arcTo wR="10699" hR="21600" stAng="5431278" swAng="5368722"/>
                <a:close/>
              </a:path>
              <a:path fill="darkenLess" w="21600" h="21600">
                <a:moveTo>
                  <a:pt x="0" y="0"/>
                </a:moveTo>
                <a:arcTo wR="10699" hR="21600" stAng="10800000" swAng="-5400000"/>
                <a:lnTo>
                  <a:pt x="11092" y="21600"/>
                </a:lnTo>
                <a:arcTo wR="10699" hR="21600" stAng="5400000" swAng="31278"/>
                <a:lnTo>
                  <a:pt x="10895" y="21596"/>
                </a:lnTo>
                <a:arcTo wR="10699" hR="21600" stAng="5431278" swAng="5368722"/>
                <a:close/>
              </a:path>
            </a:pathLst>
          </a:custGeom>
          <a:solidFill>
            <a:srgbClr val="ff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9122-2256-41FB-8016-802FFA07B1D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185760" y="969840"/>
          <a:ext cx="11620440" cy="572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969840"/>
                    <a:ext cx="1162044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AutoShape 4"/>
          <p:cNvSpPr/>
          <p:nvPr/>
        </p:nvSpPr>
        <p:spPr>
          <a:xfrm>
            <a:off x="7062840" y="4998960"/>
            <a:ext cx="1019160" cy="1422360"/>
          </a:xfrm>
          <a:prstGeom prst="wedgeRoundRectCallout">
            <a:avLst>
              <a:gd name="adj1" fmla="val -5263"/>
              <a:gd name="adj2" fmla="val -80861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должны соответствовать данным дебетового оборота по счету </a:t>
            </a: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02 … 151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40110 151 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рреспонденции кредитом счета 1205516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mbria"/>
                <a:ea typeface="Arial"/>
              </a:rPr>
              <a:t>Отражение в отчетности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2827440" y="5381640"/>
            <a:ext cx="1019160" cy="1231920"/>
          </a:xfrm>
          <a:prstGeom prst="wedgeRoundRectCallout">
            <a:avLst>
              <a:gd name="adj1" fmla="val -541"/>
              <a:gd name="adj2" fmla="val -62634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БК доходов группы, подгруппы </a:t>
            </a: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02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торым в предыдущие годы были предоставлены целевые средст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8107200" y="4816440"/>
            <a:ext cx="981360" cy="1379520"/>
          </a:xfrm>
          <a:prstGeom prst="wedgeRoundRectCallout">
            <a:avLst>
              <a:gd name="adj1" fmla="val -44620"/>
              <a:gd name="adj2" fmla="val -65069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должны соответствовать данным дебетового оборота по счету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19 … 151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21002 151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6:27:21Z</dcterms:created>
  <dc:creator>Mazur Nataliya</dc:creator>
  <dc:description/>
  <dc:language>en-US</dc:language>
  <cp:lastModifiedBy>Маркова Наталия Евгеньевна</cp:lastModifiedBy>
  <cp:lastPrinted>2016-09-26T07:22:18Z</cp:lastPrinted>
  <dcterms:modified xsi:type="dcterms:W3CDTF">2018-01-22T06:44:34Z</dcterms:modified>
  <cp:revision>1046</cp:revision>
  <dc:subject/>
  <dc:title>Презентация PowerPoint</dc:title>
</cp:coreProperties>
</file>