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7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2196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3275-407B-449F-BB0F-03531DBD97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1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1004F-FA03-4D28-86DA-21565849FB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851280" y="9381960"/>
            <a:ext cx="2943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59A24-2C01-4551-AECB-8317A71DF3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85128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2FF1-AD01-473B-B560-C71E8CF3D8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30240" y="739800"/>
            <a:ext cx="493884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593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2A94FC-A4FF-40AE-A220-FE0D1177FA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5128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AA48CC-085E-42AB-B545-08E2E00C3E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09DB3-5ADF-4459-BC24-8892F11F8C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1FFA6-C6F4-4D63-B4F5-010FA9B4D5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EF6D-F6F6-4D63-9CAD-B7FAE2D3D4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60EE-D12A-4AB7-AAD5-2AE0FEFE77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C600E-2478-44EE-9770-9DA62B29E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2488-3A89-4A8E-8E63-44F7757D88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76508-3C5D-4E18-A9E6-2090E3DFE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3E5EE-72DA-4DBC-8BB3-F95A19DAE1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30D0B-644F-4462-A675-A8E984244C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418C4-FBFB-4A96-B8ED-C2F9EB9EAB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DC6-C1D4-4E4D-8FD1-31A9A680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2E1-973E-417A-9C1D-63A091EB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6D0-4FEA-4D10-BB41-8C5E41E3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E0E-C8B8-4414-9FC6-B8939BD4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980-0252-404D-94A0-9D27716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73-864D-465A-B43D-56191CB0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EAC-B3CF-43E9-B48E-4FCC67B3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0E0-A864-4A64-94A8-ACF5C23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513-A1CF-4BEC-8071-FA9C9D40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97B-E064-4CD1-9ED4-602E7E6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5CE-635C-410B-8FF6-23B178AB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5A8-89A0-4D8E-85C8-1A9F5F4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7A9EA7-DF0B-49B2-8B80-F5BF40AAE2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2421000"/>
            <a:ext cx="882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324000" y="4941720"/>
            <a:ext cx="8638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партамент бюджетной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фина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514185"/>
                </a:solidFill>
                <a:latin typeface="Times New Roman"/>
              </a:rPr>
              <a:t>Отчетность за 2013 год</a:t>
            </a:r>
            <a:endParaRPr b="0" lang="en-US" sz="5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9840" y="1341360"/>
            <a:ext cx="898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 в текстовой части раздела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 субъекта  бюджетной отчет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указанием объектов, по сверке с контрагентом дата регистрации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кращения пра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еративного управления у передающей стороны возникла в 2013г., а дата возникновения права у принимающей стороны – в 2014г. (или не возникла на дату представления отчетност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трелка вниз 7"/>
          <p:cNvSpPr/>
          <p:nvPr/>
        </p:nvSpPr>
        <p:spPr>
          <a:xfrm>
            <a:off x="4427640" y="54936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800" y="2060640"/>
            <a:ext cx="8970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125360"/>
            <a:ext cx="87886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42. Завершение текущего финансово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6. Финансовый орган устанавливает порядок обеспечения получателей бюджетных средств при завершении текущего финансового года наличными деньгами, необходимыми для осуществления их деятельности в нерабочие праздничные дни в Российской Федерации в январе очередного финансового год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.4 ст.242 БК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спользованные получателями бюджетных средств остатки бюджетных средств, находящиеся не на едином счете бюджета, не позднее двух последних рабочих дней текущего финансового год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лежат перечислению получателями бюджетных средств на единый счет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514185"/>
                </a:solidFill>
                <a:latin typeface="Times New Roman"/>
              </a:rPr>
              <a:t>Остатки на счетах</a:t>
            </a:r>
            <a:endParaRPr b="0" lang="en-US" sz="6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268280"/>
            <a:ext cx="388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1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3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7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 201 34 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30320" y="1487520"/>
            <a:ext cx="31813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14185"/>
                </a:solidFill>
                <a:latin typeface="Times New Roman"/>
              </a:rPr>
              <a:t>Отражение в учете</a:t>
            </a: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9840" y="1267920"/>
            <a:ext cx="887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мере сданной наличности инкассации или через банкомат, не зачисленной на 01.01.2014 на лицевой счет (счет 40116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01 23 510     Кт 1 201 34 610      50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исление средств на счет 40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01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10 03 560     Кт 1 201 23 610    500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85080" cy="388764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низ 2"/>
          <p:cNvSpPr/>
          <p:nvPr/>
        </p:nvSpPr>
        <p:spPr>
          <a:xfrm>
            <a:off x="4643280" y="5229360"/>
            <a:ext cx="433440" cy="720720"/>
          </a:xfrm>
          <a:prstGeom prst="downArrow">
            <a:avLst>
              <a:gd name="adj1" fmla="val 50000"/>
              <a:gd name="adj2" fmla="val 4988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08000" y="4386240"/>
            <a:ext cx="431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«В строке 174, графы 6 формы 050313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 счету 1 201 23 000  «Денежные средства учреждения в кредитной организации в  пути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казан остаток  500,00  рублей в  сумме денежных  средств, внесенных  с использованием банковских кар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(сданных в учреждение инкассации), не зачисленных на 01.01.2014  на лицевой счет (на счет 40116)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480" indent="-3124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трелка вниз 2"/>
          <p:cNvSpPr/>
          <p:nvPr/>
        </p:nvSpPr>
        <p:spPr>
          <a:xfrm>
            <a:off x="4627440" y="4653000"/>
            <a:ext cx="432000" cy="7207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29800" cy="333216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1"/>
          <p:cNvSpPr/>
          <p:nvPr/>
        </p:nvSpPr>
        <p:spPr>
          <a:xfrm>
            <a:off x="5059440" y="4529160"/>
            <a:ext cx="3905280" cy="22129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 об остатках по счету 1 201 34 00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ПБС- с пояснением целей и указанием лимит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ояснительной записк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458640" y="4554360"/>
            <a:ext cx="3905280" cy="221148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 об остатках по счету 1 201 34 00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 ГРБС- обобщенные да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ставленные в отчетах ПБ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9840" y="1412640"/>
            <a:ext cx="8983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В строке 176, графы 6 формы 05031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 счету 1 201 34 000 «Касс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показан остаток  1000,00 руб. в  сумме денежных  средств в виде резерва на расходы по предотвращению чрезвычайных ситуаций,  лимит остат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редств в кассе установлен в размере 1500 рубле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Стрелка вниз 7"/>
          <p:cNvSpPr/>
          <p:nvPr/>
        </p:nvSpPr>
        <p:spPr>
          <a:xfrm>
            <a:off x="4354560" y="54936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Восстановить в учете долю участия в уставном капитале ГУП (МУП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315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2340000" y="4552920"/>
            <a:ext cx="4464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ность за 2013 год ПБС, ГРБС, АДБ, ГАДБ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 переданным полномочиям (ФАИП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8.12.2010 N 191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 изменениями, вступившими в силу с отч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125360"/>
            <a:ext cx="878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  Статья 6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е обязательства - расходные обязательства, подлежащие исполнению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ующем финансовом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нежные обязательства - обязанность получателя бюджетных средств уплатить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выполненными условиями гражданско-правовой сдел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заключенной в рамках его бюджетных полномочий, ил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 зако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иного правового акта, условиями договора или согла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197000"/>
            <a:ext cx="8788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57н  п.3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участника бюджетного процесса - обусловленные законом, иным нормативным правовым актом, договором или соглашением обязанности публично-правового образования (Российской Федерации, субъекта Российской Федерации, муниципального образования) или действующего от его имени учреждения, предоставить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ующем финансовом год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физическому или юридическому лицу, иному публично-правовому образованию, субъекту международного права средства из соответствующего бюдж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1052640"/>
            <a:ext cx="8645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кты учета раздела «Санкционирование расходов экономического субъекта» учитываются по аналитическим группам синтетического счета объектов учета, формируемых по финансовым периода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lain" startAt="10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Санкционирование по текущему финансовому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0  - Санкционирование по первому году, следующему за текущим (очередным финансовым годо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0 - Санкционирование по второму году, следующему за текущим (первым годом, следующим за очередным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0 - Санкционирование по второму году, следующему за очеред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920" y="764640"/>
            <a:ext cx="8866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олучены лимиты бюджетных обязательств в 2013 году: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9840" y="1487160"/>
            <a:ext cx="8788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кущего года (2013 года) –КБК по 171н (КБК 2013 год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15 200             Кт 1 501 13 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15 300             Кт 1 501 13 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чередного финансового года (2014) – КБК по 65 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КБК  2014 года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5 200             Кт 1 501 23 2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5 300             Кт 1 501 23 3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Условия договор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лата производится на основании счета, представляемого не позднее 10 числа месяца, следующего за расчет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декабрь  2013 –оплата в январ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 223    К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23    Кт 1 502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Стрелка вправо 1"/>
          <p:cNvSpPr/>
          <p:nvPr/>
        </p:nvSpPr>
        <p:spPr>
          <a:xfrm flipV="1">
            <a:off x="611280" y="3008160"/>
            <a:ext cx="792000" cy="144720"/>
          </a:xfrm>
          <a:prstGeom prst="rightArrow">
            <a:avLst>
              <a:gd name="adj1" fmla="val 50000"/>
              <a:gd name="adj2" fmla="val 497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Положения Закон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атья 333.14. Порядок и сроки уплаты налог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Налог подлежит уплате в срок не позднее 20-го числа месяца, следующего за истекшим налоговым перио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4 квартал  2013 –оплата 20 января  201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 290      К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290      Кт 1 502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Стрелка вправо 1"/>
          <p:cNvSpPr/>
          <p:nvPr/>
        </p:nvSpPr>
        <p:spPr>
          <a:xfrm>
            <a:off x="755640" y="3500280"/>
            <a:ext cx="792000" cy="119160"/>
          </a:xfrm>
          <a:prstGeom prst="rightArrow">
            <a:avLst>
              <a:gd name="adj1" fmla="val 50000"/>
              <a:gd name="adj2" fmla="val 4938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 о принятых бюджетных  обязательствах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68280"/>
          <a:ext cx="8785080" cy="3772080"/>
        </p:xfrm>
        <a:graphic>
          <a:graphicData uri="http://schemas.openxmlformats.org/drawingml/2006/table">
            <a:tbl>
              <a:tblPr/>
              <a:tblGrid>
                <a:gridCol w="1546200"/>
                <a:gridCol w="298440"/>
                <a:gridCol w="644400"/>
                <a:gridCol w="679680"/>
                <a:gridCol w="753840"/>
                <a:gridCol w="757440"/>
                <a:gridCol w="650880"/>
                <a:gridCol w="657000"/>
                <a:gridCol w="741600"/>
                <a:gridCol w="682560"/>
                <a:gridCol w="707760"/>
                <a:gridCol w="665280"/>
              </a:tblGrid>
              <a:tr h="1620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(доведен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о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56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20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г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 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мито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ф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гнова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еж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ц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ст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5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Бюджетные обязательства по расходам, все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10332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332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ы, услуги по содержанию имущества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Б 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ольник 4"/>
          <p:cNvSpPr/>
          <p:nvPr/>
        </p:nvSpPr>
        <p:spPr>
          <a:xfrm>
            <a:off x="3203640" y="2994120"/>
            <a:ext cx="1008000" cy="43488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 501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Стрелка вниз 5"/>
          <p:cNvSpPr/>
          <p:nvPr/>
        </p:nvSpPr>
        <p:spPr>
          <a:xfrm>
            <a:off x="7812000" y="5100480"/>
            <a:ext cx="432000" cy="358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Скругленный прямоугольник 6"/>
          <p:cNvSpPr/>
          <p:nvPr/>
        </p:nvSpPr>
        <p:spPr>
          <a:xfrm>
            <a:off x="6300720" y="5518080"/>
            <a:ext cx="2719440" cy="1152720"/>
          </a:xfrm>
          <a:prstGeom prst="roundRect">
            <a:avLst>
              <a:gd name="adj" fmla="val 16667"/>
            </a:avLst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чины неисполнения в текстовой части пояснительной запис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Выноска со стрелкой влево 7"/>
          <p:cNvSpPr/>
          <p:nvPr/>
        </p:nvSpPr>
        <p:spPr>
          <a:xfrm>
            <a:off x="8893080" y="2565360"/>
            <a:ext cx="2232000" cy="172728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т требований к увязк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.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ф. 050316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731520"/>
            <a:ext cx="886608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Не исполнено бюджетных (денежных) обязательств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в текстовой части пояснительной записки – причины неисполнения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2421000"/>
          <a:ext cx="8640720" cy="3200400"/>
        </p:xfrm>
        <a:graphic>
          <a:graphicData uri="http://schemas.openxmlformats.org/drawingml/2006/table">
            <a:tbl>
              <a:tblPr/>
              <a:tblGrid>
                <a:gridCol w="1403280"/>
                <a:gridCol w="7237440"/>
              </a:tblGrid>
              <a:tr h="457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а неисполнения принятых обязатель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гентами нарушены сроки выполнения работ, работы по договору в установленный срок не выполне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агентами нарушены сроки выполнения работ, документы на оплату представлены 31.12.2013, исполнение денежных обязательств - январь 20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ы –основания для принятия и исполнения обязательств получены в январе 2014 г, сроки исполнения  принятых обязательств - 2013 год, контрагентами нарушены сроки представления докумен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Стрелка вниз 4"/>
          <p:cNvSpPr/>
          <p:nvPr/>
        </p:nvSpPr>
        <p:spPr>
          <a:xfrm>
            <a:off x="4748040" y="1125360"/>
            <a:ext cx="432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пояснительной записки ( ф.0503160)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5800" y="475920"/>
            <a:ext cx="8970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Положения Бюджетного кодекса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Российской Федерации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65. Виды государственного (муниципального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(муниципальный) финансовый контро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разделяе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еш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нутрен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Сводная отчетность за 2013 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юджетных и автономных учреждений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5.03.2011 N 33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нутренний государственный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(муниципальный) финансовый контроль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9840" y="1628280"/>
            <a:ext cx="898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Федеральная  служба финансово-бюджетного надз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государственного    финансового     контроля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ов Р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муниципального 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ных администр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===========================================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едеральное  казначейств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субъектов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муниципальных образо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органов государственного (муниципального) финансового контроля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Федеральной  службы финансово-бюджетного надзора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8510400" cy="2376360"/>
          </a:xfrm>
          <a:prstGeom prst="rect">
            <a:avLst/>
          </a:prstGeom>
          <a:ln w="0">
            <a:noFill/>
          </a:ln>
        </p:spPr>
      </p:pic>
      <p:sp>
        <p:nvSpPr>
          <p:cNvPr id="156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Заголовок 1"/>
          <p:cNvSpPr/>
          <p:nvPr/>
        </p:nvSpPr>
        <p:spPr>
          <a:xfrm>
            <a:off x="173160" y="692280"/>
            <a:ext cx="89708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нешний государственный (муниципальный) финансовый контр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ная пала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но -счетные органы субъектов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ольно - счетные органы муниципа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контрольно-счетных органов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-Счетной Палаты РФ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Стрелка вниз 3"/>
          <p:cNvSpPr/>
          <p:nvPr/>
        </p:nvSpPr>
        <p:spPr>
          <a:xfrm>
            <a:off x="4278240" y="549360"/>
            <a:ext cx="501840" cy="720720"/>
          </a:xfrm>
          <a:prstGeom prst="downArrow">
            <a:avLst>
              <a:gd name="adj1" fmla="val 50000"/>
              <a:gd name="adj2" fmla="val 50265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22120" y="2997360"/>
            <a:ext cx="89218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отчетности бюджетных и автономных учреждений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800" y="620640"/>
            <a:ext cx="89708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1773360"/>
          <a:ext cx="8893080" cy="3720960"/>
        </p:xfrm>
        <a:graphic>
          <a:graphicData uri="http://schemas.openxmlformats.org/drawingml/2006/table">
            <a:tbl>
              <a:tblPr/>
              <a:tblGrid>
                <a:gridCol w="2819160"/>
                <a:gridCol w="255600"/>
                <a:gridCol w="897120"/>
                <a:gridCol w="831960"/>
                <a:gridCol w="657000"/>
                <a:gridCol w="498600"/>
                <a:gridCol w="857160"/>
                <a:gridCol w="854280"/>
                <a:gridCol w="664920"/>
                <a:gridCol w="557280"/>
              </a:tblGrid>
              <a:tr h="6602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0 с.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3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ложения в нефинансовые активы (01060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недвижимое имущество учреждения (01061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особо ценное движимое имущество учреждения (01062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иное движимое имущество учреждения (01063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предметы лизинга (01064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Прямоугольник 4"/>
          <p:cNvSpPr/>
          <p:nvPr/>
        </p:nvSpPr>
        <p:spPr>
          <a:xfrm>
            <a:off x="3780000" y="4076640"/>
            <a:ext cx="4824360" cy="57636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атки по счету 0 106 10 000 разъяснены в текстовой части пояснительной запис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50920" y="1844640"/>
          <a:ext cx="8893080" cy="3800520"/>
        </p:xfrm>
        <a:graphic>
          <a:graphicData uri="http://schemas.openxmlformats.org/drawingml/2006/table">
            <a:tbl>
              <a:tblPr/>
              <a:tblGrid>
                <a:gridCol w="2711520"/>
                <a:gridCol w="244440"/>
                <a:gridCol w="863640"/>
                <a:gridCol w="799920"/>
                <a:gridCol w="631800"/>
                <a:gridCol w="820800"/>
                <a:gridCol w="824040"/>
                <a:gridCol w="820440"/>
                <a:gridCol w="640080"/>
                <a:gridCol w="536400"/>
              </a:tblGrid>
              <a:tr h="1904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0 с. 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640"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 временном распоряжен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 временном распоряжении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I. 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овые активы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средства учреждения (020100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лицевых счетах в органе казначейства (020111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1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органе казначейства в пути  (020113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2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счетах в кредитной организации (020121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3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39492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кредитной организации в пути (020123000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ккредитивы на счетах учреждения в кредитной организации (020126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 иностранной валюте на счетах в кредитной организации (020127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39492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а (020134000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документы (020135000)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8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39492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, размещенные на депозиты в кредитной организации (020122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94920" marR="82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9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"/>
          <p:cNvSpPr/>
          <p:nvPr/>
        </p:nvSpPr>
        <p:spPr>
          <a:xfrm>
            <a:off x="5219640" y="5084640"/>
            <a:ext cx="3924360" cy="86544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таток по счету 201 22 000 только у автоном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14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Статья 298 ГК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ое учреждени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ез согласия собственника не вправе распоряжаться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особо ценным движим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муществом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крепленны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за ним собственником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ли приобретенн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м учреждением за счет средств, выделенных ему собственником на приобретение такого имущества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 также недвижимым имуществ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номное учреждение без согласия собственника не вправе распоряжаться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движимым имуществом и особо ценны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вижимым имуществом,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крепленными за ним собственником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 приобретенными автономным учреждением за счет средств, выделенных ему собственником на приобретение такого имуществ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553C287-44BD-46CE-926E-4DC0A8A53E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147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собо ценное движимое имущество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7640" y="1699920"/>
            <a:ext cx="921708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О некоммерческих организациях» от 12.01.1996 № 7-ФЗ   пункт 11 статья 9.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«Об автономных учреждениях» от 03.11.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74-ФЗ статья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мущество, без которого осуществление учреждением своей уставной деятельности  (основных видов деятельности)  будет существенно затрудне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EC423A-2072-4437-B073-3EFDD7D18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60200" y="1773360"/>
          <a:ext cx="8788680" cy="4010040"/>
        </p:xfrm>
        <a:graphic>
          <a:graphicData uri="http://schemas.openxmlformats.org/drawingml/2006/table">
            <a:tbl>
              <a:tblPr/>
              <a:tblGrid>
                <a:gridCol w="3108600"/>
                <a:gridCol w="279360"/>
                <a:gridCol w="676080"/>
                <a:gridCol w="665280"/>
                <a:gridCol w="717480"/>
                <a:gridCol w="544680"/>
                <a:gridCol w="774720"/>
                <a:gridCol w="688680"/>
                <a:gridCol w="725760"/>
                <a:gridCol w="608040"/>
              </a:tblGrid>
              <a:tr h="2174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целе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азани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 целе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азани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 (работ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слуг (работ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I.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финансовые активы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0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е средства (балансовая стоимость, 010100000)*, всего                                                                                    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вижимое имущество учреждения (010110000)*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обо ценное движимое имущество учреждения (010120000)*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е движимое имущество учреждения (010130000)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2178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ы лизинга (010140000)*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78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Прямоугольник 4"/>
          <p:cNvSpPr/>
          <p:nvPr/>
        </p:nvSpPr>
        <p:spPr>
          <a:xfrm>
            <a:off x="3924360" y="4724280"/>
            <a:ext cx="5018040" cy="57636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требования о равенстве данным Перечня ОЦ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Баланс государственного (муниципального) учреждения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 (ф. 0503730)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Письмо Минфина России и Федерального казначейства от 24.12.2013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№№ 02-07-007/57102 и 42-7.4-05/2.1-854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9840" y="2133360"/>
            <a:ext cx="8788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 особенностях составления и представления годовой отчетности финансовыми органами субъектов Российской Федерации и органами управления государственными внебюджетными фондами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620640"/>
          <a:ext cx="9144000" cy="5424480"/>
        </p:xfrm>
        <a:graphic>
          <a:graphicData uri="http://schemas.openxmlformats.org/drawingml/2006/table">
            <a:tbl>
              <a:tblPr/>
              <a:tblGrid>
                <a:gridCol w="3122640"/>
                <a:gridCol w="412560"/>
                <a:gridCol w="690840"/>
                <a:gridCol w="768240"/>
                <a:gridCol w="692280"/>
                <a:gridCol w="614160"/>
                <a:gridCol w="774720"/>
                <a:gridCol w="728640"/>
                <a:gridCol w="728640"/>
                <a:gridCol w="611280"/>
              </a:tblGrid>
              <a:tr h="189000"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счеты с дебиторами (02100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по НДС по приобретенным материальным ценностям, работам, услугам (021001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финансовым органом по наличным денежным средствам (021003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прочими дебиторами (021005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учредителем (021006000)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 уменьшения балансовой стоимости ОЦИ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тая стоимость ОЦИ (стр. 336+стр.33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Box 1"/>
          <p:cNvSpPr/>
          <p:nvPr/>
        </p:nvSpPr>
        <p:spPr>
          <a:xfrm>
            <a:off x="971640" y="1159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аланс (ф. 05037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Прямоугольник 4"/>
          <p:cNvSpPr/>
          <p:nvPr/>
        </p:nvSpPr>
        <p:spPr>
          <a:xfrm>
            <a:off x="4151160" y="2852640"/>
            <a:ext cx="4807080" cy="172728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ет 210 06 000 – недвижимое   имущество бюджетные учреждения (4 +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е  автономные учреждения (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ДИ (по 4) – бюджетные, автономные учреждения после изменения тип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ЦДИ (2+4+7) -закреплен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4151160" y="4724280"/>
            <a:ext cx="4753080" cy="86544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мма амортизации по имуществу с ограниченным правом распоряжения, балансовая стоимость которого отражена на счете 210 06 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2604960" y="3873600"/>
            <a:ext cx="145116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нсовая стоимост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4140360" y="5661000"/>
            <a:ext cx="4763880" cy="36036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ма строк 336 и 33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4078440" y="1955880"/>
            <a:ext cx="4825800" cy="360360"/>
          </a:xfrm>
          <a:prstGeom prst="rect">
            <a:avLst/>
          </a:prstGeom>
          <a:solidFill>
            <a:srgbClr val="d2d2f4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30 = 331+333+335+3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358920" y="1461960"/>
          <a:ext cx="8785080" cy="4978440"/>
        </p:xfrm>
        <a:graphic>
          <a:graphicData uri="http://schemas.openxmlformats.org/drawingml/2006/table">
            <a:tbl>
              <a:tblPr/>
              <a:tblGrid>
                <a:gridCol w="3000240"/>
                <a:gridCol w="395280"/>
                <a:gridCol w="665280"/>
                <a:gridCol w="738000"/>
                <a:gridCol w="663480"/>
                <a:gridCol w="590760"/>
                <a:gridCol w="744480"/>
                <a:gridCol w="700200"/>
                <a:gridCol w="699840"/>
                <a:gridCol w="587520"/>
              </a:tblGrid>
              <a:tr h="194400"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с целевыми средства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ность по оказанию услуг (работ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4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счеты с дебиторами (02100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по НДС по приобретенным материальным ценностям, работам, услугам (021001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финансовым органом по наличным денежным средствам (021003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прочими дебиторами (021005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четы с учредителем (021006000)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казатель уменьшения балансовой стоимости ОЦИ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3024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тая стоимость ОЦИ (стр. 336+стр.33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0240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TextBox 1"/>
          <p:cNvSpPr/>
          <p:nvPr/>
        </p:nvSpPr>
        <p:spPr>
          <a:xfrm>
            <a:off x="250920" y="692280"/>
            <a:ext cx="8785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ланс государственного (муниципального) учреждения (ф. 050373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4"/>
          <p:cNvSpPr/>
          <p:nvPr/>
        </p:nvSpPr>
        <p:spPr>
          <a:xfrm>
            <a:off x="4284720" y="4799160"/>
            <a:ext cx="4859280" cy="720720"/>
          </a:xfrm>
          <a:prstGeom prst="rect">
            <a:avLst/>
          </a:prstGeom>
          <a:solidFill>
            <a:srgbClr val="47ffd1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т требования о равенстве показателя строки 336 сумме строк 011+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9280" y="1068480"/>
          <a:ext cx="8964720" cy="557856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588000" y="4056120"/>
            <a:ext cx="2448000" cy="1800000"/>
          </a:xfrm>
          <a:prstGeom prst="wedgeRoundRectCallout">
            <a:avLst>
              <a:gd name="adj1" fmla="val 31912"/>
              <a:gd name="adj2" fmla="val -162782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ф. 05037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10 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4 – гр. 9 (если гр. 4 не равна 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 ноль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52360" y="1063800"/>
            <a:ext cx="8639280" cy="47304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132000" y="3645000"/>
            <a:ext cx="5832720" cy="2520720"/>
          </a:xfrm>
          <a:prstGeom prst="wedgeRoundRectCallout">
            <a:avLst>
              <a:gd name="adj1" fmla="val -43148"/>
              <a:gd name="adj2" fmla="val -68958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получении денежных средств в кассу и возврату из нее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движении средств между валютным счетом и лицевым (покупка и продажа валюты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отражении средств в пу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при использовании банковских карт для получения наличных денег в кассу учреждения и сдаче наличности через банкомат -199н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24360" y="4797360"/>
            <a:ext cx="4824360" cy="1079640"/>
          </a:xfrm>
          <a:prstGeom prst="wedgeRoundRectCallout">
            <a:avLst>
              <a:gd name="adj1" fmla="val -67106"/>
              <a:gd name="adj2" fmla="val -8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при перечислении денежных средств между учреждением и его обособленным подразделением (филиалом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/>
          <p:cNvSpPr/>
          <p:nvPr/>
        </p:nvSpPr>
        <p:spPr>
          <a:xfrm>
            <a:off x="4211640" y="3068640"/>
            <a:ext cx="4680000" cy="3240000"/>
          </a:xfrm>
          <a:prstGeom prst="wedgeRoundRectCallout">
            <a:avLst>
              <a:gd name="adj1" fmla="val -74666"/>
              <a:gd name="adj2" fmla="val 28074"/>
              <a:gd name="adj3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оплаты в пределах остатка средств на лицевом счете обязательств, принятых за счет других источников финансового обеспечения (2,3,4,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некассовых операций по исполнению обязательств, принятых за счет иных видов финансового обесп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79280" y="1017720"/>
          <a:ext cx="8964720" cy="586872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5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300.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о виду деятельности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«5» Субсидии на иные цел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4" name="Прямая соединительная линия 9"/>
          <p:cNvSpPr/>
          <p:nvPr/>
        </p:nvSpPr>
        <p:spPr>
          <a:xfrm>
            <a:off x="4572000" y="1773360"/>
            <a:ext cx="3672000" cy="4535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Прямая соединительная линия 11"/>
          <p:cNvSpPr/>
          <p:nvPr/>
        </p:nvSpPr>
        <p:spPr>
          <a:xfrm flipV="1">
            <a:off x="4500720" y="1773360"/>
            <a:ext cx="3743280" cy="4464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Скругленная прямоугольная выноска 5"/>
          <p:cNvSpPr/>
          <p:nvPr/>
        </p:nvSpPr>
        <p:spPr>
          <a:xfrm>
            <a:off x="4427640" y="4941720"/>
            <a:ext cx="2484360" cy="908280"/>
          </a:xfrm>
          <a:prstGeom prst="wedgeRoundRectCallout">
            <a:avLst>
              <a:gd name="adj1" fmla="val -76847"/>
              <a:gd name="adj2" fmla="val 113050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иные цели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Прямая соединительная линия 17"/>
          <p:cNvSpPr/>
          <p:nvPr/>
        </p:nvSpPr>
        <p:spPr>
          <a:xfrm flipV="1">
            <a:off x="5364000" y="6597720"/>
            <a:ext cx="309564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19"/>
          <p:cNvSpPr/>
          <p:nvPr/>
        </p:nvSpPr>
        <p:spPr>
          <a:xfrm>
            <a:off x="5219640" y="6597720"/>
            <a:ext cx="302436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Овал 10"/>
          <p:cNvSpPr/>
          <p:nvPr/>
        </p:nvSpPr>
        <p:spPr>
          <a:xfrm>
            <a:off x="34920" y="6308640"/>
            <a:ext cx="410544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Скругленная прямоугольная выноска 14"/>
          <p:cNvSpPr/>
          <p:nvPr/>
        </p:nvSpPr>
        <p:spPr>
          <a:xfrm>
            <a:off x="4822920" y="5850000"/>
            <a:ext cx="4213080" cy="603360"/>
          </a:xfrm>
          <a:prstGeom prst="wedgeRoundRectCallout">
            <a:avLst>
              <a:gd name="adj1" fmla="val -73513"/>
              <a:gd name="adj2" fmla="val 99592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еиспользованной субсидии 2012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79280" y="1068480"/>
          <a:ext cx="8964720" cy="573084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по виду деятель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4 «Субсидии на государственное задание»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3" name="Прямая соединительная линия 9"/>
          <p:cNvSpPr/>
          <p:nvPr/>
        </p:nvSpPr>
        <p:spPr>
          <a:xfrm>
            <a:off x="4572000" y="177336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ая соединительная линия 11"/>
          <p:cNvSpPr/>
          <p:nvPr/>
        </p:nvSpPr>
        <p:spPr>
          <a:xfrm flipV="1">
            <a:off x="4572000" y="177300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ая соединительная линия 17"/>
          <p:cNvSpPr/>
          <p:nvPr/>
        </p:nvSpPr>
        <p:spPr>
          <a:xfrm flipV="1">
            <a:off x="4643280" y="6381360"/>
            <a:ext cx="360072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ая соединительная линия 19"/>
          <p:cNvSpPr/>
          <p:nvPr/>
        </p:nvSpPr>
        <p:spPr>
          <a:xfrm>
            <a:off x="4572000" y="6381720"/>
            <a:ext cx="367200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Скругленная прямоугольная выноска 16"/>
          <p:cNvSpPr/>
          <p:nvPr/>
        </p:nvSpPr>
        <p:spPr>
          <a:xfrm>
            <a:off x="4643280" y="5373720"/>
            <a:ext cx="3673800" cy="863640"/>
          </a:xfrm>
          <a:prstGeom prst="wedgeRoundRectCallout">
            <a:avLst>
              <a:gd name="adj1" fmla="val -60958"/>
              <a:gd name="adj2" fmla="val 19606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выпол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зад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0" y="5661000"/>
            <a:ext cx="4140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Скругленная прямоугольная выноска 12"/>
          <p:cNvSpPr/>
          <p:nvPr/>
        </p:nvSpPr>
        <p:spPr>
          <a:xfrm>
            <a:off x="4356000" y="1916280"/>
            <a:ext cx="5256360" cy="1800000"/>
          </a:xfrm>
          <a:prstGeom prst="wedgeRoundRectCallout">
            <a:avLst>
              <a:gd name="adj1" fmla="val -60384"/>
              <a:gd name="adj2" fmla="val -8407"/>
              <a:gd name="adj3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дебиторской задолженности прошлых ле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й деятельности, возникшей  до изменения ти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КОСГУ130 (+) перечисление в доход бюджета  КОСГУ 130 (-) (счета 205,2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040, графы 5 формы 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КОСГУ 130 «Доходы от оказания платных услуг (работ)»  показан остаток  900,00 руб. в  сумме возврата дебиторской задолженности прошлых лет, числившейся на счете 4 205 30 000 , указанная задолженность сложилась по виду финансового обеспечения «Бюджетная деятельность» до изменения типа учреж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Стрелка вниз 7"/>
          <p:cNvSpPr/>
          <p:nvPr/>
        </p:nvSpPr>
        <p:spPr>
          <a:xfrm>
            <a:off x="4321080" y="54936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59840" y="1484280"/>
            <a:ext cx="898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налоговым доходам бюджетов относя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использования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и Федерального казначейст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 № 02-07-007/57698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 особенностях  составления  и  представления  годовой  бюджетной  отчетности  и  сводной  бухгалтерской отчетности государственных бюджетных и автономных учреждений главными администраторами средств федерального бюдж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59840" y="1268280"/>
            <a:ext cx="898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продажи имуще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влена недостача материальных зап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списание материальных запасов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  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числение доходов от возмещения ущер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ственные д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560    Кт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есение  в кассу денежных средств в погашение недост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 34 510   К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6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и по исполнению принятых денежных обязательств без движения денежных средств  на лицевом  счет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заработной  пл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остатка выданного аванса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командировочные расход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недостач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800" y="549360"/>
            <a:ext cx="8970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тражение в учете в рамках одного вида финансово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обеспечения (субсидии на выполнение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государственного задания)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59840" y="1844640"/>
            <a:ext cx="898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ержана из заработной платы невозвращенная сумм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анса на оплату командировочных расход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найму жилого помещения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2 11 830     Кт 4 304 03 73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4 03 830     Кт 4 208 26 66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Скругленная прямоугольная выноска 10"/>
          <p:cNvSpPr/>
          <p:nvPr/>
        </p:nvSpPr>
        <p:spPr>
          <a:xfrm>
            <a:off x="7451640" y="4024440"/>
            <a:ext cx="1800360" cy="576000"/>
          </a:xfrm>
          <a:prstGeom prst="wedgeRoundRectCallout">
            <a:avLst>
              <a:gd name="adj1" fmla="val -254416"/>
              <a:gd name="adj2" fmla="val 92226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рж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з.п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Скругленная прямоугольная выноска 11"/>
          <p:cNvSpPr/>
          <p:nvPr/>
        </p:nvSpPr>
        <p:spPr>
          <a:xfrm>
            <a:off x="4859280" y="6021360"/>
            <a:ext cx="2449440" cy="576360"/>
          </a:xfrm>
          <a:prstGeom prst="wedgeRoundRectCallout">
            <a:avLst>
              <a:gd name="adj1" fmla="val -103504"/>
              <a:gd name="adj2" fmla="val -94347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суммы, подлежащей оплате контрагенту, суммы начисленных штрафных санкций  за нарушение условий догов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401 20 225     Кт 4 302 25 730  300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201 11 610  28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304 06 730  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9840" y="1196640"/>
            <a:ext cx="898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395280" y="2708280"/>
          <a:ext cx="8624880" cy="2736720"/>
        </p:xfrm>
        <a:graphic>
          <a:graphicData uri="http://schemas.openxmlformats.org/drawingml/2006/table">
            <a:tbl>
              <a:tblPr/>
              <a:tblGrid>
                <a:gridCol w="2522520"/>
                <a:gridCol w="285840"/>
                <a:gridCol w="355680"/>
                <a:gridCol w="739800"/>
                <a:gridCol w="757080"/>
                <a:gridCol w="892080"/>
                <a:gridCol w="712800"/>
                <a:gridCol w="701640"/>
                <a:gridCol w="774720"/>
                <a:gridCol w="882720"/>
              </a:tblGrid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10908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908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ы, услуги по содержанию имуще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7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Зачет суммы начисленных штрафных санкци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205 41 560     Кт 2 401 10 14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304 06 830     Кт 2 205 41 66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Стрелка вниз 1"/>
          <p:cNvSpPr/>
          <p:nvPr/>
        </p:nvSpPr>
        <p:spPr>
          <a:xfrm>
            <a:off x="4500720" y="5157720"/>
            <a:ext cx="576000" cy="9352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бюджетной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и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79280" y="1268280"/>
          <a:ext cx="8964720" cy="283068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665280"/>
                <a:gridCol w="833400"/>
                <a:gridCol w="714240"/>
                <a:gridCol w="863640"/>
              </a:tblGrid>
              <a:tr h="308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.00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.Собственные доходы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2" name="Скругленная прямоугольная выноска 12"/>
          <p:cNvSpPr/>
          <p:nvPr/>
        </p:nvSpPr>
        <p:spPr>
          <a:xfrm>
            <a:off x="4716360" y="3429000"/>
            <a:ext cx="2016360" cy="792000"/>
          </a:xfrm>
          <a:prstGeom prst="wedgeRoundRectCallout">
            <a:avLst>
              <a:gd name="adj1" fmla="val -83287"/>
              <a:gd name="adj2" fmla="val -18333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пен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аг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обственные дохо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785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757080"/>
          <a:ext cx="9217080" cy="636120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99540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.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6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8" name="Скругленная прямоугольная выноска 5"/>
          <p:cNvSpPr/>
          <p:nvPr/>
        </p:nvSpPr>
        <p:spPr>
          <a:xfrm>
            <a:off x="4572000" y="1413000"/>
            <a:ext cx="2303640" cy="792000"/>
          </a:xfrm>
          <a:prstGeom prst="wedgeRoundRectCallout">
            <a:avLst>
              <a:gd name="adj1" fmla="val -79560"/>
              <a:gd name="adj2" fmla="val 107037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доход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к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Скругленная прямоугольная выноска 11"/>
          <p:cNvSpPr/>
          <p:nvPr/>
        </p:nvSpPr>
        <p:spPr>
          <a:xfrm>
            <a:off x="4900680" y="4149720"/>
            <a:ext cx="1942920" cy="647640"/>
          </a:xfrm>
          <a:prstGeom prst="wedgeRoundRectCallout">
            <a:avLst>
              <a:gd name="adj1" fmla="val -122009"/>
              <a:gd name="adj2" fmla="val 96291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61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254560" y="4613400"/>
            <a:ext cx="3889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я по капитальным вложениям в текстовой части раздела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субъекта бюджетной отчет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зрезе инвестиционных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Стрелка вниз 7"/>
          <p:cNvSpPr/>
          <p:nvPr/>
        </p:nvSpPr>
        <p:spPr>
          <a:xfrm>
            <a:off x="4321080" y="69228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аланс (ф. 0503130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9120" y="1197000"/>
          <a:ext cx="8894880" cy="3162240"/>
        </p:xfrm>
        <a:graphic>
          <a:graphicData uri="http://schemas.openxmlformats.org/drawingml/2006/table">
            <a:tbl>
              <a:tblPr/>
              <a:tblGrid>
                <a:gridCol w="3441960"/>
                <a:gridCol w="285480"/>
                <a:gridCol w="944640"/>
                <a:gridCol w="944640"/>
                <a:gridCol w="907920"/>
                <a:gridCol w="906480"/>
                <a:gridCol w="866880"/>
                <a:gridCol w="596880"/>
              </a:tblGrid>
              <a:tr h="38412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130 с.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 К Т И 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тро- 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начало г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 конец отчетного перио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редства 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ятель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ременно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поряжен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финансовые активы в пути (01070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вижимое имущество учреждения в пути (01071000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?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ое движимое имущество учреждения в пути (01073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45720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едметы лизинга в пути (01074000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45720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Скругленный прямоугольник 4"/>
          <p:cNvSpPr/>
          <p:nvPr/>
        </p:nvSpPr>
        <p:spPr>
          <a:xfrm>
            <a:off x="250920" y="4437000"/>
            <a:ext cx="6553080" cy="237672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к учету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 выбыти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учета объектов недвижимого имущества, права на которые подлежат в соответствии с законодательством РФ государственной регистрации с обязательным приложением документов, подтверждающих государственную регистрацию права или сделк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никновение права и прекращение права на основании документа подтверждающего регистрацию возникновения права или его прекращ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Стрелка вниз 5"/>
          <p:cNvSpPr/>
          <p:nvPr/>
        </p:nvSpPr>
        <p:spPr>
          <a:xfrm>
            <a:off x="3395520" y="5843520"/>
            <a:ext cx="108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Стрелка вниз 6"/>
          <p:cNvSpPr/>
          <p:nvPr/>
        </p:nvSpPr>
        <p:spPr>
          <a:xfrm>
            <a:off x="7020000" y="4508640"/>
            <a:ext cx="504720" cy="187308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СЕЛЕЗНЕВА ГАЛИНА АНАТОЛЬЕВНА</cp:lastModifiedBy>
  <cp:lastPrinted>2014-02-05T05:48:37Z</cp:lastPrinted>
  <dcterms:modified xsi:type="dcterms:W3CDTF">2014-02-05T05:57:06Z</dcterms:modified>
  <cp:revision>219</cp:revision>
  <dc:subject/>
  <dc:title>No Slide Title</dc:title>
</cp:coreProperties>
</file>