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B50B-D1E9-4E4D-A0E0-B0B35C213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D596-D297-4C2B-A7B9-28438611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A129-404E-4EB1-8A29-621B79AB8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9C33-AC1B-4CC5-9658-78BED03DD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1CE3-64CA-4EC4-8890-76E30954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263D-5AC3-47A5-B9DE-876A3B40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A5F8-DB89-4939-A7B1-D74453D1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80D1-6A4C-4EE8-A1BB-8A64CA8E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92AB-EDFB-4AEF-B532-9A84DD4B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E581-8A21-448A-ADD1-3472E061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DDAB-DBE4-4366-A0A2-AA2730B0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BEFB-E2C6-43F9-B2BD-225B1A2D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C265-3956-45B1-9B46-848FA510398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E5B9-DFB9-48DA-BDDA-0F9A2CB8C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488880" y="907920"/>
            <a:ext cx="920448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0"/>
          <p:cNvSpPr/>
          <p:nvPr/>
        </p:nvSpPr>
        <p:spPr>
          <a:xfrm>
            <a:off x="1857240" y="18900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MPj03155980000[1]"/>
          <p:cNvPicPr/>
          <p:nvPr/>
        </p:nvPicPr>
        <p:blipFill>
          <a:blip r:embed="rId3"/>
          <a:stretch/>
        </p:blipFill>
        <p:spPr>
          <a:xfrm>
            <a:off x="128520" y="1052640"/>
            <a:ext cx="9433080" cy="5472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"/>
          <p:cNvSpPr/>
          <p:nvPr/>
        </p:nvSpPr>
        <p:spPr>
          <a:xfrm>
            <a:off x="415800" y="1557360"/>
            <a:ext cx="892980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Отдельные вопросы представления годовой бюджетной отчетности территориальными органами Федерального казначейства в Межрегиональное операционное управление Федерального казначей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Начальник отдела отчетности о кассово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исполнении бюджетов Межрегионального операционного УФ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Кашурина Лариса Валерьевна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6551-9120-4917-B8A6-2C972C65703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415800" y="1413000"/>
            <a:ext cx="9047160" cy="6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75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9"/>
          <p:cNvSpPr/>
          <p:nvPr/>
        </p:nvSpPr>
        <p:spPr>
          <a:xfrm>
            <a:off x="1136520" y="18900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20880" y="3213000"/>
            <a:ext cx="7993080" cy="28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>
                  <a:alpha val="50196"/>
                </a:srgbClr>
              </a:gs>
              <a:gs pos="50000">
                <a:srgbClr val="ffffff"/>
              </a:gs>
              <a:gs pos="100000">
                <a:srgbClr val="ccccff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Приказ Федерального казначейства от 27 декабря 2012 г. № 48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«Об утверждении Особенностей формирования бюджетной отчетнос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по кассовому исполнению федерального бюджета, кассовому обслуживанию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исполнения бюджетов бюджетной системы Российской Федераци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бюджетных учреждений, автономных учреждений и ины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организаций территориальными органами Федерального казначейства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MPj03155980000[1]"/>
          <p:cNvPicPr/>
          <p:nvPr/>
        </p:nvPicPr>
        <p:blipFill>
          <a:blip r:embed="rId3"/>
          <a:stretch/>
        </p:blipFill>
        <p:spPr>
          <a:xfrm>
            <a:off x="128520" y="1052640"/>
            <a:ext cx="9648720" cy="5543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60520" y="1268280"/>
            <a:ext cx="88563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>
                  <a:alpha val="50196"/>
                </a:srgbClr>
              </a:gs>
              <a:gs pos="50000">
                <a:srgbClr val="ffffff"/>
              </a:gs>
              <a:gs pos="100000">
                <a:srgbClr val="ccccff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ежрегиональное операционное управление Федерального казначей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13240" y="3789360"/>
            <a:ext cx="3888000" cy="24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>
                  <a:alpha val="50196"/>
                </a:srgbClr>
              </a:gs>
              <a:gs pos="50000">
                <a:srgbClr val="ffffff"/>
              </a:gs>
              <a:gs pos="100000">
                <a:srgbClr val="ccccff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8 АПРЕЛЯ 2014 Г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КОНЧАТЕЛЬН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чет об исполнен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федерального бюдже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 основании годов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четов УФК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едставленных д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7 февраля 2014 г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65600" y="1916280"/>
            <a:ext cx="432000" cy="1008000"/>
          </a:xfrm>
          <a:prstGeom prst="downArrow">
            <a:avLst>
              <a:gd name="adj1" fmla="val 50000"/>
              <a:gd name="adj2" fmla="val 583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 anchorCtr="1" vert="eaVert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формиру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520" y="3789360"/>
            <a:ext cx="3600360" cy="24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>
                  <a:alpha val="50196"/>
                </a:srgbClr>
              </a:gs>
              <a:gs pos="50000">
                <a:srgbClr val="ffffff"/>
              </a:gs>
              <a:gs pos="100000">
                <a:srgbClr val="ccccff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 ФЕВРАЛЯ 2014 ГОД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ЕДВАРИТЕЛЬН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чет об исполнени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федерального бюджет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ф. 0503117 на основани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четов УФК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едставленных в январе 2014 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 состоянию на 01.01.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2880" y="2924280"/>
            <a:ext cx="928872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>
                  <a:alpha val="50196"/>
                </a:srgbClr>
              </a:gs>
              <a:gs pos="50000">
                <a:srgbClr val="ffffff"/>
              </a:gs>
              <a:gs pos="100000">
                <a:srgbClr val="ccccff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тчет об исполнении федерального бюджета за 2013 г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6986-BDCA-45CA-AD1D-C4D3A05C8DE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488880" y="907920"/>
            <a:ext cx="920448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0"/>
          <p:cNvSpPr/>
          <p:nvPr/>
        </p:nvSpPr>
        <p:spPr>
          <a:xfrm>
            <a:off x="1857240" y="18900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" descr="MPj03155980000[1]"/>
          <p:cNvPicPr/>
          <p:nvPr/>
        </p:nvPicPr>
        <p:blipFill>
          <a:blip r:embed="rId3"/>
          <a:stretch/>
        </p:blipFill>
        <p:spPr>
          <a:xfrm>
            <a:off x="200160" y="1197000"/>
            <a:ext cx="9577080" cy="5111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560520" y="1557360"/>
            <a:ext cx="8785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5800" y="1844640"/>
            <a:ext cx="9290160" cy="396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>
                  <a:alpha val="50196"/>
                </a:srgbClr>
              </a:gs>
              <a:gs pos="50000">
                <a:srgbClr val="ffffff"/>
              </a:gs>
              <a:gs pos="100000">
                <a:srgbClr val="ccccff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Приказ Федерального казначейства «О сроках представления годов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бюджетной отчетности по кассовому обслуживанию исполнения бюджет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бюджетной системы Российской Федерации, бюджетных учреждений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автономных учреждений и иных организаций, кассовому исполнению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федерального бюджета и кассовому обслуживанию исполнения бюджет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Союзного государства за 2013 год территориальными орган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Федерального казначейства» № 222 от 30.09.20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BC19-DD58-40A1-9C28-6F4751721C2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488880" y="907920"/>
            <a:ext cx="920448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0"/>
          <p:cNvSpPr/>
          <p:nvPr/>
        </p:nvSpPr>
        <p:spPr>
          <a:xfrm>
            <a:off x="1857240" y="18900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MPj03155980000[1]"/>
          <p:cNvPicPr/>
          <p:nvPr/>
        </p:nvPicPr>
        <p:blipFill>
          <a:blip r:embed="rId3"/>
          <a:stretch/>
        </p:blipFill>
        <p:spPr>
          <a:xfrm>
            <a:off x="200160" y="981000"/>
            <a:ext cx="9505800" cy="53467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"/>
          <p:cNvSpPr/>
          <p:nvPr/>
        </p:nvSpPr>
        <p:spPr>
          <a:xfrm>
            <a:off x="560520" y="1557360"/>
            <a:ext cx="8785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4520" y="1341360"/>
            <a:ext cx="9217080" cy="417528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орядок отражения в бюджетном учете и отчет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оступлений в первый рабочий день следующе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тчетного периода доходов от уплаты АКЦИЗОВ, 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оответствии со статьёй 56 Бюджетного кодек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Российской Федерации, распределённых уполномоченны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рганом Федерального казначейства (Управлением Федеральн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казначейства по Смоленской области) в последний рабоч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день отчетного периода отражён в письм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Федерального казначейства № 42-7.4-05/2.6-568 от 06.09.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5592-74CF-4FE7-B90D-F7D0A3F52A5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488880" y="907920"/>
            <a:ext cx="920448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0"/>
          <p:cNvSpPr/>
          <p:nvPr/>
        </p:nvSpPr>
        <p:spPr>
          <a:xfrm>
            <a:off x="1857240" y="18900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" descr="MPj03155980000[1]"/>
          <p:cNvPicPr/>
          <p:nvPr/>
        </p:nvPicPr>
        <p:blipFill>
          <a:blip r:embed="rId3"/>
          <a:stretch/>
        </p:blipFill>
        <p:spPr>
          <a:xfrm>
            <a:off x="128520" y="1052640"/>
            <a:ext cx="9648720" cy="5472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4"/>
          <p:cNvSpPr/>
          <p:nvPr/>
        </p:nvSpPr>
        <p:spPr>
          <a:xfrm>
            <a:off x="560520" y="1557360"/>
            <a:ext cx="8785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76160" y="1341360"/>
            <a:ext cx="8569440" cy="201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>
                  <a:alpha val="50196"/>
                </a:srgbClr>
              </a:gs>
              <a:gs pos="50000">
                <a:srgbClr val="ffffff"/>
              </a:gs>
              <a:gs pos="100000">
                <a:srgbClr val="ccccff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Справка по заключению счетов бюджетного учета отчетн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финансового года (форма 05031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Справка по заключению счетов бюджетного учета отчетн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финансового года органа, осуществляющего кассовое обслужи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бюджетных учреждений, автономных учреждений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иных организаций (форма 050311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1548000">
            <a:off x="2576160" y="3357720"/>
            <a:ext cx="576360" cy="1587240"/>
          </a:xfrm>
          <a:prstGeom prst="downArrow">
            <a:avLst>
              <a:gd name="adj1" fmla="val 49861"/>
              <a:gd name="adj2" fmla="val 688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"/>
                <a:ea typeface="Arial"/>
              </a:rPr>
              <a:t>За 2013 год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9923000">
            <a:off x="6192720" y="3352320"/>
            <a:ext cx="576360" cy="1514520"/>
          </a:xfrm>
          <a:prstGeom prst="downArrow">
            <a:avLst>
              <a:gd name="adj1" fmla="val 50000"/>
              <a:gd name="adj2" fmla="val 656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"/>
                <a:ea typeface="Arial"/>
              </a:rPr>
              <a:t>За 2014 год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961240" y="4797360"/>
            <a:ext cx="3240000" cy="1295640"/>
          </a:xfrm>
          <a:prstGeom prst="roundRect">
            <a:avLst>
              <a:gd name="adj" fmla="val 16667"/>
            </a:avLst>
          </a:prstGeom>
          <a:solidFill>
            <a:srgbClr val="fef6da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Предоставляются в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финансовый орган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6160" y="4869000"/>
            <a:ext cx="3095640" cy="1368360"/>
          </a:xfrm>
          <a:prstGeom prst="roundRect">
            <a:avLst>
              <a:gd name="adj" fmla="val 16667"/>
            </a:avLst>
          </a:prstGeom>
          <a:solidFill>
            <a:srgbClr val="fef6da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В финансовый орган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НЕ предоставляютс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Умножение 6"/>
          <p:cNvSpPr/>
          <p:nvPr/>
        </p:nvSpPr>
        <p:spPr>
          <a:xfrm>
            <a:off x="1784520" y="5084640"/>
            <a:ext cx="1143000" cy="792360"/>
          </a:xfrm>
          <a:custGeom>
            <a:avLst/>
            <a:gdLst/>
            <a:ahLst/>
            <a:rect l="l" t="t" r="r" b="b"/>
            <a:pathLst>
              <a:path w="711200" h="393700">
                <a:moveTo>
                  <a:pt x="148389" y="135064"/>
                </a:moveTo>
                <a:lnTo>
                  <a:pt x="193236" y="54050"/>
                </a:lnTo>
                <a:lnTo>
                  <a:pt x="355600" y="143930"/>
                </a:lnTo>
                <a:lnTo>
                  <a:pt x="517964" y="54050"/>
                </a:lnTo>
                <a:lnTo>
                  <a:pt x="562811" y="135064"/>
                </a:lnTo>
                <a:lnTo>
                  <a:pt x="451197" y="196850"/>
                </a:lnTo>
                <a:lnTo>
                  <a:pt x="562811" y="258636"/>
                </a:lnTo>
                <a:lnTo>
                  <a:pt x="517964" y="339650"/>
                </a:lnTo>
                <a:lnTo>
                  <a:pt x="355600" y="249770"/>
                </a:lnTo>
                <a:lnTo>
                  <a:pt x="193236" y="339650"/>
                </a:lnTo>
                <a:lnTo>
                  <a:pt x="148389" y="258636"/>
                </a:lnTo>
                <a:lnTo>
                  <a:pt x="260003" y="196850"/>
                </a:lnTo>
                <a:lnTo>
                  <a:pt x="148389" y="135064"/>
                </a:lnTo>
                <a:close/>
              </a:path>
            </a:pathLst>
          </a:cu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CB8E-208F-4E9B-B398-DDD9A4D9FBC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488880" y="907920"/>
            <a:ext cx="920448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"/>
          <p:cNvSpPr/>
          <p:nvPr/>
        </p:nvSpPr>
        <p:spPr>
          <a:xfrm>
            <a:off x="1857240" y="18900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MPj03155980000[1]"/>
          <p:cNvPicPr/>
          <p:nvPr/>
        </p:nvPicPr>
        <p:blipFill>
          <a:blip r:embed="rId3"/>
          <a:stretch/>
        </p:blipFill>
        <p:spPr>
          <a:xfrm>
            <a:off x="200160" y="981000"/>
            <a:ext cx="9505800" cy="53085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560520" y="1557360"/>
            <a:ext cx="8785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4520" y="1700280"/>
            <a:ext cx="9217080" cy="374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>
                  <a:alpha val="50196"/>
                </a:srgbClr>
              </a:gs>
              <a:gs pos="50000">
                <a:srgbClr val="ffffff"/>
              </a:gs>
              <a:gs pos="100000">
                <a:srgbClr val="ccccff">
                  <a:alpha val="5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орядок учета и формирование бюджетной отчетн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территориальными органами Федерального казначейства п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перациям по кассовому обслуживанию федеральных бюджет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учреждений центров реабилитации Фонда социальн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трахования Российской Федерации отражён в письм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Федерального казначейства № 42-7.4-05/2.2-58 от 28.01.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24AE-D535-4000-9233-7FDC546F450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488880" y="907920"/>
            <a:ext cx="920448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0"/>
          <p:cNvSpPr/>
          <p:nvPr/>
        </p:nvSpPr>
        <p:spPr>
          <a:xfrm>
            <a:off x="1857240" y="18900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3" descr="MPj03155980000[1]"/>
          <p:cNvPicPr/>
          <p:nvPr/>
        </p:nvPicPr>
        <p:blipFill>
          <a:blip r:embed="rId3"/>
          <a:stretch/>
        </p:blipFill>
        <p:spPr>
          <a:xfrm>
            <a:off x="200160" y="981000"/>
            <a:ext cx="9505800" cy="55436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/>
          <p:cNvSpPr/>
          <p:nvPr/>
        </p:nvSpPr>
        <p:spPr>
          <a:xfrm>
            <a:off x="560520" y="1557360"/>
            <a:ext cx="8785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72880" y="1052640"/>
            <a:ext cx="9217080" cy="5329080"/>
          </a:xfrm>
          <a:prstGeom prst="roundRect">
            <a:avLst>
              <a:gd name="adj" fmla="val 16667"/>
            </a:avLst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 соответствии с приказом Федерального казначейства № 24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т 1 ноября 2013 года «Об утверждении Особенност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формирования бюджетной отчетности по кассовом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исполнению федерального бюджета, кассовому обслуживани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исполнения бюджетов бюджетной системы Российск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Федерации, бюджетных учреждений, автоном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учреждений и иных организаций территориальным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рганами Федерального казначейства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 Справке по консолидируемым расчетам (ф. 0503125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о кассовому обслуживанию бюджетных учреждени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втономных учреждений и иных организаций в графе 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«Номер счета бюджетного учета» указывае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код соответствующего счета (9 знаков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Не требуется отражение кода главы главного распорядителя бюджетных средст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3635-65CC-4DC4-AB9D-AB471F3BDBB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488880" y="907920"/>
            <a:ext cx="920448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907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/>
          <p:cNvPicPr/>
          <p:nvPr/>
        </p:nvPicPr>
        <p:blipFill>
          <a:blip r:embed="rId2"/>
          <a:stretch/>
        </p:blipFill>
        <p:spPr>
          <a:xfrm>
            <a:off x="0" y="6611760"/>
            <a:ext cx="9906120" cy="2667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0"/>
          <p:cNvSpPr/>
          <p:nvPr/>
        </p:nvSpPr>
        <p:spPr>
          <a:xfrm>
            <a:off x="1857240" y="18900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Межрегиональное операционное УФ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3" descr="MPj03155980000[1]"/>
          <p:cNvPicPr/>
          <p:nvPr/>
        </p:nvPicPr>
        <p:blipFill>
          <a:blip r:embed="rId3"/>
          <a:stretch/>
        </p:blipFill>
        <p:spPr>
          <a:xfrm>
            <a:off x="128520" y="1052640"/>
            <a:ext cx="9433080" cy="5472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208160" y="1700280"/>
            <a:ext cx="7705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333399"/>
                </a:solidFill>
                <a:latin typeface="Times New Roman"/>
              </a:rPr>
              <a:t>Спасибо</a:t>
            </a:r>
            <a:br>
              <a:rPr sz="8000"/>
            </a:br>
            <a:r>
              <a:rPr b="1" i="1" lang="en-US" sz="8000" spc="-1" strike="noStrike">
                <a:solidFill>
                  <a:srgbClr val="333399"/>
                </a:solidFill>
                <a:latin typeface="Times New Roman"/>
              </a:rPr>
              <a:t>за внимание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1558-6A80-4467-BB6F-5C78E4D7A3E4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8T08:55:19Z</dcterms:created>
  <dc:creator>2456</dc:creator>
  <dc:description/>
  <dc:language>en-US</dc:language>
  <cp:lastModifiedBy>0487</cp:lastModifiedBy>
  <dcterms:modified xsi:type="dcterms:W3CDTF">2014-02-04T15:47:08Z</dcterms:modified>
  <cp:revision>160</cp:revision>
  <dc:subject/>
  <dc:title>Отдел доведения бюджетных данных Межрегионального операционного управления Федерального казначейства</dc:title>
</cp:coreProperties>
</file>