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952-4811-4C45-B318-A0FBD000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58C-7D86-4B78-A85C-372F9AC8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86B-1563-4CD2-80FC-7E21F83C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099-F07D-4CCD-93FF-2AC08397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049-4CA8-476C-A046-EDB22B69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FC9-A2F3-42CE-AF67-9A3B4B45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C95-30A2-45D8-A763-3404C4D6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3E3-03BA-4591-B3BF-7BBE9955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73F-3337-4D7F-BCE1-9776DA6A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6E9-1480-4E01-8D0F-DD58F09D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6E1-6279-4AF9-A75F-9EA459F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C74-2B42-4C1C-89BD-8CCF760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09A6-2E70-4E15-8E20-B6AC452AA4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1391-CEBF-4720-839F-F1EE1D975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дзаголовок 2"/>
          <p:cNvSpPr/>
          <p:nvPr/>
        </p:nvSpPr>
        <p:spPr>
          <a:xfrm>
            <a:off x="0" y="2421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7915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Мероприятия Межрегионального операционного УФК, осуществляемые в рамках подготовки к приему годовой бюджетной (бухгалтерской) отчетности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33360"/>
            <a:ext cx="795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23760" y="6575400"/>
            <a:ext cx="9167760" cy="282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03640" y="4437000"/>
            <a:ext cx="2953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4724280"/>
            <a:ext cx="3384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ститель руководителя Межрегионального операционного УФ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.М. Го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9e"/>
                </a:solidFill>
                <a:latin typeface="Arial"/>
              </a:rPr>
              <a:t>Количество нормативно установленных отчетных форм для субъектов бюджетной отчетности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60280"/>
            <a:ext cx="792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1773360"/>
          <a:ext cx="8569080" cy="4750920"/>
        </p:xfrm>
        <a:graphic>
          <a:graphicData uri="http://schemas.openxmlformats.org/drawingml/2006/table">
            <a:tbl>
              <a:tblPr/>
              <a:tblGrid>
                <a:gridCol w="1857240"/>
                <a:gridCol w="1854360"/>
                <a:gridCol w="1487160"/>
                <a:gridCol w="1486080"/>
                <a:gridCol w="18842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убъектов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тчетных форм субъектов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енное соотнош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36ea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Ф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72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Б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5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≈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9c7db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0" y="6524640"/>
            <a:ext cx="9144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50920" y="1268280"/>
            <a:ext cx="87138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Основные ошибки финансовых органов субъектов Российской Федерации</a:t>
            </a:r>
            <a:r>
              <a:rPr b="1" lang="en-US" sz="18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ждение консолидированных данных в отчетности ФО и ГРБС по межбюджетным трансфер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хождение консолидированных данных в отчетности ФО и ГРБС по переданному и полученному имущ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шибки форматного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50920" y="1268280"/>
            <a:ext cx="871380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Мероприятия, направленные на недопущение расхождений по межбюджетным трансфер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МОУ ФК с августа 2013 года, в адрес ГРБС, ФО и УФК по субъектам Российской Федерации писем о суммах межбюджетных трансфертов, зачисленных на невыясненные поступления, и необходимости их оперативного уточ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МОУ ФК 16.12.2013 и 09.01.2014, в адрес УФК по субъектам Российской Федерации информационных писем о перечислении из федерального бюджета межбюджетных трансфертов в разрезе расчетных документо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50920" y="1268280"/>
            <a:ext cx="87138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Мероприятия, направленные на недопущение расхождений по переданному и полученному иму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Минфина России от 20.09.2013 № 02-06-0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3916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 проведении промежуточной сверки взаимосвязанных расчетов по переданным и полученным активам и обязательствам по состоянию на 01.10.2013 ГРБС, ФО и ГВБФ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ериод с 12.11.2013 - 18.11.2013 проведение МОУ ФК промежуточной сверки взаимосвязанных расчетов по переданному и полученному имуществу между ГРБС, ФО и ГВБФ по состоянию на 01.10.2013 с ежедневным направлением протоколов внешне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792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68360" y="1341360"/>
            <a:ext cx="84470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Перевод на ППО «СУФД – </a:t>
            </a:r>
            <a:r>
              <a:rPr b="1" lang="en-US" sz="2000" spc="-1" strike="noStrike">
                <a:solidFill>
                  <a:srgbClr val="162387"/>
                </a:solidFill>
                <a:latin typeface="Arial"/>
              </a:rPr>
              <a:t>on-line</a:t>
            </a:r>
            <a:r>
              <a:rPr b="1" lang="ru-RU" sz="2000" spc="-1" strike="noStrike">
                <a:solidFill>
                  <a:srgbClr val="162387"/>
                </a:solidFill>
                <a:latin typeface="Arial"/>
              </a:rPr>
              <a:t>» финансовых органов субъектов Российской Федерации</a:t>
            </a:r>
            <a:r>
              <a:rPr b="1" lang="ru-RU" sz="18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 17.06.2013 № 42-7.4-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6-364 «О порядке представления финансовыми органами субъектов Российской Федерации бюджетной (бухгалтерской) отчет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ирование 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при участии 15 ФО в период с июля по декабрь 201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.12.2013 № 42.7.4-05/10.6-827 «О направлении актуализированных Требований к представлению ГРБС, ФО и ГВБФ отчетности с использованием ППО «СУФД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ьмо Федерального казначейства от 18.12.2013 № 42-7.4-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1-825 «Об обеспечении электронного обмена с финансовыми орган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23.12.2013 – 01.02.201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 договоров об обмене электронными документами между МОУ ФК и финансовыми органами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921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Межрегиональное операционное управление 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8129</cp:lastModifiedBy>
  <dcterms:modified xsi:type="dcterms:W3CDTF">2014-02-04T16:48:38Z</dcterms:modified>
  <cp:revision>153</cp:revision>
  <dc:subject/>
  <dc:title>Слайд 1</dc:title>
</cp:coreProperties>
</file>