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526-D288-4BE2-AD3F-31735B33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042-26ED-4DC6-A493-234C49A7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BEC8-1ED2-46F6-B2A1-3673127F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D0B-DA55-4E06-8D83-4852E15D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7911-1C4B-4A2C-8996-92AE159A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225-E202-4451-8974-0B26DEB1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B20-81CE-4FD2-8D89-885CC4C5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4AC-C3B8-44E5-B64C-9F68C334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82C-B4F0-4161-9498-C92F625D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2542-BEB1-40D1-A543-FDF89B8F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F5D-BA3C-4E0A-8105-7F7E2988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BB6-94E9-46A2-8C5B-2B835AF4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61B2-86BF-4DC6-BE01-38299DB87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roskazna.ru/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roskazna.ru/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539640" y="285264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00080" y="1341360"/>
            <a:ext cx="7286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Организационно-технологические аспекты формирования и представления финансовыми органами субъектов Российской Федерации годовой бюджетной (бухгалтерской) отчетности за 2013 год в Федеральное казначей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211640" y="5445000"/>
            <a:ext cx="47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Начальник Управления бюджетного учета и отчетности Федерального казначейства А.В. Дуб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403280" y="260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Федеральное казначе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11280" y="3213000"/>
            <a:ext cx="3313080" cy="57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Отчет ф. 050332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3640" y="3213000"/>
            <a:ext cx="3548160" cy="569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Отчет ф. 053188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5157720"/>
            <a:ext cx="3319200" cy="863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Arial"/>
              </a:rPr>
              <a:t>Пояснительная записка (ф. 0503360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4005360"/>
            <a:ext cx="61452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55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240" y="3068640"/>
            <a:ext cx="57312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55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24000" y="112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Использование целевых межбюджетных трансф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763640" y="1700280"/>
            <a:ext cx="1295280" cy="1295280"/>
            <a:chOff x="1763640" y="1700280"/>
            <a:chExt cx="1295280" cy="129528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1763640" y="1700280"/>
              <a:ext cx="125496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763640" y="2688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Фин. орг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227640" y="1703520"/>
            <a:ext cx="1295280" cy="1295280"/>
            <a:chOff x="6227640" y="1703520"/>
            <a:chExt cx="1295280" cy="129528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6227640" y="1703520"/>
              <a:ext cx="125496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227640" y="26917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У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4.12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349360" y="3789360"/>
            <a:ext cx="640080" cy="1871640"/>
          </a:xfrm>
          <a:prstGeom prst="downArrow">
            <a:avLst>
              <a:gd name="adj1" fmla="val 50000"/>
              <a:gd name="adj2" fmla="val 73102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403280" y="3096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Использование целевых межбюджетных трансф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257480"/>
            <a:ext cx="7991280" cy="44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Распоряжение Правительства РФ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от 21.12.2013 № 2459-р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(поощрение достижений наилучших значений показателей деятельности органов власти субъектов РФ,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ЦСР 520 30 00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7"/>
          <p:cNvSpPr/>
          <p:nvPr/>
        </p:nvSpPr>
        <p:spPr>
          <a:xfrm>
            <a:off x="2195640" y="4221000"/>
            <a:ext cx="936360" cy="824040"/>
          </a:xfrm>
          <a:custGeom>
            <a:avLst/>
            <a:gdLst>
              <a:gd name="textAreaLeft" fmla="*/ 137160 w 936360"/>
              <a:gd name="textAreaRight" fmla="*/ 799200 w 936360"/>
              <a:gd name="textAreaTop" fmla="*/ 120600 h 824040"/>
              <a:gd name="textAreaBottom" fmla="*/ 703440 h 824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60720" y="5867280"/>
            <a:ext cx="2769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чет ф. 05033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89720" y="3789360"/>
            <a:ext cx="639720" cy="1871640"/>
          </a:xfrm>
          <a:prstGeom prst="downArrow">
            <a:avLst>
              <a:gd name="adj1" fmla="val 50000"/>
              <a:gd name="adj2" fmla="val 73143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7"/>
          <p:cNvSpPr/>
          <p:nvPr/>
        </p:nvSpPr>
        <p:spPr>
          <a:xfrm>
            <a:off x="6335640" y="4221000"/>
            <a:ext cx="936720" cy="824040"/>
          </a:xfrm>
          <a:custGeom>
            <a:avLst/>
            <a:gdLst>
              <a:gd name="textAreaLeft" fmla="*/ 137160 w 936720"/>
              <a:gd name="textAreaRight" fmla="*/ 799560 w 936720"/>
              <a:gd name="textAreaTop" fmla="*/ 120600 h 824040"/>
              <a:gd name="textAreaBottom" fmla="*/ 703440 h 824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00720" y="5867280"/>
            <a:ext cx="2769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чет ф. 05318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403280" y="13500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Федерального казначейства от 09.01.201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42-7.4-05/2.2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2498760"/>
            <a:ext cx="1294920" cy="1508400"/>
            <a:chOff x="0" y="2498760"/>
            <a:chExt cx="1294920" cy="150840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0" y="2498760"/>
              <a:ext cx="125460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3486960"/>
              <a:ext cx="1294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убъект РФ и М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920" y="5013360"/>
            <a:ext cx="1294920" cy="1295280"/>
            <a:chOff x="34920" y="5013360"/>
            <a:chExt cx="1294920" cy="1295280"/>
          </a:xfrm>
        </p:grpSpPr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34920" y="5013360"/>
              <a:ext cx="125460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4920" y="6001560"/>
              <a:ext cx="129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5"/>
          <p:cNvSpPr/>
          <p:nvPr/>
        </p:nvSpPr>
        <p:spPr>
          <a:xfrm>
            <a:off x="324000" y="112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Внесение изменений в учетные данные отчетного финансового г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4292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162864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220500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08360" y="162864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88000" y="162864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3800" y="16286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Ян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6160" y="16286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евр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38160" y="162864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М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2492280"/>
            <a:ext cx="2365200" cy="1470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Анализ показателей исполнения бюджета и подготовка документов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06800" y="4581360"/>
            <a:ext cx="2365560" cy="1686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точнение операций, переформирование и представление документов клиента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95640" y="1628640"/>
            <a:ext cx="0" cy="4824720"/>
          </a:xfrm>
          <a:prstGeom prst="line">
            <a:avLst/>
          </a:prstGeom>
          <a:ln w="1260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7"/>
          <p:cNvSpPr/>
          <p:nvPr/>
        </p:nvSpPr>
        <p:spPr>
          <a:xfrm>
            <a:off x="7164360" y="2781360"/>
            <a:ext cx="936720" cy="823680"/>
          </a:xfrm>
          <a:custGeom>
            <a:avLst/>
            <a:gdLst>
              <a:gd name="textAreaLeft" fmla="*/ 137160 w 936720"/>
              <a:gd name="textAreaRight" fmla="*/ 799560 w 936720"/>
              <a:gd name="textAreaTop" fmla="*/ 120600 h 823680"/>
              <a:gd name="textAreaBottom" fmla="*/ 703080 h 823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7"/>
          <p:cNvSpPr/>
          <p:nvPr/>
        </p:nvSpPr>
        <p:spPr>
          <a:xfrm>
            <a:off x="7164360" y="5052960"/>
            <a:ext cx="936720" cy="824040"/>
          </a:xfrm>
          <a:custGeom>
            <a:avLst/>
            <a:gdLst>
              <a:gd name="textAreaLeft" fmla="*/ 137160 w 936720"/>
              <a:gd name="textAreaRight" fmla="*/ 799560 w 936720"/>
              <a:gd name="textAreaTop" fmla="*/ 120600 h 824040"/>
              <a:gd name="textAreaBottom" fmla="*/ 703440 h 824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72360" y="1628640"/>
            <a:ext cx="0" cy="4824720"/>
          </a:xfrm>
          <a:prstGeom prst="line">
            <a:avLst/>
          </a:prstGeom>
          <a:ln w="1260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36600" y="1306440"/>
            <a:ext cx="8470800" cy="4283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022640" y="4249800"/>
            <a:ext cx="870120" cy="450720"/>
          </a:xfrm>
          <a:prstGeom prst="rightArrow">
            <a:avLst>
              <a:gd name="adj1" fmla="val 50000"/>
              <a:gd name="adj2" fmla="val 4826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92760" y="4183200"/>
            <a:ext cx="3786120" cy="534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правка ф. 0503110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22640" y="4917960"/>
            <a:ext cx="870120" cy="451080"/>
          </a:xfrm>
          <a:prstGeom prst="rightArrow">
            <a:avLst>
              <a:gd name="adj1" fmla="val 50000"/>
              <a:gd name="adj2" fmla="val 482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92760" y="4851360"/>
            <a:ext cx="3786120" cy="534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Баланс ф. 0503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6600" y="4784760"/>
            <a:ext cx="840564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4.12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9640" y="2349360"/>
            <a:ext cx="3146400" cy="2102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Баланс ф. 05033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Изменение обязательств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в части консолидированного бюджета субъекта РФ и ТФОМ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5440" y="2411280"/>
            <a:ext cx="3548160" cy="1240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чет ф. 05033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Операции с обязательствами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стр. 51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76640" y="4572000"/>
            <a:ext cx="3619800" cy="1528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Справка ф. 05031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в части операций по изменению типа ГМ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(счет 0 304 06 00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61000" y="3571920"/>
            <a:ext cx="57312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55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22720" y="2620800"/>
            <a:ext cx="57312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55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39680" y="1386000"/>
            <a:ext cx="4832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перации с обязательствам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4.12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88960" y="2378160"/>
            <a:ext cx="3090960" cy="1528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Баланс ф. 05033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Изменение обязательств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в части бюджета субъекта РФ и М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05440" y="2411280"/>
            <a:ext cx="3548160" cy="1240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Отчет ф. 05033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Операции с обязательствами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стр. 51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3640" y="4599000"/>
            <a:ext cx="3564000" cy="953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0000"/>
                </a:solidFill>
                <a:latin typeface="Arial"/>
              </a:rPr>
              <a:t>Операции по изменению типа ГМУ в течение финансового го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61000" y="3571920"/>
            <a:ext cx="57312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55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22720" y="2620800"/>
            <a:ext cx="57312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55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39680" y="1386000"/>
            <a:ext cx="4832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перации с обязательствам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4.12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532720" cy="4535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24000" y="5950080"/>
            <a:ext cx="8523000" cy="424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 Раздел Справки ф. 0503368 в МОУ ФК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не представляетс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4.12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27920" y="1268280"/>
            <a:ext cx="5935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правка ф. 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050336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правка ф. 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050337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Справка ф. 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05033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07480" y="5585760"/>
            <a:ext cx="57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коды счетов бюджетного уч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11640" y="3933720"/>
            <a:ext cx="639720" cy="1079640"/>
          </a:xfrm>
          <a:prstGeom prst="downArrow">
            <a:avLst>
              <a:gd name="adj1" fmla="val 50000"/>
              <a:gd name="adj2" fmla="val 42192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87280" y="1065240"/>
            <a:ext cx="6985080" cy="538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05080" y="2565360"/>
            <a:ext cx="4535640" cy="792360"/>
          </a:xfrm>
          <a:prstGeom prst="leftArrow">
            <a:avLst>
              <a:gd name="adj1" fmla="val 50000"/>
              <a:gd name="adj2" fmla="val 14310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Показатели стр. 010 ф. 050311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05080" y="3500280"/>
            <a:ext cx="4535640" cy="792360"/>
          </a:xfrm>
          <a:prstGeom prst="leftArrow">
            <a:avLst>
              <a:gd name="adj1" fmla="val 50000"/>
              <a:gd name="adj2" fmla="val 14310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Показатели стр. 200 ф. 050311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05080" y="5157720"/>
            <a:ext cx="4535640" cy="792360"/>
          </a:xfrm>
          <a:prstGeom prst="leftArrow">
            <a:avLst>
              <a:gd name="adj1" fmla="val 50000"/>
              <a:gd name="adj2" fmla="val 14310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Показатели стр. 500 ф. 050311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8120" y="111744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абзац 12 п. 163 Инструкции № 191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985080" cy="53877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211640" y="2924280"/>
            <a:ext cx="3673440" cy="792000"/>
          </a:xfrm>
          <a:prstGeom prst="leftArrow">
            <a:avLst>
              <a:gd name="adj1" fmla="val 50000"/>
              <a:gd name="adj2" fmla="val 1159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Доходы - прогноз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1640" y="3932280"/>
            <a:ext cx="3673440" cy="792000"/>
          </a:xfrm>
          <a:prstGeom prst="leftArrow">
            <a:avLst>
              <a:gd name="adj1" fmla="val 50000"/>
              <a:gd name="adj2" fmla="val 1159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Расходы – роспис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11640" y="5732640"/>
            <a:ext cx="3673440" cy="792000"/>
          </a:xfrm>
          <a:prstGeom prst="leftArrow">
            <a:avLst>
              <a:gd name="adj1" fmla="val 50000"/>
              <a:gd name="adj2" fmla="val 1159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ИФД – прогноз/роспис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12640" y="1943280"/>
            <a:ext cx="579816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етодологическ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бования к результ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рганизаци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регламент процед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Технолог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требования к процедур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24000" y="112536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группы вопросов при подготовк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7320" y="1386000"/>
            <a:ext cx="8047080" cy="12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Акт сверки расчетов по долговым обязательства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субъекта Российской Федерации перед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Российской Федерацией (ф. 0521445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8000" y="3213000"/>
            <a:ext cx="885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ляется и представляется в Минфин России на бумажном носите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ление указанного Акт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электронном ви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в МОУ ФК  не требу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101080" y="5418000"/>
            <a:ext cx="1042920" cy="1016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72880" y="2205000"/>
            <a:ext cx="86616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заимосвязь показателей отчетности об исполнении бюджета и показателей бухгалтерской отчетности бюджетных и автономных учре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4.12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619280" y="1068480"/>
            <a:ext cx="66088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Таблица взаимосвязанных показател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12640" y="1697040"/>
          <a:ext cx="8229600" cy="4540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2372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но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56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аток по счет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1 204 33 0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Участие в государственных (муниципальных) учреждениях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Отчет ф. 05031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аток по счет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0 210 06 0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Расчеты с учредителем»</a:t>
                      </a:r>
                      <a:r>
                        <a:rPr b="0" i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со знаком «минус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Отчета ф.05037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44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численная субсидия на государственное задание (КВР 611, 6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ченная субсидия на государственное задание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гр. 10, стр.101 Отчета ф.05037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60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численная субсидия на иные цели (КВР 612, 6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ченная субсидия на иные цели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гр. 10, стр.102 Отчета ф.05037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4.12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3280" y="1143000"/>
            <a:ext cx="66088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Таблица взаимосвязанных показател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12640" y="1722600"/>
          <a:ext cx="8229600" cy="4545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2372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но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80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юджетные инвестиции (КВР 613, 6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ченные бюджетные инвестиции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гр. 10, стр.103 Отчета ф.05037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084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 остатков целевых субсидий подведомственными бюджетными и автономными учреждения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Отчет ф. 0503127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КБК ххх 218 …. 180 в части доходов от возврат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 остатков целевых субсидий подведомственными бюджетными и автономными учреждения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Отчет ф. 0503737, гр. 5, 6 стр. 104, в  части возврат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4.12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512640" y="1135080"/>
          <a:ext cx="8229600" cy="5246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2372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но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632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атки по счет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1 206 41 00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счеты по …… перечислениям гос.  …. организация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атки по счет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0 205 81 00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счеты с плательщиками прочих доходов» в части расчетов по целевым субсид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28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роты по счет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1 304 06 0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Расчеты с прочими кредиторами», в части изменения типа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Справка ф. 05031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роты по счет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0 304 06 0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Расчеты с прочими кредиторами», в части изменения ти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Справка ф. 05037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768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ение валюты баланса в части изменения типа Г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Справка ф. 050317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ение валюты баланса в части изменения типа Г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Справка ф. 050377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4.12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16000" y="2084400"/>
            <a:ext cx="2599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. – 2013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403280" y="2952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ереход с ОКАТО на ОКТМ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36000" y="2084400"/>
            <a:ext cx="25149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2014 год - …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27640" y="177156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299556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4880" y="4116240"/>
            <a:ext cx="22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КАТ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75600" y="4116240"/>
            <a:ext cx="236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КТМ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01200" y="1125360"/>
            <a:ext cx="22086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Отчет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5"/>
          <p:cNvSpPr/>
          <p:nvPr/>
        </p:nvSpPr>
        <p:spPr>
          <a:xfrm>
            <a:off x="1403280" y="2952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Соотношение требований к учету и 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Oval 20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11280" y="1628640"/>
            <a:ext cx="4900680" cy="4535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373040" y="2313000"/>
            <a:ext cx="3383280" cy="31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Oval 19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782880" y="1628640"/>
            <a:ext cx="4907160" cy="4535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548240" y="2313000"/>
            <a:ext cx="3382920" cy="31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33960" y="3284640"/>
            <a:ext cx="21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ГРБ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ФЕДЕР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33600" y="3211560"/>
            <a:ext cx="210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ГРБС бюдже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местн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58720" y="1482840"/>
            <a:ext cx="7454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трольные соотношения для показателей фор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солидированной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бюджетной отчет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едставляем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нансовыми органами субъектов Российской Федер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Федеральное казначей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трольные соотношения к показателям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бухгалтер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отчетности государственных (муниципальных) бюджетны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автономных учрежд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редставляемой в Федераль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значей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403280" y="18900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Контрольные соотнош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11640" y="4365720"/>
            <a:ext cx="639720" cy="1079280"/>
          </a:xfrm>
          <a:prstGeom prst="downArrow">
            <a:avLst>
              <a:gd name="adj1" fmla="val 50000"/>
              <a:gd name="adj2" fmla="val 42178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6240" y="5734080"/>
            <a:ext cx="78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7bbfd"/>
                </a:solidFill>
                <a:uFillTx/>
                <a:latin typeface="Arial"/>
                <a:hlinkClick r:id="rId1"/>
              </a:rPr>
              <a:t>www.roskazna.ru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-&gt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тодический кабинет 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Учет и 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контрольные соотношения + режим прав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11640" y="4365720"/>
            <a:ext cx="639720" cy="1079280"/>
          </a:xfrm>
          <a:prstGeom prst="downArrow">
            <a:avLst>
              <a:gd name="adj1" fmla="val 50000"/>
              <a:gd name="adj2" fmla="val 42178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30360" y="1268280"/>
            <a:ext cx="797400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Контрольные соотношения –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устанавливают требования к соотношению между отраженными показателями отчетности при условии соблюдения требований нормативных документов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без учета объективных и субъективных обстоятельст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Контрольные соотношения </a:t>
            </a: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определяются требованиями нормативных правовых документов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Инструкции №№ 162н, 174н, 183н, 191н, 33н, Указания № 171н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Федеральным казначейством проводится регулярная работа по </a:t>
            </a:r>
            <a:r>
              <a:rPr b="1" lang="en-US" sz="2300" spc="-1" strike="noStrike">
                <a:solidFill>
                  <a:srgbClr val="000066"/>
                </a:solidFill>
                <a:latin typeface="Arial"/>
              </a:rPr>
              <a:t>«формализации»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контрольных соотношени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403280" y="18900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Контрольные соотнош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5"/>
          <p:cNvSpPr/>
          <p:nvPr/>
        </p:nvSpPr>
        <p:spPr>
          <a:xfrm>
            <a:off x="1403280" y="189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роцедуры контроля 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11280" y="1392120"/>
            <a:ext cx="936000" cy="1290240"/>
            <a:chOff x="611280" y="1392120"/>
            <a:chExt cx="936000" cy="129024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611280" y="1392120"/>
              <a:ext cx="907200" cy="7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11280" y="2162160"/>
              <a:ext cx="93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Фин. орг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883640" y="4344840"/>
            <a:ext cx="718920" cy="7192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348000" y="1463760"/>
            <a:ext cx="649440" cy="647640"/>
          </a:xfrm>
          <a:prstGeom prst="noSmoking">
            <a:avLst>
              <a:gd name="adj" fmla="val 125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96" descr="j0433892[1]"/>
          <p:cNvPicPr/>
          <p:nvPr/>
        </p:nvPicPr>
        <p:blipFill>
          <a:blip r:embed="rId3"/>
          <a:stretch/>
        </p:blipFill>
        <p:spPr>
          <a:xfrm>
            <a:off x="3203640" y="30481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249" name="TextBox 63"/>
          <p:cNvSpPr/>
          <p:nvPr/>
        </p:nvSpPr>
        <p:spPr>
          <a:xfrm>
            <a:off x="3277800" y="4343400"/>
            <a:ext cx="144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уровне 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"/>
          <p:cNvCxnSpPr>
            <a:stCxn id="245" idx="2"/>
            <a:endCxn id="251" idx="0"/>
          </p:cNvCxnSpPr>
          <p:nvPr/>
        </p:nvCxnSpPr>
        <p:spPr>
          <a:xfrm flipH="1" rot="16200000">
            <a:off x="481680" y="3277080"/>
            <a:ext cx="1880280" cy="6847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2" name=""/>
          <p:cNvGrpSpPr/>
          <p:nvPr/>
        </p:nvGrpSpPr>
        <p:grpSpPr>
          <a:xfrm>
            <a:off x="1332000" y="4559400"/>
            <a:ext cx="1270800" cy="1100880"/>
            <a:chOff x="1332000" y="4559400"/>
            <a:chExt cx="1270800" cy="1100880"/>
          </a:xfrm>
        </p:grpSpPr>
        <p:pic>
          <p:nvPicPr>
            <p:cNvPr id="253" name="" descr=""/>
            <p:cNvPicPr/>
            <p:nvPr/>
          </p:nvPicPr>
          <p:blipFill>
            <a:blip r:embed="rId4"/>
            <a:stretch/>
          </p:blipFill>
          <p:spPr>
            <a:xfrm>
              <a:off x="1332000" y="4559400"/>
              <a:ext cx="8632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337040" y="532296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тчет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5" name=""/>
          <p:cNvCxnSpPr>
            <a:stCxn id="253" idx="3"/>
            <a:endCxn id="248" idx="1"/>
          </p:cNvCxnSpPr>
          <p:nvPr/>
        </p:nvCxnSpPr>
        <p:spPr>
          <a:xfrm flipV="1">
            <a:off x="2195640" y="3695400"/>
            <a:ext cx="1008720" cy="1296000"/>
          </a:xfrm>
          <a:prstGeom prst="bentConnector3">
            <a:avLst>
              <a:gd name="adj1" fmla="val 4991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2"/>
            <a:endCxn id="257" idx="8"/>
          </p:cNvCxnSpPr>
          <p:nvPr/>
        </p:nvCxnSpPr>
        <p:spPr>
          <a:xfrm rot="5400000">
            <a:off x="3628440" y="5194080"/>
            <a:ext cx="643320" cy="104040"/>
          </a:xfrm>
          <a:prstGeom prst="bentConnector3">
            <a:avLst>
              <a:gd name="adj1" fmla="val 498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8" name=""/>
          <p:cNvGrpSpPr/>
          <p:nvPr/>
        </p:nvGrpSpPr>
        <p:grpSpPr>
          <a:xfrm>
            <a:off x="3348000" y="5567400"/>
            <a:ext cx="1153440" cy="957960"/>
            <a:chOff x="3348000" y="5567400"/>
            <a:chExt cx="1153440" cy="957960"/>
          </a:xfrm>
        </p:grpSpPr>
        <p:sp>
          <p:nvSpPr>
            <p:cNvPr id="257" name="Letter"/>
            <p:cNvSpPr/>
            <p:nvPr/>
          </p:nvSpPr>
          <p:spPr>
            <a:xfrm>
              <a:off x="3348000" y="5567400"/>
              <a:ext cx="1100160" cy="5191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23240" y="6188040"/>
              <a:ext cx="107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токо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291280" y="4200480"/>
            <a:ext cx="1655640" cy="863640"/>
          </a:xfrm>
          <a:prstGeom prst="flowChartDecis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шиб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"/>
          <p:cNvCxnSpPr>
            <a:endCxn id="260" idx="2"/>
          </p:cNvCxnSpPr>
          <p:nvPr/>
        </p:nvCxnSpPr>
        <p:spPr>
          <a:xfrm flipV="1">
            <a:off x="4427640" y="5073120"/>
            <a:ext cx="1692720" cy="766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endCxn id="263" idx="2"/>
          </p:cNvCxnSpPr>
          <p:nvPr/>
        </p:nvCxnSpPr>
        <p:spPr>
          <a:xfrm flipH="1" flipV="1" rot="5400000">
            <a:off x="5870880" y="3557880"/>
            <a:ext cx="859680" cy="432720"/>
          </a:xfrm>
          <a:prstGeom prst="bentConnector3">
            <a:avLst>
              <a:gd name="adj1" fmla="val 5043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60" idx="3"/>
            <a:endCxn id="246" idx="1"/>
          </p:cNvCxnSpPr>
          <p:nvPr/>
        </p:nvCxnSpPr>
        <p:spPr>
          <a:xfrm>
            <a:off x="6956280" y="4632480"/>
            <a:ext cx="928080" cy="73440"/>
          </a:xfrm>
          <a:prstGeom prst="bentConnector3">
            <a:avLst>
              <a:gd name="adj1" fmla="val 4928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094880" y="429264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57800" y="378936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08720" y="2255760"/>
            <a:ext cx="2014560" cy="1079640"/>
          </a:xfrm>
          <a:prstGeom prst="flowChartDecis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Допустим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3" idx="3"/>
            <a:endCxn id="246" idx="0"/>
          </p:cNvCxnSpPr>
          <p:nvPr/>
        </p:nvCxnSpPr>
        <p:spPr>
          <a:xfrm>
            <a:off x="7532640" y="2795400"/>
            <a:ext cx="712080" cy="1549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7597800" y="242100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3" idx="1"/>
          </p:cNvCxnSpPr>
          <p:nvPr/>
        </p:nvCxnSpPr>
        <p:spPr>
          <a:xfrm rot="10800000">
            <a:off x="3994920" y="1772640"/>
            <a:ext cx="1504080" cy="1023120"/>
          </a:xfrm>
          <a:prstGeom prst="bentConnector3">
            <a:avLst>
              <a:gd name="adj1" fmla="val 4962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4934160" y="242100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324000" y="1052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Годовая отчетность за 201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195640" y="1770120"/>
            <a:ext cx="1895400" cy="1009440"/>
            <a:chOff x="2195640" y="1770120"/>
            <a:chExt cx="1895400" cy="1009440"/>
          </a:xfrm>
        </p:grpSpPr>
        <p:pic>
          <p:nvPicPr>
            <p:cNvPr id="52" name="Picture 8" descr="i?id=106927965-45-72&amp;n=16"/>
            <p:cNvPicPr/>
            <p:nvPr/>
          </p:nvPicPr>
          <p:blipFill>
            <a:blip r:embed="rId1"/>
            <a:stretch/>
          </p:blipFill>
          <p:spPr>
            <a:xfrm>
              <a:off x="2867040" y="1770120"/>
              <a:ext cx="50004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195640" y="2411280"/>
              <a:ext cx="189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нфин Росс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24000" y="4148280"/>
            <a:ext cx="2788920" cy="23050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Инструкц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№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191н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Инструкц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№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33н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- Особенности представления в ФК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287240" y="1627200"/>
            <a:ext cx="3117600" cy="1153800"/>
            <a:chOff x="4287240" y="1627200"/>
            <a:chExt cx="3117600" cy="1153800"/>
          </a:xfrm>
        </p:grpSpPr>
        <p:sp>
          <p:nvSpPr>
            <p:cNvPr id="56" name=""/>
            <p:cNvSpPr/>
            <p:nvPr/>
          </p:nvSpPr>
          <p:spPr>
            <a:xfrm>
              <a:off x="4287240" y="2412720"/>
              <a:ext cx="311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едеральное казначей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5508720" y="1627200"/>
              <a:ext cx="647640" cy="64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555920"/>
            <a:ext cx="5688000" cy="12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4" idx="0"/>
          </p:cNvCxnSpPr>
          <p:nvPr/>
        </p:nvCxnSpPr>
        <p:spPr>
          <a:xfrm flipV="1" rot="10800000">
            <a:off x="1718640" y="3879360"/>
            <a:ext cx="1080" cy="269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324000" y="3213000"/>
            <a:ext cx="2788920" cy="66672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Методолог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9800" y="3213000"/>
            <a:ext cx="2708280" cy="64764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Организационные процеду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00720" y="3213000"/>
            <a:ext cx="2720880" cy="64764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Технологическое обеспече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4148280"/>
            <a:ext cx="2718000" cy="23050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Приказ ФК о сроках представления годовой отчетности за 2013 го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00720" y="4148280"/>
            <a:ext cx="2718000" cy="23050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Порядок представления отчетности в электронном вид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Требования к форматам файл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2" idx="2"/>
            <a:endCxn id="64" idx="0"/>
          </p:cNvCxnSpPr>
          <p:nvPr/>
        </p:nvCxnSpPr>
        <p:spPr>
          <a:xfrm flipH="1" rot="16200000">
            <a:off x="4560480" y="4002480"/>
            <a:ext cx="288360" cy="3960"/>
          </a:xfrm>
          <a:prstGeom prst="bentConnector3">
            <a:avLst>
              <a:gd name="adj1" fmla="val 496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3" idx="2"/>
            <a:endCxn id="65" idx="0"/>
          </p:cNvCxnSpPr>
          <p:nvPr/>
        </p:nvCxnSpPr>
        <p:spPr>
          <a:xfrm rot="5400000">
            <a:off x="7516080" y="4003560"/>
            <a:ext cx="288360" cy="2160"/>
          </a:xfrm>
          <a:prstGeom prst="bentConnector3">
            <a:avLst>
              <a:gd name="adj1" fmla="val 496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9" idx="2"/>
            <a:endCxn id="62" idx="0"/>
          </p:cNvCxnSpPr>
          <p:nvPr/>
        </p:nvCxnSpPr>
        <p:spPr>
          <a:xfrm flipH="1" rot="16200000">
            <a:off x="4475160" y="2984040"/>
            <a:ext cx="434160" cy="24480"/>
          </a:xfrm>
          <a:prstGeom prst="bentConnector3">
            <a:avLst>
              <a:gd name="adj1" fmla="val 4979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9" idx="2"/>
            <a:endCxn id="61" idx="0"/>
          </p:cNvCxnSpPr>
          <p:nvPr/>
        </p:nvCxnSpPr>
        <p:spPr>
          <a:xfrm rot="5400000">
            <a:off x="2982240" y="1515960"/>
            <a:ext cx="434160" cy="2961360"/>
          </a:xfrm>
          <a:prstGeom prst="bentConnector3">
            <a:avLst>
              <a:gd name="adj1" fmla="val 4979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9" idx="2"/>
            <a:endCxn id="63" idx="0"/>
          </p:cNvCxnSpPr>
          <p:nvPr/>
        </p:nvCxnSpPr>
        <p:spPr>
          <a:xfrm flipH="1" rot="16200000">
            <a:off x="5952960" y="1505520"/>
            <a:ext cx="434160" cy="2981880"/>
          </a:xfrm>
          <a:prstGeom prst="bentConnector3">
            <a:avLst>
              <a:gd name="adj1" fmla="val 4979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77"/>
          <p:cNvSpPr/>
          <p:nvPr/>
        </p:nvSpPr>
        <p:spPr>
          <a:xfrm>
            <a:off x="2987640" y="2852640"/>
            <a:ext cx="1332000" cy="1112760"/>
          </a:xfrm>
          <a:custGeom>
            <a:avLst/>
            <a:gdLst>
              <a:gd name="textAreaLeft" fmla="*/ 194760 w 1332000"/>
              <a:gd name="textAreaRight" fmla="*/ 1137240 w 1332000"/>
              <a:gd name="textAreaTop" fmla="*/ 162720 h 1112760"/>
              <a:gd name="textAreaBottom" fmla="*/ 950040 h 1112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- 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9800" y="1341360"/>
            <a:ext cx="8494920" cy="42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 u="sng">
                <a:solidFill>
                  <a:srgbClr val="000066"/>
                </a:solidFill>
                <a:uFillTx/>
                <a:latin typeface="Arial"/>
              </a:rPr>
              <a:t>Годовая отчетность за 2013 год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 u="sng">
                <a:solidFill>
                  <a:srgbClr val="000066"/>
                </a:solidFill>
                <a:uFillTx/>
                <a:latin typeface="Arial"/>
              </a:rPr>
              <a:t>отчетность в 2014 год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ПО СЭД - </a:t>
            </a:r>
            <a:r>
              <a:rPr b="1" lang="en-US" sz="3400" spc="-1" strike="noStrike">
                <a:solidFill>
                  <a:srgbClr val="000066"/>
                </a:solidFill>
                <a:latin typeface="Arial"/>
              </a:rPr>
              <a:t>ППО СУФ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"/>
              </a:rPr>
              <a:t>Письмо Федерального казначейст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"/>
              </a:rPr>
              <a:t>от 17.06.2013 № 42-7.4-05/10.6-364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33080" y="1305000"/>
            <a:ext cx="849492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"/>
              </a:rPr>
              <a:t>ППО СУФ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"/>
              </a:rPr>
              <a:t>Письмо Федерального казначейст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"/>
              </a:rPr>
              <a:t>от 18.12.2013 № 42-7.4-05/2.1-82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- 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11640" y="3645000"/>
            <a:ext cx="639720" cy="1079280"/>
          </a:xfrm>
          <a:prstGeom prst="downArrow">
            <a:avLst>
              <a:gd name="adj1" fmla="val 50000"/>
              <a:gd name="adj2" fmla="val 42178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84440" y="5116680"/>
            <a:ext cx="5920920" cy="12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"/>
              </a:rPr>
              <a:t>Договор об обмене Э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400" spc="-1" strike="noStrike">
                <a:solidFill>
                  <a:srgbClr val="000066"/>
                </a:solidFill>
                <a:latin typeface="Arial"/>
              </a:rPr>
              <a:t>с финансовыми органам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4360" y="1773360"/>
            <a:ext cx="797544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Требования к форматам и способам передач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Arial"/>
              </a:rPr>
              <a:t>отчетности в электронном виде (Требования)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– документ регламентирующий </a:t>
            </a:r>
            <a:r>
              <a:rPr b="1" lang="en-US" sz="2100" spc="-1" strike="noStrike" u="sng">
                <a:solidFill>
                  <a:srgbClr val="000066"/>
                </a:solidFill>
                <a:uFillTx/>
                <a:latin typeface="Arial"/>
              </a:rPr>
              <a:t>порядок представления данных отчетности в электронном, структурированном виде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для возможности осуществления их передачи в автоматизированные системы Федерального казначейст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100" spc="-1" strike="noStrike" u="sng">
                <a:solidFill>
                  <a:srgbClr val="000066"/>
                </a:solidFill>
                <a:uFillTx/>
                <a:latin typeface="Arial"/>
              </a:rPr>
              <a:t>Требования не определяют методологию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отражения показателей в формах бюджетной отчетности,  а отражают лишь «правила» их трансформации в структурированное представл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- 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324000" y="112536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Требования к форматам информационного обмен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000" y="6086520"/>
            <a:ext cx="90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7bbfd"/>
                </a:solidFill>
                <a:uFillTx/>
                <a:latin typeface="Arial"/>
                <a:hlinkClick r:id="rId1"/>
              </a:rPr>
              <a:t>www.roskazna.ru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-&gt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тодический кабинет 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Информационны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5"/>
          <p:cNvSpPr/>
          <p:nvPr/>
        </p:nvSpPr>
        <p:spPr>
          <a:xfrm>
            <a:off x="324000" y="1052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Годовая отчетность за 201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4148280"/>
            <a:ext cx="2788920" cy="23050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Инструкц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№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191н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- Особенности формирования и представления бюджетной отчетности ТОФ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107520" y="1628640"/>
            <a:ext cx="3117600" cy="1154160"/>
            <a:chOff x="3107520" y="1628640"/>
            <a:chExt cx="3117600" cy="1154160"/>
          </a:xfrm>
        </p:grpSpPr>
        <p:sp>
          <p:nvSpPr>
            <p:cNvPr id="285" name=""/>
            <p:cNvSpPr/>
            <p:nvPr/>
          </p:nvSpPr>
          <p:spPr>
            <a:xfrm>
              <a:off x="3107520" y="2414520"/>
              <a:ext cx="311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едеральное казначей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4329000" y="1628640"/>
              <a:ext cx="647640" cy="6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– отчетность ТОФ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87640" y="1557360"/>
            <a:ext cx="3384720" cy="122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"/>
          <p:cNvCxnSpPr>
            <a:stCxn id="290" idx="2"/>
            <a:endCxn id="283" idx="0"/>
          </p:cNvCxnSpPr>
          <p:nvPr/>
        </p:nvCxnSpPr>
        <p:spPr>
          <a:xfrm flipV="1" rot="10800000">
            <a:off x="1718640" y="3879360"/>
            <a:ext cx="1080" cy="269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324000" y="3213000"/>
            <a:ext cx="2788920" cy="66672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Методолог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49800" y="3213000"/>
            <a:ext cx="2708280" cy="64764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Организационные процеду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300720" y="3213000"/>
            <a:ext cx="2720880" cy="64764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Технологическое обеспече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48000" y="4148280"/>
            <a:ext cx="2718000" cy="23050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Приказ ФК о сроках представления годовой отчетности за 2013 го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00720" y="4148280"/>
            <a:ext cx="2718000" cy="23050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Доработки ППО АСФ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1" idx="2"/>
            <a:endCxn id="293" idx="0"/>
          </p:cNvCxnSpPr>
          <p:nvPr/>
        </p:nvCxnSpPr>
        <p:spPr>
          <a:xfrm flipH="1" rot="16200000">
            <a:off x="4560480" y="4002480"/>
            <a:ext cx="288360" cy="3960"/>
          </a:xfrm>
          <a:prstGeom prst="bentConnector3">
            <a:avLst>
              <a:gd name="adj1" fmla="val 496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92" idx="2"/>
            <a:endCxn id="294" idx="0"/>
          </p:cNvCxnSpPr>
          <p:nvPr/>
        </p:nvCxnSpPr>
        <p:spPr>
          <a:xfrm rot="5400000">
            <a:off x="7516080" y="4003560"/>
            <a:ext cx="288360" cy="2160"/>
          </a:xfrm>
          <a:prstGeom prst="bentConnector3">
            <a:avLst>
              <a:gd name="adj1" fmla="val 496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88" idx="2"/>
            <a:endCxn id="291" idx="0"/>
          </p:cNvCxnSpPr>
          <p:nvPr/>
        </p:nvCxnSpPr>
        <p:spPr>
          <a:xfrm flipH="1" rot="16200000">
            <a:off x="4475880" y="2984760"/>
            <a:ext cx="432360" cy="24480"/>
          </a:xfrm>
          <a:prstGeom prst="bentConnector3">
            <a:avLst>
              <a:gd name="adj1" fmla="val 4958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88" idx="2"/>
            <a:endCxn id="290" idx="0"/>
          </p:cNvCxnSpPr>
          <p:nvPr/>
        </p:nvCxnSpPr>
        <p:spPr>
          <a:xfrm rot="5400000">
            <a:off x="2983320" y="1516680"/>
            <a:ext cx="432360" cy="2961360"/>
          </a:xfrm>
          <a:prstGeom prst="bentConnector3">
            <a:avLst>
              <a:gd name="adj1" fmla="val 4958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88" idx="2"/>
            <a:endCxn id="292" idx="0"/>
          </p:cNvCxnSpPr>
          <p:nvPr/>
        </p:nvCxnSpPr>
        <p:spPr>
          <a:xfrm flipH="1" rot="16200000">
            <a:off x="5953680" y="1506240"/>
            <a:ext cx="432360" cy="2981880"/>
          </a:xfrm>
          <a:prstGeom prst="bentConnector3">
            <a:avLst>
              <a:gd name="adj1" fmla="val 4958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омер слайда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8D7A-FA77-484D-901E-74B1F7EA0403}" type="slidenum">
              <a:rPr b="0" lang="en-US" sz="1200" spc="-1" strike="noStrike">
                <a:solidFill>
                  <a:srgbClr val="87878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8694720" y="6230880"/>
            <a:ext cx="314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D8E8-4820-4E10-BF50-5A74FF7788F7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3"/>
          <p:cNvSpPr/>
          <p:nvPr/>
        </p:nvSpPr>
        <p:spPr>
          <a:xfrm>
            <a:off x="324000" y="363600"/>
            <a:ext cx="85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4"/>
          <p:cNvSpPr/>
          <p:nvPr/>
        </p:nvSpPr>
        <p:spPr>
          <a:xfrm>
            <a:off x="2556000" y="1628640"/>
            <a:ext cx="49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5" descr="circle_422_239"/>
          <p:cNvPicPr/>
          <p:nvPr/>
        </p:nvPicPr>
        <p:blipFill>
          <a:blip r:embed="rId2"/>
          <a:stretch/>
        </p:blipFill>
        <p:spPr>
          <a:xfrm>
            <a:off x="3203640" y="2781360"/>
            <a:ext cx="3089160" cy="193176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26"/>
          <p:cNvSpPr/>
          <p:nvPr/>
        </p:nvSpPr>
        <p:spPr>
          <a:xfrm>
            <a:off x="4695840" y="5013360"/>
            <a:ext cx="18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324000" y="112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Процедуры рассмотрения и утверждения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23480" y="2327400"/>
            <a:ext cx="129276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48200" y="2327400"/>
            <a:ext cx="206388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убл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84560" y="3767040"/>
            <a:ext cx="211572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Обс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4920" y="5261040"/>
            <a:ext cx="1915920" cy="91476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Внес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изме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93280" y="5638680"/>
            <a:ext cx="223128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Утвер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4076640" y="1547280"/>
            <a:ext cx="485640" cy="2232000"/>
          </a:xfrm>
          <a:prstGeom prst="downArrow">
            <a:avLst>
              <a:gd name="adj1" fmla="val 50000"/>
              <a:gd name="adj2" fmla="val 11490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2393400">
            <a:off x="5292360" y="299736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191800">
            <a:off x="2484000" y="443700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4076640" y="4662000"/>
            <a:ext cx="485640" cy="2232000"/>
          </a:xfrm>
          <a:prstGeom prst="downArrow">
            <a:avLst>
              <a:gd name="adj1" fmla="val 50000"/>
              <a:gd name="adj2" fmla="val 11490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48360" y="3716280"/>
            <a:ext cx="792000" cy="8650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!!!!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- метод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1403280" y="26028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организацио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1052640"/>
            <a:ext cx="907272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"/>
              </a:rPr>
              <a:t>Приказ Федерального казначейств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500" spc="-1" strike="noStrike">
                <a:solidFill>
                  <a:srgbClr val="000066"/>
                </a:solidFill>
                <a:latin typeface="Arial"/>
              </a:rPr>
              <a:t>от 20 сентября 2013 г. № 21н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«О сроках представления годовой отчетности об исполнении бюджетов государственных внебюджетных фондов Российской Федерации, годовой отчетности об исполнении консолидированных бюджетов субъектов Российской Федерации и бюджетов территориальных государственных внебюджетных фондов, сводной бухгалтерской отчетности бюджетных и автономных учреждений, в отношении которых функции и полномочия учредителя осуществляются органами исполнительной власти субъектов Российской Федерации, органами местного самоуправления, за 2013 год, месячной и квартальной отчетности в 2014 году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C:\Documents and Settings\09IM38p\Local Settings\Temporary Internet Files\Content.IE5\4PNRP4H4\MCj04315860000[1].png"/>
          <p:cNvPicPr/>
          <p:nvPr/>
        </p:nvPicPr>
        <p:blipFill>
          <a:blip r:embed="rId1"/>
          <a:stretch/>
        </p:blipFill>
        <p:spPr>
          <a:xfrm>
            <a:off x="8388360" y="5805360"/>
            <a:ext cx="73188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1403280" y="26028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организацио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1552680"/>
            <a:ext cx="869796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25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300" spc="-1" strike="noStrike" u="sng">
                <a:solidFill>
                  <a:srgbClr val="000066"/>
                </a:solidFill>
                <a:uFillTx/>
                <a:latin typeface="Arial"/>
              </a:rPr>
              <a:t>Годовая отчетность за 2013 год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Сверка взаимосвязанны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расчетов на 01.01.2013 к </a:t>
            </a:r>
            <a:r>
              <a:rPr b="0" lang="en-US" sz="3700" spc="-1" strike="noStrike" u="sng">
                <a:solidFill>
                  <a:srgbClr val="000000"/>
                </a:solidFill>
                <a:uFillTx/>
                <a:latin typeface="Arial"/>
              </a:rPr>
              <a:t>21.02.201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Arial"/>
              </a:rPr>
              <a:t>Письмо Федерального казначейств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Arial"/>
              </a:rPr>
              <a:t>от 08.11.2013 № 42-7.4-05/2.1- 686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C:\Documents and Settings\09IM38p\Local Settings\Temporary Internet Files\Content.IE5\4PNRP4H4\MCj04315860000[1].png"/>
          <p:cNvPicPr/>
          <p:nvPr/>
        </p:nvPicPr>
        <p:blipFill>
          <a:blip r:embed="rId1"/>
          <a:stretch/>
        </p:blipFill>
        <p:spPr>
          <a:xfrm>
            <a:off x="8388360" y="5805360"/>
            <a:ext cx="73188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- метод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413000"/>
            <a:ext cx="7991280" cy="48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Письмо Минфина России и Федерального казначейств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  <a:ea typeface="Arial"/>
              </a:rPr>
              <a:t>от 24.12.2013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33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«Об особенностях составления и представления годовой отчетности финансовыми органами субъектов Российской Федерации и органами управления государственными внебюджетными фондами за 2013 год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4.12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55640" y="1844640"/>
            <a:ext cx="1294920" cy="1508400"/>
            <a:chOff x="755640" y="1844640"/>
            <a:chExt cx="1294920" cy="15084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55640" y="1844640"/>
              <a:ext cx="125460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55640" y="2832840"/>
              <a:ext cx="1294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убъект РФ и М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7020000" y="1987560"/>
            <a:ext cx="1294920" cy="1295280"/>
            <a:chOff x="7020000" y="1987560"/>
            <a:chExt cx="1294920" cy="129528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7020000" y="1987560"/>
              <a:ext cx="125460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020000" y="2975760"/>
              <a:ext cx="129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ГВБ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84360" y="5227560"/>
            <a:ext cx="1294920" cy="1295280"/>
            <a:chOff x="684360" y="5227560"/>
            <a:chExt cx="1294920" cy="1295280"/>
          </a:xfrm>
        </p:grpSpPr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684360" y="5227560"/>
              <a:ext cx="125460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84360" y="6215760"/>
              <a:ext cx="129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020000" y="5229360"/>
            <a:ext cx="1294920" cy="1295280"/>
            <a:chOff x="7020000" y="5229360"/>
            <a:chExt cx="1294920" cy="1295280"/>
          </a:xfrm>
        </p:grpSpPr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7020000" y="5229360"/>
              <a:ext cx="125460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020000" y="6217560"/>
              <a:ext cx="129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ГРБС Ф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851280" y="3573360"/>
            <a:ext cx="1294920" cy="1508400"/>
            <a:chOff x="3851280" y="3573360"/>
            <a:chExt cx="1294920" cy="1508400"/>
          </a:xfrm>
        </p:grpSpPr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3851280" y="3573360"/>
              <a:ext cx="125460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851280" y="4561560"/>
              <a:ext cx="1294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убъект РФ и М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7" name=""/>
          <p:cNvCxnSpPr/>
          <p:nvPr/>
        </p:nvCxnSpPr>
        <p:spPr>
          <a:xfrm flipV="1" rot="10800000">
            <a:off x="1367640" y="4150080"/>
            <a:ext cx="2035800" cy="108036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8" name=""/>
          <p:cNvCxnSpPr/>
          <p:nvPr/>
        </p:nvCxnSpPr>
        <p:spPr>
          <a:xfrm flipV="1" rot="16200000">
            <a:off x="2754000" y="1612080"/>
            <a:ext cx="1008720" cy="248544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9" name=""/>
          <p:cNvCxnSpPr/>
          <p:nvPr/>
        </p:nvCxnSpPr>
        <p:spPr>
          <a:xfrm flipV="1">
            <a:off x="5616720" y="3283920"/>
            <a:ext cx="2088000" cy="86724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06" idx="2"/>
          </p:cNvCxnSpPr>
          <p:nvPr/>
        </p:nvCxnSpPr>
        <p:spPr>
          <a:xfrm flipH="1" rot="16200000">
            <a:off x="5457600" y="4120200"/>
            <a:ext cx="642240" cy="256140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348000" y="3355920"/>
            <a:ext cx="2232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24000" y="112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Взаимосвязанные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показа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45520" y="4240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59000" y="2421000"/>
            <a:ext cx="209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жбюдже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ч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70640" y="3573360"/>
            <a:ext cx="209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жбюдже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ч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5153040"/>
            <a:ext cx="209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жбюдже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ч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4.12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№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02-07-007/57102/№ 42-7.4-05/2.1-85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8960" y="2378160"/>
            <a:ext cx="3090960" cy="1525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Отчет ф. 050331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Исполнение консолидированного бюдже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2421000"/>
            <a:ext cx="3548160" cy="1512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Отчет ф. 050332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Движение денежных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средст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84640" y="5229360"/>
            <a:ext cx="3459240" cy="863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Arial"/>
              </a:rPr>
              <a:t>Некассовые операции по исполнению бюдже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4149720"/>
            <a:ext cx="57312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55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22720" y="2620800"/>
            <a:ext cx="57312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55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37880" y="1386000"/>
            <a:ext cx="543492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казатели исполнения бюджет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2323</cp:lastModifiedBy>
  <dcterms:modified xsi:type="dcterms:W3CDTF">2014-02-04T04:52:29Z</dcterms:modified>
  <cp:revision>452</cp:revision>
  <dc:subject/>
  <dc:title>Слайд 1</dc:title>
</cp:coreProperties>
</file>