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6828C-43A9-4C15-A20F-20A1E7E09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799FC8-D5DB-4CCD-B813-E384750508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550E30-7992-46AF-BBDB-B7617A5E83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464934-A909-4CD0-8C44-75947DAD03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A569AC-821F-4C28-AE2D-081A22D896D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84D76D-0A55-4181-937E-8C4ECA799D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B89BB4-D483-4028-AA88-E099EF9212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5AD906-7715-4B2A-8A31-E697B1380D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BDD-2479-4826-9752-F450F881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299-4D37-44AC-9ABA-501D4678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0D0-AA8E-429F-B10C-3C18E4B1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76E-830A-4475-977E-B98AE67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B89E-5012-4F3A-8735-4F7BCC9D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5722-1F2C-4158-9448-DA8FD919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7513-2A73-4A34-883A-2CE0C2D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D890-BCD2-477B-96D1-B6D4AA2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0971-5934-4CF7-B163-986F1C1F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D10-EA32-41A3-8CC5-2E6E6715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FE5F-CC9B-43D2-A39C-F4901582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A66-D4A1-41CC-845B-53F0DCC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AED-B1B9-4924-8749-C64BC62E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921A-A81A-4043-A9F1-EFD74C2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3802-B71A-4ECD-9829-E7A49B14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FC02-F16A-4673-8060-911094ED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F972-1113-4E3B-B5EC-E8AFFED2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A92-E1D3-4987-826F-02EB5D1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CA3-077A-4603-9C92-841AA83A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359-F562-4401-86A1-2CEBC23B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F7D-35BC-4AD3-9C08-63549259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AA6-2896-47BB-BB7F-2FBB0B4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794-CF93-4562-AC4A-57200E2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D5F-FC0C-4547-B7D2-17E99E1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423-64B3-41ED-9C3B-56C219618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F621-10EF-4165-8C24-983A8416DC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A9F-282E-4364-86D7-599B05562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00080" y="184464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ка анализа отчетности об исполнении федерального бюджета с учетом изменений нормативных документов Министерства финансо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51280" y="5286240"/>
            <a:ext cx="508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чальник Отдела анализа исполнения бюджетов Управления бюджетного учета и отчетности Федерального казначейства И.В. Ив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95280" y="1484280"/>
          <a:ext cx="8353440" cy="4392720"/>
        </p:xfrm>
        <a:graphic>
          <a:graphicData uri="http://schemas.openxmlformats.org/drawingml/2006/table">
            <a:tbl>
              <a:tblPr/>
              <a:tblGrid>
                <a:gridCol w="1469880"/>
                <a:gridCol w="484200"/>
                <a:gridCol w="955800"/>
                <a:gridCol w="924120"/>
                <a:gridCol w="849240"/>
                <a:gridCol w="907920"/>
                <a:gridCol w="879480"/>
                <a:gridCol w="939960"/>
                <a:gridCol w="942840"/>
              </a:tblGrid>
              <a:tr h="316800">
                <a:tc gridSpan="9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исполнении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ные бюджетные назначения (прогнозные показа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денные бюджетные 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отклонений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планового процента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сполнено, руб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2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оходы бюджет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е ис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36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TextBox 2"/>
          <p:cNvSpPr/>
          <p:nvPr/>
        </p:nvSpPr>
        <p:spPr>
          <a:xfrm>
            <a:off x="2268360" y="2602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4 по до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419640" y="765000"/>
            <a:ext cx="5724360" cy="1079640"/>
          </a:xfrm>
          <a:prstGeom prst="wedgeRoundRectCallout">
            <a:avLst>
              <a:gd name="adj1" fmla="val -55435"/>
              <a:gd name="adj2" fmla="val 236472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гноз доходов на соответствующий период в соответствии с кассовым планом 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вартал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лугодие, за 9 месяцев, за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5280" y="2349360"/>
          <a:ext cx="8280360" cy="4110120"/>
        </p:xfrm>
        <a:graphic>
          <a:graphicData uri="http://schemas.openxmlformats.org/drawingml/2006/table">
            <a:tbl>
              <a:tblPr/>
              <a:tblGrid>
                <a:gridCol w="1457280"/>
                <a:gridCol w="480960"/>
                <a:gridCol w="946080"/>
                <a:gridCol w="916200"/>
                <a:gridCol w="841320"/>
                <a:gridCol w="901800"/>
                <a:gridCol w="869760"/>
                <a:gridCol w="932040"/>
                <a:gridCol w="934920"/>
              </a:tblGrid>
              <a:tr h="297000">
                <a:tc gridSpan="9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б исполнении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ные бюджетные назначения (прогнозные показа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денные бюджетные 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отклонений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планового процента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сполнено, руб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сходы бюджет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е ис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6640"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568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95280" y="907920"/>
            <a:ext cx="4216320" cy="1944720"/>
          </a:xfrm>
          <a:prstGeom prst="wedgeRoundRectCallout">
            <a:avLst>
              <a:gd name="adj1" fmla="val 74134"/>
              <a:gd name="adj2" fmla="val 157018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показатели, по которым % исполн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авляет: з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вартал менее 20% от бюджетной росписи, з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лугодие – 45%, за 9 месяцев – 70%, за год – 95% или 300 млн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5796000" y="1001880"/>
            <a:ext cx="3071880" cy="1000080"/>
          </a:xfrm>
          <a:prstGeom prst="wedgeRoundRectCallout">
            <a:avLst>
              <a:gd name="adj1" fmla="val 3384"/>
              <a:gd name="adj2" fmla="val 299754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причин в соответствии с письмом об особенност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9640" y="1773360"/>
          <a:ext cx="8229600" cy="3795480"/>
        </p:xfrm>
        <a:graphic>
          <a:graphicData uri="http://schemas.openxmlformats.org/drawingml/2006/table">
            <a:tbl>
              <a:tblPr/>
              <a:tblGrid>
                <a:gridCol w="957240"/>
                <a:gridCol w="906480"/>
                <a:gridCol w="633600"/>
                <a:gridCol w="664920"/>
                <a:gridCol w="222480"/>
                <a:gridCol w="693720"/>
                <a:gridCol w="169920"/>
                <a:gridCol w="787320"/>
                <a:gridCol w="915840"/>
                <a:gridCol w="1140120"/>
                <a:gridCol w="1137960"/>
              </a:tblGrid>
              <a:tr h="164520">
                <a:tc gridSpan="11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по дебиторской и кредиторской задолж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долж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1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ебитор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 кредиторска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07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ведения о дебиторской (кредиторской) задолж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 gridSpan="2" rowSpan="4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(код) сче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го уч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задолженности, 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роч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роч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88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88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у счета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122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AutoShape 9"/>
          <p:cNvSpPr/>
          <p:nvPr/>
        </p:nvSpPr>
        <p:spPr>
          <a:xfrm>
            <a:off x="324000" y="1052640"/>
            <a:ext cx="4176720" cy="1081080"/>
          </a:xfrm>
          <a:prstGeom prst="wedgeRoundRectCallout">
            <a:avLst>
              <a:gd name="adj1" fmla="val -17296"/>
              <a:gd name="adj2" fmla="val 260101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мера счетов бюджетного учета (26 знаков) в соответствии с Указаниями 65н на 2015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2700360" y="299880"/>
            <a:ext cx="38098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824360" y="1197000"/>
            <a:ext cx="4319640" cy="1511280"/>
          </a:xfrm>
          <a:prstGeom prst="wedgeRoundRectCallout">
            <a:avLst>
              <a:gd name="adj1" fmla="val -63893"/>
              <a:gd name="adj2" fmla="val 42226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ицательные остатки дебиторской задолженности отражаются в разделе кредиторская задолженность и наобор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3492360" y="5445000"/>
            <a:ext cx="4535640" cy="1079640"/>
          </a:xfrm>
          <a:prstGeom prst="wedgeRoundRectCallout">
            <a:avLst>
              <a:gd name="adj1" fmla="val 11324"/>
              <a:gd name="adj2" fmla="val -142500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чины образования существенных остатков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gt;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лрд. руб.) отражаются в текстовой части 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57200" y="2421000"/>
          <a:ext cx="8229600" cy="3240000"/>
        </p:xfrm>
        <a:graphic>
          <a:graphicData uri="http://schemas.openxmlformats.org/drawingml/2006/table">
            <a:tbl>
              <a:tblPr/>
              <a:tblGrid>
                <a:gridCol w="925560"/>
                <a:gridCol w="876240"/>
                <a:gridCol w="639720"/>
                <a:gridCol w="885960"/>
                <a:gridCol w="885600"/>
                <a:gridCol w="925560"/>
                <a:gridCol w="885960"/>
                <a:gridCol w="1101600"/>
                <a:gridCol w="1103400"/>
              </a:tblGrid>
              <a:tr h="361800">
                <a:tc gridSpan="9"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ведения о  просроченной  задолж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(код) сче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го уч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итор (кредитор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нов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я по правовому осн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2"/>
          <p:cNvSpPr/>
          <p:nvPr/>
        </p:nvSpPr>
        <p:spPr>
          <a:xfrm>
            <a:off x="2500200" y="142920"/>
            <a:ext cx="3810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95280" y="981000"/>
            <a:ext cx="6121440" cy="1368360"/>
          </a:xfrm>
          <a:prstGeom prst="wedgeRoundRectCallout">
            <a:avLst>
              <a:gd name="adj1" fmla="val -24430"/>
              <a:gd name="adj2" fmla="val 168560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я о просроченной дебиторской и кредиторской задолженности раскрывается в разрезе контрагентов по показателям свыше 1 млн. 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796000" y="1974960"/>
            <a:ext cx="3071880" cy="1000080"/>
          </a:xfrm>
          <a:prstGeom prst="wedgeRoundRectCallout">
            <a:avLst>
              <a:gd name="adj1" fmla="val 1310"/>
              <a:gd name="adj2" fmla="val 213638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причин в соответствии с письмом об особенност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0000" y="1557360"/>
            <a:ext cx="4103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49e"/>
                </a:solidFill>
                <a:latin typeface="Times New Roman"/>
              </a:rPr>
              <a:t>Сведения ф. 0503174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2360" y="1557360"/>
            <a:ext cx="5184720" cy="57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5292720" y="4365720"/>
            <a:ext cx="345600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179280" y="4365720"/>
            <a:ext cx="3456000" cy="57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50920" y="436572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49e"/>
                </a:solidFill>
                <a:latin typeface="Times New Roman"/>
                <a:ea typeface="Arial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364000" y="436572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49e"/>
                </a:solidFill>
                <a:latin typeface="Times New Roman"/>
                <a:ea typeface="Arial"/>
              </a:rPr>
              <a:t>Сведения ф. 05031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3924360" y="4437000"/>
            <a:ext cx="1079280" cy="360360"/>
          </a:xfrm>
          <a:prstGeom prst="leftRightArrow">
            <a:avLst>
              <a:gd name="adj1" fmla="val 50000"/>
              <a:gd name="adj2" fmla="val 5962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2411280" y="2492280"/>
            <a:ext cx="432000" cy="1440000"/>
          </a:xfrm>
          <a:prstGeom prst="upDownArrow">
            <a:avLst>
              <a:gd name="adj1" fmla="val 50000"/>
              <a:gd name="adj2" fmla="val 6635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5867280" y="2492280"/>
            <a:ext cx="432000" cy="1440000"/>
          </a:xfrm>
          <a:prstGeom prst="upDownArrow">
            <a:avLst>
              <a:gd name="adj1" fmla="val 50000"/>
              <a:gd name="adj2" fmla="val 6635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2124000" y="2318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49e"/>
                </a:solidFill>
                <a:latin typeface="Times New Roman"/>
              </a:rPr>
              <a:t>Соответствие данных о ФГУ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556000" y="260280"/>
            <a:ext cx="3809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2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125360"/>
          <a:ext cx="8459640" cy="5135760"/>
        </p:xfrm>
        <a:graphic>
          <a:graphicData uri="http://schemas.openxmlformats.org/drawingml/2006/table">
            <a:tbl>
              <a:tblPr/>
              <a:tblGrid>
                <a:gridCol w="1898640"/>
                <a:gridCol w="457200"/>
                <a:gridCol w="1001520"/>
                <a:gridCol w="990720"/>
                <a:gridCol w="1030320"/>
                <a:gridCol w="1011240"/>
                <a:gridCol w="1030320"/>
                <a:gridCol w="103968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исполнено денежных обязательств на начал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денежных обязательств с начала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о решение об уменьшении денежных обязатель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 денежных обязатель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оценка денежных обязатель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исполнено денежных обязательств на конец отчетного пери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дебных решений судов судебной системы Российской Фед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исполнительным докумен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дебных решений иностранных (международных) су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Решениям Европейского суда по правам челов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7D5E-F9A1-42B9-83AA-C857A4F4E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24000" y="1484280"/>
            <a:ext cx="84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я о факторах, повлиявших на объем и динамику заключения госконтра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я о причинах нераспределения ЛБО по сети получателей бюджетных сред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я о причинах возврата ГРБС МБТ прошлых лет в бюджеты субъектов РФ позже установленного с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ю о причинах принятия получателями средств бюджетных обязательств сверх доведенных лимитов бюджетных обязатель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619280" y="333360"/>
            <a:ext cx="6481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кстовая часть пояснительной запи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A908-8C53-47CC-BF60-6846F57A8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1616040" y="189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яснительная записка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0" y="981000"/>
            <a:ext cx="8785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чиная с отчетности за 1 квартал 2015 года ГРБС направляют Сведения по дебиторской и кредиторской задолженности учреждений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(ф. 0503769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екстовой части пояснительной записк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(ф. 0503760) отражается информация о факторах, оказавших влияние на размер остатков денежных средств на счетах учреждений, а также дебиторской и кредиторской задолженности по состоянию на отчетную дат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408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49e"/>
                </a:solidFill>
                <a:latin typeface="Times New Roman"/>
              </a:rPr>
              <a:t>Дополнительная информация в отчетности за 2015 год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 причинах прироста или сокращения поступлений доходов по видам доходов по сравнению с прошлым г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информация об объектах незавершенного строитель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ведения о дебиторской задолженности по расходам (контрактуемые расходы, целевые субсидии АУ/БУ, субсидии иным юридическим лица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408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49e"/>
                </a:solidFill>
                <a:latin typeface="Times New Roman"/>
              </a:rPr>
              <a:t>Дополнительная информация в отчетности за 2015 год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ведения об остатках денежных средств на счетах получателя бюджетных средств</a:t>
            </a:r>
            <a:br>
              <a:rPr sz="3200"/>
            </a:b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(ф. 0503178)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в разрезе балансовых с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ведения об остатках денежных средств учреждения (ф. 0503779) в разрезе балансовых с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правка о наличии имущества на забалансовых счетах учреждения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ф. 0503730) -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971640" y="18900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ступление нефтегазовых доходов федерального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:\Documents and Settings\2315\Рабочий стол\Презентации Р.Е\Человечки\13942135-stressed-3d-small-person.jpg"/>
          <p:cNvPicPr/>
          <p:nvPr/>
        </p:nvPicPr>
        <p:blipFill>
          <a:blip r:embed="rId1"/>
          <a:stretch/>
        </p:blipFill>
        <p:spPr>
          <a:xfrm>
            <a:off x="611280" y="422100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4" descr=""/>
          <p:cNvPicPr/>
          <p:nvPr/>
        </p:nvPicPr>
        <p:blipFill>
          <a:blip r:embed="rId2"/>
          <a:stretch/>
        </p:blipFill>
        <p:spPr>
          <a:xfrm>
            <a:off x="2451240" y="1809720"/>
            <a:ext cx="6406920" cy="4451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987640" y="14191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на 854,1 млрд. руб. или на 17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2A2D-8799-42AF-8F84-32F20E28724B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7AF-326A-40E2-88E7-DE0DB56C59B0}" type="slidenum">
              <a:rPr b="0" lang="en-US" sz="1400" spc="-1" strike="noStrike">
                <a:solidFill>
                  <a:srgbClr val="1f497d"/>
                </a:solidFill>
                <a:latin typeface="Lucida Grande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2556000" y="213372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61000"/>
          </a:bodyPr>
          <a:p>
            <a:pPr marL="209160" indent="-20916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6"/>
          <p:cNvSpPr/>
          <p:nvPr/>
        </p:nvSpPr>
        <p:spPr>
          <a:xfrm>
            <a:off x="250920" y="1125360"/>
            <a:ext cx="8497800" cy="324036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971640" y="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ключение Счетной палаты РФ на отчет об исполнении федерального бюджета за 201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468360" y="1197000"/>
            <a:ext cx="8137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нести изменения в инструкцию 191н в части включения в состав пояснительной записки (ф. 0503160) сведений по каждому объекту незавершенного строи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еспечить перечисление в бюджет части прибыли ФГУ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работать и утвердить формы отчетности о расходовании средств федерального бюджета, вложенных в уставные капиталы юридических ли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полнить пояснительную записку учреждения данными о численности персонала учреждения, средней заработной пла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ручение Президента РФ от 08.08.2015 № ПР-1659 по предложению Счетной палаты: проанализировать эффективность мер, принимаемых ГРБС по сокращению дебиторской задолж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250920" y="4581360"/>
            <a:ext cx="8497800" cy="158436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88004720_76048109_1_644x461_trebuetsyapomoschnikbuhgalterasanktpeterburg.jpg"/>
          <p:cNvPicPr/>
          <p:nvPr/>
        </p:nvPicPr>
        <p:blipFill>
          <a:blip r:embed="rId1"/>
          <a:stretch/>
        </p:blipFill>
        <p:spPr>
          <a:xfrm>
            <a:off x="179280" y="4307040"/>
            <a:ext cx="1347840" cy="1800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971640" y="189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нализ бюджетной (бухгалтерской) отче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Схема 4" descr=""/>
          <p:cNvPicPr/>
          <p:nvPr/>
        </p:nvPicPr>
        <p:blipFill>
          <a:blip r:embed="rId2"/>
          <a:stretch/>
        </p:blipFill>
        <p:spPr>
          <a:xfrm>
            <a:off x="1620720" y="1225440"/>
            <a:ext cx="7377120" cy="1298520"/>
          </a:xfrm>
          <a:prstGeom prst="rect">
            <a:avLst/>
          </a:prstGeom>
          <a:ln w="0">
            <a:noFill/>
          </a:ln>
        </p:spPr>
      </p:pic>
      <p:pic>
        <p:nvPicPr>
          <p:cNvPr id="106" name="Схема 5" descr=""/>
          <p:cNvPicPr/>
          <p:nvPr/>
        </p:nvPicPr>
        <p:blipFill>
          <a:blip r:embed="rId3"/>
          <a:stretch/>
        </p:blipFill>
        <p:spPr>
          <a:xfrm>
            <a:off x="1620720" y="4724280"/>
            <a:ext cx="7364520" cy="1305000"/>
          </a:xfrm>
          <a:prstGeom prst="rect">
            <a:avLst/>
          </a:prstGeom>
          <a:ln w="0">
            <a:noFill/>
          </a:ln>
        </p:spPr>
      </p:pic>
      <p:pic>
        <p:nvPicPr>
          <p:cNvPr id="107" name="Схема 6" descr=""/>
          <p:cNvPicPr/>
          <p:nvPr/>
        </p:nvPicPr>
        <p:blipFill>
          <a:blip r:embed="rId4"/>
          <a:stretch/>
        </p:blipFill>
        <p:spPr>
          <a:xfrm>
            <a:off x="1620720" y="2938320"/>
            <a:ext cx="7364520" cy="1305000"/>
          </a:xfrm>
          <a:prstGeom prst="rect">
            <a:avLst/>
          </a:prstGeom>
          <a:ln w="0">
            <a:noFill/>
          </a:ln>
        </p:spPr>
      </p:pic>
      <p:pic>
        <p:nvPicPr>
          <p:cNvPr id="108" name="Схема 7" descr=""/>
          <p:cNvPicPr/>
          <p:nvPr/>
        </p:nvPicPr>
        <p:blipFill>
          <a:blip r:embed="rId5"/>
          <a:stretch/>
        </p:blipFill>
        <p:spPr>
          <a:xfrm>
            <a:off x="1620720" y="3790800"/>
            <a:ext cx="7364520" cy="1305000"/>
          </a:xfrm>
          <a:prstGeom prst="rect">
            <a:avLst/>
          </a:prstGeom>
          <a:ln w="0">
            <a:noFill/>
          </a:ln>
        </p:spPr>
      </p:pic>
      <p:pic>
        <p:nvPicPr>
          <p:cNvPr id="109" name="Схема 8" descr=""/>
          <p:cNvPicPr/>
          <p:nvPr/>
        </p:nvPicPr>
        <p:blipFill>
          <a:blip r:embed="rId6"/>
          <a:stretch/>
        </p:blipFill>
        <p:spPr>
          <a:xfrm>
            <a:off x="1620720" y="2077920"/>
            <a:ext cx="7364520" cy="1305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2685960" y="1411200"/>
            <a:ext cx="60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ности о кассовом исполнении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701800" y="2276640"/>
            <a:ext cx="61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нформации о принятых бюджетных обязательств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692440" y="3141720"/>
            <a:ext cx="60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ателей дебиторской и кредиторской задолж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2717640" y="4064040"/>
            <a:ext cx="59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стояния иных активов и обязатель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2701800" y="4941720"/>
            <a:ext cx="61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ности бюджетных и автономных учрежд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16F-61B8-4272-AB20-B0E7BFD18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684360" y="155736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каз Минфина России от 19.12.2014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№ 157н «О внесении изменений в 191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каз Минфина России от 26.08.2015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№ 135н «О внесении изменений в 191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овместное письмо Минфина России и Федерального казначейства от 04.02.2015 № 02-07-07/4574 и № 07-04-05/02-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124000" y="1270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ормативные док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042920" y="112680"/>
            <a:ext cx="73360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к Пояснительной записке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с показателями форм бюджетной отчет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056040" y="2894040"/>
            <a:ext cx="13748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82720" y="2894040"/>
            <a:ext cx="13856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51280" y="4005360"/>
            <a:ext cx="1419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604280" y="2973240"/>
            <a:ext cx="143172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268360" y="5950080"/>
            <a:ext cx="14558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5805360"/>
            <a:ext cx="13856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8400" y="3965400"/>
            <a:ext cx="140796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 05031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765440" y="3762360"/>
            <a:ext cx="1726920" cy="1180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 исполнения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 05031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148360" y="2408400"/>
            <a:ext cx="1800000" cy="1180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 05031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14"/>
          <p:cNvCxnSpPr>
            <a:stCxn id="120" idx="2"/>
            <a:endCxn id="126" idx="0"/>
          </p:cNvCxnSpPr>
          <p:nvPr/>
        </p:nvCxnSpPr>
        <p:spPr>
          <a:xfrm flipH="1" rot="16200000">
            <a:off x="1846800" y="2980800"/>
            <a:ext cx="508680" cy="1055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9" name="AutoShape 15"/>
          <p:cNvCxnSpPr>
            <a:stCxn id="127" idx="3"/>
            <a:endCxn id="122" idx="1"/>
          </p:cNvCxnSpPr>
          <p:nvPr/>
        </p:nvCxnSpPr>
        <p:spPr>
          <a:xfrm>
            <a:off x="6960960" y="3011040"/>
            <a:ext cx="633960" cy="143640"/>
          </a:xfrm>
          <a:prstGeom prst="bentConnector3">
            <a:avLst>
              <a:gd name="adj1" fmla="val 49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19" idx="2"/>
            <a:endCxn id="126" idx="0"/>
          </p:cNvCxnSpPr>
          <p:nvPr/>
        </p:nvCxnSpPr>
        <p:spPr>
          <a:xfrm rot="5400000">
            <a:off x="2931480" y="2950920"/>
            <a:ext cx="508680" cy="1114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1" name="AutoShape 18"/>
          <p:cNvCxnSpPr>
            <a:stCxn id="121" idx="1"/>
            <a:endCxn id="126" idx="3"/>
          </p:cNvCxnSpPr>
          <p:nvPr/>
        </p:nvCxnSpPr>
        <p:spPr>
          <a:xfrm flipV="1" rot="10800000">
            <a:off x="3504600" y="4188960"/>
            <a:ext cx="346680" cy="170640"/>
          </a:xfrm>
          <a:prstGeom prst="bentConnector3">
            <a:avLst>
              <a:gd name="adj1" fmla="val 5176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2" name="AutoShape 19"/>
          <p:cNvCxnSpPr>
            <a:stCxn id="123" idx="1"/>
          </p:cNvCxnSpPr>
          <p:nvPr/>
        </p:nvCxnSpPr>
        <p:spPr>
          <a:xfrm flipH="1" rot="10800000">
            <a:off x="2257920" y="4941000"/>
            <a:ext cx="83160" cy="1197360"/>
          </a:xfrm>
          <a:prstGeom prst="bentConnector4">
            <a:avLst>
              <a:gd name="adj1" fmla="val -265217"/>
              <a:gd name="adj2" fmla="val 5783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3" name="AutoShape 20"/>
          <p:cNvCxnSpPr>
            <a:stCxn id="124" idx="0"/>
          </p:cNvCxnSpPr>
          <p:nvPr/>
        </p:nvCxnSpPr>
        <p:spPr>
          <a:xfrm flipH="1" flipV="1" rot="5400000">
            <a:off x="1323000" y="4778640"/>
            <a:ext cx="639000" cy="13957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4" name="AutoShape 21"/>
          <p:cNvCxnSpPr>
            <a:stCxn id="125" idx="3"/>
            <a:endCxn id="126" idx="1"/>
          </p:cNvCxnSpPr>
          <p:nvPr/>
        </p:nvCxnSpPr>
        <p:spPr>
          <a:xfrm>
            <a:off x="1476000" y="4146120"/>
            <a:ext cx="289440" cy="21204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5" name="Text Box 24"/>
          <p:cNvSpPr/>
          <p:nvPr/>
        </p:nvSpPr>
        <p:spPr>
          <a:xfrm>
            <a:off x="6948360" y="5950080"/>
            <a:ext cx="172728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7588080" y="2224080"/>
            <a:ext cx="144792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26"/>
          <p:cNvCxnSpPr>
            <a:stCxn id="127" idx="3"/>
            <a:endCxn id="136" idx="1"/>
          </p:cNvCxnSpPr>
          <p:nvPr/>
        </p:nvCxnSpPr>
        <p:spPr>
          <a:xfrm flipV="1">
            <a:off x="6960960" y="2404800"/>
            <a:ext cx="618120" cy="606960"/>
          </a:xfrm>
          <a:prstGeom prst="bentConnector3">
            <a:avLst>
              <a:gd name="adj1" fmla="val 495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 Box 27"/>
          <p:cNvSpPr/>
          <p:nvPr/>
        </p:nvSpPr>
        <p:spPr>
          <a:xfrm>
            <a:off x="6626160" y="3963960"/>
            <a:ext cx="157176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5407200" y="1554120"/>
            <a:ext cx="14684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29"/>
          <p:cNvCxnSpPr>
            <a:stCxn id="127" idx="0"/>
            <a:endCxn id="139" idx="2"/>
          </p:cNvCxnSpPr>
          <p:nvPr/>
        </p:nvCxnSpPr>
        <p:spPr>
          <a:xfrm flipH="1" flipV="1" rot="5400000">
            <a:off x="5859360" y="2112480"/>
            <a:ext cx="471960" cy="94320"/>
          </a:xfrm>
          <a:prstGeom prst="bentConnector3">
            <a:avLst>
              <a:gd name="adj1" fmla="val 497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 Box 30"/>
          <p:cNvSpPr/>
          <p:nvPr/>
        </p:nvSpPr>
        <p:spPr>
          <a:xfrm>
            <a:off x="6654960" y="4567320"/>
            <a:ext cx="154296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31"/>
          <p:cNvCxnSpPr>
            <a:stCxn id="127" idx="2"/>
            <a:endCxn id="141" idx="1"/>
          </p:cNvCxnSpPr>
          <p:nvPr/>
        </p:nvCxnSpPr>
        <p:spPr>
          <a:xfrm flipH="1" rot="16200000">
            <a:off x="5786280" y="3888720"/>
            <a:ext cx="112140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2"/>
          <p:cNvCxnSpPr>
            <a:stCxn id="127" idx="2"/>
            <a:endCxn id="138" idx="1"/>
          </p:cNvCxnSpPr>
          <p:nvPr/>
        </p:nvCxnSpPr>
        <p:spPr>
          <a:xfrm flipH="1" rot="16200000">
            <a:off x="6072480" y="3601800"/>
            <a:ext cx="518400" cy="56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3"/>
          <p:cNvSpPr/>
          <p:nvPr/>
        </p:nvSpPr>
        <p:spPr>
          <a:xfrm>
            <a:off x="6948360" y="5300640"/>
            <a:ext cx="167652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 -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711360" y="1228680"/>
            <a:ext cx="1917720" cy="1180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 бюджетных обязательств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 0503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AutoShape 14"/>
          <p:cNvCxnSpPr/>
          <p:nvPr/>
        </p:nvCxnSpPr>
        <p:spPr>
          <a:xfrm flipV="1" rot="10800000">
            <a:off x="2628360" y="1718280"/>
            <a:ext cx="71964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Text Box 4"/>
          <p:cNvSpPr/>
          <p:nvPr/>
        </p:nvSpPr>
        <p:spPr>
          <a:xfrm>
            <a:off x="3348000" y="1581120"/>
            <a:ext cx="138420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08560" y="4898880"/>
            <a:ext cx="13856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1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8"/>
          <p:cNvCxnSpPr>
            <a:stCxn id="148" idx="1"/>
          </p:cNvCxnSpPr>
          <p:nvPr/>
        </p:nvCxnSpPr>
        <p:spPr>
          <a:xfrm rot="10800000">
            <a:off x="3518640" y="4357800"/>
            <a:ext cx="889920" cy="722520"/>
          </a:xfrm>
          <a:prstGeom prst="bentConnector3">
            <a:avLst>
              <a:gd name="adj1" fmla="val 83043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AutoShape 18"/>
          <p:cNvCxnSpPr>
            <a:stCxn id="148" idx="0"/>
          </p:cNvCxnSpPr>
          <p:nvPr/>
        </p:nvCxnSpPr>
        <p:spPr>
          <a:xfrm flipH="1" flipV="1" rot="5400000">
            <a:off x="5330520" y="4207680"/>
            <a:ext cx="453240" cy="910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Text Box 24"/>
          <p:cNvSpPr/>
          <p:nvPr/>
        </p:nvSpPr>
        <p:spPr>
          <a:xfrm>
            <a:off x="3995640" y="5516640"/>
            <a:ext cx="1376640" cy="357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05032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19"/>
          <p:cNvCxnSpPr/>
          <p:nvPr/>
        </p:nvCxnSpPr>
        <p:spPr>
          <a:xfrm rot="10800000">
            <a:off x="2626560" y="4941000"/>
            <a:ext cx="1357920" cy="7390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2556000" y="260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39640" y="981000"/>
            <a:ext cx="828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ГРБС является органом власти и имеет подведомственную сеть, включающую на конец отчетного периода 86 территориальных подразделений – получателей бюджетных средств, из них 2 распорядителя бюджетных средств; 10 бюджетных учреждений, из них одно – получатель по переданным полномочиям; 2 унитарных предприятия из них одно – получатель по переданным полномоч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2332080"/>
          <a:ext cx="8064360" cy="4071960"/>
        </p:xfrm>
        <a:graphic>
          <a:graphicData uri="http://schemas.openxmlformats.org/drawingml/2006/table">
            <a:tbl>
              <a:tblPr/>
              <a:tblGrid>
                <a:gridCol w="4012920"/>
                <a:gridCol w="542880"/>
                <a:gridCol w="766800"/>
                <a:gridCol w="765360"/>
                <a:gridCol w="1976400"/>
              </a:tblGrid>
              <a:tr h="3142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количестве подведомственных участников бюджетного процесса, учреждений и  государственных (муниципальных) унитарных предпри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учреждения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а бюджетного процес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о отчетного пери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ец отчетного пери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(муниципальные) учреждения, всего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р.020 + стр.030 + стр.040)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казенные 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ые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и бюджетного процесса (органы власти и их территориальные органы, всег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р.051 + стр.052 + стр.053)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главные распоряди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ряди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терорганов в Республике Крым и г. Севастополь в соответствии  …..(дата и № НП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(муниципальные) унитарные предприятия, всего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556000" y="260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525600" y="981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ГРБС является бюджетным учреждением и имеет 5 филиалов (обособленных подразделен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2332080"/>
          <a:ext cx="8064360" cy="3762360"/>
        </p:xfrm>
        <a:graphic>
          <a:graphicData uri="http://schemas.openxmlformats.org/drawingml/2006/table">
            <a:tbl>
              <a:tblPr/>
              <a:tblGrid>
                <a:gridCol w="4012920"/>
                <a:gridCol w="542880"/>
                <a:gridCol w="766800"/>
                <a:gridCol w="765360"/>
                <a:gridCol w="1976400"/>
              </a:tblGrid>
              <a:tr h="3142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количестве подведомственных участников бюджетного процесса, учреждений и  государственных (муниципальных) унитарных предпри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учреждения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а бюджетного процес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о отчетного пери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ец отчетного пери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(муниципальные) учреждения, всего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р.020 + стр.030 + стр.040)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казенные 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ые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и бюджетного процесса (органы власти и их территориальные органы, всег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р.051 + стр.052 + стр.053)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главные распоряди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ряди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(муниципальные) унитарные предприятия, всего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556000" y="260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25600" y="981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ГРБС является органом власти и не имеет подведомственной с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4360" y="2332080"/>
          <a:ext cx="8064360" cy="3795840"/>
        </p:xfrm>
        <a:graphic>
          <a:graphicData uri="http://schemas.openxmlformats.org/drawingml/2006/table">
            <a:tbl>
              <a:tblPr/>
              <a:tblGrid>
                <a:gridCol w="4012920"/>
                <a:gridCol w="544680"/>
                <a:gridCol w="765000"/>
                <a:gridCol w="765360"/>
                <a:gridCol w="1976400"/>
              </a:tblGrid>
              <a:tr h="3142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количестве подведомственных участников бюджетного процесса, учреждений и  государственных (муниципальных) унитарных предпри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учреждения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а бюджетного процес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о отчетного пери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ец отчетного пери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(муниципальные) учреждения, всего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р.020 + стр.030 + стр.040)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казенные 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ые учре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и бюджетного процесса (органы власти и их территориальные органы, всег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р.051 + стр.052 + стр.053)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главные распоряди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ряди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и бюджетны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(муниципальные) унитарные предприятия, всего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 получатели бюджетных средств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по переданным полномоч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X</cp:lastModifiedBy>
  <dcterms:modified xsi:type="dcterms:W3CDTF">2015-09-17T10:04:48Z</dcterms:modified>
  <cp:revision>393</cp:revision>
  <dc:subject/>
  <dc:title>Слайд 1</dc:title>
</cp:coreProperties>
</file>