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ato Light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move the slide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2C554-27E5-46F0-B7D3-E58E29AB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214E9-D6D9-48AD-A40E-F0432600ECC3}" type="slidenum">
              <a:rPr b="0" lang="en-US" sz="1200" spc="-1" strike="noStrike">
                <a:solidFill>
                  <a:srgbClr val="a2a2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F9013-A587-4A36-A8F4-533BC1B5F318}" type="slidenum">
              <a:rPr b="0" lang="en-US" sz="1200" spc="-1" strike="noStrike">
                <a:solidFill>
                  <a:srgbClr val="a2a2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57280" y="39240"/>
            <a:ext cx="802944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57280" y="3570480"/>
            <a:ext cx="80294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720" y="117792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728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1720" y="3570480"/>
            <a:ext cx="39182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7204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86800" y="117792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5728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7204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86800" y="3570480"/>
            <a:ext cx="258516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s://www.facebook.com/" TargetMode="External"/><Relationship Id="rId3" Type="http://schemas.openxmlformats.org/officeDocument/2006/relationships/hyperlink" Target="https://www.linkedin.com/" TargetMode="External"/><Relationship Id="rId4" Type="http://schemas.openxmlformats.org/officeDocument/2006/relationships/hyperlink" Target="https://twitter.com/" TargetMode="External"/><Relationship Id="rId5" Type="http://schemas.openxmlformats.org/officeDocument/2006/relationships/hyperlink" Target="https://plus.google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hyperlink" Target="https://www.facebook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5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7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D146E-C1A1-44E9-AA1F-864483778214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403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00B42-94B7-4093-BD51-7B74AC7C74F2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406" name="Group 3" descr=""/>
          <p:cNvPicPr/>
          <p:nvPr/>
        </p:nvPicPr>
        <p:blipFill>
          <a:blip r:embed="rId3"/>
          <a:stretch/>
        </p:blipFill>
        <p:spPr>
          <a:xfrm>
            <a:off x="-6480" y="-79200"/>
            <a:ext cx="9150480" cy="65037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448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8D015-45E5-480B-AAAC-002E81E50CC7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0" y="-609480"/>
            <a:ext cx="9144000" cy="30114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493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F474E-AC48-4666-AF6F-DCA035828EC4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-701640"/>
            <a:ext cx="9144000" cy="30114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538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18D6F-434C-45B5-8E34-F1B9899707E5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41" name="Rectangle 41"/>
          <p:cNvSpPr/>
          <p:nvPr/>
        </p:nvSpPr>
        <p:spPr>
          <a:xfrm>
            <a:off x="0" y="-609480"/>
            <a:ext cx="9144000" cy="30114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4F558-0459-41C2-B051-16CB8EB22231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3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4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5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6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7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8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89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90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0" y="0"/>
            <a:ext cx="9144000" cy="6442200"/>
          </a:xfrm>
          <a:prstGeom prst="rect">
            <a:avLst/>
          </a:pr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5A59F-0171-4D3D-98EC-1107BB12579A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3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4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5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6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7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8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39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40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41" name="Straight Connector 11"/>
          <p:cNvSpPr/>
          <p:nvPr/>
        </p:nvSpPr>
        <p:spPr>
          <a:xfrm>
            <a:off x="587520" y="3073320"/>
            <a:ext cx="7970760" cy="0"/>
          </a:xfrm>
          <a:prstGeom prst="line">
            <a:avLst/>
          </a:prstGeom>
          <a:ln w="1080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642" name="Group 12"/>
          <p:cNvGrpSpPr/>
          <p:nvPr/>
        </p:nvGrpSpPr>
        <p:grpSpPr>
          <a:xfrm>
            <a:off x="4284000" y="2792520"/>
            <a:ext cx="576000" cy="576000"/>
            <a:chOff x="4284000" y="2792520"/>
            <a:chExt cx="576000" cy="576000"/>
          </a:xfrm>
        </p:grpSpPr>
        <p:sp>
          <p:nvSpPr>
            <p:cNvPr id="643" name="Oval 13"/>
            <p:cNvSpPr/>
            <p:nvPr/>
          </p:nvSpPr>
          <p:spPr>
            <a:xfrm>
              <a:off x="4395960" y="2846520"/>
              <a:ext cx="352080" cy="468360"/>
            </a:xfrm>
            <a:prstGeom prst="ellipse">
              <a:avLst/>
            </a:prstGeom>
            <a:solidFill>
              <a:srgbClr val="6b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644" name="Oval 14"/>
            <p:cNvSpPr/>
            <p:nvPr/>
          </p:nvSpPr>
          <p:spPr>
            <a:xfrm>
              <a:off x="4462560" y="2935440"/>
              <a:ext cx="218880" cy="290520"/>
            </a:xfrm>
            <a:prstGeom prst="ellipse">
              <a:avLst/>
            </a:prstGeom>
            <a:solidFill>
              <a:srgbClr val="6bbadd"/>
            </a:solidFill>
            <a:ln w="381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645" name="Arc 15"/>
            <p:cNvSpPr/>
            <p:nvPr/>
          </p:nvSpPr>
          <p:spPr>
            <a:xfrm rot="2700000">
              <a:off x="4339080" y="2905920"/>
              <a:ext cx="465480" cy="349200"/>
            </a:xfrm>
            <a:custGeom>
              <a:avLst/>
              <a:gdLst/>
              <a:ahLst/>
              <a:rect l="l" t="t" r="r" b="b"/>
              <a:pathLst>
                <a:path stroke="0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  <a:lnTo>
                    <a:pt x="271850" y="271239"/>
                  </a:lnTo>
                  <a:lnTo>
                    <a:pt x="271850" y="0"/>
                  </a:lnTo>
                  <a:close/>
                </a:path>
                <a:path fill="none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</a:path>
              </a:pathLst>
            </a:custGeom>
            <a:noFill/>
            <a:ln w="10800">
              <a:solidFill>
                <a:srgbClr val="39393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646" name="Arc 16"/>
            <p:cNvSpPr/>
            <p:nvPr/>
          </p:nvSpPr>
          <p:spPr>
            <a:xfrm flipH="1" rot="18900000">
              <a:off x="4339080" y="2905920"/>
              <a:ext cx="465480" cy="349200"/>
            </a:xfrm>
            <a:custGeom>
              <a:avLst/>
              <a:gdLst/>
              <a:ahLst/>
              <a:rect l="l" t="t" r="r" b="b"/>
              <a:pathLst>
                <a:path stroke="0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  <a:lnTo>
                    <a:pt x="271850" y="271239"/>
                  </a:lnTo>
                  <a:lnTo>
                    <a:pt x="271850" y="0"/>
                  </a:lnTo>
                  <a:close/>
                </a:path>
                <a:path fill="none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</a:path>
              </a:pathLst>
            </a:custGeom>
            <a:noFill/>
            <a:ln w="10800">
              <a:solidFill>
                <a:srgbClr val="39393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5BDDE-6357-4BD9-B3CA-6DC6DC742891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88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89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0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1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2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3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4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5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0" y="-307800"/>
            <a:ext cx="9144000" cy="3578040"/>
          </a:xfrm>
          <a:prstGeom prst="rect">
            <a:avLst/>
          </a:pr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7DBE3-2EF2-45AC-BB6B-646DEA8F2BF8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736" name="Picture 28" descr=""/>
          <p:cNvPicPr/>
          <p:nvPr/>
        </p:nvPicPr>
        <p:blipFill>
          <a:blip r:embed="rId2"/>
          <a:stretch/>
        </p:blipFill>
        <p:spPr>
          <a:xfrm>
            <a:off x="7593120" y="6531120"/>
            <a:ext cx="1074600" cy="245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4263B-CA99-498B-BF24-B528367EE3F2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814" name="Picture 5" descr=""/>
          <p:cNvPicPr/>
          <p:nvPr/>
        </p:nvPicPr>
        <p:blipFill>
          <a:blip r:embed="rId2"/>
          <a:stretch/>
        </p:blipFill>
        <p:spPr>
          <a:xfrm>
            <a:off x="7593120" y="6531120"/>
            <a:ext cx="1074600" cy="24588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5C75E-7378-4D16-A2E9-C29493C6BCFD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3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4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5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56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54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47AC5-9AF0-4D47-AD95-AE1E92864BA7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56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57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58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59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60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61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62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863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864" name="Group 3" descr=""/>
          <p:cNvPicPr/>
          <p:nvPr/>
        </p:nvPicPr>
        <p:blipFill>
          <a:blip r:embed="rId6"/>
          <a:stretch/>
        </p:blipFill>
        <p:spPr>
          <a:xfrm>
            <a:off x="-6480" y="-73080"/>
            <a:ext cx="9150480" cy="651024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04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341D8-3D27-405E-A882-A78585FB945B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06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07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08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09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10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11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12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13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14" name="Rectangle 13"/>
          <p:cNvSpPr/>
          <p:nvPr/>
        </p:nvSpPr>
        <p:spPr>
          <a:xfrm>
            <a:off x="0" y="-609480"/>
            <a:ext cx="9144000" cy="3011400"/>
          </a:xfrm>
          <a:prstGeom prst="rect">
            <a:avLst/>
          </a:pr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54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FB22C-560A-4FF1-897A-492BC262C533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56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57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58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59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60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61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62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63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64" name="Rectangle 25"/>
          <p:cNvSpPr/>
          <p:nvPr/>
        </p:nvSpPr>
        <p:spPr>
          <a:xfrm>
            <a:off x="0" y="-701640"/>
            <a:ext cx="9144000" cy="3011400"/>
          </a:xfrm>
          <a:prstGeom prst="rect">
            <a:avLst/>
          </a:pr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e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4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E03D6-F952-44ED-BDCD-AEDF5879EF15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6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7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8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9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0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1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2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3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4" name="Rectangle 41"/>
          <p:cNvSpPr/>
          <p:nvPr/>
        </p:nvSpPr>
        <p:spPr>
          <a:xfrm>
            <a:off x="0" y="-609480"/>
            <a:ext cx="9144000" cy="3011400"/>
          </a:xfrm>
          <a:prstGeom prst="rect">
            <a:avLst/>
          </a:pr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Lato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39393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eaeae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4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D2120-12C1-47BA-A67E-E6D48D3474AA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6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7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60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61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62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63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0" y="0"/>
            <a:ext cx="9144000" cy="6442200"/>
          </a:xfrm>
          <a:prstGeom prst="rect">
            <a:avLst/>
          </a:prstGeom>
          <a:solidFill>
            <a:srgbClr val="161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04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C3A39-84C8-46AC-9006-4E14FF962EB8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06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07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08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09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10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11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12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13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14" name="Straight Connector 7"/>
          <p:cNvSpPr/>
          <p:nvPr/>
        </p:nvSpPr>
        <p:spPr>
          <a:xfrm>
            <a:off x="587520" y="3073320"/>
            <a:ext cx="7970760" cy="0"/>
          </a:xfrm>
          <a:prstGeom prst="line">
            <a:avLst/>
          </a:prstGeom>
          <a:ln w="1080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115" name="Group 10"/>
          <p:cNvGrpSpPr/>
          <p:nvPr/>
        </p:nvGrpSpPr>
        <p:grpSpPr>
          <a:xfrm>
            <a:off x="4284000" y="2792520"/>
            <a:ext cx="576000" cy="576000"/>
            <a:chOff x="4284000" y="2792520"/>
            <a:chExt cx="576000" cy="576000"/>
          </a:xfrm>
        </p:grpSpPr>
        <p:sp>
          <p:nvSpPr>
            <p:cNvPr id="1116" name="Oval 9"/>
            <p:cNvSpPr/>
            <p:nvPr/>
          </p:nvSpPr>
          <p:spPr>
            <a:xfrm>
              <a:off x="4395960" y="2846520"/>
              <a:ext cx="352080" cy="4683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117" name="Oval 3"/>
            <p:cNvSpPr/>
            <p:nvPr/>
          </p:nvSpPr>
          <p:spPr>
            <a:xfrm>
              <a:off x="4462560" y="2935440"/>
              <a:ext cx="218880" cy="290520"/>
            </a:xfrm>
            <a:prstGeom prst="ellipse">
              <a:avLst/>
            </a:prstGeom>
            <a:solidFill>
              <a:srgbClr val="393939"/>
            </a:solidFill>
            <a:ln w="38160">
              <a:solidFill>
                <a:srgbClr val="6bba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118" name="Arc 4"/>
            <p:cNvSpPr/>
            <p:nvPr/>
          </p:nvSpPr>
          <p:spPr>
            <a:xfrm rot="2700000">
              <a:off x="4339080" y="2905920"/>
              <a:ext cx="465480" cy="349200"/>
            </a:xfrm>
            <a:custGeom>
              <a:avLst/>
              <a:gdLst/>
              <a:ahLst/>
              <a:rect l="l" t="t" r="r" b="b"/>
              <a:pathLst>
                <a:path stroke="0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  <a:lnTo>
                    <a:pt x="271850" y="271239"/>
                  </a:lnTo>
                  <a:lnTo>
                    <a:pt x="271850" y="0"/>
                  </a:lnTo>
                  <a:close/>
                </a:path>
                <a:path fill="none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</a:path>
              </a:pathLst>
            </a:custGeom>
            <a:noFill/>
            <a:ln w="1080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119" name="Arc 5"/>
            <p:cNvSpPr/>
            <p:nvPr/>
          </p:nvSpPr>
          <p:spPr>
            <a:xfrm flipH="1" rot="18900000">
              <a:off x="4339080" y="2905920"/>
              <a:ext cx="465480" cy="349200"/>
            </a:xfrm>
            <a:custGeom>
              <a:avLst/>
              <a:gdLst/>
              <a:ahLst/>
              <a:rect l="l" t="t" r="r" b="b"/>
              <a:pathLst>
                <a:path stroke="0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  <a:lnTo>
                    <a:pt x="271850" y="271239"/>
                  </a:lnTo>
                  <a:lnTo>
                    <a:pt x="271850" y="0"/>
                  </a:lnTo>
                  <a:close/>
                </a:path>
                <a:path fill="none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</a:path>
              </a:pathLst>
            </a:custGeom>
            <a:noFill/>
            <a:ln w="1080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59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DA9D8-B4DE-41F9-B9B9-5C9C84432797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1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2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3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4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5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6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7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8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69" name="Rectangle 7"/>
          <p:cNvSpPr/>
          <p:nvPr/>
        </p:nvSpPr>
        <p:spPr>
          <a:xfrm>
            <a:off x="0" y="-307800"/>
            <a:ext cx="9144000" cy="357804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239C6-A2F1-446C-B1C0-D9E90B8902F6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209" name="Picture 28" descr=""/>
          <p:cNvPicPr/>
          <p:nvPr/>
        </p:nvPicPr>
        <p:blipFill>
          <a:blip r:embed="rId2"/>
          <a:stretch/>
        </p:blipFill>
        <p:spPr>
          <a:xfrm>
            <a:off x="7593120" y="6531120"/>
            <a:ext cx="1074600" cy="245880"/>
          </a:xfrm>
          <a:prstGeom prst="rect">
            <a:avLst/>
          </a:prstGeom>
          <a:ln w="0">
            <a:noFill/>
          </a:ln>
        </p:spPr>
      </p:pic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B1B62-D12D-4A24-A7CD-EF19AA729DAD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287" name="Picture 5" descr=""/>
          <p:cNvPicPr/>
          <p:nvPr/>
        </p:nvPicPr>
        <p:blipFill>
          <a:blip r:embed="rId2"/>
          <a:stretch/>
        </p:blipFill>
        <p:spPr>
          <a:xfrm>
            <a:off x="7593120" y="6531120"/>
            <a:ext cx="1074600" cy="245880"/>
          </a:xfrm>
          <a:prstGeom prst="rect">
            <a:avLst/>
          </a:prstGeom>
          <a:ln w="0">
            <a:noFill/>
          </a:ln>
        </p:spPr>
      </p:pic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C04C5-9B81-4C91-AE56-B7937D3F40AC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99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2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3" name="Rectangle 15">
            <a:hlinkClick r:id="rId3"/>
          </p:cNvPr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4" name="Rectangle 16">
            <a:hlinkClick r:id="rId4"/>
          </p:cNvPr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05" name="Rectangle 17">
            <a:hlinkClick r:id="rId5"/>
          </p:cNvPr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27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978D2-E064-4282-89E6-27F354CE37C1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29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0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1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2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3" name="Rectangle 4">
            <a:hlinkClick r:id="rId2"/>
          </p:cNvPr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4" name="Rectangle 15"/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5" name="Rectangle 16"/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36" name="Rectangle 17"/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337" name="Group 3" descr=""/>
          <p:cNvPicPr/>
          <p:nvPr/>
        </p:nvPicPr>
        <p:blipFill>
          <a:blip r:embed="rId3"/>
          <a:stretch/>
        </p:blipFill>
        <p:spPr>
          <a:xfrm>
            <a:off x="-6480" y="-79200"/>
            <a:ext cx="9150480" cy="6503760"/>
          </a:xfrm>
          <a:prstGeom prst="rect">
            <a:avLst/>
          </a:prstGeom>
          <a:ln w="0">
            <a:noFill/>
          </a:ln>
        </p:spPr>
      </p:pic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77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E7C90-92B6-49BB-8714-9C53C69FA363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79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0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1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2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3" name="Rectangle 4"/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4" name="Rectangle 15"/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5" name="Rectangle 16"/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6" name="Rectangle 17"/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7" name="Rectangle 13"/>
          <p:cNvSpPr/>
          <p:nvPr/>
        </p:nvSpPr>
        <p:spPr>
          <a:xfrm>
            <a:off x="0" y="-609480"/>
            <a:ext cx="9144000" cy="30114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27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E645D-3D23-4473-99EF-BB92C9771E33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29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0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1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2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3" name="Rectangle 4"/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4" name="Rectangle 15"/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5" name="Rectangle 16"/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6" name="Rectangle 17"/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7" name="Rectangle 25"/>
          <p:cNvSpPr/>
          <p:nvPr/>
        </p:nvSpPr>
        <p:spPr>
          <a:xfrm>
            <a:off x="0" y="-701640"/>
            <a:ext cx="9144000" cy="30114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39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14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solidFill>
            <a:srgbClr val="2b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77" name="Rectangle 9"/>
          <p:cNvSpPr/>
          <p:nvPr/>
        </p:nvSpPr>
        <p:spPr>
          <a:xfrm>
            <a:off x="1046160" y="6431040"/>
            <a:ext cx="467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dfdfdf"/>
                </a:solidFill>
                <a:latin typeface="Lato Light"/>
                <a:ea typeface="Gotham Book"/>
              </a:rPr>
              <a:t>Presentation to Joe Smith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78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9F2C5-F19C-40D0-86D3-B2F766B6007C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79" name="Freeform 5"/>
          <p:cNvSpPr/>
          <p:nvPr/>
        </p:nvSpPr>
        <p:spPr>
          <a:xfrm>
            <a:off x="8485200" y="6561000"/>
            <a:ext cx="182520" cy="216000"/>
          </a:xfrm>
          <a:custGeom>
            <a:avLst/>
            <a:gdLst/>
            <a:ahLst/>
            <a:rect l="l" t="t" r="r" b="b"/>
            <a:pathLst>
              <a:path w="1484" h="1313">
                <a:moveTo>
                  <a:pt x="1232" y="252"/>
                </a:moveTo>
                <a:lnTo>
                  <a:pt x="1232" y="252"/>
                </a:lnTo>
                <a:lnTo>
                  <a:pt x="1232" y="0"/>
                </a:lnTo>
                <a:lnTo>
                  <a:pt x="1158" y="0"/>
                </a:lnTo>
                <a:lnTo>
                  <a:pt x="1158" y="252"/>
                </a:lnTo>
                <a:lnTo>
                  <a:pt x="905" y="252"/>
                </a:lnTo>
                <a:lnTo>
                  <a:pt x="905" y="330"/>
                </a:lnTo>
                <a:lnTo>
                  <a:pt x="1158" y="330"/>
                </a:lnTo>
                <a:lnTo>
                  <a:pt x="1158" y="578"/>
                </a:lnTo>
                <a:lnTo>
                  <a:pt x="1232" y="578"/>
                </a:lnTo>
                <a:lnTo>
                  <a:pt x="1232" y="330"/>
                </a:lnTo>
                <a:lnTo>
                  <a:pt x="1484" y="330"/>
                </a:lnTo>
                <a:lnTo>
                  <a:pt x="1484" y="252"/>
                </a:lnTo>
                <a:lnTo>
                  <a:pt x="1232" y="252"/>
                </a:lnTo>
                <a:close/>
                <a:moveTo>
                  <a:pt x="467" y="520"/>
                </a:moveTo>
                <a:lnTo>
                  <a:pt x="467" y="520"/>
                </a:lnTo>
                <a:cubicBezTo>
                  <a:pt x="381" y="541"/>
                  <a:pt x="279" y="461"/>
                  <a:pt x="247" y="337"/>
                </a:cubicBezTo>
                <a:cubicBezTo>
                  <a:pt x="210" y="214"/>
                  <a:pt x="258" y="91"/>
                  <a:pt x="344" y="69"/>
                </a:cubicBezTo>
                <a:cubicBezTo>
                  <a:pt x="435" y="43"/>
                  <a:pt x="537" y="123"/>
                  <a:pt x="569" y="246"/>
                </a:cubicBezTo>
                <a:cubicBezTo>
                  <a:pt x="601" y="375"/>
                  <a:pt x="558" y="493"/>
                  <a:pt x="467" y="520"/>
                </a:cubicBezTo>
                <a:close/>
                <a:moveTo>
                  <a:pt x="687" y="986"/>
                </a:moveTo>
                <a:lnTo>
                  <a:pt x="687" y="986"/>
                </a:lnTo>
                <a:cubicBezTo>
                  <a:pt x="698" y="1098"/>
                  <a:pt x="580" y="1195"/>
                  <a:pt x="430" y="1206"/>
                </a:cubicBezTo>
                <a:cubicBezTo>
                  <a:pt x="279" y="1216"/>
                  <a:pt x="156" y="1136"/>
                  <a:pt x="145" y="1023"/>
                </a:cubicBezTo>
                <a:cubicBezTo>
                  <a:pt x="140" y="916"/>
                  <a:pt x="253" y="820"/>
                  <a:pt x="403" y="809"/>
                </a:cubicBezTo>
                <a:cubicBezTo>
                  <a:pt x="553" y="798"/>
                  <a:pt x="682" y="879"/>
                  <a:pt x="687" y="986"/>
                </a:cubicBezTo>
                <a:close/>
                <a:moveTo>
                  <a:pt x="805" y="0"/>
                </a:moveTo>
                <a:lnTo>
                  <a:pt x="805" y="0"/>
                </a:lnTo>
                <a:lnTo>
                  <a:pt x="440" y="0"/>
                </a:lnTo>
                <a:cubicBezTo>
                  <a:pt x="440" y="0"/>
                  <a:pt x="75" y="11"/>
                  <a:pt x="75" y="316"/>
                </a:cubicBezTo>
                <a:cubicBezTo>
                  <a:pt x="75" y="627"/>
                  <a:pt x="397" y="595"/>
                  <a:pt x="397" y="595"/>
                </a:cubicBezTo>
                <a:lnTo>
                  <a:pt x="397" y="670"/>
                </a:lnTo>
                <a:cubicBezTo>
                  <a:pt x="397" y="702"/>
                  <a:pt x="440" y="691"/>
                  <a:pt x="446" y="755"/>
                </a:cubicBezTo>
                <a:cubicBezTo>
                  <a:pt x="424" y="755"/>
                  <a:pt x="0" y="745"/>
                  <a:pt x="0" y="1029"/>
                </a:cubicBezTo>
                <a:cubicBezTo>
                  <a:pt x="0" y="1307"/>
                  <a:pt x="371" y="1291"/>
                  <a:pt x="371" y="1291"/>
                </a:cubicBezTo>
                <a:cubicBezTo>
                  <a:pt x="371" y="1291"/>
                  <a:pt x="805" y="1313"/>
                  <a:pt x="805" y="964"/>
                </a:cubicBezTo>
                <a:cubicBezTo>
                  <a:pt x="805" y="755"/>
                  <a:pt x="558" y="686"/>
                  <a:pt x="558" y="605"/>
                </a:cubicBezTo>
                <a:cubicBezTo>
                  <a:pt x="558" y="520"/>
                  <a:pt x="746" y="493"/>
                  <a:pt x="746" y="295"/>
                </a:cubicBezTo>
                <a:cubicBezTo>
                  <a:pt x="746" y="177"/>
                  <a:pt x="736" y="107"/>
                  <a:pt x="639" y="64"/>
                </a:cubicBezTo>
                <a:cubicBezTo>
                  <a:pt x="639" y="37"/>
                  <a:pt x="805" y="53"/>
                  <a:pt x="805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0" name="Freeform 6"/>
          <p:cNvSpPr/>
          <p:nvPr/>
        </p:nvSpPr>
        <p:spPr>
          <a:xfrm>
            <a:off x="7597800" y="6531120"/>
            <a:ext cx="85680" cy="245880"/>
          </a:xfrm>
          <a:custGeom>
            <a:avLst/>
            <a:gdLst/>
            <a:ahLst/>
            <a:rect l="l" t="t" r="r" b="b"/>
            <a:pathLst>
              <a:path w="704" h="1506">
                <a:moveTo>
                  <a:pt x="573" y="255"/>
                </a:moveTo>
                <a:lnTo>
                  <a:pt x="573" y="255"/>
                </a:lnTo>
                <a:lnTo>
                  <a:pt x="704" y="255"/>
                </a:lnTo>
                <a:lnTo>
                  <a:pt x="704" y="0"/>
                </a:lnTo>
                <a:lnTo>
                  <a:pt x="492" y="0"/>
                </a:lnTo>
                <a:cubicBezTo>
                  <a:pt x="243" y="0"/>
                  <a:pt x="155" y="124"/>
                  <a:pt x="155" y="336"/>
                </a:cubicBezTo>
                <a:lnTo>
                  <a:pt x="155" y="493"/>
                </a:lnTo>
                <a:lnTo>
                  <a:pt x="0" y="493"/>
                </a:lnTo>
                <a:lnTo>
                  <a:pt x="0" y="749"/>
                </a:lnTo>
                <a:lnTo>
                  <a:pt x="155" y="749"/>
                </a:lnTo>
                <a:lnTo>
                  <a:pt x="155" y="1506"/>
                </a:lnTo>
                <a:lnTo>
                  <a:pt x="467" y="1506"/>
                </a:lnTo>
                <a:lnTo>
                  <a:pt x="467" y="749"/>
                </a:lnTo>
                <a:lnTo>
                  <a:pt x="679" y="749"/>
                </a:lnTo>
                <a:lnTo>
                  <a:pt x="704" y="493"/>
                </a:lnTo>
                <a:lnTo>
                  <a:pt x="467" y="493"/>
                </a:lnTo>
                <a:lnTo>
                  <a:pt x="467" y="362"/>
                </a:lnTo>
                <a:cubicBezTo>
                  <a:pt x="467" y="293"/>
                  <a:pt x="473" y="255"/>
                  <a:pt x="573" y="255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1" name="Freeform 7"/>
          <p:cNvSpPr/>
          <p:nvPr/>
        </p:nvSpPr>
        <p:spPr>
          <a:xfrm>
            <a:off x="7839000" y="6532560"/>
            <a:ext cx="192240" cy="244440"/>
          </a:xfrm>
          <a:custGeom>
            <a:avLst/>
            <a:gdLst/>
            <a:ahLst/>
            <a:rect l="l" t="t" r="r" b="b"/>
            <a:pathLst>
              <a:path w="1562" h="1491">
                <a:moveTo>
                  <a:pt x="1176" y="466"/>
                </a:moveTo>
                <a:lnTo>
                  <a:pt x="1176" y="466"/>
                </a:lnTo>
                <a:cubicBezTo>
                  <a:pt x="990" y="466"/>
                  <a:pt x="916" y="562"/>
                  <a:pt x="871" y="636"/>
                </a:cubicBezTo>
                <a:lnTo>
                  <a:pt x="871" y="488"/>
                </a:lnTo>
                <a:lnTo>
                  <a:pt x="538" y="488"/>
                </a:lnTo>
                <a:cubicBezTo>
                  <a:pt x="545" y="584"/>
                  <a:pt x="538" y="1491"/>
                  <a:pt x="538" y="1491"/>
                </a:cubicBezTo>
                <a:lnTo>
                  <a:pt x="871" y="1491"/>
                </a:lnTo>
                <a:lnTo>
                  <a:pt x="871" y="931"/>
                </a:lnTo>
                <a:cubicBezTo>
                  <a:pt x="871" y="901"/>
                  <a:pt x="871" y="872"/>
                  <a:pt x="886" y="850"/>
                </a:cubicBezTo>
                <a:cubicBezTo>
                  <a:pt x="909" y="791"/>
                  <a:pt x="961" y="724"/>
                  <a:pt x="1057" y="724"/>
                </a:cubicBezTo>
                <a:cubicBezTo>
                  <a:pt x="1176" y="724"/>
                  <a:pt x="1228" y="820"/>
                  <a:pt x="1228" y="953"/>
                </a:cubicBezTo>
                <a:lnTo>
                  <a:pt x="1228" y="1491"/>
                </a:lnTo>
                <a:lnTo>
                  <a:pt x="1562" y="1491"/>
                </a:lnTo>
                <a:lnTo>
                  <a:pt x="1562" y="916"/>
                </a:lnTo>
                <a:cubicBezTo>
                  <a:pt x="1562" y="606"/>
                  <a:pt x="1398" y="466"/>
                  <a:pt x="1176" y="466"/>
                </a:cubicBezTo>
                <a:close/>
                <a:moveTo>
                  <a:pt x="22" y="1491"/>
                </a:moveTo>
                <a:lnTo>
                  <a:pt x="22" y="1491"/>
                </a:lnTo>
                <a:lnTo>
                  <a:pt x="357" y="1491"/>
                </a:lnTo>
                <a:lnTo>
                  <a:pt x="357" y="487"/>
                </a:lnTo>
                <a:lnTo>
                  <a:pt x="22" y="487"/>
                </a:lnTo>
                <a:lnTo>
                  <a:pt x="22" y="1491"/>
                </a:lnTo>
                <a:close/>
                <a:moveTo>
                  <a:pt x="193" y="0"/>
                </a:moveTo>
                <a:lnTo>
                  <a:pt x="193" y="0"/>
                </a:lnTo>
                <a:cubicBezTo>
                  <a:pt x="74" y="0"/>
                  <a:pt x="0" y="82"/>
                  <a:pt x="0" y="178"/>
                </a:cubicBezTo>
                <a:cubicBezTo>
                  <a:pt x="0" y="273"/>
                  <a:pt x="74" y="347"/>
                  <a:pt x="186" y="347"/>
                </a:cubicBezTo>
                <a:cubicBezTo>
                  <a:pt x="305" y="347"/>
                  <a:pt x="379" y="273"/>
                  <a:pt x="379" y="178"/>
                </a:cubicBezTo>
                <a:cubicBezTo>
                  <a:pt x="379" y="82"/>
                  <a:pt x="305" y="0"/>
                  <a:pt x="193" y="0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2" name="Freeform 8"/>
          <p:cNvSpPr/>
          <p:nvPr/>
        </p:nvSpPr>
        <p:spPr>
          <a:xfrm>
            <a:off x="8164440" y="6551640"/>
            <a:ext cx="206280" cy="225360"/>
          </a:xfrm>
          <a:custGeom>
            <a:avLst/>
            <a:gdLst/>
            <a:ahLst/>
            <a:rect l="l" t="t" r="r" b="b"/>
            <a:pathLst>
              <a:path w="1690" h="1374">
                <a:moveTo>
                  <a:pt x="1491" y="223"/>
                </a:moveTo>
                <a:lnTo>
                  <a:pt x="1491" y="223"/>
                </a:lnTo>
                <a:cubicBezTo>
                  <a:pt x="1569" y="175"/>
                  <a:pt x="1617" y="108"/>
                  <a:pt x="1647" y="30"/>
                </a:cubicBezTo>
                <a:cubicBezTo>
                  <a:pt x="1581" y="66"/>
                  <a:pt x="1509" y="96"/>
                  <a:pt x="1424" y="108"/>
                </a:cubicBezTo>
                <a:cubicBezTo>
                  <a:pt x="1358" y="42"/>
                  <a:pt x="1273" y="0"/>
                  <a:pt x="1171" y="0"/>
                </a:cubicBezTo>
                <a:cubicBezTo>
                  <a:pt x="977" y="0"/>
                  <a:pt x="821" y="157"/>
                  <a:pt x="821" y="356"/>
                </a:cubicBezTo>
                <a:cubicBezTo>
                  <a:pt x="821" y="374"/>
                  <a:pt x="827" y="404"/>
                  <a:pt x="827" y="428"/>
                </a:cubicBezTo>
                <a:cubicBezTo>
                  <a:pt x="543" y="410"/>
                  <a:pt x="283" y="277"/>
                  <a:pt x="114" y="66"/>
                </a:cubicBezTo>
                <a:cubicBezTo>
                  <a:pt x="84" y="120"/>
                  <a:pt x="72" y="175"/>
                  <a:pt x="72" y="241"/>
                </a:cubicBezTo>
                <a:cubicBezTo>
                  <a:pt x="72" y="362"/>
                  <a:pt x="132" y="470"/>
                  <a:pt x="223" y="530"/>
                </a:cubicBezTo>
                <a:cubicBezTo>
                  <a:pt x="169" y="530"/>
                  <a:pt x="114" y="512"/>
                  <a:pt x="66" y="488"/>
                </a:cubicBezTo>
                <a:lnTo>
                  <a:pt x="66" y="494"/>
                </a:lnTo>
                <a:cubicBezTo>
                  <a:pt x="66" y="663"/>
                  <a:pt x="187" y="802"/>
                  <a:pt x="344" y="832"/>
                </a:cubicBezTo>
                <a:cubicBezTo>
                  <a:pt x="313" y="838"/>
                  <a:pt x="283" y="844"/>
                  <a:pt x="253" y="844"/>
                </a:cubicBezTo>
                <a:cubicBezTo>
                  <a:pt x="235" y="844"/>
                  <a:pt x="211" y="838"/>
                  <a:pt x="187" y="838"/>
                </a:cubicBezTo>
                <a:cubicBezTo>
                  <a:pt x="235" y="977"/>
                  <a:pt x="356" y="1073"/>
                  <a:pt x="513" y="1079"/>
                </a:cubicBezTo>
                <a:cubicBezTo>
                  <a:pt x="392" y="1170"/>
                  <a:pt x="241" y="1230"/>
                  <a:pt x="78" y="1230"/>
                </a:cubicBezTo>
                <a:cubicBezTo>
                  <a:pt x="54" y="1230"/>
                  <a:pt x="24" y="1230"/>
                  <a:pt x="0" y="1224"/>
                </a:cubicBezTo>
                <a:cubicBezTo>
                  <a:pt x="151" y="1326"/>
                  <a:pt x="338" y="1374"/>
                  <a:pt x="525" y="1374"/>
                </a:cubicBezTo>
                <a:cubicBezTo>
                  <a:pt x="1171" y="1374"/>
                  <a:pt x="1521" y="844"/>
                  <a:pt x="1521" y="392"/>
                </a:cubicBezTo>
                <a:lnTo>
                  <a:pt x="1521" y="344"/>
                </a:lnTo>
                <a:cubicBezTo>
                  <a:pt x="1587" y="295"/>
                  <a:pt x="1647" y="235"/>
                  <a:pt x="1690" y="163"/>
                </a:cubicBezTo>
                <a:cubicBezTo>
                  <a:pt x="1635" y="193"/>
                  <a:pt x="1569" y="211"/>
                  <a:pt x="1491" y="223"/>
                </a:cubicBez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3" name="Rectangle 4"/>
          <p:cNvSpPr/>
          <p:nvPr/>
        </p:nvSpPr>
        <p:spPr>
          <a:xfrm>
            <a:off x="749628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4" name="Rectangle 15"/>
          <p:cNvSpPr/>
          <p:nvPr/>
        </p:nvSpPr>
        <p:spPr>
          <a:xfrm>
            <a:off x="7797960" y="6431040"/>
            <a:ext cx="264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5" name="Rectangle 16"/>
          <p:cNvSpPr/>
          <p:nvPr/>
        </p:nvSpPr>
        <p:spPr>
          <a:xfrm>
            <a:off x="8115480" y="6431040"/>
            <a:ext cx="307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6" name="Rectangle 17"/>
          <p:cNvSpPr/>
          <p:nvPr/>
        </p:nvSpPr>
        <p:spPr>
          <a:xfrm>
            <a:off x="8435880" y="6431040"/>
            <a:ext cx="265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7" name="Rectangle 41"/>
          <p:cNvSpPr/>
          <p:nvPr/>
        </p:nvSpPr>
        <p:spPr>
          <a:xfrm>
            <a:off x="0" y="-609480"/>
            <a:ext cx="9144000" cy="30114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57280" y="50760"/>
            <a:ext cx="80294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dfdfdf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dfdfdf"/>
              </a:solidFill>
              <a:latin typeface="Lato Light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fdfdf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dfdfdf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45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56B64-AD68-48B4-87CE-A5C11405E039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0"/>
            <a:ext cx="9144000" cy="6442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90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D146A-60A5-4C6C-835F-93E66E09C655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93" name="Straight Connector 7"/>
          <p:cNvSpPr/>
          <p:nvPr/>
        </p:nvSpPr>
        <p:spPr>
          <a:xfrm>
            <a:off x="587520" y="3073320"/>
            <a:ext cx="7970760" cy="0"/>
          </a:xfrm>
          <a:prstGeom prst="line">
            <a:avLst/>
          </a:prstGeom>
          <a:ln w="1080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4284000" y="2792520"/>
            <a:ext cx="576000" cy="576000"/>
            <a:chOff x="4284000" y="2792520"/>
            <a:chExt cx="576000" cy="576000"/>
          </a:xfrm>
        </p:grpSpPr>
        <p:sp>
          <p:nvSpPr>
            <p:cNvPr id="195" name="Oval 9"/>
            <p:cNvSpPr/>
            <p:nvPr/>
          </p:nvSpPr>
          <p:spPr>
            <a:xfrm>
              <a:off x="4395960" y="2846520"/>
              <a:ext cx="35208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96" name="Oval 3"/>
            <p:cNvSpPr/>
            <p:nvPr/>
          </p:nvSpPr>
          <p:spPr>
            <a:xfrm>
              <a:off x="4462560" y="2935440"/>
              <a:ext cx="218880" cy="290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6bba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97" name="Arc 4"/>
            <p:cNvSpPr/>
            <p:nvPr/>
          </p:nvSpPr>
          <p:spPr>
            <a:xfrm rot="2700000">
              <a:off x="4339080" y="2905920"/>
              <a:ext cx="465480" cy="349200"/>
            </a:xfrm>
            <a:custGeom>
              <a:avLst/>
              <a:gdLst/>
              <a:ahLst/>
              <a:rect l="l" t="t" r="r" b="b"/>
              <a:pathLst>
                <a:path stroke="0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  <a:lnTo>
                    <a:pt x="271850" y="271239"/>
                  </a:lnTo>
                  <a:lnTo>
                    <a:pt x="271850" y="0"/>
                  </a:lnTo>
                  <a:close/>
                </a:path>
                <a:path fill="none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</a:path>
              </a:pathLst>
            </a:custGeom>
            <a:noFill/>
            <a:ln w="1080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98" name="Arc 5"/>
            <p:cNvSpPr/>
            <p:nvPr/>
          </p:nvSpPr>
          <p:spPr>
            <a:xfrm flipH="1" rot="18900000">
              <a:off x="4339080" y="2905920"/>
              <a:ext cx="465480" cy="349200"/>
            </a:xfrm>
            <a:custGeom>
              <a:avLst/>
              <a:gdLst/>
              <a:ahLst/>
              <a:rect l="l" t="t" r="r" b="b"/>
              <a:pathLst>
                <a:path stroke="0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  <a:lnTo>
                    <a:pt x="271850" y="271239"/>
                  </a:lnTo>
                  <a:lnTo>
                    <a:pt x="271850" y="0"/>
                  </a:lnTo>
                  <a:close/>
                </a:path>
                <a:path fill="none" w="543700" h="542478">
                  <a:moveTo>
                    <a:pt x="271850" y="0"/>
                  </a:moveTo>
                  <a:cubicBezTo>
                    <a:pt x="421989" y="0"/>
                    <a:pt x="543700" y="121438"/>
                    <a:pt x="543700" y="271239"/>
                  </a:cubicBezTo>
                </a:path>
              </a:pathLst>
            </a:custGeom>
            <a:noFill/>
            <a:ln w="1080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4"/>
          <p:cNvSpPr/>
          <p:nvPr/>
        </p:nvSpPr>
        <p:spPr>
          <a:xfrm>
            <a:off x="0" y="3240"/>
            <a:ext cx="9144000" cy="614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37960" y="96840"/>
            <a:ext cx="890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Book"/>
              </a:rPr>
              <a:t>Управление Федерального казначейства по Саратовской област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552600" y="3240"/>
            <a:ext cx="531720" cy="614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240" name="Picture 2" descr="U:\Бирюков\ГЕРБ КАЗНАЧЕЙСТВА.png"/>
          <p:cNvPicPr/>
          <p:nvPr/>
        </p:nvPicPr>
        <p:blipFill>
          <a:blip r:embed="rId2"/>
          <a:stretch/>
        </p:blipFill>
        <p:spPr>
          <a:xfrm>
            <a:off x="530280" y="39600"/>
            <a:ext cx="574560" cy="577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4"/>
          <p:cNvSpPr/>
          <p:nvPr/>
        </p:nvSpPr>
        <p:spPr>
          <a:xfrm>
            <a:off x="0" y="6691320"/>
            <a:ext cx="9144000" cy="10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515151"/>
                </a:solidFill>
                <a:latin typeface="Lato Light"/>
              </a:rPr>
              <a:t>     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    </a:t>
            </a:r>
            <a:r>
              <a:rPr b="0" lang="en-US" sz="1100" spc="-1" strike="noStrike">
                <a:solidFill>
                  <a:srgbClr val="515151"/>
                </a:solidFill>
                <a:latin typeface="Lato Light"/>
              </a:rPr>
              <a:t>www.saratov.roskazna.ru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BE968-44DB-4A58-ABB2-2DD488E9DA87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-307800"/>
            <a:ext cx="9144000" cy="357804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C2931-FE89-43CB-8690-96740A928896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283" name="Picture 28" descr=""/>
          <p:cNvPicPr/>
          <p:nvPr/>
        </p:nvPicPr>
        <p:blipFill>
          <a:blip r:embed="rId2"/>
          <a:stretch/>
        </p:blipFill>
        <p:spPr>
          <a:xfrm>
            <a:off x="7593120" y="6531120"/>
            <a:ext cx="1074600" cy="2458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552600" y="6431040"/>
            <a:ext cx="365040" cy="4269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527F0-BC96-4018-A704-424C931DEAD8}" type="slidenum">
              <a:rPr b="0" lang="en-US" sz="1000" spc="-1" strike="noStrike">
                <a:solidFill>
                  <a:srgbClr val="ffffff"/>
                </a:solidFill>
                <a:latin typeface="Lato Light"/>
                <a:ea typeface="Gotham Book"/>
              </a:rPr>
              <a:t>&lt;number&gt;</a:t>
            </a:fld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7593120" y="6531120"/>
            <a:ext cx="1074600" cy="2458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57280" y="39240"/>
            <a:ext cx="8029440" cy="97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93939"/>
                </a:solidFill>
                <a:latin typeface="Lato Light"/>
              </a:rPr>
              <a:t>Click to edit the title text format</a:t>
            </a:r>
            <a:endParaRPr b="0" lang="en-US" sz="30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57280" y="1177920"/>
            <a:ext cx="80294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rmAutofit/>
          </a:bodyPr>
          <a:p>
            <a:pPr marL="173160" indent="-17316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1" marL="34596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2" marL="517680" indent="-17172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3" marL="690480" indent="-17280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4" marL="853920" indent="-163440">
              <a:lnSpc>
                <a:spcPct val="89000"/>
              </a:lnSpc>
              <a:spcBef>
                <a:spcPts val="1100"/>
              </a:spcBef>
              <a:buClr>
                <a:srgbClr val="6bbad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5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  <a:p>
            <a:pPr lvl="6" marL="853920" indent="-163440">
              <a:lnSpc>
                <a:spcPct val="89000"/>
              </a:lnSpc>
              <a:spcBef>
                <a:spcPts val="1100"/>
              </a:spcBef>
              <a:buClr>
                <a:srgbClr val="a2a2a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Lato Light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Рисунок 7" descr=""/>
          <p:cNvPicPr/>
          <p:nvPr/>
        </p:nvPicPr>
        <p:blipFill>
          <a:blip r:embed="rId1"/>
          <a:stretch/>
        </p:blipFill>
        <p:spPr>
          <a:xfrm>
            <a:off x="1947960" y="666720"/>
            <a:ext cx="5265720" cy="6024600"/>
          </a:xfrm>
          <a:prstGeom prst="rect">
            <a:avLst/>
          </a:prstGeom>
          <a:ln w="0">
            <a:noFill/>
          </a:ln>
        </p:spPr>
      </p:pic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561600" y="2295000"/>
            <a:ext cx="838044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algn="ctr"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Lato Light"/>
              </a:rPr>
              <a:t>Практика организации ведения электронного архива территориальными органами Федерального казначейства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535" name="Rectangle 55"/>
          <p:cNvSpPr/>
          <p:nvPr/>
        </p:nvSpPr>
        <p:spPr>
          <a:xfrm>
            <a:off x="5262480" y="4946760"/>
            <a:ext cx="381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93939"/>
                </a:solidFill>
                <a:latin typeface="Lato Light"/>
                <a:ea typeface="Gotham Light"/>
              </a:rPr>
              <a:t>Начальник отдела бюджетного учета и отчетности по операциям бюджетов УФК по Саратовской области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93939"/>
                </a:solidFill>
                <a:latin typeface="Lato Light"/>
                <a:ea typeface="Gotham Medium"/>
              </a:rPr>
              <a:t>А.А. Голышев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Title 23"/>
          <p:cNvSpPr/>
          <p:nvPr/>
        </p:nvSpPr>
        <p:spPr>
          <a:xfrm>
            <a:off x="0" y="677880"/>
            <a:ext cx="9144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ПРЕИМУЩЕСТВА</a:t>
            </a:r>
            <a:r>
              <a:rPr b="0" lang="ru-RU" sz="2800" spc="-1" strike="noStrike">
                <a:solidFill>
                  <a:srgbClr val="393939"/>
                </a:solidFill>
                <a:latin typeface="Lato Light"/>
                <a:ea typeface="Gotham Light"/>
              </a:rPr>
              <a:t> ЦЕНТРАЛИЗОВАННОГО ХРАНЕНИЯ ДОКУМЕНТОВ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884" name="Группа 101"/>
          <p:cNvGrpSpPr/>
          <p:nvPr/>
        </p:nvGrpSpPr>
        <p:grpSpPr>
          <a:xfrm>
            <a:off x="552600" y="1709640"/>
            <a:ext cx="8064360" cy="603360"/>
            <a:chOff x="552600" y="1709640"/>
            <a:chExt cx="8064360" cy="603360"/>
          </a:xfrm>
        </p:grpSpPr>
        <p:grpSp>
          <p:nvGrpSpPr>
            <p:cNvPr id="1885" name="Группа 175"/>
            <p:cNvGrpSpPr/>
            <p:nvPr/>
          </p:nvGrpSpPr>
          <p:grpSpPr>
            <a:xfrm>
              <a:off x="554040" y="1709640"/>
              <a:ext cx="8040960" cy="592200"/>
              <a:chOff x="554040" y="1709640"/>
              <a:chExt cx="8040960" cy="592200"/>
            </a:xfrm>
          </p:grpSpPr>
          <p:sp>
            <p:nvSpPr>
              <p:cNvPr id="1886" name="Скругленный прямоугольник 15"/>
              <p:cNvSpPr/>
              <p:nvPr/>
            </p:nvSpPr>
            <p:spPr>
              <a:xfrm>
                <a:off x="554040" y="1854000"/>
                <a:ext cx="431640" cy="433080"/>
              </a:xfrm>
              <a:custGeom>
                <a:avLst/>
                <a:gdLst>
                  <a:gd name="textAreaLeft" fmla="*/ 7920 w 431640"/>
                  <a:gd name="textAreaRight" fmla="*/ 423720 w 431640"/>
                  <a:gd name="textAreaTop" fmla="*/ 7920 h 433080"/>
                  <a:gd name="textAreaBottom" fmla="*/ 425160 h 433080"/>
                </a:gdLst>
                <a:ahLst/>
                <a:rect l="textAreaLeft" t="textAreaTop" r="textAreaRight" b="textAreaBottom"/>
                <a:pathLst>
                  <a:path w="21600" h="21672">
                    <a:moveTo>
                      <a:pt x="1369" y="0"/>
                    </a:moveTo>
                    <a:arcTo wR="1369" hR="1369" stAng="16200000" swAng="-5400000"/>
                    <a:lnTo>
                      <a:pt x="0" y="20303"/>
                    </a:lnTo>
                    <a:arcTo wR="1369" hR="1369" stAng="10800000" swAng="-5400000"/>
                    <a:lnTo>
                      <a:pt x="20231" y="21672"/>
                    </a:lnTo>
                    <a:arcTo wR="1369" hR="1369" stAng="5400000" swAng="-5400000"/>
                    <a:lnTo>
                      <a:pt x="21600" y="1369"/>
                    </a:lnTo>
                    <a:arcTo wR="1369" hR="1369" stAng="0" swAng="-5400000"/>
                    <a:close/>
                  </a:path>
                </a:pathLst>
              </a:custGeom>
              <a:solidFill>
                <a:srgbClr val="67b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  <p:sp>
            <p:nvSpPr>
              <p:cNvPr id="1887" name="TextBox 21"/>
              <p:cNvSpPr/>
              <p:nvPr/>
            </p:nvSpPr>
            <p:spPr>
              <a:xfrm>
                <a:off x="996840" y="1709640"/>
                <a:ext cx="75981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760" rIns="104760" tIns="52560" bIns="525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Lato Light"/>
                    <a:ea typeface="Gotham Light"/>
                  </a:rPr>
                  <a:t>Применение единой политики хранения и использования архивных документов</a:t>
                </a:r>
                <a:endParaRPr b="0" lang="en-US" sz="16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</p:grpSp>
        <p:sp>
          <p:nvSpPr>
            <p:cNvPr id="1888" name="Прямоугольник 10"/>
            <p:cNvSpPr/>
            <p:nvPr/>
          </p:nvSpPr>
          <p:spPr>
            <a:xfrm>
              <a:off x="552600" y="2264040"/>
              <a:ext cx="8064360" cy="48960"/>
            </a:xfrm>
            <a:prstGeom prst="rect">
              <a:avLst/>
            </a:prstGeom>
            <a:solidFill>
              <a:srgbClr val="67b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889" name="Группа 101"/>
          <p:cNvGrpSpPr/>
          <p:nvPr/>
        </p:nvGrpSpPr>
        <p:grpSpPr>
          <a:xfrm>
            <a:off x="550800" y="2408400"/>
            <a:ext cx="8066160" cy="603000"/>
            <a:chOff x="550800" y="2408400"/>
            <a:chExt cx="8066160" cy="603000"/>
          </a:xfrm>
        </p:grpSpPr>
        <p:grpSp>
          <p:nvGrpSpPr>
            <p:cNvPr id="1890" name="Группа 175"/>
            <p:cNvGrpSpPr/>
            <p:nvPr/>
          </p:nvGrpSpPr>
          <p:grpSpPr>
            <a:xfrm>
              <a:off x="550800" y="2408400"/>
              <a:ext cx="8041680" cy="592200"/>
              <a:chOff x="550800" y="2408400"/>
              <a:chExt cx="8041680" cy="592200"/>
            </a:xfrm>
          </p:grpSpPr>
          <p:sp>
            <p:nvSpPr>
              <p:cNvPr id="1891" name="Скругленный прямоугольник 26"/>
              <p:cNvSpPr/>
              <p:nvPr/>
            </p:nvSpPr>
            <p:spPr>
              <a:xfrm>
                <a:off x="550800" y="2552760"/>
                <a:ext cx="431640" cy="433440"/>
              </a:xfrm>
              <a:custGeom>
                <a:avLst/>
                <a:gdLst>
                  <a:gd name="textAreaLeft" fmla="*/ 7920 w 431640"/>
                  <a:gd name="textAreaRight" fmla="*/ 423720 w 431640"/>
                  <a:gd name="textAreaTop" fmla="*/ 7920 h 433440"/>
                  <a:gd name="textAreaBottom" fmla="*/ 425520 h 433440"/>
                </a:gdLst>
                <a:ahLst/>
                <a:rect l="textAreaLeft" t="textAreaTop" r="textAreaRight" b="textAreaBottom"/>
                <a:pathLst>
                  <a:path w="21600" h="21690">
                    <a:moveTo>
                      <a:pt x="1369" y="0"/>
                    </a:moveTo>
                    <a:arcTo wR="1369" hR="1369" stAng="16200000" swAng="-5400000"/>
                    <a:lnTo>
                      <a:pt x="0" y="20321"/>
                    </a:lnTo>
                    <a:arcTo wR="1369" hR="1369" stAng="10800000" swAng="-5400000"/>
                    <a:lnTo>
                      <a:pt x="20231" y="21690"/>
                    </a:lnTo>
                    <a:arcTo wR="1369" hR="1369" stAng="5400000" swAng="-5400000"/>
                    <a:lnTo>
                      <a:pt x="21600" y="1369"/>
                    </a:lnTo>
                    <a:arcTo wR="1369" hR="1369" stAng="0" swAng="-5400000"/>
                    <a:close/>
                  </a:path>
                </a:pathLst>
              </a:custGeom>
              <a:solidFill>
                <a:srgbClr val="67b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  <p:sp>
            <p:nvSpPr>
              <p:cNvPr id="1892" name="TextBox 21"/>
              <p:cNvSpPr/>
              <p:nvPr/>
            </p:nvSpPr>
            <p:spPr>
              <a:xfrm>
                <a:off x="994320" y="2408400"/>
                <a:ext cx="75981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760" rIns="104760" tIns="52560" bIns="525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Gotham Light"/>
                  </a:rPr>
                  <a:t>Оперативный доступ к документам всех заинтересованных подразделений ФК и ТОФК</a:t>
                </a:r>
                <a:endParaRPr b="0" lang="en-US" sz="16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</p:grpSp>
        <p:sp>
          <p:nvSpPr>
            <p:cNvPr id="1893" name="Прямоугольник 25"/>
            <p:cNvSpPr/>
            <p:nvPr/>
          </p:nvSpPr>
          <p:spPr>
            <a:xfrm>
              <a:off x="552240" y="2962440"/>
              <a:ext cx="8064720" cy="48960"/>
            </a:xfrm>
            <a:prstGeom prst="rect">
              <a:avLst/>
            </a:prstGeom>
            <a:solidFill>
              <a:srgbClr val="67b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894" name="Группа 101"/>
          <p:cNvGrpSpPr/>
          <p:nvPr/>
        </p:nvGrpSpPr>
        <p:grpSpPr>
          <a:xfrm>
            <a:off x="550800" y="3193920"/>
            <a:ext cx="8066160" cy="459000"/>
            <a:chOff x="550800" y="3193920"/>
            <a:chExt cx="8066160" cy="459000"/>
          </a:xfrm>
        </p:grpSpPr>
        <p:grpSp>
          <p:nvGrpSpPr>
            <p:cNvPr id="1895" name="Группа 175"/>
            <p:cNvGrpSpPr/>
            <p:nvPr/>
          </p:nvGrpSpPr>
          <p:grpSpPr>
            <a:xfrm>
              <a:off x="550800" y="3193920"/>
              <a:ext cx="8041680" cy="432360"/>
              <a:chOff x="550800" y="3193920"/>
              <a:chExt cx="8041680" cy="432360"/>
            </a:xfrm>
          </p:grpSpPr>
          <p:sp>
            <p:nvSpPr>
              <p:cNvPr id="1896" name="Скругленный прямоугольник 32"/>
              <p:cNvSpPr/>
              <p:nvPr/>
            </p:nvSpPr>
            <p:spPr>
              <a:xfrm>
                <a:off x="550800" y="3193920"/>
                <a:ext cx="431640" cy="432360"/>
              </a:xfrm>
              <a:custGeom>
                <a:avLst/>
                <a:gdLst>
                  <a:gd name="textAreaLeft" fmla="*/ 7920 w 431640"/>
                  <a:gd name="textAreaRight" fmla="*/ 423720 w 431640"/>
                  <a:gd name="textAreaTop" fmla="*/ 7920 h 432360"/>
                  <a:gd name="textAreaBottom" fmla="*/ 424440 h 43236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1369" y="0"/>
                    </a:moveTo>
                    <a:arcTo wR="1369" hR="1369" stAng="16200000" swAng="-5400000"/>
                    <a:lnTo>
                      <a:pt x="0" y="20267"/>
                    </a:lnTo>
                    <a:arcTo wR="1369" hR="1369" stAng="10800000" swAng="-5400000"/>
                    <a:lnTo>
                      <a:pt x="20231" y="21636"/>
                    </a:lnTo>
                    <a:arcTo wR="1369" hR="1369" stAng="5400000" swAng="-5400000"/>
                    <a:lnTo>
                      <a:pt x="21600" y="1369"/>
                    </a:lnTo>
                    <a:arcTo wR="1369" hR="1369" stAng="0" swAng="-5400000"/>
                    <a:close/>
                  </a:path>
                </a:pathLst>
              </a:custGeom>
              <a:solidFill>
                <a:srgbClr val="67b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  <p:sp>
            <p:nvSpPr>
              <p:cNvPr id="1897" name="TextBox 21"/>
              <p:cNvSpPr/>
              <p:nvPr/>
            </p:nvSpPr>
            <p:spPr>
              <a:xfrm>
                <a:off x="994320" y="3250800"/>
                <a:ext cx="75981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760" rIns="104760" tIns="52560" bIns="525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Gotham Light"/>
                  </a:rPr>
                  <a:t>Снижение требований к емкости систем хранения данных в ТОФК</a:t>
                </a:r>
                <a:endParaRPr b="0" lang="en-US" sz="16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</p:grpSp>
        <p:sp>
          <p:nvSpPr>
            <p:cNvPr id="1898" name="Прямоугольник 31"/>
            <p:cNvSpPr/>
            <p:nvPr/>
          </p:nvSpPr>
          <p:spPr>
            <a:xfrm>
              <a:off x="552240" y="3603960"/>
              <a:ext cx="8064720" cy="48960"/>
            </a:xfrm>
            <a:prstGeom prst="rect">
              <a:avLst/>
            </a:prstGeom>
            <a:solidFill>
              <a:srgbClr val="67b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899" name="Группа 101"/>
          <p:cNvGrpSpPr/>
          <p:nvPr/>
        </p:nvGrpSpPr>
        <p:grpSpPr>
          <a:xfrm>
            <a:off x="546120" y="3857760"/>
            <a:ext cx="8064360" cy="458640"/>
            <a:chOff x="546120" y="3857760"/>
            <a:chExt cx="8064360" cy="458640"/>
          </a:xfrm>
        </p:grpSpPr>
        <p:grpSp>
          <p:nvGrpSpPr>
            <p:cNvPr id="1900" name="Группа 175"/>
            <p:cNvGrpSpPr/>
            <p:nvPr/>
          </p:nvGrpSpPr>
          <p:grpSpPr>
            <a:xfrm>
              <a:off x="549360" y="3857760"/>
              <a:ext cx="8041320" cy="432000"/>
              <a:chOff x="549360" y="3857760"/>
              <a:chExt cx="8041320" cy="432000"/>
            </a:xfrm>
          </p:grpSpPr>
          <p:sp>
            <p:nvSpPr>
              <p:cNvPr id="1901" name="Скругленный прямоугольник 38"/>
              <p:cNvSpPr/>
              <p:nvPr/>
            </p:nvSpPr>
            <p:spPr>
              <a:xfrm>
                <a:off x="549360" y="3857760"/>
                <a:ext cx="431640" cy="432000"/>
              </a:xfrm>
              <a:custGeom>
                <a:avLst/>
                <a:gdLst>
                  <a:gd name="textAreaLeft" fmla="*/ 7920 w 431640"/>
                  <a:gd name="textAreaRight" fmla="*/ 423720 w 431640"/>
                  <a:gd name="textAreaTop" fmla="*/ 7920 h 432000"/>
                  <a:gd name="textAreaBottom" fmla="*/ 424080 h 432000"/>
                </a:gdLst>
                <a:ahLst/>
                <a:rect l="textAreaLeft" t="textAreaTop" r="textAreaRight" b="textAreaBottom"/>
                <a:pathLst>
                  <a:path w="21600" h="21618">
                    <a:moveTo>
                      <a:pt x="1369" y="0"/>
                    </a:moveTo>
                    <a:arcTo wR="1369" hR="1369" stAng="16200000" swAng="-5400000"/>
                    <a:lnTo>
                      <a:pt x="0" y="20249"/>
                    </a:lnTo>
                    <a:arcTo wR="1369" hR="1369" stAng="10800000" swAng="-5400000"/>
                    <a:lnTo>
                      <a:pt x="20231" y="21618"/>
                    </a:lnTo>
                    <a:arcTo wR="1369" hR="1369" stAng="5400000" swAng="-5400000"/>
                    <a:lnTo>
                      <a:pt x="21600" y="1369"/>
                    </a:lnTo>
                    <a:arcTo wR="1369" hR="1369" stAng="0" swAng="-5400000"/>
                    <a:close/>
                  </a:path>
                </a:pathLst>
              </a:custGeom>
              <a:solidFill>
                <a:srgbClr val="67b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  <p:sp>
            <p:nvSpPr>
              <p:cNvPr id="1902" name="TextBox 21"/>
              <p:cNvSpPr/>
              <p:nvPr/>
            </p:nvSpPr>
            <p:spPr>
              <a:xfrm>
                <a:off x="992880" y="3926520"/>
                <a:ext cx="7597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760" rIns="104760" tIns="52560" bIns="525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Gotham Light"/>
                  </a:rPr>
                  <a:t>Хранение всех версий документа с электронной подписью</a:t>
                </a:r>
                <a:endParaRPr b="0" lang="en-US" sz="16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</p:grpSp>
        <p:sp>
          <p:nvSpPr>
            <p:cNvPr id="1903" name="Прямоугольник 37"/>
            <p:cNvSpPr/>
            <p:nvPr/>
          </p:nvSpPr>
          <p:spPr>
            <a:xfrm>
              <a:off x="546120" y="4267440"/>
              <a:ext cx="8064360" cy="48960"/>
            </a:xfrm>
            <a:prstGeom prst="rect">
              <a:avLst/>
            </a:prstGeom>
            <a:solidFill>
              <a:srgbClr val="67b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904" name="Группа 101"/>
          <p:cNvGrpSpPr/>
          <p:nvPr/>
        </p:nvGrpSpPr>
        <p:grpSpPr>
          <a:xfrm>
            <a:off x="546120" y="4448160"/>
            <a:ext cx="8064360" cy="853920"/>
            <a:chOff x="546120" y="4448160"/>
            <a:chExt cx="8064360" cy="853920"/>
          </a:xfrm>
        </p:grpSpPr>
        <p:grpSp>
          <p:nvGrpSpPr>
            <p:cNvPr id="1905" name="Группа 175"/>
            <p:cNvGrpSpPr/>
            <p:nvPr/>
          </p:nvGrpSpPr>
          <p:grpSpPr>
            <a:xfrm>
              <a:off x="549360" y="4448160"/>
              <a:ext cx="8041320" cy="835560"/>
              <a:chOff x="549360" y="4448160"/>
              <a:chExt cx="8041320" cy="835560"/>
            </a:xfrm>
          </p:grpSpPr>
          <p:sp>
            <p:nvSpPr>
              <p:cNvPr id="1906" name="Скругленный прямоугольник 44"/>
              <p:cNvSpPr/>
              <p:nvPr/>
            </p:nvSpPr>
            <p:spPr>
              <a:xfrm>
                <a:off x="549360" y="4843440"/>
                <a:ext cx="431640" cy="432000"/>
              </a:xfrm>
              <a:custGeom>
                <a:avLst/>
                <a:gdLst>
                  <a:gd name="textAreaLeft" fmla="*/ 7920 w 431640"/>
                  <a:gd name="textAreaRight" fmla="*/ 423720 w 431640"/>
                  <a:gd name="textAreaTop" fmla="*/ 7920 h 432000"/>
                  <a:gd name="textAreaBottom" fmla="*/ 424080 h 432000"/>
                </a:gdLst>
                <a:ahLst/>
                <a:rect l="textAreaLeft" t="textAreaTop" r="textAreaRight" b="textAreaBottom"/>
                <a:pathLst>
                  <a:path w="21600" h="21618">
                    <a:moveTo>
                      <a:pt x="1369" y="0"/>
                    </a:moveTo>
                    <a:arcTo wR="1369" hR="1369" stAng="16200000" swAng="-5400000"/>
                    <a:lnTo>
                      <a:pt x="0" y="20249"/>
                    </a:lnTo>
                    <a:arcTo wR="1369" hR="1369" stAng="10800000" swAng="-5400000"/>
                    <a:lnTo>
                      <a:pt x="20231" y="21618"/>
                    </a:lnTo>
                    <a:arcTo wR="1369" hR="1369" stAng="5400000" swAng="-5400000"/>
                    <a:lnTo>
                      <a:pt x="21600" y="1369"/>
                    </a:lnTo>
                    <a:arcTo wR="1369" hR="1369" stAng="0" swAng="-5400000"/>
                    <a:close/>
                  </a:path>
                </a:pathLst>
              </a:custGeom>
              <a:solidFill>
                <a:srgbClr val="67b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  <p:sp>
            <p:nvSpPr>
              <p:cNvPr id="1907" name="TextBox 21"/>
              <p:cNvSpPr/>
              <p:nvPr/>
            </p:nvSpPr>
            <p:spPr>
              <a:xfrm>
                <a:off x="992880" y="4448160"/>
                <a:ext cx="759780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760" rIns="104760" tIns="52560" bIns="525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Gotham Light"/>
                  </a:rPr>
                  <a:t>Контроль срока архивного хранения электронных документов и обеспечение удаления документов из электронного архива по истечении установленного срока</a:t>
                </a:r>
                <a:endParaRPr b="0" lang="en-US" sz="16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</p:grpSp>
        <p:sp>
          <p:nvSpPr>
            <p:cNvPr id="1908" name="Прямоугольник 43"/>
            <p:cNvSpPr/>
            <p:nvPr/>
          </p:nvSpPr>
          <p:spPr>
            <a:xfrm>
              <a:off x="546120" y="5253120"/>
              <a:ext cx="8064360" cy="48960"/>
            </a:xfrm>
            <a:prstGeom prst="rect">
              <a:avLst/>
            </a:prstGeom>
            <a:solidFill>
              <a:srgbClr val="67b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909" name="Группа 101"/>
          <p:cNvGrpSpPr/>
          <p:nvPr/>
        </p:nvGrpSpPr>
        <p:grpSpPr>
          <a:xfrm>
            <a:off x="547560" y="5514840"/>
            <a:ext cx="8064720" cy="603360"/>
            <a:chOff x="547560" y="5514840"/>
            <a:chExt cx="8064720" cy="603360"/>
          </a:xfrm>
        </p:grpSpPr>
        <p:grpSp>
          <p:nvGrpSpPr>
            <p:cNvPr id="1910" name="Группа 175"/>
            <p:cNvGrpSpPr/>
            <p:nvPr/>
          </p:nvGrpSpPr>
          <p:grpSpPr>
            <a:xfrm>
              <a:off x="547560" y="5514840"/>
              <a:ext cx="8040240" cy="592200"/>
              <a:chOff x="547560" y="5514840"/>
              <a:chExt cx="8040240" cy="592200"/>
            </a:xfrm>
          </p:grpSpPr>
          <p:sp>
            <p:nvSpPr>
              <p:cNvPr id="1911" name="Скругленный прямоугольник 50"/>
              <p:cNvSpPr/>
              <p:nvPr/>
            </p:nvSpPr>
            <p:spPr>
              <a:xfrm>
                <a:off x="547560" y="5659200"/>
                <a:ext cx="431640" cy="433440"/>
              </a:xfrm>
              <a:custGeom>
                <a:avLst/>
                <a:gdLst>
                  <a:gd name="textAreaLeft" fmla="*/ 7920 w 431640"/>
                  <a:gd name="textAreaRight" fmla="*/ 423720 w 431640"/>
                  <a:gd name="textAreaTop" fmla="*/ 7920 h 433440"/>
                  <a:gd name="textAreaBottom" fmla="*/ 425520 h 433440"/>
                </a:gdLst>
                <a:ahLst/>
                <a:rect l="textAreaLeft" t="textAreaTop" r="textAreaRight" b="textAreaBottom"/>
                <a:pathLst>
                  <a:path w="21600" h="21690">
                    <a:moveTo>
                      <a:pt x="1369" y="0"/>
                    </a:moveTo>
                    <a:arcTo wR="1369" hR="1369" stAng="16200000" swAng="-5400000"/>
                    <a:lnTo>
                      <a:pt x="0" y="20321"/>
                    </a:lnTo>
                    <a:arcTo wR="1369" hR="1369" stAng="10800000" swAng="-5400000"/>
                    <a:lnTo>
                      <a:pt x="20231" y="21690"/>
                    </a:lnTo>
                    <a:arcTo wR="1369" hR="1369" stAng="5400000" swAng="-5400000"/>
                    <a:lnTo>
                      <a:pt x="21600" y="1369"/>
                    </a:lnTo>
                    <a:arcTo wR="1369" hR="1369" stAng="0" swAng="-5400000"/>
                    <a:close/>
                  </a:path>
                </a:pathLst>
              </a:custGeom>
              <a:solidFill>
                <a:srgbClr val="67b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  <p:sp>
            <p:nvSpPr>
              <p:cNvPr id="1912" name="TextBox 21"/>
              <p:cNvSpPr/>
              <p:nvPr/>
            </p:nvSpPr>
            <p:spPr>
              <a:xfrm>
                <a:off x="990720" y="5514840"/>
                <a:ext cx="759708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760" rIns="104760" tIns="52560" bIns="525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Gotham Light"/>
                  </a:rPr>
                  <a:t>Возможность формирования документов и отчетов, необходимых в ходе ведения электронного архива</a:t>
                </a:r>
                <a:endParaRPr b="0" lang="en-US" sz="1600" spc="-1" strike="noStrike">
                  <a:solidFill>
                    <a:srgbClr val="a2a2a2"/>
                  </a:solidFill>
                  <a:latin typeface="Lato Light"/>
                </a:endParaRPr>
              </a:p>
            </p:txBody>
          </p:sp>
        </p:grpSp>
        <p:sp>
          <p:nvSpPr>
            <p:cNvPr id="1913" name="Прямоугольник 49"/>
            <p:cNvSpPr/>
            <p:nvPr/>
          </p:nvSpPr>
          <p:spPr>
            <a:xfrm>
              <a:off x="549000" y="6069240"/>
              <a:ext cx="8063280" cy="48960"/>
            </a:xfrm>
            <a:prstGeom prst="rect">
              <a:avLst/>
            </a:prstGeom>
            <a:solidFill>
              <a:srgbClr val="67b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914" name="Freeform 16"/>
          <p:cNvSpPr/>
          <p:nvPr/>
        </p:nvSpPr>
        <p:spPr>
          <a:xfrm>
            <a:off x="555480" y="2552760"/>
            <a:ext cx="433440" cy="431640"/>
          </a:xfrm>
          <a:custGeom>
            <a:avLst/>
            <a:gdLst/>
            <a:ahLst/>
            <a:rect l="l" t="t" r="r" b="b"/>
            <a:pathLst>
              <a:path w="2181" h="2177">
                <a:moveTo>
                  <a:pt x="2074" y="893"/>
                </a:moveTo>
                <a:lnTo>
                  <a:pt x="2074" y="893"/>
                </a:lnTo>
                <a:lnTo>
                  <a:pt x="1689" y="893"/>
                </a:lnTo>
                <a:lnTo>
                  <a:pt x="1577" y="522"/>
                </a:lnTo>
                <a:cubicBezTo>
                  <a:pt x="1560" y="469"/>
                  <a:pt x="1499" y="422"/>
                  <a:pt x="1445" y="414"/>
                </a:cubicBezTo>
                <a:lnTo>
                  <a:pt x="961" y="348"/>
                </a:lnTo>
                <a:cubicBezTo>
                  <a:pt x="921" y="342"/>
                  <a:pt x="882" y="359"/>
                  <a:pt x="859" y="392"/>
                </a:cubicBezTo>
                <a:lnTo>
                  <a:pt x="606" y="747"/>
                </a:lnTo>
                <a:cubicBezTo>
                  <a:pt x="572" y="796"/>
                  <a:pt x="584" y="863"/>
                  <a:pt x="632" y="897"/>
                </a:cubicBezTo>
                <a:cubicBezTo>
                  <a:pt x="651" y="910"/>
                  <a:pt x="672" y="917"/>
                  <a:pt x="694" y="917"/>
                </a:cubicBezTo>
                <a:cubicBezTo>
                  <a:pt x="727" y="917"/>
                  <a:pt x="760" y="901"/>
                  <a:pt x="781" y="872"/>
                </a:cubicBezTo>
                <a:lnTo>
                  <a:pt x="996" y="569"/>
                </a:lnTo>
                <a:lnTo>
                  <a:pt x="1193" y="597"/>
                </a:lnTo>
                <a:lnTo>
                  <a:pt x="614" y="1439"/>
                </a:lnTo>
                <a:lnTo>
                  <a:pt x="107" y="1439"/>
                </a:lnTo>
                <a:cubicBezTo>
                  <a:pt x="48" y="1439"/>
                  <a:pt x="0" y="1487"/>
                  <a:pt x="0" y="1547"/>
                </a:cubicBezTo>
                <a:cubicBezTo>
                  <a:pt x="0" y="1606"/>
                  <a:pt x="48" y="1654"/>
                  <a:pt x="107" y="1654"/>
                </a:cubicBezTo>
                <a:lnTo>
                  <a:pt x="671" y="1654"/>
                </a:lnTo>
                <a:cubicBezTo>
                  <a:pt x="706" y="1654"/>
                  <a:pt x="739" y="1636"/>
                  <a:pt x="759" y="1607"/>
                </a:cubicBezTo>
                <a:lnTo>
                  <a:pt x="999" y="1257"/>
                </a:lnTo>
                <a:lnTo>
                  <a:pt x="1343" y="1536"/>
                </a:lnTo>
                <a:lnTo>
                  <a:pt x="1061" y="2016"/>
                </a:lnTo>
                <a:cubicBezTo>
                  <a:pt x="1031" y="2067"/>
                  <a:pt x="1047" y="2133"/>
                  <a:pt x="1099" y="2162"/>
                </a:cubicBezTo>
                <a:cubicBezTo>
                  <a:pt x="1116" y="2173"/>
                  <a:pt x="1134" y="2177"/>
                  <a:pt x="1153" y="2177"/>
                </a:cubicBezTo>
                <a:cubicBezTo>
                  <a:pt x="1190" y="2177"/>
                  <a:pt x="1225" y="2159"/>
                  <a:pt x="1245" y="2125"/>
                </a:cubicBezTo>
                <a:lnTo>
                  <a:pt x="1575" y="1566"/>
                </a:lnTo>
                <a:cubicBezTo>
                  <a:pt x="1602" y="1520"/>
                  <a:pt x="1591" y="1462"/>
                  <a:pt x="1550" y="1428"/>
                </a:cubicBezTo>
                <a:lnTo>
                  <a:pt x="1213" y="1154"/>
                </a:lnTo>
                <a:lnTo>
                  <a:pt x="1443" y="820"/>
                </a:lnTo>
                <a:lnTo>
                  <a:pt x="1507" y="1031"/>
                </a:lnTo>
                <a:cubicBezTo>
                  <a:pt x="1520" y="1077"/>
                  <a:pt x="1562" y="1108"/>
                  <a:pt x="1609" y="1108"/>
                </a:cubicBezTo>
                <a:lnTo>
                  <a:pt x="2074" y="1108"/>
                </a:lnTo>
                <a:cubicBezTo>
                  <a:pt x="2133" y="1108"/>
                  <a:pt x="2181" y="1060"/>
                  <a:pt x="2181" y="1000"/>
                </a:cubicBezTo>
                <a:cubicBezTo>
                  <a:pt x="2181" y="941"/>
                  <a:pt x="2133" y="893"/>
                  <a:pt x="2074" y="893"/>
                </a:cubicBezTo>
                <a:close/>
                <a:moveTo>
                  <a:pt x="1567" y="412"/>
                </a:moveTo>
                <a:lnTo>
                  <a:pt x="1567" y="412"/>
                </a:lnTo>
                <a:cubicBezTo>
                  <a:pt x="1666" y="467"/>
                  <a:pt x="1790" y="431"/>
                  <a:pt x="1845" y="332"/>
                </a:cubicBezTo>
                <a:cubicBezTo>
                  <a:pt x="1899" y="233"/>
                  <a:pt x="1863" y="109"/>
                  <a:pt x="1764" y="55"/>
                </a:cubicBezTo>
                <a:cubicBezTo>
                  <a:pt x="1666" y="0"/>
                  <a:pt x="1541" y="36"/>
                  <a:pt x="1487" y="135"/>
                </a:cubicBezTo>
                <a:cubicBezTo>
                  <a:pt x="1432" y="234"/>
                  <a:pt x="1468" y="358"/>
                  <a:pt x="1567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915" name="Freeform 16"/>
          <p:cNvSpPr/>
          <p:nvPr/>
        </p:nvSpPr>
        <p:spPr>
          <a:xfrm>
            <a:off x="581040" y="4879800"/>
            <a:ext cx="360360" cy="360360"/>
          </a:xfrm>
          <a:custGeom>
            <a:avLst/>
            <a:gdLst/>
            <a:ahLst/>
            <a:rect l="l" t="t" r="r" b="b"/>
            <a:pathLst>
              <a:path w="2334" h="2333">
                <a:moveTo>
                  <a:pt x="1743" y="715"/>
                </a:moveTo>
                <a:lnTo>
                  <a:pt x="1743" y="715"/>
                </a:lnTo>
                <a:lnTo>
                  <a:pt x="1342" y="1108"/>
                </a:lnTo>
                <a:cubicBezTo>
                  <a:pt x="1348" y="1126"/>
                  <a:pt x="1352" y="1146"/>
                  <a:pt x="1352" y="1167"/>
                </a:cubicBezTo>
                <a:cubicBezTo>
                  <a:pt x="1352" y="1269"/>
                  <a:pt x="1269" y="1352"/>
                  <a:pt x="1167" y="1352"/>
                </a:cubicBezTo>
                <a:cubicBezTo>
                  <a:pt x="1065" y="1352"/>
                  <a:pt x="982" y="1269"/>
                  <a:pt x="982" y="1167"/>
                </a:cubicBezTo>
                <a:cubicBezTo>
                  <a:pt x="982" y="1141"/>
                  <a:pt x="987" y="1117"/>
                  <a:pt x="996" y="1095"/>
                </a:cubicBezTo>
                <a:lnTo>
                  <a:pt x="492" y="524"/>
                </a:lnTo>
                <a:cubicBezTo>
                  <a:pt x="463" y="490"/>
                  <a:pt x="466" y="440"/>
                  <a:pt x="499" y="410"/>
                </a:cubicBezTo>
                <a:cubicBezTo>
                  <a:pt x="533" y="381"/>
                  <a:pt x="584" y="384"/>
                  <a:pt x="613" y="417"/>
                </a:cubicBezTo>
                <a:lnTo>
                  <a:pt x="1117" y="989"/>
                </a:lnTo>
                <a:cubicBezTo>
                  <a:pt x="1133" y="984"/>
                  <a:pt x="1150" y="982"/>
                  <a:pt x="1167" y="982"/>
                </a:cubicBezTo>
                <a:cubicBezTo>
                  <a:pt x="1189" y="982"/>
                  <a:pt x="1210" y="986"/>
                  <a:pt x="1229" y="993"/>
                </a:cubicBezTo>
                <a:lnTo>
                  <a:pt x="1631" y="600"/>
                </a:lnTo>
                <a:cubicBezTo>
                  <a:pt x="1662" y="568"/>
                  <a:pt x="1713" y="569"/>
                  <a:pt x="1744" y="601"/>
                </a:cubicBezTo>
                <a:cubicBezTo>
                  <a:pt x="1776" y="632"/>
                  <a:pt x="1775" y="684"/>
                  <a:pt x="1743" y="715"/>
                </a:cubicBezTo>
                <a:close/>
                <a:moveTo>
                  <a:pt x="1167" y="0"/>
                </a:moveTo>
                <a:lnTo>
                  <a:pt x="1167" y="0"/>
                </a:lnTo>
                <a:cubicBezTo>
                  <a:pt x="523" y="0"/>
                  <a:pt x="0" y="522"/>
                  <a:pt x="0" y="1167"/>
                </a:cubicBezTo>
                <a:cubicBezTo>
                  <a:pt x="0" y="1811"/>
                  <a:pt x="523" y="2333"/>
                  <a:pt x="1167" y="2333"/>
                </a:cubicBezTo>
                <a:cubicBezTo>
                  <a:pt x="1811" y="2333"/>
                  <a:pt x="2334" y="1811"/>
                  <a:pt x="2334" y="1167"/>
                </a:cubicBezTo>
                <a:cubicBezTo>
                  <a:pt x="2334" y="522"/>
                  <a:pt x="1811" y="0"/>
                  <a:pt x="116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916" name="Freeform 9"/>
          <p:cNvSpPr/>
          <p:nvPr/>
        </p:nvSpPr>
        <p:spPr>
          <a:xfrm>
            <a:off x="577800" y="1881360"/>
            <a:ext cx="397080" cy="395280"/>
          </a:xfrm>
          <a:custGeom>
            <a:avLst/>
            <a:gdLst/>
            <a:ahLst/>
            <a:rect l="l" t="t" r="r" b="b"/>
            <a:pathLst>
              <a:path w="3018" h="2258">
                <a:moveTo>
                  <a:pt x="3017" y="945"/>
                </a:moveTo>
                <a:lnTo>
                  <a:pt x="3017" y="945"/>
                </a:lnTo>
                <a:cubicBezTo>
                  <a:pt x="2967" y="789"/>
                  <a:pt x="2907" y="602"/>
                  <a:pt x="2898" y="572"/>
                </a:cubicBezTo>
                <a:cubicBezTo>
                  <a:pt x="2869" y="483"/>
                  <a:pt x="2827" y="420"/>
                  <a:pt x="2723" y="420"/>
                </a:cubicBezTo>
                <a:lnTo>
                  <a:pt x="2294" y="420"/>
                </a:lnTo>
                <a:cubicBezTo>
                  <a:pt x="2190" y="420"/>
                  <a:pt x="2148" y="483"/>
                  <a:pt x="2119" y="572"/>
                </a:cubicBezTo>
                <a:cubicBezTo>
                  <a:pt x="2110" y="600"/>
                  <a:pt x="2057" y="768"/>
                  <a:pt x="2009" y="918"/>
                </a:cubicBezTo>
                <a:cubicBezTo>
                  <a:pt x="1962" y="768"/>
                  <a:pt x="1908" y="600"/>
                  <a:pt x="1899" y="572"/>
                </a:cubicBezTo>
                <a:cubicBezTo>
                  <a:pt x="1871" y="483"/>
                  <a:pt x="1829" y="420"/>
                  <a:pt x="1724" y="420"/>
                </a:cubicBezTo>
                <a:lnTo>
                  <a:pt x="1296" y="420"/>
                </a:lnTo>
                <a:cubicBezTo>
                  <a:pt x="1191" y="420"/>
                  <a:pt x="1149" y="483"/>
                  <a:pt x="1121" y="572"/>
                </a:cubicBezTo>
                <a:cubicBezTo>
                  <a:pt x="1112" y="601"/>
                  <a:pt x="1058" y="770"/>
                  <a:pt x="1010" y="920"/>
                </a:cubicBezTo>
                <a:cubicBezTo>
                  <a:pt x="962" y="770"/>
                  <a:pt x="908" y="601"/>
                  <a:pt x="899" y="572"/>
                </a:cubicBezTo>
                <a:cubicBezTo>
                  <a:pt x="870" y="483"/>
                  <a:pt x="828" y="420"/>
                  <a:pt x="724" y="420"/>
                </a:cubicBezTo>
                <a:lnTo>
                  <a:pt x="295" y="420"/>
                </a:lnTo>
                <a:cubicBezTo>
                  <a:pt x="191" y="420"/>
                  <a:pt x="149" y="483"/>
                  <a:pt x="120" y="572"/>
                </a:cubicBezTo>
                <a:cubicBezTo>
                  <a:pt x="111" y="602"/>
                  <a:pt x="51" y="789"/>
                  <a:pt x="1" y="945"/>
                </a:cubicBezTo>
                <a:cubicBezTo>
                  <a:pt x="1" y="962"/>
                  <a:pt x="0" y="978"/>
                  <a:pt x="0" y="994"/>
                </a:cubicBezTo>
                <a:cubicBezTo>
                  <a:pt x="0" y="1089"/>
                  <a:pt x="9" y="1181"/>
                  <a:pt x="26" y="1271"/>
                </a:cubicBezTo>
                <a:cubicBezTo>
                  <a:pt x="55" y="1266"/>
                  <a:pt x="80" y="1245"/>
                  <a:pt x="89" y="1215"/>
                </a:cubicBezTo>
                <a:lnTo>
                  <a:pt x="254" y="708"/>
                </a:lnTo>
                <a:lnTo>
                  <a:pt x="273" y="708"/>
                </a:lnTo>
                <a:lnTo>
                  <a:pt x="273" y="1860"/>
                </a:lnTo>
                <a:cubicBezTo>
                  <a:pt x="337" y="1951"/>
                  <a:pt x="409" y="2034"/>
                  <a:pt x="490" y="2108"/>
                </a:cubicBezTo>
                <a:lnTo>
                  <a:pt x="490" y="1305"/>
                </a:lnTo>
                <a:lnTo>
                  <a:pt x="529" y="1305"/>
                </a:lnTo>
                <a:lnTo>
                  <a:pt x="529" y="2142"/>
                </a:lnTo>
                <a:cubicBezTo>
                  <a:pt x="575" y="2181"/>
                  <a:pt x="623" y="2218"/>
                  <a:pt x="673" y="2251"/>
                </a:cubicBezTo>
                <a:cubicBezTo>
                  <a:pt x="715" y="2237"/>
                  <a:pt x="746" y="2197"/>
                  <a:pt x="746" y="2149"/>
                </a:cubicBezTo>
                <a:lnTo>
                  <a:pt x="746" y="708"/>
                </a:lnTo>
                <a:lnTo>
                  <a:pt x="765" y="708"/>
                </a:lnTo>
                <a:lnTo>
                  <a:pt x="930" y="1215"/>
                </a:lnTo>
                <a:cubicBezTo>
                  <a:pt x="940" y="1248"/>
                  <a:pt x="970" y="1270"/>
                  <a:pt x="1002" y="1273"/>
                </a:cubicBezTo>
                <a:cubicBezTo>
                  <a:pt x="1005" y="1273"/>
                  <a:pt x="1007" y="1273"/>
                  <a:pt x="1010" y="1273"/>
                </a:cubicBezTo>
                <a:cubicBezTo>
                  <a:pt x="1012" y="1273"/>
                  <a:pt x="1015" y="1273"/>
                  <a:pt x="1017" y="1273"/>
                </a:cubicBezTo>
                <a:cubicBezTo>
                  <a:pt x="1050" y="1270"/>
                  <a:pt x="1079" y="1248"/>
                  <a:pt x="1089" y="1215"/>
                </a:cubicBezTo>
                <a:lnTo>
                  <a:pt x="1255" y="708"/>
                </a:lnTo>
                <a:lnTo>
                  <a:pt x="1274" y="708"/>
                </a:lnTo>
                <a:lnTo>
                  <a:pt x="1274" y="2149"/>
                </a:lnTo>
                <a:cubicBezTo>
                  <a:pt x="1274" y="2209"/>
                  <a:pt x="1322" y="2258"/>
                  <a:pt x="1382" y="2258"/>
                </a:cubicBezTo>
                <a:cubicBezTo>
                  <a:pt x="1442" y="2258"/>
                  <a:pt x="1491" y="2209"/>
                  <a:pt x="1491" y="2149"/>
                </a:cubicBezTo>
                <a:lnTo>
                  <a:pt x="1491" y="1305"/>
                </a:lnTo>
                <a:lnTo>
                  <a:pt x="1529" y="1305"/>
                </a:lnTo>
                <a:lnTo>
                  <a:pt x="1529" y="2149"/>
                </a:lnTo>
                <a:cubicBezTo>
                  <a:pt x="1529" y="2209"/>
                  <a:pt x="1578" y="2258"/>
                  <a:pt x="1638" y="2258"/>
                </a:cubicBezTo>
                <a:cubicBezTo>
                  <a:pt x="1698" y="2258"/>
                  <a:pt x="1746" y="2209"/>
                  <a:pt x="1746" y="2149"/>
                </a:cubicBezTo>
                <a:lnTo>
                  <a:pt x="1746" y="708"/>
                </a:lnTo>
                <a:lnTo>
                  <a:pt x="1765" y="708"/>
                </a:lnTo>
                <a:lnTo>
                  <a:pt x="1929" y="1209"/>
                </a:lnTo>
                <a:cubicBezTo>
                  <a:pt x="1935" y="1237"/>
                  <a:pt x="1956" y="1261"/>
                  <a:pt x="1985" y="1270"/>
                </a:cubicBezTo>
                <a:cubicBezTo>
                  <a:pt x="1993" y="1272"/>
                  <a:pt x="2001" y="1273"/>
                  <a:pt x="2009" y="1273"/>
                </a:cubicBezTo>
                <a:cubicBezTo>
                  <a:pt x="2017" y="1273"/>
                  <a:pt x="2026" y="1272"/>
                  <a:pt x="2034" y="1270"/>
                </a:cubicBezTo>
                <a:cubicBezTo>
                  <a:pt x="2063" y="1261"/>
                  <a:pt x="2083" y="1237"/>
                  <a:pt x="2090" y="1209"/>
                </a:cubicBezTo>
                <a:lnTo>
                  <a:pt x="2253" y="708"/>
                </a:lnTo>
                <a:lnTo>
                  <a:pt x="2272" y="708"/>
                </a:lnTo>
                <a:lnTo>
                  <a:pt x="2272" y="2149"/>
                </a:lnTo>
                <a:cubicBezTo>
                  <a:pt x="2272" y="2197"/>
                  <a:pt x="2303" y="2237"/>
                  <a:pt x="2345" y="2251"/>
                </a:cubicBezTo>
                <a:cubicBezTo>
                  <a:pt x="2395" y="2218"/>
                  <a:pt x="2444" y="2181"/>
                  <a:pt x="2489" y="2142"/>
                </a:cubicBezTo>
                <a:lnTo>
                  <a:pt x="2489" y="1305"/>
                </a:lnTo>
                <a:lnTo>
                  <a:pt x="2528" y="1305"/>
                </a:lnTo>
                <a:lnTo>
                  <a:pt x="2528" y="2108"/>
                </a:lnTo>
                <a:cubicBezTo>
                  <a:pt x="2609" y="2034"/>
                  <a:pt x="2682" y="1951"/>
                  <a:pt x="2745" y="1860"/>
                </a:cubicBezTo>
                <a:lnTo>
                  <a:pt x="2745" y="708"/>
                </a:lnTo>
                <a:lnTo>
                  <a:pt x="2764" y="708"/>
                </a:lnTo>
                <a:lnTo>
                  <a:pt x="2929" y="1215"/>
                </a:lnTo>
                <a:cubicBezTo>
                  <a:pt x="2938" y="1245"/>
                  <a:pt x="2963" y="1266"/>
                  <a:pt x="2992" y="1271"/>
                </a:cubicBezTo>
                <a:cubicBezTo>
                  <a:pt x="3009" y="1181"/>
                  <a:pt x="3018" y="1089"/>
                  <a:pt x="3018" y="994"/>
                </a:cubicBezTo>
                <a:cubicBezTo>
                  <a:pt x="3018" y="978"/>
                  <a:pt x="3017" y="961"/>
                  <a:pt x="3017" y="945"/>
                </a:cubicBezTo>
                <a:close/>
                <a:moveTo>
                  <a:pt x="509" y="379"/>
                </a:moveTo>
                <a:lnTo>
                  <a:pt x="509" y="379"/>
                </a:lnTo>
                <a:cubicBezTo>
                  <a:pt x="613" y="379"/>
                  <a:pt x="698" y="294"/>
                  <a:pt x="698" y="189"/>
                </a:cubicBezTo>
                <a:cubicBezTo>
                  <a:pt x="698" y="85"/>
                  <a:pt x="613" y="0"/>
                  <a:pt x="509" y="0"/>
                </a:cubicBezTo>
                <a:cubicBezTo>
                  <a:pt x="404" y="0"/>
                  <a:pt x="319" y="85"/>
                  <a:pt x="319" y="189"/>
                </a:cubicBezTo>
                <a:cubicBezTo>
                  <a:pt x="319" y="294"/>
                  <a:pt x="404" y="379"/>
                  <a:pt x="509" y="379"/>
                </a:cubicBezTo>
                <a:close/>
                <a:moveTo>
                  <a:pt x="1509" y="379"/>
                </a:moveTo>
                <a:lnTo>
                  <a:pt x="1509" y="379"/>
                </a:lnTo>
                <a:cubicBezTo>
                  <a:pt x="1614" y="379"/>
                  <a:pt x="1698" y="294"/>
                  <a:pt x="1698" y="189"/>
                </a:cubicBezTo>
                <a:cubicBezTo>
                  <a:pt x="1698" y="85"/>
                  <a:pt x="1614" y="0"/>
                  <a:pt x="1509" y="0"/>
                </a:cubicBezTo>
                <a:cubicBezTo>
                  <a:pt x="1405" y="0"/>
                  <a:pt x="1320" y="85"/>
                  <a:pt x="1320" y="189"/>
                </a:cubicBezTo>
                <a:cubicBezTo>
                  <a:pt x="1320" y="294"/>
                  <a:pt x="1405" y="379"/>
                  <a:pt x="1509" y="379"/>
                </a:cubicBezTo>
                <a:close/>
                <a:moveTo>
                  <a:pt x="2508" y="379"/>
                </a:moveTo>
                <a:lnTo>
                  <a:pt x="2508" y="379"/>
                </a:lnTo>
                <a:cubicBezTo>
                  <a:pt x="2612" y="379"/>
                  <a:pt x="2697" y="294"/>
                  <a:pt x="2697" y="189"/>
                </a:cubicBezTo>
                <a:cubicBezTo>
                  <a:pt x="2697" y="85"/>
                  <a:pt x="2612" y="0"/>
                  <a:pt x="2508" y="0"/>
                </a:cubicBezTo>
                <a:cubicBezTo>
                  <a:pt x="2403" y="0"/>
                  <a:pt x="2318" y="85"/>
                  <a:pt x="2318" y="189"/>
                </a:cubicBezTo>
                <a:cubicBezTo>
                  <a:pt x="2318" y="294"/>
                  <a:pt x="2403" y="379"/>
                  <a:pt x="2508" y="3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917" name="Группа 85"/>
          <p:cNvGrpSpPr/>
          <p:nvPr/>
        </p:nvGrpSpPr>
        <p:grpSpPr>
          <a:xfrm>
            <a:off x="592200" y="3251160"/>
            <a:ext cx="360360" cy="324000"/>
            <a:chOff x="592200" y="3251160"/>
            <a:chExt cx="360360" cy="324000"/>
          </a:xfrm>
        </p:grpSpPr>
        <p:sp>
          <p:nvSpPr>
            <p:cNvPr id="1918" name="Freeform 13"/>
            <p:cNvSpPr/>
            <p:nvPr/>
          </p:nvSpPr>
          <p:spPr>
            <a:xfrm>
              <a:off x="596880" y="3257280"/>
              <a:ext cx="346320" cy="311400"/>
            </a:xfrm>
            <a:custGeom>
              <a:avLst/>
              <a:gdLst/>
              <a:ahLst/>
              <a:rect l="l" t="t" r="r" b="b"/>
              <a:pathLst>
                <a:path w="15859" h="12172">
                  <a:moveTo>
                    <a:pt x="12555" y="6922"/>
                  </a:moveTo>
                  <a:lnTo>
                    <a:pt x="12635" y="6933"/>
                  </a:lnTo>
                  <a:lnTo>
                    <a:pt x="12717" y="6945"/>
                  </a:lnTo>
                  <a:lnTo>
                    <a:pt x="12799" y="6955"/>
                  </a:lnTo>
                  <a:lnTo>
                    <a:pt x="12883" y="6964"/>
                  </a:lnTo>
                  <a:lnTo>
                    <a:pt x="12969" y="6972"/>
                  </a:lnTo>
                  <a:lnTo>
                    <a:pt x="13056" y="6981"/>
                  </a:lnTo>
                  <a:lnTo>
                    <a:pt x="13142" y="6988"/>
                  </a:lnTo>
                  <a:lnTo>
                    <a:pt x="13231" y="6995"/>
                  </a:lnTo>
                  <a:lnTo>
                    <a:pt x="13319" y="7000"/>
                  </a:lnTo>
                  <a:lnTo>
                    <a:pt x="13409" y="7006"/>
                  </a:lnTo>
                  <a:lnTo>
                    <a:pt x="13500" y="7011"/>
                  </a:lnTo>
                  <a:lnTo>
                    <a:pt x="13590" y="7015"/>
                  </a:lnTo>
                  <a:lnTo>
                    <a:pt x="13681" y="7019"/>
                  </a:lnTo>
                  <a:lnTo>
                    <a:pt x="13773" y="7021"/>
                  </a:lnTo>
                  <a:lnTo>
                    <a:pt x="13864" y="7023"/>
                  </a:lnTo>
                  <a:lnTo>
                    <a:pt x="13956" y="7025"/>
                  </a:lnTo>
                  <a:lnTo>
                    <a:pt x="13844" y="7026"/>
                  </a:lnTo>
                  <a:lnTo>
                    <a:pt x="13731" y="7026"/>
                  </a:lnTo>
                  <a:lnTo>
                    <a:pt x="13618" y="7025"/>
                  </a:lnTo>
                  <a:lnTo>
                    <a:pt x="13506" y="7023"/>
                  </a:lnTo>
                  <a:lnTo>
                    <a:pt x="13393" y="7020"/>
                  </a:lnTo>
                  <a:lnTo>
                    <a:pt x="13281" y="7016"/>
                  </a:lnTo>
                  <a:lnTo>
                    <a:pt x="13170" y="7011"/>
                  </a:lnTo>
                  <a:lnTo>
                    <a:pt x="13059" y="7005"/>
                  </a:lnTo>
                  <a:lnTo>
                    <a:pt x="12949" y="6998"/>
                  </a:lnTo>
                  <a:lnTo>
                    <a:pt x="12841" y="6990"/>
                  </a:lnTo>
                  <a:lnTo>
                    <a:pt x="12733" y="6982"/>
                  </a:lnTo>
                  <a:lnTo>
                    <a:pt x="12628" y="6971"/>
                  </a:lnTo>
                  <a:lnTo>
                    <a:pt x="12524" y="6961"/>
                  </a:lnTo>
                  <a:lnTo>
                    <a:pt x="12421" y="6949"/>
                  </a:lnTo>
                  <a:lnTo>
                    <a:pt x="12321" y="6936"/>
                  </a:lnTo>
                  <a:lnTo>
                    <a:pt x="12222" y="6922"/>
                  </a:lnTo>
                  <a:lnTo>
                    <a:pt x="12116" y="6905"/>
                  </a:lnTo>
                  <a:lnTo>
                    <a:pt x="12015" y="6888"/>
                  </a:lnTo>
                  <a:lnTo>
                    <a:pt x="11919" y="6870"/>
                  </a:lnTo>
                  <a:lnTo>
                    <a:pt x="11830" y="6851"/>
                  </a:lnTo>
                  <a:lnTo>
                    <a:pt x="11745" y="6831"/>
                  </a:lnTo>
                  <a:lnTo>
                    <a:pt x="11667" y="6811"/>
                  </a:lnTo>
                  <a:lnTo>
                    <a:pt x="11594" y="6790"/>
                  </a:lnTo>
                  <a:lnTo>
                    <a:pt x="11526" y="6768"/>
                  </a:lnTo>
                  <a:lnTo>
                    <a:pt x="11464" y="6746"/>
                  </a:lnTo>
                  <a:lnTo>
                    <a:pt x="11408" y="6723"/>
                  </a:lnTo>
                  <a:lnTo>
                    <a:pt x="11358" y="6700"/>
                  </a:lnTo>
                  <a:lnTo>
                    <a:pt x="11313" y="6677"/>
                  </a:lnTo>
                  <a:lnTo>
                    <a:pt x="11274" y="6653"/>
                  </a:lnTo>
                  <a:lnTo>
                    <a:pt x="11241" y="6628"/>
                  </a:lnTo>
                  <a:lnTo>
                    <a:pt x="11214" y="6603"/>
                  </a:lnTo>
                  <a:lnTo>
                    <a:pt x="11193" y="6580"/>
                  </a:lnTo>
                  <a:lnTo>
                    <a:pt x="11178" y="6554"/>
                  </a:lnTo>
                  <a:lnTo>
                    <a:pt x="11169" y="6529"/>
                  </a:lnTo>
                  <a:lnTo>
                    <a:pt x="11166" y="6504"/>
                  </a:lnTo>
                  <a:lnTo>
                    <a:pt x="11168" y="6479"/>
                  </a:lnTo>
                  <a:lnTo>
                    <a:pt x="11177" y="6454"/>
                  </a:lnTo>
                  <a:lnTo>
                    <a:pt x="11193" y="6429"/>
                  </a:lnTo>
                  <a:lnTo>
                    <a:pt x="11213" y="6405"/>
                  </a:lnTo>
                  <a:lnTo>
                    <a:pt x="11241" y="6380"/>
                  </a:lnTo>
                  <a:lnTo>
                    <a:pt x="11274" y="6355"/>
                  </a:lnTo>
                  <a:lnTo>
                    <a:pt x="11314" y="6330"/>
                  </a:lnTo>
                  <a:lnTo>
                    <a:pt x="11361" y="6307"/>
                  </a:lnTo>
                  <a:lnTo>
                    <a:pt x="11413" y="6283"/>
                  </a:lnTo>
                  <a:lnTo>
                    <a:pt x="11472" y="6259"/>
                  </a:lnTo>
                  <a:lnTo>
                    <a:pt x="11537" y="6236"/>
                  </a:lnTo>
                  <a:lnTo>
                    <a:pt x="11609" y="6214"/>
                  </a:lnTo>
                  <a:lnTo>
                    <a:pt x="11686" y="6192"/>
                  </a:lnTo>
                  <a:lnTo>
                    <a:pt x="11739" y="6179"/>
                  </a:lnTo>
                  <a:lnTo>
                    <a:pt x="11793" y="6165"/>
                  </a:lnTo>
                  <a:lnTo>
                    <a:pt x="11850" y="6153"/>
                  </a:lnTo>
                  <a:lnTo>
                    <a:pt x="11908" y="6141"/>
                  </a:lnTo>
                  <a:lnTo>
                    <a:pt x="11967" y="6128"/>
                  </a:lnTo>
                  <a:lnTo>
                    <a:pt x="12027" y="6117"/>
                  </a:lnTo>
                  <a:lnTo>
                    <a:pt x="12090" y="6107"/>
                  </a:lnTo>
                  <a:lnTo>
                    <a:pt x="12154" y="6096"/>
                  </a:lnTo>
                  <a:lnTo>
                    <a:pt x="12219" y="6086"/>
                  </a:lnTo>
                  <a:lnTo>
                    <a:pt x="12286" y="6077"/>
                  </a:lnTo>
                  <a:lnTo>
                    <a:pt x="12354" y="6067"/>
                  </a:lnTo>
                  <a:lnTo>
                    <a:pt x="12422" y="6058"/>
                  </a:lnTo>
                  <a:lnTo>
                    <a:pt x="12493" y="6051"/>
                  </a:lnTo>
                  <a:lnTo>
                    <a:pt x="12564" y="6043"/>
                  </a:lnTo>
                  <a:lnTo>
                    <a:pt x="12636" y="6035"/>
                  </a:lnTo>
                  <a:lnTo>
                    <a:pt x="12709" y="6028"/>
                  </a:lnTo>
                  <a:lnTo>
                    <a:pt x="12783" y="6022"/>
                  </a:lnTo>
                  <a:lnTo>
                    <a:pt x="12858" y="6016"/>
                  </a:lnTo>
                  <a:lnTo>
                    <a:pt x="12934" y="6011"/>
                  </a:lnTo>
                  <a:lnTo>
                    <a:pt x="13010" y="6006"/>
                  </a:lnTo>
                  <a:lnTo>
                    <a:pt x="13165" y="5997"/>
                  </a:lnTo>
                  <a:lnTo>
                    <a:pt x="13321" y="5991"/>
                  </a:lnTo>
                  <a:lnTo>
                    <a:pt x="13480" y="5986"/>
                  </a:lnTo>
                  <a:lnTo>
                    <a:pt x="13640" y="5983"/>
                  </a:lnTo>
                  <a:lnTo>
                    <a:pt x="13799" y="5982"/>
                  </a:lnTo>
                  <a:lnTo>
                    <a:pt x="13960" y="5983"/>
                  </a:lnTo>
                  <a:lnTo>
                    <a:pt x="13821" y="5986"/>
                  </a:lnTo>
                  <a:lnTo>
                    <a:pt x="13683" y="5990"/>
                  </a:lnTo>
                  <a:lnTo>
                    <a:pt x="13547" y="5995"/>
                  </a:lnTo>
                  <a:lnTo>
                    <a:pt x="13411" y="6001"/>
                  </a:lnTo>
                  <a:lnTo>
                    <a:pt x="13278" y="6010"/>
                  </a:lnTo>
                  <a:lnTo>
                    <a:pt x="13146" y="6020"/>
                  </a:lnTo>
                  <a:lnTo>
                    <a:pt x="13017" y="6030"/>
                  </a:lnTo>
                  <a:lnTo>
                    <a:pt x="12892" y="6044"/>
                  </a:lnTo>
                  <a:lnTo>
                    <a:pt x="12768" y="6057"/>
                  </a:lnTo>
                  <a:lnTo>
                    <a:pt x="12649" y="6073"/>
                  </a:lnTo>
                  <a:lnTo>
                    <a:pt x="12532" y="6089"/>
                  </a:lnTo>
                  <a:lnTo>
                    <a:pt x="12421" y="6107"/>
                  </a:lnTo>
                  <a:lnTo>
                    <a:pt x="12366" y="6116"/>
                  </a:lnTo>
                  <a:lnTo>
                    <a:pt x="12313" y="6126"/>
                  </a:lnTo>
                  <a:lnTo>
                    <a:pt x="12261" y="6137"/>
                  </a:lnTo>
                  <a:lnTo>
                    <a:pt x="12210" y="6147"/>
                  </a:lnTo>
                  <a:lnTo>
                    <a:pt x="12160" y="6158"/>
                  </a:lnTo>
                  <a:lnTo>
                    <a:pt x="12112" y="6168"/>
                  </a:lnTo>
                  <a:lnTo>
                    <a:pt x="12065" y="6180"/>
                  </a:lnTo>
                  <a:lnTo>
                    <a:pt x="12019" y="6192"/>
                  </a:lnTo>
                  <a:lnTo>
                    <a:pt x="11942" y="6214"/>
                  </a:lnTo>
                  <a:lnTo>
                    <a:pt x="11870" y="6236"/>
                  </a:lnTo>
                  <a:lnTo>
                    <a:pt x="11805" y="6259"/>
                  </a:lnTo>
                  <a:lnTo>
                    <a:pt x="11746" y="6283"/>
                  </a:lnTo>
                  <a:lnTo>
                    <a:pt x="11694" y="6307"/>
                  </a:lnTo>
                  <a:lnTo>
                    <a:pt x="11647" y="6330"/>
                  </a:lnTo>
                  <a:lnTo>
                    <a:pt x="11607" y="6355"/>
                  </a:lnTo>
                  <a:lnTo>
                    <a:pt x="11574" y="6380"/>
                  </a:lnTo>
                  <a:lnTo>
                    <a:pt x="11546" y="6405"/>
                  </a:lnTo>
                  <a:lnTo>
                    <a:pt x="11526" y="6429"/>
                  </a:lnTo>
                  <a:lnTo>
                    <a:pt x="11510" y="6454"/>
                  </a:lnTo>
                  <a:lnTo>
                    <a:pt x="11501" y="6479"/>
                  </a:lnTo>
                  <a:lnTo>
                    <a:pt x="11499" y="6504"/>
                  </a:lnTo>
                  <a:lnTo>
                    <a:pt x="11502" y="6529"/>
                  </a:lnTo>
                  <a:lnTo>
                    <a:pt x="11511" y="6554"/>
                  </a:lnTo>
                  <a:lnTo>
                    <a:pt x="11526" y="6580"/>
                  </a:lnTo>
                  <a:lnTo>
                    <a:pt x="11547" y="6603"/>
                  </a:lnTo>
                  <a:lnTo>
                    <a:pt x="11574" y="6628"/>
                  </a:lnTo>
                  <a:lnTo>
                    <a:pt x="11607" y="6653"/>
                  </a:lnTo>
                  <a:lnTo>
                    <a:pt x="11646" y="6677"/>
                  </a:lnTo>
                  <a:lnTo>
                    <a:pt x="11690" y="6700"/>
                  </a:lnTo>
                  <a:lnTo>
                    <a:pt x="11741" y="6723"/>
                  </a:lnTo>
                  <a:lnTo>
                    <a:pt x="11797" y="6746"/>
                  </a:lnTo>
                  <a:lnTo>
                    <a:pt x="11858" y="6768"/>
                  </a:lnTo>
                  <a:lnTo>
                    <a:pt x="11926" y="6790"/>
                  </a:lnTo>
                  <a:lnTo>
                    <a:pt x="12000" y="6811"/>
                  </a:lnTo>
                  <a:lnTo>
                    <a:pt x="12078" y="6831"/>
                  </a:lnTo>
                  <a:lnTo>
                    <a:pt x="12162" y="6851"/>
                  </a:lnTo>
                  <a:lnTo>
                    <a:pt x="12252" y="6870"/>
                  </a:lnTo>
                  <a:lnTo>
                    <a:pt x="12348" y="6888"/>
                  </a:lnTo>
                  <a:lnTo>
                    <a:pt x="12449" y="6905"/>
                  </a:lnTo>
                  <a:lnTo>
                    <a:pt x="12555" y="6922"/>
                  </a:lnTo>
                  <a:close/>
                  <a:moveTo>
                    <a:pt x="4975" y="1193"/>
                  </a:moveTo>
                  <a:lnTo>
                    <a:pt x="10414" y="1354"/>
                  </a:lnTo>
                  <a:lnTo>
                    <a:pt x="10414" y="3460"/>
                  </a:lnTo>
                  <a:lnTo>
                    <a:pt x="4912" y="3416"/>
                  </a:lnTo>
                  <a:lnTo>
                    <a:pt x="4912" y="1191"/>
                  </a:lnTo>
                  <a:lnTo>
                    <a:pt x="4975" y="1193"/>
                  </a:lnTo>
                  <a:close/>
                  <a:moveTo>
                    <a:pt x="4163" y="11090"/>
                  </a:moveTo>
                  <a:lnTo>
                    <a:pt x="4163" y="1097"/>
                  </a:lnTo>
                  <a:lnTo>
                    <a:pt x="4164" y="1063"/>
                  </a:lnTo>
                  <a:lnTo>
                    <a:pt x="4166" y="1030"/>
                  </a:lnTo>
                  <a:lnTo>
                    <a:pt x="4168" y="996"/>
                  </a:lnTo>
                  <a:lnTo>
                    <a:pt x="4170" y="962"/>
                  </a:lnTo>
                  <a:lnTo>
                    <a:pt x="4173" y="928"/>
                  </a:lnTo>
                  <a:lnTo>
                    <a:pt x="4177" y="895"/>
                  </a:lnTo>
                  <a:lnTo>
                    <a:pt x="4182" y="861"/>
                  </a:lnTo>
                  <a:lnTo>
                    <a:pt x="4188" y="827"/>
                  </a:lnTo>
                  <a:lnTo>
                    <a:pt x="4194" y="793"/>
                  </a:lnTo>
                  <a:lnTo>
                    <a:pt x="4202" y="760"/>
                  </a:lnTo>
                  <a:lnTo>
                    <a:pt x="4209" y="726"/>
                  </a:lnTo>
                  <a:lnTo>
                    <a:pt x="4217" y="693"/>
                  </a:lnTo>
                  <a:lnTo>
                    <a:pt x="4226" y="659"/>
                  </a:lnTo>
                  <a:lnTo>
                    <a:pt x="4237" y="626"/>
                  </a:lnTo>
                  <a:lnTo>
                    <a:pt x="4247" y="593"/>
                  </a:lnTo>
                  <a:lnTo>
                    <a:pt x="4258" y="560"/>
                  </a:lnTo>
                  <a:lnTo>
                    <a:pt x="4270" y="528"/>
                  </a:lnTo>
                  <a:lnTo>
                    <a:pt x="4282" y="496"/>
                  </a:lnTo>
                  <a:lnTo>
                    <a:pt x="4295" y="464"/>
                  </a:lnTo>
                  <a:lnTo>
                    <a:pt x="4309" y="432"/>
                  </a:lnTo>
                  <a:lnTo>
                    <a:pt x="4323" y="401"/>
                  </a:lnTo>
                  <a:lnTo>
                    <a:pt x="4339" y="370"/>
                  </a:lnTo>
                  <a:lnTo>
                    <a:pt x="4354" y="339"/>
                  </a:lnTo>
                  <a:lnTo>
                    <a:pt x="4371" y="310"/>
                  </a:lnTo>
                  <a:lnTo>
                    <a:pt x="4387" y="280"/>
                  </a:lnTo>
                  <a:lnTo>
                    <a:pt x="4405" y="250"/>
                  </a:lnTo>
                  <a:lnTo>
                    <a:pt x="4423" y="221"/>
                  </a:lnTo>
                  <a:lnTo>
                    <a:pt x="4442" y="193"/>
                  </a:lnTo>
                  <a:lnTo>
                    <a:pt x="4460" y="165"/>
                  </a:lnTo>
                  <a:lnTo>
                    <a:pt x="4481" y="138"/>
                  </a:lnTo>
                  <a:lnTo>
                    <a:pt x="4500" y="112"/>
                  </a:lnTo>
                  <a:lnTo>
                    <a:pt x="4522" y="86"/>
                  </a:lnTo>
                  <a:lnTo>
                    <a:pt x="606" y="647"/>
                  </a:lnTo>
                  <a:lnTo>
                    <a:pt x="604" y="647"/>
                  </a:lnTo>
                  <a:lnTo>
                    <a:pt x="599" y="647"/>
                  </a:lnTo>
                  <a:lnTo>
                    <a:pt x="571" y="648"/>
                  </a:lnTo>
                  <a:lnTo>
                    <a:pt x="544" y="652"/>
                  </a:lnTo>
                  <a:lnTo>
                    <a:pt x="516" y="660"/>
                  </a:lnTo>
                  <a:lnTo>
                    <a:pt x="489" y="670"/>
                  </a:lnTo>
                  <a:lnTo>
                    <a:pt x="462" y="683"/>
                  </a:lnTo>
                  <a:lnTo>
                    <a:pt x="435" y="698"/>
                  </a:lnTo>
                  <a:lnTo>
                    <a:pt x="408" y="716"/>
                  </a:lnTo>
                  <a:lnTo>
                    <a:pt x="381" y="736"/>
                  </a:lnTo>
                  <a:lnTo>
                    <a:pt x="356" y="759"/>
                  </a:lnTo>
                  <a:lnTo>
                    <a:pt x="330" y="784"/>
                  </a:lnTo>
                  <a:lnTo>
                    <a:pt x="305" y="809"/>
                  </a:lnTo>
                  <a:lnTo>
                    <a:pt x="280" y="838"/>
                  </a:lnTo>
                  <a:lnTo>
                    <a:pt x="257" y="868"/>
                  </a:lnTo>
                  <a:lnTo>
                    <a:pt x="234" y="900"/>
                  </a:lnTo>
                  <a:lnTo>
                    <a:pt x="211" y="933"/>
                  </a:lnTo>
                  <a:lnTo>
                    <a:pt x="190" y="968"/>
                  </a:lnTo>
                  <a:lnTo>
                    <a:pt x="169" y="1004"/>
                  </a:lnTo>
                  <a:lnTo>
                    <a:pt x="149" y="1041"/>
                  </a:lnTo>
                  <a:lnTo>
                    <a:pt x="130" y="1080"/>
                  </a:lnTo>
                  <a:lnTo>
                    <a:pt x="112" y="1119"/>
                  </a:lnTo>
                  <a:lnTo>
                    <a:pt x="95" y="1159"/>
                  </a:lnTo>
                  <a:lnTo>
                    <a:pt x="80" y="1200"/>
                  </a:lnTo>
                  <a:lnTo>
                    <a:pt x="65" y="1241"/>
                  </a:lnTo>
                  <a:lnTo>
                    <a:pt x="53" y="1284"/>
                  </a:lnTo>
                  <a:lnTo>
                    <a:pt x="40" y="1326"/>
                  </a:lnTo>
                  <a:lnTo>
                    <a:pt x="30" y="1369"/>
                  </a:lnTo>
                  <a:lnTo>
                    <a:pt x="21" y="1411"/>
                  </a:lnTo>
                  <a:lnTo>
                    <a:pt x="14" y="1455"/>
                  </a:lnTo>
                  <a:lnTo>
                    <a:pt x="7" y="1498"/>
                  </a:lnTo>
                  <a:lnTo>
                    <a:pt x="3" y="1540"/>
                  </a:lnTo>
                  <a:lnTo>
                    <a:pt x="1" y="1583"/>
                  </a:lnTo>
                  <a:lnTo>
                    <a:pt x="0" y="1625"/>
                  </a:lnTo>
                  <a:lnTo>
                    <a:pt x="0" y="10569"/>
                  </a:lnTo>
                  <a:lnTo>
                    <a:pt x="0" y="10595"/>
                  </a:lnTo>
                  <a:lnTo>
                    <a:pt x="2" y="10622"/>
                  </a:lnTo>
                  <a:lnTo>
                    <a:pt x="6" y="10652"/>
                  </a:lnTo>
                  <a:lnTo>
                    <a:pt x="11" y="10683"/>
                  </a:lnTo>
                  <a:lnTo>
                    <a:pt x="17" y="10716"/>
                  </a:lnTo>
                  <a:lnTo>
                    <a:pt x="24" y="10750"/>
                  </a:lnTo>
                  <a:lnTo>
                    <a:pt x="33" y="10785"/>
                  </a:lnTo>
                  <a:lnTo>
                    <a:pt x="42" y="10820"/>
                  </a:lnTo>
                  <a:lnTo>
                    <a:pt x="54" y="10857"/>
                  </a:lnTo>
                  <a:lnTo>
                    <a:pt x="66" y="10895"/>
                  </a:lnTo>
                  <a:lnTo>
                    <a:pt x="80" y="10933"/>
                  </a:lnTo>
                  <a:lnTo>
                    <a:pt x="95" y="10970"/>
                  </a:lnTo>
                  <a:lnTo>
                    <a:pt x="110" y="11008"/>
                  </a:lnTo>
                  <a:lnTo>
                    <a:pt x="128" y="11046"/>
                  </a:lnTo>
                  <a:lnTo>
                    <a:pt x="146" y="11084"/>
                  </a:lnTo>
                  <a:lnTo>
                    <a:pt x="166" y="11121"/>
                  </a:lnTo>
                  <a:lnTo>
                    <a:pt x="187" y="11158"/>
                  </a:lnTo>
                  <a:lnTo>
                    <a:pt x="208" y="11195"/>
                  </a:lnTo>
                  <a:lnTo>
                    <a:pt x="231" y="11230"/>
                  </a:lnTo>
                  <a:lnTo>
                    <a:pt x="255" y="11264"/>
                  </a:lnTo>
                  <a:lnTo>
                    <a:pt x="279" y="11296"/>
                  </a:lnTo>
                  <a:lnTo>
                    <a:pt x="305" y="11327"/>
                  </a:lnTo>
                  <a:lnTo>
                    <a:pt x="332" y="11357"/>
                  </a:lnTo>
                  <a:lnTo>
                    <a:pt x="361" y="11385"/>
                  </a:lnTo>
                  <a:lnTo>
                    <a:pt x="390" y="11411"/>
                  </a:lnTo>
                  <a:lnTo>
                    <a:pt x="420" y="11436"/>
                  </a:lnTo>
                  <a:lnTo>
                    <a:pt x="450" y="11457"/>
                  </a:lnTo>
                  <a:lnTo>
                    <a:pt x="482" y="11477"/>
                  </a:lnTo>
                  <a:lnTo>
                    <a:pt x="515" y="11493"/>
                  </a:lnTo>
                  <a:lnTo>
                    <a:pt x="548" y="11507"/>
                  </a:lnTo>
                  <a:lnTo>
                    <a:pt x="583" y="11518"/>
                  </a:lnTo>
                  <a:lnTo>
                    <a:pt x="618" y="11526"/>
                  </a:lnTo>
                  <a:lnTo>
                    <a:pt x="4553" y="12086"/>
                  </a:lnTo>
                  <a:lnTo>
                    <a:pt x="4535" y="12064"/>
                  </a:lnTo>
                  <a:lnTo>
                    <a:pt x="4518" y="12042"/>
                  </a:lnTo>
                  <a:lnTo>
                    <a:pt x="4501" y="12019"/>
                  </a:lnTo>
                  <a:lnTo>
                    <a:pt x="4485" y="11995"/>
                  </a:lnTo>
                  <a:lnTo>
                    <a:pt x="4468" y="11971"/>
                  </a:lnTo>
                  <a:lnTo>
                    <a:pt x="4452" y="11946"/>
                  </a:lnTo>
                  <a:lnTo>
                    <a:pt x="4436" y="11921"/>
                  </a:lnTo>
                  <a:lnTo>
                    <a:pt x="4420" y="11895"/>
                  </a:lnTo>
                  <a:lnTo>
                    <a:pt x="4407" y="11870"/>
                  </a:lnTo>
                  <a:lnTo>
                    <a:pt x="4380" y="11822"/>
                  </a:lnTo>
                  <a:lnTo>
                    <a:pt x="4355" y="11774"/>
                  </a:lnTo>
                  <a:lnTo>
                    <a:pt x="4330" y="11724"/>
                  </a:lnTo>
                  <a:lnTo>
                    <a:pt x="4308" y="11675"/>
                  </a:lnTo>
                  <a:lnTo>
                    <a:pt x="4287" y="11624"/>
                  </a:lnTo>
                  <a:lnTo>
                    <a:pt x="4266" y="11573"/>
                  </a:lnTo>
                  <a:lnTo>
                    <a:pt x="4248" y="11522"/>
                  </a:lnTo>
                  <a:lnTo>
                    <a:pt x="4231" y="11472"/>
                  </a:lnTo>
                  <a:lnTo>
                    <a:pt x="4216" y="11421"/>
                  </a:lnTo>
                  <a:lnTo>
                    <a:pt x="4203" y="11371"/>
                  </a:lnTo>
                  <a:lnTo>
                    <a:pt x="4191" y="11321"/>
                  </a:lnTo>
                  <a:lnTo>
                    <a:pt x="4182" y="11273"/>
                  </a:lnTo>
                  <a:lnTo>
                    <a:pt x="4174" y="11225"/>
                  </a:lnTo>
                  <a:lnTo>
                    <a:pt x="4169" y="11178"/>
                  </a:lnTo>
                  <a:lnTo>
                    <a:pt x="4167" y="11156"/>
                  </a:lnTo>
                  <a:lnTo>
                    <a:pt x="4164" y="11134"/>
                  </a:lnTo>
                  <a:lnTo>
                    <a:pt x="4164" y="11112"/>
                  </a:lnTo>
                  <a:lnTo>
                    <a:pt x="4163" y="11090"/>
                  </a:lnTo>
                  <a:close/>
                  <a:moveTo>
                    <a:pt x="14574" y="11216"/>
                  </a:moveTo>
                  <a:lnTo>
                    <a:pt x="14629" y="11208"/>
                  </a:lnTo>
                  <a:lnTo>
                    <a:pt x="14682" y="11199"/>
                  </a:lnTo>
                  <a:lnTo>
                    <a:pt x="14735" y="11189"/>
                  </a:lnTo>
                  <a:lnTo>
                    <a:pt x="14788" y="11180"/>
                  </a:lnTo>
                  <a:lnTo>
                    <a:pt x="14840" y="11169"/>
                  </a:lnTo>
                  <a:lnTo>
                    <a:pt x="14891" y="11158"/>
                  </a:lnTo>
                  <a:lnTo>
                    <a:pt x="14942" y="11146"/>
                  </a:lnTo>
                  <a:lnTo>
                    <a:pt x="14991" y="11135"/>
                  </a:lnTo>
                  <a:lnTo>
                    <a:pt x="15041" y="11121"/>
                  </a:lnTo>
                  <a:lnTo>
                    <a:pt x="15089" y="11108"/>
                  </a:lnTo>
                  <a:lnTo>
                    <a:pt x="15136" y="11095"/>
                  </a:lnTo>
                  <a:lnTo>
                    <a:pt x="15182" y="11080"/>
                  </a:lnTo>
                  <a:lnTo>
                    <a:pt x="15228" y="11065"/>
                  </a:lnTo>
                  <a:lnTo>
                    <a:pt x="15273" y="11049"/>
                  </a:lnTo>
                  <a:lnTo>
                    <a:pt x="15316" y="11033"/>
                  </a:lnTo>
                  <a:lnTo>
                    <a:pt x="15358" y="11016"/>
                  </a:lnTo>
                  <a:lnTo>
                    <a:pt x="15399" y="10999"/>
                  </a:lnTo>
                  <a:lnTo>
                    <a:pt x="15440" y="10980"/>
                  </a:lnTo>
                  <a:lnTo>
                    <a:pt x="15479" y="10962"/>
                  </a:lnTo>
                  <a:lnTo>
                    <a:pt x="15516" y="10942"/>
                  </a:lnTo>
                  <a:lnTo>
                    <a:pt x="15553" y="10921"/>
                  </a:lnTo>
                  <a:lnTo>
                    <a:pt x="15588" y="10901"/>
                  </a:lnTo>
                  <a:lnTo>
                    <a:pt x="15622" y="10879"/>
                  </a:lnTo>
                  <a:lnTo>
                    <a:pt x="15654" y="10857"/>
                  </a:lnTo>
                  <a:lnTo>
                    <a:pt x="15685" y="10834"/>
                  </a:lnTo>
                  <a:lnTo>
                    <a:pt x="15715" y="10810"/>
                  </a:lnTo>
                  <a:lnTo>
                    <a:pt x="15742" y="10786"/>
                  </a:lnTo>
                  <a:lnTo>
                    <a:pt x="15769" y="10761"/>
                  </a:lnTo>
                  <a:lnTo>
                    <a:pt x="15794" y="10735"/>
                  </a:lnTo>
                  <a:lnTo>
                    <a:pt x="15818" y="10708"/>
                  </a:lnTo>
                  <a:lnTo>
                    <a:pt x="15839" y="10681"/>
                  </a:lnTo>
                  <a:lnTo>
                    <a:pt x="15859" y="10653"/>
                  </a:lnTo>
                  <a:lnTo>
                    <a:pt x="15859" y="7024"/>
                  </a:lnTo>
                  <a:lnTo>
                    <a:pt x="15760" y="7080"/>
                  </a:lnTo>
                  <a:lnTo>
                    <a:pt x="15652" y="7132"/>
                  </a:lnTo>
                  <a:lnTo>
                    <a:pt x="15534" y="7181"/>
                  </a:lnTo>
                  <a:lnTo>
                    <a:pt x="15410" y="7225"/>
                  </a:lnTo>
                  <a:lnTo>
                    <a:pt x="15278" y="7267"/>
                  </a:lnTo>
                  <a:lnTo>
                    <a:pt x="15139" y="7304"/>
                  </a:lnTo>
                  <a:lnTo>
                    <a:pt x="14993" y="7339"/>
                  </a:lnTo>
                  <a:lnTo>
                    <a:pt x="14842" y="7370"/>
                  </a:lnTo>
                  <a:lnTo>
                    <a:pt x="14686" y="7398"/>
                  </a:lnTo>
                  <a:lnTo>
                    <a:pt x="14527" y="7422"/>
                  </a:lnTo>
                  <a:lnTo>
                    <a:pt x="14363" y="7442"/>
                  </a:lnTo>
                  <a:lnTo>
                    <a:pt x="14195" y="7459"/>
                  </a:lnTo>
                  <a:lnTo>
                    <a:pt x="14025" y="7473"/>
                  </a:lnTo>
                  <a:lnTo>
                    <a:pt x="13854" y="7483"/>
                  </a:lnTo>
                  <a:lnTo>
                    <a:pt x="13680" y="7490"/>
                  </a:lnTo>
                  <a:lnTo>
                    <a:pt x="13506" y="7493"/>
                  </a:lnTo>
                  <a:lnTo>
                    <a:pt x="13332" y="7493"/>
                  </a:lnTo>
                  <a:lnTo>
                    <a:pt x="13158" y="7490"/>
                  </a:lnTo>
                  <a:lnTo>
                    <a:pt x="12984" y="7483"/>
                  </a:lnTo>
                  <a:lnTo>
                    <a:pt x="12812" y="7472"/>
                  </a:lnTo>
                  <a:lnTo>
                    <a:pt x="12642" y="7459"/>
                  </a:lnTo>
                  <a:lnTo>
                    <a:pt x="12475" y="7441"/>
                  </a:lnTo>
                  <a:lnTo>
                    <a:pt x="12312" y="7422"/>
                  </a:lnTo>
                  <a:lnTo>
                    <a:pt x="12152" y="7398"/>
                  </a:lnTo>
                  <a:lnTo>
                    <a:pt x="11996" y="7370"/>
                  </a:lnTo>
                  <a:lnTo>
                    <a:pt x="11846" y="7340"/>
                  </a:lnTo>
                  <a:lnTo>
                    <a:pt x="11702" y="7306"/>
                  </a:lnTo>
                  <a:lnTo>
                    <a:pt x="11563" y="7269"/>
                  </a:lnTo>
                  <a:lnTo>
                    <a:pt x="11431" y="7229"/>
                  </a:lnTo>
                  <a:lnTo>
                    <a:pt x="11307" y="7186"/>
                  </a:lnTo>
                  <a:lnTo>
                    <a:pt x="11191" y="7138"/>
                  </a:lnTo>
                  <a:lnTo>
                    <a:pt x="11083" y="7088"/>
                  </a:lnTo>
                  <a:lnTo>
                    <a:pt x="11083" y="10782"/>
                  </a:lnTo>
                  <a:lnTo>
                    <a:pt x="11127" y="10811"/>
                  </a:lnTo>
                  <a:lnTo>
                    <a:pt x="11172" y="10840"/>
                  </a:lnTo>
                  <a:lnTo>
                    <a:pt x="11220" y="10867"/>
                  </a:lnTo>
                  <a:lnTo>
                    <a:pt x="11267" y="10894"/>
                  </a:lnTo>
                  <a:lnTo>
                    <a:pt x="11316" y="10920"/>
                  </a:lnTo>
                  <a:lnTo>
                    <a:pt x="11367" y="10945"/>
                  </a:lnTo>
                  <a:lnTo>
                    <a:pt x="11418" y="10970"/>
                  </a:lnTo>
                  <a:lnTo>
                    <a:pt x="11471" y="10994"/>
                  </a:lnTo>
                  <a:lnTo>
                    <a:pt x="11525" y="11015"/>
                  </a:lnTo>
                  <a:lnTo>
                    <a:pt x="11579" y="11037"/>
                  </a:lnTo>
                  <a:lnTo>
                    <a:pt x="11636" y="11057"/>
                  </a:lnTo>
                  <a:lnTo>
                    <a:pt x="11693" y="11077"/>
                  </a:lnTo>
                  <a:lnTo>
                    <a:pt x="11750" y="11096"/>
                  </a:lnTo>
                  <a:lnTo>
                    <a:pt x="11810" y="11112"/>
                  </a:lnTo>
                  <a:lnTo>
                    <a:pt x="11870" y="11129"/>
                  </a:lnTo>
                  <a:lnTo>
                    <a:pt x="11932" y="11143"/>
                  </a:lnTo>
                  <a:lnTo>
                    <a:pt x="11983" y="11154"/>
                  </a:lnTo>
                  <a:lnTo>
                    <a:pt x="12038" y="11165"/>
                  </a:lnTo>
                  <a:lnTo>
                    <a:pt x="12095" y="11176"/>
                  </a:lnTo>
                  <a:lnTo>
                    <a:pt x="12157" y="11186"/>
                  </a:lnTo>
                  <a:lnTo>
                    <a:pt x="12221" y="11197"/>
                  </a:lnTo>
                  <a:lnTo>
                    <a:pt x="12288" y="11206"/>
                  </a:lnTo>
                  <a:lnTo>
                    <a:pt x="12359" y="11216"/>
                  </a:lnTo>
                  <a:lnTo>
                    <a:pt x="12431" y="11225"/>
                  </a:lnTo>
                  <a:lnTo>
                    <a:pt x="12506" y="11234"/>
                  </a:lnTo>
                  <a:lnTo>
                    <a:pt x="12584" y="11242"/>
                  </a:lnTo>
                  <a:lnTo>
                    <a:pt x="12664" y="11249"/>
                  </a:lnTo>
                  <a:lnTo>
                    <a:pt x="12745" y="11256"/>
                  </a:lnTo>
                  <a:lnTo>
                    <a:pt x="12829" y="11263"/>
                  </a:lnTo>
                  <a:lnTo>
                    <a:pt x="12914" y="11269"/>
                  </a:lnTo>
                  <a:lnTo>
                    <a:pt x="13002" y="11274"/>
                  </a:lnTo>
                  <a:lnTo>
                    <a:pt x="13091" y="11278"/>
                  </a:lnTo>
                  <a:lnTo>
                    <a:pt x="13180" y="11282"/>
                  </a:lnTo>
                  <a:lnTo>
                    <a:pt x="13271" y="11285"/>
                  </a:lnTo>
                  <a:lnTo>
                    <a:pt x="13363" y="11286"/>
                  </a:lnTo>
                  <a:lnTo>
                    <a:pt x="13455" y="11287"/>
                  </a:lnTo>
                  <a:lnTo>
                    <a:pt x="13548" y="11288"/>
                  </a:lnTo>
                  <a:lnTo>
                    <a:pt x="13642" y="11287"/>
                  </a:lnTo>
                  <a:lnTo>
                    <a:pt x="13735" y="11285"/>
                  </a:lnTo>
                  <a:lnTo>
                    <a:pt x="13830" y="11282"/>
                  </a:lnTo>
                  <a:lnTo>
                    <a:pt x="13924" y="11278"/>
                  </a:lnTo>
                  <a:lnTo>
                    <a:pt x="14019" y="11273"/>
                  </a:lnTo>
                  <a:lnTo>
                    <a:pt x="14113" y="11267"/>
                  </a:lnTo>
                  <a:lnTo>
                    <a:pt x="14206" y="11259"/>
                  </a:lnTo>
                  <a:lnTo>
                    <a:pt x="14299" y="11250"/>
                  </a:lnTo>
                  <a:lnTo>
                    <a:pt x="14392" y="11241"/>
                  </a:lnTo>
                  <a:lnTo>
                    <a:pt x="14483" y="11230"/>
                  </a:lnTo>
                  <a:lnTo>
                    <a:pt x="14574" y="11216"/>
                  </a:lnTo>
                  <a:close/>
                  <a:moveTo>
                    <a:pt x="5035" y="3296"/>
                  </a:moveTo>
                  <a:lnTo>
                    <a:pt x="10291" y="3336"/>
                  </a:lnTo>
                  <a:lnTo>
                    <a:pt x="10291" y="1472"/>
                  </a:lnTo>
                  <a:lnTo>
                    <a:pt x="5035" y="1317"/>
                  </a:lnTo>
                  <a:lnTo>
                    <a:pt x="5035" y="3296"/>
                  </a:lnTo>
                  <a:close/>
                  <a:moveTo>
                    <a:pt x="4974" y="4917"/>
                  </a:moveTo>
                  <a:lnTo>
                    <a:pt x="10352" y="4995"/>
                  </a:lnTo>
                  <a:lnTo>
                    <a:pt x="10352" y="5964"/>
                  </a:lnTo>
                  <a:lnTo>
                    <a:pt x="4974" y="5968"/>
                  </a:lnTo>
                  <a:lnTo>
                    <a:pt x="4974" y="4917"/>
                  </a:lnTo>
                  <a:close/>
                  <a:moveTo>
                    <a:pt x="4974" y="6202"/>
                  </a:moveTo>
                  <a:lnTo>
                    <a:pt x="10352" y="6251"/>
                  </a:lnTo>
                  <a:lnTo>
                    <a:pt x="10352" y="7220"/>
                  </a:lnTo>
                  <a:lnTo>
                    <a:pt x="4974" y="7254"/>
                  </a:lnTo>
                  <a:lnTo>
                    <a:pt x="4974" y="6202"/>
                  </a:lnTo>
                  <a:close/>
                  <a:moveTo>
                    <a:pt x="4974" y="7488"/>
                  </a:moveTo>
                  <a:lnTo>
                    <a:pt x="10352" y="7505"/>
                  </a:lnTo>
                  <a:lnTo>
                    <a:pt x="10352" y="8474"/>
                  </a:lnTo>
                  <a:lnTo>
                    <a:pt x="4974" y="8539"/>
                  </a:lnTo>
                  <a:lnTo>
                    <a:pt x="4974" y="7488"/>
                  </a:lnTo>
                  <a:close/>
                  <a:moveTo>
                    <a:pt x="4974" y="8772"/>
                  </a:moveTo>
                  <a:lnTo>
                    <a:pt x="10352" y="8761"/>
                  </a:lnTo>
                  <a:lnTo>
                    <a:pt x="10352" y="9730"/>
                  </a:lnTo>
                  <a:lnTo>
                    <a:pt x="4974" y="9824"/>
                  </a:lnTo>
                  <a:lnTo>
                    <a:pt x="4974" y="8772"/>
                  </a:lnTo>
                  <a:close/>
                  <a:moveTo>
                    <a:pt x="4974" y="10058"/>
                  </a:moveTo>
                  <a:lnTo>
                    <a:pt x="10352" y="10015"/>
                  </a:lnTo>
                  <a:lnTo>
                    <a:pt x="10352" y="10984"/>
                  </a:lnTo>
                  <a:lnTo>
                    <a:pt x="4974" y="11109"/>
                  </a:lnTo>
                  <a:lnTo>
                    <a:pt x="4974" y="10058"/>
                  </a:lnTo>
                  <a:close/>
                  <a:moveTo>
                    <a:pt x="10175" y="11921"/>
                  </a:moveTo>
                  <a:lnTo>
                    <a:pt x="10203" y="11919"/>
                  </a:lnTo>
                  <a:lnTo>
                    <a:pt x="10232" y="11915"/>
                  </a:lnTo>
                  <a:lnTo>
                    <a:pt x="10259" y="11910"/>
                  </a:lnTo>
                  <a:lnTo>
                    <a:pt x="10288" y="11904"/>
                  </a:lnTo>
                  <a:lnTo>
                    <a:pt x="10317" y="11896"/>
                  </a:lnTo>
                  <a:lnTo>
                    <a:pt x="10346" y="11887"/>
                  </a:lnTo>
                  <a:lnTo>
                    <a:pt x="10375" y="11877"/>
                  </a:lnTo>
                  <a:lnTo>
                    <a:pt x="10404" y="11866"/>
                  </a:lnTo>
                  <a:lnTo>
                    <a:pt x="10431" y="11852"/>
                  </a:lnTo>
                  <a:lnTo>
                    <a:pt x="10460" y="11839"/>
                  </a:lnTo>
                  <a:lnTo>
                    <a:pt x="10487" y="11823"/>
                  </a:lnTo>
                  <a:lnTo>
                    <a:pt x="10515" y="11807"/>
                  </a:lnTo>
                  <a:lnTo>
                    <a:pt x="10542" y="11789"/>
                  </a:lnTo>
                  <a:lnTo>
                    <a:pt x="10567" y="11772"/>
                  </a:lnTo>
                  <a:lnTo>
                    <a:pt x="10593" y="11752"/>
                  </a:lnTo>
                  <a:lnTo>
                    <a:pt x="10618" y="11732"/>
                  </a:lnTo>
                  <a:lnTo>
                    <a:pt x="10641" y="11711"/>
                  </a:lnTo>
                  <a:lnTo>
                    <a:pt x="10664" y="11688"/>
                  </a:lnTo>
                  <a:lnTo>
                    <a:pt x="10686" y="11666"/>
                  </a:lnTo>
                  <a:lnTo>
                    <a:pt x="10707" y="11642"/>
                  </a:lnTo>
                  <a:lnTo>
                    <a:pt x="10725" y="11617"/>
                  </a:lnTo>
                  <a:lnTo>
                    <a:pt x="10744" y="11592"/>
                  </a:lnTo>
                  <a:lnTo>
                    <a:pt x="10760" y="11566"/>
                  </a:lnTo>
                  <a:lnTo>
                    <a:pt x="10776" y="11539"/>
                  </a:lnTo>
                  <a:lnTo>
                    <a:pt x="10790" y="11512"/>
                  </a:lnTo>
                  <a:lnTo>
                    <a:pt x="10802" y="11484"/>
                  </a:lnTo>
                  <a:lnTo>
                    <a:pt x="10813" y="11455"/>
                  </a:lnTo>
                  <a:lnTo>
                    <a:pt x="10822" y="11426"/>
                  </a:lnTo>
                  <a:lnTo>
                    <a:pt x="10828" y="11397"/>
                  </a:lnTo>
                  <a:lnTo>
                    <a:pt x="10833" y="11367"/>
                  </a:lnTo>
                  <a:lnTo>
                    <a:pt x="10836" y="11337"/>
                  </a:lnTo>
                  <a:lnTo>
                    <a:pt x="10837" y="11306"/>
                  </a:lnTo>
                  <a:lnTo>
                    <a:pt x="10837" y="847"/>
                  </a:lnTo>
                  <a:lnTo>
                    <a:pt x="10836" y="817"/>
                  </a:lnTo>
                  <a:lnTo>
                    <a:pt x="10833" y="786"/>
                  </a:lnTo>
                  <a:lnTo>
                    <a:pt x="10828" y="756"/>
                  </a:lnTo>
                  <a:lnTo>
                    <a:pt x="10822" y="726"/>
                  </a:lnTo>
                  <a:lnTo>
                    <a:pt x="10813" y="697"/>
                  </a:lnTo>
                  <a:lnTo>
                    <a:pt x="10802" y="669"/>
                  </a:lnTo>
                  <a:lnTo>
                    <a:pt x="10790" y="640"/>
                  </a:lnTo>
                  <a:lnTo>
                    <a:pt x="10776" y="614"/>
                  </a:lnTo>
                  <a:lnTo>
                    <a:pt x="10761" y="587"/>
                  </a:lnTo>
                  <a:lnTo>
                    <a:pt x="10744" y="561"/>
                  </a:lnTo>
                  <a:lnTo>
                    <a:pt x="10726" y="535"/>
                  </a:lnTo>
                  <a:lnTo>
                    <a:pt x="10707" y="511"/>
                  </a:lnTo>
                  <a:lnTo>
                    <a:pt x="10686" y="487"/>
                  </a:lnTo>
                  <a:lnTo>
                    <a:pt x="10664" y="464"/>
                  </a:lnTo>
                  <a:lnTo>
                    <a:pt x="10642" y="443"/>
                  </a:lnTo>
                  <a:lnTo>
                    <a:pt x="10618" y="421"/>
                  </a:lnTo>
                  <a:lnTo>
                    <a:pt x="10593" y="400"/>
                  </a:lnTo>
                  <a:lnTo>
                    <a:pt x="10569" y="381"/>
                  </a:lnTo>
                  <a:lnTo>
                    <a:pt x="10542" y="363"/>
                  </a:lnTo>
                  <a:lnTo>
                    <a:pt x="10516" y="346"/>
                  </a:lnTo>
                  <a:lnTo>
                    <a:pt x="10488" y="329"/>
                  </a:lnTo>
                  <a:lnTo>
                    <a:pt x="10460" y="315"/>
                  </a:lnTo>
                  <a:lnTo>
                    <a:pt x="10433" y="300"/>
                  </a:lnTo>
                  <a:lnTo>
                    <a:pt x="10404" y="288"/>
                  </a:lnTo>
                  <a:lnTo>
                    <a:pt x="10376" y="276"/>
                  </a:lnTo>
                  <a:lnTo>
                    <a:pt x="10347" y="265"/>
                  </a:lnTo>
                  <a:lnTo>
                    <a:pt x="10318" y="257"/>
                  </a:lnTo>
                  <a:lnTo>
                    <a:pt x="10289" y="249"/>
                  </a:lnTo>
                  <a:lnTo>
                    <a:pt x="10260" y="243"/>
                  </a:lnTo>
                  <a:lnTo>
                    <a:pt x="10232" y="237"/>
                  </a:lnTo>
                  <a:lnTo>
                    <a:pt x="10204" y="234"/>
                  </a:lnTo>
                  <a:lnTo>
                    <a:pt x="10176" y="232"/>
                  </a:lnTo>
                  <a:lnTo>
                    <a:pt x="5100" y="0"/>
                  </a:lnTo>
                  <a:lnTo>
                    <a:pt x="5021" y="10"/>
                  </a:lnTo>
                  <a:lnTo>
                    <a:pt x="4982" y="27"/>
                  </a:lnTo>
                  <a:lnTo>
                    <a:pt x="4946" y="47"/>
                  </a:lnTo>
                  <a:lnTo>
                    <a:pt x="4911" y="67"/>
                  </a:lnTo>
                  <a:lnTo>
                    <a:pt x="4877" y="90"/>
                  </a:lnTo>
                  <a:lnTo>
                    <a:pt x="4844" y="115"/>
                  </a:lnTo>
                  <a:lnTo>
                    <a:pt x="4812" y="141"/>
                  </a:lnTo>
                  <a:lnTo>
                    <a:pt x="4783" y="167"/>
                  </a:lnTo>
                  <a:lnTo>
                    <a:pt x="4753" y="196"/>
                  </a:lnTo>
                  <a:lnTo>
                    <a:pt x="4725" y="226"/>
                  </a:lnTo>
                  <a:lnTo>
                    <a:pt x="4698" y="257"/>
                  </a:lnTo>
                  <a:lnTo>
                    <a:pt x="4672" y="289"/>
                  </a:lnTo>
                  <a:lnTo>
                    <a:pt x="4648" y="323"/>
                  </a:lnTo>
                  <a:lnTo>
                    <a:pt x="4624" y="357"/>
                  </a:lnTo>
                  <a:lnTo>
                    <a:pt x="4602" y="392"/>
                  </a:lnTo>
                  <a:lnTo>
                    <a:pt x="4582" y="428"/>
                  </a:lnTo>
                  <a:lnTo>
                    <a:pt x="4562" y="465"/>
                  </a:lnTo>
                  <a:lnTo>
                    <a:pt x="4544" y="503"/>
                  </a:lnTo>
                  <a:lnTo>
                    <a:pt x="4526" y="541"/>
                  </a:lnTo>
                  <a:lnTo>
                    <a:pt x="4510" y="581"/>
                  </a:lnTo>
                  <a:lnTo>
                    <a:pt x="4495" y="620"/>
                  </a:lnTo>
                  <a:lnTo>
                    <a:pt x="4481" y="660"/>
                  </a:lnTo>
                  <a:lnTo>
                    <a:pt x="4468" y="700"/>
                  </a:lnTo>
                  <a:lnTo>
                    <a:pt x="4457" y="740"/>
                  </a:lnTo>
                  <a:lnTo>
                    <a:pt x="4447" y="781"/>
                  </a:lnTo>
                  <a:lnTo>
                    <a:pt x="4437" y="822"/>
                  </a:lnTo>
                  <a:lnTo>
                    <a:pt x="4430" y="863"/>
                  </a:lnTo>
                  <a:lnTo>
                    <a:pt x="4423" y="903"/>
                  </a:lnTo>
                  <a:lnTo>
                    <a:pt x="4418" y="945"/>
                  </a:lnTo>
                  <a:lnTo>
                    <a:pt x="4414" y="986"/>
                  </a:lnTo>
                  <a:lnTo>
                    <a:pt x="4411" y="1026"/>
                  </a:lnTo>
                  <a:lnTo>
                    <a:pt x="4410" y="1066"/>
                  </a:lnTo>
                  <a:lnTo>
                    <a:pt x="4409" y="1106"/>
                  </a:lnTo>
                  <a:lnTo>
                    <a:pt x="4409" y="11092"/>
                  </a:lnTo>
                  <a:lnTo>
                    <a:pt x="4410" y="11119"/>
                  </a:lnTo>
                  <a:lnTo>
                    <a:pt x="4412" y="11149"/>
                  </a:lnTo>
                  <a:lnTo>
                    <a:pt x="4416" y="11180"/>
                  </a:lnTo>
                  <a:lnTo>
                    <a:pt x="4421" y="11212"/>
                  </a:lnTo>
                  <a:lnTo>
                    <a:pt x="4427" y="11247"/>
                  </a:lnTo>
                  <a:lnTo>
                    <a:pt x="4434" y="11283"/>
                  </a:lnTo>
                  <a:lnTo>
                    <a:pt x="4444" y="11320"/>
                  </a:lnTo>
                  <a:lnTo>
                    <a:pt x="4454" y="11358"/>
                  </a:lnTo>
                  <a:lnTo>
                    <a:pt x="4466" y="11398"/>
                  </a:lnTo>
                  <a:lnTo>
                    <a:pt x="4480" y="11438"/>
                  </a:lnTo>
                  <a:lnTo>
                    <a:pt x="4493" y="11478"/>
                  </a:lnTo>
                  <a:lnTo>
                    <a:pt x="4509" y="11518"/>
                  </a:lnTo>
                  <a:lnTo>
                    <a:pt x="4526" y="11559"/>
                  </a:lnTo>
                  <a:lnTo>
                    <a:pt x="4544" y="11601"/>
                  </a:lnTo>
                  <a:lnTo>
                    <a:pt x="4562" y="11642"/>
                  </a:lnTo>
                  <a:lnTo>
                    <a:pt x="4582" y="11683"/>
                  </a:lnTo>
                  <a:lnTo>
                    <a:pt x="4603" y="11723"/>
                  </a:lnTo>
                  <a:lnTo>
                    <a:pt x="4625" y="11762"/>
                  </a:lnTo>
                  <a:lnTo>
                    <a:pt x="4649" y="11802"/>
                  </a:lnTo>
                  <a:lnTo>
                    <a:pt x="4672" y="11840"/>
                  </a:lnTo>
                  <a:lnTo>
                    <a:pt x="4697" y="11877"/>
                  </a:lnTo>
                  <a:lnTo>
                    <a:pt x="4723" y="11912"/>
                  </a:lnTo>
                  <a:lnTo>
                    <a:pt x="4750" y="11946"/>
                  </a:lnTo>
                  <a:lnTo>
                    <a:pt x="4777" y="11978"/>
                  </a:lnTo>
                  <a:lnTo>
                    <a:pt x="4806" y="12009"/>
                  </a:lnTo>
                  <a:lnTo>
                    <a:pt x="4835" y="12038"/>
                  </a:lnTo>
                  <a:lnTo>
                    <a:pt x="4866" y="12063"/>
                  </a:lnTo>
                  <a:lnTo>
                    <a:pt x="4897" y="12087"/>
                  </a:lnTo>
                  <a:lnTo>
                    <a:pt x="4928" y="12109"/>
                  </a:lnTo>
                  <a:lnTo>
                    <a:pt x="4961" y="12127"/>
                  </a:lnTo>
                  <a:lnTo>
                    <a:pt x="4994" y="12143"/>
                  </a:lnTo>
                  <a:lnTo>
                    <a:pt x="5027" y="12156"/>
                  </a:lnTo>
                  <a:lnTo>
                    <a:pt x="5136" y="12172"/>
                  </a:lnTo>
                  <a:lnTo>
                    <a:pt x="10175" y="11921"/>
                  </a:lnTo>
                  <a:close/>
                  <a:moveTo>
                    <a:pt x="9944" y="4706"/>
                  </a:moveTo>
                  <a:lnTo>
                    <a:pt x="9897" y="4704"/>
                  </a:lnTo>
                  <a:lnTo>
                    <a:pt x="9851" y="4697"/>
                  </a:lnTo>
                  <a:lnTo>
                    <a:pt x="9809" y="4685"/>
                  </a:lnTo>
                  <a:lnTo>
                    <a:pt x="9770" y="4671"/>
                  </a:lnTo>
                  <a:lnTo>
                    <a:pt x="9735" y="4652"/>
                  </a:lnTo>
                  <a:lnTo>
                    <a:pt x="9702" y="4631"/>
                  </a:lnTo>
                  <a:lnTo>
                    <a:pt x="9672" y="4606"/>
                  </a:lnTo>
                  <a:lnTo>
                    <a:pt x="9645" y="4579"/>
                  </a:lnTo>
                  <a:lnTo>
                    <a:pt x="9622" y="4549"/>
                  </a:lnTo>
                  <a:lnTo>
                    <a:pt x="9601" y="4517"/>
                  </a:lnTo>
                  <a:lnTo>
                    <a:pt x="9585" y="4483"/>
                  </a:lnTo>
                  <a:lnTo>
                    <a:pt x="9570" y="4448"/>
                  </a:lnTo>
                  <a:lnTo>
                    <a:pt x="9559" y="4412"/>
                  </a:lnTo>
                  <a:lnTo>
                    <a:pt x="9551" y="4375"/>
                  </a:lnTo>
                  <a:lnTo>
                    <a:pt x="9546" y="4338"/>
                  </a:lnTo>
                  <a:lnTo>
                    <a:pt x="9544" y="4300"/>
                  </a:lnTo>
                  <a:lnTo>
                    <a:pt x="9545" y="4262"/>
                  </a:lnTo>
                  <a:lnTo>
                    <a:pt x="9551" y="4223"/>
                  </a:lnTo>
                  <a:lnTo>
                    <a:pt x="9558" y="4186"/>
                  </a:lnTo>
                  <a:lnTo>
                    <a:pt x="9568" y="4150"/>
                  </a:lnTo>
                  <a:lnTo>
                    <a:pt x="9583" y="4115"/>
                  </a:lnTo>
                  <a:lnTo>
                    <a:pt x="9600" y="4081"/>
                  </a:lnTo>
                  <a:lnTo>
                    <a:pt x="9620" y="4049"/>
                  </a:lnTo>
                  <a:lnTo>
                    <a:pt x="9643" y="4020"/>
                  </a:lnTo>
                  <a:lnTo>
                    <a:pt x="9670" y="3993"/>
                  </a:lnTo>
                  <a:lnTo>
                    <a:pt x="9700" y="3968"/>
                  </a:lnTo>
                  <a:lnTo>
                    <a:pt x="9732" y="3946"/>
                  </a:lnTo>
                  <a:lnTo>
                    <a:pt x="9768" y="3928"/>
                  </a:lnTo>
                  <a:lnTo>
                    <a:pt x="9808" y="3913"/>
                  </a:lnTo>
                  <a:lnTo>
                    <a:pt x="9850" y="3902"/>
                  </a:lnTo>
                  <a:lnTo>
                    <a:pt x="9896" y="3896"/>
                  </a:lnTo>
                  <a:lnTo>
                    <a:pt x="9944" y="3893"/>
                  </a:lnTo>
                  <a:lnTo>
                    <a:pt x="9966" y="3894"/>
                  </a:lnTo>
                  <a:lnTo>
                    <a:pt x="9986" y="3895"/>
                  </a:lnTo>
                  <a:lnTo>
                    <a:pt x="10006" y="3898"/>
                  </a:lnTo>
                  <a:lnTo>
                    <a:pt x="10027" y="3901"/>
                  </a:lnTo>
                  <a:lnTo>
                    <a:pt x="10046" y="3906"/>
                  </a:lnTo>
                  <a:lnTo>
                    <a:pt x="10066" y="3911"/>
                  </a:lnTo>
                  <a:lnTo>
                    <a:pt x="10084" y="3917"/>
                  </a:lnTo>
                  <a:lnTo>
                    <a:pt x="10103" y="3924"/>
                  </a:lnTo>
                  <a:lnTo>
                    <a:pt x="10120" y="3933"/>
                  </a:lnTo>
                  <a:lnTo>
                    <a:pt x="10138" y="3942"/>
                  </a:lnTo>
                  <a:lnTo>
                    <a:pt x="10155" y="3952"/>
                  </a:lnTo>
                  <a:lnTo>
                    <a:pt x="10172" y="3963"/>
                  </a:lnTo>
                  <a:lnTo>
                    <a:pt x="10187" y="3974"/>
                  </a:lnTo>
                  <a:lnTo>
                    <a:pt x="10203" y="3986"/>
                  </a:lnTo>
                  <a:lnTo>
                    <a:pt x="10217" y="3999"/>
                  </a:lnTo>
                  <a:lnTo>
                    <a:pt x="10232" y="4012"/>
                  </a:lnTo>
                  <a:lnTo>
                    <a:pt x="10246" y="4028"/>
                  </a:lnTo>
                  <a:lnTo>
                    <a:pt x="10259" y="4043"/>
                  </a:lnTo>
                  <a:lnTo>
                    <a:pt x="10272" y="4060"/>
                  </a:lnTo>
                  <a:lnTo>
                    <a:pt x="10284" y="4076"/>
                  </a:lnTo>
                  <a:lnTo>
                    <a:pt x="10294" y="4092"/>
                  </a:lnTo>
                  <a:lnTo>
                    <a:pt x="10305" y="4110"/>
                  </a:lnTo>
                  <a:lnTo>
                    <a:pt x="10313" y="4129"/>
                  </a:lnTo>
                  <a:lnTo>
                    <a:pt x="10321" y="4146"/>
                  </a:lnTo>
                  <a:lnTo>
                    <a:pt x="10328" y="4165"/>
                  </a:lnTo>
                  <a:lnTo>
                    <a:pt x="10334" y="4183"/>
                  </a:lnTo>
                  <a:lnTo>
                    <a:pt x="10339" y="4203"/>
                  </a:lnTo>
                  <a:lnTo>
                    <a:pt x="10343" y="4221"/>
                  </a:lnTo>
                  <a:lnTo>
                    <a:pt x="10347" y="4241"/>
                  </a:lnTo>
                  <a:lnTo>
                    <a:pt x="10349" y="4261"/>
                  </a:lnTo>
                  <a:lnTo>
                    <a:pt x="10350" y="4280"/>
                  </a:lnTo>
                  <a:lnTo>
                    <a:pt x="10351" y="4300"/>
                  </a:lnTo>
                  <a:lnTo>
                    <a:pt x="10350" y="4319"/>
                  </a:lnTo>
                  <a:lnTo>
                    <a:pt x="10349" y="4338"/>
                  </a:lnTo>
                  <a:lnTo>
                    <a:pt x="10347" y="4357"/>
                  </a:lnTo>
                  <a:lnTo>
                    <a:pt x="10343" y="4377"/>
                  </a:lnTo>
                  <a:lnTo>
                    <a:pt x="10339" y="4396"/>
                  </a:lnTo>
                  <a:lnTo>
                    <a:pt x="10334" y="4415"/>
                  </a:lnTo>
                  <a:lnTo>
                    <a:pt x="10327" y="4434"/>
                  </a:lnTo>
                  <a:lnTo>
                    <a:pt x="10321" y="4452"/>
                  </a:lnTo>
                  <a:lnTo>
                    <a:pt x="10313" y="4471"/>
                  </a:lnTo>
                  <a:lnTo>
                    <a:pt x="10304" y="4488"/>
                  </a:lnTo>
                  <a:lnTo>
                    <a:pt x="10294" y="4506"/>
                  </a:lnTo>
                  <a:lnTo>
                    <a:pt x="10284" y="4522"/>
                  </a:lnTo>
                  <a:lnTo>
                    <a:pt x="10272" y="4540"/>
                  </a:lnTo>
                  <a:lnTo>
                    <a:pt x="10259" y="4555"/>
                  </a:lnTo>
                  <a:lnTo>
                    <a:pt x="10246" y="4572"/>
                  </a:lnTo>
                  <a:lnTo>
                    <a:pt x="10232" y="4586"/>
                  </a:lnTo>
                  <a:lnTo>
                    <a:pt x="10217" y="4600"/>
                  </a:lnTo>
                  <a:lnTo>
                    <a:pt x="10203" y="4613"/>
                  </a:lnTo>
                  <a:lnTo>
                    <a:pt x="10187" y="4624"/>
                  </a:lnTo>
                  <a:lnTo>
                    <a:pt x="10172" y="4636"/>
                  </a:lnTo>
                  <a:lnTo>
                    <a:pt x="10155" y="4647"/>
                  </a:lnTo>
                  <a:lnTo>
                    <a:pt x="10138" y="4656"/>
                  </a:lnTo>
                  <a:lnTo>
                    <a:pt x="10120" y="4666"/>
                  </a:lnTo>
                  <a:lnTo>
                    <a:pt x="10103" y="4674"/>
                  </a:lnTo>
                  <a:lnTo>
                    <a:pt x="10084" y="4681"/>
                  </a:lnTo>
                  <a:lnTo>
                    <a:pt x="10066" y="4687"/>
                  </a:lnTo>
                  <a:lnTo>
                    <a:pt x="10046" y="4692"/>
                  </a:lnTo>
                  <a:lnTo>
                    <a:pt x="10027" y="4698"/>
                  </a:lnTo>
                  <a:lnTo>
                    <a:pt x="10006" y="4701"/>
                  </a:lnTo>
                  <a:lnTo>
                    <a:pt x="9986" y="4704"/>
                  </a:lnTo>
                  <a:lnTo>
                    <a:pt x="9966" y="4705"/>
                  </a:lnTo>
                  <a:lnTo>
                    <a:pt x="9944" y="4706"/>
                  </a:lnTo>
                  <a:close/>
                  <a:moveTo>
                    <a:pt x="5913" y="4265"/>
                  </a:moveTo>
                  <a:lnTo>
                    <a:pt x="5973" y="4122"/>
                  </a:lnTo>
                  <a:lnTo>
                    <a:pt x="5990" y="4106"/>
                  </a:lnTo>
                  <a:lnTo>
                    <a:pt x="6009" y="4092"/>
                  </a:lnTo>
                  <a:lnTo>
                    <a:pt x="6027" y="4081"/>
                  </a:lnTo>
                  <a:lnTo>
                    <a:pt x="6046" y="4073"/>
                  </a:lnTo>
                  <a:lnTo>
                    <a:pt x="6065" y="4067"/>
                  </a:lnTo>
                  <a:lnTo>
                    <a:pt x="6084" y="4063"/>
                  </a:lnTo>
                  <a:lnTo>
                    <a:pt x="6103" y="4061"/>
                  </a:lnTo>
                  <a:lnTo>
                    <a:pt x="6122" y="4061"/>
                  </a:lnTo>
                  <a:lnTo>
                    <a:pt x="6140" y="4064"/>
                  </a:lnTo>
                  <a:lnTo>
                    <a:pt x="6159" y="4068"/>
                  </a:lnTo>
                  <a:lnTo>
                    <a:pt x="6177" y="4073"/>
                  </a:lnTo>
                  <a:lnTo>
                    <a:pt x="6194" y="4080"/>
                  </a:lnTo>
                  <a:lnTo>
                    <a:pt x="6211" y="4089"/>
                  </a:lnTo>
                  <a:lnTo>
                    <a:pt x="6227" y="4100"/>
                  </a:lnTo>
                  <a:lnTo>
                    <a:pt x="6241" y="4111"/>
                  </a:lnTo>
                  <a:lnTo>
                    <a:pt x="6256" y="4123"/>
                  </a:lnTo>
                  <a:lnTo>
                    <a:pt x="6268" y="4138"/>
                  </a:lnTo>
                  <a:lnTo>
                    <a:pt x="6280" y="4152"/>
                  </a:lnTo>
                  <a:lnTo>
                    <a:pt x="6290" y="4169"/>
                  </a:lnTo>
                  <a:lnTo>
                    <a:pt x="6299" y="4185"/>
                  </a:lnTo>
                  <a:lnTo>
                    <a:pt x="6306" y="4203"/>
                  </a:lnTo>
                  <a:lnTo>
                    <a:pt x="6312" y="4220"/>
                  </a:lnTo>
                  <a:lnTo>
                    <a:pt x="6316" y="4239"/>
                  </a:lnTo>
                  <a:lnTo>
                    <a:pt x="6318" y="4257"/>
                  </a:lnTo>
                  <a:lnTo>
                    <a:pt x="6319" y="4276"/>
                  </a:lnTo>
                  <a:lnTo>
                    <a:pt x="6317" y="4296"/>
                  </a:lnTo>
                  <a:lnTo>
                    <a:pt x="6313" y="4314"/>
                  </a:lnTo>
                  <a:lnTo>
                    <a:pt x="6306" y="4334"/>
                  </a:lnTo>
                  <a:lnTo>
                    <a:pt x="6298" y="4352"/>
                  </a:lnTo>
                  <a:lnTo>
                    <a:pt x="6287" y="4371"/>
                  </a:lnTo>
                  <a:lnTo>
                    <a:pt x="6273" y="4389"/>
                  </a:lnTo>
                  <a:lnTo>
                    <a:pt x="6257" y="4407"/>
                  </a:lnTo>
                  <a:lnTo>
                    <a:pt x="6245" y="4418"/>
                  </a:lnTo>
                  <a:lnTo>
                    <a:pt x="6232" y="4429"/>
                  </a:lnTo>
                  <a:lnTo>
                    <a:pt x="6220" y="4438"/>
                  </a:lnTo>
                  <a:lnTo>
                    <a:pt x="6206" y="4445"/>
                  </a:lnTo>
                  <a:lnTo>
                    <a:pt x="6192" y="4451"/>
                  </a:lnTo>
                  <a:lnTo>
                    <a:pt x="6179" y="4456"/>
                  </a:lnTo>
                  <a:lnTo>
                    <a:pt x="6164" y="4460"/>
                  </a:lnTo>
                  <a:lnTo>
                    <a:pt x="6150" y="4464"/>
                  </a:lnTo>
                  <a:lnTo>
                    <a:pt x="6135" y="4466"/>
                  </a:lnTo>
                  <a:lnTo>
                    <a:pt x="6121" y="4467"/>
                  </a:lnTo>
                  <a:lnTo>
                    <a:pt x="6106" y="4467"/>
                  </a:lnTo>
                  <a:lnTo>
                    <a:pt x="6092" y="4465"/>
                  </a:lnTo>
                  <a:lnTo>
                    <a:pt x="6079" y="4463"/>
                  </a:lnTo>
                  <a:lnTo>
                    <a:pt x="6064" y="4459"/>
                  </a:lnTo>
                  <a:lnTo>
                    <a:pt x="6051" y="4455"/>
                  </a:lnTo>
                  <a:lnTo>
                    <a:pt x="6037" y="4450"/>
                  </a:lnTo>
                  <a:lnTo>
                    <a:pt x="6025" y="4445"/>
                  </a:lnTo>
                  <a:lnTo>
                    <a:pt x="6012" y="4438"/>
                  </a:lnTo>
                  <a:lnTo>
                    <a:pt x="6000" y="4431"/>
                  </a:lnTo>
                  <a:lnTo>
                    <a:pt x="5988" y="4422"/>
                  </a:lnTo>
                  <a:lnTo>
                    <a:pt x="5978" y="4413"/>
                  </a:lnTo>
                  <a:lnTo>
                    <a:pt x="5967" y="4403"/>
                  </a:lnTo>
                  <a:lnTo>
                    <a:pt x="5958" y="4391"/>
                  </a:lnTo>
                  <a:lnTo>
                    <a:pt x="5949" y="4380"/>
                  </a:lnTo>
                  <a:lnTo>
                    <a:pt x="5941" y="4368"/>
                  </a:lnTo>
                  <a:lnTo>
                    <a:pt x="5934" y="4355"/>
                  </a:lnTo>
                  <a:lnTo>
                    <a:pt x="5928" y="4342"/>
                  </a:lnTo>
                  <a:lnTo>
                    <a:pt x="5923" y="4328"/>
                  </a:lnTo>
                  <a:lnTo>
                    <a:pt x="5919" y="4313"/>
                  </a:lnTo>
                  <a:lnTo>
                    <a:pt x="5916" y="4298"/>
                  </a:lnTo>
                  <a:lnTo>
                    <a:pt x="5914" y="4281"/>
                  </a:lnTo>
                  <a:lnTo>
                    <a:pt x="5913" y="4265"/>
                  </a:lnTo>
                  <a:close/>
                  <a:moveTo>
                    <a:pt x="5357" y="4122"/>
                  </a:moveTo>
                  <a:lnTo>
                    <a:pt x="5376" y="4106"/>
                  </a:lnTo>
                  <a:lnTo>
                    <a:pt x="5394" y="4092"/>
                  </a:lnTo>
                  <a:lnTo>
                    <a:pt x="5413" y="4081"/>
                  </a:lnTo>
                  <a:lnTo>
                    <a:pt x="5432" y="4073"/>
                  </a:lnTo>
                  <a:lnTo>
                    <a:pt x="5450" y="4067"/>
                  </a:lnTo>
                  <a:lnTo>
                    <a:pt x="5470" y="4063"/>
                  </a:lnTo>
                  <a:lnTo>
                    <a:pt x="5489" y="4061"/>
                  </a:lnTo>
                  <a:lnTo>
                    <a:pt x="5508" y="4061"/>
                  </a:lnTo>
                  <a:lnTo>
                    <a:pt x="5526" y="4064"/>
                  </a:lnTo>
                  <a:lnTo>
                    <a:pt x="5545" y="4068"/>
                  </a:lnTo>
                  <a:lnTo>
                    <a:pt x="5563" y="4073"/>
                  </a:lnTo>
                  <a:lnTo>
                    <a:pt x="5580" y="4080"/>
                  </a:lnTo>
                  <a:lnTo>
                    <a:pt x="5597" y="4089"/>
                  </a:lnTo>
                  <a:lnTo>
                    <a:pt x="5612" y="4100"/>
                  </a:lnTo>
                  <a:lnTo>
                    <a:pt x="5627" y="4111"/>
                  </a:lnTo>
                  <a:lnTo>
                    <a:pt x="5641" y="4123"/>
                  </a:lnTo>
                  <a:lnTo>
                    <a:pt x="5654" y="4138"/>
                  </a:lnTo>
                  <a:lnTo>
                    <a:pt x="5666" y="4152"/>
                  </a:lnTo>
                  <a:lnTo>
                    <a:pt x="5676" y="4169"/>
                  </a:lnTo>
                  <a:lnTo>
                    <a:pt x="5684" y="4185"/>
                  </a:lnTo>
                  <a:lnTo>
                    <a:pt x="5691" y="4203"/>
                  </a:lnTo>
                  <a:lnTo>
                    <a:pt x="5697" y="4220"/>
                  </a:lnTo>
                  <a:lnTo>
                    <a:pt x="5702" y="4239"/>
                  </a:lnTo>
                  <a:lnTo>
                    <a:pt x="5704" y="4257"/>
                  </a:lnTo>
                  <a:lnTo>
                    <a:pt x="5704" y="4276"/>
                  </a:lnTo>
                  <a:lnTo>
                    <a:pt x="5703" y="4296"/>
                  </a:lnTo>
                  <a:lnTo>
                    <a:pt x="5699" y="4314"/>
                  </a:lnTo>
                  <a:lnTo>
                    <a:pt x="5692" y="4334"/>
                  </a:lnTo>
                  <a:lnTo>
                    <a:pt x="5683" y="4352"/>
                  </a:lnTo>
                  <a:lnTo>
                    <a:pt x="5673" y="4371"/>
                  </a:lnTo>
                  <a:lnTo>
                    <a:pt x="5659" y="4389"/>
                  </a:lnTo>
                  <a:lnTo>
                    <a:pt x="5643" y="4407"/>
                  </a:lnTo>
                  <a:lnTo>
                    <a:pt x="5625" y="4423"/>
                  </a:lnTo>
                  <a:lnTo>
                    <a:pt x="5607" y="4437"/>
                  </a:lnTo>
                  <a:lnTo>
                    <a:pt x="5588" y="4448"/>
                  </a:lnTo>
                  <a:lnTo>
                    <a:pt x="5569" y="4456"/>
                  </a:lnTo>
                  <a:lnTo>
                    <a:pt x="5550" y="4463"/>
                  </a:lnTo>
                  <a:lnTo>
                    <a:pt x="5531" y="4467"/>
                  </a:lnTo>
                  <a:lnTo>
                    <a:pt x="5512" y="4469"/>
                  </a:lnTo>
                  <a:lnTo>
                    <a:pt x="5492" y="4469"/>
                  </a:lnTo>
                  <a:lnTo>
                    <a:pt x="5474" y="4467"/>
                  </a:lnTo>
                  <a:lnTo>
                    <a:pt x="5455" y="4463"/>
                  </a:lnTo>
                  <a:lnTo>
                    <a:pt x="5438" y="4456"/>
                  </a:lnTo>
                  <a:lnTo>
                    <a:pt x="5420" y="4449"/>
                  </a:lnTo>
                  <a:lnTo>
                    <a:pt x="5404" y="4440"/>
                  </a:lnTo>
                  <a:lnTo>
                    <a:pt x="5388" y="4430"/>
                  </a:lnTo>
                  <a:lnTo>
                    <a:pt x="5374" y="4418"/>
                  </a:lnTo>
                  <a:lnTo>
                    <a:pt x="5360" y="4406"/>
                  </a:lnTo>
                  <a:lnTo>
                    <a:pt x="5347" y="4391"/>
                  </a:lnTo>
                  <a:lnTo>
                    <a:pt x="5335" y="4377"/>
                  </a:lnTo>
                  <a:lnTo>
                    <a:pt x="5325" y="4360"/>
                  </a:lnTo>
                  <a:lnTo>
                    <a:pt x="5316" y="4344"/>
                  </a:lnTo>
                  <a:lnTo>
                    <a:pt x="5309" y="4328"/>
                  </a:lnTo>
                  <a:lnTo>
                    <a:pt x="5303" y="4309"/>
                  </a:lnTo>
                  <a:lnTo>
                    <a:pt x="5299" y="4290"/>
                  </a:lnTo>
                  <a:lnTo>
                    <a:pt x="5297" y="4272"/>
                  </a:lnTo>
                  <a:lnTo>
                    <a:pt x="5297" y="4253"/>
                  </a:lnTo>
                  <a:lnTo>
                    <a:pt x="5299" y="4234"/>
                  </a:lnTo>
                  <a:lnTo>
                    <a:pt x="5302" y="4215"/>
                  </a:lnTo>
                  <a:lnTo>
                    <a:pt x="5308" y="4196"/>
                  </a:lnTo>
                  <a:lnTo>
                    <a:pt x="5317" y="4177"/>
                  </a:lnTo>
                  <a:lnTo>
                    <a:pt x="5328" y="4158"/>
                  </a:lnTo>
                  <a:lnTo>
                    <a:pt x="5342" y="4140"/>
                  </a:lnTo>
                  <a:lnTo>
                    <a:pt x="5357" y="4122"/>
                  </a:lnTo>
                  <a:close/>
                  <a:moveTo>
                    <a:pt x="11884" y="6961"/>
                  </a:moveTo>
                  <a:lnTo>
                    <a:pt x="11980" y="6982"/>
                  </a:lnTo>
                  <a:lnTo>
                    <a:pt x="12080" y="7001"/>
                  </a:lnTo>
                  <a:lnTo>
                    <a:pt x="12183" y="7019"/>
                  </a:lnTo>
                  <a:lnTo>
                    <a:pt x="12288" y="7035"/>
                  </a:lnTo>
                  <a:lnTo>
                    <a:pt x="12396" y="7050"/>
                  </a:lnTo>
                  <a:lnTo>
                    <a:pt x="12507" y="7064"/>
                  </a:lnTo>
                  <a:lnTo>
                    <a:pt x="12621" y="7076"/>
                  </a:lnTo>
                  <a:lnTo>
                    <a:pt x="12736" y="7086"/>
                  </a:lnTo>
                  <a:lnTo>
                    <a:pt x="12853" y="7095"/>
                  </a:lnTo>
                  <a:lnTo>
                    <a:pt x="12971" y="7102"/>
                  </a:lnTo>
                  <a:lnTo>
                    <a:pt x="13091" y="7107"/>
                  </a:lnTo>
                  <a:lnTo>
                    <a:pt x="13211" y="7112"/>
                  </a:lnTo>
                  <a:lnTo>
                    <a:pt x="13333" y="7114"/>
                  </a:lnTo>
                  <a:lnTo>
                    <a:pt x="13454" y="7114"/>
                  </a:lnTo>
                  <a:lnTo>
                    <a:pt x="13577" y="7113"/>
                  </a:lnTo>
                  <a:lnTo>
                    <a:pt x="13698" y="7111"/>
                  </a:lnTo>
                  <a:lnTo>
                    <a:pt x="13821" y="7105"/>
                  </a:lnTo>
                  <a:lnTo>
                    <a:pt x="13942" y="7099"/>
                  </a:lnTo>
                  <a:lnTo>
                    <a:pt x="14062" y="7091"/>
                  </a:lnTo>
                  <a:lnTo>
                    <a:pt x="14182" y="7081"/>
                  </a:lnTo>
                  <a:lnTo>
                    <a:pt x="14300" y="7068"/>
                  </a:lnTo>
                  <a:lnTo>
                    <a:pt x="14418" y="7055"/>
                  </a:lnTo>
                  <a:lnTo>
                    <a:pt x="14532" y="7039"/>
                  </a:lnTo>
                  <a:lnTo>
                    <a:pt x="14645" y="7021"/>
                  </a:lnTo>
                  <a:lnTo>
                    <a:pt x="14755" y="7001"/>
                  </a:lnTo>
                  <a:lnTo>
                    <a:pt x="14864" y="6980"/>
                  </a:lnTo>
                  <a:lnTo>
                    <a:pt x="14970" y="6956"/>
                  </a:lnTo>
                  <a:lnTo>
                    <a:pt x="15072" y="6931"/>
                  </a:lnTo>
                  <a:lnTo>
                    <a:pt x="15171" y="6903"/>
                  </a:lnTo>
                  <a:lnTo>
                    <a:pt x="15266" y="6874"/>
                  </a:lnTo>
                  <a:lnTo>
                    <a:pt x="15359" y="6842"/>
                  </a:lnTo>
                  <a:lnTo>
                    <a:pt x="15447" y="6808"/>
                  </a:lnTo>
                  <a:lnTo>
                    <a:pt x="15479" y="6794"/>
                  </a:lnTo>
                  <a:lnTo>
                    <a:pt x="15513" y="6779"/>
                  </a:lnTo>
                  <a:lnTo>
                    <a:pt x="15547" y="6762"/>
                  </a:lnTo>
                  <a:lnTo>
                    <a:pt x="15583" y="6745"/>
                  </a:lnTo>
                  <a:lnTo>
                    <a:pt x="15618" y="6725"/>
                  </a:lnTo>
                  <a:lnTo>
                    <a:pt x="15652" y="6705"/>
                  </a:lnTo>
                  <a:lnTo>
                    <a:pt x="15686" y="6685"/>
                  </a:lnTo>
                  <a:lnTo>
                    <a:pt x="15718" y="6664"/>
                  </a:lnTo>
                  <a:lnTo>
                    <a:pt x="15747" y="6643"/>
                  </a:lnTo>
                  <a:lnTo>
                    <a:pt x="15773" y="6621"/>
                  </a:lnTo>
                  <a:lnTo>
                    <a:pt x="15786" y="6610"/>
                  </a:lnTo>
                  <a:lnTo>
                    <a:pt x="15797" y="6598"/>
                  </a:lnTo>
                  <a:lnTo>
                    <a:pt x="15807" y="6588"/>
                  </a:lnTo>
                  <a:lnTo>
                    <a:pt x="15818" y="6577"/>
                  </a:lnTo>
                  <a:lnTo>
                    <a:pt x="15826" y="6565"/>
                  </a:lnTo>
                  <a:lnTo>
                    <a:pt x="15833" y="6555"/>
                  </a:lnTo>
                  <a:lnTo>
                    <a:pt x="15838" y="6544"/>
                  </a:lnTo>
                  <a:lnTo>
                    <a:pt x="15843" y="6533"/>
                  </a:lnTo>
                  <a:lnTo>
                    <a:pt x="15846" y="6523"/>
                  </a:lnTo>
                  <a:lnTo>
                    <a:pt x="15849" y="6513"/>
                  </a:lnTo>
                  <a:lnTo>
                    <a:pt x="15849" y="6502"/>
                  </a:lnTo>
                  <a:lnTo>
                    <a:pt x="15848" y="6492"/>
                  </a:lnTo>
                  <a:lnTo>
                    <a:pt x="15843" y="6476"/>
                  </a:lnTo>
                  <a:lnTo>
                    <a:pt x="15835" y="6458"/>
                  </a:lnTo>
                  <a:lnTo>
                    <a:pt x="15825" y="6441"/>
                  </a:lnTo>
                  <a:lnTo>
                    <a:pt x="15812" y="6424"/>
                  </a:lnTo>
                  <a:lnTo>
                    <a:pt x="15798" y="6407"/>
                  </a:lnTo>
                  <a:lnTo>
                    <a:pt x="15781" y="6390"/>
                  </a:lnTo>
                  <a:lnTo>
                    <a:pt x="15761" y="6373"/>
                  </a:lnTo>
                  <a:lnTo>
                    <a:pt x="15740" y="6356"/>
                  </a:lnTo>
                  <a:lnTo>
                    <a:pt x="15717" y="6340"/>
                  </a:lnTo>
                  <a:lnTo>
                    <a:pt x="15692" y="6323"/>
                  </a:lnTo>
                  <a:lnTo>
                    <a:pt x="15665" y="6308"/>
                  </a:lnTo>
                  <a:lnTo>
                    <a:pt x="15637" y="6291"/>
                  </a:lnTo>
                  <a:lnTo>
                    <a:pt x="15607" y="6276"/>
                  </a:lnTo>
                  <a:lnTo>
                    <a:pt x="15577" y="6260"/>
                  </a:lnTo>
                  <a:lnTo>
                    <a:pt x="15545" y="6246"/>
                  </a:lnTo>
                  <a:lnTo>
                    <a:pt x="15512" y="6230"/>
                  </a:lnTo>
                  <a:lnTo>
                    <a:pt x="15478" y="6216"/>
                  </a:lnTo>
                  <a:lnTo>
                    <a:pt x="15444" y="6201"/>
                  </a:lnTo>
                  <a:lnTo>
                    <a:pt x="15408" y="6188"/>
                  </a:lnTo>
                  <a:lnTo>
                    <a:pt x="15373" y="6175"/>
                  </a:lnTo>
                  <a:lnTo>
                    <a:pt x="15299" y="6149"/>
                  </a:lnTo>
                  <a:lnTo>
                    <a:pt x="15225" y="6124"/>
                  </a:lnTo>
                  <a:lnTo>
                    <a:pt x="15151" y="6101"/>
                  </a:lnTo>
                  <a:lnTo>
                    <a:pt x="15079" y="6082"/>
                  </a:lnTo>
                  <a:lnTo>
                    <a:pt x="15008" y="6063"/>
                  </a:lnTo>
                  <a:lnTo>
                    <a:pt x="14941" y="6047"/>
                  </a:lnTo>
                  <a:lnTo>
                    <a:pt x="14845" y="6026"/>
                  </a:lnTo>
                  <a:lnTo>
                    <a:pt x="14745" y="6007"/>
                  </a:lnTo>
                  <a:lnTo>
                    <a:pt x="14642" y="5989"/>
                  </a:lnTo>
                  <a:lnTo>
                    <a:pt x="14537" y="5973"/>
                  </a:lnTo>
                  <a:lnTo>
                    <a:pt x="14429" y="5958"/>
                  </a:lnTo>
                  <a:lnTo>
                    <a:pt x="14318" y="5945"/>
                  </a:lnTo>
                  <a:lnTo>
                    <a:pt x="14204" y="5932"/>
                  </a:lnTo>
                  <a:lnTo>
                    <a:pt x="14089" y="5922"/>
                  </a:lnTo>
                  <a:lnTo>
                    <a:pt x="13972" y="5913"/>
                  </a:lnTo>
                  <a:lnTo>
                    <a:pt x="13854" y="5906"/>
                  </a:lnTo>
                  <a:lnTo>
                    <a:pt x="13734" y="5900"/>
                  </a:lnTo>
                  <a:lnTo>
                    <a:pt x="13614" y="5896"/>
                  </a:lnTo>
                  <a:lnTo>
                    <a:pt x="13492" y="5894"/>
                  </a:lnTo>
                  <a:lnTo>
                    <a:pt x="13371" y="5894"/>
                  </a:lnTo>
                  <a:lnTo>
                    <a:pt x="13248" y="5895"/>
                  </a:lnTo>
                  <a:lnTo>
                    <a:pt x="13127" y="5898"/>
                  </a:lnTo>
                  <a:lnTo>
                    <a:pt x="13004" y="5903"/>
                  </a:lnTo>
                  <a:lnTo>
                    <a:pt x="12883" y="5909"/>
                  </a:lnTo>
                  <a:lnTo>
                    <a:pt x="12763" y="5917"/>
                  </a:lnTo>
                  <a:lnTo>
                    <a:pt x="12643" y="5927"/>
                  </a:lnTo>
                  <a:lnTo>
                    <a:pt x="12525" y="5940"/>
                  </a:lnTo>
                  <a:lnTo>
                    <a:pt x="12408" y="5953"/>
                  </a:lnTo>
                  <a:lnTo>
                    <a:pt x="12293" y="5968"/>
                  </a:lnTo>
                  <a:lnTo>
                    <a:pt x="12180" y="5987"/>
                  </a:lnTo>
                  <a:lnTo>
                    <a:pt x="12070" y="6007"/>
                  </a:lnTo>
                  <a:lnTo>
                    <a:pt x="11961" y="6028"/>
                  </a:lnTo>
                  <a:lnTo>
                    <a:pt x="11855" y="6052"/>
                  </a:lnTo>
                  <a:lnTo>
                    <a:pt x="11753" y="6077"/>
                  </a:lnTo>
                  <a:lnTo>
                    <a:pt x="11654" y="6105"/>
                  </a:lnTo>
                  <a:lnTo>
                    <a:pt x="11559" y="6134"/>
                  </a:lnTo>
                  <a:lnTo>
                    <a:pt x="11466" y="6166"/>
                  </a:lnTo>
                  <a:lnTo>
                    <a:pt x="11378" y="6200"/>
                  </a:lnTo>
                  <a:lnTo>
                    <a:pt x="11332" y="6220"/>
                  </a:lnTo>
                  <a:lnTo>
                    <a:pt x="11288" y="6241"/>
                  </a:lnTo>
                  <a:lnTo>
                    <a:pt x="11246" y="6260"/>
                  </a:lnTo>
                  <a:lnTo>
                    <a:pt x="11208" y="6281"/>
                  </a:lnTo>
                  <a:lnTo>
                    <a:pt x="11172" y="6300"/>
                  </a:lnTo>
                  <a:lnTo>
                    <a:pt x="11139" y="6321"/>
                  </a:lnTo>
                  <a:lnTo>
                    <a:pt x="11109" y="6341"/>
                  </a:lnTo>
                  <a:lnTo>
                    <a:pt x="11083" y="6361"/>
                  </a:lnTo>
                  <a:lnTo>
                    <a:pt x="11083" y="6647"/>
                  </a:lnTo>
                  <a:lnTo>
                    <a:pt x="11112" y="6668"/>
                  </a:lnTo>
                  <a:lnTo>
                    <a:pt x="11144" y="6690"/>
                  </a:lnTo>
                  <a:lnTo>
                    <a:pt x="11179" y="6712"/>
                  </a:lnTo>
                  <a:lnTo>
                    <a:pt x="11218" y="6733"/>
                  </a:lnTo>
                  <a:lnTo>
                    <a:pt x="11258" y="6754"/>
                  </a:lnTo>
                  <a:lnTo>
                    <a:pt x="11301" y="6775"/>
                  </a:lnTo>
                  <a:lnTo>
                    <a:pt x="11347" y="6795"/>
                  </a:lnTo>
                  <a:lnTo>
                    <a:pt x="11396" y="6816"/>
                  </a:lnTo>
                  <a:lnTo>
                    <a:pt x="11448" y="6835"/>
                  </a:lnTo>
                  <a:lnTo>
                    <a:pt x="11502" y="6854"/>
                  </a:lnTo>
                  <a:lnTo>
                    <a:pt x="11560" y="6874"/>
                  </a:lnTo>
                  <a:lnTo>
                    <a:pt x="11618" y="6892"/>
                  </a:lnTo>
                  <a:lnTo>
                    <a:pt x="11681" y="6910"/>
                  </a:lnTo>
                  <a:lnTo>
                    <a:pt x="11746" y="6927"/>
                  </a:lnTo>
                  <a:lnTo>
                    <a:pt x="11814" y="6945"/>
                  </a:lnTo>
                  <a:lnTo>
                    <a:pt x="11884" y="696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919" name="Freeform 12"/>
            <p:cNvSpPr/>
            <p:nvPr/>
          </p:nvSpPr>
          <p:spPr>
            <a:xfrm>
              <a:off x="592200" y="3251160"/>
              <a:ext cx="360360" cy="324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484" h="12662">
                  <a:moveTo>
                    <a:pt x="12129" y="7206"/>
                  </a:moveTo>
                  <a:lnTo>
                    <a:pt x="12183" y="7217"/>
                  </a:lnTo>
                  <a:lnTo>
                    <a:pt x="12236" y="7229"/>
                  </a:lnTo>
                  <a:lnTo>
                    <a:pt x="12291" y="7240"/>
                  </a:lnTo>
                  <a:lnTo>
                    <a:pt x="12347" y="7250"/>
                  </a:lnTo>
                  <a:lnTo>
                    <a:pt x="12402" y="7261"/>
                  </a:lnTo>
                  <a:lnTo>
                    <a:pt x="12459" y="7270"/>
                  </a:lnTo>
                  <a:lnTo>
                    <a:pt x="12515" y="7278"/>
                  </a:lnTo>
                  <a:lnTo>
                    <a:pt x="12573" y="7288"/>
                  </a:lnTo>
                  <a:lnTo>
                    <a:pt x="12631" y="7295"/>
                  </a:lnTo>
                  <a:lnTo>
                    <a:pt x="12690" y="7303"/>
                  </a:lnTo>
                  <a:lnTo>
                    <a:pt x="12748" y="7309"/>
                  </a:lnTo>
                  <a:lnTo>
                    <a:pt x="12807" y="7316"/>
                  </a:lnTo>
                  <a:lnTo>
                    <a:pt x="12927" y="7328"/>
                  </a:lnTo>
                  <a:lnTo>
                    <a:pt x="13047" y="7338"/>
                  </a:lnTo>
                  <a:lnTo>
                    <a:pt x="13169" y="7346"/>
                  </a:lnTo>
                  <a:lnTo>
                    <a:pt x="13291" y="7352"/>
                  </a:lnTo>
                  <a:lnTo>
                    <a:pt x="13414" y="7357"/>
                  </a:lnTo>
                  <a:lnTo>
                    <a:pt x="13536" y="7360"/>
                  </a:lnTo>
                  <a:lnTo>
                    <a:pt x="13660" y="7361"/>
                  </a:lnTo>
                  <a:lnTo>
                    <a:pt x="13783" y="7360"/>
                  </a:lnTo>
                  <a:lnTo>
                    <a:pt x="13906" y="7357"/>
                  </a:lnTo>
                  <a:lnTo>
                    <a:pt x="14028" y="7352"/>
                  </a:lnTo>
                  <a:lnTo>
                    <a:pt x="14148" y="7346"/>
                  </a:lnTo>
                  <a:lnTo>
                    <a:pt x="14268" y="7338"/>
                  </a:lnTo>
                  <a:lnTo>
                    <a:pt x="14385" y="7328"/>
                  </a:lnTo>
                  <a:lnTo>
                    <a:pt x="14502" y="7316"/>
                  </a:lnTo>
                  <a:lnTo>
                    <a:pt x="14616" y="7304"/>
                  </a:lnTo>
                  <a:lnTo>
                    <a:pt x="14729" y="7290"/>
                  </a:lnTo>
                  <a:lnTo>
                    <a:pt x="14784" y="7281"/>
                  </a:lnTo>
                  <a:lnTo>
                    <a:pt x="14840" y="7273"/>
                  </a:lnTo>
                  <a:lnTo>
                    <a:pt x="14893" y="7264"/>
                  </a:lnTo>
                  <a:lnTo>
                    <a:pt x="14947" y="7255"/>
                  </a:lnTo>
                  <a:lnTo>
                    <a:pt x="14999" y="7245"/>
                  </a:lnTo>
                  <a:lnTo>
                    <a:pt x="15052" y="7235"/>
                  </a:lnTo>
                  <a:lnTo>
                    <a:pt x="15103" y="7225"/>
                  </a:lnTo>
                  <a:lnTo>
                    <a:pt x="15154" y="7214"/>
                  </a:lnTo>
                  <a:lnTo>
                    <a:pt x="15203" y="7203"/>
                  </a:lnTo>
                  <a:lnTo>
                    <a:pt x="15253" y="7191"/>
                  </a:lnTo>
                  <a:lnTo>
                    <a:pt x="15301" y="7179"/>
                  </a:lnTo>
                  <a:lnTo>
                    <a:pt x="15349" y="7167"/>
                  </a:lnTo>
                  <a:lnTo>
                    <a:pt x="15395" y="7154"/>
                  </a:lnTo>
                  <a:lnTo>
                    <a:pt x="15440" y="7140"/>
                  </a:lnTo>
                  <a:lnTo>
                    <a:pt x="15485" y="7127"/>
                  </a:lnTo>
                  <a:lnTo>
                    <a:pt x="15528" y="7112"/>
                  </a:lnTo>
                  <a:lnTo>
                    <a:pt x="15570" y="7098"/>
                  </a:lnTo>
                  <a:lnTo>
                    <a:pt x="15612" y="7083"/>
                  </a:lnTo>
                  <a:lnTo>
                    <a:pt x="15653" y="7068"/>
                  </a:lnTo>
                  <a:lnTo>
                    <a:pt x="15692" y="7053"/>
                  </a:lnTo>
                  <a:lnTo>
                    <a:pt x="15727" y="7038"/>
                  </a:lnTo>
                  <a:lnTo>
                    <a:pt x="15760" y="7023"/>
                  </a:lnTo>
                  <a:lnTo>
                    <a:pt x="15792" y="7008"/>
                  </a:lnTo>
                  <a:lnTo>
                    <a:pt x="15823" y="6994"/>
                  </a:lnTo>
                  <a:lnTo>
                    <a:pt x="15851" y="6978"/>
                  </a:lnTo>
                  <a:lnTo>
                    <a:pt x="15878" y="6964"/>
                  </a:lnTo>
                  <a:lnTo>
                    <a:pt x="15904" y="6948"/>
                  </a:lnTo>
                  <a:lnTo>
                    <a:pt x="15928" y="6934"/>
                  </a:lnTo>
                  <a:lnTo>
                    <a:pt x="15950" y="6919"/>
                  </a:lnTo>
                  <a:lnTo>
                    <a:pt x="15972" y="6904"/>
                  </a:lnTo>
                  <a:lnTo>
                    <a:pt x="15992" y="6889"/>
                  </a:lnTo>
                  <a:lnTo>
                    <a:pt x="16009" y="6874"/>
                  </a:lnTo>
                  <a:lnTo>
                    <a:pt x="16026" y="6859"/>
                  </a:lnTo>
                  <a:lnTo>
                    <a:pt x="16041" y="6844"/>
                  </a:lnTo>
                  <a:lnTo>
                    <a:pt x="16054" y="6829"/>
                  </a:lnTo>
                  <a:lnTo>
                    <a:pt x="16066" y="6814"/>
                  </a:lnTo>
                  <a:lnTo>
                    <a:pt x="16074" y="6803"/>
                  </a:lnTo>
                  <a:lnTo>
                    <a:pt x="16080" y="6793"/>
                  </a:lnTo>
                  <a:lnTo>
                    <a:pt x="16085" y="6782"/>
                  </a:lnTo>
                  <a:lnTo>
                    <a:pt x="16089" y="6773"/>
                  </a:lnTo>
                  <a:lnTo>
                    <a:pt x="16091" y="6764"/>
                  </a:lnTo>
                  <a:lnTo>
                    <a:pt x="16094" y="6755"/>
                  </a:lnTo>
                  <a:lnTo>
                    <a:pt x="16094" y="6745"/>
                  </a:lnTo>
                  <a:lnTo>
                    <a:pt x="16093" y="6737"/>
                  </a:lnTo>
                  <a:lnTo>
                    <a:pt x="16089" y="6725"/>
                  </a:lnTo>
                  <a:lnTo>
                    <a:pt x="16083" y="6711"/>
                  </a:lnTo>
                  <a:lnTo>
                    <a:pt x="16076" y="6698"/>
                  </a:lnTo>
                  <a:lnTo>
                    <a:pt x="16066" y="6684"/>
                  </a:lnTo>
                  <a:lnTo>
                    <a:pt x="16054" y="6669"/>
                  </a:lnTo>
                  <a:lnTo>
                    <a:pt x="16041" y="6654"/>
                  </a:lnTo>
                  <a:lnTo>
                    <a:pt x="16025" y="6638"/>
                  </a:lnTo>
                  <a:lnTo>
                    <a:pt x="16007" y="6623"/>
                  </a:lnTo>
                  <a:lnTo>
                    <a:pt x="15993" y="6610"/>
                  </a:lnTo>
                  <a:lnTo>
                    <a:pt x="15978" y="6599"/>
                  </a:lnTo>
                  <a:lnTo>
                    <a:pt x="15963" y="6588"/>
                  </a:lnTo>
                  <a:lnTo>
                    <a:pt x="15946" y="6576"/>
                  </a:lnTo>
                  <a:lnTo>
                    <a:pt x="15911" y="6554"/>
                  </a:lnTo>
                  <a:lnTo>
                    <a:pt x="15873" y="6531"/>
                  </a:lnTo>
                  <a:lnTo>
                    <a:pt x="15832" y="6509"/>
                  </a:lnTo>
                  <a:lnTo>
                    <a:pt x="15789" y="6488"/>
                  </a:lnTo>
                  <a:lnTo>
                    <a:pt x="15741" y="6466"/>
                  </a:lnTo>
                  <a:lnTo>
                    <a:pt x="15692" y="6444"/>
                  </a:lnTo>
                  <a:lnTo>
                    <a:pt x="15638" y="6424"/>
                  </a:lnTo>
                  <a:lnTo>
                    <a:pt x="15583" y="6404"/>
                  </a:lnTo>
                  <a:lnTo>
                    <a:pt x="15524" y="6384"/>
                  </a:lnTo>
                  <a:lnTo>
                    <a:pt x="15462" y="6364"/>
                  </a:lnTo>
                  <a:lnTo>
                    <a:pt x="15397" y="6345"/>
                  </a:lnTo>
                  <a:lnTo>
                    <a:pt x="15330" y="6327"/>
                  </a:lnTo>
                  <a:lnTo>
                    <a:pt x="15259" y="6309"/>
                  </a:lnTo>
                  <a:lnTo>
                    <a:pt x="15186" y="6292"/>
                  </a:lnTo>
                  <a:lnTo>
                    <a:pt x="15132" y="6280"/>
                  </a:lnTo>
                  <a:lnTo>
                    <a:pt x="15079" y="6269"/>
                  </a:lnTo>
                  <a:lnTo>
                    <a:pt x="15024" y="6258"/>
                  </a:lnTo>
                  <a:lnTo>
                    <a:pt x="14969" y="6248"/>
                  </a:lnTo>
                  <a:lnTo>
                    <a:pt x="14913" y="6238"/>
                  </a:lnTo>
                  <a:lnTo>
                    <a:pt x="14856" y="6228"/>
                  </a:lnTo>
                  <a:lnTo>
                    <a:pt x="14800" y="6220"/>
                  </a:lnTo>
                  <a:lnTo>
                    <a:pt x="14742" y="6210"/>
                  </a:lnTo>
                  <a:lnTo>
                    <a:pt x="14684" y="6203"/>
                  </a:lnTo>
                  <a:lnTo>
                    <a:pt x="14625" y="6195"/>
                  </a:lnTo>
                  <a:lnTo>
                    <a:pt x="14567" y="6189"/>
                  </a:lnTo>
                  <a:lnTo>
                    <a:pt x="14508" y="6182"/>
                  </a:lnTo>
                  <a:lnTo>
                    <a:pt x="14388" y="6170"/>
                  </a:lnTo>
                  <a:lnTo>
                    <a:pt x="14268" y="6160"/>
                  </a:lnTo>
                  <a:lnTo>
                    <a:pt x="14146" y="6152"/>
                  </a:lnTo>
                  <a:lnTo>
                    <a:pt x="14024" y="6145"/>
                  </a:lnTo>
                  <a:lnTo>
                    <a:pt x="13901" y="6141"/>
                  </a:lnTo>
                  <a:lnTo>
                    <a:pt x="13779" y="6138"/>
                  </a:lnTo>
                  <a:lnTo>
                    <a:pt x="13655" y="6138"/>
                  </a:lnTo>
                  <a:lnTo>
                    <a:pt x="13532" y="6138"/>
                  </a:lnTo>
                  <a:lnTo>
                    <a:pt x="13409" y="6141"/>
                  </a:lnTo>
                  <a:lnTo>
                    <a:pt x="13287" y="6145"/>
                  </a:lnTo>
                  <a:lnTo>
                    <a:pt x="13167" y="6153"/>
                  </a:lnTo>
                  <a:lnTo>
                    <a:pt x="13047" y="6160"/>
                  </a:lnTo>
                  <a:lnTo>
                    <a:pt x="12930" y="6170"/>
                  </a:lnTo>
                  <a:lnTo>
                    <a:pt x="12813" y="6182"/>
                  </a:lnTo>
                  <a:lnTo>
                    <a:pt x="12699" y="6194"/>
                  </a:lnTo>
                  <a:lnTo>
                    <a:pt x="12586" y="6209"/>
                  </a:lnTo>
                  <a:lnTo>
                    <a:pt x="12531" y="6217"/>
                  </a:lnTo>
                  <a:lnTo>
                    <a:pt x="12475" y="6225"/>
                  </a:lnTo>
                  <a:lnTo>
                    <a:pt x="12422" y="6234"/>
                  </a:lnTo>
                  <a:lnTo>
                    <a:pt x="12368" y="6243"/>
                  </a:lnTo>
                  <a:lnTo>
                    <a:pt x="12316" y="6253"/>
                  </a:lnTo>
                  <a:lnTo>
                    <a:pt x="12263" y="6263"/>
                  </a:lnTo>
                  <a:lnTo>
                    <a:pt x="12212" y="6273"/>
                  </a:lnTo>
                  <a:lnTo>
                    <a:pt x="12161" y="6285"/>
                  </a:lnTo>
                  <a:lnTo>
                    <a:pt x="12112" y="6296"/>
                  </a:lnTo>
                  <a:lnTo>
                    <a:pt x="12062" y="6307"/>
                  </a:lnTo>
                  <a:lnTo>
                    <a:pt x="12014" y="6319"/>
                  </a:lnTo>
                  <a:lnTo>
                    <a:pt x="11966" y="6332"/>
                  </a:lnTo>
                  <a:lnTo>
                    <a:pt x="11920" y="6344"/>
                  </a:lnTo>
                  <a:lnTo>
                    <a:pt x="11875" y="6358"/>
                  </a:lnTo>
                  <a:lnTo>
                    <a:pt x="11830" y="6371"/>
                  </a:lnTo>
                  <a:lnTo>
                    <a:pt x="11787" y="6386"/>
                  </a:lnTo>
                  <a:lnTo>
                    <a:pt x="11745" y="6400"/>
                  </a:lnTo>
                  <a:lnTo>
                    <a:pt x="11703" y="6414"/>
                  </a:lnTo>
                  <a:lnTo>
                    <a:pt x="11662" y="6430"/>
                  </a:lnTo>
                  <a:lnTo>
                    <a:pt x="11623" y="6445"/>
                  </a:lnTo>
                  <a:lnTo>
                    <a:pt x="11577" y="6465"/>
                  </a:lnTo>
                  <a:lnTo>
                    <a:pt x="11533" y="6486"/>
                  </a:lnTo>
                  <a:lnTo>
                    <a:pt x="11491" y="6505"/>
                  </a:lnTo>
                  <a:lnTo>
                    <a:pt x="11453" y="6526"/>
                  </a:lnTo>
                  <a:lnTo>
                    <a:pt x="11417" y="6545"/>
                  </a:lnTo>
                  <a:lnTo>
                    <a:pt x="11384" y="6566"/>
                  </a:lnTo>
                  <a:lnTo>
                    <a:pt x="11354" y="6586"/>
                  </a:lnTo>
                  <a:lnTo>
                    <a:pt x="11328" y="6606"/>
                  </a:lnTo>
                  <a:lnTo>
                    <a:pt x="11328" y="6892"/>
                  </a:lnTo>
                  <a:lnTo>
                    <a:pt x="11357" y="6913"/>
                  </a:lnTo>
                  <a:lnTo>
                    <a:pt x="11389" y="6935"/>
                  </a:lnTo>
                  <a:lnTo>
                    <a:pt x="11424" y="6957"/>
                  </a:lnTo>
                  <a:lnTo>
                    <a:pt x="11463" y="6978"/>
                  </a:lnTo>
                  <a:lnTo>
                    <a:pt x="11503" y="6999"/>
                  </a:lnTo>
                  <a:lnTo>
                    <a:pt x="11546" y="7020"/>
                  </a:lnTo>
                  <a:lnTo>
                    <a:pt x="11592" y="7040"/>
                  </a:lnTo>
                  <a:lnTo>
                    <a:pt x="11641" y="7061"/>
                  </a:lnTo>
                  <a:lnTo>
                    <a:pt x="11693" y="7080"/>
                  </a:lnTo>
                  <a:lnTo>
                    <a:pt x="11747" y="7099"/>
                  </a:lnTo>
                  <a:lnTo>
                    <a:pt x="11805" y="7119"/>
                  </a:lnTo>
                  <a:lnTo>
                    <a:pt x="11863" y="7137"/>
                  </a:lnTo>
                  <a:lnTo>
                    <a:pt x="11926" y="7155"/>
                  </a:lnTo>
                  <a:lnTo>
                    <a:pt x="11991" y="7172"/>
                  </a:lnTo>
                  <a:lnTo>
                    <a:pt x="12059" y="7190"/>
                  </a:lnTo>
                  <a:lnTo>
                    <a:pt x="12129" y="7206"/>
                  </a:lnTo>
                  <a:close/>
                  <a:moveTo>
                    <a:pt x="11328" y="6165"/>
                  </a:moveTo>
                  <a:lnTo>
                    <a:pt x="11346" y="6156"/>
                  </a:lnTo>
                  <a:lnTo>
                    <a:pt x="11364" y="6146"/>
                  </a:lnTo>
                  <a:lnTo>
                    <a:pt x="11382" y="6138"/>
                  </a:lnTo>
                  <a:lnTo>
                    <a:pt x="11402" y="6129"/>
                  </a:lnTo>
                  <a:lnTo>
                    <a:pt x="11421" y="6121"/>
                  </a:lnTo>
                  <a:lnTo>
                    <a:pt x="11441" y="6112"/>
                  </a:lnTo>
                  <a:lnTo>
                    <a:pt x="11461" y="6103"/>
                  </a:lnTo>
                  <a:lnTo>
                    <a:pt x="11481" y="6095"/>
                  </a:lnTo>
                  <a:lnTo>
                    <a:pt x="11524" y="6078"/>
                  </a:lnTo>
                  <a:lnTo>
                    <a:pt x="11569" y="6061"/>
                  </a:lnTo>
                  <a:lnTo>
                    <a:pt x="11614" y="6044"/>
                  </a:lnTo>
                  <a:lnTo>
                    <a:pt x="11660" y="6029"/>
                  </a:lnTo>
                  <a:lnTo>
                    <a:pt x="11708" y="6014"/>
                  </a:lnTo>
                  <a:lnTo>
                    <a:pt x="11756" y="5999"/>
                  </a:lnTo>
                  <a:lnTo>
                    <a:pt x="11806" y="5984"/>
                  </a:lnTo>
                  <a:lnTo>
                    <a:pt x="11856" y="5970"/>
                  </a:lnTo>
                  <a:lnTo>
                    <a:pt x="11908" y="5956"/>
                  </a:lnTo>
                  <a:lnTo>
                    <a:pt x="11959" y="5943"/>
                  </a:lnTo>
                  <a:lnTo>
                    <a:pt x="12013" y="5930"/>
                  </a:lnTo>
                  <a:lnTo>
                    <a:pt x="12066" y="5918"/>
                  </a:lnTo>
                  <a:lnTo>
                    <a:pt x="12121" y="5906"/>
                  </a:lnTo>
                  <a:lnTo>
                    <a:pt x="12177" y="5895"/>
                  </a:lnTo>
                  <a:lnTo>
                    <a:pt x="12232" y="5884"/>
                  </a:lnTo>
                  <a:lnTo>
                    <a:pt x="12290" y="5873"/>
                  </a:lnTo>
                  <a:lnTo>
                    <a:pt x="12347" y="5863"/>
                  </a:lnTo>
                  <a:lnTo>
                    <a:pt x="12405" y="5854"/>
                  </a:lnTo>
                  <a:lnTo>
                    <a:pt x="12464" y="5844"/>
                  </a:lnTo>
                  <a:lnTo>
                    <a:pt x="12524" y="5835"/>
                  </a:lnTo>
                  <a:lnTo>
                    <a:pt x="12583" y="5827"/>
                  </a:lnTo>
                  <a:lnTo>
                    <a:pt x="12643" y="5820"/>
                  </a:lnTo>
                  <a:lnTo>
                    <a:pt x="12705" y="5813"/>
                  </a:lnTo>
                  <a:lnTo>
                    <a:pt x="12766" y="5805"/>
                  </a:lnTo>
                  <a:lnTo>
                    <a:pt x="12828" y="5799"/>
                  </a:lnTo>
                  <a:lnTo>
                    <a:pt x="12890" y="5793"/>
                  </a:lnTo>
                  <a:lnTo>
                    <a:pt x="12952" y="5788"/>
                  </a:lnTo>
                  <a:lnTo>
                    <a:pt x="13016" y="5783"/>
                  </a:lnTo>
                  <a:lnTo>
                    <a:pt x="13143" y="5774"/>
                  </a:lnTo>
                  <a:lnTo>
                    <a:pt x="13271" y="5767"/>
                  </a:lnTo>
                  <a:lnTo>
                    <a:pt x="13398" y="5763"/>
                  </a:lnTo>
                  <a:lnTo>
                    <a:pt x="13527" y="5760"/>
                  </a:lnTo>
                  <a:lnTo>
                    <a:pt x="13657" y="5759"/>
                  </a:lnTo>
                  <a:lnTo>
                    <a:pt x="13786" y="5760"/>
                  </a:lnTo>
                  <a:lnTo>
                    <a:pt x="13916" y="5762"/>
                  </a:lnTo>
                  <a:lnTo>
                    <a:pt x="14044" y="5767"/>
                  </a:lnTo>
                  <a:lnTo>
                    <a:pt x="14173" y="5774"/>
                  </a:lnTo>
                  <a:lnTo>
                    <a:pt x="14301" y="5783"/>
                  </a:lnTo>
                  <a:lnTo>
                    <a:pt x="14365" y="5788"/>
                  </a:lnTo>
                  <a:lnTo>
                    <a:pt x="14428" y="5793"/>
                  </a:lnTo>
                  <a:lnTo>
                    <a:pt x="14490" y="5799"/>
                  </a:lnTo>
                  <a:lnTo>
                    <a:pt x="14553" y="5805"/>
                  </a:lnTo>
                  <a:lnTo>
                    <a:pt x="14616" y="5813"/>
                  </a:lnTo>
                  <a:lnTo>
                    <a:pt x="14678" y="5820"/>
                  </a:lnTo>
                  <a:lnTo>
                    <a:pt x="14739" y="5828"/>
                  </a:lnTo>
                  <a:lnTo>
                    <a:pt x="14801" y="5836"/>
                  </a:lnTo>
                  <a:lnTo>
                    <a:pt x="14860" y="5846"/>
                  </a:lnTo>
                  <a:lnTo>
                    <a:pt x="14921" y="5855"/>
                  </a:lnTo>
                  <a:lnTo>
                    <a:pt x="14980" y="5865"/>
                  </a:lnTo>
                  <a:lnTo>
                    <a:pt x="15040" y="5875"/>
                  </a:lnTo>
                  <a:lnTo>
                    <a:pt x="15097" y="5887"/>
                  </a:lnTo>
                  <a:lnTo>
                    <a:pt x="15155" y="5898"/>
                  </a:lnTo>
                  <a:lnTo>
                    <a:pt x="15213" y="5909"/>
                  </a:lnTo>
                  <a:lnTo>
                    <a:pt x="15268" y="5922"/>
                  </a:lnTo>
                  <a:lnTo>
                    <a:pt x="15354" y="5942"/>
                  </a:lnTo>
                  <a:lnTo>
                    <a:pt x="15435" y="5963"/>
                  </a:lnTo>
                  <a:lnTo>
                    <a:pt x="15515" y="5986"/>
                  </a:lnTo>
                  <a:lnTo>
                    <a:pt x="15590" y="6008"/>
                  </a:lnTo>
                  <a:lnTo>
                    <a:pt x="15662" y="6031"/>
                  </a:lnTo>
                  <a:lnTo>
                    <a:pt x="15732" y="6056"/>
                  </a:lnTo>
                  <a:lnTo>
                    <a:pt x="15798" y="6081"/>
                  </a:lnTo>
                  <a:lnTo>
                    <a:pt x="15861" y="6106"/>
                  </a:lnTo>
                  <a:lnTo>
                    <a:pt x="15921" y="6133"/>
                  </a:lnTo>
                  <a:lnTo>
                    <a:pt x="15978" y="6160"/>
                  </a:lnTo>
                  <a:lnTo>
                    <a:pt x="16005" y="6174"/>
                  </a:lnTo>
                  <a:lnTo>
                    <a:pt x="16032" y="6188"/>
                  </a:lnTo>
                  <a:lnTo>
                    <a:pt x="16057" y="6202"/>
                  </a:lnTo>
                  <a:lnTo>
                    <a:pt x="16082" y="6216"/>
                  </a:lnTo>
                  <a:lnTo>
                    <a:pt x="16106" y="6230"/>
                  </a:lnTo>
                  <a:lnTo>
                    <a:pt x="16130" y="6244"/>
                  </a:lnTo>
                  <a:lnTo>
                    <a:pt x="16152" y="6260"/>
                  </a:lnTo>
                  <a:lnTo>
                    <a:pt x="16174" y="6274"/>
                  </a:lnTo>
                  <a:lnTo>
                    <a:pt x="16194" y="6289"/>
                  </a:lnTo>
                  <a:lnTo>
                    <a:pt x="16214" y="6304"/>
                  </a:lnTo>
                  <a:lnTo>
                    <a:pt x="16234" y="6319"/>
                  </a:lnTo>
                  <a:lnTo>
                    <a:pt x="16251" y="6334"/>
                  </a:lnTo>
                  <a:lnTo>
                    <a:pt x="16273" y="6354"/>
                  </a:lnTo>
                  <a:lnTo>
                    <a:pt x="16293" y="6372"/>
                  </a:lnTo>
                  <a:lnTo>
                    <a:pt x="16313" y="6392"/>
                  </a:lnTo>
                  <a:lnTo>
                    <a:pt x="16332" y="6411"/>
                  </a:lnTo>
                  <a:lnTo>
                    <a:pt x="16349" y="6432"/>
                  </a:lnTo>
                  <a:lnTo>
                    <a:pt x="16364" y="6452"/>
                  </a:lnTo>
                  <a:lnTo>
                    <a:pt x="16380" y="6472"/>
                  </a:lnTo>
                  <a:lnTo>
                    <a:pt x="16394" y="6493"/>
                  </a:lnTo>
                  <a:lnTo>
                    <a:pt x="16407" y="6513"/>
                  </a:lnTo>
                  <a:lnTo>
                    <a:pt x="16418" y="6535"/>
                  </a:lnTo>
                  <a:lnTo>
                    <a:pt x="16429" y="6556"/>
                  </a:lnTo>
                  <a:lnTo>
                    <a:pt x="16439" y="6577"/>
                  </a:lnTo>
                  <a:lnTo>
                    <a:pt x="16447" y="6599"/>
                  </a:lnTo>
                  <a:lnTo>
                    <a:pt x="16454" y="6621"/>
                  </a:lnTo>
                  <a:lnTo>
                    <a:pt x="16460" y="6642"/>
                  </a:lnTo>
                  <a:lnTo>
                    <a:pt x="16465" y="6665"/>
                  </a:lnTo>
                  <a:lnTo>
                    <a:pt x="16469" y="6685"/>
                  </a:lnTo>
                  <a:lnTo>
                    <a:pt x="16472" y="6705"/>
                  </a:lnTo>
                  <a:lnTo>
                    <a:pt x="16473" y="6725"/>
                  </a:lnTo>
                  <a:lnTo>
                    <a:pt x="16474" y="6744"/>
                  </a:lnTo>
                  <a:lnTo>
                    <a:pt x="16478" y="6760"/>
                  </a:lnTo>
                  <a:lnTo>
                    <a:pt x="16481" y="6774"/>
                  </a:lnTo>
                  <a:lnTo>
                    <a:pt x="16483" y="6791"/>
                  </a:lnTo>
                  <a:lnTo>
                    <a:pt x="16484" y="6806"/>
                  </a:lnTo>
                  <a:lnTo>
                    <a:pt x="16484" y="10950"/>
                  </a:lnTo>
                  <a:lnTo>
                    <a:pt x="16483" y="10965"/>
                  </a:lnTo>
                  <a:lnTo>
                    <a:pt x="16482" y="10981"/>
                  </a:lnTo>
                  <a:lnTo>
                    <a:pt x="16479" y="10995"/>
                  </a:lnTo>
                  <a:lnTo>
                    <a:pt x="16475" y="11010"/>
                  </a:lnTo>
                  <a:lnTo>
                    <a:pt x="16470" y="11023"/>
                  </a:lnTo>
                  <a:lnTo>
                    <a:pt x="16463" y="11036"/>
                  </a:lnTo>
                  <a:lnTo>
                    <a:pt x="16456" y="11049"/>
                  </a:lnTo>
                  <a:lnTo>
                    <a:pt x="16448" y="11061"/>
                  </a:lnTo>
                  <a:lnTo>
                    <a:pt x="16423" y="11101"/>
                  </a:lnTo>
                  <a:lnTo>
                    <a:pt x="16395" y="11141"/>
                  </a:lnTo>
                  <a:lnTo>
                    <a:pt x="16366" y="11179"/>
                  </a:lnTo>
                  <a:lnTo>
                    <a:pt x="16335" y="11216"/>
                  </a:lnTo>
                  <a:lnTo>
                    <a:pt x="16302" y="11252"/>
                  </a:lnTo>
                  <a:lnTo>
                    <a:pt x="16267" y="11286"/>
                  </a:lnTo>
                  <a:lnTo>
                    <a:pt x="16230" y="11320"/>
                  </a:lnTo>
                  <a:lnTo>
                    <a:pt x="16191" y="11353"/>
                  </a:lnTo>
                  <a:lnTo>
                    <a:pt x="16151" y="11384"/>
                  </a:lnTo>
                  <a:lnTo>
                    <a:pt x="16109" y="11414"/>
                  </a:lnTo>
                  <a:lnTo>
                    <a:pt x="16066" y="11444"/>
                  </a:lnTo>
                  <a:lnTo>
                    <a:pt x="16021" y="11471"/>
                  </a:lnTo>
                  <a:lnTo>
                    <a:pt x="15975" y="11498"/>
                  </a:lnTo>
                  <a:lnTo>
                    <a:pt x="15927" y="11525"/>
                  </a:lnTo>
                  <a:lnTo>
                    <a:pt x="15877" y="11550"/>
                  </a:lnTo>
                  <a:lnTo>
                    <a:pt x="15827" y="11575"/>
                  </a:lnTo>
                  <a:lnTo>
                    <a:pt x="15775" y="11597"/>
                  </a:lnTo>
                  <a:lnTo>
                    <a:pt x="15722" y="11620"/>
                  </a:lnTo>
                  <a:lnTo>
                    <a:pt x="15668" y="11641"/>
                  </a:lnTo>
                  <a:lnTo>
                    <a:pt x="15612" y="11661"/>
                  </a:lnTo>
                  <a:lnTo>
                    <a:pt x="15556" y="11681"/>
                  </a:lnTo>
                  <a:lnTo>
                    <a:pt x="15498" y="11698"/>
                  </a:lnTo>
                  <a:lnTo>
                    <a:pt x="15439" y="11717"/>
                  </a:lnTo>
                  <a:lnTo>
                    <a:pt x="15380" y="11733"/>
                  </a:lnTo>
                  <a:lnTo>
                    <a:pt x="15319" y="11749"/>
                  </a:lnTo>
                  <a:lnTo>
                    <a:pt x="15258" y="11764"/>
                  </a:lnTo>
                  <a:lnTo>
                    <a:pt x="15195" y="11778"/>
                  </a:lnTo>
                  <a:lnTo>
                    <a:pt x="15132" y="11791"/>
                  </a:lnTo>
                  <a:lnTo>
                    <a:pt x="15068" y="11804"/>
                  </a:lnTo>
                  <a:lnTo>
                    <a:pt x="15005" y="11816"/>
                  </a:lnTo>
                  <a:lnTo>
                    <a:pt x="14940" y="11827"/>
                  </a:lnTo>
                  <a:lnTo>
                    <a:pt x="14874" y="11837"/>
                  </a:lnTo>
                  <a:lnTo>
                    <a:pt x="14779" y="11851"/>
                  </a:lnTo>
                  <a:lnTo>
                    <a:pt x="14683" y="11862"/>
                  </a:lnTo>
                  <a:lnTo>
                    <a:pt x="14586" y="11872"/>
                  </a:lnTo>
                  <a:lnTo>
                    <a:pt x="14488" y="11882"/>
                  </a:lnTo>
                  <a:lnTo>
                    <a:pt x="14391" y="11890"/>
                  </a:lnTo>
                  <a:lnTo>
                    <a:pt x="14292" y="11896"/>
                  </a:lnTo>
                  <a:lnTo>
                    <a:pt x="14193" y="11901"/>
                  </a:lnTo>
                  <a:lnTo>
                    <a:pt x="14093" y="11905"/>
                  </a:lnTo>
                  <a:lnTo>
                    <a:pt x="13994" y="11909"/>
                  </a:lnTo>
                  <a:lnTo>
                    <a:pt x="13895" y="11911"/>
                  </a:lnTo>
                  <a:lnTo>
                    <a:pt x="13796" y="11912"/>
                  </a:lnTo>
                  <a:lnTo>
                    <a:pt x="13698" y="11912"/>
                  </a:lnTo>
                  <a:lnTo>
                    <a:pt x="13601" y="11911"/>
                  </a:lnTo>
                  <a:lnTo>
                    <a:pt x="13505" y="11909"/>
                  </a:lnTo>
                  <a:lnTo>
                    <a:pt x="13409" y="11905"/>
                  </a:lnTo>
                  <a:lnTo>
                    <a:pt x="13315" y="11901"/>
                  </a:lnTo>
                  <a:lnTo>
                    <a:pt x="13221" y="11896"/>
                  </a:lnTo>
                  <a:lnTo>
                    <a:pt x="13131" y="11891"/>
                  </a:lnTo>
                  <a:lnTo>
                    <a:pt x="13040" y="11885"/>
                  </a:lnTo>
                  <a:lnTo>
                    <a:pt x="12952" y="11878"/>
                  </a:lnTo>
                  <a:lnTo>
                    <a:pt x="12866" y="11870"/>
                  </a:lnTo>
                  <a:lnTo>
                    <a:pt x="12782" y="11862"/>
                  </a:lnTo>
                  <a:lnTo>
                    <a:pt x="12700" y="11854"/>
                  </a:lnTo>
                  <a:lnTo>
                    <a:pt x="12621" y="11845"/>
                  </a:lnTo>
                  <a:lnTo>
                    <a:pt x="12544" y="11834"/>
                  </a:lnTo>
                  <a:lnTo>
                    <a:pt x="12470" y="11825"/>
                  </a:lnTo>
                  <a:lnTo>
                    <a:pt x="12399" y="11814"/>
                  </a:lnTo>
                  <a:lnTo>
                    <a:pt x="12331" y="11803"/>
                  </a:lnTo>
                  <a:lnTo>
                    <a:pt x="12266" y="11792"/>
                  </a:lnTo>
                  <a:lnTo>
                    <a:pt x="12205" y="11781"/>
                  </a:lnTo>
                  <a:lnTo>
                    <a:pt x="12148" y="11769"/>
                  </a:lnTo>
                  <a:lnTo>
                    <a:pt x="12093" y="11757"/>
                  </a:lnTo>
                  <a:lnTo>
                    <a:pt x="12037" y="11745"/>
                  </a:lnTo>
                  <a:lnTo>
                    <a:pt x="11982" y="11730"/>
                  </a:lnTo>
                  <a:lnTo>
                    <a:pt x="11927" y="11715"/>
                  </a:lnTo>
                  <a:lnTo>
                    <a:pt x="11875" y="11699"/>
                  </a:lnTo>
                  <a:lnTo>
                    <a:pt x="11822" y="11683"/>
                  </a:lnTo>
                  <a:lnTo>
                    <a:pt x="11771" y="11665"/>
                  </a:lnTo>
                  <a:lnTo>
                    <a:pt x="11721" y="11648"/>
                  </a:lnTo>
                  <a:lnTo>
                    <a:pt x="11672" y="11629"/>
                  </a:lnTo>
                  <a:lnTo>
                    <a:pt x="11624" y="11611"/>
                  </a:lnTo>
                  <a:lnTo>
                    <a:pt x="11578" y="11592"/>
                  </a:lnTo>
                  <a:lnTo>
                    <a:pt x="11534" y="11572"/>
                  </a:lnTo>
                  <a:lnTo>
                    <a:pt x="11489" y="11552"/>
                  </a:lnTo>
                  <a:lnTo>
                    <a:pt x="11447" y="11531"/>
                  </a:lnTo>
                  <a:lnTo>
                    <a:pt x="11406" y="11512"/>
                  </a:lnTo>
                  <a:lnTo>
                    <a:pt x="11366" y="11490"/>
                  </a:lnTo>
                  <a:lnTo>
                    <a:pt x="11328" y="11469"/>
                  </a:lnTo>
                  <a:lnTo>
                    <a:pt x="11328" y="11551"/>
                  </a:lnTo>
                  <a:lnTo>
                    <a:pt x="11328" y="11572"/>
                  </a:lnTo>
                  <a:lnTo>
                    <a:pt x="11327" y="11593"/>
                  </a:lnTo>
                  <a:lnTo>
                    <a:pt x="11325" y="11614"/>
                  </a:lnTo>
                  <a:lnTo>
                    <a:pt x="11322" y="11634"/>
                  </a:lnTo>
                  <a:lnTo>
                    <a:pt x="11319" y="11655"/>
                  </a:lnTo>
                  <a:lnTo>
                    <a:pt x="11316" y="11676"/>
                  </a:lnTo>
                  <a:lnTo>
                    <a:pt x="11312" y="11696"/>
                  </a:lnTo>
                  <a:lnTo>
                    <a:pt x="11308" y="11716"/>
                  </a:lnTo>
                  <a:lnTo>
                    <a:pt x="11303" y="11735"/>
                  </a:lnTo>
                  <a:lnTo>
                    <a:pt x="11298" y="11755"/>
                  </a:lnTo>
                  <a:lnTo>
                    <a:pt x="11292" y="11775"/>
                  </a:lnTo>
                  <a:lnTo>
                    <a:pt x="11284" y="11794"/>
                  </a:lnTo>
                  <a:lnTo>
                    <a:pt x="11277" y="11813"/>
                  </a:lnTo>
                  <a:lnTo>
                    <a:pt x="11270" y="11831"/>
                  </a:lnTo>
                  <a:lnTo>
                    <a:pt x="11262" y="11850"/>
                  </a:lnTo>
                  <a:lnTo>
                    <a:pt x="11252" y="11868"/>
                  </a:lnTo>
                  <a:lnTo>
                    <a:pt x="11244" y="11887"/>
                  </a:lnTo>
                  <a:lnTo>
                    <a:pt x="11234" y="11904"/>
                  </a:lnTo>
                  <a:lnTo>
                    <a:pt x="11225" y="11922"/>
                  </a:lnTo>
                  <a:lnTo>
                    <a:pt x="11213" y="11939"/>
                  </a:lnTo>
                  <a:lnTo>
                    <a:pt x="11192" y="11973"/>
                  </a:lnTo>
                  <a:lnTo>
                    <a:pt x="11168" y="12006"/>
                  </a:lnTo>
                  <a:lnTo>
                    <a:pt x="11142" y="12039"/>
                  </a:lnTo>
                  <a:lnTo>
                    <a:pt x="11115" y="12070"/>
                  </a:lnTo>
                  <a:lnTo>
                    <a:pt x="11088" y="12100"/>
                  </a:lnTo>
                  <a:lnTo>
                    <a:pt x="11059" y="12129"/>
                  </a:lnTo>
                  <a:lnTo>
                    <a:pt x="11025" y="12159"/>
                  </a:lnTo>
                  <a:lnTo>
                    <a:pt x="10991" y="12188"/>
                  </a:lnTo>
                  <a:lnTo>
                    <a:pt x="10955" y="12216"/>
                  </a:lnTo>
                  <a:lnTo>
                    <a:pt x="10918" y="12240"/>
                  </a:lnTo>
                  <a:lnTo>
                    <a:pt x="10879" y="12265"/>
                  </a:lnTo>
                  <a:lnTo>
                    <a:pt x="10840" y="12288"/>
                  </a:lnTo>
                  <a:lnTo>
                    <a:pt x="10800" y="12308"/>
                  </a:lnTo>
                  <a:lnTo>
                    <a:pt x="10760" y="12327"/>
                  </a:lnTo>
                  <a:lnTo>
                    <a:pt x="10720" y="12345"/>
                  </a:lnTo>
                  <a:lnTo>
                    <a:pt x="10679" y="12360"/>
                  </a:lnTo>
                  <a:lnTo>
                    <a:pt x="10637" y="12373"/>
                  </a:lnTo>
                  <a:lnTo>
                    <a:pt x="10595" y="12385"/>
                  </a:lnTo>
                  <a:lnTo>
                    <a:pt x="10554" y="12394"/>
                  </a:lnTo>
                  <a:lnTo>
                    <a:pt x="10513" y="12401"/>
                  </a:lnTo>
                  <a:lnTo>
                    <a:pt x="10492" y="12404"/>
                  </a:lnTo>
                  <a:lnTo>
                    <a:pt x="10472" y="12406"/>
                  </a:lnTo>
                  <a:lnTo>
                    <a:pt x="10452" y="12408"/>
                  </a:lnTo>
                  <a:lnTo>
                    <a:pt x="10431" y="12409"/>
                  </a:lnTo>
                  <a:lnTo>
                    <a:pt x="5392" y="12661"/>
                  </a:lnTo>
                  <a:lnTo>
                    <a:pt x="5376" y="12662"/>
                  </a:lnTo>
                  <a:lnTo>
                    <a:pt x="5368" y="12662"/>
                  </a:lnTo>
                  <a:lnTo>
                    <a:pt x="5347" y="12662"/>
                  </a:lnTo>
                  <a:lnTo>
                    <a:pt x="5326" y="12660"/>
                  </a:lnTo>
                  <a:lnTo>
                    <a:pt x="5306" y="12658"/>
                  </a:lnTo>
                  <a:lnTo>
                    <a:pt x="5285" y="12656"/>
                  </a:lnTo>
                  <a:lnTo>
                    <a:pt x="5265" y="12652"/>
                  </a:lnTo>
                  <a:lnTo>
                    <a:pt x="5245" y="12648"/>
                  </a:lnTo>
                  <a:lnTo>
                    <a:pt x="5225" y="12642"/>
                  </a:lnTo>
                  <a:lnTo>
                    <a:pt x="5206" y="12636"/>
                  </a:lnTo>
                  <a:lnTo>
                    <a:pt x="820" y="12013"/>
                  </a:lnTo>
                  <a:lnTo>
                    <a:pt x="817" y="12012"/>
                  </a:lnTo>
                  <a:lnTo>
                    <a:pt x="813" y="12012"/>
                  </a:lnTo>
                  <a:lnTo>
                    <a:pt x="793" y="12008"/>
                  </a:lnTo>
                  <a:lnTo>
                    <a:pt x="774" y="12004"/>
                  </a:lnTo>
                  <a:lnTo>
                    <a:pt x="754" y="12000"/>
                  </a:lnTo>
                  <a:lnTo>
                    <a:pt x="735" y="11995"/>
                  </a:lnTo>
                  <a:lnTo>
                    <a:pt x="715" y="11989"/>
                  </a:lnTo>
                  <a:lnTo>
                    <a:pt x="696" y="11983"/>
                  </a:lnTo>
                  <a:lnTo>
                    <a:pt x="677" y="11976"/>
                  </a:lnTo>
                  <a:lnTo>
                    <a:pt x="658" y="11967"/>
                  </a:lnTo>
                  <a:lnTo>
                    <a:pt x="640" y="11958"/>
                  </a:lnTo>
                  <a:lnTo>
                    <a:pt x="622" y="11949"/>
                  </a:lnTo>
                  <a:lnTo>
                    <a:pt x="604" y="11938"/>
                  </a:lnTo>
                  <a:lnTo>
                    <a:pt x="586" y="11928"/>
                  </a:lnTo>
                  <a:lnTo>
                    <a:pt x="568" y="11917"/>
                  </a:lnTo>
                  <a:lnTo>
                    <a:pt x="550" y="11905"/>
                  </a:lnTo>
                  <a:lnTo>
                    <a:pt x="534" y="11892"/>
                  </a:lnTo>
                  <a:lnTo>
                    <a:pt x="516" y="11880"/>
                  </a:lnTo>
                  <a:lnTo>
                    <a:pt x="500" y="11866"/>
                  </a:lnTo>
                  <a:lnTo>
                    <a:pt x="483" y="11852"/>
                  </a:lnTo>
                  <a:lnTo>
                    <a:pt x="467" y="11837"/>
                  </a:lnTo>
                  <a:lnTo>
                    <a:pt x="450" y="11822"/>
                  </a:lnTo>
                  <a:lnTo>
                    <a:pt x="418" y="11791"/>
                  </a:lnTo>
                  <a:lnTo>
                    <a:pt x="387" y="11757"/>
                  </a:lnTo>
                  <a:lnTo>
                    <a:pt x="357" y="11722"/>
                  </a:lnTo>
                  <a:lnTo>
                    <a:pt x="329" y="11686"/>
                  </a:lnTo>
                  <a:lnTo>
                    <a:pt x="301" y="11649"/>
                  </a:lnTo>
                  <a:lnTo>
                    <a:pt x="274" y="11610"/>
                  </a:lnTo>
                  <a:lnTo>
                    <a:pt x="259" y="11586"/>
                  </a:lnTo>
                  <a:lnTo>
                    <a:pt x="243" y="11561"/>
                  </a:lnTo>
                  <a:lnTo>
                    <a:pt x="229" y="11536"/>
                  </a:lnTo>
                  <a:lnTo>
                    <a:pt x="214" y="11512"/>
                  </a:lnTo>
                  <a:lnTo>
                    <a:pt x="186" y="11460"/>
                  </a:lnTo>
                  <a:lnTo>
                    <a:pt x="161" y="11409"/>
                  </a:lnTo>
                  <a:lnTo>
                    <a:pt x="136" y="11356"/>
                  </a:lnTo>
                  <a:lnTo>
                    <a:pt x="113" y="11302"/>
                  </a:lnTo>
                  <a:lnTo>
                    <a:pt x="93" y="11250"/>
                  </a:lnTo>
                  <a:lnTo>
                    <a:pt x="74" y="11197"/>
                  </a:lnTo>
                  <a:lnTo>
                    <a:pt x="58" y="11145"/>
                  </a:lnTo>
                  <a:lnTo>
                    <a:pt x="42" y="11093"/>
                  </a:lnTo>
                  <a:lnTo>
                    <a:pt x="30" y="11043"/>
                  </a:lnTo>
                  <a:lnTo>
                    <a:pt x="20" y="10993"/>
                  </a:lnTo>
                  <a:lnTo>
                    <a:pt x="11" y="10945"/>
                  </a:lnTo>
                  <a:lnTo>
                    <a:pt x="5" y="10899"/>
                  </a:lnTo>
                  <a:lnTo>
                    <a:pt x="3" y="10877"/>
                  </a:lnTo>
                  <a:lnTo>
                    <a:pt x="1" y="10855"/>
                  </a:lnTo>
                  <a:lnTo>
                    <a:pt x="0" y="10834"/>
                  </a:lnTo>
                  <a:lnTo>
                    <a:pt x="0" y="10814"/>
                  </a:lnTo>
                  <a:lnTo>
                    <a:pt x="0" y="1870"/>
                  </a:lnTo>
                  <a:lnTo>
                    <a:pt x="0" y="1856"/>
                  </a:lnTo>
                  <a:lnTo>
                    <a:pt x="0" y="1842"/>
                  </a:lnTo>
                  <a:lnTo>
                    <a:pt x="1" y="1824"/>
                  </a:lnTo>
                  <a:lnTo>
                    <a:pt x="2" y="1806"/>
                  </a:lnTo>
                  <a:lnTo>
                    <a:pt x="3" y="1776"/>
                  </a:lnTo>
                  <a:lnTo>
                    <a:pt x="5" y="1747"/>
                  </a:lnTo>
                  <a:lnTo>
                    <a:pt x="8" y="1718"/>
                  </a:lnTo>
                  <a:lnTo>
                    <a:pt x="11" y="1689"/>
                  </a:lnTo>
                  <a:lnTo>
                    <a:pt x="15" y="1662"/>
                  </a:lnTo>
                  <a:lnTo>
                    <a:pt x="20" y="1633"/>
                  </a:lnTo>
                  <a:lnTo>
                    <a:pt x="25" y="1605"/>
                  </a:lnTo>
                  <a:lnTo>
                    <a:pt x="30" y="1577"/>
                  </a:lnTo>
                  <a:lnTo>
                    <a:pt x="36" y="1549"/>
                  </a:lnTo>
                  <a:lnTo>
                    <a:pt x="42" y="1522"/>
                  </a:lnTo>
                  <a:lnTo>
                    <a:pt x="48" y="1496"/>
                  </a:lnTo>
                  <a:lnTo>
                    <a:pt x="57" y="1469"/>
                  </a:lnTo>
                  <a:lnTo>
                    <a:pt x="72" y="1416"/>
                  </a:lnTo>
                  <a:lnTo>
                    <a:pt x="90" y="1365"/>
                  </a:lnTo>
                  <a:lnTo>
                    <a:pt x="109" y="1314"/>
                  </a:lnTo>
                  <a:lnTo>
                    <a:pt x="130" y="1265"/>
                  </a:lnTo>
                  <a:lnTo>
                    <a:pt x="151" y="1217"/>
                  </a:lnTo>
                  <a:lnTo>
                    <a:pt x="175" y="1171"/>
                  </a:lnTo>
                  <a:lnTo>
                    <a:pt x="200" y="1127"/>
                  </a:lnTo>
                  <a:lnTo>
                    <a:pt x="226" y="1083"/>
                  </a:lnTo>
                  <a:lnTo>
                    <a:pt x="252" y="1042"/>
                  </a:lnTo>
                  <a:lnTo>
                    <a:pt x="280" y="1003"/>
                  </a:lnTo>
                  <a:lnTo>
                    <a:pt x="296" y="982"/>
                  </a:lnTo>
                  <a:lnTo>
                    <a:pt x="311" y="963"/>
                  </a:lnTo>
                  <a:lnTo>
                    <a:pt x="328" y="943"/>
                  </a:lnTo>
                  <a:lnTo>
                    <a:pt x="343" y="925"/>
                  </a:lnTo>
                  <a:lnTo>
                    <a:pt x="360" y="906"/>
                  </a:lnTo>
                  <a:lnTo>
                    <a:pt x="376" y="889"/>
                  </a:lnTo>
                  <a:lnTo>
                    <a:pt x="393" y="871"/>
                  </a:lnTo>
                  <a:lnTo>
                    <a:pt x="410" y="855"/>
                  </a:lnTo>
                  <a:lnTo>
                    <a:pt x="427" y="838"/>
                  </a:lnTo>
                  <a:lnTo>
                    <a:pt x="444" y="823"/>
                  </a:lnTo>
                  <a:lnTo>
                    <a:pt x="462" y="808"/>
                  </a:lnTo>
                  <a:lnTo>
                    <a:pt x="479" y="794"/>
                  </a:lnTo>
                  <a:lnTo>
                    <a:pt x="497" y="780"/>
                  </a:lnTo>
                  <a:lnTo>
                    <a:pt x="515" y="767"/>
                  </a:lnTo>
                  <a:lnTo>
                    <a:pt x="533" y="755"/>
                  </a:lnTo>
                  <a:lnTo>
                    <a:pt x="551" y="742"/>
                  </a:lnTo>
                  <a:lnTo>
                    <a:pt x="569" y="732"/>
                  </a:lnTo>
                  <a:lnTo>
                    <a:pt x="587" y="721"/>
                  </a:lnTo>
                  <a:lnTo>
                    <a:pt x="606" y="711"/>
                  </a:lnTo>
                  <a:lnTo>
                    <a:pt x="624" y="702"/>
                  </a:lnTo>
                  <a:lnTo>
                    <a:pt x="643" y="694"/>
                  </a:lnTo>
                  <a:lnTo>
                    <a:pt x="660" y="685"/>
                  </a:lnTo>
                  <a:lnTo>
                    <a:pt x="679" y="678"/>
                  </a:lnTo>
                  <a:lnTo>
                    <a:pt x="697" y="672"/>
                  </a:lnTo>
                  <a:lnTo>
                    <a:pt x="716" y="666"/>
                  </a:lnTo>
                  <a:lnTo>
                    <a:pt x="735" y="661"/>
                  </a:lnTo>
                  <a:lnTo>
                    <a:pt x="753" y="657"/>
                  </a:lnTo>
                  <a:lnTo>
                    <a:pt x="772" y="654"/>
                  </a:lnTo>
                  <a:lnTo>
                    <a:pt x="789" y="650"/>
                  </a:lnTo>
                  <a:lnTo>
                    <a:pt x="808" y="648"/>
                  </a:lnTo>
                  <a:lnTo>
                    <a:pt x="825" y="647"/>
                  </a:lnTo>
                  <a:lnTo>
                    <a:pt x="844" y="647"/>
                  </a:lnTo>
                  <a:lnTo>
                    <a:pt x="844" y="646"/>
                  </a:lnTo>
                  <a:lnTo>
                    <a:pt x="850" y="646"/>
                  </a:lnTo>
                  <a:lnTo>
                    <a:pt x="5192" y="22"/>
                  </a:lnTo>
                  <a:lnTo>
                    <a:pt x="5211" y="16"/>
                  </a:lnTo>
                  <a:lnTo>
                    <a:pt x="5229" y="12"/>
                  </a:lnTo>
                  <a:lnTo>
                    <a:pt x="5247" y="8"/>
                  </a:lnTo>
                  <a:lnTo>
                    <a:pt x="5265" y="5"/>
                  </a:lnTo>
                  <a:lnTo>
                    <a:pt x="5283" y="3"/>
                  </a:lnTo>
                  <a:lnTo>
                    <a:pt x="5301" y="1"/>
                  </a:lnTo>
                  <a:lnTo>
                    <a:pt x="5318" y="0"/>
                  </a:lnTo>
                  <a:lnTo>
                    <a:pt x="5336" y="0"/>
                  </a:lnTo>
                  <a:lnTo>
                    <a:pt x="5356" y="1"/>
                  </a:lnTo>
                  <a:lnTo>
                    <a:pt x="10431" y="233"/>
                  </a:lnTo>
                  <a:lnTo>
                    <a:pt x="10451" y="234"/>
                  </a:lnTo>
                  <a:lnTo>
                    <a:pt x="10471" y="236"/>
                  </a:lnTo>
                  <a:lnTo>
                    <a:pt x="10492" y="238"/>
                  </a:lnTo>
                  <a:lnTo>
                    <a:pt x="10513" y="241"/>
                  </a:lnTo>
                  <a:lnTo>
                    <a:pt x="10533" y="244"/>
                  </a:lnTo>
                  <a:lnTo>
                    <a:pt x="10554" y="248"/>
                  </a:lnTo>
                  <a:lnTo>
                    <a:pt x="10574" y="253"/>
                  </a:lnTo>
                  <a:lnTo>
                    <a:pt x="10595" y="258"/>
                  </a:lnTo>
                  <a:lnTo>
                    <a:pt x="10636" y="269"/>
                  </a:lnTo>
                  <a:lnTo>
                    <a:pt x="10679" y="282"/>
                  </a:lnTo>
                  <a:lnTo>
                    <a:pt x="10719" y="298"/>
                  </a:lnTo>
                  <a:lnTo>
                    <a:pt x="10760" y="314"/>
                  </a:lnTo>
                  <a:lnTo>
                    <a:pt x="10800" y="334"/>
                  </a:lnTo>
                  <a:lnTo>
                    <a:pt x="10840" y="355"/>
                  </a:lnTo>
                  <a:lnTo>
                    <a:pt x="10878" y="377"/>
                  </a:lnTo>
                  <a:lnTo>
                    <a:pt x="10917" y="401"/>
                  </a:lnTo>
                  <a:lnTo>
                    <a:pt x="10954" y="427"/>
                  </a:lnTo>
                  <a:lnTo>
                    <a:pt x="10990" y="454"/>
                  </a:lnTo>
                  <a:lnTo>
                    <a:pt x="11025" y="482"/>
                  </a:lnTo>
                  <a:lnTo>
                    <a:pt x="11058" y="513"/>
                  </a:lnTo>
                  <a:lnTo>
                    <a:pt x="11088" y="542"/>
                  </a:lnTo>
                  <a:lnTo>
                    <a:pt x="11115" y="572"/>
                  </a:lnTo>
                  <a:lnTo>
                    <a:pt x="11142" y="603"/>
                  </a:lnTo>
                  <a:lnTo>
                    <a:pt x="11168" y="635"/>
                  </a:lnTo>
                  <a:lnTo>
                    <a:pt x="11192" y="668"/>
                  </a:lnTo>
                  <a:lnTo>
                    <a:pt x="11213" y="703"/>
                  </a:lnTo>
                  <a:lnTo>
                    <a:pt x="11224" y="721"/>
                  </a:lnTo>
                  <a:lnTo>
                    <a:pt x="11234" y="738"/>
                  </a:lnTo>
                  <a:lnTo>
                    <a:pt x="11243" y="756"/>
                  </a:lnTo>
                  <a:lnTo>
                    <a:pt x="11252" y="774"/>
                  </a:lnTo>
                  <a:lnTo>
                    <a:pt x="11262" y="793"/>
                  </a:lnTo>
                  <a:lnTo>
                    <a:pt x="11270" y="811"/>
                  </a:lnTo>
                  <a:lnTo>
                    <a:pt x="11277" y="830"/>
                  </a:lnTo>
                  <a:lnTo>
                    <a:pt x="11284" y="849"/>
                  </a:lnTo>
                  <a:lnTo>
                    <a:pt x="11292" y="868"/>
                  </a:lnTo>
                  <a:lnTo>
                    <a:pt x="11298" y="887"/>
                  </a:lnTo>
                  <a:lnTo>
                    <a:pt x="11303" y="907"/>
                  </a:lnTo>
                  <a:lnTo>
                    <a:pt x="11308" y="927"/>
                  </a:lnTo>
                  <a:lnTo>
                    <a:pt x="11312" y="947"/>
                  </a:lnTo>
                  <a:lnTo>
                    <a:pt x="11316" y="967"/>
                  </a:lnTo>
                  <a:lnTo>
                    <a:pt x="11319" y="987"/>
                  </a:lnTo>
                  <a:lnTo>
                    <a:pt x="11322" y="1008"/>
                  </a:lnTo>
                  <a:lnTo>
                    <a:pt x="11325" y="1029"/>
                  </a:lnTo>
                  <a:lnTo>
                    <a:pt x="11327" y="1049"/>
                  </a:lnTo>
                  <a:lnTo>
                    <a:pt x="11328" y="1071"/>
                  </a:lnTo>
                  <a:lnTo>
                    <a:pt x="11328" y="1092"/>
                  </a:lnTo>
                  <a:lnTo>
                    <a:pt x="11328" y="6165"/>
                  </a:lnTo>
                  <a:close/>
                  <a:moveTo>
                    <a:pt x="11328" y="11027"/>
                  </a:moveTo>
                  <a:lnTo>
                    <a:pt x="11346" y="11040"/>
                  </a:lnTo>
                  <a:lnTo>
                    <a:pt x="11366" y="11052"/>
                  </a:lnTo>
                  <a:lnTo>
                    <a:pt x="11386" y="11065"/>
                  </a:lnTo>
                  <a:lnTo>
                    <a:pt x="11408" y="11079"/>
                  </a:lnTo>
                  <a:lnTo>
                    <a:pt x="11432" y="11092"/>
                  </a:lnTo>
                  <a:lnTo>
                    <a:pt x="11455" y="11107"/>
                  </a:lnTo>
                  <a:lnTo>
                    <a:pt x="11481" y="11121"/>
                  </a:lnTo>
                  <a:lnTo>
                    <a:pt x="11507" y="11135"/>
                  </a:lnTo>
                  <a:lnTo>
                    <a:pt x="11541" y="11154"/>
                  </a:lnTo>
                  <a:lnTo>
                    <a:pt x="11575" y="11173"/>
                  </a:lnTo>
                  <a:lnTo>
                    <a:pt x="11611" y="11190"/>
                  </a:lnTo>
                  <a:lnTo>
                    <a:pt x="11648" y="11208"/>
                  </a:lnTo>
                  <a:lnTo>
                    <a:pt x="11686" y="11225"/>
                  </a:lnTo>
                  <a:lnTo>
                    <a:pt x="11725" y="11243"/>
                  </a:lnTo>
                  <a:lnTo>
                    <a:pt x="11765" y="11259"/>
                  </a:lnTo>
                  <a:lnTo>
                    <a:pt x="11808" y="11276"/>
                  </a:lnTo>
                  <a:lnTo>
                    <a:pt x="11850" y="11291"/>
                  </a:lnTo>
                  <a:lnTo>
                    <a:pt x="11893" y="11308"/>
                  </a:lnTo>
                  <a:lnTo>
                    <a:pt x="11939" y="11322"/>
                  </a:lnTo>
                  <a:lnTo>
                    <a:pt x="11984" y="11336"/>
                  </a:lnTo>
                  <a:lnTo>
                    <a:pt x="12030" y="11350"/>
                  </a:lnTo>
                  <a:lnTo>
                    <a:pt x="12079" y="11363"/>
                  </a:lnTo>
                  <a:lnTo>
                    <a:pt x="12127" y="11376"/>
                  </a:lnTo>
                  <a:lnTo>
                    <a:pt x="12177" y="11388"/>
                  </a:lnTo>
                  <a:lnTo>
                    <a:pt x="12228" y="11399"/>
                  </a:lnTo>
                  <a:lnTo>
                    <a:pt x="12283" y="11410"/>
                  </a:lnTo>
                  <a:lnTo>
                    <a:pt x="12340" y="11421"/>
                  </a:lnTo>
                  <a:lnTo>
                    <a:pt x="12402" y="11431"/>
                  </a:lnTo>
                  <a:lnTo>
                    <a:pt x="12466" y="11442"/>
                  </a:lnTo>
                  <a:lnTo>
                    <a:pt x="12533" y="11451"/>
                  </a:lnTo>
                  <a:lnTo>
                    <a:pt x="12604" y="11461"/>
                  </a:lnTo>
                  <a:lnTo>
                    <a:pt x="12676" y="11470"/>
                  </a:lnTo>
                  <a:lnTo>
                    <a:pt x="12751" y="11479"/>
                  </a:lnTo>
                  <a:lnTo>
                    <a:pt x="12829" y="11487"/>
                  </a:lnTo>
                  <a:lnTo>
                    <a:pt x="12909" y="11494"/>
                  </a:lnTo>
                  <a:lnTo>
                    <a:pt x="12990" y="11501"/>
                  </a:lnTo>
                  <a:lnTo>
                    <a:pt x="13074" y="11508"/>
                  </a:lnTo>
                  <a:lnTo>
                    <a:pt x="13159" y="11514"/>
                  </a:lnTo>
                  <a:lnTo>
                    <a:pt x="13247" y="11519"/>
                  </a:lnTo>
                  <a:lnTo>
                    <a:pt x="13336" y="11523"/>
                  </a:lnTo>
                  <a:lnTo>
                    <a:pt x="13425" y="11527"/>
                  </a:lnTo>
                  <a:lnTo>
                    <a:pt x="13516" y="11530"/>
                  </a:lnTo>
                  <a:lnTo>
                    <a:pt x="13608" y="11531"/>
                  </a:lnTo>
                  <a:lnTo>
                    <a:pt x="13700" y="11532"/>
                  </a:lnTo>
                  <a:lnTo>
                    <a:pt x="13793" y="11533"/>
                  </a:lnTo>
                  <a:lnTo>
                    <a:pt x="13887" y="11532"/>
                  </a:lnTo>
                  <a:lnTo>
                    <a:pt x="13980" y="11530"/>
                  </a:lnTo>
                  <a:lnTo>
                    <a:pt x="14075" y="11527"/>
                  </a:lnTo>
                  <a:lnTo>
                    <a:pt x="14169" y="11523"/>
                  </a:lnTo>
                  <a:lnTo>
                    <a:pt x="14264" y="11518"/>
                  </a:lnTo>
                  <a:lnTo>
                    <a:pt x="14358" y="11512"/>
                  </a:lnTo>
                  <a:lnTo>
                    <a:pt x="14451" y="11504"/>
                  </a:lnTo>
                  <a:lnTo>
                    <a:pt x="14544" y="11495"/>
                  </a:lnTo>
                  <a:lnTo>
                    <a:pt x="14637" y="11486"/>
                  </a:lnTo>
                  <a:lnTo>
                    <a:pt x="14728" y="11475"/>
                  </a:lnTo>
                  <a:lnTo>
                    <a:pt x="14819" y="11461"/>
                  </a:lnTo>
                  <a:lnTo>
                    <a:pt x="14874" y="11453"/>
                  </a:lnTo>
                  <a:lnTo>
                    <a:pt x="14927" y="11444"/>
                  </a:lnTo>
                  <a:lnTo>
                    <a:pt x="14980" y="11434"/>
                  </a:lnTo>
                  <a:lnTo>
                    <a:pt x="15033" y="11425"/>
                  </a:lnTo>
                  <a:lnTo>
                    <a:pt x="15085" y="11414"/>
                  </a:lnTo>
                  <a:lnTo>
                    <a:pt x="15136" y="11403"/>
                  </a:lnTo>
                  <a:lnTo>
                    <a:pt x="15187" y="11391"/>
                  </a:lnTo>
                  <a:lnTo>
                    <a:pt x="15236" y="11380"/>
                  </a:lnTo>
                  <a:lnTo>
                    <a:pt x="15286" y="11366"/>
                  </a:lnTo>
                  <a:lnTo>
                    <a:pt x="15334" y="11353"/>
                  </a:lnTo>
                  <a:lnTo>
                    <a:pt x="15381" y="11340"/>
                  </a:lnTo>
                  <a:lnTo>
                    <a:pt x="15427" y="11325"/>
                  </a:lnTo>
                  <a:lnTo>
                    <a:pt x="15473" y="11310"/>
                  </a:lnTo>
                  <a:lnTo>
                    <a:pt x="15518" y="11294"/>
                  </a:lnTo>
                  <a:lnTo>
                    <a:pt x="15561" y="11278"/>
                  </a:lnTo>
                  <a:lnTo>
                    <a:pt x="15603" y="11261"/>
                  </a:lnTo>
                  <a:lnTo>
                    <a:pt x="15644" y="11244"/>
                  </a:lnTo>
                  <a:lnTo>
                    <a:pt x="15685" y="11225"/>
                  </a:lnTo>
                  <a:lnTo>
                    <a:pt x="15724" y="11207"/>
                  </a:lnTo>
                  <a:lnTo>
                    <a:pt x="15761" y="11187"/>
                  </a:lnTo>
                  <a:lnTo>
                    <a:pt x="15798" y="11166"/>
                  </a:lnTo>
                  <a:lnTo>
                    <a:pt x="15833" y="11146"/>
                  </a:lnTo>
                  <a:lnTo>
                    <a:pt x="15867" y="11124"/>
                  </a:lnTo>
                  <a:lnTo>
                    <a:pt x="15899" y="11102"/>
                  </a:lnTo>
                  <a:lnTo>
                    <a:pt x="15930" y="11079"/>
                  </a:lnTo>
                  <a:lnTo>
                    <a:pt x="15960" y="11055"/>
                  </a:lnTo>
                  <a:lnTo>
                    <a:pt x="15987" y="11031"/>
                  </a:lnTo>
                  <a:lnTo>
                    <a:pt x="16014" y="11006"/>
                  </a:lnTo>
                  <a:lnTo>
                    <a:pt x="16039" y="10980"/>
                  </a:lnTo>
                  <a:lnTo>
                    <a:pt x="16063" y="10953"/>
                  </a:lnTo>
                  <a:lnTo>
                    <a:pt x="16084" y="10926"/>
                  </a:lnTo>
                  <a:lnTo>
                    <a:pt x="16104" y="10898"/>
                  </a:lnTo>
                  <a:lnTo>
                    <a:pt x="16104" y="7269"/>
                  </a:lnTo>
                  <a:lnTo>
                    <a:pt x="16075" y="7287"/>
                  </a:lnTo>
                  <a:lnTo>
                    <a:pt x="16044" y="7304"/>
                  </a:lnTo>
                  <a:lnTo>
                    <a:pt x="16012" y="7321"/>
                  </a:lnTo>
                  <a:lnTo>
                    <a:pt x="15978" y="7338"/>
                  </a:lnTo>
                  <a:lnTo>
                    <a:pt x="15944" y="7355"/>
                  </a:lnTo>
                  <a:lnTo>
                    <a:pt x="15909" y="7371"/>
                  </a:lnTo>
                  <a:lnTo>
                    <a:pt x="15872" y="7387"/>
                  </a:lnTo>
                  <a:lnTo>
                    <a:pt x="15834" y="7403"/>
                  </a:lnTo>
                  <a:lnTo>
                    <a:pt x="15791" y="7419"/>
                  </a:lnTo>
                  <a:lnTo>
                    <a:pt x="15746" y="7437"/>
                  </a:lnTo>
                  <a:lnTo>
                    <a:pt x="15701" y="7454"/>
                  </a:lnTo>
                  <a:lnTo>
                    <a:pt x="15655" y="7469"/>
                  </a:lnTo>
                  <a:lnTo>
                    <a:pt x="15607" y="7484"/>
                  </a:lnTo>
                  <a:lnTo>
                    <a:pt x="15559" y="7500"/>
                  </a:lnTo>
                  <a:lnTo>
                    <a:pt x="15509" y="7514"/>
                  </a:lnTo>
                  <a:lnTo>
                    <a:pt x="15459" y="7528"/>
                  </a:lnTo>
                  <a:lnTo>
                    <a:pt x="15407" y="7542"/>
                  </a:lnTo>
                  <a:lnTo>
                    <a:pt x="15356" y="7555"/>
                  </a:lnTo>
                  <a:lnTo>
                    <a:pt x="15302" y="7568"/>
                  </a:lnTo>
                  <a:lnTo>
                    <a:pt x="15249" y="7580"/>
                  </a:lnTo>
                  <a:lnTo>
                    <a:pt x="15194" y="7592"/>
                  </a:lnTo>
                  <a:lnTo>
                    <a:pt x="15138" y="7603"/>
                  </a:lnTo>
                  <a:lnTo>
                    <a:pt x="15083" y="7614"/>
                  </a:lnTo>
                  <a:lnTo>
                    <a:pt x="15025" y="7625"/>
                  </a:lnTo>
                  <a:lnTo>
                    <a:pt x="14969" y="7635"/>
                  </a:lnTo>
                  <a:lnTo>
                    <a:pt x="14910" y="7644"/>
                  </a:lnTo>
                  <a:lnTo>
                    <a:pt x="14851" y="7653"/>
                  </a:lnTo>
                  <a:lnTo>
                    <a:pt x="14791" y="7663"/>
                  </a:lnTo>
                  <a:lnTo>
                    <a:pt x="14732" y="7671"/>
                  </a:lnTo>
                  <a:lnTo>
                    <a:pt x="14672" y="7678"/>
                  </a:lnTo>
                  <a:lnTo>
                    <a:pt x="14610" y="7685"/>
                  </a:lnTo>
                  <a:lnTo>
                    <a:pt x="14549" y="7693"/>
                  </a:lnTo>
                  <a:lnTo>
                    <a:pt x="14487" y="7699"/>
                  </a:lnTo>
                  <a:lnTo>
                    <a:pt x="14425" y="7705"/>
                  </a:lnTo>
                  <a:lnTo>
                    <a:pt x="14363" y="7710"/>
                  </a:lnTo>
                  <a:lnTo>
                    <a:pt x="14299" y="7715"/>
                  </a:lnTo>
                  <a:lnTo>
                    <a:pt x="14172" y="7724"/>
                  </a:lnTo>
                  <a:lnTo>
                    <a:pt x="14044" y="7731"/>
                  </a:lnTo>
                  <a:lnTo>
                    <a:pt x="13917" y="7735"/>
                  </a:lnTo>
                  <a:lnTo>
                    <a:pt x="13788" y="7738"/>
                  </a:lnTo>
                  <a:lnTo>
                    <a:pt x="13658" y="7739"/>
                  </a:lnTo>
                  <a:lnTo>
                    <a:pt x="13529" y="7738"/>
                  </a:lnTo>
                  <a:lnTo>
                    <a:pt x="13399" y="7736"/>
                  </a:lnTo>
                  <a:lnTo>
                    <a:pt x="13271" y="7731"/>
                  </a:lnTo>
                  <a:lnTo>
                    <a:pt x="13142" y="7724"/>
                  </a:lnTo>
                  <a:lnTo>
                    <a:pt x="13014" y="7715"/>
                  </a:lnTo>
                  <a:lnTo>
                    <a:pt x="12950" y="7710"/>
                  </a:lnTo>
                  <a:lnTo>
                    <a:pt x="12887" y="7705"/>
                  </a:lnTo>
                  <a:lnTo>
                    <a:pt x="12825" y="7699"/>
                  </a:lnTo>
                  <a:lnTo>
                    <a:pt x="12762" y="7693"/>
                  </a:lnTo>
                  <a:lnTo>
                    <a:pt x="12699" y="7685"/>
                  </a:lnTo>
                  <a:lnTo>
                    <a:pt x="12637" y="7678"/>
                  </a:lnTo>
                  <a:lnTo>
                    <a:pt x="12576" y="7670"/>
                  </a:lnTo>
                  <a:lnTo>
                    <a:pt x="12514" y="7662"/>
                  </a:lnTo>
                  <a:lnTo>
                    <a:pt x="12455" y="7652"/>
                  </a:lnTo>
                  <a:lnTo>
                    <a:pt x="12394" y="7643"/>
                  </a:lnTo>
                  <a:lnTo>
                    <a:pt x="12335" y="7633"/>
                  </a:lnTo>
                  <a:lnTo>
                    <a:pt x="12275" y="7623"/>
                  </a:lnTo>
                  <a:lnTo>
                    <a:pt x="12218" y="7611"/>
                  </a:lnTo>
                  <a:lnTo>
                    <a:pt x="12160" y="7600"/>
                  </a:lnTo>
                  <a:lnTo>
                    <a:pt x="12102" y="7589"/>
                  </a:lnTo>
                  <a:lnTo>
                    <a:pt x="12046" y="7576"/>
                  </a:lnTo>
                  <a:lnTo>
                    <a:pt x="11992" y="7563"/>
                  </a:lnTo>
                  <a:lnTo>
                    <a:pt x="11939" y="7550"/>
                  </a:lnTo>
                  <a:lnTo>
                    <a:pt x="11887" y="7537"/>
                  </a:lnTo>
                  <a:lnTo>
                    <a:pt x="11837" y="7523"/>
                  </a:lnTo>
                  <a:lnTo>
                    <a:pt x="11787" y="7509"/>
                  </a:lnTo>
                  <a:lnTo>
                    <a:pt x="11740" y="7495"/>
                  </a:lnTo>
                  <a:lnTo>
                    <a:pt x="11692" y="7479"/>
                  </a:lnTo>
                  <a:lnTo>
                    <a:pt x="11647" y="7465"/>
                  </a:lnTo>
                  <a:lnTo>
                    <a:pt x="11603" y="7449"/>
                  </a:lnTo>
                  <a:lnTo>
                    <a:pt x="11559" y="7433"/>
                  </a:lnTo>
                  <a:lnTo>
                    <a:pt x="11517" y="7417"/>
                  </a:lnTo>
                  <a:lnTo>
                    <a:pt x="11477" y="7401"/>
                  </a:lnTo>
                  <a:lnTo>
                    <a:pt x="11438" y="7384"/>
                  </a:lnTo>
                  <a:lnTo>
                    <a:pt x="11400" y="7368"/>
                  </a:lnTo>
                  <a:lnTo>
                    <a:pt x="11363" y="7350"/>
                  </a:lnTo>
                  <a:lnTo>
                    <a:pt x="11328" y="7333"/>
                  </a:lnTo>
                  <a:lnTo>
                    <a:pt x="11328" y="11027"/>
                  </a:lnTo>
                  <a:close/>
                  <a:moveTo>
                    <a:pt x="10597" y="5240"/>
                  </a:moveTo>
                  <a:lnTo>
                    <a:pt x="10429" y="5237"/>
                  </a:lnTo>
                  <a:lnTo>
                    <a:pt x="10261" y="5235"/>
                  </a:lnTo>
                  <a:lnTo>
                    <a:pt x="10093" y="5233"/>
                  </a:lnTo>
                  <a:lnTo>
                    <a:pt x="9925" y="5231"/>
                  </a:lnTo>
                  <a:lnTo>
                    <a:pt x="9756" y="5228"/>
                  </a:lnTo>
                  <a:lnTo>
                    <a:pt x="9589" y="5226"/>
                  </a:lnTo>
                  <a:lnTo>
                    <a:pt x="9421" y="5224"/>
                  </a:lnTo>
                  <a:lnTo>
                    <a:pt x="9253" y="5221"/>
                  </a:lnTo>
                  <a:lnTo>
                    <a:pt x="9085" y="5219"/>
                  </a:lnTo>
                  <a:lnTo>
                    <a:pt x="8916" y="5217"/>
                  </a:lnTo>
                  <a:lnTo>
                    <a:pt x="8748" y="5215"/>
                  </a:lnTo>
                  <a:lnTo>
                    <a:pt x="8580" y="5212"/>
                  </a:lnTo>
                  <a:lnTo>
                    <a:pt x="8412" y="5210"/>
                  </a:lnTo>
                  <a:lnTo>
                    <a:pt x="8244" y="5207"/>
                  </a:lnTo>
                  <a:lnTo>
                    <a:pt x="8076" y="5204"/>
                  </a:lnTo>
                  <a:lnTo>
                    <a:pt x="7908" y="5202"/>
                  </a:lnTo>
                  <a:lnTo>
                    <a:pt x="7739" y="5200"/>
                  </a:lnTo>
                  <a:lnTo>
                    <a:pt x="7571" y="5197"/>
                  </a:lnTo>
                  <a:lnTo>
                    <a:pt x="7403" y="5195"/>
                  </a:lnTo>
                  <a:lnTo>
                    <a:pt x="7235" y="5193"/>
                  </a:lnTo>
                  <a:lnTo>
                    <a:pt x="7068" y="5190"/>
                  </a:lnTo>
                  <a:lnTo>
                    <a:pt x="6900" y="5188"/>
                  </a:lnTo>
                  <a:lnTo>
                    <a:pt x="6732" y="5185"/>
                  </a:lnTo>
                  <a:lnTo>
                    <a:pt x="6564" y="5183"/>
                  </a:lnTo>
                  <a:lnTo>
                    <a:pt x="6396" y="5180"/>
                  </a:lnTo>
                  <a:lnTo>
                    <a:pt x="6227" y="5178"/>
                  </a:lnTo>
                  <a:lnTo>
                    <a:pt x="6059" y="5174"/>
                  </a:lnTo>
                  <a:lnTo>
                    <a:pt x="5891" y="5172"/>
                  </a:lnTo>
                  <a:lnTo>
                    <a:pt x="5723" y="5169"/>
                  </a:lnTo>
                  <a:lnTo>
                    <a:pt x="5555" y="5167"/>
                  </a:lnTo>
                  <a:lnTo>
                    <a:pt x="5387" y="5164"/>
                  </a:lnTo>
                  <a:lnTo>
                    <a:pt x="5219" y="5162"/>
                  </a:lnTo>
                  <a:lnTo>
                    <a:pt x="5219" y="5228"/>
                  </a:lnTo>
                  <a:lnTo>
                    <a:pt x="5219" y="5293"/>
                  </a:lnTo>
                  <a:lnTo>
                    <a:pt x="5219" y="5359"/>
                  </a:lnTo>
                  <a:lnTo>
                    <a:pt x="5219" y="5425"/>
                  </a:lnTo>
                  <a:lnTo>
                    <a:pt x="5219" y="5490"/>
                  </a:lnTo>
                  <a:lnTo>
                    <a:pt x="5219" y="5556"/>
                  </a:lnTo>
                  <a:lnTo>
                    <a:pt x="5219" y="5622"/>
                  </a:lnTo>
                  <a:lnTo>
                    <a:pt x="5219" y="5688"/>
                  </a:lnTo>
                  <a:lnTo>
                    <a:pt x="5219" y="5753"/>
                  </a:lnTo>
                  <a:lnTo>
                    <a:pt x="5219" y="5819"/>
                  </a:lnTo>
                  <a:lnTo>
                    <a:pt x="5219" y="5885"/>
                  </a:lnTo>
                  <a:lnTo>
                    <a:pt x="5219" y="5951"/>
                  </a:lnTo>
                  <a:lnTo>
                    <a:pt x="5219" y="6016"/>
                  </a:lnTo>
                  <a:lnTo>
                    <a:pt x="5219" y="6082"/>
                  </a:lnTo>
                  <a:lnTo>
                    <a:pt x="5219" y="6148"/>
                  </a:lnTo>
                  <a:lnTo>
                    <a:pt x="5219" y="6213"/>
                  </a:lnTo>
                  <a:lnTo>
                    <a:pt x="5387" y="6213"/>
                  </a:lnTo>
                  <a:lnTo>
                    <a:pt x="5555" y="6213"/>
                  </a:lnTo>
                  <a:lnTo>
                    <a:pt x="5723" y="6213"/>
                  </a:lnTo>
                  <a:lnTo>
                    <a:pt x="5891" y="6213"/>
                  </a:lnTo>
                  <a:lnTo>
                    <a:pt x="6059" y="6213"/>
                  </a:lnTo>
                  <a:lnTo>
                    <a:pt x="6227" y="6213"/>
                  </a:lnTo>
                  <a:lnTo>
                    <a:pt x="6396" y="6213"/>
                  </a:lnTo>
                  <a:lnTo>
                    <a:pt x="6564" y="6213"/>
                  </a:lnTo>
                  <a:lnTo>
                    <a:pt x="6732" y="6213"/>
                  </a:lnTo>
                  <a:lnTo>
                    <a:pt x="6900" y="6213"/>
                  </a:lnTo>
                  <a:lnTo>
                    <a:pt x="7068" y="6213"/>
                  </a:lnTo>
                  <a:lnTo>
                    <a:pt x="7235" y="6212"/>
                  </a:lnTo>
                  <a:lnTo>
                    <a:pt x="7403" y="6212"/>
                  </a:lnTo>
                  <a:lnTo>
                    <a:pt x="7571" y="6212"/>
                  </a:lnTo>
                  <a:lnTo>
                    <a:pt x="7739" y="6212"/>
                  </a:lnTo>
                  <a:lnTo>
                    <a:pt x="7908" y="6212"/>
                  </a:lnTo>
                  <a:lnTo>
                    <a:pt x="8076" y="6212"/>
                  </a:lnTo>
                  <a:lnTo>
                    <a:pt x="8244" y="6212"/>
                  </a:lnTo>
                  <a:lnTo>
                    <a:pt x="8412" y="6212"/>
                  </a:lnTo>
                  <a:lnTo>
                    <a:pt x="8580" y="6211"/>
                  </a:lnTo>
                  <a:lnTo>
                    <a:pt x="8748" y="6211"/>
                  </a:lnTo>
                  <a:lnTo>
                    <a:pt x="8916" y="6211"/>
                  </a:lnTo>
                  <a:lnTo>
                    <a:pt x="9085" y="6211"/>
                  </a:lnTo>
                  <a:lnTo>
                    <a:pt x="9253" y="6211"/>
                  </a:lnTo>
                  <a:lnTo>
                    <a:pt x="9421" y="6210"/>
                  </a:lnTo>
                  <a:lnTo>
                    <a:pt x="9589" y="6210"/>
                  </a:lnTo>
                  <a:lnTo>
                    <a:pt x="9756" y="6210"/>
                  </a:lnTo>
                  <a:lnTo>
                    <a:pt x="9925" y="6210"/>
                  </a:lnTo>
                  <a:lnTo>
                    <a:pt x="10093" y="6210"/>
                  </a:lnTo>
                  <a:lnTo>
                    <a:pt x="10261" y="6209"/>
                  </a:lnTo>
                  <a:lnTo>
                    <a:pt x="10429" y="6209"/>
                  </a:lnTo>
                  <a:lnTo>
                    <a:pt x="10597" y="6209"/>
                  </a:lnTo>
                  <a:lnTo>
                    <a:pt x="10597" y="6149"/>
                  </a:lnTo>
                  <a:lnTo>
                    <a:pt x="10597" y="6089"/>
                  </a:lnTo>
                  <a:lnTo>
                    <a:pt x="10597" y="6028"/>
                  </a:lnTo>
                  <a:lnTo>
                    <a:pt x="10597" y="5967"/>
                  </a:lnTo>
                  <a:lnTo>
                    <a:pt x="10597" y="5907"/>
                  </a:lnTo>
                  <a:lnTo>
                    <a:pt x="10597" y="5847"/>
                  </a:lnTo>
                  <a:lnTo>
                    <a:pt x="10597" y="5786"/>
                  </a:lnTo>
                  <a:lnTo>
                    <a:pt x="10597" y="5725"/>
                  </a:lnTo>
                  <a:lnTo>
                    <a:pt x="10597" y="5665"/>
                  </a:lnTo>
                  <a:lnTo>
                    <a:pt x="10597" y="5604"/>
                  </a:lnTo>
                  <a:lnTo>
                    <a:pt x="10597" y="5543"/>
                  </a:lnTo>
                  <a:lnTo>
                    <a:pt x="10597" y="5483"/>
                  </a:lnTo>
                  <a:lnTo>
                    <a:pt x="10597" y="5422"/>
                  </a:lnTo>
                  <a:lnTo>
                    <a:pt x="10597" y="5362"/>
                  </a:lnTo>
                  <a:lnTo>
                    <a:pt x="10597" y="5301"/>
                  </a:lnTo>
                  <a:lnTo>
                    <a:pt x="10597" y="5240"/>
                  </a:lnTo>
                  <a:close/>
                  <a:moveTo>
                    <a:pt x="10597" y="6496"/>
                  </a:moveTo>
                  <a:lnTo>
                    <a:pt x="10429" y="6494"/>
                  </a:lnTo>
                  <a:lnTo>
                    <a:pt x="10261" y="6493"/>
                  </a:lnTo>
                  <a:lnTo>
                    <a:pt x="10093" y="6492"/>
                  </a:lnTo>
                  <a:lnTo>
                    <a:pt x="9925" y="6490"/>
                  </a:lnTo>
                  <a:lnTo>
                    <a:pt x="9756" y="6489"/>
                  </a:lnTo>
                  <a:lnTo>
                    <a:pt x="9589" y="6488"/>
                  </a:lnTo>
                  <a:lnTo>
                    <a:pt x="9421" y="6486"/>
                  </a:lnTo>
                  <a:lnTo>
                    <a:pt x="9253" y="6485"/>
                  </a:lnTo>
                  <a:lnTo>
                    <a:pt x="9085" y="6483"/>
                  </a:lnTo>
                  <a:lnTo>
                    <a:pt x="8916" y="6481"/>
                  </a:lnTo>
                  <a:lnTo>
                    <a:pt x="8748" y="6480"/>
                  </a:lnTo>
                  <a:lnTo>
                    <a:pt x="8580" y="6478"/>
                  </a:lnTo>
                  <a:lnTo>
                    <a:pt x="8412" y="6477"/>
                  </a:lnTo>
                  <a:lnTo>
                    <a:pt x="8244" y="6475"/>
                  </a:lnTo>
                  <a:lnTo>
                    <a:pt x="8076" y="6474"/>
                  </a:lnTo>
                  <a:lnTo>
                    <a:pt x="7908" y="6473"/>
                  </a:lnTo>
                  <a:lnTo>
                    <a:pt x="7739" y="6471"/>
                  </a:lnTo>
                  <a:lnTo>
                    <a:pt x="7571" y="6470"/>
                  </a:lnTo>
                  <a:lnTo>
                    <a:pt x="7403" y="6468"/>
                  </a:lnTo>
                  <a:lnTo>
                    <a:pt x="7235" y="6467"/>
                  </a:lnTo>
                  <a:lnTo>
                    <a:pt x="7068" y="6465"/>
                  </a:lnTo>
                  <a:lnTo>
                    <a:pt x="6900" y="6464"/>
                  </a:lnTo>
                  <a:lnTo>
                    <a:pt x="6732" y="6462"/>
                  </a:lnTo>
                  <a:lnTo>
                    <a:pt x="6564" y="6461"/>
                  </a:lnTo>
                  <a:lnTo>
                    <a:pt x="6396" y="6459"/>
                  </a:lnTo>
                  <a:lnTo>
                    <a:pt x="6227" y="6458"/>
                  </a:lnTo>
                  <a:lnTo>
                    <a:pt x="6059" y="6456"/>
                  </a:lnTo>
                  <a:lnTo>
                    <a:pt x="5891" y="6454"/>
                  </a:lnTo>
                  <a:lnTo>
                    <a:pt x="5723" y="6453"/>
                  </a:lnTo>
                  <a:lnTo>
                    <a:pt x="5555" y="6451"/>
                  </a:lnTo>
                  <a:lnTo>
                    <a:pt x="5387" y="6449"/>
                  </a:lnTo>
                  <a:lnTo>
                    <a:pt x="5219" y="6447"/>
                  </a:lnTo>
                  <a:lnTo>
                    <a:pt x="5219" y="6513"/>
                  </a:lnTo>
                  <a:lnTo>
                    <a:pt x="5219" y="6578"/>
                  </a:lnTo>
                  <a:lnTo>
                    <a:pt x="5219" y="6644"/>
                  </a:lnTo>
                  <a:lnTo>
                    <a:pt x="5219" y="6710"/>
                  </a:lnTo>
                  <a:lnTo>
                    <a:pt x="5219" y="6775"/>
                  </a:lnTo>
                  <a:lnTo>
                    <a:pt x="5219" y="6841"/>
                  </a:lnTo>
                  <a:lnTo>
                    <a:pt x="5219" y="6907"/>
                  </a:lnTo>
                  <a:lnTo>
                    <a:pt x="5219" y="6973"/>
                  </a:lnTo>
                  <a:lnTo>
                    <a:pt x="5219" y="7038"/>
                  </a:lnTo>
                  <a:lnTo>
                    <a:pt x="5219" y="7104"/>
                  </a:lnTo>
                  <a:lnTo>
                    <a:pt x="5219" y="7170"/>
                  </a:lnTo>
                  <a:lnTo>
                    <a:pt x="5219" y="7236"/>
                  </a:lnTo>
                  <a:lnTo>
                    <a:pt x="5219" y="7301"/>
                  </a:lnTo>
                  <a:lnTo>
                    <a:pt x="5219" y="7367"/>
                  </a:lnTo>
                  <a:lnTo>
                    <a:pt x="5219" y="7433"/>
                  </a:lnTo>
                  <a:lnTo>
                    <a:pt x="5219" y="7499"/>
                  </a:lnTo>
                  <a:lnTo>
                    <a:pt x="5387" y="7498"/>
                  </a:lnTo>
                  <a:lnTo>
                    <a:pt x="5555" y="7497"/>
                  </a:lnTo>
                  <a:lnTo>
                    <a:pt x="5723" y="7496"/>
                  </a:lnTo>
                  <a:lnTo>
                    <a:pt x="5891" y="7495"/>
                  </a:lnTo>
                  <a:lnTo>
                    <a:pt x="6059" y="7494"/>
                  </a:lnTo>
                  <a:lnTo>
                    <a:pt x="6227" y="7493"/>
                  </a:lnTo>
                  <a:lnTo>
                    <a:pt x="6396" y="7492"/>
                  </a:lnTo>
                  <a:lnTo>
                    <a:pt x="6564" y="7491"/>
                  </a:lnTo>
                  <a:lnTo>
                    <a:pt x="6732" y="7490"/>
                  </a:lnTo>
                  <a:lnTo>
                    <a:pt x="6900" y="7490"/>
                  </a:lnTo>
                  <a:lnTo>
                    <a:pt x="7068" y="7489"/>
                  </a:lnTo>
                  <a:lnTo>
                    <a:pt x="7235" y="7488"/>
                  </a:lnTo>
                  <a:lnTo>
                    <a:pt x="7403" y="7486"/>
                  </a:lnTo>
                  <a:lnTo>
                    <a:pt x="7571" y="7485"/>
                  </a:lnTo>
                  <a:lnTo>
                    <a:pt x="7739" y="7484"/>
                  </a:lnTo>
                  <a:lnTo>
                    <a:pt x="7908" y="7483"/>
                  </a:lnTo>
                  <a:lnTo>
                    <a:pt x="8076" y="7481"/>
                  </a:lnTo>
                  <a:lnTo>
                    <a:pt x="8244" y="7480"/>
                  </a:lnTo>
                  <a:lnTo>
                    <a:pt x="8412" y="7479"/>
                  </a:lnTo>
                  <a:lnTo>
                    <a:pt x="8580" y="7478"/>
                  </a:lnTo>
                  <a:lnTo>
                    <a:pt x="8748" y="7477"/>
                  </a:lnTo>
                  <a:lnTo>
                    <a:pt x="8916" y="7476"/>
                  </a:lnTo>
                  <a:lnTo>
                    <a:pt x="9085" y="7475"/>
                  </a:lnTo>
                  <a:lnTo>
                    <a:pt x="9253" y="7474"/>
                  </a:lnTo>
                  <a:lnTo>
                    <a:pt x="9421" y="7473"/>
                  </a:lnTo>
                  <a:lnTo>
                    <a:pt x="9589" y="7472"/>
                  </a:lnTo>
                  <a:lnTo>
                    <a:pt x="9756" y="7471"/>
                  </a:lnTo>
                  <a:lnTo>
                    <a:pt x="9925" y="7470"/>
                  </a:lnTo>
                  <a:lnTo>
                    <a:pt x="10093" y="7468"/>
                  </a:lnTo>
                  <a:lnTo>
                    <a:pt x="10261" y="7467"/>
                  </a:lnTo>
                  <a:lnTo>
                    <a:pt x="10429" y="7466"/>
                  </a:lnTo>
                  <a:lnTo>
                    <a:pt x="10597" y="7465"/>
                  </a:lnTo>
                  <a:lnTo>
                    <a:pt x="10597" y="7404"/>
                  </a:lnTo>
                  <a:lnTo>
                    <a:pt x="10597" y="7344"/>
                  </a:lnTo>
                  <a:lnTo>
                    <a:pt x="10597" y="7283"/>
                  </a:lnTo>
                  <a:lnTo>
                    <a:pt x="10597" y="7223"/>
                  </a:lnTo>
                  <a:lnTo>
                    <a:pt x="10597" y="7162"/>
                  </a:lnTo>
                  <a:lnTo>
                    <a:pt x="10597" y="7102"/>
                  </a:lnTo>
                  <a:lnTo>
                    <a:pt x="10597" y="7041"/>
                  </a:lnTo>
                  <a:lnTo>
                    <a:pt x="10597" y="6980"/>
                  </a:lnTo>
                  <a:lnTo>
                    <a:pt x="10597" y="6920"/>
                  </a:lnTo>
                  <a:lnTo>
                    <a:pt x="10597" y="6860"/>
                  </a:lnTo>
                  <a:lnTo>
                    <a:pt x="10597" y="6799"/>
                  </a:lnTo>
                  <a:lnTo>
                    <a:pt x="10597" y="6738"/>
                  </a:lnTo>
                  <a:lnTo>
                    <a:pt x="10597" y="6677"/>
                  </a:lnTo>
                  <a:lnTo>
                    <a:pt x="10597" y="6618"/>
                  </a:lnTo>
                  <a:lnTo>
                    <a:pt x="10597" y="6557"/>
                  </a:lnTo>
                  <a:lnTo>
                    <a:pt x="10597" y="6496"/>
                  </a:lnTo>
                  <a:close/>
                  <a:moveTo>
                    <a:pt x="10597" y="7750"/>
                  </a:moveTo>
                  <a:lnTo>
                    <a:pt x="10429" y="7750"/>
                  </a:lnTo>
                  <a:lnTo>
                    <a:pt x="10261" y="7749"/>
                  </a:lnTo>
                  <a:lnTo>
                    <a:pt x="10093" y="7749"/>
                  </a:lnTo>
                  <a:lnTo>
                    <a:pt x="9925" y="7748"/>
                  </a:lnTo>
                  <a:lnTo>
                    <a:pt x="9756" y="7748"/>
                  </a:lnTo>
                  <a:lnTo>
                    <a:pt x="9589" y="7748"/>
                  </a:lnTo>
                  <a:lnTo>
                    <a:pt x="9421" y="7747"/>
                  </a:lnTo>
                  <a:lnTo>
                    <a:pt x="9253" y="7747"/>
                  </a:lnTo>
                  <a:lnTo>
                    <a:pt x="9085" y="7746"/>
                  </a:lnTo>
                  <a:lnTo>
                    <a:pt x="8916" y="7746"/>
                  </a:lnTo>
                  <a:lnTo>
                    <a:pt x="8748" y="7745"/>
                  </a:lnTo>
                  <a:lnTo>
                    <a:pt x="8580" y="7745"/>
                  </a:lnTo>
                  <a:lnTo>
                    <a:pt x="8412" y="7745"/>
                  </a:lnTo>
                  <a:lnTo>
                    <a:pt x="8244" y="7744"/>
                  </a:lnTo>
                  <a:lnTo>
                    <a:pt x="8076" y="7744"/>
                  </a:lnTo>
                  <a:lnTo>
                    <a:pt x="7908" y="7743"/>
                  </a:lnTo>
                  <a:lnTo>
                    <a:pt x="7739" y="7743"/>
                  </a:lnTo>
                  <a:lnTo>
                    <a:pt x="7571" y="7742"/>
                  </a:lnTo>
                  <a:lnTo>
                    <a:pt x="7403" y="7742"/>
                  </a:lnTo>
                  <a:lnTo>
                    <a:pt x="7235" y="7741"/>
                  </a:lnTo>
                  <a:lnTo>
                    <a:pt x="7068" y="7740"/>
                  </a:lnTo>
                  <a:lnTo>
                    <a:pt x="6900" y="7740"/>
                  </a:lnTo>
                  <a:lnTo>
                    <a:pt x="6732" y="7739"/>
                  </a:lnTo>
                  <a:lnTo>
                    <a:pt x="6564" y="7739"/>
                  </a:lnTo>
                  <a:lnTo>
                    <a:pt x="6396" y="7738"/>
                  </a:lnTo>
                  <a:lnTo>
                    <a:pt x="6227" y="7737"/>
                  </a:lnTo>
                  <a:lnTo>
                    <a:pt x="6059" y="7737"/>
                  </a:lnTo>
                  <a:lnTo>
                    <a:pt x="5891" y="7736"/>
                  </a:lnTo>
                  <a:lnTo>
                    <a:pt x="5723" y="7735"/>
                  </a:lnTo>
                  <a:lnTo>
                    <a:pt x="5555" y="7734"/>
                  </a:lnTo>
                  <a:lnTo>
                    <a:pt x="5387" y="7734"/>
                  </a:lnTo>
                  <a:lnTo>
                    <a:pt x="5219" y="7733"/>
                  </a:lnTo>
                  <a:lnTo>
                    <a:pt x="5219" y="7799"/>
                  </a:lnTo>
                  <a:lnTo>
                    <a:pt x="5219" y="7864"/>
                  </a:lnTo>
                  <a:lnTo>
                    <a:pt x="5219" y="7930"/>
                  </a:lnTo>
                  <a:lnTo>
                    <a:pt x="5219" y="7996"/>
                  </a:lnTo>
                  <a:lnTo>
                    <a:pt x="5219" y="8062"/>
                  </a:lnTo>
                  <a:lnTo>
                    <a:pt x="5219" y="8127"/>
                  </a:lnTo>
                  <a:lnTo>
                    <a:pt x="5219" y="8193"/>
                  </a:lnTo>
                  <a:lnTo>
                    <a:pt x="5219" y="8259"/>
                  </a:lnTo>
                  <a:lnTo>
                    <a:pt x="5219" y="8323"/>
                  </a:lnTo>
                  <a:lnTo>
                    <a:pt x="5219" y="8389"/>
                  </a:lnTo>
                  <a:lnTo>
                    <a:pt x="5219" y="8455"/>
                  </a:lnTo>
                  <a:lnTo>
                    <a:pt x="5219" y="8521"/>
                  </a:lnTo>
                  <a:lnTo>
                    <a:pt x="5219" y="8586"/>
                  </a:lnTo>
                  <a:lnTo>
                    <a:pt x="5219" y="8652"/>
                  </a:lnTo>
                  <a:lnTo>
                    <a:pt x="5219" y="8718"/>
                  </a:lnTo>
                  <a:lnTo>
                    <a:pt x="5219" y="8784"/>
                  </a:lnTo>
                  <a:lnTo>
                    <a:pt x="5387" y="8782"/>
                  </a:lnTo>
                  <a:lnTo>
                    <a:pt x="5555" y="8780"/>
                  </a:lnTo>
                  <a:lnTo>
                    <a:pt x="5723" y="8778"/>
                  </a:lnTo>
                  <a:lnTo>
                    <a:pt x="5891" y="8776"/>
                  </a:lnTo>
                  <a:lnTo>
                    <a:pt x="6059" y="8775"/>
                  </a:lnTo>
                  <a:lnTo>
                    <a:pt x="6227" y="8773"/>
                  </a:lnTo>
                  <a:lnTo>
                    <a:pt x="6396" y="8771"/>
                  </a:lnTo>
                  <a:lnTo>
                    <a:pt x="6564" y="8769"/>
                  </a:lnTo>
                  <a:lnTo>
                    <a:pt x="6732" y="8767"/>
                  </a:lnTo>
                  <a:lnTo>
                    <a:pt x="6900" y="8765"/>
                  </a:lnTo>
                  <a:lnTo>
                    <a:pt x="7068" y="8763"/>
                  </a:lnTo>
                  <a:lnTo>
                    <a:pt x="7235" y="8761"/>
                  </a:lnTo>
                  <a:lnTo>
                    <a:pt x="7403" y="8758"/>
                  </a:lnTo>
                  <a:lnTo>
                    <a:pt x="7571" y="8757"/>
                  </a:lnTo>
                  <a:lnTo>
                    <a:pt x="7739" y="8755"/>
                  </a:lnTo>
                  <a:lnTo>
                    <a:pt x="7908" y="8753"/>
                  </a:lnTo>
                  <a:lnTo>
                    <a:pt x="8076" y="8750"/>
                  </a:lnTo>
                  <a:lnTo>
                    <a:pt x="8244" y="8748"/>
                  </a:lnTo>
                  <a:lnTo>
                    <a:pt x="8412" y="8746"/>
                  </a:lnTo>
                  <a:lnTo>
                    <a:pt x="8580" y="8744"/>
                  </a:lnTo>
                  <a:lnTo>
                    <a:pt x="8748" y="8742"/>
                  </a:lnTo>
                  <a:lnTo>
                    <a:pt x="8916" y="8740"/>
                  </a:lnTo>
                  <a:lnTo>
                    <a:pt x="9085" y="8738"/>
                  </a:lnTo>
                  <a:lnTo>
                    <a:pt x="9253" y="8736"/>
                  </a:lnTo>
                  <a:lnTo>
                    <a:pt x="9421" y="8734"/>
                  </a:lnTo>
                  <a:lnTo>
                    <a:pt x="9589" y="8732"/>
                  </a:lnTo>
                  <a:lnTo>
                    <a:pt x="9756" y="8730"/>
                  </a:lnTo>
                  <a:lnTo>
                    <a:pt x="9925" y="8728"/>
                  </a:lnTo>
                  <a:lnTo>
                    <a:pt x="10093" y="8725"/>
                  </a:lnTo>
                  <a:lnTo>
                    <a:pt x="10261" y="8723"/>
                  </a:lnTo>
                  <a:lnTo>
                    <a:pt x="10429" y="8721"/>
                  </a:lnTo>
                  <a:lnTo>
                    <a:pt x="10597" y="8719"/>
                  </a:lnTo>
                  <a:lnTo>
                    <a:pt x="10597" y="8658"/>
                  </a:lnTo>
                  <a:lnTo>
                    <a:pt x="10597" y="8599"/>
                  </a:lnTo>
                  <a:lnTo>
                    <a:pt x="10597" y="8538"/>
                  </a:lnTo>
                  <a:lnTo>
                    <a:pt x="10597" y="8477"/>
                  </a:lnTo>
                  <a:lnTo>
                    <a:pt x="10597" y="8417"/>
                  </a:lnTo>
                  <a:lnTo>
                    <a:pt x="10597" y="8356"/>
                  </a:lnTo>
                  <a:lnTo>
                    <a:pt x="10597" y="8296"/>
                  </a:lnTo>
                  <a:lnTo>
                    <a:pt x="10597" y="8235"/>
                  </a:lnTo>
                  <a:lnTo>
                    <a:pt x="10597" y="8175"/>
                  </a:lnTo>
                  <a:lnTo>
                    <a:pt x="10597" y="8114"/>
                  </a:lnTo>
                  <a:lnTo>
                    <a:pt x="10597" y="8053"/>
                  </a:lnTo>
                  <a:lnTo>
                    <a:pt x="10597" y="7993"/>
                  </a:lnTo>
                  <a:lnTo>
                    <a:pt x="10597" y="7933"/>
                  </a:lnTo>
                  <a:lnTo>
                    <a:pt x="10597" y="7872"/>
                  </a:lnTo>
                  <a:lnTo>
                    <a:pt x="10597" y="7811"/>
                  </a:lnTo>
                  <a:lnTo>
                    <a:pt x="10597" y="7750"/>
                  </a:lnTo>
                  <a:close/>
                  <a:moveTo>
                    <a:pt x="10597" y="9006"/>
                  </a:moveTo>
                  <a:lnTo>
                    <a:pt x="10429" y="9006"/>
                  </a:lnTo>
                  <a:lnTo>
                    <a:pt x="10261" y="9007"/>
                  </a:lnTo>
                  <a:lnTo>
                    <a:pt x="10093" y="9007"/>
                  </a:lnTo>
                  <a:lnTo>
                    <a:pt x="9925" y="9008"/>
                  </a:lnTo>
                  <a:lnTo>
                    <a:pt x="9756" y="9008"/>
                  </a:lnTo>
                  <a:lnTo>
                    <a:pt x="9589" y="9009"/>
                  </a:lnTo>
                  <a:lnTo>
                    <a:pt x="9421" y="9009"/>
                  </a:lnTo>
                  <a:lnTo>
                    <a:pt x="9253" y="9010"/>
                  </a:lnTo>
                  <a:lnTo>
                    <a:pt x="9085" y="9010"/>
                  </a:lnTo>
                  <a:lnTo>
                    <a:pt x="8916" y="9011"/>
                  </a:lnTo>
                  <a:lnTo>
                    <a:pt x="8748" y="9011"/>
                  </a:lnTo>
                  <a:lnTo>
                    <a:pt x="8580" y="9011"/>
                  </a:lnTo>
                  <a:lnTo>
                    <a:pt x="8412" y="9012"/>
                  </a:lnTo>
                  <a:lnTo>
                    <a:pt x="8244" y="9012"/>
                  </a:lnTo>
                  <a:lnTo>
                    <a:pt x="8076" y="9013"/>
                  </a:lnTo>
                  <a:lnTo>
                    <a:pt x="7908" y="9013"/>
                  </a:lnTo>
                  <a:lnTo>
                    <a:pt x="7739" y="9013"/>
                  </a:lnTo>
                  <a:lnTo>
                    <a:pt x="7571" y="9014"/>
                  </a:lnTo>
                  <a:lnTo>
                    <a:pt x="7403" y="9014"/>
                  </a:lnTo>
                  <a:lnTo>
                    <a:pt x="7235" y="9014"/>
                  </a:lnTo>
                  <a:lnTo>
                    <a:pt x="7068" y="9015"/>
                  </a:lnTo>
                  <a:lnTo>
                    <a:pt x="6900" y="9015"/>
                  </a:lnTo>
                  <a:lnTo>
                    <a:pt x="6732" y="9015"/>
                  </a:lnTo>
                  <a:lnTo>
                    <a:pt x="6564" y="9016"/>
                  </a:lnTo>
                  <a:lnTo>
                    <a:pt x="6396" y="9016"/>
                  </a:lnTo>
                  <a:lnTo>
                    <a:pt x="6227" y="9016"/>
                  </a:lnTo>
                  <a:lnTo>
                    <a:pt x="6059" y="9016"/>
                  </a:lnTo>
                  <a:lnTo>
                    <a:pt x="5891" y="9017"/>
                  </a:lnTo>
                  <a:lnTo>
                    <a:pt x="5723" y="9017"/>
                  </a:lnTo>
                  <a:lnTo>
                    <a:pt x="5555" y="9017"/>
                  </a:lnTo>
                  <a:lnTo>
                    <a:pt x="5387" y="9017"/>
                  </a:lnTo>
                  <a:lnTo>
                    <a:pt x="5219" y="9017"/>
                  </a:lnTo>
                  <a:lnTo>
                    <a:pt x="5219" y="9083"/>
                  </a:lnTo>
                  <a:lnTo>
                    <a:pt x="5219" y="9149"/>
                  </a:lnTo>
                  <a:lnTo>
                    <a:pt x="5219" y="9214"/>
                  </a:lnTo>
                  <a:lnTo>
                    <a:pt x="5219" y="9280"/>
                  </a:lnTo>
                  <a:lnTo>
                    <a:pt x="5219" y="9346"/>
                  </a:lnTo>
                  <a:lnTo>
                    <a:pt x="5219" y="9412"/>
                  </a:lnTo>
                  <a:lnTo>
                    <a:pt x="5219" y="9477"/>
                  </a:lnTo>
                  <a:lnTo>
                    <a:pt x="5219" y="9543"/>
                  </a:lnTo>
                  <a:lnTo>
                    <a:pt x="5219" y="9609"/>
                  </a:lnTo>
                  <a:lnTo>
                    <a:pt x="5219" y="9675"/>
                  </a:lnTo>
                  <a:lnTo>
                    <a:pt x="5219" y="9740"/>
                  </a:lnTo>
                  <a:lnTo>
                    <a:pt x="5219" y="9806"/>
                  </a:lnTo>
                  <a:lnTo>
                    <a:pt x="5219" y="9872"/>
                  </a:lnTo>
                  <a:lnTo>
                    <a:pt x="5219" y="9938"/>
                  </a:lnTo>
                  <a:lnTo>
                    <a:pt x="5219" y="10003"/>
                  </a:lnTo>
                  <a:lnTo>
                    <a:pt x="5219" y="10069"/>
                  </a:lnTo>
                  <a:lnTo>
                    <a:pt x="5387" y="10065"/>
                  </a:lnTo>
                  <a:lnTo>
                    <a:pt x="5555" y="10063"/>
                  </a:lnTo>
                  <a:lnTo>
                    <a:pt x="5723" y="10060"/>
                  </a:lnTo>
                  <a:lnTo>
                    <a:pt x="5891" y="10057"/>
                  </a:lnTo>
                  <a:lnTo>
                    <a:pt x="6059" y="10055"/>
                  </a:lnTo>
                  <a:lnTo>
                    <a:pt x="6227" y="10052"/>
                  </a:lnTo>
                  <a:lnTo>
                    <a:pt x="6396" y="10049"/>
                  </a:lnTo>
                  <a:lnTo>
                    <a:pt x="6564" y="10046"/>
                  </a:lnTo>
                  <a:lnTo>
                    <a:pt x="6732" y="10044"/>
                  </a:lnTo>
                  <a:lnTo>
                    <a:pt x="6900" y="10041"/>
                  </a:lnTo>
                  <a:lnTo>
                    <a:pt x="7068" y="10038"/>
                  </a:lnTo>
                  <a:lnTo>
                    <a:pt x="7235" y="10035"/>
                  </a:lnTo>
                  <a:lnTo>
                    <a:pt x="7403" y="10033"/>
                  </a:lnTo>
                  <a:lnTo>
                    <a:pt x="7571" y="10029"/>
                  </a:lnTo>
                  <a:lnTo>
                    <a:pt x="7739" y="10026"/>
                  </a:lnTo>
                  <a:lnTo>
                    <a:pt x="7908" y="10023"/>
                  </a:lnTo>
                  <a:lnTo>
                    <a:pt x="8076" y="10020"/>
                  </a:lnTo>
                  <a:lnTo>
                    <a:pt x="8244" y="10017"/>
                  </a:lnTo>
                  <a:lnTo>
                    <a:pt x="8412" y="10014"/>
                  </a:lnTo>
                  <a:lnTo>
                    <a:pt x="8580" y="10011"/>
                  </a:lnTo>
                  <a:lnTo>
                    <a:pt x="8748" y="10008"/>
                  </a:lnTo>
                  <a:lnTo>
                    <a:pt x="8916" y="10006"/>
                  </a:lnTo>
                  <a:lnTo>
                    <a:pt x="9085" y="10003"/>
                  </a:lnTo>
                  <a:lnTo>
                    <a:pt x="9253" y="10000"/>
                  </a:lnTo>
                  <a:lnTo>
                    <a:pt x="9421" y="9996"/>
                  </a:lnTo>
                  <a:lnTo>
                    <a:pt x="9589" y="9993"/>
                  </a:lnTo>
                  <a:lnTo>
                    <a:pt x="9756" y="9990"/>
                  </a:lnTo>
                  <a:lnTo>
                    <a:pt x="9925" y="9987"/>
                  </a:lnTo>
                  <a:lnTo>
                    <a:pt x="10093" y="9984"/>
                  </a:lnTo>
                  <a:lnTo>
                    <a:pt x="10261" y="9981"/>
                  </a:lnTo>
                  <a:lnTo>
                    <a:pt x="10429" y="9978"/>
                  </a:lnTo>
                  <a:lnTo>
                    <a:pt x="10597" y="9975"/>
                  </a:lnTo>
                  <a:lnTo>
                    <a:pt x="10597" y="9914"/>
                  </a:lnTo>
                  <a:lnTo>
                    <a:pt x="10597" y="9854"/>
                  </a:lnTo>
                  <a:lnTo>
                    <a:pt x="10597" y="9793"/>
                  </a:lnTo>
                  <a:lnTo>
                    <a:pt x="10597" y="9733"/>
                  </a:lnTo>
                  <a:lnTo>
                    <a:pt x="10597" y="9672"/>
                  </a:lnTo>
                  <a:lnTo>
                    <a:pt x="10597" y="9612"/>
                  </a:lnTo>
                  <a:lnTo>
                    <a:pt x="10597" y="9551"/>
                  </a:lnTo>
                  <a:lnTo>
                    <a:pt x="10597" y="9490"/>
                  </a:lnTo>
                  <a:lnTo>
                    <a:pt x="10597" y="9429"/>
                  </a:lnTo>
                  <a:lnTo>
                    <a:pt x="10597" y="9370"/>
                  </a:lnTo>
                  <a:lnTo>
                    <a:pt x="10597" y="9309"/>
                  </a:lnTo>
                  <a:lnTo>
                    <a:pt x="10597" y="9248"/>
                  </a:lnTo>
                  <a:lnTo>
                    <a:pt x="10597" y="9187"/>
                  </a:lnTo>
                  <a:lnTo>
                    <a:pt x="10597" y="9126"/>
                  </a:lnTo>
                  <a:lnTo>
                    <a:pt x="10597" y="9067"/>
                  </a:lnTo>
                  <a:lnTo>
                    <a:pt x="10597" y="9006"/>
                  </a:lnTo>
                  <a:close/>
                  <a:moveTo>
                    <a:pt x="10597" y="10260"/>
                  </a:moveTo>
                  <a:lnTo>
                    <a:pt x="10429" y="10262"/>
                  </a:lnTo>
                  <a:lnTo>
                    <a:pt x="10261" y="10263"/>
                  </a:lnTo>
                  <a:lnTo>
                    <a:pt x="10093" y="10265"/>
                  </a:lnTo>
                  <a:lnTo>
                    <a:pt x="9925" y="10266"/>
                  </a:lnTo>
                  <a:lnTo>
                    <a:pt x="9756" y="10269"/>
                  </a:lnTo>
                  <a:lnTo>
                    <a:pt x="9589" y="10270"/>
                  </a:lnTo>
                  <a:lnTo>
                    <a:pt x="9421" y="10271"/>
                  </a:lnTo>
                  <a:lnTo>
                    <a:pt x="9253" y="10273"/>
                  </a:lnTo>
                  <a:lnTo>
                    <a:pt x="9085" y="10274"/>
                  </a:lnTo>
                  <a:lnTo>
                    <a:pt x="8916" y="10275"/>
                  </a:lnTo>
                  <a:lnTo>
                    <a:pt x="8748" y="10277"/>
                  </a:lnTo>
                  <a:lnTo>
                    <a:pt x="8580" y="10278"/>
                  </a:lnTo>
                  <a:lnTo>
                    <a:pt x="8412" y="10280"/>
                  </a:lnTo>
                  <a:lnTo>
                    <a:pt x="8244" y="10281"/>
                  </a:lnTo>
                  <a:lnTo>
                    <a:pt x="8076" y="10282"/>
                  </a:lnTo>
                  <a:lnTo>
                    <a:pt x="7908" y="10284"/>
                  </a:lnTo>
                  <a:lnTo>
                    <a:pt x="7739" y="10285"/>
                  </a:lnTo>
                  <a:lnTo>
                    <a:pt x="7571" y="10286"/>
                  </a:lnTo>
                  <a:lnTo>
                    <a:pt x="7403" y="10287"/>
                  </a:lnTo>
                  <a:lnTo>
                    <a:pt x="7235" y="10289"/>
                  </a:lnTo>
                  <a:lnTo>
                    <a:pt x="7068" y="10290"/>
                  </a:lnTo>
                  <a:lnTo>
                    <a:pt x="6900" y="10291"/>
                  </a:lnTo>
                  <a:lnTo>
                    <a:pt x="6732" y="10292"/>
                  </a:lnTo>
                  <a:lnTo>
                    <a:pt x="6564" y="10293"/>
                  </a:lnTo>
                  <a:lnTo>
                    <a:pt x="6396" y="10295"/>
                  </a:lnTo>
                  <a:lnTo>
                    <a:pt x="6227" y="10296"/>
                  </a:lnTo>
                  <a:lnTo>
                    <a:pt x="6059" y="10297"/>
                  </a:lnTo>
                  <a:lnTo>
                    <a:pt x="5891" y="10298"/>
                  </a:lnTo>
                  <a:lnTo>
                    <a:pt x="5723" y="10299"/>
                  </a:lnTo>
                  <a:lnTo>
                    <a:pt x="5555" y="10301"/>
                  </a:lnTo>
                  <a:lnTo>
                    <a:pt x="5387" y="10302"/>
                  </a:lnTo>
                  <a:lnTo>
                    <a:pt x="5219" y="10303"/>
                  </a:lnTo>
                  <a:lnTo>
                    <a:pt x="5219" y="10369"/>
                  </a:lnTo>
                  <a:lnTo>
                    <a:pt x="5219" y="10435"/>
                  </a:lnTo>
                  <a:lnTo>
                    <a:pt x="5219" y="10499"/>
                  </a:lnTo>
                  <a:lnTo>
                    <a:pt x="5219" y="10565"/>
                  </a:lnTo>
                  <a:lnTo>
                    <a:pt x="5219" y="10631"/>
                  </a:lnTo>
                  <a:lnTo>
                    <a:pt x="5219" y="10697"/>
                  </a:lnTo>
                  <a:lnTo>
                    <a:pt x="5219" y="10762"/>
                  </a:lnTo>
                  <a:lnTo>
                    <a:pt x="5219" y="10828"/>
                  </a:lnTo>
                  <a:lnTo>
                    <a:pt x="5219" y="10894"/>
                  </a:lnTo>
                  <a:lnTo>
                    <a:pt x="5219" y="10960"/>
                  </a:lnTo>
                  <a:lnTo>
                    <a:pt x="5219" y="11025"/>
                  </a:lnTo>
                  <a:lnTo>
                    <a:pt x="5219" y="11091"/>
                  </a:lnTo>
                  <a:lnTo>
                    <a:pt x="5219" y="11157"/>
                  </a:lnTo>
                  <a:lnTo>
                    <a:pt x="5219" y="11223"/>
                  </a:lnTo>
                  <a:lnTo>
                    <a:pt x="5219" y="11288"/>
                  </a:lnTo>
                  <a:lnTo>
                    <a:pt x="5219" y="11354"/>
                  </a:lnTo>
                  <a:lnTo>
                    <a:pt x="5387" y="11350"/>
                  </a:lnTo>
                  <a:lnTo>
                    <a:pt x="5555" y="11347"/>
                  </a:lnTo>
                  <a:lnTo>
                    <a:pt x="5723" y="11343"/>
                  </a:lnTo>
                  <a:lnTo>
                    <a:pt x="5891" y="11340"/>
                  </a:lnTo>
                  <a:lnTo>
                    <a:pt x="6059" y="11335"/>
                  </a:lnTo>
                  <a:lnTo>
                    <a:pt x="6227" y="11331"/>
                  </a:lnTo>
                  <a:lnTo>
                    <a:pt x="6396" y="11328"/>
                  </a:lnTo>
                  <a:lnTo>
                    <a:pt x="6564" y="11324"/>
                  </a:lnTo>
                  <a:lnTo>
                    <a:pt x="6732" y="11320"/>
                  </a:lnTo>
                  <a:lnTo>
                    <a:pt x="6900" y="11317"/>
                  </a:lnTo>
                  <a:lnTo>
                    <a:pt x="7068" y="11313"/>
                  </a:lnTo>
                  <a:lnTo>
                    <a:pt x="7235" y="11309"/>
                  </a:lnTo>
                  <a:lnTo>
                    <a:pt x="7403" y="11304"/>
                  </a:lnTo>
                  <a:lnTo>
                    <a:pt x="7571" y="11301"/>
                  </a:lnTo>
                  <a:lnTo>
                    <a:pt x="7739" y="11297"/>
                  </a:lnTo>
                  <a:lnTo>
                    <a:pt x="7908" y="11293"/>
                  </a:lnTo>
                  <a:lnTo>
                    <a:pt x="8076" y="11289"/>
                  </a:lnTo>
                  <a:lnTo>
                    <a:pt x="8244" y="11285"/>
                  </a:lnTo>
                  <a:lnTo>
                    <a:pt x="8412" y="11281"/>
                  </a:lnTo>
                  <a:lnTo>
                    <a:pt x="8580" y="11278"/>
                  </a:lnTo>
                  <a:lnTo>
                    <a:pt x="8748" y="11274"/>
                  </a:lnTo>
                  <a:lnTo>
                    <a:pt x="8916" y="11269"/>
                  </a:lnTo>
                  <a:lnTo>
                    <a:pt x="9085" y="11265"/>
                  </a:lnTo>
                  <a:lnTo>
                    <a:pt x="9253" y="11261"/>
                  </a:lnTo>
                  <a:lnTo>
                    <a:pt x="9421" y="11257"/>
                  </a:lnTo>
                  <a:lnTo>
                    <a:pt x="9589" y="11254"/>
                  </a:lnTo>
                  <a:lnTo>
                    <a:pt x="9756" y="11250"/>
                  </a:lnTo>
                  <a:lnTo>
                    <a:pt x="9925" y="11246"/>
                  </a:lnTo>
                  <a:lnTo>
                    <a:pt x="10093" y="11242"/>
                  </a:lnTo>
                  <a:lnTo>
                    <a:pt x="10261" y="11237"/>
                  </a:lnTo>
                  <a:lnTo>
                    <a:pt x="10429" y="11233"/>
                  </a:lnTo>
                  <a:lnTo>
                    <a:pt x="10597" y="11229"/>
                  </a:lnTo>
                  <a:lnTo>
                    <a:pt x="10597" y="11168"/>
                  </a:lnTo>
                  <a:lnTo>
                    <a:pt x="10597" y="11109"/>
                  </a:lnTo>
                  <a:lnTo>
                    <a:pt x="10597" y="11048"/>
                  </a:lnTo>
                  <a:lnTo>
                    <a:pt x="10597" y="10987"/>
                  </a:lnTo>
                  <a:lnTo>
                    <a:pt x="10597" y="10926"/>
                  </a:lnTo>
                  <a:lnTo>
                    <a:pt x="10597" y="10866"/>
                  </a:lnTo>
                  <a:lnTo>
                    <a:pt x="10597" y="10806"/>
                  </a:lnTo>
                  <a:lnTo>
                    <a:pt x="10597" y="10745"/>
                  </a:lnTo>
                  <a:lnTo>
                    <a:pt x="10597" y="10685"/>
                  </a:lnTo>
                  <a:lnTo>
                    <a:pt x="10597" y="10624"/>
                  </a:lnTo>
                  <a:lnTo>
                    <a:pt x="10597" y="10563"/>
                  </a:lnTo>
                  <a:lnTo>
                    <a:pt x="10597" y="10503"/>
                  </a:lnTo>
                  <a:lnTo>
                    <a:pt x="10597" y="10443"/>
                  </a:lnTo>
                  <a:lnTo>
                    <a:pt x="10597" y="10382"/>
                  </a:lnTo>
                  <a:lnTo>
                    <a:pt x="10597" y="10321"/>
                  </a:lnTo>
                  <a:lnTo>
                    <a:pt x="10597" y="10260"/>
                  </a:lnTo>
                  <a:close/>
                  <a:moveTo>
                    <a:pt x="10477" y="4831"/>
                  </a:moveTo>
                  <a:lnTo>
                    <a:pt x="10477" y="4831"/>
                  </a:lnTo>
                  <a:lnTo>
                    <a:pt x="10462" y="4845"/>
                  </a:lnTo>
                  <a:lnTo>
                    <a:pt x="10448" y="4858"/>
                  </a:lnTo>
                  <a:lnTo>
                    <a:pt x="10432" y="4870"/>
                  </a:lnTo>
                  <a:lnTo>
                    <a:pt x="10417" y="4882"/>
                  </a:lnTo>
                  <a:lnTo>
                    <a:pt x="10400" y="4892"/>
                  </a:lnTo>
                  <a:lnTo>
                    <a:pt x="10383" y="4901"/>
                  </a:lnTo>
                  <a:lnTo>
                    <a:pt x="10365" y="4911"/>
                  </a:lnTo>
                  <a:lnTo>
                    <a:pt x="10348" y="4919"/>
                  </a:lnTo>
                  <a:lnTo>
                    <a:pt x="10329" y="4926"/>
                  </a:lnTo>
                  <a:lnTo>
                    <a:pt x="10311" y="4932"/>
                  </a:lnTo>
                  <a:lnTo>
                    <a:pt x="10291" y="4937"/>
                  </a:lnTo>
                  <a:lnTo>
                    <a:pt x="10272" y="4943"/>
                  </a:lnTo>
                  <a:lnTo>
                    <a:pt x="10251" y="4946"/>
                  </a:lnTo>
                  <a:lnTo>
                    <a:pt x="10231" y="4949"/>
                  </a:lnTo>
                  <a:lnTo>
                    <a:pt x="10211" y="4950"/>
                  </a:lnTo>
                  <a:lnTo>
                    <a:pt x="10189" y="4951"/>
                  </a:lnTo>
                  <a:lnTo>
                    <a:pt x="10169" y="4950"/>
                  </a:lnTo>
                  <a:lnTo>
                    <a:pt x="10148" y="4949"/>
                  </a:lnTo>
                  <a:lnTo>
                    <a:pt x="10127" y="4946"/>
                  </a:lnTo>
                  <a:lnTo>
                    <a:pt x="10108" y="4943"/>
                  </a:lnTo>
                  <a:lnTo>
                    <a:pt x="10088" y="4937"/>
                  </a:lnTo>
                  <a:lnTo>
                    <a:pt x="10069" y="4932"/>
                  </a:lnTo>
                  <a:lnTo>
                    <a:pt x="10050" y="4926"/>
                  </a:lnTo>
                  <a:lnTo>
                    <a:pt x="10032" y="4919"/>
                  </a:lnTo>
                  <a:lnTo>
                    <a:pt x="10014" y="4911"/>
                  </a:lnTo>
                  <a:lnTo>
                    <a:pt x="9997" y="4901"/>
                  </a:lnTo>
                  <a:lnTo>
                    <a:pt x="9979" y="4892"/>
                  </a:lnTo>
                  <a:lnTo>
                    <a:pt x="9963" y="4882"/>
                  </a:lnTo>
                  <a:lnTo>
                    <a:pt x="9947" y="4870"/>
                  </a:lnTo>
                  <a:lnTo>
                    <a:pt x="9932" y="4858"/>
                  </a:lnTo>
                  <a:lnTo>
                    <a:pt x="9917" y="4845"/>
                  </a:lnTo>
                  <a:lnTo>
                    <a:pt x="9903" y="4831"/>
                  </a:lnTo>
                  <a:lnTo>
                    <a:pt x="9889" y="4818"/>
                  </a:lnTo>
                  <a:lnTo>
                    <a:pt x="9876" y="4802"/>
                  </a:lnTo>
                  <a:lnTo>
                    <a:pt x="9865" y="4787"/>
                  </a:lnTo>
                  <a:lnTo>
                    <a:pt x="9853" y="4771"/>
                  </a:lnTo>
                  <a:lnTo>
                    <a:pt x="9842" y="4755"/>
                  </a:lnTo>
                  <a:lnTo>
                    <a:pt x="9833" y="4737"/>
                  </a:lnTo>
                  <a:lnTo>
                    <a:pt x="9823" y="4720"/>
                  </a:lnTo>
                  <a:lnTo>
                    <a:pt x="9815" y="4702"/>
                  </a:lnTo>
                  <a:lnTo>
                    <a:pt x="9808" y="4684"/>
                  </a:lnTo>
                  <a:lnTo>
                    <a:pt x="9802" y="4665"/>
                  </a:lnTo>
                  <a:lnTo>
                    <a:pt x="9797" y="4646"/>
                  </a:lnTo>
                  <a:lnTo>
                    <a:pt x="9791" y="4626"/>
                  </a:lnTo>
                  <a:lnTo>
                    <a:pt x="9788" y="4607"/>
                  </a:lnTo>
                  <a:lnTo>
                    <a:pt x="9785" y="4586"/>
                  </a:lnTo>
                  <a:lnTo>
                    <a:pt x="9784" y="4565"/>
                  </a:lnTo>
                  <a:lnTo>
                    <a:pt x="9783" y="4545"/>
                  </a:lnTo>
                  <a:lnTo>
                    <a:pt x="9784" y="4523"/>
                  </a:lnTo>
                  <a:lnTo>
                    <a:pt x="9785" y="4502"/>
                  </a:lnTo>
                  <a:lnTo>
                    <a:pt x="9788" y="4483"/>
                  </a:lnTo>
                  <a:lnTo>
                    <a:pt x="9791" y="4462"/>
                  </a:lnTo>
                  <a:lnTo>
                    <a:pt x="9797" y="4443"/>
                  </a:lnTo>
                  <a:lnTo>
                    <a:pt x="9802" y="4423"/>
                  </a:lnTo>
                  <a:lnTo>
                    <a:pt x="9808" y="4404"/>
                  </a:lnTo>
                  <a:lnTo>
                    <a:pt x="9815" y="4386"/>
                  </a:lnTo>
                  <a:lnTo>
                    <a:pt x="9823" y="4368"/>
                  </a:lnTo>
                  <a:lnTo>
                    <a:pt x="9833" y="4351"/>
                  </a:lnTo>
                  <a:lnTo>
                    <a:pt x="9842" y="4333"/>
                  </a:lnTo>
                  <a:lnTo>
                    <a:pt x="9853" y="4317"/>
                  </a:lnTo>
                  <a:lnTo>
                    <a:pt x="9865" y="4301"/>
                  </a:lnTo>
                  <a:lnTo>
                    <a:pt x="9876" y="4286"/>
                  </a:lnTo>
                  <a:lnTo>
                    <a:pt x="9889" y="4272"/>
                  </a:lnTo>
                  <a:lnTo>
                    <a:pt x="9903" y="4257"/>
                  </a:lnTo>
                  <a:lnTo>
                    <a:pt x="9916" y="4244"/>
                  </a:lnTo>
                  <a:lnTo>
                    <a:pt x="9932" y="4231"/>
                  </a:lnTo>
                  <a:lnTo>
                    <a:pt x="9947" y="4219"/>
                  </a:lnTo>
                  <a:lnTo>
                    <a:pt x="9963" y="4208"/>
                  </a:lnTo>
                  <a:lnTo>
                    <a:pt x="9979" y="4197"/>
                  </a:lnTo>
                  <a:lnTo>
                    <a:pt x="9997" y="4187"/>
                  </a:lnTo>
                  <a:lnTo>
                    <a:pt x="10014" y="4178"/>
                  </a:lnTo>
                  <a:lnTo>
                    <a:pt x="10032" y="4169"/>
                  </a:lnTo>
                  <a:lnTo>
                    <a:pt x="10050" y="4162"/>
                  </a:lnTo>
                  <a:lnTo>
                    <a:pt x="10069" y="4156"/>
                  </a:lnTo>
                  <a:lnTo>
                    <a:pt x="10088" y="4151"/>
                  </a:lnTo>
                  <a:lnTo>
                    <a:pt x="10108" y="4146"/>
                  </a:lnTo>
                  <a:lnTo>
                    <a:pt x="10127" y="4143"/>
                  </a:lnTo>
                  <a:lnTo>
                    <a:pt x="10148" y="4140"/>
                  </a:lnTo>
                  <a:lnTo>
                    <a:pt x="10169" y="4139"/>
                  </a:lnTo>
                  <a:lnTo>
                    <a:pt x="10189" y="4138"/>
                  </a:lnTo>
                  <a:lnTo>
                    <a:pt x="10211" y="4139"/>
                  </a:lnTo>
                  <a:lnTo>
                    <a:pt x="10231" y="4140"/>
                  </a:lnTo>
                  <a:lnTo>
                    <a:pt x="10251" y="4143"/>
                  </a:lnTo>
                  <a:lnTo>
                    <a:pt x="10272" y="4146"/>
                  </a:lnTo>
                  <a:lnTo>
                    <a:pt x="10291" y="4151"/>
                  </a:lnTo>
                  <a:lnTo>
                    <a:pt x="10311" y="4156"/>
                  </a:lnTo>
                  <a:lnTo>
                    <a:pt x="10329" y="4162"/>
                  </a:lnTo>
                  <a:lnTo>
                    <a:pt x="10348" y="4169"/>
                  </a:lnTo>
                  <a:lnTo>
                    <a:pt x="10365" y="4178"/>
                  </a:lnTo>
                  <a:lnTo>
                    <a:pt x="10383" y="4187"/>
                  </a:lnTo>
                  <a:lnTo>
                    <a:pt x="10400" y="4197"/>
                  </a:lnTo>
                  <a:lnTo>
                    <a:pt x="10417" y="4208"/>
                  </a:lnTo>
                  <a:lnTo>
                    <a:pt x="10432" y="4219"/>
                  </a:lnTo>
                  <a:lnTo>
                    <a:pt x="10448" y="4231"/>
                  </a:lnTo>
                  <a:lnTo>
                    <a:pt x="10462" y="4244"/>
                  </a:lnTo>
                  <a:lnTo>
                    <a:pt x="10477" y="4257"/>
                  </a:lnTo>
                  <a:lnTo>
                    <a:pt x="10490" y="4272"/>
                  </a:lnTo>
                  <a:lnTo>
                    <a:pt x="10503" y="4286"/>
                  </a:lnTo>
                  <a:lnTo>
                    <a:pt x="10515" y="4301"/>
                  </a:lnTo>
                  <a:lnTo>
                    <a:pt x="10526" y="4317"/>
                  </a:lnTo>
                  <a:lnTo>
                    <a:pt x="10537" y="4333"/>
                  </a:lnTo>
                  <a:lnTo>
                    <a:pt x="10547" y="4351"/>
                  </a:lnTo>
                  <a:lnTo>
                    <a:pt x="10556" y="4368"/>
                  </a:lnTo>
                  <a:lnTo>
                    <a:pt x="10564" y="4386"/>
                  </a:lnTo>
                  <a:lnTo>
                    <a:pt x="10571" y="4404"/>
                  </a:lnTo>
                  <a:lnTo>
                    <a:pt x="10578" y="4423"/>
                  </a:lnTo>
                  <a:lnTo>
                    <a:pt x="10583" y="4443"/>
                  </a:lnTo>
                  <a:lnTo>
                    <a:pt x="10588" y="4462"/>
                  </a:lnTo>
                  <a:lnTo>
                    <a:pt x="10591" y="4483"/>
                  </a:lnTo>
                  <a:lnTo>
                    <a:pt x="10594" y="4502"/>
                  </a:lnTo>
                  <a:lnTo>
                    <a:pt x="10595" y="4523"/>
                  </a:lnTo>
                  <a:lnTo>
                    <a:pt x="10596" y="4545"/>
                  </a:lnTo>
                  <a:lnTo>
                    <a:pt x="10595" y="4565"/>
                  </a:lnTo>
                  <a:lnTo>
                    <a:pt x="10594" y="4586"/>
                  </a:lnTo>
                  <a:lnTo>
                    <a:pt x="10591" y="4607"/>
                  </a:lnTo>
                  <a:lnTo>
                    <a:pt x="10588" y="4626"/>
                  </a:lnTo>
                  <a:lnTo>
                    <a:pt x="10583" y="4646"/>
                  </a:lnTo>
                  <a:lnTo>
                    <a:pt x="10578" y="4665"/>
                  </a:lnTo>
                  <a:lnTo>
                    <a:pt x="10571" y="4684"/>
                  </a:lnTo>
                  <a:lnTo>
                    <a:pt x="10564" y="4702"/>
                  </a:lnTo>
                  <a:lnTo>
                    <a:pt x="10556" y="4720"/>
                  </a:lnTo>
                  <a:lnTo>
                    <a:pt x="10547" y="4737"/>
                  </a:lnTo>
                  <a:lnTo>
                    <a:pt x="10537" y="4755"/>
                  </a:lnTo>
                  <a:lnTo>
                    <a:pt x="10526" y="4771"/>
                  </a:lnTo>
                  <a:lnTo>
                    <a:pt x="10515" y="4787"/>
                  </a:lnTo>
                  <a:lnTo>
                    <a:pt x="10503" y="4802"/>
                  </a:lnTo>
                  <a:lnTo>
                    <a:pt x="10490" y="4818"/>
                  </a:lnTo>
                  <a:lnTo>
                    <a:pt x="10477" y="4831"/>
                  </a:lnTo>
                  <a:close/>
                  <a:moveTo>
                    <a:pt x="6502" y="4652"/>
                  </a:moveTo>
                  <a:lnTo>
                    <a:pt x="6487" y="4665"/>
                  </a:lnTo>
                  <a:lnTo>
                    <a:pt x="6472" y="4677"/>
                  </a:lnTo>
                  <a:lnTo>
                    <a:pt x="6456" y="4687"/>
                  </a:lnTo>
                  <a:lnTo>
                    <a:pt x="6438" y="4695"/>
                  </a:lnTo>
                  <a:lnTo>
                    <a:pt x="6419" y="4702"/>
                  </a:lnTo>
                  <a:lnTo>
                    <a:pt x="6400" y="4708"/>
                  </a:lnTo>
                  <a:lnTo>
                    <a:pt x="6391" y="4709"/>
                  </a:lnTo>
                  <a:lnTo>
                    <a:pt x="6380" y="4711"/>
                  </a:lnTo>
                  <a:lnTo>
                    <a:pt x="6370" y="4711"/>
                  </a:lnTo>
                  <a:lnTo>
                    <a:pt x="6360" y="4712"/>
                  </a:lnTo>
                  <a:lnTo>
                    <a:pt x="6349" y="4711"/>
                  </a:lnTo>
                  <a:lnTo>
                    <a:pt x="6339" y="4711"/>
                  </a:lnTo>
                  <a:lnTo>
                    <a:pt x="6329" y="4709"/>
                  </a:lnTo>
                  <a:lnTo>
                    <a:pt x="6320" y="4708"/>
                  </a:lnTo>
                  <a:lnTo>
                    <a:pt x="6300" y="4702"/>
                  </a:lnTo>
                  <a:lnTo>
                    <a:pt x="6281" y="4695"/>
                  </a:lnTo>
                  <a:lnTo>
                    <a:pt x="6264" y="4687"/>
                  </a:lnTo>
                  <a:lnTo>
                    <a:pt x="6247" y="4677"/>
                  </a:lnTo>
                  <a:lnTo>
                    <a:pt x="6232" y="4665"/>
                  </a:lnTo>
                  <a:lnTo>
                    <a:pt x="6218" y="4652"/>
                  </a:lnTo>
                  <a:lnTo>
                    <a:pt x="6204" y="4637"/>
                  </a:lnTo>
                  <a:lnTo>
                    <a:pt x="6193" y="4622"/>
                  </a:lnTo>
                  <a:lnTo>
                    <a:pt x="6183" y="4605"/>
                  </a:lnTo>
                  <a:lnTo>
                    <a:pt x="6174" y="4588"/>
                  </a:lnTo>
                  <a:lnTo>
                    <a:pt x="6167" y="4569"/>
                  </a:lnTo>
                  <a:lnTo>
                    <a:pt x="6162" y="4550"/>
                  </a:lnTo>
                  <a:lnTo>
                    <a:pt x="6161" y="4541"/>
                  </a:lnTo>
                  <a:lnTo>
                    <a:pt x="6159" y="4530"/>
                  </a:lnTo>
                  <a:lnTo>
                    <a:pt x="6159" y="4520"/>
                  </a:lnTo>
                  <a:lnTo>
                    <a:pt x="6158" y="4510"/>
                  </a:lnTo>
                  <a:lnTo>
                    <a:pt x="6159" y="4499"/>
                  </a:lnTo>
                  <a:lnTo>
                    <a:pt x="6159" y="4489"/>
                  </a:lnTo>
                  <a:lnTo>
                    <a:pt x="6161" y="4479"/>
                  </a:lnTo>
                  <a:lnTo>
                    <a:pt x="6162" y="4469"/>
                  </a:lnTo>
                  <a:lnTo>
                    <a:pt x="6167" y="4450"/>
                  </a:lnTo>
                  <a:lnTo>
                    <a:pt x="6174" y="4431"/>
                  </a:lnTo>
                  <a:lnTo>
                    <a:pt x="6183" y="4414"/>
                  </a:lnTo>
                  <a:lnTo>
                    <a:pt x="6193" y="4397"/>
                  </a:lnTo>
                  <a:lnTo>
                    <a:pt x="6204" y="4382"/>
                  </a:lnTo>
                  <a:lnTo>
                    <a:pt x="6218" y="4367"/>
                  </a:lnTo>
                  <a:lnTo>
                    <a:pt x="6232" y="4354"/>
                  </a:lnTo>
                  <a:lnTo>
                    <a:pt x="6247" y="4343"/>
                  </a:lnTo>
                  <a:lnTo>
                    <a:pt x="6264" y="4332"/>
                  </a:lnTo>
                  <a:lnTo>
                    <a:pt x="6281" y="4324"/>
                  </a:lnTo>
                  <a:lnTo>
                    <a:pt x="6300" y="4317"/>
                  </a:lnTo>
                  <a:lnTo>
                    <a:pt x="6320" y="4312"/>
                  </a:lnTo>
                  <a:lnTo>
                    <a:pt x="6329" y="4311"/>
                  </a:lnTo>
                  <a:lnTo>
                    <a:pt x="6339" y="4309"/>
                  </a:lnTo>
                  <a:lnTo>
                    <a:pt x="6349" y="4309"/>
                  </a:lnTo>
                  <a:lnTo>
                    <a:pt x="6360" y="4308"/>
                  </a:lnTo>
                  <a:lnTo>
                    <a:pt x="6370" y="4309"/>
                  </a:lnTo>
                  <a:lnTo>
                    <a:pt x="6380" y="4309"/>
                  </a:lnTo>
                  <a:lnTo>
                    <a:pt x="6391" y="4311"/>
                  </a:lnTo>
                  <a:lnTo>
                    <a:pt x="6400" y="4312"/>
                  </a:lnTo>
                  <a:lnTo>
                    <a:pt x="6419" y="4317"/>
                  </a:lnTo>
                  <a:lnTo>
                    <a:pt x="6438" y="4324"/>
                  </a:lnTo>
                  <a:lnTo>
                    <a:pt x="6456" y="4332"/>
                  </a:lnTo>
                  <a:lnTo>
                    <a:pt x="6472" y="4343"/>
                  </a:lnTo>
                  <a:lnTo>
                    <a:pt x="6487" y="4354"/>
                  </a:lnTo>
                  <a:lnTo>
                    <a:pt x="6502" y="4367"/>
                  </a:lnTo>
                  <a:lnTo>
                    <a:pt x="6515" y="4382"/>
                  </a:lnTo>
                  <a:lnTo>
                    <a:pt x="6527" y="4397"/>
                  </a:lnTo>
                  <a:lnTo>
                    <a:pt x="6537" y="4414"/>
                  </a:lnTo>
                  <a:lnTo>
                    <a:pt x="6545" y="4431"/>
                  </a:lnTo>
                  <a:lnTo>
                    <a:pt x="6552" y="4450"/>
                  </a:lnTo>
                  <a:lnTo>
                    <a:pt x="6558" y="4469"/>
                  </a:lnTo>
                  <a:lnTo>
                    <a:pt x="6559" y="4479"/>
                  </a:lnTo>
                  <a:lnTo>
                    <a:pt x="6561" y="4489"/>
                  </a:lnTo>
                  <a:lnTo>
                    <a:pt x="6561" y="4499"/>
                  </a:lnTo>
                  <a:lnTo>
                    <a:pt x="6562" y="4510"/>
                  </a:lnTo>
                  <a:lnTo>
                    <a:pt x="6561" y="4520"/>
                  </a:lnTo>
                  <a:lnTo>
                    <a:pt x="6561" y="4530"/>
                  </a:lnTo>
                  <a:lnTo>
                    <a:pt x="6559" y="4541"/>
                  </a:lnTo>
                  <a:lnTo>
                    <a:pt x="6558" y="4551"/>
                  </a:lnTo>
                  <a:lnTo>
                    <a:pt x="6552" y="4569"/>
                  </a:lnTo>
                  <a:lnTo>
                    <a:pt x="6545" y="4588"/>
                  </a:lnTo>
                  <a:lnTo>
                    <a:pt x="6537" y="4605"/>
                  </a:lnTo>
                  <a:lnTo>
                    <a:pt x="6527" y="4622"/>
                  </a:lnTo>
                  <a:lnTo>
                    <a:pt x="6515" y="4638"/>
                  </a:lnTo>
                  <a:lnTo>
                    <a:pt x="6502" y="4652"/>
                  </a:lnTo>
                  <a:close/>
                  <a:moveTo>
                    <a:pt x="5888" y="4652"/>
                  </a:moveTo>
                  <a:lnTo>
                    <a:pt x="5873" y="4665"/>
                  </a:lnTo>
                  <a:lnTo>
                    <a:pt x="5858" y="4677"/>
                  </a:lnTo>
                  <a:lnTo>
                    <a:pt x="5842" y="4687"/>
                  </a:lnTo>
                  <a:lnTo>
                    <a:pt x="5824" y="4695"/>
                  </a:lnTo>
                  <a:lnTo>
                    <a:pt x="5805" y="4702"/>
                  </a:lnTo>
                  <a:lnTo>
                    <a:pt x="5786" y="4708"/>
                  </a:lnTo>
                  <a:lnTo>
                    <a:pt x="5776" y="4709"/>
                  </a:lnTo>
                  <a:lnTo>
                    <a:pt x="5766" y="4711"/>
                  </a:lnTo>
                  <a:lnTo>
                    <a:pt x="5756" y="4711"/>
                  </a:lnTo>
                  <a:lnTo>
                    <a:pt x="5746" y="4712"/>
                  </a:lnTo>
                  <a:lnTo>
                    <a:pt x="5735" y="4711"/>
                  </a:lnTo>
                  <a:lnTo>
                    <a:pt x="5725" y="4711"/>
                  </a:lnTo>
                  <a:lnTo>
                    <a:pt x="5715" y="4709"/>
                  </a:lnTo>
                  <a:lnTo>
                    <a:pt x="5704" y="4708"/>
                  </a:lnTo>
                  <a:lnTo>
                    <a:pt x="5685" y="4702"/>
                  </a:lnTo>
                  <a:lnTo>
                    <a:pt x="5666" y="4695"/>
                  </a:lnTo>
                  <a:lnTo>
                    <a:pt x="5649" y="4687"/>
                  </a:lnTo>
                  <a:lnTo>
                    <a:pt x="5632" y="4677"/>
                  </a:lnTo>
                  <a:lnTo>
                    <a:pt x="5617" y="4665"/>
                  </a:lnTo>
                  <a:lnTo>
                    <a:pt x="5602" y="4652"/>
                  </a:lnTo>
                  <a:lnTo>
                    <a:pt x="5590" y="4637"/>
                  </a:lnTo>
                  <a:lnTo>
                    <a:pt x="5578" y="4622"/>
                  </a:lnTo>
                  <a:lnTo>
                    <a:pt x="5567" y="4605"/>
                  </a:lnTo>
                  <a:lnTo>
                    <a:pt x="5559" y="4588"/>
                  </a:lnTo>
                  <a:lnTo>
                    <a:pt x="5553" y="4569"/>
                  </a:lnTo>
                  <a:lnTo>
                    <a:pt x="5548" y="4550"/>
                  </a:lnTo>
                  <a:lnTo>
                    <a:pt x="5546" y="4541"/>
                  </a:lnTo>
                  <a:lnTo>
                    <a:pt x="5545" y="4530"/>
                  </a:lnTo>
                  <a:lnTo>
                    <a:pt x="5544" y="4520"/>
                  </a:lnTo>
                  <a:lnTo>
                    <a:pt x="5544" y="4510"/>
                  </a:lnTo>
                  <a:lnTo>
                    <a:pt x="5544" y="4499"/>
                  </a:lnTo>
                  <a:lnTo>
                    <a:pt x="5545" y="4489"/>
                  </a:lnTo>
                  <a:lnTo>
                    <a:pt x="5546" y="4479"/>
                  </a:lnTo>
                  <a:lnTo>
                    <a:pt x="5548" y="4469"/>
                  </a:lnTo>
                  <a:lnTo>
                    <a:pt x="5553" y="4450"/>
                  </a:lnTo>
                  <a:lnTo>
                    <a:pt x="5559" y="4431"/>
                  </a:lnTo>
                  <a:lnTo>
                    <a:pt x="5567" y="4414"/>
                  </a:lnTo>
                  <a:lnTo>
                    <a:pt x="5578" y="4397"/>
                  </a:lnTo>
                  <a:lnTo>
                    <a:pt x="5590" y="4382"/>
                  </a:lnTo>
                  <a:lnTo>
                    <a:pt x="5602" y="4367"/>
                  </a:lnTo>
                  <a:lnTo>
                    <a:pt x="5617" y="4354"/>
                  </a:lnTo>
                  <a:lnTo>
                    <a:pt x="5632" y="4343"/>
                  </a:lnTo>
                  <a:lnTo>
                    <a:pt x="5649" y="4332"/>
                  </a:lnTo>
                  <a:lnTo>
                    <a:pt x="5666" y="4324"/>
                  </a:lnTo>
                  <a:lnTo>
                    <a:pt x="5685" y="4317"/>
                  </a:lnTo>
                  <a:lnTo>
                    <a:pt x="5704" y="4312"/>
                  </a:lnTo>
                  <a:lnTo>
                    <a:pt x="5715" y="4311"/>
                  </a:lnTo>
                  <a:lnTo>
                    <a:pt x="5725" y="4309"/>
                  </a:lnTo>
                  <a:lnTo>
                    <a:pt x="5735" y="4309"/>
                  </a:lnTo>
                  <a:lnTo>
                    <a:pt x="5746" y="4308"/>
                  </a:lnTo>
                  <a:lnTo>
                    <a:pt x="5756" y="4309"/>
                  </a:lnTo>
                  <a:lnTo>
                    <a:pt x="5766" y="4309"/>
                  </a:lnTo>
                  <a:lnTo>
                    <a:pt x="5776" y="4311"/>
                  </a:lnTo>
                  <a:lnTo>
                    <a:pt x="5786" y="4312"/>
                  </a:lnTo>
                  <a:lnTo>
                    <a:pt x="5805" y="4317"/>
                  </a:lnTo>
                  <a:lnTo>
                    <a:pt x="5824" y="4324"/>
                  </a:lnTo>
                  <a:lnTo>
                    <a:pt x="5842" y="4332"/>
                  </a:lnTo>
                  <a:lnTo>
                    <a:pt x="5858" y="4343"/>
                  </a:lnTo>
                  <a:lnTo>
                    <a:pt x="5873" y="4354"/>
                  </a:lnTo>
                  <a:lnTo>
                    <a:pt x="5888" y="4367"/>
                  </a:lnTo>
                  <a:lnTo>
                    <a:pt x="5901" y="4382"/>
                  </a:lnTo>
                  <a:lnTo>
                    <a:pt x="5913" y="4397"/>
                  </a:lnTo>
                  <a:lnTo>
                    <a:pt x="5923" y="4414"/>
                  </a:lnTo>
                  <a:lnTo>
                    <a:pt x="5931" y="4431"/>
                  </a:lnTo>
                  <a:lnTo>
                    <a:pt x="5937" y="4450"/>
                  </a:lnTo>
                  <a:lnTo>
                    <a:pt x="5942" y="4469"/>
                  </a:lnTo>
                  <a:lnTo>
                    <a:pt x="5945" y="4479"/>
                  </a:lnTo>
                  <a:lnTo>
                    <a:pt x="5946" y="4489"/>
                  </a:lnTo>
                  <a:lnTo>
                    <a:pt x="5947" y="4499"/>
                  </a:lnTo>
                  <a:lnTo>
                    <a:pt x="5947" y="4510"/>
                  </a:lnTo>
                  <a:lnTo>
                    <a:pt x="5947" y="4520"/>
                  </a:lnTo>
                  <a:lnTo>
                    <a:pt x="5946" y="4530"/>
                  </a:lnTo>
                  <a:lnTo>
                    <a:pt x="5945" y="4541"/>
                  </a:lnTo>
                  <a:lnTo>
                    <a:pt x="5942" y="4551"/>
                  </a:lnTo>
                  <a:lnTo>
                    <a:pt x="5937" y="4569"/>
                  </a:lnTo>
                  <a:lnTo>
                    <a:pt x="5931" y="4588"/>
                  </a:lnTo>
                  <a:lnTo>
                    <a:pt x="5923" y="4605"/>
                  </a:lnTo>
                  <a:lnTo>
                    <a:pt x="5913" y="4622"/>
                  </a:lnTo>
                  <a:lnTo>
                    <a:pt x="5901" y="4638"/>
                  </a:lnTo>
                  <a:lnTo>
                    <a:pt x="5888" y="4652"/>
                  </a:lnTo>
                  <a:close/>
                  <a:moveTo>
                    <a:pt x="10536" y="1717"/>
                  </a:moveTo>
                  <a:lnTo>
                    <a:pt x="5280" y="1562"/>
                  </a:lnTo>
                  <a:lnTo>
                    <a:pt x="5280" y="3541"/>
                  </a:lnTo>
                  <a:lnTo>
                    <a:pt x="10536" y="3581"/>
                  </a:lnTo>
                  <a:lnTo>
                    <a:pt x="10536" y="1717"/>
                  </a:lnTo>
                  <a:close/>
                  <a:moveTo>
                    <a:pt x="5220" y="1438"/>
                  </a:moveTo>
                  <a:lnTo>
                    <a:pt x="10599" y="1598"/>
                  </a:lnTo>
                  <a:lnTo>
                    <a:pt x="10659" y="1599"/>
                  </a:lnTo>
                  <a:lnTo>
                    <a:pt x="10659" y="1659"/>
                  </a:lnTo>
                  <a:lnTo>
                    <a:pt x="10659" y="3643"/>
                  </a:lnTo>
                  <a:lnTo>
                    <a:pt x="10659" y="3705"/>
                  </a:lnTo>
                  <a:lnTo>
                    <a:pt x="10597" y="3704"/>
                  </a:lnTo>
                  <a:lnTo>
                    <a:pt x="5219" y="3662"/>
                  </a:lnTo>
                  <a:lnTo>
                    <a:pt x="5157" y="3661"/>
                  </a:lnTo>
                  <a:lnTo>
                    <a:pt x="5157" y="3600"/>
                  </a:lnTo>
                  <a:lnTo>
                    <a:pt x="5157" y="1499"/>
                  </a:lnTo>
                  <a:lnTo>
                    <a:pt x="5157" y="1436"/>
                  </a:lnTo>
                  <a:lnTo>
                    <a:pt x="5220" y="1438"/>
                  </a:lnTo>
                  <a:close/>
                  <a:moveTo>
                    <a:pt x="5266" y="255"/>
                  </a:moveTo>
                  <a:lnTo>
                    <a:pt x="5258" y="258"/>
                  </a:lnTo>
                  <a:lnTo>
                    <a:pt x="5252" y="260"/>
                  </a:lnTo>
                  <a:lnTo>
                    <a:pt x="5239" y="265"/>
                  </a:lnTo>
                  <a:lnTo>
                    <a:pt x="5224" y="270"/>
                  </a:lnTo>
                  <a:lnTo>
                    <a:pt x="5210" y="276"/>
                  </a:lnTo>
                  <a:lnTo>
                    <a:pt x="5197" y="282"/>
                  </a:lnTo>
                  <a:lnTo>
                    <a:pt x="5169" y="298"/>
                  </a:lnTo>
                  <a:lnTo>
                    <a:pt x="5140" y="314"/>
                  </a:lnTo>
                  <a:lnTo>
                    <a:pt x="5112" y="334"/>
                  </a:lnTo>
                  <a:lnTo>
                    <a:pt x="5084" y="356"/>
                  </a:lnTo>
                  <a:lnTo>
                    <a:pt x="5056" y="379"/>
                  </a:lnTo>
                  <a:lnTo>
                    <a:pt x="5030" y="405"/>
                  </a:lnTo>
                  <a:lnTo>
                    <a:pt x="5028" y="406"/>
                  </a:lnTo>
                  <a:lnTo>
                    <a:pt x="5026" y="408"/>
                  </a:lnTo>
                  <a:lnTo>
                    <a:pt x="4998" y="437"/>
                  </a:lnTo>
                  <a:lnTo>
                    <a:pt x="4970" y="468"/>
                  </a:lnTo>
                  <a:lnTo>
                    <a:pt x="4943" y="501"/>
                  </a:lnTo>
                  <a:lnTo>
                    <a:pt x="4916" y="536"/>
                  </a:lnTo>
                  <a:lnTo>
                    <a:pt x="4900" y="559"/>
                  </a:lnTo>
                  <a:lnTo>
                    <a:pt x="4883" y="582"/>
                  </a:lnTo>
                  <a:lnTo>
                    <a:pt x="4868" y="606"/>
                  </a:lnTo>
                  <a:lnTo>
                    <a:pt x="4852" y="631"/>
                  </a:lnTo>
                  <a:lnTo>
                    <a:pt x="4852" y="632"/>
                  </a:lnTo>
                  <a:lnTo>
                    <a:pt x="4847" y="641"/>
                  </a:lnTo>
                  <a:lnTo>
                    <a:pt x="4846" y="641"/>
                  </a:lnTo>
                  <a:lnTo>
                    <a:pt x="4841" y="650"/>
                  </a:lnTo>
                  <a:lnTo>
                    <a:pt x="4841" y="651"/>
                  </a:lnTo>
                  <a:lnTo>
                    <a:pt x="4836" y="660"/>
                  </a:lnTo>
                  <a:lnTo>
                    <a:pt x="4835" y="662"/>
                  </a:lnTo>
                  <a:lnTo>
                    <a:pt x="4831" y="669"/>
                  </a:lnTo>
                  <a:lnTo>
                    <a:pt x="4829" y="672"/>
                  </a:lnTo>
                  <a:lnTo>
                    <a:pt x="4826" y="678"/>
                  </a:lnTo>
                  <a:lnTo>
                    <a:pt x="4824" y="682"/>
                  </a:lnTo>
                  <a:lnTo>
                    <a:pt x="4821" y="688"/>
                  </a:lnTo>
                  <a:lnTo>
                    <a:pt x="4821" y="689"/>
                  </a:lnTo>
                  <a:lnTo>
                    <a:pt x="4802" y="724"/>
                  </a:lnTo>
                  <a:lnTo>
                    <a:pt x="4784" y="759"/>
                  </a:lnTo>
                  <a:lnTo>
                    <a:pt x="4768" y="796"/>
                  </a:lnTo>
                  <a:lnTo>
                    <a:pt x="4753" y="834"/>
                  </a:lnTo>
                  <a:lnTo>
                    <a:pt x="4738" y="872"/>
                  </a:lnTo>
                  <a:lnTo>
                    <a:pt x="4725" y="911"/>
                  </a:lnTo>
                  <a:lnTo>
                    <a:pt x="4712" y="951"/>
                  </a:lnTo>
                  <a:lnTo>
                    <a:pt x="4701" y="992"/>
                  </a:lnTo>
                  <a:lnTo>
                    <a:pt x="4691" y="1034"/>
                  </a:lnTo>
                  <a:lnTo>
                    <a:pt x="4681" y="1075"/>
                  </a:lnTo>
                  <a:lnTo>
                    <a:pt x="4673" y="1118"/>
                  </a:lnTo>
                  <a:lnTo>
                    <a:pt x="4667" y="1162"/>
                  </a:lnTo>
                  <a:lnTo>
                    <a:pt x="4661" y="1205"/>
                  </a:lnTo>
                  <a:lnTo>
                    <a:pt x="4658" y="1249"/>
                  </a:lnTo>
                  <a:lnTo>
                    <a:pt x="4655" y="1295"/>
                  </a:lnTo>
                  <a:lnTo>
                    <a:pt x="4654" y="1339"/>
                  </a:lnTo>
                  <a:lnTo>
                    <a:pt x="4654" y="1340"/>
                  </a:lnTo>
                  <a:lnTo>
                    <a:pt x="4654" y="1342"/>
                  </a:lnTo>
                  <a:lnTo>
                    <a:pt x="4654" y="1343"/>
                  </a:lnTo>
                  <a:lnTo>
                    <a:pt x="4654" y="1346"/>
                  </a:lnTo>
                  <a:lnTo>
                    <a:pt x="4654" y="1347"/>
                  </a:lnTo>
                  <a:lnTo>
                    <a:pt x="4654" y="1349"/>
                  </a:lnTo>
                  <a:lnTo>
                    <a:pt x="4654" y="1350"/>
                  </a:lnTo>
                  <a:lnTo>
                    <a:pt x="4654" y="1351"/>
                  </a:lnTo>
                  <a:lnTo>
                    <a:pt x="4654" y="11335"/>
                  </a:lnTo>
                  <a:lnTo>
                    <a:pt x="4654" y="11336"/>
                  </a:lnTo>
                  <a:lnTo>
                    <a:pt x="4654" y="11337"/>
                  </a:lnTo>
                  <a:lnTo>
                    <a:pt x="4655" y="11373"/>
                  </a:lnTo>
                  <a:lnTo>
                    <a:pt x="4658" y="11409"/>
                  </a:lnTo>
                  <a:lnTo>
                    <a:pt x="4663" y="11447"/>
                  </a:lnTo>
                  <a:lnTo>
                    <a:pt x="4669" y="11487"/>
                  </a:lnTo>
                  <a:lnTo>
                    <a:pt x="4678" y="11527"/>
                  </a:lnTo>
                  <a:lnTo>
                    <a:pt x="4689" y="11569"/>
                  </a:lnTo>
                  <a:lnTo>
                    <a:pt x="4700" y="11613"/>
                  </a:lnTo>
                  <a:lnTo>
                    <a:pt x="4713" y="11657"/>
                  </a:lnTo>
                  <a:lnTo>
                    <a:pt x="4729" y="11702"/>
                  </a:lnTo>
                  <a:lnTo>
                    <a:pt x="4745" y="11747"/>
                  </a:lnTo>
                  <a:lnTo>
                    <a:pt x="4764" y="11792"/>
                  </a:lnTo>
                  <a:lnTo>
                    <a:pt x="4783" y="11837"/>
                  </a:lnTo>
                  <a:lnTo>
                    <a:pt x="4805" y="11883"/>
                  </a:lnTo>
                  <a:lnTo>
                    <a:pt x="4827" y="11928"/>
                  </a:lnTo>
                  <a:lnTo>
                    <a:pt x="4850" y="11972"/>
                  </a:lnTo>
                  <a:lnTo>
                    <a:pt x="4876" y="12016"/>
                  </a:lnTo>
                  <a:lnTo>
                    <a:pt x="4881" y="12024"/>
                  </a:lnTo>
                  <a:lnTo>
                    <a:pt x="4886" y="12033"/>
                  </a:lnTo>
                  <a:lnTo>
                    <a:pt x="4892" y="12041"/>
                  </a:lnTo>
                  <a:lnTo>
                    <a:pt x="4893" y="12044"/>
                  </a:lnTo>
                  <a:lnTo>
                    <a:pt x="4897" y="12050"/>
                  </a:lnTo>
                  <a:lnTo>
                    <a:pt x="4899" y="12054"/>
                  </a:lnTo>
                  <a:lnTo>
                    <a:pt x="4915" y="12079"/>
                  </a:lnTo>
                  <a:lnTo>
                    <a:pt x="4932" y="12103"/>
                  </a:lnTo>
                  <a:lnTo>
                    <a:pt x="4949" y="12128"/>
                  </a:lnTo>
                  <a:lnTo>
                    <a:pt x="4967" y="12152"/>
                  </a:lnTo>
                  <a:lnTo>
                    <a:pt x="4984" y="12174"/>
                  </a:lnTo>
                  <a:lnTo>
                    <a:pt x="5003" y="12196"/>
                  </a:lnTo>
                  <a:lnTo>
                    <a:pt x="5020" y="12218"/>
                  </a:lnTo>
                  <a:lnTo>
                    <a:pt x="5039" y="12238"/>
                  </a:lnTo>
                  <a:lnTo>
                    <a:pt x="5040" y="12239"/>
                  </a:lnTo>
                  <a:lnTo>
                    <a:pt x="5046" y="12247"/>
                  </a:lnTo>
                  <a:lnTo>
                    <a:pt x="5052" y="12252"/>
                  </a:lnTo>
                  <a:lnTo>
                    <a:pt x="5054" y="12254"/>
                  </a:lnTo>
                  <a:lnTo>
                    <a:pt x="5059" y="12259"/>
                  </a:lnTo>
                  <a:lnTo>
                    <a:pt x="5062" y="12261"/>
                  </a:lnTo>
                  <a:lnTo>
                    <a:pt x="5065" y="12265"/>
                  </a:lnTo>
                  <a:lnTo>
                    <a:pt x="5069" y="12268"/>
                  </a:lnTo>
                  <a:lnTo>
                    <a:pt x="5072" y="12271"/>
                  </a:lnTo>
                  <a:lnTo>
                    <a:pt x="5090" y="12289"/>
                  </a:lnTo>
                  <a:lnTo>
                    <a:pt x="5110" y="12306"/>
                  </a:lnTo>
                  <a:lnTo>
                    <a:pt x="5130" y="12322"/>
                  </a:lnTo>
                  <a:lnTo>
                    <a:pt x="5149" y="12336"/>
                  </a:lnTo>
                  <a:lnTo>
                    <a:pt x="5169" y="12351"/>
                  </a:lnTo>
                  <a:lnTo>
                    <a:pt x="5189" y="12363"/>
                  </a:lnTo>
                  <a:lnTo>
                    <a:pt x="5210" y="12374"/>
                  </a:lnTo>
                  <a:lnTo>
                    <a:pt x="5231" y="12385"/>
                  </a:lnTo>
                  <a:lnTo>
                    <a:pt x="5237" y="12388"/>
                  </a:lnTo>
                  <a:lnTo>
                    <a:pt x="5238" y="12388"/>
                  </a:lnTo>
                  <a:lnTo>
                    <a:pt x="5239" y="12389"/>
                  </a:lnTo>
                  <a:lnTo>
                    <a:pt x="5247" y="12392"/>
                  </a:lnTo>
                  <a:lnTo>
                    <a:pt x="5255" y="12395"/>
                  </a:lnTo>
                  <a:lnTo>
                    <a:pt x="5264" y="12398"/>
                  </a:lnTo>
                  <a:lnTo>
                    <a:pt x="5272" y="12401"/>
                  </a:lnTo>
                  <a:lnTo>
                    <a:pt x="5276" y="12402"/>
                  </a:lnTo>
                  <a:lnTo>
                    <a:pt x="5279" y="12403"/>
                  </a:lnTo>
                  <a:lnTo>
                    <a:pt x="5302" y="12409"/>
                  </a:lnTo>
                  <a:lnTo>
                    <a:pt x="5323" y="12414"/>
                  </a:lnTo>
                  <a:lnTo>
                    <a:pt x="5345" y="12416"/>
                  </a:lnTo>
                  <a:lnTo>
                    <a:pt x="5368" y="12417"/>
                  </a:lnTo>
                  <a:lnTo>
                    <a:pt x="5381" y="12417"/>
                  </a:lnTo>
                  <a:lnTo>
                    <a:pt x="10420" y="12166"/>
                  </a:lnTo>
                  <a:lnTo>
                    <a:pt x="10450" y="12163"/>
                  </a:lnTo>
                  <a:lnTo>
                    <a:pt x="10481" y="12160"/>
                  </a:lnTo>
                  <a:lnTo>
                    <a:pt x="10511" y="12154"/>
                  </a:lnTo>
                  <a:lnTo>
                    <a:pt x="10542" y="12147"/>
                  </a:lnTo>
                  <a:lnTo>
                    <a:pt x="10572" y="12138"/>
                  </a:lnTo>
                  <a:lnTo>
                    <a:pt x="10603" y="12128"/>
                  </a:lnTo>
                  <a:lnTo>
                    <a:pt x="10634" y="12116"/>
                  </a:lnTo>
                  <a:lnTo>
                    <a:pt x="10665" y="12103"/>
                  </a:lnTo>
                  <a:lnTo>
                    <a:pt x="10695" y="12088"/>
                  </a:lnTo>
                  <a:lnTo>
                    <a:pt x="10725" y="12072"/>
                  </a:lnTo>
                  <a:lnTo>
                    <a:pt x="10755" y="12055"/>
                  </a:lnTo>
                  <a:lnTo>
                    <a:pt x="10784" y="12036"/>
                  </a:lnTo>
                  <a:lnTo>
                    <a:pt x="10811" y="12017"/>
                  </a:lnTo>
                  <a:lnTo>
                    <a:pt x="10839" y="11996"/>
                  </a:lnTo>
                  <a:lnTo>
                    <a:pt x="10865" y="11974"/>
                  </a:lnTo>
                  <a:lnTo>
                    <a:pt x="10891" y="11951"/>
                  </a:lnTo>
                  <a:lnTo>
                    <a:pt x="10911" y="11930"/>
                  </a:lnTo>
                  <a:lnTo>
                    <a:pt x="10932" y="11910"/>
                  </a:lnTo>
                  <a:lnTo>
                    <a:pt x="10951" y="11887"/>
                  </a:lnTo>
                  <a:lnTo>
                    <a:pt x="10969" y="11864"/>
                  </a:lnTo>
                  <a:lnTo>
                    <a:pt x="10986" y="11842"/>
                  </a:lnTo>
                  <a:lnTo>
                    <a:pt x="11001" y="11818"/>
                  </a:lnTo>
                  <a:lnTo>
                    <a:pt x="11016" y="11793"/>
                  </a:lnTo>
                  <a:lnTo>
                    <a:pt x="11030" y="11768"/>
                  </a:lnTo>
                  <a:lnTo>
                    <a:pt x="11041" y="11743"/>
                  </a:lnTo>
                  <a:lnTo>
                    <a:pt x="11051" y="11717"/>
                  </a:lnTo>
                  <a:lnTo>
                    <a:pt x="11061" y="11690"/>
                  </a:lnTo>
                  <a:lnTo>
                    <a:pt x="11069" y="11663"/>
                  </a:lnTo>
                  <a:lnTo>
                    <a:pt x="11075" y="11635"/>
                  </a:lnTo>
                  <a:lnTo>
                    <a:pt x="11079" y="11608"/>
                  </a:lnTo>
                  <a:lnTo>
                    <a:pt x="11081" y="11580"/>
                  </a:lnTo>
                  <a:lnTo>
                    <a:pt x="11082" y="11551"/>
                  </a:lnTo>
                  <a:lnTo>
                    <a:pt x="11082" y="1092"/>
                  </a:lnTo>
                  <a:lnTo>
                    <a:pt x="11081" y="1064"/>
                  </a:lnTo>
                  <a:lnTo>
                    <a:pt x="11079" y="1035"/>
                  </a:lnTo>
                  <a:lnTo>
                    <a:pt x="11075" y="1007"/>
                  </a:lnTo>
                  <a:lnTo>
                    <a:pt x="11069" y="979"/>
                  </a:lnTo>
                  <a:lnTo>
                    <a:pt x="11061" y="952"/>
                  </a:lnTo>
                  <a:lnTo>
                    <a:pt x="11051" y="926"/>
                  </a:lnTo>
                  <a:lnTo>
                    <a:pt x="11041" y="900"/>
                  </a:lnTo>
                  <a:lnTo>
                    <a:pt x="11029" y="874"/>
                  </a:lnTo>
                  <a:lnTo>
                    <a:pt x="11015" y="849"/>
                  </a:lnTo>
                  <a:lnTo>
                    <a:pt x="11001" y="825"/>
                  </a:lnTo>
                  <a:lnTo>
                    <a:pt x="10986" y="801"/>
                  </a:lnTo>
                  <a:lnTo>
                    <a:pt x="10968" y="777"/>
                  </a:lnTo>
                  <a:lnTo>
                    <a:pt x="10951" y="755"/>
                  </a:lnTo>
                  <a:lnTo>
                    <a:pt x="10931" y="733"/>
                  </a:lnTo>
                  <a:lnTo>
                    <a:pt x="10911" y="711"/>
                  </a:lnTo>
                  <a:lnTo>
                    <a:pt x="10891" y="691"/>
                  </a:lnTo>
                  <a:lnTo>
                    <a:pt x="10865" y="668"/>
                  </a:lnTo>
                  <a:lnTo>
                    <a:pt x="10838" y="646"/>
                  </a:lnTo>
                  <a:lnTo>
                    <a:pt x="10811" y="625"/>
                  </a:lnTo>
                  <a:lnTo>
                    <a:pt x="10784" y="605"/>
                  </a:lnTo>
                  <a:lnTo>
                    <a:pt x="10755" y="587"/>
                  </a:lnTo>
                  <a:lnTo>
                    <a:pt x="10725" y="570"/>
                  </a:lnTo>
                  <a:lnTo>
                    <a:pt x="10695" y="554"/>
                  </a:lnTo>
                  <a:lnTo>
                    <a:pt x="10665" y="539"/>
                  </a:lnTo>
                  <a:lnTo>
                    <a:pt x="10634" y="527"/>
                  </a:lnTo>
                  <a:lnTo>
                    <a:pt x="10603" y="514"/>
                  </a:lnTo>
                  <a:lnTo>
                    <a:pt x="10573" y="504"/>
                  </a:lnTo>
                  <a:lnTo>
                    <a:pt x="10543" y="496"/>
                  </a:lnTo>
                  <a:lnTo>
                    <a:pt x="10512" y="489"/>
                  </a:lnTo>
                  <a:lnTo>
                    <a:pt x="10481" y="483"/>
                  </a:lnTo>
                  <a:lnTo>
                    <a:pt x="10451" y="479"/>
                  </a:lnTo>
                  <a:lnTo>
                    <a:pt x="10421" y="477"/>
                  </a:lnTo>
                  <a:lnTo>
                    <a:pt x="5345" y="245"/>
                  </a:lnTo>
                  <a:lnTo>
                    <a:pt x="5343" y="245"/>
                  </a:lnTo>
                  <a:lnTo>
                    <a:pt x="5336" y="245"/>
                  </a:lnTo>
                  <a:lnTo>
                    <a:pt x="5318" y="245"/>
                  </a:lnTo>
                  <a:lnTo>
                    <a:pt x="5301" y="247"/>
                  </a:lnTo>
                  <a:lnTo>
                    <a:pt x="5283" y="250"/>
                  </a:lnTo>
                  <a:lnTo>
                    <a:pt x="5266" y="255"/>
                  </a:lnTo>
                  <a:close/>
                  <a:moveTo>
                    <a:pt x="4798" y="12331"/>
                  </a:moveTo>
                  <a:lnTo>
                    <a:pt x="4782" y="12313"/>
                  </a:lnTo>
                  <a:lnTo>
                    <a:pt x="4768" y="12294"/>
                  </a:lnTo>
                  <a:lnTo>
                    <a:pt x="4754" y="12274"/>
                  </a:lnTo>
                  <a:lnTo>
                    <a:pt x="4739" y="12255"/>
                  </a:lnTo>
                  <a:lnTo>
                    <a:pt x="4726" y="12234"/>
                  </a:lnTo>
                  <a:lnTo>
                    <a:pt x="4711" y="12215"/>
                  </a:lnTo>
                  <a:lnTo>
                    <a:pt x="4698" y="12194"/>
                  </a:lnTo>
                  <a:lnTo>
                    <a:pt x="4686" y="12173"/>
                  </a:lnTo>
                  <a:lnTo>
                    <a:pt x="4676" y="12158"/>
                  </a:lnTo>
                  <a:lnTo>
                    <a:pt x="4667" y="12144"/>
                  </a:lnTo>
                  <a:lnTo>
                    <a:pt x="4665" y="12140"/>
                  </a:lnTo>
                  <a:lnTo>
                    <a:pt x="4658" y="12128"/>
                  </a:lnTo>
                  <a:lnTo>
                    <a:pt x="4651" y="12115"/>
                  </a:lnTo>
                  <a:lnTo>
                    <a:pt x="4648" y="12112"/>
                  </a:lnTo>
                  <a:lnTo>
                    <a:pt x="4643" y="12102"/>
                  </a:lnTo>
                  <a:lnTo>
                    <a:pt x="4641" y="12099"/>
                  </a:lnTo>
                  <a:lnTo>
                    <a:pt x="4636" y="12090"/>
                  </a:lnTo>
                  <a:lnTo>
                    <a:pt x="4635" y="12087"/>
                  </a:lnTo>
                  <a:lnTo>
                    <a:pt x="4629" y="12077"/>
                  </a:lnTo>
                  <a:lnTo>
                    <a:pt x="4628" y="12073"/>
                  </a:lnTo>
                  <a:lnTo>
                    <a:pt x="4627" y="12072"/>
                  </a:lnTo>
                  <a:lnTo>
                    <a:pt x="4602" y="12025"/>
                  </a:lnTo>
                  <a:lnTo>
                    <a:pt x="4578" y="11978"/>
                  </a:lnTo>
                  <a:lnTo>
                    <a:pt x="4557" y="11929"/>
                  </a:lnTo>
                  <a:lnTo>
                    <a:pt x="4536" y="11881"/>
                  </a:lnTo>
                  <a:lnTo>
                    <a:pt x="4517" y="11832"/>
                  </a:lnTo>
                  <a:lnTo>
                    <a:pt x="4499" y="11784"/>
                  </a:lnTo>
                  <a:lnTo>
                    <a:pt x="4483" y="11735"/>
                  </a:lnTo>
                  <a:lnTo>
                    <a:pt x="4468" y="11687"/>
                  </a:lnTo>
                  <a:lnTo>
                    <a:pt x="4455" y="11641"/>
                  </a:lnTo>
                  <a:lnTo>
                    <a:pt x="4442" y="11594"/>
                  </a:lnTo>
                  <a:lnTo>
                    <a:pt x="4433" y="11548"/>
                  </a:lnTo>
                  <a:lnTo>
                    <a:pt x="4425" y="11503"/>
                  </a:lnTo>
                  <a:lnTo>
                    <a:pt x="4418" y="11461"/>
                  </a:lnTo>
                  <a:lnTo>
                    <a:pt x="4413" y="11419"/>
                  </a:lnTo>
                  <a:lnTo>
                    <a:pt x="4409" y="11379"/>
                  </a:lnTo>
                  <a:lnTo>
                    <a:pt x="4408" y="11341"/>
                  </a:lnTo>
                  <a:lnTo>
                    <a:pt x="4408" y="11340"/>
                  </a:lnTo>
                  <a:lnTo>
                    <a:pt x="4408" y="11338"/>
                  </a:lnTo>
                  <a:lnTo>
                    <a:pt x="4408" y="11337"/>
                  </a:lnTo>
                  <a:lnTo>
                    <a:pt x="4408" y="11336"/>
                  </a:lnTo>
                  <a:lnTo>
                    <a:pt x="4408" y="11335"/>
                  </a:lnTo>
                  <a:lnTo>
                    <a:pt x="4408" y="1351"/>
                  </a:lnTo>
                  <a:lnTo>
                    <a:pt x="4408" y="1350"/>
                  </a:lnTo>
                  <a:lnTo>
                    <a:pt x="4408" y="1349"/>
                  </a:lnTo>
                  <a:lnTo>
                    <a:pt x="4408" y="1348"/>
                  </a:lnTo>
                  <a:lnTo>
                    <a:pt x="4408" y="1347"/>
                  </a:lnTo>
                  <a:lnTo>
                    <a:pt x="4408" y="1346"/>
                  </a:lnTo>
                  <a:lnTo>
                    <a:pt x="4408" y="1345"/>
                  </a:lnTo>
                  <a:lnTo>
                    <a:pt x="4408" y="1344"/>
                  </a:lnTo>
                  <a:lnTo>
                    <a:pt x="4408" y="1343"/>
                  </a:lnTo>
                  <a:lnTo>
                    <a:pt x="4408" y="1342"/>
                  </a:lnTo>
                  <a:lnTo>
                    <a:pt x="4408" y="1341"/>
                  </a:lnTo>
                  <a:lnTo>
                    <a:pt x="4408" y="1340"/>
                  </a:lnTo>
                  <a:lnTo>
                    <a:pt x="4408" y="1339"/>
                  </a:lnTo>
                  <a:lnTo>
                    <a:pt x="4409" y="1291"/>
                  </a:lnTo>
                  <a:lnTo>
                    <a:pt x="4413" y="1242"/>
                  </a:lnTo>
                  <a:lnTo>
                    <a:pt x="4417" y="1195"/>
                  </a:lnTo>
                  <a:lnTo>
                    <a:pt x="4422" y="1147"/>
                  </a:lnTo>
                  <a:lnTo>
                    <a:pt x="4428" y="1100"/>
                  </a:lnTo>
                  <a:lnTo>
                    <a:pt x="4436" y="1054"/>
                  </a:lnTo>
                  <a:lnTo>
                    <a:pt x="4446" y="1008"/>
                  </a:lnTo>
                  <a:lnTo>
                    <a:pt x="4456" y="964"/>
                  </a:lnTo>
                  <a:lnTo>
                    <a:pt x="4467" y="918"/>
                  </a:lnTo>
                  <a:lnTo>
                    <a:pt x="4480" y="875"/>
                  </a:lnTo>
                  <a:lnTo>
                    <a:pt x="4494" y="832"/>
                  </a:lnTo>
                  <a:lnTo>
                    <a:pt x="4508" y="790"/>
                  </a:lnTo>
                  <a:lnTo>
                    <a:pt x="4524" y="748"/>
                  </a:lnTo>
                  <a:lnTo>
                    <a:pt x="4540" y="707"/>
                  </a:lnTo>
                  <a:lnTo>
                    <a:pt x="4559" y="667"/>
                  </a:lnTo>
                  <a:lnTo>
                    <a:pt x="4576" y="628"/>
                  </a:lnTo>
                  <a:lnTo>
                    <a:pt x="4577" y="627"/>
                  </a:lnTo>
                  <a:lnTo>
                    <a:pt x="4583" y="615"/>
                  </a:lnTo>
                  <a:lnTo>
                    <a:pt x="4584" y="615"/>
                  </a:lnTo>
                  <a:lnTo>
                    <a:pt x="4589" y="604"/>
                  </a:lnTo>
                  <a:lnTo>
                    <a:pt x="4590" y="602"/>
                  </a:lnTo>
                  <a:lnTo>
                    <a:pt x="4594" y="594"/>
                  </a:lnTo>
                  <a:lnTo>
                    <a:pt x="4596" y="590"/>
                  </a:lnTo>
                  <a:lnTo>
                    <a:pt x="4600" y="582"/>
                  </a:lnTo>
                  <a:lnTo>
                    <a:pt x="4613" y="557"/>
                  </a:lnTo>
                  <a:lnTo>
                    <a:pt x="4628" y="532"/>
                  </a:lnTo>
                  <a:lnTo>
                    <a:pt x="4642" y="507"/>
                  </a:lnTo>
                  <a:lnTo>
                    <a:pt x="4657" y="482"/>
                  </a:lnTo>
                  <a:lnTo>
                    <a:pt x="4672" y="459"/>
                  </a:lnTo>
                  <a:lnTo>
                    <a:pt x="4688" y="436"/>
                  </a:lnTo>
                  <a:lnTo>
                    <a:pt x="4703" y="413"/>
                  </a:lnTo>
                  <a:lnTo>
                    <a:pt x="4720" y="391"/>
                  </a:lnTo>
                  <a:lnTo>
                    <a:pt x="4731" y="375"/>
                  </a:lnTo>
                  <a:lnTo>
                    <a:pt x="4743" y="360"/>
                  </a:lnTo>
                  <a:lnTo>
                    <a:pt x="4755" y="345"/>
                  </a:lnTo>
                  <a:lnTo>
                    <a:pt x="4767" y="331"/>
                  </a:lnTo>
                  <a:lnTo>
                    <a:pt x="882" y="890"/>
                  </a:lnTo>
                  <a:lnTo>
                    <a:pt x="874" y="891"/>
                  </a:lnTo>
                  <a:lnTo>
                    <a:pt x="866" y="892"/>
                  </a:lnTo>
                  <a:lnTo>
                    <a:pt x="859" y="892"/>
                  </a:lnTo>
                  <a:lnTo>
                    <a:pt x="851" y="892"/>
                  </a:lnTo>
                  <a:lnTo>
                    <a:pt x="849" y="892"/>
                  </a:lnTo>
                  <a:lnTo>
                    <a:pt x="844" y="892"/>
                  </a:lnTo>
                  <a:lnTo>
                    <a:pt x="833" y="892"/>
                  </a:lnTo>
                  <a:lnTo>
                    <a:pt x="822" y="893"/>
                  </a:lnTo>
                  <a:lnTo>
                    <a:pt x="812" y="894"/>
                  </a:lnTo>
                  <a:lnTo>
                    <a:pt x="801" y="896"/>
                  </a:lnTo>
                  <a:lnTo>
                    <a:pt x="778" y="901"/>
                  </a:lnTo>
                  <a:lnTo>
                    <a:pt x="755" y="909"/>
                  </a:lnTo>
                  <a:lnTo>
                    <a:pt x="733" y="918"/>
                  </a:lnTo>
                  <a:lnTo>
                    <a:pt x="709" y="931"/>
                  </a:lnTo>
                  <a:lnTo>
                    <a:pt x="685" y="944"/>
                  </a:lnTo>
                  <a:lnTo>
                    <a:pt x="661" y="960"/>
                  </a:lnTo>
                  <a:lnTo>
                    <a:pt x="639" y="977"/>
                  </a:lnTo>
                  <a:lnTo>
                    <a:pt x="615" y="997"/>
                  </a:lnTo>
                  <a:lnTo>
                    <a:pt x="591" y="1017"/>
                  </a:lnTo>
                  <a:lnTo>
                    <a:pt x="568" y="1040"/>
                  </a:lnTo>
                  <a:lnTo>
                    <a:pt x="545" y="1065"/>
                  </a:lnTo>
                  <a:lnTo>
                    <a:pt x="522" y="1091"/>
                  </a:lnTo>
                  <a:lnTo>
                    <a:pt x="500" y="1118"/>
                  </a:lnTo>
                  <a:lnTo>
                    <a:pt x="478" y="1147"/>
                  </a:lnTo>
                  <a:lnTo>
                    <a:pt x="454" y="1180"/>
                  </a:lnTo>
                  <a:lnTo>
                    <a:pt x="432" y="1214"/>
                  </a:lnTo>
                  <a:lnTo>
                    <a:pt x="410" y="1250"/>
                  </a:lnTo>
                  <a:lnTo>
                    <a:pt x="389" y="1287"/>
                  </a:lnTo>
                  <a:lnTo>
                    <a:pt x="370" y="1326"/>
                  </a:lnTo>
                  <a:lnTo>
                    <a:pt x="352" y="1366"/>
                  </a:lnTo>
                  <a:lnTo>
                    <a:pt x="335" y="1406"/>
                  </a:lnTo>
                  <a:lnTo>
                    <a:pt x="318" y="1448"/>
                  </a:lnTo>
                  <a:lnTo>
                    <a:pt x="304" y="1492"/>
                  </a:lnTo>
                  <a:lnTo>
                    <a:pt x="291" y="1535"/>
                  </a:lnTo>
                  <a:lnTo>
                    <a:pt x="279" y="1580"/>
                  </a:lnTo>
                  <a:lnTo>
                    <a:pt x="269" y="1626"/>
                  </a:lnTo>
                  <a:lnTo>
                    <a:pt x="261" y="1672"/>
                  </a:lnTo>
                  <a:lnTo>
                    <a:pt x="253" y="1719"/>
                  </a:lnTo>
                  <a:lnTo>
                    <a:pt x="249" y="1768"/>
                  </a:lnTo>
                  <a:lnTo>
                    <a:pt x="245" y="1816"/>
                  </a:lnTo>
                  <a:lnTo>
                    <a:pt x="245" y="1827"/>
                  </a:lnTo>
                  <a:lnTo>
                    <a:pt x="245" y="1839"/>
                  </a:lnTo>
                  <a:lnTo>
                    <a:pt x="245" y="1853"/>
                  </a:lnTo>
                  <a:lnTo>
                    <a:pt x="245" y="1870"/>
                  </a:lnTo>
                  <a:lnTo>
                    <a:pt x="245" y="10814"/>
                  </a:lnTo>
                  <a:lnTo>
                    <a:pt x="246" y="10848"/>
                  </a:lnTo>
                  <a:lnTo>
                    <a:pt x="249" y="10883"/>
                  </a:lnTo>
                  <a:lnTo>
                    <a:pt x="254" y="10921"/>
                  </a:lnTo>
                  <a:lnTo>
                    <a:pt x="262" y="10960"/>
                  </a:lnTo>
                  <a:lnTo>
                    <a:pt x="270" y="11000"/>
                  </a:lnTo>
                  <a:lnTo>
                    <a:pt x="281" y="11043"/>
                  </a:lnTo>
                  <a:lnTo>
                    <a:pt x="294" y="11085"/>
                  </a:lnTo>
                  <a:lnTo>
                    <a:pt x="308" y="11128"/>
                  </a:lnTo>
                  <a:lnTo>
                    <a:pt x="323" y="11173"/>
                  </a:lnTo>
                  <a:lnTo>
                    <a:pt x="341" y="11217"/>
                  </a:lnTo>
                  <a:lnTo>
                    <a:pt x="361" y="11261"/>
                  </a:lnTo>
                  <a:lnTo>
                    <a:pt x="381" y="11304"/>
                  </a:lnTo>
                  <a:lnTo>
                    <a:pt x="404" y="11349"/>
                  </a:lnTo>
                  <a:lnTo>
                    <a:pt x="427" y="11391"/>
                  </a:lnTo>
                  <a:lnTo>
                    <a:pt x="452" y="11433"/>
                  </a:lnTo>
                  <a:lnTo>
                    <a:pt x="478" y="11475"/>
                  </a:lnTo>
                  <a:lnTo>
                    <a:pt x="498" y="11503"/>
                  </a:lnTo>
                  <a:lnTo>
                    <a:pt x="518" y="11531"/>
                  </a:lnTo>
                  <a:lnTo>
                    <a:pt x="539" y="11558"/>
                  </a:lnTo>
                  <a:lnTo>
                    <a:pt x="560" y="11584"/>
                  </a:lnTo>
                  <a:lnTo>
                    <a:pt x="582" y="11609"/>
                  </a:lnTo>
                  <a:lnTo>
                    <a:pt x="604" y="11631"/>
                  </a:lnTo>
                  <a:lnTo>
                    <a:pt x="626" y="11654"/>
                  </a:lnTo>
                  <a:lnTo>
                    <a:pt x="649" y="11673"/>
                  </a:lnTo>
                  <a:lnTo>
                    <a:pt x="673" y="11692"/>
                  </a:lnTo>
                  <a:lnTo>
                    <a:pt x="695" y="11710"/>
                  </a:lnTo>
                  <a:lnTo>
                    <a:pt x="719" y="11724"/>
                  </a:lnTo>
                  <a:lnTo>
                    <a:pt x="744" y="11737"/>
                  </a:lnTo>
                  <a:lnTo>
                    <a:pt x="755" y="11744"/>
                  </a:lnTo>
                  <a:lnTo>
                    <a:pt x="768" y="11749"/>
                  </a:lnTo>
                  <a:lnTo>
                    <a:pt x="780" y="11754"/>
                  </a:lnTo>
                  <a:lnTo>
                    <a:pt x="792" y="11758"/>
                  </a:lnTo>
                  <a:lnTo>
                    <a:pt x="805" y="11761"/>
                  </a:lnTo>
                  <a:lnTo>
                    <a:pt x="817" y="11764"/>
                  </a:lnTo>
                  <a:lnTo>
                    <a:pt x="829" y="11767"/>
                  </a:lnTo>
                  <a:lnTo>
                    <a:pt x="842" y="11768"/>
                  </a:lnTo>
                  <a:lnTo>
                    <a:pt x="853" y="11769"/>
                  </a:lnTo>
                  <a:lnTo>
                    <a:pt x="863" y="11771"/>
                  </a:lnTo>
                  <a:lnTo>
                    <a:pt x="4798" y="12331"/>
                  </a:lnTo>
                  <a:close/>
                  <a:moveTo>
                    <a:pt x="4665" y="12140"/>
                  </a:moveTo>
                  <a:lnTo>
                    <a:pt x="4658" y="12128"/>
                  </a:lnTo>
                  <a:lnTo>
                    <a:pt x="4651" y="12115"/>
                  </a:lnTo>
                  <a:lnTo>
                    <a:pt x="4665" y="12140"/>
                  </a:lnTo>
                  <a:close/>
                  <a:moveTo>
                    <a:pt x="12467" y="7167"/>
                  </a:moveTo>
                  <a:lnTo>
                    <a:pt x="12566" y="7181"/>
                  </a:lnTo>
                  <a:lnTo>
                    <a:pt x="12666" y="7194"/>
                  </a:lnTo>
                  <a:lnTo>
                    <a:pt x="12769" y="7206"/>
                  </a:lnTo>
                  <a:lnTo>
                    <a:pt x="12873" y="7216"/>
                  </a:lnTo>
                  <a:lnTo>
                    <a:pt x="12978" y="7227"/>
                  </a:lnTo>
                  <a:lnTo>
                    <a:pt x="13086" y="7235"/>
                  </a:lnTo>
                  <a:lnTo>
                    <a:pt x="13194" y="7243"/>
                  </a:lnTo>
                  <a:lnTo>
                    <a:pt x="13304" y="7250"/>
                  </a:lnTo>
                  <a:lnTo>
                    <a:pt x="13415" y="7256"/>
                  </a:lnTo>
                  <a:lnTo>
                    <a:pt x="13526" y="7261"/>
                  </a:lnTo>
                  <a:lnTo>
                    <a:pt x="13638" y="7265"/>
                  </a:lnTo>
                  <a:lnTo>
                    <a:pt x="13751" y="7268"/>
                  </a:lnTo>
                  <a:lnTo>
                    <a:pt x="13863" y="7270"/>
                  </a:lnTo>
                  <a:lnTo>
                    <a:pt x="13976" y="7271"/>
                  </a:lnTo>
                  <a:lnTo>
                    <a:pt x="14089" y="7271"/>
                  </a:lnTo>
                  <a:lnTo>
                    <a:pt x="14201" y="7270"/>
                  </a:lnTo>
                  <a:lnTo>
                    <a:pt x="14109" y="7268"/>
                  </a:lnTo>
                  <a:lnTo>
                    <a:pt x="14018" y="7266"/>
                  </a:lnTo>
                  <a:lnTo>
                    <a:pt x="13926" y="7264"/>
                  </a:lnTo>
                  <a:lnTo>
                    <a:pt x="13835" y="7260"/>
                  </a:lnTo>
                  <a:lnTo>
                    <a:pt x="13745" y="7256"/>
                  </a:lnTo>
                  <a:lnTo>
                    <a:pt x="13654" y="7251"/>
                  </a:lnTo>
                  <a:lnTo>
                    <a:pt x="13564" y="7245"/>
                  </a:lnTo>
                  <a:lnTo>
                    <a:pt x="13476" y="7240"/>
                  </a:lnTo>
                  <a:lnTo>
                    <a:pt x="13387" y="7233"/>
                  </a:lnTo>
                  <a:lnTo>
                    <a:pt x="13301" y="7226"/>
                  </a:lnTo>
                  <a:lnTo>
                    <a:pt x="13214" y="7217"/>
                  </a:lnTo>
                  <a:lnTo>
                    <a:pt x="13128" y="7209"/>
                  </a:lnTo>
                  <a:lnTo>
                    <a:pt x="13044" y="7200"/>
                  </a:lnTo>
                  <a:lnTo>
                    <a:pt x="12962" y="7190"/>
                  </a:lnTo>
                  <a:lnTo>
                    <a:pt x="12880" y="7178"/>
                  </a:lnTo>
                  <a:lnTo>
                    <a:pt x="12800" y="7167"/>
                  </a:lnTo>
                  <a:lnTo>
                    <a:pt x="12694" y="7150"/>
                  </a:lnTo>
                  <a:lnTo>
                    <a:pt x="12593" y="7133"/>
                  </a:lnTo>
                  <a:lnTo>
                    <a:pt x="12497" y="7115"/>
                  </a:lnTo>
                  <a:lnTo>
                    <a:pt x="12407" y="7096"/>
                  </a:lnTo>
                  <a:lnTo>
                    <a:pt x="12323" y="7076"/>
                  </a:lnTo>
                  <a:lnTo>
                    <a:pt x="12245" y="7056"/>
                  </a:lnTo>
                  <a:lnTo>
                    <a:pt x="12171" y="7035"/>
                  </a:lnTo>
                  <a:lnTo>
                    <a:pt x="12103" y="7013"/>
                  </a:lnTo>
                  <a:lnTo>
                    <a:pt x="12042" y="6991"/>
                  </a:lnTo>
                  <a:lnTo>
                    <a:pt x="11986" y="6968"/>
                  </a:lnTo>
                  <a:lnTo>
                    <a:pt x="11935" y="6945"/>
                  </a:lnTo>
                  <a:lnTo>
                    <a:pt x="11891" y="6922"/>
                  </a:lnTo>
                  <a:lnTo>
                    <a:pt x="11852" y="6898"/>
                  </a:lnTo>
                  <a:lnTo>
                    <a:pt x="11819" y="6873"/>
                  </a:lnTo>
                  <a:lnTo>
                    <a:pt x="11792" y="6848"/>
                  </a:lnTo>
                  <a:lnTo>
                    <a:pt x="11771" y="6825"/>
                  </a:lnTo>
                  <a:lnTo>
                    <a:pt x="11756" y="6799"/>
                  </a:lnTo>
                  <a:lnTo>
                    <a:pt x="11747" y="6774"/>
                  </a:lnTo>
                  <a:lnTo>
                    <a:pt x="11744" y="6749"/>
                  </a:lnTo>
                  <a:lnTo>
                    <a:pt x="11746" y="6724"/>
                  </a:lnTo>
                  <a:lnTo>
                    <a:pt x="11755" y="6699"/>
                  </a:lnTo>
                  <a:lnTo>
                    <a:pt x="11771" y="6674"/>
                  </a:lnTo>
                  <a:lnTo>
                    <a:pt x="11791" y="6650"/>
                  </a:lnTo>
                  <a:lnTo>
                    <a:pt x="11819" y="6625"/>
                  </a:lnTo>
                  <a:lnTo>
                    <a:pt x="11852" y="6600"/>
                  </a:lnTo>
                  <a:lnTo>
                    <a:pt x="11892" y="6575"/>
                  </a:lnTo>
                  <a:lnTo>
                    <a:pt x="11939" y="6552"/>
                  </a:lnTo>
                  <a:lnTo>
                    <a:pt x="11991" y="6528"/>
                  </a:lnTo>
                  <a:lnTo>
                    <a:pt x="12050" y="6504"/>
                  </a:lnTo>
                  <a:lnTo>
                    <a:pt x="12115" y="6481"/>
                  </a:lnTo>
                  <a:lnTo>
                    <a:pt x="12187" y="6459"/>
                  </a:lnTo>
                  <a:lnTo>
                    <a:pt x="12264" y="6437"/>
                  </a:lnTo>
                  <a:lnTo>
                    <a:pt x="12310" y="6425"/>
                  </a:lnTo>
                  <a:lnTo>
                    <a:pt x="12357" y="6413"/>
                  </a:lnTo>
                  <a:lnTo>
                    <a:pt x="12405" y="6403"/>
                  </a:lnTo>
                  <a:lnTo>
                    <a:pt x="12455" y="6392"/>
                  </a:lnTo>
                  <a:lnTo>
                    <a:pt x="12506" y="6382"/>
                  </a:lnTo>
                  <a:lnTo>
                    <a:pt x="12558" y="6371"/>
                  </a:lnTo>
                  <a:lnTo>
                    <a:pt x="12611" y="6361"/>
                  </a:lnTo>
                  <a:lnTo>
                    <a:pt x="12666" y="6352"/>
                  </a:lnTo>
                  <a:lnTo>
                    <a:pt x="12777" y="6334"/>
                  </a:lnTo>
                  <a:lnTo>
                    <a:pt x="12894" y="6318"/>
                  </a:lnTo>
                  <a:lnTo>
                    <a:pt x="13013" y="6302"/>
                  </a:lnTo>
                  <a:lnTo>
                    <a:pt x="13137" y="6289"/>
                  </a:lnTo>
                  <a:lnTo>
                    <a:pt x="13262" y="6275"/>
                  </a:lnTo>
                  <a:lnTo>
                    <a:pt x="13391" y="6265"/>
                  </a:lnTo>
                  <a:lnTo>
                    <a:pt x="13523" y="6255"/>
                  </a:lnTo>
                  <a:lnTo>
                    <a:pt x="13656" y="6246"/>
                  </a:lnTo>
                  <a:lnTo>
                    <a:pt x="13792" y="6240"/>
                  </a:lnTo>
                  <a:lnTo>
                    <a:pt x="13928" y="6235"/>
                  </a:lnTo>
                  <a:lnTo>
                    <a:pt x="14066" y="6231"/>
                  </a:lnTo>
                  <a:lnTo>
                    <a:pt x="14205" y="6228"/>
                  </a:lnTo>
                  <a:lnTo>
                    <a:pt x="14044" y="6227"/>
                  </a:lnTo>
                  <a:lnTo>
                    <a:pt x="13885" y="6228"/>
                  </a:lnTo>
                  <a:lnTo>
                    <a:pt x="13725" y="6231"/>
                  </a:lnTo>
                  <a:lnTo>
                    <a:pt x="13566" y="6236"/>
                  </a:lnTo>
                  <a:lnTo>
                    <a:pt x="13410" y="6242"/>
                  </a:lnTo>
                  <a:lnTo>
                    <a:pt x="13255" y="6251"/>
                  </a:lnTo>
                  <a:lnTo>
                    <a:pt x="13179" y="6256"/>
                  </a:lnTo>
                  <a:lnTo>
                    <a:pt x="13103" y="6261"/>
                  </a:lnTo>
                  <a:lnTo>
                    <a:pt x="13028" y="6267"/>
                  </a:lnTo>
                  <a:lnTo>
                    <a:pt x="12954" y="6273"/>
                  </a:lnTo>
                  <a:lnTo>
                    <a:pt x="12881" y="6280"/>
                  </a:lnTo>
                  <a:lnTo>
                    <a:pt x="12809" y="6288"/>
                  </a:lnTo>
                  <a:lnTo>
                    <a:pt x="12738" y="6296"/>
                  </a:lnTo>
                  <a:lnTo>
                    <a:pt x="12667" y="6303"/>
                  </a:lnTo>
                  <a:lnTo>
                    <a:pt x="12599" y="6312"/>
                  </a:lnTo>
                  <a:lnTo>
                    <a:pt x="12531" y="6322"/>
                  </a:lnTo>
                  <a:lnTo>
                    <a:pt x="12464" y="6331"/>
                  </a:lnTo>
                  <a:lnTo>
                    <a:pt x="12399" y="6341"/>
                  </a:lnTo>
                  <a:lnTo>
                    <a:pt x="12335" y="6352"/>
                  </a:lnTo>
                  <a:lnTo>
                    <a:pt x="12272" y="6362"/>
                  </a:lnTo>
                  <a:lnTo>
                    <a:pt x="12212" y="6373"/>
                  </a:lnTo>
                  <a:lnTo>
                    <a:pt x="12153" y="6386"/>
                  </a:lnTo>
                  <a:lnTo>
                    <a:pt x="12095" y="6398"/>
                  </a:lnTo>
                  <a:lnTo>
                    <a:pt x="12038" y="6410"/>
                  </a:lnTo>
                  <a:lnTo>
                    <a:pt x="11984" y="6424"/>
                  </a:lnTo>
                  <a:lnTo>
                    <a:pt x="11931" y="6437"/>
                  </a:lnTo>
                  <a:lnTo>
                    <a:pt x="11854" y="6459"/>
                  </a:lnTo>
                  <a:lnTo>
                    <a:pt x="11782" y="6481"/>
                  </a:lnTo>
                  <a:lnTo>
                    <a:pt x="11717" y="6504"/>
                  </a:lnTo>
                  <a:lnTo>
                    <a:pt x="11658" y="6528"/>
                  </a:lnTo>
                  <a:lnTo>
                    <a:pt x="11606" y="6552"/>
                  </a:lnTo>
                  <a:lnTo>
                    <a:pt x="11559" y="6575"/>
                  </a:lnTo>
                  <a:lnTo>
                    <a:pt x="11519" y="6600"/>
                  </a:lnTo>
                  <a:lnTo>
                    <a:pt x="11486" y="6625"/>
                  </a:lnTo>
                  <a:lnTo>
                    <a:pt x="11458" y="6650"/>
                  </a:lnTo>
                  <a:lnTo>
                    <a:pt x="11438" y="6674"/>
                  </a:lnTo>
                  <a:lnTo>
                    <a:pt x="11422" y="6699"/>
                  </a:lnTo>
                  <a:lnTo>
                    <a:pt x="11413" y="6724"/>
                  </a:lnTo>
                  <a:lnTo>
                    <a:pt x="11411" y="6749"/>
                  </a:lnTo>
                  <a:lnTo>
                    <a:pt x="11414" y="6774"/>
                  </a:lnTo>
                  <a:lnTo>
                    <a:pt x="11423" y="6799"/>
                  </a:lnTo>
                  <a:lnTo>
                    <a:pt x="11438" y="6825"/>
                  </a:lnTo>
                  <a:lnTo>
                    <a:pt x="11459" y="6848"/>
                  </a:lnTo>
                  <a:lnTo>
                    <a:pt x="11486" y="6873"/>
                  </a:lnTo>
                  <a:lnTo>
                    <a:pt x="11519" y="6898"/>
                  </a:lnTo>
                  <a:lnTo>
                    <a:pt x="11558" y="6922"/>
                  </a:lnTo>
                  <a:lnTo>
                    <a:pt x="11603" y="6945"/>
                  </a:lnTo>
                  <a:lnTo>
                    <a:pt x="11653" y="6968"/>
                  </a:lnTo>
                  <a:lnTo>
                    <a:pt x="11709" y="6991"/>
                  </a:lnTo>
                  <a:lnTo>
                    <a:pt x="11771" y="7013"/>
                  </a:lnTo>
                  <a:lnTo>
                    <a:pt x="11839" y="7035"/>
                  </a:lnTo>
                  <a:lnTo>
                    <a:pt x="11912" y="7056"/>
                  </a:lnTo>
                  <a:lnTo>
                    <a:pt x="11990" y="7076"/>
                  </a:lnTo>
                  <a:lnTo>
                    <a:pt x="12075" y="7096"/>
                  </a:lnTo>
                  <a:lnTo>
                    <a:pt x="12164" y="7115"/>
                  </a:lnTo>
                  <a:lnTo>
                    <a:pt x="12260" y="7133"/>
                  </a:lnTo>
                  <a:lnTo>
                    <a:pt x="12361" y="7150"/>
                  </a:lnTo>
                  <a:lnTo>
                    <a:pt x="12467" y="7167"/>
                  </a:lnTo>
                  <a:close/>
                </a:path>
              </a:pathLst>
            </a:custGeom>
            <a:gradFill rotWithShape="0">
              <a:gsLst>
                <a:gs pos="0">
                  <a:srgbClr val="2e8dbe"/>
                </a:gs>
                <a:gs pos="100000">
                  <a:srgbClr val="00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pic>
        <p:nvPicPr>
          <p:cNvPr id="1920" name="Рисунок 279" descr="clipping unknow.png"/>
          <p:cNvPicPr/>
          <p:nvPr/>
        </p:nvPicPr>
        <p:blipFill>
          <a:blip r:embed="rId1"/>
          <a:stretch/>
        </p:blipFill>
        <p:spPr>
          <a:xfrm>
            <a:off x="612720" y="3836880"/>
            <a:ext cx="184320" cy="324000"/>
          </a:xfrm>
          <a:prstGeom prst="rect">
            <a:avLst/>
          </a:prstGeom>
          <a:ln w="0">
            <a:noFill/>
          </a:ln>
        </p:spPr>
      </p:pic>
      <p:pic>
        <p:nvPicPr>
          <p:cNvPr id="1921" name="Рисунок 279" descr="clipping unknow.png"/>
          <p:cNvPicPr/>
          <p:nvPr/>
        </p:nvPicPr>
        <p:blipFill>
          <a:blip r:embed="rId2"/>
          <a:stretch/>
        </p:blipFill>
        <p:spPr>
          <a:xfrm>
            <a:off x="673200" y="3924360"/>
            <a:ext cx="183960" cy="323640"/>
          </a:xfrm>
          <a:prstGeom prst="rect">
            <a:avLst/>
          </a:prstGeom>
          <a:ln w="0">
            <a:noFill/>
          </a:ln>
        </p:spPr>
      </p:pic>
      <p:pic>
        <p:nvPicPr>
          <p:cNvPr id="1922" name="Рисунок 279" descr="clipping unknow.png"/>
          <p:cNvPicPr/>
          <p:nvPr/>
        </p:nvPicPr>
        <p:blipFill>
          <a:blip r:embed="rId3"/>
          <a:stretch/>
        </p:blipFill>
        <p:spPr>
          <a:xfrm>
            <a:off x="731880" y="3990960"/>
            <a:ext cx="185760" cy="32400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2" descr="\\192.168.170.75\Documents\Департамент продаж и маркетинга\Отдел дизайна и рекламы\!!Дизайнерская\ИКОНКИ\ГосЗакупки (иконки)\140х140\контракты.png"/>
          <p:cNvPicPr/>
          <p:nvPr/>
        </p:nvPicPr>
        <p:blipFill>
          <a:blip r:embed="rId4"/>
          <a:stretch/>
        </p:blipFill>
        <p:spPr>
          <a:xfrm>
            <a:off x="560520" y="5694480"/>
            <a:ext cx="396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4" name="Рисунок 5" descr=""/>
          <p:cNvPicPr/>
          <p:nvPr/>
        </p:nvPicPr>
        <p:blipFill>
          <a:blip r:embed="rId1"/>
          <a:stretch/>
        </p:blipFill>
        <p:spPr>
          <a:xfrm>
            <a:off x="1947960" y="666720"/>
            <a:ext cx="5265720" cy="6024600"/>
          </a:xfrm>
          <a:prstGeom prst="rect">
            <a:avLst/>
          </a:prstGeom>
          <a:ln w="0">
            <a:noFill/>
          </a:ln>
        </p:spPr>
      </p:pic>
      <p:sp>
        <p:nvSpPr>
          <p:cNvPr id="1925" name="PlaceHolder 1"/>
          <p:cNvSpPr>
            <a:spLocks noGrp="1"/>
          </p:cNvSpPr>
          <p:nvPr>
            <p:ph type="subTitle"/>
          </p:nvPr>
        </p:nvSpPr>
        <p:spPr>
          <a:xfrm>
            <a:off x="380520" y="2674440"/>
            <a:ext cx="838044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algn="ctr"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Lato Light"/>
              </a:rPr>
              <a:t>Спасибо за внимание!</a:t>
            </a:r>
            <a:endParaRPr b="0" lang="en-US" sz="3200" spc="-1" strike="noStrike">
              <a:solidFill>
                <a:srgbClr val="393939"/>
              </a:solidFill>
              <a:latin typeface="Lato Light"/>
            </a:endParaRPr>
          </a:p>
        </p:txBody>
      </p:sp>
      <p:sp>
        <p:nvSpPr>
          <p:cNvPr id="1926" name="Slide Number Placeholder 3"/>
          <p:cNvSpPr/>
          <p:nvPr/>
        </p:nvSpPr>
        <p:spPr>
          <a:xfrm>
            <a:off x="8221680" y="6691320"/>
            <a:ext cx="365040" cy="108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itle 1"/>
          <p:cNvSpPr/>
          <p:nvPr/>
        </p:nvSpPr>
        <p:spPr>
          <a:xfrm>
            <a:off x="557280" y="216000"/>
            <a:ext cx="80294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ato Light"/>
                <a:ea typeface="Gotham Light"/>
              </a:rPr>
              <a:t>ПРИКАЗЫ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ФЕДЕРАЛЬНОГО КАЗНАЧЕЙСТВА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477720" y="1268280"/>
          <a:ext cx="8453520" cy="4488120"/>
        </p:xfrm>
        <a:graphic>
          <a:graphicData uri="http://schemas.openxmlformats.org/drawingml/2006/table">
            <a:tbl>
              <a:tblPr/>
              <a:tblGrid>
                <a:gridCol w="2535480"/>
                <a:gridCol w="282600"/>
                <a:gridCol w="2535120"/>
                <a:gridCol w="282600"/>
                <a:gridCol w="2535120"/>
                <a:gridCol w="282600"/>
              </a:tblGrid>
              <a:tr h="1260360"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3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от 30.12.2011</a:t>
                      </a:r>
                      <a:endParaRPr b="0" lang="en-US" sz="26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№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662</a:t>
                      </a:r>
                      <a:endParaRPr b="0" lang="en-US" sz="36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bbadd"/>
                    </a:solidFill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3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от 30.12.2011</a:t>
                      </a:r>
                      <a:endParaRPr b="0" lang="en-US" sz="26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№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663</a:t>
                      </a:r>
                      <a:endParaRPr b="0" lang="en-US" sz="36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bbadd"/>
                    </a:solidFill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3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от 03.09.2012</a:t>
                      </a:r>
                      <a:endParaRPr b="0" lang="en-US" sz="26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№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Lato Light"/>
                        </a:rPr>
                        <a:t>347</a:t>
                      </a:r>
                      <a:endParaRPr b="0" lang="en-US" sz="36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bbadd"/>
                    </a:solidFill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0"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ato Light"/>
                        </a:rPr>
                        <a:t>"Об утверждении Порядка хранения документов по исполнению федерального бюджета, кассовому обслуживанию бюджетов бюджетной системы Российской Федерации и кассовому обслуживанию бюджетных учреждений, автономных учреждений и иных организаций, не содержащих сведений, составляющих государственную тайну, в Федеральном казначействе и его органах в электронном виде"</a:t>
                      </a:r>
                      <a:endParaRPr b="0" lang="en-US" sz="12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6bbad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ato Light"/>
                        </a:rPr>
                        <a:t>"Об утверждении Порядка хранения документов по исполнению федерального бюджета, кассовому обслуживанию бюджетов бюджетной системы Российской Федерации и кассовому обслуживанию бюджетных учреждений, автономных учреждений и иных организаций, содержащих сведения, составляющие государственную тайну, в Федеральном казначействе и его органах в электронном виде"</a:t>
                      </a:r>
                      <a:endParaRPr b="0" lang="en-US" sz="12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6bbad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ato Light"/>
                        </a:rPr>
                        <a:t>"Об утверждении Положения о структуре электронного архива, используемого для организации хранения документов по исполнению федерального бюджета, кассовому обслуживанию бюджетов бюджетной системы Российской Федерации и кассовому обслуживанию бюджетных учреждений, автономных учреждений и иных организаций, не содержащих сведений, составляющих государственную тайну, в Федеральном казначействе и его органах в электронном виде"</a:t>
                      </a:r>
                      <a:endParaRPr b="0" lang="en-US" sz="12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6bbadd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8680" bIns="58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a2a2a2"/>
                        </a:solidFill>
                        <a:latin typeface="Lato Ligh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9" name="TextBox 2"/>
          <p:cNvSpPr/>
          <p:nvPr/>
        </p:nvSpPr>
        <p:spPr>
          <a:xfrm>
            <a:off x="801720" y="5850000"/>
            <a:ext cx="7785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ato Light"/>
                <a:ea typeface="Gotham Light"/>
              </a:rPr>
              <a:t>Действие приказов распространяется на хранение документов по исполнению федерального бюджета, кассовому обслуживанию бюджетов бюджетной системы Российской Федерации и кассовому обслуживанию бюджетных учреждений, автономных учреждений и иных организаций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540" name="Group 216"/>
          <p:cNvGrpSpPr/>
          <p:nvPr/>
        </p:nvGrpSpPr>
        <p:grpSpPr>
          <a:xfrm>
            <a:off x="446040" y="5942160"/>
            <a:ext cx="358920" cy="360360"/>
            <a:chOff x="446040" y="5942160"/>
            <a:chExt cx="358920" cy="360360"/>
          </a:xfrm>
        </p:grpSpPr>
        <p:sp>
          <p:nvSpPr>
            <p:cNvPr id="1541" name="Freeform 5"/>
            <p:cNvSpPr/>
            <p:nvPr/>
          </p:nvSpPr>
          <p:spPr>
            <a:xfrm>
              <a:off x="446040" y="594216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3" h="3223">
                  <a:moveTo>
                    <a:pt x="0" y="1611"/>
                  </a:moveTo>
                  <a:lnTo>
                    <a:pt x="0" y="1611"/>
                  </a:lnTo>
                  <a:cubicBezTo>
                    <a:pt x="0" y="721"/>
                    <a:pt x="722" y="0"/>
                    <a:pt x="1612" y="0"/>
                  </a:cubicBezTo>
                  <a:cubicBezTo>
                    <a:pt x="2502" y="0"/>
                    <a:pt x="3223" y="721"/>
                    <a:pt x="3223" y="1611"/>
                  </a:cubicBezTo>
                  <a:cubicBezTo>
                    <a:pt x="3223" y="2501"/>
                    <a:pt x="2502" y="3223"/>
                    <a:pt x="1612" y="3223"/>
                  </a:cubicBezTo>
                  <a:cubicBezTo>
                    <a:pt x="722" y="3223"/>
                    <a:pt x="0" y="2501"/>
                    <a:pt x="0" y="1611"/>
                  </a:cubicBezTo>
                  <a:close/>
                </a:path>
              </a:pathLst>
            </a:custGeom>
            <a:solidFill>
              <a:srgbClr val="6b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42" name="Freeform 6"/>
            <p:cNvSpPr/>
            <p:nvPr/>
          </p:nvSpPr>
          <p:spPr>
            <a:xfrm>
              <a:off x="517680" y="6029640"/>
              <a:ext cx="237600" cy="2048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32" h="1832">
                  <a:moveTo>
                    <a:pt x="1811" y="0"/>
                  </a:moveTo>
                  <a:lnTo>
                    <a:pt x="1811" y="0"/>
                  </a:lnTo>
                  <a:lnTo>
                    <a:pt x="767" y="1241"/>
                  </a:lnTo>
                  <a:lnTo>
                    <a:pt x="269" y="823"/>
                  </a:lnTo>
                  <a:lnTo>
                    <a:pt x="0" y="1143"/>
                  </a:lnTo>
                  <a:lnTo>
                    <a:pt x="817" y="1832"/>
                  </a:lnTo>
                  <a:lnTo>
                    <a:pt x="2132" y="270"/>
                  </a:lnTo>
                  <a:lnTo>
                    <a:pt x="18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TextBox 5"/>
          <p:cNvSpPr/>
          <p:nvPr/>
        </p:nvSpPr>
        <p:spPr>
          <a:xfrm>
            <a:off x="0" y="1350000"/>
            <a:ext cx="23432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документов, подлежащих хранению в электронном виде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44" name="Freeform 17"/>
          <p:cNvSpPr/>
          <p:nvPr/>
        </p:nvSpPr>
        <p:spPr>
          <a:xfrm flipH="1">
            <a:off x="5407920" y="1865160"/>
            <a:ext cx="539640" cy="493920"/>
          </a:xfrm>
          <a:custGeom>
            <a:avLst/>
            <a:gdLst/>
            <a:ahLst/>
            <a:rect l="l" t="t" r="r" b="b"/>
            <a:pathLst>
              <a:path w="538811" h="369455">
                <a:moveTo>
                  <a:pt x="0" y="0"/>
                </a:moveTo>
                <a:lnTo>
                  <a:pt x="203993" y="0"/>
                </a:lnTo>
                <a:lnTo>
                  <a:pt x="538811" y="369455"/>
                </a:lnTo>
              </a:path>
            </a:pathLst>
          </a:custGeom>
          <a:noFill/>
          <a:ln w="6480">
            <a:solidFill>
              <a:srgbClr val="1b5d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45" name="Straight Connector 19"/>
          <p:cNvSpPr/>
          <p:nvPr/>
        </p:nvSpPr>
        <p:spPr>
          <a:xfrm flipH="1">
            <a:off x="5443200" y="4102200"/>
            <a:ext cx="468360" cy="0"/>
          </a:xfrm>
          <a:prstGeom prst="line">
            <a:avLst/>
          </a:prstGeom>
          <a:ln w="6480">
            <a:solidFill>
              <a:srgbClr val="1b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46" name="Text Placeholder 24"/>
          <p:cNvSpPr/>
          <p:nvPr/>
        </p:nvSpPr>
        <p:spPr>
          <a:xfrm>
            <a:off x="563400" y="1055520"/>
            <a:ext cx="8034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об утверждении Порядка организации хранения документов в электронном виде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47" name="Freeform 5"/>
          <p:cNvSpPr/>
          <p:nvPr/>
        </p:nvSpPr>
        <p:spPr>
          <a:xfrm>
            <a:off x="2413080" y="1487520"/>
            <a:ext cx="718920" cy="720720"/>
          </a:xfrm>
          <a:custGeom>
            <a:avLst/>
            <a:gdLst>
              <a:gd name="textAreaLeft" fmla="*/ 0 w 718920"/>
              <a:gd name="textAreaRight" fmla="*/ 719280 w 7189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3748" h="3747">
                <a:moveTo>
                  <a:pt x="0" y="1873"/>
                </a:moveTo>
                <a:lnTo>
                  <a:pt x="0" y="1873"/>
                </a:lnTo>
                <a:cubicBezTo>
                  <a:pt x="0" y="838"/>
                  <a:pt x="838" y="0"/>
                  <a:pt x="1874" y="0"/>
                </a:cubicBezTo>
                <a:cubicBezTo>
                  <a:pt x="2909" y="0"/>
                  <a:pt x="3748" y="838"/>
                  <a:pt x="3748" y="1873"/>
                </a:cubicBezTo>
                <a:cubicBezTo>
                  <a:pt x="3748" y="2909"/>
                  <a:pt x="2909" y="3747"/>
                  <a:pt x="1874" y="3747"/>
                </a:cubicBezTo>
                <a:cubicBezTo>
                  <a:pt x="838" y="3747"/>
                  <a:pt x="0" y="2909"/>
                  <a:pt x="0" y="1873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48" name="Freeform 10"/>
          <p:cNvSpPr/>
          <p:nvPr/>
        </p:nvSpPr>
        <p:spPr>
          <a:xfrm>
            <a:off x="2401920" y="2496960"/>
            <a:ext cx="719280" cy="721080"/>
          </a:xfrm>
          <a:custGeom>
            <a:avLst/>
            <a:gdLst>
              <a:gd name="textAreaLeft" fmla="*/ 0 w 719280"/>
              <a:gd name="textAreaRight" fmla="*/ 719640 w 719280"/>
              <a:gd name="textAreaTop" fmla="*/ 0 h 721080"/>
              <a:gd name="textAreaBottom" fmla="*/ 721440 h 721080"/>
            </a:gdLst>
            <a:ahLst/>
            <a:rect l="textAreaLeft" t="textAreaTop" r="textAreaRight" b="textAreaBottom"/>
            <a:pathLst>
              <a:path w="3857" h="3856">
                <a:moveTo>
                  <a:pt x="0" y="1928"/>
                </a:moveTo>
                <a:lnTo>
                  <a:pt x="0" y="1928"/>
                </a:lnTo>
                <a:cubicBezTo>
                  <a:pt x="0" y="862"/>
                  <a:pt x="863" y="0"/>
                  <a:pt x="1928" y="0"/>
                </a:cubicBezTo>
                <a:cubicBezTo>
                  <a:pt x="2994" y="0"/>
                  <a:pt x="3857" y="862"/>
                  <a:pt x="3857" y="1928"/>
                </a:cubicBezTo>
                <a:cubicBezTo>
                  <a:pt x="3857" y="2993"/>
                  <a:pt x="2994" y="3856"/>
                  <a:pt x="1928" y="3856"/>
                </a:cubicBezTo>
                <a:cubicBezTo>
                  <a:pt x="863" y="3856"/>
                  <a:pt x="0" y="2993"/>
                  <a:pt x="0" y="1928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49" name="Freeform 15"/>
          <p:cNvSpPr/>
          <p:nvPr/>
        </p:nvSpPr>
        <p:spPr>
          <a:xfrm>
            <a:off x="2395440" y="3686040"/>
            <a:ext cx="719280" cy="720720"/>
          </a:xfrm>
          <a:custGeom>
            <a:avLst/>
            <a:gdLst>
              <a:gd name="textAreaLeft" fmla="*/ 0 w 719280"/>
              <a:gd name="textAreaRight" fmla="*/ 719640 w 7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952" h="2952">
                <a:moveTo>
                  <a:pt x="0" y="1475"/>
                </a:moveTo>
                <a:lnTo>
                  <a:pt x="0" y="1475"/>
                </a:lnTo>
                <a:cubicBezTo>
                  <a:pt x="0" y="660"/>
                  <a:pt x="660" y="0"/>
                  <a:pt x="1476" y="0"/>
                </a:cubicBezTo>
                <a:cubicBezTo>
                  <a:pt x="2291" y="0"/>
                  <a:pt x="2952" y="660"/>
                  <a:pt x="2952" y="1475"/>
                </a:cubicBezTo>
                <a:cubicBezTo>
                  <a:pt x="2952" y="2290"/>
                  <a:pt x="2291" y="2952"/>
                  <a:pt x="1476" y="2952"/>
                </a:cubicBezTo>
                <a:cubicBezTo>
                  <a:pt x="660" y="2952"/>
                  <a:pt x="0" y="2290"/>
                  <a:pt x="0" y="1475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0" name="Freeform 20"/>
          <p:cNvSpPr/>
          <p:nvPr/>
        </p:nvSpPr>
        <p:spPr>
          <a:xfrm>
            <a:off x="6026040" y="3684600"/>
            <a:ext cx="719280" cy="720720"/>
          </a:xfrm>
          <a:custGeom>
            <a:avLst/>
            <a:gdLst>
              <a:gd name="textAreaLeft" fmla="*/ 0 w 719280"/>
              <a:gd name="textAreaRight" fmla="*/ 719640 w 7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691" h="2690">
                <a:moveTo>
                  <a:pt x="0" y="1345"/>
                </a:moveTo>
                <a:lnTo>
                  <a:pt x="0" y="1345"/>
                </a:lnTo>
                <a:cubicBezTo>
                  <a:pt x="0" y="601"/>
                  <a:pt x="602" y="0"/>
                  <a:pt x="1345" y="0"/>
                </a:cubicBezTo>
                <a:cubicBezTo>
                  <a:pt x="2089" y="0"/>
                  <a:pt x="2691" y="601"/>
                  <a:pt x="2691" y="1345"/>
                </a:cubicBezTo>
                <a:cubicBezTo>
                  <a:pt x="2691" y="2088"/>
                  <a:pt x="2089" y="2690"/>
                  <a:pt x="1345" y="2690"/>
                </a:cubicBezTo>
                <a:cubicBezTo>
                  <a:pt x="602" y="2690"/>
                  <a:pt x="0" y="2088"/>
                  <a:pt x="0" y="1345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1" name="Freeform 25"/>
          <p:cNvSpPr/>
          <p:nvPr/>
        </p:nvSpPr>
        <p:spPr>
          <a:xfrm>
            <a:off x="6026040" y="2496960"/>
            <a:ext cx="719280" cy="721080"/>
          </a:xfrm>
          <a:custGeom>
            <a:avLst/>
            <a:gdLst>
              <a:gd name="textAreaLeft" fmla="*/ 0 w 719280"/>
              <a:gd name="textAreaRight" fmla="*/ 719640 w 719280"/>
              <a:gd name="textAreaTop" fmla="*/ 0 h 721080"/>
              <a:gd name="textAreaBottom" fmla="*/ 721440 h 721080"/>
            </a:gdLst>
            <a:ahLst/>
            <a:rect l="textAreaLeft" t="textAreaTop" r="textAreaRight" b="textAreaBottom"/>
            <a:pathLst>
              <a:path w="3445" h="3445">
                <a:moveTo>
                  <a:pt x="0" y="1722"/>
                </a:moveTo>
                <a:lnTo>
                  <a:pt x="0" y="1722"/>
                </a:lnTo>
                <a:cubicBezTo>
                  <a:pt x="0" y="770"/>
                  <a:pt x="771" y="0"/>
                  <a:pt x="1722" y="0"/>
                </a:cubicBezTo>
                <a:cubicBezTo>
                  <a:pt x="2674" y="0"/>
                  <a:pt x="3445" y="770"/>
                  <a:pt x="3445" y="1722"/>
                </a:cubicBezTo>
                <a:cubicBezTo>
                  <a:pt x="3445" y="2673"/>
                  <a:pt x="2674" y="3445"/>
                  <a:pt x="1722" y="3445"/>
                </a:cubicBezTo>
                <a:cubicBezTo>
                  <a:pt x="771" y="3445"/>
                  <a:pt x="0" y="2673"/>
                  <a:pt x="0" y="1722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2" name="Freeform 30"/>
          <p:cNvSpPr/>
          <p:nvPr/>
        </p:nvSpPr>
        <p:spPr>
          <a:xfrm>
            <a:off x="6040440" y="1486080"/>
            <a:ext cx="719280" cy="720720"/>
          </a:xfrm>
          <a:custGeom>
            <a:avLst/>
            <a:gdLst>
              <a:gd name="textAreaLeft" fmla="*/ 0 w 719280"/>
              <a:gd name="textAreaRight" fmla="*/ 719640 w 7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3286" h="3285">
                <a:moveTo>
                  <a:pt x="0" y="1642"/>
                </a:moveTo>
                <a:lnTo>
                  <a:pt x="0" y="1642"/>
                </a:lnTo>
                <a:cubicBezTo>
                  <a:pt x="0" y="735"/>
                  <a:pt x="735" y="0"/>
                  <a:pt x="1643" y="0"/>
                </a:cubicBezTo>
                <a:cubicBezTo>
                  <a:pt x="2550" y="0"/>
                  <a:pt x="3286" y="735"/>
                  <a:pt x="3286" y="1642"/>
                </a:cubicBezTo>
                <a:cubicBezTo>
                  <a:pt x="3286" y="2550"/>
                  <a:pt x="2550" y="3285"/>
                  <a:pt x="1643" y="3285"/>
                </a:cubicBezTo>
                <a:cubicBezTo>
                  <a:pt x="735" y="3285"/>
                  <a:pt x="0" y="2550"/>
                  <a:pt x="0" y="1642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3" name="Freeform 39"/>
          <p:cNvSpPr/>
          <p:nvPr/>
        </p:nvSpPr>
        <p:spPr>
          <a:xfrm flipH="1" flipV="1">
            <a:off x="5419080" y="5052240"/>
            <a:ext cx="538200" cy="492120"/>
          </a:xfrm>
          <a:custGeom>
            <a:avLst/>
            <a:gdLst/>
            <a:ahLst/>
            <a:rect l="l" t="t" r="r" b="b"/>
            <a:pathLst>
              <a:path w="538811" h="369455">
                <a:moveTo>
                  <a:pt x="0" y="0"/>
                </a:moveTo>
                <a:lnTo>
                  <a:pt x="203993" y="0"/>
                </a:lnTo>
                <a:lnTo>
                  <a:pt x="538811" y="369455"/>
                </a:lnTo>
              </a:path>
            </a:pathLst>
          </a:custGeom>
          <a:noFill/>
          <a:ln w="6480">
            <a:solidFill>
              <a:srgbClr val="1b5d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4" name="Freeform 43"/>
          <p:cNvSpPr/>
          <p:nvPr/>
        </p:nvSpPr>
        <p:spPr>
          <a:xfrm>
            <a:off x="3186000" y="1846440"/>
            <a:ext cx="538200" cy="492120"/>
          </a:xfrm>
          <a:custGeom>
            <a:avLst/>
            <a:gdLst/>
            <a:ahLst/>
            <a:rect l="l" t="t" r="r" b="b"/>
            <a:pathLst>
              <a:path w="538811" h="369455">
                <a:moveTo>
                  <a:pt x="0" y="0"/>
                </a:moveTo>
                <a:lnTo>
                  <a:pt x="203993" y="0"/>
                </a:lnTo>
                <a:lnTo>
                  <a:pt x="538811" y="369455"/>
                </a:lnTo>
              </a:path>
            </a:pathLst>
          </a:custGeom>
          <a:noFill/>
          <a:ln w="6480">
            <a:solidFill>
              <a:srgbClr val="1b5d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5" name="Freeform 46"/>
          <p:cNvSpPr/>
          <p:nvPr/>
        </p:nvSpPr>
        <p:spPr>
          <a:xfrm flipV="1">
            <a:off x="3165480" y="5071320"/>
            <a:ext cx="539640" cy="493560"/>
          </a:xfrm>
          <a:custGeom>
            <a:avLst/>
            <a:gdLst/>
            <a:ahLst/>
            <a:rect l="l" t="t" r="r" b="b"/>
            <a:pathLst>
              <a:path w="538811" h="369455">
                <a:moveTo>
                  <a:pt x="0" y="0"/>
                </a:moveTo>
                <a:lnTo>
                  <a:pt x="203993" y="0"/>
                </a:lnTo>
                <a:lnTo>
                  <a:pt x="538811" y="369455"/>
                </a:lnTo>
              </a:path>
            </a:pathLst>
          </a:custGeom>
          <a:noFill/>
          <a:ln w="6480">
            <a:solidFill>
              <a:srgbClr val="1b5d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6" name="Straight Connector 47"/>
          <p:cNvSpPr/>
          <p:nvPr/>
        </p:nvSpPr>
        <p:spPr>
          <a:xfrm flipH="1">
            <a:off x="3220560" y="2928960"/>
            <a:ext cx="468360" cy="0"/>
          </a:xfrm>
          <a:prstGeom prst="line">
            <a:avLst/>
          </a:prstGeom>
          <a:ln w="6480">
            <a:solidFill>
              <a:srgbClr val="1b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7" name="Title 23"/>
          <p:cNvSpPr/>
          <p:nvPr/>
        </p:nvSpPr>
        <p:spPr>
          <a:xfrm>
            <a:off x="557280" y="139680"/>
            <a:ext cx="80294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Light"/>
                <a:ea typeface="Gotham Light"/>
              </a:rPr>
              <a:t>ПРИКАЗ</a:t>
            </a:r>
            <a:r>
              <a:rPr b="0" lang="en-US" sz="2800" spc="-1" strike="noStrike">
                <a:solidFill>
                  <a:srgbClr val="393939"/>
                </a:solidFill>
                <a:latin typeface="Lato Light"/>
                <a:ea typeface="Gotham Light"/>
              </a:rPr>
              <a:t>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УПРАВЛЕНИЯ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58" name="TextBox 38"/>
          <p:cNvSpPr/>
          <p:nvPr/>
        </p:nvSpPr>
        <p:spPr>
          <a:xfrm>
            <a:off x="0" y="2211840"/>
            <a:ext cx="234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лиц, уполномоченных на передачу документов в электронный архив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559" name="Picture 29" descr="C:\Users\designer\Desktop\ТЕКУЩЕЕ\презентация для минфина\утверждение орд.png"/>
          <p:cNvPicPr/>
          <p:nvPr/>
        </p:nvPicPr>
        <p:blipFill>
          <a:blip r:embed="rId1"/>
          <a:stretch/>
        </p:blipFill>
        <p:spPr>
          <a:xfrm>
            <a:off x="3975120" y="2535120"/>
            <a:ext cx="1163520" cy="187812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15"/>
          <p:cNvSpPr/>
          <p:nvPr/>
        </p:nvSpPr>
        <p:spPr>
          <a:xfrm>
            <a:off x="2395440" y="513540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952" h="2952">
                <a:moveTo>
                  <a:pt x="0" y="1475"/>
                </a:moveTo>
                <a:lnTo>
                  <a:pt x="0" y="1475"/>
                </a:lnTo>
                <a:cubicBezTo>
                  <a:pt x="0" y="660"/>
                  <a:pt x="660" y="0"/>
                  <a:pt x="1476" y="0"/>
                </a:cubicBezTo>
                <a:cubicBezTo>
                  <a:pt x="2291" y="0"/>
                  <a:pt x="2952" y="660"/>
                  <a:pt x="2952" y="1475"/>
                </a:cubicBezTo>
                <a:cubicBezTo>
                  <a:pt x="2952" y="2290"/>
                  <a:pt x="2291" y="2952"/>
                  <a:pt x="1476" y="2952"/>
                </a:cubicBezTo>
                <a:cubicBezTo>
                  <a:pt x="660" y="2952"/>
                  <a:pt x="0" y="2290"/>
                  <a:pt x="0" y="1475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1" name="Freeform 15"/>
          <p:cNvSpPr/>
          <p:nvPr/>
        </p:nvSpPr>
        <p:spPr>
          <a:xfrm>
            <a:off x="6040440" y="5133960"/>
            <a:ext cx="719280" cy="720720"/>
          </a:xfrm>
          <a:custGeom>
            <a:avLst/>
            <a:gdLst>
              <a:gd name="textAreaLeft" fmla="*/ 0 w 719280"/>
              <a:gd name="textAreaRight" fmla="*/ 719640 w 7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952" h="2952">
                <a:moveTo>
                  <a:pt x="0" y="1475"/>
                </a:moveTo>
                <a:lnTo>
                  <a:pt x="0" y="1475"/>
                </a:lnTo>
                <a:cubicBezTo>
                  <a:pt x="0" y="660"/>
                  <a:pt x="660" y="0"/>
                  <a:pt x="1476" y="0"/>
                </a:cubicBezTo>
                <a:cubicBezTo>
                  <a:pt x="2291" y="0"/>
                  <a:pt x="2952" y="660"/>
                  <a:pt x="2952" y="1475"/>
                </a:cubicBezTo>
                <a:cubicBezTo>
                  <a:pt x="2952" y="2290"/>
                  <a:pt x="2291" y="2952"/>
                  <a:pt x="1476" y="2952"/>
                </a:cubicBezTo>
                <a:cubicBezTo>
                  <a:pt x="660" y="2952"/>
                  <a:pt x="0" y="2290"/>
                  <a:pt x="0" y="1475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2" name="TextBox 47"/>
          <p:cNvSpPr/>
          <p:nvPr/>
        </p:nvSpPr>
        <p:spPr>
          <a:xfrm>
            <a:off x="0" y="3368520"/>
            <a:ext cx="23432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лиц, уполномоченных на обеспечение достоверности документов, размещенных в электронном архиве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3" name="TextBox 48"/>
          <p:cNvSpPr/>
          <p:nvPr/>
        </p:nvSpPr>
        <p:spPr>
          <a:xfrm>
            <a:off x="0" y="4426560"/>
            <a:ext cx="23432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лиц, уполномоченных на формирование электронного образа документа и его внесение в базу данных ППО, а также за достоверность размещенных в электронном архиве документов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4" name="Straight Connector 47"/>
          <p:cNvSpPr/>
          <p:nvPr/>
        </p:nvSpPr>
        <p:spPr>
          <a:xfrm flipH="1">
            <a:off x="3200040" y="4102200"/>
            <a:ext cx="468360" cy="0"/>
          </a:xfrm>
          <a:prstGeom prst="line">
            <a:avLst/>
          </a:prstGeom>
          <a:ln w="6480">
            <a:solidFill>
              <a:srgbClr val="1b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5" name="TextBox 50"/>
          <p:cNvSpPr/>
          <p:nvPr/>
        </p:nvSpPr>
        <p:spPr>
          <a:xfrm>
            <a:off x="6840360" y="1161000"/>
            <a:ext cx="23036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лиц, уполномоченных на формирование и заверение бумажной копии докумен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6840360" y="3250080"/>
            <a:ext cx="23036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лиц, уполномоченных на ведение электронного архива, его резервное копирование и восстановление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7" name="TextBox 52"/>
          <p:cNvSpPr/>
          <p:nvPr/>
        </p:nvSpPr>
        <p:spPr>
          <a:xfrm>
            <a:off x="6840360" y="2198520"/>
            <a:ext cx="23036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"/>
                <a:ea typeface="Gotham Medium"/>
              </a:rPr>
              <a:t>перечень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лиц, уполномоченных на хранение резервных копий электронного архив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8" name="TextBox 53"/>
          <p:cNvSpPr/>
          <p:nvPr/>
        </p:nvSpPr>
        <p:spPr>
          <a:xfrm>
            <a:off x="6840360" y="4755240"/>
            <a:ext cx="23036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полномочия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руктурных подразделений и их работников по доступу к соответствующим документам в электронном архиве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69" name="Straight Connector 47"/>
          <p:cNvSpPr/>
          <p:nvPr/>
        </p:nvSpPr>
        <p:spPr>
          <a:xfrm flipH="1">
            <a:off x="5443200" y="2928960"/>
            <a:ext cx="468360" cy="0"/>
          </a:xfrm>
          <a:prstGeom prst="line">
            <a:avLst/>
          </a:prstGeom>
          <a:ln w="6480">
            <a:solidFill>
              <a:srgbClr val="1b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70" name="Freeform 15"/>
          <p:cNvSpPr/>
          <p:nvPr/>
        </p:nvSpPr>
        <p:spPr>
          <a:xfrm>
            <a:off x="4208400" y="50022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952" h="2952">
                <a:moveTo>
                  <a:pt x="0" y="1475"/>
                </a:moveTo>
                <a:lnTo>
                  <a:pt x="0" y="1475"/>
                </a:lnTo>
                <a:cubicBezTo>
                  <a:pt x="0" y="660"/>
                  <a:pt x="660" y="0"/>
                  <a:pt x="1476" y="0"/>
                </a:cubicBezTo>
                <a:cubicBezTo>
                  <a:pt x="2291" y="0"/>
                  <a:pt x="2952" y="660"/>
                  <a:pt x="2952" y="1475"/>
                </a:cubicBezTo>
                <a:cubicBezTo>
                  <a:pt x="2952" y="2290"/>
                  <a:pt x="2291" y="2952"/>
                  <a:pt x="1476" y="2952"/>
                </a:cubicBezTo>
                <a:cubicBezTo>
                  <a:pt x="660" y="2952"/>
                  <a:pt x="0" y="2290"/>
                  <a:pt x="0" y="1475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71" name="TextBox 29"/>
          <p:cNvSpPr/>
          <p:nvPr/>
        </p:nvSpPr>
        <p:spPr>
          <a:xfrm>
            <a:off x="3044880" y="5745600"/>
            <a:ext cx="30448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Расширенная структура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дополнительная детализация уровней иерархии каталогов типовой структуры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72" name="Straight Connector 19"/>
          <p:cNvSpPr/>
          <p:nvPr/>
        </p:nvSpPr>
        <p:spPr>
          <a:xfrm flipH="1">
            <a:off x="4557240" y="4721400"/>
            <a:ext cx="1800" cy="207720"/>
          </a:xfrm>
          <a:prstGeom prst="line">
            <a:avLst/>
          </a:prstGeom>
          <a:ln w="6480">
            <a:solidFill>
              <a:srgbClr val="1b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73" name="Freeform 11"/>
          <p:cNvSpPr/>
          <p:nvPr/>
        </p:nvSpPr>
        <p:spPr>
          <a:xfrm>
            <a:off x="2468520" y="2535120"/>
            <a:ext cx="601560" cy="700200"/>
          </a:xfrm>
          <a:custGeom>
            <a:avLst/>
            <a:gdLst>
              <a:gd name="textAreaLeft" fmla="*/ 0 w 601560"/>
              <a:gd name="textAreaRight" fmla="*/ 601920 w 60156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431" h="2642">
                <a:moveTo>
                  <a:pt x="2181" y="556"/>
                </a:moveTo>
                <a:lnTo>
                  <a:pt x="2181" y="556"/>
                </a:lnTo>
                <a:lnTo>
                  <a:pt x="1534" y="556"/>
                </a:lnTo>
                <a:cubicBezTo>
                  <a:pt x="1396" y="556"/>
                  <a:pt x="1284" y="668"/>
                  <a:pt x="1284" y="806"/>
                </a:cubicBezTo>
                <a:lnTo>
                  <a:pt x="1284" y="1628"/>
                </a:lnTo>
                <a:cubicBezTo>
                  <a:pt x="1284" y="1688"/>
                  <a:pt x="1333" y="1737"/>
                  <a:pt x="1393" y="1737"/>
                </a:cubicBezTo>
                <a:cubicBezTo>
                  <a:pt x="1453" y="1737"/>
                  <a:pt x="1502" y="1688"/>
                  <a:pt x="1502" y="1628"/>
                </a:cubicBezTo>
                <a:lnTo>
                  <a:pt x="1502" y="937"/>
                </a:lnTo>
                <a:lnTo>
                  <a:pt x="1543" y="937"/>
                </a:lnTo>
                <a:lnTo>
                  <a:pt x="1543" y="2642"/>
                </a:lnTo>
                <a:cubicBezTo>
                  <a:pt x="1643" y="2620"/>
                  <a:pt x="1739" y="2588"/>
                  <a:pt x="1830" y="2547"/>
                </a:cubicBezTo>
                <a:lnTo>
                  <a:pt x="1830" y="1726"/>
                </a:lnTo>
                <a:lnTo>
                  <a:pt x="1881" y="1726"/>
                </a:lnTo>
                <a:lnTo>
                  <a:pt x="1881" y="2523"/>
                </a:lnTo>
                <a:cubicBezTo>
                  <a:pt x="1984" y="2473"/>
                  <a:pt x="2081" y="2411"/>
                  <a:pt x="2169" y="2339"/>
                </a:cubicBezTo>
                <a:lnTo>
                  <a:pt x="2169" y="937"/>
                </a:lnTo>
                <a:lnTo>
                  <a:pt x="2213" y="937"/>
                </a:lnTo>
                <a:lnTo>
                  <a:pt x="2213" y="1628"/>
                </a:lnTo>
                <a:cubicBezTo>
                  <a:pt x="2213" y="1688"/>
                  <a:pt x="2262" y="1737"/>
                  <a:pt x="2322" y="1737"/>
                </a:cubicBezTo>
                <a:cubicBezTo>
                  <a:pt x="2383" y="1737"/>
                  <a:pt x="2431" y="1688"/>
                  <a:pt x="2431" y="1628"/>
                </a:cubicBezTo>
                <a:lnTo>
                  <a:pt x="2431" y="806"/>
                </a:lnTo>
                <a:cubicBezTo>
                  <a:pt x="2431" y="668"/>
                  <a:pt x="2319" y="556"/>
                  <a:pt x="2181" y="556"/>
                </a:cubicBezTo>
                <a:close/>
                <a:moveTo>
                  <a:pt x="897" y="556"/>
                </a:moveTo>
                <a:lnTo>
                  <a:pt x="897" y="556"/>
                </a:lnTo>
                <a:lnTo>
                  <a:pt x="251" y="556"/>
                </a:lnTo>
                <a:cubicBezTo>
                  <a:pt x="112" y="556"/>
                  <a:pt x="0" y="668"/>
                  <a:pt x="0" y="806"/>
                </a:cubicBezTo>
                <a:lnTo>
                  <a:pt x="0" y="1628"/>
                </a:lnTo>
                <a:cubicBezTo>
                  <a:pt x="0" y="1688"/>
                  <a:pt x="49" y="1737"/>
                  <a:pt x="109" y="1737"/>
                </a:cubicBezTo>
                <a:cubicBezTo>
                  <a:pt x="170" y="1737"/>
                  <a:pt x="219" y="1688"/>
                  <a:pt x="219" y="1628"/>
                </a:cubicBezTo>
                <a:lnTo>
                  <a:pt x="219" y="937"/>
                </a:lnTo>
                <a:lnTo>
                  <a:pt x="259" y="937"/>
                </a:lnTo>
                <a:lnTo>
                  <a:pt x="259" y="2336"/>
                </a:lnTo>
                <a:cubicBezTo>
                  <a:pt x="347" y="2408"/>
                  <a:pt x="444" y="2471"/>
                  <a:pt x="547" y="2521"/>
                </a:cubicBezTo>
                <a:lnTo>
                  <a:pt x="547" y="1726"/>
                </a:lnTo>
                <a:lnTo>
                  <a:pt x="598" y="1726"/>
                </a:lnTo>
                <a:lnTo>
                  <a:pt x="598" y="2545"/>
                </a:lnTo>
                <a:cubicBezTo>
                  <a:pt x="689" y="2586"/>
                  <a:pt x="785" y="2619"/>
                  <a:pt x="886" y="2641"/>
                </a:cubicBezTo>
                <a:lnTo>
                  <a:pt x="886" y="937"/>
                </a:lnTo>
                <a:lnTo>
                  <a:pt x="929" y="937"/>
                </a:lnTo>
                <a:lnTo>
                  <a:pt x="929" y="1628"/>
                </a:lnTo>
                <a:cubicBezTo>
                  <a:pt x="929" y="1688"/>
                  <a:pt x="978" y="1737"/>
                  <a:pt x="1039" y="1737"/>
                </a:cubicBezTo>
                <a:cubicBezTo>
                  <a:pt x="1099" y="1737"/>
                  <a:pt x="1148" y="1688"/>
                  <a:pt x="1148" y="1628"/>
                </a:cubicBezTo>
                <a:lnTo>
                  <a:pt x="1148" y="806"/>
                </a:lnTo>
                <a:cubicBezTo>
                  <a:pt x="1148" y="668"/>
                  <a:pt x="1036" y="556"/>
                  <a:pt x="897" y="556"/>
                </a:cubicBezTo>
                <a:close/>
                <a:moveTo>
                  <a:pt x="1855" y="501"/>
                </a:moveTo>
                <a:lnTo>
                  <a:pt x="1855" y="501"/>
                </a:lnTo>
                <a:cubicBezTo>
                  <a:pt x="1993" y="501"/>
                  <a:pt x="2105" y="389"/>
                  <a:pt x="2105" y="251"/>
                </a:cubicBezTo>
                <a:cubicBezTo>
                  <a:pt x="2105" y="112"/>
                  <a:pt x="1993" y="0"/>
                  <a:pt x="1855" y="0"/>
                </a:cubicBezTo>
                <a:cubicBezTo>
                  <a:pt x="1716" y="0"/>
                  <a:pt x="1604" y="112"/>
                  <a:pt x="1604" y="251"/>
                </a:cubicBezTo>
                <a:cubicBezTo>
                  <a:pt x="1604" y="389"/>
                  <a:pt x="1716" y="501"/>
                  <a:pt x="1855" y="501"/>
                </a:cubicBezTo>
                <a:close/>
                <a:moveTo>
                  <a:pt x="571" y="501"/>
                </a:moveTo>
                <a:lnTo>
                  <a:pt x="571" y="501"/>
                </a:lnTo>
                <a:cubicBezTo>
                  <a:pt x="710" y="501"/>
                  <a:pt x="822" y="389"/>
                  <a:pt x="822" y="251"/>
                </a:cubicBezTo>
                <a:cubicBezTo>
                  <a:pt x="822" y="112"/>
                  <a:pt x="710" y="0"/>
                  <a:pt x="571" y="0"/>
                </a:cubicBezTo>
                <a:cubicBezTo>
                  <a:pt x="433" y="0"/>
                  <a:pt x="320" y="112"/>
                  <a:pt x="320" y="251"/>
                </a:cubicBezTo>
                <a:cubicBezTo>
                  <a:pt x="320" y="389"/>
                  <a:pt x="433" y="501"/>
                  <a:pt x="571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74" name="Freeform 26"/>
          <p:cNvSpPr/>
          <p:nvPr/>
        </p:nvSpPr>
        <p:spPr>
          <a:xfrm>
            <a:off x="2471760" y="1574640"/>
            <a:ext cx="598320" cy="617760"/>
          </a:xfrm>
          <a:custGeom>
            <a:avLst/>
            <a:gdLst>
              <a:gd name="textAreaLeft" fmla="*/ 0 w 598320"/>
              <a:gd name="textAreaRight" fmla="*/ 598680 w 598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2327" h="2330">
                <a:moveTo>
                  <a:pt x="884" y="1840"/>
                </a:moveTo>
                <a:lnTo>
                  <a:pt x="884" y="1840"/>
                </a:lnTo>
                <a:cubicBezTo>
                  <a:pt x="666" y="1840"/>
                  <a:pt x="490" y="1664"/>
                  <a:pt x="490" y="1446"/>
                </a:cubicBezTo>
                <a:cubicBezTo>
                  <a:pt x="490" y="1227"/>
                  <a:pt x="666" y="1051"/>
                  <a:pt x="884" y="1051"/>
                </a:cubicBezTo>
                <a:cubicBezTo>
                  <a:pt x="1103" y="1051"/>
                  <a:pt x="1279" y="1227"/>
                  <a:pt x="1279" y="1446"/>
                </a:cubicBezTo>
                <a:cubicBezTo>
                  <a:pt x="1279" y="1664"/>
                  <a:pt x="1103" y="1840"/>
                  <a:pt x="884" y="1840"/>
                </a:cubicBezTo>
                <a:close/>
                <a:moveTo>
                  <a:pt x="1676" y="1050"/>
                </a:moveTo>
                <a:lnTo>
                  <a:pt x="1676" y="1050"/>
                </a:lnTo>
                <a:lnTo>
                  <a:pt x="1453" y="1090"/>
                </a:lnTo>
                <a:cubicBezTo>
                  <a:pt x="1401" y="1008"/>
                  <a:pt x="1332" y="938"/>
                  <a:pt x="1252" y="885"/>
                </a:cubicBezTo>
                <a:lnTo>
                  <a:pt x="1292" y="661"/>
                </a:lnTo>
                <a:cubicBezTo>
                  <a:pt x="1222" y="624"/>
                  <a:pt x="1147" y="597"/>
                  <a:pt x="1067" y="580"/>
                </a:cubicBezTo>
                <a:lnTo>
                  <a:pt x="961" y="779"/>
                </a:lnTo>
                <a:cubicBezTo>
                  <a:pt x="936" y="777"/>
                  <a:pt x="910" y="775"/>
                  <a:pt x="884" y="775"/>
                </a:cubicBezTo>
                <a:cubicBezTo>
                  <a:pt x="809" y="775"/>
                  <a:pt x="736" y="788"/>
                  <a:pt x="669" y="811"/>
                </a:cubicBezTo>
                <a:lnTo>
                  <a:pt x="518" y="640"/>
                </a:lnTo>
                <a:cubicBezTo>
                  <a:pt x="446" y="673"/>
                  <a:pt x="378" y="716"/>
                  <a:pt x="318" y="767"/>
                </a:cubicBezTo>
                <a:lnTo>
                  <a:pt x="408" y="974"/>
                </a:lnTo>
                <a:cubicBezTo>
                  <a:pt x="340" y="1042"/>
                  <a:pt x="287" y="1126"/>
                  <a:pt x="253" y="1219"/>
                </a:cubicBezTo>
                <a:lnTo>
                  <a:pt x="27" y="1228"/>
                </a:lnTo>
                <a:cubicBezTo>
                  <a:pt x="9" y="1297"/>
                  <a:pt x="0" y="1370"/>
                  <a:pt x="0" y="1446"/>
                </a:cubicBezTo>
                <a:cubicBezTo>
                  <a:pt x="0" y="1451"/>
                  <a:pt x="0" y="1457"/>
                  <a:pt x="0" y="1463"/>
                </a:cubicBezTo>
                <a:lnTo>
                  <a:pt x="219" y="1523"/>
                </a:lnTo>
                <a:cubicBezTo>
                  <a:pt x="231" y="1628"/>
                  <a:pt x="267" y="1725"/>
                  <a:pt x="321" y="1809"/>
                </a:cubicBezTo>
                <a:lnTo>
                  <a:pt x="190" y="1993"/>
                </a:lnTo>
                <a:cubicBezTo>
                  <a:pt x="239" y="2055"/>
                  <a:pt x="296" y="2111"/>
                  <a:pt x="360" y="2158"/>
                </a:cubicBezTo>
                <a:lnTo>
                  <a:pt x="543" y="2022"/>
                </a:lnTo>
                <a:cubicBezTo>
                  <a:pt x="624" y="2070"/>
                  <a:pt x="716" y="2102"/>
                  <a:pt x="814" y="2112"/>
                </a:cubicBezTo>
                <a:lnTo>
                  <a:pt x="875" y="2330"/>
                </a:lnTo>
                <a:cubicBezTo>
                  <a:pt x="878" y="2330"/>
                  <a:pt x="881" y="2330"/>
                  <a:pt x="884" y="2330"/>
                </a:cubicBezTo>
                <a:cubicBezTo>
                  <a:pt x="963" y="2330"/>
                  <a:pt x="1039" y="2319"/>
                  <a:pt x="1112" y="2300"/>
                </a:cubicBezTo>
                <a:lnTo>
                  <a:pt x="1121" y="2073"/>
                </a:lnTo>
                <a:cubicBezTo>
                  <a:pt x="1208" y="2040"/>
                  <a:pt x="1287" y="1989"/>
                  <a:pt x="1352" y="1925"/>
                </a:cubicBezTo>
                <a:lnTo>
                  <a:pt x="1560" y="2016"/>
                </a:lnTo>
                <a:cubicBezTo>
                  <a:pt x="1612" y="1955"/>
                  <a:pt x="1655" y="1886"/>
                  <a:pt x="1689" y="1813"/>
                </a:cubicBezTo>
                <a:lnTo>
                  <a:pt x="1519" y="1662"/>
                </a:lnTo>
                <a:cubicBezTo>
                  <a:pt x="1542" y="1594"/>
                  <a:pt x="1555" y="1521"/>
                  <a:pt x="1555" y="1446"/>
                </a:cubicBezTo>
                <a:cubicBezTo>
                  <a:pt x="1555" y="1425"/>
                  <a:pt x="1554" y="1404"/>
                  <a:pt x="1552" y="1384"/>
                </a:cubicBezTo>
                <a:lnTo>
                  <a:pt x="1753" y="1278"/>
                </a:lnTo>
                <a:cubicBezTo>
                  <a:pt x="1737" y="1197"/>
                  <a:pt x="1711" y="1121"/>
                  <a:pt x="1676" y="1050"/>
                </a:cubicBezTo>
                <a:close/>
                <a:moveTo>
                  <a:pt x="1793" y="698"/>
                </a:moveTo>
                <a:lnTo>
                  <a:pt x="1793" y="698"/>
                </a:lnTo>
                <a:cubicBezTo>
                  <a:pt x="1702" y="698"/>
                  <a:pt x="1629" y="625"/>
                  <a:pt x="1629" y="534"/>
                </a:cubicBezTo>
                <a:cubicBezTo>
                  <a:pt x="1629" y="444"/>
                  <a:pt x="1702" y="370"/>
                  <a:pt x="1793" y="370"/>
                </a:cubicBezTo>
                <a:cubicBezTo>
                  <a:pt x="1884" y="370"/>
                  <a:pt x="1957" y="444"/>
                  <a:pt x="1957" y="534"/>
                </a:cubicBezTo>
                <a:cubicBezTo>
                  <a:pt x="1957" y="625"/>
                  <a:pt x="1884" y="698"/>
                  <a:pt x="1793" y="698"/>
                </a:cubicBezTo>
                <a:close/>
                <a:moveTo>
                  <a:pt x="2294" y="349"/>
                </a:moveTo>
                <a:lnTo>
                  <a:pt x="2294" y="349"/>
                </a:lnTo>
                <a:lnTo>
                  <a:pt x="2145" y="355"/>
                </a:lnTo>
                <a:cubicBezTo>
                  <a:pt x="2108" y="283"/>
                  <a:pt x="2049" y="223"/>
                  <a:pt x="1977" y="185"/>
                </a:cubicBezTo>
                <a:lnTo>
                  <a:pt x="1985" y="36"/>
                </a:lnTo>
                <a:cubicBezTo>
                  <a:pt x="1926" y="13"/>
                  <a:pt x="1861" y="0"/>
                  <a:pt x="1793" y="0"/>
                </a:cubicBezTo>
                <a:cubicBezTo>
                  <a:pt x="1785" y="0"/>
                  <a:pt x="1778" y="1"/>
                  <a:pt x="1770" y="1"/>
                </a:cubicBezTo>
                <a:lnTo>
                  <a:pt x="1730" y="145"/>
                </a:lnTo>
                <a:cubicBezTo>
                  <a:pt x="1648" y="158"/>
                  <a:pt x="1574" y="196"/>
                  <a:pt x="1517" y="252"/>
                </a:cubicBezTo>
                <a:lnTo>
                  <a:pt x="1378" y="199"/>
                </a:lnTo>
                <a:cubicBezTo>
                  <a:pt x="1332" y="255"/>
                  <a:pt x="1298" y="321"/>
                  <a:pt x="1278" y="392"/>
                </a:cubicBezTo>
                <a:lnTo>
                  <a:pt x="1403" y="474"/>
                </a:lnTo>
                <a:cubicBezTo>
                  <a:pt x="1400" y="494"/>
                  <a:pt x="1398" y="514"/>
                  <a:pt x="1398" y="534"/>
                </a:cubicBezTo>
                <a:cubicBezTo>
                  <a:pt x="1398" y="599"/>
                  <a:pt x="1414" y="659"/>
                  <a:pt x="1441" y="713"/>
                </a:cubicBezTo>
                <a:lnTo>
                  <a:pt x="1348" y="830"/>
                </a:lnTo>
                <a:cubicBezTo>
                  <a:pt x="1389" y="891"/>
                  <a:pt x="1441" y="943"/>
                  <a:pt x="1503" y="983"/>
                </a:cubicBezTo>
                <a:lnTo>
                  <a:pt x="1619" y="889"/>
                </a:lnTo>
                <a:cubicBezTo>
                  <a:pt x="1671" y="915"/>
                  <a:pt x="1730" y="929"/>
                  <a:pt x="1793" y="929"/>
                </a:cubicBezTo>
                <a:cubicBezTo>
                  <a:pt x="1812" y="929"/>
                  <a:pt x="1831" y="928"/>
                  <a:pt x="1849" y="925"/>
                </a:cubicBezTo>
                <a:lnTo>
                  <a:pt x="1930" y="1051"/>
                </a:lnTo>
                <a:cubicBezTo>
                  <a:pt x="2002" y="1032"/>
                  <a:pt x="2068" y="998"/>
                  <a:pt x="2124" y="953"/>
                </a:cubicBezTo>
                <a:lnTo>
                  <a:pt x="2073" y="813"/>
                </a:lnTo>
                <a:cubicBezTo>
                  <a:pt x="2129" y="757"/>
                  <a:pt x="2168" y="684"/>
                  <a:pt x="2182" y="602"/>
                </a:cubicBezTo>
                <a:lnTo>
                  <a:pt x="2326" y="564"/>
                </a:lnTo>
                <a:cubicBezTo>
                  <a:pt x="2327" y="554"/>
                  <a:pt x="2327" y="544"/>
                  <a:pt x="2327" y="534"/>
                </a:cubicBezTo>
                <a:cubicBezTo>
                  <a:pt x="2327" y="469"/>
                  <a:pt x="2315" y="407"/>
                  <a:pt x="2294" y="3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75" name="Freeform 21"/>
          <p:cNvSpPr/>
          <p:nvPr/>
        </p:nvSpPr>
        <p:spPr>
          <a:xfrm>
            <a:off x="6208560" y="5248440"/>
            <a:ext cx="408240" cy="542880"/>
          </a:xfrm>
          <a:custGeom>
            <a:avLst/>
            <a:gdLst>
              <a:gd name="textAreaLeft" fmla="*/ 0 w 408240"/>
              <a:gd name="textAreaRight" fmla="*/ 408600 w 408240"/>
              <a:gd name="textAreaTop" fmla="*/ 0 h 542880"/>
              <a:gd name="textAreaBottom" fmla="*/ 542880 h 542880"/>
            </a:gdLst>
            <a:ahLst/>
            <a:rect l="textAreaLeft" t="textAreaTop" r="textAreaRight" b="textAreaBottom"/>
            <a:pathLst>
              <a:path w="2574" h="2983">
                <a:moveTo>
                  <a:pt x="2122" y="2073"/>
                </a:moveTo>
                <a:lnTo>
                  <a:pt x="2122" y="2073"/>
                </a:lnTo>
                <a:lnTo>
                  <a:pt x="2122" y="1373"/>
                </a:lnTo>
                <a:lnTo>
                  <a:pt x="1287" y="1373"/>
                </a:lnTo>
                <a:lnTo>
                  <a:pt x="1287" y="2485"/>
                </a:lnTo>
                <a:lnTo>
                  <a:pt x="2122" y="2073"/>
                </a:lnTo>
                <a:close/>
                <a:moveTo>
                  <a:pt x="2338" y="2199"/>
                </a:moveTo>
                <a:lnTo>
                  <a:pt x="2338" y="2199"/>
                </a:lnTo>
                <a:lnTo>
                  <a:pt x="1287" y="2733"/>
                </a:lnTo>
                <a:lnTo>
                  <a:pt x="236" y="2199"/>
                </a:lnTo>
                <a:lnTo>
                  <a:pt x="236" y="236"/>
                </a:lnTo>
                <a:lnTo>
                  <a:pt x="2338" y="236"/>
                </a:lnTo>
                <a:lnTo>
                  <a:pt x="2338" y="2199"/>
                </a:lnTo>
                <a:close/>
                <a:moveTo>
                  <a:pt x="2456" y="0"/>
                </a:moveTo>
                <a:lnTo>
                  <a:pt x="2456" y="0"/>
                </a:lnTo>
                <a:lnTo>
                  <a:pt x="118" y="0"/>
                </a:lnTo>
                <a:cubicBezTo>
                  <a:pt x="53" y="0"/>
                  <a:pt x="0" y="53"/>
                  <a:pt x="0" y="118"/>
                </a:cubicBezTo>
                <a:lnTo>
                  <a:pt x="0" y="2272"/>
                </a:lnTo>
                <a:cubicBezTo>
                  <a:pt x="0" y="2316"/>
                  <a:pt x="25" y="2357"/>
                  <a:pt x="64" y="2377"/>
                </a:cubicBezTo>
                <a:lnTo>
                  <a:pt x="1233" y="2970"/>
                </a:lnTo>
                <a:cubicBezTo>
                  <a:pt x="1250" y="2978"/>
                  <a:pt x="1269" y="2983"/>
                  <a:pt x="1287" y="2983"/>
                </a:cubicBezTo>
                <a:cubicBezTo>
                  <a:pt x="1305" y="2983"/>
                  <a:pt x="1323" y="2978"/>
                  <a:pt x="1340" y="2970"/>
                </a:cubicBezTo>
                <a:lnTo>
                  <a:pt x="2509" y="2377"/>
                </a:lnTo>
                <a:cubicBezTo>
                  <a:pt x="2549" y="2357"/>
                  <a:pt x="2574" y="2316"/>
                  <a:pt x="2574" y="2272"/>
                </a:cubicBezTo>
                <a:lnTo>
                  <a:pt x="2574" y="118"/>
                </a:lnTo>
                <a:cubicBezTo>
                  <a:pt x="2574" y="53"/>
                  <a:pt x="2521" y="0"/>
                  <a:pt x="2456" y="0"/>
                </a:cubicBezTo>
                <a:close/>
                <a:moveTo>
                  <a:pt x="1287" y="452"/>
                </a:moveTo>
                <a:lnTo>
                  <a:pt x="1287" y="452"/>
                </a:lnTo>
                <a:lnTo>
                  <a:pt x="452" y="452"/>
                </a:lnTo>
                <a:lnTo>
                  <a:pt x="452" y="1373"/>
                </a:lnTo>
                <a:lnTo>
                  <a:pt x="1287" y="1373"/>
                </a:lnTo>
                <a:lnTo>
                  <a:pt x="1287" y="4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576" name="Рисунок 279" descr="clipping unknow.png"/>
          <p:cNvPicPr/>
          <p:nvPr/>
        </p:nvPicPr>
        <p:blipFill>
          <a:blip r:embed="rId2"/>
          <a:stretch/>
        </p:blipFill>
        <p:spPr>
          <a:xfrm>
            <a:off x="2517840" y="5194440"/>
            <a:ext cx="225360" cy="395280"/>
          </a:xfrm>
          <a:prstGeom prst="rect">
            <a:avLst/>
          </a:prstGeom>
          <a:ln w="0">
            <a:noFill/>
          </a:ln>
        </p:spPr>
      </p:pic>
      <p:pic>
        <p:nvPicPr>
          <p:cNvPr id="1577" name="Рисунок 279" descr="clipping unknow.png"/>
          <p:cNvPicPr/>
          <p:nvPr/>
        </p:nvPicPr>
        <p:blipFill>
          <a:blip r:embed="rId3"/>
          <a:stretch/>
        </p:blipFill>
        <p:spPr>
          <a:xfrm>
            <a:off x="2525760" y="5259240"/>
            <a:ext cx="228600" cy="395280"/>
          </a:xfrm>
          <a:prstGeom prst="rect">
            <a:avLst/>
          </a:prstGeom>
          <a:ln w="0">
            <a:noFill/>
          </a:ln>
        </p:spPr>
      </p:pic>
      <p:sp>
        <p:nvSpPr>
          <p:cNvPr id="1578" name="Freeform 10"/>
          <p:cNvSpPr/>
          <p:nvPr/>
        </p:nvSpPr>
        <p:spPr>
          <a:xfrm>
            <a:off x="2678040" y="5481720"/>
            <a:ext cx="320760" cy="307800"/>
          </a:xfrm>
          <a:custGeom>
            <a:avLst/>
            <a:gdLst>
              <a:gd name="textAreaLeft" fmla="*/ 0 w 320760"/>
              <a:gd name="textAreaRight" fmla="*/ 321120 w 3207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444" h="1342">
                <a:moveTo>
                  <a:pt x="2380" y="1214"/>
                </a:moveTo>
                <a:lnTo>
                  <a:pt x="2380" y="1214"/>
                </a:lnTo>
                <a:lnTo>
                  <a:pt x="1408" y="1214"/>
                </a:lnTo>
                <a:cubicBezTo>
                  <a:pt x="1408" y="1244"/>
                  <a:pt x="1383" y="1269"/>
                  <a:pt x="1352" y="1269"/>
                </a:cubicBezTo>
                <a:lnTo>
                  <a:pt x="1060" y="1269"/>
                </a:lnTo>
                <a:cubicBezTo>
                  <a:pt x="1029" y="1269"/>
                  <a:pt x="1004" y="1244"/>
                  <a:pt x="1004" y="1214"/>
                </a:cubicBezTo>
                <a:lnTo>
                  <a:pt x="64" y="1214"/>
                </a:lnTo>
                <a:cubicBezTo>
                  <a:pt x="28" y="1214"/>
                  <a:pt x="0" y="1242"/>
                  <a:pt x="0" y="1278"/>
                </a:cubicBezTo>
                <a:cubicBezTo>
                  <a:pt x="0" y="1313"/>
                  <a:pt x="28" y="1342"/>
                  <a:pt x="64" y="1342"/>
                </a:cubicBezTo>
                <a:lnTo>
                  <a:pt x="2380" y="1342"/>
                </a:lnTo>
                <a:cubicBezTo>
                  <a:pt x="2416" y="1342"/>
                  <a:pt x="2444" y="1313"/>
                  <a:pt x="2444" y="1278"/>
                </a:cubicBezTo>
                <a:cubicBezTo>
                  <a:pt x="2444" y="1242"/>
                  <a:pt x="2416" y="1214"/>
                  <a:pt x="2380" y="1214"/>
                </a:cubicBezTo>
                <a:close/>
                <a:moveTo>
                  <a:pt x="342" y="99"/>
                </a:moveTo>
                <a:lnTo>
                  <a:pt x="342" y="99"/>
                </a:lnTo>
                <a:lnTo>
                  <a:pt x="2075" y="99"/>
                </a:lnTo>
                <a:lnTo>
                  <a:pt x="2075" y="1063"/>
                </a:lnTo>
                <a:lnTo>
                  <a:pt x="342" y="1063"/>
                </a:lnTo>
                <a:lnTo>
                  <a:pt x="342" y="99"/>
                </a:lnTo>
                <a:close/>
                <a:moveTo>
                  <a:pt x="288" y="1162"/>
                </a:moveTo>
                <a:lnTo>
                  <a:pt x="288" y="1162"/>
                </a:lnTo>
                <a:lnTo>
                  <a:pt x="2124" y="1162"/>
                </a:lnTo>
                <a:cubicBezTo>
                  <a:pt x="2163" y="1162"/>
                  <a:pt x="2191" y="1128"/>
                  <a:pt x="2191" y="1090"/>
                </a:cubicBezTo>
                <a:lnTo>
                  <a:pt x="2191" y="66"/>
                </a:lnTo>
                <a:cubicBezTo>
                  <a:pt x="2191" y="28"/>
                  <a:pt x="2163" y="0"/>
                  <a:pt x="2124" y="0"/>
                </a:cubicBezTo>
                <a:lnTo>
                  <a:pt x="288" y="0"/>
                </a:lnTo>
                <a:cubicBezTo>
                  <a:pt x="249" y="0"/>
                  <a:pt x="221" y="28"/>
                  <a:pt x="221" y="66"/>
                </a:cubicBezTo>
                <a:lnTo>
                  <a:pt x="221" y="1090"/>
                </a:lnTo>
                <a:cubicBezTo>
                  <a:pt x="221" y="1128"/>
                  <a:pt x="249" y="1162"/>
                  <a:pt x="288" y="1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579" name="Рисунок 279" descr="clipping unknow.png"/>
          <p:cNvPicPr/>
          <p:nvPr/>
        </p:nvPicPr>
        <p:blipFill>
          <a:blip r:embed="rId4"/>
          <a:stretch/>
        </p:blipFill>
        <p:spPr>
          <a:xfrm>
            <a:off x="2541600" y="5318280"/>
            <a:ext cx="225360" cy="395280"/>
          </a:xfrm>
          <a:prstGeom prst="rect">
            <a:avLst/>
          </a:prstGeom>
          <a:ln w="0">
            <a:noFill/>
          </a:ln>
        </p:spPr>
      </p:pic>
      <p:sp>
        <p:nvSpPr>
          <p:cNvPr id="1580" name="Freeform 6"/>
          <p:cNvSpPr/>
          <p:nvPr/>
        </p:nvSpPr>
        <p:spPr>
          <a:xfrm>
            <a:off x="2773440" y="4070520"/>
            <a:ext cx="237960" cy="272880"/>
          </a:xfrm>
          <a:custGeom>
            <a:avLst/>
            <a:gdLst>
              <a:gd name="textAreaLeft" fmla="*/ 0 w 237960"/>
              <a:gd name="textAreaRight" fmla="*/ 238320 w 2379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581" name="Рисунок 279" descr="clipping unknow.png"/>
          <p:cNvPicPr/>
          <p:nvPr/>
        </p:nvPicPr>
        <p:blipFill>
          <a:blip r:embed="rId5"/>
          <a:stretch/>
        </p:blipFill>
        <p:spPr>
          <a:xfrm>
            <a:off x="2516040" y="3753000"/>
            <a:ext cx="225720" cy="396720"/>
          </a:xfrm>
          <a:prstGeom prst="rect">
            <a:avLst/>
          </a:prstGeom>
          <a:ln w="0">
            <a:noFill/>
          </a:ln>
        </p:spPr>
      </p:pic>
      <p:pic>
        <p:nvPicPr>
          <p:cNvPr id="1582" name="Рисунок 279" descr="clipping unknow.png"/>
          <p:cNvPicPr/>
          <p:nvPr/>
        </p:nvPicPr>
        <p:blipFill>
          <a:blip r:embed="rId6"/>
          <a:stretch/>
        </p:blipFill>
        <p:spPr>
          <a:xfrm>
            <a:off x="2533680" y="3835440"/>
            <a:ext cx="225360" cy="396720"/>
          </a:xfrm>
          <a:prstGeom prst="rect">
            <a:avLst/>
          </a:prstGeom>
          <a:ln w="0">
            <a:noFill/>
          </a:ln>
        </p:spPr>
      </p:pic>
      <p:pic>
        <p:nvPicPr>
          <p:cNvPr id="1583" name="Рисунок 279" descr="clipping unknow.png"/>
          <p:cNvPicPr/>
          <p:nvPr/>
        </p:nvPicPr>
        <p:blipFill>
          <a:blip r:embed="rId7"/>
          <a:stretch/>
        </p:blipFill>
        <p:spPr>
          <a:xfrm>
            <a:off x="2552760" y="3930480"/>
            <a:ext cx="226800" cy="397080"/>
          </a:xfrm>
          <a:prstGeom prst="rect">
            <a:avLst/>
          </a:prstGeom>
          <a:ln w="0">
            <a:noFill/>
          </a:ln>
        </p:spPr>
      </p:pic>
      <p:pic>
        <p:nvPicPr>
          <p:cNvPr id="1584" name="Рисунок 3" descr=""/>
          <p:cNvPicPr/>
          <p:nvPr/>
        </p:nvPicPr>
        <p:blipFill>
          <a:blip r:embed="rId8"/>
          <a:stretch/>
        </p:blipFill>
        <p:spPr>
          <a:xfrm>
            <a:off x="6245280" y="1521000"/>
            <a:ext cx="444600" cy="61884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7"/>
          <p:cNvSpPr/>
          <p:nvPr/>
        </p:nvSpPr>
        <p:spPr>
          <a:xfrm>
            <a:off x="6211800" y="1930320"/>
            <a:ext cx="174600" cy="246240"/>
          </a:xfrm>
          <a:custGeom>
            <a:avLst/>
            <a:gdLst>
              <a:gd name="textAreaLeft" fmla="*/ 0 w 174600"/>
              <a:gd name="textAreaRight" fmla="*/ 174960 w 1746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962" h="2476">
                <a:moveTo>
                  <a:pt x="997" y="1719"/>
                </a:moveTo>
                <a:lnTo>
                  <a:pt x="997" y="1719"/>
                </a:lnTo>
                <a:cubicBezTo>
                  <a:pt x="567" y="1719"/>
                  <a:pt x="218" y="1370"/>
                  <a:pt x="218" y="940"/>
                </a:cubicBezTo>
                <a:cubicBezTo>
                  <a:pt x="218" y="509"/>
                  <a:pt x="567" y="161"/>
                  <a:pt x="997" y="161"/>
                </a:cubicBezTo>
                <a:cubicBezTo>
                  <a:pt x="1428" y="161"/>
                  <a:pt x="1777" y="509"/>
                  <a:pt x="1777" y="940"/>
                </a:cubicBezTo>
                <a:cubicBezTo>
                  <a:pt x="1777" y="1370"/>
                  <a:pt x="1428" y="1719"/>
                  <a:pt x="997" y="1719"/>
                </a:cubicBezTo>
                <a:close/>
                <a:moveTo>
                  <a:pt x="1863" y="1050"/>
                </a:moveTo>
                <a:lnTo>
                  <a:pt x="1863" y="1050"/>
                </a:lnTo>
                <a:lnTo>
                  <a:pt x="1962" y="959"/>
                </a:lnTo>
                <a:lnTo>
                  <a:pt x="1863" y="868"/>
                </a:lnTo>
                <a:lnTo>
                  <a:pt x="1941" y="759"/>
                </a:lnTo>
                <a:lnTo>
                  <a:pt x="1825" y="690"/>
                </a:lnTo>
                <a:lnTo>
                  <a:pt x="1878" y="567"/>
                </a:lnTo>
                <a:lnTo>
                  <a:pt x="1752" y="524"/>
                </a:lnTo>
                <a:lnTo>
                  <a:pt x="1778" y="393"/>
                </a:lnTo>
                <a:lnTo>
                  <a:pt x="1644" y="377"/>
                </a:lnTo>
                <a:lnTo>
                  <a:pt x="1643" y="243"/>
                </a:lnTo>
                <a:lnTo>
                  <a:pt x="1509" y="255"/>
                </a:lnTo>
                <a:lnTo>
                  <a:pt x="1480" y="124"/>
                </a:lnTo>
                <a:lnTo>
                  <a:pt x="1352" y="164"/>
                </a:lnTo>
                <a:lnTo>
                  <a:pt x="1295" y="42"/>
                </a:lnTo>
                <a:lnTo>
                  <a:pt x="1178" y="108"/>
                </a:lnTo>
                <a:lnTo>
                  <a:pt x="1098" y="0"/>
                </a:lnTo>
                <a:lnTo>
                  <a:pt x="997" y="89"/>
                </a:lnTo>
                <a:lnTo>
                  <a:pt x="897" y="0"/>
                </a:lnTo>
                <a:lnTo>
                  <a:pt x="816" y="108"/>
                </a:lnTo>
                <a:lnTo>
                  <a:pt x="699" y="42"/>
                </a:lnTo>
                <a:lnTo>
                  <a:pt x="643" y="164"/>
                </a:lnTo>
                <a:lnTo>
                  <a:pt x="515" y="124"/>
                </a:lnTo>
                <a:lnTo>
                  <a:pt x="486" y="255"/>
                </a:lnTo>
                <a:lnTo>
                  <a:pt x="352" y="243"/>
                </a:lnTo>
                <a:lnTo>
                  <a:pt x="350" y="377"/>
                </a:lnTo>
                <a:lnTo>
                  <a:pt x="217" y="393"/>
                </a:lnTo>
                <a:lnTo>
                  <a:pt x="243" y="524"/>
                </a:lnTo>
                <a:lnTo>
                  <a:pt x="116" y="567"/>
                </a:lnTo>
                <a:lnTo>
                  <a:pt x="169" y="690"/>
                </a:lnTo>
                <a:lnTo>
                  <a:pt x="54" y="759"/>
                </a:lnTo>
                <a:lnTo>
                  <a:pt x="131" y="868"/>
                </a:lnTo>
                <a:lnTo>
                  <a:pt x="33" y="959"/>
                </a:lnTo>
                <a:lnTo>
                  <a:pt x="131" y="1050"/>
                </a:lnTo>
                <a:lnTo>
                  <a:pt x="54" y="1160"/>
                </a:lnTo>
                <a:lnTo>
                  <a:pt x="169" y="1229"/>
                </a:lnTo>
                <a:lnTo>
                  <a:pt x="116" y="1352"/>
                </a:lnTo>
                <a:lnTo>
                  <a:pt x="243" y="1395"/>
                </a:lnTo>
                <a:lnTo>
                  <a:pt x="217" y="1526"/>
                </a:lnTo>
                <a:lnTo>
                  <a:pt x="299" y="1536"/>
                </a:lnTo>
                <a:lnTo>
                  <a:pt x="0" y="2152"/>
                </a:lnTo>
                <a:lnTo>
                  <a:pt x="398" y="2170"/>
                </a:lnTo>
                <a:lnTo>
                  <a:pt x="666" y="2476"/>
                </a:lnTo>
                <a:lnTo>
                  <a:pt x="966" y="1858"/>
                </a:lnTo>
                <a:lnTo>
                  <a:pt x="997" y="1830"/>
                </a:lnTo>
                <a:lnTo>
                  <a:pt x="1039" y="1867"/>
                </a:lnTo>
                <a:lnTo>
                  <a:pt x="1247" y="2324"/>
                </a:lnTo>
                <a:lnTo>
                  <a:pt x="1495" y="2038"/>
                </a:lnTo>
                <a:lnTo>
                  <a:pt x="1881" y="2036"/>
                </a:lnTo>
                <a:lnTo>
                  <a:pt x="1656" y="1541"/>
                </a:lnTo>
                <a:lnTo>
                  <a:pt x="1778" y="1526"/>
                </a:lnTo>
                <a:lnTo>
                  <a:pt x="1752" y="1395"/>
                </a:lnTo>
                <a:lnTo>
                  <a:pt x="1878" y="1352"/>
                </a:lnTo>
                <a:lnTo>
                  <a:pt x="1825" y="1229"/>
                </a:lnTo>
                <a:lnTo>
                  <a:pt x="1941" y="1160"/>
                </a:lnTo>
                <a:lnTo>
                  <a:pt x="1863" y="1050"/>
                </a:lnTo>
                <a:close/>
                <a:moveTo>
                  <a:pt x="997" y="234"/>
                </a:moveTo>
                <a:lnTo>
                  <a:pt x="997" y="234"/>
                </a:lnTo>
                <a:cubicBezTo>
                  <a:pt x="607" y="234"/>
                  <a:pt x="291" y="550"/>
                  <a:pt x="291" y="940"/>
                </a:cubicBezTo>
                <a:cubicBezTo>
                  <a:pt x="291" y="1330"/>
                  <a:pt x="607" y="1646"/>
                  <a:pt x="997" y="1646"/>
                </a:cubicBezTo>
                <a:cubicBezTo>
                  <a:pt x="1387" y="1646"/>
                  <a:pt x="1704" y="1330"/>
                  <a:pt x="1704" y="940"/>
                </a:cubicBezTo>
                <a:cubicBezTo>
                  <a:pt x="1704" y="550"/>
                  <a:pt x="1387" y="234"/>
                  <a:pt x="997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586" name="Picture 77" descr="C:\Users\designer\Desktop\ТЕКУЩЕЕ\презентация для минфина\плановая замена свт.png"/>
          <p:cNvPicPr/>
          <p:nvPr/>
        </p:nvPicPr>
        <p:blipFill>
          <a:blip r:embed="rId9"/>
          <a:stretch/>
        </p:blipFill>
        <p:spPr>
          <a:xfrm>
            <a:off x="6124680" y="2583000"/>
            <a:ext cx="522360" cy="52848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70" descr="C:\Users\designer\Desktop\ТЕКУЩЕЕ\презентация для минфина\Техническое перевооружение раб станции министрества.png"/>
          <p:cNvPicPr/>
          <p:nvPr/>
        </p:nvPicPr>
        <p:blipFill>
          <a:blip r:embed="rId10"/>
          <a:stretch/>
        </p:blipFill>
        <p:spPr>
          <a:xfrm>
            <a:off x="6121440" y="3719520"/>
            <a:ext cx="495360" cy="615960"/>
          </a:xfrm>
          <a:prstGeom prst="rect">
            <a:avLst/>
          </a:prstGeom>
          <a:ln w="0">
            <a:noFill/>
          </a:ln>
        </p:spPr>
      </p:pic>
      <p:grpSp>
        <p:nvGrpSpPr>
          <p:cNvPr id="1588" name="Group 7"/>
          <p:cNvGrpSpPr/>
          <p:nvPr/>
        </p:nvGrpSpPr>
        <p:grpSpPr>
          <a:xfrm>
            <a:off x="4280040" y="5081760"/>
            <a:ext cx="560160" cy="515880"/>
            <a:chOff x="4280040" y="5081760"/>
            <a:chExt cx="560160" cy="515880"/>
          </a:xfrm>
        </p:grpSpPr>
        <p:sp>
          <p:nvSpPr>
            <p:cNvPr id="1589" name="Freeform 9"/>
            <p:cNvSpPr/>
            <p:nvPr/>
          </p:nvSpPr>
          <p:spPr>
            <a:xfrm>
              <a:off x="4280040" y="5081760"/>
              <a:ext cx="560160" cy="515880"/>
            </a:xfrm>
            <a:custGeom>
              <a:avLst/>
              <a:gdLst/>
              <a:ahLst/>
              <a:rect l="l" t="t" r="r" b="b"/>
              <a:pathLst>
                <a:path w="2936" h="2258">
                  <a:moveTo>
                    <a:pt x="1467" y="0"/>
                  </a:moveTo>
                  <a:lnTo>
                    <a:pt x="0" y="1464"/>
                  </a:lnTo>
                  <a:lnTo>
                    <a:pt x="1467" y="2258"/>
                  </a:lnTo>
                  <a:lnTo>
                    <a:pt x="2936" y="1464"/>
                  </a:lnTo>
                  <a:lnTo>
                    <a:pt x="146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90" name="Freeform 10"/>
            <p:cNvSpPr/>
            <p:nvPr/>
          </p:nvSpPr>
          <p:spPr>
            <a:xfrm>
              <a:off x="4360680" y="5219640"/>
              <a:ext cx="199800" cy="220680"/>
            </a:xfrm>
            <a:custGeom>
              <a:avLst/>
              <a:gdLst/>
              <a:ahLst/>
              <a:rect l="l" t="t" r="r" b="b"/>
              <a:pathLst>
                <a:path w="1040" h="968">
                  <a:moveTo>
                    <a:pt x="1040" y="279"/>
                  </a:moveTo>
                  <a:lnTo>
                    <a:pt x="438" y="0"/>
                  </a:lnTo>
                  <a:lnTo>
                    <a:pt x="0" y="434"/>
                  </a:lnTo>
                  <a:lnTo>
                    <a:pt x="1040" y="968"/>
                  </a:lnTo>
                  <a:lnTo>
                    <a:pt x="1040" y="27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91" name="Freeform 11"/>
            <p:cNvSpPr/>
            <p:nvPr/>
          </p:nvSpPr>
          <p:spPr>
            <a:xfrm>
              <a:off x="4446360" y="5081760"/>
              <a:ext cx="114120" cy="201600"/>
            </a:xfrm>
            <a:custGeom>
              <a:avLst/>
              <a:gdLst/>
              <a:ahLst/>
              <a:rect l="l" t="t" r="r" b="b"/>
              <a:pathLst>
                <a:path w="602" h="881">
                  <a:moveTo>
                    <a:pt x="602" y="0"/>
                  </a:moveTo>
                  <a:lnTo>
                    <a:pt x="0" y="602"/>
                  </a:lnTo>
                  <a:lnTo>
                    <a:pt x="602" y="881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92" name="Freeform 12"/>
            <p:cNvSpPr/>
            <p:nvPr/>
          </p:nvSpPr>
          <p:spPr>
            <a:xfrm>
              <a:off x="4280040" y="5318280"/>
              <a:ext cx="280800" cy="279360"/>
            </a:xfrm>
            <a:custGeom>
              <a:avLst/>
              <a:gdLst/>
              <a:ahLst/>
              <a:rect l="l" t="t" r="r" b="b"/>
              <a:pathLst>
                <a:path w="1467" h="1222">
                  <a:moveTo>
                    <a:pt x="427" y="0"/>
                  </a:moveTo>
                  <a:lnTo>
                    <a:pt x="0" y="428"/>
                  </a:lnTo>
                  <a:lnTo>
                    <a:pt x="1467" y="1222"/>
                  </a:lnTo>
                  <a:lnTo>
                    <a:pt x="1467" y="534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93" name="Freeform 13"/>
            <p:cNvSpPr/>
            <p:nvPr/>
          </p:nvSpPr>
          <p:spPr>
            <a:xfrm>
              <a:off x="4559400" y="5219640"/>
              <a:ext cx="199800" cy="220680"/>
            </a:xfrm>
            <a:custGeom>
              <a:avLst/>
              <a:gdLst/>
              <a:ahLst/>
              <a:rect l="l" t="t" r="r" b="b"/>
              <a:pathLst>
                <a:path w="1044" h="968">
                  <a:moveTo>
                    <a:pt x="0" y="279"/>
                  </a:moveTo>
                  <a:lnTo>
                    <a:pt x="0" y="968"/>
                  </a:lnTo>
                  <a:lnTo>
                    <a:pt x="0" y="968"/>
                  </a:lnTo>
                  <a:lnTo>
                    <a:pt x="1044" y="434"/>
                  </a:lnTo>
                  <a:lnTo>
                    <a:pt x="605" y="0"/>
                  </a:lnTo>
                  <a:lnTo>
                    <a:pt x="0" y="279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94" name="Freeform 14"/>
            <p:cNvSpPr/>
            <p:nvPr/>
          </p:nvSpPr>
          <p:spPr>
            <a:xfrm>
              <a:off x="4559400" y="5318280"/>
              <a:ext cx="280800" cy="279360"/>
            </a:xfrm>
            <a:custGeom>
              <a:avLst/>
              <a:gdLst/>
              <a:ahLst/>
              <a:rect l="l" t="t" r="r" b="b"/>
              <a:pathLst>
                <a:path w="1469" h="1222">
                  <a:moveTo>
                    <a:pt x="1044" y="0"/>
                  </a:moveTo>
                  <a:lnTo>
                    <a:pt x="0" y="534"/>
                  </a:lnTo>
                  <a:lnTo>
                    <a:pt x="0" y="534"/>
                  </a:lnTo>
                  <a:lnTo>
                    <a:pt x="0" y="1222"/>
                  </a:lnTo>
                  <a:lnTo>
                    <a:pt x="1469" y="428"/>
                  </a:lnTo>
                  <a:lnTo>
                    <a:pt x="104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595" name="Freeform 15"/>
            <p:cNvSpPr/>
            <p:nvPr/>
          </p:nvSpPr>
          <p:spPr>
            <a:xfrm>
              <a:off x="4559400" y="5081760"/>
              <a:ext cx="115560" cy="201600"/>
            </a:xfrm>
            <a:custGeom>
              <a:avLst/>
              <a:gdLst/>
              <a:ahLst/>
              <a:rect l="l" t="t" r="r" b="b"/>
              <a:pathLst>
                <a:path w="605" h="881">
                  <a:moveTo>
                    <a:pt x="0" y="881"/>
                  </a:moveTo>
                  <a:lnTo>
                    <a:pt x="605" y="602"/>
                  </a:lnTo>
                  <a:lnTo>
                    <a:pt x="0" y="0"/>
                  </a:lnTo>
                  <a:lnTo>
                    <a:pt x="0" y="881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6bba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96" name="Elbow Connector 24"/>
          <p:cNvCxnSpPr>
            <a:stCxn id="1597" idx="0"/>
          </p:cNvCxnSpPr>
          <p:nvPr/>
        </p:nvCxnSpPr>
        <p:spPr>
          <a:xfrm flipV="1" rot="16200000">
            <a:off x="3195720" y="2909880"/>
            <a:ext cx="3174120" cy="693000"/>
          </a:xfrm>
          <a:prstGeom prst="bentConnector3">
            <a:avLst>
              <a:gd name="adj1" fmla="val 26792"/>
            </a:avLst>
          </a:prstGeom>
          <a:ln w="127080">
            <a:solidFill>
              <a:srgbClr val="d8d8d8"/>
            </a:solidFill>
            <a:miter/>
          </a:ln>
        </p:spPr>
      </p:cxnSp>
      <p:cxnSp>
        <p:nvCxnSpPr>
          <p:cNvPr id="1598" name="Elbow Connector 24"/>
          <p:cNvCxnSpPr/>
          <p:nvPr/>
        </p:nvCxnSpPr>
        <p:spPr>
          <a:xfrm flipV="1" rot="10800000">
            <a:off x="5814360" y="4510440"/>
            <a:ext cx="389520" cy="1080"/>
          </a:xfrm>
          <a:prstGeom prst="bentConnector3">
            <a:avLst>
              <a:gd name="adj1" fmla="val 49953"/>
            </a:avLst>
          </a:prstGeom>
          <a:ln w="127080">
            <a:solidFill>
              <a:srgbClr val="d8d8d8"/>
            </a:solidFill>
            <a:miter/>
          </a:ln>
        </p:spPr>
      </p:cxnSp>
      <p:cxnSp>
        <p:nvCxnSpPr>
          <p:cNvPr id="1599" name="Elbow Connector 24"/>
          <p:cNvCxnSpPr/>
          <p:nvPr/>
        </p:nvCxnSpPr>
        <p:spPr>
          <a:xfrm rot="10800000">
            <a:off x="4664880" y="1421640"/>
            <a:ext cx="2032920" cy="1156320"/>
          </a:xfrm>
          <a:prstGeom prst="bentConnector3">
            <a:avLst>
              <a:gd name="adj1" fmla="val 96032"/>
            </a:avLst>
          </a:prstGeom>
          <a:ln w="127080">
            <a:solidFill>
              <a:srgbClr val="d8d8d8"/>
            </a:solidFill>
            <a:miter/>
          </a:ln>
        </p:spPr>
      </p:cxnSp>
      <p:cxnSp>
        <p:nvCxnSpPr>
          <p:cNvPr id="1600" name="Elbow Connector 24"/>
          <p:cNvCxnSpPr/>
          <p:nvPr/>
        </p:nvCxnSpPr>
        <p:spPr>
          <a:xfrm flipV="1">
            <a:off x="2464920" y="1421640"/>
            <a:ext cx="1599480" cy="927720"/>
          </a:xfrm>
          <a:prstGeom prst="bentConnector3">
            <a:avLst>
              <a:gd name="adj1" fmla="val 102904"/>
            </a:avLst>
          </a:prstGeom>
          <a:ln w="127080">
            <a:solidFill>
              <a:srgbClr val="d8d8d8"/>
            </a:solidFill>
            <a:miter/>
          </a:ln>
        </p:spPr>
      </p:cxnSp>
      <p:cxnSp>
        <p:nvCxnSpPr>
          <p:cNvPr id="1601" name="Elbow Connector 24"/>
          <p:cNvCxnSpPr>
            <a:endCxn id="1602" idx="2"/>
          </p:cNvCxnSpPr>
          <p:nvPr/>
        </p:nvCxnSpPr>
        <p:spPr>
          <a:xfrm flipV="1" rot="16200000">
            <a:off x="3732480" y="2362320"/>
            <a:ext cx="2991600" cy="1294560"/>
          </a:xfrm>
          <a:prstGeom prst="bentConnector3">
            <a:avLst>
              <a:gd name="adj1" fmla="val 31508"/>
            </a:avLst>
          </a:prstGeom>
          <a:ln w="127080">
            <a:solidFill>
              <a:srgbClr val="d8d8d8"/>
            </a:solidFill>
            <a:miter/>
          </a:ln>
        </p:spPr>
      </p:cxnSp>
      <p:sp>
        <p:nvSpPr>
          <p:cNvPr id="1603" name="Title 23"/>
          <p:cNvSpPr/>
          <p:nvPr/>
        </p:nvSpPr>
        <p:spPr>
          <a:xfrm>
            <a:off x="557280" y="419040"/>
            <a:ext cx="8029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Regular"/>
                <a:ea typeface="Lato Regular"/>
              </a:rPr>
              <a:t>РАБОТА СО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СПРАВОЧНИКОМ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02" name="Text Placeholder 24"/>
          <p:cNvSpPr/>
          <p:nvPr/>
        </p:nvSpPr>
        <p:spPr>
          <a:xfrm>
            <a:off x="563400" y="1063800"/>
            <a:ext cx="803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Перечень документов, подлежащих  хранению в электронном виде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04" name="Elbow Connector 24"/>
          <p:cNvCxnSpPr/>
          <p:nvPr/>
        </p:nvCxnSpPr>
        <p:spPr>
          <a:xfrm flipV="1">
            <a:off x="3854520" y="1482480"/>
            <a:ext cx="419760" cy="2931120"/>
          </a:xfrm>
          <a:prstGeom prst="bentConnector2">
            <a:avLst/>
          </a:prstGeom>
          <a:ln w="127080">
            <a:solidFill>
              <a:srgbClr val="d8d8d8"/>
            </a:solidFill>
            <a:miter/>
          </a:ln>
        </p:spPr>
      </p:cxnSp>
      <p:sp>
        <p:nvSpPr>
          <p:cNvPr id="1605" name="Oval 52"/>
          <p:cNvSpPr/>
          <p:nvPr/>
        </p:nvSpPr>
        <p:spPr>
          <a:xfrm>
            <a:off x="241200" y="1666800"/>
            <a:ext cx="2376720" cy="158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06" name="TextBox 11"/>
          <p:cNvSpPr/>
          <p:nvPr/>
        </p:nvSpPr>
        <p:spPr>
          <a:xfrm>
            <a:off x="804960" y="1719360"/>
            <a:ext cx="140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ato Regular"/>
                <a:ea typeface="Lato Regular"/>
              </a:rPr>
              <a:t>Выбор группы документов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07" name="AutoShape 3"/>
          <p:cNvSpPr/>
          <p:nvPr/>
        </p:nvSpPr>
        <p:spPr>
          <a:xfrm>
            <a:off x="257040" y="1352520"/>
            <a:ext cx="719280" cy="719280"/>
          </a:xfrm>
          <a:prstGeom prst="ellipse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608" name="Рисунок 15" descr=""/>
          <p:cNvPicPr/>
          <p:nvPr/>
        </p:nvPicPr>
        <p:blipFill>
          <a:blip r:embed="rId1"/>
          <a:stretch/>
        </p:blipFill>
        <p:spPr>
          <a:xfrm>
            <a:off x="357120" y="2171880"/>
            <a:ext cx="2552760" cy="1158840"/>
          </a:xfrm>
          <a:prstGeom prst="rect">
            <a:avLst/>
          </a:prstGeom>
          <a:ln w="0">
            <a:noFill/>
          </a:ln>
        </p:spPr>
      </p:pic>
      <p:sp>
        <p:nvSpPr>
          <p:cNvPr id="1609" name="TextBox 19"/>
          <p:cNvSpPr/>
          <p:nvPr/>
        </p:nvSpPr>
        <p:spPr>
          <a:xfrm>
            <a:off x="357840" y="13129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Lato Light"/>
                <a:ea typeface="Gotham Light"/>
              </a:rPr>
              <a:t>1</a:t>
            </a:r>
            <a:endParaRPr b="0" lang="en-US" sz="44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0" name="Oval 52"/>
          <p:cNvSpPr/>
          <p:nvPr/>
        </p:nvSpPr>
        <p:spPr>
          <a:xfrm>
            <a:off x="1488960" y="3603600"/>
            <a:ext cx="2376720" cy="158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1" name="TextBox 27"/>
          <p:cNvSpPr/>
          <p:nvPr/>
        </p:nvSpPr>
        <p:spPr>
          <a:xfrm>
            <a:off x="1913040" y="3662280"/>
            <a:ext cx="185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ato Regular"/>
                <a:ea typeface="Lato Regular"/>
              </a:rPr>
              <a:t>Выбор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ato Regular"/>
                <a:ea typeface="Lato Regular"/>
              </a:rPr>
              <a:t>типа/кода докумен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2" name="AutoShape 3"/>
          <p:cNvSpPr/>
          <p:nvPr/>
        </p:nvSpPr>
        <p:spPr>
          <a:xfrm>
            <a:off x="1494000" y="3300480"/>
            <a:ext cx="718920" cy="718920"/>
          </a:xfrm>
          <a:prstGeom prst="ellipse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3" name="TextBox 29"/>
          <p:cNvSpPr/>
          <p:nvPr/>
        </p:nvSpPr>
        <p:spPr>
          <a:xfrm>
            <a:off x="1584720" y="32529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Lato Light"/>
                <a:ea typeface="Gotham Light"/>
              </a:rPr>
              <a:t>2</a:t>
            </a:r>
            <a:endParaRPr b="0" lang="en-US" sz="44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614" name="Рисунок 1023" descr=""/>
          <p:cNvPicPr/>
          <p:nvPr/>
        </p:nvPicPr>
        <p:blipFill>
          <a:blip r:embed="rId2"/>
          <a:stretch/>
        </p:blipFill>
        <p:spPr>
          <a:xfrm>
            <a:off x="1774800" y="4108320"/>
            <a:ext cx="1989000" cy="965160"/>
          </a:xfrm>
          <a:prstGeom prst="rect">
            <a:avLst/>
          </a:prstGeom>
          <a:ln w="0">
            <a:noFill/>
          </a:ln>
        </p:spPr>
      </p:pic>
      <p:sp>
        <p:nvSpPr>
          <p:cNvPr id="1615" name="Oval 52"/>
          <p:cNvSpPr/>
          <p:nvPr/>
        </p:nvSpPr>
        <p:spPr>
          <a:xfrm>
            <a:off x="6648480" y="1876320"/>
            <a:ext cx="2376360" cy="158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6" name="TextBox 36"/>
          <p:cNvSpPr/>
          <p:nvPr/>
        </p:nvSpPr>
        <p:spPr>
          <a:xfrm>
            <a:off x="6647040" y="1994040"/>
            <a:ext cx="2639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Установка</a:t>
            </a:r>
            <a:r>
              <a:rPr b="0" lang="ru-RU" sz="1100" spc="-1" strike="noStrike">
                <a:solidFill>
                  <a:srgbClr val="000000"/>
                </a:solidFill>
                <a:latin typeface="Gotham Light"/>
                <a:ea typeface="Gotham Light"/>
              </a:rPr>
              <a:t> 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маркеров</a:t>
            </a:r>
            <a:r>
              <a:rPr b="0" lang="ru-RU" sz="1100" spc="-1" strike="noStrike">
                <a:solidFill>
                  <a:srgbClr val="000000"/>
                </a:solidFill>
                <a:latin typeface="Gotham Light"/>
                <a:ea typeface="Gotham Light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архивирования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7" name="AutoShape 3"/>
          <p:cNvSpPr/>
          <p:nvPr/>
        </p:nvSpPr>
        <p:spPr>
          <a:xfrm>
            <a:off x="6630840" y="1550880"/>
            <a:ext cx="720720" cy="720720"/>
          </a:xfrm>
          <a:prstGeom prst="ellipse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8" name="TextBox 38"/>
          <p:cNvSpPr/>
          <p:nvPr/>
        </p:nvSpPr>
        <p:spPr>
          <a:xfrm>
            <a:off x="6744240" y="15224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Lato Light"/>
                <a:ea typeface="Gotham Light"/>
              </a:rPr>
              <a:t>5</a:t>
            </a:r>
            <a:endParaRPr b="0" lang="en-US" sz="44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19" name="TextBox 1027"/>
          <p:cNvSpPr/>
          <p:nvPr/>
        </p:nvSpPr>
        <p:spPr>
          <a:xfrm>
            <a:off x="507960" y="5915160"/>
            <a:ext cx="3197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ato Light"/>
                <a:ea typeface="Gotham Light"/>
              </a:rPr>
              <a:t>Статусы, при которых архивируются документы/отчеты, отражается только при выборе группы документов 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0" name="Oval 52"/>
          <p:cNvSpPr/>
          <p:nvPr/>
        </p:nvSpPr>
        <p:spPr>
          <a:xfrm>
            <a:off x="6186600" y="3841920"/>
            <a:ext cx="2376360" cy="158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1" name="TextBox 46"/>
          <p:cNvSpPr/>
          <p:nvPr/>
        </p:nvSpPr>
        <p:spPr>
          <a:xfrm>
            <a:off x="6445080" y="382284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Указание 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срока</a:t>
            </a:r>
            <a:r>
              <a:rPr b="0" lang="ru-RU" sz="1100" spc="-1" strike="noStrike">
                <a:solidFill>
                  <a:srgbClr val="000000"/>
                </a:solidFill>
                <a:latin typeface="Gotham Light"/>
                <a:ea typeface="Gotham Light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хранения и 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срока до автоархивации</a:t>
            </a:r>
            <a:endParaRPr b="0" lang="en-US" sz="11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2" name="AutoShape 3"/>
          <p:cNvSpPr/>
          <p:nvPr/>
        </p:nvSpPr>
        <p:spPr>
          <a:xfrm>
            <a:off x="6202440" y="3505320"/>
            <a:ext cx="718920" cy="720720"/>
          </a:xfrm>
          <a:prstGeom prst="ellipse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3" name="TextBox 48"/>
          <p:cNvSpPr/>
          <p:nvPr/>
        </p:nvSpPr>
        <p:spPr>
          <a:xfrm>
            <a:off x="6282360" y="34765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Lato Light"/>
                <a:ea typeface="Gotham Light"/>
              </a:rPr>
              <a:t>4</a:t>
            </a:r>
            <a:endParaRPr b="0" lang="en-US" sz="44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4" name="Rectangle 10249"/>
          <p:cNvSpPr/>
          <p:nvPr/>
        </p:nvSpPr>
        <p:spPr>
          <a:xfrm>
            <a:off x="4052880" y="1352520"/>
            <a:ext cx="755640" cy="6080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597" name="Oval 52"/>
          <p:cNvSpPr/>
          <p:nvPr/>
        </p:nvSpPr>
        <p:spPr>
          <a:xfrm>
            <a:off x="3941640" y="4843440"/>
            <a:ext cx="2376720" cy="158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5" name="TextBox 97"/>
          <p:cNvSpPr/>
          <p:nvPr/>
        </p:nvSpPr>
        <p:spPr>
          <a:xfrm>
            <a:off x="4421160" y="4842000"/>
            <a:ext cx="171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ato Regular"/>
                <a:ea typeface="Lato Regular"/>
              </a:rPr>
              <a:t>Указание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ato Regular"/>
                <a:ea typeface="Lato Regular"/>
              </a:rPr>
              <a:t>каталога</a:t>
            </a:r>
            <a:r>
              <a:rPr b="0" lang="ru-RU" sz="1200" spc="-1" strike="noStrike">
                <a:solidFill>
                  <a:srgbClr val="000000"/>
                </a:solidFill>
                <a:latin typeface="Gotham Light"/>
                <a:ea typeface="Gotham Light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Lato Regular"/>
                <a:ea typeface="Lato Regular"/>
              </a:rPr>
              <a:t>хранения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6" name="AutoShape 3"/>
          <p:cNvSpPr/>
          <p:nvPr/>
        </p:nvSpPr>
        <p:spPr>
          <a:xfrm>
            <a:off x="3946680" y="4529160"/>
            <a:ext cx="718920" cy="720720"/>
          </a:xfrm>
          <a:prstGeom prst="ellipse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27" name="TextBox 99"/>
          <p:cNvSpPr/>
          <p:nvPr/>
        </p:nvSpPr>
        <p:spPr>
          <a:xfrm>
            <a:off x="4048560" y="45007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Lato Light"/>
                <a:ea typeface="Gotham Light"/>
              </a:rPr>
              <a:t>3</a:t>
            </a:r>
            <a:endParaRPr b="0" lang="en-US" sz="44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628" name="Рисунок 93" descr=""/>
          <p:cNvPicPr/>
          <p:nvPr/>
        </p:nvPicPr>
        <p:blipFill>
          <a:blip r:embed="rId3"/>
          <a:stretch/>
        </p:blipFill>
        <p:spPr>
          <a:xfrm>
            <a:off x="6881760" y="2384280"/>
            <a:ext cx="2119320" cy="87156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94" descr=""/>
          <p:cNvPicPr/>
          <p:nvPr/>
        </p:nvPicPr>
        <p:blipFill>
          <a:blip r:embed="rId4"/>
          <a:stretch/>
        </p:blipFill>
        <p:spPr>
          <a:xfrm>
            <a:off x="3865680" y="5187960"/>
            <a:ext cx="2520720" cy="1135080"/>
          </a:xfrm>
          <a:prstGeom prst="rect">
            <a:avLst/>
          </a:prstGeom>
          <a:ln w="0">
            <a:noFill/>
          </a:ln>
        </p:spPr>
      </p:pic>
      <p:sp>
        <p:nvSpPr>
          <p:cNvPr id="1630" name="Freeform 8"/>
          <p:cNvSpPr/>
          <p:nvPr/>
        </p:nvSpPr>
        <p:spPr>
          <a:xfrm>
            <a:off x="388800" y="6016680"/>
            <a:ext cx="171720" cy="306360"/>
          </a:xfrm>
          <a:custGeom>
            <a:avLst/>
            <a:gdLst>
              <a:gd name="textAreaLeft" fmla="*/ 0 w 171720"/>
              <a:gd name="textAreaRight" fmla="*/ 172080 w 171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546" h="2155">
                <a:moveTo>
                  <a:pt x="106" y="1446"/>
                </a:moveTo>
                <a:lnTo>
                  <a:pt x="106" y="1446"/>
                </a:lnTo>
                <a:lnTo>
                  <a:pt x="99" y="1446"/>
                </a:lnTo>
                <a:lnTo>
                  <a:pt x="106" y="1439"/>
                </a:lnTo>
                <a:lnTo>
                  <a:pt x="106" y="1446"/>
                </a:lnTo>
                <a:close/>
                <a:moveTo>
                  <a:pt x="1101" y="752"/>
                </a:moveTo>
                <a:lnTo>
                  <a:pt x="1101" y="752"/>
                </a:lnTo>
                <a:lnTo>
                  <a:pt x="1101" y="333"/>
                </a:lnTo>
                <a:lnTo>
                  <a:pt x="1136" y="333"/>
                </a:lnTo>
                <a:cubicBezTo>
                  <a:pt x="1186" y="333"/>
                  <a:pt x="1228" y="277"/>
                  <a:pt x="1228" y="220"/>
                </a:cubicBezTo>
                <a:lnTo>
                  <a:pt x="1228" y="107"/>
                </a:lnTo>
                <a:cubicBezTo>
                  <a:pt x="1228" y="50"/>
                  <a:pt x="1186" y="0"/>
                  <a:pt x="1136" y="0"/>
                </a:cubicBezTo>
                <a:lnTo>
                  <a:pt x="409" y="0"/>
                </a:lnTo>
                <a:cubicBezTo>
                  <a:pt x="360" y="0"/>
                  <a:pt x="318" y="50"/>
                  <a:pt x="318" y="107"/>
                </a:cubicBezTo>
                <a:lnTo>
                  <a:pt x="318" y="220"/>
                </a:lnTo>
                <a:cubicBezTo>
                  <a:pt x="318" y="277"/>
                  <a:pt x="367" y="333"/>
                  <a:pt x="417" y="333"/>
                </a:cubicBezTo>
                <a:lnTo>
                  <a:pt x="445" y="333"/>
                </a:lnTo>
                <a:lnTo>
                  <a:pt x="445" y="752"/>
                </a:lnTo>
                <a:cubicBezTo>
                  <a:pt x="184" y="872"/>
                  <a:pt x="0" y="1113"/>
                  <a:pt x="0" y="1404"/>
                </a:cubicBezTo>
                <a:cubicBezTo>
                  <a:pt x="0" y="1418"/>
                  <a:pt x="7" y="1432"/>
                  <a:pt x="7" y="1432"/>
                </a:cubicBezTo>
                <a:cubicBezTo>
                  <a:pt x="7" y="1439"/>
                  <a:pt x="7" y="1439"/>
                  <a:pt x="14" y="1446"/>
                </a:cubicBezTo>
                <a:cubicBezTo>
                  <a:pt x="21" y="1460"/>
                  <a:pt x="42" y="1468"/>
                  <a:pt x="57" y="1468"/>
                </a:cubicBezTo>
                <a:lnTo>
                  <a:pt x="692" y="1468"/>
                </a:lnTo>
                <a:lnTo>
                  <a:pt x="692" y="2070"/>
                </a:lnTo>
                <a:cubicBezTo>
                  <a:pt x="692" y="2119"/>
                  <a:pt x="727" y="2155"/>
                  <a:pt x="776" y="2155"/>
                </a:cubicBezTo>
                <a:cubicBezTo>
                  <a:pt x="819" y="2155"/>
                  <a:pt x="861" y="2119"/>
                  <a:pt x="861" y="2070"/>
                </a:cubicBezTo>
                <a:lnTo>
                  <a:pt x="861" y="1468"/>
                </a:lnTo>
                <a:lnTo>
                  <a:pt x="1489" y="1468"/>
                </a:lnTo>
                <a:cubicBezTo>
                  <a:pt x="1503" y="1468"/>
                  <a:pt x="1525" y="1460"/>
                  <a:pt x="1532" y="1446"/>
                </a:cubicBezTo>
                <a:cubicBezTo>
                  <a:pt x="1546" y="1439"/>
                  <a:pt x="1546" y="1425"/>
                  <a:pt x="1546" y="1411"/>
                </a:cubicBezTo>
                <a:cubicBezTo>
                  <a:pt x="1546" y="1120"/>
                  <a:pt x="1362" y="872"/>
                  <a:pt x="1101" y="752"/>
                </a:cubicBezTo>
                <a:close/>
              </a:path>
            </a:pathLst>
          </a:custGeom>
          <a:solidFill>
            <a:srgbClr val="8f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631" name="Рисунок 1" descr=""/>
          <p:cNvPicPr/>
          <p:nvPr/>
        </p:nvPicPr>
        <p:blipFill>
          <a:blip r:embed="rId5"/>
          <a:stretch/>
        </p:blipFill>
        <p:spPr>
          <a:xfrm>
            <a:off x="6451560" y="4387680"/>
            <a:ext cx="1920960" cy="827280"/>
          </a:xfrm>
          <a:prstGeom prst="rect">
            <a:avLst/>
          </a:prstGeom>
          <a:ln w="0">
            <a:noFill/>
          </a:ln>
        </p:spPr>
      </p:pic>
      <p:sp>
        <p:nvSpPr>
          <p:cNvPr id="1632" name="Овальная выноска 2"/>
          <p:cNvSpPr/>
          <p:nvPr/>
        </p:nvSpPr>
        <p:spPr>
          <a:xfrm>
            <a:off x="133200" y="4967280"/>
            <a:ext cx="1951200" cy="8254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23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633" name="Рисунок 4" descr=""/>
          <p:cNvPicPr/>
          <p:nvPr/>
        </p:nvPicPr>
        <p:blipFill>
          <a:blip r:embed="rId6"/>
          <a:stretch/>
        </p:blipFill>
        <p:spPr>
          <a:xfrm>
            <a:off x="307800" y="5073480"/>
            <a:ext cx="1776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Прямоугольник 173"/>
          <p:cNvSpPr/>
          <p:nvPr/>
        </p:nvSpPr>
        <p:spPr>
          <a:xfrm rot="5400000">
            <a:off x="8099280" y="4805280"/>
            <a:ext cx="757080" cy="1001520"/>
          </a:xfrm>
          <a:prstGeom prst="rect">
            <a:avLst/>
          </a:prstGeom>
          <a:noFill/>
          <a:ln w="73080">
            <a:solidFill>
              <a:srgbClr val="67b8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35" name="Прямая соединительная линия 174"/>
          <p:cNvSpPr/>
          <p:nvPr/>
        </p:nvSpPr>
        <p:spPr>
          <a:xfrm>
            <a:off x="8067600" y="557208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36" name="Прямая соединительная линия 175"/>
          <p:cNvSpPr/>
          <p:nvPr/>
        </p:nvSpPr>
        <p:spPr>
          <a:xfrm>
            <a:off x="8628120" y="500076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37" name="Прямая соединительная линия 176"/>
          <p:cNvSpPr/>
          <p:nvPr/>
        </p:nvSpPr>
        <p:spPr>
          <a:xfrm>
            <a:off x="8628120" y="506412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38" name="Прямая соединительная линия 177"/>
          <p:cNvSpPr/>
          <p:nvPr/>
        </p:nvSpPr>
        <p:spPr>
          <a:xfrm>
            <a:off x="8056440" y="5280120"/>
            <a:ext cx="82872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39" name="Прямая соединительная линия 178"/>
          <p:cNvSpPr/>
          <p:nvPr/>
        </p:nvSpPr>
        <p:spPr>
          <a:xfrm>
            <a:off x="8056440" y="5369040"/>
            <a:ext cx="82872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40" name="Прямая соединительная линия 179"/>
          <p:cNvSpPr/>
          <p:nvPr/>
        </p:nvSpPr>
        <p:spPr>
          <a:xfrm>
            <a:off x="8056440" y="5452920"/>
            <a:ext cx="82872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41" name="TextBox 180"/>
          <p:cNvSpPr/>
          <p:nvPr/>
        </p:nvSpPr>
        <p:spPr>
          <a:xfrm>
            <a:off x="8245080" y="503244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ЗКР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42" name="Прямая соединительная линия 181"/>
          <p:cNvSpPr/>
          <p:nvPr/>
        </p:nvSpPr>
        <p:spPr>
          <a:xfrm>
            <a:off x="8750160" y="5568840"/>
            <a:ext cx="117720" cy="324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43" name="Title 23"/>
          <p:cNvSpPr/>
          <p:nvPr/>
        </p:nvSpPr>
        <p:spPr>
          <a:xfrm>
            <a:off x="557280" y="684360"/>
            <a:ext cx="8029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СТРУКТУРА</a:t>
            </a:r>
            <a:r>
              <a:rPr b="0" lang="ru-RU" sz="2800" spc="-1" strike="noStrike">
                <a:solidFill>
                  <a:srgbClr val="393939"/>
                </a:solidFill>
                <a:latin typeface="Lato Light"/>
                <a:ea typeface="Gotham Light"/>
              </a:rPr>
              <a:t>  ЭЛЕКТРОННОГО АРХИВА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644" name="Группа 3"/>
          <p:cNvGrpSpPr/>
          <p:nvPr/>
        </p:nvGrpSpPr>
        <p:grpSpPr>
          <a:xfrm>
            <a:off x="2525760" y="1243080"/>
            <a:ext cx="3384360" cy="250920"/>
            <a:chOff x="2525760" y="1243080"/>
            <a:chExt cx="3384360" cy="250920"/>
          </a:xfrm>
        </p:grpSpPr>
        <p:sp>
          <p:nvSpPr>
            <p:cNvPr id="1645" name="Скругленный прямоугольник 4"/>
            <p:cNvSpPr/>
            <p:nvPr/>
          </p:nvSpPr>
          <p:spPr>
            <a:xfrm>
              <a:off x="2525760" y="1243080"/>
              <a:ext cx="3384360" cy="250920"/>
            </a:xfrm>
            <a:prstGeom prst="roundRect">
              <a:avLst>
                <a:gd name="adj" fmla="val 10000"/>
              </a:avLst>
            </a:prstGeom>
            <a:solidFill>
              <a:srgbClr val="6bbadd"/>
            </a:solidFill>
            <a:ln w="10800">
              <a:solidFill>
                <a:srgbClr val="a6d6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46" name="Скругленный прямоугольник 4"/>
            <p:cNvSpPr/>
            <p:nvPr/>
          </p:nvSpPr>
          <p:spPr>
            <a:xfrm>
              <a:off x="2574720" y="1251000"/>
              <a:ext cx="328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   </a:t>
              </a: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Бюджетная</a:t>
              </a:r>
              <a:r>
                <a:rPr b="1" lang="ru-RU" sz="1600" spc="-1" strike="noStrike">
                  <a:solidFill>
                    <a:srgbClr val="393939"/>
                  </a:solidFill>
                  <a:latin typeface="Lato Light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отчетность</a:t>
              </a:r>
              <a:endParaRPr b="0" lang="en-US" sz="16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647" name="Прямоугольник 1"/>
          <p:cNvSpPr/>
          <p:nvPr/>
        </p:nvSpPr>
        <p:spPr>
          <a:xfrm>
            <a:off x="2758320" y="1611360"/>
            <a:ext cx="36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исполнение федерального бюдже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648" name="Группа 7"/>
          <p:cNvGrpSpPr/>
          <p:nvPr/>
        </p:nvGrpSpPr>
        <p:grpSpPr>
          <a:xfrm>
            <a:off x="2599920" y="1393920"/>
            <a:ext cx="430200" cy="374400"/>
            <a:chOff x="2599920" y="1393920"/>
            <a:chExt cx="430200" cy="374400"/>
          </a:xfrm>
        </p:grpSpPr>
        <p:sp>
          <p:nvSpPr>
            <p:cNvPr id="1649" name="Равнобедренный треугольник 8"/>
            <p:cNvSpPr/>
            <p:nvPr/>
          </p:nvSpPr>
          <p:spPr>
            <a:xfrm rot="10800000">
              <a:off x="2599920" y="1515600"/>
              <a:ext cx="430200" cy="183960"/>
            </a:xfrm>
            <a:prstGeom prst="triangle">
              <a:avLst>
                <a:gd name="adj" fmla="val 50000"/>
              </a:avLst>
            </a:prstGeom>
            <a:solidFill>
              <a:srgbClr val="a6d6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50" name="Равнобедренный треугольник 4"/>
            <p:cNvSpPr/>
            <p:nvPr/>
          </p:nvSpPr>
          <p:spPr>
            <a:xfrm rot="5400000">
              <a:off x="2628000" y="1526400"/>
              <a:ext cx="37440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651" name="Прямоугольник 10"/>
          <p:cNvSpPr/>
          <p:nvPr/>
        </p:nvSpPr>
        <p:spPr>
          <a:xfrm>
            <a:off x="2832120" y="1828800"/>
            <a:ext cx="41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обслуживание исполнения бюджетов бюджетной системы РФ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52" name="Соединительная линия уступом 6"/>
          <p:cNvCxnSpPr/>
          <p:nvPr/>
        </p:nvCxnSpPr>
        <p:spPr>
          <a:xfrm flipH="1" rot="16200000">
            <a:off x="2827080" y="1710000"/>
            <a:ext cx="29160" cy="5652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cxnSp>
        <p:nvCxnSpPr>
          <p:cNvPr id="1653" name="Соединительная линия уступом 16"/>
          <p:cNvCxnSpPr/>
          <p:nvPr/>
        </p:nvCxnSpPr>
        <p:spPr>
          <a:xfrm flipH="1" rot="16200000">
            <a:off x="2834280" y="1930680"/>
            <a:ext cx="2916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54" name="Прямоугольник 17"/>
          <p:cNvSpPr/>
          <p:nvPr/>
        </p:nvSpPr>
        <p:spPr>
          <a:xfrm>
            <a:off x="2836800" y="22050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обслуживание бюджетных учреждений, автономных учреждений и иных организаций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55" name="Соединительная линия уступом 18"/>
          <p:cNvCxnSpPr/>
          <p:nvPr/>
        </p:nvCxnSpPr>
        <p:spPr>
          <a:xfrm flipH="1" rot="16200000">
            <a:off x="2837520" y="2306160"/>
            <a:ext cx="30600" cy="5652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grpSp>
        <p:nvGrpSpPr>
          <p:cNvPr id="1656" name="Группа 19"/>
          <p:cNvGrpSpPr/>
          <p:nvPr/>
        </p:nvGrpSpPr>
        <p:grpSpPr>
          <a:xfrm>
            <a:off x="2530440" y="2782800"/>
            <a:ext cx="3384720" cy="252360"/>
            <a:chOff x="2530440" y="2782800"/>
            <a:chExt cx="3384720" cy="252360"/>
          </a:xfrm>
        </p:grpSpPr>
        <p:sp>
          <p:nvSpPr>
            <p:cNvPr id="1657" name="Скругленный прямоугольник 20"/>
            <p:cNvSpPr/>
            <p:nvPr/>
          </p:nvSpPr>
          <p:spPr>
            <a:xfrm>
              <a:off x="2530440" y="2782800"/>
              <a:ext cx="3384720" cy="252360"/>
            </a:xfrm>
            <a:prstGeom prst="roundRect">
              <a:avLst>
                <a:gd name="adj" fmla="val 10000"/>
              </a:avLst>
            </a:prstGeom>
            <a:solidFill>
              <a:srgbClr val="6bbadd"/>
            </a:solidFill>
            <a:ln w="10800">
              <a:solidFill>
                <a:srgbClr val="a6d6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58" name="Скругленный прямоугольник 4"/>
            <p:cNvSpPr/>
            <p:nvPr/>
          </p:nvSpPr>
          <p:spPr>
            <a:xfrm>
              <a:off x="2579400" y="2790720"/>
              <a:ext cx="32864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   </a:t>
              </a: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Регистры бюджетного учета</a:t>
              </a:r>
              <a:endParaRPr b="0" lang="en-US" sz="16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659" name="Группа 23"/>
          <p:cNvGrpSpPr/>
          <p:nvPr/>
        </p:nvGrpSpPr>
        <p:grpSpPr>
          <a:xfrm>
            <a:off x="2604600" y="2935440"/>
            <a:ext cx="430200" cy="374400"/>
            <a:chOff x="2604600" y="2935440"/>
            <a:chExt cx="430200" cy="374400"/>
          </a:xfrm>
        </p:grpSpPr>
        <p:sp>
          <p:nvSpPr>
            <p:cNvPr id="1660" name="Равнобедренный треугольник 24"/>
            <p:cNvSpPr/>
            <p:nvPr/>
          </p:nvSpPr>
          <p:spPr>
            <a:xfrm rot="10800000">
              <a:off x="2604600" y="3057120"/>
              <a:ext cx="430200" cy="183960"/>
            </a:xfrm>
            <a:prstGeom prst="triangle">
              <a:avLst>
                <a:gd name="adj" fmla="val 50000"/>
              </a:avLst>
            </a:prstGeom>
            <a:solidFill>
              <a:srgbClr val="a6d6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61" name="Равнобедренный треугольник 4"/>
            <p:cNvSpPr/>
            <p:nvPr/>
          </p:nvSpPr>
          <p:spPr>
            <a:xfrm rot="5400000">
              <a:off x="2632680" y="3067920"/>
              <a:ext cx="37440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662" name="Прямоугольник 31"/>
          <p:cNvSpPr/>
          <p:nvPr/>
        </p:nvSpPr>
        <p:spPr>
          <a:xfrm>
            <a:off x="2832120" y="25192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o Light"/>
                <a:ea typeface="Gotham Light"/>
              </a:rPr>
              <a:t>…</a:t>
            </a:r>
            <a:endParaRPr b="0" lang="en-US" sz="14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63" name="Соединительная линия уступом 32"/>
          <p:cNvCxnSpPr/>
          <p:nvPr/>
        </p:nvCxnSpPr>
        <p:spPr>
          <a:xfrm flipH="1" rot="16200000">
            <a:off x="2844720" y="2596680"/>
            <a:ext cx="3060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grpSp>
        <p:nvGrpSpPr>
          <p:cNvPr id="1664" name="Группа 38"/>
          <p:cNvGrpSpPr/>
          <p:nvPr/>
        </p:nvGrpSpPr>
        <p:grpSpPr>
          <a:xfrm>
            <a:off x="2525760" y="4354560"/>
            <a:ext cx="3384360" cy="252360"/>
            <a:chOff x="2525760" y="4354560"/>
            <a:chExt cx="3384360" cy="252360"/>
          </a:xfrm>
        </p:grpSpPr>
        <p:sp>
          <p:nvSpPr>
            <p:cNvPr id="1665" name="Скругленный прямоугольник 39"/>
            <p:cNvSpPr/>
            <p:nvPr/>
          </p:nvSpPr>
          <p:spPr>
            <a:xfrm>
              <a:off x="2525760" y="4354560"/>
              <a:ext cx="3384360" cy="252360"/>
            </a:xfrm>
            <a:prstGeom prst="roundRect">
              <a:avLst>
                <a:gd name="adj" fmla="val 10000"/>
              </a:avLst>
            </a:prstGeom>
            <a:solidFill>
              <a:srgbClr val="6bbadd"/>
            </a:solidFill>
            <a:ln w="10800">
              <a:solidFill>
                <a:srgbClr val="a6d6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66" name="Скругленный прямоугольник 4"/>
            <p:cNvSpPr/>
            <p:nvPr/>
          </p:nvSpPr>
          <p:spPr>
            <a:xfrm>
              <a:off x="2574720" y="4362480"/>
              <a:ext cx="32860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   </a:t>
              </a: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Первичные документы</a:t>
              </a:r>
              <a:endParaRPr b="0" lang="en-US" sz="16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667" name="Группа 42"/>
          <p:cNvGrpSpPr/>
          <p:nvPr/>
        </p:nvGrpSpPr>
        <p:grpSpPr>
          <a:xfrm>
            <a:off x="2599920" y="4506840"/>
            <a:ext cx="430200" cy="374760"/>
            <a:chOff x="2599920" y="4506840"/>
            <a:chExt cx="430200" cy="374760"/>
          </a:xfrm>
        </p:grpSpPr>
        <p:sp>
          <p:nvSpPr>
            <p:cNvPr id="1668" name="Равнобедренный треугольник 43"/>
            <p:cNvSpPr/>
            <p:nvPr/>
          </p:nvSpPr>
          <p:spPr>
            <a:xfrm rot="10800000">
              <a:off x="2599920" y="4628880"/>
              <a:ext cx="430200" cy="184320"/>
            </a:xfrm>
            <a:prstGeom prst="triangle">
              <a:avLst>
                <a:gd name="adj" fmla="val 50000"/>
              </a:avLst>
            </a:prstGeom>
            <a:solidFill>
              <a:srgbClr val="a6d6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69" name="Равнобедренный треугольник 4"/>
            <p:cNvSpPr/>
            <p:nvPr/>
          </p:nvSpPr>
          <p:spPr>
            <a:xfrm rot="5400000">
              <a:off x="2627640" y="4639320"/>
              <a:ext cx="37476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670" name="Группа 52"/>
          <p:cNvGrpSpPr/>
          <p:nvPr/>
        </p:nvGrpSpPr>
        <p:grpSpPr>
          <a:xfrm>
            <a:off x="2530440" y="5916600"/>
            <a:ext cx="3384720" cy="252360"/>
            <a:chOff x="2530440" y="5916600"/>
            <a:chExt cx="3384720" cy="252360"/>
          </a:xfrm>
        </p:grpSpPr>
        <p:sp>
          <p:nvSpPr>
            <p:cNvPr id="1671" name="Скругленный прямоугольник 53"/>
            <p:cNvSpPr/>
            <p:nvPr/>
          </p:nvSpPr>
          <p:spPr>
            <a:xfrm>
              <a:off x="2530440" y="5916600"/>
              <a:ext cx="3384720" cy="252360"/>
            </a:xfrm>
            <a:prstGeom prst="roundRect">
              <a:avLst>
                <a:gd name="adj" fmla="val 10000"/>
              </a:avLst>
            </a:prstGeom>
            <a:solidFill>
              <a:srgbClr val="6bbadd"/>
            </a:solidFill>
            <a:ln w="10800">
              <a:solidFill>
                <a:srgbClr val="a6d6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72" name="Скругленный прямоугольник 4"/>
            <p:cNvSpPr/>
            <p:nvPr/>
          </p:nvSpPr>
          <p:spPr>
            <a:xfrm>
              <a:off x="2579400" y="5924520"/>
              <a:ext cx="32864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   </a:t>
              </a:r>
              <a:r>
                <a:rPr b="1" lang="ru-RU" sz="1600" spc="-1" strike="noStrike">
                  <a:solidFill>
                    <a:srgbClr val="ffffff"/>
                  </a:solidFill>
                  <a:latin typeface="Lato Bold"/>
                </a:rPr>
                <a:t>Иные документы</a:t>
              </a:r>
              <a:endParaRPr b="0" lang="en-US" sz="16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673" name="Группа 56"/>
          <p:cNvGrpSpPr/>
          <p:nvPr/>
        </p:nvGrpSpPr>
        <p:grpSpPr>
          <a:xfrm>
            <a:off x="2604600" y="6068880"/>
            <a:ext cx="430200" cy="374760"/>
            <a:chOff x="2604600" y="6068880"/>
            <a:chExt cx="430200" cy="374760"/>
          </a:xfrm>
        </p:grpSpPr>
        <p:sp>
          <p:nvSpPr>
            <p:cNvPr id="1674" name="Равнобедренный треугольник 57"/>
            <p:cNvSpPr/>
            <p:nvPr/>
          </p:nvSpPr>
          <p:spPr>
            <a:xfrm rot="10800000">
              <a:off x="2604600" y="6190920"/>
              <a:ext cx="430200" cy="184320"/>
            </a:xfrm>
            <a:prstGeom prst="triangle">
              <a:avLst>
                <a:gd name="adj" fmla="val 50000"/>
              </a:avLst>
            </a:prstGeom>
            <a:solidFill>
              <a:srgbClr val="a6d6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675" name="Равнобедренный треугольник 4"/>
            <p:cNvSpPr/>
            <p:nvPr/>
          </p:nvSpPr>
          <p:spPr>
            <a:xfrm rot="5400000">
              <a:off x="2632320" y="6201360"/>
              <a:ext cx="37476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cxnSp>
        <p:nvCxnSpPr>
          <p:cNvPr id="1676" name="Соединительная линия уступом 59"/>
          <p:cNvCxnSpPr/>
          <p:nvPr/>
        </p:nvCxnSpPr>
        <p:spPr>
          <a:xfrm flipH="1" rot="16200000">
            <a:off x="2833560" y="6430680"/>
            <a:ext cx="3060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77" name="Прямоугольник 61"/>
          <p:cNvSpPr/>
          <p:nvPr/>
        </p:nvSpPr>
        <p:spPr>
          <a:xfrm>
            <a:off x="2758320" y="3173400"/>
            <a:ext cx="36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исполнение федерального бюдже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78" name="Прямоугольник 62"/>
          <p:cNvSpPr/>
          <p:nvPr/>
        </p:nvSpPr>
        <p:spPr>
          <a:xfrm>
            <a:off x="2832120" y="3390840"/>
            <a:ext cx="41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обслуживание исполнения бюджетов бюджетной системы РФ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79" name="Соединительная линия уступом 63"/>
          <p:cNvCxnSpPr/>
          <p:nvPr/>
        </p:nvCxnSpPr>
        <p:spPr>
          <a:xfrm flipH="1" rot="16200000">
            <a:off x="2827080" y="3272400"/>
            <a:ext cx="29520" cy="5652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cxnSp>
        <p:nvCxnSpPr>
          <p:cNvPr id="1680" name="Соединительная линия уступом 64"/>
          <p:cNvCxnSpPr/>
          <p:nvPr/>
        </p:nvCxnSpPr>
        <p:spPr>
          <a:xfrm flipH="1" rot="16200000">
            <a:off x="2834280" y="3492720"/>
            <a:ext cx="2916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81" name="Прямоугольник 65"/>
          <p:cNvSpPr/>
          <p:nvPr/>
        </p:nvSpPr>
        <p:spPr>
          <a:xfrm>
            <a:off x="2836800" y="376704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обслуживание бюджетных учреждений, автономных учреждений и иных организаций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82" name="Соединительная линия уступом 66"/>
          <p:cNvCxnSpPr/>
          <p:nvPr/>
        </p:nvCxnSpPr>
        <p:spPr>
          <a:xfrm flipH="1" rot="16200000">
            <a:off x="2837520" y="3868560"/>
            <a:ext cx="30600" cy="5652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83" name="Прямоугольник 67"/>
          <p:cNvSpPr/>
          <p:nvPr/>
        </p:nvSpPr>
        <p:spPr>
          <a:xfrm>
            <a:off x="2832120" y="408132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o Light"/>
                <a:ea typeface="Gotham Light"/>
              </a:rPr>
              <a:t>…</a:t>
            </a:r>
            <a:endParaRPr b="0" lang="en-US" sz="14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84" name="Соединительная линия уступом 68"/>
          <p:cNvCxnSpPr/>
          <p:nvPr/>
        </p:nvCxnSpPr>
        <p:spPr>
          <a:xfrm flipH="1" rot="16200000">
            <a:off x="2844720" y="4159080"/>
            <a:ext cx="3060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85" name="Прямоугольник 69"/>
          <p:cNvSpPr/>
          <p:nvPr/>
        </p:nvSpPr>
        <p:spPr>
          <a:xfrm>
            <a:off x="2758320" y="4735440"/>
            <a:ext cx="36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исполнение федерального бюдже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86" name="Прямоугольник 70"/>
          <p:cNvSpPr/>
          <p:nvPr/>
        </p:nvSpPr>
        <p:spPr>
          <a:xfrm>
            <a:off x="2832120" y="4952880"/>
            <a:ext cx="41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обслуживание исполнения бюджетов бюджетной системы РФ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87" name="Соединительная линия уступом 71"/>
          <p:cNvCxnSpPr/>
          <p:nvPr/>
        </p:nvCxnSpPr>
        <p:spPr>
          <a:xfrm flipH="1" rot="16200000">
            <a:off x="2827080" y="4834440"/>
            <a:ext cx="29520" cy="5652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cxnSp>
        <p:nvCxnSpPr>
          <p:cNvPr id="1688" name="Соединительная линия уступом 72"/>
          <p:cNvCxnSpPr/>
          <p:nvPr/>
        </p:nvCxnSpPr>
        <p:spPr>
          <a:xfrm flipH="1" rot="16200000">
            <a:off x="2834280" y="5055120"/>
            <a:ext cx="2952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89" name="Прямоугольник 73"/>
          <p:cNvSpPr/>
          <p:nvPr/>
        </p:nvSpPr>
        <p:spPr>
          <a:xfrm>
            <a:off x="2836800" y="532908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Кассовое обслуживание бюджетных учреждений, автономных учреждений и иных организаций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90" name="Соединительная линия уступом 74"/>
          <p:cNvCxnSpPr/>
          <p:nvPr/>
        </p:nvCxnSpPr>
        <p:spPr>
          <a:xfrm flipH="1" rot="16200000">
            <a:off x="2837520" y="5430600"/>
            <a:ext cx="30600" cy="5652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91" name="Прямоугольник 75"/>
          <p:cNvSpPr/>
          <p:nvPr/>
        </p:nvSpPr>
        <p:spPr>
          <a:xfrm>
            <a:off x="2832120" y="564372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o Light"/>
                <a:ea typeface="Gotham Light"/>
              </a:rPr>
              <a:t>…</a:t>
            </a:r>
            <a:endParaRPr b="0" lang="en-US" sz="1400" spc="-1" strike="noStrike">
              <a:solidFill>
                <a:srgbClr val="a2a2a2"/>
              </a:solidFill>
              <a:latin typeface="Lato Light"/>
            </a:endParaRPr>
          </a:p>
        </p:txBody>
      </p:sp>
      <p:cxnSp>
        <p:nvCxnSpPr>
          <p:cNvPr id="1692" name="Соединительная линия уступом 76"/>
          <p:cNvCxnSpPr/>
          <p:nvPr/>
        </p:nvCxnSpPr>
        <p:spPr>
          <a:xfrm flipH="1" rot="16200000">
            <a:off x="2844720" y="5721120"/>
            <a:ext cx="30600" cy="56160"/>
          </a:xfrm>
          <a:prstGeom prst="bentConnector2">
            <a:avLst/>
          </a:prstGeom>
          <a:ln w="10800">
            <a:solidFill>
              <a:srgbClr val="6bbadd"/>
            </a:solidFill>
            <a:miter/>
          </a:ln>
        </p:spPr>
      </p:cxnSp>
      <p:sp>
        <p:nvSpPr>
          <p:cNvPr id="1693" name="Прямоугольник 85"/>
          <p:cNvSpPr/>
          <p:nvPr/>
        </p:nvSpPr>
        <p:spPr>
          <a:xfrm>
            <a:off x="2819520" y="634212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o Light"/>
                <a:ea typeface="Gotham Light"/>
              </a:rPr>
              <a:t>…</a:t>
            </a:r>
            <a:endParaRPr b="0" lang="en-US" sz="14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94" name="Freeform 51"/>
          <p:cNvSpPr/>
          <p:nvPr/>
        </p:nvSpPr>
        <p:spPr>
          <a:xfrm>
            <a:off x="557280" y="3173400"/>
            <a:ext cx="877680" cy="1062000"/>
          </a:xfrm>
          <a:custGeom>
            <a:avLst/>
            <a:gdLst/>
            <a:ahLst/>
            <a:rect l="l" t="t" r="r" b="b"/>
            <a:pathLst>
              <a:path w="114" h="125">
                <a:moveTo>
                  <a:pt x="42" y="66"/>
                </a:moveTo>
                <a:cubicBezTo>
                  <a:pt x="81" y="66"/>
                  <a:pt x="81" y="66"/>
                  <a:pt x="81" y="66"/>
                </a:cubicBezTo>
                <a:cubicBezTo>
                  <a:pt x="84" y="66"/>
                  <a:pt x="87" y="63"/>
                  <a:pt x="87" y="60"/>
                </a:cubicBezTo>
                <a:cubicBezTo>
                  <a:pt x="87" y="31"/>
                  <a:pt x="87" y="31"/>
                  <a:pt x="87" y="31"/>
                </a:cubicBezTo>
                <a:cubicBezTo>
                  <a:pt x="87" y="28"/>
                  <a:pt x="84" y="26"/>
                  <a:pt x="81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39" y="26"/>
                  <a:pt x="37" y="28"/>
                  <a:pt x="37" y="31"/>
                </a:cubicBezTo>
                <a:cubicBezTo>
                  <a:pt x="37" y="60"/>
                  <a:pt x="37" y="60"/>
                  <a:pt x="37" y="60"/>
                </a:cubicBezTo>
                <a:cubicBezTo>
                  <a:pt x="37" y="63"/>
                  <a:pt x="39" y="66"/>
                  <a:pt x="42" y="66"/>
                </a:cubicBezTo>
                <a:close/>
                <a:moveTo>
                  <a:pt x="47" y="36"/>
                </a:moveTo>
                <a:cubicBezTo>
                  <a:pt x="76" y="36"/>
                  <a:pt x="76" y="36"/>
                  <a:pt x="76" y="36"/>
                </a:cubicBezTo>
                <a:cubicBezTo>
                  <a:pt x="76" y="55"/>
                  <a:pt x="76" y="55"/>
                  <a:pt x="76" y="55"/>
                </a:cubicBezTo>
                <a:cubicBezTo>
                  <a:pt x="47" y="55"/>
                  <a:pt x="47" y="55"/>
                  <a:pt x="47" y="55"/>
                </a:cubicBezTo>
                <a:lnTo>
                  <a:pt x="47" y="36"/>
                </a:lnTo>
                <a:close/>
                <a:moveTo>
                  <a:pt x="108" y="0"/>
                </a:moveTo>
                <a:cubicBezTo>
                  <a:pt x="15" y="0"/>
                  <a:pt x="15" y="0"/>
                  <a:pt x="15" y="0"/>
                </a:cubicBezTo>
                <a:cubicBezTo>
                  <a:pt x="12" y="0"/>
                  <a:pt x="10" y="2"/>
                  <a:pt x="10" y="5"/>
                </a:cubicBezTo>
                <a:cubicBezTo>
                  <a:pt x="10" y="26"/>
                  <a:pt x="10" y="26"/>
                  <a:pt x="10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4" y="26"/>
                  <a:pt x="0" y="30"/>
                  <a:pt x="0" y="34"/>
                </a:cubicBezTo>
                <a:cubicBezTo>
                  <a:pt x="0" y="39"/>
                  <a:pt x="4" y="43"/>
                  <a:pt x="9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53"/>
                  <a:pt x="10" y="53"/>
                  <a:pt x="10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4" y="53"/>
                  <a:pt x="0" y="57"/>
                  <a:pt x="0" y="62"/>
                </a:cubicBezTo>
                <a:cubicBezTo>
                  <a:pt x="0" y="67"/>
                  <a:pt x="4" y="71"/>
                  <a:pt x="9" y="71"/>
                </a:cubicBezTo>
                <a:cubicBezTo>
                  <a:pt x="10" y="71"/>
                  <a:pt x="10" y="71"/>
                  <a:pt x="10" y="71"/>
                </a:cubicBezTo>
                <a:cubicBezTo>
                  <a:pt x="10" y="81"/>
                  <a:pt x="10" y="81"/>
                  <a:pt x="10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4" y="81"/>
                  <a:pt x="0" y="85"/>
                  <a:pt x="0" y="90"/>
                </a:cubicBezTo>
                <a:cubicBezTo>
                  <a:pt x="0" y="94"/>
                  <a:pt x="4" y="98"/>
                  <a:pt x="9" y="98"/>
                </a:cubicBezTo>
                <a:cubicBezTo>
                  <a:pt x="10" y="98"/>
                  <a:pt x="10" y="98"/>
                  <a:pt x="10" y="98"/>
                </a:cubicBezTo>
                <a:cubicBezTo>
                  <a:pt x="10" y="120"/>
                  <a:pt x="10" y="120"/>
                  <a:pt x="10" y="120"/>
                </a:cubicBezTo>
                <a:cubicBezTo>
                  <a:pt x="10" y="123"/>
                  <a:pt x="12" y="125"/>
                  <a:pt x="15" y="125"/>
                </a:cubicBezTo>
                <a:cubicBezTo>
                  <a:pt x="108" y="125"/>
                  <a:pt x="108" y="125"/>
                  <a:pt x="108" y="125"/>
                </a:cubicBezTo>
                <a:cubicBezTo>
                  <a:pt x="111" y="125"/>
                  <a:pt x="114" y="123"/>
                  <a:pt x="114" y="120"/>
                </a:cubicBezTo>
                <a:cubicBezTo>
                  <a:pt x="114" y="5"/>
                  <a:pt x="114" y="5"/>
                  <a:pt x="114" y="5"/>
                </a:cubicBezTo>
                <a:cubicBezTo>
                  <a:pt x="114" y="2"/>
                  <a:pt x="111" y="0"/>
                  <a:pt x="108" y="0"/>
                </a:cubicBezTo>
                <a:close/>
                <a:moveTo>
                  <a:pt x="103" y="115"/>
                </a:moveTo>
                <a:cubicBezTo>
                  <a:pt x="20" y="115"/>
                  <a:pt x="20" y="115"/>
                  <a:pt x="20" y="115"/>
                </a:cubicBezTo>
                <a:cubicBezTo>
                  <a:pt x="20" y="98"/>
                  <a:pt x="20" y="98"/>
                  <a:pt x="20" y="98"/>
                </a:cubicBezTo>
                <a:cubicBezTo>
                  <a:pt x="21" y="98"/>
                  <a:pt x="21" y="98"/>
                  <a:pt x="21" y="98"/>
                </a:cubicBezTo>
                <a:cubicBezTo>
                  <a:pt x="26" y="98"/>
                  <a:pt x="30" y="94"/>
                  <a:pt x="30" y="90"/>
                </a:cubicBezTo>
                <a:cubicBezTo>
                  <a:pt x="30" y="85"/>
                  <a:pt x="26" y="81"/>
                  <a:pt x="21" y="81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71"/>
                  <a:pt x="20" y="71"/>
                  <a:pt x="20" y="71"/>
                </a:cubicBezTo>
                <a:cubicBezTo>
                  <a:pt x="21" y="71"/>
                  <a:pt x="21" y="71"/>
                  <a:pt x="21" y="71"/>
                </a:cubicBezTo>
                <a:cubicBezTo>
                  <a:pt x="26" y="71"/>
                  <a:pt x="30" y="67"/>
                  <a:pt x="30" y="62"/>
                </a:cubicBezTo>
                <a:cubicBezTo>
                  <a:pt x="30" y="57"/>
                  <a:pt x="26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6" y="43"/>
                  <a:pt x="30" y="39"/>
                  <a:pt x="30" y="34"/>
                </a:cubicBezTo>
                <a:cubicBezTo>
                  <a:pt x="30" y="30"/>
                  <a:pt x="26" y="26"/>
                  <a:pt x="21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10"/>
                  <a:pt x="20" y="10"/>
                  <a:pt x="20" y="10"/>
                </a:cubicBezTo>
                <a:cubicBezTo>
                  <a:pt x="103" y="10"/>
                  <a:pt x="103" y="10"/>
                  <a:pt x="103" y="10"/>
                </a:cubicBezTo>
                <a:lnTo>
                  <a:pt x="103" y="115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695" name="TextBox 36"/>
          <p:cNvSpPr/>
          <p:nvPr/>
        </p:nvSpPr>
        <p:spPr>
          <a:xfrm>
            <a:off x="670320" y="3724200"/>
            <a:ext cx="72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Главная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книга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696" name="Рисунок 119" descr=""/>
          <p:cNvPicPr/>
          <p:nvPr/>
        </p:nvPicPr>
        <p:blipFill>
          <a:blip r:embed="rId1"/>
          <a:stretch/>
        </p:blipFill>
        <p:spPr>
          <a:xfrm>
            <a:off x="2548080" y="123660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1697" name="Рисунок 119" descr=""/>
          <p:cNvPicPr/>
          <p:nvPr/>
        </p:nvPicPr>
        <p:blipFill>
          <a:blip r:embed="rId2"/>
          <a:stretch/>
        </p:blipFill>
        <p:spPr>
          <a:xfrm>
            <a:off x="2536920" y="27766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1698" name="Рисунок 119" descr=""/>
          <p:cNvPicPr/>
          <p:nvPr/>
        </p:nvPicPr>
        <p:blipFill>
          <a:blip r:embed="rId3"/>
          <a:stretch/>
        </p:blipFill>
        <p:spPr>
          <a:xfrm>
            <a:off x="2536920" y="43498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1699" name="Рисунок 119" descr=""/>
          <p:cNvPicPr/>
          <p:nvPr/>
        </p:nvPicPr>
        <p:blipFill>
          <a:blip r:embed="rId4"/>
          <a:stretch/>
        </p:blipFill>
        <p:spPr>
          <a:xfrm>
            <a:off x="2548080" y="5921280"/>
            <a:ext cx="263520" cy="263520"/>
          </a:xfrm>
          <a:prstGeom prst="rect">
            <a:avLst/>
          </a:prstGeom>
          <a:ln w="0">
            <a:noFill/>
          </a:ln>
        </p:spPr>
      </p:pic>
      <p:sp>
        <p:nvSpPr>
          <p:cNvPr id="1700" name="TextBox 37"/>
          <p:cNvSpPr/>
          <p:nvPr/>
        </p:nvSpPr>
        <p:spPr>
          <a:xfrm>
            <a:off x="1995840" y="324648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7b8dd"/>
                </a:solidFill>
                <a:latin typeface="Lato Light"/>
                <a:ea typeface="Gotham Light"/>
              </a:rPr>
              <a:t>?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01" name="TextBox 96"/>
          <p:cNvSpPr/>
          <p:nvPr/>
        </p:nvSpPr>
        <p:spPr>
          <a:xfrm>
            <a:off x="2148120" y="347508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7b8dd"/>
                </a:solidFill>
                <a:latin typeface="Lato Light"/>
                <a:ea typeface="Gotham Light"/>
              </a:rPr>
              <a:t>?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02" name="TextBox 97"/>
          <p:cNvSpPr/>
          <p:nvPr/>
        </p:nvSpPr>
        <p:spPr>
          <a:xfrm>
            <a:off x="1958760" y="372888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7b8dd"/>
                </a:solidFill>
                <a:latin typeface="Lato Light"/>
                <a:ea typeface="Gotham Light"/>
              </a:rPr>
              <a:t>?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703" name=" 3"/>
          <p:cNvGrpSpPr/>
          <p:nvPr/>
        </p:nvGrpSpPr>
        <p:grpSpPr>
          <a:xfrm>
            <a:off x="1457280" y="3328920"/>
            <a:ext cx="547560" cy="541440"/>
            <a:chOff x="1457280" y="3328920"/>
            <a:chExt cx="547560" cy="541440"/>
          </a:xfrm>
        </p:grpSpPr>
        <p:pic>
          <p:nvPicPr>
            <p:cNvPr id="1704" name=" 3" descr=""/>
            <p:cNvPicPr/>
            <p:nvPr/>
          </p:nvPicPr>
          <p:blipFill>
            <a:blip r:embed="rId5"/>
            <a:stretch/>
          </p:blipFill>
          <p:spPr>
            <a:xfrm>
              <a:off x="1457280" y="3328920"/>
              <a:ext cx="5475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 rot="7617000">
              <a:off x="1555200" y="3411360"/>
              <a:ext cx="3542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706" name=" 3"/>
          <p:cNvGrpSpPr/>
          <p:nvPr/>
        </p:nvGrpSpPr>
        <p:grpSpPr>
          <a:xfrm>
            <a:off x="1444680" y="3560760"/>
            <a:ext cx="549360" cy="541440"/>
            <a:chOff x="1444680" y="3560760"/>
            <a:chExt cx="549360" cy="541440"/>
          </a:xfrm>
        </p:grpSpPr>
        <p:pic>
          <p:nvPicPr>
            <p:cNvPr id="1707" name=" 3" descr=""/>
            <p:cNvPicPr/>
            <p:nvPr/>
          </p:nvPicPr>
          <p:blipFill>
            <a:blip r:embed="rId6"/>
            <a:stretch/>
          </p:blipFill>
          <p:spPr>
            <a:xfrm>
              <a:off x="1444680" y="3560760"/>
              <a:ext cx="5493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8" name=""/>
            <p:cNvSpPr/>
            <p:nvPr/>
          </p:nvSpPr>
          <p:spPr>
            <a:xfrm rot="3183000">
              <a:off x="1542600" y="3640320"/>
              <a:ext cx="3542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709" name="Прямоугольник 87"/>
          <p:cNvSpPr/>
          <p:nvPr/>
        </p:nvSpPr>
        <p:spPr>
          <a:xfrm>
            <a:off x="665280" y="1635120"/>
            <a:ext cx="757080" cy="1000080"/>
          </a:xfrm>
          <a:prstGeom prst="rect">
            <a:avLst/>
          </a:prstGeom>
          <a:noFill/>
          <a:ln w="73080">
            <a:solidFill>
              <a:srgbClr val="67b8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0" name="Прямая соединительная линия 110"/>
          <p:cNvSpPr/>
          <p:nvPr/>
        </p:nvSpPr>
        <p:spPr>
          <a:xfrm>
            <a:off x="1104840" y="175248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1" name="Прямая соединительная линия 113"/>
          <p:cNvSpPr/>
          <p:nvPr/>
        </p:nvSpPr>
        <p:spPr>
          <a:xfrm>
            <a:off x="1104840" y="181620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2" name="Прямая соединительная линия 114"/>
          <p:cNvSpPr/>
          <p:nvPr/>
        </p:nvSpPr>
        <p:spPr>
          <a:xfrm>
            <a:off x="1104840" y="187956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3" name="Прямая соединительная линия 115"/>
          <p:cNvSpPr/>
          <p:nvPr/>
        </p:nvSpPr>
        <p:spPr>
          <a:xfrm>
            <a:off x="774720" y="1994040"/>
            <a:ext cx="57456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4" name="Прямая соединительная линия 117"/>
          <p:cNvSpPr/>
          <p:nvPr/>
        </p:nvSpPr>
        <p:spPr>
          <a:xfrm>
            <a:off x="774720" y="2082960"/>
            <a:ext cx="57456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5" name="Прямая соединительная линия 118"/>
          <p:cNvSpPr/>
          <p:nvPr/>
        </p:nvSpPr>
        <p:spPr>
          <a:xfrm>
            <a:off x="774720" y="2166840"/>
            <a:ext cx="57456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16" name="Прямая соединительная линия 119"/>
          <p:cNvSpPr/>
          <p:nvPr/>
        </p:nvSpPr>
        <p:spPr>
          <a:xfrm>
            <a:off x="774720" y="2260440"/>
            <a:ext cx="57456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717" name=" 3"/>
          <p:cNvGrpSpPr/>
          <p:nvPr/>
        </p:nvGrpSpPr>
        <p:grpSpPr>
          <a:xfrm>
            <a:off x="2200320" y="1725480"/>
            <a:ext cx="530280" cy="505080"/>
            <a:chOff x="2200320" y="1725480"/>
            <a:chExt cx="530280" cy="505080"/>
          </a:xfrm>
        </p:grpSpPr>
        <p:pic>
          <p:nvPicPr>
            <p:cNvPr id="1718" name=" 3" descr=""/>
            <p:cNvPicPr/>
            <p:nvPr/>
          </p:nvPicPr>
          <p:blipFill>
            <a:blip r:embed="rId7"/>
            <a:stretch/>
          </p:blipFill>
          <p:spPr>
            <a:xfrm>
              <a:off x="2200320" y="1725480"/>
              <a:ext cx="5302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9" name=""/>
            <p:cNvSpPr/>
            <p:nvPr/>
          </p:nvSpPr>
          <p:spPr>
            <a:xfrm rot="6889200">
              <a:off x="2288520" y="1787040"/>
              <a:ext cx="3538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720" name="TextBox 123"/>
          <p:cNvSpPr/>
          <p:nvPr/>
        </p:nvSpPr>
        <p:spPr>
          <a:xfrm>
            <a:off x="620640" y="2227320"/>
            <a:ext cx="82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Отчет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ф.0521469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1" name="Прямоугольник 124"/>
          <p:cNvSpPr/>
          <p:nvPr/>
        </p:nvSpPr>
        <p:spPr>
          <a:xfrm rot="5400000">
            <a:off x="654840" y="4757040"/>
            <a:ext cx="757440" cy="1000080"/>
          </a:xfrm>
          <a:prstGeom prst="rect">
            <a:avLst/>
          </a:prstGeom>
          <a:noFill/>
          <a:ln w="73080">
            <a:solidFill>
              <a:srgbClr val="67b8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2" name="Прямая соединительная линия 125"/>
          <p:cNvSpPr/>
          <p:nvPr/>
        </p:nvSpPr>
        <p:spPr>
          <a:xfrm>
            <a:off x="622440" y="552276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3" name="Прямая соединительная линия 126"/>
          <p:cNvSpPr/>
          <p:nvPr/>
        </p:nvSpPr>
        <p:spPr>
          <a:xfrm>
            <a:off x="1184400" y="495144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4" name="Прямая соединительная линия 127"/>
          <p:cNvSpPr/>
          <p:nvPr/>
        </p:nvSpPr>
        <p:spPr>
          <a:xfrm>
            <a:off x="1184400" y="5014800"/>
            <a:ext cx="24444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5" name="Прямая соединительная линия 128"/>
          <p:cNvSpPr/>
          <p:nvPr/>
        </p:nvSpPr>
        <p:spPr>
          <a:xfrm>
            <a:off x="612720" y="5230800"/>
            <a:ext cx="82728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6" name="Прямая соединительная линия 129"/>
          <p:cNvSpPr/>
          <p:nvPr/>
        </p:nvSpPr>
        <p:spPr>
          <a:xfrm>
            <a:off x="612720" y="5319720"/>
            <a:ext cx="82728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7" name="Прямая соединительная линия 130"/>
          <p:cNvSpPr/>
          <p:nvPr/>
        </p:nvSpPr>
        <p:spPr>
          <a:xfrm>
            <a:off x="612720" y="5403960"/>
            <a:ext cx="827280" cy="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8" name="TextBox 132"/>
          <p:cNvSpPr/>
          <p:nvPr/>
        </p:nvSpPr>
        <p:spPr>
          <a:xfrm>
            <a:off x="800640" y="49831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ЗКР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29" name="Прямая соединительная линия 135"/>
          <p:cNvSpPr/>
          <p:nvPr/>
        </p:nvSpPr>
        <p:spPr>
          <a:xfrm>
            <a:off x="1306440" y="5519880"/>
            <a:ext cx="115920" cy="2880"/>
          </a:xfrm>
          <a:prstGeom prst="line">
            <a:avLst/>
          </a:prstGeom>
          <a:ln cap="rnd" w="4752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30" name="TextBox 137"/>
          <p:cNvSpPr/>
          <p:nvPr/>
        </p:nvSpPr>
        <p:spPr>
          <a:xfrm>
            <a:off x="2021400" y="487188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7b8dd"/>
                </a:solidFill>
                <a:latin typeface="Lato Light"/>
                <a:ea typeface="Gotham Light"/>
              </a:rPr>
              <a:t>?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731" name=" 3"/>
          <p:cNvGrpSpPr/>
          <p:nvPr/>
        </p:nvGrpSpPr>
        <p:grpSpPr>
          <a:xfrm>
            <a:off x="1481040" y="4956120"/>
            <a:ext cx="549360" cy="542880"/>
            <a:chOff x="1481040" y="4956120"/>
            <a:chExt cx="549360" cy="542880"/>
          </a:xfrm>
        </p:grpSpPr>
        <p:pic>
          <p:nvPicPr>
            <p:cNvPr id="1732" name=" 3" descr=""/>
            <p:cNvPicPr/>
            <p:nvPr/>
          </p:nvPicPr>
          <p:blipFill>
            <a:blip r:embed="rId8"/>
            <a:stretch/>
          </p:blipFill>
          <p:spPr>
            <a:xfrm>
              <a:off x="1481040" y="495612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 rot="7617000">
              <a:off x="1580760" y="5036760"/>
              <a:ext cx="3538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grpSp>
        <p:nvGrpSpPr>
          <p:cNvPr id="1734" name=" 3"/>
          <p:cNvGrpSpPr/>
          <p:nvPr/>
        </p:nvGrpSpPr>
        <p:grpSpPr>
          <a:xfrm>
            <a:off x="1481040" y="5187960"/>
            <a:ext cx="549360" cy="542880"/>
            <a:chOff x="1481040" y="5187960"/>
            <a:chExt cx="549360" cy="542880"/>
          </a:xfrm>
        </p:grpSpPr>
        <p:pic>
          <p:nvPicPr>
            <p:cNvPr id="1735" name=" 3" descr=""/>
            <p:cNvPicPr/>
            <p:nvPr/>
          </p:nvPicPr>
          <p:blipFill>
            <a:blip r:embed="rId9"/>
            <a:stretch/>
          </p:blipFill>
          <p:spPr>
            <a:xfrm>
              <a:off x="1481040" y="518796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 rot="3183000">
              <a:off x="1580760" y="5265360"/>
              <a:ext cx="3538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737" name="TextBox 141"/>
          <p:cNvSpPr/>
          <p:nvPr/>
        </p:nvSpPr>
        <p:spPr>
          <a:xfrm>
            <a:off x="2173680" y="510048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7b8dd"/>
                </a:solidFill>
                <a:latin typeface="Lato Light"/>
                <a:ea typeface="Gotham Light"/>
              </a:rPr>
              <a:t>?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38" name="TextBox 142"/>
          <p:cNvSpPr/>
          <p:nvPr/>
        </p:nvSpPr>
        <p:spPr>
          <a:xfrm>
            <a:off x="1983240" y="527832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7b8dd"/>
                </a:solidFill>
                <a:latin typeface="Lato Light"/>
                <a:ea typeface="Gotham Light"/>
              </a:rPr>
              <a:t>?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39" name="Freeform 51"/>
          <p:cNvSpPr/>
          <p:nvPr/>
        </p:nvSpPr>
        <p:spPr>
          <a:xfrm>
            <a:off x="8148600" y="3173400"/>
            <a:ext cx="878040" cy="1062000"/>
          </a:xfrm>
          <a:custGeom>
            <a:avLst/>
            <a:gdLst/>
            <a:ahLst/>
            <a:rect l="l" t="t" r="r" b="b"/>
            <a:pathLst>
              <a:path w="114" h="125">
                <a:moveTo>
                  <a:pt x="42" y="66"/>
                </a:moveTo>
                <a:cubicBezTo>
                  <a:pt x="81" y="66"/>
                  <a:pt x="81" y="66"/>
                  <a:pt x="81" y="66"/>
                </a:cubicBezTo>
                <a:cubicBezTo>
                  <a:pt x="84" y="66"/>
                  <a:pt x="87" y="63"/>
                  <a:pt x="87" y="60"/>
                </a:cubicBezTo>
                <a:cubicBezTo>
                  <a:pt x="87" y="31"/>
                  <a:pt x="87" y="31"/>
                  <a:pt x="87" y="31"/>
                </a:cubicBezTo>
                <a:cubicBezTo>
                  <a:pt x="87" y="28"/>
                  <a:pt x="84" y="26"/>
                  <a:pt x="81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39" y="26"/>
                  <a:pt x="37" y="28"/>
                  <a:pt x="37" y="31"/>
                </a:cubicBezTo>
                <a:cubicBezTo>
                  <a:pt x="37" y="60"/>
                  <a:pt x="37" y="60"/>
                  <a:pt x="37" y="60"/>
                </a:cubicBezTo>
                <a:cubicBezTo>
                  <a:pt x="37" y="63"/>
                  <a:pt x="39" y="66"/>
                  <a:pt x="42" y="66"/>
                </a:cubicBezTo>
                <a:close/>
                <a:moveTo>
                  <a:pt x="47" y="36"/>
                </a:moveTo>
                <a:cubicBezTo>
                  <a:pt x="76" y="36"/>
                  <a:pt x="76" y="36"/>
                  <a:pt x="76" y="36"/>
                </a:cubicBezTo>
                <a:cubicBezTo>
                  <a:pt x="76" y="55"/>
                  <a:pt x="76" y="55"/>
                  <a:pt x="76" y="55"/>
                </a:cubicBezTo>
                <a:cubicBezTo>
                  <a:pt x="47" y="55"/>
                  <a:pt x="47" y="55"/>
                  <a:pt x="47" y="55"/>
                </a:cubicBezTo>
                <a:lnTo>
                  <a:pt x="47" y="36"/>
                </a:lnTo>
                <a:close/>
                <a:moveTo>
                  <a:pt x="108" y="0"/>
                </a:moveTo>
                <a:cubicBezTo>
                  <a:pt x="15" y="0"/>
                  <a:pt x="15" y="0"/>
                  <a:pt x="15" y="0"/>
                </a:cubicBezTo>
                <a:cubicBezTo>
                  <a:pt x="12" y="0"/>
                  <a:pt x="10" y="2"/>
                  <a:pt x="10" y="5"/>
                </a:cubicBezTo>
                <a:cubicBezTo>
                  <a:pt x="10" y="26"/>
                  <a:pt x="10" y="26"/>
                  <a:pt x="10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4" y="26"/>
                  <a:pt x="0" y="30"/>
                  <a:pt x="0" y="34"/>
                </a:cubicBezTo>
                <a:cubicBezTo>
                  <a:pt x="0" y="39"/>
                  <a:pt x="4" y="43"/>
                  <a:pt x="9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53"/>
                  <a:pt x="10" y="53"/>
                  <a:pt x="10" y="53"/>
                </a:cubicBezTo>
                <a:cubicBezTo>
                  <a:pt x="9" y="53"/>
                  <a:pt x="9" y="53"/>
                  <a:pt x="9" y="53"/>
                </a:cubicBezTo>
                <a:cubicBezTo>
                  <a:pt x="4" y="53"/>
                  <a:pt x="0" y="57"/>
                  <a:pt x="0" y="62"/>
                </a:cubicBezTo>
                <a:cubicBezTo>
                  <a:pt x="0" y="67"/>
                  <a:pt x="4" y="71"/>
                  <a:pt x="9" y="71"/>
                </a:cubicBezTo>
                <a:cubicBezTo>
                  <a:pt x="10" y="71"/>
                  <a:pt x="10" y="71"/>
                  <a:pt x="10" y="71"/>
                </a:cubicBezTo>
                <a:cubicBezTo>
                  <a:pt x="10" y="81"/>
                  <a:pt x="10" y="81"/>
                  <a:pt x="10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4" y="81"/>
                  <a:pt x="0" y="85"/>
                  <a:pt x="0" y="90"/>
                </a:cubicBezTo>
                <a:cubicBezTo>
                  <a:pt x="0" y="94"/>
                  <a:pt x="4" y="98"/>
                  <a:pt x="9" y="98"/>
                </a:cubicBezTo>
                <a:cubicBezTo>
                  <a:pt x="10" y="98"/>
                  <a:pt x="10" y="98"/>
                  <a:pt x="10" y="98"/>
                </a:cubicBezTo>
                <a:cubicBezTo>
                  <a:pt x="10" y="120"/>
                  <a:pt x="10" y="120"/>
                  <a:pt x="10" y="120"/>
                </a:cubicBezTo>
                <a:cubicBezTo>
                  <a:pt x="10" y="123"/>
                  <a:pt x="12" y="125"/>
                  <a:pt x="15" y="125"/>
                </a:cubicBezTo>
                <a:cubicBezTo>
                  <a:pt x="108" y="125"/>
                  <a:pt x="108" y="125"/>
                  <a:pt x="108" y="125"/>
                </a:cubicBezTo>
                <a:cubicBezTo>
                  <a:pt x="111" y="125"/>
                  <a:pt x="114" y="123"/>
                  <a:pt x="114" y="120"/>
                </a:cubicBezTo>
                <a:cubicBezTo>
                  <a:pt x="114" y="5"/>
                  <a:pt x="114" y="5"/>
                  <a:pt x="114" y="5"/>
                </a:cubicBezTo>
                <a:cubicBezTo>
                  <a:pt x="114" y="2"/>
                  <a:pt x="111" y="0"/>
                  <a:pt x="108" y="0"/>
                </a:cubicBezTo>
                <a:close/>
                <a:moveTo>
                  <a:pt x="103" y="115"/>
                </a:moveTo>
                <a:cubicBezTo>
                  <a:pt x="20" y="115"/>
                  <a:pt x="20" y="115"/>
                  <a:pt x="20" y="115"/>
                </a:cubicBezTo>
                <a:cubicBezTo>
                  <a:pt x="20" y="98"/>
                  <a:pt x="20" y="98"/>
                  <a:pt x="20" y="98"/>
                </a:cubicBezTo>
                <a:cubicBezTo>
                  <a:pt x="21" y="98"/>
                  <a:pt x="21" y="98"/>
                  <a:pt x="21" y="98"/>
                </a:cubicBezTo>
                <a:cubicBezTo>
                  <a:pt x="26" y="98"/>
                  <a:pt x="30" y="94"/>
                  <a:pt x="30" y="90"/>
                </a:cubicBezTo>
                <a:cubicBezTo>
                  <a:pt x="30" y="85"/>
                  <a:pt x="26" y="81"/>
                  <a:pt x="21" y="81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71"/>
                  <a:pt x="20" y="71"/>
                  <a:pt x="20" y="71"/>
                </a:cubicBezTo>
                <a:cubicBezTo>
                  <a:pt x="21" y="71"/>
                  <a:pt x="21" y="71"/>
                  <a:pt x="21" y="71"/>
                </a:cubicBezTo>
                <a:cubicBezTo>
                  <a:pt x="26" y="71"/>
                  <a:pt x="30" y="67"/>
                  <a:pt x="30" y="62"/>
                </a:cubicBezTo>
                <a:cubicBezTo>
                  <a:pt x="30" y="57"/>
                  <a:pt x="26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6" y="43"/>
                  <a:pt x="30" y="39"/>
                  <a:pt x="30" y="34"/>
                </a:cubicBezTo>
                <a:cubicBezTo>
                  <a:pt x="30" y="30"/>
                  <a:pt x="26" y="26"/>
                  <a:pt x="21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10"/>
                  <a:pt x="20" y="10"/>
                  <a:pt x="20" y="10"/>
                </a:cubicBezTo>
                <a:cubicBezTo>
                  <a:pt x="103" y="10"/>
                  <a:pt x="103" y="10"/>
                  <a:pt x="103" y="10"/>
                </a:cubicBezTo>
                <a:lnTo>
                  <a:pt x="103" y="115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40" name="TextBox 144"/>
          <p:cNvSpPr/>
          <p:nvPr/>
        </p:nvSpPr>
        <p:spPr>
          <a:xfrm>
            <a:off x="8260920" y="3724200"/>
            <a:ext cx="72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Главная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515151"/>
                </a:solidFill>
                <a:latin typeface="Lato Light"/>
              </a:rPr>
              <a:t>книга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741" name=" 3"/>
          <p:cNvGrpSpPr/>
          <p:nvPr/>
        </p:nvGrpSpPr>
        <p:grpSpPr>
          <a:xfrm>
            <a:off x="6546960" y="3816360"/>
            <a:ext cx="390240" cy="304920"/>
            <a:chOff x="6546960" y="3816360"/>
            <a:chExt cx="390240" cy="304920"/>
          </a:xfrm>
        </p:grpSpPr>
        <p:pic>
          <p:nvPicPr>
            <p:cNvPr id="1742" name=" 3" descr=""/>
            <p:cNvPicPr/>
            <p:nvPr/>
          </p:nvPicPr>
          <p:blipFill>
            <a:blip r:embed="rId10"/>
            <a:stretch/>
          </p:blipFill>
          <p:spPr>
            <a:xfrm>
              <a:off x="6546960" y="3816360"/>
              <a:ext cx="39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3" name=""/>
            <p:cNvSpPr/>
            <p:nvPr/>
          </p:nvSpPr>
          <p:spPr>
            <a:xfrm rot="10961400">
              <a:off x="6565680" y="3841560"/>
              <a:ext cx="3538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744" name="Freeform 80"/>
          <p:cNvSpPr/>
          <p:nvPr/>
        </p:nvSpPr>
        <p:spPr>
          <a:xfrm>
            <a:off x="8021520" y="2932200"/>
            <a:ext cx="900360" cy="900000"/>
          </a:xfrm>
          <a:custGeom>
            <a:avLst/>
            <a:gdLst/>
            <a:ahLst/>
            <a:rect l="l" t="t" r="r" b="b"/>
            <a:pathLst>
              <a:path w="1685" h="1686">
                <a:moveTo>
                  <a:pt x="299" y="299"/>
                </a:moveTo>
                <a:lnTo>
                  <a:pt x="299" y="299"/>
                </a:lnTo>
                <a:cubicBezTo>
                  <a:pt x="0" y="599"/>
                  <a:pt x="0" y="1086"/>
                  <a:pt x="299" y="1386"/>
                </a:cubicBezTo>
                <a:cubicBezTo>
                  <a:pt x="599" y="1686"/>
                  <a:pt x="1086" y="1686"/>
                  <a:pt x="1386" y="1386"/>
                </a:cubicBezTo>
                <a:cubicBezTo>
                  <a:pt x="1685" y="1086"/>
                  <a:pt x="1685" y="599"/>
                  <a:pt x="1386" y="299"/>
                </a:cubicBezTo>
                <a:cubicBezTo>
                  <a:pt x="1086" y="0"/>
                  <a:pt x="599" y="0"/>
                  <a:pt x="299" y="299"/>
                </a:cubicBezTo>
                <a:close/>
              </a:path>
            </a:pathLst>
          </a:custGeom>
          <a:solidFill>
            <a:srgbClr val="c4e3f1">
              <a:alpha val="86000"/>
            </a:srgbClr>
          </a:solidFill>
          <a:ln w="38160">
            <a:solidFill>
              <a:srgbClr val="67b8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45" name="Group 1" descr=""/>
          <p:cNvPicPr/>
          <p:nvPr/>
        </p:nvPicPr>
        <p:blipFill>
          <a:blip r:embed="rId11"/>
          <a:stretch/>
        </p:blipFill>
        <p:spPr>
          <a:xfrm>
            <a:off x="7711920" y="3560760"/>
            <a:ext cx="444600" cy="420840"/>
          </a:xfrm>
          <a:prstGeom prst="rect">
            <a:avLst/>
          </a:prstGeom>
          <a:ln w="0">
            <a:noFill/>
          </a:ln>
        </p:spPr>
      </p:pic>
      <p:sp>
        <p:nvSpPr>
          <p:cNvPr id="1746" name="Freeform 98"/>
          <p:cNvSpPr/>
          <p:nvPr/>
        </p:nvSpPr>
        <p:spPr>
          <a:xfrm rot="5760000">
            <a:off x="8060040" y="3485160"/>
            <a:ext cx="149040" cy="15732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361" y="53"/>
                </a:moveTo>
                <a:lnTo>
                  <a:pt x="361" y="53"/>
                </a:lnTo>
                <a:cubicBezTo>
                  <a:pt x="368" y="43"/>
                  <a:pt x="364" y="30"/>
                  <a:pt x="354" y="24"/>
                </a:cubicBezTo>
                <a:lnTo>
                  <a:pt x="319" y="5"/>
                </a:lnTo>
                <a:cubicBezTo>
                  <a:pt x="308" y="0"/>
                  <a:pt x="294" y="3"/>
                  <a:pt x="288" y="14"/>
                </a:cubicBezTo>
                <a:cubicBezTo>
                  <a:pt x="288" y="14"/>
                  <a:pt x="223" y="116"/>
                  <a:pt x="170" y="169"/>
                </a:cubicBezTo>
                <a:cubicBezTo>
                  <a:pt x="117" y="222"/>
                  <a:pt x="14" y="287"/>
                  <a:pt x="14" y="287"/>
                </a:cubicBezTo>
                <a:cubicBezTo>
                  <a:pt x="4" y="293"/>
                  <a:pt x="0" y="307"/>
                  <a:pt x="6" y="318"/>
                </a:cubicBezTo>
                <a:lnTo>
                  <a:pt x="25" y="353"/>
                </a:lnTo>
                <a:cubicBezTo>
                  <a:pt x="30" y="364"/>
                  <a:pt x="44" y="367"/>
                  <a:pt x="54" y="360"/>
                </a:cubicBezTo>
                <a:cubicBezTo>
                  <a:pt x="54" y="360"/>
                  <a:pt x="170" y="287"/>
                  <a:pt x="229" y="228"/>
                </a:cubicBezTo>
                <a:cubicBezTo>
                  <a:pt x="288" y="170"/>
                  <a:pt x="361" y="53"/>
                  <a:pt x="361" y="53"/>
                </a:cubicBez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47" name="TextBox 116"/>
          <p:cNvSpPr/>
          <p:nvPr/>
        </p:nvSpPr>
        <p:spPr>
          <a:xfrm>
            <a:off x="8042040" y="2982960"/>
            <a:ext cx="87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515151"/>
                </a:solidFill>
                <a:latin typeface="Lato Light"/>
              </a:rPr>
              <a:t>Вид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515151"/>
                </a:solidFill>
                <a:latin typeface="Lato Light"/>
              </a:rPr>
              <a:t>деятель-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515151"/>
                </a:solidFill>
                <a:latin typeface="Lato Light"/>
              </a:rPr>
              <a:t>ности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515151"/>
                </a:solidFill>
                <a:latin typeface="Lato Light"/>
              </a:rPr>
              <a:t>7,8,9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48" name="Picture 4" descr="\\192.168.170.75\Documents\Департамент продаж и маркетинга\Отдел дизайна и рекламы\!!Дизайнерская\ПРЕЗЕНТАЦИИ\шаблон презентации\Иконки в презентации\люди\users.png"/>
          <p:cNvPicPr/>
          <p:nvPr/>
        </p:nvPicPr>
        <p:blipFill>
          <a:blip r:embed="rId12"/>
          <a:stretch/>
        </p:blipFill>
        <p:spPr>
          <a:xfrm>
            <a:off x="7023240" y="3676680"/>
            <a:ext cx="699840" cy="700200"/>
          </a:xfrm>
          <a:prstGeom prst="rect">
            <a:avLst/>
          </a:prstGeom>
          <a:ln w="0">
            <a:noFill/>
          </a:ln>
        </p:spPr>
      </p:pic>
      <p:grpSp>
        <p:nvGrpSpPr>
          <p:cNvPr id="1749" name=" 3"/>
          <p:cNvGrpSpPr/>
          <p:nvPr/>
        </p:nvGrpSpPr>
        <p:grpSpPr>
          <a:xfrm>
            <a:off x="6540480" y="5126040"/>
            <a:ext cx="403200" cy="304920"/>
            <a:chOff x="6540480" y="5126040"/>
            <a:chExt cx="403200" cy="304920"/>
          </a:xfrm>
        </p:grpSpPr>
        <p:pic>
          <p:nvPicPr>
            <p:cNvPr id="1750" name=" 3" descr=""/>
            <p:cNvPicPr/>
            <p:nvPr/>
          </p:nvPicPr>
          <p:blipFill>
            <a:blip r:embed="rId13"/>
            <a:stretch/>
          </p:blipFill>
          <p:spPr>
            <a:xfrm>
              <a:off x="6540480" y="5126040"/>
              <a:ext cx="403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1" name=""/>
            <p:cNvSpPr/>
            <p:nvPr/>
          </p:nvSpPr>
          <p:spPr>
            <a:xfrm rot="191400">
              <a:off x="6565680" y="5149440"/>
              <a:ext cx="3538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752" name="Freeform 80"/>
          <p:cNvSpPr/>
          <p:nvPr/>
        </p:nvSpPr>
        <p:spPr>
          <a:xfrm>
            <a:off x="8021520" y="4494240"/>
            <a:ext cx="757440" cy="755640"/>
          </a:xfrm>
          <a:custGeom>
            <a:avLst/>
            <a:gdLst/>
            <a:ahLst/>
            <a:rect l="l" t="t" r="r" b="b"/>
            <a:pathLst>
              <a:path w="1685" h="1686">
                <a:moveTo>
                  <a:pt x="299" y="299"/>
                </a:moveTo>
                <a:lnTo>
                  <a:pt x="299" y="299"/>
                </a:lnTo>
                <a:cubicBezTo>
                  <a:pt x="0" y="599"/>
                  <a:pt x="0" y="1086"/>
                  <a:pt x="299" y="1386"/>
                </a:cubicBezTo>
                <a:cubicBezTo>
                  <a:pt x="599" y="1686"/>
                  <a:pt x="1086" y="1686"/>
                  <a:pt x="1386" y="1386"/>
                </a:cubicBezTo>
                <a:cubicBezTo>
                  <a:pt x="1685" y="1086"/>
                  <a:pt x="1685" y="599"/>
                  <a:pt x="1386" y="299"/>
                </a:cubicBezTo>
                <a:cubicBezTo>
                  <a:pt x="1086" y="0"/>
                  <a:pt x="599" y="0"/>
                  <a:pt x="299" y="299"/>
                </a:cubicBezTo>
                <a:close/>
              </a:path>
            </a:pathLst>
          </a:custGeom>
          <a:solidFill>
            <a:srgbClr val="c4e3f1">
              <a:alpha val="86000"/>
            </a:srgbClr>
          </a:solidFill>
          <a:ln w="38160">
            <a:solidFill>
              <a:srgbClr val="67b8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53" name="Group 1" descr=""/>
          <p:cNvPicPr/>
          <p:nvPr/>
        </p:nvPicPr>
        <p:blipFill>
          <a:blip r:embed="rId14"/>
          <a:stretch/>
        </p:blipFill>
        <p:spPr>
          <a:xfrm>
            <a:off x="7711920" y="5121360"/>
            <a:ext cx="444600" cy="425520"/>
          </a:xfrm>
          <a:prstGeom prst="rect">
            <a:avLst/>
          </a:prstGeom>
          <a:ln w="0">
            <a:noFill/>
          </a:ln>
        </p:spPr>
      </p:pic>
      <p:sp>
        <p:nvSpPr>
          <p:cNvPr id="1754" name="Freeform 98"/>
          <p:cNvSpPr/>
          <p:nvPr/>
        </p:nvSpPr>
        <p:spPr>
          <a:xfrm rot="5760000">
            <a:off x="8060040" y="5047200"/>
            <a:ext cx="149040" cy="15732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361" y="53"/>
                </a:moveTo>
                <a:lnTo>
                  <a:pt x="361" y="53"/>
                </a:lnTo>
                <a:cubicBezTo>
                  <a:pt x="368" y="43"/>
                  <a:pt x="364" y="30"/>
                  <a:pt x="354" y="24"/>
                </a:cubicBezTo>
                <a:lnTo>
                  <a:pt x="319" y="5"/>
                </a:lnTo>
                <a:cubicBezTo>
                  <a:pt x="308" y="0"/>
                  <a:pt x="294" y="3"/>
                  <a:pt x="288" y="14"/>
                </a:cubicBezTo>
                <a:cubicBezTo>
                  <a:pt x="288" y="14"/>
                  <a:pt x="223" y="116"/>
                  <a:pt x="170" y="169"/>
                </a:cubicBezTo>
                <a:cubicBezTo>
                  <a:pt x="117" y="222"/>
                  <a:pt x="14" y="287"/>
                  <a:pt x="14" y="287"/>
                </a:cubicBezTo>
                <a:cubicBezTo>
                  <a:pt x="4" y="293"/>
                  <a:pt x="0" y="307"/>
                  <a:pt x="6" y="318"/>
                </a:cubicBezTo>
                <a:lnTo>
                  <a:pt x="25" y="353"/>
                </a:lnTo>
                <a:cubicBezTo>
                  <a:pt x="30" y="364"/>
                  <a:pt x="44" y="367"/>
                  <a:pt x="54" y="360"/>
                </a:cubicBezTo>
                <a:cubicBezTo>
                  <a:pt x="54" y="360"/>
                  <a:pt x="170" y="287"/>
                  <a:pt x="229" y="228"/>
                </a:cubicBezTo>
                <a:cubicBezTo>
                  <a:pt x="288" y="170"/>
                  <a:pt x="361" y="53"/>
                  <a:pt x="361" y="53"/>
                </a:cubicBez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55" name="TextBox 171"/>
          <p:cNvSpPr/>
          <p:nvPr/>
        </p:nvSpPr>
        <p:spPr>
          <a:xfrm>
            <a:off x="8035200" y="463392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515151"/>
                </a:solidFill>
                <a:latin typeface="Lato Light"/>
              </a:rPr>
              <a:t>Сч.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515151"/>
                </a:solidFill>
                <a:latin typeface="Lato Light"/>
              </a:rPr>
              <a:t>40201…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56" name="Picture 4" descr="\\192.168.170.75\Documents\Департамент продаж и маркетинга\Отдел дизайна и рекламы\!!Дизайнерская\ПРЕЗЕНТАЦИИ\шаблон презентации\Иконки в презентации\люди\users.png"/>
          <p:cNvPicPr/>
          <p:nvPr/>
        </p:nvPicPr>
        <p:blipFill>
          <a:blip r:embed="rId15"/>
          <a:stretch/>
        </p:blipFill>
        <p:spPr>
          <a:xfrm>
            <a:off x="7010280" y="5237280"/>
            <a:ext cx="701640" cy="699840"/>
          </a:xfrm>
          <a:prstGeom prst="rect">
            <a:avLst/>
          </a:prstGeom>
          <a:ln w="0">
            <a:noFill/>
          </a:ln>
        </p:spPr>
      </p:pic>
      <p:sp>
        <p:nvSpPr>
          <p:cNvPr id="1757" name="Freeform 10"/>
          <p:cNvSpPr/>
          <p:nvPr/>
        </p:nvSpPr>
        <p:spPr>
          <a:xfrm>
            <a:off x="1633680" y="1960560"/>
            <a:ext cx="583920" cy="558720"/>
          </a:xfrm>
          <a:custGeom>
            <a:avLst/>
            <a:gdLst/>
            <a:ahLst/>
            <a:rect l="l" t="t" r="r" b="b"/>
            <a:pathLst>
              <a:path w="2444" h="1342">
                <a:moveTo>
                  <a:pt x="2380" y="1214"/>
                </a:moveTo>
                <a:lnTo>
                  <a:pt x="2380" y="1214"/>
                </a:lnTo>
                <a:lnTo>
                  <a:pt x="1408" y="1214"/>
                </a:lnTo>
                <a:cubicBezTo>
                  <a:pt x="1408" y="1244"/>
                  <a:pt x="1383" y="1269"/>
                  <a:pt x="1352" y="1269"/>
                </a:cubicBezTo>
                <a:lnTo>
                  <a:pt x="1060" y="1269"/>
                </a:lnTo>
                <a:cubicBezTo>
                  <a:pt x="1029" y="1269"/>
                  <a:pt x="1004" y="1244"/>
                  <a:pt x="1004" y="1214"/>
                </a:cubicBezTo>
                <a:lnTo>
                  <a:pt x="64" y="1214"/>
                </a:lnTo>
                <a:cubicBezTo>
                  <a:pt x="28" y="1214"/>
                  <a:pt x="0" y="1242"/>
                  <a:pt x="0" y="1278"/>
                </a:cubicBezTo>
                <a:cubicBezTo>
                  <a:pt x="0" y="1313"/>
                  <a:pt x="28" y="1342"/>
                  <a:pt x="64" y="1342"/>
                </a:cubicBezTo>
                <a:lnTo>
                  <a:pt x="2380" y="1342"/>
                </a:lnTo>
                <a:cubicBezTo>
                  <a:pt x="2416" y="1342"/>
                  <a:pt x="2444" y="1313"/>
                  <a:pt x="2444" y="1278"/>
                </a:cubicBezTo>
                <a:cubicBezTo>
                  <a:pt x="2444" y="1242"/>
                  <a:pt x="2416" y="1214"/>
                  <a:pt x="2380" y="1214"/>
                </a:cubicBezTo>
                <a:close/>
                <a:moveTo>
                  <a:pt x="342" y="99"/>
                </a:moveTo>
                <a:lnTo>
                  <a:pt x="342" y="99"/>
                </a:lnTo>
                <a:lnTo>
                  <a:pt x="2075" y="99"/>
                </a:lnTo>
                <a:lnTo>
                  <a:pt x="2075" y="1063"/>
                </a:lnTo>
                <a:lnTo>
                  <a:pt x="342" y="1063"/>
                </a:lnTo>
                <a:lnTo>
                  <a:pt x="342" y="99"/>
                </a:lnTo>
                <a:close/>
                <a:moveTo>
                  <a:pt x="288" y="1162"/>
                </a:moveTo>
                <a:lnTo>
                  <a:pt x="288" y="1162"/>
                </a:lnTo>
                <a:lnTo>
                  <a:pt x="2124" y="1162"/>
                </a:lnTo>
                <a:cubicBezTo>
                  <a:pt x="2163" y="1162"/>
                  <a:pt x="2191" y="1128"/>
                  <a:pt x="2191" y="1090"/>
                </a:cubicBezTo>
                <a:lnTo>
                  <a:pt x="2191" y="66"/>
                </a:lnTo>
                <a:cubicBezTo>
                  <a:pt x="2191" y="28"/>
                  <a:pt x="2163" y="0"/>
                  <a:pt x="2124" y="0"/>
                </a:cubicBezTo>
                <a:lnTo>
                  <a:pt x="288" y="0"/>
                </a:lnTo>
                <a:cubicBezTo>
                  <a:pt x="249" y="0"/>
                  <a:pt x="221" y="28"/>
                  <a:pt x="221" y="66"/>
                </a:cubicBezTo>
                <a:lnTo>
                  <a:pt x="221" y="1090"/>
                </a:lnTo>
                <a:cubicBezTo>
                  <a:pt x="221" y="1128"/>
                  <a:pt x="249" y="1162"/>
                  <a:pt x="288" y="1162"/>
                </a:cubicBez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58" name="Freeform 26"/>
          <p:cNvSpPr/>
          <p:nvPr/>
        </p:nvSpPr>
        <p:spPr>
          <a:xfrm>
            <a:off x="1771560" y="2057400"/>
            <a:ext cx="324000" cy="325440"/>
          </a:xfrm>
          <a:custGeom>
            <a:avLst/>
            <a:gdLst/>
            <a:ahLst/>
            <a:rect l="l" t="t" r="r" b="b"/>
            <a:pathLst>
              <a:path w="2327" h="2330">
                <a:moveTo>
                  <a:pt x="884" y="1840"/>
                </a:moveTo>
                <a:lnTo>
                  <a:pt x="884" y="1840"/>
                </a:lnTo>
                <a:cubicBezTo>
                  <a:pt x="666" y="1840"/>
                  <a:pt x="490" y="1664"/>
                  <a:pt x="490" y="1446"/>
                </a:cubicBezTo>
                <a:cubicBezTo>
                  <a:pt x="490" y="1227"/>
                  <a:pt x="666" y="1051"/>
                  <a:pt x="884" y="1051"/>
                </a:cubicBezTo>
                <a:cubicBezTo>
                  <a:pt x="1103" y="1051"/>
                  <a:pt x="1279" y="1227"/>
                  <a:pt x="1279" y="1446"/>
                </a:cubicBezTo>
                <a:cubicBezTo>
                  <a:pt x="1279" y="1664"/>
                  <a:pt x="1103" y="1840"/>
                  <a:pt x="884" y="1840"/>
                </a:cubicBezTo>
                <a:close/>
                <a:moveTo>
                  <a:pt x="1676" y="1050"/>
                </a:moveTo>
                <a:lnTo>
                  <a:pt x="1676" y="1050"/>
                </a:lnTo>
                <a:lnTo>
                  <a:pt x="1453" y="1090"/>
                </a:lnTo>
                <a:cubicBezTo>
                  <a:pt x="1401" y="1008"/>
                  <a:pt x="1332" y="938"/>
                  <a:pt x="1252" y="885"/>
                </a:cubicBezTo>
                <a:lnTo>
                  <a:pt x="1292" y="661"/>
                </a:lnTo>
                <a:cubicBezTo>
                  <a:pt x="1222" y="624"/>
                  <a:pt x="1147" y="597"/>
                  <a:pt x="1067" y="580"/>
                </a:cubicBezTo>
                <a:lnTo>
                  <a:pt x="961" y="779"/>
                </a:lnTo>
                <a:cubicBezTo>
                  <a:pt x="936" y="777"/>
                  <a:pt x="910" y="775"/>
                  <a:pt x="884" y="775"/>
                </a:cubicBezTo>
                <a:cubicBezTo>
                  <a:pt x="809" y="775"/>
                  <a:pt x="736" y="788"/>
                  <a:pt x="669" y="811"/>
                </a:cubicBezTo>
                <a:lnTo>
                  <a:pt x="518" y="640"/>
                </a:lnTo>
                <a:cubicBezTo>
                  <a:pt x="446" y="673"/>
                  <a:pt x="378" y="716"/>
                  <a:pt x="318" y="767"/>
                </a:cubicBezTo>
                <a:lnTo>
                  <a:pt x="408" y="974"/>
                </a:lnTo>
                <a:cubicBezTo>
                  <a:pt x="340" y="1042"/>
                  <a:pt x="287" y="1126"/>
                  <a:pt x="253" y="1219"/>
                </a:cubicBezTo>
                <a:lnTo>
                  <a:pt x="27" y="1228"/>
                </a:lnTo>
                <a:cubicBezTo>
                  <a:pt x="9" y="1297"/>
                  <a:pt x="0" y="1370"/>
                  <a:pt x="0" y="1446"/>
                </a:cubicBezTo>
                <a:cubicBezTo>
                  <a:pt x="0" y="1451"/>
                  <a:pt x="0" y="1457"/>
                  <a:pt x="0" y="1463"/>
                </a:cubicBezTo>
                <a:lnTo>
                  <a:pt x="219" y="1523"/>
                </a:lnTo>
                <a:cubicBezTo>
                  <a:pt x="231" y="1628"/>
                  <a:pt x="267" y="1725"/>
                  <a:pt x="321" y="1809"/>
                </a:cubicBezTo>
                <a:lnTo>
                  <a:pt x="190" y="1993"/>
                </a:lnTo>
                <a:cubicBezTo>
                  <a:pt x="239" y="2055"/>
                  <a:pt x="296" y="2111"/>
                  <a:pt x="360" y="2158"/>
                </a:cubicBezTo>
                <a:lnTo>
                  <a:pt x="543" y="2022"/>
                </a:lnTo>
                <a:cubicBezTo>
                  <a:pt x="624" y="2070"/>
                  <a:pt x="716" y="2102"/>
                  <a:pt x="814" y="2112"/>
                </a:cubicBezTo>
                <a:lnTo>
                  <a:pt x="875" y="2330"/>
                </a:lnTo>
                <a:cubicBezTo>
                  <a:pt x="878" y="2330"/>
                  <a:pt x="881" y="2330"/>
                  <a:pt x="884" y="2330"/>
                </a:cubicBezTo>
                <a:cubicBezTo>
                  <a:pt x="963" y="2330"/>
                  <a:pt x="1039" y="2319"/>
                  <a:pt x="1112" y="2300"/>
                </a:cubicBezTo>
                <a:lnTo>
                  <a:pt x="1121" y="2073"/>
                </a:lnTo>
                <a:cubicBezTo>
                  <a:pt x="1208" y="2040"/>
                  <a:pt x="1287" y="1989"/>
                  <a:pt x="1352" y="1925"/>
                </a:cubicBezTo>
                <a:lnTo>
                  <a:pt x="1560" y="2016"/>
                </a:lnTo>
                <a:cubicBezTo>
                  <a:pt x="1612" y="1955"/>
                  <a:pt x="1655" y="1886"/>
                  <a:pt x="1689" y="1813"/>
                </a:cubicBezTo>
                <a:lnTo>
                  <a:pt x="1519" y="1662"/>
                </a:lnTo>
                <a:cubicBezTo>
                  <a:pt x="1542" y="1594"/>
                  <a:pt x="1555" y="1521"/>
                  <a:pt x="1555" y="1446"/>
                </a:cubicBezTo>
                <a:cubicBezTo>
                  <a:pt x="1555" y="1425"/>
                  <a:pt x="1554" y="1404"/>
                  <a:pt x="1552" y="1384"/>
                </a:cubicBezTo>
                <a:lnTo>
                  <a:pt x="1753" y="1278"/>
                </a:lnTo>
                <a:cubicBezTo>
                  <a:pt x="1737" y="1197"/>
                  <a:pt x="1711" y="1121"/>
                  <a:pt x="1676" y="1050"/>
                </a:cubicBezTo>
                <a:close/>
                <a:moveTo>
                  <a:pt x="1793" y="698"/>
                </a:moveTo>
                <a:lnTo>
                  <a:pt x="1793" y="698"/>
                </a:lnTo>
                <a:cubicBezTo>
                  <a:pt x="1702" y="698"/>
                  <a:pt x="1629" y="625"/>
                  <a:pt x="1629" y="534"/>
                </a:cubicBezTo>
                <a:cubicBezTo>
                  <a:pt x="1629" y="444"/>
                  <a:pt x="1702" y="370"/>
                  <a:pt x="1793" y="370"/>
                </a:cubicBezTo>
                <a:cubicBezTo>
                  <a:pt x="1884" y="370"/>
                  <a:pt x="1957" y="444"/>
                  <a:pt x="1957" y="534"/>
                </a:cubicBezTo>
                <a:cubicBezTo>
                  <a:pt x="1957" y="625"/>
                  <a:pt x="1884" y="698"/>
                  <a:pt x="1793" y="698"/>
                </a:cubicBezTo>
                <a:close/>
                <a:moveTo>
                  <a:pt x="2294" y="349"/>
                </a:moveTo>
                <a:lnTo>
                  <a:pt x="2294" y="349"/>
                </a:lnTo>
                <a:lnTo>
                  <a:pt x="2145" y="355"/>
                </a:lnTo>
                <a:cubicBezTo>
                  <a:pt x="2108" y="283"/>
                  <a:pt x="2049" y="223"/>
                  <a:pt x="1977" y="185"/>
                </a:cubicBezTo>
                <a:lnTo>
                  <a:pt x="1985" y="36"/>
                </a:lnTo>
                <a:cubicBezTo>
                  <a:pt x="1926" y="13"/>
                  <a:pt x="1861" y="0"/>
                  <a:pt x="1793" y="0"/>
                </a:cubicBezTo>
                <a:cubicBezTo>
                  <a:pt x="1785" y="0"/>
                  <a:pt x="1778" y="1"/>
                  <a:pt x="1770" y="1"/>
                </a:cubicBezTo>
                <a:lnTo>
                  <a:pt x="1730" y="145"/>
                </a:lnTo>
                <a:cubicBezTo>
                  <a:pt x="1648" y="158"/>
                  <a:pt x="1574" y="196"/>
                  <a:pt x="1517" y="252"/>
                </a:cubicBezTo>
                <a:lnTo>
                  <a:pt x="1378" y="199"/>
                </a:lnTo>
                <a:cubicBezTo>
                  <a:pt x="1332" y="255"/>
                  <a:pt x="1298" y="321"/>
                  <a:pt x="1278" y="392"/>
                </a:cubicBezTo>
                <a:lnTo>
                  <a:pt x="1403" y="474"/>
                </a:lnTo>
                <a:cubicBezTo>
                  <a:pt x="1400" y="494"/>
                  <a:pt x="1398" y="514"/>
                  <a:pt x="1398" y="534"/>
                </a:cubicBezTo>
                <a:cubicBezTo>
                  <a:pt x="1398" y="599"/>
                  <a:pt x="1414" y="659"/>
                  <a:pt x="1441" y="713"/>
                </a:cubicBezTo>
                <a:lnTo>
                  <a:pt x="1348" y="830"/>
                </a:lnTo>
                <a:cubicBezTo>
                  <a:pt x="1389" y="891"/>
                  <a:pt x="1441" y="943"/>
                  <a:pt x="1503" y="983"/>
                </a:cubicBezTo>
                <a:lnTo>
                  <a:pt x="1619" y="889"/>
                </a:lnTo>
                <a:cubicBezTo>
                  <a:pt x="1671" y="915"/>
                  <a:pt x="1730" y="929"/>
                  <a:pt x="1793" y="929"/>
                </a:cubicBezTo>
                <a:cubicBezTo>
                  <a:pt x="1812" y="929"/>
                  <a:pt x="1831" y="928"/>
                  <a:pt x="1849" y="925"/>
                </a:cubicBezTo>
                <a:lnTo>
                  <a:pt x="1930" y="1051"/>
                </a:lnTo>
                <a:cubicBezTo>
                  <a:pt x="2002" y="1032"/>
                  <a:pt x="2068" y="998"/>
                  <a:pt x="2124" y="953"/>
                </a:cubicBezTo>
                <a:lnTo>
                  <a:pt x="2073" y="813"/>
                </a:lnTo>
                <a:cubicBezTo>
                  <a:pt x="2129" y="757"/>
                  <a:pt x="2168" y="684"/>
                  <a:pt x="2182" y="602"/>
                </a:cubicBezTo>
                <a:lnTo>
                  <a:pt x="2326" y="564"/>
                </a:lnTo>
                <a:cubicBezTo>
                  <a:pt x="2327" y="554"/>
                  <a:pt x="2327" y="544"/>
                  <a:pt x="2327" y="534"/>
                </a:cubicBezTo>
                <a:cubicBezTo>
                  <a:pt x="2327" y="469"/>
                  <a:pt x="2315" y="407"/>
                  <a:pt x="2294" y="349"/>
                </a:cubicBez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Title 23"/>
          <p:cNvSpPr/>
          <p:nvPr/>
        </p:nvSpPr>
        <p:spPr>
          <a:xfrm>
            <a:off x="0" y="430200"/>
            <a:ext cx="9144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Regular"/>
                <a:ea typeface="Lato Regular"/>
              </a:rPr>
              <a:t>РАБОТА С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ПОЛЬЗОВАТЕЛЬСКОЙ НАСТРОЙКОЙ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0" name="Text Placeholder 24"/>
          <p:cNvSpPr/>
          <p:nvPr/>
        </p:nvSpPr>
        <p:spPr>
          <a:xfrm>
            <a:off x="552600" y="1019160"/>
            <a:ext cx="8034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93939"/>
                </a:solidFill>
                <a:latin typeface="Lato Light"/>
                <a:ea typeface="Gotham Light"/>
              </a:rPr>
              <a:t>«Дополнительные настройки архивирования»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1" name="TextBox 4"/>
          <p:cNvSpPr/>
          <p:nvPr/>
        </p:nvSpPr>
        <p:spPr>
          <a:xfrm>
            <a:off x="6070680" y="1379520"/>
            <a:ext cx="2670120" cy="1865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0" rIns="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4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Lato Light"/>
              </a:rPr>
              <a:t>Указать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Lato Light"/>
              </a:rPr>
              <a:t>SQL-выражение, определяющее условие для размещения документа в требуемый каталог  хранения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2" name="TextBox 5"/>
          <p:cNvSpPr/>
          <p:nvPr/>
        </p:nvSpPr>
        <p:spPr>
          <a:xfrm>
            <a:off x="4048200" y="1379520"/>
            <a:ext cx="2670120" cy="1865160"/>
          </a:xfrm>
          <a:prstGeom prst="rect">
            <a:avLst/>
          </a:prstGeom>
          <a:solidFill>
            <a:srgbClr val="9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584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3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Lato Light"/>
              </a:rPr>
              <a:t>Указать/выбрать требуемый каталог  хранения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3" name="TextBox 6"/>
          <p:cNvSpPr/>
          <p:nvPr/>
        </p:nvSpPr>
        <p:spPr>
          <a:xfrm>
            <a:off x="2035080" y="1379520"/>
            <a:ext cx="2670120" cy="1865160"/>
          </a:xfrm>
          <a:prstGeom prst="rect">
            <a:avLst/>
          </a:pr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2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Lato Light"/>
              </a:rPr>
              <a:t>Указать/выбрать Тип/Код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Lato Light"/>
              </a:rPr>
              <a:t>докумен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4" name="TextBox 7"/>
          <p:cNvSpPr/>
          <p:nvPr/>
        </p:nvSpPr>
        <p:spPr>
          <a:xfrm>
            <a:off x="0" y="1379520"/>
            <a:ext cx="2673360" cy="186516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584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1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Lato Light"/>
              </a:rPr>
              <a:t>Указать/выбрать  код группы докумен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5" name="Isosceles Triangle 38"/>
          <p:cNvSpPr/>
          <p:nvPr/>
        </p:nvSpPr>
        <p:spPr>
          <a:xfrm rot="5400000">
            <a:off x="355320" y="2187720"/>
            <a:ext cx="814320" cy="249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6" name="Rectangle 28"/>
          <p:cNvSpPr/>
          <p:nvPr/>
        </p:nvSpPr>
        <p:spPr>
          <a:xfrm>
            <a:off x="0" y="1343160"/>
            <a:ext cx="638280" cy="19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7" name="Isosceles Triangle 37"/>
          <p:cNvSpPr/>
          <p:nvPr/>
        </p:nvSpPr>
        <p:spPr>
          <a:xfrm rot="5400000">
            <a:off x="6431040" y="2187720"/>
            <a:ext cx="814320" cy="249120"/>
          </a:xfrm>
          <a:prstGeom prst="triangle">
            <a:avLst>
              <a:gd name="adj" fmla="val 50000"/>
            </a:avLst>
          </a:prstGeom>
          <a:solidFill>
            <a:srgbClr val="9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8" name="Isosceles Triangle 36"/>
          <p:cNvSpPr/>
          <p:nvPr/>
        </p:nvSpPr>
        <p:spPr>
          <a:xfrm rot="5400000">
            <a:off x="4410000" y="2187720"/>
            <a:ext cx="814320" cy="249120"/>
          </a:xfrm>
          <a:prstGeom prst="triangle">
            <a:avLst>
              <a:gd name="adj" fmla="val 50000"/>
            </a:avLst>
          </a:pr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69" name="Isosceles Triangle 22"/>
          <p:cNvSpPr/>
          <p:nvPr/>
        </p:nvSpPr>
        <p:spPr>
          <a:xfrm rot="5400000">
            <a:off x="2383920" y="2187360"/>
            <a:ext cx="814320" cy="249480"/>
          </a:xfrm>
          <a:prstGeom prst="triangle">
            <a:avLst>
              <a:gd name="adj" fmla="val 50000"/>
            </a:avLst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70" name="Рисунок 15" descr=""/>
          <p:cNvPicPr/>
          <p:nvPr/>
        </p:nvPicPr>
        <p:blipFill>
          <a:blip r:embed="rId1"/>
          <a:stretch/>
        </p:blipFill>
        <p:spPr>
          <a:xfrm>
            <a:off x="638280" y="3382920"/>
            <a:ext cx="8102520" cy="2414520"/>
          </a:xfrm>
          <a:prstGeom prst="rect">
            <a:avLst/>
          </a:prstGeom>
          <a:ln w="0">
            <a:noFill/>
          </a:ln>
        </p:spPr>
      </p:pic>
      <p:sp>
        <p:nvSpPr>
          <p:cNvPr id="1771" name="TextBox 16"/>
          <p:cNvSpPr/>
          <p:nvPr/>
        </p:nvSpPr>
        <p:spPr>
          <a:xfrm>
            <a:off x="1054080" y="5908680"/>
            <a:ext cx="7686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ato Light"/>
                <a:ea typeface="Gotham Light"/>
              </a:rPr>
              <a:t>В дополнительных условиях требуется указывать </a:t>
            </a:r>
            <a:r>
              <a:rPr b="0" lang="en-US" sz="1300" spc="-1" strike="noStrike">
                <a:solidFill>
                  <a:srgbClr val="000000"/>
                </a:solidFill>
                <a:latin typeface="Lato Light"/>
                <a:ea typeface="Gotham Light"/>
              </a:rPr>
              <a:t>S</a:t>
            </a:r>
            <a:r>
              <a:rPr b="0" lang="ru-RU" sz="1300" spc="-1" strike="noStrike">
                <a:solidFill>
                  <a:srgbClr val="000000"/>
                </a:solidFill>
                <a:latin typeface="Lato Light"/>
                <a:ea typeface="Gotham Light"/>
              </a:rPr>
              <a:t>QL-выражения, содержащие условия отбора для полей документа в формате </a:t>
            </a:r>
            <a:r>
              <a:rPr b="0" lang="en-US" sz="1300" spc="-1" strike="noStrike">
                <a:solidFill>
                  <a:srgbClr val="000000"/>
                </a:solidFill>
                <a:latin typeface="Lato Light"/>
                <a:ea typeface="Gotham Light"/>
              </a:rPr>
              <a:t>R</a:t>
            </a:r>
            <a:r>
              <a:rPr b="0" lang="ru-RU" sz="1300" spc="-1" strike="noStrike">
                <a:solidFill>
                  <a:srgbClr val="000000"/>
                </a:solidFill>
                <a:latin typeface="Lato Light"/>
                <a:ea typeface="Gotham Light"/>
              </a:rPr>
              <a:t>.«Наименование поля из заголовка» или L. «Наименование поля из строки» </a:t>
            </a:r>
            <a:endParaRPr b="0" lang="en-US" sz="13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72" name="Freeform 6"/>
          <p:cNvSpPr/>
          <p:nvPr/>
        </p:nvSpPr>
        <p:spPr>
          <a:xfrm>
            <a:off x="720720" y="6130800"/>
            <a:ext cx="237960" cy="204840"/>
          </a:xfrm>
          <a:custGeom>
            <a:avLst/>
            <a:gdLst>
              <a:gd name="textAreaLeft" fmla="*/ 0 w 237960"/>
              <a:gd name="textAreaRight" fmla="*/ 238320 w 2379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773" name="Group 216"/>
          <p:cNvGrpSpPr/>
          <p:nvPr/>
        </p:nvGrpSpPr>
        <p:grpSpPr>
          <a:xfrm>
            <a:off x="649440" y="6043680"/>
            <a:ext cx="358560" cy="360360"/>
            <a:chOff x="649440" y="6043680"/>
            <a:chExt cx="358560" cy="360360"/>
          </a:xfrm>
        </p:grpSpPr>
        <p:sp>
          <p:nvSpPr>
            <p:cNvPr id="1774" name="Freeform 5"/>
            <p:cNvSpPr/>
            <p:nvPr/>
          </p:nvSpPr>
          <p:spPr>
            <a:xfrm>
              <a:off x="649440" y="6043680"/>
              <a:ext cx="358560" cy="3603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3" h="3223">
                  <a:moveTo>
                    <a:pt x="0" y="1611"/>
                  </a:moveTo>
                  <a:lnTo>
                    <a:pt x="0" y="1611"/>
                  </a:lnTo>
                  <a:cubicBezTo>
                    <a:pt x="0" y="721"/>
                    <a:pt x="722" y="0"/>
                    <a:pt x="1612" y="0"/>
                  </a:cubicBezTo>
                  <a:cubicBezTo>
                    <a:pt x="2502" y="0"/>
                    <a:pt x="3223" y="721"/>
                    <a:pt x="3223" y="1611"/>
                  </a:cubicBezTo>
                  <a:cubicBezTo>
                    <a:pt x="3223" y="2501"/>
                    <a:pt x="2502" y="3223"/>
                    <a:pt x="1612" y="3223"/>
                  </a:cubicBezTo>
                  <a:cubicBezTo>
                    <a:pt x="722" y="3223"/>
                    <a:pt x="0" y="2501"/>
                    <a:pt x="0" y="1611"/>
                  </a:cubicBezTo>
                  <a:close/>
                </a:path>
              </a:pathLst>
            </a:custGeom>
            <a:solidFill>
              <a:srgbClr val="6b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775" name="Freeform 6"/>
            <p:cNvSpPr/>
            <p:nvPr/>
          </p:nvSpPr>
          <p:spPr>
            <a:xfrm>
              <a:off x="721080" y="6131160"/>
              <a:ext cx="237240" cy="204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32" h="1832">
                  <a:moveTo>
                    <a:pt x="1811" y="0"/>
                  </a:moveTo>
                  <a:lnTo>
                    <a:pt x="1811" y="0"/>
                  </a:lnTo>
                  <a:lnTo>
                    <a:pt x="767" y="1241"/>
                  </a:lnTo>
                  <a:lnTo>
                    <a:pt x="269" y="823"/>
                  </a:lnTo>
                  <a:lnTo>
                    <a:pt x="0" y="1143"/>
                  </a:lnTo>
                  <a:lnTo>
                    <a:pt x="817" y="1832"/>
                  </a:lnTo>
                  <a:lnTo>
                    <a:pt x="2132" y="270"/>
                  </a:lnTo>
                  <a:lnTo>
                    <a:pt x="18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6" name="Рисунок 3" descr=""/>
          <p:cNvPicPr/>
          <p:nvPr/>
        </p:nvPicPr>
        <p:blipFill>
          <a:blip r:embed="rId1"/>
          <a:stretch/>
        </p:blipFill>
        <p:spPr>
          <a:xfrm>
            <a:off x="268200" y="3262320"/>
            <a:ext cx="8380440" cy="2508120"/>
          </a:xfrm>
          <a:prstGeom prst="rect">
            <a:avLst/>
          </a:prstGeom>
          <a:ln w="0">
            <a:noFill/>
          </a:ln>
        </p:spPr>
      </p:pic>
      <p:sp>
        <p:nvSpPr>
          <p:cNvPr id="1777" name="Выноска 1 (граница и черта) 9"/>
          <p:cNvSpPr/>
          <p:nvPr/>
        </p:nvSpPr>
        <p:spPr>
          <a:xfrm>
            <a:off x="4338720" y="2927520"/>
            <a:ext cx="46432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68" y="15944"/>
                </a:moveTo>
                <a:lnTo>
                  <a:pt x="-1079" y="10625"/>
                </a:lnTo>
              </a:path>
              <a:path w="21600" h="21600">
                <a:moveTo>
                  <a:pt x="-1079" y="0"/>
                </a:moveTo>
                <a:lnTo>
                  <a:pt x="-1079" y="21600"/>
                </a:lnTo>
              </a:path>
            </a:pathLst>
          </a:custGeom>
          <a:solidFill>
            <a:srgbClr val="37b8f2"/>
          </a:solidFill>
          <a:ln w="4140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78" name="Title 23"/>
          <p:cNvSpPr/>
          <p:nvPr/>
        </p:nvSpPr>
        <p:spPr>
          <a:xfrm>
            <a:off x="318960" y="419040"/>
            <a:ext cx="86090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Regular"/>
                <a:ea typeface="Lato Regular"/>
              </a:rPr>
              <a:t>РАБОТА С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КОНСТРУКТОРОМ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79" name="Text Placeholder 24"/>
          <p:cNvSpPr/>
          <p:nvPr/>
        </p:nvSpPr>
        <p:spPr>
          <a:xfrm>
            <a:off x="552600" y="1042920"/>
            <a:ext cx="8034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93939"/>
                </a:solidFill>
                <a:latin typeface="Lato Light"/>
                <a:ea typeface="Gotham Light"/>
              </a:rPr>
              <a:t>построения дополнительных параметров архивирования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0" name="TextBox 4"/>
          <p:cNvSpPr/>
          <p:nvPr/>
        </p:nvSpPr>
        <p:spPr>
          <a:xfrm>
            <a:off x="6070680" y="1368360"/>
            <a:ext cx="2670120" cy="14400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4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Lato Light"/>
              </a:rPr>
              <a:t>Построение конструктором</a:t>
            </a:r>
            <a:r>
              <a:rPr b="1" lang="en-US" sz="1200" spc="-1" strike="noStrike">
                <a:solidFill>
                  <a:srgbClr val="ffffff"/>
                </a:solidFill>
                <a:latin typeface="Lato Light"/>
              </a:rPr>
              <a:t>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 Light"/>
              </a:rPr>
              <a:t>S</a:t>
            </a:r>
            <a:r>
              <a:rPr b="1" lang="ru-RU" sz="1200" spc="-1" strike="noStrike">
                <a:solidFill>
                  <a:srgbClr val="ffffff"/>
                </a:solidFill>
                <a:latin typeface="Lato Light"/>
              </a:rPr>
              <a:t>QL-выражения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1" name="TextBox 5"/>
          <p:cNvSpPr/>
          <p:nvPr/>
        </p:nvSpPr>
        <p:spPr>
          <a:xfrm>
            <a:off x="4048200" y="1368360"/>
            <a:ext cx="2670120" cy="1440000"/>
          </a:xfrm>
          <a:prstGeom prst="rect">
            <a:avLst/>
          </a:prstGeom>
          <a:solidFill>
            <a:srgbClr val="9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584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3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Lato Light"/>
              </a:rPr>
              <a:t>Указать/выбрать значение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2" name="TextBox 6"/>
          <p:cNvSpPr/>
          <p:nvPr/>
        </p:nvSpPr>
        <p:spPr>
          <a:xfrm>
            <a:off x="2035080" y="1368360"/>
            <a:ext cx="2670120" cy="1440000"/>
          </a:xfrm>
          <a:prstGeom prst="rect">
            <a:avLst/>
          </a:pr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2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Lato Light"/>
              </a:rPr>
              <a:t>Указать/выбрать 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Lato Light"/>
              </a:rPr>
              <a:t>условие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3" name="TextBox 7"/>
          <p:cNvSpPr/>
          <p:nvPr/>
        </p:nvSpPr>
        <p:spPr>
          <a:xfrm>
            <a:off x="0" y="1368360"/>
            <a:ext cx="2673360" cy="1440000"/>
          </a:xfrm>
          <a:prstGeom prst="rect">
            <a:avLst/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5840" rIns="72000" tIns="182880" bIns="18288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ato Bold"/>
              </a:rPr>
              <a:t>ШАГ</a:t>
            </a:r>
            <a:r>
              <a:rPr b="1" lang="en-US" sz="3200" spc="-1" strike="noStrike">
                <a:solidFill>
                  <a:srgbClr val="ffffff"/>
                </a:solidFill>
                <a:latin typeface="Lato Bold"/>
              </a:rPr>
              <a:t> 1</a:t>
            </a:r>
            <a:endParaRPr b="0" lang="en-US" sz="32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Lato Light"/>
              </a:rPr>
              <a:t>Указать/выбрать  поле для анализ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4" name="Isosceles Triangle 38"/>
          <p:cNvSpPr/>
          <p:nvPr/>
        </p:nvSpPr>
        <p:spPr>
          <a:xfrm rot="5400000">
            <a:off x="355320" y="1990800"/>
            <a:ext cx="814320" cy="249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5" name="Rectangle 28"/>
          <p:cNvSpPr/>
          <p:nvPr/>
        </p:nvSpPr>
        <p:spPr>
          <a:xfrm>
            <a:off x="0" y="1332000"/>
            <a:ext cx="638280" cy="19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6" name="Isosceles Triangle 37"/>
          <p:cNvSpPr/>
          <p:nvPr/>
        </p:nvSpPr>
        <p:spPr>
          <a:xfrm rot="5400000">
            <a:off x="6431040" y="1990800"/>
            <a:ext cx="814320" cy="249120"/>
          </a:xfrm>
          <a:prstGeom prst="triangle">
            <a:avLst>
              <a:gd name="adj" fmla="val 50000"/>
            </a:avLst>
          </a:prstGeom>
          <a:solidFill>
            <a:srgbClr val="9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7" name="Isosceles Triangle 36"/>
          <p:cNvSpPr/>
          <p:nvPr/>
        </p:nvSpPr>
        <p:spPr>
          <a:xfrm rot="5400000">
            <a:off x="4410000" y="1990800"/>
            <a:ext cx="814320" cy="249120"/>
          </a:xfrm>
          <a:prstGeom prst="triangle">
            <a:avLst>
              <a:gd name="adj" fmla="val 50000"/>
            </a:avLst>
          </a:pr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88" name="Isosceles Triangle 22"/>
          <p:cNvSpPr/>
          <p:nvPr/>
        </p:nvSpPr>
        <p:spPr>
          <a:xfrm rot="5400000">
            <a:off x="2383920" y="1990440"/>
            <a:ext cx="814320" cy="249480"/>
          </a:xfrm>
          <a:prstGeom prst="triangle">
            <a:avLst>
              <a:gd name="adj" fmla="val 50000"/>
            </a:avLst>
          </a:pr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89" name="Рисунок 1" descr=""/>
          <p:cNvPicPr/>
          <p:nvPr/>
        </p:nvPicPr>
        <p:blipFill>
          <a:blip r:embed="rId2"/>
          <a:stretch/>
        </p:blipFill>
        <p:spPr>
          <a:xfrm>
            <a:off x="4383000" y="2962440"/>
            <a:ext cx="4557960" cy="3479760"/>
          </a:xfrm>
          <a:prstGeom prst="rect">
            <a:avLst/>
          </a:prstGeom>
          <a:ln w="0">
            <a:noFill/>
          </a:ln>
        </p:spPr>
      </p:pic>
      <p:sp>
        <p:nvSpPr>
          <p:cNvPr id="1790" name="TextBox 15"/>
          <p:cNvSpPr/>
          <p:nvPr/>
        </p:nvSpPr>
        <p:spPr>
          <a:xfrm>
            <a:off x="611280" y="5859360"/>
            <a:ext cx="35924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ato Light"/>
                <a:ea typeface="Gotham Light"/>
              </a:rPr>
              <a:t>Выбор полей документа должен быть ограничен набором полей соответствующего типа документа</a:t>
            </a:r>
            <a:endParaRPr b="0" lang="en-US" sz="12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91" name="Freeform 6"/>
          <p:cNvSpPr/>
          <p:nvPr/>
        </p:nvSpPr>
        <p:spPr>
          <a:xfrm>
            <a:off x="339840" y="6107040"/>
            <a:ext cx="237960" cy="204840"/>
          </a:xfrm>
          <a:custGeom>
            <a:avLst/>
            <a:gdLst>
              <a:gd name="textAreaLeft" fmla="*/ 0 w 237960"/>
              <a:gd name="textAreaRight" fmla="*/ 238320 w 2379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792" name="Group 216"/>
          <p:cNvGrpSpPr/>
          <p:nvPr/>
        </p:nvGrpSpPr>
        <p:grpSpPr>
          <a:xfrm>
            <a:off x="268200" y="6019920"/>
            <a:ext cx="358920" cy="360360"/>
            <a:chOff x="268200" y="6019920"/>
            <a:chExt cx="358920" cy="360360"/>
          </a:xfrm>
        </p:grpSpPr>
        <p:sp>
          <p:nvSpPr>
            <p:cNvPr id="1793" name="Freeform 5"/>
            <p:cNvSpPr/>
            <p:nvPr/>
          </p:nvSpPr>
          <p:spPr>
            <a:xfrm>
              <a:off x="268200" y="601992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3" h="3223">
                  <a:moveTo>
                    <a:pt x="0" y="1611"/>
                  </a:moveTo>
                  <a:lnTo>
                    <a:pt x="0" y="1611"/>
                  </a:lnTo>
                  <a:cubicBezTo>
                    <a:pt x="0" y="721"/>
                    <a:pt x="722" y="0"/>
                    <a:pt x="1612" y="0"/>
                  </a:cubicBezTo>
                  <a:cubicBezTo>
                    <a:pt x="2502" y="0"/>
                    <a:pt x="3223" y="721"/>
                    <a:pt x="3223" y="1611"/>
                  </a:cubicBezTo>
                  <a:cubicBezTo>
                    <a:pt x="3223" y="2501"/>
                    <a:pt x="2502" y="3223"/>
                    <a:pt x="1612" y="3223"/>
                  </a:cubicBezTo>
                  <a:cubicBezTo>
                    <a:pt x="722" y="3223"/>
                    <a:pt x="0" y="2501"/>
                    <a:pt x="0" y="1611"/>
                  </a:cubicBezTo>
                  <a:close/>
                </a:path>
              </a:pathLst>
            </a:custGeom>
            <a:solidFill>
              <a:srgbClr val="6b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794" name="Freeform 6"/>
            <p:cNvSpPr/>
            <p:nvPr/>
          </p:nvSpPr>
          <p:spPr>
            <a:xfrm>
              <a:off x="339840" y="6107400"/>
              <a:ext cx="237600" cy="2048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32" h="1832">
                  <a:moveTo>
                    <a:pt x="1811" y="0"/>
                  </a:moveTo>
                  <a:lnTo>
                    <a:pt x="1811" y="0"/>
                  </a:lnTo>
                  <a:lnTo>
                    <a:pt x="767" y="1241"/>
                  </a:lnTo>
                  <a:lnTo>
                    <a:pt x="269" y="823"/>
                  </a:lnTo>
                  <a:lnTo>
                    <a:pt x="0" y="1143"/>
                  </a:lnTo>
                  <a:lnTo>
                    <a:pt x="817" y="1832"/>
                  </a:lnTo>
                  <a:lnTo>
                    <a:pt x="2132" y="270"/>
                  </a:lnTo>
                  <a:lnTo>
                    <a:pt x="18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Скругленная прямоугольная выноска 3"/>
          <p:cNvSpPr/>
          <p:nvPr/>
        </p:nvSpPr>
        <p:spPr>
          <a:xfrm flipV="1">
            <a:off x="71280" y="3513240"/>
            <a:ext cx="3372120" cy="2232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796" name="Title 23"/>
          <p:cNvSpPr/>
          <p:nvPr/>
        </p:nvSpPr>
        <p:spPr>
          <a:xfrm>
            <a:off x="318960" y="442800"/>
            <a:ext cx="8609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Regular"/>
                <a:ea typeface="Lato Regular"/>
              </a:rPr>
              <a:t>РАБОТА С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ОШИБКАМИ АРХИВИРОВАНИЯ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797" name="Content Placeholder 1" descr=""/>
          <p:cNvPicPr/>
          <p:nvPr/>
        </p:nvPicPr>
        <p:blipFill>
          <a:blip r:embed="rId1"/>
          <a:stretch/>
        </p:blipFill>
        <p:spPr>
          <a:xfrm>
            <a:off x="493560" y="1195560"/>
            <a:ext cx="8114040" cy="2035080"/>
          </a:xfrm>
          <a:prstGeom prst="rect">
            <a:avLst/>
          </a:prstGeom>
          <a:ln w="0">
            <a:noFill/>
          </a:ln>
        </p:spPr>
      </p:pic>
      <p:pic>
        <p:nvPicPr>
          <p:cNvPr id="1798" name="Рисунок 1" descr=""/>
          <p:cNvPicPr/>
          <p:nvPr/>
        </p:nvPicPr>
        <p:blipFill>
          <a:blip r:embed="rId2"/>
          <a:stretch/>
        </p:blipFill>
        <p:spPr>
          <a:xfrm>
            <a:off x="85680" y="3554280"/>
            <a:ext cx="3328920" cy="2178360"/>
          </a:xfrm>
          <a:prstGeom prst="rect">
            <a:avLst/>
          </a:prstGeom>
          <a:ln w="0">
            <a:noFill/>
          </a:ln>
        </p:spPr>
      </p:pic>
      <p:sp>
        <p:nvSpPr>
          <p:cNvPr id="1799" name="Freeform 80"/>
          <p:cNvSpPr/>
          <p:nvPr/>
        </p:nvSpPr>
        <p:spPr>
          <a:xfrm>
            <a:off x="1231920" y="3984480"/>
            <a:ext cx="973080" cy="936720"/>
          </a:xfrm>
          <a:custGeom>
            <a:avLst/>
            <a:gdLst/>
            <a:ahLst/>
            <a:rect l="l" t="t" r="r" b="b"/>
            <a:pathLst>
              <a:path w="1685" h="1686">
                <a:moveTo>
                  <a:pt x="299" y="299"/>
                </a:moveTo>
                <a:lnTo>
                  <a:pt x="299" y="299"/>
                </a:lnTo>
                <a:cubicBezTo>
                  <a:pt x="0" y="599"/>
                  <a:pt x="0" y="1086"/>
                  <a:pt x="299" y="1386"/>
                </a:cubicBezTo>
                <a:cubicBezTo>
                  <a:pt x="599" y="1686"/>
                  <a:pt x="1086" y="1686"/>
                  <a:pt x="1386" y="1386"/>
                </a:cubicBezTo>
                <a:cubicBezTo>
                  <a:pt x="1685" y="1086"/>
                  <a:pt x="1685" y="599"/>
                  <a:pt x="1386" y="299"/>
                </a:cubicBezTo>
                <a:cubicBezTo>
                  <a:pt x="1086" y="0"/>
                  <a:pt x="599" y="0"/>
                  <a:pt x="299" y="299"/>
                </a:cubicBezTo>
                <a:close/>
              </a:path>
            </a:pathLst>
          </a:custGeom>
          <a:solidFill>
            <a:srgbClr val="c4e3f1">
              <a:alpha val="86000"/>
            </a:srgbClr>
          </a:solidFill>
          <a:ln w="38160">
            <a:solidFill>
              <a:srgbClr val="67b8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800" name="Group 1" descr=""/>
          <p:cNvPicPr/>
          <p:nvPr/>
        </p:nvPicPr>
        <p:blipFill>
          <a:blip r:embed="rId3"/>
          <a:stretch/>
        </p:blipFill>
        <p:spPr>
          <a:xfrm>
            <a:off x="907920" y="4724280"/>
            <a:ext cx="470160" cy="414360"/>
          </a:xfrm>
          <a:prstGeom prst="rect">
            <a:avLst/>
          </a:prstGeom>
          <a:ln w="0">
            <a:noFill/>
          </a:ln>
        </p:spPr>
      </p:pic>
      <p:sp>
        <p:nvSpPr>
          <p:cNvPr id="1801" name="Freeform 98"/>
          <p:cNvSpPr/>
          <p:nvPr/>
        </p:nvSpPr>
        <p:spPr>
          <a:xfrm rot="5760000">
            <a:off x="1289520" y="4658400"/>
            <a:ext cx="149400" cy="15696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361" y="53"/>
                </a:moveTo>
                <a:lnTo>
                  <a:pt x="361" y="53"/>
                </a:lnTo>
                <a:cubicBezTo>
                  <a:pt x="368" y="43"/>
                  <a:pt x="364" y="30"/>
                  <a:pt x="354" y="24"/>
                </a:cubicBezTo>
                <a:lnTo>
                  <a:pt x="319" y="5"/>
                </a:lnTo>
                <a:cubicBezTo>
                  <a:pt x="308" y="0"/>
                  <a:pt x="294" y="3"/>
                  <a:pt x="288" y="14"/>
                </a:cubicBezTo>
                <a:cubicBezTo>
                  <a:pt x="288" y="14"/>
                  <a:pt x="223" y="116"/>
                  <a:pt x="170" y="169"/>
                </a:cubicBezTo>
                <a:cubicBezTo>
                  <a:pt x="117" y="222"/>
                  <a:pt x="14" y="287"/>
                  <a:pt x="14" y="287"/>
                </a:cubicBezTo>
                <a:cubicBezTo>
                  <a:pt x="4" y="293"/>
                  <a:pt x="0" y="307"/>
                  <a:pt x="6" y="318"/>
                </a:cubicBezTo>
                <a:lnTo>
                  <a:pt x="25" y="353"/>
                </a:lnTo>
                <a:cubicBezTo>
                  <a:pt x="30" y="364"/>
                  <a:pt x="44" y="367"/>
                  <a:pt x="54" y="360"/>
                </a:cubicBezTo>
                <a:cubicBezTo>
                  <a:pt x="54" y="360"/>
                  <a:pt x="170" y="287"/>
                  <a:pt x="229" y="228"/>
                </a:cubicBezTo>
                <a:cubicBezTo>
                  <a:pt x="288" y="170"/>
                  <a:pt x="361" y="53"/>
                  <a:pt x="361" y="53"/>
                </a:cubicBez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02" name="TextBox 14"/>
          <p:cNvSpPr/>
          <p:nvPr/>
        </p:nvSpPr>
        <p:spPr>
          <a:xfrm>
            <a:off x="1154160" y="4363920"/>
            <a:ext cx="115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393939"/>
                </a:solidFill>
                <a:latin typeface="Lato Light"/>
                <a:ea typeface="Gotham Light"/>
              </a:rPr>
              <a:t>|</a:t>
            </a:r>
            <a:r>
              <a:rPr b="1" lang="ru-RU" sz="800" spc="-1" strike="noStrike">
                <a:solidFill>
                  <a:srgbClr val="393939"/>
                </a:solidFill>
                <a:latin typeface="Lato Light"/>
                <a:ea typeface="Gotham Light"/>
              </a:rPr>
              <a:t>Готов к архивац  </a:t>
            </a:r>
            <a:endParaRPr b="0" lang="en-US" sz="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03" name="Freeform 80"/>
          <p:cNvSpPr/>
          <p:nvPr/>
        </p:nvSpPr>
        <p:spPr>
          <a:xfrm>
            <a:off x="2228760" y="4162320"/>
            <a:ext cx="1332000" cy="1332000"/>
          </a:xfrm>
          <a:custGeom>
            <a:avLst/>
            <a:gdLst/>
            <a:ahLst/>
            <a:rect l="l" t="t" r="r" b="b"/>
            <a:pathLst>
              <a:path w="1685" h="1686">
                <a:moveTo>
                  <a:pt x="299" y="299"/>
                </a:moveTo>
                <a:lnTo>
                  <a:pt x="299" y="299"/>
                </a:lnTo>
                <a:cubicBezTo>
                  <a:pt x="0" y="599"/>
                  <a:pt x="0" y="1086"/>
                  <a:pt x="299" y="1386"/>
                </a:cubicBezTo>
                <a:cubicBezTo>
                  <a:pt x="599" y="1686"/>
                  <a:pt x="1086" y="1686"/>
                  <a:pt x="1386" y="1386"/>
                </a:cubicBezTo>
                <a:cubicBezTo>
                  <a:pt x="1685" y="1086"/>
                  <a:pt x="1685" y="599"/>
                  <a:pt x="1386" y="299"/>
                </a:cubicBezTo>
                <a:cubicBezTo>
                  <a:pt x="1086" y="0"/>
                  <a:pt x="599" y="0"/>
                  <a:pt x="299" y="299"/>
                </a:cubicBezTo>
                <a:close/>
              </a:path>
            </a:pathLst>
          </a:custGeom>
          <a:solidFill>
            <a:srgbClr val="c4e3f1">
              <a:alpha val="86000"/>
            </a:srgbClr>
          </a:solidFill>
          <a:ln w="38160">
            <a:solidFill>
              <a:srgbClr val="67b8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04" name="TextBox 15"/>
          <p:cNvSpPr/>
          <p:nvPr/>
        </p:nvSpPr>
        <p:spPr>
          <a:xfrm>
            <a:off x="2319480" y="4424400"/>
            <a:ext cx="1160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     </a:t>
            </a: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Не найдено 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 </a:t>
            </a: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значение обязат-   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 </a:t>
            </a: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ельного показа -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 </a:t>
            </a: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теля Наименова -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    </a:t>
            </a:r>
            <a:r>
              <a:rPr b="1" lang="ru-RU" sz="1000" spc="-1" strike="noStrike">
                <a:solidFill>
                  <a:srgbClr val="393939"/>
                </a:solidFill>
                <a:latin typeface="Lato Light"/>
                <a:ea typeface="Gotham Light"/>
              </a:rPr>
              <a:t>ние бюджета</a:t>
            </a:r>
            <a:endParaRPr b="0" lang="en-US" sz="10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805" name="Group 1" descr=""/>
          <p:cNvPicPr/>
          <p:nvPr/>
        </p:nvPicPr>
        <p:blipFill>
          <a:blip r:embed="rId4"/>
          <a:stretch/>
        </p:blipFill>
        <p:spPr>
          <a:xfrm>
            <a:off x="1878120" y="5248440"/>
            <a:ext cx="579240" cy="519120"/>
          </a:xfrm>
          <a:prstGeom prst="rect">
            <a:avLst/>
          </a:prstGeom>
          <a:ln w="0">
            <a:noFill/>
          </a:ln>
        </p:spPr>
      </p:pic>
      <p:sp>
        <p:nvSpPr>
          <p:cNvPr id="1806" name="Freeform 98"/>
          <p:cNvSpPr/>
          <p:nvPr/>
        </p:nvSpPr>
        <p:spPr>
          <a:xfrm rot="5400000">
            <a:off x="2340000" y="5173560"/>
            <a:ext cx="216000" cy="21600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361" y="53"/>
                </a:moveTo>
                <a:lnTo>
                  <a:pt x="361" y="53"/>
                </a:lnTo>
                <a:cubicBezTo>
                  <a:pt x="368" y="43"/>
                  <a:pt x="364" y="30"/>
                  <a:pt x="354" y="24"/>
                </a:cubicBezTo>
                <a:lnTo>
                  <a:pt x="319" y="5"/>
                </a:lnTo>
                <a:cubicBezTo>
                  <a:pt x="308" y="0"/>
                  <a:pt x="294" y="3"/>
                  <a:pt x="288" y="14"/>
                </a:cubicBezTo>
                <a:cubicBezTo>
                  <a:pt x="288" y="14"/>
                  <a:pt x="223" y="116"/>
                  <a:pt x="170" y="169"/>
                </a:cubicBezTo>
                <a:cubicBezTo>
                  <a:pt x="117" y="222"/>
                  <a:pt x="14" y="287"/>
                  <a:pt x="14" y="287"/>
                </a:cubicBezTo>
                <a:cubicBezTo>
                  <a:pt x="4" y="293"/>
                  <a:pt x="0" y="307"/>
                  <a:pt x="6" y="318"/>
                </a:cubicBezTo>
                <a:lnTo>
                  <a:pt x="25" y="353"/>
                </a:lnTo>
                <a:cubicBezTo>
                  <a:pt x="30" y="364"/>
                  <a:pt x="44" y="367"/>
                  <a:pt x="54" y="360"/>
                </a:cubicBezTo>
                <a:cubicBezTo>
                  <a:pt x="54" y="360"/>
                  <a:pt x="170" y="287"/>
                  <a:pt x="229" y="228"/>
                </a:cubicBezTo>
                <a:cubicBezTo>
                  <a:pt x="288" y="170"/>
                  <a:pt x="361" y="53"/>
                  <a:pt x="361" y="53"/>
                </a:cubicBez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07" name="Скругленная прямоугольная выноска 26"/>
          <p:cNvSpPr/>
          <p:nvPr/>
        </p:nvSpPr>
        <p:spPr>
          <a:xfrm flipV="1">
            <a:off x="3559320" y="3513240"/>
            <a:ext cx="2568600" cy="2232000"/>
          </a:xfrm>
          <a:prstGeom prst="wedgeRoundRectCallout">
            <a:avLst>
              <a:gd name="adj1" fmla="val -20833"/>
              <a:gd name="adj2" fmla="val 63032"/>
              <a:gd name="adj3" fmla="val 16667"/>
            </a:avLst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08" name="Freeform 6"/>
          <p:cNvSpPr/>
          <p:nvPr/>
        </p:nvSpPr>
        <p:spPr>
          <a:xfrm>
            <a:off x="5240160" y="4329000"/>
            <a:ext cx="457200" cy="241560"/>
          </a:xfrm>
          <a:custGeom>
            <a:avLst/>
            <a:gdLst/>
            <a:ahLst/>
            <a:rect l="l" t="t" r="r" b="b"/>
            <a:pathLst>
              <a:path w="2734" h="2121">
                <a:moveTo>
                  <a:pt x="2035" y="1214"/>
                </a:moveTo>
                <a:lnTo>
                  <a:pt x="2035" y="1214"/>
                </a:lnTo>
                <a:cubicBezTo>
                  <a:pt x="1976" y="1214"/>
                  <a:pt x="1929" y="1261"/>
                  <a:pt x="1929" y="1320"/>
                </a:cubicBezTo>
                <a:cubicBezTo>
                  <a:pt x="1929" y="1378"/>
                  <a:pt x="1976" y="1425"/>
                  <a:pt x="2035" y="1425"/>
                </a:cubicBezTo>
                <a:cubicBezTo>
                  <a:pt x="2093" y="1425"/>
                  <a:pt x="2140" y="1378"/>
                  <a:pt x="2140" y="1320"/>
                </a:cubicBezTo>
                <a:cubicBezTo>
                  <a:pt x="2140" y="1261"/>
                  <a:pt x="2093" y="1214"/>
                  <a:pt x="2035" y="1214"/>
                </a:cubicBezTo>
                <a:close/>
                <a:moveTo>
                  <a:pt x="1689" y="1214"/>
                </a:moveTo>
                <a:lnTo>
                  <a:pt x="1689" y="1214"/>
                </a:lnTo>
                <a:cubicBezTo>
                  <a:pt x="1630" y="1214"/>
                  <a:pt x="1583" y="1261"/>
                  <a:pt x="1583" y="1320"/>
                </a:cubicBezTo>
                <a:cubicBezTo>
                  <a:pt x="1583" y="1378"/>
                  <a:pt x="1630" y="1425"/>
                  <a:pt x="1689" y="1425"/>
                </a:cubicBezTo>
                <a:cubicBezTo>
                  <a:pt x="1747" y="1425"/>
                  <a:pt x="1794" y="1378"/>
                  <a:pt x="1794" y="1320"/>
                </a:cubicBezTo>
                <a:cubicBezTo>
                  <a:pt x="1794" y="1261"/>
                  <a:pt x="1747" y="1214"/>
                  <a:pt x="1689" y="1214"/>
                </a:cubicBezTo>
                <a:close/>
                <a:moveTo>
                  <a:pt x="2353" y="1721"/>
                </a:moveTo>
                <a:lnTo>
                  <a:pt x="2353" y="1721"/>
                </a:lnTo>
                <a:lnTo>
                  <a:pt x="2444" y="1865"/>
                </a:lnTo>
                <a:lnTo>
                  <a:pt x="2248" y="1779"/>
                </a:lnTo>
                <a:cubicBezTo>
                  <a:pt x="2225" y="1769"/>
                  <a:pt x="2198" y="1770"/>
                  <a:pt x="2176" y="1783"/>
                </a:cubicBezTo>
                <a:cubicBezTo>
                  <a:pt x="2041" y="1862"/>
                  <a:pt x="1879" y="1904"/>
                  <a:pt x="1708" y="1904"/>
                </a:cubicBezTo>
                <a:cubicBezTo>
                  <a:pt x="1299" y="1904"/>
                  <a:pt x="965" y="1666"/>
                  <a:pt x="948" y="1362"/>
                </a:cubicBezTo>
                <a:cubicBezTo>
                  <a:pt x="945" y="1322"/>
                  <a:pt x="913" y="1290"/>
                  <a:pt x="872" y="1288"/>
                </a:cubicBezTo>
                <a:cubicBezTo>
                  <a:pt x="762" y="1283"/>
                  <a:pt x="656" y="1260"/>
                  <a:pt x="559" y="1221"/>
                </a:cubicBezTo>
                <a:cubicBezTo>
                  <a:pt x="549" y="1217"/>
                  <a:pt x="539" y="1216"/>
                  <a:pt x="529" y="1216"/>
                </a:cubicBezTo>
                <a:cubicBezTo>
                  <a:pt x="507" y="1216"/>
                  <a:pt x="486" y="1225"/>
                  <a:pt x="471" y="1241"/>
                </a:cubicBezTo>
                <a:lnTo>
                  <a:pt x="316" y="1412"/>
                </a:lnTo>
                <a:lnTo>
                  <a:pt x="346" y="1138"/>
                </a:lnTo>
                <a:cubicBezTo>
                  <a:pt x="348" y="1114"/>
                  <a:pt x="339" y="1090"/>
                  <a:pt x="321" y="1073"/>
                </a:cubicBezTo>
                <a:cubicBezTo>
                  <a:pt x="214" y="972"/>
                  <a:pt x="158" y="851"/>
                  <a:pt x="158" y="723"/>
                </a:cubicBezTo>
                <a:cubicBezTo>
                  <a:pt x="158" y="412"/>
                  <a:pt x="499" y="158"/>
                  <a:pt x="919" y="158"/>
                </a:cubicBezTo>
                <a:cubicBezTo>
                  <a:pt x="1328" y="158"/>
                  <a:pt x="1661" y="396"/>
                  <a:pt x="1679" y="699"/>
                </a:cubicBezTo>
                <a:cubicBezTo>
                  <a:pt x="1681" y="740"/>
                  <a:pt x="1713" y="772"/>
                  <a:pt x="1754" y="774"/>
                </a:cubicBezTo>
                <a:cubicBezTo>
                  <a:pt x="2155" y="792"/>
                  <a:pt x="2468" y="1040"/>
                  <a:pt x="2468" y="1338"/>
                </a:cubicBezTo>
                <a:cubicBezTo>
                  <a:pt x="2468" y="1441"/>
                  <a:pt x="2430" y="1541"/>
                  <a:pt x="2359" y="1629"/>
                </a:cubicBezTo>
                <a:cubicBezTo>
                  <a:pt x="2337" y="1656"/>
                  <a:pt x="2335" y="1693"/>
                  <a:pt x="2353" y="1721"/>
                </a:cubicBezTo>
                <a:close/>
                <a:moveTo>
                  <a:pt x="2716" y="2000"/>
                </a:moveTo>
                <a:lnTo>
                  <a:pt x="2716" y="2000"/>
                </a:lnTo>
                <a:lnTo>
                  <a:pt x="2516" y="1683"/>
                </a:lnTo>
                <a:cubicBezTo>
                  <a:pt x="2588" y="1578"/>
                  <a:pt x="2626" y="1459"/>
                  <a:pt x="2626" y="1338"/>
                </a:cubicBezTo>
                <a:cubicBezTo>
                  <a:pt x="2626" y="973"/>
                  <a:pt x="2281" y="668"/>
                  <a:pt x="1828" y="621"/>
                </a:cubicBezTo>
                <a:cubicBezTo>
                  <a:pt x="1765" y="268"/>
                  <a:pt x="1381" y="0"/>
                  <a:pt x="919" y="0"/>
                </a:cubicBezTo>
                <a:cubicBezTo>
                  <a:pt x="412" y="0"/>
                  <a:pt x="0" y="324"/>
                  <a:pt x="0" y="723"/>
                </a:cubicBezTo>
                <a:cubicBezTo>
                  <a:pt x="0" y="881"/>
                  <a:pt x="65" y="1034"/>
                  <a:pt x="185" y="1159"/>
                </a:cubicBezTo>
                <a:lnTo>
                  <a:pt x="133" y="1636"/>
                </a:lnTo>
                <a:cubicBezTo>
                  <a:pt x="129" y="1670"/>
                  <a:pt x="148" y="1702"/>
                  <a:pt x="179" y="1717"/>
                </a:cubicBezTo>
                <a:cubicBezTo>
                  <a:pt x="210" y="1731"/>
                  <a:pt x="247" y="1723"/>
                  <a:pt x="270" y="1698"/>
                </a:cubicBezTo>
                <a:lnTo>
                  <a:pt x="552" y="1387"/>
                </a:lnTo>
                <a:cubicBezTo>
                  <a:pt x="630" y="1414"/>
                  <a:pt x="713" y="1432"/>
                  <a:pt x="798" y="1441"/>
                </a:cubicBezTo>
                <a:cubicBezTo>
                  <a:pt x="861" y="1794"/>
                  <a:pt x="1245" y="2062"/>
                  <a:pt x="1708" y="2062"/>
                </a:cubicBezTo>
                <a:cubicBezTo>
                  <a:pt x="1892" y="2062"/>
                  <a:pt x="2069" y="2020"/>
                  <a:pt x="2220" y="1939"/>
                </a:cubicBezTo>
                <a:lnTo>
                  <a:pt x="2617" y="2114"/>
                </a:lnTo>
                <a:cubicBezTo>
                  <a:pt x="2627" y="2119"/>
                  <a:pt x="2638" y="2121"/>
                  <a:pt x="2649" y="2121"/>
                </a:cubicBezTo>
                <a:cubicBezTo>
                  <a:pt x="2671" y="2121"/>
                  <a:pt x="2693" y="2112"/>
                  <a:pt x="2709" y="2094"/>
                </a:cubicBezTo>
                <a:cubicBezTo>
                  <a:pt x="2731" y="2068"/>
                  <a:pt x="2734" y="2030"/>
                  <a:pt x="2716" y="2000"/>
                </a:cubicBezTo>
                <a:close/>
                <a:moveTo>
                  <a:pt x="1355" y="736"/>
                </a:moveTo>
                <a:lnTo>
                  <a:pt x="1355" y="736"/>
                </a:lnTo>
                <a:cubicBezTo>
                  <a:pt x="1355" y="677"/>
                  <a:pt x="1308" y="630"/>
                  <a:pt x="1250" y="630"/>
                </a:cubicBezTo>
                <a:cubicBezTo>
                  <a:pt x="1191" y="630"/>
                  <a:pt x="1144" y="677"/>
                  <a:pt x="1144" y="736"/>
                </a:cubicBezTo>
                <a:cubicBezTo>
                  <a:pt x="1144" y="794"/>
                  <a:pt x="1191" y="841"/>
                  <a:pt x="1250" y="841"/>
                </a:cubicBezTo>
                <a:cubicBezTo>
                  <a:pt x="1308" y="841"/>
                  <a:pt x="1355" y="794"/>
                  <a:pt x="1355" y="736"/>
                </a:cubicBezTo>
                <a:close/>
                <a:moveTo>
                  <a:pt x="557" y="630"/>
                </a:moveTo>
                <a:lnTo>
                  <a:pt x="557" y="630"/>
                </a:lnTo>
                <a:cubicBezTo>
                  <a:pt x="529" y="630"/>
                  <a:pt x="502" y="641"/>
                  <a:pt x="482" y="661"/>
                </a:cubicBezTo>
                <a:cubicBezTo>
                  <a:pt x="463" y="680"/>
                  <a:pt x="451" y="708"/>
                  <a:pt x="451" y="735"/>
                </a:cubicBezTo>
                <a:cubicBezTo>
                  <a:pt x="451" y="763"/>
                  <a:pt x="463" y="791"/>
                  <a:pt x="482" y="810"/>
                </a:cubicBezTo>
                <a:cubicBezTo>
                  <a:pt x="502" y="830"/>
                  <a:pt x="529" y="841"/>
                  <a:pt x="557" y="841"/>
                </a:cubicBezTo>
                <a:cubicBezTo>
                  <a:pt x="585" y="841"/>
                  <a:pt x="612" y="830"/>
                  <a:pt x="632" y="810"/>
                </a:cubicBezTo>
                <a:cubicBezTo>
                  <a:pt x="651" y="791"/>
                  <a:pt x="663" y="763"/>
                  <a:pt x="663" y="735"/>
                </a:cubicBezTo>
                <a:cubicBezTo>
                  <a:pt x="663" y="708"/>
                  <a:pt x="651" y="680"/>
                  <a:pt x="632" y="661"/>
                </a:cubicBezTo>
                <a:cubicBezTo>
                  <a:pt x="612" y="641"/>
                  <a:pt x="585" y="630"/>
                  <a:pt x="557" y="630"/>
                </a:cubicBezTo>
                <a:close/>
                <a:moveTo>
                  <a:pt x="1342" y="1214"/>
                </a:moveTo>
                <a:lnTo>
                  <a:pt x="1342" y="1214"/>
                </a:lnTo>
                <a:cubicBezTo>
                  <a:pt x="1315" y="1214"/>
                  <a:pt x="1287" y="1225"/>
                  <a:pt x="1268" y="1245"/>
                </a:cubicBezTo>
                <a:cubicBezTo>
                  <a:pt x="1248" y="1265"/>
                  <a:pt x="1237" y="1292"/>
                  <a:pt x="1237" y="1319"/>
                </a:cubicBezTo>
                <a:cubicBezTo>
                  <a:pt x="1237" y="1347"/>
                  <a:pt x="1248" y="1375"/>
                  <a:pt x="1268" y="1394"/>
                </a:cubicBezTo>
                <a:cubicBezTo>
                  <a:pt x="1287" y="1414"/>
                  <a:pt x="1315" y="1425"/>
                  <a:pt x="1342" y="1425"/>
                </a:cubicBezTo>
                <a:cubicBezTo>
                  <a:pt x="1370" y="1425"/>
                  <a:pt x="1397" y="1414"/>
                  <a:pt x="1417" y="1394"/>
                </a:cubicBezTo>
                <a:cubicBezTo>
                  <a:pt x="1437" y="1375"/>
                  <a:pt x="1448" y="1347"/>
                  <a:pt x="1448" y="1319"/>
                </a:cubicBezTo>
                <a:cubicBezTo>
                  <a:pt x="1448" y="1292"/>
                  <a:pt x="1437" y="1265"/>
                  <a:pt x="1417" y="1245"/>
                </a:cubicBezTo>
                <a:cubicBezTo>
                  <a:pt x="1397" y="1225"/>
                  <a:pt x="1370" y="1214"/>
                  <a:pt x="1342" y="1214"/>
                </a:cubicBezTo>
                <a:close/>
                <a:moveTo>
                  <a:pt x="903" y="630"/>
                </a:moveTo>
                <a:lnTo>
                  <a:pt x="903" y="630"/>
                </a:lnTo>
                <a:cubicBezTo>
                  <a:pt x="845" y="630"/>
                  <a:pt x="798" y="677"/>
                  <a:pt x="798" y="736"/>
                </a:cubicBezTo>
                <a:cubicBezTo>
                  <a:pt x="798" y="794"/>
                  <a:pt x="845" y="841"/>
                  <a:pt x="903" y="841"/>
                </a:cubicBezTo>
                <a:cubicBezTo>
                  <a:pt x="962" y="841"/>
                  <a:pt x="1009" y="794"/>
                  <a:pt x="1009" y="736"/>
                </a:cubicBezTo>
                <a:cubicBezTo>
                  <a:pt x="1009" y="677"/>
                  <a:pt x="962" y="630"/>
                  <a:pt x="903" y="6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809" name="Group 22"/>
          <p:cNvGrpSpPr/>
          <p:nvPr/>
        </p:nvGrpSpPr>
        <p:grpSpPr>
          <a:xfrm>
            <a:off x="7748640" y="5459400"/>
            <a:ext cx="635040" cy="273240"/>
            <a:chOff x="7748640" y="5459400"/>
            <a:chExt cx="635040" cy="273240"/>
          </a:xfrm>
        </p:grpSpPr>
        <p:sp>
          <p:nvSpPr>
            <p:cNvPr id="1810" name="Freeform 23"/>
            <p:cNvSpPr/>
            <p:nvPr/>
          </p:nvSpPr>
          <p:spPr>
            <a:xfrm>
              <a:off x="7801200" y="5511960"/>
              <a:ext cx="98280" cy="96840"/>
            </a:xfrm>
            <a:custGeom>
              <a:avLst/>
              <a:gdLst/>
              <a:ahLst/>
              <a:rect l="l" t="t" r="r" b="b"/>
              <a:pathLst>
                <a:path w="417" h="417">
                  <a:moveTo>
                    <a:pt x="360" y="0"/>
                  </a:moveTo>
                  <a:cubicBezTo>
                    <a:pt x="161" y="0"/>
                    <a:pt x="0" y="162"/>
                    <a:pt x="0" y="360"/>
                  </a:cubicBezTo>
                  <a:cubicBezTo>
                    <a:pt x="0" y="392"/>
                    <a:pt x="25" y="417"/>
                    <a:pt x="57" y="417"/>
                  </a:cubicBezTo>
                  <a:cubicBezTo>
                    <a:pt x="88" y="417"/>
                    <a:pt x="114" y="392"/>
                    <a:pt x="114" y="360"/>
                  </a:cubicBezTo>
                  <a:cubicBezTo>
                    <a:pt x="114" y="225"/>
                    <a:pt x="224" y="114"/>
                    <a:pt x="360" y="114"/>
                  </a:cubicBezTo>
                  <a:cubicBezTo>
                    <a:pt x="391" y="114"/>
                    <a:pt x="417" y="89"/>
                    <a:pt x="417" y="57"/>
                  </a:cubicBezTo>
                  <a:cubicBezTo>
                    <a:pt x="417" y="26"/>
                    <a:pt x="391" y="0"/>
                    <a:pt x="3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811" name="Freeform 24"/>
            <p:cNvSpPr/>
            <p:nvPr/>
          </p:nvSpPr>
          <p:spPr>
            <a:xfrm>
              <a:off x="7748640" y="5459400"/>
              <a:ext cx="635040" cy="273240"/>
            </a:xfrm>
            <a:custGeom>
              <a:avLst/>
              <a:gdLst/>
              <a:ahLst/>
              <a:rect l="l" t="t" r="r" b="b"/>
              <a:pathLst>
                <a:path w="2684" h="1156">
                  <a:moveTo>
                    <a:pt x="2106" y="0"/>
                  </a:moveTo>
                  <a:cubicBezTo>
                    <a:pt x="1924" y="0"/>
                    <a:pt x="1762" y="85"/>
                    <a:pt x="1656" y="216"/>
                  </a:cubicBezTo>
                  <a:cubicBezTo>
                    <a:pt x="1619" y="205"/>
                    <a:pt x="1581" y="196"/>
                    <a:pt x="1543" y="189"/>
                  </a:cubicBezTo>
                  <a:cubicBezTo>
                    <a:pt x="1512" y="100"/>
                    <a:pt x="1428" y="36"/>
                    <a:pt x="1329" y="36"/>
                  </a:cubicBezTo>
                  <a:cubicBezTo>
                    <a:pt x="1230" y="36"/>
                    <a:pt x="1146" y="100"/>
                    <a:pt x="1115" y="189"/>
                  </a:cubicBezTo>
                  <a:cubicBezTo>
                    <a:pt x="1084" y="194"/>
                    <a:pt x="1054" y="202"/>
                    <a:pt x="1023" y="210"/>
                  </a:cubicBezTo>
                  <a:cubicBezTo>
                    <a:pt x="917" y="82"/>
                    <a:pt x="757" y="0"/>
                    <a:pt x="578" y="0"/>
                  </a:cubicBezTo>
                  <a:cubicBezTo>
                    <a:pt x="259" y="0"/>
                    <a:pt x="0" y="259"/>
                    <a:pt x="0" y="578"/>
                  </a:cubicBezTo>
                  <a:cubicBezTo>
                    <a:pt x="0" y="897"/>
                    <a:pt x="259" y="1156"/>
                    <a:pt x="578" y="1156"/>
                  </a:cubicBezTo>
                  <a:cubicBezTo>
                    <a:pt x="897" y="1156"/>
                    <a:pt x="1156" y="897"/>
                    <a:pt x="1156" y="578"/>
                  </a:cubicBezTo>
                  <a:cubicBezTo>
                    <a:pt x="1156" y="542"/>
                    <a:pt x="1152" y="507"/>
                    <a:pt x="1146" y="473"/>
                  </a:cubicBezTo>
                  <a:cubicBezTo>
                    <a:pt x="1170" y="468"/>
                    <a:pt x="1194" y="463"/>
                    <a:pt x="1218" y="460"/>
                  </a:cubicBezTo>
                  <a:cubicBezTo>
                    <a:pt x="1251" y="479"/>
                    <a:pt x="1289" y="490"/>
                    <a:pt x="1329" y="490"/>
                  </a:cubicBezTo>
                  <a:cubicBezTo>
                    <a:pt x="1369" y="490"/>
                    <a:pt x="1407" y="479"/>
                    <a:pt x="1439" y="460"/>
                  </a:cubicBezTo>
                  <a:cubicBezTo>
                    <a:pt x="1472" y="465"/>
                    <a:pt x="1505" y="470"/>
                    <a:pt x="1537" y="478"/>
                  </a:cubicBezTo>
                  <a:cubicBezTo>
                    <a:pt x="1532" y="511"/>
                    <a:pt x="1528" y="544"/>
                    <a:pt x="1528" y="578"/>
                  </a:cubicBezTo>
                  <a:cubicBezTo>
                    <a:pt x="1528" y="897"/>
                    <a:pt x="1787" y="1156"/>
                    <a:pt x="2106" y="1156"/>
                  </a:cubicBezTo>
                  <a:cubicBezTo>
                    <a:pt x="2425" y="1156"/>
                    <a:pt x="2684" y="897"/>
                    <a:pt x="2684" y="578"/>
                  </a:cubicBezTo>
                  <a:cubicBezTo>
                    <a:pt x="2684" y="259"/>
                    <a:pt x="2425" y="0"/>
                    <a:pt x="2106" y="0"/>
                  </a:cubicBezTo>
                  <a:close/>
                  <a:moveTo>
                    <a:pt x="578" y="985"/>
                  </a:moveTo>
                  <a:cubicBezTo>
                    <a:pt x="353" y="985"/>
                    <a:pt x="171" y="803"/>
                    <a:pt x="171" y="578"/>
                  </a:cubicBezTo>
                  <a:cubicBezTo>
                    <a:pt x="171" y="354"/>
                    <a:pt x="353" y="171"/>
                    <a:pt x="578" y="171"/>
                  </a:cubicBezTo>
                  <a:cubicBezTo>
                    <a:pt x="802" y="171"/>
                    <a:pt x="985" y="354"/>
                    <a:pt x="985" y="578"/>
                  </a:cubicBezTo>
                  <a:cubicBezTo>
                    <a:pt x="985" y="803"/>
                    <a:pt x="802" y="985"/>
                    <a:pt x="578" y="985"/>
                  </a:cubicBezTo>
                  <a:close/>
                  <a:moveTo>
                    <a:pt x="2106" y="985"/>
                  </a:moveTo>
                  <a:cubicBezTo>
                    <a:pt x="1882" y="985"/>
                    <a:pt x="1699" y="803"/>
                    <a:pt x="1699" y="578"/>
                  </a:cubicBezTo>
                  <a:cubicBezTo>
                    <a:pt x="1699" y="354"/>
                    <a:pt x="1882" y="171"/>
                    <a:pt x="2106" y="171"/>
                  </a:cubicBezTo>
                  <a:cubicBezTo>
                    <a:pt x="2331" y="171"/>
                    <a:pt x="2513" y="354"/>
                    <a:pt x="2513" y="578"/>
                  </a:cubicBezTo>
                  <a:cubicBezTo>
                    <a:pt x="2513" y="803"/>
                    <a:pt x="2331" y="985"/>
                    <a:pt x="2106" y="9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812" name="Freeform 25"/>
            <p:cNvSpPr/>
            <p:nvPr/>
          </p:nvSpPr>
          <p:spPr>
            <a:xfrm>
              <a:off x="8161560" y="5511960"/>
              <a:ext cx="98280" cy="96840"/>
            </a:xfrm>
            <a:custGeom>
              <a:avLst/>
              <a:gdLst/>
              <a:ahLst/>
              <a:rect l="l" t="t" r="r" b="b"/>
              <a:pathLst>
                <a:path w="417" h="417">
                  <a:moveTo>
                    <a:pt x="360" y="0"/>
                  </a:moveTo>
                  <a:cubicBezTo>
                    <a:pt x="162" y="0"/>
                    <a:pt x="0" y="162"/>
                    <a:pt x="0" y="360"/>
                  </a:cubicBezTo>
                  <a:cubicBezTo>
                    <a:pt x="0" y="392"/>
                    <a:pt x="26" y="417"/>
                    <a:pt x="57" y="417"/>
                  </a:cubicBezTo>
                  <a:cubicBezTo>
                    <a:pt x="89" y="417"/>
                    <a:pt x="114" y="392"/>
                    <a:pt x="114" y="360"/>
                  </a:cubicBezTo>
                  <a:cubicBezTo>
                    <a:pt x="114" y="225"/>
                    <a:pt x="225" y="114"/>
                    <a:pt x="360" y="114"/>
                  </a:cubicBezTo>
                  <a:cubicBezTo>
                    <a:pt x="392" y="114"/>
                    <a:pt x="417" y="89"/>
                    <a:pt x="417" y="57"/>
                  </a:cubicBezTo>
                  <a:cubicBezTo>
                    <a:pt x="417" y="26"/>
                    <a:pt x="392" y="0"/>
                    <a:pt x="3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813" name="Freeform 22"/>
          <p:cNvSpPr/>
          <p:nvPr/>
        </p:nvSpPr>
        <p:spPr>
          <a:xfrm>
            <a:off x="3997440" y="4533840"/>
            <a:ext cx="145800" cy="23760"/>
          </a:xfrm>
          <a:custGeom>
            <a:avLst/>
            <a:gdLst/>
            <a:ahLst/>
            <a:rect l="l" t="t" r="r" b="b"/>
            <a:pathLst>
              <a:path w="736" h="119">
                <a:moveTo>
                  <a:pt x="676" y="119"/>
                </a:moveTo>
                <a:lnTo>
                  <a:pt x="676" y="119"/>
                </a:lnTo>
                <a:lnTo>
                  <a:pt x="59" y="119"/>
                </a:lnTo>
                <a:cubicBezTo>
                  <a:pt x="26" y="119"/>
                  <a:pt x="0" y="92"/>
                  <a:pt x="0" y="59"/>
                </a:cubicBezTo>
                <a:cubicBezTo>
                  <a:pt x="0" y="26"/>
                  <a:pt x="26" y="0"/>
                  <a:pt x="59" y="0"/>
                </a:cubicBezTo>
                <a:lnTo>
                  <a:pt x="676" y="0"/>
                </a:lnTo>
                <a:cubicBezTo>
                  <a:pt x="709" y="0"/>
                  <a:pt x="736" y="26"/>
                  <a:pt x="736" y="59"/>
                </a:cubicBezTo>
                <a:cubicBezTo>
                  <a:pt x="736" y="92"/>
                  <a:pt x="709" y="119"/>
                  <a:pt x="676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14" name="Freeform 23"/>
          <p:cNvSpPr/>
          <p:nvPr/>
        </p:nvSpPr>
        <p:spPr>
          <a:xfrm>
            <a:off x="4027320" y="4476600"/>
            <a:ext cx="115920" cy="24120"/>
          </a:xfrm>
          <a:custGeom>
            <a:avLst/>
            <a:gdLst/>
            <a:ahLst/>
            <a:rect l="l" t="t" r="r" b="b"/>
            <a:pathLst>
              <a:path w="580" h="119">
                <a:moveTo>
                  <a:pt x="520" y="119"/>
                </a:moveTo>
                <a:lnTo>
                  <a:pt x="520" y="119"/>
                </a:lnTo>
                <a:lnTo>
                  <a:pt x="60" y="119"/>
                </a:lnTo>
                <a:cubicBezTo>
                  <a:pt x="27" y="119"/>
                  <a:pt x="0" y="92"/>
                  <a:pt x="0" y="59"/>
                </a:cubicBezTo>
                <a:cubicBezTo>
                  <a:pt x="0" y="27"/>
                  <a:pt x="27" y="0"/>
                  <a:pt x="60" y="0"/>
                </a:cubicBezTo>
                <a:lnTo>
                  <a:pt x="520" y="0"/>
                </a:lnTo>
                <a:cubicBezTo>
                  <a:pt x="553" y="0"/>
                  <a:pt x="580" y="27"/>
                  <a:pt x="580" y="59"/>
                </a:cubicBezTo>
                <a:cubicBezTo>
                  <a:pt x="580" y="92"/>
                  <a:pt x="553" y="119"/>
                  <a:pt x="520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15" name="Freeform 24"/>
          <p:cNvSpPr/>
          <p:nvPr/>
        </p:nvSpPr>
        <p:spPr>
          <a:xfrm>
            <a:off x="4059360" y="4419720"/>
            <a:ext cx="83880" cy="23760"/>
          </a:xfrm>
          <a:custGeom>
            <a:avLst/>
            <a:gdLst/>
            <a:ahLst/>
            <a:rect l="l" t="t" r="r" b="b"/>
            <a:pathLst>
              <a:path w="424" h="119">
                <a:moveTo>
                  <a:pt x="364" y="119"/>
                </a:moveTo>
                <a:lnTo>
                  <a:pt x="364" y="119"/>
                </a:lnTo>
                <a:lnTo>
                  <a:pt x="60" y="119"/>
                </a:lnTo>
                <a:cubicBezTo>
                  <a:pt x="27" y="119"/>
                  <a:pt x="0" y="93"/>
                  <a:pt x="0" y="60"/>
                </a:cubicBezTo>
                <a:cubicBezTo>
                  <a:pt x="0" y="27"/>
                  <a:pt x="27" y="0"/>
                  <a:pt x="60" y="0"/>
                </a:cubicBezTo>
                <a:lnTo>
                  <a:pt x="364" y="0"/>
                </a:lnTo>
                <a:cubicBezTo>
                  <a:pt x="397" y="0"/>
                  <a:pt x="424" y="27"/>
                  <a:pt x="424" y="60"/>
                </a:cubicBezTo>
                <a:cubicBezTo>
                  <a:pt x="424" y="93"/>
                  <a:pt x="397" y="119"/>
                  <a:pt x="364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16" name="Freeform 25"/>
          <p:cNvSpPr/>
          <p:nvPr/>
        </p:nvSpPr>
        <p:spPr>
          <a:xfrm>
            <a:off x="4089240" y="4362480"/>
            <a:ext cx="54000" cy="23760"/>
          </a:xfrm>
          <a:custGeom>
            <a:avLst/>
            <a:gdLst/>
            <a:ahLst/>
            <a:rect l="l" t="t" r="r" b="b"/>
            <a:pathLst>
              <a:path w="268" h="120">
                <a:moveTo>
                  <a:pt x="208" y="120"/>
                </a:moveTo>
                <a:lnTo>
                  <a:pt x="208" y="120"/>
                </a:lnTo>
                <a:lnTo>
                  <a:pt x="60" y="120"/>
                </a:lnTo>
                <a:cubicBezTo>
                  <a:pt x="27" y="120"/>
                  <a:pt x="0" y="93"/>
                  <a:pt x="0" y="60"/>
                </a:cubicBezTo>
                <a:cubicBezTo>
                  <a:pt x="0" y="27"/>
                  <a:pt x="27" y="0"/>
                  <a:pt x="60" y="0"/>
                </a:cubicBezTo>
                <a:lnTo>
                  <a:pt x="208" y="0"/>
                </a:lnTo>
                <a:cubicBezTo>
                  <a:pt x="241" y="0"/>
                  <a:pt x="268" y="27"/>
                  <a:pt x="268" y="60"/>
                </a:cubicBezTo>
                <a:cubicBezTo>
                  <a:pt x="268" y="93"/>
                  <a:pt x="241" y="120"/>
                  <a:pt x="208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817" name="Рисунок 42" descr=""/>
          <p:cNvPicPr/>
          <p:nvPr/>
        </p:nvPicPr>
        <p:blipFill>
          <a:blip r:embed="rId5"/>
          <a:stretch/>
        </p:blipFill>
        <p:spPr>
          <a:xfrm>
            <a:off x="4373640" y="3594240"/>
            <a:ext cx="934920" cy="579240"/>
          </a:xfrm>
          <a:prstGeom prst="rect">
            <a:avLst/>
          </a:prstGeom>
          <a:ln w="0">
            <a:noFill/>
          </a:ln>
        </p:spPr>
      </p:pic>
      <p:sp>
        <p:nvSpPr>
          <p:cNvPr id="1818" name="Freeform 6"/>
          <p:cNvSpPr/>
          <p:nvPr/>
        </p:nvSpPr>
        <p:spPr>
          <a:xfrm>
            <a:off x="4084560" y="4781520"/>
            <a:ext cx="466920" cy="792360"/>
          </a:xfrm>
          <a:custGeom>
            <a:avLst/>
            <a:gdLst/>
            <a:ahLst/>
            <a:rect l="l" t="t" r="r" b="b"/>
            <a:pathLst>
              <a:path w="1563" h="2823">
                <a:moveTo>
                  <a:pt x="782" y="703"/>
                </a:moveTo>
                <a:lnTo>
                  <a:pt x="782" y="703"/>
                </a:lnTo>
                <a:cubicBezTo>
                  <a:pt x="971" y="703"/>
                  <a:pt x="1125" y="546"/>
                  <a:pt x="1125" y="352"/>
                </a:cubicBezTo>
                <a:cubicBezTo>
                  <a:pt x="1125" y="158"/>
                  <a:pt x="971" y="0"/>
                  <a:pt x="782" y="0"/>
                </a:cubicBezTo>
                <a:cubicBezTo>
                  <a:pt x="592" y="0"/>
                  <a:pt x="439" y="158"/>
                  <a:pt x="439" y="352"/>
                </a:cubicBezTo>
                <a:cubicBezTo>
                  <a:pt x="439" y="546"/>
                  <a:pt x="592" y="703"/>
                  <a:pt x="782" y="703"/>
                </a:cubicBezTo>
                <a:close/>
                <a:moveTo>
                  <a:pt x="1220" y="779"/>
                </a:moveTo>
                <a:lnTo>
                  <a:pt x="1220" y="779"/>
                </a:lnTo>
                <a:lnTo>
                  <a:pt x="344" y="779"/>
                </a:lnTo>
                <a:cubicBezTo>
                  <a:pt x="154" y="779"/>
                  <a:pt x="0" y="937"/>
                  <a:pt x="0" y="1131"/>
                </a:cubicBezTo>
                <a:lnTo>
                  <a:pt x="0" y="2283"/>
                </a:lnTo>
                <a:cubicBezTo>
                  <a:pt x="0" y="2368"/>
                  <a:pt x="67" y="2437"/>
                  <a:pt x="150" y="2437"/>
                </a:cubicBezTo>
                <a:cubicBezTo>
                  <a:pt x="233" y="2437"/>
                  <a:pt x="300" y="2368"/>
                  <a:pt x="300" y="2283"/>
                </a:cubicBezTo>
                <a:lnTo>
                  <a:pt x="300" y="1313"/>
                </a:lnTo>
                <a:cubicBezTo>
                  <a:pt x="300" y="1298"/>
                  <a:pt x="312" y="1285"/>
                  <a:pt x="327" y="1285"/>
                </a:cubicBezTo>
                <a:cubicBezTo>
                  <a:pt x="343" y="1285"/>
                  <a:pt x="355" y="1298"/>
                  <a:pt x="355" y="1313"/>
                </a:cubicBezTo>
                <a:lnTo>
                  <a:pt x="355" y="2762"/>
                </a:lnTo>
                <a:cubicBezTo>
                  <a:pt x="480" y="2799"/>
                  <a:pt x="612" y="2820"/>
                  <a:pt x="749" y="2823"/>
                </a:cubicBezTo>
                <a:lnTo>
                  <a:pt x="749" y="2458"/>
                </a:lnTo>
                <a:cubicBezTo>
                  <a:pt x="749" y="2440"/>
                  <a:pt x="764" y="2424"/>
                  <a:pt x="782" y="2424"/>
                </a:cubicBezTo>
                <a:cubicBezTo>
                  <a:pt x="800" y="2424"/>
                  <a:pt x="815" y="2440"/>
                  <a:pt x="815" y="2458"/>
                </a:cubicBezTo>
                <a:lnTo>
                  <a:pt x="815" y="2823"/>
                </a:lnTo>
                <a:cubicBezTo>
                  <a:pt x="952" y="2820"/>
                  <a:pt x="1084" y="2799"/>
                  <a:pt x="1209" y="2762"/>
                </a:cubicBezTo>
                <a:lnTo>
                  <a:pt x="1209" y="1313"/>
                </a:lnTo>
                <a:cubicBezTo>
                  <a:pt x="1209" y="1298"/>
                  <a:pt x="1221" y="1285"/>
                  <a:pt x="1237" y="1285"/>
                </a:cubicBezTo>
                <a:cubicBezTo>
                  <a:pt x="1252" y="1285"/>
                  <a:pt x="1264" y="1298"/>
                  <a:pt x="1264" y="1313"/>
                </a:cubicBezTo>
                <a:lnTo>
                  <a:pt x="1264" y="2283"/>
                </a:lnTo>
                <a:cubicBezTo>
                  <a:pt x="1264" y="2368"/>
                  <a:pt x="1331" y="2437"/>
                  <a:pt x="1414" y="2437"/>
                </a:cubicBezTo>
                <a:cubicBezTo>
                  <a:pt x="1497" y="2437"/>
                  <a:pt x="1563" y="2368"/>
                  <a:pt x="1563" y="2283"/>
                </a:cubicBezTo>
                <a:lnTo>
                  <a:pt x="1563" y="1131"/>
                </a:lnTo>
                <a:cubicBezTo>
                  <a:pt x="1563" y="937"/>
                  <a:pt x="1410" y="779"/>
                  <a:pt x="1220" y="7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19" name="Блок-схема: сохраненные данные 43"/>
          <p:cNvSpPr/>
          <p:nvPr/>
        </p:nvSpPr>
        <p:spPr>
          <a:xfrm rot="16200000">
            <a:off x="4025160" y="5160240"/>
            <a:ext cx="590400" cy="560160"/>
          </a:xfrm>
          <a:prstGeom prst="flowChartOnlineStorage">
            <a:avLst/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0" name="Freeform 10"/>
          <p:cNvSpPr/>
          <p:nvPr/>
        </p:nvSpPr>
        <p:spPr>
          <a:xfrm>
            <a:off x="3639960" y="4749840"/>
            <a:ext cx="613080" cy="431640"/>
          </a:xfrm>
          <a:custGeom>
            <a:avLst/>
            <a:gdLst/>
            <a:ahLst/>
            <a:rect l="l" t="t" r="r" b="b"/>
            <a:pathLst>
              <a:path w="2444" h="1342">
                <a:moveTo>
                  <a:pt x="2380" y="1214"/>
                </a:moveTo>
                <a:lnTo>
                  <a:pt x="2380" y="1214"/>
                </a:lnTo>
                <a:lnTo>
                  <a:pt x="1408" y="1214"/>
                </a:lnTo>
                <a:cubicBezTo>
                  <a:pt x="1408" y="1244"/>
                  <a:pt x="1383" y="1269"/>
                  <a:pt x="1352" y="1269"/>
                </a:cubicBezTo>
                <a:lnTo>
                  <a:pt x="1060" y="1269"/>
                </a:lnTo>
                <a:cubicBezTo>
                  <a:pt x="1029" y="1269"/>
                  <a:pt x="1004" y="1244"/>
                  <a:pt x="1004" y="1214"/>
                </a:cubicBezTo>
                <a:lnTo>
                  <a:pt x="64" y="1214"/>
                </a:lnTo>
                <a:cubicBezTo>
                  <a:pt x="28" y="1214"/>
                  <a:pt x="0" y="1242"/>
                  <a:pt x="0" y="1278"/>
                </a:cubicBezTo>
                <a:cubicBezTo>
                  <a:pt x="0" y="1313"/>
                  <a:pt x="28" y="1342"/>
                  <a:pt x="64" y="1342"/>
                </a:cubicBezTo>
                <a:lnTo>
                  <a:pt x="2380" y="1342"/>
                </a:lnTo>
                <a:cubicBezTo>
                  <a:pt x="2416" y="1342"/>
                  <a:pt x="2444" y="1313"/>
                  <a:pt x="2444" y="1278"/>
                </a:cubicBezTo>
                <a:cubicBezTo>
                  <a:pt x="2444" y="1242"/>
                  <a:pt x="2416" y="1214"/>
                  <a:pt x="2380" y="1214"/>
                </a:cubicBezTo>
                <a:close/>
                <a:moveTo>
                  <a:pt x="342" y="99"/>
                </a:moveTo>
                <a:lnTo>
                  <a:pt x="342" y="99"/>
                </a:lnTo>
                <a:lnTo>
                  <a:pt x="2075" y="99"/>
                </a:lnTo>
                <a:lnTo>
                  <a:pt x="2075" y="1063"/>
                </a:lnTo>
                <a:lnTo>
                  <a:pt x="342" y="1063"/>
                </a:lnTo>
                <a:lnTo>
                  <a:pt x="342" y="99"/>
                </a:lnTo>
                <a:close/>
                <a:moveTo>
                  <a:pt x="288" y="1162"/>
                </a:moveTo>
                <a:lnTo>
                  <a:pt x="288" y="1162"/>
                </a:lnTo>
                <a:lnTo>
                  <a:pt x="2124" y="1162"/>
                </a:lnTo>
                <a:cubicBezTo>
                  <a:pt x="2163" y="1162"/>
                  <a:pt x="2191" y="1128"/>
                  <a:pt x="2191" y="1090"/>
                </a:cubicBezTo>
                <a:lnTo>
                  <a:pt x="2191" y="66"/>
                </a:lnTo>
                <a:cubicBezTo>
                  <a:pt x="2191" y="28"/>
                  <a:pt x="2163" y="0"/>
                  <a:pt x="2124" y="0"/>
                </a:cubicBezTo>
                <a:lnTo>
                  <a:pt x="288" y="0"/>
                </a:lnTo>
                <a:cubicBezTo>
                  <a:pt x="249" y="0"/>
                  <a:pt x="221" y="28"/>
                  <a:pt x="221" y="66"/>
                </a:cubicBezTo>
                <a:lnTo>
                  <a:pt x="221" y="1090"/>
                </a:lnTo>
                <a:cubicBezTo>
                  <a:pt x="221" y="1128"/>
                  <a:pt x="249" y="1162"/>
                  <a:pt x="288" y="1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1" name="Freeform 21"/>
          <p:cNvSpPr/>
          <p:nvPr/>
        </p:nvSpPr>
        <p:spPr>
          <a:xfrm>
            <a:off x="4167360" y="4317840"/>
            <a:ext cx="352080" cy="239760"/>
          </a:xfrm>
          <a:custGeom>
            <a:avLst/>
            <a:gdLst/>
            <a:ahLst/>
            <a:rect l="l" t="t" r="r" b="b"/>
            <a:pathLst>
              <a:path w="1777" h="1206">
                <a:moveTo>
                  <a:pt x="1659" y="977"/>
                </a:moveTo>
                <a:lnTo>
                  <a:pt x="1659" y="977"/>
                </a:lnTo>
                <a:cubicBezTo>
                  <a:pt x="1548" y="838"/>
                  <a:pt x="1416" y="682"/>
                  <a:pt x="1301" y="576"/>
                </a:cubicBezTo>
                <a:lnTo>
                  <a:pt x="1659" y="222"/>
                </a:lnTo>
                <a:lnTo>
                  <a:pt x="1659" y="977"/>
                </a:lnTo>
                <a:close/>
                <a:moveTo>
                  <a:pt x="181" y="1088"/>
                </a:moveTo>
                <a:lnTo>
                  <a:pt x="181" y="1088"/>
                </a:lnTo>
                <a:cubicBezTo>
                  <a:pt x="384" y="848"/>
                  <a:pt x="629" y="583"/>
                  <a:pt x="688" y="565"/>
                </a:cubicBezTo>
                <a:lnTo>
                  <a:pt x="1090" y="565"/>
                </a:lnTo>
                <a:cubicBezTo>
                  <a:pt x="1151" y="577"/>
                  <a:pt x="1392" y="840"/>
                  <a:pt x="1594" y="1088"/>
                </a:cubicBezTo>
                <a:lnTo>
                  <a:pt x="181" y="1088"/>
                </a:lnTo>
                <a:close/>
                <a:moveTo>
                  <a:pt x="118" y="222"/>
                </a:moveTo>
                <a:lnTo>
                  <a:pt x="118" y="222"/>
                </a:lnTo>
                <a:lnTo>
                  <a:pt x="480" y="579"/>
                </a:lnTo>
                <a:cubicBezTo>
                  <a:pt x="372" y="680"/>
                  <a:pt x="243" y="828"/>
                  <a:pt x="118" y="980"/>
                </a:cubicBezTo>
                <a:lnTo>
                  <a:pt x="118" y="222"/>
                </a:lnTo>
                <a:close/>
                <a:moveTo>
                  <a:pt x="1594" y="117"/>
                </a:moveTo>
                <a:lnTo>
                  <a:pt x="1594" y="117"/>
                </a:lnTo>
                <a:lnTo>
                  <a:pt x="1209" y="499"/>
                </a:lnTo>
                <a:cubicBezTo>
                  <a:pt x="1164" y="466"/>
                  <a:pt x="1123" y="447"/>
                  <a:pt x="1092" y="447"/>
                </a:cubicBezTo>
                <a:lnTo>
                  <a:pt x="685" y="447"/>
                </a:lnTo>
                <a:cubicBezTo>
                  <a:pt x="656" y="447"/>
                  <a:pt x="617" y="467"/>
                  <a:pt x="570" y="502"/>
                </a:cubicBezTo>
                <a:lnTo>
                  <a:pt x="178" y="117"/>
                </a:lnTo>
                <a:lnTo>
                  <a:pt x="1594" y="117"/>
                </a:lnTo>
                <a:close/>
                <a:moveTo>
                  <a:pt x="1701" y="0"/>
                </a:moveTo>
                <a:lnTo>
                  <a:pt x="1701" y="0"/>
                </a:lnTo>
                <a:lnTo>
                  <a:pt x="90" y="0"/>
                </a:lnTo>
                <a:cubicBezTo>
                  <a:pt x="25" y="0"/>
                  <a:pt x="0" y="47"/>
                  <a:pt x="0" y="80"/>
                </a:cubicBezTo>
                <a:lnTo>
                  <a:pt x="0" y="1147"/>
                </a:lnTo>
                <a:cubicBezTo>
                  <a:pt x="0" y="1180"/>
                  <a:pt x="27" y="1206"/>
                  <a:pt x="59" y="1206"/>
                </a:cubicBezTo>
                <a:lnTo>
                  <a:pt x="1718" y="1206"/>
                </a:lnTo>
                <a:cubicBezTo>
                  <a:pt x="1751" y="1206"/>
                  <a:pt x="1777" y="1180"/>
                  <a:pt x="1777" y="1147"/>
                </a:cubicBezTo>
                <a:lnTo>
                  <a:pt x="1777" y="80"/>
                </a:lnTo>
                <a:cubicBezTo>
                  <a:pt x="1777" y="61"/>
                  <a:pt x="1760" y="0"/>
                  <a:pt x="17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2" name="Круговая стрелка 48"/>
          <p:cNvSpPr/>
          <p:nvPr/>
        </p:nvSpPr>
        <p:spPr>
          <a:xfrm rot="18680400">
            <a:off x="3599640" y="3883680"/>
            <a:ext cx="827280" cy="695520"/>
          </a:xfrm>
          <a:custGeom>
            <a:avLst/>
            <a:gdLst/>
            <a:ahLst/>
            <a:rect l="l" t="t" r="r" b="b"/>
            <a:pathLst>
              <a:path w="827087" h="695325">
                <a:moveTo>
                  <a:pt x="210647" y="140510"/>
                </a:moveTo>
                <a:cubicBezTo>
                  <a:pt x="272761" y="101597"/>
                  <a:pt x="350290" y="81831"/>
                  <a:pt x="429104" y="84815"/>
                </a:cubicBezTo>
                <a:cubicBezTo>
                  <a:pt x="510554" y="87899"/>
                  <a:pt x="587671" y="115063"/>
                  <a:pt x="645502" y="161038"/>
                </a:cubicBezTo>
                <a:lnTo>
                  <a:pt x="715812" y="152358"/>
                </a:lnTo>
                <a:lnTo>
                  <a:pt x="709731" y="311098"/>
                </a:lnTo>
                <a:lnTo>
                  <a:pt x="490181" y="180212"/>
                </a:lnTo>
                <a:lnTo>
                  <a:pt x="553629" y="172379"/>
                </a:lnTo>
                <a:cubicBezTo>
                  <a:pt x="459632" y="129371"/>
                  <a:pt x="340606" y="133602"/>
                  <a:pt x="252353" y="183090"/>
                </a:cubicBezTo>
                <a:lnTo>
                  <a:pt x="210647" y="1405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bb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3" name="Freeform 6"/>
          <p:cNvSpPr/>
          <p:nvPr/>
        </p:nvSpPr>
        <p:spPr>
          <a:xfrm>
            <a:off x="5195880" y="4782960"/>
            <a:ext cx="466560" cy="792360"/>
          </a:xfrm>
          <a:custGeom>
            <a:avLst/>
            <a:gdLst/>
            <a:ahLst/>
            <a:rect l="l" t="t" r="r" b="b"/>
            <a:pathLst>
              <a:path w="1563" h="2823">
                <a:moveTo>
                  <a:pt x="782" y="703"/>
                </a:moveTo>
                <a:lnTo>
                  <a:pt x="782" y="703"/>
                </a:lnTo>
                <a:cubicBezTo>
                  <a:pt x="971" y="703"/>
                  <a:pt x="1125" y="546"/>
                  <a:pt x="1125" y="352"/>
                </a:cubicBezTo>
                <a:cubicBezTo>
                  <a:pt x="1125" y="158"/>
                  <a:pt x="971" y="0"/>
                  <a:pt x="782" y="0"/>
                </a:cubicBezTo>
                <a:cubicBezTo>
                  <a:pt x="592" y="0"/>
                  <a:pt x="439" y="158"/>
                  <a:pt x="439" y="352"/>
                </a:cubicBezTo>
                <a:cubicBezTo>
                  <a:pt x="439" y="546"/>
                  <a:pt x="592" y="703"/>
                  <a:pt x="782" y="703"/>
                </a:cubicBezTo>
                <a:close/>
                <a:moveTo>
                  <a:pt x="1220" y="779"/>
                </a:moveTo>
                <a:lnTo>
                  <a:pt x="1220" y="779"/>
                </a:lnTo>
                <a:lnTo>
                  <a:pt x="344" y="779"/>
                </a:lnTo>
                <a:cubicBezTo>
                  <a:pt x="154" y="779"/>
                  <a:pt x="0" y="937"/>
                  <a:pt x="0" y="1131"/>
                </a:cubicBezTo>
                <a:lnTo>
                  <a:pt x="0" y="2283"/>
                </a:lnTo>
                <a:cubicBezTo>
                  <a:pt x="0" y="2368"/>
                  <a:pt x="67" y="2437"/>
                  <a:pt x="150" y="2437"/>
                </a:cubicBezTo>
                <a:cubicBezTo>
                  <a:pt x="233" y="2437"/>
                  <a:pt x="300" y="2368"/>
                  <a:pt x="300" y="2283"/>
                </a:cubicBezTo>
                <a:lnTo>
                  <a:pt x="300" y="1313"/>
                </a:lnTo>
                <a:cubicBezTo>
                  <a:pt x="300" y="1298"/>
                  <a:pt x="312" y="1285"/>
                  <a:pt x="327" y="1285"/>
                </a:cubicBezTo>
                <a:cubicBezTo>
                  <a:pt x="343" y="1285"/>
                  <a:pt x="355" y="1298"/>
                  <a:pt x="355" y="1313"/>
                </a:cubicBezTo>
                <a:lnTo>
                  <a:pt x="355" y="2762"/>
                </a:lnTo>
                <a:cubicBezTo>
                  <a:pt x="480" y="2799"/>
                  <a:pt x="612" y="2820"/>
                  <a:pt x="749" y="2823"/>
                </a:cubicBezTo>
                <a:lnTo>
                  <a:pt x="749" y="2458"/>
                </a:lnTo>
                <a:cubicBezTo>
                  <a:pt x="749" y="2440"/>
                  <a:pt x="764" y="2424"/>
                  <a:pt x="782" y="2424"/>
                </a:cubicBezTo>
                <a:cubicBezTo>
                  <a:pt x="800" y="2424"/>
                  <a:pt x="815" y="2440"/>
                  <a:pt x="815" y="2458"/>
                </a:cubicBezTo>
                <a:lnTo>
                  <a:pt x="815" y="2823"/>
                </a:lnTo>
                <a:cubicBezTo>
                  <a:pt x="952" y="2820"/>
                  <a:pt x="1084" y="2799"/>
                  <a:pt x="1209" y="2762"/>
                </a:cubicBezTo>
                <a:lnTo>
                  <a:pt x="1209" y="1313"/>
                </a:lnTo>
                <a:cubicBezTo>
                  <a:pt x="1209" y="1298"/>
                  <a:pt x="1221" y="1285"/>
                  <a:pt x="1237" y="1285"/>
                </a:cubicBezTo>
                <a:cubicBezTo>
                  <a:pt x="1252" y="1285"/>
                  <a:pt x="1264" y="1298"/>
                  <a:pt x="1264" y="1313"/>
                </a:cubicBezTo>
                <a:lnTo>
                  <a:pt x="1264" y="2283"/>
                </a:lnTo>
                <a:cubicBezTo>
                  <a:pt x="1264" y="2368"/>
                  <a:pt x="1331" y="2437"/>
                  <a:pt x="1414" y="2437"/>
                </a:cubicBezTo>
                <a:cubicBezTo>
                  <a:pt x="1497" y="2437"/>
                  <a:pt x="1563" y="2368"/>
                  <a:pt x="1563" y="2283"/>
                </a:cubicBezTo>
                <a:lnTo>
                  <a:pt x="1563" y="1131"/>
                </a:lnTo>
                <a:cubicBezTo>
                  <a:pt x="1563" y="937"/>
                  <a:pt x="1410" y="779"/>
                  <a:pt x="1220" y="7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4" name="Блок-схема: сохраненные данные 52"/>
          <p:cNvSpPr/>
          <p:nvPr/>
        </p:nvSpPr>
        <p:spPr>
          <a:xfrm rot="16200000">
            <a:off x="5120280" y="5158440"/>
            <a:ext cx="591840" cy="561960"/>
          </a:xfrm>
          <a:prstGeom prst="flowChartOnlineStorage">
            <a:avLst/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5" name="Freeform 10"/>
          <p:cNvSpPr/>
          <p:nvPr/>
        </p:nvSpPr>
        <p:spPr>
          <a:xfrm>
            <a:off x="5486400" y="4749840"/>
            <a:ext cx="612720" cy="431640"/>
          </a:xfrm>
          <a:custGeom>
            <a:avLst/>
            <a:gdLst/>
            <a:ahLst/>
            <a:rect l="l" t="t" r="r" b="b"/>
            <a:pathLst>
              <a:path w="2444" h="1342">
                <a:moveTo>
                  <a:pt x="2380" y="1214"/>
                </a:moveTo>
                <a:lnTo>
                  <a:pt x="2380" y="1214"/>
                </a:lnTo>
                <a:lnTo>
                  <a:pt x="1408" y="1214"/>
                </a:lnTo>
                <a:cubicBezTo>
                  <a:pt x="1408" y="1244"/>
                  <a:pt x="1383" y="1269"/>
                  <a:pt x="1352" y="1269"/>
                </a:cubicBezTo>
                <a:lnTo>
                  <a:pt x="1060" y="1269"/>
                </a:lnTo>
                <a:cubicBezTo>
                  <a:pt x="1029" y="1269"/>
                  <a:pt x="1004" y="1244"/>
                  <a:pt x="1004" y="1214"/>
                </a:cubicBezTo>
                <a:lnTo>
                  <a:pt x="64" y="1214"/>
                </a:lnTo>
                <a:cubicBezTo>
                  <a:pt x="28" y="1214"/>
                  <a:pt x="0" y="1242"/>
                  <a:pt x="0" y="1278"/>
                </a:cubicBezTo>
                <a:cubicBezTo>
                  <a:pt x="0" y="1313"/>
                  <a:pt x="28" y="1342"/>
                  <a:pt x="64" y="1342"/>
                </a:cubicBezTo>
                <a:lnTo>
                  <a:pt x="2380" y="1342"/>
                </a:lnTo>
                <a:cubicBezTo>
                  <a:pt x="2416" y="1342"/>
                  <a:pt x="2444" y="1313"/>
                  <a:pt x="2444" y="1278"/>
                </a:cubicBezTo>
                <a:cubicBezTo>
                  <a:pt x="2444" y="1242"/>
                  <a:pt x="2416" y="1214"/>
                  <a:pt x="2380" y="1214"/>
                </a:cubicBezTo>
                <a:close/>
                <a:moveTo>
                  <a:pt x="342" y="99"/>
                </a:moveTo>
                <a:lnTo>
                  <a:pt x="342" y="99"/>
                </a:lnTo>
                <a:lnTo>
                  <a:pt x="2075" y="99"/>
                </a:lnTo>
                <a:lnTo>
                  <a:pt x="2075" y="1063"/>
                </a:lnTo>
                <a:lnTo>
                  <a:pt x="342" y="1063"/>
                </a:lnTo>
                <a:lnTo>
                  <a:pt x="342" y="99"/>
                </a:lnTo>
                <a:close/>
                <a:moveTo>
                  <a:pt x="288" y="1162"/>
                </a:moveTo>
                <a:lnTo>
                  <a:pt x="288" y="1162"/>
                </a:lnTo>
                <a:lnTo>
                  <a:pt x="2124" y="1162"/>
                </a:lnTo>
                <a:cubicBezTo>
                  <a:pt x="2163" y="1162"/>
                  <a:pt x="2191" y="1128"/>
                  <a:pt x="2191" y="1090"/>
                </a:cubicBezTo>
                <a:lnTo>
                  <a:pt x="2191" y="66"/>
                </a:lnTo>
                <a:cubicBezTo>
                  <a:pt x="2191" y="28"/>
                  <a:pt x="2163" y="0"/>
                  <a:pt x="2124" y="0"/>
                </a:cubicBezTo>
                <a:lnTo>
                  <a:pt x="288" y="0"/>
                </a:lnTo>
                <a:cubicBezTo>
                  <a:pt x="249" y="0"/>
                  <a:pt x="221" y="28"/>
                  <a:pt x="221" y="66"/>
                </a:cubicBezTo>
                <a:lnTo>
                  <a:pt x="221" y="1090"/>
                </a:lnTo>
                <a:cubicBezTo>
                  <a:pt x="221" y="1128"/>
                  <a:pt x="249" y="1162"/>
                  <a:pt x="288" y="1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6" name="Круговая стрелка 53"/>
          <p:cNvSpPr/>
          <p:nvPr/>
        </p:nvSpPr>
        <p:spPr>
          <a:xfrm rot="1912800">
            <a:off x="5225760" y="3866760"/>
            <a:ext cx="826920" cy="695520"/>
          </a:xfrm>
          <a:custGeom>
            <a:avLst/>
            <a:gdLst/>
            <a:ahLst/>
            <a:rect l="l" t="t" r="r" b="b"/>
            <a:pathLst>
              <a:path w="827088" h="695325">
                <a:moveTo>
                  <a:pt x="210648" y="140509"/>
                </a:moveTo>
                <a:cubicBezTo>
                  <a:pt x="272762" y="101596"/>
                  <a:pt x="350292" y="81830"/>
                  <a:pt x="429105" y="84814"/>
                </a:cubicBezTo>
                <a:cubicBezTo>
                  <a:pt x="510555" y="87898"/>
                  <a:pt x="587672" y="115061"/>
                  <a:pt x="645503" y="161037"/>
                </a:cubicBezTo>
                <a:lnTo>
                  <a:pt x="715813" y="152358"/>
                </a:lnTo>
                <a:lnTo>
                  <a:pt x="709732" y="311098"/>
                </a:lnTo>
                <a:lnTo>
                  <a:pt x="490182" y="180212"/>
                </a:lnTo>
                <a:lnTo>
                  <a:pt x="553630" y="172379"/>
                </a:lnTo>
                <a:cubicBezTo>
                  <a:pt x="459633" y="129371"/>
                  <a:pt x="340607" y="133603"/>
                  <a:pt x="252354" y="183090"/>
                </a:cubicBezTo>
                <a:lnTo>
                  <a:pt x="210648" y="1405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bb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27" name="Скругленная прямоугольная выноска 56"/>
          <p:cNvSpPr/>
          <p:nvPr/>
        </p:nvSpPr>
        <p:spPr>
          <a:xfrm flipV="1">
            <a:off x="6391440" y="3511440"/>
            <a:ext cx="2568240" cy="2232000"/>
          </a:xfrm>
          <a:prstGeom prst="wedgeRoundRectCallout">
            <a:avLst>
              <a:gd name="adj1" fmla="val -20833"/>
              <a:gd name="adj2" fmla="val 63032"/>
              <a:gd name="adj3" fmla="val 16667"/>
            </a:avLst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828" name="Рисунок 62" descr=""/>
          <p:cNvPicPr/>
          <p:nvPr/>
        </p:nvPicPr>
        <p:blipFill>
          <a:blip r:embed="rId6"/>
          <a:stretch/>
        </p:blipFill>
        <p:spPr>
          <a:xfrm>
            <a:off x="6408720" y="4589640"/>
            <a:ext cx="936720" cy="579240"/>
          </a:xfrm>
          <a:prstGeom prst="rect">
            <a:avLst/>
          </a:prstGeom>
          <a:ln w="0">
            <a:noFill/>
          </a:ln>
        </p:spPr>
      </p:pic>
      <p:sp>
        <p:nvSpPr>
          <p:cNvPr id="1829" name="Круговая стрелка 67"/>
          <p:cNvSpPr/>
          <p:nvPr/>
        </p:nvSpPr>
        <p:spPr>
          <a:xfrm rot="18680400">
            <a:off x="6431400" y="3763080"/>
            <a:ext cx="827280" cy="695160"/>
          </a:xfrm>
          <a:custGeom>
            <a:avLst/>
            <a:gdLst/>
            <a:ahLst/>
            <a:rect l="l" t="t" r="r" b="b"/>
            <a:pathLst>
              <a:path w="827087" h="695325">
                <a:moveTo>
                  <a:pt x="210647" y="140510"/>
                </a:moveTo>
                <a:cubicBezTo>
                  <a:pt x="272761" y="101597"/>
                  <a:pt x="350290" y="81831"/>
                  <a:pt x="429104" y="84815"/>
                </a:cubicBezTo>
                <a:cubicBezTo>
                  <a:pt x="510554" y="87899"/>
                  <a:pt x="587671" y="115063"/>
                  <a:pt x="645502" y="161038"/>
                </a:cubicBezTo>
                <a:lnTo>
                  <a:pt x="715812" y="152358"/>
                </a:lnTo>
                <a:lnTo>
                  <a:pt x="709731" y="311098"/>
                </a:lnTo>
                <a:lnTo>
                  <a:pt x="490181" y="180212"/>
                </a:lnTo>
                <a:lnTo>
                  <a:pt x="553629" y="172379"/>
                </a:lnTo>
                <a:cubicBezTo>
                  <a:pt x="459632" y="129371"/>
                  <a:pt x="340606" y="133602"/>
                  <a:pt x="252353" y="183090"/>
                </a:cubicBezTo>
                <a:lnTo>
                  <a:pt x="210647" y="1405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bb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0" name="Круговая стрелка 71"/>
          <p:cNvSpPr/>
          <p:nvPr/>
        </p:nvSpPr>
        <p:spPr>
          <a:xfrm rot="1912800">
            <a:off x="7986240" y="3722760"/>
            <a:ext cx="827280" cy="695160"/>
          </a:xfrm>
          <a:custGeom>
            <a:avLst/>
            <a:gdLst/>
            <a:ahLst/>
            <a:rect l="l" t="t" r="r" b="b"/>
            <a:pathLst>
              <a:path w="827087" h="695325">
                <a:moveTo>
                  <a:pt x="210647" y="140510"/>
                </a:moveTo>
                <a:cubicBezTo>
                  <a:pt x="272761" y="101597"/>
                  <a:pt x="350290" y="81831"/>
                  <a:pt x="429104" y="84815"/>
                </a:cubicBezTo>
                <a:cubicBezTo>
                  <a:pt x="510554" y="87899"/>
                  <a:pt x="587671" y="115063"/>
                  <a:pt x="645502" y="161038"/>
                </a:cubicBezTo>
                <a:lnTo>
                  <a:pt x="715812" y="152358"/>
                </a:lnTo>
                <a:lnTo>
                  <a:pt x="709731" y="311098"/>
                </a:lnTo>
                <a:lnTo>
                  <a:pt x="490181" y="180212"/>
                </a:lnTo>
                <a:lnTo>
                  <a:pt x="553629" y="172379"/>
                </a:lnTo>
                <a:cubicBezTo>
                  <a:pt x="459632" y="129371"/>
                  <a:pt x="340606" y="133602"/>
                  <a:pt x="252353" y="183090"/>
                </a:cubicBezTo>
                <a:lnTo>
                  <a:pt x="210647" y="1405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bb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831" name="Рисунок 3" descr=""/>
          <p:cNvPicPr/>
          <p:nvPr/>
        </p:nvPicPr>
        <p:blipFill>
          <a:blip r:embed="rId7"/>
          <a:stretch/>
        </p:blipFill>
        <p:spPr>
          <a:xfrm>
            <a:off x="8271000" y="4581360"/>
            <a:ext cx="631800" cy="619200"/>
          </a:xfrm>
          <a:prstGeom prst="rect">
            <a:avLst/>
          </a:prstGeom>
          <a:ln w="0">
            <a:noFill/>
          </a:ln>
        </p:spPr>
      </p:pic>
      <p:sp>
        <p:nvSpPr>
          <p:cNvPr id="1832" name="Freeform 13"/>
          <p:cNvSpPr/>
          <p:nvPr/>
        </p:nvSpPr>
        <p:spPr>
          <a:xfrm>
            <a:off x="7993080" y="4081320"/>
            <a:ext cx="360360" cy="360360"/>
          </a:xfrm>
          <a:custGeom>
            <a:avLst/>
            <a:gdLst/>
            <a:ahLst/>
            <a:rect l="l" t="t" r="r" b="b"/>
            <a:pathLst>
              <a:path w="4519" h="3845">
                <a:moveTo>
                  <a:pt x="4482" y="1572"/>
                </a:moveTo>
                <a:lnTo>
                  <a:pt x="4482" y="1572"/>
                </a:lnTo>
                <a:lnTo>
                  <a:pt x="4266" y="1355"/>
                </a:lnTo>
                <a:cubicBezTo>
                  <a:pt x="4241" y="1331"/>
                  <a:pt x="4209" y="1321"/>
                  <a:pt x="4177" y="1325"/>
                </a:cubicBezTo>
                <a:cubicBezTo>
                  <a:pt x="4059" y="1339"/>
                  <a:pt x="3980" y="1319"/>
                  <a:pt x="3923" y="1262"/>
                </a:cubicBezTo>
                <a:cubicBezTo>
                  <a:pt x="3866" y="1204"/>
                  <a:pt x="3914" y="1116"/>
                  <a:pt x="3900" y="1028"/>
                </a:cubicBezTo>
                <a:cubicBezTo>
                  <a:pt x="3886" y="939"/>
                  <a:pt x="3752" y="793"/>
                  <a:pt x="3617" y="659"/>
                </a:cubicBezTo>
                <a:cubicBezTo>
                  <a:pt x="2957" y="0"/>
                  <a:pt x="2222" y="119"/>
                  <a:pt x="1991" y="246"/>
                </a:cubicBezTo>
                <a:cubicBezTo>
                  <a:pt x="1940" y="275"/>
                  <a:pt x="1977" y="352"/>
                  <a:pt x="2034" y="341"/>
                </a:cubicBezTo>
                <a:cubicBezTo>
                  <a:pt x="2091" y="329"/>
                  <a:pt x="2385" y="335"/>
                  <a:pt x="2609" y="559"/>
                </a:cubicBezTo>
                <a:cubicBezTo>
                  <a:pt x="2961" y="910"/>
                  <a:pt x="2780" y="1211"/>
                  <a:pt x="2641" y="1350"/>
                </a:cubicBezTo>
                <a:lnTo>
                  <a:pt x="2522" y="1469"/>
                </a:lnTo>
                <a:lnTo>
                  <a:pt x="2460" y="1525"/>
                </a:lnTo>
                <a:cubicBezTo>
                  <a:pt x="2436" y="1503"/>
                  <a:pt x="2401" y="1484"/>
                  <a:pt x="2357" y="1521"/>
                </a:cubicBezTo>
                <a:cubicBezTo>
                  <a:pt x="2331" y="1542"/>
                  <a:pt x="2186" y="1649"/>
                  <a:pt x="2028" y="1774"/>
                </a:cubicBezTo>
                <a:lnTo>
                  <a:pt x="1296" y="1042"/>
                </a:lnTo>
                <a:cubicBezTo>
                  <a:pt x="1370" y="818"/>
                  <a:pt x="1318" y="562"/>
                  <a:pt x="1140" y="385"/>
                </a:cubicBezTo>
                <a:cubicBezTo>
                  <a:pt x="962" y="207"/>
                  <a:pt x="707" y="155"/>
                  <a:pt x="483" y="228"/>
                </a:cubicBezTo>
                <a:lnTo>
                  <a:pt x="824" y="570"/>
                </a:lnTo>
                <a:cubicBezTo>
                  <a:pt x="858" y="604"/>
                  <a:pt x="816" y="899"/>
                  <a:pt x="779" y="935"/>
                </a:cubicBezTo>
                <a:cubicBezTo>
                  <a:pt x="743" y="972"/>
                  <a:pt x="451" y="1017"/>
                  <a:pt x="414" y="980"/>
                </a:cubicBezTo>
                <a:lnTo>
                  <a:pt x="73" y="639"/>
                </a:lnTo>
                <a:cubicBezTo>
                  <a:pt x="0" y="862"/>
                  <a:pt x="51" y="1118"/>
                  <a:pt x="229" y="1296"/>
                </a:cubicBezTo>
                <a:cubicBezTo>
                  <a:pt x="407" y="1473"/>
                  <a:pt x="663" y="1525"/>
                  <a:pt x="886" y="1452"/>
                </a:cubicBezTo>
                <a:lnTo>
                  <a:pt x="1595" y="2160"/>
                </a:lnTo>
                <a:cubicBezTo>
                  <a:pt x="1412" y="2353"/>
                  <a:pt x="1209" y="2594"/>
                  <a:pt x="1056" y="2747"/>
                </a:cubicBezTo>
                <a:cubicBezTo>
                  <a:pt x="880" y="2923"/>
                  <a:pt x="521" y="3136"/>
                  <a:pt x="503" y="3155"/>
                </a:cubicBezTo>
                <a:cubicBezTo>
                  <a:pt x="484" y="3173"/>
                  <a:pt x="483" y="3268"/>
                  <a:pt x="504" y="3290"/>
                </a:cubicBezTo>
                <a:cubicBezTo>
                  <a:pt x="526" y="3311"/>
                  <a:pt x="852" y="3637"/>
                  <a:pt x="852" y="3637"/>
                </a:cubicBezTo>
                <a:cubicBezTo>
                  <a:pt x="936" y="3721"/>
                  <a:pt x="1005" y="3790"/>
                  <a:pt x="1012" y="3798"/>
                </a:cubicBezTo>
                <a:cubicBezTo>
                  <a:pt x="1034" y="3819"/>
                  <a:pt x="1129" y="3818"/>
                  <a:pt x="1148" y="3799"/>
                </a:cubicBezTo>
                <a:cubicBezTo>
                  <a:pt x="1166" y="3781"/>
                  <a:pt x="1528" y="3272"/>
                  <a:pt x="1704" y="3096"/>
                </a:cubicBezTo>
                <a:cubicBezTo>
                  <a:pt x="1855" y="2946"/>
                  <a:pt x="1982" y="2856"/>
                  <a:pt x="2142" y="2707"/>
                </a:cubicBezTo>
                <a:lnTo>
                  <a:pt x="3179" y="3744"/>
                </a:lnTo>
                <a:cubicBezTo>
                  <a:pt x="3279" y="3845"/>
                  <a:pt x="3452" y="3835"/>
                  <a:pt x="3566" y="3721"/>
                </a:cubicBezTo>
                <a:cubicBezTo>
                  <a:pt x="3679" y="3608"/>
                  <a:pt x="3689" y="3435"/>
                  <a:pt x="3589" y="3334"/>
                </a:cubicBezTo>
                <a:lnTo>
                  <a:pt x="2528" y="2274"/>
                </a:lnTo>
                <a:cubicBezTo>
                  <a:pt x="2653" y="2116"/>
                  <a:pt x="2760" y="1971"/>
                  <a:pt x="2781" y="1946"/>
                </a:cubicBezTo>
                <a:cubicBezTo>
                  <a:pt x="2820" y="1899"/>
                  <a:pt x="2798" y="1863"/>
                  <a:pt x="2774" y="1839"/>
                </a:cubicBezTo>
                <a:cubicBezTo>
                  <a:pt x="2774" y="1839"/>
                  <a:pt x="2773" y="1839"/>
                  <a:pt x="2773" y="1838"/>
                </a:cubicBezTo>
                <a:cubicBezTo>
                  <a:pt x="2905" y="1706"/>
                  <a:pt x="3163" y="1468"/>
                  <a:pt x="3312" y="1450"/>
                </a:cubicBezTo>
                <a:cubicBezTo>
                  <a:pt x="3440" y="1434"/>
                  <a:pt x="3511" y="1472"/>
                  <a:pt x="3597" y="1559"/>
                </a:cubicBezTo>
                <a:cubicBezTo>
                  <a:pt x="3677" y="1638"/>
                  <a:pt x="3676" y="1752"/>
                  <a:pt x="3658" y="1849"/>
                </a:cubicBezTo>
                <a:cubicBezTo>
                  <a:pt x="3652" y="1881"/>
                  <a:pt x="3657" y="1915"/>
                  <a:pt x="3682" y="1940"/>
                </a:cubicBezTo>
                <a:lnTo>
                  <a:pt x="3898" y="2156"/>
                </a:lnTo>
                <a:cubicBezTo>
                  <a:pt x="3934" y="2192"/>
                  <a:pt x="3993" y="2192"/>
                  <a:pt x="4029" y="2156"/>
                </a:cubicBezTo>
                <a:lnTo>
                  <a:pt x="4482" y="1702"/>
                </a:lnTo>
                <a:cubicBezTo>
                  <a:pt x="4519" y="1666"/>
                  <a:pt x="4519" y="1608"/>
                  <a:pt x="4482" y="15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3" name="Freeform 26"/>
          <p:cNvSpPr/>
          <p:nvPr/>
        </p:nvSpPr>
        <p:spPr>
          <a:xfrm>
            <a:off x="7551720" y="4226040"/>
            <a:ext cx="598680" cy="617400"/>
          </a:xfrm>
          <a:custGeom>
            <a:avLst/>
            <a:gdLst>
              <a:gd name="textAreaLeft" fmla="*/ 0 w 598680"/>
              <a:gd name="textAreaRight" fmla="*/ 599040 w 5986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327" h="2330">
                <a:moveTo>
                  <a:pt x="884" y="1840"/>
                </a:moveTo>
                <a:lnTo>
                  <a:pt x="884" y="1840"/>
                </a:lnTo>
                <a:cubicBezTo>
                  <a:pt x="666" y="1840"/>
                  <a:pt x="490" y="1664"/>
                  <a:pt x="490" y="1446"/>
                </a:cubicBezTo>
                <a:cubicBezTo>
                  <a:pt x="490" y="1227"/>
                  <a:pt x="666" y="1051"/>
                  <a:pt x="884" y="1051"/>
                </a:cubicBezTo>
                <a:cubicBezTo>
                  <a:pt x="1103" y="1051"/>
                  <a:pt x="1279" y="1227"/>
                  <a:pt x="1279" y="1446"/>
                </a:cubicBezTo>
                <a:cubicBezTo>
                  <a:pt x="1279" y="1664"/>
                  <a:pt x="1103" y="1840"/>
                  <a:pt x="884" y="1840"/>
                </a:cubicBezTo>
                <a:close/>
                <a:moveTo>
                  <a:pt x="1676" y="1050"/>
                </a:moveTo>
                <a:lnTo>
                  <a:pt x="1676" y="1050"/>
                </a:lnTo>
                <a:lnTo>
                  <a:pt x="1453" y="1090"/>
                </a:lnTo>
                <a:cubicBezTo>
                  <a:pt x="1401" y="1008"/>
                  <a:pt x="1332" y="938"/>
                  <a:pt x="1252" y="885"/>
                </a:cubicBezTo>
                <a:lnTo>
                  <a:pt x="1292" y="661"/>
                </a:lnTo>
                <a:cubicBezTo>
                  <a:pt x="1222" y="624"/>
                  <a:pt x="1147" y="597"/>
                  <a:pt x="1067" y="580"/>
                </a:cubicBezTo>
                <a:lnTo>
                  <a:pt x="961" y="779"/>
                </a:lnTo>
                <a:cubicBezTo>
                  <a:pt x="936" y="777"/>
                  <a:pt x="910" y="775"/>
                  <a:pt x="884" y="775"/>
                </a:cubicBezTo>
                <a:cubicBezTo>
                  <a:pt x="809" y="775"/>
                  <a:pt x="736" y="788"/>
                  <a:pt x="669" y="811"/>
                </a:cubicBezTo>
                <a:lnTo>
                  <a:pt x="518" y="640"/>
                </a:lnTo>
                <a:cubicBezTo>
                  <a:pt x="446" y="673"/>
                  <a:pt x="378" y="716"/>
                  <a:pt x="318" y="767"/>
                </a:cubicBezTo>
                <a:lnTo>
                  <a:pt x="408" y="974"/>
                </a:lnTo>
                <a:cubicBezTo>
                  <a:pt x="340" y="1042"/>
                  <a:pt x="287" y="1126"/>
                  <a:pt x="253" y="1219"/>
                </a:cubicBezTo>
                <a:lnTo>
                  <a:pt x="27" y="1228"/>
                </a:lnTo>
                <a:cubicBezTo>
                  <a:pt x="9" y="1297"/>
                  <a:pt x="0" y="1370"/>
                  <a:pt x="0" y="1446"/>
                </a:cubicBezTo>
                <a:cubicBezTo>
                  <a:pt x="0" y="1451"/>
                  <a:pt x="0" y="1457"/>
                  <a:pt x="0" y="1463"/>
                </a:cubicBezTo>
                <a:lnTo>
                  <a:pt x="219" y="1523"/>
                </a:lnTo>
                <a:cubicBezTo>
                  <a:pt x="231" y="1628"/>
                  <a:pt x="267" y="1725"/>
                  <a:pt x="321" y="1809"/>
                </a:cubicBezTo>
                <a:lnTo>
                  <a:pt x="190" y="1993"/>
                </a:lnTo>
                <a:cubicBezTo>
                  <a:pt x="239" y="2055"/>
                  <a:pt x="296" y="2111"/>
                  <a:pt x="360" y="2158"/>
                </a:cubicBezTo>
                <a:lnTo>
                  <a:pt x="543" y="2022"/>
                </a:lnTo>
                <a:cubicBezTo>
                  <a:pt x="624" y="2070"/>
                  <a:pt x="716" y="2102"/>
                  <a:pt x="814" y="2112"/>
                </a:cubicBezTo>
                <a:lnTo>
                  <a:pt x="875" y="2330"/>
                </a:lnTo>
                <a:cubicBezTo>
                  <a:pt x="878" y="2330"/>
                  <a:pt x="881" y="2330"/>
                  <a:pt x="884" y="2330"/>
                </a:cubicBezTo>
                <a:cubicBezTo>
                  <a:pt x="963" y="2330"/>
                  <a:pt x="1039" y="2319"/>
                  <a:pt x="1112" y="2300"/>
                </a:cubicBezTo>
                <a:lnTo>
                  <a:pt x="1121" y="2073"/>
                </a:lnTo>
                <a:cubicBezTo>
                  <a:pt x="1208" y="2040"/>
                  <a:pt x="1287" y="1989"/>
                  <a:pt x="1352" y="1925"/>
                </a:cubicBezTo>
                <a:lnTo>
                  <a:pt x="1560" y="2016"/>
                </a:lnTo>
                <a:cubicBezTo>
                  <a:pt x="1612" y="1955"/>
                  <a:pt x="1655" y="1886"/>
                  <a:pt x="1689" y="1813"/>
                </a:cubicBezTo>
                <a:lnTo>
                  <a:pt x="1519" y="1662"/>
                </a:lnTo>
                <a:cubicBezTo>
                  <a:pt x="1542" y="1594"/>
                  <a:pt x="1555" y="1521"/>
                  <a:pt x="1555" y="1446"/>
                </a:cubicBezTo>
                <a:cubicBezTo>
                  <a:pt x="1555" y="1425"/>
                  <a:pt x="1554" y="1404"/>
                  <a:pt x="1552" y="1384"/>
                </a:cubicBezTo>
                <a:lnTo>
                  <a:pt x="1753" y="1278"/>
                </a:lnTo>
                <a:cubicBezTo>
                  <a:pt x="1737" y="1197"/>
                  <a:pt x="1711" y="1121"/>
                  <a:pt x="1676" y="1050"/>
                </a:cubicBezTo>
                <a:close/>
                <a:moveTo>
                  <a:pt x="1793" y="698"/>
                </a:moveTo>
                <a:lnTo>
                  <a:pt x="1793" y="698"/>
                </a:lnTo>
                <a:cubicBezTo>
                  <a:pt x="1702" y="698"/>
                  <a:pt x="1629" y="625"/>
                  <a:pt x="1629" y="534"/>
                </a:cubicBezTo>
                <a:cubicBezTo>
                  <a:pt x="1629" y="444"/>
                  <a:pt x="1702" y="370"/>
                  <a:pt x="1793" y="370"/>
                </a:cubicBezTo>
                <a:cubicBezTo>
                  <a:pt x="1884" y="370"/>
                  <a:pt x="1957" y="444"/>
                  <a:pt x="1957" y="534"/>
                </a:cubicBezTo>
                <a:cubicBezTo>
                  <a:pt x="1957" y="625"/>
                  <a:pt x="1884" y="698"/>
                  <a:pt x="1793" y="698"/>
                </a:cubicBezTo>
                <a:close/>
                <a:moveTo>
                  <a:pt x="2294" y="349"/>
                </a:moveTo>
                <a:lnTo>
                  <a:pt x="2294" y="349"/>
                </a:lnTo>
                <a:lnTo>
                  <a:pt x="2145" y="355"/>
                </a:lnTo>
                <a:cubicBezTo>
                  <a:pt x="2108" y="283"/>
                  <a:pt x="2049" y="223"/>
                  <a:pt x="1977" y="185"/>
                </a:cubicBezTo>
                <a:lnTo>
                  <a:pt x="1985" y="36"/>
                </a:lnTo>
                <a:cubicBezTo>
                  <a:pt x="1926" y="13"/>
                  <a:pt x="1861" y="0"/>
                  <a:pt x="1793" y="0"/>
                </a:cubicBezTo>
                <a:cubicBezTo>
                  <a:pt x="1785" y="0"/>
                  <a:pt x="1778" y="1"/>
                  <a:pt x="1770" y="1"/>
                </a:cubicBezTo>
                <a:lnTo>
                  <a:pt x="1730" y="145"/>
                </a:lnTo>
                <a:cubicBezTo>
                  <a:pt x="1648" y="158"/>
                  <a:pt x="1574" y="196"/>
                  <a:pt x="1517" y="252"/>
                </a:cubicBezTo>
                <a:lnTo>
                  <a:pt x="1378" y="199"/>
                </a:lnTo>
                <a:cubicBezTo>
                  <a:pt x="1332" y="255"/>
                  <a:pt x="1298" y="321"/>
                  <a:pt x="1278" y="392"/>
                </a:cubicBezTo>
                <a:lnTo>
                  <a:pt x="1403" y="474"/>
                </a:lnTo>
                <a:cubicBezTo>
                  <a:pt x="1400" y="494"/>
                  <a:pt x="1398" y="514"/>
                  <a:pt x="1398" y="534"/>
                </a:cubicBezTo>
                <a:cubicBezTo>
                  <a:pt x="1398" y="599"/>
                  <a:pt x="1414" y="659"/>
                  <a:pt x="1441" y="713"/>
                </a:cubicBezTo>
                <a:lnTo>
                  <a:pt x="1348" y="830"/>
                </a:lnTo>
                <a:cubicBezTo>
                  <a:pt x="1389" y="891"/>
                  <a:pt x="1441" y="943"/>
                  <a:pt x="1503" y="983"/>
                </a:cubicBezTo>
                <a:lnTo>
                  <a:pt x="1619" y="889"/>
                </a:lnTo>
                <a:cubicBezTo>
                  <a:pt x="1671" y="915"/>
                  <a:pt x="1730" y="929"/>
                  <a:pt x="1793" y="929"/>
                </a:cubicBezTo>
                <a:cubicBezTo>
                  <a:pt x="1812" y="929"/>
                  <a:pt x="1831" y="928"/>
                  <a:pt x="1849" y="925"/>
                </a:cubicBezTo>
                <a:lnTo>
                  <a:pt x="1930" y="1051"/>
                </a:lnTo>
                <a:cubicBezTo>
                  <a:pt x="2002" y="1032"/>
                  <a:pt x="2068" y="998"/>
                  <a:pt x="2124" y="953"/>
                </a:cubicBezTo>
                <a:lnTo>
                  <a:pt x="2073" y="813"/>
                </a:lnTo>
                <a:cubicBezTo>
                  <a:pt x="2129" y="757"/>
                  <a:pt x="2168" y="684"/>
                  <a:pt x="2182" y="602"/>
                </a:cubicBezTo>
                <a:lnTo>
                  <a:pt x="2326" y="564"/>
                </a:lnTo>
                <a:cubicBezTo>
                  <a:pt x="2327" y="554"/>
                  <a:pt x="2327" y="544"/>
                  <a:pt x="2327" y="534"/>
                </a:cubicBezTo>
                <a:cubicBezTo>
                  <a:pt x="2327" y="469"/>
                  <a:pt x="2315" y="407"/>
                  <a:pt x="2294" y="3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4" name="Блок-схема: сохраненные данные 76"/>
          <p:cNvSpPr/>
          <p:nvPr/>
        </p:nvSpPr>
        <p:spPr>
          <a:xfrm rot="19200000">
            <a:off x="7454520" y="4309920"/>
            <a:ext cx="590400" cy="561960"/>
          </a:xfrm>
          <a:prstGeom prst="flowChartOnlineStorage">
            <a:avLst/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5" name="Прямоугольник 49"/>
          <p:cNvSpPr/>
          <p:nvPr/>
        </p:nvSpPr>
        <p:spPr>
          <a:xfrm>
            <a:off x="7716960" y="4500720"/>
            <a:ext cx="338040" cy="164880"/>
          </a:xfrm>
          <a:prstGeom prst="rect">
            <a:avLst/>
          </a:prstGeom>
          <a:solidFill>
            <a:srgbClr val="67b8dd"/>
          </a:solidFill>
          <a:ln w="9360">
            <a:solidFill>
              <a:srgbClr val="67b8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6" name="Прямоугольник 79"/>
          <p:cNvSpPr/>
          <p:nvPr/>
        </p:nvSpPr>
        <p:spPr>
          <a:xfrm rot="20410800">
            <a:off x="7543800" y="4308480"/>
            <a:ext cx="338040" cy="165240"/>
          </a:xfrm>
          <a:prstGeom prst="rect">
            <a:avLst/>
          </a:prstGeom>
          <a:solidFill>
            <a:srgbClr val="67b8dd"/>
          </a:solidFill>
          <a:ln w="9360">
            <a:solidFill>
              <a:srgbClr val="67b8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7" name="TextBox 39935"/>
          <p:cNvSpPr/>
          <p:nvPr/>
        </p:nvSpPr>
        <p:spPr>
          <a:xfrm>
            <a:off x="819000" y="5878440"/>
            <a:ext cx="835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ato Light"/>
                <a:ea typeface="Gotham Light"/>
              </a:rPr>
              <a:t>В 24 версию ППО «АСФК» включена доработка FTAS-286223, изменяющая контроль обязательности заполнения реквизита «Наименование бюджета» при архивировании документа</a:t>
            </a:r>
            <a:endParaRPr b="0" lang="en-US" sz="14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38" name="Freeform 6"/>
          <p:cNvSpPr/>
          <p:nvPr/>
        </p:nvSpPr>
        <p:spPr>
          <a:xfrm>
            <a:off x="506520" y="6059520"/>
            <a:ext cx="237960" cy="204840"/>
          </a:xfrm>
          <a:custGeom>
            <a:avLst/>
            <a:gdLst>
              <a:gd name="textAreaLeft" fmla="*/ 0 w 237960"/>
              <a:gd name="textAreaRight" fmla="*/ 238320 w 2379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grpSp>
        <p:nvGrpSpPr>
          <p:cNvPr id="1839" name="Group 216"/>
          <p:cNvGrpSpPr/>
          <p:nvPr/>
        </p:nvGrpSpPr>
        <p:grpSpPr>
          <a:xfrm>
            <a:off x="434880" y="5972040"/>
            <a:ext cx="358920" cy="360360"/>
            <a:chOff x="434880" y="5972040"/>
            <a:chExt cx="358920" cy="360360"/>
          </a:xfrm>
        </p:grpSpPr>
        <p:sp>
          <p:nvSpPr>
            <p:cNvPr id="1840" name="Freeform 5"/>
            <p:cNvSpPr/>
            <p:nvPr/>
          </p:nvSpPr>
          <p:spPr>
            <a:xfrm>
              <a:off x="434880" y="5972040"/>
              <a:ext cx="358920" cy="360360"/>
            </a:xfrm>
            <a:custGeom>
              <a:avLst/>
              <a:gdLst>
                <a:gd name="textAreaLeft" fmla="*/ 0 w 358920"/>
                <a:gd name="textAreaRight" fmla="*/ 358920 w 3589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3" h="3223">
                  <a:moveTo>
                    <a:pt x="0" y="1611"/>
                  </a:moveTo>
                  <a:lnTo>
                    <a:pt x="0" y="1611"/>
                  </a:lnTo>
                  <a:cubicBezTo>
                    <a:pt x="0" y="721"/>
                    <a:pt x="722" y="0"/>
                    <a:pt x="1612" y="0"/>
                  </a:cubicBezTo>
                  <a:cubicBezTo>
                    <a:pt x="2502" y="0"/>
                    <a:pt x="3223" y="721"/>
                    <a:pt x="3223" y="1611"/>
                  </a:cubicBezTo>
                  <a:cubicBezTo>
                    <a:pt x="3223" y="2501"/>
                    <a:pt x="2502" y="3223"/>
                    <a:pt x="1612" y="3223"/>
                  </a:cubicBezTo>
                  <a:cubicBezTo>
                    <a:pt x="722" y="3223"/>
                    <a:pt x="0" y="2501"/>
                    <a:pt x="0" y="1611"/>
                  </a:cubicBezTo>
                  <a:close/>
                </a:path>
              </a:pathLst>
            </a:custGeom>
            <a:solidFill>
              <a:srgbClr val="6b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  <p:sp>
          <p:nvSpPr>
            <p:cNvPr id="1841" name="Freeform 6"/>
            <p:cNvSpPr/>
            <p:nvPr/>
          </p:nvSpPr>
          <p:spPr>
            <a:xfrm>
              <a:off x="506520" y="6059520"/>
              <a:ext cx="237600" cy="2048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32" h="1832">
                  <a:moveTo>
                    <a:pt x="1811" y="0"/>
                  </a:moveTo>
                  <a:lnTo>
                    <a:pt x="1811" y="0"/>
                  </a:lnTo>
                  <a:lnTo>
                    <a:pt x="767" y="1241"/>
                  </a:lnTo>
                  <a:lnTo>
                    <a:pt x="269" y="823"/>
                  </a:lnTo>
                  <a:lnTo>
                    <a:pt x="0" y="1143"/>
                  </a:lnTo>
                  <a:lnTo>
                    <a:pt x="817" y="1832"/>
                  </a:lnTo>
                  <a:lnTo>
                    <a:pt x="2132" y="270"/>
                  </a:lnTo>
                  <a:lnTo>
                    <a:pt x="18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2a2a2"/>
                </a:solidFill>
                <a:latin typeface="Lato Light"/>
              </a:endParaRPr>
            </a:p>
          </p:txBody>
        </p:sp>
      </p:grpSp>
      <p:sp>
        <p:nvSpPr>
          <p:cNvPr id="1842" name="Freeform 6"/>
          <p:cNvSpPr/>
          <p:nvPr/>
        </p:nvSpPr>
        <p:spPr>
          <a:xfrm>
            <a:off x="7203960" y="3619440"/>
            <a:ext cx="468360" cy="792360"/>
          </a:xfrm>
          <a:custGeom>
            <a:avLst/>
            <a:gdLst/>
            <a:ahLst/>
            <a:rect l="l" t="t" r="r" b="b"/>
            <a:pathLst>
              <a:path w="1563" h="2823">
                <a:moveTo>
                  <a:pt x="782" y="703"/>
                </a:moveTo>
                <a:lnTo>
                  <a:pt x="782" y="703"/>
                </a:lnTo>
                <a:cubicBezTo>
                  <a:pt x="971" y="703"/>
                  <a:pt x="1125" y="546"/>
                  <a:pt x="1125" y="352"/>
                </a:cubicBezTo>
                <a:cubicBezTo>
                  <a:pt x="1125" y="158"/>
                  <a:pt x="971" y="0"/>
                  <a:pt x="782" y="0"/>
                </a:cubicBezTo>
                <a:cubicBezTo>
                  <a:pt x="592" y="0"/>
                  <a:pt x="439" y="158"/>
                  <a:pt x="439" y="352"/>
                </a:cubicBezTo>
                <a:cubicBezTo>
                  <a:pt x="439" y="546"/>
                  <a:pt x="592" y="703"/>
                  <a:pt x="782" y="703"/>
                </a:cubicBezTo>
                <a:close/>
                <a:moveTo>
                  <a:pt x="1220" y="779"/>
                </a:moveTo>
                <a:lnTo>
                  <a:pt x="1220" y="779"/>
                </a:lnTo>
                <a:lnTo>
                  <a:pt x="344" y="779"/>
                </a:lnTo>
                <a:cubicBezTo>
                  <a:pt x="154" y="779"/>
                  <a:pt x="0" y="937"/>
                  <a:pt x="0" y="1131"/>
                </a:cubicBezTo>
                <a:lnTo>
                  <a:pt x="0" y="2283"/>
                </a:lnTo>
                <a:cubicBezTo>
                  <a:pt x="0" y="2368"/>
                  <a:pt x="67" y="2437"/>
                  <a:pt x="150" y="2437"/>
                </a:cubicBezTo>
                <a:cubicBezTo>
                  <a:pt x="233" y="2437"/>
                  <a:pt x="300" y="2368"/>
                  <a:pt x="300" y="2283"/>
                </a:cubicBezTo>
                <a:lnTo>
                  <a:pt x="300" y="1313"/>
                </a:lnTo>
                <a:cubicBezTo>
                  <a:pt x="300" y="1298"/>
                  <a:pt x="312" y="1285"/>
                  <a:pt x="327" y="1285"/>
                </a:cubicBezTo>
                <a:cubicBezTo>
                  <a:pt x="343" y="1285"/>
                  <a:pt x="355" y="1298"/>
                  <a:pt x="355" y="1313"/>
                </a:cubicBezTo>
                <a:lnTo>
                  <a:pt x="355" y="2762"/>
                </a:lnTo>
                <a:cubicBezTo>
                  <a:pt x="480" y="2799"/>
                  <a:pt x="612" y="2820"/>
                  <a:pt x="749" y="2823"/>
                </a:cubicBezTo>
                <a:lnTo>
                  <a:pt x="749" y="2458"/>
                </a:lnTo>
                <a:cubicBezTo>
                  <a:pt x="749" y="2440"/>
                  <a:pt x="764" y="2424"/>
                  <a:pt x="782" y="2424"/>
                </a:cubicBezTo>
                <a:cubicBezTo>
                  <a:pt x="800" y="2424"/>
                  <a:pt x="815" y="2440"/>
                  <a:pt x="815" y="2458"/>
                </a:cubicBezTo>
                <a:lnTo>
                  <a:pt x="815" y="2823"/>
                </a:lnTo>
                <a:cubicBezTo>
                  <a:pt x="952" y="2820"/>
                  <a:pt x="1084" y="2799"/>
                  <a:pt x="1209" y="2762"/>
                </a:cubicBezTo>
                <a:lnTo>
                  <a:pt x="1209" y="1313"/>
                </a:lnTo>
                <a:cubicBezTo>
                  <a:pt x="1209" y="1298"/>
                  <a:pt x="1221" y="1285"/>
                  <a:pt x="1237" y="1285"/>
                </a:cubicBezTo>
                <a:cubicBezTo>
                  <a:pt x="1252" y="1285"/>
                  <a:pt x="1264" y="1298"/>
                  <a:pt x="1264" y="1313"/>
                </a:cubicBezTo>
                <a:lnTo>
                  <a:pt x="1264" y="2283"/>
                </a:lnTo>
                <a:cubicBezTo>
                  <a:pt x="1264" y="2368"/>
                  <a:pt x="1331" y="2437"/>
                  <a:pt x="1414" y="2437"/>
                </a:cubicBezTo>
                <a:cubicBezTo>
                  <a:pt x="1497" y="2437"/>
                  <a:pt x="1563" y="2368"/>
                  <a:pt x="1563" y="2283"/>
                </a:cubicBezTo>
                <a:lnTo>
                  <a:pt x="1563" y="1131"/>
                </a:lnTo>
                <a:cubicBezTo>
                  <a:pt x="1563" y="937"/>
                  <a:pt x="1410" y="779"/>
                  <a:pt x="1220" y="7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43" name="Блок-схема: сохраненные данные 86"/>
          <p:cNvSpPr/>
          <p:nvPr/>
        </p:nvSpPr>
        <p:spPr>
          <a:xfrm rot="16200000">
            <a:off x="7128720" y="3994560"/>
            <a:ext cx="592200" cy="561960"/>
          </a:xfrm>
          <a:prstGeom prst="flowChartOnlineStorage">
            <a:avLst/>
          </a:prstGeom>
          <a:solidFill>
            <a:srgbClr val="67b8dd"/>
          </a:solidFill>
          <a:ln w="936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44" name="Freeform 10"/>
          <p:cNvSpPr/>
          <p:nvPr/>
        </p:nvSpPr>
        <p:spPr>
          <a:xfrm>
            <a:off x="7494480" y="3584520"/>
            <a:ext cx="612720" cy="433440"/>
          </a:xfrm>
          <a:custGeom>
            <a:avLst/>
            <a:gdLst/>
            <a:ahLst/>
            <a:rect l="l" t="t" r="r" b="b"/>
            <a:pathLst>
              <a:path w="2444" h="1342">
                <a:moveTo>
                  <a:pt x="2380" y="1214"/>
                </a:moveTo>
                <a:lnTo>
                  <a:pt x="2380" y="1214"/>
                </a:lnTo>
                <a:lnTo>
                  <a:pt x="1408" y="1214"/>
                </a:lnTo>
                <a:cubicBezTo>
                  <a:pt x="1408" y="1244"/>
                  <a:pt x="1383" y="1269"/>
                  <a:pt x="1352" y="1269"/>
                </a:cubicBezTo>
                <a:lnTo>
                  <a:pt x="1060" y="1269"/>
                </a:lnTo>
                <a:cubicBezTo>
                  <a:pt x="1029" y="1269"/>
                  <a:pt x="1004" y="1244"/>
                  <a:pt x="1004" y="1214"/>
                </a:cubicBezTo>
                <a:lnTo>
                  <a:pt x="64" y="1214"/>
                </a:lnTo>
                <a:cubicBezTo>
                  <a:pt x="28" y="1214"/>
                  <a:pt x="0" y="1242"/>
                  <a:pt x="0" y="1278"/>
                </a:cubicBezTo>
                <a:cubicBezTo>
                  <a:pt x="0" y="1313"/>
                  <a:pt x="28" y="1342"/>
                  <a:pt x="64" y="1342"/>
                </a:cubicBezTo>
                <a:lnTo>
                  <a:pt x="2380" y="1342"/>
                </a:lnTo>
                <a:cubicBezTo>
                  <a:pt x="2416" y="1342"/>
                  <a:pt x="2444" y="1313"/>
                  <a:pt x="2444" y="1278"/>
                </a:cubicBezTo>
                <a:cubicBezTo>
                  <a:pt x="2444" y="1242"/>
                  <a:pt x="2416" y="1214"/>
                  <a:pt x="2380" y="1214"/>
                </a:cubicBezTo>
                <a:close/>
                <a:moveTo>
                  <a:pt x="342" y="99"/>
                </a:moveTo>
                <a:lnTo>
                  <a:pt x="342" y="99"/>
                </a:lnTo>
                <a:lnTo>
                  <a:pt x="2075" y="99"/>
                </a:lnTo>
                <a:lnTo>
                  <a:pt x="2075" y="1063"/>
                </a:lnTo>
                <a:lnTo>
                  <a:pt x="342" y="1063"/>
                </a:lnTo>
                <a:lnTo>
                  <a:pt x="342" y="99"/>
                </a:lnTo>
                <a:close/>
                <a:moveTo>
                  <a:pt x="288" y="1162"/>
                </a:moveTo>
                <a:lnTo>
                  <a:pt x="288" y="1162"/>
                </a:lnTo>
                <a:lnTo>
                  <a:pt x="2124" y="1162"/>
                </a:lnTo>
                <a:cubicBezTo>
                  <a:pt x="2163" y="1162"/>
                  <a:pt x="2191" y="1128"/>
                  <a:pt x="2191" y="1090"/>
                </a:cubicBezTo>
                <a:lnTo>
                  <a:pt x="2191" y="66"/>
                </a:lnTo>
                <a:cubicBezTo>
                  <a:pt x="2191" y="28"/>
                  <a:pt x="2163" y="0"/>
                  <a:pt x="2124" y="0"/>
                </a:cubicBezTo>
                <a:lnTo>
                  <a:pt x="288" y="0"/>
                </a:lnTo>
                <a:cubicBezTo>
                  <a:pt x="249" y="0"/>
                  <a:pt x="221" y="28"/>
                  <a:pt x="221" y="66"/>
                </a:cubicBezTo>
                <a:lnTo>
                  <a:pt x="221" y="1090"/>
                </a:lnTo>
                <a:cubicBezTo>
                  <a:pt x="221" y="1128"/>
                  <a:pt x="249" y="1162"/>
                  <a:pt x="288" y="1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45" name="Freeform 6"/>
          <p:cNvSpPr/>
          <p:nvPr/>
        </p:nvSpPr>
        <p:spPr>
          <a:xfrm>
            <a:off x="6815160" y="4173480"/>
            <a:ext cx="457200" cy="239760"/>
          </a:xfrm>
          <a:custGeom>
            <a:avLst/>
            <a:gdLst/>
            <a:ahLst/>
            <a:rect l="l" t="t" r="r" b="b"/>
            <a:pathLst>
              <a:path w="2734" h="2121">
                <a:moveTo>
                  <a:pt x="2035" y="1214"/>
                </a:moveTo>
                <a:lnTo>
                  <a:pt x="2035" y="1214"/>
                </a:lnTo>
                <a:cubicBezTo>
                  <a:pt x="1976" y="1214"/>
                  <a:pt x="1929" y="1261"/>
                  <a:pt x="1929" y="1320"/>
                </a:cubicBezTo>
                <a:cubicBezTo>
                  <a:pt x="1929" y="1378"/>
                  <a:pt x="1976" y="1425"/>
                  <a:pt x="2035" y="1425"/>
                </a:cubicBezTo>
                <a:cubicBezTo>
                  <a:pt x="2093" y="1425"/>
                  <a:pt x="2140" y="1378"/>
                  <a:pt x="2140" y="1320"/>
                </a:cubicBezTo>
                <a:cubicBezTo>
                  <a:pt x="2140" y="1261"/>
                  <a:pt x="2093" y="1214"/>
                  <a:pt x="2035" y="1214"/>
                </a:cubicBezTo>
                <a:close/>
                <a:moveTo>
                  <a:pt x="1689" y="1214"/>
                </a:moveTo>
                <a:lnTo>
                  <a:pt x="1689" y="1214"/>
                </a:lnTo>
                <a:cubicBezTo>
                  <a:pt x="1630" y="1214"/>
                  <a:pt x="1583" y="1261"/>
                  <a:pt x="1583" y="1320"/>
                </a:cubicBezTo>
                <a:cubicBezTo>
                  <a:pt x="1583" y="1378"/>
                  <a:pt x="1630" y="1425"/>
                  <a:pt x="1689" y="1425"/>
                </a:cubicBezTo>
                <a:cubicBezTo>
                  <a:pt x="1747" y="1425"/>
                  <a:pt x="1794" y="1378"/>
                  <a:pt x="1794" y="1320"/>
                </a:cubicBezTo>
                <a:cubicBezTo>
                  <a:pt x="1794" y="1261"/>
                  <a:pt x="1747" y="1214"/>
                  <a:pt x="1689" y="1214"/>
                </a:cubicBezTo>
                <a:close/>
                <a:moveTo>
                  <a:pt x="2353" y="1721"/>
                </a:moveTo>
                <a:lnTo>
                  <a:pt x="2353" y="1721"/>
                </a:lnTo>
                <a:lnTo>
                  <a:pt x="2444" y="1865"/>
                </a:lnTo>
                <a:lnTo>
                  <a:pt x="2248" y="1779"/>
                </a:lnTo>
                <a:cubicBezTo>
                  <a:pt x="2225" y="1769"/>
                  <a:pt x="2198" y="1770"/>
                  <a:pt x="2176" y="1783"/>
                </a:cubicBezTo>
                <a:cubicBezTo>
                  <a:pt x="2041" y="1862"/>
                  <a:pt x="1879" y="1904"/>
                  <a:pt x="1708" y="1904"/>
                </a:cubicBezTo>
                <a:cubicBezTo>
                  <a:pt x="1299" y="1904"/>
                  <a:pt x="965" y="1666"/>
                  <a:pt x="948" y="1362"/>
                </a:cubicBezTo>
                <a:cubicBezTo>
                  <a:pt x="945" y="1322"/>
                  <a:pt x="913" y="1290"/>
                  <a:pt x="872" y="1288"/>
                </a:cubicBezTo>
                <a:cubicBezTo>
                  <a:pt x="762" y="1283"/>
                  <a:pt x="656" y="1260"/>
                  <a:pt x="559" y="1221"/>
                </a:cubicBezTo>
                <a:cubicBezTo>
                  <a:pt x="549" y="1217"/>
                  <a:pt x="539" y="1216"/>
                  <a:pt x="529" y="1216"/>
                </a:cubicBezTo>
                <a:cubicBezTo>
                  <a:pt x="507" y="1216"/>
                  <a:pt x="486" y="1225"/>
                  <a:pt x="471" y="1241"/>
                </a:cubicBezTo>
                <a:lnTo>
                  <a:pt x="316" y="1412"/>
                </a:lnTo>
                <a:lnTo>
                  <a:pt x="346" y="1138"/>
                </a:lnTo>
                <a:cubicBezTo>
                  <a:pt x="348" y="1114"/>
                  <a:pt x="339" y="1090"/>
                  <a:pt x="321" y="1073"/>
                </a:cubicBezTo>
                <a:cubicBezTo>
                  <a:pt x="214" y="972"/>
                  <a:pt x="158" y="851"/>
                  <a:pt x="158" y="723"/>
                </a:cubicBezTo>
                <a:cubicBezTo>
                  <a:pt x="158" y="412"/>
                  <a:pt x="499" y="158"/>
                  <a:pt x="919" y="158"/>
                </a:cubicBezTo>
                <a:cubicBezTo>
                  <a:pt x="1328" y="158"/>
                  <a:pt x="1661" y="396"/>
                  <a:pt x="1679" y="699"/>
                </a:cubicBezTo>
                <a:cubicBezTo>
                  <a:pt x="1681" y="740"/>
                  <a:pt x="1713" y="772"/>
                  <a:pt x="1754" y="774"/>
                </a:cubicBezTo>
                <a:cubicBezTo>
                  <a:pt x="2155" y="792"/>
                  <a:pt x="2468" y="1040"/>
                  <a:pt x="2468" y="1338"/>
                </a:cubicBezTo>
                <a:cubicBezTo>
                  <a:pt x="2468" y="1441"/>
                  <a:pt x="2430" y="1541"/>
                  <a:pt x="2359" y="1629"/>
                </a:cubicBezTo>
                <a:cubicBezTo>
                  <a:pt x="2337" y="1656"/>
                  <a:pt x="2335" y="1693"/>
                  <a:pt x="2353" y="1721"/>
                </a:cubicBezTo>
                <a:close/>
                <a:moveTo>
                  <a:pt x="2716" y="2000"/>
                </a:moveTo>
                <a:lnTo>
                  <a:pt x="2716" y="2000"/>
                </a:lnTo>
                <a:lnTo>
                  <a:pt x="2516" y="1683"/>
                </a:lnTo>
                <a:cubicBezTo>
                  <a:pt x="2588" y="1578"/>
                  <a:pt x="2626" y="1459"/>
                  <a:pt x="2626" y="1338"/>
                </a:cubicBezTo>
                <a:cubicBezTo>
                  <a:pt x="2626" y="973"/>
                  <a:pt x="2281" y="668"/>
                  <a:pt x="1828" y="621"/>
                </a:cubicBezTo>
                <a:cubicBezTo>
                  <a:pt x="1765" y="268"/>
                  <a:pt x="1381" y="0"/>
                  <a:pt x="919" y="0"/>
                </a:cubicBezTo>
                <a:cubicBezTo>
                  <a:pt x="412" y="0"/>
                  <a:pt x="0" y="324"/>
                  <a:pt x="0" y="723"/>
                </a:cubicBezTo>
                <a:cubicBezTo>
                  <a:pt x="0" y="881"/>
                  <a:pt x="65" y="1034"/>
                  <a:pt x="185" y="1159"/>
                </a:cubicBezTo>
                <a:lnTo>
                  <a:pt x="133" y="1636"/>
                </a:lnTo>
                <a:cubicBezTo>
                  <a:pt x="129" y="1670"/>
                  <a:pt x="148" y="1702"/>
                  <a:pt x="179" y="1717"/>
                </a:cubicBezTo>
                <a:cubicBezTo>
                  <a:pt x="210" y="1731"/>
                  <a:pt x="247" y="1723"/>
                  <a:pt x="270" y="1698"/>
                </a:cubicBezTo>
                <a:lnTo>
                  <a:pt x="552" y="1387"/>
                </a:lnTo>
                <a:cubicBezTo>
                  <a:pt x="630" y="1414"/>
                  <a:pt x="713" y="1432"/>
                  <a:pt x="798" y="1441"/>
                </a:cubicBezTo>
                <a:cubicBezTo>
                  <a:pt x="861" y="1794"/>
                  <a:pt x="1245" y="2062"/>
                  <a:pt x="1708" y="2062"/>
                </a:cubicBezTo>
                <a:cubicBezTo>
                  <a:pt x="1892" y="2062"/>
                  <a:pt x="2069" y="2020"/>
                  <a:pt x="2220" y="1939"/>
                </a:cubicBezTo>
                <a:lnTo>
                  <a:pt x="2617" y="2114"/>
                </a:lnTo>
                <a:cubicBezTo>
                  <a:pt x="2627" y="2119"/>
                  <a:pt x="2638" y="2121"/>
                  <a:pt x="2649" y="2121"/>
                </a:cubicBezTo>
                <a:cubicBezTo>
                  <a:pt x="2671" y="2121"/>
                  <a:pt x="2693" y="2112"/>
                  <a:pt x="2709" y="2094"/>
                </a:cubicBezTo>
                <a:cubicBezTo>
                  <a:pt x="2731" y="2068"/>
                  <a:pt x="2734" y="2030"/>
                  <a:pt x="2716" y="2000"/>
                </a:cubicBezTo>
                <a:close/>
                <a:moveTo>
                  <a:pt x="1355" y="736"/>
                </a:moveTo>
                <a:lnTo>
                  <a:pt x="1355" y="736"/>
                </a:lnTo>
                <a:cubicBezTo>
                  <a:pt x="1355" y="677"/>
                  <a:pt x="1308" y="630"/>
                  <a:pt x="1250" y="630"/>
                </a:cubicBezTo>
                <a:cubicBezTo>
                  <a:pt x="1191" y="630"/>
                  <a:pt x="1144" y="677"/>
                  <a:pt x="1144" y="736"/>
                </a:cubicBezTo>
                <a:cubicBezTo>
                  <a:pt x="1144" y="794"/>
                  <a:pt x="1191" y="841"/>
                  <a:pt x="1250" y="841"/>
                </a:cubicBezTo>
                <a:cubicBezTo>
                  <a:pt x="1308" y="841"/>
                  <a:pt x="1355" y="794"/>
                  <a:pt x="1355" y="736"/>
                </a:cubicBezTo>
                <a:close/>
                <a:moveTo>
                  <a:pt x="557" y="630"/>
                </a:moveTo>
                <a:lnTo>
                  <a:pt x="557" y="630"/>
                </a:lnTo>
                <a:cubicBezTo>
                  <a:pt x="529" y="630"/>
                  <a:pt x="502" y="641"/>
                  <a:pt x="482" y="661"/>
                </a:cubicBezTo>
                <a:cubicBezTo>
                  <a:pt x="463" y="680"/>
                  <a:pt x="451" y="708"/>
                  <a:pt x="451" y="735"/>
                </a:cubicBezTo>
                <a:cubicBezTo>
                  <a:pt x="451" y="763"/>
                  <a:pt x="463" y="791"/>
                  <a:pt x="482" y="810"/>
                </a:cubicBezTo>
                <a:cubicBezTo>
                  <a:pt x="502" y="830"/>
                  <a:pt x="529" y="841"/>
                  <a:pt x="557" y="841"/>
                </a:cubicBezTo>
                <a:cubicBezTo>
                  <a:pt x="585" y="841"/>
                  <a:pt x="612" y="830"/>
                  <a:pt x="632" y="810"/>
                </a:cubicBezTo>
                <a:cubicBezTo>
                  <a:pt x="651" y="791"/>
                  <a:pt x="663" y="763"/>
                  <a:pt x="663" y="735"/>
                </a:cubicBezTo>
                <a:cubicBezTo>
                  <a:pt x="663" y="708"/>
                  <a:pt x="651" y="680"/>
                  <a:pt x="632" y="661"/>
                </a:cubicBezTo>
                <a:cubicBezTo>
                  <a:pt x="612" y="641"/>
                  <a:pt x="585" y="630"/>
                  <a:pt x="557" y="630"/>
                </a:cubicBezTo>
                <a:close/>
                <a:moveTo>
                  <a:pt x="1342" y="1214"/>
                </a:moveTo>
                <a:lnTo>
                  <a:pt x="1342" y="1214"/>
                </a:lnTo>
                <a:cubicBezTo>
                  <a:pt x="1315" y="1214"/>
                  <a:pt x="1287" y="1225"/>
                  <a:pt x="1268" y="1245"/>
                </a:cubicBezTo>
                <a:cubicBezTo>
                  <a:pt x="1248" y="1265"/>
                  <a:pt x="1237" y="1292"/>
                  <a:pt x="1237" y="1319"/>
                </a:cubicBezTo>
                <a:cubicBezTo>
                  <a:pt x="1237" y="1347"/>
                  <a:pt x="1248" y="1375"/>
                  <a:pt x="1268" y="1394"/>
                </a:cubicBezTo>
                <a:cubicBezTo>
                  <a:pt x="1287" y="1414"/>
                  <a:pt x="1315" y="1425"/>
                  <a:pt x="1342" y="1425"/>
                </a:cubicBezTo>
                <a:cubicBezTo>
                  <a:pt x="1370" y="1425"/>
                  <a:pt x="1397" y="1414"/>
                  <a:pt x="1417" y="1394"/>
                </a:cubicBezTo>
                <a:cubicBezTo>
                  <a:pt x="1437" y="1375"/>
                  <a:pt x="1448" y="1347"/>
                  <a:pt x="1448" y="1319"/>
                </a:cubicBezTo>
                <a:cubicBezTo>
                  <a:pt x="1448" y="1292"/>
                  <a:pt x="1437" y="1265"/>
                  <a:pt x="1417" y="1245"/>
                </a:cubicBezTo>
                <a:cubicBezTo>
                  <a:pt x="1397" y="1225"/>
                  <a:pt x="1370" y="1214"/>
                  <a:pt x="1342" y="1214"/>
                </a:cubicBezTo>
                <a:close/>
                <a:moveTo>
                  <a:pt x="903" y="630"/>
                </a:moveTo>
                <a:lnTo>
                  <a:pt x="903" y="630"/>
                </a:lnTo>
                <a:cubicBezTo>
                  <a:pt x="845" y="630"/>
                  <a:pt x="798" y="677"/>
                  <a:pt x="798" y="736"/>
                </a:cubicBezTo>
                <a:cubicBezTo>
                  <a:pt x="798" y="794"/>
                  <a:pt x="845" y="841"/>
                  <a:pt x="903" y="841"/>
                </a:cubicBezTo>
                <a:cubicBezTo>
                  <a:pt x="962" y="841"/>
                  <a:pt x="1009" y="794"/>
                  <a:pt x="1009" y="736"/>
                </a:cubicBezTo>
                <a:cubicBezTo>
                  <a:pt x="1009" y="677"/>
                  <a:pt x="962" y="630"/>
                  <a:pt x="903" y="6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Title 23"/>
          <p:cNvSpPr/>
          <p:nvPr/>
        </p:nvSpPr>
        <p:spPr>
          <a:xfrm>
            <a:off x="0" y="623880"/>
            <a:ext cx="9144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Light"/>
                <a:ea typeface="Gotham Light"/>
              </a:rPr>
              <a:t>ДОПОЛНИТЕЛЬНО  В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ПРИКАЗЕ</a:t>
            </a:r>
            <a:r>
              <a:rPr b="0" lang="en-US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 </a:t>
            </a:r>
            <a:r>
              <a:rPr b="0" lang="ru-RU" sz="2800" spc="-1" strike="noStrike">
                <a:solidFill>
                  <a:srgbClr val="6bbadd"/>
                </a:solidFill>
                <a:latin typeface="Lato Regular"/>
                <a:ea typeface="Lato Regular"/>
              </a:rPr>
              <a:t>УПРАВЛЕНИЯ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47" name="Rounded Rectangle 42"/>
          <p:cNvSpPr/>
          <p:nvPr/>
        </p:nvSpPr>
        <p:spPr>
          <a:xfrm rot="5400000">
            <a:off x="2250000" y="122760"/>
            <a:ext cx="560160" cy="3397320"/>
          </a:xfrm>
          <a:custGeom>
            <a:avLst/>
            <a:gdLst/>
            <a:ahLst/>
            <a:rect l="l" t="t" r="r" b="b"/>
            <a:pathLst>
              <a:path w="560387" h="3397250">
                <a:moveTo>
                  <a:pt x="280194" y="0"/>
                </a:moveTo>
                <a:lnTo>
                  <a:pt x="280194" y="0"/>
                </a:lnTo>
                <a:cubicBezTo>
                  <a:pt x="434941" y="0"/>
                  <a:pt x="560388" y="125447"/>
                  <a:pt x="560388" y="280194"/>
                </a:cubicBezTo>
                <a:cubicBezTo>
                  <a:pt x="560388" y="1319213"/>
                  <a:pt x="560387" y="2358231"/>
                  <a:pt x="560387" y="3397250"/>
                </a:cubicBezTo>
                <a:lnTo>
                  <a:pt x="560387" y="3397250"/>
                </a:lnTo>
                <a:lnTo>
                  <a:pt x="0" y="3397250"/>
                </a:lnTo>
                <a:lnTo>
                  <a:pt x="0" y="3397250"/>
                </a:lnTo>
                <a:lnTo>
                  <a:pt x="0" y="280194"/>
                </a:lnTo>
                <a:cubicBezTo>
                  <a:pt x="0" y="125447"/>
                  <a:pt x="125447" y="0"/>
                  <a:pt x="280194" y="0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48" name="Freeform 5"/>
          <p:cNvSpPr/>
          <p:nvPr/>
        </p:nvSpPr>
        <p:spPr>
          <a:xfrm>
            <a:off x="255600" y="1428840"/>
            <a:ext cx="750960" cy="750960"/>
          </a:xfrm>
          <a:custGeom>
            <a:avLst/>
            <a:gdLst/>
            <a:ahLst/>
            <a:rect l="l" t="t" r="r" b="b"/>
            <a:pathLst>
              <a:path w="2234" h="2234">
                <a:moveTo>
                  <a:pt x="1117" y="0"/>
                </a:moveTo>
                <a:lnTo>
                  <a:pt x="1117" y="0"/>
                </a:lnTo>
                <a:cubicBezTo>
                  <a:pt x="500" y="0"/>
                  <a:pt x="0" y="499"/>
                  <a:pt x="0" y="1116"/>
                </a:cubicBezTo>
                <a:cubicBezTo>
                  <a:pt x="0" y="1733"/>
                  <a:pt x="500" y="2234"/>
                  <a:pt x="1117" y="2234"/>
                </a:cubicBezTo>
                <a:cubicBezTo>
                  <a:pt x="1734" y="2234"/>
                  <a:pt x="2234" y="1733"/>
                  <a:pt x="2234" y="1116"/>
                </a:cubicBezTo>
                <a:cubicBezTo>
                  <a:pt x="2234" y="499"/>
                  <a:pt x="1734" y="0"/>
                  <a:pt x="1117" y="0"/>
                </a:cubicBezTo>
                <a:close/>
              </a:path>
            </a:pathLst>
          </a:cu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49" name="TextBox 1"/>
          <p:cNvSpPr/>
          <p:nvPr/>
        </p:nvSpPr>
        <p:spPr>
          <a:xfrm>
            <a:off x="1006560" y="161928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ato Light"/>
                <a:ea typeface="Gotham Light"/>
              </a:rPr>
              <a:t>обеспечение контроля</a:t>
            </a:r>
            <a:endParaRPr b="0" lang="en-US" sz="2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0" name="Rounded Rectangle 42"/>
          <p:cNvSpPr/>
          <p:nvPr/>
        </p:nvSpPr>
        <p:spPr>
          <a:xfrm rot="5400000">
            <a:off x="6843960" y="121320"/>
            <a:ext cx="558720" cy="3398760"/>
          </a:xfrm>
          <a:custGeom>
            <a:avLst/>
            <a:gdLst/>
            <a:ahLst/>
            <a:rect l="l" t="t" r="r" b="b"/>
            <a:pathLst>
              <a:path w="558800" h="3398837">
                <a:moveTo>
                  <a:pt x="279400" y="0"/>
                </a:moveTo>
                <a:lnTo>
                  <a:pt x="279400" y="0"/>
                </a:lnTo>
                <a:cubicBezTo>
                  <a:pt x="433708" y="0"/>
                  <a:pt x="558800" y="125092"/>
                  <a:pt x="558800" y="279400"/>
                </a:cubicBezTo>
                <a:lnTo>
                  <a:pt x="558800" y="3398837"/>
                </a:lnTo>
                <a:lnTo>
                  <a:pt x="558800" y="3398837"/>
                </a:lnTo>
                <a:lnTo>
                  <a:pt x="0" y="3398837"/>
                </a:lnTo>
                <a:lnTo>
                  <a:pt x="0" y="3398837"/>
                </a:lnTo>
                <a:lnTo>
                  <a:pt x="0" y="279400"/>
                </a:lnTo>
                <a:cubicBezTo>
                  <a:pt x="0" y="125092"/>
                  <a:pt x="125092" y="0"/>
                  <a:pt x="279400" y="0"/>
                </a:cubicBezTo>
                <a:close/>
              </a:path>
            </a:pathLst>
          </a:custGeom>
          <a:solidFill>
            <a:srgbClr val="6bb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1" name="Freeform 5"/>
          <p:cNvSpPr/>
          <p:nvPr/>
        </p:nvSpPr>
        <p:spPr>
          <a:xfrm>
            <a:off x="4849920" y="1428840"/>
            <a:ext cx="750960" cy="750960"/>
          </a:xfrm>
          <a:custGeom>
            <a:avLst/>
            <a:gdLst/>
            <a:ahLst/>
            <a:rect l="l" t="t" r="r" b="b"/>
            <a:pathLst>
              <a:path w="2234" h="2234">
                <a:moveTo>
                  <a:pt x="1117" y="0"/>
                </a:moveTo>
                <a:lnTo>
                  <a:pt x="1117" y="0"/>
                </a:lnTo>
                <a:cubicBezTo>
                  <a:pt x="500" y="0"/>
                  <a:pt x="0" y="499"/>
                  <a:pt x="0" y="1116"/>
                </a:cubicBezTo>
                <a:cubicBezTo>
                  <a:pt x="0" y="1733"/>
                  <a:pt x="500" y="2234"/>
                  <a:pt x="1117" y="2234"/>
                </a:cubicBezTo>
                <a:cubicBezTo>
                  <a:pt x="1734" y="2234"/>
                  <a:pt x="2234" y="1733"/>
                  <a:pt x="2234" y="1116"/>
                </a:cubicBezTo>
                <a:cubicBezTo>
                  <a:pt x="2234" y="499"/>
                  <a:pt x="1734" y="0"/>
                  <a:pt x="1117" y="0"/>
                </a:cubicBezTo>
                <a:close/>
              </a:path>
            </a:pathLst>
          </a:custGeom>
          <a:solidFill>
            <a:srgbClr val="1b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2" name="TextBox 11"/>
          <p:cNvSpPr/>
          <p:nvPr/>
        </p:nvSpPr>
        <p:spPr>
          <a:xfrm>
            <a:off x="5600880" y="1616040"/>
            <a:ext cx="32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ato Light"/>
                <a:ea typeface="Gotham Light"/>
              </a:rPr>
              <a:t>извлечение из архива</a:t>
            </a:r>
            <a:endParaRPr b="0" lang="en-US" sz="20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3" name="Freeform 26"/>
          <p:cNvSpPr/>
          <p:nvPr/>
        </p:nvSpPr>
        <p:spPr>
          <a:xfrm>
            <a:off x="442800" y="1576440"/>
            <a:ext cx="376200" cy="458640"/>
          </a:xfrm>
          <a:custGeom>
            <a:avLst/>
            <a:gdLst/>
            <a:ahLst/>
            <a:rect l="l" t="t" r="r" b="b"/>
            <a:pathLst>
              <a:path w="3111" h="3779">
                <a:moveTo>
                  <a:pt x="2864" y="3409"/>
                </a:moveTo>
                <a:lnTo>
                  <a:pt x="2864" y="3409"/>
                </a:lnTo>
                <a:cubicBezTo>
                  <a:pt x="2864" y="3476"/>
                  <a:pt x="2808" y="3532"/>
                  <a:pt x="2741" y="3532"/>
                </a:cubicBezTo>
                <a:lnTo>
                  <a:pt x="370" y="3532"/>
                </a:lnTo>
                <a:cubicBezTo>
                  <a:pt x="303" y="3532"/>
                  <a:pt x="246" y="3476"/>
                  <a:pt x="246" y="3409"/>
                </a:cubicBezTo>
                <a:lnTo>
                  <a:pt x="246" y="1146"/>
                </a:lnTo>
                <a:cubicBezTo>
                  <a:pt x="246" y="1079"/>
                  <a:pt x="303" y="1022"/>
                  <a:pt x="370" y="1022"/>
                </a:cubicBezTo>
                <a:lnTo>
                  <a:pt x="2741" y="1022"/>
                </a:lnTo>
                <a:cubicBezTo>
                  <a:pt x="2808" y="1022"/>
                  <a:pt x="2864" y="1079"/>
                  <a:pt x="2864" y="1146"/>
                </a:cubicBezTo>
                <a:lnTo>
                  <a:pt x="2864" y="3409"/>
                </a:lnTo>
                <a:close/>
                <a:moveTo>
                  <a:pt x="2741" y="345"/>
                </a:moveTo>
                <a:lnTo>
                  <a:pt x="2741" y="345"/>
                </a:lnTo>
                <a:lnTo>
                  <a:pt x="2457" y="345"/>
                </a:lnTo>
                <a:lnTo>
                  <a:pt x="2457" y="469"/>
                </a:lnTo>
                <a:cubicBezTo>
                  <a:pt x="2457" y="658"/>
                  <a:pt x="2304" y="812"/>
                  <a:pt x="2114" y="812"/>
                </a:cubicBezTo>
                <a:cubicBezTo>
                  <a:pt x="1925" y="812"/>
                  <a:pt x="1772" y="658"/>
                  <a:pt x="1772" y="469"/>
                </a:cubicBezTo>
                <a:lnTo>
                  <a:pt x="1772" y="345"/>
                </a:lnTo>
                <a:lnTo>
                  <a:pt x="1339" y="345"/>
                </a:lnTo>
                <a:lnTo>
                  <a:pt x="1339" y="469"/>
                </a:lnTo>
                <a:cubicBezTo>
                  <a:pt x="1339" y="658"/>
                  <a:pt x="1185" y="812"/>
                  <a:pt x="996" y="812"/>
                </a:cubicBezTo>
                <a:cubicBezTo>
                  <a:pt x="807" y="812"/>
                  <a:pt x="653" y="658"/>
                  <a:pt x="653" y="469"/>
                </a:cubicBezTo>
                <a:lnTo>
                  <a:pt x="653" y="345"/>
                </a:lnTo>
                <a:lnTo>
                  <a:pt x="370" y="345"/>
                </a:lnTo>
                <a:cubicBezTo>
                  <a:pt x="166" y="345"/>
                  <a:pt x="0" y="511"/>
                  <a:pt x="0" y="714"/>
                </a:cubicBezTo>
                <a:lnTo>
                  <a:pt x="0" y="3409"/>
                </a:lnTo>
                <a:cubicBezTo>
                  <a:pt x="0" y="3612"/>
                  <a:pt x="166" y="3779"/>
                  <a:pt x="370" y="3779"/>
                </a:cubicBezTo>
                <a:lnTo>
                  <a:pt x="2741" y="3779"/>
                </a:lnTo>
                <a:cubicBezTo>
                  <a:pt x="2944" y="3779"/>
                  <a:pt x="3111" y="3612"/>
                  <a:pt x="3111" y="3409"/>
                </a:cubicBezTo>
                <a:lnTo>
                  <a:pt x="3111" y="714"/>
                </a:lnTo>
                <a:cubicBezTo>
                  <a:pt x="3111" y="511"/>
                  <a:pt x="2944" y="345"/>
                  <a:pt x="2741" y="345"/>
                </a:cubicBezTo>
                <a:close/>
                <a:moveTo>
                  <a:pt x="2444" y="1500"/>
                </a:moveTo>
                <a:lnTo>
                  <a:pt x="2444" y="1500"/>
                </a:lnTo>
                <a:cubicBezTo>
                  <a:pt x="2363" y="1430"/>
                  <a:pt x="2242" y="1439"/>
                  <a:pt x="2173" y="1520"/>
                </a:cubicBezTo>
                <a:lnTo>
                  <a:pt x="1225" y="2621"/>
                </a:lnTo>
                <a:lnTo>
                  <a:pt x="933" y="2308"/>
                </a:lnTo>
                <a:cubicBezTo>
                  <a:pt x="860" y="2231"/>
                  <a:pt x="738" y="2227"/>
                  <a:pt x="660" y="2299"/>
                </a:cubicBezTo>
                <a:cubicBezTo>
                  <a:pt x="583" y="2372"/>
                  <a:pt x="579" y="2494"/>
                  <a:pt x="652" y="2571"/>
                </a:cubicBezTo>
                <a:lnTo>
                  <a:pt x="1091" y="3041"/>
                </a:lnTo>
                <a:cubicBezTo>
                  <a:pt x="1127" y="3079"/>
                  <a:pt x="1178" y="3102"/>
                  <a:pt x="1231" y="3102"/>
                </a:cubicBezTo>
                <a:lnTo>
                  <a:pt x="1235" y="3102"/>
                </a:lnTo>
                <a:cubicBezTo>
                  <a:pt x="1290" y="3100"/>
                  <a:pt x="1342" y="3076"/>
                  <a:pt x="1377" y="3035"/>
                </a:cubicBezTo>
                <a:lnTo>
                  <a:pt x="2465" y="1771"/>
                </a:lnTo>
                <a:cubicBezTo>
                  <a:pt x="2534" y="1690"/>
                  <a:pt x="2525" y="1569"/>
                  <a:pt x="2444" y="1500"/>
                </a:cubicBezTo>
                <a:close/>
                <a:moveTo>
                  <a:pt x="2114" y="689"/>
                </a:moveTo>
                <a:lnTo>
                  <a:pt x="2114" y="689"/>
                </a:lnTo>
                <a:cubicBezTo>
                  <a:pt x="2236" y="689"/>
                  <a:pt x="2334" y="590"/>
                  <a:pt x="2334" y="469"/>
                </a:cubicBezTo>
                <a:lnTo>
                  <a:pt x="2334" y="220"/>
                </a:lnTo>
                <a:cubicBezTo>
                  <a:pt x="2334" y="99"/>
                  <a:pt x="2236" y="0"/>
                  <a:pt x="2114" y="0"/>
                </a:cubicBezTo>
                <a:cubicBezTo>
                  <a:pt x="1993" y="0"/>
                  <a:pt x="1895" y="99"/>
                  <a:pt x="1895" y="220"/>
                </a:cubicBezTo>
                <a:lnTo>
                  <a:pt x="1895" y="469"/>
                </a:lnTo>
                <a:cubicBezTo>
                  <a:pt x="1895" y="590"/>
                  <a:pt x="1993" y="689"/>
                  <a:pt x="2114" y="689"/>
                </a:cubicBezTo>
                <a:close/>
                <a:moveTo>
                  <a:pt x="996" y="689"/>
                </a:moveTo>
                <a:lnTo>
                  <a:pt x="996" y="689"/>
                </a:lnTo>
                <a:cubicBezTo>
                  <a:pt x="1118" y="689"/>
                  <a:pt x="1216" y="590"/>
                  <a:pt x="1216" y="469"/>
                </a:cubicBezTo>
                <a:lnTo>
                  <a:pt x="1216" y="220"/>
                </a:lnTo>
                <a:cubicBezTo>
                  <a:pt x="1216" y="99"/>
                  <a:pt x="1118" y="0"/>
                  <a:pt x="996" y="0"/>
                </a:cubicBezTo>
                <a:cubicBezTo>
                  <a:pt x="875" y="0"/>
                  <a:pt x="777" y="99"/>
                  <a:pt x="777" y="220"/>
                </a:cubicBezTo>
                <a:lnTo>
                  <a:pt x="777" y="469"/>
                </a:lnTo>
                <a:cubicBezTo>
                  <a:pt x="777" y="590"/>
                  <a:pt x="875" y="689"/>
                  <a:pt x="996" y="6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4" name="Freeform 6"/>
          <p:cNvSpPr/>
          <p:nvPr/>
        </p:nvSpPr>
        <p:spPr>
          <a:xfrm>
            <a:off x="387360" y="2354400"/>
            <a:ext cx="237960" cy="204480"/>
          </a:xfrm>
          <a:custGeom>
            <a:avLst/>
            <a:gdLst>
              <a:gd name="textAreaLeft" fmla="*/ 0 w 237960"/>
              <a:gd name="textAreaRight" fmla="*/ 238320 w 23796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5" name="TextBox 8"/>
          <p:cNvSpPr/>
          <p:nvPr/>
        </p:nvSpPr>
        <p:spPr>
          <a:xfrm>
            <a:off x="552960" y="22716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ответственные сотрудники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6" name="Freeform 6"/>
          <p:cNvSpPr/>
          <p:nvPr/>
        </p:nvSpPr>
        <p:spPr>
          <a:xfrm>
            <a:off x="385920" y="2708280"/>
            <a:ext cx="237960" cy="204840"/>
          </a:xfrm>
          <a:custGeom>
            <a:avLst/>
            <a:gdLst>
              <a:gd name="textAreaLeft" fmla="*/ 0 w 237960"/>
              <a:gd name="textAreaRight" fmla="*/ 238320 w 2379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7" name="TextBox 17"/>
          <p:cNvSpPr/>
          <p:nvPr/>
        </p:nvSpPr>
        <p:spPr>
          <a:xfrm>
            <a:off x="408600" y="2627280"/>
            <a:ext cx="40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сотрудники, уполномоченные 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на формирование и утверждение: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8" name="Freeform 6"/>
          <p:cNvSpPr/>
          <p:nvPr/>
        </p:nvSpPr>
        <p:spPr>
          <a:xfrm>
            <a:off x="385920" y="4227480"/>
            <a:ext cx="237960" cy="206280"/>
          </a:xfrm>
          <a:custGeom>
            <a:avLst/>
            <a:gdLst>
              <a:gd name="textAreaLeft" fmla="*/ 0 w 237960"/>
              <a:gd name="textAreaRight" fmla="*/ 238320 w 2379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59" name="TextBox 19"/>
          <p:cNvSpPr/>
          <p:nvPr/>
        </p:nvSpPr>
        <p:spPr>
          <a:xfrm>
            <a:off x="581400" y="414648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установленные сроки 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формирования: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0" name="TextBox 20"/>
          <p:cNvSpPr/>
          <p:nvPr/>
        </p:nvSpPr>
        <p:spPr>
          <a:xfrm>
            <a:off x="692280" y="314640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описи документов, подлежащих хранению в электронном виде;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1" name="TextBox 21"/>
          <p:cNvSpPr/>
          <p:nvPr/>
        </p:nvSpPr>
        <p:spPr>
          <a:xfrm>
            <a:off x="690480" y="3619440"/>
            <a:ext cx="37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описи документов и отчетов, отправленных в архив.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2" name="Прямая соединительная линия 22"/>
          <p:cNvSpPr/>
          <p:nvPr/>
        </p:nvSpPr>
        <p:spPr>
          <a:xfrm>
            <a:off x="770040" y="3349800"/>
            <a:ext cx="108000" cy="0"/>
          </a:xfrm>
          <a:prstGeom prst="line">
            <a:avLst/>
          </a:prstGeom>
          <a:ln w="3168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3" name="Прямая соединительная линия 24"/>
          <p:cNvSpPr/>
          <p:nvPr/>
        </p:nvSpPr>
        <p:spPr>
          <a:xfrm>
            <a:off x="770040" y="3809880"/>
            <a:ext cx="108000" cy="0"/>
          </a:xfrm>
          <a:prstGeom prst="line">
            <a:avLst/>
          </a:prstGeom>
          <a:ln w="3168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4" name="TextBox 25"/>
          <p:cNvSpPr/>
          <p:nvPr/>
        </p:nvSpPr>
        <p:spPr>
          <a:xfrm>
            <a:off x="690480" y="4664160"/>
            <a:ext cx="37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описи документов, подлежащих хранению в электронном виде;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5" name="TextBox 26"/>
          <p:cNvSpPr/>
          <p:nvPr/>
        </p:nvSpPr>
        <p:spPr>
          <a:xfrm>
            <a:off x="687240" y="513720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Lato Light"/>
                <a:ea typeface="Gotham Light"/>
              </a:rPr>
              <a:t>описи документов и отчетов, отправленных в архив.</a:t>
            </a:r>
            <a:endParaRPr b="0" lang="en-US" sz="16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6" name="Прямая соединительная линия 27"/>
          <p:cNvSpPr/>
          <p:nvPr/>
        </p:nvSpPr>
        <p:spPr>
          <a:xfrm>
            <a:off x="768240" y="4865760"/>
            <a:ext cx="108000" cy="0"/>
          </a:xfrm>
          <a:prstGeom prst="line">
            <a:avLst/>
          </a:prstGeom>
          <a:ln w="3168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7" name="Прямая соединительная линия 28"/>
          <p:cNvSpPr/>
          <p:nvPr/>
        </p:nvSpPr>
        <p:spPr>
          <a:xfrm>
            <a:off x="768240" y="5338800"/>
            <a:ext cx="108000" cy="0"/>
          </a:xfrm>
          <a:prstGeom prst="line">
            <a:avLst/>
          </a:prstGeom>
          <a:ln w="31680">
            <a:solidFill>
              <a:srgbClr val="6bba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8" name="Freeform 6"/>
          <p:cNvSpPr/>
          <p:nvPr/>
        </p:nvSpPr>
        <p:spPr>
          <a:xfrm>
            <a:off x="398520" y="5759280"/>
            <a:ext cx="236520" cy="206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69" name="TextBox 30"/>
          <p:cNvSpPr/>
          <p:nvPr/>
        </p:nvSpPr>
        <p:spPr>
          <a:xfrm>
            <a:off x="660240" y="567864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контроль результатов архивации в «Журнале результатов автоматической архивации»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0" name="Freeform 6"/>
          <p:cNvSpPr/>
          <p:nvPr/>
        </p:nvSpPr>
        <p:spPr>
          <a:xfrm>
            <a:off x="5005440" y="2352600"/>
            <a:ext cx="236520" cy="204840"/>
          </a:xfrm>
          <a:custGeom>
            <a:avLst/>
            <a:gdLst>
              <a:gd name="textAreaLeft" fmla="*/ 0 w 236520"/>
              <a:gd name="textAreaRight" fmla="*/ 236880 w 236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1" name="TextBox 32"/>
          <p:cNvSpPr/>
          <p:nvPr/>
        </p:nvSpPr>
        <p:spPr>
          <a:xfrm>
            <a:off x="5267160" y="227016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сотрудники, уполномоченные на извлечение документов из архива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2" name="Freeform 6"/>
          <p:cNvSpPr/>
          <p:nvPr/>
        </p:nvSpPr>
        <p:spPr>
          <a:xfrm>
            <a:off x="5003640" y="3371760"/>
            <a:ext cx="236520" cy="204840"/>
          </a:xfrm>
          <a:custGeom>
            <a:avLst/>
            <a:gdLst>
              <a:gd name="textAreaLeft" fmla="*/ 0 w 236520"/>
              <a:gd name="textAreaRight" fmla="*/ 236880 w 236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3" name="TextBox 34"/>
          <p:cNvSpPr/>
          <p:nvPr/>
        </p:nvSpPr>
        <p:spPr>
          <a:xfrm>
            <a:off x="5265720" y="3289320"/>
            <a:ext cx="387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процедура инициирования и согласования извлечения документов из архива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4" name="Freeform 6"/>
          <p:cNvSpPr/>
          <p:nvPr/>
        </p:nvSpPr>
        <p:spPr>
          <a:xfrm>
            <a:off x="5014800" y="5153040"/>
            <a:ext cx="238320" cy="204840"/>
          </a:xfrm>
          <a:custGeom>
            <a:avLst/>
            <a:gdLst>
              <a:gd name="textAreaLeft" fmla="*/ 0 w 238320"/>
              <a:gd name="textAreaRight" fmla="*/ 238680 w 2383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5" name="TextBox 46"/>
          <p:cNvSpPr/>
          <p:nvPr/>
        </p:nvSpPr>
        <p:spPr>
          <a:xfrm>
            <a:off x="5276880" y="507060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контроль возвращения документов в архив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6" name="Freeform 6"/>
          <p:cNvSpPr/>
          <p:nvPr/>
        </p:nvSpPr>
        <p:spPr>
          <a:xfrm>
            <a:off x="5014800" y="4405320"/>
            <a:ext cx="238320" cy="204840"/>
          </a:xfrm>
          <a:custGeom>
            <a:avLst/>
            <a:gdLst>
              <a:gd name="textAreaLeft" fmla="*/ 0 w 238320"/>
              <a:gd name="textAreaRight" fmla="*/ 238680 w 2383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32" h="1832">
                <a:moveTo>
                  <a:pt x="1811" y="0"/>
                </a:moveTo>
                <a:lnTo>
                  <a:pt x="1811" y="0"/>
                </a:lnTo>
                <a:lnTo>
                  <a:pt x="767" y="1241"/>
                </a:lnTo>
                <a:lnTo>
                  <a:pt x="269" y="823"/>
                </a:lnTo>
                <a:lnTo>
                  <a:pt x="0" y="1143"/>
                </a:lnTo>
                <a:lnTo>
                  <a:pt x="817" y="1832"/>
                </a:lnTo>
                <a:lnTo>
                  <a:pt x="2132" y="270"/>
                </a:lnTo>
                <a:lnTo>
                  <a:pt x="1811" y="0"/>
                </a:lnTo>
                <a:close/>
              </a:path>
            </a:pathLst>
          </a:custGeom>
          <a:solidFill>
            <a:srgbClr val="67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sp>
        <p:nvSpPr>
          <p:cNvPr id="1877" name="TextBox 48"/>
          <p:cNvSpPr/>
          <p:nvPr/>
        </p:nvSpPr>
        <p:spPr>
          <a:xfrm>
            <a:off x="5276880" y="432288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выполнение возврата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ato Light"/>
                <a:ea typeface="Gotham Light"/>
              </a:rPr>
              <a:t>документов в архив</a:t>
            </a:r>
            <a:endParaRPr b="0" lang="en-US" sz="1800" spc="-1" strike="noStrike">
              <a:solidFill>
                <a:srgbClr val="a2a2a2"/>
              </a:solidFill>
              <a:latin typeface="Lato Light"/>
            </a:endParaRPr>
          </a:p>
        </p:txBody>
      </p:sp>
      <p:pic>
        <p:nvPicPr>
          <p:cNvPr id="1878" name="Рисунок 279" descr="clipping unknow.png"/>
          <p:cNvPicPr/>
          <p:nvPr/>
        </p:nvPicPr>
        <p:blipFill>
          <a:blip r:embed="rId1"/>
          <a:stretch/>
        </p:blipFill>
        <p:spPr>
          <a:xfrm>
            <a:off x="4967280" y="1468440"/>
            <a:ext cx="225360" cy="396720"/>
          </a:xfrm>
          <a:prstGeom prst="rect">
            <a:avLst/>
          </a:prstGeom>
          <a:ln w="0">
            <a:noFill/>
          </a:ln>
        </p:spPr>
      </p:pic>
      <p:pic>
        <p:nvPicPr>
          <p:cNvPr id="1879" name="Рисунок 279" descr="clipping unknow.png"/>
          <p:cNvPicPr/>
          <p:nvPr/>
        </p:nvPicPr>
        <p:blipFill>
          <a:blip r:embed="rId2"/>
          <a:stretch/>
        </p:blipFill>
        <p:spPr>
          <a:xfrm>
            <a:off x="4984920" y="1550880"/>
            <a:ext cx="225360" cy="397080"/>
          </a:xfrm>
          <a:prstGeom prst="rect">
            <a:avLst/>
          </a:prstGeom>
          <a:ln w="0">
            <a:noFill/>
          </a:ln>
        </p:spPr>
      </p:pic>
      <p:pic>
        <p:nvPicPr>
          <p:cNvPr id="1880" name="Рисунок 279" descr="clipping unknow.png"/>
          <p:cNvPicPr/>
          <p:nvPr/>
        </p:nvPicPr>
        <p:blipFill>
          <a:blip r:embed="rId3"/>
          <a:stretch/>
        </p:blipFill>
        <p:spPr>
          <a:xfrm>
            <a:off x="5003640" y="1646280"/>
            <a:ext cx="227160" cy="396720"/>
          </a:xfrm>
          <a:prstGeom prst="rect">
            <a:avLst/>
          </a:prstGeom>
          <a:ln w="0">
            <a:noFill/>
          </a:ln>
        </p:spPr>
      </p:pic>
      <p:pic>
        <p:nvPicPr>
          <p:cNvPr id="1881" name="Рисунок 43007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224320" y="1773360"/>
            <a:ext cx="249480" cy="317520"/>
          </a:xfrm>
          <a:prstGeom prst="rect">
            <a:avLst/>
          </a:prstGeom>
          <a:ln w="0">
            <a:noFill/>
          </a:ln>
        </p:spPr>
      </p:pic>
      <p:sp>
        <p:nvSpPr>
          <p:cNvPr id="1882" name="Text Placeholder 24"/>
          <p:cNvSpPr/>
          <p:nvPr/>
        </p:nvSpPr>
        <p:spPr>
          <a:xfrm>
            <a:off x="552600" y="1019160"/>
            <a:ext cx="8034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9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3939"/>
                </a:solidFill>
                <a:latin typeface="Lato Light"/>
                <a:ea typeface="Gotham Light"/>
              </a:rPr>
              <a:t>закрепляется</a:t>
            </a:r>
            <a:endParaRPr b="0" lang="en-US" sz="2800" spc="-1" strike="noStrike">
              <a:solidFill>
                <a:srgbClr val="a2a2a2"/>
              </a:solidFill>
              <a:latin typeface="Lat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5:47:42Z</dcterms:created>
  <dc:creator>DesignSmash</dc:creator>
  <dc:description/>
  <cp:keywords/>
  <dc:language>en-US</dc:language>
  <cp:lastModifiedBy>user</cp:lastModifiedBy>
  <cp:lastPrinted>2015-09-04T09:43:41Z</cp:lastPrinted>
  <dcterms:modified xsi:type="dcterms:W3CDTF">2015-09-16T11:23:55Z</dcterms:modified>
  <cp:revision>912</cp:revision>
  <dc:subject/>
  <dc:title>Premium Cloud Blue</dc:title>
</cp:coreProperties>
</file>