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9.wmf" ContentType="image/x-wmf"/>
  <Override PartName="/ppt/media/image18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E98E9-55C6-40E3-AD1D-07CF1CE85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01E8C-F822-4BBE-992E-BCBB5D35A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7388F-8B0E-4685-B40B-CB867EC49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3B81C-DB78-4020-9FB2-5D07D3BF8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использования счета 0 106 00 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1B5-10F6-4677-8427-9F292134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EB8-EC73-4611-96E6-8C7485A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EB1-BF87-4D32-A129-AABEEB84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BDD-12C5-4EFE-AD0F-2CAD7780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6C3-910C-4D9F-8F37-6B93DBB2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595-1D65-4420-9FCA-6DA67636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43E-975E-482F-8E99-039AA7A2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088-EB7C-4D06-95CA-BB515FAA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0C3-BE99-4E79-9E01-5A5B981C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F9C-50AA-42BB-827A-3DF5DE1B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391-0575-4237-BA65-E01E68A5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9B3-3851-4EE8-AFE3-CAF56AE7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67E5-E14A-49B1-9350-4655E897B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440" y="-3636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476360" y="1700280"/>
            <a:ext cx="6480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дельные вопросы формирования бюджетной отчетности об исполнении бюджетов бюджет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ссийской Федерации за 201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796000" y="5229360"/>
            <a:ext cx="316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0920" y="333360"/>
            <a:ext cx="85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ЗНАЧЕЙСТВО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83520" y="5516640"/>
            <a:ext cx="534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Кривенец А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Управление бюджетного учета и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8B08-E0CA-425D-9602-A5ECEF162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539640" y="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лог на прибы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 бюдже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908000"/>
          <a:ext cx="3743280" cy="4569120"/>
        </p:xfrm>
        <a:graphic>
          <a:graphicData uri="http://schemas.openxmlformats.org/drawingml/2006/table">
            <a:tbl>
              <a:tblPr/>
              <a:tblGrid>
                <a:gridCol w="2590560"/>
                <a:gridCol w="1152720"/>
              </a:tblGrid>
              <a:tr h="1160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расходы  КОСГУ 2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ый опер. 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прибы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356000" y="1916280"/>
          <a:ext cx="4626000" cy="2565360"/>
        </p:xfrm>
        <a:graphic>
          <a:graphicData uri="http://schemas.openxmlformats.org/drawingml/2006/table">
            <a:tbl>
              <a:tblPr/>
              <a:tblGrid>
                <a:gridCol w="1944720"/>
                <a:gridCol w="1366920"/>
                <a:gridCol w="131436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к  по дебе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к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реди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0120 2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Прямоугольник 5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 о финансовых результатах   Справка по заключению сч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21                                  ф. 0503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3276720" y="3068640"/>
            <a:ext cx="86364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6875640" y="3068640"/>
            <a:ext cx="865080" cy="72072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3276720" y="5589720"/>
            <a:ext cx="863640" cy="71892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10"/>
          <p:cNvCxnSpPr/>
          <p:nvPr/>
        </p:nvCxnSpPr>
        <p:spPr>
          <a:xfrm flipV="1">
            <a:off x="4284360" y="3789000"/>
            <a:ext cx="2664360" cy="1944000"/>
          </a:xfrm>
          <a:prstGeom prst="straightConnector1">
            <a:avLst/>
          </a:prstGeom>
          <a:ln w="9360">
            <a:solidFill>
              <a:srgbClr val="fe3288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6" name="Прямая со стрелкой 11"/>
          <p:cNvCxnSpPr/>
          <p:nvPr/>
        </p:nvCxnSpPr>
        <p:spPr>
          <a:xfrm flipV="1">
            <a:off x="3276360" y="3788640"/>
            <a:ext cx="1080" cy="1585080"/>
          </a:xfrm>
          <a:prstGeom prst="straightConnector1">
            <a:avLst/>
          </a:prstGeom>
          <a:ln w="9360">
            <a:solidFill>
              <a:srgbClr val="fe3288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7" name="Прямая со стрелкой 13"/>
          <p:cNvCxnSpPr/>
          <p:nvPr/>
        </p:nvCxnSpPr>
        <p:spPr>
          <a:xfrm>
            <a:off x="4211280" y="3644640"/>
            <a:ext cx="2592720" cy="1080"/>
          </a:xfrm>
          <a:prstGeom prst="straightConnector1">
            <a:avLst/>
          </a:prstGeom>
          <a:ln w="9360">
            <a:solidFill>
              <a:srgbClr val="fe3288"/>
            </a:solidFill>
            <a:miter/>
            <a:headEnd len="med" type="arrow" w="med"/>
            <a:tailEnd len="med" type="arrow" w="med"/>
          </a:ln>
        </p:spPr>
      </p:cxnSp>
      <p:sp>
        <p:nvSpPr>
          <p:cNvPr id="13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400A-7CD6-45C6-BC26-1363C1187E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340000" y="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38040" y="648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тражение в отчетности администрируемых д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6"/>
          <p:cNvSpPr/>
          <p:nvPr/>
        </p:nvSpPr>
        <p:spPr>
          <a:xfrm>
            <a:off x="179280" y="1268280"/>
            <a:ext cx="8496360" cy="93672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правление Федеральной налоговой служб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министрирует доход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КБК 182 1 01 02001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0000 110 «Налог на доходы физических лиц …» (элем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1 «Федеральный бюджет»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распределяемые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субъекта РФ (элем. 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0"/>
          <p:cNvSpPr/>
          <p:nvPr/>
        </p:nvSpPr>
        <p:spPr>
          <a:xfrm>
            <a:off x="179280" y="5364000"/>
            <a:ext cx="4032360" cy="8733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ражение в учете и отчетности  доходо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инансовым органом  субъекта РФ, в т.ч. как АД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592200" y="2421000"/>
            <a:ext cx="3600360" cy="5763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сление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592200" y="3218040"/>
            <a:ext cx="3585960" cy="72072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числение доходов на счет 40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592200" y="4119480"/>
            <a:ext cx="3579840" cy="71928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пределение в доход бюджет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7"/>
          <p:cNvSpPr/>
          <p:nvPr/>
        </p:nvSpPr>
        <p:spPr>
          <a:xfrm>
            <a:off x="4811760" y="2421000"/>
            <a:ext cx="3863880" cy="5763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т 1 205 11 560   Кт 1 401 10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28"/>
          <p:cNvSpPr/>
          <p:nvPr/>
        </p:nvSpPr>
        <p:spPr>
          <a:xfrm>
            <a:off x="4811760" y="3218040"/>
            <a:ext cx="3863880" cy="72072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т 1 210 02 110    Кт 1 205 11 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Дт 1 210 04 110    Кт 1 210 02 110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9"/>
          <p:cNvSpPr/>
          <p:nvPr/>
        </p:nvSpPr>
        <p:spPr>
          <a:xfrm>
            <a:off x="4811760" y="4119480"/>
            <a:ext cx="3863880" cy="71928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т 1 401 10 110    Кт 1 210 02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Дт 1 401 10 110    Кт 1 210 04 110 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6"/>
          <p:cNvCxnSpPr>
            <a:stCxn id="143" idx="3"/>
            <a:endCxn id="146" idx="1"/>
          </p:cNvCxnSpPr>
          <p:nvPr/>
        </p:nvCxnSpPr>
        <p:spPr>
          <a:xfrm>
            <a:off x="4192560" y="2707920"/>
            <a:ext cx="619920" cy="1080"/>
          </a:xfrm>
          <a:prstGeom prst="straightConnector1">
            <a:avLst/>
          </a:prstGeom>
          <a:ln w="1260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50" name="Прямая со стрелкой 31"/>
          <p:cNvCxnSpPr>
            <a:stCxn id="144" idx="3"/>
            <a:endCxn id="147" idx="1"/>
          </p:cNvCxnSpPr>
          <p:nvPr/>
        </p:nvCxnSpPr>
        <p:spPr>
          <a:xfrm>
            <a:off x="4178160" y="3578040"/>
            <a:ext cx="634320" cy="1080"/>
          </a:xfrm>
          <a:prstGeom prst="straightConnector1">
            <a:avLst/>
          </a:prstGeom>
          <a:ln w="1260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51" name="Прямая со стрелкой 33"/>
          <p:cNvCxnSpPr>
            <a:stCxn id="145" idx="3"/>
            <a:endCxn id="148" idx="1"/>
          </p:cNvCxnSpPr>
          <p:nvPr/>
        </p:nvCxnSpPr>
        <p:spPr>
          <a:xfrm>
            <a:off x="4171680" y="4478040"/>
            <a:ext cx="640440" cy="1080"/>
          </a:xfrm>
          <a:prstGeom prst="straightConnector1">
            <a:avLst/>
          </a:prstGeom>
          <a:ln w="1260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152" name="Прямоугольник 40"/>
          <p:cNvSpPr/>
          <p:nvPr/>
        </p:nvSpPr>
        <p:spPr>
          <a:xfrm>
            <a:off x="12600" y="960480"/>
            <a:ext cx="68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 78 Инструкции 162н, Письмо МФ РФ от 05.07.2012  № 02-06-07/25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3"/>
          <p:cNvSpPr/>
          <p:nvPr/>
        </p:nvSpPr>
        <p:spPr>
          <a:xfrm>
            <a:off x="0" y="6256440"/>
            <a:ext cx="932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 бухгалтерские записи при распределении доходов на следующий день после их зачисления на счет 4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5"/>
          <p:cNvSpPr/>
          <p:nvPr/>
        </p:nvSpPr>
        <p:spPr>
          <a:xfrm>
            <a:off x="4853160" y="5229360"/>
            <a:ext cx="3822480" cy="107928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т 1 202 11 510  Кт 1 402 10 110 (Отчет ф. 050312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т 1 210 02 110  Кт 1 401 10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тчет ф. 050312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Прямая со стрелкой 46"/>
          <p:cNvCxnSpPr/>
          <p:nvPr/>
        </p:nvCxnSpPr>
        <p:spPr>
          <a:xfrm>
            <a:off x="4200120" y="5820840"/>
            <a:ext cx="661320" cy="10440"/>
          </a:xfrm>
          <a:prstGeom prst="straightConnector1">
            <a:avLst/>
          </a:prstGeom>
          <a:ln w="1260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156" name="Прямая соединительная линия 52"/>
          <p:cNvSpPr/>
          <p:nvPr/>
        </p:nvSpPr>
        <p:spPr>
          <a:xfrm>
            <a:off x="324000" y="2205000"/>
            <a:ext cx="0" cy="2273400"/>
          </a:xfrm>
          <a:prstGeom prst="line">
            <a:avLst/>
          </a:prstGeom>
          <a:ln w="1260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54"/>
          <p:cNvSpPr/>
          <p:nvPr/>
        </p:nvSpPr>
        <p:spPr>
          <a:xfrm>
            <a:off x="324000" y="2708280"/>
            <a:ext cx="268200" cy="0"/>
          </a:xfrm>
          <a:prstGeom prst="line">
            <a:avLst/>
          </a:prstGeom>
          <a:ln w="1260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56"/>
          <p:cNvSpPr/>
          <p:nvPr/>
        </p:nvSpPr>
        <p:spPr>
          <a:xfrm>
            <a:off x="324000" y="3578400"/>
            <a:ext cx="268200" cy="0"/>
          </a:xfrm>
          <a:prstGeom prst="line">
            <a:avLst/>
          </a:prstGeom>
          <a:ln w="1260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58"/>
          <p:cNvSpPr/>
          <p:nvPr/>
        </p:nvSpPr>
        <p:spPr>
          <a:xfrm>
            <a:off x="324000" y="4478400"/>
            <a:ext cx="268200" cy="0"/>
          </a:xfrm>
          <a:prstGeom prst="line">
            <a:avLst/>
          </a:prstGeom>
          <a:ln w="1260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2527"/>
          <p:cNvSpPr/>
          <p:nvPr/>
        </p:nvSpPr>
        <p:spPr>
          <a:xfrm>
            <a:off x="179280" y="5013360"/>
            <a:ext cx="8642520" cy="0"/>
          </a:xfrm>
          <a:prstGeom prst="line">
            <a:avLst/>
          </a:prstGeom>
          <a:ln w="1260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18E-E47B-4921-876B-FB4DF6576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40000" y="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84360" y="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тражение в отчетности администрируемых д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6"/>
          <p:cNvSpPr/>
          <p:nvPr/>
        </p:nvSpPr>
        <p:spPr>
          <a:xfrm>
            <a:off x="179280" y="1268280"/>
            <a:ext cx="8496360" cy="10083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правление Федеральной налоговой служб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министрирует доход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КБК 182 1 01 01012 02 0000 110 «Налог на прибыль организаций, зачисляемый в бюджеты субъектов РФ» с элемент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2 «Бюджет субъекта Российской Федерац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0"/>
          <p:cNvSpPr/>
          <p:nvPr/>
        </p:nvSpPr>
        <p:spPr>
          <a:xfrm>
            <a:off x="179280" y="5364000"/>
            <a:ext cx="4032360" cy="8733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ражение в учете и отчетности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инансовым органом субъек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592200" y="2421000"/>
            <a:ext cx="3600360" cy="5763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сление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592200" y="3218040"/>
            <a:ext cx="3585960" cy="72072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числение доходов на счет 40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распределение в бюджет субъек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5"/>
          <p:cNvSpPr/>
          <p:nvPr/>
        </p:nvSpPr>
        <p:spPr>
          <a:xfrm>
            <a:off x="592200" y="4119480"/>
            <a:ext cx="3579840" cy="9651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отчетности АДБ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тчеты 0503127, 0503130, 0503121, 0503164, 0503110, 05031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7"/>
          <p:cNvSpPr/>
          <p:nvPr/>
        </p:nvSpPr>
        <p:spPr>
          <a:xfrm>
            <a:off x="4811760" y="2421000"/>
            <a:ext cx="3600360" cy="5763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т 1 205 11 560   Кт 1 401 10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8"/>
          <p:cNvSpPr/>
          <p:nvPr/>
        </p:nvSpPr>
        <p:spPr>
          <a:xfrm>
            <a:off x="4811760" y="3218040"/>
            <a:ext cx="3587760" cy="72072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т 1 210 02 110    Кт 1 205 11 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9"/>
          <p:cNvSpPr/>
          <p:nvPr/>
        </p:nvSpPr>
        <p:spPr>
          <a:xfrm>
            <a:off x="4811760" y="4119480"/>
            <a:ext cx="3581280" cy="9651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отчетности в финансовый орган бюджета субъек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26"/>
          <p:cNvCxnSpPr>
            <a:stCxn id="166" idx="3"/>
            <a:endCxn id="169" idx="1"/>
          </p:cNvCxnSpPr>
          <p:nvPr/>
        </p:nvCxnSpPr>
        <p:spPr>
          <a:xfrm>
            <a:off x="4192560" y="2707920"/>
            <a:ext cx="619920" cy="1080"/>
          </a:xfrm>
          <a:prstGeom prst="straightConnector1">
            <a:avLst/>
          </a:prstGeom>
          <a:ln w="1260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73" name="Прямая со стрелкой 31"/>
          <p:cNvCxnSpPr>
            <a:stCxn id="167" idx="3"/>
            <a:endCxn id="170" idx="1"/>
          </p:cNvCxnSpPr>
          <p:nvPr/>
        </p:nvCxnSpPr>
        <p:spPr>
          <a:xfrm>
            <a:off x="4178160" y="3578040"/>
            <a:ext cx="634320" cy="1080"/>
          </a:xfrm>
          <a:prstGeom prst="straightConnector1">
            <a:avLst/>
          </a:prstGeom>
          <a:ln w="1260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74" name="Прямая со стрелкой 33"/>
          <p:cNvCxnSpPr>
            <a:stCxn id="168" idx="3"/>
            <a:endCxn id="171" idx="1"/>
          </p:cNvCxnSpPr>
          <p:nvPr/>
        </p:nvCxnSpPr>
        <p:spPr>
          <a:xfrm>
            <a:off x="4171680" y="4601880"/>
            <a:ext cx="640440" cy="1080"/>
          </a:xfrm>
          <a:prstGeom prst="straightConnector1">
            <a:avLst/>
          </a:prstGeom>
          <a:ln w="1260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175" name="Прямоугольник 40"/>
          <p:cNvSpPr/>
          <p:nvPr/>
        </p:nvSpPr>
        <p:spPr>
          <a:xfrm>
            <a:off x="179280" y="988920"/>
            <a:ext cx="656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 78 Инструкции 162н, разд.5 Инструкции 191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5"/>
          <p:cNvSpPr/>
          <p:nvPr/>
        </p:nvSpPr>
        <p:spPr>
          <a:xfrm>
            <a:off x="4861080" y="5376960"/>
            <a:ext cx="3579480" cy="89064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т 1 202 11 510    Кт 1 402 10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ет ф. 0503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46"/>
          <p:cNvCxnSpPr/>
          <p:nvPr/>
        </p:nvCxnSpPr>
        <p:spPr>
          <a:xfrm>
            <a:off x="4200120" y="5820840"/>
            <a:ext cx="661320" cy="10440"/>
          </a:xfrm>
          <a:prstGeom prst="straightConnector1">
            <a:avLst/>
          </a:prstGeom>
          <a:ln w="1260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178" name="Прямая соединительная линия 52"/>
          <p:cNvSpPr/>
          <p:nvPr/>
        </p:nvSpPr>
        <p:spPr>
          <a:xfrm>
            <a:off x="324000" y="2276640"/>
            <a:ext cx="0" cy="2325600"/>
          </a:xfrm>
          <a:prstGeom prst="line">
            <a:avLst/>
          </a:prstGeom>
          <a:ln w="1260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54"/>
          <p:cNvSpPr/>
          <p:nvPr/>
        </p:nvSpPr>
        <p:spPr>
          <a:xfrm>
            <a:off x="324000" y="2708280"/>
            <a:ext cx="268200" cy="0"/>
          </a:xfrm>
          <a:prstGeom prst="line">
            <a:avLst/>
          </a:prstGeom>
          <a:ln w="1260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56"/>
          <p:cNvSpPr/>
          <p:nvPr/>
        </p:nvSpPr>
        <p:spPr>
          <a:xfrm>
            <a:off x="324000" y="3578400"/>
            <a:ext cx="268200" cy="0"/>
          </a:xfrm>
          <a:prstGeom prst="line">
            <a:avLst/>
          </a:prstGeom>
          <a:ln w="1260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58"/>
          <p:cNvSpPr/>
          <p:nvPr/>
        </p:nvSpPr>
        <p:spPr>
          <a:xfrm>
            <a:off x="324000" y="4602240"/>
            <a:ext cx="268200" cy="0"/>
          </a:xfrm>
          <a:prstGeom prst="line">
            <a:avLst/>
          </a:prstGeom>
          <a:ln w="1260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30"/>
          <p:cNvSpPr/>
          <p:nvPr/>
        </p:nvSpPr>
        <p:spPr>
          <a:xfrm>
            <a:off x="106200" y="5229360"/>
            <a:ext cx="8642520" cy="0"/>
          </a:xfrm>
          <a:prstGeom prst="line">
            <a:avLst/>
          </a:prstGeom>
          <a:ln w="1260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CE45-323E-4696-A724-F59087727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5133960" cy="3686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76720" y="115920"/>
            <a:ext cx="4751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Сочи 2009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4002120" y="3197160"/>
            <a:ext cx="5133960" cy="3686400"/>
          </a:xfrm>
          <a:prstGeom prst="rect">
            <a:avLst/>
          </a:prstGeom>
          <a:ln w="0">
            <a:noFill/>
          </a:ln>
        </p:spPr>
      </p:pic>
      <p:sp>
        <p:nvSpPr>
          <p:cNvPr id="1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A0FC-D80C-44F2-842A-488C48A30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063800" y="981000"/>
            <a:ext cx="7288200" cy="5112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32000" y="115920"/>
            <a:ext cx="4896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Сочи 2010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EC6E-27E0-4185-9AF5-3FD346964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32000" y="115920"/>
            <a:ext cx="4896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Геленджик 2011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rcRect l="11120" t="0" r="11512" b="0"/>
          <a:stretch/>
        </p:blipFill>
        <p:spPr>
          <a:xfrm>
            <a:off x="900000" y="981000"/>
            <a:ext cx="6942240" cy="5184720"/>
          </a:xfrm>
          <a:prstGeom prst="rect">
            <a:avLst/>
          </a:prstGeom>
          <a:ln w="0">
            <a:noFill/>
          </a:ln>
        </p:spPr>
      </p:pic>
      <p:sp>
        <p:nvSpPr>
          <p:cNvPr id="19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3D7-2A13-4A4E-873D-5F236C424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rcRect l="10823" t="0" r="10935" b="0"/>
          <a:stretch/>
        </p:blipFill>
        <p:spPr>
          <a:xfrm>
            <a:off x="1116000" y="1413000"/>
            <a:ext cx="6480360" cy="4659120"/>
          </a:xfrm>
          <a:prstGeom prst="rect">
            <a:avLst/>
          </a:prstGeom>
          <a:ln w="0">
            <a:noFill/>
          </a:ln>
        </p:spPr>
      </p:pic>
      <p:sp>
        <p:nvSpPr>
          <p:cNvPr id="195" name="Заголовок 1"/>
          <p:cNvSpPr/>
          <p:nvPr/>
        </p:nvSpPr>
        <p:spPr>
          <a:xfrm>
            <a:off x="3348000" y="404640"/>
            <a:ext cx="3965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Геленджик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D38C-06EC-4592-AB0B-CDD620256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4500720" cy="3375360"/>
          </a:xfrm>
          <a:prstGeom prst="rect">
            <a:avLst/>
          </a:prstGeom>
          <a:ln w="0">
            <a:noFill/>
          </a:ln>
        </p:spPr>
      </p:pic>
      <p:sp>
        <p:nvSpPr>
          <p:cNvPr id="198" name="Заголовок 1"/>
          <p:cNvSpPr/>
          <p:nvPr/>
        </p:nvSpPr>
        <p:spPr>
          <a:xfrm>
            <a:off x="2876400" y="182520"/>
            <a:ext cx="489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Геленджик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505400" y="765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0" y="3675240"/>
            <a:ext cx="3635280" cy="3213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3203640" y="3789360"/>
            <a:ext cx="3486240" cy="3098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5"/>
          <a:stretch/>
        </p:blipFill>
        <p:spPr>
          <a:xfrm>
            <a:off x="5324400" y="3860640"/>
            <a:ext cx="3805200" cy="2997360"/>
          </a:xfrm>
          <a:prstGeom prst="rect">
            <a:avLst/>
          </a:prstGeom>
          <a:ln w="0">
            <a:noFill/>
          </a:ln>
        </p:spPr>
      </p:pic>
      <p:sp>
        <p:nvSpPr>
          <p:cNvPr id="20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6226-3106-49FC-BFA9-A46D93801B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80360" cy="5535360"/>
          </a:xfrm>
          <a:prstGeom prst="rect">
            <a:avLst/>
          </a:prstGeom>
          <a:ln w="0">
            <a:noFill/>
          </a:ln>
        </p:spPr>
      </p:pic>
      <p:sp>
        <p:nvSpPr>
          <p:cNvPr id="205" name="Заголовок 1"/>
          <p:cNvSpPr/>
          <p:nvPr/>
        </p:nvSpPr>
        <p:spPr>
          <a:xfrm>
            <a:off x="3419640" y="150840"/>
            <a:ext cx="4636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ВКС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43B1-D009-4D88-995D-B69415DB2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43000" y="2349360"/>
            <a:ext cx="8584920" cy="2159280"/>
          </a:xfrm>
          <a:prstGeom prst="rect">
            <a:avLst/>
          </a:prstGeom>
          <a:solidFill>
            <a:srgbClr val="de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отоколе внутридокументального контроля формы 0503317 «Отчет об исполнении консолидированного бюджета субъекта РФ и бюджета территориального государственного внебюджетного фонда превышение кассовых расходов над плановыми назначениями по отдельным КОСГУ, связано с тем, что уточненный план  собирается ежеквартально, либо после внесения изменений в Закон о краевом бюджете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.е в плане на 01.06.201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не учтены изменения сводной бюджетной росписи  произведенные в мае 2015 год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Заголовок 1"/>
          <p:cNvSpPr/>
          <p:nvPr/>
        </p:nvSpPr>
        <p:spPr>
          <a:xfrm>
            <a:off x="1619280" y="1052640"/>
            <a:ext cx="5689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Пояснительная записка к отчетности финансового органа на 01.06.201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8D18-C3EA-48B5-9F76-D23161B5D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2"/>
          <p:cNvSpPr/>
          <p:nvPr/>
        </p:nvSpPr>
        <p:spPr>
          <a:xfrm>
            <a:off x="6164280" y="4797360"/>
            <a:ext cx="2663640" cy="158436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 от финансовых органов Хабаровского края, Свердловской области, Ом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440" y="-17136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539640" y="1268280"/>
            <a:ext cx="7920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rmAutofit/>
          </a:bodyPr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менение валюты 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ответствие взаимосвязанных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ражение показателя по налогу на прибыль по бюдже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ражение в отчетности администрируем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ражение плановых показ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именение кодов бюджетной класс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5796000" y="5229360"/>
            <a:ext cx="316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333360"/>
            <a:ext cx="85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сновны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DA27-4690-470E-9D67-294E45F8D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0" y="1890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рядок отражения классификации расходов в Отчете (ф. 05033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 операциям с остатками межбюджетных трансфертов прошл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214960" y="10526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ОГЛАСОВАНИЕ С ГРБ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841400" y="148428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ежбюджет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ансфер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4127400" y="398448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еется 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казаниях МФ РФ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65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84200" y="3984480"/>
            <a:ext cx="2185920" cy="8208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ЦСР по роспис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1841400" y="269892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еется в Сводно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юджетной роспис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3056040" y="52704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ответствующ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ЦСР по 65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19"/>
          <p:cNvCxnSpPr>
            <a:stCxn id="213" idx="2"/>
            <a:endCxn id="216" idx="0"/>
          </p:cNvCxnSpPr>
          <p:nvPr/>
        </p:nvCxnSpPr>
        <p:spPr>
          <a:xfrm flipH="1">
            <a:off x="2932920" y="2306520"/>
            <a:ext cx="2520" cy="39312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19" name="AutoShape 5"/>
          <p:cNvSpPr/>
          <p:nvPr/>
        </p:nvSpPr>
        <p:spPr>
          <a:xfrm>
            <a:off x="5842080" y="52704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ЦС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ххх589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37"/>
          <p:cNvSpPr/>
          <p:nvPr/>
        </p:nvSpPr>
        <p:spPr>
          <a:xfrm>
            <a:off x="1055520" y="291312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8"/>
          <p:cNvSpPr/>
          <p:nvPr/>
        </p:nvSpPr>
        <p:spPr>
          <a:xfrm>
            <a:off x="6342120" y="41990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9"/>
          <p:cNvSpPr/>
          <p:nvPr/>
        </p:nvSpPr>
        <p:spPr>
          <a:xfrm>
            <a:off x="3413160" y="41990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0"/>
          <p:cNvSpPr/>
          <p:nvPr/>
        </p:nvSpPr>
        <p:spPr>
          <a:xfrm>
            <a:off x="4056120" y="291312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Shape 43"/>
          <p:cNvCxnSpPr>
            <a:stCxn id="216" idx="1"/>
          </p:cNvCxnSpPr>
          <p:nvPr/>
        </p:nvCxnSpPr>
        <p:spPr>
          <a:xfrm flipV="1" rot="10800000">
            <a:off x="1126440" y="3108960"/>
            <a:ext cx="714960" cy="87516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25" name="Shape 45"/>
          <p:cNvCxnSpPr>
            <a:stCxn id="216" idx="3"/>
          </p:cNvCxnSpPr>
          <p:nvPr/>
        </p:nvCxnSpPr>
        <p:spPr>
          <a:xfrm>
            <a:off x="4027320" y="3109680"/>
            <a:ext cx="743760" cy="87516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26" name="Shape 46"/>
          <p:cNvCxnSpPr/>
          <p:nvPr/>
        </p:nvCxnSpPr>
        <p:spPr>
          <a:xfrm flipV="1" rot="10800000">
            <a:off x="3412440" y="4412880"/>
            <a:ext cx="71496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27" name="Shape 47"/>
          <p:cNvCxnSpPr>
            <a:stCxn id="214" idx="3"/>
          </p:cNvCxnSpPr>
          <p:nvPr/>
        </p:nvCxnSpPr>
        <p:spPr>
          <a:xfrm>
            <a:off x="6313320" y="4395960"/>
            <a:ext cx="772560" cy="89280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28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03C8-895D-4BC6-889C-ADA200428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5"/>
          <p:cNvSpPr/>
          <p:nvPr/>
        </p:nvSpPr>
        <p:spPr>
          <a:xfrm>
            <a:off x="5214960" y="10717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ОГЛАСОВАНИЕ С ГРБ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739960" y="114300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ежбюджетны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ансфер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311640" y="4929120"/>
            <a:ext cx="2571480" cy="1357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д до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2999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3999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4999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9000 00 0000 15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954000" y="4929120"/>
            <a:ext cx="2185920" cy="78588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ответствующи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д до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1668600" y="36432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еется 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казаниях МФ РФ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65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Прямая со стрелкой 19"/>
          <p:cNvCxnSpPr>
            <a:stCxn id="230" idx="2"/>
            <a:endCxn id="235" idx="0"/>
          </p:cNvCxnSpPr>
          <p:nvPr/>
        </p:nvCxnSpPr>
        <p:spPr>
          <a:xfrm flipH="1">
            <a:off x="3831840" y="1965240"/>
            <a:ext cx="2160" cy="53568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36" name="Прямоугольник 37"/>
          <p:cNvSpPr/>
          <p:nvPr/>
        </p:nvSpPr>
        <p:spPr>
          <a:xfrm>
            <a:off x="1954080" y="25718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0"/>
          <p:cNvSpPr/>
          <p:nvPr/>
        </p:nvSpPr>
        <p:spPr>
          <a:xfrm>
            <a:off x="4954680" y="25718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hape 43"/>
          <p:cNvCxnSpPr/>
          <p:nvPr/>
        </p:nvCxnSpPr>
        <p:spPr>
          <a:xfrm flipV="1" rot="10800000">
            <a:off x="2025000" y="2785680"/>
            <a:ext cx="71496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39" name="Shape 45"/>
          <p:cNvCxnSpPr>
            <a:stCxn id="233" idx="3"/>
          </p:cNvCxnSpPr>
          <p:nvPr/>
        </p:nvCxnSpPr>
        <p:spPr>
          <a:xfrm>
            <a:off x="3854520" y="4054320"/>
            <a:ext cx="74376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35" name="AutoShape 8"/>
          <p:cNvSpPr/>
          <p:nvPr/>
        </p:nvSpPr>
        <p:spPr>
          <a:xfrm>
            <a:off x="2739960" y="25002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твержде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hape 20"/>
          <p:cNvCxnSpPr>
            <a:stCxn id="233" idx="1"/>
          </p:cNvCxnSpPr>
          <p:nvPr/>
        </p:nvCxnSpPr>
        <p:spPr>
          <a:xfrm flipV="1" rot="10800000">
            <a:off x="1096200" y="4053240"/>
            <a:ext cx="572400" cy="89316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41" name="AutoShape 5"/>
          <p:cNvSpPr/>
          <p:nvPr/>
        </p:nvSpPr>
        <p:spPr>
          <a:xfrm>
            <a:off x="5168880" y="364320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д до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19 00000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hape 22"/>
          <p:cNvCxnSpPr/>
          <p:nvPr/>
        </p:nvCxnSpPr>
        <p:spPr>
          <a:xfrm>
            <a:off x="4954320" y="2786040"/>
            <a:ext cx="74340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43" name="Прямоугольник 23"/>
          <p:cNvSpPr/>
          <p:nvPr/>
        </p:nvSpPr>
        <p:spPr>
          <a:xfrm>
            <a:off x="954000" y="378612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27BC-ED33-497E-8A71-93F610DC3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5"/>
          <p:cNvSpPr/>
          <p:nvPr/>
        </p:nvSpPr>
        <p:spPr>
          <a:xfrm>
            <a:off x="3882960" y="385776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0" y="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рядок отражения классификации расходов в Отчете (ф. 05033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 операциям с остатками межбюджетных трансфертов прошл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560" y="115920"/>
            <a:ext cx="7201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Отчет ф. 0503317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291960" y="2430360"/>
            <a:ext cx="3888000" cy="763560"/>
          </a:xfrm>
          <a:prstGeom prst="rect">
            <a:avLst/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тчете за 2014 год ФК осуществило консолидацию по НВС на сумму 116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8"/>
          <p:cNvSpPr/>
          <p:nvPr/>
        </p:nvSpPr>
        <p:spPr>
          <a:xfrm>
            <a:off x="330120" y="4446720"/>
            <a:ext cx="3838680" cy="699840"/>
          </a:xfrm>
          <a:prstGeom prst="rect">
            <a:avLst/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тчете на 01.08.2015  год ФК осуществило консолидацию по НВС на сумму 1,5 млрд.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279360" y="3438360"/>
            <a:ext cx="3889440" cy="763920"/>
          </a:xfrm>
          <a:prstGeom prst="rect">
            <a:avLst/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тчете на 01.02.2015  год ФК осуществило консолидацию по НВС на сумму 19 млрд.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1"/>
          <p:cNvSpPr/>
          <p:nvPr/>
        </p:nvSpPr>
        <p:spPr>
          <a:xfrm>
            <a:off x="314280" y="1474920"/>
            <a:ext cx="3888000" cy="647640"/>
          </a:xfrm>
          <a:prstGeom prst="rect">
            <a:avLst/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числение межбюджетных трансфертов на НВ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2"/>
          <p:cNvSpPr/>
          <p:nvPr/>
        </p:nvSpPr>
        <p:spPr>
          <a:xfrm>
            <a:off x="4768920" y="1474920"/>
            <a:ext cx="3887640" cy="647640"/>
          </a:xfrm>
          <a:prstGeom prst="rect">
            <a:avLst/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рректное применение кодов бюджетной классифик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3"/>
          <p:cNvSpPr/>
          <p:nvPr/>
        </p:nvSpPr>
        <p:spPr>
          <a:xfrm>
            <a:off x="4746600" y="2451240"/>
            <a:ext cx="3887640" cy="1319040"/>
          </a:xfrm>
          <a:prstGeom prst="rect">
            <a:avLst/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числение доходов, которые не являются межбюджетными трансфертами, на  КОСГУ 151, например, возврат субсидий бюджетными учреждениями, возврат средств от иных организаций, физ.лиц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4"/>
          <p:cNvSpPr/>
          <p:nvPr/>
        </p:nvSpPr>
        <p:spPr>
          <a:xfrm>
            <a:off x="4738680" y="4097160"/>
            <a:ext cx="3838680" cy="700200"/>
          </a:xfrm>
          <a:prstGeom prst="rect">
            <a:avLst/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уществление расходов, которые не являются межбюджетными трансфертами,  по КОСГУ 25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6"/>
          <p:cNvSpPr/>
          <p:nvPr/>
        </p:nvSpPr>
        <p:spPr>
          <a:xfrm>
            <a:off x="4746600" y="5022720"/>
            <a:ext cx="3838680" cy="700200"/>
          </a:xfrm>
          <a:prstGeom prst="rect">
            <a:avLst/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уществление межбюджетных трансфертов не по КОСГУ 151 (251) а по иным  КОСГУ, например 310,290, 262, 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8712-C89B-4398-977D-7B0FA6C54F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57596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ояснительная записка ф. 0503360 за 2014 год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801720" y="1125360"/>
            <a:ext cx="7416720" cy="559152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8"/>
          <p:cNvSpPr/>
          <p:nvPr/>
        </p:nvSpPr>
        <p:spPr>
          <a:xfrm>
            <a:off x="5508720" y="1628640"/>
            <a:ext cx="1366920" cy="505080"/>
          </a:xfrm>
          <a:prstGeom prst="ellipse">
            <a:avLst/>
          </a:prstGeom>
          <a:noFill/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3"/>
          <p:cNvSpPr/>
          <p:nvPr/>
        </p:nvSpPr>
        <p:spPr>
          <a:xfrm>
            <a:off x="4471920" y="5265720"/>
            <a:ext cx="1368360" cy="503280"/>
          </a:xfrm>
          <a:prstGeom prst="ellipse">
            <a:avLst/>
          </a:prstGeom>
          <a:noFill/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4"/>
          <p:cNvSpPr/>
          <p:nvPr/>
        </p:nvSpPr>
        <p:spPr>
          <a:xfrm>
            <a:off x="1476360" y="6021360"/>
            <a:ext cx="1366920" cy="503280"/>
          </a:xfrm>
          <a:prstGeom prst="ellipse">
            <a:avLst/>
          </a:prstGeom>
          <a:noFill/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6"/>
          <p:cNvSpPr/>
          <p:nvPr/>
        </p:nvSpPr>
        <p:spPr>
          <a:xfrm>
            <a:off x="1547640" y="4437000"/>
            <a:ext cx="1729080" cy="504720"/>
          </a:xfrm>
          <a:prstGeom prst="ellipse">
            <a:avLst/>
          </a:prstGeom>
          <a:noFill/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7"/>
          <p:cNvSpPr/>
          <p:nvPr/>
        </p:nvSpPr>
        <p:spPr>
          <a:xfrm>
            <a:off x="4813200" y="3141720"/>
            <a:ext cx="1368360" cy="503280"/>
          </a:xfrm>
          <a:prstGeom prst="ellipse">
            <a:avLst/>
          </a:prstGeom>
          <a:noFill/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742E-2D29-40A2-9B7C-7B5B876EA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57596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ояснительная записка ф. 0503360 на 01.08.2015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95280" y="1209600"/>
            <a:ext cx="6108840" cy="1728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68360" y="2938320"/>
            <a:ext cx="6891120" cy="32623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4"/>
          <p:cNvSpPr/>
          <p:nvPr/>
        </p:nvSpPr>
        <p:spPr>
          <a:xfrm>
            <a:off x="1187280" y="2075040"/>
            <a:ext cx="1368720" cy="502920"/>
          </a:xfrm>
          <a:prstGeom prst="ellipse">
            <a:avLst/>
          </a:prstGeom>
          <a:noFill/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Выноска-облако 6"/>
          <p:cNvSpPr/>
          <p:nvPr/>
        </p:nvSpPr>
        <p:spPr>
          <a:xfrm>
            <a:off x="6227640" y="765000"/>
            <a:ext cx="2714760" cy="1236960"/>
          </a:xfrm>
          <a:prstGeom prst="cloudCallout">
            <a:avLst>
              <a:gd name="adj1" fmla="val -46407"/>
              <a:gd name="adj2" fmla="val 45398"/>
            </a:avLst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чему расходится сумма с прошлым годо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B362-0FBE-44D6-9BE8-4FDB15163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ояснительная записка ф. 0503360 на 01.08.2015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108000" y="1220760"/>
            <a:ext cx="6551640" cy="4406760"/>
          </a:xfrm>
          <a:prstGeom prst="rect">
            <a:avLst/>
          </a:prstGeom>
          <a:ln w="0">
            <a:noFill/>
          </a:ln>
        </p:spPr>
      </p:pic>
      <p:sp>
        <p:nvSpPr>
          <p:cNvPr id="273" name="Выноска-облако 5"/>
          <p:cNvSpPr/>
          <p:nvPr/>
        </p:nvSpPr>
        <p:spPr>
          <a:xfrm>
            <a:off x="6443640" y="765000"/>
            <a:ext cx="260496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чему опять перечисления осуществляются 31.07 и зачисляются на НВ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3398-F2BB-45DA-825C-F5A67F8ABA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ояснительная записка ф. 0503360 на 01.08.2015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026120" cy="3454200"/>
          </a:xfrm>
          <a:prstGeom prst="rect">
            <a:avLst/>
          </a:prstGeom>
          <a:ln w="0">
            <a:noFill/>
          </a:ln>
        </p:spPr>
      </p:pic>
      <p:sp>
        <p:nvSpPr>
          <p:cNvPr id="277" name="Выноска-облако 6"/>
          <p:cNvSpPr/>
          <p:nvPr/>
        </p:nvSpPr>
        <p:spPr>
          <a:xfrm>
            <a:off x="6732720" y="765000"/>
            <a:ext cx="231588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тчетности  2015 года все продолж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D5A9-65A3-446B-B13F-F147641A65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ояснительная записка ф. 0503360 на 01.08.2015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6DDB-90FE-40C2-BA40-AC76710496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395280" y="1138320"/>
            <a:ext cx="76755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08000" y="549360"/>
          <a:ext cx="9036000" cy="6091200"/>
        </p:xfrm>
        <a:graphic>
          <a:graphicData uri="http://schemas.openxmlformats.org/drawingml/2006/table">
            <a:tbl>
              <a:tblPr/>
              <a:tblGrid>
                <a:gridCol w="1852560"/>
                <a:gridCol w="763560"/>
                <a:gridCol w="392040"/>
                <a:gridCol w="459000"/>
                <a:gridCol w="419040"/>
                <a:gridCol w="1254240"/>
                <a:gridCol w="753840"/>
                <a:gridCol w="754200"/>
                <a:gridCol w="601560"/>
                <a:gridCol w="582480"/>
                <a:gridCol w="535320"/>
                <a:gridCol w="668160"/>
              </a:tblGrid>
              <a:tr h="211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по ОКУД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31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та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.02.20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финансового органа; органа, осуществляющ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овое обслуживание; органа казначейства;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ПО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распорядителя, распорядителя, получателя бюджетных средств,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доходов бюджета,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521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источников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нансирования дефицита бюдж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партамент финансов г. Моск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а по БК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бюджета (публично-правового образования )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города Москв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вида деятельнос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деятель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чета бюджетного уч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5516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иодичность: месячная, квартальн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диница измерения:  руб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ЕИ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60">
                <a:tc gridSpan="5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мм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коррес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 по консолидируемым расчета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"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мер сч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ющ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лемен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бет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редит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КТМ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стерство финансов Российской Феде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683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202039980200001205516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1002 1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521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номеру (коду) счета: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**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0551 6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расчеты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202039980200001205516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1002 1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4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4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енежные расчеты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Rectangle 2"/>
          <p:cNvSpPr/>
          <p:nvPr/>
        </p:nvSpPr>
        <p:spPr>
          <a:xfrm>
            <a:off x="2340000" y="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4360" y="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правка по консолидированным расчетам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(ф. 050312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Умножение 2"/>
          <p:cNvSpPr/>
          <p:nvPr/>
        </p:nvSpPr>
        <p:spPr>
          <a:xfrm>
            <a:off x="2050920" y="4797360"/>
            <a:ext cx="720720" cy="1511280"/>
          </a:xfrm>
          <a:custGeom>
            <a:avLst/>
            <a:gdLst/>
            <a:ahLst/>
            <a:rect l="l" t="t" r="r" b="b"/>
            <a:pathLst>
              <a:path w="720725" h="1511300">
                <a:moveTo>
                  <a:pt x="96597" y="399460"/>
                </a:moveTo>
                <a:lnTo>
                  <a:pt x="249603" y="326493"/>
                </a:lnTo>
                <a:lnTo>
                  <a:pt x="360363" y="558746"/>
                </a:lnTo>
                <a:lnTo>
                  <a:pt x="471122" y="326493"/>
                </a:lnTo>
                <a:lnTo>
                  <a:pt x="624128" y="399460"/>
                </a:lnTo>
                <a:lnTo>
                  <a:pt x="454264" y="755650"/>
                </a:lnTo>
                <a:lnTo>
                  <a:pt x="624128" y="1111840"/>
                </a:lnTo>
                <a:lnTo>
                  <a:pt x="471122" y="1184807"/>
                </a:lnTo>
                <a:lnTo>
                  <a:pt x="360363" y="952554"/>
                </a:lnTo>
                <a:lnTo>
                  <a:pt x="249603" y="1184807"/>
                </a:lnTo>
                <a:lnTo>
                  <a:pt x="96597" y="1111840"/>
                </a:lnTo>
                <a:lnTo>
                  <a:pt x="266461" y="755650"/>
                </a:lnTo>
                <a:lnTo>
                  <a:pt x="96597" y="39946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1a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Умножение 5"/>
          <p:cNvSpPr/>
          <p:nvPr/>
        </p:nvSpPr>
        <p:spPr>
          <a:xfrm>
            <a:off x="7236000" y="4748040"/>
            <a:ext cx="1296720" cy="1609920"/>
          </a:xfrm>
          <a:custGeom>
            <a:avLst/>
            <a:gdLst/>
            <a:ahLst/>
            <a:rect l="l" t="t" r="r" b="b"/>
            <a:pathLst>
              <a:path w="1296988" h="1609725">
                <a:moveTo>
                  <a:pt x="192734" y="482311"/>
                </a:moveTo>
                <a:lnTo>
                  <a:pt x="430275" y="290920"/>
                </a:lnTo>
                <a:lnTo>
                  <a:pt x="648494" y="561758"/>
                </a:lnTo>
                <a:lnTo>
                  <a:pt x="866713" y="290920"/>
                </a:lnTo>
                <a:lnTo>
                  <a:pt x="1104254" y="482311"/>
                </a:lnTo>
                <a:lnTo>
                  <a:pt x="844369" y="804863"/>
                </a:lnTo>
                <a:lnTo>
                  <a:pt x="1104254" y="1127414"/>
                </a:lnTo>
                <a:lnTo>
                  <a:pt x="866713" y="1318805"/>
                </a:lnTo>
                <a:lnTo>
                  <a:pt x="648494" y="1047967"/>
                </a:lnTo>
                <a:lnTo>
                  <a:pt x="430275" y="1318805"/>
                </a:lnTo>
                <a:lnTo>
                  <a:pt x="192734" y="1127414"/>
                </a:lnTo>
                <a:lnTo>
                  <a:pt x="452619" y="804863"/>
                </a:lnTo>
                <a:lnTo>
                  <a:pt x="192734" y="4823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1a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3"/>
          <p:cNvSpPr/>
          <p:nvPr/>
        </p:nvSpPr>
        <p:spPr>
          <a:xfrm>
            <a:off x="2700360" y="1989000"/>
            <a:ext cx="2158920" cy="57636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Прямая со стрелкой 6"/>
          <p:cNvCxnSpPr/>
          <p:nvPr/>
        </p:nvCxnSpPr>
        <p:spPr>
          <a:xfrm>
            <a:off x="4427280" y="2491920"/>
            <a:ext cx="2942280" cy="192492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89" name="Овал 9"/>
          <p:cNvSpPr/>
          <p:nvPr/>
        </p:nvSpPr>
        <p:spPr>
          <a:xfrm>
            <a:off x="0" y="4321080"/>
            <a:ext cx="1619280" cy="57492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8"/>
          <p:cNvCxnSpPr>
            <a:endCxn id="291" idx="2"/>
          </p:cNvCxnSpPr>
          <p:nvPr/>
        </p:nvCxnSpPr>
        <p:spPr>
          <a:xfrm flipV="1">
            <a:off x="1476000" y="4644720"/>
            <a:ext cx="432360" cy="864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92" name="Овал 12"/>
          <p:cNvSpPr/>
          <p:nvPr/>
        </p:nvSpPr>
        <p:spPr>
          <a:xfrm>
            <a:off x="7236000" y="4321080"/>
            <a:ext cx="1908000" cy="57492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1908000" y="4276800"/>
            <a:ext cx="2033640" cy="73656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14"/>
          <p:cNvSpPr/>
          <p:nvPr/>
        </p:nvSpPr>
        <p:spPr>
          <a:xfrm>
            <a:off x="8317080" y="1773360"/>
            <a:ext cx="954000" cy="79200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Прямая со стрелкой 15"/>
          <p:cNvCxnSpPr>
            <a:stCxn id="293" idx="4"/>
          </p:cNvCxnSpPr>
          <p:nvPr/>
        </p:nvCxnSpPr>
        <p:spPr>
          <a:xfrm flipH="1">
            <a:off x="8526240" y="2565000"/>
            <a:ext cx="267120" cy="190116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8AC7-6F9C-4011-9D9A-CAA56BA10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971640" y="115920"/>
            <a:ext cx="72723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Arial"/>
              </a:rPr>
              <a:t>Справка по консолидированным расчетам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Arial"/>
              </a:rPr>
              <a:t>(ф. 05031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692280"/>
          <a:ext cx="9144000" cy="5703840"/>
        </p:xfrm>
        <a:graphic>
          <a:graphicData uri="http://schemas.openxmlformats.org/drawingml/2006/table">
            <a:tbl>
              <a:tblPr/>
              <a:tblGrid>
                <a:gridCol w="1717560"/>
                <a:gridCol w="779400"/>
                <a:gridCol w="398520"/>
                <a:gridCol w="574920"/>
                <a:gridCol w="430200"/>
                <a:gridCol w="1336680"/>
                <a:gridCol w="769680"/>
                <a:gridCol w="770040"/>
                <a:gridCol w="612720"/>
                <a:gridCol w="527040"/>
                <a:gridCol w="544680"/>
                <a:gridCol w="682560"/>
              </a:tblGrid>
              <a:tr h="488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по ОКУД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31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</a:rPr>
                        <a:t>на  1 февраля  2015 г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та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.02.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финансового органа; органа, осуществляющег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овое обслуживание; органа казначейства;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ПО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 gridSpan="4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распорядителя, распорядителя, получателя бюджетных средств,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доходов бюджета,      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683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источников  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нансирования дефицита бюдж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стерство финансов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а по БК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бюджета (публично-правового образования )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вида деятельности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деятельност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чета бюджетного у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651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иодичность: месячная, квартальна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диница измерения:  руб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ЕИ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 gridSpan="5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мм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коррес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 по консолидируемым расчета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00"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мер с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ющ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лемен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бет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редит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КТМ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партамент финансов г. Моск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521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 01133315900000 1 20651 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0405 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683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номеру (коду) счета: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0651 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расчеты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 01133315900000 1 20651 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0405 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енежные расчеты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Умножение 4"/>
          <p:cNvSpPr/>
          <p:nvPr/>
        </p:nvSpPr>
        <p:spPr>
          <a:xfrm>
            <a:off x="1835280" y="4941720"/>
            <a:ext cx="720720" cy="1511640"/>
          </a:xfrm>
          <a:custGeom>
            <a:avLst/>
            <a:gdLst/>
            <a:ahLst/>
            <a:rect l="l" t="t" r="r" b="b"/>
            <a:pathLst>
              <a:path w="720725" h="1511300">
                <a:moveTo>
                  <a:pt x="96597" y="399460"/>
                </a:moveTo>
                <a:lnTo>
                  <a:pt x="249603" y="326493"/>
                </a:lnTo>
                <a:lnTo>
                  <a:pt x="360363" y="558746"/>
                </a:lnTo>
                <a:lnTo>
                  <a:pt x="471122" y="326493"/>
                </a:lnTo>
                <a:lnTo>
                  <a:pt x="624128" y="399460"/>
                </a:lnTo>
                <a:lnTo>
                  <a:pt x="454264" y="755650"/>
                </a:lnTo>
                <a:lnTo>
                  <a:pt x="624128" y="1111840"/>
                </a:lnTo>
                <a:lnTo>
                  <a:pt x="471122" y="1184807"/>
                </a:lnTo>
                <a:lnTo>
                  <a:pt x="360363" y="952554"/>
                </a:lnTo>
                <a:lnTo>
                  <a:pt x="249603" y="1184807"/>
                </a:lnTo>
                <a:lnTo>
                  <a:pt x="96597" y="1111840"/>
                </a:lnTo>
                <a:lnTo>
                  <a:pt x="266461" y="755650"/>
                </a:lnTo>
                <a:lnTo>
                  <a:pt x="96597" y="39946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1a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Умножение 5"/>
          <p:cNvSpPr/>
          <p:nvPr/>
        </p:nvSpPr>
        <p:spPr>
          <a:xfrm>
            <a:off x="7667640" y="4941720"/>
            <a:ext cx="1297080" cy="1609920"/>
          </a:xfrm>
          <a:custGeom>
            <a:avLst/>
            <a:gdLst/>
            <a:ahLst/>
            <a:rect l="l" t="t" r="r" b="b"/>
            <a:pathLst>
              <a:path w="1296988" h="1609725">
                <a:moveTo>
                  <a:pt x="192734" y="482311"/>
                </a:moveTo>
                <a:lnTo>
                  <a:pt x="430275" y="290920"/>
                </a:lnTo>
                <a:lnTo>
                  <a:pt x="648494" y="561758"/>
                </a:lnTo>
                <a:lnTo>
                  <a:pt x="866713" y="290920"/>
                </a:lnTo>
                <a:lnTo>
                  <a:pt x="1104254" y="482311"/>
                </a:lnTo>
                <a:lnTo>
                  <a:pt x="844369" y="804863"/>
                </a:lnTo>
                <a:lnTo>
                  <a:pt x="1104254" y="1127414"/>
                </a:lnTo>
                <a:lnTo>
                  <a:pt x="866713" y="1318805"/>
                </a:lnTo>
                <a:lnTo>
                  <a:pt x="648494" y="1047967"/>
                </a:lnTo>
                <a:lnTo>
                  <a:pt x="430275" y="1318805"/>
                </a:lnTo>
                <a:lnTo>
                  <a:pt x="192734" y="1127414"/>
                </a:lnTo>
                <a:lnTo>
                  <a:pt x="452619" y="804863"/>
                </a:lnTo>
                <a:lnTo>
                  <a:pt x="192734" y="4823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1a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14"/>
          <p:cNvSpPr/>
          <p:nvPr/>
        </p:nvSpPr>
        <p:spPr>
          <a:xfrm>
            <a:off x="2484360" y="2276640"/>
            <a:ext cx="3167280" cy="57600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Прямая со стрелкой 15"/>
          <p:cNvCxnSpPr/>
          <p:nvPr/>
        </p:nvCxnSpPr>
        <p:spPr>
          <a:xfrm>
            <a:off x="4500720" y="2852280"/>
            <a:ext cx="2869200" cy="149292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302" name="Овал 16"/>
          <p:cNvSpPr/>
          <p:nvPr/>
        </p:nvSpPr>
        <p:spPr>
          <a:xfrm>
            <a:off x="0" y="4249800"/>
            <a:ext cx="1619280" cy="57456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Прямая со стрелкой 17"/>
          <p:cNvCxnSpPr>
            <a:endCxn id="304" idx="2"/>
          </p:cNvCxnSpPr>
          <p:nvPr/>
        </p:nvCxnSpPr>
        <p:spPr>
          <a:xfrm flipV="1">
            <a:off x="1476000" y="4573080"/>
            <a:ext cx="359640" cy="864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305" name="Овал 18"/>
          <p:cNvSpPr/>
          <p:nvPr/>
        </p:nvSpPr>
        <p:spPr>
          <a:xfrm>
            <a:off x="7236000" y="4249800"/>
            <a:ext cx="1908000" cy="57456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9"/>
          <p:cNvSpPr/>
          <p:nvPr/>
        </p:nvSpPr>
        <p:spPr>
          <a:xfrm>
            <a:off x="1835280" y="4205160"/>
            <a:ext cx="2106360" cy="73656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20"/>
          <p:cNvSpPr/>
          <p:nvPr/>
        </p:nvSpPr>
        <p:spPr>
          <a:xfrm>
            <a:off x="8190000" y="1989000"/>
            <a:ext cx="954000" cy="79236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Прямая со стрелкой 21"/>
          <p:cNvCxnSpPr/>
          <p:nvPr/>
        </p:nvCxnSpPr>
        <p:spPr>
          <a:xfrm flipH="1">
            <a:off x="8604000" y="2707920"/>
            <a:ext cx="124560" cy="158508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30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2F6F-D223-4903-AD87-3E0515D17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411280" y="4221000"/>
            <a:ext cx="4321440" cy="64800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26836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Изменение валюты 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50920" y="1268280"/>
            <a:ext cx="2881080" cy="144000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ходящие остатки  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Равно 4"/>
          <p:cNvSpPr/>
          <p:nvPr/>
        </p:nvSpPr>
        <p:spPr>
          <a:xfrm>
            <a:off x="3276720" y="1700280"/>
            <a:ext cx="2303280" cy="649080"/>
          </a:xfrm>
          <a:custGeom>
            <a:avLst/>
            <a:gdLst/>
            <a:ahLst/>
            <a:rect l="l" t="t" r="r" b="b"/>
            <a:pathLst>
              <a:path w="2303463" h="649287">
                <a:moveTo>
                  <a:pt x="305324" y="133753"/>
                </a:moveTo>
                <a:lnTo>
                  <a:pt x="1998139" y="133753"/>
                </a:lnTo>
                <a:lnTo>
                  <a:pt x="1998139" y="286465"/>
                </a:lnTo>
                <a:lnTo>
                  <a:pt x="305324" y="286465"/>
                </a:lnTo>
                <a:lnTo>
                  <a:pt x="305324" y="133753"/>
                </a:lnTo>
                <a:close/>
                <a:moveTo>
                  <a:pt x="305324" y="362822"/>
                </a:moveTo>
                <a:lnTo>
                  <a:pt x="1998139" y="362822"/>
                </a:lnTo>
                <a:lnTo>
                  <a:pt x="1998139" y="515534"/>
                </a:lnTo>
                <a:lnTo>
                  <a:pt x="305324" y="515534"/>
                </a:lnTo>
                <a:lnTo>
                  <a:pt x="305324" y="362822"/>
                </a:lnTo>
                <a:close/>
              </a:path>
            </a:pathLst>
          </a:custGeom>
          <a:solidFill>
            <a:srgbClr val="c3ddff"/>
          </a:solidFill>
          <a:ln w="25560">
            <a:solidFill>
              <a:srgbClr val="0034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6012000" y="1268280"/>
            <a:ext cx="2881080" cy="144000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ходящие остатки  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"/>
          <p:cNvSpPr/>
          <p:nvPr/>
        </p:nvSpPr>
        <p:spPr>
          <a:xfrm rot="5400000">
            <a:off x="3600360" y="2528640"/>
            <a:ext cx="1655640" cy="1440000"/>
          </a:xfrm>
          <a:prstGeom prst="pie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2411280" y="5805360"/>
            <a:ext cx="4321440" cy="64800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ие Сведений ф. 0503173, 0503373, 05037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9"/>
          <p:cNvSpPr/>
          <p:nvPr/>
        </p:nvSpPr>
        <p:spPr>
          <a:xfrm rot="5400000">
            <a:off x="4032360" y="4761000"/>
            <a:ext cx="792000" cy="1008000"/>
          </a:xfrm>
          <a:custGeom>
            <a:avLst/>
            <a:gdLst/>
            <a:ahLst/>
            <a:rect l="l" t="t" r="r" b="b"/>
            <a:pathLst>
              <a:path w="792162" h="1008063">
                <a:moveTo>
                  <a:pt x="0" y="252016"/>
                </a:moveTo>
                <a:lnTo>
                  <a:pt x="24755" y="252016"/>
                </a:lnTo>
                <a:lnTo>
                  <a:pt x="24755" y="756047"/>
                </a:lnTo>
                <a:lnTo>
                  <a:pt x="0" y="756047"/>
                </a:lnTo>
                <a:lnTo>
                  <a:pt x="0" y="252016"/>
                </a:lnTo>
                <a:close/>
                <a:moveTo>
                  <a:pt x="49510" y="252016"/>
                </a:moveTo>
                <a:lnTo>
                  <a:pt x="99020" y="252016"/>
                </a:lnTo>
                <a:lnTo>
                  <a:pt x="99020" y="756047"/>
                </a:lnTo>
                <a:lnTo>
                  <a:pt x="49510" y="756047"/>
                </a:lnTo>
                <a:lnTo>
                  <a:pt x="49510" y="252016"/>
                </a:lnTo>
                <a:close/>
                <a:moveTo>
                  <a:pt x="123775" y="252016"/>
                </a:moveTo>
                <a:lnTo>
                  <a:pt x="396081" y="252016"/>
                </a:lnTo>
                <a:lnTo>
                  <a:pt x="396081" y="0"/>
                </a:lnTo>
                <a:lnTo>
                  <a:pt x="792162" y="504032"/>
                </a:lnTo>
                <a:lnTo>
                  <a:pt x="396081" y="1008063"/>
                </a:lnTo>
                <a:lnTo>
                  <a:pt x="396081" y="756047"/>
                </a:lnTo>
                <a:lnTo>
                  <a:pt x="123775" y="756047"/>
                </a:lnTo>
                <a:lnTo>
                  <a:pt x="123775" y="252016"/>
                </a:lnTo>
                <a:close/>
              </a:path>
            </a:pathLst>
          </a:custGeom>
          <a:solidFill>
            <a:srgbClr val="c3ddff"/>
          </a:solidFill>
          <a:ln w="25560">
            <a:solidFill>
              <a:srgbClr val="0034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C39-9E6C-4811-A184-4B087E3D3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39640" y="1293840"/>
            <a:ext cx="8166240" cy="501480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47"/>
          <p:cNvSpPr/>
          <p:nvPr/>
        </p:nvSpPr>
        <p:spPr>
          <a:xfrm>
            <a:off x="3686040" y="2475000"/>
            <a:ext cx="2772000" cy="763560"/>
          </a:xfrm>
          <a:prstGeom prst="wedgeRoundRectCallout">
            <a:avLst>
              <a:gd name="adj1" fmla="val 33449"/>
              <a:gd name="adj2" fmla="val 154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4,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1,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7"/>
          <p:cNvSpPr/>
          <p:nvPr/>
        </p:nvSpPr>
        <p:spPr>
          <a:xfrm>
            <a:off x="6732720" y="2610000"/>
            <a:ext cx="2087280" cy="798480"/>
          </a:xfrm>
          <a:prstGeom prst="wedgeRoundRectCallout">
            <a:avLst>
              <a:gd name="adj1" fmla="val -3689"/>
              <a:gd name="adj2" fmla="val 1283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,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  <a:ea typeface="Arial"/>
              </a:rPr>
              <a:t>Отчет ф. 0503317 в 2015 году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alibri"/>
                <a:ea typeface="Arial"/>
              </a:rPr>
              <a:t>(до 01.10.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06D3-21B8-475E-9076-33952A42E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108000" y="1298520"/>
            <a:ext cx="8165880" cy="379116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47"/>
          <p:cNvSpPr/>
          <p:nvPr/>
        </p:nvSpPr>
        <p:spPr>
          <a:xfrm>
            <a:off x="4140360" y="2475000"/>
            <a:ext cx="2317680" cy="714240"/>
          </a:xfrm>
          <a:prstGeom prst="wedgeRoundRectCallout">
            <a:avLst>
              <a:gd name="adj1" fmla="val 20300"/>
              <a:gd name="adj2" fmla="val 75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4,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1,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7"/>
          <p:cNvSpPr/>
          <p:nvPr/>
        </p:nvSpPr>
        <p:spPr>
          <a:xfrm>
            <a:off x="6611760" y="2475000"/>
            <a:ext cx="2087640" cy="714240"/>
          </a:xfrm>
          <a:prstGeom prst="wedgeRoundRectCallout">
            <a:avLst>
              <a:gd name="adj1" fmla="val -22347"/>
              <a:gd name="adj2" fmla="val 85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,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  <a:ea typeface="Arial"/>
              </a:rPr>
              <a:t>Отчет ф. 0503317 в 2015 году начиная с 01.10.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7"/>
          <p:cNvSpPr/>
          <p:nvPr/>
        </p:nvSpPr>
        <p:spPr>
          <a:xfrm>
            <a:off x="3419640" y="5300640"/>
            <a:ext cx="2597040" cy="1081080"/>
          </a:xfrm>
          <a:prstGeom prst="wedgeRoundRectCallout">
            <a:avLst>
              <a:gd name="adj1" fmla="val 28425"/>
              <a:gd name="adj2" fmla="val -72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503117 СВ по 04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503117 СВ по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1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0503117 СВ по 12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7"/>
          <p:cNvSpPr/>
          <p:nvPr/>
        </p:nvSpPr>
        <p:spPr>
          <a:xfrm>
            <a:off x="6026040" y="5589720"/>
            <a:ext cx="2506680" cy="792000"/>
          </a:xfrm>
          <a:prstGeom prst="wedgeRoundRectCallout">
            <a:avLst>
              <a:gd name="adj1" fmla="val 1032"/>
              <a:gd name="adj2" fmla="val -1153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 0503117 СВ по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0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0503117 СВ по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Выноска-облако 1"/>
          <p:cNvSpPr/>
          <p:nvPr/>
        </p:nvSpPr>
        <p:spPr>
          <a:xfrm>
            <a:off x="250920" y="5373720"/>
            <a:ext cx="2233440" cy="944640"/>
          </a:xfrm>
          <a:prstGeom prst="cloudCallout">
            <a:avLst>
              <a:gd name="adj1" fmla="val 71712"/>
              <a:gd name="adj2" fmla="val 9611"/>
            </a:avLst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ка только Челяби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Выноска-облако 8"/>
          <p:cNvSpPr/>
          <p:nvPr/>
        </p:nvSpPr>
        <p:spPr>
          <a:xfrm>
            <a:off x="8207280" y="3860640"/>
            <a:ext cx="936720" cy="1513080"/>
          </a:xfrm>
          <a:prstGeom prst="cloudCallout">
            <a:avLst>
              <a:gd name="adj1" fmla="val -11671"/>
              <a:gd name="adj2" fmla="val 56351"/>
            </a:avLst>
          </a:prstGeom>
          <a:solidFill>
            <a:srgbClr val="defbf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 субъ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2796-ECD6-466E-848D-845B1883F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1979640" y="1268280"/>
            <a:ext cx="51372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  <a:ea typeface="Arial"/>
              </a:rPr>
              <a:t>Отчет ф. 0503317 в 2016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684360" y="3500280"/>
            <a:ext cx="3600360" cy="158436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Arial"/>
              </a:rPr>
              <a:t>расширение количества граф с учетом новых видов местных бюджетов (с 23 до 30 гра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0"/>
          <p:cNvSpPr/>
          <p:nvPr/>
        </p:nvSpPr>
        <p:spPr>
          <a:xfrm>
            <a:off x="4788000" y="3500280"/>
            <a:ext cx="3600360" cy="158436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Arial"/>
              </a:rPr>
              <a:t>добавление в действующую форму нового раздела с отдельным представлением показателей по новым видам местных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853B-B8C5-4FFC-8646-47ECC3C92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539640" y="1989000"/>
            <a:ext cx="7920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112D-ECE9-4A85-B7AC-CC347E580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6360" y="1204920"/>
            <a:ext cx="9012240" cy="4952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ая выноска 13"/>
          <p:cNvSpPr/>
          <p:nvPr/>
        </p:nvSpPr>
        <p:spPr>
          <a:xfrm>
            <a:off x="6164280" y="1565280"/>
            <a:ext cx="2808360" cy="295200"/>
          </a:xfrm>
          <a:prstGeom prst="wedgeRectCallout">
            <a:avLst>
              <a:gd name="adj1" fmla="val -20833"/>
              <a:gd name="adj2" fmla="val 139726"/>
            </a:avLst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ответствие с ф. 05037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ая выноска 15"/>
          <p:cNvSpPr/>
          <p:nvPr/>
        </p:nvSpPr>
        <p:spPr>
          <a:xfrm>
            <a:off x="355680" y="2708280"/>
            <a:ext cx="2921040" cy="441360"/>
          </a:xfrm>
          <a:prstGeom prst="wedgeRectCallout">
            <a:avLst>
              <a:gd name="adj1" fmla="val 55138"/>
              <a:gd name="adj2" fmla="val 19597"/>
            </a:avLst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исание причин в Пояснительной запис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ая выноска 16"/>
          <p:cNvSpPr/>
          <p:nvPr/>
        </p:nvSpPr>
        <p:spPr>
          <a:xfrm>
            <a:off x="334800" y="3749760"/>
            <a:ext cx="2808360" cy="295200"/>
          </a:xfrm>
          <a:prstGeom prst="wedgeRectCallout">
            <a:avLst>
              <a:gd name="adj1" fmla="val 55138"/>
              <a:gd name="adj2" fmla="val 19597"/>
            </a:avLst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ответствие с ф. 050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ая выноска 17"/>
          <p:cNvSpPr/>
          <p:nvPr/>
        </p:nvSpPr>
        <p:spPr>
          <a:xfrm>
            <a:off x="355680" y="4649760"/>
            <a:ext cx="2808360" cy="295200"/>
          </a:xfrm>
          <a:prstGeom prst="wedgeRectCallout">
            <a:avLst>
              <a:gd name="adj1" fmla="val 55138"/>
              <a:gd name="adj2" fmla="val 19597"/>
            </a:avLst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ответствие с ф. 05031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ая выноска 18"/>
          <p:cNvSpPr/>
          <p:nvPr/>
        </p:nvSpPr>
        <p:spPr>
          <a:xfrm>
            <a:off x="6084720" y="6308640"/>
            <a:ext cx="2808360" cy="441360"/>
          </a:xfrm>
          <a:prstGeom prst="wedgeRectCallout">
            <a:avLst>
              <a:gd name="adj1" fmla="val 19865"/>
              <a:gd name="adj2" fmla="val -84310"/>
            </a:avLst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допустимые прич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21"/>
          <p:cNvSpPr/>
          <p:nvPr/>
        </p:nvSpPr>
        <p:spPr>
          <a:xfrm>
            <a:off x="3452760" y="2133720"/>
            <a:ext cx="2160720" cy="21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5"/>
          <p:cNvSpPr/>
          <p:nvPr/>
        </p:nvSpPr>
        <p:spPr>
          <a:xfrm>
            <a:off x="3462480" y="2916360"/>
            <a:ext cx="2160360" cy="21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6"/>
          <p:cNvSpPr/>
          <p:nvPr/>
        </p:nvSpPr>
        <p:spPr>
          <a:xfrm>
            <a:off x="3470400" y="4035600"/>
            <a:ext cx="2160360" cy="21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27"/>
          <p:cNvSpPr/>
          <p:nvPr/>
        </p:nvSpPr>
        <p:spPr>
          <a:xfrm>
            <a:off x="3452760" y="4781520"/>
            <a:ext cx="21607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1476360" y="115920"/>
            <a:ext cx="655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полнение раздела 2 Сведений ф. 05033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2"/>
          <p:cNvSpPr/>
          <p:nvPr/>
        </p:nvSpPr>
        <p:spPr>
          <a:xfrm>
            <a:off x="4859280" y="1403280"/>
            <a:ext cx="865080" cy="15264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 ОКТМ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537A-057F-4A01-B5ED-A18B64E044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1268280"/>
          <a:ext cx="8642160" cy="4273560"/>
        </p:xfrm>
        <a:graphic>
          <a:graphicData uri="http://schemas.openxmlformats.org/drawingml/2006/table">
            <a:tbl>
              <a:tblPr/>
              <a:tblGrid>
                <a:gridCol w="1257120"/>
                <a:gridCol w="1040040"/>
                <a:gridCol w="1149120"/>
                <a:gridCol w="1067040"/>
                <a:gridCol w="1490400"/>
                <a:gridCol w="1489320"/>
                <a:gridCol w="1149120"/>
              </a:tblGrid>
              <a:tr h="42732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 БУ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. 0503373 р.2 гр. 1) ФО, отчитывающейся з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П - контрагента передающего и принимающ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ф.0503373 (р.2, гр.2) ФО, сдающего отч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нные взаимосвязанных форм отчетности контраг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лонение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 = 3 - 4 - 5 - 6) требуется поя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0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 0503173 (р.2,гр.2) главы контрагента -ГРБС ФБ с противоположным зна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 0503373 (р.2,гр.2)  контрагента - финансового органа с противоположным зна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 0503773 (сумма по видам деятельности - с целевыми средствами и по оказанию работ (услуг)) (р.2,гр.2) ФО  с противоположным зна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 /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 867 977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 867 977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7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 /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 187 579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 187 579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 /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45 68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45 68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 /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5 97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5 97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 /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94 295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94 295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83" name="Заголовок 1"/>
          <p:cNvSpPr/>
          <p:nvPr/>
        </p:nvSpPr>
        <p:spPr>
          <a:xfrm>
            <a:off x="1476360" y="115920"/>
            <a:ext cx="655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Сверка данных по изменению валюты 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556000" y="1197000"/>
            <a:ext cx="1152360" cy="1295280"/>
          </a:xfrm>
          <a:prstGeom prst="rect">
            <a:avLst/>
          </a:prstGeom>
          <a:noFill/>
          <a:ln w="2556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3780000" y="1700280"/>
            <a:ext cx="3887640" cy="433440"/>
          </a:xfrm>
          <a:prstGeom prst="rect">
            <a:avLst/>
          </a:prstGeom>
          <a:noFill/>
          <a:ln w="2556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C6BE-5FD5-4867-B26B-4A1092E25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403280" y="333360"/>
            <a:ext cx="6411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ответствие показателей по операциям с обязательствами в формах отче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443640" y="4221000"/>
            <a:ext cx="5796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7"/>
          <p:cNvSpPr/>
          <p:nvPr/>
        </p:nvSpPr>
        <p:spPr>
          <a:xfrm>
            <a:off x="284040" y="3936960"/>
            <a:ext cx="8642520" cy="1943280"/>
          </a:xfrm>
          <a:prstGeom prst="ellipse">
            <a:avLst/>
          </a:prstGeom>
          <a:noFill/>
          <a:ln w="22320">
            <a:solidFill>
              <a:srgbClr val="bc266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26"/>
          <p:cNvGrpSpPr/>
          <p:nvPr/>
        </p:nvGrpSpPr>
        <p:grpSpPr>
          <a:xfrm>
            <a:off x="395280" y="1773360"/>
            <a:ext cx="8258040" cy="3689280"/>
            <a:chOff x="395280" y="1773360"/>
            <a:chExt cx="8258040" cy="3689280"/>
          </a:xfrm>
        </p:grpSpPr>
        <p:sp>
          <p:nvSpPr>
            <p:cNvPr id="91" name="Скругленный прямоугольник 11"/>
            <p:cNvSpPr/>
            <p:nvPr/>
          </p:nvSpPr>
          <p:spPr>
            <a:xfrm>
              <a:off x="448920" y="4383360"/>
              <a:ext cx="1908000" cy="1079280"/>
            </a:xfrm>
            <a:prstGeom prst="roundRect">
              <a:avLst>
                <a:gd name="adj" fmla="val 16667"/>
              </a:avLst>
            </a:prstGeom>
            <a:solidFill>
              <a:srgbClr val="87bbf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равка 0503725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 0 304 06 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5076720" y="1773360"/>
              <a:ext cx="3551040" cy="1611720"/>
            </a:xfrm>
            <a:prstGeom prst="roundRect">
              <a:avLst>
                <a:gd name="adj" fmla="val 16667"/>
              </a:avLst>
            </a:prstGeom>
            <a:solidFill>
              <a:srgbClr val="87b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тчет ф. 05031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перации с обязательства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стр. 5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5057640" y="4143600"/>
              <a:ext cx="3595680" cy="1307880"/>
            </a:xfrm>
            <a:prstGeom prst="roundRect">
              <a:avLst>
                <a:gd name="adj" fmla="val 16667"/>
              </a:avLst>
            </a:prstGeom>
            <a:solidFill>
              <a:srgbClr val="87b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правка ф. 0503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части  оборот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счету 0 304 06 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6570720" y="3375000"/>
              <a:ext cx="579240" cy="9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ru-RU" sz="5500" spc="-1" strike="noStrike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Скругленный прямоугольник 23"/>
            <p:cNvSpPr/>
            <p:nvPr/>
          </p:nvSpPr>
          <p:spPr>
            <a:xfrm>
              <a:off x="2538360" y="4383360"/>
              <a:ext cx="1908000" cy="1079280"/>
            </a:xfrm>
            <a:prstGeom prst="roundRect">
              <a:avLst>
                <a:gd name="adj" fmla="val 16667"/>
              </a:avLst>
            </a:prstGeom>
            <a:solidFill>
              <a:srgbClr val="87bbf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равка 0503125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 1 304 06 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4269600" y="2077920"/>
              <a:ext cx="573120" cy="9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ru-RU" sz="55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395280" y="1773360"/>
              <a:ext cx="3551040" cy="1655640"/>
            </a:xfrm>
            <a:prstGeom prst="roundRect">
              <a:avLst>
                <a:gd name="adj" fmla="val 16667"/>
              </a:avLst>
            </a:prstGeom>
            <a:solidFill>
              <a:srgbClr val="87b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ланс ф. 05031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зменение обязательст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Гр. 6 - Гр. 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ая прямоугольная выноска 1"/>
          <p:cNvSpPr/>
          <p:nvPr/>
        </p:nvSpPr>
        <p:spPr>
          <a:xfrm>
            <a:off x="7023240" y="5734080"/>
            <a:ext cx="2000160" cy="747720"/>
          </a:xfrm>
          <a:prstGeom prst="wedgeRoundRectCallout">
            <a:avLst>
              <a:gd name="adj1" fmla="val 20476"/>
              <a:gd name="adj2" fmla="val -87740"/>
              <a:gd name="adj3" fmla="val 16667"/>
            </a:avLst>
          </a:prstGeom>
          <a:noFill/>
          <a:ln w="2556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именяется при изменении типа ГМУ в течение отчетного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19"/>
          <p:cNvCxnSpPr/>
          <p:nvPr/>
        </p:nvCxnSpPr>
        <p:spPr>
          <a:xfrm>
            <a:off x="4265640" y="5229000"/>
            <a:ext cx="1386720" cy="1080"/>
          </a:xfrm>
          <a:prstGeom prst="straightConnector1">
            <a:avLst/>
          </a:prstGeom>
          <a:ln w="12600">
            <a:solidFill>
              <a:srgbClr val="00349e"/>
            </a:solidFill>
            <a:prstDash val="lgDash"/>
            <a:miter/>
            <a:headEnd len="med" type="arrow" w="med"/>
            <a:tailEnd len="med" type="arrow" w="med"/>
          </a:ln>
        </p:spPr>
      </p:cxnSp>
      <p:cxnSp>
        <p:nvCxnSpPr>
          <p:cNvPr id="100" name="Прямая со стрелкой 29"/>
          <p:cNvCxnSpPr/>
          <p:nvPr/>
        </p:nvCxnSpPr>
        <p:spPr>
          <a:xfrm>
            <a:off x="2169720" y="5229000"/>
            <a:ext cx="531000" cy="1080"/>
          </a:xfrm>
          <a:prstGeom prst="straightConnector1">
            <a:avLst/>
          </a:prstGeom>
          <a:ln w="12600">
            <a:solidFill>
              <a:srgbClr val="00349e"/>
            </a:solidFill>
            <a:prstDash val="lgDash"/>
            <a:miter/>
            <a:headEnd len="med" type="arrow" w="med"/>
            <a:tailEnd len="med" type="arrow" w="med"/>
          </a:ln>
        </p:spPr>
      </p:cxn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ED96-B96D-4D3A-9240-551A4AF30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50920" y="1268280"/>
          <a:ext cx="8424720" cy="4550040"/>
        </p:xfrm>
        <a:graphic>
          <a:graphicData uri="http://schemas.openxmlformats.org/drawingml/2006/table">
            <a:tbl>
              <a:tblPr/>
              <a:tblGrid>
                <a:gridCol w="931680"/>
                <a:gridCol w="2497320"/>
                <a:gridCol w="2498760"/>
                <a:gridCol w="2496960"/>
              </a:tblGrid>
              <a:tr h="1106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источника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25 (графа7-Графа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0 (графа3-граф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725 (графа3-граф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7 523 331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523 331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 087 052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087 052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 04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 04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49 04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94 565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 594 565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555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555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 555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957 231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7 231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2 721,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52 721,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2 068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2 068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202 068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7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 037 66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030 717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3 037 66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73 986,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 986,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9 089 261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089 261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96 151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 151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Прямая соединительная линия 3"/>
          <p:cNvSpPr/>
          <p:nvPr/>
        </p:nvSpPr>
        <p:spPr>
          <a:xfrm>
            <a:off x="6156360" y="1268280"/>
            <a:ext cx="0" cy="115272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6156360" y="1268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1"/>
          <p:cNvSpPr/>
          <p:nvPr/>
        </p:nvSpPr>
        <p:spPr>
          <a:xfrm>
            <a:off x="4932360" y="981000"/>
            <a:ext cx="0" cy="287280"/>
          </a:xfrm>
          <a:prstGeom prst="line">
            <a:avLst/>
          </a:prstGeom>
          <a:ln w="1908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2"/>
          <p:cNvSpPr/>
          <p:nvPr/>
        </p:nvSpPr>
        <p:spPr>
          <a:xfrm>
            <a:off x="6443640" y="907920"/>
            <a:ext cx="432000" cy="360360"/>
          </a:xfrm>
          <a:prstGeom prst="line">
            <a:avLst/>
          </a:prstGeom>
          <a:ln w="1908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1403280" y="189000"/>
            <a:ext cx="57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блюдение идентичности показателей по счету 304 06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9"/>
          <p:cNvSpPr/>
          <p:nvPr/>
        </p:nvSpPr>
        <p:spPr>
          <a:xfrm flipH="1">
            <a:off x="2268000" y="907920"/>
            <a:ext cx="287640" cy="360360"/>
          </a:xfrm>
          <a:prstGeom prst="line">
            <a:avLst/>
          </a:prstGeom>
          <a:ln w="1908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E004-1FBB-42C2-A7B0-27EF116586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4608360" y="3933720"/>
            <a:ext cx="4534200" cy="254952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ый результа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ответству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730 и 721ф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о финансовый орган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ку 05037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03040" y="3943440"/>
            <a:ext cx="4356360" cy="254952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ый результа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 соответству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730 и 721ф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о финансовый орган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 представи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равку 05037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279360" y="1557360"/>
            <a:ext cx="3529080" cy="189216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хождения по финансовому результату в Отчете ф.0503721 и Балансе ф. 0503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5"/>
          <p:cNvSpPr/>
          <p:nvPr/>
        </p:nvSpPr>
        <p:spPr>
          <a:xfrm>
            <a:off x="3952800" y="1773360"/>
            <a:ext cx="2879640" cy="1584360"/>
          </a:xfrm>
          <a:prstGeom prst="rightArrow">
            <a:avLst>
              <a:gd name="adj1" fmla="val 83824"/>
              <a:gd name="adj2" fmla="val 24133"/>
            </a:avLst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устимо на операции по счету 0 304 06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6904080" y="1628640"/>
            <a:ext cx="1873080" cy="1729080"/>
          </a:xfrm>
          <a:prstGeom prst="rect">
            <a:avLst/>
          </a:prstGeom>
          <a:solidFill>
            <a:srgbClr val="c3dd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ка 0503725 по счет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0 304 06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1403280" y="189000"/>
            <a:ext cx="57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рректность отражения показателей по счету 0 304 06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ая прямоугольная выноска 8"/>
          <p:cNvSpPr/>
          <p:nvPr/>
        </p:nvSpPr>
        <p:spPr>
          <a:xfrm>
            <a:off x="6843600" y="720720"/>
            <a:ext cx="2300400" cy="749160"/>
          </a:xfrm>
          <a:prstGeom prst="wedgeRoundRectCallout">
            <a:avLst>
              <a:gd name="adj1" fmla="val 23444"/>
              <a:gd name="adj2" fmla="val 65939"/>
              <a:gd name="adj3" fmla="val 16667"/>
            </a:avLst>
          </a:prstGeom>
          <a:noFill/>
          <a:ln w="2556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оставляется при изменении типа ГМУ в течение отчетного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A2B8-89F9-4484-A375-F1D0CEFC97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611280" y="-1000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лог на прибы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 бюдже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1908000"/>
          <a:ext cx="3743280" cy="4569120"/>
        </p:xfrm>
        <a:graphic>
          <a:graphicData uri="http://schemas.openxmlformats.org/drawingml/2006/table">
            <a:tbl>
              <a:tblPr/>
              <a:tblGrid>
                <a:gridCol w="2590560"/>
                <a:gridCol w="1152720"/>
              </a:tblGrid>
              <a:tr h="1160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расходы  КОСГУ 2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ый опер. 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прибы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356000" y="1916280"/>
          <a:ext cx="4626000" cy="2565360"/>
        </p:xfrm>
        <a:graphic>
          <a:graphicData uri="http://schemas.openxmlformats.org/drawingml/2006/table">
            <a:tbl>
              <a:tblPr/>
              <a:tblGrid>
                <a:gridCol w="1944720"/>
                <a:gridCol w="1366920"/>
                <a:gridCol w="131436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к  по дебе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к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реди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0120 2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Прямоугольник 5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 о финансовых результатах   Справка по заключению сч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21                                  ф. 0503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6"/>
          <p:cNvSpPr/>
          <p:nvPr/>
        </p:nvSpPr>
        <p:spPr>
          <a:xfrm>
            <a:off x="3276720" y="3068640"/>
            <a:ext cx="863640" cy="72072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"/>
          <p:cNvSpPr/>
          <p:nvPr/>
        </p:nvSpPr>
        <p:spPr>
          <a:xfrm>
            <a:off x="6875640" y="3068640"/>
            <a:ext cx="865080" cy="72072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8"/>
          <p:cNvSpPr/>
          <p:nvPr/>
        </p:nvSpPr>
        <p:spPr>
          <a:xfrm>
            <a:off x="3276720" y="5589720"/>
            <a:ext cx="863640" cy="718920"/>
          </a:xfrm>
          <a:prstGeom prst="ellipse">
            <a:avLst/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Прямая со стрелкой 10"/>
          <p:cNvCxnSpPr/>
          <p:nvPr/>
        </p:nvCxnSpPr>
        <p:spPr>
          <a:xfrm flipV="1">
            <a:off x="4284360" y="3789000"/>
            <a:ext cx="2664360" cy="1944000"/>
          </a:xfrm>
          <a:prstGeom prst="straightConnector1">
            <a:avLst/>
          </a:prstGeom>
          <a:ln w="9360">
            <a:solidFill>
              <a:srgbClr val="fe3288"/>
            </a:solidFill>
            <a:miter/>
            <a:headEnd len="med" type="arrow" w="med"/>
            <a:tailEnd len="med" type="arrow" w="med"/>
          </a:ln>
        </p:spPr>
      </p:cxnSp>
      <p:sp>
        <p:nvSpPr>
          <p:cNvPr id="126" name="Прямоугольник 15"/>
          <p:cNvSpPr/>
          <p:nvPr/>
        </p:nvSpPr>
        <p:spPr>
          <a:xfrm>
            <a:off x="5796000" y="4653000"/>
            <a:ext cx="3348000" cy="1728720"/>
          </a:xfrm>
          <a:prstGeom prst="rect">
            <a:avLst/>
          </a:prstGeom>
          <a:noFill/>
          <a:ln w="25560">
            <a:solidFill>
              <a:srgbClr val="00349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. 96 Инструкции 191н «по стр. 270 -  данные счета 040120290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за исключением сумм начисленного налога на прибыл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стр. 292 - сумма начисленного налога на прибыль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8548-671B-456D-AE23-30562833F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X</cp:lastModifiedBy>
  <dcterms:modified xsi:type="dcterms:W3CDTF">2015-09-17T06:40:13Z</dcterms:modified>
  <cp:revision>642</cp:revision>
  <dc:subject/>
  <dc:title>Слайд 1</dc:title>
</cp:coreProperties>
</file>