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2.jpeg" ContentType="image/jpeg"/>
  <Override PartName="/ppt/media/image13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21.png" ContentType="image/png"/>
  <Override PartName="/ppt/media/image4.png" ContentType="image/png"/>
  <Override PartName="/ppt/media/image19.jpeg" ContentType="image/jpeg"/>
  <Override PartName="/ppt/media/image5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1.jpeg" ContentType="image/jpeg"/>
  <Override PartName="/ppt/media/image22.jpeg" ContentType="image/jpeg"/>
  <Override PartName="/ppt/media/image2.png" ContentType="image/png"/>
  <Override PartName="/ppt/media/image3.png" ContentType="image/png"/>
  <Override PartName="/ppt/media/image10.png" ContentType="image/pn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811f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5849D-61E3-43E4-AC0F-15B3DEEB1C8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Меня зовут Никитин Михаил, я представляю отдел исполнения проектов компании ОТР2000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В рамках своего доклада раскрою тему использования сервиса автоматизированной сверки данных отдельных форм бюджетной отчетности финансовых органов, территориальными органами Федерального казначейства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EFD9B-3BFD-46E2-912E-40227F849FD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этом мое выступление завершено, спасибо за внимание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B4A77-A872-4D3A-9391-9A1D1998B28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F3AF3-4C91-461A-8954-52B16B244E5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 реализации данной функциональности в ППО «АСФК» сверка отчетности УБП проводилась в ручном режиме. Данный метод характеризовалс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льшим объемом ручной работы при сверке отчетности УБП с учетными данными ТОФК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роятностью ошибок, несоответствием однотипных показателей в разных отчета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рамках доработок реализовано автоматическое проведение операции контроля и направление протокола после проверки в УФК. Обращаю особое внимание, что сама проверка имеет не обязательный характер, а используется при желании ФО сверить свою отчетность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52FC0-83A2-4214-A5C8-D6380278FC1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текущий момент реализован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Автоматическая сверка «Отчета об исполнении бюджета» ф. 0503117 с показателями «Отчета по поступлениям и выбытиям (ф. 0503151)». Проверка происходит в разрезе бюджетов муниципальных образован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 Автоматическая сверка «Отчета об исполнении консолидированного бюджета субъекта Российской Федерации и бюджета территориального государственного внебюджетного фонда» ф. 0503317  с данными  «Консолидированного отчета о кассовых поступлениях и выбытиях» (ф. 0503152) . Сверка производится в части контроля показателей консолидированного отчета ФО субъекта РФ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3F0DE-18AF-4949-BF73-70117030963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обеспечения электронного взаимодействия между УБП и ТОФК по предоставлению отчетов, были доработаны ТФФ по предоставлению бюджетной отчетности. Размещены требования на сайте федерального казначейства в разделе документы информационных сист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тановимся более подробно на процессе загрузки отчетов в СУФД-Портал и получении Протоколов контрол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0A462-ED54-45BC-8613-F60194AB5AF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запуска механизм сверки, пользователь должен загрузить отчеты в СУФД-портал, сформированные в имеющемся программном продукте. Структура файла с отчетом должна соответствовать действующим форматам текстовых файлов. Обращаю внимание, что согласно ТФФ при предоставлении отчетов в ТОФК в качестве отправителя информации в имени архивного файла указывается 5-значный код участника бюджетного процесса, который присваивается ему при включении в справочники организаций в органе Федерального казначей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грузка текстовых файлов с показателями бюджетной отчетности в СУФД-Портал производится в меню «Бюджетная отчетность ГРБС, ГВБФ, ФО». В пункте «Периодические отчеты» нажимаем кнопку «Импорт». В открывшемся окне выбираем необходимый файл для загруз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C901E-5A33-4805-BD53-483C7D46F71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груженные отчеты находятся в статусе «Черновик»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трудник запускает операцию «Документарный контроль», в процессе выполнения которой проводится проверка отчетов на соответствие ТФФ и в случае успешной проверки отчеты перейдут в статус «Введено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ле этого будет доступна операция «Отправить». По выполнении которой происходит передача отчетов в ТОФК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68460-FF51-4228-AB66-9776D31F324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транспортной истории будет видно, что отчет выгружен. При поступлении отчета в ТОФК в значение поля «Транспортный статус» изменится на «Принят учетной системой», после чего останется дождаться результатов провер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происходит после отправки отчета в ТОФК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32592-34D3-4F6D-A781-0012E6FCF5D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отправленного отчета при загрузке автоматически запускается процедура проведения контролей (Форматного, Внутридокументного, Междокументного контроля с формами УФК). В результате их выполнения будут сформированы протоколы, которые в автоматическом режиме передаются в СУФД-портал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случае необходимости повторного выполнения операций контроля формы, сотрудник УФК может выполнить данные действия в ручном режиме, а так же в ручном режиме может отправить протокол повторно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очу отметить, что этот механизм сверки не предполагает заверение отчетности клиента, а также подписание протоколов контроля электронной подписью сотрудника органа Федерального казначей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D0B85-1AA4-485A-B4E0-0967B57472F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СУФД-Портал после поступления протоколов контроля статус отчета изменяется на «Получен» и к отчету будут привязаны протоколы проверки. Также отчету присваивается регистрационный номер из ППО «АСФК (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EBS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)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тупившие протоколы контроля можно просмотреть во вкладке – «Протоколы для отчетов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рамках реализации данного функционала при проведении Форматного и Внутридокументного контролей применяются контрольные соотношения, применяемые при приеме бюджетной отчетности от УБП в МОУ Ф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отношения Междокументного контроля реализованы в соответствии с требованиями Управления бюджетного учета и отчетности и размещены на сайте Ф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421603-2AA3-478F-AFEA-7EC3A35966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8040" y="1628640"/>
            <a:ext cx="818532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8040" y="3749040"/>
            <a:ext cx="818532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B98750-959D-447B-9406-2DAC0338E5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8040" y="16286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2400" y="16286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8040" y="37490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92400" y="37490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D77208-F162-4787-BF42-B604BED942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8040" y="1628640"/>
            <a:ext cx="263556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465720" y="1628640"/>
            <a:ext cx="263556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33400" y="1628640"/>
            <a:ext cx="263556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8040" y="3749040"/>
            <a:ext cx="263556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465720" y="3749040"/>
            <a:ext cx="263556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33400" y="3749040"/>
            <a:ext cx="263556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24905D-89CD-48EE-992A-3DF92327F8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98040" y="1628640"/>
            <a:ext cx="8185320" cy="405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9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98040" y="1628640"/>
            <a:ext cx="8185320" cy="40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98040" y="1628640"/>
            <a:ext cx="3994200" cy="40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92400" y="1628640"/>
            <a:ext cx="3994200" cy="40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598320" y="134640"/>
            <a:ext cx="6235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9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98040" y="16286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92400" y="1628640"/>
            <a:ext cx="3994200" cy="40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98040" y="37490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8040" y="1628640"/>
            <a:ext cx="8185320" cy="405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9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102DEA-2D0D-49CD-AE8C-D3707868AA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98040" y="1628640"/>
            <a:ext cx="3994200" cy="40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92400" y="16286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92400" y="37490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98040" y="16286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92400" y="16286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98040" y="3749040"/>
            <a:ext cx="818532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98040" y="1628640"/>
            <a:ext cx="818532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98040" y="3749040"/>
            <a:ext cx="818532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98040" y="16286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2400" y="16286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98040" y="37490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92400" y="37490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98040" y="1628640"/>
            <a:ext cx="263556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65720" y="1628640"/>
            <a:ext cx="263556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33400" y="1628640"/>
            <a:ext cx="263556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98040" y="3749040"/>
            <a:ext cx="263556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465720" y="3749040"/>
            <a:ext cx="263556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33400" y="3749040"/>
            <a:ext cx="263556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8040" y="1628640"/>
            <a:ext cx="8185320" cy="40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924F04-F7C6-4B3C-9914-234A8AD338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8040" y="1628640"/>
            <a:ext cx="3994200" cy="40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92400" y="1628640"/>
            <a:ext cx="3994200" cy="40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CD9563-80EC-4CBF-B127-475C711E92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A7AEBE-0B2B-4DB1-AF2D-4A5446CA8F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598320" y="134640"/>
            <a:ext cx="6235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9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40D932-A0EF-4BCE-8AA1-AEC63FC8AB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8040" y="16286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92400" y="1628640"/>
            <a:ext cx="3994200" cy="40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8040" y="37490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19552D-5418-4403-B9F7-6B36FBA685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8040" y="1628640"/>
            <a:ext cx="3994200" cy="40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2400" y="16286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92400" y="37490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5505FB-F14A-477A-9D21-28254E3791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8040" y="16286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2400" y="16286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8040" y="3749040"/>
            <a:ext cx="818532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B5652C-128C-4C3B-ABE7-E5B1BA6532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98040" y="1628640"/>
            <a:ext cx="8185320" cy="40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6120" indent="-276120">
              <a:spcAft>
                <a:spcPts val="975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5e5d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  <a:p>
            <a:pPr lvl="1" marL="530280" indent="-252360">
              <a:spcAft>
                <a:spcPts val="975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5e5d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  <a:p>
            <a:pPr lvl="2" marL="808200" indent="-276480">
              <a:spcAft>
                <a:spcPts val="975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5e5d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  <a:p>
            <a:pPr lvl="3" marL="1062000" indent="-252360">
              <a:spcAft>
                <a:spcPts val="975"/>
              </a:spcAft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5e5d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  <a:p>
            <a:pPr lvl="4" marL="1347840" indent="-284040">
              <a:spcAft>
                <a:spcPts val="975"/>
              </a:spcAft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5e5d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  <a:p>
            <a:pPr lvl="5" marL="1347840" indent="-284040">
              <a:spcAft>
                <a:spcPts val="975"/>
              </a:spcAft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5e5d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  <a:p>
            <a:pPr lvl="6" marL="1347840" indent="-284040">
              <a:spcAft>
                <a:spcPts val="975"/>
              </a:spcAft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5e5d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8143560" y="6330600"/>
            <a:ext cx="576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F044D-E5CA-4BAE-9AF0-9FFA5EE1DE99}" type="slidenum"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811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698040" y="1628640"/>
            <a:ext cx="8185320" cy="40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6120" indent="-276120">
              <a:spcAft>
                <a:spcPts val="975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5e5d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  <a:p>
            <a:pPr lvl="1" marL="530280" indent="-252360">
              <a:spcAft>
                <a:spcPts val="975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5e5d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  <a:p>
            <a:pPr lvl="2" marL="808200" indent="-276480">
              <a:spcAft>
                <a:spcPts val="975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5e5d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  <a:p>
            <a:pPr lvl="3" marL="1062000" indent="-252360">
              <a:spcAft>
                <a:spcPts val="975"/>
              </a:spcAft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5e5d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  <a:p>
            <a:pPr lvl="4" marL="1347840" indent="-284040">
              <a:spcAft>
                <a:spcPts val="975"/>
              </a:spcAft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5e5d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  <a:p>
            <a:pPr lvl="5" marL="1347840" indent="-284040">
              <a:spcAft>
                <a:spcPts val="975"/>
              </a:spcAft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5e5d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  <a:p>
            <a:pPr lvl="6" marL="1347840" indent="-284040">
              <a:spcAft>
                <a:spcPts val="975"/>
              </a:spcAft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5e5d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811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8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04400" y="3330360"/>
            <a:ext cx="6805800" cy="232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05e5d"/>
                </a:solidFill>
                <a:latin typeface="Arial"/>
              </a:rPr>
              <a:t>Практические вопросы использования сервиса автоматизированной сверки данных отдельных форм бюджетной отчетности финансовых органов территориальными органами Федерального казначейства</a:t>
            </a: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85" name="Text Box 54"/>
          <p:cNvSpPr/>
          <p:nvPr/>
        </p:nvSpPr>
        <p:spPr>
          <a:xfrm>
            <a:off x="1357200" y="5827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Номер слайда 1"/>
          <p:cNvSpPr/>
          <p:nvPr/>
        </p:nvSpPr>
        <p:spPr>
          <a:xfrm>
            <a:off x="8143920" y="6330960"/>
            <a:ext cx="576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F25C0-5BA7-4FF7-ACD6-811800A13194}" type="slidenum">
              <a:rPr b="1" lang="ru-RU" sz="2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2" name="Picture 25" descr="circle_422_239"/>
          <p:cNvPicPr/>
          <p:nvPr/>
        </p:nvPicPr>
        <p:blipFill>
          <a:blip r:embed="rId1"/>
          <a:stretch/>
        </p:blipFill>
        <p:spPr>
          <a:xfrm>
            <a:off x="2752560" y="2982960"/>
            <a:ext cx="3480120" cy="2174760"/>
          </a:xfrm>
          <a:prstGeom prst="rect">
            <a:avLst/>
          </a:prstGeom>
          <a:ln w="0">
            <a:noFill/>
          </a:ln>
        </p:spPr>
      </p:pic>
      <p:sp>
        <p:nvSpPr>
          <p:cNvPr id="223" name="Прямоугольник 4"/>
          <p:cNvSpPr/>
          <p:nvPr/>
        </p:nvSpPr>
        <p:spPr>
          <a:xfrm>
            <a:off x="1816560" y="1371600"/>
            <a:ext cx="5264640" cy="61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5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3811f"/>
                </a:solidFill>
                <a:latin typeface="Arial"/>
              </a:rPr>
              <a:t>Спасибо за внимание!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Rectangle 5"/>
          <p:cNvSpPr/>
          <p:nvPr/>
        </p:nvSpPr>
        <p:spPr>
          <a:xfrm>
            <a:off x="2053080" y="74880"/>
            <a:ext cx="503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На этом мое выступление завершено, спасибо за внимание!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Скругленный прямоугольник 112"/>
          <p:cNvSpPr/>
          <p:nvPr/>
        </p:nvSpPr>
        <p:spPr>
          <a:xfrm>
            <a:off x="407880" y="4616280"/>
            <a:ext cx="8326440" cy="1714680"/>
          </a:xfrm>
          <a:prstGeom prst="roundRect">
            <a:avLst>
              <a:gd name="adj" fmla="val 10042"/>
            </a:avLst>
          </a:prstGeom>
          <a:solidFill>
            <a:srgbClr val="ffffff">
              <a:alpha val="50000"/>
            </a:srgbClr>
          </a:solidFill>
          <a:ln w="28440">
            <a:solidFill>
              <a:srgbClr val="65c9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3811f"/>
                </a:solidFill>
                <a:latin typeface="Arial"/>
              </a:rPr>
              <a:t>Технология сверки бюджетной отчетности УБП с отчетностью ТОФК</a:t>
            </a:r>
            <a:endParaRPr b="1" lang="en-US" sz="24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88" name="Номер слайда 3"/>
          <p:cNvSpPr/>
          <p:nvPr/>
        </p:nvSpPr>
        <p:spPr>
          <a:xfrm>
            <a:off x="8143920" y="6330960"/>
            <a:ext cx="576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ACB25-D4C5-42CC-A1DF-C124C6413C91}" type="slidenum">
              <a:rPr b="1" lang="ru-RU" sz="2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Прямоугольник 113"/>
          <p:cNvSpPr/>
          <p:nvPr/>
        </p:nvSpPr>
        <p:spPr>
          <a:xfrm>
            <a:off x="7345440" y="5089680"/>
            <a:ext cx="1170000" cy="731520"/>
          </a:xfrm>
          <a:prstGeom prst="rect">
            <a:avLst/>
          </a:prstGeom>
          <a:solidFill>
            <a:srgbClr val="65c9b5"/>
          </a:soli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02f2e"/>
                </a:solidFill>
                <a:latin typeface="Calibri"/>
              </a:rPr>
              <a:t>АСФК ТОФК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TextBox 114"/>
          <p:cNvSpPr/>
          <p:nvPr/>
        </p:nvSpPr>
        <p:spPr>
          <a:xfrm>
            <a:off x="1563840" y="4978440"/>
            <a:ext cx="281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605e5d"/>
                </a:solidFill>
                <a:latin typeface="Calibri"/>
              </a:rPr>
              <a:t>Бюджетная отчетность УБП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TextBox 116"/>
          <p:cNvSpPr/>
          <p:nvPr/>
        </p:nvSpPr>
        <p:spPr>
          <a:xfrm>
            <a:off x="1913040" y="5689440"/>
            <a:ext cx="215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605e5d"/>
                </a:solidFill>
                <a:latin typeface="Calibri"/>
              </a:rPr>
              <a:t>Протокол контроля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Box 119"/>
          <p:cNvSpPr/>
          <p:nvPr/>
        </p:nvSpPr>
        <p:spPr>
          <a:xfrm>
            <a:off x="734760" y="4311720"/>
            <a:ext cx="84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32044"/>
                </a:solidFill>
                <a:latin typeface="Calibri"/>
              </a:rPr>
              <a:t>После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Стрелка вправо 120"/>
          <p:cNvSpPr/>
          <p:nvPr/>
        </p:nvSpPr>
        <p:spPr>
          <a:xfrm>
            <a:off x="1143000" y="5211720"/>
            <a:ext cx="3359160" cy="147600"/>
          </a:xfrm>
          <a:prstGeom prst="rightArrow">
            <a:avLst>
              <a:gd name="adj1" fmla="val 50000"/>
              <a:gd name="adj2" fmla="val 84712"/>
            </a:avLst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360" bIns="2736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Стрелка вправо 121"/>
          <p:cNvSpPr/>
          <p:nvPr/>
        </p:nvSpPr>
        <p:spPr>
          <a:xfrm flipH="1">
            <a:off x="1716840" y="5581800"/>
            <a:ext cx="2792520" cy="147600"/>
          </a:xfrm>
          <a:prstGeom prst="rightArrow">
            <a:avLst>
              <a:gd name="adj1" fmla="val 50000"/>
              <a:gd name="adj2" fmla="val 84787"/>
            </a:avLst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360" bIns="2736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Рисунок 4" descr=""/>
          <p:cNvPicPr/>
          <p:nvPr/>
        </p:nvPicPr>
        <p:blipFill>
          <a:blip r:embed="rId1"/>
          <a:stretch/>
        </p:blipFill>
        <p:spPr>
          <a:xfrm>
            <a:off x="503280" y="5113440"/>
            <a:ext cx="752400" cy="685800"/>
          </a:xfrm>
          <a:prstGeom prst="rect">
            <a:avLst/>
          </a:prstGeom>
          <a:ln w="0">
            <a:noFill/>
          </a:ln>
        </p:spPr>
      </p:pic>
      <p:sp>
        <p:nvSpPr>
          <p:cNvPr id="96" name="Двойная стрелка влево/вправо 128"/>
          <p:cNvSpPr/>
          <p:nvPr/>
        </p:nvSpPr>
        <p:spPr>
          <a:xfrm>
            <a:off x="5729400" y="5394240"/>
            <a:ext cx="1617480" cy="147600"/>
          </a:xfrm>
          <a:prstGeom prst="leftRightArrow">
            <a:avLst>
              <a:gd name="adj1" fmla="val 50000"/>
              <a:gd name="adj2" fmla="val 92742"/>
            </a:avLst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360" bIns="2736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Прямоугольник 129"/>
          <p:cNvSpPr/>
          <p:nvPr/>
        </p:nvSpPr>
        <p:spPr>
          <a:xfrm>
            <a:off x="4510080" y="5089680"/>
            <a:ext cx="1214280" cy="731520"/>
          </a:xfrm>
          <a:prstGeom prst="rect">
            <a:avLst/>
          </a:prstGeom>
          <a:solidFill>
            <a:srgbClr val="79d2ff"/>
          </a:soli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02f2e"/>
                </a:solidFill>
                <a:latin typeface="Calibri"/>
              </a:rPr>
              <a:t>СУФД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02f2e"/>
                </a:solidFill>
                <a:latin typeface="Calibri"/>
              </a:rPr>
              <a:t>Портал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Box 134"/>
          <p:cNvSpPr/>
          <p:nvPr/>
        </p:nvSpPr>
        <p:spPr>
          <a:xfrm>
            <a:off x="1959120" y="5310360"/>
            <a:ext cx="218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38eb6"/>
                </a:solidFill>
                <a:latin typeface="Calibri"/>
              </a:rPr>
              <a:t>011011001000101110010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Прямоугольная выноска 135"/>
          <p:cNvSpPr/>
          <p:nvPr/>
        </p:nvSpPr>
        <p:spPr>
          <a:xfrm>
            <a:off x="3973680" y="6284880"/>
            <a:ext cx="4321080" cy="530280"/>
          </a:xfrm>
          <a:prstGeom prst="wedgeRectCallout">
            <a:avLst>
              <a:gd name="adj1" fmla="val 33236"/>
              <a:gd name="adj2" fmla="val -162078"/>
            </a:avLst>
          </a:prstGeom>
          <a:solidFill>
            <a:srgbClr val="eee7e5">
              <a:alpha val="70000"/>
            </a:srgbClr>
          </a:solidFill>
          <a:ln w="3240">
            <a:solidFill>
              <a:srgbClr val="4eb5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Автоматическое проведение операции контроля и направление протокола контроля УБП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Скругленный прямоугольник 50"/>
          <p:cNvSpPr/>
          <p:nvPr/>
        </p:nvSpPr>
        <p:spPr>
          <a:xfrm>
            <a:off x="406440" y="1674720"/>
            <a:ext cx="8327880" cy="1582920"/>
          </a:xfrm>
          <a:prstGeom prst="roundRect">
            <a:avLst>
              <a:gd name="adj" fmla="val 8926"/>
            </a:avLst>
          </a:prstGeom>
          <a:solidFill>
            <a:srgbClr val="ffffff">
              <a:alpha val="50000"/>
            </a:srgbClr>
          </a:solidFill>
          <a:ln w="28440">
            <a:solidFill>
              <a:srgbClr val="65c9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Прямоугольник 73"/>
          <p:cNvSpPr/>
          <p:nvPr/>
        </p:nvSpPr>
        <p:spPr>
          <a:xfrm>
            <a:off x="7218360" y="2033640"/>
            <a:ext cx="1149480" cy="814320"/>
          </a:xfrm>
          <a:prstGeom prst="rect">
            <a:avLst/>
          </a:prstGeom>
          <a:solidFill>
            <a:srgbClr val="65c9b5"/>
          </a:soli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02f2e"/>
                </a:solidFill>
                <a:latin typeface="Calibri"/>
              </a:rPr>
              <a:t>АСФК ТОФК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Box 76"/>
          <p:cNvSpPr/>
          <p:nvPr/>
        </p:nvSpPr>
        <p:spPr>
          <a:xfrm>
            <a:off x="1862280" y="1714680"/>
            <a:ext cx="2232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605e5d"/>
                </a:solidFill>
                <a:latin typeface="Calibri"/>
              </a:rPr>
              <a:t>Бюджетная отчетность на бумажном носителе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Box 77"/>
          <p:cNvSpPr/>
          <p:nvPr/>
        </p:nvSpPr>
        <p:spPr>
          <a:xfrm>
            <a:off x="982800" y="2809800"/>
            <a:ext cx="56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БП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Box 79"/>
          <p:cNvSpPr/>
          <p:nvPr/>
        </p:nvSpPr>
        <p:spPr>
          <a:xfrm>
            <a:off x="1925640" y="2678040"/>
            <a:ext cx="2114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605e5d"/>
                </a:solidFill>
                <a:latin typeface="Calibri"/>
              </a:rPr>
              <a:t>Ручное подтверждение проведенного контроля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Box 81"/>
          <p:cNvSpPr/>
          <p:nvPr/>
        </p:nvSpPr>
        <p:spPr>
          <a:xfrm>
            <a:off x="4812840" y="2792520"/>
            <a:ext cx="72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ОФК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Box 93"/>
          <p:cNvSpPr/>
          <p:nvPr/>
        </p:nvSpPr>
        <p:spPr>
          <a:xfrm>
            <a:off x="5504040" y="2151000"/>
            <a:ext cx="16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605e5d"/>
                </a:solidFill>
                <a:latin typeface="Calibri"/>
              </a:rPr>
              <a:t>Визуальная сверка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Box 95"/>
          <p:cNvSpPr/>
          <p:nvPr/>
        </p:nvSpPr>
        <p:spPr>
          <a:xfrm>
            <a:off x="732240" y="1362240"/>
            <a:ext cx="48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32044"/>
                </a:solidFill>
                <a:latin typeface="Calibri"/>
              </a:rPr>
              <a:t>До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Стрелка вправо 105"/>
          <p:cNvSpPr/>
          <p:nvPr/>
        </p:nvSpPr>
        <p:spPr>
          <a:xfrm>
            <a:off x="3997440" y="2168640"/>
            <a:ext cx="353880" cy="164880"/>
          </a:xfrm>
          <a:prstGeom prst="rightArrow">
            <a:avLst>
              <a:gd name="adj1" fmla="val 50000"/>
              <a:gd name="adj2" fmla="val 84808"/>
            </a:avLst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Стрелка вправо 106"/>
          <p:cNvSpPr/>
          <p:nvPr/>
        </p:nvSpPr>
        <p:spPr>
          <a:xfrm flipH="1">
            <a:off x="1691640" y="2579760"/>
            <a:ext cx="376200" cy="164880"/>
          </a:xfrm>
          <a:prstGeom prst="rightArrow">
            <a:avLst>
              <a:gd name="adj1" fmla="val 50000"/>
              <a:gd name="adj2" fmla="val 84833"/>
            </a:avLst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Рисунок 14" descr=""/>
          <p:cNvPicPr/>
          <p:nvPr/>
        </p:nvPicPr>
        <p:blipFill>
          <a:blip r:embed="rId2"/>
          <a:srcRect l="3512" t="19357" r="79767" b="17750"/>
          <a:stretch/>
        </p:blipFill>
        <p:spPr>
          <a:xfrm>
            <a:off x="2116080" y="2305080"/>
            <a:ext cx="268200" cy="280800"/>
          </a:xfrm>
          <a:prstGeom prst="rect">
            <a:avLst/>
          </a:prstGeom>
          <a:ln w="0">
            <a:noFill/>
          </a:ln>
        </p:spPr>
      </p:pic>
      <p:pic>
        <p:nvPicPr>
          <p:cNvPr id="111" name="Рисунок 109" descr=""/>
          <p:cNvPicPr/>
          <p:nvPr/>
        </p:nvPicPr>
        <p:blipFill>
          <a:blip r:embed="rId3"/>
          <a:srcRect l="3512" t="19357" r="79767" b="17750"/>
          <a:stretch/>
        </p:blipFill>
        <p:spPr>
          <a:xfrm>
            <a:off x="2878200" y="2305080"/>
            <a:ext cx="266760" cy="280800"/>
          </a:xfrm>
          <a:prstGeom prst="rect">
            <a:avLst/>
          </a:prstGeom>
          <a:ln w="0">
            <a:noFill/>
          </a:ln>
        </p:spPr>
      </p:pic>
      <p:pic>
        <p:nvPicPr>
          <p:cNvPr id="112" name="Рисунок 110" descr=""/>
          <p:cNvPicPr/>
          <p:nvPr/>
        </p:nvPicPr>
        <p:blipFill>
          <a:blip r:embed="rId4"/>
          <a:srcRect l="3512" t="19357" r="79767" b="17750"/>
          <a:stretch/>
        </p:blipFill>
        <p:spPr>
          <a:xfrm>
            <a:off x="3692520" y="2305080"/>
            <a:ext cx="268200" cy="280800"/>
          </a:xfrm>
          <a:prstGeom prst="rect">
            <a:avLst/>
          </a:prstGeom>
          <a:ln w="0">
            <a:noFill/>
          </a:ln>
        </p:spPr>
      </p:pic>
      <p:sp>
        <p:nvSpPr>
          <p:cNvPr id="113" name="Двойная стрелка влево/вправо 111"/>
          <p:cNvSpPr/>
          <p:nvPr/>
        </p:nvSpPr>
        <p:spPr>
          <a:xfrm>
            <a:off x="5419800" y="2371680"/>
            <a:ext cx="1800000" cy="165240"/>
          </a:xfrm>
          <a:prstGeom prst="leftRightArrow">
            <a:avLst>
              <a:gd name="adj1" fmla="val 50000"/>
              <a:gd name="adj2" fmla="val 92643"/>
            </a:avLst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Прямоугольник 136"/>
          <p:cNvSpPr/>
          <p:nvPr/>
        </p:nvSpPr>
        <p:spPr>
          <a:xfrm>
            <a:off x="3538440" y="2208240"/>
            <a:ext cx="206640" cy="8244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Прямоугольник 137"/>
          <p:cNvSpPr/>
          <p:nvPr/>
        </p:nvSpPr>
        <p:spPr>
          <a:xfrm>
            <a:off x="3309840" y="2208240"/>
            <a:ext cx="204840" cy="8244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Прямоугольник 138"/>
          <p:cNvSpPr/>
          <p:nvPr/>
        </p:nvSpPr>
        <p:spPr>
          <a:xfrm>
            <a:off x="3081240" y="2208240"/>
            <a:ext cx="206640" cy="8244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Прямоугольник 139"/>
          <p:cNvSpPr/>
          <p:nvPr/>
        </p:nvSpPr>
        <p:spPr>
          <a:xfrm>
            <a:off x="2852640" y="2208240"/>
            <a:ext cx="204840" cy="8244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Прямоугольник 140"/>
          <p:cNvSpPr/>
          <p:nvPr/>
        </p:nvSpPr>
        <p:spPr>
          <a:xfrm>
            <a:off x="2624040" y="2208240"/>
            <a:ext cx="204840" cy="8244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Прямоугольник 141"/>
          <p:cNvSpPr/>
          <p:nvPr/>
        </p:nvSpPr>
        <p:spPr>
          <a:xfrm>
            <a:off x="2394000" y="2208240"/>
            <a:ext cx="206280" cy="8244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Прямоугольник 142"/>
          <p:cNvSpPr/>
          <p:nvPr/>
        </p:nvSpPr>
        <p:spPr>
          <a:xfrm>
            <a:off x="2166840" y="2208240"/>
            <a:ext cx="204840" cy="8244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Прямоугольник 143"/>
          <p:cNvSpPr/>
          <p:nvPr/>
        </p:nvSpPr>
        <p:spPr>
          <a:xfrm>
            <a:off x="1936800" y="2208240"/>
            <a:ext cx="206280" cy="8244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Прямоугольник 144"/>
          <p:cNvSpPr/>
          <p:nvPr/>
        </p:nvSpPr>
        <p:spPr>
          <a:xfrm>
            <a:off x="1708200" y="2208240"/>
            <a:ext cx="206280" cy="8244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Прямоугольник 145"/>
          <p:cNvSpPr/>
          <p:nvPr/>
        </p:nvSpPr>
        <p:spPr>
          <a:xfrm>
            <a:off x="1479600" y="2208240"/>
            <a:ext cx="204840" cy="8244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Рисунок 10" descr=""/>
          <p:cNvPicPr/>
          <p:nvPr/>
        </p:nvPicPr>
        <p:blipFill>
          <a:blip r:embed="rId5"/>
          <a:stretch/>
        </p:blipFill>
        <p:spPr>
          <a:xfrm>
            <a:off x="849240" y="2041560"/>
            <a:ext cx="800280" cy="766800"/>
          </a:xfrm>
          <a:prstGeom prst="rect">
            <a:avLst/>
          </a:prstGeom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125" name="Прямоугольник 147"/>
          <p:cNvSpPr/>
          <p:nvPr/>
        </p:nvSpPr>
        <p:spPr>
          <a:xfrm>
            <a:off x="3767040" y="2208240"/>
            <a:ext cx="206640" cy="8244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Прямоугольник 148"/>
          <p:cNvSpPr/>
          <p:nvPr/>
        </p:nvSpPr>
        <p:spPr>
          <a:xfrm>
            <a:off x="3917880" y="2619360"/>
            <a:ext cx="206280" cy="8244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Прямоугольник 149"/>
          <p:cNvSpPr/>
          <p:nvPr/>
        </p:nvSpPr>
        <p:spPr>
          <a:xfrm>
            <a:off x="3689280" y="2619360"/>
            <a:ext cx="206280" cy="8244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Прямоугольник 150"/>
          <p:cNvSpPr/>
          <p:nvPr/>
        </p:nvSpPr>
        <p:spPr>
          <a:xfrm>
            <a:off x="3460680" y="2619360"/>
            <a:ext cx="206280" cy="8244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Прямоугольник 151"/>
          <p:cNvSpPr/>
          <p:nvPr/>
        </p:nvSpPr>
        <p:spPr>
          <a:xfrm>
            <a:off x="3230640" y="2619360"/>
            <a:ext cx="207720" cy="8244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Прямоугольник 152"/>
          <p:cNvSpPr/>
          <p:nvPr/>
        </p:nvSpPr>
        <p:spPr>
          <a:xfrm>
            <a:off x="3003480" y="2619360"/>
            <a:ext cx="204840" cy="8244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Прямоугольник 153"/>
          <p:cNvSpPr/>
          <p:nvPr/>
        </p:nvSpPr>
        <p:spPr>
          <a:xfrm>
            <a:off x="2773440" y="2619360"/>
            <a:ext cx="207720" cy="8244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Прямоугольник 154"/>
          <p:cNvSpPr/>
          <p:nvPr/>
        </p:nvSpPr>
        <p:spPr>
          <a:xfrm>
            <a:off x="2546280" y="2619360"/>
            <a:ext cx="204840" cy="8244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Прямоугольник 155"/>
          <p:cNvSpPr/>
          <p:nvPr/>
        </p:nvSpPr>
        <p:spPr>
          <a:xfrm>
            <a:off x="2316240" y="2619360"/>
            <a:ext cx="207720" cy="8244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Прямоугольник 156"/>
          <p:cNvSpPr/>
          <p:nvPr/>
        </p:nvSpPr>
        <p:spPr>
          <a:xfrm>
            <a:off x="2087640" y="2619360"/>
            <a:ext cx="206280" cy="8244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Прямоугольник 157"/>
          <p:cNvSpPr/>
          <p:nvPr/>
        </p:nvSpPr>
        <p:spPr>
          <a:xfrm>
            <a:off x="4146480" y="2619360"/>
            <a:ext cx="208080" cy="8244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Прямоугольник 160"/>
          <p:cNvSpPr/>
          <p:nvPr/>
        </p:nvSpPr>
        <p:spPr>
          <a:xfrm>
            <a:off x="4378320" y="2619360"/>
            <a:ext cx="206280" cy="8244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Рисунок 4" descr=""/>
          <p:cNvPicPr/>
          <p:nvPr/>
        </p:nvPicPr>
        <p:blipFill>
          <a:blip r:embed="rId6"/>
          <a:stretch/>
        </p:blipFill>
        <p:spPr>
          <a:xfrm>
            <a:off x="4300560" y="2058840"/>
            <a:ext cx="839880" cy="762120"/>
          </a:xfrm>
          <a:prstGeom prst="rect">
            <a:avLst/>
          </a:prstGeom>
          <a:ln w="0">
            <a:noFill/>
          </a:ln>
        </p:spPr>
      </p:pic>
      <p:pic>
        <p:nvPicPr>
          <p:cNvPr id="138" name="Рисунок 103" descr=""/>
          <p:cNvPicPr/>
          <p:nvPr/>
        </p:nvPicPr>
        <p:blipFill>
          <a:blip r:embed="rId7"/>
          <a:stretch/>
        </p:blipFill>
        <p:spPr>
          <a:xfrm>
            <a:off x="4762440" y="2041560"/>
            <a:ext cx="800280" cy="766800"/>
          </a:xfrm>
          <a:prstGeom prst="rect">
            <a:avLst/>
          </a:prstGeom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139" name="Группа 59"/>
          <p:cNvGrpSpPr/>
          <p:nvPr/>
        </p:nvGrpSpPr>
        <p:grpSpPr>
          <a:xfrm>
            <a:off x="406440" y="3428640"/>
            <a:ext cx="8327880" cy="722520"/>
            <a:chOff x="406440" y="3428640"/>
            <a:chExt cx="8327880" cy="722520"/>
          </a:xfrm>
        </p:grpSpPr>
        <p:sp>
          <p:nvSpPr>
            <p:cNvPr id="140" name="TextBox 60"/>
            <p:cNvSpPr/>
            <p:nvPr/>
          </p:nvSpPr>
          <p:spPr>
            <a:xfrm rot="16200000">
              <a:off x="4419360" y="-497160"/>
              <a:ext cx="323640" cy="8175600"/>
            </a:xfrm>
            <a:prstGeom prst="rect">
              <a:avLst/>
            </a:prstGeom>
            <a:solidFill>
              <a:srgbClr val="e6e4dc"/>
            </a:solidFill>
            <a:ln w="0">
              <a:noFill/>
            </a:ln>
            <a:effectLst>
              <a:outerShdw dist="381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440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Calibri"/>
                </a:rPr>
                <a:t>Большой объем ручной работы при сверке отчетности УБП с учетными данными ТОФК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TextBox 61"/>
            <p:cNvSpPr/>
            <p:nvPr/>
          </p:nvSpPr>
          <p:spPr>
            <a:xfrm rot="16200000">
              <a:off x="4419360" y="-98640"/>
              <a:ext cx="323640" cy="8175600"/>
            </a:xfrm>
            <a:prstGeom prst="rect">
              <a:avLst/>
            </a:prstGeom>
            <a:solidFill>
              <a:srgbClr val="e6e4dc"/>
            </a:solidFill>
            <a:ln w="0">
              <a:noFill/>
            </a:ln>
            <a:effectLst>
              <a:outerShdw dist="381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440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Calibri"/>
                </a:rPr>
                <a:t>Высокая вероятность ошибок, несоответствий однотипных показателей в разных отчетах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Прямоугольник 62"/>
            <p:cNvSpPr/>
            <p:nvPr/>
          </p:nvSpPr>
          <p:spPr>
            <a:xfrm>
              <a:off x="406440" y="3429000"/>
              <a:ext cx="87120" cy="323640"/>
            </a:xfrm>
            <a:prstGeom prst="rect">
              <a:avLst/>
            </a:prstGeom>
            <a:solidFill>
              <a:srgbClr val="e32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Прямоугольник 63"/>
            <p:cNvSpPr/>
            <p:nvPr/>
          </p:nvSpPr>
          <p:spPr>
            <a:xfrm>
              <a:off x="406440" y="3827520"/>
              <a:ext cx="87120" cy="323640"/>
            </a:xfrm>
            <a:prstGeom prst="rect">
              <a:avLst/>
            </a:prstGeom>
            <a:solidFill>
              <a:srgbClr val="e32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Прямоугольник 64"/>
            <p:cNvSpPr/>
            <p:nvPr/>
          </p:nvSpPr>
          <p:spPr>
            <a:xfrm>
              <a:off x="8647200" y="3429000"/>
              <a:ext cx="87120" cy="323640"/>
            </a:xfrm>
            <a:prstGeom prst="rect">
              <a:avLst/>
            </a:prstGeom>
            <a:solidFill>
              <a:srgbClr val="e32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Прямоугольник 65"/>
            <p:cNvSpPr/>
            <p:nvPr/>
          </p:nvSpPr>
          <p:spPr>
            <a:xfrm>
              <a:off x="8647200" y="3827520"/>
              <a:ext cx="87120" cy="323640"/>
            </a:xfrm>
            <a:prstGeom prst="rect">
              <a:avLst/>
            </a:prstGeom>
            <a:solidFill>
              <a:srgbClr val="e32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6" name="TextBox 77"/>
          <p:cNvSpPr/>
          <p:nvPr/>
        </p:nvSpPr>
        <p:spPr>
          <a:xfrm>
            <a:off x="982800" y="5800680"/>
            <a:ext cx="56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БП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Рисунок 67" descr=""/>
          <p:cNvPicPr/>
          <p:nvPr/>
        </p:nvPicPr>
        <p:blipFill>
          <a:blip r:embed="rId8"/>
          <a:stretch/>
        </p:blipFill>
        <p:spPr>
          <a:xfrm>
            <a:off x="849240" y="5032440"/>
            <a:ext cx="800280" cy="766800"/>
          </a:xfrm>
          <a:prstGeom prst="rect">
            <a:avLst/>
          </a:prstGeom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Прямоугольник 43"/>
          <p:cNvSpPr/>
          <p:nvPr/>
        </p:nvSpPr>
        <p:spPr>
          <a:xfrm>
            <a:off x="1378080" y="1758960"/>
            <a:ext cx="6721200" cy="4089240"/>
          </a:xfrm>
          <a:prstGeom prst="roundRect">
            <a:avLst>
              <a:gd name="adj" fmla="val 2560"/>
            </a:avLst>
          </a:prstGeom>
          <a:solidFill>
            <a:srgbClr val="ffffff">
              <a:alpha val="50000"/>
            </a:srgbClr>
          </a:solidFill>
          <a:ln w="28440">
            <a:solidFill>
              <a:srgbClr val="65c9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02f2e"/>
                </a:solidFill>
                <a:latin typeface="Calibri"/>
              </a:rPr>
              <a:t>Сверка отчетности УБП с отчетностью ТОФК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7702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3811f"/>
                </a:solidFill>
                <a:latin typeface="Arial"/>
              </a:rPr>
              <a:t>Перечень сверяемой отчетности</a:t>
            </a:r>
            <a:endParaRPr b="1" lang="en-US" sz="24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150" name="Номер слайда 3"/>
          <p:cNvSpPr/>
          <p:nvPr/>
        </p:nvSpPr>
        <p:spPr>
          <a:xfrm>
            <a:off x="8143920" y="6330960"/>
            <a:ext cx="576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E2E97-E3B1-4BA5-BF24-2589D8301D4B}" type="slidenum">
              <a:rPr b="1" lang="ru-RU" sz="2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Прямоугольник 3"/>
          <p:cNvSpPr/>
          <p:nvPr/>
        </p:nvSpPr>
        <p:spPr>
          <a:xfrm>
            <a:off x="1776240" y="2286000"/>
            <a:ext cx="1551240" cy="585720"/>
          </a:xfrm>
          <a:prstGeom prst="rect">
            <a:avLst/>
          </a:prstGeom>
          <a:solidFill>
            <a:srgbClr val="65c9b5"/>
          </a:soli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02f2e"/>
                </a:solidFill>
                <a:latin typeface="Calibri"/>
              </a:rPr>
              <a:t>ФО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02f2e"/>
                </a:solidFill>
                <a:latin typeface="Calibri"/>
              </a:rPr>
              <a:t>отчетность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Прямоугольник 37"/>
          <p:cNvSpPr/>
          <p:nvPr/>
        </p:nvSpPr>
        <p:spPr>
          <a:xfrm>
            <a:off x="5511960" y="2278080"/>
            <a:ext cx="1550880" cy="585720"/>
          </a:xfrm>
          <a:prstGeom prst="rect">
            <a:avLst/>
          </a:prstGeom>
          <a:solidFill>
            <a:srgbClr val="65c9b5"/>
          </a:soli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02f2e"/>
                </a:solidFill>
                <a:latin typeface="Calibri"/>
              </a:rPr>
              <a:t>ТОФК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02f2e"/>
                </a:solidFill>
                <a:latin typeface="Calibri"/>
              </a:rPr>
              <a:t>отчетность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Двойная стрелка влево/вправо 40"/>
          <p:cNvSpPr/>
          <p:nvPr/>
        </p:nvSpPr>
        <p:spPr>
          <a:xfrm>
            <a:off x="3422520" y="2475000"/>
            <a:ext cx="1787760" cy="268200"/>
          </a:xfrm>
          <a:prstGeom prst="leftRightArrow">
            <a:avLst>
              <a:gd name="adj1" fmla="val 50000"/>
              <a:gd name="adj2" fmla="val 50024"/>
            </a:avLst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Прямоугольник 54"/>
          <p:cNvSpPr/>
          <p:nvPr/>
        </p:nvSpPr>
        <p:spPr>
          <a:xfrm>
            <a:off x="2122560" y="3330720"/>
            <a:ext cx="4908600" cy="861840"/>
          </a:xfrm>
          <a:prstGeom prst="rect">
            <a:avLst/>
          </a:prstGeom>
          <a:solidFill>
            <a:srgbClr val="65c9b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Стрелка вправо 55"/>
          <p:cNvSpPr/>
          <p:nvPr/>
        </p:nvSpPr>
        <p:spPr>
          <a:xfrm>
            <a:off x="3457440" y="3700440"/>
            <a:ext cx="1457640" cy="270000"/>
          </a:xfrm>
          <a:prstGeom prst="rightArrow">
            <a:avLst>
              <a:gd name="adj1" fmla="val 50000"/>
              <a:gd name="adj2" fmla="val 49988"/>
            </a:avLst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Box 7"/>
          <p:cNvSpPr/>
          <p:nvPr/>
        </p:nvSpPr>
        <p:spPr>
          <a:xfrm>
            <a:off x="2219400" y="3573360"/>
            <a:ext cx="1093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Отчет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(ф.0503117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)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Box 7"/>
          <p:cNvSpPr/>
          <p:nvPr/>
        </p:nvSpPr>
        <p:spPr>
          <a:xfrm>
            <a:off x="4967280" y="368136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Отчет (ф. 0503151)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(191н)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Прямоугольник 58"/>
          <p:cNvSpPr/>
          <p:nvPr/>
        </p:nvSpPr>
        <p:spPr>
          <a:xfrm>
            <a:off x="2130480" y="4348080"/>
            <a:ext cx="4883040" cy="868320"/>
          </a:xfrm>
          <a:prstGeom prst="rect">
            <a:avLst/>
          </a:prstGeom>
          <a:solidFill>
            <a:srgbClr val="65c9b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Стрелка вправо 59"/>
          <p:cNvSpPr/>
          <p:nvPr/>
        </p:nvSpPr>
        <p:spPr>
          <a:xfrm>
            <a:off x="3449520" y="4738680"/>
            <a:ext cx="1457280" cy="268200"/>
          </a:xfrm>
          <a:prstGeom prst="rightArrow">
            <a:avLst>
              <a:gd name="adj1" fmla="val 50000"/>
              <a:gd name="adj2" fmla="val 50009"/>
            </a:avLst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Box 7"/>
          <p:cNvSpPr/>
          <p:nvPr/>
        </p:nvSpPr>
        <p:spPr>
          <a:xfrm>
            <a:off x="2287440" y="4610160"/>
            <a:ext cx="1094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Отчет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(ф.0503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3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17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)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TextBox 7"/>
          <p:cNvSpPr/>
          <p:nvPr/>
        </p:nvSpPr>
        <p:spPr>
          <a:xfrm>
            <a:off x="4967280" y="4686480"/>
            <a:ext cx="220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Отчет (ф. 050315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2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) (191н)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3811f"/>
                </a:solidFill>
                <a:latin typeface="Arial"/>
              </a:rPr>
              <a:t>ТФФ по предоставлению бюджетной отчетности в ТОФК</a:t>
            </a:r>
            <a:endParaRPr b="1" lang="en-US" sz="2400" spc="-1" strike="noStrike">
              <a:solidFill>
                <a:srgbClr val="f3811f"/>
              </a:solidFill>
              <a:latin typeface="Arial"/>
            </a:endParaRPr>
          </a:p>
        </p:txBody>
      </p:sp>
      <p:pic>
        <p:nvPicPr>
          <p:cNvPr id="163" name="Picture 2" descr="C:\Users\Михаил\Desktop\тфф конс.jpg"/>
          <p:cNvPicPr/>
          <p:nvPr/>
        </p:nvPicPr>
        <p:blipFill>
          <a:blip r:embed="rId1"/>
          <a:stretch/>
        </p:blipFill>
        <p:spPr>
          <a:xfrm>
            <a:off x="444600" y="1744560"/>
            <a:ext cx="8305560" cy="440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3811f"/>
                </a:solidFill>
                <a:latin typeface="Arial"/>
              </a:rPr>
              <a:t>Работа ФО в СУФД-Портал</a:t>
            </a:r>
            <a:endParaRPr b="1" lang="en-US" sz="24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165" name="Номер слайда 3"/>
          <p:cNvSpPr/>
          <p:nvPr/>
        </p:nvSpPr>
        <p:spPr>
          <a:xfrm>
            <a:off x="8143920" y="6330960"/>
            <a:ext cx="576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A7DC6-9573-4849-8689-DA173526142A}" type="slidenum">
              <a:rPr b="1" lang="ru-RU" sz="2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Прямоугольник 9"/>
          <p:cNvSpPr/>
          <p:nvPr/>
        </p:nvSpPr>
        <p:spPr>
          <a:xfrm>
            <a:off x="581040" y="1278000"/>
            <a:ext cx="7200720" cy="5427720"/>
          </a:xfrm>
          <a:prstGeom prst="roundRect">
            <a:avLst>
              <a:gd name="adj" fmla="val 2565"/>
            </a:avLst>
          </a:prstGeom>
          <a:solidFill>
            <a:srgbClr val="ffffff">
              <a:alpha val="50000"/>
            </a:srgbClr>
          </a:solidFill>
          <a:ln w="28440">
            <a:solidFill>
              <a:srgbClr val="65c9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02f2e"/>
                </a:solidFill>
                <a:latin typeface="Calibri"/>
              </a:rPr>
              <a:t>АРМ СУФД-Портал ФО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»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Прямоугольник 12"/>
          <p:cNvSpPr/>
          <p:nvPr/>
        </p:nvSpPr>
        <p:spPr>
          <a:xfrm>
            <a:off x="843120" y="1835280"/>
            <a:ext cx="6719760" cy="395280"/>
          </a:xfrm>
          <a:prstGeom prst="rect">
            <a:avLst/>
          </a:prstGeom>
          <a:solidFill>
            <a:srgbClr val="65c9b5"/>
          </a:soli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Процесс загрузки архивного файла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Прямоугольник 14"/>
          <p:cNvSpPr/>
          <p:nvPr/>
        </p:nvSpPr>
        <p:spPr>
          <a:xfrm>
            <a:off x="849240" y="6421320"/>
            <a:ext cx="6707160" cy="128880"/>
          </a:xfrm>
          <a:prstGeom prst="rect">
            <a:avLst/>
          </a:prstGeom>
          <a:solidFill>
            <a:srgbClr val="65c9b5"/>
          </a:soli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Picture 2" descr="D:\1\Пчелы\Безымянный2.JPG"/>
          <p:cNvPicPr/>
          <p:nvPr/>
        </p:nvPicPr>
        <p:blipFill>
          <a:blip r:embed="rId1"/>
          <a:srcRect l="0" t="2640" r="0" b="3349"/>
          <a:stretch/>
        </p:blipFill>
        <p:spPr>
          <a:xfrm>
            <a:off x="888840" y="2293920"/>
            <a:ext cx="6627960" cy="4100400"/>
          </a:xfrm>
          <a:prstGeom prst="rect">
            <a:avLst/>
          </a:prstGeom>
          <a:ln w="0">
            <a:noFill/>
          </a:ln>
        </p:spPr>
      </p:pic>
      <p:grpSp>
        <p:nvGrpSpPr>
          <p:cNvPr id="170" name="Прямоугольник 10"/>
          <p:cNvGrpSpPr/>
          <p:nvPr/>
        </p:nvGrpSpPr>
        <p:grpSpPr>
          <a:xfrm>
            <a:off x="3144960" y="3524400"/>
            <a:ext cx="403200" cy="285480"/>
            <a:chOff x="3144960" y="3524400"/>
            <a:chExt cx="403200" cy="285480"/>
          </a:xfrm>
        </p:grpSpPr>
        <p:pic>
          <p:nvPicPr>
            <p:cNvPr id="171" name="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3144960" y="3524400"/>
              <a:ext cx="403200" cy="28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3238560" y="3619440"/>
              <a:ext cx="214200" cy="9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3" name="AutoShape 6"/>
          <p:cNvSpPr/>
          <p:nvPr/>
        </p:nvSpPr>
        <p:spPr>
          <a:xfrm>
            <a:off x="3265560" y="2362320"/>
            <a:ext cx="2189160" cy="679320"/>
          </a:xfrm>
          <a:prstGeom prst="wedgeRoundRectCallout">
            <a:avLst>
              <a:gd name="adj1" fmla="val -145824"/>
              <a:gd name="adj2" fmla="val 47759"/>
              <a:gd name="adj3" fmla="val 16667"/>
            </a:avLst>
          </a:prstGeom>
          <a:solidFill>
            <a:srgbClr val="79d2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02f2e"/>
                </a:solidFill>
                <a:latin typeface="Calibri"/>
              </a:rPr>
              <a:t>Выбор файла для загрузки. В имени файла 5-ти значный код УБП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Прямоугольник 9"/>
          <p:cNvSpPr/>
          <p:nvPr/>
        </p:nvSpPr>
        <p:spPr>
          <a:xfrm>
            <a:off x="2489040" y="4567320"/>
            <a:ext cx="2773440" cy="457200"/>
          </a:xfrm>
          <a:prstGeom prst="rect">
            <a:avLst/>
          </a:prstGeom>
          <a:solidFill>
            <a:srgbClr val="65c9b5"/>
          </a:soli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02f2e"/>
                </a:solidFill>
                <a:latin typeface="Calibri"/>
              </a:rPr>
              <a:t>Меню бюджетная отчетность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Прямоугольник 15"/>
          <p:cNvSpPr/>
          <p:nvPr/>
        </p:nvSpPr>
        <p:spPr>
          <a:xfrm>
            <a:off x="2489040" y="5130720"/>
            <a:ext cx="2773440" cy="457200"/>
          </a:xfrm>
          <a:prstGeom prst="rect">
            <a:avLst/>
          </a:prstGeom>
          <a:solidFill>
            <a:srgbClr val="65c9b5"/>
          </a:soli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02f2e"/>
                </a:solidFill>
                <a:latin typeface="Calibri"/>
              </a:rPr>
              <a:t>Периодические отчеты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Прямоугольник 16"/>
          <p:cNvSpPr/>
          <p:nvPr/>
        </p:nvSpPr>
        <p:spPr>
          <a:xfrm>
            <a:off x="2489040" y="5740560"/>
            <a:ext cx="2773440" cy="457200"/>
          </a:xfrm>
          <a:prstGeom prst="rect">
            <a:avLst/>
          </a:prstGeom>
          <a:solidFill>
            <a:srgbClr val="65c9b5"/>
          </a:soli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02f2e"/>
                </a:solidFill>
                <a:latin typeface="Calibri"/>
              </a:rPr>
              <a:t>Импорт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Прямоугольник 9"/>
          <p:cNvSpPr/>
          <p:nvPr/>
        </p:nvSpPr>
        <p:spPr>
          <a:xfrm>
            <a:off x="606600" y="1278000"/>
            <a:ext cx="7213320" cy="5427720"/>
          </a:xfrm>
          <a:prstGeom prst="roundRect">
            <a:avLst>
              <a:gd name="adj" fmla="val 1810"/>
            </a:avLst>
          </a:prstGeom>
          <a:solidFill>
            <a:srgbClr val="ffffff">
              <a:alpha val="50000"/>
            </a:srgbClr>
          </a:solidFill>
          <a:ln w="28440">
            <a:solidFill>
              <a:srgbClr val="65c9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02f2e"/>
                </a:solidFill>
                <a:latin typeface="Calibri"/>
              </a:rPr>
              <a:t>АРМ СУФД-Портал ГРБС, ПБС и ФО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3811f"/>
                </a:solidFill>
                <a:latin typeface="Arial"/>
              </a:rPr>
              <a:t>Работа ФО в СУФД-Портал</a:t>
            </a:r>
            <a:endParaRPr b="1" lang="en-US" sz="24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179" name="Номер слайда 3"/>
          <p:cNvSpPr/>
          <p:nvPr/>
        </p:nvSpPr>
        <p:spPr>
          <a:xfrm>
            <a:off x="8143920" y="6330960"/>
            <a:ext cx="576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AF1B9-2570-4E1F-A58D-EEF27817222F}" type="slidenum">
              <a:rPr b="1" lang="ru-RU" sz="2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Прямоугольник 14"/>
          <p:cNvSpPr/>
          <p:nvPr/>
        </p:nvSpPr>
        <p:spPr>
          <a:xfrm>
            <a:off x="868320" y="1522440"/>
            <a:ext cx="445932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1" name="Picture 2" descr="D:\1\Пчелы\Безымянный8.JPG"/>
          <p:cNvPicPr/>
          <p:nvPr/>
        </p:nvPicPr>
        <p:blipFill>
          <a:blip r:embed="rId1"/>
          <a:srcRect l="0" t="2610" r="0" b="3122"/>
          <a:stretch/>
        </p:blipFill>
        <p:spPr>
          <a:xfrm>
            <a:off x="914400" y="2228760"/>
            <a:ext cx="6662880" cy="4071960"/>
          </a:xfrm>
          <a:prstGeom prst="rect">
            <a:avLst/>
          </a:prstGeom>
          <a:ln w="0">
            <a:noFill/>
          </a:ln>
        </p:spPr>
      </p:pic>
      <p:sp>
        <p:nvSpPr>
          <p:cNvPr id="182" name="Прямоугольник 12"/>
          <p:cNvSpPr/>
          <p:nvPr/>
        </p:nvSpPr>
        <p:spPr>
          <a:xfrm>
            <a:off x="868320" y="1739880"/>
            <a:ext cx="6723000" cy="401760"/>
          </a:xfrm>
          <a:prstGeom prst="rect">
            <a:avLst/>
          </a:prstGeom>
          <a:solidFill>
            <a:srgbClr val="65c9b5"/>
          </a:soli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Процесс отправки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Прямоугольник 13"/>
          <p:cNvSpPr/>
          <p:nvPr/>
        </p:nvSpPr>
        <p:spPr>
          <a:xfrm>
            <a:off x="874800" y="6345360"/>
            <a:ext cx="6711840" cy="133200"/>
          </a:xfrm>
          <a:prstGeom prst="rect">
            <a:avLst/>
          </a:prstGeom>
          <a:solidFill>
            <a:srgbClr val="65c9b5"/>
          </a:soli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AutoShape 5"/>
          <p:cNvSpPr/>
          <p:nvPr/>
        </p:nvSpPr>
        <p:spPr>
          <a:xfrm>
            <a:off x="4546440" y="2228760"/>
            <a:ext cx="2352960" cy="642960"/>
          </a:xfrm>
          <a:prstGeom prst="wedgeRoundRectCallout">
            <a:avLst>
              <a:gd name="adj1" fmla="val -73171"/>
              <a:gd name="adj2" fmla="val 86277"/>
              <a:gd name="adj3" fmla="val 16667"/>
            </a:avLst>
          </a:prstGeom>
          <a:solidFill>
            <a:srgbClr val="79d2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02f2e"/>
                </a:solidFill>
                <a:latin typeface="Calibri"/>
              </a:rPr>
              <a:t>Нажимаем кнопку «Отправить», для передачи отчетов в ТОФК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5" name="Прямоугольник 10"/>
          <p:cNvGrpSpPr/>
          <p:nvPr/>
        </p:nvGrpSpPr>
        <p:grpSpPr>
          <a:xfrm>
            <a:off x="5718240" y="3981600"/>
            <a:ext cx="480960" cy="365040"/>
            <a:chOff x="5718240" y="3981600"/>
            <a:chExt cx="480960" cy="365040"/>
          </a:xfrm>
        </p:grpSpPr>
        <p:pic>
          <p:nvPicPr>
            <p:cNvPr id="186" name="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5718240" y="3981600"/>
              <a:ext cx="480960" cy="36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"/>
            <p:cNvSpPr/>
            <p:nvPr/>
          </p:nvSpPr>
          <p:spPr>
            <a:xfrm>
              <a:off x="5823000" y="4087800"/>
              <a:ext cx="270000" cy="15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8" name="Прямоугольник 17"/>
          <p:cNvSpPr/>
          <p:nvPr/>
        </p:nvSpPr>
        <p:spPr>
          <a:xfrm>
            <a:off x="2189160" y="4648320"/>
            <a:ext cx="2771640" cy="457200"/>
          </a:xfrm>
          <a:prstGeom prst="rect">
            <a:avLst/>
          </a:prstGeom>
          <a:solidFill>
            <a:srgbClr val="65c9b5"/>
          </a:soli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02f2e"/>
                </a:solidFill>
                <a:latin typeface="Calibri"/>
              </a:rPr>
              <a:t>1. Загрузка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Прямоугольник 19"/>
          <p:cNvSpPr/>
          <p:nvPr/>
        </p:nvSpPr>
        <p:spPr>
          <a:xfrm>
            <a:off x="2189160" y="5799240"/>
            <a:ext cx="2771640" cy="457200"/>
          </a:xfrm>
          <a:prstGeom prst="rect">
            <a:avLst/>
          </a:prstGeom>
          <a:solidFill>
            <a:srgbClr val="65c9b5"/>
          </a:soli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02f2e"/>
                </a:solidFill>
                <a:latin typeface="Calibri"/>
              </a:rPr>
              <a:t>3. Отправка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Прямоугольник 20"/>
          <p:cNvSpPr/>
          <p:nvPr/>
        </p:nvSpPr>
        <p:spPr>
          <a:xfrm>
            <a:off x="2189160" y="5216400"/>
            <a:ext cx="2771640" cy="457200"/>
          </a:xfrm>
          <a:prstGeom prst="rect">
            <a:avLst/>
          </a:prstGeom>
          <a:solidFill>
            <a:srgbClr val="65c9b5"/>
          </a:soli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02f2e"/>
                </a:solidFill>
                <a:latin typeface="Calibri"/>
              </a:rPr>
              <a:t>2. Документарный контроль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Прямоугольник 7"/>
          <p:cNvSpPr/>
          <p:nvPr/>
        </p:nvSpPr>
        <p:spPr>
          <a:xfrm>
            <a:off x="581040" y="1082520"/>
            <a:ext cx="7248600" cy="5623200"/>
          </a:xfrm>
          <a:prstGeom prst="roundRect">
            <a:avLst>
              <a:gd name="adj" fmla="val 1935"/>
            </a:avLst>
          </a:prstGeom>
          <a:solidFill>
            <a:srgbClr val="ffffff">
              <a:alpha val="50000"/>
            </a:srgbClr>
          </a:solidFill>
          <a:ln w="28440">
            <a:solidFill>
              <a:srgbClr val="65c9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02f2e"/>
                </a:solidFill>
                <a:latin typeface="Calibri"/>
              </a:rPr>
              <a:t>АРМ СУФД-Портал ГРБС, ПБС и ФО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3811f"/>
                </a:solidFill>
                <a:latin typeface="Arial"/>
              </a:rPr>
              <a:t>Работа ФО в СУФД-Портал</a:t>
            </a:r>
            <a:endParaRPr b="1" lang="en-US" sz="24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193" name="Номер слайда 3"/>
          <p:cNvSpPr/>
          <p:nvPr/>
        </p:nvSpPr>
        <p:spPr>
          <a:xfrm>
            <a:off x="8143920" y="6330960"/>
            <a:ext cx="576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369A0-5221-46B2-A77E-C71700FBE71A}" type="slidenum">
              <a:rPr b="1" lang="ru-RU" sz="2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4" name="Picture 3" descr="D:\1\Пчелы\Безымянный9.JPG"/>
          <p:cNvPicPr/>
          <p:nvPr/>
        </p:nvPicPr>
        <p:blipFill>
          <a:blip r:embed="rId1"/>
          <a:srcRect l="0" t="2546" r="0" b="2853"/>
          <a:stretch/>
        </p:blipFill>
        <p:spPr>
          <a:xfrm>
            <a:off x="838080" y="1982880"/>
            <a:ext cx="6815160" cy="4302000"/>
          </a:xfrm>
          <a:prstGeom prst="rect">
            <a:avLst/>
          </a:prstGeom>
          <a:ln w="0">
            <a:noFill/>
          </a:ln>
        </p:spPr>
      </p:pic>
      <p:sp>
        <p:nvSpPr>
          <p:cNvPr id="195" name="Прямоугольник 12"/>
          <p:cNvSpPr/>
          <p:nvPr/>
        </p:nvSpPr>
        <p:spPr>
          <a:xfrm>
            <a:off x="801720" y="1511280"/>
            <a:ext cx="6856560" cy="395280"/>
          </a:xfrm>
          <a:prstGeom prst="rect">
            <a:avLst/>
          </a:prstGeom>
          <a:solidFill>
            <a:srgbClr val="65c9b5"/>
          </a:soli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Статус отчета после получения в ТОФК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Прямоугольник 13"/>
          <p:cNvSpPr/>
          <p:nvPr/>
        </p:nvSpPr>
        <p:spPr>
          <a:xfrm>
            <a:off x="808200" y="6327720"/>
            <a:ext cx="6845040" cy="139680"/>
          </a:xfrm>
          <a:prstGeom prst="rect">
            <a:avLst/>
          </a:prstGeom>
          <a:solidFill>
            <a:srgbClr val="65c9b5"/>
          </a:soli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AutoShape 5"/>
          <p:cNvSpPr/>
          <p:nvPr/>
        </p:nvSpPr>
        <p:spPr>
          <a:xfrm>
            <a:off x="2703600" y="5227560"/>
            <a:ext cx="2352600" cy="642960"/>
          </a:xfrm>
          <a:prstGeom prst="wedgeRoundRectCallout">
            <a:avLst>
              <a:gd name="adj1" fmla="val 107782"/>
              <a:gd name="adj2" fmla="val -219152"/>
              <a:gd name="adj3" fmla="val 16667"/>
            </a:avLst>
          </a:prstGeom>
          <a:solidFill>
            <a:srgbClr val="79d2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02f2e"/>
                </a:solidFill>
                <a:latin typeface="Calibri"/>
              </a:rPr>
              <a:t>Принят учетной системой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Прямоугольник 12"/>
          <p:cNvSpPr/>
          <p:nvPr/>
        </p:nvSpPr>
        <p:spPr>
          <a:xfrm>
            <a:off x="81000" y="1776240"/>
            <a:ext cx="8869320" cy="4472280"/>
          </a:xfrm>
          <a:prstGeom prst="roundRect">
            <a:avLst>
              <a:gd name="adj" fmla="val 1963"/>
            </a:avLst>
          </a:prstGeom>
          <a:solidFill>
            <a:srgbClr val="ffffff">
              <a:alpha val="50000"/>
            </a:srgbClr>
          </a:solidFill>
          <a:ln w="28440">
            <a:solidFill>
              <a:srgbClr val="65c9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02f2e"/>
                </a:solidFill>
                <a:latin typeface="Calibri"/>
              </a:rPr>
              <a:t>ППО «АСФК (</a:t>
            </a:r>
            <a:r>
              <a:rPr b="1" lang="en-US" sz="2000" spc="-1" strike="noStrike">
                <a:solidFill>
                  <a:srgbClr val="302f2e"/>
                </a:solidFill>
                <a:latin typeface="Calibri"/>
              </a:rPr>
              <a:t>OEBS)</a:t>
            </a:r>
            <a:r>
              <a:rPr b="1" lang="ru-RU" sz="2000" spc="-1" strike="noStrike">
                <a:solidFill>
                  <a:srgbClr val="302f2e"/>
                </a:solidFill>
                <a:latin typeface="Calibri"/>
              </a:rPr>
              <a:t>»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3811f"/>
                </a:solidFill>
                <a:latin typeface="Arial"/>
              </a:rPr>
              <a:t>Работа ТОФК. Просмотр сформированных протоколов контроля в ТОФК</a:t>
            </a:r>
            <a:endParaRPr b="1" lang="en-US" sz="24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200" name="Номер слайда 3"/>
          <p:cNvSpPr/>
          <p:nvPr/>
        </p:nvSpPr>
        <p:spPr>
          <a:xfrm>
            <a:off x="8143920" y="6330960"/>
            <a:ext cx="576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25800-9D48-4134-A0A4-EA9F80CE2DC2}" type="slidenum">
              <a:rPr b="1" lang="ru-RU" sz="2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Заголовок 32"/>
          <p:cNvSpPr/>
          <p:nvPr/>
        </p:nvSpPr>
        <p:spPr>
          <a:xfrm>
            <a:off x="396720" y="5559480"/>
            <a:ext cx="33530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84646"/>
                </a:solidFill>
                <a:latin typeface="Calibri"/>
              </a:rPr>
              <a:t>Списковая форма загруженных отчетов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Заголовок 32"/>
          <p:cNvSpPr/>
          <p:nvPr/>
        </p:nvSpPr>
        <p:spPr>
          <a:xfrm>
            <a:off x="5607000" y="5559480"/>
            <a:ext cx="27860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84646"/>
                </a:solidFill>
                <a:latin typeface="Calibri"/>
              </a:rPr>
              <a:t>Сформированный протокол междокументного контроля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Прямоугольник 20"/>
          <p:cNvSpPr/>
          <p:nvPr/>
        </p:nvSpPr>
        <p:spPr>
          <a:xfrm>
            <a:off x="228600" y="2255760"/>
            <a:ext cx="8670960" cy="352440"/>
          </a:xfrm>
          <a:prstGeom prst="rect">
            <a:avLst/>
          </a:prstGeom>
          <a:solidFill>
            <a:srgbClr val="65c9b5"/>
          </a:soli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Прямоугольник 21"/>
          <p:cNvSpPr/>
          <p:nvPr/>
        </p:nvSpPr>
        <p:spPr>
          <a:xfrm>
            <a:off x="237960" y="5400720"/>
            <a:ext cx="8661600" cy="133200"/>
          </a:xfrm>
          <a:prstGeom prst="rect">
            <a:avLst/>
          </a:prstGeom>
          <a:solidFill>
            <a:srgbClr val="65c9b5"/>
          </a:soli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5" name="Picture 14" descr=""/>
          <p:cNvPicPr/>
          <p:nvPr/>
        </p:nvPicPr>
        <p:blipFill>
          <a:blip r:embed="rId1"/>
          <a:stretch/>
        </p:blipFill>
        <p:spPr>
          <a:xfrm>
            <a:off x="4834080" y="2716200"/>
            <a:ext cx="4128840" cy="101268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2" descr="Snap56"/>
          <p:cNvPicPr/>
          <p:nvPr/>
        </p:nvPicPr>
        <p:blipFill>
          <a:blip r:embed="rId2"/>
          <a:stretch/>
        </p:blipFill>
        <p:spPr>
          <a:xfrm>
            <a:off x="201600" y="2646360"/>
            <a:ext cx="4575240" cy="2766960"/>
          </a:xfrm>
          <a:prstGeom prst="rect">
            <a:avLst/>
          </a:prstGeom>
          <a:ln w="0">
            <a:noFill/>
          </a:ln>
        </p:spPr>
      </p:pic>
      <p:sp>
        <p:nvSpPr>
          <p:cNvPr id="207" name="Стрелка вниз 1"/>
          <p:cNvSpPr/>
          <p:nvPr/>
        </p:nvSpPr>
        <p:spPr>
          <a:xfrm>
            <a:off x="6450120" y="3755880"/>
            <a:ext cx="896760" cy="565200"/>
          </a:xfrm>
          <a:prstGeom prst="downArrow">
            <a:avLst>
              <a:gd name="adj1" fmla="val 50000"/>
              <a:gd name="adj2" fmla="val 50000"/>
            </a:avLst>
          </a:prstGeom>
          <a:noFill/>
          <a:ln w="28440">
            <a:solidFill>
              <a:srgbClr val="65c9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Прямоугольник 11"/>
          <p:cNvSpPr/>
          <p:nvPr/>
        </p:nvSpPr>
        <p:spPr>
          <a:xfrm>
            <a:off x="5311800" y="4568760"/>
            <a:ext cx="3173400" cy="639720"/>
          </a:xfrm>
          <a:prstGeom prst="rect">
            <a:avLst/>
          </a:prstGeom>
          <a:solidFill>
            <a:srgbClr val="65c9b5"/>
          </a:soli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02f2e"/>
                </a:solidFill>
                <a:latin typeface="Calibri"/>
              </a:rPr>
              <a:t>Автоматическая отправка 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02f2e"/>
                </a:solidFill>
                <a:latin typeface="Calibri"/>
              </a:rPr>
              <a:t>протокола в СУФД портал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Прямоугольник 8"/>
          <p:cNvSpPr/>
          <p:nvPr/>
        </p:nvSpPr>
        <p:spPr>
          <a:xfrm>
            <a:off x="396720" y="1500120"/>
            <a:ext cx="8201160" cy="5257800"/>
          </a:xfrm>
          <a:prstGeom prst="roundRect">
            <a:avLst>
              <a:gd name="adj" fmla="val 2315"/>
            </a:avLst>
          </a:prstGeom>
          <a:solidFill>
            <a:srgbClr val="ffffff">
              <a:alpha val="50000"/>
            </a:srgbClr>
          </a:solidFill>
          <a:ln w="28440">
            <a:solidFill>
              <a:srgbClr val="65c9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02f2e"/>
                </a:solidFill>
                <a:latin typeface="Calibri"/>
              </a:rPr>
              <a:t>АРМ СУФД-Портал ГРБС, ПБС и ФО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3811f"/>
                </a:solidFill>
                <a:latin typeface="Arial"/>
              </a:rPr>
              <a:t>Просмотр сформированных и переданных протоколов контроля УБП</a:t>
            </a:r>
            <a:endParaRPr b="1" lang="en-US" sz="24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211" name="Номер слайда 3"/>
          <p:cNvSpPr/>
          <p:nvPr/>
        </p:nvSpPr>
        <p:spPr>
          <a:xfrm>
            <a:off x="8143920" y="6330960"/>
            <a:ext cx="576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551F0-3AC7-41E0-8A6A-2158E85D0D97}" type="slidenum">
              <a:rPr b="1" lang="ru-RU" sz="2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2" name="Picture 2" descr="D:\1\Пчелы\-112.jpg"/>
          <p:cNvPicPr/>
          <p:nvPr/>
        </p:nvPicPr>
        <p:blipFill>
          <a:blip r:embed="rId1"/>
          <a:srcRect l="0" t="2498" r="0" b="2847"/>
          <a:stretch/>
        </p:blipFill>
        <p:spPr>
          <a:xfrm>
            <a:off x="598320" y="1851120"/>
            <a:ext cx="7818480" cy="4626000"/>
          </a:xfrm>
          <a:prstGeom prst="rect">
            <a:avLst/>
          </a:prstGeom>
          <a:ln w="0">
            <a:noFill/>
          </a:ln>
        </p:spPr>
      </p:pic>
      <p:grpSp>
        <p:nvGrpSpPr>
          <p:cNvPr id="213" name="Прямоугольник 10"/>
          <p:cNvGrpSpPr/>
          <p:nvPr/>
        </p:nvGrpSpPr>
        <p:grpSpPr>
          <a:xfrm>
            <a:off x="6431040" y="3468600"/>
            <a:ext cx="1639800" cy="341280"/>
            <a:chOff x="6431040" y="3468600"/>
            <a:chExt cx="1639800" cy="341280"/>
          </a:xfrm>
        </p:grpSpPr>
        <p:pic>
          <p:nvPicPr>
            <p:cNvPr id="214" name="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6431040" y="3468600"/>
              <a:ext cx="1639800" cy="34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5" name=""/>
            <p:cNvSpPr/>
            <p:nvPr/>
          </p:nvSpPr>
          <p:spPr>
            <a:xfrm>
              <a:off x="6535800" y="3571920"/>
              <a:ext cx="1430280" cy="13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6" name="Прямоугольник 10"/>
          <p:cNvGrpSpPr/>
          <p:nvPr/>
        </p:nvGrpSpPr>
        <p:grpSpPr>
          <a:xfrm>
            <a:off x="2262240" y="5010120"/>
            <a:ext cx="6296040" cy="317520"/>
            <a:chOff x="2262240" y="5010120"/>
            <a:chExt cx="6296040" cy="317520"/>
          </a:xfrm>
        </p:grpSpPr>
        <p:pic>
          <p:nvPicPr>
            <p:cNvPr id="217" name="Прямоугольник 10" descr=""/>
            <p:cNvPicPr/>
            <p:nvPr/>
          </p:nvPicPr>
          <p:blipFill>
            <a:blip r:embed="rId3"/>
            <a:stretch/>
          </p:blipFill>
          <p:spPr>
            <a:xfrm>
              <a:off x="2262240" y="5010120"/>
              <a:ext cx="6296040" cy="31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" name=""/>
            <p:cNvSpPr/>
            <p:nvPr/>
          </p:nvSpPr>
          <p:spPr>
            <a:xfrm>
              <a:off x="2362320" y="5106960"/>
              <a:ext cx="6100560" cy="12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9" name="Прямоугольник 8"/>
          <p:cNvSpPr/>
          <p:nvPr/>
        </p:nvSpPr>
        <p:spPr>
          <a:xfrm>
            <a:off x="598320" y="6523200"/>
            <a:ext cx="7818480" cy="133200"/>
          </a:xfrm>
          <a:prstGeom prst="rect">
            <a:avLst/>
          </a:prstGeom>
          <a:solidFill>
            <a:srgbClr val="65c9b5"/>
          </a:soli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AutoShape 5"/>
          <p:cNvSpPr/>
          <p:nvPr/>
        </p:nvSpPr>
        <p:spPr>
          <a:xfrm>
            <a:off x="5643720" y="5657760"/>
            <a:ext cx="2352600" cy="642960"/>
          </a:xfrm>
          <a:prstGeom prst="wedgeRoundRectCallout">
            <a:avLst>
              <a:gd name="adj1" fmla="val -144893"/>
              <a:gd name="adj2" fmla="val -122689"/>
              <a:gd name="adj3" fmla="val 16667"/>
            </a:avLst>
          </a:prstGeom>
          <a:solidFill>
            <a:srgbClr val="79d2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02f2e"/>
                </a:solidFill>
                <a:latin typeface="Calibri"/>
              </a:rPr>
              <a:t>Протоколы контроля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0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7T06:57:33Z</dcterms:created>
  <dc:creator>PowerLexis</dc:creator>
  <dc:description/>
  <dc:language>en-US</dc:language>
  <cp:lastModifiedBy>X</cp:lastModifiedBy>
  <dcterms:modified xsi:type="dcterms:W3CDTF">2015-09-17T11:40:39Z</dcterms:modified>
  <cp:revision>390</cp:revision>
  <dc:subject/>
  <dc:title>Корпоративный шаблон презентаций компании ОТР</dc:title>
</cp:coreProperties>
</file>