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6075-F925-462A-AE68-489FF1E0A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E54F-F964-442D-92E4-D8322B168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CD2-B196-4533-B200-9DFDCE20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A54-76E9-4F92-8DFB-6E7A29A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048-C4C1-4DB3-8D58-2F11823C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8DA-D546-4EF4-AC64-F8226F8E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ECC-E1B0-4F2C-B267-3996F813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CF9-9348-460B-9A19-40D689A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532-685F-4025-84D7-F52545E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2CF-FD0D-469B-99F7-A4DA48C3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F0D-B561-4CED-A9CA-3E48AF7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EE4-A346-4EBE-8C0C-C52A757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CA4-6B1C-4D26-B83C-0B3C8E6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2A6-29A3-43D3-8B07-B66B2912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A1FA-73FC-4DD1-8238-0F2A18C0DD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8B1-74D6-404A-AC6C-63B700FB9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5003640" y="4437000"/>
            <a:ext cx="29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00080" y="1125360"/>
            <a:ext cx="753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Calibri"/>
                <a:ea typeface="Arial"/>
              </a:rPr>
              <a:t>Основные итоги представления в Межрегиональное операционное УФК бюджетной (бухгалтерской) отче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Calibri"/>
                <a:ea typeface="Arial"/>
              </a:rPr>
              <a:t>финансовых органов субъе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Calibri"/>
                <a:ea typeface="Arial"/>
              </a:rPr>
              <a:t>Российской Федерации и органов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Calibri"/>
                <a:ea typeface="Arial"/>
              </a:rPr>
              <a:t>государственными внебюджетными фон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Calibri"/>
                <a:ea typeface="Arial"/>
              </a:rPr>
              <a:t>Российской Федерации за 201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140360" y="5084640"/>
            <a:ext cx="48607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Отдела консолидированной отчетности Межрегионального операционного У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К.В. Улья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220320"/>
            <a:ext cx="7921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Анализ основных ошибок в отчетных формах ФО, </a:t>
            </a:r>
            <a:br>
              <a:rPr sz="1600"/>
            </a:b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представленных в МОУ ФК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68360" y="1557360"/>
            <a:ext cx="7848720" cy="1008000"/>
          </a:xfrm>
          <a:prstGeom prst="rect">
            <a:avLst/>
          </a:prstGeom>
          <a:solidFill>
            <a:srgbClr val="4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Сведения об изменении остатков валюты балан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учреждения  (ф.05037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865160" y="4005360"/>
            <a:ext cx="5586480" cy="874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 обеспечено соответствие отчетных данных при изменении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учреждения, передаче учреждения другому бюджету бюджетной 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571760" y="2565360"/>
            <a:ext cx="0" cy="19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1587600" y="44658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587600" y="309888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65160" y="2781360"/>
            <a:ext cx="558648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верно заполнялся раздел 2 (графы 3 и 4 «Реквизиты контраген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и 5 «Причина расхождения»)  (совместное письмо Минфина Росс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Федерального казначейства от 15.12.2011 № 02-06-07/5617 и № 42-7.4-05/20-790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15B7-2AAF-46A0-A3D6-C60DC8907620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04760" y="1146240"/>
            <a:ext cx="879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8116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Статистика количества финансовых органов, представивших уточненные формы бюджетной отчетности после срока сдачи годовой отчетности в МОУ ФК за 2013 -2014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861-B766-40F2-9DD9-95D9E17A0790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5157720"/>
          <a:ext cx="1008000" cy="21600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216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3"/>
          <p:cNvSpPr/>
          <p:nvPr/>
        </p:nvSpPr>
        <p:spPr>
          <a:xfrm>
            <a:off x="1763640" y="5157720"/>
            <a:ext cx="37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-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 u="sng">
                <a:solidFill>
                  <a:srgbClr val="162387"/>
                </a:solidFill>
                <a:uFillTx/>
                <a:latin typeface="Times New Roman"/>
                <a:ea typeface="Times New Roman"/>
              </a:rPr>
              <a:t>общее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 количество финансовых орган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5589720"/>
          <a:ext cx="1008000" cy="2156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215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99ff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9"/>
          <p:cNvSpPr/>
          <p:nvPr/>
        </p:nvSpPr>
        <p:spPr>
          <a:xfrm>
            <a:off x="1763640" y="5589720"/>
            <a:ext cx="729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- количество ФО</a:t>
            </a:r>
            <a:r>
              <a:rPr b="1" lang="en-US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,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 представивших </a:t>
            </a:r>
            <a:r>
              <a:rPr b="1" lang="ru-RU" sz="1000" spc="-1" strike="noStrike" u="sng">
                <a:solidFill>
                  <a:srgbClr val="162387"/>
                </a:solidFill>
                <a:uFillTx/>
                <a:latin typeface="Times New Roman"/>
                <a:ea typeface="Times New Roman"/>
              </a:rPr>
              <a:t>уточненные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 формы бюджетной отчетности после сроков сдачи годовой отчет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Диаграмма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87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4760" y="1146240"/>
            <a:ext cx="879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026-AA80-4B4B-AA98-C618F5CDCF03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26920" y="115920"/>
            <a:ext cx="706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Основные проблемы (ошибки) финансовых органов субъектов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16000" y="1351080"/>
            <a:ext cx="7056360" cy="122400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Проблемы, возникающие при приеме годовой отче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финансовых органов субъект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050920" y="2616120"/>
            <a:ext cx="72072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0920" y="3794040"/>
            <a:ext cx="2601720" cy="150660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Св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взаимосвяз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расчетов по МБ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572000" y="2575080"/>
            <a:ext cx="0" cy="1215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987640" y="3794040"/>
            <a:ext cx="3168720" cy="150660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Св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взаимосвязанных расч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по переданному</a:t>
            </a:r>
            <a:r>
              <a:rPr b="1" lang="en-US" sz="2000" spc="-1" strike="noStrike">
                <a:solidFill>
                  <a:srgbClr val="162387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получен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иму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6732720" y="2575080"/>
            <a:ext cx="86364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372360" y="3794040"/>
            <a:ext cx="2690640" cy="150660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организ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технолог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Calibri"/>
              </a:rPr>
              <a:t>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1280" y="1171440"/>
            <a:ext cx="892836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alibri"/>
              </a:rPr>
              <a:t>Сверка взаимосвязанных расчетов ФО и ГРБС в части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Многочисленные  расхождения взаимосвязанных показателей Справки по консолидируемым расчетам (ф.0503125) между показателями ГРБС и ФО обусловле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отсутствием возможности проведения  уточнения  поступлений МБТ, зачисленных на код доходов «Невыясненные поступления, зачисляемые в федеральный бюджет» в дополнительный период финансов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поздними сроками подтверждения  ГРБС  остатков МБТ  ФО (в период сдачи основного комплекта годовой отчет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неэффективным взаимодействием между ТОФК и ФО в части уточнения МБТ, находящихся на КБК «Невыясненные поступления, зачисляемые в федеральный бюджет» на конец отчетного финансов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71640" y="1159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Основные ошибки (проблемы) финансовых органов субъектов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D3D8-E7C9-41BD-9486-1F867EA31A8D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2"/>
          <p:cNvCxnSpPr/>
          <p:nvPr/>
        </p:nvCxnSpPr>
        <p:spPr>
          <a:xfrm>
            <a:off x="5292360" y="3068280"/>
            <a:ext cx="1080" cy="1080"/>
          </a:xfrm>
          <a:prstGeom prst="straightConnector1">
            <a:avLst/>
          </a:prstGeom>
          <a:ln w="9360">
            <a:solidFill>
              <a:srgbClr val="fe328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1"/>
          <p:cNvSpPr/>
          <p:nvPr/>
        </p:nvSpPr>
        <p:spPr>
          <a:xfrm>
            <a:off x="8532720" y="6093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80E1-2F4C-4C0F-8D8E-F05E8F539C98}" type="slidenum">
              <a:rPr b="0" lang="ru-RU" sz="1400" spc="-1" strike="noStrike">
                <a:solidFill>
                  <a:srgbClr val="162387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50920" y="1268280"/>
            <a:ext cx="87138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2387"/>
                </a:solidFill>
                <a:latin typeface="Calibri"/>
              </a:rPr>
              <a:t>Мероприятия (предложения), направленные на недопущение расхождений по межбюджетным трансфе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Направление МОУ ФК в адрес УФК по субъектам Российской Федерации информации о перечисленных из федерального бюджета межбюджетных трансфе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Проведение совместной работы УФК по субъектам Российской Федерации и ФО по своевременному уточнению межбюджетных трансфертов, зачисленных на коды невыясненных по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Проведение работы ФО по недопущению (минимизации) случаев перечисления МБТ  внутри консолидированного бюджета субъекта Российской Федерации в последний рабочий день финансов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24000" y="476280"/>
            <a:ext cx="75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евентив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08000" y="1146240"/>
            <a:ext cx="89550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alibri"/>
              </a:rPr>
              <a:t>       </a:t>
            </a:r>
            <a:r>
              <a:rPr b="1" i="1" lang="ru-RU" sz="2400" spc="-1" strike="noStrike">
                <a:solidFill>
                  <a:srgbClr val="00349e"/>
                </a:solidFill>
                <a:latin typeface="Calibri"/>
              </a:rPr>
              <a:t>Проблемы сверки по переданному/полученному имущ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многочисленные расхождения взаимосвязанных расчетов по переданному и полученному имуществу между ГРБС и ФО в процессе приема основного комплекта годовой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49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наличие расхождений показателей взаимосвязанных расчетов по передаче/приему казенного, бюджетного (автономного) учреждения в собственность другого публично-правового образования (ГРБС </a:t>
            </a:r>
            <a:r>
              <a:rPr b="1" i="1" lang="en-US" sz="2000" spc="-1" strike="noStrike">
                <a:solidFill>
                  <a:srgbClr val="00349e"/>
                </a:solidFill>
                <a:latin typeface="Calibri"/>
              </a:rPr>
              <a:t>&lt;-&gt;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Ф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00349e"/>
                </a:solidFill>
                <a:latin typeface="Calibri"/>
              </a:rPr>
              <a:t>(при выявлении расхождений непосредственно в процессе приема годовой отчетности   отсутствует возможность устранения расхожд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115920"/>
            <a:ext cx="706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Основные ошибки (проблемы) финансовых органов субъектов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87D-BB82-4029-B28F-72EAA726ECDB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1"/>
          <p:cNvSpPr/>
          <p:nvPr/>
        </p:nvSpPr>
        <p:spPr>
          <a:xfrm>
            <a:off x="8532720" y="6093000"/>
            <a:ext cx="45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1D66-E61E-4CDF-8663-B654202C5825}" type="slidenum">
              <a:rPr b="0" lang="ru-RU" sz="1400" spc="-1" strike="noStrike">
                <a:solidFill>
                  <a:srgbClr val="162387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771640" y="333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евентив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8360" y="907920"/>
            <a:ext cx="87123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2387"/>
                </a:solidFill>
                <a:latin typeface="Calibri"/>
              </a:rPr>
              <a:t>Мероприятия (предложения), направленные на недопущение расхождений в ходе проведения сверки по переданному/полученному имущ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Продолжить проведение обязательной выверки взаимных расчетов по имуществу между ГРБС, ФО на отчетную дату 01 октября текущего финансов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Проведение промежуточной сверки субъектами бюджетной отчетности взаимосвязанных расчетов по передаче/приему казенного, бюджетного (автономного) учреждения в собственность другого публично-правового образования на отчетную дату 01 октября текущего финансового года (ф.0503373, ф.0503773, ф.05031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826920" y="26028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Основные ошибки (проблемы) финансовых органов субъектов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179280" y="1052640"/>
            <a:ext cx="8713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2387"/>
                </a:solidFill>
                <a:latin typeface="Calibri"/>
              </a:rPr>
              <a:t>Проблемы организационно-технологическ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Несвоевременная замена ключей ЭЦП для ППО «СУФ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Неготовность ППО АСФК и ППО СУФД к приему годовой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Реализация новых контролей в ППО «АСФК» непосредственно в процессе приема  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Доведение</a:t>
            </a:r>
            <a:r>
              <a:rPr b="1" i="1" lang="en-US" sz="20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не в полном объеме разъяснений по особенностям заполнения форм отчетности и отсутствие примеров заполнения данных форм в структурирован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1"/>
          <p:cNvSpPr/>
          <p:nvPr/>
        </p:nvSpPr>
        <p:spPr>
          <a:xfrm>
            <a:off x="8532720" y="6093000"/>
            <a:ext cx="45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4BEA-82E5-4335-ACC8-65379A1EDB2A}" type="slidenum">
              <a:rPr b="0" lang="ru-RU" sz="1400" spc="-1" strike="noStrike">
                <a:solidFill>
                  <a:srgbClr val="162387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1"/>
          <p:cNvSpPr/>
          <p:nvPr/>
        </p:nvSpPr>
        <p:spPr>
          <a:xfrm>
            <a:off x="8459640" y="62373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205-2D36-4D6A-85B2-EAB6E54CEFDE}" type="slidenum">
              <a:rPr b="0" lang="ru-RU" sz="1400" spc="-1" strike="noStrike">
                <a:solidFill>
                  <a:srgbClr val="162387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411280" y="3333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Превентив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08000" y="1268280"/>
            <a:ext cx="8785080" cy="38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2387"/>
                </a:solidFill>
                <a:latin typeface="Calibri"/>
              </a:rPr>
              <a:t>Мероприятия (предложения), направленные на решение проблем организационно-технологическ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Своевременное проведении плановой замены ключей ЭЦП ППО «СУФД» (письмо ФК от 18.12.2013 №42-7.4-05/2.1-825 , не менее чем за 2 нед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Осуществление приемочных испытаний ППО «АСФК» с пилотными ФО до официальных сроков сдачи годовой отче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Проведение  видеоконференций с  ФО по вопросам сдачи годовой отчетности </a:t>
            </a:r>
            <a:r>
              <a:rPr b="1" i="1" lang="ru-RU" sz="2000" spc="-1" strike="noStrike" u="sng">
                <a:solidFill>
                  <a:srgbClr val="162387"/>
                </a:solidFill>
                <a:uFillTx/>
                <a:latin typeface="Calibri"/>
              </a:rPr>
              <a:t>перед приемом </a:t>
            </a: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238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623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2211480" y="314172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8642520" y="6237360"/>
            <a:ext cx="39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618C-761A-40B8-A998-648BCA471B67}" type="slidenum">
              <a:rPr b="0" lang="ru-RU" sz="1400" spc="-1" strike="noStrike">
                <a:solidFill>
                  <a:srgbClr val="162387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332000" y="189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Взаимодействие МОУ ФК и ФО средствами ППО «СУФ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9"/>
          <p:cNvGrpSpPr/>
          <p:nvPr/>
        </p:nvGrpSpPr>
        <p:grpSpPr>
          <a:xfrm>
            <a:off x="395280" y="1386000"/>
            <a:ext cx="2304720" cy="1416600"/>
            <a:chOff x="395280" y="1386000"/>
            <a:chExt cx="2304720" cy="1416600"/>
          </a:xfrm>
        </p:grpSpPr>
        <p:grpSp>
          <p:nvGrpSpPr>
            <p:cNvPr id="55" name="Group 52"/>
            <p:cNvGrpSpPr/>
            <p:nvPr/>
          </p:nvGrpSpPr>
          <p:grpSpPr>
            <a:xfrm>
              <a:off x="852480" y="1386000"/>
              <a:ext cx="1305360" cy="1007640"/>
              <a:chOff x="852480" y="1386000"/>
              <a:chExt cx="1305360" cy="1007640"/>
            </a:xfrm>
          </p:grpSpPr>
          <p:sp>
            <p:nvSpPr>
              <p:cNvPr id="56" name="Oval 53"/>
              <p:cNvSpPr/>
              <p:nvPr/>
            </p:nvSpPr>
            <p:spPr>
              <a:xfrm>
                <a:off x="852480" y="1882440"/>
                <a:ext cx="1305360" cy="49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e7928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e4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54" descr="j0433944[1]"/>
              <p:cNvPicPr/>
              <p:nvPr/>
            </p:nvPicPr>
            <p:blipFill>
              <a:blip r:embed="rId1"/>
              <a:stretch/>
            </p:blipFill>
            <p:spPr>
              <a:xfrm>
                <a:off x="1087920" y="1386000"/>
                <a:ext cx="949320" cy="100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Text Box 10"/>
            <p:cNvSpPr/>
            <p:nvPr/>
          </p:nvSpPr>
          <p:spPr>
            <a:xfrm>
              <a:off x="395280" y="2465280"/>
              <a:ext cx="23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ru-RU" sz="1600" spc="-1" strike="noStrike">
                  <a:solidFill>
                    <a:srgbClr val="162387"/>
                  </a:solidFill>
                  <a:latin typeface="Calibri"/>
                </a:rPr>
                <a:t>Финансовые</a:t>
              </a:r>
              <a:r>
                <a:rPr b="1" lang="ru-RU" sz="1600" spc="-1" strike="noStrike">
                  <a:solidFill>
                    <a:srgbClr val="162387"/>
                  </a:solidFill>
                  <a:latin typeface="Calibri"/>
                </a:rPr>
                <a:t> </a:t>
              </a:r>
              <a:r>
                <a:rPr b="1" lang="ru-RU" sz="1600" spc="-1" strike="noStrike">
                  <a:solidFill>
                    <a:srgbClr val="162387"/>
                  </a:solidFill>
                  <a:latin typeface="Calibri"/>
                </a:rPr>
                <a:t>орга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5940360" y="1415880"/>
            <a:ext cx="2734920" cy="1393200"/>
            <a:chOff x="5940360" y="1415880"/>
            <a:chExt cx="2734920" cy="1393200"/>
          </a:xfrm>
        </p:grpSpPr>
        <p:pic>
          <p:nvPicPr>
            <p:cNvPr id="60" name="Picture 16" descr="j0205462"/>
            <p:cNvPicPr/>
            <p:nvPr/>
          </p:nvPicPr>
          <p:blipFill>
            <a:blip r:embed="rId2"/>
            <a:stretch/>
          </p:blipFill>
          <p:spPr>
            <a:xfrm>
              <a:off x="6286680" y="1415880"/>
              <a:ext cx="2355120" cy="12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17"/>
            <p:cNvSpPr/>
            <p:nvPr/>
          </p:nvSpPr>
          <p:spPr>
            <a:xfrm>
              <a:off x="5940360" y="2471760"/>
              <a:ext cx="27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62387"/>
                  </a:solidFill>
                  <a:latin typeface="Calibri"/>
                </a:rPr>
                <a:t>МОУ Ф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Двойная стрелка влево/вправо 11"/>
          <p:cNvSpPr/>
          <p:nvPr/>
        </p:nvSpPr>
        <p:spPr>
          <a:xfrm>
            <a:off x="2728800" y="2025720"/>
            <a:ext cx="3117960" cy="21600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00349e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TextBox 15"/>
          <p:cNvGrpSpPr/>
          <p:nvPr/>
        </p:nvGrpSpPr>
        <p:grpSpPr>
          <a:xfrm>
            <a:off x="384120" y="3071880"/>
            <a:ext cx="2328840" cy="860400"/>
            <a:chOff x="384120" y="3071880"/>
            <a:chExt cx="2328840" cy="860400"/>
          </a:xfrm>
        </p:grpSpPr>
        <p:pic>
          <p:nvPicPr>
            <p:cNvPr id="64" name="TextBox 15" descr=""/>
            <p:cNvPicPr/>
            <p:nvPr/>
          </p:nvPicPr>
          <p:blipFill>
            <a:blip r:embed="rId3"/>
            <a:stretch/>
          </p:blipFill>
          <p:spPr>
            <a:xfrm>
              <a:off x="384120" y="3071880"/>
              <a:ext cx="23288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95280" y="3086280"/>
              <a:ext cx="230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Импорт отчетных фор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в ППО «СУФД»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(контроль, подписание и отправ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6218280" y="3067200"/>
            <a:ext cx="2365200" cy="1041120"/>
            <a:chOff x="6218280" y="3067200"/>
            <a:chExt cx="2365200" cy="1041120"/>
          </a:xfrm>
        </p:grpSpPr>
        <p:pic>
          <p:nvPicPr>
            <p:cNvPr id="67" name="TextBox 20" descr=""/>
            <p:cNvPicPr/>
            <p:nvPr/>
          </p:nvPicPr>
          <p:blipFill>
            <a:blip r:embed="rId4"/>
            <a:stretch/>
          </p:blipFill>
          <p:spPr>
            <a:xfrm>
              <a:off x="6218280" y="3067200"/>
              <a:ext cx="23652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227640" y="3078000"/>
              <a:ext cx="234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Проведение контролей ФК, ВДК, МДК, В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с автоматической отправкой протокол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Прямая со стрелкой 22"/>
          <p:cNvCxnSpPr/>
          <p:nvPr/>
        </p:nvCxnSpPr>
        <p:spPr>
          <a:xfrm>
            <a:off x="2843280" y="3501720"/>
            <a:ext cx="3242160" cy="1080"/>
          </a:xfrm>
          <a:prstGeom prst="straightConnector1">
            <a:avLst/>
          </a:prstGeom>
          <a:ln w="28440">
            <a:solidFill>
              <a:srgbClr val="00349e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TextBox 25"/>
          <p:cNvSpPr/>
          <p:nvPr/>
        </p:nvSpPr>
        <p:spPr>
          <a:xfrm>
            <a:off x="3348000" y="299736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течение 5-10 минут после получения отчетных форм Ф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539640" y="4797360"/>
            <a:ext cx="21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TextBox 28"/>
          <p:cNvGrpSpPr/>
          <p:nvPr/>
        </p:nvGrpSpPr>
        <p:grpSpPr>
          <a:xfrm>
            <a:off x="384120" y="4425840"/>
            <a:ext cx="2328840" cy="1408320"/>
            <a:chOff x="384120" y="4425840"/>
            <a:chExt cx="2328840" cy="1408320"/>
          </a:xfrm>
        </p:grpSpPr>
        <p:pic>
          <p:nvPicPr>
            <p:cNvPr id="73" name="TextBox 28" descr=""/>
            <p:cNvPicPr/>
            <p:nvPr/>
          </p:nvPicPr>
          <p:blipFill>
            <a:blip r:embed="rId5"/>
            <a:stretch/>
          </p:blipFill>
          <p:spPr>
            <a:xfrm>
              <a:off x="384120" y="4425840"/>
              <a:ext cx="23288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95280" y="4437000"/>
              <a:ext cx="230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Контроль смены статусов отчетных форм</a:t>
              </a:r>
              <a:r>
                <a:rPr b="1" lang="en-US" sz="1200" spc="-1" strike="noStrike">
                  <a:solidFill>
                    <a:srgbClr val="162387"/>
                  </a:solidFill>
                  <a:latin typeface="Calibri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62387"/>
                  </a:solidFill>
                  <a:latin typeface="Calibri"/>
                </a:rPr>
                <a:t>700 – </a:t>
              </a: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отчет получ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789 </a:t>
              </a:r>
              <a:r>
                <a:rPr b="1" lang="en-US" sz="1200" spc="-1" strike="noStrike">
                  <a:solidFill>
                    <a:srgbClr val="162387"/>
                  </a:solidFill>
                  <a:latin typeface="Calibri"/>
                </a:rPr>
                <a:t>– </a:t>
              </a: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отчет принят и готов к свер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798 </a:t>
              </a:r>
              <a:r>
                <a:rPr b="1" lang="en-US" sz="1200" spc="-1" strike="noStrike">
                  <a:solidFill>
                    <a:srgbClr val="162387"/>
                  </a:solidFill>
                  <a:latin typeface="Calibri"/>
                </a:rPr>
                <a:t>–</a:t>
              </a: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 подтвержден услов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799 </a:t>
              </a:r>
              <a:r>
                <a:rPr b="1" lang="en-US" sz="1200" spc="-1" strike="noStrike">
                  <a:solidFill>
                    <a:srgbClr val="162387"/>
                  </a:solidFill>
                  <a:latin typeface="Calibri"/>
                </a:rPr>
                <a:t>–</a:t>
              </a:r>
              <a:r>
                <a:rPr b="1" lang="ru-RU" sz="1200" spc="-1" strike="noStrike">
                  <a:solidFill>
                    <a:srgbClr val="162387"/>
                  </a:solidFill>
                  <a:latin typeface="Calibri"/>
                </a:rPr>
                <a:t> подтвержд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Прямая со стрелкой 29"/>
          <p:cNvCxnSpPr/>
          <p:nvPr/>
        </p:nvCxnSpPr>
        <p:spPr>
          <a:xfrm flipV="1">
            <a:off x="2728800" y="3644640"/>
            <a:ext cx="3356640" cy="1281600"/>
          </a:xfrm>
          <a:prstGeom prst="straightConnector1">
            <a:avLst/>
          </a:prstGeom>
          <a:ln w="28440">
            <a:solidFill>
              <a:srgbClr val="00349e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403280" y="18900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49e"/>
                </a:solidFill>
                <a:latin typeface="Arial"/>
              </a:rPr>
              <a:t>Статистика количества представленных в МОУ ФК форм годовой отчетности ФО за 2013 -2014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FA23-704C-4302-B8AB-378CA2DF9ED3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Диаграмма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98916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Диаграмма 8" descr=""/>
          <p:cNvPicPr/>
          <p:nvPr/>
        </p:nvPicPr>
        <p:blipFill>
          <a:blip r:embed="rId2"/>
          <a:stretch/>
        </p:blipFill>
        <p:spPr>
          <a:xfrm>
            <a:off x="4452840" y="1700280"/>
            <a:ext cx="4295880" cy="32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684360" y="5445000"/>
          <a:ext cx="792000" cy="21600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5f91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7"/>
          <p:cNvSpPr/>
          <p:nvPr/>
        </p:nvSpPr>
        <p:spPr>
          <a:xfrm>
            <a:off x="1692360" y="5460120"/>
            <a:ext cx="41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62387"/>
                </a:solidFill>
                <a:latin typeface="Times New Roman"/>
                <a:ea typeface="Calibri"/>
              </a:rPr>
              <a:t>- 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Calibri"/>
              </a:rPr>
              <a:t>количество </a:t>
            </a:r>
            <a:r>
              <a:rPr b="1" lang="ru-RU" sz="1000" spc="-1" strike="noStrike" u="sng">
                <a:solidFill>
                  <a:srgbClr val="162387"/>
                </a:solidFill>
                <a:uFillTx/>
                <a:latin typeface="Times New Roman"/>
                <a:ea typeface="Calibri"/>
              </a:rPr>
              <a:t>правильных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Calibri"/>
              </a:rPr>
              <a:t> загруженных 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5805360"/>
          <a:ext cx="792000" cy="21600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3634"/>
                    </a:solidFill>
                  </a:tcPr>
                </a:tc>
              </a:tr>
            </a:tbl>
          </a:graphicData>
        </a:graphic>
      </p:graphicFrame>
      <p:sp>
        <p:nvSpPr>
          <p:cNvPr id="83" name="Прямоугольник 11"/>
          <p:cNvSpPr/>
          <p:nvPr/>
        </p:nvSpPr>
        <p:spPr>
          <a:xfrm>
            <a:off x="1763640" y="571032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62387"/>
                </a:solidFill>
                <a:latin typeface="Times New Roman"/>
                <a:ea typeface="Calibri"/>
              </a:rPr>
              <a:t>- </a:t>
            </a:r>
            <a:r>
              <a:rPr b="1" lang="ru-RU" sz="1000" spc="-1" strike="noStrike" u="sng">
                <a:solidFill>
                  <a:srgbClr val="162387"/>
                </a:solidFill>
                <a:uFillTx/>
                <a:latin typeface="Times New Roman"/>
                <a:ea typeface="Calibri"/>
              </a:rPr>
              <a:t>общее</a:t>
            </a:r>
            <a:r>
              <a:rPr b="1" lang="ru-RU" sz="1600" spc="-1" strike="noStrike">
                <a:solidFill>
                  <a:srgbClr val="162387"/>
                </a:solidFill>
                <a:latin typeface="Times New Roman"/>
                <a:ea typeface="Calibri"/>
              </a:rPr>
              <a:t> </a:t>
            </a:r>
            <a:r>
              <a:rPr b="1" lang="ru-RU" sz="1000" spc="-1" strike="noStrike">
                <a:solidFill>
                  <a:srgbClr val="162387"/>
                </a:solidFill>
                <a:latin typeface="Times New Roman"/>
                <a:ea typeface="Calibri"/>
              </a:rPr>
              <a:t>количество загруженных 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08000" y="11462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26920" y="13500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Статистика замены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E90-ECBC-4BB2-9641-9AC88D9CE3CD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Диаграмма 4" descr=""/>
          <p:cNvPicPr/>
          <p:nvPr/>
        </p:nvPicPr>
        <p:blipFill>
          <a:blip r:embed="rId1"/>
          <a:stretch/>
        </p:blipFill>
        <p:spPr>
          <a:xfrm>
            <a:off x="49320" y="1168560"/>
            <a:ext cx="9045360" cy="4520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108000" y="5594400"/>
            <a:ext cx="73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62387"/>
                </a:solidFill>
                <a:latin typeface="Calibri"/>
              </a:rPr>
              <a:t>*- данная диаграмма содержит показатели коэффициента </a:t>
            </a:r>
            <a:r>
              <a:rPr b="1" lang="en-US" sz="1000" spc="-1" strike="noStrike">
                <a:solidFill>
                  <a:srgbClr val="162387"/>
                </a:solidFill>
                <a:latin typeface="Calibri"/>
              </a:rPr>
              <a:t>Kzo</a:t>
            </a:r>
            <a:r>
              <a:rPr b="1" lang="ru-RU" sz="1000" spc="-1" strike="noStrike">
                <a:solidFill>
                  <a:srgbClr val="162387"/>
                </a:solidFill>
                <a:latin typeface="Calibri"/>
              </a:rPr>
              <a:t>, превышающие значение «2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90720" y="5950080"/>
            <a:ext cx="650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2387"/>
                </a:solidFill>
                <a:latin typeface="Arial"/>
                <a:ea typeface="Calibri"/>
              </a:rPr>
              <a:t>Kzo</a:t>
            </a:r>
            <a:r>
              <a:rPr b="0" lang="ru-RU" sz="1600" spc="-1" strike="noStrike">
                <a:solidFill>
                  <a:srgbClr val="162387"/>
                </a:solidFill>
                <a:latin typeface="Arial"/>
                <a:ea typeface="Calibri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826920" y="5950080"/>
            <a:ext cx="374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62387"/>
                </a:solidFill>
                <a:uFillTx/>
                <a:latin typeface="Calibri"/>
              </a:rPr>
              <a:t>Общее  количество  направленных отчетов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 </a:t>
            </a:r>
            <a:r>
              <a:rPr b="1" lang="ru-RU" sz="1200" spc="-1" strike="noStrike" u="sng">
                <a:solidFill>
                  <a:srgbClr val="162387"/>
                </a:solidFill>
                <a:uFillTx/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оличество правильных от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236600" y="18900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Статистика замены бухгалтерск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E9E-443E-4E11-B60E-533780A2F612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Диаграмма 10" descr=""/>
          <p:cNvPicPr/>
          <p:nvPr/>
        </p:nvPicPr>
        <p:blipFill>
          <a:blip r:embed="rId1"/>
          <a:stretch/>
        </p:blipFill>
        <p:spPr>
          <a:xfrm>
            <a:off x="-27000" y="1001880"/>
            <a:ext cx="9198000" cy="4854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50920" y="6021360"/>
            <a:ext cx="7920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2387"/>
                </a:solidFill>
                <a:latin typeface="Arial"/>
                <a:ea typeface="Calibri"/>
              </a:rPr>
              <a:t>Kzo</a:t>
            </a:r>
            <a:r>
              <a:rPr b="0" lang="ru-RU" sz="1600" spc="-1" strike="noStrike">
                <a:solidFill>
                  <a:srgbClr val="162387"/>
                </a:solidFill>
                <a:latin typeface="Arial"/>
                <a:ea typeface="Calibri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116000" y="6021360"/>
            <a:ext cx="38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62387"/>
                </a:solidFill>
                <a:uFillTx/>
                <a:latin typeface="Calibri"/>
              </a:rPr>
              <a:t>Общее  количество  направленных отчетов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 </a:t>
            </a:r>
            <a:r>
              <a:rPr b="1" lang="ru-RU" sz="1200" spc="-1" strike="noStrike" u="sng">
                <a:solidFill>
                  <a:srgbClr val="162387"/>
                </a:solidFill>
                <a:uFillTx/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оличество правильных от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20320"/>
            <a:ext cx="7921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Анализ основных ошибок в отчетных формах ФО, </a:t>
            </a:r>
            <a:br>
              <a:rPr sz="1600"/>
            </a:b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представленных в МОУ ФК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8360" y="1557360"/>
            <a:ext cx="7848720" cy="100800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Отчет об использовании межбюджетных трансфер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из федерального бюджета субъектами Российской Федер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муниципальными образованиями и территориальным государ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внебюджетным фондом (ф. 05033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866960" y="3897360"/>
            <a:ext cx="551340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разделе 2 «Расходование целевых средств» указывались коды в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расходов бюджетов, которые не соответствовали кодам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согласно Приложению № 5 к Указаниям о поряд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рименения бюджетной классификаци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866960" y="5067360"/>
            <a:ext cx="5513400" cy="102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разделе 3 «Анализ причин образования остатков целевых средст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 отражалась информация об остатках целевых средств, сумма 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ревышает </a:t>
            </a:r>
            <a:r>
              <a:rPr b="1" lang="ru-RU" sz="1400" spc="-1" strike="noStrike">
                <a:solidFill>
                  <a:srgbClr val="162387"/>
                </a:solidFill>
                <a:latin typeface="Calibri"/>
              </a:rPr>
              <a:t>5%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от суммы целевых средств, предоставленных в отчет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ериоде, либо ошибочно отражалась информация об остатках целе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средств, сумма которых не превышает </a:t>
            </a:r>
            <a:r>
              <a:rPr b="1" lang="ru-RU" sz="1400" spc="-1" strike="noStrike">
                <a:solidFill>
                  <a:srgbClr val="162387"/>
                </a:solidFill>
                <a:latin typeface="Calibri"/>
              </a:rPr>
              <a:t>5%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от суммы целев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1571760" y="2565360"/>
            <a:ext cx="0" cy="295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577880" y="55101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577880" y="436572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50880" y="330192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865160" y="2924280"/>
            <a:ext cx="5515200" cy="698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разделе 1 «Движение целевых средств» указывались не существ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оды бюджетной классификации, в т.ч.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од целевой статьи расходов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од классификации доходов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9310-5D0C-44C6-BDA4-F6E21F5645E1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20320"/>
            <a:ext cx="7921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Анализ основных ошибок в отчетных формах ФО, </a:t>
            </a:r>
            <a:br>
              <a:rPr sz="1600"/>
            </a:b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представленных в МОУ ФК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68360" y="1413000"/>
            <a:ext cx="7848720" cy="936360"/>
          </a:xfrm>
          <a:prstGeom prst="rect">
            <a:avLst/>
          </a:prstGeom>
          <a:solidFill>
            <a:srgbClr val="87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Справка по заключению счетов бюджетного уч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отчетного финансового года (ф. 05031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866960" y="4356000"/>
            <a:ext cx="5729400" cy="801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 отражались показатели счета 0 304 06 000 «Расчеты с прочими кредиторам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(письмо ФК от 21.12.2012 № 42-7.4-05/2.1-7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539720" y="2349360"/>
            <a:ext cx="0" cy="248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550880" y="4834080"/>
            <a:ext cx="314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50880" y="330192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865160" y="2781360"/>
            <a:ext cx="573120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Указывались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существующие коды бюджетной классификации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группированные коды бюджетной классифик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(виды доходов бюджета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;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разделы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одразделы классификации расходов бюджета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группы, подгруппы, статьи источников финансирования дефицита бюдж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2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17AC-8F2A-4BBB-A563-E46A7EBE0B07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20320"/>
            <a:ext cx="7921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Анализ основных ошибок в отчетных формах ФО, </a:t>
            </a:r>
            <a:br>
              <a:rPr sz="1600"/>
            </a:b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представленных в МОУ ФК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1160640"/>
            <a:ext cx="7848720" cy="10443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Баланс исполнения консолидированного бюджета субъекта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и бюджета территориального государственного внебюджетного фонда (ф. 05033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874880" y="3573360"/>
            <a:ext cx="5649840" cy="9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оказатели строки 330 «Прочие расчеты с дебиторами (021000000)»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соответствовали сумме строк 331 «Расчеты по налоговым вы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о НДС (021001000)», 333 «Расчеты с финансовым органом по налич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денежным средствам (021003000)» и 334 «Расчеты с проч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дебиторами (021005000)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865160" y="4724280"/>
            <a:ext cx="565956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Данные по строке 173 «Денежные средства учреждения на счетах в креди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организации (020121000)» не соответствовали фактическим оста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средств бюджета на счетах в кредитных организациях (избирательные комисс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олучатели средств бюджетов субъектов Российской Федерации, находящие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за пределами территории субъекта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1542960" y="2205000"/>
            <a:ext cx="0" cy="424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1565280" y="5013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579680" y="4032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1577880" y="285264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865160" y="2421000"/>
            <a:ext cx="565956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Данные в части остатков средств бюджета на балансовых счетах № 4020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40204 и № 40404 не соответствовали показателям бюджетной отчет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УФК по субъектам Российской Федерации (Расшифровка остатков 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а счетах № 40201,№ 40204 и № 40404 к Консолидированному отчету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кассовых поступлениях и выбытиях (ф.052145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557360" y="6426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866960" y="5838840"/>
            <a:ext cx="5657760" cy="79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Операции по уплате налога  на прибыль получателем бюджетных 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отражалась по КОСГУ 130 «Доходы от оказания платных услуг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или 180 «Прочие доходы», а следовало по КОСГУ 290 «Прочие расх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(письмо ФК от 02.08.2012 № 02-03-09/30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730F-6B8C-44FD-8660-A6F5737F8BC9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220320"/>
            <a:ext cx="7921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Анализ основных ошибок в отчетных формах ФО, </a:t>
            </a:r>
            <a:br>
              <a:rPr sz="1600"/>
            </a:br>
            <a:r>
              <a:rPr b="1" lang="ru-RU" sz="1600" spc="-1" strike="noStrike">
                <a:solidFill>
                  <a:srgbClr val="162387"/>
                </a:solidFill>
                <a:latin typeface="Arial"/>
                <a:ea typeface="Arial"/>
              </a:rPr>
              <a:t>представленных в МОУ ФК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68360" y="1341360"/>
            <a:ext cx="7848720" cy="1079640"/>
          </a:xfrm>
          <a:prstGeom prst="rect">
            <a:avLst/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Отчет об исполнении консолидированного бюджета субъект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62387"/>
                </a:solidFill>
                <a:latin typeface="Calibri"/>
              </a:rPr>
              <a:t>и бюджета территориального государственного внебюджетного фонда  (ф. 05033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865160" y="3798720"/>
            <a:ext cx="537084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разделе 2 «Расходы бюджета» и разделе 3 «Источники финанс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дефицита бюджета» фактическое исполнение превыша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бюджетные назна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844640" y="4848120"/>
            <a:ext cx="5391360" cy="66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Не осуществлялись в полном объеме процедуры консолид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(Например</a:t>
            </a:r>
            <a:r>
              <a:rPr b="1" lang="en-US" sz="1200" spc="-1" strike="noStrike">
                <a:solidFill>
                  <a:srgbClr val="162387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случае перечисления МБТ либо возврата остатков МБ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о ошибочному КОСГ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1550880" y="2467080"/>
            <a:ext cx="20880" cy="276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1571760" y="5229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1587600" y="415908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587600" y="309888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865160" y="2708280"/>
            <a:ext cx="537084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В разделе 2 «Расходы бюджета» указывались коды в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расходов бюджетов, которые не соответствовали кодам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согласно Приложению № 5 к Указаниям о поряд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2387"/>
                </a:solidFill>
                <a:latin typeface="Calibri"/>
              </a:rPr>
              <a:t>применения бюджетной классификаци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0A3-A38C-4C51-92DF-831CCFA9EFBB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Ульянов Константин Владимирович</cp:lastModifiedBy>
  <cp:lastPrinted>2015-09-02T12:52:33Z</cp:lastPrinted>
  <dcterms:modified xsi:type="dcterms:W3CDTF">2015-09-11T07:21:58Z</dcterms:modified>
  <cp:revision>320</cp:revision>
  <dc:subject/>
  <dc:title>Слайд 1</dc:title>
</cp:coreProperties>
</file>