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29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4BB1-A673-417B-9AB1-9AAF5702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761-B9DF-4FAE-830A-669636B2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941-B599-4C4A-927F-185BF21B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98EB-ECF7-4EB9-954F-81D9963F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8F8E-4300-483B-9599-334DE3D4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682-4433-460C-93E6-58D419B4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2081-7EEC-4C10-94FE-97B9A520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4A10-2E85-45AA-8614-AB5C92FF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6651-B890-46E7-B408-BF4CB067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27B3-8EDD-4DE7-8842-D174544C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ED02-3915-4530-BA6D-F31E1E17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A9CD-7268-4945-93DC-D4D58BFA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3975-5C8B-45F9-A23E-EE5E471CA2B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42280" y="6597360"/>
            <a:ext cx="83808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2EAF-444C-44B0-94A8-E92EA2D0E6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asfk-support.ru/jira/browse/KB-708" TargetMode="External"/><Relationship Id="rId2" Type="http://schemas.openxmlformats.org/officeDocument/2006/relationships/hyperlink" Target="https://www.asfk-support.ru/jira/browse/KB-708" TargetMode="External"/><Relationship Id="rId3" Type="http://schemas.openxmlformats.org/officeDocument/2006/relationships/hyperlink" Target="https://www.asfk-support.ru/jira/browse/KB-708" TargetMode="External"/><Relationship Id="rId4" Type="http://schemas.openxmlformats.org/officeDocument/2006/relationships/hyperlink" Target="https://www.asfk-support.ru/jira/browse/KB-708" TargetMode="External"/><Relationship Id="rId5" Type="http://schemas.openxmlformats.org/officeDocument/2006/relationships/hyperlink" Target="https://www.asfk-support.ru/jira/browse/KB-708" TargetMode="External"/><Relationship Id="rId6" Type="http://schemas.openxmlformats.org/officeDocument/2006/relationships/hyperlink" Target="https://www.asfk-support.ru/jira/browse/KB-708" TargetMode="External"/><Relationship Id="rId7" Type="http://schemas.openxmlformats.org/officeDocument/2006/relationships/hyperlink" Target="https://www.asfk-support.ru/jira/browse/KB-708" TargetMode="External"/><Relationship Id="rId8" Type="http://schemas.openxmlformats.org/officeDocument/2006/relationships/hyperlink" Target="https://www.asfk-support.ru/jira/browse/KB-708" TargetMode="Externa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2BFB-EDF8-46F4-B72C-897226E1F0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ы технологического обеспечения ведения бюджетного учета и формирования бюджетной отчетности в ППО «АСФК»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2410560" y="4797360"/>
            <a:ext cx="63878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усурина Елена Владими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чальник отдела технологического обеспечения кассов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сполнения доходов бюджетов, учета и отчет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я финансовых технолог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7.09.201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5E4B-64B6-48EF-9DC6-727C7A3CE0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9e"/>
                </a:solidFill>
                <a:latin typeface="Times New Roman"/>
              </a:rPr>
              <a:t>Перечень сверяемой отчетности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6" name="Прямоугольник 43"/>
          <p:cNvSpPr/>
          <p:nvPr/>
        </p:nvSpPr>
        <p:spPr>
          <a:xfrm>
            <a:off x="1906560" y="1876320"/>
            <a:ext cx="5402160" cy="4289400"/>
          </a:xfrm>
          <a:prstGeom prst="roundRect">
            <a:avLst>
              <a:gd name="adj" fmla="val 2560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46"/>
          <p:cNvSpPr/>
          <p:nvPr/>
        </p:nvSpPr>
        <p:spPr>
          <a:xfrm>
            <a:off x="2050920" y="2374920"/>
            <a:ext cx="5051520" cy="1198440"/>
          </a:xfrm>
          <a:prstGeom prst="rect">
            <a:avLst/>
          </a:prstGeom>
          <a:solidFill>
            <a:srgbClr val="65c9b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2195640" y="1413000"/>
            <a:ext cx="1550880" cy="58572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Calibri"/>
                <a:ea typeface="Arial"/>
              </a:rPr>
              <a:t>КЛИЕН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02f2e"/>
                </a:solidFill>
                <a:latin typeface="Calibri"/>
                <a:ea typeface="Arial"/>
              </a:rPr>
              <a:t>отчет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37"/>
          <p:cNvSpPr/>
          <p:nvPr/>
        </p:nvSpPr>
        <p:spPr>
          <a:xfrm>
            <a:off x="5511960" y="1413000"/>
            <a:ext cx="1550880" cy="58572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ОФ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чет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Двойная стрелка влево/вправо 40"/>
          <p:cNvSpPr/>
          <p:nvPr/>
        </p:nvSpPr>
        <p:spPr>
          <a:xfrm>
            <a:off x="3724200" y="1566720"/>
            <a:ext cx="1787760" cy="268560"/>
          </a:xfrm>
          <a:prstGeom prst="leftRightArrow">
            <a:avLst>
              <a:gd name="adj1" fmla="val 50000"/>
              <a:gd name="adj2" fmla="val 4995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2050920" y="2647800"/>
            <a:ext cx="124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S PGothic"/>
              </a:rPr>
              <a:t>Отч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S PGothic"/>
              </a:rPr>
              <a:t>(ф.0503127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4794120" y="2432160"/>
            <a:ext cx="2298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S PGothic"/>
              </a:rPr>
              <a:t>Отчет (ф. 0531468)(125н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S PGothic"/>
              </a:rPr>
              <a:t>Отчет (ф. 0531785) (24н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S PGothic"/>
              </a:rPr>
              <a:t>Отчет (ф. 0531786) (24н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S PGothic"/>
              </a:rPr>
              <a:t>Отчет (ф. 0531791) (24н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Стрелка вправо 47"/>
          <p:cNvSpPr/>
          <p:nvPr/>
        </p:nvSpPr>
        <p:spPr>
          <a:xfrm>
            <a:off x="3336840" y="2774880"/>
            <a:ext cx="1457280" cy="27000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48"/>
          <p:cNvSpPr/>
          <p:nvPr/>
        </p:nvSpPr>
        <p:spPr>
          <a:xfrm>
            <a:off x="2050920" y="3619440"/>
            <a:ext cx="5051520" cy="673200"/>
          </a:xfrm>
          <a:prstGeom prst="rect">
            <a:avLst/>
          </a:prstGeom>
          <a:solidFill>
            <a:srgbClr val="65c9b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Стрелка вправо 51"/>
          <p:cNvSpPr/>
          <p:nvPr/>
        </p:nvSpPr>
        <p:spPr>
          <a:xfrm>
            <a:off x="3348000" y="3860640"/>
            <a:ext cx="1417680" cy="270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2124000" y="3703680"/>
            <a:ext cx="11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S PGothic"/>
              </a:rPr>
              <a:t>Отч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S PGothic"/>
              </a:rPr>
              <a:t>(ф.0503127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4794120" y="3703680"/>
            <a:ext cx="22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S PGothic"/>
              </a:rPr>
              <a:t>Отчет (ф. 0521413) (26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S PGothic"/>
              </a:rPr>
              <a:t>Отчет (ф. 0531340) (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S PGothic"/>
              </a:rPr>
              <a:t>91н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54"/>
          <p:cNvSpPr/>
          <p:nvPr/>
        </p:nvSpPr>
        <p:spPr>
          <a:xfrm>
            <a:off x="2050920" y="4390920"/>
            <a:ext cx="5051520" cy="478080"/>
          </a:xfrm>
          <a:prstGeom prst="rect">
            <a:avLst/>
          </a:prstGeom>
          <a:solidFill>
            <a:srgbClr val="65c9b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Стрелка вправо 55"/>
          <p:cNvSpPr/>
          <p:nvPr/>
        </p:nvSpPr>
        <p:spPr>
          <a:xfrm>
            <a:off x="3348000" y="4508640"/>
            <a:ext cx="1457280" cy="269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2124000" y="4351320"/>
            <a:ext cx="11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S PGothic"/>
              </a:rPr>
              <a:t>Отч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S PGothic"/>
              </a:rPr>
              <a:t>(ф.0503117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4788000" y="4365720"/>
            <a:ext cx="211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S PGothic"/>
              </a:rPr>
              <a:t>Отчет (ф. 0503151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S PGothic"/>
              </a:rPr>
              <a:t>(191н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58"/>
          <p:cNvSpPr/>
          <p:nvPr/>
        </p:nvSpPr>
        <p:spPr>
          <a:xfrm>
            <a:off x="2050920" y="5038560"/>
            <a:ext cx="5051520" cy="478080"/>
          </a:xfrm>
          <a:prstGeom prst="rect">
            <a:avLst/>
          </a:prstGeom>
          <a:solidFill>
            <a:srgbClr val="65c9b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Стрелка вправо 59"/>
          <p:cNvSpPr/>
          <p:nvPr/>
        </p:nvSpPr>
        <p:spPr>
          <a:xfrm>
            <a:off x="3348000" y="5157720"/>
            <a:ext cx="1457280" cy="26820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2050920" y="4941720"/>
            <a:ext cx="124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S PGothic"/>
              </a:rPr>
              <a:t>Отч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S PGothic"/>
              </a:rPr>
              <a:t>(ф.0503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S PGothic"/>
              </a:rPr>
              <a:t>17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4788000" y="501336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S PGothic"/>
              </a:rPr>
              <a:t>Отчет (ф. 050315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S PGothic"/>
              </a:rPr>
              <a:t>) (191н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E4B8-3DE7-4A38-B095-32C3F95B83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Просмотр списка  загруженных отчетов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138" name="Picture 2" descr="Snap56"/>
          <p:cNvPicPr/>
          <p:nvPr/>
        </p:nvPicPr>
        <p:blipFill>
          <a:blip r:embed="rId1"/>
          <a:stretch/>
        </p:blipFill>
        <p:spPr>
          <a:xfrm>
            <a:off x="247680" y="2021040"/>
            <a:ext cx="5664240" cy="3425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Snap57"/>
          <p:cNvPicPr/>
          <p:nvPr/>
        </p:nvPicPr>
        <p:blipFill>
          <a:blip r:embed="rId2"/>
          <a:stretch/>
        </p:blipFill>
        <p:spPr>
          <a:xfrm>
            <a:off x="6081840" y="2021040"/>
            <a:ext cx="2647800" cy="3430440"/>
          </a:xfrm>
          <a:prstGeom prst="rect">
            <a:avLst/>
          </a:prstGeom>
          <a:ln w="0">
            <a:noFill/>
          </a:ln>
        </p:spPr>
      </p:pic>
      <p:sp>
        <p:nvSpPr>
          <p:cNvPr id="140" name="Заголовок 32"/>
          <p:cNvSpPr/>
          <p:nvPr/>
        </p:nvSpPr>
        <p:spPr>
          <a:xfrm>
            <a:off x="826920" y="5734080"/>
            <a:ext cx="392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писковая форма загруженных отче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Заголовок 32"/>
          <p:cNvSpPr/>
          <p:nvPr/>
        </p:nvSpPr>
        <p:spPr>
          <a:xfrm>
            <a:off x="5580000" y="5805360"/>
            <a:ext cx="3232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оступные действия над отчет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20"/>
          <p:cNvSpPr/>
          <p:nvPr/>
        </p:nvSpPr>
        <p:spPr>
          <a:xfrm>
            <a:off x="247680" y="5519880"/>
            <a:ext cx="8481960" cy="13320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Прямоугольник 10"/>
          <p:cNvGrpSpPr/>
          <p:nvPr/>
        </p:nvGrpSpPr>
        <p:grpSpPr>
          <a:xfrm>
            <a:off x="6076800" y="3103560"/>
            <a:ext cx="1549440" cy="365040"/>
            <a:chOff x="6076800" y="3103560"/>
            <a:chExt cx="1549440" cy="365040"/>
          </a:xfrm>
        </p:grpSpPr>
        <p:pic>
          <p:nvPicPr>
            <p:cNvPr id="144" name="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76800" y="3103560"/>
              <a:ext cx="15494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181560" y="3211560"/>
              <a:ext cx="13417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Прямоугольник 10"/>
          <p:cNvGrpSpPr/>
          <p:nvPr/>
        </p:nvGrpSpPr>
        <p:grpSpPr>
          <a:xfrm>
            <a:off x="6076800" y="4303800"/>
            <a:ext cx="1549440" cy="365040"/>
            <a:chOff x="6076800" y="4303800"/>
            <a:chExt cx="1549440" cy="365040"/>
          </a:xfrm>
        </p:grpSpPr>
        <p:pic>
          <p:nvPicPr>
            <p:cNvPr id="147" name="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6076800" y="4303800"/>
              <a:ext cx="15494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181560" y="4411800"/>
              <a:ext cx="13417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Стрелка вправо 1"/>
          <p:cNvSpPr/>
          <p:nvPr/>
        </p:nvSpPr>
        <p:spPr>
          <a:xfrm rot="20359800">
            <a:off x="2231640" y="4378320"/>
            <a:ext cx="4060800" cy="29988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2984c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Прямоугольник 10"/>
          <p:cNvGrpSpPr/>
          <p:nvPr/>
        </p:nvGrpSpPr>
        <p:grpSpPr>
          <a:xfrm>
            <a:off x="1596960" y="5072040"/>
            <a:ext cx="854280" cy="365040"/>
            <a:chOff x="1596960" y="5072040"/>
            <a:chExt cx="854280" cy="365040"/>
          </a:xfrm>
        </p:grpSpPr>
        <p:pic>
          <p:nvPicPr>
            <p:cNvPr id="151" name="Прямоугольник 10" descr=""/>
            <p:cNvPicPr/>
            <p:nvPr/>
          </p:nvPicPr>
          <p:blipFill>
            <a:blip r:embed="rId5"/>
            <a:stretch/>
          </p:blipFill>
          <p:spPr>
            <a:xfrm>
              <a:off x="1596960" y="5072040"/>
              <a:ext cx="8542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700280" y="5178600"/>
              <a:ext cx="64440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Заголовок 32"/>
          <p:cNvSpPr/>
          <p:nvPr/>
        </p:nvSpPr>
        <p:spPr>
          <a:xfrm>
            <a:off x="414360" y="1177920"/>
            <a:ext cx="811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49e"/>
                </a:solidFill>
                <a:latin typeface="Calibri"/>
                <a:ea typeface="Arial"/>
              </a:rPr>
              <a:t>Отчетность: Меню УФК: Отчетность ГРБС: Список отчетов ГРБ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49e"/>
                </a:solidFill>
                <a:latin typeface="Calibri"/>
                <a:ea typeface="Arial"/>
              </a:rPr>
              <a:t>Отчетность: Меню УФК: Отчетность ФО: Список отчетов Ф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497C-7638-4122-8E3A-B74800AF51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6408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9e"/>
                </a:solidFill>
                <a:latin typeface="Times New Roman"/>
              </a:rPr>
              <a:t>Просмотр сформированного протокола контроля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5545080" cy="2747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5545080" cy="1305000"/>
          </a:xfrm>
          <a:prstGeom prst="rect">
            <a:avLst/>
          </a:prstGeom>
          <a:ln w="0">
            <a:noFill/>
          </a:ln>
        </p:spPr>
      </p:pic>
      <p:sp>
        <p:nvSpPr>
          <p:cNvPr id="158" name="Заголовок 32"/>
          <p:cNvSpPr/>
          <p:nvPr/>
        </p:nvSpPr>
        <p:spPr>
          <a:xfrm>
            <a:off x="5508720" y="1916280"/>
            <a:ext cx="3352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осмотр протоколов контрол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Заголовок 32"/>
          <p:cNvSpPr/>
          <p:nvPr/>
        </p:nvSpPr>
        <p:spPr>
          <a:xfrm>
            <a:off x="5580000" y="4869000"/>
            <a:ext cx="3353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84646"/>
                </a:solidFill>
                <a:latin typeface="Calibri"/>
                <a:ea typeface="Arial"/>
              </a:rPr>
              <a:t>Сформированный  протокол контрол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9391-205C-4E68-8A23-CB1C28B183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6551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9e"/>
                </a:solidFill>
                <a:latin typeface="Calibri"/>
              </a:rPr>
              <a:t>Просмотр сформированных протоколов контроля на АРМ СУФД-портал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162" name="Picture 2" descr="D:\1\Пчелы\-112.jpg"/>
          <p:cNvPicPr/>
          <p:nvPr/>
        </p:nvPicPr>
        <p:blipFill>
          <a:blip r:embed="rId1"/>
          <a:srcRect l="0" t="2498" r="0" b="2847"/>
          <a:stretch/>
        </p:blipFill>
        <p:spPr>
          <a:xfrm>
            <a:off x="539640" y="1413000"/>
            <a:ext cx="78184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DEB4-704A-4457-A69D-62CC4D4604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63280" y="115920"/>
            <a:ext cx="6264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9e"/>
                </a:solidFill>
                <a:latin typeface="Times New Roman"/>
              </a:rPr>
              <a:t>Настройки профиля для корректного просмотра протоколов клиентом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ь 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T_RP_BIP_SERVER"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сей системы должен стоять адрес сервера безопасност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 SSO-Proxy (http://oebs.&lt;сервер безопасности&gt;: &lt;порт SSO-Proxy&gt;) Например: http://oebs.a0900w12.ufk09.roskazna.local:779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ь 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T_RP_BIP_SERVER"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льзовател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TBSXBR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 сервера прилож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ttp://&lt;сервер приложений OEBS&gt;:&lt;порт OEBS&gt;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http://a0900p01.ufk09.roskazna.local:80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63280" y="115920"/>
            <a:ext cx="6264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9e"/>
                </a:solidFill>
                <a:latin typeface="Times New Roman"/>
              </a:rPr>
              <a:t>Сверка отчетности клиентов с отчетностью органа Федерального казначейства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095D-FFAD-4ECA-BD85-26D82BC84A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пользователей описан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о пользователя «Формирование регламентированной бюджетной отчетност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о пользователя «Справочник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1316-D8FD-4AD0-ADA5-FD390BA7B3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тический инструмент построения нерегламентированной отчет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6282-4A43-49FF-8AFA-2BF8F60E61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9e"/>
                </a:solidFill>
                <a:latin typeface="Times New Roman"/>
              </a:rPr>
              <a:t>Цели и задачи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Целевая задача:</a:t>
            </a:r>
            <a:r>
              <a:rPr b="0" lang="ru-RU" sz="2000" spc="-1" strike="noStrike">
                <a:solidFill>
                  <a:srgbClr val="302f2e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302f2e"/>
                </a:solidFill>
                <a:latin typeface="Times New Roman"/>
              </a:rPr>
              <a:t>необходимо было разработать простой и понятный в использовании, с дружественным пользователю интерфейсом, инструмент для построения аналитических отчетов из данных сводной отчет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Область применения:</a:t>
            </a:r>
            <a:r>
              <a:rPr b="0" lang="ru-RU" sz="2000" spc="-1" strike="noStrike">
                <a:solidFill>
                  <a:srgbClr val="302f2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02f2e"/>
                </a:solidFill>
                <a:latin typeface="Times New Roman"/>
              </a:rPr>
              <a:t>данная разработка позволяет формировать произвольные аналитические отчеты на основе сводной отчетности поступающей в ЦАФК (МОУ) от Министерств, Финорганов, ГВБФ, ТОФК,  а также на основе собственных отчетов ТОФК, МОУ с возможностью задания различных условий фильтрации, компоновки и отображения граф сводной отчетности. Также с помощью данного инструмента можно  производить расчеты по иерархии кодов бюджетной классификации, сохранять пользовательские настройки конкретной конфигурации отчета в профи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0287-AF29-4724-A534-0132D29D77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Запуск формы анализа отчетности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84360" y="1628280"/>
            <a:ext cx="2737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f2e"/>
                </a:solidFill>
                <a:latin typeface="Times New Roman"/>
              </a:rPr>
              <a:t>Запуск инструмен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f2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02f2e"/>
                </a:solidFill>
                <a:latin typeface="Times New Roman"/>
              </a:rPr>
              <a:t>«Форма анализа отчетности» производится через меню навигатора АСФК «Отчетность – Меню УФК – Аналитическая отчетность – Форма анализа отчетност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57452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3B83-2759-4176-AF1E-81A6FA9835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9e"/>
                </a:solidFill>
                <a:latin typeface="Times New Roman"/>
              </a:rPr>
              <a:t>Предварительные настройки отчетов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968720" cy="2994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3564000" y="3213000"/>
            <a:ext cx="5170320" cy="31338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5435640" y="1125360"/>
            <a:ext cx="3240000" cy="1608480"/>
          </a:xfrm>
          <a:prstGeom prst="rect">
            <a:avLst/>
          </a:prstGeom>
          <a:noFill/>
          <a:ln w="28440">
            <a:solidFill>
              <a:srgbClr val="7cca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Структура отчета должна быть настроена в настройке «настройка шаблонов отчет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Отчет должен входить в комплект отчет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7929-0A88-4927-8532-D24EF3EFF7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олнительные настройки архивирования документов в ППО «АСФК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Сверка отчетности клиентов с отчетностью органа Федерального казначей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Аналитический инструмент построения нерегламентированной отче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271D-2AD0-423E-ACFD-1714FFDB1B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9e"/>
                </a:solidFill>
                <a:latin typeface="Times New Roman"/>
              </a:rPr>
              <a:t>Форма анализа отчетности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201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BF96-F364-4959-8FA6-638DC80F6E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9e"/>
                </a:solidFill>
                <a:latin typeface="Times New Roman"/>
              </a:rPr>
              <a:t>Режимы работы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Аналитический инструмент позволяет работать в трех режима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остая выбор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выбор данных из сводных отчетов с возможностью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ображения источников в разрезе округов и построением кросс таблиц в отчет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ложная выбор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выбор данных из сводных отчетов с возможность применения различных логических фильтров и параметров отображения дан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Комбинированная выбор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выбор данных из сводных отчетов с возможностью применения различных логических фильтров, параметров отображения данных, возможностью отображен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точников в разрезе округов и построением кросс таблиц в отчет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6BE4-6BF9-4CDE-9E17-D060F56B56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9e"/>
                </a:solidFill>
                <a:latin typeface="Times New Roman"/>
              </a:rPr>
              <a:t>Функциональные возможности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92" name="Прямоугольник 5"/>
          <p:cNvSpPr/>
          <p:nvPr/>
        </p:nvSpPr>
        <p:spPr>
          <a:xfrm>
            <a:off x="290520" y="1092240"/>
            <a:ext cx="83851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Анализируемые данны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    </a:t>
            </a: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- Входящие отчеты от УФК, ГРБС, ФО, Фонд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    </a:t>
            </a: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- Сводные отче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    </a:t>
            </a: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- Консолидируемые отче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    </a:t>
            </a: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- Главная книга УФ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2f2e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   </a:t>
            </a: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- Отчеты формируемые УФК в формате </a:t>
            </a:r>
            <a:r>
              <a:rPr b="1" lang="en-US" sz="1600" spc="-1" strike="noStrike">
                <a:solidFill>
                  <a:srgbClr val="302f2e"/>
                </a:solidFill>
                <a:latin typeface="Arial"/>
                <a:ea typeface="Arial"/>
              </a:rPr>
              <a:t>XLS</a:t>
            </a: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 (Отчет о состоянии лицевого счета ПБС (ф.0531786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Настройки отображения данных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    </a:t>
            </a: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- Вывод источников предоставления данных в строках и в колонка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    </a:t>
            </a: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- Разбивка источников предоставления данных  по округа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    </a:t>
            </a: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- Отображение подитогов по выбранным сегментам отч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    </a:t>
            </a: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- Вывод данных за период и нарастающим итог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    </a:t>
            </a: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- Выстраивания иерархии на основе внутренних справочни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Фильтры и функции работы с данным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    </a:t>
            </a: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- Нанесение условий с помощью логических функ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    </a:t>
            </a: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- Использование внутренних справочников для выбора необходимых знач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    </a:t>
            </a: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- Загрузка перечня необходимых значений из </a:t>
            </a:r>
            <a:r>
              <a:rPr b="1" lang="en-US" sz="1600" spc="-1" strike="noStrike">
                <a:solidFill>
                  <a:srgbClr val="302f2e"/>
                </a:solidFill>
                <a:latin typeface="Arial"/>
                <a:ea typeface="Arial"/>
              </a:rPr>
              <a:t>EXCEL </a:t>
            </a: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файла</a:t>
            </a: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    </a:t>
            </a: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- Создание вычисляемых колонок между графами одного или нескольких отчет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    </a:t>
            </a: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- Сохранение часто используемых выборок под профилем пользовател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Arial"/>
                <a:ea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816C-02C7-47AC-A215-D73D5BB616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49e"/>
                </a:solidFill>
                <a:latin typeface="Times New Roman"/>
              </a:rPr>
              <a:t>Аналитические функции и правила задания условий</a:t>
            </a:r>
            <a:endParaRPr b="1" lang="en-US" sz="1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79280" y="1197000"/>
            <a:ext cx="8290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59200" indent="-259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9200" indent="-259200">
              <a:lnSpc>
                <a:spcPct val="100000"/>
              </a:lnSpc>
              <a:spcBef>
                <a:spcPts val="451"/>
              </a:spcBef>
              <a:buClr>
                <a:srgbClr val="302f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2f2e"/>
                </a:solidFill>
                <a:latin typeface="Arial"/>
                <a:ea typeface="Arial"/>
              </a:rPr>
              <a:t>При определении условий, значения вносятся в одинарных апострофах – Пример :</a:t>
            </a:r>
            <a:r>
              <a:rPr b="1" lang="en-US" sz="1800" spc="-1" strike="noStrike">
                <a:solidFill>
                  <a:srgbClr val="302f2e"/>
                </a:solidFill>
                <a:latin typeface="Arial"/>
                <a:ea typeface="Arial"/>
              </a:rPr>
              <a:t> ‘0100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9200" indent="-259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9200" indent="-259200">
              <a:lnSpc>
                <a:spcPct val="100000"/>
              </a:lnSpc>
              <a:spcBef>
                <a:spcPts val="451"/>
              </a:spcBef>
              <a:buClr>
                <a:srgbClr val="302f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2f2e"/>
                </a:solidFill>
                <a:latin typeface="Arial"/>
                <a:ea typeface="Arial"/>
              </a:rPr>
              <a:t>=, </a:t>
            </a:r>
            <a:r>
              <a:rPr b="1" lang="en-US" sz="1800" spc="-1" strike="noStrike">
                <a:solidFill>
                  <a:srgbClr val="302f2e"/>
                </a:solidFill>
                <a:latin typeface="Arial"/>
                <a:ea typeface="Arial"/>
              </a:rPr>
              <a:t>&gt;, &lt;, &gt;=,&lt;=</a:t>
            </a:r>
            <a:r>
              <a:rPr b="1" lang="ru-RU" sz="1800" spc="-1" strike="noStrike">
                <a:solidFill>
                  <a:srgbClr val="302f2e"/>
                </a:solidFill>
                <a:latin typeface="Arial"/>
                <a:ea typeface="Arial"/>
              </a:rPr>
              <a:t> - логические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9200" indent="-259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9200" indent="-259200">
              <a:lnSpc>
                <a:spcPct val="100000"/>
              </a:lnSpc>
              <a:spcBef>
                <a:spcPts val="451"/>
              </a:spcBef>
              <a:buClr>
                <a:srgbClr val="302f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2f2e"/>
                </a:solidFill>
                <a:latin typeface="Arial"/>
                <a:ea typeface="Arial"/>
              </a:rPr>
              <a:t>Шаблон – Вывод значений по заданному шаблону. Пример : </a:t>
            </a:r>
            <a:r>
              <a:rPr b="1" lang="en-US" sz="1800" spc="-1" strike="noStrike">
                <a:solidFill>
                  <a:srgbClr val="302f2e"/>
                </a:solidFill>
                <a:latin typeface="Arial"/>
                <a:ea typeface="Arial"/>
              </a:rPr>
              <a:t>’01%’, ‘%02’, ‘%03%’ (</a:t>
            </a:r>
            <a:r>
              <a:rPr b="1" lang="ru-RU" sz="1800" spc="-1" strike="noStrike">
                <a:solidFill>
                  <a:srgbClr val="302f2e"/>
                </a:solidFill>
                <a:latin typeface="Arial"/>
                <a:ea typeface="Arial"/>
              </a:rPr>
              <a:t>В одну строку вносится одно значение</a:t>
            </a:r>
            <a:r>
              <a:rPr b="1" lang="en-US" sz="1800" spc="-1" strike="noStrike">
                <a:solidFill>
                  <a:srgbClr val="302f2e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9200" indent="-259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9200" indent="-259200">
              <a:lnSpc>
                <a:spcPct val="100000"/>
              </a:lnSpc>
              <a:spcBef>
                <a:spcPts val="451"/>
              </a:spcBef>
              <a:buClr>
                <a:srgbClr val="302f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2f2e"/>
                </a:solidFill>
                <a:latin typeface="Arial"/>
                <a:ea typeface="Arial"/>
              </a:rPr>
              <a:t>“</a:t>
            </a:r>
            <a:r>
              <a:rPr b="1" lang="ru-RU" sz="1800" spc="-1" strike="noStrike">
                <a:solidFill>
                  <a:srgbClr val="302f2e"/>
                </a:solidFill>
                <a:latin typeface="Arial"/>
                <a:ea typeface="Arial"/>
              </a:rPr>
              <a:t>Входит в</a:t>
            </a:r>
            <a:r>
              <a:rPr b="1" lang="en-US" sz="1800" spc="-1" strike="noStrike">
                <a:solidFill>
                  <a:srgbClr val="302f2e"/>
                </a:solidFill>
                <a:latin typeface="Arial"/>
                <a:ea typeface="Arial"/>
              </a:rPr>
              <a:t>” – </a:t>
            </a:r>
            <a:r>
              <a:rPr b="1" lang="ru-RU" sz="1800" spc="-1" strike="noStrike">
                <a:solidFill>
                  <a:srgbClr val="302f2e"/>
                </a:solidFill>
                <a:latin typeface="Arial"/>
                <a:ea typeface="Arial"/>
              </a:rPr>
              <a:t>Вывод перечня обозначенных значений. Вносится перечень значений через запятую. Пример: </a:t>
            </a:r>
            <a:r>
              <a:rPr b="1" lang="en-US" sz="1800" spc="-1" strike="noStrike">
                <a:solidFill>
                  <a:srgbClr val="302f2e"/>
                </a:solidFill>
                <a:latin typeface="Arial"/>
                <a:ea typeface="Arial"/>
              </a:rPr>
              <a:t>‘0100’, ‘0200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9200" indent="-259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9200" indent="-259200">
              <a:lnSpc>
                <a:spcPct val="100000"/>
              </a:lnSpc>
              <a:spcBef>
                <a:spcPts val="451"/>
              </a:spcBef>
              <a:buClr>
                <a:srgbClr val="302f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2f2e"/>
                </a:solidFill>
                <a:latin typeface="Arial"/>
                <a:ea typeface="Arial"/>
              </a:rPr>
              <a:t>Пусто «</a:t>
            </a:r>
            <a:r>
              <a:rPr b="1" lang="en-US" sz="1800" spc="-1" strike="noStrike">
                <a:solidFill>
                  <a:srgbClr val="302f2e"/>
                </a:solidFill>
                <a:latin typeface="Arial"/>
                <a:ea typeface="Arial"/>
              </a:rPr>
              <a:t>IS NULL</a:t>
            </a:r>
            <a:r>
              <a:rPr b="1" lang="ru-RU" sz="1800" spc="-1" strike="noStrike">
                <a:solidFill>
                  <a:srgbClr val="302f2e"/>
                </a:solidFill>
                <a:latin typeface="Arial"/>
                <a:ea typeface="Arial"/>
              </a:rPr>
              <a:t>»</a:t>
            </a:r>
            <a:r>
              <a:rPr b="1" lang="en-US" sz="1800" spc="-1" strike="noStrike">
                <a:solidFill>
                  <a:srgbClr val="302f2e"/>
                </a:solidFill>
                <a:latin typeface="Arial"/>
                <a:ea typeface="Arial"/>
              </a:rPr>
              <a:t> - </a:t>
            </a:r>
            <a:r>
              <a:rPr b="1" lang="ru-RU" sz="1800" spc="-1" strike="noStrike">
                <a:solidFill>
                  <a:srgbClr val="302f2e"/>
                </a:solidFill>
                <a:latin typeface="Arial"/>
                <a:ea typeface="Arial"/>
              </a:rPr>
              <a:t>Вывод показателей по которым не заполнены 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9200" indent="-259200">
              <a:lnSpc>
                <a:spcPct val="100000"/>
              </a:lnSpc>
              <a:spcBef>
                <a:spcPts val="451"/>
              </a:spcBef>
              <a:buClr>
                <a:srgbClr val="302f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9200" indent="-259200">
              <a:lnSpc>
                <a:spcPct val="100000"/>
              </a:lnSpc>
              <a:spcBef>
                <a:spcPts val="451"/>
              </a:spcBef>
              <a:buClr>
                <a:srgbClr val="302f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2f2e"/>
                </a:solidFill>
                <a:latin typeface="Arial"/>
                <a:ea typeface="Arial"/>
              </a:rPr>
              <a:t>Функция «Не» - Отрицание обозначенных усло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03BF-ADB5-49A1-BFBC-DC5954F6CB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9e"/>
                </a:solidFill>
                <a:latin typeface="Times New Roman"/>
              </a:rPr>
              <a:t>Пример работы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198" name="Picture 2" descr="C:\Documents and Settings\8169\Мои документы\Мои рисунки\111f4.JPG"/>
          <p:cNvPicPr/>
          <p:nvPr/>
        </p:nvPicPr>
        <p:blipFill>
          <a:blip r:embed="rId1"/>
          <a:stretch/>
        </p:blipFill>
        <p:spPr>
          <a:xfrm>
            <a:off x="395280" y="1628640"/>
            <a:ext cx="7788240" cy="4789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250920" y="1125360"/>
            <a:ext cx="83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чет о состоянии лицевого счета получателя бюджетных средств (ф.053178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20FE-393C-4B1E-91C9-7467F82111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Пример условий. Кассовые выплаты 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по зарплате (КОСГУ 211) в разрезе ЛС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rcRect l="0" t="-4" r="0" b="7360"/>
          <a:stretch/>
        </p:blipFill>
        <p:spPr>
          <a:xfrm>
            <a:off x="395280" y="1020600"/>
            <a:ext cx="742968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1588-9A5F-4DA2-BCE6-0A9CB5ACB9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9e"/>
                </a:solidFill>
                <a:latin typeface="Times New Roman"/>
              </a:rPr>
              <a:t>Пример отчета</a:t>
            </a: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205" name="Picture 4" descr="C:\Documents and Settings\8169\Мои документы\Мои рисунки\111fb.JPG"/>
          <p:cNvPicPr/>
          <p:nvPr/>
        </p:nvPicPr>
        <p:blipFill>
          <a:blip r:embed="rId1"/>
          <a:stretch/>
        </p:blipFill>
        <p:spPr>
          <a:xfrm>
            <a:off x="611280" y="1268280"/>
            <a:ext cx="54910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37DE-87D8-4FFE-B425-FA9A40045F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9e"/>
                </a:solidFill>
                <a:latin typeface="Times New Roman"/>
              </a:rPr>
              <a:t>Аналитический инструмент построения нерегламентированной отчетности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подробным описанием работы в форме анализа отчетности можно ознакомится в руководстве пользователя «Форма анализа отчетов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же разработана памятка пользователя аналитического инструмента отчет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5786-5F13-4457-AFA4-15EC135A9F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одзаголовок 2"/>
          <p:cNvSpPr/>
          <p:nvPr/>
        </p:nvSpPr>
        <p:spPr>
          <a:xfrm>
            <a:off x="1332000" y="2276640"/>
            <a:ext cx="6840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8EA2-3F46-4275-8673-E4A393F14E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олнительные настройки архивирования документов в ППО «АСФК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E687-F76B-4257-9E32-788059E1D2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2"/>
          <p:cNvSpPr/>
          <p:nvPr/>
        </p:nvSpPr>
        <p:spPr>
          <a:xfrm>
            <a:off x="8820000" y="6593040"/>
            <a:ext cx="314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7B8C-F15E-4B13-96C7-2FCF740E42D3}" type="slidenum">
              <a:rPr b="0" lang="en-US" sz="1400" spc="-1" strike="noStrike">
                <a:solidFill>
                  <a:srgbClr val="1f497d"/>
                </a:solidFill>
                <a:latin typeface="Lucida Grande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611280" y="18900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Arial"/>
              </a:rPr>
              <a:t>Дополнительные настройки архивирования докумен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Arial"/>
              </a:rPr>
              <a:t>в ППО «АСФ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Рисунок 6" descr=""/>
          <p:cNvPicPr/>
          <p:nvPr/>
        </p:nvPicPr>
        <p:blipFill>
          <a:blip r:embed="rId1"/>
          <a:srcRect l="1656" t="10837" r="0" b="16565"/>
          <a:stretch/>
        </p:blipFill>
        <p:spPr>
          <a:xfrm>
            <a:off x="395280" y="1052640"/>
            <a:ext cx="7669080" cy="4530600"/>
          </a:xfrm>
          <a:prstGeom prst="rect">
            <a:avLst/>
          </a:prstGeom>
          <a:ln w="0">
            <a:noFill/>
          </a:ln>
        </p:spPr>
      </p:pic>
      <p:grpSp>
        <p:nvGrpSpPr>
          <p:cNvPr id="55" name="Скругленная прямоугольная выноска 7"/>
          <p:cNvGrpSpPr/>
          <p:nvPr/>
        </p:nvGrpSpPr>
        <p:grpSpPr>
          <a:xfrm>
            <a:off x="4254480" y="1871640"/>
            <a:ext cx="4700520" cy="2644920"/>
            <a:chOff x="4254480" y="1871640"/>
            <a:chExt cx="4700520" cy="2644920"/>
          </a:xfrm>
        </p:grpSpPr>
        <p:pic>
          <p:nvPicPr>
            <p:cNvPr id="56" name="Скругленная прямоугольная выноска 7" descr=""/>
            <p:cNvPicPr/>
            <p:nvPr/>
          </p:nvPicPr>
          <p:blipFill>
            <a:blip r:embed="rId2"/>
            <a:stretch/>
          </p:blipFill>
          <p:spPr>
            <a:xfrm>
              <a:off x="4254480" y="1871640"/>
              <a:ext cx="4700520" cy="264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381560" y="1996920"/>
              <a:ext cx="44463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.BUDGET_CODE = ‘9901001’ AND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.PA_S like ‘3%’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Text Box 8"/>
          <p:cNvSpPr/>
          <p:nvPr/>
        </p:nvSpPr>
        <p:spPr>
          <a:xfrm>
            <a:off x="108000" y="5589720"/>
            <a:ext cx="8856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Навигатор- Администратор электронного архива – Дополнительные настройки архивиров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Доступ к настройке имеет пользователь только с полномочиями «АСФК: специалист электронного архива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0C56-524C-44A5-9C2D-6D925667F3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8820000" y="6593040"/>
            <a:ext cx="314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7B8B-E6B0-4F98-8C4C-A6D0EB8FB75D}" type="slidenum">
              <a:rPr b="0" lang="en-US" sz="1400" spc="-1" strike="noStrike">
                <a:solidFill>
                  <a:srgbClr val="1f497d"/>
                </a:solidFill>
                <a:latin typeface="Lucida Grande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611280" y="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Автоматическое (в составе ночных сервисов) и полуавтоматическое архивирование документов и отчетов с учетом дополнительных услов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Выноска со стрелками влево/вправо 6"/>
          <p:cNvGrpSpPr/>
          <p:nvPr/>
        </p:nvGrpSpPr>
        <p:grpSpPr>
          <a:xfrm>
            <a:off x="2481120" y="1407960"/>
            <a:ext cx="4248360" cy="3103560"/>
            <a:chOff x="2481120" y="1407960"/>
            <a:chExt cx="4248360" cy="3103560"/>
          </a:xfrm>
        </p:grpSpPr>
        <p:pic>
          <p:nvPicPr>
            <p:cNvPr id="63" name="Выноска со стрелками влево/вправо 6" descr=""/>
            <p:cNvPicPr/>
            <p:nvPr/>
          </p:nvPicPr>
          <p:blipFill>
            <a:blip r:embed="rId1"/>
            <a:stretch/>
          </p:blipFill>
          <p:spPr>
            <a:xfrm>
              <a:off x="2481120" y="1407960"/>
              <a:ext cx="4248360" cy="31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371760" y="1484280"/>
              <a:ext cx="2471760" cy="29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араметры  документа или отчета соответствуют условиям, отраженным в настройке «Дополнительные настройки архивирования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" name="AutoShape 35"/>
          <p:cNvGrpSpPr/>
          <p:nvPr/>
        </p:nvGrpSpPr>
        <p:grpSpPr>
          <a:xfrm>
            <a:off x="225360" y="1316160"/>
            <a:ext cx="2401920" cy="4992480"/>
            <a:chOff x="225360" y="1316160"/>
            <a:chExt cx="2401920" cy="4992480"/>
          </a:xfrm>
        </p:grpSpPr>
        <p:pic>
          <p:nvPicPr>
            <p:cNvPr id="66" name="AutoShape 35" descr=""/>
            <p:cNvPicPr/>
            <p:nvPr/>
          </p:nvPicPr>
          <p:blipFill>
            <a:blip r:embed="rId2"/>
            <a:stretch/>
          </p:blipFill>
          <p:spPr>
            <a:xfrm>
              <a:off x="225360" y="1316160"/>
              <a:ext cx="2401920" cy="49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09680" y="1501920"/>
              <a:ext cx="2036520" cy="46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кумент или отчет архивируется в подкаталог, указанный в поле </a:t>
              </a: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«Папка авт. архивирования»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стройки «</a:t>
              </a: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еречень документов, подлежащих хранению в электронном виде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" name="AutoShape 35"/>
          <p:cNvGrpSpPr/>
          <p:nvPr/>
        </p:nvGrpSpPr>
        <p:grpSpPr>
          <a:xfrm>
            <a:off x="6583320" y="1305000"/>
            <a:ext cx="2475000" cy="4919760"/>
            <a:chOff x="6583320" y="1305000"/>
            <a:chExt cx="2475000" cy="4919760"/>
          </a:xfrm>
        </p:grpSpPr>
        <p:pic>
          <p:nvPicPr>
            <p:cNvPr id="69" name="AutoShape 35" descr=""/>
            <p:cNvPicPr/>
            <p:nvPr/>
          </p:nvPicPr>
          <p:blipFill>
            <a:blip r:embed="rId3"/>
            <a:stretch/>
          </p:blipFill>
          <p:spPr>
            <a:xfrm>
              <a:off x="6583320" y="1305000"/>
              <a:ext cx="2475000" cy="49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773760" y="1488960"/>
              <a:ext cx="2100240" cy="45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кумент или отчет архивируется в подкаталог, указанный в поле </a:t>
              </a: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«Папка авт. архивирования»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стройки </a:t>
              </a: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«Дополнительные настройки архивирования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Скругленный прямоугольник 10"/>
          <p:cNvGrpSpPr/>
          <p:nvPr/>
        </p:nvGrpSpPr>
        <p:grpSpPr>
          <a:xfrm>
            <a:off x="2554200" y="1438200"/>
            <a:ext cx="652680" cy="635040"/>
            <a:chOff x="2554200" y="1438200"/>
            <a:chExt cx="652680" cy="635040"/>
          </a:xfrm>
        </p:grpSpPr>
        <p:pic>
          <p:nvPicPr>
            <p:cNvPr id="72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2554200" y="1438200"/>
              <a:ext cx="65268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651040" y="1536840"/>
              <a:ext cx="45720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Скругленный прямоугольник 11"/>
          <p:cNvGrpSpPr/>
          <p:nvPr/>
        </p:nvGrpSpPr>
        <p:grpSpPr>
          <a:xfrm>
            <a:off x="6010200" y="1395360"/>
            <a:ext cx="652680" cy="635040"/>
            <a:chOff x="6010200" y="1395360"/>
            <a:chExt cx="652680" cy="635040"/>
          </a:xfrm>
        </p:grpSpPr>
        <p:pic>
          <p:nvPicPr>
            <p:cNvPr id="75" name="Скругленный прямоугольник 11" descr=""/>
            <p:cNvPicPr/>
            <p:nvPr/>
          </p:nvPicPr>
          <p:blipFill>
            <a:blip r:embed="rId5"/>
            <a:stretch/>
          </p:blipFill>
          <p:spPr>
            <a:xfrm>
              <a:off x="6010200" y="1395360"/>
              <a:ext cx="65268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108840" y="1494000"/>
              <a:ext cx="4554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D195-99AF-4BDC-ACD1-38AE3C37CE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F5CE-A486-4ABC-9A00-55E4038E82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Рисунок 2" descr=""/>
          <p:cNvPicPr/>
          <p:nvPr/>
        </p:nvPicPr>
        <p:blipFill>
          <a:blip r:embed="rId1"/>
          <a:srcRect l="685" t="2569" r="0" b="33463"/>
          <a:stretch/>
        </p:blipFill>
        <p:spPr>
          <a:xfrm>
            <a:off x="179280" y="1268280"/>
            <a:ext cx="8209080" cy="4559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1476360" y="189000"/>
            <a:ext cx="61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Процедура перещения архивных документов в новые каталог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6300720" y="2565360"/>
            <a:ext cx="266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оцедура перещает ранее заархированные документы в каталоги и подкаталоги в соответствии с настройкой «Дополнительные настройки архивиро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5CA4-E51E-4A6D-B903-CBACE3960B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2"/>
          <p:cNvSpPr/>
          <p:nvPr/>
        </p:nvSpPr>
        <p:spPr>
          <a:xfrm>
            <a:off x="8820000" y="6593040"/>
            <a:ext cx="314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07DB-9B0D-4870-87FA-71FA6CA0CC1F}" type="slidenum">
              <a:rPr b="0" lang="en-US" sz="1400" spc="-1" strike="noStrike">
                <a:solidFill>
                  <a:srgbClr val="1f497d"/>
                </a:solidFill>
                <a:latin typeface="Lucida Grande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611280" y="11592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Arial"/>
              </a:rPr>
              <a:t>Правила работы процеду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Скругленный прямоугольник 23"/>
          <p:cNvGrpSpPr/>
          <p:nvPr/>
        </p:nvGrpSpPr>
        <p:grpSpPr>
          <a:xfrm>
            <a:off x="2419200" y="1212840"/>
            <a:ext cx="4286520" cy="993960"/>
            <a:chOff x="2419200" y="1212840"/>
            <a:chExt cx="4286520" cy="993960"/>
          </a:xfrm>
        </p:grpSpPr>
        <p:pic>
          <p:nvPicPr>
            <p:cNvPr id="86" name="Скругленный прямоугольник 23" descr=""/>
            <p:cNvPicPr/>
            <p:nvPr/>
          </p:nvPicPr>
          <p:blipFill>
            <a:blip r:embed="rId1"/>
            <a:stretch/>
          </p:blipFill>
          <p:spPr>
            <a:xfrm>
              <a:off x="2419200" y="1212840"/>
              <a:ext cx="42865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533680" y="1327320"/>
              <a:ext cx="405756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кумент/отчет заархивирован в </a:t>
              </a: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одкаталог_1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структуры электронного хранени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AutoShape 35"/>
          <p:cNvGrpSpPr/>
          <p:nvPr/>
        </p:nvGrpSpPr>
        <p:grpSpPr>
          <a:xfrm>
            <a:off x="92160" y="2487600"/>
            <a:ext cx="3101760" cy="3174840"/>
            <a:chOff x="92160" y="2487600"/>
            <a:chExt cx="3101760" cy="3174840"/>
          </a:xfrm>
        </p:grpSpPr>
        <p:pic>
          <p:nvPicPr>
            <p:cNvPr id="89" name="AutoShape 35" descr=""/>
            <p:cNvPicPr/>
            <p:nvPr/>
          </p:nvPicPr>
          <p:blipFill>
            <a:blip r:embed="rId2"/>
            <a:stretch/>
          </p:blipFill>
          <p:spPr>
            <a:xfrm>
              <a:off x="92160" y="2487600"/>
              <a:ext cx="3101760" cy="31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11040" y="2701800"/>
              <a:ext cx="266400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кумент/отчет перемещен в </a:t>
              </a: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одкаталог_2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структуры электронного хранени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Стрелка вправо 11"/>
          <p:cNvGrpSpPr/>
          <p:nvPr/>
        </p:nvGrpSpPr>
        <p:grpSpPr>
          <a:xfrm>
            <a:off x="4290840" y="2060640"/>
            <a:ext cx="536760" cy="1170000"/>
            <a:chOff x="4290840" y="2060640"/>
            <a:chExt cx="536760" cy="1170000"/>
          </a:xfrm>
        </p:grpSpPr>
        <p:pic>
          <p:nvPicPr>
            <p:cNvPr id="92" name="Стрелка вправо 11" descr=""/>
            <p:cNvPicPr/>
            <p:nvPr/>
          </p:nvPicPr>
          <p:blipFill>
            <a:blip r:embed="rId3"/>
            <a:stretch/>
          </p:blipFill>
          <p:spPr>
            <a:xfrm>
              <a:off x="4290840" y="2060640"/>
              <a:ext cx="53676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5400000">
              <a:off x="4096080" y="2505600"/>
              <a:ext cx="93168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Выноска со стрелками влево/вправо 3"/>
          <p:cNvGrpSpPr/>
          <p:nvPr/>
        </p:nvGrpSpPr>
        <p:grpSpPr>
          <a:xfrm>
            <a:off x="3048120" y="3084480"/>
            <a:ext cx="3035160" cy="1487520"/>
            <a:chOff x="3048120" y="3084480"/>
            <a:chExt cx="3035160" cy="1487520"/>
          </a:xfrm>
        </p:grpSpPr>
        <p:pic>
          <p:nvPicPr>
            <p:cNvPr id="95" name="Выноска со стрелками влево/вправо 3" descr=""/>
            <p:cNvPicPr/>
            <p:nvPr/>
          </p:nvPicPr>
          <p:blipFill>
            <a:blip r:embed="rId4"/>
            <a:stretch/>
          </p:blipFill>
          <p:spPr>
            <a:xfrm>
              <a:off x="3048120" y="3084480"/>
              <a:ext cx="303516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693960" y="3160800"/>
              <a:ext cx="1739880" cy="13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даны дополнител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ые услов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AutoShape 35"/>
          <p:cNvGrpSpPr/>
          <p:nvPr/>
        </p:nvGrpSpPr>
        <p:grpSpPr>
          <a:xfrm>
            <a:off x="5937120" y="2414520"/>
            <a:ext cx="3097440" cy="3175200"/>
            <a:chOff x="5937120" y="2414520"/>
            <a:chExt cx="3097440" cy="3175200"/>
          </a:xfrm>
        </p:grpSpPr>
        <p:pic>
          <p:nvPicPr>
            <p:cNvPr id="98" name="AutoShape 35" descr=""/>
            <p:cNvPicPr/>
            <p:nvPr/>
          </p:nvPicPr>
          <p:blipFill>
            <a:blip r:embed="rId5"/>
            <a:stretch/>
          </p:blipFill>
          <p:spPr>
            <a:xfrm>
              <a:off x="5937120" y="2414520"/>
              <a:ext cx="3097440" cy="317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153120" y="2629080"/>
              <a:ext cx="266400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кумент/отчет </a:t>
              </a: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не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еремещается в структуре электронного хранени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Скругленный прямоугольник 15"/>
          <p:cNvGrpSpPr/>
          <p:nvPr/>
        </p:nvGrpSpPr>
        <p:grpSpPr>
          <a:xfrm>
            <a:off x="5218200" y="2451240"/>
            <a:ext cx="652320" cy="626760"/>
            <a:chOff x="5218200" y="2451240"/>
            <a:chExt cx="652320" cy="626760"/>
          </a:xfrm>
        </p:grpSpPr>
        <p:pic>
          <p:nvPicPr>
            <p:cNvPr id="101" name="Скругленный прямоугольник 15" descr=""/>
            <p:cNvPicPr/>
            <p:nvPr/>
          </p:nvPicPr>
          <p:blipFill>
            <a:blip r:embed="rId6"/>
            <a:stretch/>
          </p:blipFill>
          <p:spPr>
            <a:xfrm>
              <a:off x="5218200" y="2451240"/>
              <a:ext cx="652320" cy="62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316480" y="2544840"/>
              <a:ext cx="45720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Скругленный прямоугольник 16"/>
          <p:cNvGrpSpPr/>
          <p:nvPr/>
        </p:nvGrpSpPr>
        <p:grpSpPr>
          <a:xfrm>
            <a:off x="3200400" y="2487600"/>
            <a:ext cx="652320" cy="627120"/>
            <a:chOff x="3200400" y="2487600"/>
            <a:chExt cx="652320" cy="627120"/>
          </a:xfrm>
        </p:grpSpPr>
        <p:pic>
          <p:nvPicPr>
            <p:cNvPr id="104" name="Скругленный прямоугольник 16" descr=""/>
            <p:cNvPicPr/>
            <p:nvPr/>
          </p:nvPicPr>
          <p:blipFill>
            <a:blip r:embed="rId7"/>
            <a:stretch/>
          </p:blipFill>
          <p:spPr>
            <a:xfrm>
              <a:off x="3200400" y="2487600"/>
              <a:ext cx="65232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298680" y="2581200"/>
              <a:ext cx="45900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6" name="Picture 5" descr="C:\Users\1\AppData\Local\Microsoft\Windows\Temporary Internet Files\Content.IE5\4IF4R6DK\question-mark-3963-large[1].png"/>
          <p:cNvPicPr/>
          <p:nvPr/>
        </p:nvPicPr>
        <p:blipFill>
          <a:blip r:embed="rId8"/>
          <a:stretch/>
        </p:blipFill>
        <p:spPr>
          <a:xfrm>
            <a:off x="5291280" y="4059360"/>
            <a:ext cx="36036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ED12-A5D7-42BB-B202-7F112D9EE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4A94-B2C3-409A-948C-108EDCC2D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79280" y="1052640"/>
            <a:ext cx="8820360" cy="48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Arial"/>
              </a:rPr>
              <a:t>Описание данного функционала отражено в руководстве пользователя «Архивирование документов и отчетных форм»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Arial"/>
              </a:rPr>
              <a:t>1) в разделе 4.4 «Автоматическое архивирование» приведено описание действий специалиста при работе с настройкой «Дополнительные настройки архивирования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Arial"/>
              </a:rPr>
              <a:t>2) в разделе 4.8 «Работа с заархивированными документами» описаны действия специалиста по перемещению ранее заархивированных документов и отчетов в иные подкаталоги электронной структуры хранения в соответствии с дополнительными условия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Arial"/>
              </a:rPr>
              <a:t>Создана база знани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 u="sng">
                <a:solidFill>
                  <a:srgbClr val="17bbfd"/>
                </a:solidFill>
                <a:uFillTx/>
                <a:latin typeface="Calibri"/>
                <a:ea typeface="Arial"/>
                <a:hlinkClick r:id="rId1"/>
              </a:rPr>
              <a:t>https</a:t>
            </a:r>
            <a:r>
              <a:rPr b="0" lang="ru-RU" sz="2400" spc="-1" strike="noStrike" u="sng">
                <a:solidFill>
                  <a:srgbClr val="17bbfd"/>
                </a:solidFill>
                <a:uFillTx/>
                <a:latin typeface="Calibri"/>
                <a:ea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17bbfd"/>
                </a:solidFill>
                <a:uFillTx/>
                <a:latin typeface="Calibri"/>
                <a:ea typeface="Arial"/>
                <a:hlinkClick r:id="rId3"/>
              </a:rPr>
              <a:t>www.asfk-support.ru</a:t>
            </a:r>
            <a:r>
              <a:rPr b="0" lang="ru-RU" sz="2400" spc="-1" strike="noStrike" u="sng">
                <a:solidFill>
                  <a:srgbClr val="17bbfd"/>
                </a:solidFill>
                <a:uFillTx/>
                <a:latin typeface="Calibri"/>
                <a:ea typeface="Arial"/>
                <a:hlinkClick r:id="rId4"/>
              </a:rPr>
              <a:t>/</a:t>
            </a:r>
            <a:r>
              <a:rPr b="0" lang="ru-RU" sz="2400" spc="-1" strike="noStrike" u="sng">
                <a:solidFill>
                  <a:srgbClr val="17bbfd"/>
                </a:solidFill>
                <a:uFillTx/>
                <a:latin typeface="Calibri"/>
                <a:ea typeface="Arial"/>
                <a:hlinkClick r:id="rId5"/>
              </a:rPr>
              <a:t>jira</a:t>
            </a:r>
            <a:r>
              <a:rPr b="0" lang="ru-RU" sz="2400" spc="-1" strike="noStrike" u="sng">
                <a:solidFill>
                  <a:srgbClr val="17bbfd"/>
                </a:solidFill>
                <a:uFillTx/>
                <a:latin typeface="Calibri"/>
                <a:ea typeface="Arial"/>
                <a:hlinkClick r:id="rId6"/>
              </a:rPr>
              <a:t>/</a:t>
            </a:r>
            <a:r>
              <a:rPr b="0" lang="ru-RU" sz="2400" spc="-1" strike="noStrike" u="sng">
                <a:solidFill>
                  <a:srgbClr val="17bbfd"/>
                </a:solidFill>
                <a:uFillTx/>
                <a:latin typeface="Calibri"/>
                <a:ea typeface="Arial"/>
                <a:hlinkClick r:id="rId7"/>
              </a:rPr>
              <a:t>browse</a:t>
            </a:r>
            <a:r>
              <a:rPr b="0" lang="ru-RU" sz="2400" spc="-1" strike="noStrike" u="sng">
                <a:solidFill>
                  <a:srgbClr val="17bbfd"/>
                </a:solidFill>
                <a:uFillTx/>
                <a:latin typeface="Calibri"/>
                <a:ea typeface="Arial"/>
                <a:hlinkClick r:id="rId8"/>
              </a:rPr>
              <a:t>/KB-7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971640" y="18900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Дополнительные настройки архивирования докумен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в ППО «АСФ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D1A0-2F74-4245-8E9F-A3F798E563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ерка отчетности клиентов с отчетностью органа Федерального казначей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Elena</cp:lastModifiedBy>
  <dcterms:modified xsi:type="dcterms:W3CDTF">2015-09-15T20:14:44Z</dcterms:modified>
  <cp:revision>420</cp:revision>
  <dc:subject/>
  <dc:title>Слайд 1</dc:title>
</cp:coreProperties>
</file>