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29.png" ContentType="image/png"/>
  <Override PartName="/ppt/media/image50.png" ContentType="image/png"/>
  <Override PartName="/ppt/media/image40.png" ContentType="image/png"/>
  <Override PartName="/ppt/media/image4.jpeg" ContentType="image/jpeg"/>
  <Override PartName="/ppt/media/image56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64.png" ContentType="image/png"/>
  <Override PartName="/ppt/media/image27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2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34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5BCA-2A80-4EE7-B306-D9F8534D1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E2B-7768-4AFA-A292-B6E6CEA27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B75-02DB-46F2-9C0A-310C538B2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F86-F120-4427-90B3-149ED695B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не трог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5EE-FA0D-4D76-82E0-FB6574407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CA3-5A12-4769-912D-82A8170C0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BE83-A9B4-4CF0-86B0-A0A0318BE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951-3704-4505-9990-14281105F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8D8D-C603-4796-B9AF-7F6C00EC8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79A-9397-439F-B5B9-88CF23872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C31-E8EB-4091-B61A-E96988DF5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96E-0DFD-4A04-B120-FDE04BED7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5808-B9D2-4FEC-B64D-17ACE374C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E8C-EB9E-4CA5-9052-07A572A8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B03-81FA-44E7-987E-5F1FF3D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7BE-3109-4AB5-A8CD-54409735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6CD-47E3-495C-8D10-381585A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3673-F0F5-45C5-A2DE-6CF5144E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B2AF-39C9-48D7-8661-2C96CD5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849-E906-4385-ACCD-FC91925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DE86-0916-4F63-8C25-BB53D77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3F08-7012-4366-8A03-178B44EA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693-255D-4859-B225-CBE2519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A633-635F-45A3-8E16-52E12DD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730-753E-435E-803C-6E2B4A6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7C4-2B5A-4AF6-8D76-95C90FA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16B9-6BD8-44D3-ADE7-1C3D36A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516-187F-4CA7-93A7-DB6922C2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0D0-A9AD-46C9-AC1B-4EB62B45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2A93-D37D-4C45-9E2A-5225C623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FB22-7720-433D-BB8F-7A72EEAB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589C-E7CC-46F6-9FDF-550FB3FC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DC5B-3776-4083-951C-FE7ED756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895D-7B00-4D3A-8385-BEAE97F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1205-6DAA-467F-A810-DB33CC67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2D2-2B04-408D-8D25-2BB8A97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3F20-2523-4EDB-8885-E29BC520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6157-C6D2-43EA-8C1D-3E2A6CA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5AEA-A846-46C3-AB78-BF300E8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D3E5-35BB-4FC6-A136-EE56760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FA01-AEB0-4B13-9D41-4108DB62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DB73-36BB-4BFD-B0A6-6303E5F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F17F-EC87-425B-8C78-E9B69F95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19BF-8BB6-4450-874F-03929429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41F0-EFAC-455B-855C-3224F78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CC0B-1C5A-4C3B-AD69-C5AC2AF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B42-819C-4E1D-948A-DA345AB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1EC7-300D-458E-8648-7D5AFAF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56B4-D92F-41BF-997B-389C44D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A794-DC21-4046-9E75-27DD00C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5D20-B98E-41F5-93A5-5F2BF44F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A10A-EB3C-4CE5-AA49-3D93064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AE55-ACD6-41E2-8BB9-4514100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33F2-EB8A-427E-9248-96C590E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F1CA-3EA9-40B5-AD34-2888949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14E9-6534-4A5C-99D6-9801F35D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7EEB-C751-4BB5-8EFB-3DA15B9D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004-7F8C-4BFB-8CFD-E9F4178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3747-8DB9-4411-9766-C7A180E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96FB-1A5F-4B9E-8B41-B5446BC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6D98-6C77-4884-8D5E-320808B7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7955-98BA-431F-A038-D15E26E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9EFD-F42F-4378-85A0-3990B9DC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8920-F993-471F-A81E-636ACDC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171A-CFC1-47FA-A848-BC9F2F7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0E8E-09B7-452E-B37F-BD754AD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EA04-6A90-48E8-BFB4-7E7D96FB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8A71-D668-481A-8A3D-39B27997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8B1-CF7F-44D0-B077-1D91FACF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8864-1D7B-48CA-B0C5-3CED873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D9C-8AF7-4D53-9535-8FAB414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DA3-838E-414F-A9EF-F677C22D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701-6AB8-43C3-86F9-2316EF6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D96-54D9-4E3C-9869-7C4C30DB8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F9A-491A-4012-A6CD-003E17AF1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4AA-6BF1-47CB-A0C4-F490FF378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CFB-7026-4657-8BEC-9C62B8DAE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F66-BB27-4B1C-84BA-2E19E0315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3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jpe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jpe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одзаголовок 2"/>
          <p:cNvSpPr/>
          <p:nvPr/>
        </p:nvSpPr>
        <p:spPr>
          <a:xfrm>
            <a:off x="25560" y="2421000"/>
            <a:ext cx="9036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UI"/>
                <a:ea typeface="Segoe UI"/>
              </a:rPr>
              <a:t>Практика применения единых технологических процедур автоматизации учета  и отче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D:\Толя\Шаблон презентаций\logo.png"/>
          <p:cNvPicPr/>
          <p:nvPr/>
        </p:nvPicPr>
        <p:blipFill>
          <a:blip r:embed="rId2"/>
          <a:stretch/>
        </p:blipFill>
        <p:spPr>
          <a:xfrm>
            <a:off x="5576760" y="404640"/>
            <a:ext cx="3243240" cy="4176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4205160" y="4095720"/>
            <a:ext cx="2057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Segoe UI"/>
                <a:ea typeface="Segoe UI"/>
              </a:rPr>
              <a:t>Докладч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egoe UI"/>
                <a:ea typeface="Segoe UI"/>
              </a:rPr>
              <a:t>Заместитель генерального дир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Segoe UI"/>
                <a:ea typeface="Segoe UI"/>
              </a:rPr>
              <a:t>компании «Кейсистем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Segoe UI"/>
                <a:ea typeface="Segoe UI"/>
              </a:rPr>
              <a:t>Федоров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29"/>
          <p:cNvGrpSpPr/>
          <p:nvPr/>
        </p:nvGrpSpPr>
        <p:grpSpPr>
          <a:xfrm>
            <a:off x="2700360" y="3933720"/>
            <a:ext cx="3743280" cy="1871640"/>
            <a:chOff x="2700360" y="3933720"/>
            <a:chExt cx="3743280" cy="1871640"/>
          </a:xfrm>
        </p:grpSpPr>
        <p:sp>
          <p:nvSpPr>
            <p:cNvPr id="216" name="Прямая соединительная линия 19"/>
            <p:cNvSpPr/>
            <p:nvPr/>
          </p:nvSpPr>
          <p:spPr>
            <a:xfrm>
              <a:off x="2700360" y="3933720"/>
              <a:ext cx="37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0"/>
            <p:cNvSpPr/>
            <p:nvPr/>
          </p:nvSpPr>
          <p:spPr>
            <a:xfrm>
              <a:off x="2700360" y="5805360"/>
              <a:ext cx="37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Заголовок 1"/>
          <p:cNvSpPr/>
          <p:nvPr/>
        </p:nvSpPr>
        <p:spPr>
          <a:xfrm>
            <a:off x="6659640" y="6237360"/>
            <a:ext cx="2016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UI"/>
                <a:ea typeface="Segoe UI"/>
              </a:rPr>
              <a:t>www.keysystem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\\ksnas\Сектор маркетинга\фотосессия\обработанные фото\Административное управление\белый\Фёдоров Евгений Владимирович_1.JPG"/>
          <p:cNvPicPr/>
          <p:nvPr/>
        </p:nvPicPr>
        <p:blipFill>
          <a:blip r:embed="rId3"/>
          <a:srcRect l="26995" t="3475" r="16230" b="49254"/>
          <a:stretch/>
        </p:blipFill>
        <p:spPr>
          <a:xfrm>
            <a:off x="2987640" y="4221000"/>
            <a:ext cx="1008000" cy="12607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826920" y="1663560"/>
            <a:ext cx="766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UI"/>
                <a:ea typeface="Segoe UI"/>
              </a:rPr>
              <a:t>Всероссийское совещание по вопросам бюджетного учета и формирования бухгалтерск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3708360" y="6237360"/>
            <a:ext cx="2016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Segoe UI"/>
                <a:ea typeface="Segoe UI"/>
              </a:rPr>
              <a:t>14-19 сентября2015 г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Segoe UI"/>
                <a:ea typeface="Segoe UI"/>
              </a:rPr>
              <a:t>г. Соч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37" descr=""/>
          <p:cNvPicPr/>
          <p:nvPr/>
        </p:nvPicPr>
        <p:blipFill>
          <a:blip r:embed="rId1"/>
          <a:stretch/>
        </p:blipFill>
        <p:spPr>
          <a:xfrm>
            <a:off x="7561440" y="2255760"/>
            <a:ext cx="615600" cy="885960"/>
          </a:xfrm>
          <a:prstGeom prst="rect">
            <a:avLst/>
          </a:prstGeom>
          <a:ln w="0">
            <a:noFill/>
          </a:ln>
        </p:spPr>
      </p:pic>
      <p:cxnSp>
        <p:nvCxnSpPr>
          <p:cNvPr id="320" name="Соединительная линия уступом 4"/>
          <p:cNvCxnSpPr/>
          <p:nvPr/>
        </p:nvCxnSpPr>
        <p:spPr>
          <a:xfrm rot="5400000">
            <a:off x="4577040" y="2182320"/>
            <a:ext cx="20880" cy="1077120"/>
          </a:xfrm>
          <a:prstGeom prst="bentConnector3">
            <a:avLst>
              <a:gd name="adj1" fmla="val -110526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Прямоугольник 9"/>
          <p:cNvSpPr/>
          <p:nvPr/>
        </p:nvSpPr>
        <p:spPr>
          <a:xfrm>
            <a:off x="779400" y="5962680"/>
            <a:ext cx="22798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Оперативный доступ и обрабо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3373560" y="3487680"/>
            <a:ext cx="244764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Segoe UI"/>
                <a:ea typeface="Segoe UI"/>
              </a:rPr>
              <a:t>Автоматическое сохранение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6138720" y="5722920"/>
            <a:ext cx="21798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Гарантир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 </a:t>
            </a: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уровень надеж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и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4"/>
          <p:cNvSpPr/>
          <p:nvPr/>
        </p:nvSpPr>
        <p:spPr>
          <a:xfrm>
            <a:off x="801720" y="3402000"/>
            <a:ext cx="2160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Segoe UI"/>
                <a:ea typeface="Segoe UI"/>
              </a:rPr>
              <a:t>Централизованное хранение</a:t>
            </a:r>
            <a:r>
              <a:rPr b="1" lang="en-US" sz="1200" spc="-1" strike="noStrike">
                <a:solidFill>
                  <a:srgbClr val="404040"/>
                </a:solidFill>
                <a:latin typeface="Segoe UI"/>
                <a:ea typeface="Segoe UI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Segoe UI"/>
                <a:ea typeface="Segoe UI"/>
              </a:rPr>
              <a:t>любых типов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17"/>
          <p:cNvSpPr/>
          <p:nvPr/>
        </p:nvSpPr>
        <p:spPr>
          <a:xfrm>
            <a:off x="674640" y="1916280"/>
            <a:ext cx="2448000" cy="223344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198360" y="984240"/>
            <a:ext cx="85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Segoe UI"/>
                <a:ea typeface="Segoe UI"/>
              </a:rPr>
              <a:t>ЭЛЕКТРОННЫЙ АРХИВ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0"/>
          <p:cNvSpPr/>
          <p:nvPr/>
        </p:nvSpPr>
        <p:spPr>
          <a:xfrm>
            <a:off x="3343320" y="1917720"/>
            <a:ext cx="2448000" cy="223344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1"/>
          <p:cNvSpPr/>
          <p:nvPr/>
        </p:nvSpPr>
        <p:spPr>
          <a:xfrm>
            <a:off x="6041880" y="1927080"/>
            <a:ext cx="2448000" cy="223380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32"/>
          <p:cNvSpPr/>
          <p:nvPr/>
        </p:nvSpPr>
        <p:spPr>
          <a:xfrm>
            <a:off x="3343320" y="4334040"/>
            <a:ext cx="2448000" cy="223344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33"/>
          <p:cNvSpPr/>
          <p:nvPr/>
        </p:nvSpPr>
        <p:spPr>
          <a:xfrm>
            <a:off x="660240" y="4334040"/>
            <a:ext cx="2446560" cy="223344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34"/>
          <p:cNvSpPr/>
          <p:nvPr/>
        </p:nvSpPr>
        <p:spPr>
          <a:xfrm>
            <a:off x="6041880" y="4334040"/>
            <a:ext cx="2448000" cy="2233440"/>
          </a:xfrm>
          <a:prstGeom prst="roundRect">
            <a:avLst>
              <a:gd name="adj" fmla="val 5500"/>
            </a:avLst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6"/>
          <p:cNvSpPr/>
          <p:nvPr/>
        </p:nvSpPr>
        <p:spPr>
          <a:xfrm>
            <a:off x="6051600" y="3419640"/>
            <a:ext cx="24480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Segoe UI"/>
                <a:ea typeface="Segoe UI"/>
              </a:rPr>
              <a:t>Сопоставление каждому документу его электронной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9"/>
          <p:cNvSpPr/>
          <p:nvPr/>
        </p:nvSpPr>
        <p:spPr>
          <a:xfrm>
            <a:off x="3427560" y="5986440"/>
            <a:ext cx="22780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Segoe UI"/>
                <a:ea typeface="Segoe UI"/>
              </a:rPr>
              <a:t>Быстрый пои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\\MARKET\ForAll\_Семинары\2014\Осенний семинар, Казань сентябрь\презентации\ЭЛЕМЕНТЫ\монитор.png"/>
          <p:cNvPicPr/>
          <p:nvPr/>
        </p:nvPicPr>
        <p:blipFill>
          <a:blip r:embed="rId2"/>
          <a:stretch/>
        </p:blipFill>
        <p:spPr>
          <a:xfrm>
            <a:off x="6388200" y="2273400"/>
            <a:ext cx="90324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" descr=""/>
          <p:cNvPicPr/>
          <p:nvPr/>
        </p:nvPicPr>
        <p:blipFill>
          <a:blip r:embed="rId3"/>
          <a:stretch/>
        </p:blipFill>
        <p:spPr>
          <a:xfrm>
            <a:off x="4438800" y="2144880"/>
            <a:ext cx="355320" cy="512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http://clipart-finder.com/data/png/floppy_disk.png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4392720" y="2090880"/>
            <a:ext cx="209520" cy="222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"/>
          <p:cNvPicPr/>
          <p:nvPr/>
        </p:nvPicPr>
        <p:blipFill>
          <a:blip r:embed="rId5"/>
          <a:stretch/>
        </p:blipFill>
        <p:spPr>
          <a:xfrm>
            <a:off x="6338880" y="2103480"/>
            <a:ext cx="787320" cy="679320"/>
          </a:xfrm>
          <a:prstGeom prst="rect">
            <a:avLst/>
          </a:prstGeom>
          <a:ln w="0">
            <a:noFill/>
          </a:ln>
        </p:spPr>
      </p:pic>
      <p:cxnSp>
        <p:nvCxnSpPr>
          <p:cNvPr id="338" name="Прямая со стрелкой 36"/>
          <p:cNvCxnSpPr/>
          <p:nvPr/>
        </p:nvCxnSpPr>
        <p:spPr>
          <a:xfrm>
            <a:off x="6961320" y="2565000"/>
            <a:ext cx="848160" cy="10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39" name="Рисунок 7" descr=""/>
          <p:cNvPicPr/>
          <p:nvPr/>
        </p:nvPicPr>
        <p:blipFill>
          <a:blip r:embed="rId6"/>
          <a:stretch/>
        </p:blipFill>
        <p:spPr>
          <a:xfrm>
            <a:off x="3624120" y="2711520"/>
            <a:ext cx="857520" cy="7239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"/>
          <p:cNvPicPr/>
          <p:nvPr/>
        </p:nvPicPr>
        <p:blipFill>
          <a:blip r:embed="rId7"/>
          <a:stretch/>
        </p:blipFill>
        <p:spPr>
          <a:xfrm>
            <a:off x="4711680" y="2698920"/>
            <a:ext cx="849240" cy="7207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1" descr=""/>
          <p:cNvPicPr/>
          <p:nvPr/>
        </p:nvPicPr>
        <p:blipFill>
          <a:blip r:embed="rId8"/>
          <a:stretch/>
        </p:blipFill>
        <p:spPr>
          <a:xfrm>
            <a:off x="4124160" y="4754520"/>
            <a:ext cx="615960" cy="8859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9" descr=""/>
          <p:cNvPicPr/>
          <p:nvPr/>
        </p:nvPicPr>
        <p:blipFill>
          <a:blip r:embed="rId9"/>
          <a:stretch/>
        </p:blipFill>
        <p:spPr>
          <a:xfrm>
            <a:off x="4410000" y="4869000"/>
            <a:ext cx="770040" cy="65700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0" descr=""/>
          <p:cNvPicPr/>
          <p:nvPr/>
        </p:nvPicPr>
        <p:blipFill>
          <a:blip r:embed="rId10"/>
          <a:stretch/>
        </p:blipFill>
        <p:spPr>
          <a:xfrm>
            <a:off x="6676920" y="4684680"/>
            <a:ext cx="1177920" cy="9428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1" descr=""/>
          <p:cNvPicPr/>
          <p:nvPr/>
        </p:nvPicPr>
        <p:blipFill>
          <a:blip r:embed="rId11"/>
          <a:srcRect l="3802" t="26140" r="60506" b="38456"/>
          <a:stretch/>
        </p:blipFill>
        <p:spPr>
          <a:xfrm>
            <a:off x="1332000" y="4630680"/>
            <a:ext cx="1147680" cy="11397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3" descr=""/>
          <p:cNvPicPr/>
          <p:nvPr/>
        </p:nvPicPr>
        <p:blipFill>
          <a:blip r:embed="rId12"/>
          <a:stretch/>
        </p:blipFill>
        <p:spPr>
          <a:xfrm>
            <a:off x="1036800" y="2114640"/>
            <a:ext cx="160164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6"/>
          <p:cNvSpPr/>
          <p:nvPr/>
        </p:nvSpPr>
        <p:spPr>
          <a:xfrm>
            <a:off x="233280" y="4869000"/>
            <a:ext cx="86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ИМПОРТОЗА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2" descr=""/>
          <p:cNvPicPr/>
          <p:nvPr/>
        </p:nvPicPr>
        <p:blipFill>
          <a:blip r:embed="rId1"/>
          <a:stretch/>
        </p:blipFill>
        <p:spPr>
          <a:xfrm>
            <a:off x="1657440" y="1989000"/>
            <a:ext cx="582912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1"/>
          <p:cNvSpPr/>
          <p:nvPr/>
        </p:nvSpPr>
        <p:spPr>
          <a:xfrm>
            <a:off x="1989000" y="2060640"/>
            <a:ext cx="690408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В рамка «пилотного» проекта по переводу продуктов компании «Кейсистемс» на СУБД </a:t>
            </a:r>
            <a:r>
              <a:rPr b="1" lang="en-US" sz="1800" spc="-1" strike="noStrike">
                <a:solidFill>
                  <a:srgbClr val="404040"/>
                </a:solidFill>
                <a:latin typeface="Segoe UI"/>
                <a:ea typeface="Segoe UI"/>
              </a:rPr>
              <a:t>PostgreSQL</a:t>
            </a: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были выбраны подсистемы системы «</a:t>
            </a: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Бюджет – СМАРТ»</a:t>
            </a: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«Плательщики и уплаченные доход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«Взаимодействие с ФН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В качестве «пилотного» субъекта РФ была выбрана </a:t>
            </a: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Брянская область</a:t>
            </a: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Работы по переводу на новую СУБД были начаты в начале 2015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За 6 месяцев, выбранные  подсистемы, в том числе и базовые элементы </a:t>
            </a: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«Бюджет–СМАРТ»</a:t>
            </a:r>
            <a:r>
              <a:rPr b="0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, были адаптированы для работы с применением СУБД </a:t>
            </a:r>
            <a:r>
              <a:rPr b="1" lang="en-US" sz="1800" spc="-1" strike="noStrike">
                <a:solidFill>
                  <a:srgbClr val="404040"/>
                </a:solidFill>
                <a:latin typeface="Segoe UI"/>
                <a:ea typeface="Segoe UI"/>
              </a:rPr>
              <a:t>PostgreSQL</a:t>
            </a: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858960" y="2313000"/>
            <a:ext cx="974520" cy="828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" descr=""/>
          <p:cNvPicPr/>
          <p:nvPr/>
        </p:nvPicPr>
        <p:blipFill>
          <a:blip r:embed="rId2"/>
          <a:stretch/>
        </p:blipFill>
        <p:spPr>
          <a:xfrm>
            <a:off x="250920" y="2664000"/>
            <a:ext cx="993600" cy="846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http://www.bruy.ru/upload/Presscenter/Presscenter-1355895753-15327.png"/>
          <p:cNvPicPr/>
          <p:nvPr/>
        </p:nvPicPr>
        <p:blipFill>
          <a:blip r:embed="rId3"/>
          <a:stretch/>
        </p:blipFill>
        <p:spPr>
          <a:xfrm>
            <a:off x="647640" y="3824280"/>
            <a:ext cx="939960" cy="981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" descr=""/>
          <p:cNvPicPr/>
          <p:nvPr/>
        </p:nvPicPr>
        <p:blipFill>
          <a:blip r:embed="rId4"/>
          <a:stretch/>
        </p:blipFill>
        <p:spPr>
          <a:xfrm>
            <a:off x="522360" y="5021280"/>
            <a:ext cx="1152360" cy="1279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8"/>
          <p:cNvSpPr/>
          <p:nvPr/>
        </p:nvSpPr>
        <p:spPr>
          <a:xfrm>
            <a:off x="64080" y="620640"/>
            <a:ext cx="66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Segoe UI"/>
                <a:ea typeface="Segoe UI"/>
              </a:rPr>
              <a:t>КУРС НА ИМПОРТО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8"/>
          <p:cNvSpPr/>
          <p:nvPr/>
        </p:nvSpPr>
        <p:spPr>
          <a:xfrm>
            <a:off x="-30240" y="473040"/>
            <a:ext cx="28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Segoe UI"/>
              </a:rPr>
              <a:t>ПЕРЕХОД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35851"/>
          <p:cNvGrpSpPr/>
          <p:nvPr/>
        </p:nvGrpSpPr>
        <p:grpSpPr>
          <a:xfrm>
            <a:off x="-3240" y="3722760"/>
            <a:ext cx="8375760" cy="1702440"/>
            <a:chOff x="-3240" y="3722760"/>
            <a:chExt cx="8375760" cy="1702440"/>
          </a:xfrm>
        </p:grpSpPr>
        <p:sp>
          <p:nvSpPr>
            <p:cNvPr id="356" name="Прямая соединительная линия 15"/>
            <p:cNvSpPr/>
            <p:nvPr/>
          </p:nvSpPr>
          <p:spPr>
            <a:xfrm>
              <a:off x="4930920" y="4308480"/>
              <a:ext cx="24480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Рисунок 17" descr=""/>
            <p:cNvPicPr/>
            <p:nvPr/>
          </p:nvPicPr>
          <p:blipFill>
            <a:blip r:embed="rId1"/>
            <a:stretch/>
          </p:blipFill>
          <p:spPr>
            <a:xfrm>
              <a:off x="7106040" y="3722760"/>
              <a:ext cx="92808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Прямоугольник 31"/>
            <p:cNvSpPr/>
            <p:nvPr/>
          </p:nvSpPr>
          <p:spPr>
            <a:xfrm>
              <a:off x="3928680" y="4728240"/>
              <a:ext cx="142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Сервер прилож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32"/>
            <p:cNvSpPr/>
            <p:nvPr/>
          </p:nvSpPr>
          <p:spPr>
            <a:xfrm>
              <a:off x="6945840" y="5148720"/>
              <a:ext cx="14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СУБ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47"/>
            <p:cNvSpPr/>
            <p:nvPr/>
          </p:nvSpPr>
          <p:spPr>
            <a:xfrm>
              <a:off x="-3240" y="3746520"/>
              <a:ext cx="390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Клиент «Бюджет – СМАРТ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Рисунок 16" descr=""/>
            <p:cNvPicPr/>
            <p:nvPr/>
          </p:nvPicPr>
          <p:blipFill>
            <a:blip r:embed="rId2"/>
            <a:stretch/>
          </p:blipFill>
          <p:spPr>
            <a:xfrm>
              <a:off x="4353840" y="4021200"/>
              <a:ext cx="576360" cy="57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31" descr="http://webnewsblog.ru/wp-content/uploads/2012/02/%D0%91%D0%B5%D0%B7-%D0%BD%D0%B0%D0%B7%D0%B2%D0%B8-1.jpg"/>
          <p:cNvPicPr/>
          <p:nvPr/>
        </p:nvPicPr>
        <p:blipFill>
          <a:blip r:embed="rId3"/>
          <a:stretch/>
        </p:blipFill>
        <p:spPr>
          <a:xfrm>
            <a:off x="1332000" y="4581360"/>
            <a:ext cx="698400" cy="52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3" descr="http://pbs.twimg.com/media/CBCd-3fUYAA8OEL.png:large"/>
          <p:cNvPicPr/>
          <p:nvPr/>
        </p:nvPicPr>
        <p:blipFill>
          <a:blip r:embed="rId4"/>
          <a:stretch/>
        </p:blipFill>
        <p:spPr>
          <a:xfrm>
            <a:off x="1476360" y="1968480"/>
            <a:ext cx="959040" cy="47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5" descr="https://im3-tub-ru.yandex.net/i?id=ada0794492075c8dda07563456a9a3ef&amp;n=33&amp;h=170"/>
          <p:cNvPicPr/>
          <p:nvPr/>
        </p:nvPicPr>
        <p:blipFill>
          <a:blip r:embed="rId5"/>
          <a:stretch/>
        </p:blipFill>
        <p:spPr>
          <a:xfrm>
            <a:off x="4200480" y="3338640"/>
            <a:ext cx="898560" cy="59508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2"/>
          <p:cNvGrpSpPr/>
          <p:nvPr/>
        </p:nvGrpSpPr>
        <p:grpSpPr>
          <a:xfrm>
            <a:off x="1176480" y="2448000"/>
            <a:ext cx="1542960" cy="1299960"/>
            <a:chOff x="1176480" y="2448000"/>
            <a:chExt cx="1542960" cy="1299960"/>
          </a:xfrm>
        </p:grpSpPr>
        <p:pic>
          <p:nvPicPr>
            <p:cNvPr id="366" name="Рисунок 4" descr=""/>
            <p:cNvPicPr/>
            <p:nvPr/>
          </p:nvPicPr>
          <p:blipFill>
            <a:blip r:embed="rId6"/>
            <a:stretch/>
          </p:blipFill>
          <p:spPr>
            <a:xfrm>
              <a:off x="1176480" y="2448000"/>
              <a:ext cx="1542960" cy="12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Рисунок 5" descr=""/>
            <p:cNvPicPr/>
            <p:nvPr/>
          </p:nvPicPr>
          <p:blipFill>
            <a:blip r:embed="rId7"/>
            <a:stretch/>
          </p:blipFill>
          <p:spPr>
            <a:xfrm>
              <a:off x="1682640" y="2658240"/>
              <a:ext cx="62532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Группа 17"/>
          <p:cNvGrpSpPr/>
          <p:nvPr/>
        </p:nvGrpSpPr>
        <p:grpSpPr>
          <a:xfrm>
            <a:off x="1176480" y="5100480"/>
            <a:ext cx="1542960" cy="1300320"/>
            <a:chOff x="1176480" y="5100480"/>
            <a:chExt cx="1542960" cy="1300320"/>
          </a:xfrm>
        </p:grpSpPr>
        <p:pic>
          <p:nvPicPr>
            <p:cNvPr id="369" name="Рисунок 4" descr=""/>
            <p:cNvPicPr/>
            <p:nvPr/>
          </p:nvPicPr>
          <p:blipFill>
            <a:blip r:embed="rId8"/>
            <a:stretch/>
          </p:blipFill>
          <p:spPr>
            <a:xfrm>
              <a:off x="1176480" y="5100480"/>
              <a:ext cx="1542960" cy="13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Рисунок 5" descr=""/>
            <p:cNvPicPr/>
            <p:nvPr/>
          </p:nvPicPr>
          <p:blipFill>
            <a:blip r:embed="rId9"/>
            <a:stretch/>
          </p:blipFill>
          <p:spPr>
            <a:xfrm>
              <a:off x="1682640" y="5310720"/>
              <a:ext cx="62532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Прямоугольник 47"/>
          <p:cNvSpPr/>
          <p:nvPr/>
        </p:nvSpPr>
        <p:spPr>
          <a:xfrm>
            <a:off x="-76320" y="6392880"/>
            <a:ext cx="390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Segoe UI"/>
                <a:ea typeface="Segoe UI"/>
              </a:rPr>
              <a:t>Клиент «Бюджет – СМАР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Соединительная линия уступом 5"/>
          <p:cNvCxnSpPr/>
          <p:nvPr/>
        </p:nvCxnSpPr>
        <p:spPr>
          <a:xfrm>
            <a:off x="2719440" y="3098880"/>
            <a:ext cx="1635840" cy="1210320"/>
          </a:xfrm>
          <a:prstGeom prst="bentConnector3">
            <a:avLst>
              <a:gd name="adj1" fmla="val 49988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73" name="Соединительная линия уступом 23"/>
          <p:cNvCxnSpPr/>
          <p:nvPr/>
        </p:nvCxnSpPr>
        <p:spPr>
          <a:xfrm flipV="1">
            <a:off x="2719440" y="4308120"/>
            <a:ext cx="1635840" cy="1442160"/>
          </a:xfrm>
          <a:prstGeom prst="bentConnector3">
            <a:avLst>
              <a:gd name="adj1" fmla="val 49988"/>
            </a:avLst>
          </a:prstGeom>
          <a:ln w="9360">
            <a:solidFill>
              <a:srgbClr val="4a7ebb"/>
            </a:solidFill>
            <a:miter/>
          </a:ln>
        </p:spPr>
      </p:cxnSp>
      <p:pic>
        <p:nvPicPr>
          <p:cNvPr id="374" name="Picture 26" descr="https://im0-tub-ru.yandex.net/i?id=63828b2867ffc3cf5be05d5302fb9a9f&amp;n=33&amp;h=170"/>
          <p:cNvPicPr/>
          <p:nvPr/>
        </p:nvPicPr>
        <p:blipFill>
          <a:blip r:embed="rId10"/>
          <a:stretch/>
        </p:blipFill>
        <p:spPr>
          <a:xfrm>
            <a:off x="1979640" y="4581360"/>
            <a:ext cx="527040" cy="4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9" descr="http://jcover.ru/wp-content/uploads/2013/10/postgresql_logo-555px.png"/>
          <p:cNvPicPr/>
          <p:nvPr/>
        </p:nvPicPr>
        <p:blipFill>
          <a:blip r:embed="rId11"/>
          <a:stretch/>
        </p:blipFill>
        <p:spPr>
          <a:xfrm>
            <a:off x="7164360" y="2381400"/>
            <a:ext cx="1128600" cy="1253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76" name="Picture 31" descr="http://www.danarou.com/images/SQL08.png"/>
          <p:cNvPicPr/>
          <p:nvPr/>
        </p:nvPicPr>
        <p:blipFill>
          <a:blip r:embed="rId12"/>
          <a:srcRect l="0" t="0" r="25523" b="0"/>
          <a:stretch/>
        </p:blipFill>
        <p:spPr>
          <a:xfrm>
            <a:off x="5592600" y="2565360"/>
            <a:ext cx="1141560" cy="955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http://jcover.ru/wp-content/uploads/2013/10/postgresql_logo-555px.png"/>
          <p:cNvPicPr/>
          <p:nvPr/>
        </p:nvPicPr>
        <p:blipFill>
          <a:blip r:embed="rId13"/>
          <a:stretch/>
        </p:blipFill>
        <p:spPr>
          <a:xfrm>
            <a:off x="2973240" y="138240"/>
            <a:ext cx="1127160" cy="1253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78" name="Стрелка вправо 1"/>
          <p:cNvSpPr/>
          <p:nvPr/>
        </p:nvSpPr>
        <p:spPr>
          <a:xfrm>
            <a:off x="6734160" y="2887560"/>
            <a:ext cx="488880" cy="24156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9"/>
          <p:cNvSpPr/>
          <p:nvPr/>
        </p:nvSpPr>
        <p:spPr>
          <a:xfrm>
            <a:off x="250920" y="480960"/>
            <a:ext cx="8497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НОВАЦИИ БЮДЖЕТНОГО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2411280" y="2492280"/>
            <a:ext cx="63374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Целевая статья – 10 зна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В бюджетной классификации расходов отсутствует КОС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Номер бухгалтерского счета у ФО и ОрФК в части расходов  без КОС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Номер бухгалтерского счета у  ГРБС, КУ, БУ, АУ с КОСГУ и без ведо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Интеграция с системой </a:t>
            </a:r>
            <a:r>
              <a:rPr b="0" lang="en-US" sz="2000" spc="-1" strike="noStrike">
                <a:solidFill>
                  <a:srgbClr val="404040"/>
                </a:solidFill>
                <a:latin typeface="Segoe UI"/>
                <a:ea typeface="Segoe UI"/>
              </a:rPr>
              <a:t>“</a:t>
            </a: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Электронный бюджет</a:t>
            </a:r>
            <a:r>
              <a:rPr b="0" lang="en-US" sz="2000" spc="-1" strike="noStrike">
                <a:solidFill>
                  <a:srgbClr val="404040"/>
                </a:solidFill>
                <a:latin typeface="Segoe UI"/>
                <a:ea typeface="Segoe UI"/>
              </a:rPr>
              <a:t>”</a:t>
            </a:r>
            <a:r>
              <a:rPr b="0" lang="ru-RU" sz="2000" spc="-1" strike="noStrike">
                <a:solidFill>
                  <a:srgbClr val="404040"/>
                </a:solidFill>
                <a:latin typeface="Segoe UI"/>
                <a:ea typeface="Segoe UI"/>
              </a:rPr>
              <a:t>  . ТФФ 19.0 Том 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" descr=""/>
          <p:cNvPicPr/>
          <p:nvPr/>
        </p:nvPicPr>
        <p:blipFill>
          <a:blip r:embed="rId6"/>
          <a:stretch/>
        </p:blipFill>
        <p:spPr>
          <a:xfrm>
            <a:off x="539640" y="2963880"/>
            <a:ext cx="15750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9"/>
          <p:cNvSpPr/>
          <p:nvPr/>
        </p:nvSpPr>
        <p:spPr>
          <a:xfrm>
            <a:off x="250920" y="549360"/>
            <a:ext cx="849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СВЕДЕНИЯ ЕДИНОГО ГОСУДАРСТВ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РЕЕСТРА ЮРИДИЧЕСКИ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Группа 12"/>
          <p:cNvGrpSpPr/>
          <p:nvPr/>
        </p:nvGrpSpPr>
        <p:grpSpPr>
          <a:xfrm>
            <a:off x="755640" y="2746440"/>
            <a:ext cx="7561440" cy="2268360"/>
            <a:chOff x="755640" y="2746440"/>
            <a:chExt cx="7561440" cy="2268360"/>
          </a:xfrm>
        </p:grpSpPr>
        <p:pic>
          <p:nvPicPr>
            <p:cNvPr id="384" name="Picture 2" descr="http://www.nalog.ru/cdn/image/258790/original.png"/>
            <p:cNvPicPr/>
            <p:nvPr/>
          </p:nvPicPr>
          <p:blipFill>
            <a:blip r:embed="rId1"/>
            <a:srcRect l="11692" t="9092" r="8807" b="9092"/>
            <a:stretch/>
          </p:blipFill>
          <p:spPr>
            <a:xfrm>
              <a:off x="755640" y="2746440"/>
              <a:ext cx="2143440" cy="22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5868720" y="2969640"/>
              <a:ext cx="2448360" cy="2000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6" name="Прямая со стрелкой 3"/>
            <p:cNvCxnSpPr/>
            <p:nvPr/>
          </p:nvCxnSpPr>
          <p:spPr>
            <a:xfrm>
              <a:off x="3311280" y="3215880"/>
              <a:ext cx="2305440" cy="1080"/>
            </a:xfrm>
            <a:prstGeom prst="straightConnector1">
              <a:avLst/>
            </a:prstGeom>
            <a:ln w="1260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87" name="Прямая со стрелкой 6"/>
            <p:cNvCxnSpPr/>
            <p:nvPr/>
          </p:nvCxnSpPr>
          <p:spPr>
            <a:xfrm>
              <a:off x="3311280" y="4005000"/>
              <a:ext cx="2305440" cy="1080"/>
            </a:xfrm>
            <a:prstGeom prst="straightConnector1">
              <a:avLst/>
            </a:prstGeom>
            <a:ln w="1260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8" name="Прямая со стрелкой 7"/>
            <p:cNvCxnSpPr/>
            <p:nvPr/>
          </p:nvCxnSpPr>
          <p:spPr>
            <a:xfrm>
              <a:off x="3311280" y="4797000"/>
              <a:ext cx="2305440" cy="1080"/>
            </a:xfrm>
            <a:prstGeom prst="straightConnector1">
              <a:avLst/>
            </a:prstGeom>
            <a:ln w="1260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9" name="Прямоугольник 8"/>
            <p:cNvSpPr/>
            <p:nvPr/>
          </p:nvSpPr>
          <p:spPr>
            <a:xfrm>
              <a:off x="4375080" y="28000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СМЭ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оугольник 9"/>
            <p:cNvSpPr/>
            <p:nvPr/>
          </p:nvSpPr>
          <p:spPr>
            <a:xfrm>
              <a:off x="4140360" y="3558960"/>
              <a:ext cx="14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egrul.nalog.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10"/>
            <p:cNvSpPr/>
            <p:nvPr/>
          </p:nvSpPr>
          <p:spPr>
            <a:xfrm>
              <a:off x="4124520" y="4356000"/>
              <a:ext cx="12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xml-</a:t>
              </a:r>
              <a:r>
                <a:rPr b="0" lang="ru-RU" sz="1600" spc="-1" strike="noStrike">
                  <a:solidFill>
                    <a:srgbClr val="404040"/>
                  </a:solidFill>
                  <a:latin typeface="Segoe UI"/>
                  <a:ea typeface="Segoe UI"/>
                </a:rPr>
                <a:t>фай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3495240" y="3649320"/>
              <a:ext cx="64512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Рисунок 5" descr=""/>
            <p:cNvPicPr/>
            <p:nvPr/>
          </p:nvPicPr>
          <p:blipFill>
            <a:blip r:embed="rId4"/>
            <a:stretch/>
          </p:blipFill>
          <p:spPr>
            <a:xfrm>
              <a:off x="3752280" y="2813400"/>
              <a:ext cx="622440" cy="3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Рисунок 11" descr=""/>
            <p:cNvPicPr/>
            <p:nvPr/>
          </p:nvPicPr>
          <p:blipFill>
            <a:blip r:embed="rId5"/>
            <a:stretch/>
          </p:blipFill>
          <p:spPr>
            <a:xfrm>
              <a:off x="3813480" y="4299120"/>
              <a:ext cx="293040" cy="38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Заголовок 1"/>
          <p:cNvSpPr/>
          <p:nvPr/>
        </p:nvSpPr>
        <p:spPr>
          <a:xfrm>
            <a:off x="324000" y="1773360"/>
            <a:ext cx="8569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Segoe UI"/>
                <a:ea typeface="Segoe U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Заголовок 1"/>
          <p:cNvSpPr/>
          <p:nvPr/>
        </p:nvSpPr>
        <p:spPr>
          <a:xfrm>
            <a:off x="395280" y="4508640"/>
            <a:ext cx="48974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egoe UI"/>
                <a:ea typeface="Segoe UI"/>
              </a:rPr>
              <a:t>ООО «Кейсистем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egoe UI"/>
                <a:ea typeface="Segoe UI"/>
              </a:rPr>
              <a:t>428000 Чувашская республ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egoe UI"/>
                <a:ea typeface="Segoe UI"/>
              </a:rPr>
              <a:t>г. Чебоксары, ул. И. Яковлева, д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egoe UI"/>
                <a:ea typeface="Segoe UI"/>
              </a:rPr>
              <a:t>тел./факс: (8352) 323-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  <a:ea typeface="Segoe UI"/>
              </a:rPr>
              <a:t>www.keysystem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9"/>
          <p:cNvSpPr/>
          <p:nvPr/>
        </p:nvSpPr>
        <p:spPr>
          <a:xfrm>
            <a:off x="264960" y="105264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СИТУАЦИЯ В ФИНАНСОВЫХ ОРГ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2416320" y="2133720"/>
            <a:ext cx="64339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Уменьшение доходных источников субъектов РФ,  растущая инфляция и увеличение расходов региональных бюджетов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Увеличение количества обрабатываемой информации и выполняемых бюджет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Сокращение численности персо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179280" y="4149720"/>
            <a:ext cx="86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Segoe UI"/>
                <a:ea typeface="Segoe UI"/>
              </a:rPr>
              <a:t>Ставить реальные цели, получить быстрый 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2411280" y="4668840"/>
            <a:ext cx="6193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Оптимизация бизнес-процессов, автоматизация выполнения бюджетных процед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Централизация информационных потоков, электронный архи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Вопросы автоматизации бюджетных процедур в свете новаций бюджетного законодательств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http://medvesti.com/uploads/posts/2015-03/1425972923_shutterstock_70490008.jpg"/>
          <p:cNvPicPr/>
          <p:nvPr/>
        </p:nvPicPr>
        <p:blipFill>
          <a:blip r:embed="rId1"/>
          <a:srcRect l="21187" t="0" r="0" b="0"/>
          <a:stretch/>
        </p:blipFill>
        <p:spPr>
          <a:xfrm>
            <a:off x="324000" y="2120760"/>
            <a:ext cx="1820880" cy="154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https://lh4.ggpht.com/-gFONudTMzB5_OJNM1ylVNbpvq-FO4iH30mirSwb1ywmQGsQulbKW_3SeiuIoYiZog4=w300"/>
          <p:cNvPicPr/>
          <p:nvPr/>
        </p:nvPicPr>
        <p:blipFill>
          <a:blip r:embed="rId2"/>
          <a:stretch/>
        </p:blipFill>
        <p:spPr>
          <a:xfrm>
            <a:off x="272880" y="4548240"/>
            <a:ext cx="1872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6"/>
          <p:cNvSpPr/>
          <p:nvPr/>
        </p:nvSpPr>
        <p:spPr>
          <a:xfrm>
            <a:off x="250920" y="54936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СИСТЕМА «ЭЛЕКТРОННЫЙ БЮДЖ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РЕГИОНАЛЬНЫЙ СЕГ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\\MARKET\ForAll\_Семинары\2014\Осенний семинар, Казань сентябрь\презентации\ЭЛЕМЕНТЫ\дорожная карта.png"/>
          <p:cNvPicPr/>
          <p:nvPr/>
        </p:nvPicPr>
        <p:blipFill>
          <a:blip r:embed="rId1"/>
          <a:srcRect l="3758" t="0" r="2671" b="0"/>
          <a:stretch/>
        </p:blipFill>
        <p:spPr>
          <a:xfrm>
            <a:off x="0" y="3035160"/>
            <a:ext cx="9144000" cy="38498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8"/>
          <p:cNvSpPr/>
          <p:nvPr/>
        </p:nvSpPr>
        <p:spPr>
          <a:xfrm>
            <a:off x="250920" y="2276640"/>
            <a:ext cx="2665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ТРАНЗАКЦИО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egoe UI"/>
                <a:ea typeface="Segoe UI"/>
              </a:rPr>
              <a:t>Автоматизация основных функций в сфере управления общественными финансами, обработка первичной информации (операций, документов) в режиме реального време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198360" y="1844640"/>
            <a:ext cx="85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Segoe UI"/>
                <a:ea typeface="Segoe UI"/>
              </a:rPr>
              <a:t>ДОРОЖНАЯ КАРТА ВНЕДРЕНИЯ ПОД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3059280" y="2276640"/>
            <a:ext cx="26650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ПРОИЗ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egoe UI"/>
                <a:ea typeface="Segoe UI"/>
              </a:rPr>
              <a:t>Консолидация и обработ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egoe UI"/>
                <a:ea typeface="Segoe UI"/>
              </a:rPr>
              <a:t>информации, поступающей 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egoe UI"/>
                <a:ea typeface="Segoe UI"/>
              </a:rPr>
              <a:t>транзакционных и внешних сист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651640" y="2276640"/>
            <a:ext cx="25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ТЕХНОЛОГ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egoe UI"/>
                <a:ea typeface="Segoe UI"/>
              </a:rPr>
              <a:t>Обеспечение взаимосвязанной, согласованной  работы всех подсистем (транзакционных, производных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6"/>
          <p:cNvSpPr/>
          <p:nvPr/>
        </p:nvSpPr>
        <p:spPr>
          <a:xfrm>
            <a:off x="324000" y="4869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АВТОМАТИЗАЦИЯ БИЗНЕС ПРОЦЕССОВ – ИНСТРУМЕНТ ПОВЫШЕНИЯ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176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33"/>
          <p:cNvSpPr/>
          <p:nvPr/>
        </p:nvSpPr>
        <p:spPr>
          <a:xfrm>
            <a:off x="4611600" y="1941480"/>
            <a:ext cx="550800" cy="491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-11160" y="1941480"/>
            <a:ext cx="550800" cy="491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239760" y="601560"/>
            <a:ext cx="90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АВТОМАТИЗАЦИЯ БИЗНЕС ПРОЦЕССОВ – ИНСТРУМЕНТ ПОВЫШЕНИЯ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14"/>
          <p:cNvGrpSpPr/>
          <p:nvPr/>
        </p:nvGrpSpPr>
        <p:grpSpPr>
          <a:xfrm>
            <a:off x="4873680" y="1811160"/>
            <a:ext cx="4049640" cy="1127160"/>
            <a:chOff x="4873680" y="1811160"/>
            <a:chExt cx="4049640" cy="1127160"/>
          </a:xfrm>
        </p:grpSpPr>
        <p:grpSp>
          <p:nvGrpSpPr>
            <p:cNvPr id="240" name="Группа 5"/>
            <p:cNvGrpSpPr/>
            <p:nvPr/>
          </p:nvGrpSpPr>
          <p:grpSpPr>
            <a:xfrm>
              <a:off x="4873680" y="1811160"/>
              <a:ext cx="4049640" cy="1068840"/>
              <a:chOff x="4873680" y="1811160"/>
              <a:chExt cx="4049640" cy="1068840"/>
            </a:xfrm>
          </p:grpSpPr>
          <p:sp>
            <p:nvSpPr>
              <p:cNvPr id="241" name="TextBox 6"/>
              <p:cNvSpPr/>
              <p:nvPr/>
            </p:nvSpPr>
            <p:spPr>
              <a:xfrm>
                <a:off x="6547680" y="1811160"/>
                <a:ext cx="23756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Как хочется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Рисунок 3" descr=""/>
              <p:cNvPicPr/>
              <p:nvPr/>
            </p:nvPicPr>
            <p:blipFill>
              <a:blip r:embed="rId1"/>
              <a:srcRect l="4024" t="0" r="0" b="0"/>
              <a:stretch/>
            </p:blipFill>
            <p:spPr>
              <a:xfrm>
                <a:off x="4873680" y="1862280"/>
                <a:ext cx="158400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Прямоугольник 12"/>
            <p:cNvSpPr/>
            <p:nvPr/>
          </p:nvSpPr>
          <p:spPr>
            <a:xfrm flipV="1">
              <a:off x="5700600" y="2876040"/>
              <a:ext cx="3195720" cy="61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0"/>
          <p:cNvGrpSpPr/>
          <p:nvPr/>
        </p:nvGrpSpPr>
        <p:grpSpPr>
          <a:xfrm>
            <a:off x="358920" y="1854360"/>
            <a:ext cx="3973320" cy="1086120"/>
            <a:chOff x="358920" y="1854360"/>
            <a:chExt cx="3973320" cy="1086120"/>
          </a:xfrm>
        </p:grpSpPr>
        <p:sp>
          <p:nvSpPr>
            <p:cNvPr id="245" name="TextBox 2"/>
            <p:cNvSpPr/>
            <p:nvPr/>
          </p:nvSpPr>
          <p:spPr>
            <a:xfrm>
              <a:off x="1955520" y="1865520"/>
              <a:ext cx="23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ак сейчас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оугольник 13"/>
            <p:cNvSpPr/>
            <p:nvPr/>
          </p:nvSpPr>
          <p:spPr>
            <a:xfrm flipV="1">
              <a:off x="1133640" y="2878200"/>
              <a:ext cx="3198600" cy="61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34" descr="http://fescreditsolutions.com/blog/wp-content/uploads/2013/06/Charge_Off.png"/>
            <p:cNvPicPr/>
            <p:nvPr/>
          </p:nvPicPr>
          <p:blipFill>
            <a:blip r:embed="rId2"/>
            <a:srcRect l="0" t="0" r="0" b="9085"/>
            <a:stretch/>
          </p:blipFill>
          <p:spPr>
            <a:xfrm>
              <a:off x="358920" y="1854360"/>
              <a:ext cx="1542960" cy="936720"/>
            </a:xfrm>
            <a:prstGeom prst="rect">
              <a:avLst/>
            </a:prstGeom>
            <a:ln w="9360">
              <a:solidFill>
                <a:srgbClr val="bfbfbf"/>
              </a:solidFill>
              <a:miter/>
            </a:ln>
          </p:spPr>
        </p:pic>
      </p:grpSp>
      <p:sp>
        <p:nvSpPr>
          <p:cNvPr id="248" name="TextBox 8"/>
          <p:cNvSpPr/>
          <p:nvPr/>
        </p:nvSpPr>
        <p:spPr>
          <a:xfrm>
            <a:off x="5810400" y="3311640"/>
            <a:ext cx="3225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Одна большая кнопка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нажми и работ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Мастер по последовательному выполнению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Минимизировать срок перехода от новичка к подготовленному сотрудн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1130400" y="3287880"/>
            <a:ext cx="3178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На панели инструментов большое количество кнопок и  выпадающих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Нужно помнить, что сделать  (куда зайти, что нажать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Кипа документации, отвлечение сотрудников  от работы для обуч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18"/>
          <p:cNvGrpSpPr/>
          <p:nvPr/>
        </p:nvGrpSpPr>
        <p:grpSpPr>
          <a:xfrm>
            <a:off x="263520" y="3265560"/>
            <a:ext cx="797040" cy="820800"/>
            <a:chOff x="263520" y="3265560"/>
            <a:chExt cx="797040" cy="820800"/>
          </a:xfrm>
        </p:grpSpPr>
        <p:sp>
          <p:nvSpPr>
            <p:cNvPr id="251" name="Скругленный прямоугольник 16"/>
            <p:cNvSpPr/>
            <p:nvPr/>
          </p:nvSpPr>
          <p:spPr>
            <a:xfrm>
              <a:off x="263520" y="3265560"/>
              <a:ext cx="797040" cy="82080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820800"/>
                <a:gd name="textAreaBottom" fmla="*/ 781920 h 820800"/>
              </a:gdLst>
              <a:ahLst/>
              <a:rect l="textAreaLeft" t="textAreaTop" r="textAreaRight" b="textAreaBottom"/>
              <a:pathLst>
                <a:path w="21600" h="22244">
                  <a:moveTo>
                    <a:pt x="3600" y="0"/>
                  </a:moveTo>
                  <a:arcTo wR="3600" hR="3600" stAng="16200000" swAng="-5400000"/>
                  <a:lnTo>
                    <a:pt x="0" y="18644"/>
                  </a:lnTo>
                  <a:arcTo wR="3600" hR="3600" stAng="10800000" swAng="-5400000"/>
                  <a:lnTo>
                    <a:pt x="18000" y="222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8" descr="http://iconizer.net/files/Dark_Glass/orig/configure_toolbars.png"/>
            <p:cNvPicPr/>
            <p:nvPr/>
          </p:nvPicPr>
          <p:blipFill>
            <a:blip r:embed="rId3"/>
            <a:stretch/>
          </p:blipFill>
          <p:spPr>
            <a:xfrm>
              <a:off x="341280" y="3340440"/>
              <a:ext cx="65232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Группа 17"/>
          <p:cNvGrpSpPr/>
          <p:nvPr/>
        </p:nvGrpSpPr>
        <p:grpSpPr>
          <a:xfrm>
            <a:off x="150840" y="4255920"/>
            <a:ext cx="1022400" cy="820800"/>
            <a:chOff x="150840" y="4255920"/>
            <a:chExt cx="1022400" cy="820800"/>
          </a:xfrm>
        </p:grpSpPr>
        <p:sp>
          <p:nvSpPr>
            <p:cNvPr id="254" name="Скругленный прямоугольник 25"/>
            <p:cNvSpPr/>
            <p:nvPr/>
          </p:nvSpPr>
          <p:spPr>
            <a:xfrm>
              <a:off x="252720" y="4255920"/>
              <a:ext cx="798840" cy="820800"/>
            </a:xfrm>
            <a:custGeom>
              <a:avLst/>
              <a:gdLst>
                <a:gd name="textAreaLeft" fmla="*/ 38880 w 798840"/>
                <a:gd name="textAreaRight" fmla="*/ 759960 w 798840"/>
                <a:gd name="textAreaTop" fmla="*/ 38880 h 820800"/>
                <a:gd name="textAreaBottom" fmla="*/ 781920 h 820800"/>
              </a:gdLst>
              <a:ahLst/>
              <a:rect l="textAreaLeft" t="textAreaTop" r="textAreaRight" b="textAreaBottom"/>
              <a:pathLst>
                <a:path w="21600" h="22194">
                  <a:moveTo>
                    <a:pt x="3600" y="0"/>
                  </a:moveTo>
                  <a:arcTo wR="3600" hR="3600" stAng="16200000" swAng="-5400000"/>
                  <a:lnTo>
                    <a:pt x="0" y="18594"/>
                  </a:lnTo>
                  <a:arcTo wR="3600" hR="3600" stAng="10800000" swAng="-5400000"/>
                  <a:lnTo>
                    <a:pt x="18000" y="22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40" descr="http://usgroup.in/images/2.png"/>
            <p:cNvPicPr/>
            <p:nvPr/>
          </p:nvPicPr>
          <p:blipFill>
            <a:blip r:embed="rId4"/>
            <a:stretch/>
          </p:blipFill>
          <p:spPr>
            <a:xfrm>
              <a:off x="150840" y="4285080"/>
              <a:ext cx="1022400" cy="71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Группа 19"/>
          <p:cNvGrpSpPr/>
          <p:nvPr/>
        </p:nvGrpSpPr>
        <p:grpSpPr>
          <a:xfrm>
            <a:off x="239760" y="5281560"/>
            <a:ext cx="797040" cy="820800"/>
            <a:chOff x="239760" y="5281560"/>
            <a:chExt cx="797040" cy="820800"/>
          </a:xfrm>
        </p:grpSpPr>
        <p:sp>
          <p:nvSpPr>
            <p:cNvPr id="257" name="Скругленный прямоугольник 29"/>
            <p:cNvSpPr/>
            <p:nvPr/>
          </p:nvSpPr>
          <p:spPr>
            <a:xfrm>
              <a:off x="239760" y="5281560"/>
              <a:ext cx="797040" cy="82080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820800"/>
                <a:gd name="textAreaBottom" fmla="*/ 781920 h 820800"/>
              </a:gdLst>
              <a:ahLst/>
              <a:rect l="textAreaLeft" t="textAreaTop" r="textAreaRight" b="textAreaBottom"/>
              <a:pathLst>
                <a:path w="21600" h="22244">
                  <a:moveTo>
                    <a:pt x="3600" y="0"/>
                  </a:moveTo>
                  <a:arcTo wR="3600" hR="3600" stAng="16200000" swAng="-5400000"/>
                  <a:lnTo>
                    <a:pt x="0" y="18644"/>
                  </a:lnTo>
                  <a:arcTo wR="3600" hR="3600" stAng="10800000" swAng="-5400000"/>
                  <a:lnTo>
                    <a:pt x="18000" y="222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42" descr="http://www.qtget.com/uploads/images/iPhone/Accounting1.png"/>
            <p:cNvPicPr/>
            <p:nvPr/>
          </p:nvPicPr>
          <p:blipFill>
            <a:blip r:embed="rId5"/>
            <a:stretch/>
          </p:blipFill>
          <p:spPr>
            <a:xfrm>
              <a:off x="341280" y="5352120"/>
              <a:ext cx="622080" cy="66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Скругленный прямоугольник 35"/>
          <p:cNvSpPr/>
          <p:nvPr/>
        </p:nvSpPr>
        <p:spPr>
          <a:xfrm>
            <a:off x="4900680" y="3213000"/>
            <a:ext cx="795240" cy="820800"/>
          </a:xfrm>
          <a:custGeom>
            <a:avLst/>
            <a:gdLst>
              <a:gd name="textAreaLeft" fmla="*/ 38520 w 795240"/>
              <a:gd name="textAreaRight" fmla="*/ 756720 w 795240"/>
              <a:gd name="textAreaTop" fmla="*/ 38520 h 820800"/>
              <a:gd name="textAreaBottom" fmla="*/ 782280 h 820800"/>
            </a:gdLst>
            <a:ahLst/>
            <a:rect l="textAreaLeft" t="textAreaTop" r="textAreaRight" b="textAreaBottom"/>
            <a:pathLst>
              <a:path w="21600" h="22294">
                <a:moveTo>
                  <a:pt x="3600" y="0"/>
                </a:moveTo>
                <a:arcTo wR="3600" hR="3600" stAng="16200000" swAng="-5400000"/>
                <a:lnTo>
                  <a:pt x="0" y="18694"/>
                </a:lnTo>
                <a:arcTo wR="3600" hR="3600" stAng="10800000" swAng="-5400000"/>
                <a:lnTo>
                  <a:pt x="18000" y="22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38"/>
          <p:cNvSpPr/>
          <p:nvPr/>
        </p:nvSpPr>
        <p:spPr>
          <a:xfrm>
            <a:off x="4890960" y="4227480"/>
            <a:ext cx="795600" cy="819360"/>
          </a:xfrm>
          <a:custGeom>
            <a:avLst/>
            <a:gdLst>
              <a:gd name="textAreaLeft" fmla="*/ 38520 w 795600"/>
              <a:gd name="textAreaRight" fmla="*/ 757080 w 795600"/>
              <a:gd name="textAreaTop" fmla="*/ 38520 h 819360"/>
              <a:gd name="textAreaBottom" fmla="*/ 780840 h 819360"/>
            </a:gdLst>
            <a:ahLst/>
            <a:rect l="textAreaLeft" t="textAreaTop" r="textAreaRight" b="textAreaBottom"/>
            <a:pathLst>
              <a:path w="21600" h="22245">
                <a:moveTo>
                  <a:pt x="3600" y="0"/>
                </a:moveTo>
                <a:arcTo wR="3600" hR="3600" stAng="16200000" swAng="-5400000"/>
                <a:lnTo>
                  <a:pt x="0" y="18645"/>
                </a:lnTo>
                <a:arcTo wR="3600" hR="3600" stAng="10800000" swAng="-5400000"/>
                <a:lnTo>
                  <a:pt x="18000" y="222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41"/>
          <p:cNvSpPr/>
          <p:nvPr/>
        </p:nvSpPr>
        <p:spPr>
          <a:xfrm>
            <a:off x="4869000" y="5268960"/>
            <a:ext cx="796680" cy="820800"/>
          </a:xfrm>
          <a:custGeom>
            <a:avLst/>
            <a:gdLst>
              <a:gd name="textAreaLeft" fmla="*/ 38880 w 796680"/>
              <a:gd name="textAreaRight" fmla="*/ 757800 w 796680"/>
              <a:gd name="textAreaTop" fmla="*/ 38880 h 820800"/>
              <a:gd name="textAreaBottom" fmla="*/ 781920 h 820800"/>
            </a:gdLst>
            <a:ahLst/>
            <a:rect l="textAreaLeft" t="textAreaTop" r="textAreaRight" b="textAreaBottom"/>
            <a:pathLst>
              <a:path w="21600" h="22254">
                <a:moveTo>
                  <a:pt x="3600" y="0"/>
                </a:moveTo>
                <a:arcTo wR="3600" hR="3600" stAng="16200000" swAng="-5400000"/>
                <a:lnTo>
                  <a:pt x="0" y="18654"/>
                </a:lnTo>
                <a:arcTo wR="3600" hR="3600" stAng="10800000" swAng="-5400000"/>
                <a:lnTo>
                  <a:pt x="18000" y="22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4" descr="http://lpmotor.s3.amazonaws.com/1/5/f/15fd1a02cb4861221b35ad52ad231b3e.png"/>
          <p:cNvPicPr/>
          <p:nvPr/>
        </p:nvPicPr>
        <p:blipFill>
          <a:blip r:embed="rId6"/>
          <a:stretch/>
        </p:blipFill>
        <p:spPr>
          <a:xfrm>
            <a:off x="4956120" y="53499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6" descr="http://s1.iconbird.com/ico/0912/ILikeButtons3A/w512h5121348753302PerspectiveButtonReboot.png"/>
          <p:cNvPicPr/>
          <p:nvPr/>
        </p:nvPicPr>
        <p:blipFill>
          <a:blip r:embed="rId7"/>
          <a:stretch/>
        </p:blipFill>
        <p:spPr>
          <a:xfrm>
            <a:off x="5037120" y="3336840"/>
            <a:ext cx="539640" cy="5382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2" descr=""/>
          <p:cNvPicPr/>
          <p:nvPr/>
        </p:nvPicPr>
        <p:blipFill>
          <a:blip r:embed="rId8"/>
          <a:stretch/>
        </p:blipFill>
        <p:spPr>
          <a:xfrm>
            <a:off x="4956120" y="4365720"/>
            <a:ext cx="673200" cy="5713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9"/>
          <p:cNvSpPr/>
          <p:nvPr/>
        </p:nvSpPr>
        <p:spPr>
          <a:xfrm>
            <a:off x="1168560" y="4133880"/>
            <a:ext cx="3139920" cy="44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0"/>
          <p:cNvSpPr/>
          <p:nvPr/>
        </p:nvSpPr>
        <p:spPr>
          <a:xfrm>
            <a:off x="1216080" y="5157720"/>
            <a:ext cx="313992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1"/>
          <p:cNvSpPr/>
          <p:nvPr/>
        </p:nvSpPr>
        <p:spPr>
          <a:xfrm>
            <a:off x="5896080" y="4084560"/>
            <a:ext cx="31399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2"/>
          <p:cNvSpPr/>
          <p:nvPr/>
        </p:nvSpPr>
        <p:spPr>
          <a:xfrm>
            <a:off x="5896080" y="5133960"/>
            <a:ext cx="31399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3"/>
          <p:cNvSpPr/>
          <p:nvPr/>
        </p:nvSpPr>
        <p:spPr>
          <a:xfrm>
            <a:off x="4611600" y="1941480"/>
            <a:ext cx="550800" cy="491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-11160" y="1941480"/>
            <a:ext cx="550800" cy="4916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Группа 14"/>
          <p:cNvGrpSpPr/>
          <p:nvPr/>
        </p:nvGrpSpPr>
        <p:grpSpPr>
          <a:xfrm>
            <a:off x="4873680" y="1811160"/>
            <a:ext cx="4049640" cy="1127160"/>
            <a:chOff x="4873680" y="1811160"/>
            <a:chExt cx="4049640" cy="1127160"/>
          </a:xfrm>
        </p:grpSpPr>
        <p:grpSp>
          <p:nvGrpSpPr>
            <p:cNvPr id="272" name="Группа 5"/>
            <p:cNvGrpSpPr/>
            <p:nvPr/>
          </p:nvGrpSpPr>
          <p:grpSpPr>
            <a:xfrm>
              <a:off x="4873680" y="1811160"/>
              <a:ext cx="4049640" cy="1068840"/>
              <a:chOff x="4873680" y="1811160"/>
              <a:chExt cx="4049640" cy="1068840"/>
            </a:xfrm>
          </p:grpSpPr>
          <p:sp>
            <p:nvSpPr>
              <p:cNvPr id="273" name="TextBox 6"/>
              <p:cNvSpPr/>
              <p:nvPr/>
            </p:nvSpPr>
            <p:spPr>
              <a:xfrm>
                <a:off x="6547680" y="1811160"/>
                <a:ext cx="23756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Как хочется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Рисунок 3" descr=""/>
              <p:cNvPicPr/>
              <p:nvPr/>
            </p:nvPicPr>
            <p:blipFill>
              <a:blip r:embed="rId1"/>
              <a:srcRect l="4024" t="0" r="0" b="0"/>
              <a:stretch/>
            </p:blipFill>
            <p:spPr>
              <a:xfrm>
                <a:off x="4873680" y="1862280"/>
                <a:ext cx="1584000" cy="90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Прямоугольник 12"/>
            <p:cNvSpPr/>
            <p:nvPr/>
          </p:nvSpPr>
          <p:spPr>
            <a:xfrm flipV="1">
              <a:off x="5700600" y="2876040"/>
              <a:ext cx="3195720" cy="61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0"/>
          <p:cNvGrpSpPr/>
          <p:nvPr/>
        </p:nvGrpSpPr>
        <p:grpSpPr>
          <a:xfrm>
            <a:off x="358920" y="1854360"/>
            <a:ext cx="3973320" cy="1086120"/>
            <a:chOff x="358920" y="1854360"/>
            <a:chExt cx="3973320" cy="1086120"/>
          </a:xfrm>
        </p:grpSpPr>
        <p:sp>
          <p:nvSpPr>
            <p:cNvPr id="277" name="TextBox 2"/>
            <p:cNvSpPr/>
            <p:nvPr/>
          </p:nvSpPr>
          <p:spPr>
            <a:xfrm>
              <a:off x="1955520" y="1865520"/>
              <a:ext cx="23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ак сейчас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оугольник 13"/>
            <p:cNvSpPr/>
            <p:nvPr/>
          </p:nvSpPr>
          <p:spPr>
            <a:xfrm flipV="1">
              <a:off x="1133640" y="2878200"/>
              <a:ext cx="3198600" cy="61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34" descr="http://fescreditsolutions.com/blog/wp-content/uploads/2013/06/Charge_Off.png"/>
            <p:cNvPicPr/>
            <p:nvPr/>
          </p:nvPicPr>
          <p:blipFill>
            <a:blip r:embed="rId2"/>
            <a:srcRect l="0" t="0" r="0" b="9085"/>
            <a:stretch/>
          </p:blipFill>
          <p:spPr>
            <a:xfrm>
              <a:off x="358920" y="1854360"/>
              <a:ext cx="1542960" cy="936720"/>
            </a:xfrm>
            <a:prstGeom prst="rect">
              <a:avLst/>
            </a:prstGeom>
            <a:ln w="9360">
              <a:solidFill>
                <a:srgbClr val="bfbfbf"/>
              </a:solidFill>
              <a:miter/>
            </a:ln>
          </p:spPr>
        </p:pic>
      </p:grpSp>
      <p:sp>
        <p:nvSpPr>
          <p:cNvPr id="280" name="TextBox 8"/>
          <p:cNvSpPr/>
          <p:nvPr/>
        </p:nvSpPr>
        <p:spPr>
          <a:xfrm>
            <a:off x="5834160" y="3224160"/>
            <a:ext cx="3309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Напоминание от поступлении новых задач, о сроках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Всегда знать статус документа и  у кого он находится в данный момент на обработ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Индивидуальные настройки, контроли видны только заказч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1152360" y="3289320"/>
            <a:ext cx="3311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Все в памяти,  отдельный органайзер (календарь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Узнать статус документа и исполнителя можно только при личном обращ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"/>
                <a:ea typeface="Segoe UI"/>
              </a:rPr>
              <a:t>Индивидуальные настройки видны всем, усложняют интерфейс программы, требуют длительного соглас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16"/>
          <p:cNvSpPr/>
          <p:nvPr/>
        </p:nvSpPr>
        <p:spPr>
          <a:xfrm>
            <a:off x="263520" y="3243240"/>
            <a:ext cx="797040" cy="820800"/>
          </a:xfrm>
          <a:custGeom>
            <a:avLst/>
            <a:gdLst>
              <a:gd name="textAreaLeft" fmla="*/ 38880 w 797040"/>
              <a:gd name="textAreaRight" fmla="*/ 758160 w 797040"/>
              <a:gd name="textAreaTop" fmla="*/ 38880 h 820800"/>
              <a:gd name="textAreaBottom" fmla="*/ 781920 h 820800"/>
            </a:gdLst>
            <a:ahLst/>
            <a:rect l="textAreaLeft" t="textAreaTop" r="textAreaRight" b="textAreaBottom"/>
            <a:pathLst>
              <a:path w="21600" h="22244">
                <a:moveTo>
                  <a:pt x="3600" y="0"/>
                </a:moveTo>
                <a:arcTo wR="3600" hR="3600" stAng="16200000" swAng="-5400000"/>
                <a:lnTo>
                  <a:pt x="0" y="18644"/>
                </a:lnTo>
                <a:arcTo wR="3600" hR="3600" stAng="10800000" swAng="-5400000"/>
                <a:lnTo>
                  <a:pt x="18000" y="22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25"/>
          <p:cNvSpPr/>
          <p:nvPr/>
        </p:nvSpPr>
        <p:spPr>
          <a:xfrm>
            <a:off x="254160" y="4255920"/>
            <a:ext cx="796680" cy="820800"/>
          </a:xfrm>
          <a:custGeom>
            <a:avLst/>
            <a:gdLst>
              <a:gd name="textAreaLeft" fmla="*/ 38880 w 796680"/>
              <a:gd name="textAreaRight" fmla="*/ 757800 w 796680"/>
              <a:gd name="textAreaTop" fmla="*/ 38880 h 820800"/>
              <a:gd name="textAreaBottom" fmla="*/ 781920 h 820800"/>
            </a:gdLst>
            <a:ahLst/>
            <a:rect l="textAreaLeft" t="textAreaTop" r="textAreaRight" b="textAreaBottom"/>
            <a:pathLst>
              <a:path w="21600" h="22254">
                <a:moveTo>
                  <a:pt x="3600" y="0"/>
                </a:moveTo>
                <a:arcTo wR="3600" hR="3600" stAng="16200000" swAng="-5400000"/>
                <a:lnTo>
                  <a:pt x="0" y="18654"/>
                </a:lnTo>
                <a:arcTo wR="3600" hR="3600" stAng="10800000" swAng="-5400000"/>
                <a:lnTo>
                  <a:pt x="18000" y="22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29"/>
          <p:cNvSpPr/>
          <p:nvPr/>
        </p:nvSpPr>
        <p:spPr>
          <a:xfrm>
            <a:off x="239760" y="5281560"/>
            <a:ext cx="797040" cy="820800"/>
          </a:xfrm>
          <a:custGeom>
            <a:avLst/>
            <a:gdLst>
              <a:gd name="textAreaLeft" fmla="*/ 38880 w 797040"/>
              <a:gd name="textAreaRight" fmla="*/ 758160 w 797040"/>
              <a:gd name="textAreaTop" fmla="*/ 38880 h 820800"/>
              <a:gd name="textAreaBottom" fmla="*/ 781920 h 820800"/>
            </a:gdLst>
            <a:ahLst/>
            <a:rect l="textAreaLeft" t="textAreaTop" r="textAreaRight" b="textAreaBottom"/>
            <a:pathLst>
              <a:path w="21600" h="22244">
                <a:moveTo>
                  <a:pt x="3600" y="0"/>
                </a:moveTo>
                <a:arcTo wR="3600" hR="3600" stAng="16200000" swAng="-5400000"/>
                <a:lnTo>
                  <a:pt x="0" y="18644"/>
                </a:lnTo>
                <a:arcTo wR="3600" hR="3600" stAng="10800000" swAng="-5400000"/>
                <a:lnTo>
                  <a:pt x="18000" y="22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35"/>
          <p:cNvSpPr/>
          <p:nvPr/>
        </p:nvSpPr>
        <p:spPr>
          <a:xfrm>
            <a:off x="4900680" y="3213000"/>
            <a:ext cx="795240" cy="820800"/>
          </a:xfrm>
          <a:custGeom>
            <a:avLst/>
            <a:gdLst>
              <a:gd name="textAreaLeft" fmla="*/ 38520 w 795240"/>
              <a:gd name="textAreaRight" fmla="*/ 756720 w 795240"/>
              <a:gd name="textAreaTop" fmla="*/ 38520 h 820800"/>
              <a:gd name="textAreaBottom" fmla="*/ 782280 h 820800"/>
            </a:gdLst>
            <a:ahLst/>
            <a:rect l="textAreaLeft" t="textAreaTop" r="textAreaRight" b="textAreaBottom"/>
            <a:pathLst>
              <a:path w="21600" h="22294">
                <a:moveTo>
                  <a:pt x="3600" y="0"/>
                </a:moveTo>
                <a:arcTo wR="3600" hR="3600" stAng="16200000" swAng="-5400000"/>
                <a:lnTo>
                  <a:pt x="0" y="18694"/>
                </a:lnTo>
                <a:arcTo wR="3600" hR="3600" stAng="10800000" swAng="-5400000"/>
                <a:lnTo>
                  <a:pt x="18000" y="22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38"/>
          <p:cNvSpPr/>
          <p:nvPr/>
        </p:nvSpPr>
        <p:spPr>
          <a:xfrm>
            <a:off x="4890960" y="4227480"/>
            <a:ext cx="795600" cy="819360"/>
          </a:xfrm>
          <a:custGeom>
            <a:avLst/>
            <a:gdLst>
              <a:gd name="textAreaLeft" fmla="*/ 38520 w 795600"/>
              <a:gd name="textAreaRight" fmla="*/ 757080 w 795600"/>
              <a:gd name="textAreaTop" fmla="*/ 38520 h 819360"/>
              <a:gd name="textAreaBottom" fmla="*/ 780840 h 819360"/>
            </a:gdLst>
            <a:ahLst/>
            <a:rect l="textAreaLeft" t="textAreaTop" r="textAreaRight" b="textAreaBottom"/>
            <a:pathLst>
              <a:path w="21600" h="22245">
                <a:moveTo>
                  <a:pt x="3600" y="0"/>
                </a:moveTo>
                <a:arcTo wR="3600" hR="3600" stAng="16200000" swAng="-5400000"/>
                <a:lnTo>
                  <a:pt x="0" y="18645"/>
                </a:lnTo>
                <a:arcTo wR="3600" hR="3600" stAng="10800000" swAng="-5400000"/>
                <a:lnTo>
                  <a:pt x="18000" y="222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41"/>
          <p:cNvSpPr/>
          <p:nvPr/>
        </p:nvSpPr>
        <p:spPr>
          <a:xfrm>
            <a:off x="4869000" y="5268960"/>
            <a:ext cx="796680" cy="820800"/>
          </a:xfrm>
          <a:custGeom>
            <a:avLst/>
            <a:gdLst>
              <a:gd name="textAreaLeft" fmla="*/ 38880 w 796680"/>
              <a:gd name="textAreaRight" fmla="*/ 757800 w 796680"/>
              <a:gd name="textAreaTop" fmla="*/ 38880 h 820800"/>
              <a:gd name="textAreaBottom" fmla="*/ 781920 h 820800"/>
            </a:gdLst>
            <a:ahLst/>
            <a:rect l="textAreaLeft" t="textAreaTop" r="textAreaRight" b="textAreaBottom"/>
            <a:pathLst>
              <a:path w="21600" h="22254">
                <a:moveTo>
                  <a:pt x="3600" y="0"/>
                </a:moveTo>
                <a:arcTo wR="3600" hR="3600" stAng="16200000" swAng="-5400000"/>
                <a:lnTo>
                  <a:pt x="0" y="18654"/>
                </a:lnTo>
                <a:arcTo wR="3600" hR="3600" stAng="10800000" swAng="-5400000"/>
                <a:lnTo>
                  <a:pt x="18000" y="22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://3c09.pbworks.com/f/Calender.png"/>
          <p:cNvPicPr/>
          <p:nvPr/>
        </p:nvPicPr>
        <p:blipFill>
          <a:blip r:embed="rId3"/>
          <a:stretch/>
        </p:blipFill>
        <p:spPr>
          <a:xfrm>
            <a:off x="414360" y="3340080"/>
            <a:ext cx="536400" cy="536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d27v8envyltg3v.cloudfront.net/images/ka5196/main600x0_p181d00doa1ms1e8h10pbnmr1t9vn.png"/>
          <p:cNvPicPr/>
          <p:nvPr/>
        </p:nvPicPr>
        <p:blipFill>
          <a:blip r:embed="rId4"/>
          <a:stretch/>
        </p:blipFill>
        <p:spPr>
          <a:xfrm>
            <a:off x="324000" y="4363920"/>
            <a:ext cx="682560" cy="609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http://www.veryicon.com/icon/png/System/Stainless/copy.png"/>
          <p:cNvPicPr/>
          <p:nvPr/>
        </p:nvPicPr>
        <p:blipFill>
          <a:blip r:embed="rId5"/>
          <a:stretch/>
        </p:blipFill>
        <p:spPr>
          <a:xfrm>
            <a:off x="5021280" y="4335480"/>
            <a:ext cx="595440" cy="5954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"/>
          <p:cNvPicPr/>
          <p:nvPr/>
        </p:nvPicPr>
        <p:blipFill>
          <a:blip r:embed="rId6"/>
          <a:stretch/>
        </p:blipFill>
        <p:spPr>
          <a:xfrm>
            <a:off x="4994280" y="458964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http://www.tradeinvest.co.ke/img/agreement.png"/>
          <p:cNvPicPr/>
          <p:nvPr/>
        </p:nvPicPr>
        <p:blipFill>
          <a:blip r:embed="rId7"/>
          <a:stretch/>
        </p:blipFill>
        <p:spPr>
          <a:xfrm>
            <a:off x="324000" y="5370480"/>
            <a:ext cx="712800" cy="6462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9"/>
          <p:cNvSpPr/>
          <p:nvPr/>
        </p:nvSpPr>
        <p:spPr>
          <a:xfrm>
            <a:off x="1168560" y="4133880"/>
            <a:ext cx="3139920" cy="44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0"/>
          <p:cNvSpPr/>
          <p:nvPr/>
        </p:nvSpPr>
        <p:spPr>
          <a:xfrm>
            <a:off x="1216080" y="5157720"/>
            <a:ext cx="313992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42"/>
          <p:cNvSpPr/>
          <p:nvPr/>
        </p:nvSpPr>
        <p:spPr>
          <a:xfrm>
            <a:off x="5896080" y="4084560"/>
            <a:ext cx="31399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43"/>
          <p:cNvSpPr/>
          <p:nvPr/>
        </p:nvSpPr>
        <p:spPr>
          <a:xfrm>
            <a:off x="5896080" y="5133960"/>
            <a:ext cx="313992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2" descr=""/>
          <p:cNvPicPr/>
          <p:nvPr/>
        </p:nvPicPr>
        <p:blipFill>
          <a:blip r:embed="rId8"/>
          <a:stretch/>
        </p:blipFill>
        <p:spPr>
          <a:xfrm>
            <a:off x="4948200" y="5408640"/>
            <a:ext cx="428760" cy="3398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" descr=""/>
          <p:cNvPicPr/>
          <p:nvPr/>
        </p:nvPicPr>
        <p:blipFill>
          <a:blip r:embed="rId9"/>
          <a:stretch/>
        </p:blipFill>
        <p:spPr>
          <a:xfrm>
            <a:off x="5167440" y="5481720"/>
            <a:ext cx="392040" cy="507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4" descr="http://mebel-ol.ru/img/cms/ikon%20dlya%20sayta%20kamin/%D1%81%D1%80%D0%BE%D0%BA%D0%B8.png"/>
          <p:cNvPicPr/>
          <p:nvPr/>
        </p:nvPicPr>
        <p:blipFill>
          <a:blip r:embed="rId10"/>
          <a:stretch/>
        </p:blipFill>
        <p:spPr>
          <a:xfrm>
            <a:off x="5121360" y="3370320"/>
            <a:ext cx="438120" cy="5414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6"/>
          <p:cNvSpPr/>
          <p:nvPr/>
        </p:nvSpPr>
        <p:spPr>
          <a:xfrm>
            <a:off x="239760" y="601560"/>
            <a:ext cx="90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АВТОМАТИЗАЦИЯ БИЗНЕС ПРОЦЕССОВ – ИНСТРУМЕНТ ПОВЫШЕНИЯ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6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"/>
          <p:cNvSpPr/>
          <p:nvPr/>
        </p:nvSpPr>
        <p:spPr>
          <a:xfrm>
            <a:off x="144360" y="33336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ЦЕНТРАЛИЗАЦИЯ ИНФОРМАЦИОННЫХ ПОТОКОВ ПО ИСПОЛНЕНИЯ БЮД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7" descr=""/>
          <p:cNvPicPr/>
          <p:nvPr/>
        </p:nvPicPr>
        <p:blipFill>
          <a:blip r:embed="rId1"/>
          <a:stretch/>
        </p:blipFill>
        <p:spPr>
          <a:xfrm>
            <a:off x="3216240" y="5964120"/>
            <a:ext cx="1847880" cy="2034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2"/>
          <p:cNvSpPr/>
          <p:nvPr/>
        </p:nvSpPr>
        <p:spPr>
          <a:xfrm>
            <a:off x="324000" y="1898640"/>
            <a:ext cx="5491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250920" y="1765440"/>
            <a:ext cx="88567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01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3"/>
          <p:cNvGrpSpPr/>
          <p:nvPr/>
        </p:nvGrpSpPr>
        <p:grpSpPr>
          <a:xfrm>
            <a:off x="254160" y="5494320"/>
            <a:ext cx="3533760" cy="1289160"/>
            <a:chOff x="254160" y="5494320"/>
            <a:chExt cx="3533760" cy="1289160"/>
          </a:xfrm>
        </p:grpSpPr>
        <p:pic>
          <p:nvPicPr>
            <p:cNvPr id="308" name="Рисунок 1" descr=""/>
            <p:cNvPicPr/>
            <p:nvPr/>
          </p:nvPicPr>
          <p:blipFill>
            <a:blip r:embed="rId3"/>
            <a:srcRect l="0" t="0" r="0" b="37624"/>
            <a:stretch/>
          </p:blipFill>
          <p:spPr>
            <a:xfrm>
              <a:off x="254160" y="5494320"/>
              <a:ext cx="2711520" cy="7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Рисунок 1" descr=""/>
            <p:cNvPicPr/>
            <p:nvPr/>
          </p:nvPicPr>
          <p:blipFill>
            <a:blip r:embed="rId4"/>
            <a:stretch/>
          </p:blipFill>
          <p:spPr>
            <a:xfrm>
              <a:off x="254160" y="6291000"/>
              <a:ext cx="299520" cy="2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2"/>
            <p:cNvSpPr/>
            <p:nvPr/>
          </p:nvSpPr>
          <p:spPr>
            <a:xfrm>
              <a:off x="619560" y="620208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1</a:t>
              </a:r>
              <a:r>
                <a:rPr b="0" lang="ru-RU" sz="24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 </a:t>
              </a:r>
              <a:r>
                <a:rPr b="0" lang="ru-RU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НОВЫЙ СУБЪЕКТ</a:t>
              </a:r>
              <a:r>
                <a:rPr b="0" lang="en-US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( </a:t>
              </a:r>
              <a:r>
                <a:rPr b="0" lang="ru-RU" sz="800" spc="-1" strike="noStrike">
                  <a:solidFill>
                    <a:srgbClr val="ffffff"/>
                  </a:solidFill>
                  <a:latin typeface="Segoe UI"/>
                  <a:ea typeface="Segoe UI"/>
                </a:rPr>
                <a:t>В 2016 ПЛАНИРУЮТ  3-4 СУЪЕКТА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Рисунок 1" descr=""/>
          <p:cNvPicPr/>
          <p:nvPr/>
        </p:nvPicPr>
        <p:blipFill>
          <a:blip r:embed="rId5"/>
          <a:srcRect l="0" t="68317" r="0" b="0"/>
          <a:stretch/>
        </p:blipFill>
        <p:spPr>
          <a:xfrm>
            <a:off x="3214800" y="6202440"/>
            <a:ext cx="2711160" cy="368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1" descr=""/>
          <p:cNvPicPr/>
          <p:nvPr/>
        </p:nvPicPr>
        <p:blipFill>
          <a:blip r:embed="rId6"/>
          <a:stretch/>
        </p:blipFill>
        <p:spPr>
          <a:xfrm>
            <a:off x="7308720" y="4727520"/>
            <a:ext cx="23364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9"/>
          <p:cNvSpPr/>
          <p:nvPr/>
        </p:nvSpPr>
        <p:spPr>
          <a:xfrm>
            <a:off x="250920" y="333360"/>
            <a:ext cx="849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ЦЕНТР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ОПЫТ ЧУВАШСКОЙ РЕСПУ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847960" y="1773360"/>
            <a:ext cx="597204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 2013 году на уровне МФ Чувашской республики организован центр обработки данных по исполнению консолидированного бюджета республики. Результаты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Segoe U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Автоматическое формирование регламентированной и произвольной отчетности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Segoe U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 разрезе нижестоящих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 разрезе учреждений всего су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Форма 0503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Форма 0503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Форма 05033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"/>
                <a:ea typeface="Segoe UI"/>
              </a:rPr>
              <a:t>Форма 0503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2" descr=""/>
          <p:cNvPicPr/>
          <p:nvPr/>
        </p:nvPicPr>
        <p:blipFill>
          <a:blip r:embed="rId2"/>
          <a:srcRect l="0" t="0" r="17881" b="0"/>
          <a:stretch/>
        </p:blipFill>
        <p:spPr>
          <a:xfrm>
            <a:off x="163440" y="2986200"/>
            <a:ext cx="2497320" cy="193500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9"/>
          <p:cNvSpPr/>
          <p:nvPr/>
        </p:nvSpPr>
        <p:spPr>
          <a:xfrm>
            <a:off x="385920" y="6159600"/>
            <a:ext cx="822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АВТОМАТИЗАЦИЯ  ОПЕРАТИВНОСТЬ КА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6"/>
          <p:cNvSpPr/>
          <p:nvPr/>
        </p:nvSpPr>
        <p:spPr>
          <a:xfrm>
            <a:off x="233280" y="4869000"/>
            <a:ext cx="86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ОРГАНИЗАЦИЯ  ЭЛЕКТРО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Segoe UI"/>
                <a:ea typeface="Segoe UI"/>
              </a:rPr>
              <a:t>АРХИВА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2446200" y="1341360"/>
            <a:ext cx="4251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09:48:29Z</dcterms:created>
  <dc:creator>Смирнова Ольга Евгеньевна</dc:creator>
  <dc:description/>
  <dc:language>en-US</dc:language>
  <cp:lastModifiedBy>Алексей</cp:lastModifiedBy>
  <cp:lastPrinted>2014-09-02T04:55:58Z</cp:lastPrinted>
  <dcterms:modified xsi:type="dcterms:W3CDTF">2015-09-17T09:15:00Z</dcterms:modified>
  <cp:revision>2323</cp:revision>
  <dc:subject/>
  <dc:title>Слайд 1</dc:title>
</cp:coreProperties>
</file>