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9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0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3C58-FDB5-4BBB-A8E7-139D22B7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CBB5-B08F-40C2-B916-FCBFDC9A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67E6-1192-4A10-8944-528C6C0F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7287-0EF0-46CF-9E45-60F6AE622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8E69-496F-45CE-B13E-801F7C9E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6700-E01D-43B3-B532-1DB55F2F9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052-EAF3-4CE0-8917-12526CEA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0E8D-BE5E-4AB7-A027-8DB2E53E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C412-0633-4141-A1EC-CDA3CAB2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DC52-6B00-4D1A-A053-2CFABE90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C408-095C-46BA-854B-4963349C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12AB-8FB6-49FF-AE21-998DFF28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2D2D-BD3F-4418-B5EE-ED2CF838C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1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6.wmf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539640" y="2852640"/>
            <a:ext cx="8137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79280" y="1844640"/>
            <a:ext cx="87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000080" y="1714680"/>
            <a:ext cx="7286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О практике применения нормативных правовых актов Минфина России по бюджетному учету и отчетности в органах Федерального казначейства, финансовых органах субъектов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211640" y="5445000"/>
            <a:ext cx="47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Начальник Управления бюджетного учета и отчетности Федерального казначейства А.В. Дубов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7137360" y="2205000"/>
            <a:ext cx="2006280" cy="1609560"/>
            <a:chOff x="7137360" y="2205000"/>
            <a:chExt cx="2006280" cy="160956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7638840" y="2205000"/>
              <a:ext cx="971640" cy="105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7137360" y="3182760"/>
              <a:ext cx="20062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инансовый орга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0" y="2205000"/>
            <a:ext cx="1603440" cy="1690920"/>
            <a:chOff x="0" y="2205000"/>
            <a:chExt cx="1603440" cy="1690920"/>
          </a:xfrm>
        </p:grpSpPr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57040" y="2205000"/>
              <a:ext cx="102672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0" y="3523320"/>
              <a:ext cx="16034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Банк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оответствие показателей ФО и ТО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564000" y="2276640"/>
            <a:ext cx="2006280" cy="1334880"/>
            <a:chOff x="3564000" y="2276640"/>
            <a:chExt cx="2006280" cy="1334880"/>
          </a:xfrm>
        </p:grpSpPr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4065480" y="2276640"/>
              <a:ext cx="971640" cy="105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564000" y="3254040"/>
              <a:ext cx="200628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Соответствие показателей ФО и ТОФ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256536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4360" y="256536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5157720"/>
            <a:ext cx="150336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6263"/>
              <a:gd name="adj5" fmla="val -368231"/>
              <a:gd name="adj6" fmla="val 156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роты, ост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95640" y="5157720"/>
            <a:ext cx="150336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16263"/>
              <a:gd name="adj5" fmla="val -368231"/>
              <a:gd name="adj6" fmla="val 156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роты, остат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7137360" y="2205000"/>
            <a:ext cx="2006280" cy="1609560"/>
            <a:chOff x="7137360" y="2205000"/>
            <a:chExt cx="2006280" cy="1609560"/>
          </a:xfrm>
        </p:grpSpPr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7638840" y="2205000"/>
              <a:ext cx="971640" cy="105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137360" y="3182760"/>
              <a:ext cx="20062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Финансовый орга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0" y="2205000"/>
            <a:ext cx="1603440" cy="1690920"/>
            <a:chOff x="0" y="2205000"/>
            <a:chExt cx="1603440" cy="1690920"/>
          </a:xfrm>
        </p:grpSpPr>
        <p:pic>
          <p:nvPicPr>
            <p:cNvPr id="85" name="" descr=""/>
            <p:cNvPicPr/>
            <p:nvPr/>
          </p:nvPicPr>
          <p:blipFill>
            <a:blip r:embed="rId5"/>
            <a:stretch/>
          </p:blipFill>
          <p:spPr>
            <a:xfrm>
              <a:off x="257040" y="2205000"/>
              <a:ext cx="102672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0" y="3523320"/>
              <a:ext cx="1603440" cy="3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tabLst>
                  <a:tab algn="l" pos="0"/>
                  <a:tab algn="l" pos="874800"/>
                  <a:tab algn="l" pos="1749600"/>
                  <a:tab algn="l" pos="2624040"/>
                  <a:tab algn="l" pos="3498840"/>
                  <a:tab algn="l" pos="4373640"/>
                  <a:tab algn="l" pos="5248440"/>
                  <a:tab algn="l" pos="6122880"/>
                  <a:tab algn="l" pos="6997680"/>
                  <a:tab algn="l" pos="7872480"/>
                  <a:tab algn="l" pos="8747280"/>
                  <a:tab algn="l" pos="9621720"/>
                  <a:tab algn="l" pos="1049652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</a:rPr>
                <a:t>Банк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оответствие показателей ФО и ТО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Новый сервис сверки показателей ФО и ТОФ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52"/>
          <p:cNvGrpSpPr/>
          <p:nvPr/>
        </p:nvGrpSpPr>
        <p:grpSpPr>
          <a:xfrm>
            <a:off x="7004160" y="1484280"/>
            <a:ext cx="1007640" cy="844200"/>
            <a:chOff x="7004160" y="1484280"/>
            <a:chExt cx="1007640" cy="844200"/>
          </a:xfrm>
        </p:grpSpPr>
        <p:sp>
          <p:nvSpPr>
            <p:cNvPr id="90" name="Oval 53"/>
            <p:cNvSpPr/>
            <p:nvPr/>
          </p:nvSpPr>
          <p:spPr>
            <a:xfrm>
              <a:off x="7004160" y="1900440"/>
              <a:ext cx="1007640" cy="41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792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e4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54" descr="j0433944[1]"/>
            <p:cNvPicPr/>
            <p:nvPr/>
          </p:nvPicPr>
          <p:blipFill>
            <a:blip r:embed="rId1"/>
            <a:stretch/>
          </p:blipFill>
          <p:spPr>
            <a:xfrm>
              <a:off x="7185960" y="1484280"/>
              <a:ext cx="732960" cy="84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6858360" y="2389320"/>
            <a:ext cx="1454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Фин. орган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6" descr="j0433892[1]"/>
          <p:cNvPicPr/>
          <p:nvPr/>
        </p:nvPicPr>
        <p:blipFill>
          <a:blip r:embed="rId2"/>
          <a:stretch/>
        </p:blipFill>
        <p:spPr>
          <a:xfrm>
            <a:off x="324000" y="2924280"/>
            <a:ext cx="1280880" cy="1584360"/>
          </a:xfrm>
          <a:prstGeom prst="rect">
            <a:avLst/>
          </a:prstGeom>
          <a:ln w="0">
            <a:noFill/>
          </a:ln>
        </p:spPr>
      </p:pic>
      <p:grpSp>
        <p:nvGrpSpPr>
          <p:cNvPr id="94" name="Group 52"/>
          <p:cNvGrpSpPr/>
          <p:nvPr/>
        </p:nvGrpSpPr>
        <p:grpSpPr>
          <a:xfrm>
            <a:off x="7075440" y="3357720"/>
            <a:ext cx="1007640" cy="844200"/>
            <a:chOff x="7075440" y="3357720"/>
            <a:chExt cx="1007640" cy="844200"/>
          </a:xfrm>
        </p:grpSpPr>
        <p:sp>
          <p:nvSpPr>
            <p:cNvPr id="95" name="Oval 53"/>
            <p:cNvSpPr/>
            <p:nvPr/>
          </p:nvSpPr>
          <p:spPr>
            <a:xfrm>
              <a:off x="7075440" y="3773880"/>
              <a:ext cx="1007640" cy="41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792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e4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54" descr="j0433944[1]"/>
            <p:cNvPicPr/>
            <p:nvPr/>
          </p:nvPicPr>
          <p:blipFill>
            <a:blip r:embed="rId3"/>
            <a:stretch/>
          </p:blipFill>
          <p:spPr>
            <a:xfrm>
              <a:off x="7257240" y="3357720"/>
              <a:ext cx="732960" cy="84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"/>
          <p:cNvSpPr/>
          <p:nvPr/>
        </p:nvSpPr>
        <p:spPr>
          <a:xfrm>
            <a:off x="6996600" y="4262400"/>
            <a:ext cx="1387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Фин. орга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2"/>
          <p:cNvGrpSpPr/>
          <p:nvPr/>
        </p:nvGrpSpPr>
        <p:grpSpPr>
          <a:xfrm>
            <a:off x="7004160" y="5229360"/>
            <a:ext cx="1007640" cy="844200"/>
            <a:chOff x="7004160" y="5229360"/>
            <a:chExt cx="1007640" cy="844200"/>
          </a:xfrm>
        </p:grpSpPr>
        <p:sp>
          <p:nvSpPr>
            <p:cNvPr id="99" name="Oval 53"/>
            <p:cNvSpPr/>
            <p:nvPr/>
          </p:nvSpPr>
          <p:spPr>
            <a:xfrm>
              <a:off x="7004160" y="5645520"/>
              <a:ext cx="1007640" cy="41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792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e4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54" descr="j0433944[1]"/>
            <p:cNvPicPr/>
            <p:nvPr/>
          </p:nvPicPr>
          <p:blipFill>
            <a:blip r:embed="rId4"/>
            <a:stretch/>
          </p:blipFill>
          <p:spPr>
            <a:xfrm>
              <a:off x="7185960" y="5229360"/>
              <a:ext cx="732960" cy="84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6805800" y="6134040"/>
            <a:ext cx="1443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ГРБС, ПБ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6" descr="j0433892[1]"/>
          <p:cNvPicPr/>
          <p:nvPr/>
        </p:nvPicPr>
        <p:blipFill>
          <a:blip r:embed="rId5"/>
          <a:stretch/>
        </p:blipFill>
        <p:spPr>
          <a:xfrm>
            <a:off x="3851280" y="3141720"/>
            <a:ext cx="1281240" cy="1584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7040" y="4365720"/>
            <a:ext cx="253548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ПО АС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ф. 05031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ф. 0503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ф. 05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214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ф. 05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3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Лицевые с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Аналитические регист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81440" y="479124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ПО СУФ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92" idx="1"/>
            <a:endCxn id="102" idx="0"/>
          </p:cNvCxnSpPr>
          <p:nvPr/>
        </p:nvCxnSpPr>
        <p:spPr>
          <a:xfrm flipV="1" rot="10800000">
            <a:off x="4492080" y="2578680"/>
            <a:ext cx="2362680" cy="562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5" idx="2"/>
            <a:endCxn id="102" idx="3"/>
          </p:cNvCxnSpPr>
          <p:nvPr/>
        </p:nvCxnSpPr>
        <p:spPr>
          <a:xfrm rot="10800000">
            <a:off x="5131800" y="3933000"/>
            <a:ext cx="1943640" cy="5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9" idx="2"/>
            <a:endCxn id="104" idx="3"/>
          </p:cNvCxnSpPr>
          <p:nvPr/>
        </p:nvCxnSpPr>
        <p:spPr>
          <a:xfrm rot="10800000">
            <a:off x="5172840" y="4974480"/>
            <a:ext cx="1831320" cy="880200"/>
          </a:xfrm>
          <a:prstGeom prst="bentConnector3">
            <a:avLst>
              <a:gd name="adj1" fmla="val 4994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4793040" y="2228760"/>
            <a:ext cx="190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0059"/>
                </a:solidFill>
                <a:latin typeface="Arial"/>
              </a:rPr>
              <a:t>Отчет ф. 05033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53400" y="3500280"/>
            <a:ext cx="190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0059"/>
                </a:solidFill>
                <a:latin typeface="Arial"/>
              </a:rPr>
              <a:t>Отчет ф. 05031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9040" y="4653000"/>
            <a:ext cx="190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0059"/>
                </a:solidFill>
                <a:latin typeface="Arial"/>
              </a:rPr>
              <a:t>Отчет ф. 05031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3716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162864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4720" y="1736640"/>
            <a:ext cx="9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Ф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Соответствие показателей ФО и ТО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Новый сервис сверки показателей ФО и ТОФ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52"/>
          <p:cNvGrpSpPr/>
          <p:nvPr/>
        </p:nvGrpSpPr>
        <p:grpSpPr>
          <a:xfrm>
            <a:off x="7004160" y="1484280"/>
            <a:ext cx="1007640" cy="844200"/>
            <a:chOff x="7004160" y="1484280"/>
            <a:chExt cx="1007640" cy="844200"/>
          </a:xfrm>
        </p:grpSpPr>
        <p:sp>
          <p:nvSpPr>
            <p:cNvPr id="117" name="Oval 53"/>
            <p:cNvSpPr/>
            <p:nvPr/>
          </p:nvSpPr>
          <p:spPr>
            <a:xfrm>
              <a:off x="7004160" y="1900440"/>
              <a:ext cx="1007640" cy="41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792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e4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54" descr="j0433944[1]"/>
            <p:cNvPicPr/>
            <p:nvPr/>
          </p:nvPicPr>
          <p:blipFill>
            <a:blip r:embed="rId1"/>
            <a:stretch/>
          </p:blipFill>
          <p:spPr>
            <a:xfrm>
              <a:off x="7185960" y="1484280"/>
              <a:ext cx="732960" cy="84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"/>
          <p:cNvSpPr/>
          <p:nvPr/>
        </p:nvSpPr>
        <p:spPr>
          <a:xfrm>
            <a:off x="6858360" y="2389320"/>
            <a:ext cx="1454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Фин. орган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6" descr="j0433892[1]"/>
          <p:cNvPicPr/>
          <p:nvPr/>
        </p:nvPicPr>
        <p:blipFill>
          <a:blip r:embed="rId2"/>
          <a:stretch/>
        </p:blipFill>
        <p:spPr>
          <a:xfrm>
            <a:off x="324000" y="2924280"/>
            <a:ext cx="1280880" cy="158436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2"/>
          <p:cNvGrpSpPr/>
          <p:nvPr/>
        </p:nvGrpSpPr>
        <p:grpSpPr>
          <a:xfrm>
            <a:off x="7075440" y="3357720"/>
            <a:ext cx="1007640" cy="844200"/>
            <a:chOff x="7075440" y="3357720"/>
            <a:chExt cx="1007640" cy="844200"/>
          </a:xfrm>
        </p:grpSpPr>
        <p:sp>
          <p:nvSpPr>
            <p:cNvPr id="122" name="Oval 53"/>
            <p:cNvSpPr/>
            <p:nvPr/>
          </p:nvSpPr>
          <p:spPr>
            <a:xfrm>
              <a:off x="7075440" y="3773880"/>
              <a:ext cx="1007640" cy="41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792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e4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54" descr="j0433944[1]"/>
            <p:cNvPicPr/>
            <p:nvPr/>
          </p:nvPicPr>
          <p:blipFill>
            <a:blip r:embed="rId3"/>
            <a:stretch/>
          </p:blipFill>
          <p:spPr>
            <a:xfrm>
              <a:off x="7257240" y="3357720"/>
              <a:ext cx="732960" cy="84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6996600" y="4262400"/>
            <a:ext cx="1387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Фин. орган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52"/>
          <p:cNvGrpSpPr/>
          <p:nvPr/>
        </p:nvGrpSpPr>
        <p:grpSpPr>
          <a:xfrm>
            <a:off x="7004160" y="5229360"/>
            <a:ext cx="1007640" cy="844200"/>
            <a:chOff x="7004160" y="5229360"/>
            <a:chExt cx="1007640" cy="844200"/>
          </a:xfrm>
        </p:grpSpPr>
        <p:sp>
          <p:nvSpPr>
            <p:cNvPr id="126" name="Oval 53"/>
            <p:cNvSpPr/>
            <p:nvPr/>
          </p:nvSpPr>
          <p:spPr>
            <a:xfrm>
              <a:off x="7004160" y="5645520"/>
              <a:ext cx="1007640" cy="4186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e7928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e400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54" descr="j0433944[1]"/>
            <p:cNvPicPr/>
            <p:nvPr/>
          </p:nvPicPr>
          <p:blipFill>
            <a:blip r:embed="rId4"/>
            <a:stretch/>
          </p:blipFill>
          <p:spPr>
            <a:xfrm>
              <a:off x="7185960" y="5229360"/>
              <a:ext cx="732960" cy="84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"/>
          <p:cNvSpPr/>
          <p:nvPr/>
        </p:nvSpPr>
        <p:spPr>
          <a:xfrm>
            <a:off x="6805800" y="6134040"/>
            <a:ext cx="14439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ГРБС, ПБ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6" descr="j0433892[1]"/>
          <p:cNvPicPr/>
          <p:nvPr/>
        </p:nvPicPr>
        <p:blipFill>
          <a:blip r:embed="rId5"/>
          <a:stretch/>
        </p:blipFill>
        <p:spPr>
          <a:xfrm>
            <a:off x="3851280" y="3141720"/>
            <a:ext cx="1281240" cy="1584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81440" y="4791240"/>
            <a:ext cx="13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ПО СУФ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19" idx="1"/>
            <a:endCxn id="129" idx="0"/>
          </p:cNvCxnSpPr>
          <p:nvPr/>
        </p:nvCxnSpPr>
        <p:spPr>
          <a:xfrm flipV="1" rot="10800000">
            <a:off x="4492080" y="2578680"/>
            <a:ext cx="2362680" cy="5626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32" name=""/>
          <p:cNvCxnSpPr>
            <a:stCxn id="122" idx="2"/>
            <a:endCxn id="129" idx="3"/>
          </p:cNvCxnSpPr>
          <p:nvPr/>
        </p:nvCxnSpPr>
        <p:spPr>
          <a:xfrm rot="10800000">
            <a:off x="5131800" y="3933000"/>
            <a:ext cx="1943640" cy="500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33" name=""/>
          <p:cNvCxnSpPr/>
          <p:nvPr/>
        </p:nvCxnSpPr>
        <p:spPr>
          <a:xfrm rot="10800000">
            <a:off x="5147640" y="4941000"/>
            <a:ext cx="1830960" cy="880200"/>
          </a:xfrm>
          <a:prstGeom prst="bentConnector3">
            <a:avLst>
              <a:gd name="adj1" fmla="val 4995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1695600" y="3284640"/>
            <a:ext cx="20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0059"/>
                </a:solidFill>
                <a:latin typeface="Arial"/>
              </a:rPr>
              <a:t>Протоколы с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800000">
            <a:off x="2268360" y="3716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1628640"/>
            <a:ext cx="0" cy="482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64720" y="1736640"/>
            <a:ext cx="9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ОФ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6880" y="213372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0059"/>
                </a:solidFill>
                <a:latin typeface="Arial"/>
              </a:rPr>
              <a:t>Протокол с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09120" y="359712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0059"/>
                </a:solidFill>
                <a:latin typeface="Arial"/>
              </a:rPr>
              <a:t>Протокол с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09120" y="465300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0059"/>
                </a:solidFill>
                <a:latin typeface="Arial"/>
              </a:rPr>
              <a:t>Протокол свер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7040" y="4365720"/>
            <a:ext cx="253548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ПО АС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ф. 05031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ф. 0503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ф. 05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214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ф. 05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3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Лицевые сч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Аналитические регист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154764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применения бюджетной класс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Соответствие кодов видов расходов кодам КОСГ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1557360"/>
            <a:ext cx="9048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казания № 65н, Приложение № 5 «Таблица соответствия видов расходов классификации расходов бюджетов и статей (подстатей) классификации операций сектора государственного управления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9280" y="2781360"/>
          <a:ext cx="8640720" cy="3722400"/>
        </p:xfrm>
        <a:graphic>
          <a:graphicData uri="http://schemas.openxmlformats.org/drawingml/2006/table">
            <a:tbl>
              <a:tblPr/>
              <a:tblGrid>
                <a:gridCol w="1033560"/>
                <a:gridCol w="3287880"/>
                <a:gridCol w="1071360"/>
                <a:gridCol w="3247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Г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упка товаров, работ, услуг в сфере информационно-коммуникационных технолог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луги связ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рендная плата за пользование имуществ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3851280" y="587700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68720" y="5229360"/>
            <a:ext cx="75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40059"/>
                </a:solidFill>
                <a:latin typeface="Arial"/>
              </a:rPr>
              <a:t>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154764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применения бюджетной класс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11280" y="112536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Классификация средств поступающих во временн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распоряжение учреж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993000" y="3429000"/>
            <a:ext cx="2150640" cy="1335240"/>
            <a:chOff x="6993000" y="3429000"/>
            <a:chExt cx="2150640" cy="133524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7530480" y="3429000"/>
              <a:ext cx="1041480" cy="105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993000" y="4406760"/>
              <a:ext cx="2150640" cy="3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Учрежд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50920" y="3581280"/>
            <a:ext cx="1027080" cy="1071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1906560" y="5165640"/>
            <a:ext cx="1027080" cy="1071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1762200" y="1996920"/>
            <a:ext cx="1027080" cy="10717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03480" y="3141720"/>
            <a:ext cx="2376720" cy="485640"/>
          </a:xfrm>
          <a:prstGeom prst="leftArrow">
            <a:avLst>
              <a:gd name="adj1" fmla="val 50000"/>
              <a:gd name="adj2" fmla="val 12235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47840" y="4508640"/>
            <a:ext cx="2303640" cy="485640"/>
          </a:xfrm>
          <a:prstGeom prst="rightArrow">
            <a:avLst>
              <a:gd name="adj1" fmla="val 50000"/>
              <a:gd name="adj2" fmla="val 118588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139920"/>
            <a:ext cx="19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-»180</a:t>
            </a:r>
            <a:r>
              <a:rPr b="1" lang="en-US" sz="2400" spc="-1" strike="noStrike">
                <a:solidFill>
                  <a:srgbClr val="e40059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e40059"/>
                </a:solidFill>
                <a:uFillTx/>
                <a:latin typeface="Arial"/>
              </a:rPr>
              <a:t>6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1440" y="450864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lang="en-US" sz="2400" spc="-1" strike="noStrike">
                <a:solidFill>
                  <a:srgbClr val="e40059"/>
                </a:solidFill>
                <a:latin typeface="Arial"/>
              </a:rPr>
              <a:t>    </a:t>
            </a:r>
            <a:r>
              <a:rPr b="1" lang="en-US" sz="2400" spc="-1" strike="noStrike" u="sng">
                <a:solidFill>
                  <a:srgbClr val="e40059"/>
                </a:solidFill>
                <a:uFillTx/>
                <a:latin typeface="Arial"/>
              </a:rPr>
              <a:t>5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7812000" y="5373720"/>
            <a:ext cx="1170000" cy="10936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6227640" y="4581360"/>
            <a:ext cx="289080" cy="270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6588000" y="3213000"/>
            <a:ext cx="28908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"/>
          <p:cNvSpPr/>
          <p:nvPr/>
        </p:nvSpPr>
        <p:spPr>
          <a:xfrm>
            <a:off x="154764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применения бюджетной класс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611280" y="1125360"/>
            <a:ext cx="81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еречисление средств между ТФОМС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межтерриториальных расчетах по оказанию медицинской помощи застрахова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997680" y="4363920"/>
            <a:ext cx="1390680" cy="13906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193880" y="582948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ФО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165320" y="4363920"/>
            <a:ext cx="1390680" cy="1390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324800" y="582948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ФОМ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867200"/>
            <a:ext cx="2879640" cy="486000"/>
          </a:xfrm>
          <a:prstGeom prst="leftArrow">
            <a:avLst>
              <a:gd name="adj1" fmla="val 50000"/>
              <a:gd name="adj2" fmla="val 14813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58520" y="458136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ГУ 1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49120" y="458136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ГУ 2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24000" y="615780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+ внесение изменений в законы ТФОМ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9640" y="1916280"/>
            <a:ext cx="860436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исьмо Минфина России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т 27.06.2014 № 02-05-11/31346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«…О применении видов расходов бюджетной классификации Российской Федерации…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154764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применения бюджетной класс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611280" y="112536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еречисление средств из бюджетов субъектов РФ в ТФОМС на социальное страхование неработающего насе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53080" y="2773440"/>
            <a:ext cx="2017440" cy="485640"/>
          </a:xfrm>
          <a:prstGeom prst="leftArrow">
            <a:avLst>
              <a:gd name="adj1" fmla="val 50000"/>
              <a:gd name="adj2" fmla="val 103855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201080" y="2197080"/>
            <a:ext cx="1390320" cy="139068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3314160" y="2341440"/>
            <a:ext cx="1097280" cy="1521000"/>
            <a:chOff x="3314160" y="2341440"/>
            <a:chExt cx="1097280" cy="1521000"/>
          </a:xfrm>
        </p:grpSpPr>
        <p:pic>
          <p:nvPicPr>
            <p:cNvPr id="179" name="" descr=""/>
            <p:cNvPicPr/>
            <p:nvPr/>
          </p:nvPicPr>
          <p:blipFill>
            <a:blip r:embed="rId2"/>
            <a:stretch/>
          </p:blipFill>
          <p:spPr>
            <a:xfrm>
              <a:off x="3384360" y="2341440"/>
              <a:ext cx="1027080" cy="10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3314160" y="3494160"/>
              <a:ext cx="102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ТФОМ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6959160" y="3662280"/>
            <a:ext cx="182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полномоче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рг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42920" y="2781360"/>
            <a:ext cx="1800360" cy="485640"/>
          </a:xfrm>
          <a:prstGeom prst="leftArrow">
            <a:avLst>
              <a:gd name="adj1" fmla="val 50000"/>
              <a:gd name="adj2" fmla="val 9268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08320" y="543888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ГУ (</a:t>
            </a:r>
            <a:r>
              <a:rPr b="0" lang="en-US" sz="1800" spc="-1" strike="noStrike" u="sng">
                <a:solidFill>
                  <a:srgbClr val="e40059"/>
                </a:solidFill>
                <a:uFillTx/>
                <a:latin typeface="Arial"/>
              </a:rPr>
              <a:t>КР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ХХ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47600" y="543888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ГУ (КДБ) ХХ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55240" y="5430960"/>
            <a:ext cx="20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ГУ (</a:t>
            </a:r>
            <a:r>
              <a:rPr b="0" lang="en-US" sz="1800" spc="-1" strike="noStrike" u="sng">
                <a:solidFill>
                  <a:srgbClr val="e40059"/>
                </a:solidFill>
                <a:uFillTx/>
                <a:latin typeface="Arial"/>
              </a:rPr>
              <a:t>КР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ХХ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76" idx="0"/>
            <a:endCxn id="183" idx="0"/>
          </p:cNvCxnSpPr>
          <p:nvPr/>
        </p:nvCxnSpPr>
        <p:spPr>
          <a:xfrm>
            <a:off x="6770520" y="3016080"/>
            <a:ext cx="186480" cy="2423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stCxn id="176" idx="1"/>
            <a:endCxn id="184" idx="0"/>
          </p:cNvCxnSpPr>
          <p:nvPr/>
        </p:nvCxnSpPr>
        <p:spPr>
          <a:xfrm flipH="1" flipV="1" rot="10800000">
            <a:off x="4752000" y="3015720"/>
            <a:ext cx="45000" cy="2423520"/>
          </a:xfrm>
          <a:prstGeom prst="bentConnector4">
            <a:avLst>
              <a:gd name="adj1" fmla="val -513709"/>
              <a:gd name="adj2" fmla="val 550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"/>
          <p:cNvCxnSpPr>
            <a:stCxn id="182" idx="0"/>
            <a:endCxn id="185" idx="0"/>
          </p:cNvCxnSpPr>
          <p:nvPr/>
        </p:nvCxnSpPr>
        <p:spPr>
          <a:xfrm flipH="1">
            <a:off x="2202840" y="3024000"/>
            <a:ext cx="640440" cy="2407320"/>
          </a:xfrm>
          <a:prstGeom prst="bentConnector4">
            <a:avLst>
              <a:gd name="adj1" fmla="val -35714"/>
              <a:gd name="adj2" fmla="val 550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160" y="2557440"/>
            <a:ext cx="95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627280" y="1989000"/>
            <a:ext cx="6300720" cy="2521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8028000" y="5589720"/>
            <a:ext cx="95400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086360" y="1197000"/>
            <a:ext cx="2501640" cy="66816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Отчет ф. 050373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695680" y="3076560"/>
            <a:ext cx="577800" cy="668520"/>
          </a:xfrm>
          <a:custGeom>
            <a:avLst/>
            <a:gdLst>
              <a:gd name="textAreaLeft" fmla="*/ 28080 w 577800"/>
              <a:gd name="textAreaRight" fmla="*/ 549720 w 577800"/>
              <a:gd name="textAreaTop" fmla="*/ 28080 h 668520"/>
              <a:gd name="textAreaBottom" fmla="*/ 640440 h 668520"/>
            </a:gdLst>
            <a:ahLst/>
            <a:rect l="textAreaLeft" t="textAreaTop" r="textAreaRight" b="textAreaBottom"/>
            <a:pathLst>
              <a:path w="21600" h="24989">
                <a:moveTo>
                  <a:pt x="3600" y="0"/>
                </a:moveTo>
                <a:arcTo wR="3600" hR="3600" stAng="16200000" swAng="-5400000"/>
                <a:lnTo>
                  <a:pt x="0" y="21389"/>
                </a:lnTo>
                <a:arcTo wR="3600" hR="3600" stAng="10800000" swAng="-5400000"/>
                <a:lnTo>
                  <a:pt x="18000" y="24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14640" y="3076560"/>
            <a:ext cx="576360" cy="6685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668520"/>
              <a:gd name="textAreaBottom" fmla="*/ 640440 h 668520"/>
            </a:gdLst>
            <a:ahLst/>
            <a:rect l="textAreaLeft" t="textAreaTop" r="textAreaRight" b="textAreaBottom"/>
            <a:pathLst>
              <a:path w="21600" h="25052">
                <a:moveTo>
                  <a:pt x="3600" y="0"/>
                </a:moveTo>
                <a:arcTo wR="3600" hR="3600" stAng="16200000" swAng="-5400000"/>
                <a:lnTo>
                  <a:pt x="0" y="21452"/>
                </a:lnTo>
                <a:arcTo wR="3600" hR="3600" stAng="10800000" swAng="-5400000"/>
                <a:lnTo>
                  <a:pt x="18000" y="25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70600" y="3078000"/>
            <a:ext cx="576000" cy="66852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668520"/>
              <a:gd name="textAreaBottom" fmla="*/ 640440 h 668520"/>
            </a:gdLst>
            <a:ahLst/>
            <a:rect l="textAreaLeft" t="textAreaTop" r="textAreaRight" b="textAreaBottom"/>
            <a:pathLst>
              <a:path w="21600" h="25067">
                <a:moveTo>
                  <a:pt x="3600" y="0"/>
                </a:moveTo>
                <a:arcTo wR="3600" hR="3600" stAng="16200000" swAng="-5400000"/>
                <a:lnTo>
                  <a:pt x="0" y="21467"/>
                </a:lnTo>
                <a:arcTo wR="3600" hR="3600" stAng="10800000" swAng="-5400000"/>
                <a:lnTo>
                  <a:pt x="18000" y="25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224760" y="3076560"/>
            <a:ext cx="576000" cy="66852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668520"/>
              <a:gd name="textAreaBottom" fmla="*/ 640440 h 668520"/>
            </a:gdLst>
            <a:ahLst/>
            <a:rect l="textAreaLeft" t="textAreaTop" r="textAreaRight" b="textAreaBottom"/>
            <a:pathLst>
              <a:path w="21600" h="25067">
                <a:moveTo>
                  <a:pt x="3600" y="0"/>
                </a:moveTo>
                <a:arcTo wR="3600" hR="3600" stAng="16200000" swAng="-5400000"/>
                <a:lnTo>
                  <a:pt x="0" y="21467"/>
                </a:lnTo>
                <a:arcTo wR="3600" hR="3600" stAng="10800000" swAng="-5400000"/>
                <a:lnTo>
                  <a:pt x="18000" y="25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380360" y="3076560"/>
            <a:ext cx="576360" cy="6685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668520"/>
              <a:gd name="textAreaBottom" fmla="*/ 640440 h 668520"/>
            </a:gdLst>
            <a:ahLst/>
            <a:rect l="textAreaLeft" t="textAreaTop" r="textAreaRight" b="textAreaBottom"/>
            <a:pathLst>
              <a:path w="21600" h="25052">
                <a:moveTo>
                  <a:pt x="3600" y="0"/>
                </a:moveTo>
                <a:arcTo wR="3600" hR="3600" stAng="16200000" swAng="-5400000"/>
                <a:lnTo>
                  <a:pt x="0" y="21452"/>
                </a:lnTo>
                <a:arcTo wR="3600" hR="3600" stAng="10800000" swAng="-5400000"/>
                <a:lnTo>
                  <a:pt x="18000" y="25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3000" spc="-1" strike="noStrike">
                <a:solidFill>
                  <a:srgbClr val="000066"/>
                </a:solidFill>
                <a:latin typeface="Arial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endCxn id="193" idx="0"/>
          </p:cNvCxnSpPr>
          <p:nvPr/>
        </p:nvCxnSpPr>
        <p:spPr>
          <a:xfrm flipV="1" rot="10800000">
            <a:off x="2983680" y="2239560"/>
            <a:ext cx="2372400" cy="837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/>
          <p:nvPr/>
        </p:nvCxnSpPr>
        <p:spPr>
          <a:xfrm rot="5400000">
            <a:off x="4172040" y="1883160"/>
            <a:ext cx="1212120" cy="113436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endCxn id="197" idx="0"/>
          </p:cNvCxnSpPr>
          <p:nvPr/>
        </p:nvCxnSpPr>
        <p:spPr>
          <a:xfrm>
            <a:off x="5355720" y="2239920"/>
            <a:ext cx="2313720" cy="837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92" idx="2"/>
            <a:endCxn id="195" idx="0"/>
          </p:cNvCxnSpPr>
          <p:nvPr/>
        </p:nvCxnSpPr>
        <p:spPr>
          <a:xfrm flipH="1" rot="16200000">
            <a:off x="4741560" y="2459880"/>
            <a:ext cx="1213560" cy="23040"/>
          </a:xfrm>
          <a:prstGeom prst="bentConnector3">
            <a:avLst>
              <a:gd name="adj1" fmla="val 498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3913200" y="4148280"/>
            <a:ext cx="2886120" cy="66816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КОСГУ 1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93880" y="4148280"/>
            <a:ext cx="577800" cy="668160"/>
          </a:xfrm>
          <a:custGeom>
            <a:avLst/>
            <a:gdLst>
              <a:gd name="textAreaLeft" fmla="*/ 28080 w 577800"/>
              <a:gd name="textAreaRight" fmla="*/ 549720 w 577800"/>
              <a:gd name="textAreaTop" fmla="*/ 28080 h 668160"/>
              <a:gd name="textAreaBottom" fmla="*/ 640080 h 668160"/>
            </a:gdLst>
            <a:ahLst/>
            <a:rect l="textAreaLeft" t="textAreaTop" r="textAreaRight" b="textAreaBottom"/>
            <a:pathLst>
              <a:path w="21600" h="24976">
                <a:moveTo>
                  <a:pt x="3600" y="0"/>
                </a:moveTo>
                <a:arcTo wR="3600" hR="3600" stAng="16200000" swAng="-5400000"/>
                <a:lnTo>
                  <a:pt x="0" y="21376"/>
                </a:lnTo>
                <a:arcTo wR="3600" hR="3600" stAng="10800000" swAng="-5400000"/>
                <a:lnTo>
                  <a:pt x="18000" y="249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78560" y="4149720"/>
            <a:ext cx="578160" cy="668520"/>
          </a:xfrm>
          <a:custGeom>
            <a:avLst/>
            <a:gdLst>
              <a:gd name="textAreaLeft" fmla="*/ 28080 w 578160"/>
              <a:gd name="textAreaRight" fmla="*/ 550080 w 578160"/>
              <a:gd name="textAreaTop" fmla="*/ 28080 h 668520"/>
              <a:gd name="textAreaBottom" fmla="*/ 640440 h 668520"/>
            </a:gdLst>
            <a:ahLst/>
            <a:rect l="textAreaLeft" t="textAreaTop" r="textAreaRight" b="textAreaBottom"/>
            <a:pathLst>
              <a:path w="21600" h="24974">
                <a:moveTo>
                  <a:pt x="3600" y="0"/>
                </a:moveTo>
                <a:arcTo wR="3600" hR="3600" stAng="16200000" swAng="-5400000"/>
                <a:lnTo>
                  <a:pt x="0" y="21374"/>
                </a:lnTo>
                <a:arcTo wR="3600" hR="3600" stAng="10800000" swAng="-5400000"/>
                <a:lnTo>
                  <a:pt x="18000" y="249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93880" y="5351400"/>
            <a:ext cx="576360" cy="6685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668520"/>
              <a:gd name="textAreaBottom" fmla="*/ 640440 h 668520"/>
            </a:gdLst>
            <a:ahLst/>
            <a:rect l="textAreaLeft" t="textAreaTop" r="textAreaRight" b="textAreaBottom"/>
            <a:pathLst>
              <a:path w="21600" h="25052">
                <a:moveTo>
                  <a:pt x="3600" y="0"/>
                </a:moveTo>
                <a:arcTo wR="3600" hR="3600" stAng="16200000" swAng="-5400000"/>
                <a:lnTo>
                  <a:pt x="0" y="21452"/>
                </a:lnTo>
                <a:arcTo wR="3600" hR="3600" stAng="10800000" swAng="-5400000"/>
                <a:lnTo>
                  <a:pt x="18000" y="25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11760" y="5351400"/>
            <a:ext cx="576000" cy="66852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668520"/>
              <a:gd name="textAreaBottom" fmla="*/ 640440 h 668520"/>
            </a:gdLst>
            <a:ahLst/>
            <a:rect l="textAreaLeft" t="textAreaTop" r="textAreaRight" b="textAreaBottom"/>
            <a:pathLst>
              <a:path w="21600" h="25067">
                <a:moveTo>
                  <a:pt x="3600" y="0"/>
                </a:moveTo>
                <a:arcTo wR="3600" hR="3600" stAng="16200000" swAng="-5400000"/>
                <a:lnTo>
                  <a:pt x="0" y="21467"/>
                </a:lnTo>
                <a:arcTo wR="3600" hR="3600" stAng="10800000" swAng="-5400000"/>
                <a:lnTo>
                  <a:pt x="18000" y="25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067360" y="5353200"/>
            <a:ext cx="576360" cy="66816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668160"/>
              <a:gd name="textAreaBottom" fmla="*/ 640080 h 668160"/>
            </a:gdLst>
            <a:ahLst/>
            <a:rect l="textAreaLeft" t="textAreaTop" r="textAreaRight" b="textAreaBottom"/>
            <a:pathLst>
              <a:path w="21600" h="25038">
                <a:moveTo>
                  <a:pt x="3600" y="0"/>
                </a:moveTo>
                <a:arcTo wR="3600" hR="3600" stAng="16200000" swAng="-5400000"/>
                <a:lnTo>
                  <a:pt x="0" y="21438"/>
                </a:lnTo>
                <a:arcTo wR="3600" hR="3600" stAng="10800000" swAng="-5400000"/>
                <a:lnTo>
                  <a:pt x="18000" y="250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221520" y="5351400"/>
            <a:ext cx="576000" cy="66852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668520"/>
              <a:gd name="textAreaBottom" fmla="*/ 640440 h 668520"/>
            </a:gdLst>
            <a:ahLst/>
            <a:rect l="textAreaLeft" t="textAreaTop" r="textAreaRight" b="textAreaBottom"/>
            <a:pathLst>
              <a:path w="21600" h="25067">
                <a:moveTo>
                  <a:pt x="3600" y="0"/>
                </a:moveTo>
                <a:arcTo wR="3600" hR="3600" stAng="16200000" swAng="-5400000"/>
                <a:lnTo>
                  <a:pt x="0" y="21467"/>
                </a:lnTo>
                <a:arcTo wR="3600" hR="3600" stAng="10800000" swAng="-5400000"/>
                <a:lnTo>
                  <a:pt x="18000" y="250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77120" y="5351400"/>
            <a:ext cx="576360" cy="668520"/>
          </a:xfrm>
          <a:custGeom>
            <a:avLst/>
            <a:gdLst>
              <a:gd name="textAreaLeft" fmla="*/ 28080 w 576360"/>
              <a:gd name="textAreaRight" fmla="*/ 548280 w 576360"/>
              <a:gd name="textAreaTop" fmla="*/ 28080 h 668520"/>
              <a:gd name="textAreaBottom" fmla="*/ 640440 h 668520"/>
            </a:gdLst>
            <a:ahLst/>
            <a:rect l="textAreaLeft" t="textAreaTop" r="textAreaRight" b="textAreaBottom"/>
            <a:pathLst>
              <a:path w="21600" h="25052">
                <a:moveTo>
                  <a:pt x="3600" y="0"/>
                </a:moveTo>
                <a:arcTo wR="3600" hR="3600" stAng="16200000" swAng="-5400000"/>
                <a:lnTo>
                  <a:pt x="0" y="21452"/>
                </a:lnTo>
                <a:arcTo wR="3600" hR="3600" stAng="10800000" swAng="-5400000"/>
                <a:lnTo>
                  <a:pt x="18000" y="25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0440" y="4235400"/>
            <a:ext cx="1329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Arial"/>
              </a:rPr>
              <a:t>Доход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" y="5457960"/>
            <a:ext cx="14601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i="1" lang="en-US" sz="2300" spc="-1" strike="noStrike">
                <a:solidFill>
                  <a:srgbClr val="000066"/>
                </a:solidFill>
                <a:latin typeface="Arial"/>
              </a:rPr>
              <a:t>Расходы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92" idx="2"/>
          </p:cNvCxnSpPr>
          <p:nvPr/>
        </p:nvCxnSpPr>
        <p:spPr>
          <a:xfrm flipH="1" rot="16200000">
            <a:off x="5315400" y="1885680"/>
            <a:ext cx="1191600" cy="1150200"/>
          </a:xfrm>
          <a:prstGeom prst="bentConnector3">
            <a:avLst>
              <a:gd name="adj1" fmla="val 498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Text Box 5"/>
          <p:cNvSpPr/>
          <p:nvPr/>
        </p:nvSpPr>
        <p:spPr>
          <a:xfrm>
            <a:off x="154764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применения бюджетной класс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1170000" cy="10936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4788000" y="2852640"/>
            <a:ext cx="2232000" cy="1081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336600" y="2511360"/>
          <a:ext cx="8534520" cy="2524320"/>
        </p:xfrm>
        <a:graphic>
          <a:graphicData uri="http://schemas.openxmlformats.org/drawingml/2006/table">
            <a:tbl>
              <a:tblPr/>
              <a:tblGrid>
                <a:gridCol w="2462040"/>
                <a:gridCol w="3227400"/>
                <a:gridCol w="2845080"/>
              </a:tblGrid>
              <a:tr h="81468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б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еди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 gridSpan="3"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66"/>
                          </a:solidFill>
                          <a:latin typeface="Calibri"/>
                        </a:rPr>
                        <a:t>Принятие к учету влож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6320">
                <a:tc>
                  <a:txBody>
                    <a:bodyPr lIns="82800" rIns="82800" tIns="41400" bIns="41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рганом-учредител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24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?????????????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04 33 5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1" lang="en-US" sz="24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??????????????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63720"/>
                          <a:tab algn="l" pos="1927080"/>
                          <a:tab algn="l" pos="2890800"/>
                          <a:tab algn="l" pos="3854520"/>
                          <a:tab algn="l" pos="4818240"/>
                          <a:tab algn="l" pos="5781600"/>
                          <a:tab algn="l" pos="6745320"/>
                          <a:tab algn="l" pos="7709040"/>
                          <a:tab algn="l" pos="8672400"/>
                          <a:tab algn="l" pos="9636120"/>
                          <a:tab algn="l" pos="1059984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 401 10 1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82800" marR="82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6111720" y="3651120"/>
            <a:ext cx="2695680" cy="534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62440" y="1287360"/>
            <a:ext cx="2889360" cy="1158840"/>
          </a:xfrm>
          <a:prstGeom prst="wedgeRoundRectCallout">
            <a:avLst>
              <a:gd name="adj1" fmla="val -24189"/>
              <a:gd name="adj2" fmla="val 152166"/>
              <a:gd name="adj3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Д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ххх 1 14 00000 00 0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ххх 1 11 09000 00 0000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97080" y="3651120"/>
            <a:ext cx="2694240" cy="534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25600" y="1287360"/>
            <a:ext cx="2759040" cy="1138320"/>
          </a:xfrm>
          <a:prstGeom prst="wedgeRoundRectCallout">
            <a:avLst>
              <a:gd name="adj1" fmla="val -13712"/>
              <a:gd name="adj2" fmla="val 154018"/>
              <a:gd name="adj3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Р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ххх </a:t>
            </a: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zzzz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0000000 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854680" y="1757520"/>
            <a:ext cx="25686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54764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тдельные вопросы применения бюджетной классифик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028000" y="5589720"/>
            <a:ext cx="954000" cy="8920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101080" y="1268280"/>
            <a:ext cx="43164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4983120" y="4971960"/>
            <a:ext cx="1244160" cy="1194120"/>
            <a:chOff x="4983120" y="4971960"/>
            <a:chExt cx="1244160" cy="119412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4983120" y="4971960"/>
              <a:ext cx="12056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983120" y="5884920"/>
              <a:ext cx="12441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ПБС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7807320" y="4971960"/>
            <a:ext cx="1242720" cy="1194120"/>
            <a:chOff x="7807320" y="4971960"/>
            <a:chExt cx="1242720" cy="119412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7807320" y="4971960"/>
              <a:ext cx="120420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07320" y="5884920"/>
              <a:ext cx="124272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АДБ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08000" y="1779480"/>
            <a:ext cx="1242720" cy="1225080"/>
            <a:chOff x="108000" y="1779480"/>
            <a:chExt cx="1242720" cy="1225080"/>
          </a:xfrm>
        </p:grpSpPr>
        <p:pic>
          <p:nvPicPr>
            <p:cNvPr id="232" name="" descr=""/>
            <p:cNvPicPr/>
            <p:nvPr/>
          </p:nvPicPr>
          <p:blipFill>
            <a:blip r:embed="rId3"/>
            <a:stretch/>
          </p:blipFill>
          <p:spPr>
            <a:xfrm>
              <a:off x="108000" y="1779480"/>
              <a:ext cx="1204200" cy="9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08000" y="2693160"/>
              <a:ext cx="12427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938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ГРБС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34" name=""/>
          <p:cNvCxnSpPr>
            <a:stCxn id="235" idx="1"/>
          </p:cNvCxnSpPr>
          <p:nvPr/>
        </p:nvCxnSpPr>
        <p:spPr>
          <a:xfrm rot="10800000">
            <a:off x="1301040" y="2247120"/>
            <a:ext cx="2664360" cy="18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236" name=""/>
          <p:cNvGrpSpPr/>
          <p:nvPr/>
        </p:nvGrpSpPr>
        <p:grpSpPr>
          <a:xfrm>
            <a:off x="3965400" y="1814400"/>
            <a:ext cx="1242720" cy="1194120"/>
            <a:chOff x="3965400" y="1814400"/>
            <a:chExt cx="1242720" cy="1194120"/>
          </a:xfrm>
        </p:grpSpPr>
        <p:pic>
          <p:nvPicPr>
            <p:cNvPr id="237" name="" descr=""/>
            <p:cNvPicPr/>
            <p:nvPr/>
          </p:nvPicPr>
          <p:blipFill>
            <a:blip r:embed="rId4"/>
            <a:stretch/>
          </p:blipFill>
          <p:spPr>
            <a:xfrm>
              <a:off x="3965400" y="1814400"/>
              <a:ext cx="120420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3965400" y="2727360"/>
              <a:ext cx="124272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ТОФК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774800" y="1265400"/>
            <a:ext cx="231156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 marL="311040" indent="-311040">
              <a:buClr>
                <a:srgbClr val="000000"/>
              </a:buClr>
              <a:buFont typeface="Arial"/>
              <a:buAutoNum type="arabicPeriod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Полномочия п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cc0000"/>
                </a:solidFill>
                <a:latin typeface="Arial"/>
              </a:rPr>
              <a:t>предоставлению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МБ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. ЛБ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550280" y="1779480"/>
            <a:ext cx="1242360" cy="1391400"/>
            <a:chOff x="7550280" y="1779480"/>
            <a:chExt cx="1242360" cy="1391400"/>
          </a:xfrm>
        </p:grpSpPr>
        <p:pic>
          <p:nvPicPr>
            <p:cNvPr id="241" name="" descr=""/>
            <p:cNvPicPr/>
            <p:nvPr/>
          </p:nvPicPr>
          <p:blipFill>
            <a:blip r:embed="rId5"/>
            <a:stretch/>
          </p:blipFill>
          <p:spPr>
            <a:xfrm>
              <a:off x="7550280" y="1779480"/>
              <a:ext cx="1203840" cy="90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550280" y="2691720"/>
              <a:ext cx="124236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Финансовый орган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43" name=""/>
          <p:cNvCxnSpPr>
            <a:stCxn id="241" idx="1"/>
            <a:endCxn id="237" idx="3"/>
          </p:cNvCxnSpPr>
          <p:nvPr/>
        </p:nvCxnSpPr>
        <p:spPr>
          <a:xfrm flipV="1" rot="10800000">
            <a:off x="5169600" y="2229480"/>
            <a:ext cx="2380680" cy="35640"/>
          </a:xfrm>
          <a:prstGeom prst="bentConnector3">
            <a:avLst>
              <a:gd name="adj1" fmla="val 5003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247720" y="1646280"/>
            <a:ext cx="2457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. Уведомление 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наличии ЛБ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26" idx="0"/>
            <a:endCxn id="238" idx="2"/>
          </p:cNvCxnSpPr>
          <p:nvPr/>
        </p:nvCxnSpPr>
        <p:spPr>
          <a:xfrm flipV="1" rot="16200000">
            <a:off x="4105080" y="3490200"/>
            <a:ext cx="1964520" cy="999000"/>
          </a:xfrm>
          <a:prstGeom prst="bentConnector3">
            <a:avLst>
              <a:gd name="adj1" fmla="val 5003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4475520" y="3645000"/>
            <a:ext cx="1362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. ЗК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"/>
          <p:cNvCxnSpPr>
            <a:stCxn id="229" idx="1"/>
            <a:endCxn id="238" idx="3"/>
          </p:cNvCxnSpPr>
          <p:nvPr/>
        </p:nvCxnSpPr>
        <p:spPr>
          <a:xfrm rot="10800000">
            <a:off x="5207760" y="2867760"/>
            <a:ext cx="2599560" cy="255528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6401880" y="3968640"/>
            <a:ext cx="253044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.1 Перечислен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средст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 доход бюдже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81720" y="4184640"/>
            <a:ext cx="2048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.2 Кассова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выпла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2546280" y="4838760"/>
            <a:ext cx="770040" cy="803160"/>
          </a:xfrm>
          <a:prstGeom prst="rect">
            <a:avLst/>
          </a:prstGeom>
          <a:ln w="0">
            <a:noFill/>
          </a:ln>
        </p:spPr>
      </p:pic>
      <p:cxnSp>
        <p:nvCxnSpPr>
          <p:cNvPr id="251" name=""/>
          <p:cNvCxnSpPr>
            <a:stCxn id="250" idx="3"/>
            <a:endCxn id="238" idx="1"/>
          </p:cNvCxnSpPr>
          <p:nvPr/>
        </p:nvCxnSpPr>
        <p:spPr>
          <a:xfrm flipV="1">
            <a:off x="3315960" y="2868120"/>
            <a:ext cx="649800" cy="2372400"/>
          </a:xfrm>
          <a:prstGeom prst="bentConnector3">
            <a:avLst>
              <a:gd name="adj1" fmla="val 49833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1492560" y="2247840"/>
            <a:ext cx="2074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. Документ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7"/>
          <a:stretch/>
        </p:blipFill>
        <p:spPr>
          <a:xfrm>
            <a:off x="492120" y="4881600"/>
            <a:ext cx="577800" cy="693720"/>
          </a:xfrm>
          <a:prstGeom prst="rect">
            <a:avLst/>
          </a:prstGeom>
          <a:ln w="0">
            <a:noFill/>
          </a:ln>
        </p:spPr>
      </p:pic>
      <p:cxnSp>
        <p:nvCxnSpPr>
          <p:cNvPr id="254" name=""/>
          <p:cNvCxnSpPr>
            <a:stCxn id="253" idx="0"/>
            <a:endCxn id="233" idx="2"/>
          </p:cNvCxnSpPr>
          <p:nvPr/>
        </p:nvCxnSpPr>
        <p:spPr>
          <a:xfrm flipV="1" rot="16200000">
            <a:off x="-182880" y="3917160"/>
            <a:ext cx="1877040" cy="518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55" name=""/>
          <p:cNvSpPr/>
          <p:nvPr/>
        </p:nvSpPr>
        <p:spPr>
          <a:xfrm>
            <a:off x="436680" y="3251160"/>
            <a:ext cx="200304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t">
            <a:spAutoFit/>
          </a:bodyPr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7. Учет 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1040" indent="-311040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en-US" sz="1700" spc="-1" strike="noStrike">
                <a:solidFill>
                  <a:srgbClr val="cc0000"/>
                </a:solidFill>
                <a:latin typeface="Arial"/>
              </a:rPr>
              <a:t>отчет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ри  передаче полномоч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о представлению МБ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1403280" y="33336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вопро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" y="1644480"/>
            <a:ext cx="8370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Итог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формирования и представления годовой бюджетной (бухгалтерской) отчетности за 2013 г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Отдельные вопрос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ведения учета и формирования отчетности, применения бюджетной классифик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Подготовка к формированию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и представлению годовой бюджетной отчетности за 2014 г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Основные аспект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разработки и внедрения новой учетной модели Федерального казначейства в рамках реформирования системы бюджетных платеж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Межбюджетные трансферты из федерального бюдже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611280" y="1125360"/>
            <a:ext cx="813744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Реорганизация Минрегиона России (глава 309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ка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зидента Российской Федер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 08.09.2014 № 6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Об упразднении Министерства региональ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тия Российской Федерац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27640" y="393372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34600" y="5348160"/>
            <a:ext cx="667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9"/>
                </a:solidFill>
                <a:latin typeface="Arial"/>
              </a:rPr>
              <a:t>Передача операций с межбюджетными трансферт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9"/>
                </a:solidFill>
                <a:latin typeface="Arial"/>
              </a:rPr>
              <a:t>(Минфин, Минстрой и ЖК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Бюджетный учет невыясненных поступл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250920" y="1197000"/>
          <a:ext cx="8642160" cy="5064120"/>
        </p:xfrm>
        <a:graphic>
          <a:graphicData uri="http://schemas.openxmlformats.org/drawingml/2006/table">
            <a:tbl>
              <a:tblPr/>
              <a:tblGrid>
                <a:gridCol w="1873080"/>
                <a:gridCol w="1727280"/>
                <a:gridCol w="1657440"/>
                <a:gridCol w="1657080"/>
                <a:gridCol w="172728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й орг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министратор невыясненных поступ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ление НВС (год 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100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202 11 5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402 10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210 02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205 81 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еличение зс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еличение зс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тический признак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 возникновения: 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тический признак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 возникновения: 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5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ие НВС (год Х + 1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6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402 10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402 хх хх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205 81 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210 02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ньшение зс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ньшение зс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тический признак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 возникновения: 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тический признак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 возникновения: 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Бюджетный учет невыясненных поступл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50920" y="1197000"/>
          <a:ext cx="8642160" cy="5237280"/>
        </p:xfrm>
        <a:graphic>
          <a:graphicData uri="http://schemas.openxmlformats.org/drawingml/2006/table">
            <a:tbl>
              <a:tblPr/>
              <a:tblGrid>
                <a:gridCol w="1873080"/>
                <a:gridCol w="1727280"/>
                <a:gridCol w="1657440"/>
                <a:gridCol w="1657080"/>
                <a:gridCol w="1727280"/>
              </a:tblGrid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держание опер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й орг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дминистратор невыясненных поступ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точнение НВС (год Х +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8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402 10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402 хх хх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205 81 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210 02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ньшение зс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ньшение зс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тический признак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 возникновения: 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тический признак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 возникновения: 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ление  НВС от другого ТОФК (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событие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 год Х + 1, </a:t>
                      </a:r>
                      <a:r>
                        <a:rPr b="1" i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год возникновения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Х - 1), </a:t>
                      </a:r>
                      <a:r>
                        <a:rPr b="1" i="1" lang="en-US" sz="2000" spc="-1" strike="noStrike">
                          <a:solidFill>
                            <a:srgbClr val="e40059"/>
                          </a:solidFill>
                          <a:latin typeface="Calibri"/>
                        </a:rPr>
                        <a:t>30,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211 01 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402 10 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304 04 5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Arial"/>
                          <a:ea typeface="Arial"/>
                        </a:rPr>
                        <a:t>1 205 81 6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еличение зс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еличение зс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тический признак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 возникновения: (Х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тический признак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 возникновения: (Х-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Бюджетный учет невыясненных поступл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64000" y="126828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72360" y="1268280"/>
            <a:ext cx="0" cy="511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0920" y="1628640"/>
            <a:ext cx="8642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41920" y="1144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890720" y="11253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 -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305120" y="11253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87280" y="119700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328464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515772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6200000">
            <a:off x="88200" y="215460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6200000">
            <a:off x="162000" y="557208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та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8280" y="401760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ро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063320" y="3475080"/>
            <a:ext cx="21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зс19 (Х) =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50080" y="347508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зс19 (Х) = 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850080" y="390852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зс19 (Х) =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64600" y="4340160"/>
            <a:ext cx="213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9"/>
                </a:solidFill>
                <a:latin typeface="Arial"/>
              </a:rPr>
              <a:t>+ зс19 (Х-1) =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00720" y="5635800"/>
            <a:ext cx="10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 =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118280" y="2244600"/>
            <a:ext cx="12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 =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62640" y="5348160"/>
            <a:ext cx="1149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9"/>
                </a:solidFill>
                <a:latin typeface="Arial"/>
              </a:rPr>
              <a:t>Х-1 =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 =  8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56000" y="188424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 – 1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00720" y="53481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 – 1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18921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40059"/>
                </a:solidFill>
                <a:latin typeface="Arial"/>
              </a:rPr>
              <a:t>Х – 1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беспечение исполнения функции ведения учета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и формирования отчетности ТОФК и финансовыми орган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324000" y="1125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Мероприятия в 2014-2015 гг. по обеспечению формирования и представления годовой бюджетной отчетности за 20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2640" y="1557360"/>
            <a:ext cx="79815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Установление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сроков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представления отчет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доведение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особенностей формирования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и предст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годовой бюджетной отчетности за 2014 г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азработка/доработка и утверждение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формат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электронного обмена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при представлении отчетности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едеральное казначей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азработка/доработка и утверждение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контро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соотношений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для показателей отчетности представляе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в Федеральное казначейство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проведение дополнительной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видеоконференци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 по вопрос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ормирования и представления отчетности за 2014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8604360" y="6056280"/>
            <a:ext cx="53964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5"/>
          <p:cNvSpPr/>
          <p:nvPr/>
        </p:nvSpPr>
        <p:spPr>
          <a:xfrm>
            <a:off x="1547640" y="11592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3 – 2014 гг. – представление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4000" y="1268280"/>
            <a:ext cx="860400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проект Приказа Минфина России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«О дополнительной бюджетной отчетности представляемой главными распорядителями средств федерального бюджета, финансовыми органами субъектов Российской Федерации, органами управления государственными внебюджетными фондами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40360" y="4869000"/>
            <a:ext cx="792000" cy="1081080"/>
          </a:xfrm>
          <a:prstGeom prst="downArrow">
            <a:avLst>
              <a:gd name="adj1" fmla="val 50000"/>
              <a:gd name="adj2" fmla="val 34125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324000" y="60148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Справка ф. 0503125 по счетам 1 401 10 151, 1 401 20 251 на 01.10.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едставление бюджетной (бухгалтерской) отчетности за 2014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Сроки представления отчет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1080" y="1542960"/>
            <a:ext cx="87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нансовые органы, органы управления ГВБФ, ГРБС Ф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50920" y="2119320"/>
          <a:ext cx="8642160" cy="188604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8720"/>
                <a:gridCol w="1728720"/>
                <a:gridCol w="17272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0" name=""/>
          <p:cNvSpPr/>
          <p:nvPr/>
        </p:nvSpPr>
        <p:spPr>
          <a:xfrm>
            <a:off x="7524720" y="3487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9280" y="4149720"/>
            <a:ext cx="87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рриториальные органы Федерального казначей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250920" y="4581360"/>
          <a:ext cx="8642160" cy="188604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8720"/>
                <a:gridCol w="1728720"/>
                <a:gridCol w="17272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едставление бюджетной (бухгалтерской) отчетности за 2014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Сроки представления отчет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1080" y="154296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нансовые органы, органы управления ГВБФ, ГРБС Ф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(в части Справки ф. 0503125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50920" y="2479680"/>
          <a:ext cx="8642160" cy="1886040"/>
        </p:xfrm>
        <a:graphic>
          <a:graphicData uri="http://schemas.openxmlformats.org/drawingml/2006/table">
            <a:tbl>
              <a:tblPr/>
              <a:tblGrid>
                <a:gridCol w="1728720"/>
                <a:gridCol w="1728720"/>
                <a:gridCol w="1728720"/>
                <a:gridCol w="1728720"/>
                <a:gridCol w="172728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е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02.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02.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99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Представление бюджетной (бухгалтерской) отчетности за 2014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611280" y="1125360"/>
            <a:ext cx="81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рядок представления годовой бюджетной отчетности финансовыми органами Республики Крым и г. Севастополь за 2014 г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1080" y="2205000"/>
            <a:ext cx="87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рок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с </a:t>
            </a: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18.03.20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 </a:t>
            </a: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24.03.20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015 года. В части Справки по консолидируемым расчетам (ф. 0503125) в срок до </a:t>
            </a: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20.02.201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2852640"/>
            <a:ext cx="871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Состав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лан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чет о финансовых результатах 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чет об исполнении бюдже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1080" y="5445000"/>
            <a:ext cx="87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рядок представления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формат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el c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ледующим направлением на бумажном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сителе с сопроводительным письмом в МОУ Ф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9280" y="4292640"/>
            <a:ext cx="871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Порядок составления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 соответствии с законодательством действующим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ходный пери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5"/>
          <p:cNvSpPr/>
          <p:nvPr/>
        </p:nvSpPr>
        <p:spPr>
          <a:xfrm>
            <a:off x="1547640" y="44280"/>
            <a:ext cx="671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о кассовому обслуживанию бюджетов бюджетной системы и кассовому исполнению федерального бюджета ТО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редставление бюджетной отчетности ТОФ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7200" y="1773360"/>
            <a:ext cx="8608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Приказ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Федерального казначейства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от 11.08.2014 № 1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О сроках представления годовой бюджетной отчетности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ассовому обслуживанию исполнения бюджетов бюдже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истемы Российской Федерации …………  за 2014 год……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проек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Приказа Федерального казначейства «Об утвержд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собенностей формирования бюджетной отчетности по кассово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сполнению федерального бюдже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ассовому обслуживанию исполнения бюджетов бюджет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истемы Российской Федерации…………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птимизация процедур формирования и предст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оперативной отче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547640" y="115920"/>
            <a:ext cx="671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3 – 2014 гг. – Отчет об исполнении консолидированного бюджета 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1359000"/>
            <a:ext cx="4103640" cy="300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39607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5796000" y="2565360"/>
            <a:ext cx="485640" cy="1224000"/>
          </a:xfrm>
          <a:prstGeom prst="upDownArrow">
            <a:avLst>
              <a:gd name="adj1" fmla="val 50000"/>
              <a:gd name="adj2" fmla="val 50174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1547640" y="44280"/>
            <a:ext cx="671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 и отчетность по кассовому обслуживанию бюджетов бюджетной системы и кассовому исполнению федерального бюджета ТОФ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611280" y="112536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Оптимизация процедур формирования оперативной отчет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96" descr="j0433892[1]"/>
          <p:cNvPicPr/>
          <p:nvPr/>
        </p:nvPicPr>
        <p:blipFill>
          <a:blip r:embed="rId1"/>
          <a:stretch/>
        </p:blipFill>
        <p:spPr>
          <a:xfrm>
            <a:off x="7308720" y="1557360"/>
            <a:ext cx="989280" cy="12240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7168320" y="278136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СФК( О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96" descr="j0433892[1]"/>
          <p:cNvPicPr/>
          <p:nvPr/>
        </p:nvPicPr>
        <p:blipFill>
          <a:blip r:embed="rId2"/>
          <a:stretch/>
        </p:blipFill>
        <p:spPr>
          <a:xfrm>
            <a:off x="7308720" y="3284640"/>
            <a:ext cx="989280" cy="1224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7174080" y="4532400"/>
            <a:ext cx="121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СФК (З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50920" y="3538440"/>
            <a:ext cx="1080720" cy="1185840"/>
            <a:chOff x="250920" y="3538440"/>
            <a:chExt cx="1080720" cy="1185840"/>
          </a:xfrm>
        </p:grpSpPr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250920" y="3538440"/>
              <a:ext cx="1047240" cy="89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50920" y="4443120"/>
              <a:ext cx="108072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800" rIns="82800" tIns="41400" bIns="41400" anchor="t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ТОФК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987640" y="2205000"/>
            <a:ext cx="1800360" cy="57636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ператив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тчет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987640" y="4005360"/>
            <a:ext cx="1800360" cy="57600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лавная кни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24" idx="3"/>
            <a:endCxn id="326" idx="1"/>
          </p:cNvCxnSpPr>
          <p:nvPr/>
        </p:nvCxnSpPr>
        <p:spPr>
          <a:xfrm flipV="1">
            <a:off x="1298520" y="2493360"/>
            <a:ext cx="1689840" cy="149292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4" idx="3"/>
            <a:endCxn id="327" idx="1"/>
          </p:cNvCxnSpPr>
          <p:nvPr/>
        </p:nvCxnSpPr>
        <p:spPr>
          <a:xfrm>
            <a:off x="1298520" y="3985920"/>
            <a:ext cx="1689840" cy="30852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26" idx="3"/>
            <a:endCxn id="319" idx="1"/>
          </p:cNvCxnSpPr>
          <p:nvPr/>
        </p:nvCxnSpPr>
        <p:spPr>
          <a:xfrm flipV="1">
            <a:off x="4788000" y="2169720"/>
            <a:ext cx="2521440" cy="32472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1" name=""/>
          <p:cNvCxnSpPr>
            <a:stCxn id="327" idx="3"/>
            <a:endCxn id="321" idx="1"/>
          </p:cNvCxnSpPr>
          <p:nvPr/>
        </p:nvCxnSpPr>
        <p:spPr>
          <a:xfrm flipV="1">
            <a:off x="4788000" y="3897000"/>
            <a:ext cx="2521440" cy="39744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2" name=""/>
          <p:cNvSpPr/>
          <p:nvPr/>
        </p:nvSpPr>
        <p:spPr>
          <a:xfrm>
            <a:off x="2987640" y="5589720"/>
            <a:ext cx="1800360" cy="57600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акеты КП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96" descr="j0433892[1]"/>
          <p:cNvPicPr/>
          <p:nvPr/>
        </p:nvPicPr>
        <p:blipFill>
          <a:blip r:embed="rId4"/>
          <a:stretch/>
        </p:blipFill>
        <p:spPr>
          <a:xfrm>
            <a:off x="7308720" y="4964040"/>
            <a:ext cx="989280" cy="12240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7575480" y="618804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П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5" name=""/>
          <p:cNvCxnSpPr>
            <a:stCxn id="324" idx="3"/>
            <a:endCxn id="332" idx="1"/>
          </p:cNvCxnSpPr>
          <p:nvPr/>
        </p:nvCxnSpPr>
        <p:spPr>
          <a:xfrm>
            <a:off x="1298520" y="3986280"/>
            <a:ext cx="1689840" cy="18928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6" name=""/>
          <p:cNvCxnSpPr>
            <a:stCxn id="332" idx="3"/>
            <a:endCxn id="333" idx="1"/>
          </p:cNvCxnSpPr>
          <p:nvPr/>
        </p:nvCxnSpPr>
        <p:spPr>
          <a:xfrm flipV="1">
            <a:off x="4788000" y="5576400"/>
            <a:ext cx="2521440" cy="302400"/>
          </a:xfrm>
          <a:prstGeom prst="bentConnector3">
            <a:avLst>
              <a:gd name="adj1" fmla="val 499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>
            <a:off x="5724360" y="2924280"/>
            <a:ext cx="57636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ная модель Федерального казначейства в рам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еализации концепции реформирования бюджетных плате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78000" y="1644480"/>
            <a:ext cx="83707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иказ Минфина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Arial"/>
              </a:rPr>
              <a:t>от 29 августа 2013 г. № 227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«Об утверждении концепции реформирования системы бюджетных платежей на период до 2017 год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ная модель Федерального казначейства в рам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еализации концепции реформирования бюджетных плате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Охват операц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1600" y="1916280"/>
            <a:ext cx="27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ассовое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бюдж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215040" y="1844640"/>
            <a:ext cx="2817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ссовое обслу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еучас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юджетного проце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10880" y="5229360"/>
            <a:ext cx="283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ассовое ис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федерального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214680" y="5373720"/>
            <a:ext cx="26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99ff"/>
                </a:solidFill>
                <a:latin typeface="Arial"/>
              </a:rPr>
              <a:t>«Активные» оп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99ff"/>
                </a:solidFill>
                <a:latin typeface="Arial"/>
              </a:rPr>
              <a:t>???????????????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782520" y="4005360"/>
            <a:ext cx="155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Федераль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казначей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rot="12800400">
            <a:off x="2843280" y="24202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19064400">
            <a:off x="5219640" y="2420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rot="8506200">
            <a:off x="2700360" y="47239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2324400">
            <a:off x="543564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ная модель Федерального казначейства в рам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еализации концепции реформирования бюджетных плате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Объекты уче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78000" y="1644480"/>
            <a:ext cx="8370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Финансовые акти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средства бюджетов, средства неучастников бюджетного процесса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Обязатель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расчеты по средствам клиентов, расчеты по НВП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000" spc="-1" strike="noStrike" u="sng">
                <a:solidFill>
                  <a:srgbClr val="000066"/>
                </a:solidFill>
                <a:uFillTx/>
                <a:latin typeface="Arial"/>
              </a:rPr>
              <a:t>Финансовый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финансовый результата деятельнос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Санкционирование расх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ассигнования, ЛБО,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язательств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66"/>
                </a:solidFill>
                <a:latin typeface="Arial"/>
              </a:rPr>
              <a:t>Забалансовые с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Номер слайда 3"/>
          <p:cNvSpPr/>
          <p:nvPr/>
        </p:nvSpPr>
        <p:spPr>
          <a:xfrm>
            <a:off x="8861400" y="659124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185C-D68E-4BC3-91AD-72F8B599F443}" type="slidenum">
              <a:rPr b="1" lang="en-US" sz="1200" spc="-1" strike="noStrike">
                <a:solidFill>
                  <a:srgbClr val="002060"/>
                </a:solidFill>
                <a:latin typeface="Calibri"/>
                <a:ea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Учетная модель Федерального казначейства в рамк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еализации концепции реформирования бюджетных платеж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«Архитектура» номера счета казначейского учет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11280" y="2133720"/>
            <a:ext cx="2376360" cy="50472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1280" y="3070080"/>
            <a:ext cx="2376360" cy="50508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4005360"/>
            <a:ext cx="2376360" cy="50472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11280" y="4941720"/>
            <a:ext cx="2448000" cy="863640"/>
          </a:xfrm>
          <a:prstGeom prst="roundRect">
            <a:avLst>
              <a:gd name="adj" fmla="val 16667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лассификационн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знак поступлений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бы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995720" y="2198520"/>
            <a:ext cx="331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еньги, расчет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ЛБО 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635280" y="2206800"/>
            <a:ext cx="976320" cy="358560"/>
          </a:xfrm>
          <a:prstGeom prst="rightArrow">
            <a:avLst>
              <a:gd name="adj1" fmla="val 50000"/>
              <a:gd name="adj2" fmla="val 68072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94640" y="3133800"/>
            <a:ext cx="350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Бюджет, ГРБС, ПБС, АУ/БУ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635280" y="3141720"/>
            <a:ext cx="976320" cy="358560"/>
          </a:xfrm>
          <a:prstGeom prst="rightArrow">
            <a:avLst>
              <a:gd name="adj1" fmla="val 50000"/>
              <a:gd name="adj2" fmla="val 68072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97520" y="407052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ОФК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635280" y="4078440"/>
            <a:ext cx="976320" cy="358560"/>
          </a:xfrm>
          <a:prstGeom prst="rightArrow">
            <a:avLst>
              <a:gd name="adj1" fmla="val 50000"/>
              <a:gd name="adj2" fmla="val 68072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997160" y="5149800"/>
            <a:ext cx="412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КБК, код цели, код объекта ФАИП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635280" y="5157720"/>
            <a:ext cx="976320" cy="358920"/>
          </a:xfrm>
          <a:prstGeom prst="rightArrow">
            <a:avLst>
              <a:gd name="adj1" fmla="val 50000"/>
              <a:gd name="adj2" fmla="val 68004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Формирование регистров бюджетного учета в органах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72280" y="2997360"/>
            <a:ext cx="7486920" cy="31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Нормативное регулирование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0059"/>
                </a:solidFill>
                <a:latin typeface="Arial"/>
              </a:rPr>
              <a:t>Проект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Приказа Федерального казначейст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«Об утверждении особенностей формирования регист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бюджетного учета в органах Федераль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казначейства при кассовом исполнен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федерального бюджета, кассовом обслуживании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бюджетов бюджетной системы Российской Федера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бюджетных и автономных учрежд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ных организац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8028000" y="5575320"/>
            <a:ext cx="954000" cy="8920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4140360" y="2133720"/>
            <a:ext cx="792000" cy="645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5da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324000" y="12621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Внесение изменений в Приказ Минфина России № 173н + реализация Концепции реформирования системы бюджетных платеж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Номер слайда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ADFD-6FB5-4A4C-9228-690DBBDC4EE9}" type="slidenum">
              <a:rPr b="0" lang="en-US" sz="1200" spc="-1" strike="noStrike">
                <a:solidFill>
                  <a:srgbClr val="87878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8748720" y="6237360"/>
            <a:ext cx="314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D5C5-2C09-4345-912B-D48FCBB8F9A9}" type="slidenum">
              <a:rPr b="0" lang="en-US" sz="1400" spc="-1" strike="noStrike">
                <a:solidFill>
                  <a:srgbClr val="1f497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324000" y="363600"/>
            <a:ext cx="85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4"/>
          <p:cNvSpPr/>
          <p:nvPr/>
        </p:nvSpPr>
        <p:spPr>
          <a:xfrm>
            <a:off x="2556000" y="1628640"/>
            <a:ext cx="49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5" descr="circle_422_239"/>
          <p:cNvPicPr/>
          <p:nvPr/>
        </p:nvPicPr>
        <p:blipFill>
          <a:blip r:embed="rId2"/>
          <a:stretch/>
        </p:blipFill>
        <p:spPr>
          <a:xfrm>
            <a:off x="3203640" y="2781360"/>
            <a:ext cx="3089160" cy="193176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26"/>
          <p:cNvSpPr/>
          <p:nvPr/>
        </p:nvSpPr>
        <p:spPr>
          <a:xfrm>
            <a:off x="4695840" y="5013360"/>
            <a:ext cx="18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5"/>
          <p:cNvSpPr/>
          <p:nvPr/>
        </p:nvSpPr>
        <p:spPr>
          <a:xfrm>
            <a:off x="1547640" y="115920"/>
            <a:ext cx="671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3 – 2014 гг. – Консолидированный балан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80360" cy="50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1547640" y="115920"/>
            <a:ext cx="671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3 – 2014 гг. – Отчет о финансовых результат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деятельности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22200" y="1341360"/>
            <a:ext cx="84978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1547640" y="11592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3 – 2014 гг. – представление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1197000"/>
            <a:ext cx="8604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Письмо Минфина России и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Федерального казначейства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Arial"/>
              </a:rPr>
              <a:t>от 24.12.2013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Arial"/>
              </a:rPr>
              <a:t>№№ </a:t>
            </a:r>
            <a:r>
              <a:rPr b="1" lang="en-US" sz="2900" spc="-1" strike="noStrike">
                <a:solidFill>
                  <a:srgbClr val="000066"/>
                </a:solidFill>
                <a:latin typeface="Arial"/>
              </a:rPr>
              <a:t>02-07-007/57102 и 42-7.4-05/2.3-854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«Об особенностях составления и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представления годовой отчетности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финансовыми органами субъекто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Российской Федерации и органами управления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государственными внебюджетными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фондами за 2013 год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5"/>
          <p:cNvSpPr/>
          <p:nvPr/>
        </p:nvSpPr>
        <p:spPr>
          <a:xfrm>
            <a:off x="1547640" y="115920"/>
            <a:ext cx="671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3 – 2014 гг. – Отчет об исполнении консолидированного бюджета 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8000" y="1700280"/>
            <a:ext cx="8370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Финансовые органы субъектов Российской Федер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инистерство финансов Чувашской Республи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инистерство финансов Томской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Территориальные органы Федерального казначе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ФК по Самарской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ФК по Смоленской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ФК по Челябинской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УФК по Свердловской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ежрегиональное операционное управ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Подготовительные мероприят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5"/>
          <p:cNvSpPr/>
          <p:nvPr/>
        </p:nvSpPr>
        <p:spPr>
          <a:xfrm>
            <a:off x="1547640" y="11592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3 – 2014 гг. – представление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413000"/>
            <a:ext cx="860400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Письм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Федерального казначейства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1" lang="en-US" sz="2900" spc="-1" strike="noStrike">
                <a:solidFill>
                  <a:srgbClr val="000066"/>
                </a:solidFill>
                <a:latin typeface="Arial"/>
              </a:rPr>
              <a:t>от 01.07.2014 № 42-7.4-05/2.1-40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«Об итогах формирования и представления финансовыми органами субъектов Российской Федерации и органами управления государственными внебюджетными фондами годовой бюджетной отчетности за 2013 год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611280" y="112536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Внесение изменений в учетные показат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547640" y="189000"/>
            <a:ext cx="671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Основные результаты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2013 – 2014 гг. – представление бюджетной отчет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909800"/>
            <a:ext cx="90486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нструкция № 157н, п.1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шибка за отчетный период, обнаруженная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до момента предст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бухгалтерской отчетности и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не требующая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 внесения изменения дан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в регистрах бухгалтерского уч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исправляется путем зачерки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онкой чертой неправильных сумм…….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шибка,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обнаруженная до момента представления бухгалтерской отче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и 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требующая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 внесения изменений в регистр бухгалтерского уче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зависимости от ее характера, отражается последним днем ……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шибка, обнаруженная в регистрах бухгалтерского учета за отчетный период,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который бухгалтерская отчетность в установленном порядке уже представлен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зависимости от ее характера, </a:t>
            </a:r>
            <a:r>
              <a:rPr b="0" lang="en-US" sz="1800" spc="-1" strike="noStrike" u="sng">
                <a:solidFill>
                  <a:srgbClr val="000066"/>
                </a:solidFill>
                <a:uFillTx/>
                <a:latin typeface="Arial"/>
              </a:rPr>
              <a:t>отражается датой обнаружения ошиб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2323</cp:lastModifiedBy>
  <dcterms:modified xsi:type="dcterms:W3CDTF">2014-09-10T04:50:13Z</dcterms:modified>
  <cp:revision>476</cp:revision>
  <dc:subject/>
  <dc:title>Слайд 1</dc:title>
</cp:coreProperties>
</file>