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320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1132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8200" y="739440"/>
            <a:ext cx="49338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3200" y="4687920"/>
            <a:ext cx="5384880" cy="4440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11320" y="937224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78AB-598A-49FA-A715-0CB1675355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11680" y="937260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E60B-FD83-4BBE-9B5F-640A2A6279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14920" y="9372600"/>
            <a:ext cx="2914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AC14656-B656-45AC-A76B-B535FB0194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814920" y="9372600"/>
            <a:ext cx="29145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F4DD9E3-7F59-47F4-8ACA-FED0814309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89856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3200" y="4687920"/>
            <a:ext cx="5384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E470-6BB0-487A-85DF-4616CF994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A7A5-40B1-4E2D-9582-67439A216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52E-B88B-4955-89EF-AF8ED2EB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4063-D543-4370-ABC5-25D2CE77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B55-4F3B-4E1D-8015-C978F65B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A87E-CC37-450D-B4EB-59F8D4B9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0C3B-3C18-497D-B409-46DA4700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260-80D5-4EE8-96E8-F116A346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BD48-E57F-43EA-BB08-40495D59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F1B0-E9F9-40B8-A177-7F63BC09F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081-94C3-4C13-9F1C-85C534B8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7AF9-F207-4658-8D95-28688EBD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B228-B58C-4B8A-B336-F61A8E19E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7.jpe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0040" y="149976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Times New Roman"/>
              </a:rPr>
              <a:t>Отдельные вопросы, связанные с обеспечением с 1 января 2015 года наличными денежными средствами организаций, лицевые счета которым открыты в финансовых органах субъектов Российской Федерации (муниципальных образовани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357880" y="5143680"/>
            <a:ext cx="352728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Е.Л. Засып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чальник Отдела обеспечения взаимодействия с банковской системой Управления совершенствования функциональной деятель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8"/>
          <p:cNvSpPr/>
          <p:nvPr/>
        </p:nvSpPr>
        <p:spPr>
          <a:xfrm>
            <a:off x="857160" y="21420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Times New Roman"/>
              </a:rPr>
              <a:t>ОСНОВНЫЕ ПОЛОЖЕНИЯ, ПРЕДУСМОТРЕННЫЕ ПРИКАЗОМ ФЕДЕРАЛЬНОГО КАЗНАЧЕЙСТВА от 30.06.2014 № 10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Схема 8" descr=""/>
          <p:cNvPicPr/>
          <p:nvPr/>
        </p:nvPicPr>
        <p:blipFill>
          <a:blip r:embed="rId1"/>
          <a:stretch/>
        </p:blipFill>
        <p:spPr>
          <a:xfrm>
            <a:off x="1401840" y="1474920"/>
            <a:ext cx="7102440" cy="5541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M:\OBMEN_FK\05\Коллегия 2013\Человечки\event-image-poster.jpg"/>
          <p:cNvPicPr/>
          <p:nvPr/>
        </p:nvPicPr>
        <p:blipFill>
          <a:blip r:embed="rId2"/>
          <a:stretch/>
        </p:blipFill>
        <p:spPr>
          <a:xfrm>
            <a:off x="142920" y="1500120"/>
            <a:ext cx="1214280" cy="121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55B6-3EA5-4329-842A-EFEAC34E6772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СНОВНЫЕ МЕРОПРИЯТИЯ ДОРОЖНОЙ КАРТЫ </a:t>
            </a:r>
            <a:br>
              <a:rPr sz="1800"/>
            </a:br>
            <a:r>
              <a:rPr b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О ОБЕСПЕЧЕНИЮ ОРГАНИЗАЦИЙ НАЛИЧНЫМИ</a:t>
            </a:r>
            <a:br>
              <a:rPr sz="1800"/>
            </a:br>
            <a:r>
              <a:rPr b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ДЕНЕЖНЫМИ СРЕДСТВАМИ </a:t>
            </a:r>
            <a:br>
              <a:rPr sz="1800"/>
            </a:br>
            <a:endParaRPr b="1" lang="en-US" sz="1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8748720" y="6237360"/>
            <a:ext cx="2984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Прямоугольник с двумя скругленными соседними углами 11"/>
          <p:cNvGrpSpPr/>
          <p:nvPr/>
        </p:nvGrpSpPr>
        <p:grpSpPr>
          <a:xfrm>
            <a:off x="317520" y="963720"/>
            <a:ext cx="4132080" cy="2359080"/>
            <a:chOff x="317520" y="963720"/>
            <a:chExt cx="4132080" cy="2359080"/>
          </a:xfrm>
        </p:grpSpPr>
        <p:pic>
          <p:nvPicPr>
            <p:cNvPr id="58" name="Прямоугольник с двумя скругленными соседними углами 11" descr=""/>
            <p:cNvPicPr/>
            <p:nvPr/>
          </p:nvPicPr>
          <p:blipFill>
            <a:blip r:embed="rId1"/>
            <a:stretch/>
          </p:blipFill>
          <p:spPr>
            <a:xfrm>
              <a:off x="317520" y="963720"/>
              <a:ext cx="413208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544680" y="1143000"/>
              <a:ext cx="36828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ка Дорожной карты и согласование ее с финансовым органом субъекта Российской Федерации в срок до</a:t>
              </a: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1" lang="en-US" sz="1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1 сентября 2014 год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2" descr="C:\Users\Di\Dropbox\Проект! Закупки\PPT\CheckMark.png"/>
          <p:cNvPicPr/>
          <p:nvPr/>
        </p:nvPicPr>
        <p:blipFill>
          <a:blip r:embed="rId2"/>
          <a:stretch/>
        </p:blipFill>
        <p:spPr>
          <a:xfrm>
            <a:off x="500040" y="1428840"/>
            <a:ext cx="322200" cy="287280"/>
          </a:xfrm>
          <a:prstGeom prst="rect">
            <a:avLst/>
          </a:prstGeom>
          <a:ln w="0">
            <a:noFill/>
          </a:ln>
        </p:spPr>
      </p:pic>
      <p:grpSp>
        <p:nvGrpSpPr>
          <p:cNvPr id="61" name="Прямоугольник с двумя скругленными соседними углами 13"/>
          <p:cNvGrpSpPr/>
          <p:nvPr/>
        </p:nvGrpSpPr>
        <p:grpSpPr>
          <a:xfrm>
            <a:off x="390600" y="3462480"/>
            <a:ext cx="4132080" cy="2365200"/>
            <a:chOff x="390600" y="3462480"/>
            <a:chExt cx="4132080" cy="2365200"/>
          </a:xfrm>
        </p:grpSpPr>
        <p:pic>
          <p:nvPicPr>
            <p:cNvPr id="62" name="Прямоугольник с двумя скругленными соседними углами 13" descr=""/>
            <p:cNvPicPr/>
            <p:nvPr/>
          </p:nvPicPr>
          <p:blipFill>
            <a:blip r:embed="rId3"/>
            <a:stretch/>
          </p:blipFill>
          <p:spPr>
            <a:xfrm>
              <a:off x="390600" y="3462480"/>
              <a:ext cx="413208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15960" y="3643200"/>
              <a:ext cx="368316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ведение совещаний-тренингов с участием представителей финансовых органов субъектов Российской Федерации (муниципальных образований) по разъяснению положений приказа Федерального казначейства от 30.06.2014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№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н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Прямоугольник с двумя скругленными соседними углами 14"/>
          <p:cNvGrpSpPr/>
          <p:nvPr/>
        </p:nvGrpSpPr>
        <p:grpSpPr>
          <a:xfrm>
            <a:off x="4675320" y="963720"/>
            <a:ext cx="4133880" cy="2359080"/>
            <a:chOff x="4675320" y="963720"/>
            <a:chExt cx="4133880" cy="2359080"/>
          </a:xfrm>
        </p:grpSpPr>
        <p:pic>
          <p:nvPicPr>
            <p:cNvPr id="65" name="Прямоугольник с двумя скругленными соседними углами 14" descr=""/>
            <p:cNvPicPr/>
            <p:nvPr/>
          </p:nvPicPr>
          <p:blipFill>
            <a:blip r:embed="rId4"/>
            <a:stretch/>
          </p:blipFill>
          <p:spPr>
            <a:xfrm>
              <a:off x="4675320" y="963720"/>
              <a:ext cx="4133880" cy="23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902120" y="1143000"/>
              <a:ext cx="368316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щение извещения о проведении открытого аукциона в электронной форме на оказание банковских услуг по обслуживанию счетов № 40116 в срок до </a:t>
              </a:r>
              <a:r>
                <a:rPr b="1" lang="en-US" sz="1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15 сентября 2014 года.</a:t>
              </a:r>
              <a:r>
                <a:rPr b="0" lang="en-US" sz="1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Прямоугольник с двумя скругленными соседними углами 15"/>
          <p:cNvGrpSpPr/>
          <p:nvPr/>
        </p:nvGrpSpPr>
        <p:grpSpPr>
          <a:xfrm>
            <a:off x="4675320" y="3389400"/>
            <a:ext cx="4133880" cy="2365200"/>
            <a:chOff x="4675320" y="3389400"/>
            <a:chExt cx="4133880" cy="2365200"/>
          </a:xfrm>
        </p:grpSpPr>
        <p:pic>
          <p:nvPicPr>
            <p:cNvPr id="68" name="Прямоугольник с двумя скругленными соседними углами 15" descr=""/>
            <p:cNvPicPr/>
            <p:nvPr/>
          </p:nvPicPr>
          <p:blipFill>
            <a:blip r:embed="rId5"/>
            <a:stretch/>
          </p:blipFill>
          <p:spPr>
            <a:xfrm>
              <a:off x="4675320" y="3389400"/>
              <a:ext cx="413388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4902120" y="3571920"/>
              <a:ext cx="368316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 случае признания аукционов в электронной форме по обслуживанию счетов № 40116 несостоявшимися осуществить в установленном порядке открытие счетов № 40116 в подразделениях Банка России в срок до </a:t>
              </a:r>
              <a:r>
                <a:rPr b="1" lang="en-US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1 ноября 2014 года</a:t>
              </a:r>
              <a:r>
                <a:rPr b="0" lang="en-US" sz="1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2" descr="C:\Users\Di\Dropbox\Проект! Закупки\PPT\CheckMark.png"/>
          <p:cNvPicPr/>
          <p:nvPr/>
        </p:nvPicPr>
        <p:blipFill>
          <a:blip r:embed="rId6"/>
          <a:stretch/>
        </p:blipFill>
        <p:spPr>
          <a:xfrm>
            <a:off x="500040" y="3786120"/>
            <a:ext cx="322200" cy="287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C:\Users\Di\Dropbox\Проект! Закупки\PPT\CheckMark.png"/>
          <p:cNvPicPr/>
          <p:nvPr/>
        </p:nvPicPr>
        <p:blipFill>
          <a:blip r:embed="rId7"/>
          <a:stretch/>
        </p:blipFill>
        <p:spPr>
          <a:xfrm>
            <a:off x="4786200" y="1357200"/>
            <a:ext cx="322200" cy="28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Users\Di\Dropbox\Проект! Закупки\PPT\CheckMark.png"/>
          <p:cNvPicPr/>
          <p:nvPr/>
        </p:nvPicPr>
        <p:blipFill>
          <a:blip r:embed="rId8"/>
          <a:stretch/>
        </p:blipFill>
        <p:spPr>
          <a:xfrm>
            <a:off x="4786200" y="3786120"/>
            <a:ext cx="322200" cy="287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7" descr="E:\Человечки\predlogenie_dlya_aktivistov_otvetstvennih_initsiativnih_lyudey__1.jpg"/>
          <p:cNvPicPr/>
          <p:nvPr/>
        </p:nvPicPr>
        <p:blipFill>
          <a:blip r:embed="rId9"/>
          <a:stretch/>
        </p:blipFill>
        <p:spPr>
          <a:xfrm>
            <a:off x="3786120" y="5740560"/>
            <a:ext cx="1714680" cy="774720"/>
          </a:xfrm>
          <a:prstGeom prst="rect">
            <a:avLst/>
          </a:prstGeom>
          <a:ln w="0">
            <a:noFill/>
          </a:ln>
        </p:spPr>
      </p:pic>
      <p:grpSp>
        <p:nvGrpSpPr>
          <p:cNvPr id="74" name="Прямоугольник с двумя скругленными соседними углами 22"/>
          <p:cNvGrpSpPr/>
          <p:nvPr/>
        </p:nvGrpSpPr>
        <p:grpSpPr>
          <a:xfrm>
            <a:off x="317520" y="1103400"/>
            <a:ext cx="4132080" cy="2365200"/>
            <a:chOff x="317520" y="1103400"/>
            <a:chExt cx="4132080" cy="2365200"/>
          </a:xfrm>
        </p:grpSpPr>
        <p:pic>
          <p:nvPicPr>
            <p:cNvPr id="75" name="Прямоугольник с двумя скругленными соседними углами 22" descr=""/>
            <p:cNvPicPr/>
            <p:nvPr/>
          </p:nvPicPr>
          <p:blipFill>
            <a:blip r:embed="rId10"/>
            <a:stretch/>
          </p:blipFill>
          <p:spPr>
            <a:xfrm>
              <a:off x="317520" y="1103400"/>
              <a:ext cx="413208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44680" y="1285920"/>
              <a:ext cx="368280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ка Дорожной карты и согласование ее с финансовым органом субъекта Российской Федерации в срок до</a:t>
              </a:r>
              <a:r>
                <a:rPr b="1" lang="en-US" sz="1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 1 сентября 2014 год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Прямоугольник с двумя скругленными соседними углами 23"/>
          <p:cNvGrpSpPr/>
          <p:nvPr/>
        </p:nvGrpSpPr>
        <p:grpSpPr>
          <a:xfrm>
            <a:off x="4675320" y="1103400"/>
            <a:ext cx="4133880" cy="2365200"/>
            <a:chOff x="4675320" y="1103400"/>
            <a:chExt cx="4133880" cy="2365200"/>
          </a:xfrm>
        </p:grpSpPr>
        <p:pic>
          <p:nvPicPr>
            <p:cNvPr id="78" name="Прямоугольник с двумя скругленными соседними углами 23" descr=""/>
            <p:cNvPicPr/>
            <p:nvPr/>
          </p:nvPicPr>
          <p:blipFill>
            <a:blip r:embed="rId11"/>
            <a:stretch/>
          </p:blipFill>
          <p:spPr>
            <a:xfrm>
              <a:off x="4675320" y="1103400"/>
              <a:ext cx="413388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4902120" y="1285920"/>
              <a:ext cx="3683160" cy="19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мещение извещения о проведении открытого аукциона в электронной форме на оказание банковских услуг по обслуживанию счетов № 40116 в срок до </a:t>
              </a:r>
              <a:r>
                <a:rPr b="1" lang="en-US" sz="1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15 сентября 2014 года.</a:t>
              </a:r>
              <a:r>
                <a:rPr b="0" lang="en-US" sz="1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" name="Picture 2" descr="C:\Users\Di\Dropbox\Проект! Закупки\PPT\CheckMark.png"/>
          <p:cNvPicPr/>
          <p:nvPr/>
        </p:nvPicPr>
        <p:blipFill>
          <a:blip r:embed="rId12"/>
          <a:stretch/>
        </p:blipFill>
        <p:spPr>
          <a:xfrm>
            <a:off x="428760" y="1714680"/>
            <a:ext cx="322200" cy="287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C:\Users\Di\Dropbox\Проект! Закупки\PPT\CheckMark.png"/>
          <p:cNvPicPr/>
          <p:nvPr/>
        </p:nvPicPr>
        <p:blipFill>
          <a:blip r:embed="rId13"/>
          <a:stretch/>
        </p:blipFill>
        <p:spPr>
          <a:xfrm>
            <a:off x="4786200" y="1643040"/>
            <a:ext cx="322200" cy="28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Схема 8" descr=""/>
          <p:cNvPicPr/>
          <p:nvPr/>
        </p:nvPicPr>
        <p:blipFill>
          <a:blip r:embed="rId1"/>
          <a:stretch/>
        </p:blipFill>
        <p:spPr>
          <a:xfrm>
            <a:off x="549360" y="1133640"/>
            <a:ext cx="8094600" cy="890280"/>
          </a:xfrm>
          <a:prstGeom prst="rect">
            <a:avLst/>
          </a:prstGeom>
          <a:ln w="0">
            <a:noFill/>
          </a:ln>
        </p:spPr>
      </p:pic>
      <p:sp>
        <p:nvSpPr>
          <p:cNvPr id="83" name="Скругленный прямоугольник 4"/>
          <p:cNvSpPr/>
          <p:nvPr/>
        </p:nvSpPr>
        <p:spPr>
          <a:xfrm>
            <a:off x="571680" y="3571920"/>
            <a:ext cx="3857400" cy="21430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38160">
            <a:solidFill>
              <a:srgbClr val="b9c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, если изменяются существенные условия государственного контракта - необходимо руководствоваться статьей 95 Федерального закона от 05.04.2013 № 44-ФЗ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000760" y="3571920"/>
            <a:ext cx="3786120" cy="2143080"/>
          </a:xfrm>
          <a:prstGeom prst="roundRect">
            <a:avLst>
              <a:gd name="adj" fmla="val 16667"/>
            </a:avLst>
          </a:prstGeom>
          <a:solidFill>
            <a:srgbClr val="95b3d7"/>
          </a:solidFill>
          <a:ln w="381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если существенные условия государственного контракта не изменяются-  продолжить работу по обслуживанию счетов № 40116 в рамках ранее заключенных государственных контрак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1"/>
          <p:cNvSpPr/>
          <p:nvPr/>
        </p:nvSpPr>
        <p:spPr>
          <a:xfrm>
            <a:off x="1000080" y="2142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ПРОВЕДЕНИЕ АУКЦИОНОВ В ЭЛЕКТРОН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Documents and Settings\2765\Рабочий стол\слайды\Человечки\199394-yana.jpg"/>
          <p:cNvPicPr/>
          <p:nvPr/>
        </p:nvPicPr>
        <p:blipFill>
          <a:blip r:embed="rId2"/>
          <a:stretch/>
        </p:blipFill>
        <p:spPr>
          <a:xfrm>
            <a:off x="3857760" y="2071800"/>
            <a:ext cx="1500120" cy="1428480"/>
          </a:xfrm>
          <a:prstGeom prst="rect">
            <a:avLst/>
          </a:prstGeom>
          <a:ln w="0">
            <a:noFill/>
          </a:ln>
        </p:spPr>
      </p:pic>
      <p:grpSp>
        <p:nvGrpSpPr>
          <p:cNvPr id="87" name="Стрелка вправо 11"/>
          <p:cNvGrpSpPr/>
          <p:nvPr/>
        </p:nvGrpSpPr>
        <p:grpSpPr>
          <a:xfrm>
            <a:off x="2170080" y="2981160"/>
            <a:ext cx="378000" cy="481320"/>
            <a:chOff x="2170080" y="2981160"/>
            <a:chExt cx="378000" cy="481320"/>
          </a:xfrm>
        </p:grpSpPr>
        <p:pic>
          <p:nvPicPr>
            <p:cNvPr id="88" name="Стрелка вправо 11" descr=""/>
            <p:cNvPicPr/>
            <p:nvPr/>
          </p:nvPicPr>
          <p:blipFill>
            <a:blip r:embed="rId3"/>
            <a:stretch/>
          </p:blipFill>
          <p:spPr>
            <a:xfrm>
              <a:off x="2170080" y="2981160"/>
              <a:ext cx="37800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5400000">
              <a:off x="2178360" y="3105720"/>
              <a:ext cx="3571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Группа 18"/>
          <p:cNvGrpSpPr/>
          <p:nvPr/>
        </p:nvGrpSpPr>
        <p:grpSpPr>
          <a:xfrm>
            <a:off x="5643720" y="2143080"/>
            <a:ext cx="2000160" cy="714600"/>
            <a:chOff x="5643720" y="2143080"/>
            <a:chExt cx="2000160" cy="714600"/>
          </a:xfrm>
        </p:grpSpPr>
        <p:sp>
          <p:nvSpPr>
            <p:cNvPr id="91" name="TextBox 7"/>
            <p:cNvSpPr/>
            <p:nvPr/>
          </p:nvSpPr>
          <p:spPr>
            <a:xfrm>
              <a:off x="5643720" y="2214360"/>
              <a:ext cx="2000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ЕТ НЕОБХОДИМО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Скругленный прямоугольник 13"/>
            <p:cNvSpPr/>
            <p:nvPr/>
          </p:nvSpPr>
          <p:spPr>
            <a:xfrm>
              <a:off x="5643720" y="2143080"/>
              <a:ext cx="2000160" cy="714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8eb4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Группа 15"/>
          <p:cNvGrpSpPr/>
          <p:nvPr/>
        </p:nvGrpSpPr>
        <p:grpSpPr>
          <a:xfrm>
            <a:off x="1500120" y="2143080"/>
            <a:ext cx="2071800" cy="714600"/>
            <a:chOff x="1500120" y="2143080"/>
            <a:chExt cx="2071800" cy="714600"/>
          </a:xfrm>
        </p:grpSpPr>
        <p:sp>
          <p:nvSpPr>
            <p:cNvPr id="94" name="TextBox 6"/>
            <p:cNvSpPr/>
            <p:nvPr/>
          </p:nvSpPr>
          <p:spPr>
            <a:xfrm>
              <a:off x="1785600" y="2357280"/>
              <a:ext cx="1786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ЕОБХОДИМ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Скругленный прямоугольник 17"/>
            <p:cNvSpPr/>
            <p:nvPr/>
          </p:nvSpPr>
          <p:spPr>
            <a:xfrm>
              <a:off x="1500120" y="2143080"/>
              <a:ext cx="2000520" cy="714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8eb4e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Стрелка вправо 22"/>
          <p:cNvGrpSpPr/>
          <p:nvPr/>
        </p:nvGrpSpPr>
        <p:grpSpPr>
          <a:xfrm>
            <a:off x="6456240" y="2981160"/>
            <a:ext cx="378000" cy="481320"/>
            <a:chOff x="6456240" y="2981160"/>
            <a:chExt cx="378000" cy="481320"/>
          </a:xfrm>
        </p:grpSpPr>
        <p:pic>
          <p:nvPicPr>
            <p:cNvPr id="97" name="Стрелка вправо 22" descr=""/>
            <p:cNvPicPr/>
            <p:nvPr/>
          </p:nvPicPr>
          <p:blipFill>
            <a:blip r:embed="rId4"/>
            <a:stretch/>
          </p:blipFill>
          <p:spPr>
            <a:xfrm>
              <a:off x="6456240" y="2981160"/>
              <a:ext cx="378000" cy="4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 rot="5400000">
              <a:off x="6466320" y="3105720"/>
              <a:ext cx="3571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Номер слайда 4"/>
          <p:cNvSpPr/>
          <p:nvPr/>
        </p:nvSpPr>
        <p:spPr>
          <a:xfrm>
            <a:off x="8810640" y="6308640"/>
            <a:ext cx="3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0"/>
            <a:ext cx="8748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Блок-схема: процесс 41"/>
          <p:cNvGrpSpPr/>
          <p:nvPr/>
        </p:nvGrpSpPr>
        <p:grpSpPr>
          <a:xfrm>
            <a:off x="5194440" y="1547640"/>
            <a:ext cx="3108240" cy="2043360"/>
            <a:chOff x="5194440" y="1547640"/>
            <a:chExt cx="3108240" cy="2043360"/>
          </a:xfrm>
        </p:grpSpPr>
        <p:pic>
          <p:nvPicPr>
            <p:cNvPr id="103" name="Блок-схема: процесс 41" descr=""/>
            <p:cNvPicPr/>
            <p:nvPr/>
          </p:nvPicPr>
          <p:blipFill>
            <a:blip r:embed="rId1"/>
            <a:stretch/>
          </p:blipFill>
          <p:spPr>
            <a:xfrm>
              <a:off x="5194440" y="1547640"/>
              <a:ext cx="3108240" cy="20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214960" y="1571760"/>
              <a:ext cx="30718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разрабатывается с учетом положений, установленных законодательством  РФ  о контрактной системе в сфере закупок товаров, работ, услуг для государственных и муниципальных нуж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32" descr="C:\Users\Екатерина\Pictures\2012-06-20 001\13747.jpg"/>
          <p:cNvPicPr/>
          <p:nvPr/>
        </p:nvPicPr>
        <p:blipFill>
          <a:blip r:embed="rId2"/>
          <a:stretch/>
        </p:blipFill>
        <p:spPr>
          <a:xfrm>
            <a:off x="1214280" y="4643280"/>
            <a:ext cx="1785960" cy="1984680"/>
          </a:xfrm>
          <a:prstGeom prst="rect">
            <a:avLst/>
          </a:prstGeom>
          <a:ln w="0">
            <a:noFill/>
          </a:ln>
        </p:spPr>
      </p:pic>
      <p:grpSp>
        <p:nvGrpSpPr>
          <p:cNvPr id="106" name="Блок-схема: процесс 22"/>
          <p:cNvGrpSpPr/>
          <p:nvPr/>
        </p:nvGrpSpPr>
        <p:grpSpPr>
          <a:xfrm>
            <a:off x="5261040" y="3760920"/>
            <a:ext cx="3114720" cy="2043000"/>
            <a:chOff x="5261040" y="3760920"/>
            <a:chExt cx="3114720" cy="2043000"/>
          </a:xfrm>
        </p:grpSpPr>
        <p:pic>
          <p:nvPicPr>
            <p:cNvPr id="107" name="Блок-схема: процесс 22" descr=""/>
            <p:cNvPicPr/>
            <p:nvPr/>
          </p:nvPicPr>
          <p:blipFill>
            <a:blip r:embed="rId3"/>
            <a:stretch/>
          </p:blipFill>
          <p:spPr>
            <a:xfrm>
              <a:off x="5261040" y="3760920"/>
              <a:ext cx="3114720" cy="20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286240" y="3786120"/>
              <a:ext cx="307188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разрабатывается с учетом норм, установленных приказом Федерального казначейства № 10н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Штриховая стрелка вправо 24"/>
          <p:cNvSpPr/>
          <p:nvPr/>
        </p:nvSpPr>
        <p:spPr>
          <a:xfrm>
            <a:off x="3357720" y="2714760"/>
            <a:ext cx="1334880" cy="2214360"/>
          </a:xfrm>
          <a:prstGeom prst="pie">
            <a:avLst/>
          </a:prstGeom>
          <a:solidFill>
            <a:srgbClr val="953735"/>
          </a:solidFill>
          <a:ln w="38160">
            <a:solidFill>
              <a:srgbClr val="953735">
                <a:alpha val="9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Блок-схема: процесс 11"/>
          <p:cNvGrpSpPr/>
          <p:nvPr/>
        </p:nvGrpSpPr>
        <p:grpSpPr>
          <a:xfrm>
            <a:off x="401760" y="2901960"/>
            <a:ext cx="2689200" cy="1762200"/>
            <a:chOff x="401760" y="2901960"/>
            <a:chExt cx="2689200" cy="1762200"/>
          </a:xfrm>
        </p:grpSpPr>
        <p:pic>
          <p:nvPicPr>
            <p:cNvPr id="111" name="Блок-схема: процесс 11" descr=""/>
            <p:cNvPicPr/>
            <p:nvPr/>
          </p:nvPicPr>
          <p:blipFill>
            <a:blip r:embed="rId4"/>
            <a:stretch/>
          </p:blipFill>
          <p:spPr>
            <a:xfrm>
              <a:off x="401760" y="2901960"/>
              <a:ext cx="268920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28760" y="2928960"/>
              <a:ext cx="2643120" cy="17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ументация об аукционе в электронной фор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12"/>
          <p:cNvSpPr/>
          <p:nvPr/>
        </p:nvSpPr>
        <p:spPr>
          <a:xfrm>
            <a:off x="1500120" y="21420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ОСОБЕННОСТИ ДОКУМЕНТАЦИИ ОБ АУКЦИ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В ЭЛЕКТРОН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4" descr="1"/>
          <p:cNvPicPr/>
          <p:nvPr/>
        </p:nvPicPr>
        <p:blipFill>
          <a:blip r:embed="rId5"/>
          <a:stretch/>
        </p:blipFill>
        <p:spPr>
          <a:xfrm rot="9382200">
            <a:off x="950760" y="1247400"/>
            <a:ext cx="155448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28440" y="2999880"/>
            <a:ext cx="7453080" cy="85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Засыпкина</dc:creator>
  <dc:description/>
  <dc:language>en-US</dc:language>
  <cp:lastModifiedBy>2303</cp:lastModifiedBy>
  <dcterms:modified xsi:type="dcterms:W3CDTF">2014-09-10T05:06:00Z</dcterms:modified>
  <cp:revision>574</cp:revision>
  <dc:subject/>
  <dc:title>Слайд 1</dc:title>
</cp:coreProperties>
</file>