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1450-1F6A-41AD-A1FA-7D7449307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9C1-5E89-482C-B98B-8892F5B0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730-6F18-494F-BC3A-6BD68544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CDE4-C6FC-4F0F-8730-3595141A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4F51A-EFF2-4439-90C4-C36E0E09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2983-DC66-428E-B494-01ED47FC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0E6F-4AB1-4338-877B-4241BB20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38FF-18F6-41F8-BA3D-54C4E363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765B-1D3A-40D5-ABA9-E369B1FB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AB55-C03C-4265-B95B-35735280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328AE-0C3B-4A8E-97DA-22C38574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0EF9-5DD8-4CAD-BB7C-9048BEB8E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FA9D-EBB1-40F1-8EBF-B6875670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9A89-82F9-454B-8E43-84D50AD4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56E5-048B-4214-B8BE-9D36BFAF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0F72-3F09-4524-A1B4-0EC3929E2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0621-5870-4EC0-BCFE-2920D2B17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1244-16CC-4102-88EB-072990E53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0C4D-C0D3-41BC-93FE-51704B4F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39CE-12F0-4ADC-9E43-B1BFB11F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BA2C-1648-4509-8CCF-A8F52D01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DAE-4F61-4B48-9123-D06A1299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305-75A8-4F1D-B080-4825DDAC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9891-CD85-4FA3-AA55-FE41D638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B7F8-3111-4E55-94A7-387987D01D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6D6F-BBB8-4709-BA9F-82D813E8B4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consultantplus://offline/ref=F6FB5C1B6D4C50AC3AD02BD1E4005CDAEAB9C73CF27A740D54C50DE6C13C31C4C3BB73543124C74F46xDE" TargetMode="External"/><Relationship Id="rId3" Type="http://schemas.openxmlformats.org/officeDocument/2006/relationships/hyperlink" Target="consultantplus://offline/ref=AF3581FC2D8EB4CB9C49FEBD2A87781CA2BD41FB84A57B4DE929D7B786040E45E62AABC1F6068E2FhE71E" TargetMode="Externa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4"/>
          <p:cNvSpPr/>
          <p:nvPr/>
        </p:nvSpPr>
        <p:spPr>
          <a:xfrm>
            <a:off x="1476360" y="1700280"/>
            <a:ext cx="6480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Отдельные вопросы формирования годовой, квартальной и ежемесячной отчетности об исполнении консолидированного бюджета субъекта Российской Федерации и бюджетов государственных внебюджетных фондов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5796000" y="5229360"/>
            <a:ext cx="316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50920" y="333360"/>
            <a:ext cx="85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К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АЗНАЧЕЙСТВО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683520" y="5516640"/>
            <a:ext cx="534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Кривенец А.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Управление бюджетного учета и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66"/>
                </a:solidFill>
                <a:latin typeface="Arial"/>
              </a:rPr>
              <a:t>Федерального казначе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 об исполнении бюдж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11280" y="112536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рядок консолидации показ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(Инструкция № 191н, п. 210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379440" y="2133360"/>
            <a:ext cx="84405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……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 случае, если на отчетную дату операции по взаимосвязанным расчетам между бюджетами исполнены </a:t>
            </a:r>
            <a:r>
              <a:rPr b="0" lang="ru-RU" sz="2500" spc="-1" strike="noStrike">
                <a:solidFill>
                  <a:srgbClr val="000066"/>
                </a:solidFill>
                <a:latin typeface="Arial"/>
              </a:rPr>
              <a:t>по КБК, не предназначенным для их отражения,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66"/>
                </a:solidFill>
                <a:latin typeface="Arial"/>
              </a:rPr>
              <a:t>суммы таких операций подлежат отражению в графах 15, 17 на основании информации, указанной в разделе 3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«Анализ отчета об исполнении бюджета субъектом бюджетной отчетности» Пояснительной записки ф. 0503160, </a:t>
            </a:r>
            <a:r>
              <a:rPr b="0" lang="ru-RU" sz="2500" spc="-1" strike="noStrike" u="sng">
                <a:solidFill>
                  <a:srgbClr val="000066"/>
                </a:solidFill>
                <a:uFillTx/>
                <a:latin typeface="Arial"/>
              </a:rPr>
              <a:t>Пояснительной записки ф. 0503360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соответствующего финансового орган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FD605-AE51-4DFB-8101-7FF52E7D73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0080" y="115920"/>
            <a:ext cx="70279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Порядок отражения плановых показателей по доходам в Отчете (ф. 0503127)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0" y="99972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. 3, 4 формируетс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отражением группировочных кодов в структуре утвержденных законом (решением) о бюджете бюджетных назначений по доходам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сумм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твержденны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текущий финансовый год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он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решением) о бюджете плановых показателей по закрепленным за ГАД доход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(Инструкция № 191н, п. 54, 55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7331-747C-4811-8E68-7B8DCF8C47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2920" y="2571840"/>
          <a:ext cx="8643960" cy="3240000"/>
        </p:xfrm>
        <a:graphic>
          <a:graphicData uri="http://schemas.openxmlformats.org/drawingml/2006/table">
            <a:tbl>
              <a:tblPr/>
              <a:tblGrid>
                <a:gridCol w="3071880"/>
                <a:gridCol w="1643040"/>
                <a:gridCol w="1928880"/>
                <a:gridCol w="2000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Б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овые назначения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исполненные на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 1 00 00000 00 0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 1 01 01012 02 0000 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 1 05 04000 02 0000 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 2 00 00000 00 0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000,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 2 02 02019 02 0000 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45" name="Группа 7"/>
          <p:cNvGrpSpPr/>
          <p:nvPr/>
        </p:nvGrpSpPr>
        <p:grpSpPr>
          <a:xfrm>
            <a:off x="7215120" y="3429000"/>
            <a:ext cx="430200" cy="1501920"/>
            <a:chOff x="7215120" y="3429000"/>
            <a:chExt cx="430200" cy="1501920"/>
          </a:xfrm>
        </p:grpSpPr>
        <p:sp>
          <p:nvSpPr>
            <p:cNvPr id="146" name="Прямая соединительная линия 8"/>
            <p:cNvSpPr/>
            <p:nvPr/>
          </p:nvSpPr>
          <p:spPr>
            <a:xfrm flipH="1" flipV="1">
              <a:off x="7216200" y="4929480"/>
              <a:ext cx="428760" cy="1440"/>
            </a:xfrm>
            <a:prstGeom prst="line">
              <a:avLst/>
            </a:prstGeom>
            <a:ln w="19080">
              <a:solidFill>
                <a:srgbClr val="fe32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рямая соединительная линия 9"/>
            <p:cNvSpPr/>
            <p:nvPr/>
          </p:nvSpPr>
          <p:spPr>
            <a:xfrm flipV="1">
              <a:off x="7215120" y="3430440"/>
              <a:ext cx="1440" cy="1499040"/>
            </a:xfrm>
            <a:prstGeom prst="line">
              <a:avLst/>
            </a:prstGeom>
            <a:ln w="19080">
              <a:solidFill>
                <a:srgbClr val="fe32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" name="Прямая со стрелкой 10"/>
            <p:cNvCxnSpPr/>
            <p:nvPr/>
          </p:nvCxnSpPr>
          <p:spPr>
            <a:xfrm>
              <a:off x="7216200" y="3429000"/>
              <a:ext cx="429480" cy="2160"/>
            </a:xfrm>
            <a:prstGeom prst="straightConnector1">
              <a:avLst/>
            </a:prstGeom>
            <a:ln w="19080">
              <a:solidFill>
                <a:srgbClr val="fe3288"/>
              </a:solidFill>
              <a:miter/>
              <a:tailEnd len="med" type="arrow" w="med"/>
            </a:ln>
          </p:spPr>
        </p:cxnSp>
        <p:sp>
          <p:nvSpPr>
            <p:cNvPr id="149" name="Прямая соединительная линия 11"/>
            <p:cNvSpPr/>
            <p:nvPr/>
          </p:nvSpPr>
          <p:spPr>
            <a:xfrm flipH="1" flipV="1">
              <a:off x="7216200" y="3786120"/>
              <a:ext cx="428760" cy="1440"/>
            </a:xfrm>
            <a:prstGeom prst="line">
              <a:avLst/>
            </a:prstGeom>
            <a:ln w="19080">
              <a:solidFill>
                <a:srgbClr val="fe32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Содержимое 2"/>
          <p:cNvSpPr/>
          <p:nvPr/>
        </p:nvSpPr>
        <p:spPr>
          <a:xfrm>
            <a:off x="142920" y="5786280"/>
            <a:ext cx="8786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 Законом о бюджете утверждены плановые назначения по АДБ по укрепленным к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0080" y="115920"/>
            <a:ext cx="70279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Порядок отражения плановых показателей по доходам в Отчете (ф. 0503127)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0" y="99972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р. 3, 4 формируется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отражением группировочных кодов в структуре утвержденных законом (решением) о бюджете бюджетных назначений по доходам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сумме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твержденных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текущий финансовый год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он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решением) о бюджете плановых показателей по закрепленным за ГАД дохода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Calibri"/>
              </a:rPr>
              <a:t>(Инструкция № 191н, п. 54, 55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91FA-199D-4F49-8D0C-6BA9EFE2AF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14200" y="2571840"/>
          <a:ext cx="8643960" cy="3240000"/>
        </p:xfrm>
        <a:graphic>
          <a:graphicData uri="http://schemas.openxmlformats.org/drawingml/2006/table">
            <a:tbl>
              <a:tblPr/>
              <a:tblGrid>
                <a:gridCol w="3071880"/>
                <a:gridCol w="1643040"/>
                <a:gridCol w="1928880"/>
                <a:gridCol w="20001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Б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овые назначения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не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исполненные назнач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0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 1 00 00000 00 0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 1 01 01012 02 0000 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 1 05 04000 02 0000 1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 2 00 00000 00 0000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000,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9 2 02 02019 02 0000 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0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55" name="Группа 7"/>
          <p:cNvGrpSpPr/>
          <p:nvPr/>
        </p:nvGrpSpPr>
        <p:grpSpPr>
          <a:xfrm>
            <a:off x="7215120" y="3429000"/>
            <a:ext cx="430200" cy="1857240"/>
            <a:chOff x="7215120" y="3429000"/>
            <a:chExt cx="430200" cy="1857240"/>
          </a:xfrm>
        </p:grpSpPr>
        <p:sp>
          <p:nvSpPr>
            <p:cNvPr id="156" name="Прямая соединительная линия 8"/>
            <p:cNvSpPr/>
            <p:nvPr/>
          </p:nvSpPr>
          <p:spPr>
            <a:xfrm flipH="1" flipV="1">
              <a:off x="7216200" y="5284800"/>
              <a:ext cx="428760" cy="1440"/>
            </a:xfrm>
            <a:prstGeom prst="line">
              <a:avLst/>
            </a:prstGeom>
            <a:ln w="19080">
              <a:solidFill>
                <a:srgbClr val="fe32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Прямая соединительная линия 9"/>
            <p:cNvSpPr/>
            <p:nvPr/>
          </p:nvSpPr>
          <p:spPr>
            <a:xfrm flipV="1">
              <a:off x="7215120" y="3430080"/>
              <a:ext cx="1440" cy="1854360"/>
            </a:xfrm>
            <a:prstGeom prst="line">
              <a:avLst/>
            </a:prstGeom>
            <a:ln w="19080">
              <a:solidFill>
                <a:srgbClr val="fe32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" name="Прямая со стрелкой 10"/>
            <p:cNvCxnSpPr/>
            <p:nvPr/>
          </p:nvCxnSpPr>
          <p:spPr>
            <a:xfrm>
              <a:off x="7216200" y="3429000"/>
              <a:ext cx="429480" cy="2160"/>
            </a:xfrm>
            <a:prstGeom prst="straightConnector1">
              <a:avLst/>
            </a:prstGeom>
            <a:ln w="19080">
              <a:solidFill>
                <a:srgbClr val="fe3288"/>
              </a:solidFill>
              <a:miter/>
              <a:tailEnd len="med" type="arrow" w="med"/>
            </a:ln>
          </p:spPr>
        </p:cxnSp>
        <p:sp>
          <p:nvSpPr>
            <p:cNvPr id="159" name="Прямая соединительная линия 11"/>
            <p:cNvSpPr/>
            <p:nvPr/>
          </p:nvSpPr>
          <p:spPr>
            <a:xfrm flipH="1" flipV="1">
              <a:off x="7216200" y="4143240"/>
              <a:ext cx="428760" cy="1440"/>
            </a:xfrm>
            <a:prstGeom prst="line">
              <a:avLst/>
            </a:prstGeom>
            <a:ln w="19080">
              <a:solidFill>
                <a:srgbClr val="fe32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Прямая соединительная линия 13"/>
          <p:cNvSpPr/>
          <p:nvPr/>
        </p:nvSpPr>
        <p:spPr>
          <a:xfrm>
            <a:off x="142920" y="3786120"/>
            <a:ext cx="88581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4"/>
          <p:cNvSpPr/>
          <p:nvPr/>
        </p:nvSpPr>
        <p:spPr>
          <a:xfrm>
            <a:off x="142920" y="4929120"/>
            <a:ext cx="88581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одержимое 2"/>
          <p:cNvSpPr/>
          <p:nvPr/>
        </p:nvSpPr>
        <p:spPr>
          <a:xfrm>
            <a:off x="142920" y="5786280"/>
            <a:ext cx="8786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* Законом о бюджете утверждены плановые назначения по АДБ по детализированным к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0" y="1000080"/>
            <a:ext cx="91440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7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е показателей Справки (ф. 0503125) с идентичными показателями других участников консолидированного бюджета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тность указания кодов бюджетной класс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ление Справки в части передачи имущества бюджетным и автономным учреждениям – недопусти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людение соответствия кодов счетов по передаваемым и принимаемым активам и обязательств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ерка взаимосвязанных расчетов осуществлялась до апреля 201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замена Справок (ф.0503125) за 2013 год осуществлялась  более 1000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0"/>
            <a:ext cx="8585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авка по консолидируемым расчетам (ф. 05031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трелка вниз 4"/>
          <p:cNvSpPr/>
          <p:nvPr/>
        </p:nvSpPr>
        <p:spPr>
          <a:xfrm>
            <a:off x="3643200" y="4357800"/>
            <a:ext cx="1785960" cy="714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093C-050F-4368-BB52-E787E30892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0" y="1000080"/>
            <a:ext cx="8964720" cy="52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тность указания КБК в структуре номера счета бюджетного у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людение структуры КБ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тность отражения показателей по операциям передачи Учредителем нефинансовых активов подведомственным бюджетным и автономным учрежден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ывались коды раздела расходов без указания подраздела (например, 23 ФО указали ФКР: 01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03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00,…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ывались коды доходов без указания необходимой детализации (например, 2 ФО указали КБК 111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000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0000 1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замена Справок (ф.0503110) за 2013 год осуществлялась 411 р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250920" y="0"/>
            <a:ext cx="8585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авка по заключению счетов бюджетного учета отчетного финансового года (ф. 050311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трелка вниз 5"/>
          <p:cNvSpPr/>
          <p:nvPr/>
        </p:nvSpPr>
        <p:spPr>
          <a:xfrm>
            <a:off x="3571920" y="3929040"/>
            <a:ext cx="22143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81C9-04DF-47D1-B590-FFE1EFB4F1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4"/>
          <p:cNvSpPr/>
          <p:nvPr/>
        </p:nvSpPr>
        <p:spPr>
          <a:xfrm>
            <a:off x="0" y="1000080"/>
            <a:ext cx="896472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тность и полнота заполнения раздела 3 Отчета (ф. 05033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и корректность пояснений по допустимым отклонениям с данными ТОФК  (Отчет  об  операциях консолидированного бюджета субъекта РФ по использованию субсидий … (ф. 05318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показателей в разделе 2 по укрупненным (некорректным) видам расходов –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опустим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дел 3 Отчета (ф.0503324) не заполнен у трех финансовых орган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мена Отчета (ф.0503324) за 2013 год осуществлялась 61 р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50920" y="0"/>
            <a:ext cx="8585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чет об использовании межбюджетных трансфер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 федерального бюджета субъектами Российской Федерации, муниципальными образованиями и территориальным государственным внебюджетным фон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ф. 050332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Стрелка вниз 5"/>
          <p:cNvSpPr/>
          <p:nvPr/>
        </p:nvSpPr>
        <p:spPr>
          <a:xfrm>
            <a:off x="3214800" y="4714920"/>
            <a:ext cx="22143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0D17-1E0E-43D9-9F69-138493BFE6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Порядок отражения классификации расходов в Отчете (ф. 05033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214960" y="105264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ОГЛАСОВАНИЕ С ГРБС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1841400" y="1484280"/>
            <a:ext cx="2185920" cy="82224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Межбюджетны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рансфер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4127400" y="3984480"/>
            <a:ext cx="2185920" cy="8226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меется в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казаниях МФ РФ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65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484200" y="3984480"/>
            <a:ext cx="2185920" cy="8208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ЦСР по роспис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8"/>
          <p:cNvSpPr/>
          <p:nvPr/>
        </p:nvSpPr>
        <p:spPr>
          <a:xfrm>
            <a:off x="1841400" y="2698920"/>
            <a:ext cx="2185920" cy="82224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меется в Сводной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бюджетной роспис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3056040" y="5270400"/>
            <a:ext cx="2185920" cy="8226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оответствующ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ЦСР по 65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Прямая со стрелкой 19"/>
          <p:cNvCxnSpPr>
            <a:stCxn id="180" idx="2"/>
            <a:endCxn id="183" idx="0"/>
          </p:cNvCxnSpPr>
          <p:nvPr/>
        </p:nvCxnSpPr>
        <p:spPr>
          <a:xfrm flipH="1">
            <a:off x="2932920" y="2306520"/>
            <a:ext cx="2520" cy="393120"/>
          </a:xfrm>
          <a:prstGeom prst="straightConnector1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186" name="AutoShape 5"/>
          <p:cNvSpPr/>
          <p:nvPr/>
        </p:nvSpPr>
        <p:spPr>
          <a:xfrm>
            <a:off x="5842080" y="5270400"/>
            <a:ext cx="2185920" cy="8226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ЦС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ххх589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37"/>
          <p:cNvSpPr/>
          <p:nvPr/>
        </p:nvSpPr>
        <p:spPr>
          <a:xfrm>
            <a:off x="1055520" y="291312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38"/>
          <p:cNvSpPr/>
          <p:nvPr/>
        </p:nvSpPr>
        <p:spPr>
          <a:xfrm>
            <a:off x="6342120" y="419904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39"/>
          <p:cNvSpPr/>
          <p:nvPr/>
        </p:nvSpPr>
        <p:spPr>
          <a:xfrm>
            <a:off x="3413160" y="419904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40"/>
          <p:cNvSpPr/>
          <p:nvPr/>
        </p:nvSpPr>
        <p:spPr>
          <a:xfrm>
            <a:off x="4056120" y="291312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Shape 43"/>
          <p:cNvCxnSpPr>
            <a:stCxn id="183" idx="1"/>
          </p:cNvCxnSpPr>
          <p:nvPr/>
        </p:nvCxnSpPr>
        <p:spPr>
          <a:xfrm flipV="1" rot="10800000">
            <a:off x="1126440" y="3108960"/>
            <a:ext cx="714960" cy="87516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192" name="Shape 45"/>
          <p:cNvCxnSpPr>
            <a:stCxn id="183" idx="3"/>
          </p:cNvCxnSpPr>
          <p:nvPr/>
        </p:nvCxnSpPr>
        <p:spPr>
          <a:xfrm>
            <a:off x="4027320" y="3109680"/>
            <a:ext cx="743760" cy="87516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193" name="Shape 46"/>
          <p:cNvCxnSpPr/>
          <p:nvPr/>
        </p:nvCxnSpPr>
        <p:spPr>
          <a:xfrm flipV="1" rot="10800000">
            <a:off x="3412440" y="4412880"/>
            <a:ext cx="714960" cy="87552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194" name="Shape 47"/>
          <p:cNvCxnSpPr>
            <a:stCxn id="181" idx="3"/>
          </p:cNvCxnSpPr>
          <p:nvPr/>
        </p:nvCxnSpPr>
        <p:spPr>
          <a:xfrm>
            <a:off x="6313320" y="4395960"/>
            <a:ext cx="772560" cy="89280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195" name="Номер слайда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19E6-EA81-450D-9CB8-80FCBEDF85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Порядок отражения классификации доходов в Отчете (ф. 050332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5214960" y="1071720"/>
            <a:ext cx="39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ОГЛАСОВАНИЕ С ГРБС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4"/>
          <p:cNvSpPr/>
          <p:nvPr/>
        </p:nvSpPr>
        <p:spPr>
          <a:xfrm>
            <a:off x="2739960" y="1143000"/>
            <a:ext cx="2185920" cy="82224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Межбюджетный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трансфер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3311640" y="4929120"/>
            <a:ext cx="2571480" cy="135756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од доход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02 02999 00 0000 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02 03999 00 0000 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02 04999 00 0000 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02 09000 00 0000 15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954000" y="4929120"/>
            <a:ext cx="2185920" cy="78588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оответствующий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од доход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668600" y="3643200"/>
            <a:ext cx="2185920" cy="8226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меется в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Указаниях МФ РФ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65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Прямая со стрелкой 19"/>
          <p:cNvCxnSpPr>
            <a:stCxn id="198" idx="2"/>
            <a:endCxn id="203" idx="0"/>
          </p:cNvCxnSpPr>
          <p:nvPr/>
        </p:nvCxnSpPr>
        <p:spPr>
          <a:xfrm flipH="1">
            <a:off x="3831840" y="1965240"/>
            <a:ext cx="2160" cy="535680"/>
          </a:xfrm>
          <a:prstGeom prst="straightConnector1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204" name="Прямоугольник 37"/>
          <p:cNvSpPr/>
          <p:nvPr/>
        </p:nvSpPr>
        <p:spPr>
          <a:xfrm>
            <a:off x="1954080" y="257184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0"/>
          <p:cNvSpPr/>
          <p:nvPr/>
        </p:nvSpPr>
        <p:spPr>
          <a:xfrm>
            <a:off x="4954680" y="257184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Shape 43"/>
          <p:cNvCxnSpPr/>
          <p:nvPr/>
        </p:nvCxnSpPr>
        <p:spPr>
          <a:xfrm flipV="1" rot="10800000">
            <a:off x="2025000" y="2785680"/>
            <a:ext cx="714960" cy="87552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cxnSp>
        <p:nvCxnSpPr>
          <p:cNvPr id="207" name="Shape 45"/>
          <p:cNvCxnSpPr>
            <a:stCxn id="201" idx="3"/>
          </p:cNvCxnSpPr>
          <p:nvPr/>
        </p:nvCxnSpPr>
        <p:spPr>
          <a:xfrm>
            <a:off x="3854520" y="4054320"/>
            <a:ext cx="743760" cy="87552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203" name="AutoShape 8"/>
          <p:cNvSpPr/>
          <p:nvPr/>
        </p:nvSpPr>
        <p:spPr>
          <a:xfrm>
            <a:off x="2739960" y="2500200"/>
            <a:ext cx="2185920" cy="8226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треб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одтвержде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8" name="Shape 20"/>
          <p:cNvCxnSpPr>
            <a:stCxn id="201" idx="1"/>
          </p:cNvCxnSpPr>
          <p:nvPr/>
        </p:nvCxnSpPr>
        <p:spPr>
          <a:xfrm flipV="1" rot="10800000">
            <a:off x="1096200" y="4053240"/>
            <a:ext cx="572400" cy="89316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209" name="AutoShape 5"/>
          <p:cNvSpPr/>
          <p:nvPr/>
        </p:nvSpPr>
        <p:spPr>
          <a:xfrm>
            <a:off x="5168880" y="3643200"/>
            <a:ext cx="2571840" cy="78588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Код доход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 19 00000 00 0000 1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Shape 22"/>
          <p:cNvCxnSpPr/>
          <p:nvPr/>
        </p:nvCxnSpPr>
        <p:spPr>
          <a:xfrm>
            <a:off x="4954320" y="2786040"/>
            <a:ext cx="743400" cy="875520"/>
          </a:xfrm>
          <a:prstGeom prst="bentConnector2">
            <a:avLst/>
          </a:prstGeom>
          <a:ln w="9360">
            <a:solidFill>
              <a:srgbClr val="fe3288"/>
            </a:solidFill>
            <a:miter/>
            <a:tailEnd len="med" type="arrow" w="med"/>
          </a:ln>
        </p:spPr>
      </p:cxnSp>
      <p:sp>
        <p:nvSpPr>
          <p:cNvPr id="211" name="Прямоугольник 23"/>
          <p:cNvSpPr/>
          <p:nvPr/>
        </p:nvSpPr>
        <p:spPr>
          <a:xfrm>
            <a:off x="954000" y="378612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омер слайда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F6D2-3A71-45C8-9890-42F2B48C25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55"/>
          <p:cNvSpPr/>
          <p:nvPr/>
        </p:nvSpPr>
        <p:spPr>
          <a:xfrm>
            <a:off x="3882960" y="3857760"/>
            <a:ext cx="78588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alibri"/>
              </a:rPr>
              <a:t>Примеры некорректного отражения показателей в Отчете (ф. 0503324)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57120" y="1000080"/>
            <a:ext cx="842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шибочное отраж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ЦСР ххх5898 при наличии соответствующей ЦС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ри наличии подтвержденной потребности наличие остатка по КБК 219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41A30-049A-4C46-B117-914E5D9EB0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42920" y="2643120"/>
          <a:ext cx="8858160" cy="3321000"/>
        </p:xfrm>
        <a:graphic>
          <a:graphicData uri="http://schemas.openxmlformats.org/drawingml/2006/table">
            <a:tbl>
              <a:tblPr/>
              <a:tblGrid>
                <a:gridCol w="2052720"/>
                <a:gridCol w="576000"/>
                <a:gridCol w="571680"/>
                <a:gridCol w="1373040"/>
                <a:gridCol w="711360"/>
                <a:gridCol w="644400"/>
                <a:gridCol w="876240"/>
                <a:gridCol w="695520"/>
                <a:gridCol w="714240"/>
                <a:gridCol w="64296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С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д дохода по Б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ат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тупил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ссовый расх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щено в Ф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вращено из Ф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ат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23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субъектов Российской Федерации на софинансирование капитальных вложений в объекты государственной (муниципальной)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И5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2077020000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</a:tr>
              <a:tr h="923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т остатков субсидий, субвенций и иных межбюджетных трансфертов, имеющих целевое назначение, прошлых лет из бюджетов субъектов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хх58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1902000020000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923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т остатков субсидий, субвенций и иных межбюджетных трансфертов, имеющих целевое назначение, прошлых лет из бюджетов субъектов Российской Федер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И5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902000020000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f3f7"/>
                    </a:solidFill>
                  </a:tcPr>
                </a:tc>
              </a:tr>
            </a:tbl>
          </a:graphicData>
        </a:graphic>
      </p:graphicFrame>
      <p:sp>
        <p:nvSpPr>
          <p:cNvPr id="218" name="Овал 15"/>
          <p:cNvSpPr/>
          <p:nvPr/>
        </p:nvSpPr>
        <p:spPr>
          <a:xfrm rot="598200">
            <a:off x="123840" y="4622760"/>
            <a:ext cx="714240" cy="1500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Знак запрета 18"/>
          <p:cNvSpPr/>
          <p:nvPr/>
        </p:nvSpPr>
        <p:spPr>
          <a:xfrm>
            <a:off x="142920" y="4286160"/>
            <a:ext cx="714240" cy="642960"/>
          </a:xfrm>
          <a:prstGeom prst="pi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Выгнутая влево стрелка 19"/>
          <p:cNvSpPr/>
          <p:nvPr/>
        </p:nvSpPr>
        <p:spPr>
          <a:xfrm rot="10540200">
            <a:off x="8535600" y="3443040"/>
            <a:ext cx="401760" cy="971280"/>
          </a:xfrm>
          <a:custGeom>
            <a:avLst/>
            <a:gdLst>
              <a:gd name="textAreaLeft" fmla="*/ 53640 w 401760"/>
              <a:gd name="textAreaRight" fmla="*/ 348120 w 401760"/>
              <a:gd name="textAreaTop" fmla="*/ 205200 h 971280"/>
              <a:gd name="textAreaBottom" fmla="*/ 716040 h 97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126" stAng="-5400000" swAng="-5400000"/>
                <a:lnTo>
                  <a:pt x="0" y="11359"/>
                </a:lnTo>
                <a:arcTo wR="21600" hR="9126" stAng="10800000" swAng="-3248816"/>
                <a:lnTo>
                  <a:pt x="15293" y="21202"/>
                </a:lnTo>
                <a:lnTo>
                  <a:pt x="21600" y="19368"/>
                </a:lnTo>
                <a:lnTo>
                  <a:pt x="15293" y="16737"/>
                </a:lnTo>
                <a:lnTo>
                  <a:pt x="15293" y="17853"/>
                </a:lnTo>
                <a:arcTo wR="21600" hR="9126" stAng="7551184" swAng="3069936"/>
                <a:lnTo>
                  <a:pt x="162" y="10242"/>
                </a:lnTo>
                <a:arcTo wR="21600" hR="9126" stAng="-10621120" swAng="5221120"/>
                <a:close/>
              </a:path>
              <a:path fill="darkenLess" w="21600" h="21600">
                <a:moveTo>
                  <a:pt x="21600" y="0"/>
                </a:moveTo>
                <a:arcTo wR="21600" hR="9126" stAng="-5400000" swAng="-5400000"/>
                <a:lnTo>
                  <a:pt x="0" y="9126"/>
                </a:lnTo>
                <a:arcTo wR="21600" hR="9126" stAng="10800000" swAng="-178880"/>
                <a:lnTo>
                  <a:pt x="162" y="10242"/>
                </a:lnTo>
                <a:arcTo wR="21600" hR="9126" stAng="-10621120" swAng="5221120"/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Выгнутая вверх стрелка 20"/>
          <p:cNvSpPr/>
          <p:nvPr/>
        </p:nvSpPr>
        <p:spPr>
          <a:xfrm rot="16200000">
            <a:off x="1928880" y="3857760"/>
            <a:ext cx="1000080" cy="428400"/>
          </a:xfrm>
          <a:custGeom>
            <a:avLst/>
            <a:gdLst>
              <a:gd name="textAreaLeft" fmla="*/ 209880 w 1000080"/>
              <a:gd name="textAreaRight" fmla="*/ 736920 w 1000080"/>
              <a:gd name="textAreaTop" fmla="*/ 57240 h 428400"/>
              <a:gd name="textAreaBottom" fmla="*/ 371160 h 428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064" hR="21600" stAng="10800000" swAng="5400000"/>
                <a:lnTo>
                  <a:pt x="11379" y="0"/>
                </a:lnTo>
                <a:arcTo wR="9064" hR="21600" stAng="-5400000" swAng="3503756"/>
                <a:lnTo>
                  <a:pt x="21312" y="16200"/>
                </a:lnTo>
                <a:lnTo>
                  <a:pt x="19286" y="21600"/>
                </a:lnTo>
                <a:lnTo>
                  <a:pt x="16683" y="16200"/>
                </a:lnTo>
                <a:lnTo>
                  <a:pt x="17840" y="16200"/>
                </a:lnTo>
                <a:arcTo wR="9064" hR="21600" stAng="-1896244" swAng="-3318194"/>
                <a:lnTo>
                  <a:pt x="10222" y="177"/>
                </a:lnTo>
                <a:arcTo wR="9064" hR="21600" stAng="-5585562" swAng="-5214438"/>
                <a:close/>
              </a:path>
              <a:path fill="darkenLess" w="21600" h="21600">
                <a:moveTo>
                  <a:pt x="0" y="21600"/>
                </a:moveTo>
                <a:arcTo wR="9064" hR="21600" stAng="10800000" swAng="5400000"/>
                <a:lnTo>
                  <a:pt x="9064" y="0"/>
                </a:lnTo>
                <a:arcTo wR="9064" hR="21600" stAng="-5400000" swAng="185562"/>
                <a:lnTo>
                  <a:pt x="10222" y="177"/>
                </a:lnTo>
                <a:arcTo wR="9064" hR="21600" stAng="-5585562" swAng="-5214438"/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4"/>
          <p:cNvSpPr/>
          <p:nvPr/>
        </p:nvSpPr>
        <p:spPr>
          <a:xfrm>
            <a:off x="0" y="981000"/>
            <a:ext cx="8964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250920" y="0"/>
            <a:ext cx="8585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яснительная записка (ф. 0503360, 050316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08000" y="1214280"/>
            <a:ext cx="8964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7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личие и качество пояснений, отражаемых в Пояснительных записк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ание причин по допустимым отклонениям в контрольных соотноше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исание операций по взаимосвязанным расчетам между бюджетами, которые исполнены по кодам бюджетной классификации Российской Федерации, не предназначенным для их отражения (п. 212 Инструкции 191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A771-01DF-4850-90E5-4C50ACAF1B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0" y="1000080"/>
            <a:ext cx="896472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сокий уровень своевременности и качества формирования отчет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ое финансовое управление Кемеровской обла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партамент финансов г. Москвы; Департамент финансов, бюджетной и налоговой политики администрации Владимирской области; Департамент финансов Ивановской области; Департамент финансов Ярославской области; Департамент финансов Орловской области; Комитет финансов Новгородской области; Министерство финансов Краснодарского края;  Министерство финансов Республики Марий Эл; Министерство финансов Ставропольского края; Министерство финансов Рязанской области; Министерство финансов Республики Алтай; Министерство финансов Чеченской Республики; Министерство финансов Хабаровского кр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нистерство финансов Калужской области; Министерство финансов Пермского края; Министерство финансов Республики Адыгея;  Управление финансов Липецкой области; Управление финансов администрации города Байконур; Финансовое управление Тамб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50920" y="0"/>
            <a:ext cx="8585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временность представления и качество 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43C2-6ADD-4FBB-B6D7-FCF8148182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179280" y="907920"/>
            <a:ext cx="87854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е расчетов с учредителем по счету 0 210 06 000 «Расчеты с учредителем» с данными  по счету 1 204 33 000 «Участие в государственных (муниципальных) учреждения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ичие и корректность пояснения причин расхождения между финансовым результатом деятельности, отраженным в Балансе ф. 0503730 и в Отчете о финансовых результатах деятельности учреждения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(ф. 0503721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е Справки по консолидируемым расчетам учреждения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(ф. 0503725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счету 0 304 06 00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ль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части бухгалтерских операций по изменению типа казенного учреждения на бюджетное или автономное, или при изменении типа бюджетного или автономного учреждения на казенное в течение финансового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50920" y="0"/>
            <a:ext cx="8585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ухгалтерская отче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юджетных и автономных учреж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9E2D-1574-4D1B-9733-A1517733A1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Номер слайда 3"/>
          <p:cNvSpPr/>
          <p:nvPr/>
        </p:nvSpPr>
        <p:spPr>
          <a:xfrm>
            <a:off x="8404200" y="6454800"/>
            <a:ext cx="2826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78AD-4135-47B5-80DE-9447B7FF104A}" type="slidenum">
              <a:rPr b="0" lang="en-US" sz="1200" spc="-1" strike="noStrike">
                <a:solidFill>
                  <a:srgbClr val="87878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1284120" y="249120"/>
            <a:ext cx="65408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2"/>
          <p:cNvSpPr/>
          <p:nvPr/>
        </p:nvSpPr>
        <p:spPr>
          <a:xfrm>
            <a:off x="8748720" y="6237360"/>
            <a:ext cx="314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8DBB-8FF6-4DED-9228-90678BCC8F76}" type="slidenum">
              <a:rPr b="0" lang="en-US" sz="1400" spc="-1" strike="noStrike">
                <a:solidFill>
                  <a:srgbClr val="1f497d"/>
                </a:solidFill>
                <a:latin typeface="Lucida Gran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324000" y="363600"/>
            <a:ext cx="858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4"/>
          <p:cNvSpPr/>
          <p:nvPr/>
        </p:nvSpPr>
        <p:spPr>
          <a:xfrm>
            <a:off x="2556000" y="1628640"/>
            <a:ext cx="496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marL="343080" indent="-343080">
              <a:lnSpc>
                <a:spcPct val="95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5" descr="circle_422_239"/>
          <p:cNvPicPr/>
          <p:nvPr/>
        </p:nvPicPr>
        <p:blipFill>
          <a:blip r:embed="rId2"/>
          <a:stretch/>
        </p:blipFill>
        <p:spPr>
          <a:xfrm>
            <a:off x="3203640" y="2781360"/>
            <a:ext cx="3089160" cy="19317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26"/>
          <p:cNvSpPr/>
          <p:nvPr/>
        </p:nvSpPr>
        <p:spPr>
          <a:xfrm>
            <a:off x="4695840" y="5013360"/>
            <a:ext cx="1839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4"/>
          <p:cNvSpPr/>
          <p:nvPr/>
        </p:nvSpPr>
        <p:spPr>
          <a:xfrm>
            <a:off x="0" y="1000080"/>
            <a:ext cx="896472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облюдение сроков представления годовой бюджетной отчетности за 2013 год (не соблюдено одним финансовым орган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ачество показателей отче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по итогам приема отчетности за 2013 год 90 % финансовых органов бюджетов субъектов Российской Федерации в уже представленную бюджетную отчетность вносили исправления и корректировк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50920" y="0"/>
            <a:ext cx="8585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временность представления и качество  отче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низ 4"/>
          <p:cNvSpPr/>
          <p:nvPr/>
        </p:nvSpPr>
        <p:spPr>
          <a:xfrm>
            <a:off x="3357720" y="4214880"/>
            <a:ext cx="1785960" cy="1143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0" y="5429160"/>
            <a:ext cx="9144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ее количество замен представленных форм при сдаче отчетности за 2013 год составило 4 077 раз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*с учетом Справок (ф. 0503125) и Отчетности бюджетных и автономных учреждений (форм 05037хх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EEC2-5715-4D0F-B5AC-B94840B25A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0" y="1000080"/>
            <a:ext cx="914400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7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ответствие взаимосвязанных показателей с отчетностью УФК, ГРБС, БУ/А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статки денежных средств (счет 1 202 хх 000) = данные УФК (счет 1 203 хх 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статки межбюджетных трансфертов с ГРБС (счета 205, 206, 3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250920" y="0"/>
            <a:ext cx="8585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ланс исполнения бюджета ФО, ГВБФ (ф. 0503120, 05033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FDF9-0A5F-442E-BD0A-DE6E535FC1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0" y="1000080"/>
            <a:ext cx="914400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712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ие взаимосвязанных показателей с отчетностью УФК, ГРБС, БУ/А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казатели ОЦИ (счет 1 204 33 000) с данными АУ и БУ (счет 0 210 06 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казатели субсидий на иные цели (1 206 41 000) с данными АУ/БУ (5 205 81 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татки по строкам 171 «денежные средства учреждения на лицевых счетах в органе казначейства (020111000)», 172 «денежные средства учреждения в органе казначейства в пути (020113000)» -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допуст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 algn="just">
              <a:lnSpc>
                <a:spcPct val="12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50920" y="0"/>
            <a:ext cx="8585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ланс исполнения бюджета ФО, ГВБФ (ф. 0503120, 05033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888A-F57C-43C0-A71B-6CCECDBD9E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"/>
          <p:cNvSpPr/>
          <p:nvPr/>
        </p:nvSpPr>
        <p:spPr>
          <a:xfrm>
            <a:off x="0" y="1000080"/>
            <a:ext cx="9144000" cy="45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ение валюты баланса без должных осн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ветствие показателей строк 690 «Результат по кассовым операциям бюджета (0 402 00 000)» и 800 «Результат прошлых отчетных периодов по кассовому исполнению бюджета (0 402 30 000)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50920" y="0"/>
            <a:ext cx="8585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ланс исполнения бюджета ФО, ГВБФ (ф. 0503120, 05033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Стрелка вниз 4"/>
          <p:cNvSpPr/>
          <p:nvPr/>
        </p:nvSpPr>
        <p:spPr>
          <a:xfrm>
            <a:off x="3429000" y="4214880"/>
            <a:ext cx="1785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0" y="521496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 замены представленных Балансов (ф. 0503320) составило 99 р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авление контроля отчетности по остаткам денежных средств с данными УФК и ЦБ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ECBB-C83D-4226-A47D-AE905ABC2B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0" y="1000080"/>
            <a:ext cx="896472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marL="1080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ие показателей кассового исполнения бюджета с данными УФ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ие показателей по межбюджетным трансфертам с данными ГРБС и своевременность уточнения невыясненных поступ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максимально полной консолидации взаимосвязанных расчетов на уровне финансовых органов субъектов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0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80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50920" y="0"/>
            <a:ext cx="858528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 об исполн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олидированного бюджета (ф. 050331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5"/>
          <p:cNvSpPr/>
          <p:nvPr/>
        </p:nvSpPr>
        <p:spPr>
          <a:xfrm>
            <a:off x="0" y="4714920"/>
            <a:ext cx="9144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6CC8-FC0F-4599-8CF0-55D71844C0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 об исполнении бюдж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11280" y="112536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рядок отражения плановых показ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(Инструкция № 191н, п. 134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395280" y="2205000"/>
            <a:ext cx="2185920" cy="82224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Дохо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6364440" y="2136600"/>
            <a:ext cx="2185920" cy="8226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схо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6427800" y="4413240"/>
            <a:ext cx="2185920" cy="82224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сточники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финансир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395280" y="4479840"/>
            <a:ext cx="2185920" cy="8208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(Дефицит/Профицит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8"/>
          <p:cNvSpPr/>
          <p:nvPr/>
        </p:nvSpPr>
        <p:spPr>
          <a:xfrm>
            <a:off x="3411360" y="3809880"/>
            <a:ext cx="2186280" cy="8226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кон о бюдже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9"/>
          <p:cNvSpPr/>
          <p:nvPr/>
        </p:nvSpPr>
        <p:spPr>
          <a:xfrm>
            <a:off x="3411360" y="2806560"/>
            <a:ext cx="2186280" cy="822600"/>
          </a:xfrm>
          <a:prstGeom prst="roundRect">
            <a:avLst>
              <a:gd name="adj" fmla="val 16667"/>
            </a:avLst>
          </a:prstGeom>
          <a:solidFill>
            <a:srgbClr val="17bbfd">
              <a:alpha val="1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Бюджетна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спис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AutoShape 10"/>
          <p:cNvCxnSpPr>
            <a:stCxn id="122" idx="3"/>
            <a:endCxn id="123" idx="1"/>
          </p:cNvCxnSpPr>
          <p:nvPr/>
        </p:nvCxnSpPr>
        <p:spPr>
          <a:xfrm flipV="1">
            <a:off x="2581200" y="4220280"/>
            <a:ext cx="830880" cy="670680"/>
          </a:xfrm>
          <a:prstGeom prst="bentConnector3">
            <a:avLst>
              <a:gd name="adj1" fmla="val 49891"/>
            </a:avLst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6" name="AutoShape 11"/>
          <p:cNvCxnSpPr>
            <a:stCxn id="119" idx="3"/>
            <a:endCxn id="123" idx="1"/>
          </p:cNvCxnSpPr>
          <p:nvPr/>
        </p:nvCxnSpPr>
        <p:spPr>
          <a:xfrm>
            <a:off x="2581200" y="2616120"/>
            <a:ext cx="830880" cy="1605600"/>
          </a:xfrm>
          <a:prstGeom prst="bentConnector3">
            <a:avLst>
              <a:gd name="adj1" fmla="val 49891"/>
            </a:avLst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7" name="AutoShape 12"/>
          <p:cNvCxnSpPr>
            <a:stCxn id="120" idx="1"/>
            <a:endCxn id="124" idx="0"/>
          </p:cNvCxnSpPr>
          <p:nvPr/>
        </p:nvCxnSpPr>
        <p:spPr>
          <a:xfrm flipV="1" rot="10800000">
            <a:off x="4504680" y="2547720"/>
            <a:ext cx="1859760" cy="259200"/>
          </a:xfrm>
          <a:prstGeom prst="bentConnector2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28" name="AutoShape 13"/>
          <p:cNvCxnSpPr>
            <a:stCxn id="121" idx="0"/>
            <a:endCxn id="124" idx="3"/>
          </p:cNvCxnSpPr>
          <p:nvPr/>
        </p:nvCxnSpPr>
        <p:spPr>
          <a:xfrm flipV="1" rot="16200000">
            <a:off x="5961600" y="2853000"/>
            <a:ext cx="1195920" cy="1924560"/>
          </a:xfrm>
          <a:prstGeom prst="bentConnector2">
            <a:avLst/>
          </a:prstGeom>
          <a:ln w="223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29" name="AutoShape 14"/>
          <p:cNvCxnSpPr>
            <a:stCxn id="121" idx="1"/>
            <a:endCxn id="123" idx="3"/>
          </p:cNvCxnSpPr>
          <p:nvPr/>
        </p:nvCxnSpPr>
        <p:spPr>
          <a:xfrm rot="10800000">
            <a:off x="5596920" y="4221000"/>
            <a:ext cx="830880" cy="603720"/>
          </a:xfrm>
          <a:prstGeom prst="bentConnector3">
            <a:avLst>
              <a:gd name="adj1" fmla="val 50065"/>
            </a:avLst>
          </a:prstGeom>
          <a:ln w="2232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0" name="Номер слайда 1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815B-AF57-418F-842C-C96791CFDA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5"/>
          <p:cNvSpPr/>
          <p:nvPr/>
        </p:nvSpPr>
        <p:spPr>
          <a:xfrm>
            <a:off x="1547640" y="355680"/>
            <a:ext cx="671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Arial"/>
              </a:rPr>
              <a:t>Отчет  об исполнении бюдже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11280" y="1125360"/>
            <a:ext cx="81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орядок консолидации плановых показ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(Инструкция № 191н, п. 209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79440" y="1986480"/>
            <a:ext cx="844056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 случае наличия односторонних плановых показателей по взаимосвязанным расчетам между бюджетами (</a:t>
            </a:r>
            <a:r>
              <a:rPr b="0" lang="ru-RU" sz="2900" spc="-1" strike="noStrike">
                <a:solidFill>
                  <a:srgbClr val="000066"/>
                </a:solidFill>
                <a:latin typeface="Arial"/>
              </a:rPr>
              <a:t>плановые назначения по выбытиям не соответствуют плановым назначениям по поступлениям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) в графах 5, 7 в соответствующих разделах отчета указывается </a:t>
            </a:r>
            <a:r>
              <a:rPr b="0" lang="ru-RU" sz="2900" spc="-1" strike="noStrike">
                <a:solidFill>
                  <a:srgbClr val="000066"/>
                </a:solidFill>
                <a:latin typeface="Arial"/>
              </a:rPr>
              <a:t>меньший из указанных плановых показателей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5"/>
          <p:cNvSpPr txBox="1"/>
          <p:nvPr/>
        </p:nvSpPr>
        <p:spPr>
          <a:xfrm>
            <a:off x="755640" y="5950080"/>
            <a:ext cx="7691400" cy="32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"/>
              </a:rPr>
              <a:t>Утверждено (КОСГУ 251) = Утверждено (КОСГУ 151)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"/>
              <a:ea typeface="Arial"/>
            </a:endParaRPr>
          </a:p>
        </p:txBody>
      </p:sp>
      <p:sp>
        <p:nvSpPr>
          <p:cNvPr id="135" name="Line 6"/>
          <p:cNvSpPr/>
          <p:nvPr/>
        </p:nvSpPr>
        <p:spPr>
          <a:xfrm flipH="1">
            <a:off x="4414320" y="5805360"/>
            <a:ext cx="249480" cy="594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29C6-DE54-44C8-BCAD-F3BD738C09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9T22:40:53Z</dcterms:created>
  <dc:creator>ежик</dc:creator>
  <dc:description/>
  <dc:language>en-US</dc:language>
  <cp:lastModifiedBy>Johhnny</cp:lastModifiedBy>
  <dcterms:modified xsi:type="dcterms:W3CDTF">2014-09-11T09:43:38Z</dcterms:modified>
  <cp:revision>510</cp:revision>
  <dc:subject/>
  <dc:title>Основные вопросы формирования бюджетной отчетности и изменения, вносимые в Инструкцию 128н</dc:title>
</cp:coreProperties>
</file>