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dt" idx="19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move the slide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ftr" idx="20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 type="sldNum" idx="21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951527-B45A-496C-8968-47F0147393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1839E2-32D9-4924-80E8-DE6DE431E4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920" y="4714560"/>
            <a:ext cx="49816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Номер слайда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0AD03F-E4DE-4403-B71F-A5CDE7338C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Верхний колонтитул 4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6BA-8210-4D2A-8FA5-35F473FB7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8BDE-6544-4E6F-96E0-829A5AD9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BAF3-2D1E-45D0-A468-E7187752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C171-2F47-476C-9FF5-6A3F5B37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D4DE-0A1D-4929-90F2-49787888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DAD2-4B16-42F5-A25D-7ACBDC39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83F6-A0CB-4D5F-B715-E58FCD31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E22B-AA5B-4C55-87FF-2DB97383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9E83-0634-4B4A-8917-E8209E06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1E32-4A01-4D10-A727-331F9A6F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6ABE-D996-46F7-A7BD-D2697C55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7A77-F142-41CF-89B3-42DFBEC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2575-8498-4EBC-A34F-F2E81EFF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6CE71-40EA-49DA-B83D-1D93F8BF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4339-3D68-43BA-A971-BEDC2E48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CCB1-C75B-40D5-A500-56C060C0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13AF9-367B-441A-B46B-A87A054E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87284-3270-4E57-8518-3FB8A12B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4DC1E-07D6-43FF-8424-ECDDC9306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FF44-01FE-473A-ABFC-E1787FDB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7C55F-9749-47DC-85EA-F06F1BCB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8FB18-46AF-438F-AD9E-31174F8D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7A44-A56B-4185-B34B-910D502B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60AE5-4006-46D7-9143-437B17B2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469D9-6714-46B5-9401-B7E0327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9CAED-6C0F-418A-8E9F-D34012F4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825C-19FD-46A9-8028-A49F175C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00AC9-6AC3-4B24-AA3E-360F016A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01726-59F2-4E50-A920-3E00D9B5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8F94E-DE85-478D-9AC8-D56766E4E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26EDC-7356-4C8F-8E0E-7C87528C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5F2F2-F231-4C80-B39F-121B7A23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CBB2D-5098-4AB8-A92D-227A8D3D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804-7C31-42CA-BC0D-F41EE8C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48AB4-A2E8-4C47-BC56-EE536CB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AEAD-1731-4ED3-80EB-1732E7C4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E2F27-4D7C-4D1B-B7B3-44F41AA7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24862-B143-46B6-A525-7CA32AFA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0D0AB-FB8C-4AEA-81BE-1CE9C87E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904F5-9E45-4D72-8A2B-12C8CF14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33178C-0A47-47B1-A49C-FE3F07F9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5416-90A1-4094-AB2B-9A9DAA69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57EC-2737-433C-9637-9AF26426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2EC3D-BE8D-4D61-9E04-8E6A0142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323-7C61-4BFE-B63D-931FFDF6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3463B-4AFB-4287-A2C8-50BB7239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26D59-0F1A-427D-A5D5-2D828447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4F0CA-F11D-4127-8A9D-967171CF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6BE90-F012-42CC-AD3E-06F1E15A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B0562-B36C-4070-B3DF-21DF45B9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D3D48-0BFF-4907-8561-0BE1996B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AF396-86FA-4F22-AA69-3986F4DF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CFE36-4329-4C5F-94DD-5C179B93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0F8EA-B9EB-4737-BE45-D699C0D5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D6B48-599E-4815-A930-4FCA882F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FF5-56D7-4CA7-AFD6-18B7160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E4AB-733F-49EA-8520-FA179109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8D66-08AF-44BD-BC4A-9BF8D90C2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CB2D6-C9E1-4546-98B1-A01B4A93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3C0A4-D6B2-40E6-BE56-F172D4DE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6711-75ED-4721-91CF-6E4245C7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77D0A-B628-403B-A00E-238A62ED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145800" y="731520"/>
            <a:ext cx="899460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6675-6E17-47C7-B226-A7FC7F2A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5A629-ED92-4311-8B4E-C7AEF235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1F60-D2E6-4BE7-AA44-E462158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13D7C-1DA5-43A5-9BA7-B4580ED8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B4BB-B46E-4463-8920-78FC077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1CA95C-5823-4576-AACB-66069E3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2C4ED-BA95-4122-A0B4-2A41BABA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13956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119280" y="148752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15984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13956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119280" y="3855960"/>
            <a:ext cx="283752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DC428-29EE-4D56-9602-F65ED9D4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320" y="385596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2078-BD92-4AAD-B9DD-EF369C9E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984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320" y="1487520"/>
            <a:ext cx="43002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9840" y="3855960"/>
            <a:ext cx="881244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9DAA-6950-4735-9BBC-2543DCE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D804-1EB8-4123-B3D6-42A57DAA185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2B53F88-F1BE-4E65-BF7F-28C69E516D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43D5-B52E-481D-B520-688B3CB30BE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E0A6CC5-3B80-4935-AFB6-C06357168C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0BD9-BF8C-4F99-8D55-03BBDD37EB0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8172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0A2386A-28E6-4AE5-9454-99BA4591A9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129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6831-FA5D-4C77-9119-5760F10EA3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145933-E028-4902-8AAD-2DE4CA54BF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6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177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EB4-ED9B-4556-B653-BCDDACF6CF5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D1557B7-D102-4A03-AE7A-6B0070BBDF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0030"/>
          </a:solidFill>
          <a:ln w="9360">
            <a:solidFill>
              <a:srgbClr val="0000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0" y="455760"/>
            <a:ext cx="185760" cy="6402240"/>
          </a:xfrm>
          <a:custGeom>
            <a:avLst/>
            <a:gdLst/>
            <a:ahLst/>
            <a:rect l="l" t="t" r="r" b="b"/>
            <a:pathLst>
              <a:path w="117" h="4033">
                <a:moveTo>
                  <a:pt x="0" y="4033"/>
                </a:moveTo>
                <a:lnTo>
                  <a:pt x="0" y="0"/>
                </a:lnTo>
                <a:lnTo>
                  <a:pt x="117" y="117"/>
                </a:lnTo>
                <a:lnTo>
                  <a:pt x="112" y="4033"/>
                </a:lnTo>
                <a:lnTo>
                  <a:pt x="0" y="4033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7" descr="Надпись Минфин"/>
          <p:cNvPicPr/>
          <p:nvPr/>
        </p:nvPicPr>
        <p:blipFill>
          <a:blip r:embed="rId2"/>
          <a:stretch/>
        </p:blipFill>
        <p:spPr>
          <a:xfrm>
            <a:off x="0" y="0"/>
            <a:ext cx="355284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28"/>
          <p:cNvGraphicFramePr/>
          <p:nvPr/>
        </p:nvGraphicFramePr>
        <p:xfrm>
          <a:off x="8737560" y="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37560" y="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4" name="Picture 29" descr="untitled1"/>
          <p:cNvPicPr/>
          <p:nvPr/>
        </p:nvPicPr>
        <p:blipFill>
          <a:blip r:embed="rId5"/>
          <a:stretch/>
        </p:blipFill>
        <p:spPr>
          <a:xfrm>
            <a:off x="7848720" y="0"/>
            <a:ext cx="868320" cy="457200"/>
          </a:xfrm>
          <a:prstGeom prst="rect">
            <a:avLst/>
          </a:prstGeom>
          <a:ln w="0">
            <a:noFill/>
          </a:ln>
        </p:spPr>
      </p:pic>
      <p:sp>
        <p:nvSpPr>
          <p:cNvPr id="225" name="Freeform 31"/>
          <p:cNvSpPr/>
          <p:nvPr/>
        </p:nvSpPr>
        <p:spPr>
          <a:xfrm>
            <a:off x="-1440" y="457200"/>
            <a:ext cx="9144000" cy="196920"/>
          </a:xfrm>
          <a:custGeom>
            <a:avLst/>
            <a:gdLst/>
            <a:ahLst/>
            <a:rect l="l" t="t" r="r" b="b"/>
            <a:pathLst>
              <a:path w="5760" h="124">
                <a:moveTo>
                  <a:pt x="5760" y="0"/>
                </a:moveTo>
                <a:lnTo>
                  <a:pt x="0" y="4"/>
                </a:lnTo>
                <a:lnTo>
                  <a:pt x="120" y="124"/>
                </a:lnTo>
                <a:lnTo>
                  <a:pt x="5758" y="124"/>
                </a:lnTo>
                <a:lnTo>
                  <a:pt x="5760" y="0"/>
                </a:lnTo>
                <a:close/>
              </a:path>
            </a:pathLst>
          </a:custGeom>
          <a:gradFill rotWithShape="0">
            <a:gsLst>
              <a:gs pos="0">
                <a:srgbClr val="00003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5800" y="731520"/>
            <a:ext cx="8994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14185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59840" y="1487520"/>
            <a:ext cx="88124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9F7D-C15A-4D9D-80A0-5BC115AC886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534000"/>
            <a:ext cx="2590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ЙД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56D4986-0189-4D64-A78F-745F2BB03B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395280" y="1443960"/>
            <a:ext cx="8280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Актуальные вопросы администрирования доходов бюджетов бюджетной системы Российской Фед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MF_emblema [Converted]"/>
          <p:cNvPicPr/>
          <p:nvPr/>
        </p:nvPicPr>
        <p:blipFill>
          <a:blip r:embed="rId1"/>
          <a:stretch/>
        </p:blipFill>
        <p:spPr>
          <a:xfrm>
            <a:off x="755640" y="836640"/>
            <a:ext cx="879480" cy="108252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4"/>
          <p:cNvSpPr/>
          <p:nvPr/>
        </p:nvSpPr>
        <p:spPr>
          <a:xfrm>
            <a:off x="0" y="4869000"/>
            <a:ext cx="91440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кладчик: О.В. Парши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чальник отдела методологии исполнения бюджетов по доходам и источникам финансирования дефицита Департамента бюджетной метод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инистерства финанс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357120" y="4143240"/>
            <a:ext cx="2916360" cy="3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0" y="6308640"/>
            <a:ext cx="91440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9840" y="691920"/>
            <a:ext cx="8659800" cy="616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                     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Изменения</a:t>
            </a: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в БК РФ</a:t>
            </a: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514185"/>
                </a:solidFill>
                <a:latin typeface="Times New Roman"/>
              </a:rPr>
              <a:t>-</a:t>
            </a: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ст. 160.1 «Бюджетные полномочия главного администратора (администратора) доходов бюджета»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Главный администратор доходов бюджета обладает следующими бюджетными полномочиями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      ….</a:t>
            </a:r>
            <a:br>
              <a:rPr sz="32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станавливает методику прогнозирования поступлений доходов в бюджет </a:t>
            </a:r>
            <a:br>
              <a:rPr sz="3200"/>
            </a:br>
            <a:br>
              <a:rPr sz="32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- 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ст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160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2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«Бюджетные полномочия главного администратора (администратора) источников финансирования дефицита бюджета» </a:t>
            </a:r>
            <a:br>
              <a:rPr sz="2400"/>
            </a:b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….</a:t>
            </a:r>
            <a:br>
              <a:rPr sz="24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 Главный администратор источников финансирования дефицита бюджета обладает следующими бюджетными полномочиями</a:t>
            </a:r>
            <a:r>
              <a:rPr b="0" lang="en-US" sz="2400" spc="-1" strike="noStrike">
                <a:solidFill>
                  <a:srgbClr val="514185"/>
                </a:solidFill>
                <a:latin typeface="Times New Roman"/>
              </a:rPr>
              <a:t>:</a:t>
            </a:r>
            <a:br>
              <a:rPr sz="2400"/>
            </a:b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станавливает методику прогнозирования поступлений по источникам финансирования дефицита бюджета</a:t>
            </a:r>
            <a:br>
              <a:rPr sz="3200"/>
            </a:b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0" name="Прямоугольник 2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97080" y="63036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21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главу 23.3 части второй Налогового кодекса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250920" y="2349000"/>
            <a:ext cx="8542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Глава 25.3. ГОСУДАРСТВЕННАЯ ПОШЛИ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ом предусмотрена индексация размеров государственной пошлины за совершение юридически значимых действий на уровень накопленной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2009 года по 2014 год инфляци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 вступает в силу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января 2015 года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 Положения Закона в части установления государственной пошлины за лицензирование деятельности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о управлению многоквартирными домами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вступили в силу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сентября 2014 года</a:t>
            </a: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Законом предусмотрен понижающий коэффициент 0,7 для оплаты государственной пошлины в электронной форме через порталы государственных и муниципальных услуг. Согласно Закону указанные положения применяются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с 1 января 2015 года по 1 января 2019 года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97080" y="563040"/>
            <a:ext cx="8785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21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главу 23.3 части второй Налогового кодекса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               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Приказ Минфина России от 29</a:t>
            </a:r>
            <a:r>
              <a:rPr b="0" i="1" lang="en-US" sz="2400" spc="-1" strike="noStrike">
                <a:solidFill>
                  <a:srgbClr val="00b0f0"/>
                </a:solidFill>
                <a:latin typeface="Times New Roman"/>
              </a:rPr>
              <a:t>.08.2014 </a:t>
            </a:r>
            <a:r>
              <a:rPr b="0" i="1" lang="ru-RU" sz="2400" spc="-1" strike="noStrike">
                <a:solidFill>
                  <a:srgbClr val="00b0f0"/>
                </a:solidFill>
                <a:latin typeface="Times New Roman"/>
              </a:rPr>
              <a:t>№ 88н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000 1 08 07400 01 0000 110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 Государственная пошлина за действия уполномоченных органов субъектов Российской Федерации, связанные с лицензированием предпринимательской деятельности по управлению многоквартирными дом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7640" y="1125000"/>
            <a:ext cx="87850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250560" y="2781360"/>
            <a:ext cx="8785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50. Налоговые доходы федерального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ой пошлины за совершение федеральными органами исполнительной власти юридически значимых действий в случае подачи заявления и (или) документов, необходимых для их совершения, в многофункциональный центр предоставления государственных и муниципальных услуг - по нормативу 50 проценто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-360" y="99540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50560" y="2349360"/>
            <a:ext cx="8785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атья 56. Налоговые доходы бюджетов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за действия уполномоченных органов субъектов Российской Федерации, связанные с лицензированием предпринимательской деятельности по управлению многоквартирными дом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государственной пошлины (подлежащей зачислению по месту государственной регистрации, совершения юридически значимых действий или выдачи документов) за совершение федеральными органами исполнительной власти юридически значимых действий в случае подачи заявления и (или) документов, необходимых для их совершения, в многофункциональный центр предоставления государственных и муниципальных услуг - по нормативу 50 процент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7854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50560" y="1773000"/>
            <a:ext cx="878508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3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, удостоверяющего личность гражданина Российской Федерации за пределами территории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4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 государственная пошлина за выдачу паспорта, удостоверяющего личность гражданина Российской Федерации за пределами территории Российской Федерации, содержащего электронный носитель информации (паспорта нового поколения)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5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, удостоверяющего личность гражданина Российской Федерации за пределами территории Российской Федерации, гражданину Российской Федерации в возрасте до 14 лет 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995040"/>
            <a:ext cx="878508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2800"/>
            </a:b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8000" y="213336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6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 государственная пошлина за выдачу паспорта, удостоверяющего личность гражданина Российской Федерации за пределами территории Российской Федерации, содержащего электронный носитель информации (паспорта нового поколения), гражданину Российской Федерации в возрасте до 14 лет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7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несение изменений в паспорт, удостоверяющего личность гражданина Российской Федерации за пределами территории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50560" y="2349000"/>
            <a:ext cx="87850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010 01 0000 110 «Государственная пошлина за регистрацию юридических лиц, физических лиц в качестве индивидуальных предпринимателей, изменений, вносимых в учредительные документы юридического лица и другие юридически значимые действия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020 01 0000 110 «Государственная пошлина за государственную регистрацию прав, ограничений (обременений) прав на недвижимое имущество и сделок с ним»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79280" y="1341360"/>
            <a:ext cx="87854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50560" y="2924280"/>
            <a:ext cx="878508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34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 гражданина Российской Федерации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35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 - государственная пошлина за выдачу паспорта гражданина Российской Федерации взамен утраченного или пришедшего в негодность </a:t>
            </a: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(при обращении через многофункциональные центр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9280" y="1125360"/>
            <a:ext cx="87854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Федеральный закон от 21.07.2014 № 249-ФЗ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статьи 50 и 56 Бюджетного кодекса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79280" y="2708280"/>
            <a:ext cx="885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Изменения в приказ Минфина России от 1 июля 2013 года № 65н    «Об утверждении Указаний о порядке применения бюджетной классификации Российской Федерации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</a:rPr>
              <a:t>000 1 08 07141 01 0000 110 «Государственная пошлина за государственную регистрацию транспортных средств и иные юридически значимые действия уполномоченных федеральных государственных органов, связанных с изменением и выдачей документов на транспортные средства, регистрационных знаков, водительских удостоверений»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 применением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</a:rPr>
              <a:t>8000 – (при обращении через многофункциональные центр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3"/>
          <p:cNvSpPr/>
          <p:nvPr/>
        </p:nvSpPr>
        <p:spPr>
          <a:xfrm>
            <a:off x="7885080" y="563400"/>
            <a:ext cx="125892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55640" y="980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 u="sng">
                <a:solidFill>
                  <a:srgbClr val="514185"/>
                </a:solidFill>
                <a:uFillTx/>
                <a:latin typeface="Times New Roman"/>
              </a:rPr>
              <a:t>Администрирование штрафов</a:t>
            </a:r>
            <a:br>
              <a:rPr sz="3800"/>
            </a:br>
            <a:r>
              <a:rPr b="0" lang="ru-RU" sz="2400" spc="-1" strike="noStrike">
                <a:solidFill>
                  <a:srgbClr val="514185"/>
                </a:solidFill>
                <a:latin typeface="Times New Roman"/>
              </a:rPr>
              <a:t>налагаемых на основании протоколов составленных должностными лицами контрольно-счетных органов субъектов Российской Федерации</a:t>
            </a:r>
            <a:endParaRPr b="0" lang="en-US" sz="24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0" y="2565360"/>
            <a:ext cx="9144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Times New Roman"/>
              </a:rPr>
              <a:t>Вариант 1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 ГАД = КСО субъекта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протоко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66"/>
                </a:solidFill>
                <a:uFillTx/>
                <a:latin typeface="Times New Roman"/>
              </a:rPr>
              <a:t>Вариант 2</a:t>
            </a: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</a:rPr>
              <a:t>ГАД = ОИВ субъекта РФ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66"/>
                </a:solidFill>
                <a:latin typeface="Times New Roman"/>
              </a:rPr>
              <a:t>протоко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1"/>
          <p:cNvSpPr/>
          <p:nvPr/>
        </p:nvSpPr>
        <p:spPr>
          <a:xfrm>
            <a:off x="539640" y="3141720"/>
            <a:ext cx="2592360" cy="7920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СО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ны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трелка вправо 5"/>
          <p:cNvSpPr/>
          <p:nvPr/>
        </p:nvSpPr>
        <p:spPr>
          <a:xfrm>
            <a:off x="3492360" y="3429000"/>
            <a:ext cx="2087640" cy="138240"/>
          </a:xfrm>
          <a:prstGeom prst="rightArrow">
            <a:avLst>
              <a:gd name="adj1" fmla="val 50000"/>
              <a:gd name="adj2" fmla="val 50129"/>
            </a:avLst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6194520" y="3141720"/>
            <a:ext cx="2409840" cy="7920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мировой суд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3508200" y="5300640"/>
            <a:ext cx="2127600" cy="21276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оугольник 9"/>
          <p:cNvSpPr/>
          <p:nvPr/>
        </p:nvSpPr>
        <p:spPr>
          <a:xfrm>
            <a:off x="539640" y="5084640"/>
            <a:ext cx="259236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СО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ные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0"/>
          <p:cNvSpPr/>
          <p:nvPr/>
        </p:nvSpPr>
        <p:spPr>
          <a:xfrm>
            <a:off x="6194520" y="5119560"/>
            <a:ext cx="240984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ИВ субъекта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Прямоугольник 1"/>
          <p:cNvSpPr/>
          <p:nvPr/>
        </p:nvSpPr>
        <p:spPr>
          <a:xfrm>
            <a:off x="7975440" y="549360"/>
            <a:ext cx="1152720" cy="43164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9280" y="1052280"/>
            <a:ext cx="8785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68360" y="2492280"/>
            <a:ext cx="83246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тья 41. Виды доходов бюдже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6. Нормативные правовые акты, договоры, в соответствии с которыми уплачиваются платежи, являющиеся источниками неналоговых доходов бюджетов, должны предусматривать положения о порядке их исчисления, размере, сроках и (или) условиях уплат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Прямоугольник 5"/>
          <p:cNvSpPr/>
          <p:nvPr/>
        </p:nvSpPr>
        <p:spPr>
          <a:xfrm>
            <a:off x="7991640" y="53964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181080" y="779040"/>
            <a:ext cx="896472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   </a:t>
            </a:r>
            <a:br>
              <a:rPr sz="3200"/>
            </a:b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250560" y="1700280"/>
            <a:ext cx="8785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Статья 160.1. Бюджетные полномочия главного администратора (администратора) доходов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buClr>
                <a:srgbClr val="000066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Администратор доходов бюджета обладает следующими бюджетными полномочия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imes New Roman"/>
              </a:rPr>
              <a:t>      …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принимает решение о признании безнадежными к    взысканию и списании начисленных сумм платежей в бюджет, уплата и (или) взыскание которых невозможны, в соответствии с законодательством Российской Федерации  и (или) общими требованиями, установленных Министерством финансов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Проект федерального закона № 529548-6 </a:t>
            </a:r>
            <a:br>
              <a:rPr sz="3200"/>
            </a:br>
            <a:r>
              <a:rPr b="0" lang="ru-RU" sz="3200" spc="-1" strike="noStrike">
                <a:solidFill>
                  <a:srgbClr val="514185"/>
                </a:solidFill>
                <a:latin typeface="Times New Roman"/>
              </a:rPr>
              <a:t>«О внесении изменений в Бюджетный кодекс Российской Федерации»</a:t>
            </a:r>
            <a:endParaRPr b="0" lang="en-US" sz="32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47840" y="2491920"/>
            <a:ext cx="832464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Введение новой ст. 47.1 «Перечень и реестры источников доходов бюджетов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0.1 «Бюджетные полномочия главного администратора (администратора) доходов бюджет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5 «Бюджетные полномочия Министерства финансов Российской Федерации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Times New Roman"/>
              </a:rPr>
              <a:t>Изменения в ст. 166.1 «Бюджетные полномочия Федерального казначейств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Прямоугольник 3"/>
          <p:cNvSpPr/>
          <p:nvPr/>
        </p:nvSpPr>
        <p:spPr>
          <a:xfrm>
            <a:off x="797256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174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Статья 4</a:t>
            </a:r>
            <a:r>
              <a:rPr b="0" lang="en-US" sz="2800" spc="-1" strike="noStrike">
                <a:solidFill>
                  <a:srgbClr val="514185"/>
                </a:solidFill>
                <a:latin typeface="Times New Roman"/>
              </a:rPr>
              <a:t>7</a:t>
            </a:r>
            <a:r>
              <a:rPr b="0" lang="ru-RU" sz="2800" spc="-1" strike="noStrike">
                <a:solidFill>
                  <a:srgbClr val="514185"/>
                </a:solidFill>
                <a:latin typeface="Times New Roman"/>
              </a:rPr>
              <a:t>.1 БК РФ «Перечень и реестры источников доходов бюджетов»</a:t>
            </a:r>
            <a:endParaRPr b="0" lang="en-US" sz="28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298" name="Овал 4"/>
          <p:cNvSpPr/>
          <p:nvPr/>
        </p:nvSpPr>
        <p:spPr>
          <a:xfrm>
            <a:off x="3568680" y="1557360"/>
            <a:ext cx="2927520" cy="120492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естр источ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9"/>
          <p:cNvSpPr/>
          <p:nvPr/>
        </p:nvSpPr>
        <p:spPr>
          <a:xfrm>
            <a:off x="684360" y="2970360"/>
            <a:ext cx="1584000" cy="86832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Ф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10"/>
          <p:cNvSpPr/>
          <p:nvPr/>
        </p:nvSpPr>
        <p:spPr>
          <a:xfrm>
            <a:off x="3951360" y="3753000"/>
            <a:ext cx="2160360" cy="1079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су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1"/>
          <p:cNvSpPr/>
          <p:nvPr/>
        </p:nvSpPr>
        <p:spPr>
          <a:xfrm>
            <a:off x="900000" y="5229360"/>
            <a:ext cx="2341800" cy="107928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мес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2"/>
          <p:cNvSpPr/>
          <p:nvPr/>
        </p:nvSpPr>
        <p:spPr>
          <a:xfrm>
            <a:off x="6732720" y="4869000"/>
            <a:ext cx="2411280" cy="1081080"/>
          </a:xfrm>
          <a:prstGeom prst="ellipse">
            <a:avLst/>
          </a:prstGeom>
          <a:solidFill>
            <a:srgbClr val="cccc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гос. внебю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Овал 13"/>
          <p:cNvSpPr/>
          <p:nvPr/>
        </p:nvSpPr>
        <p:spPr>
          <a:xfrm>
            <a:off x="3844800" y="5362560"/>
            <a:ext cx="2374920" cy="1079640"/>
          </a:xfrm>
          <a:prstGeom prst="ellipse">
            <a:avLst/>
          </a:prstGeom>
          <a:solidFill>
            <a:srgbClr val="00cc99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ИД тер. г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бюд.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2700360" y="2970360"/>
            <a:ext cx="1655640" cy="21873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2187360"/>
              <a:gd name="textAreaBottom" fmla="*/ 2187720 h 2187360"/>
            </a:gdLst>
            <a:ahLst/>
            <a:rect l="textAreaLeft" t="textAreaTop" r="textAreaRight" b="textAreaBottom"/>
            <a:pathLst>
              <a:path w="2149434" h="1579418">
                <a:moveTo>
                  <a:pt x="2149434" y="0"/>
                </a:moveTo>
                <a:lnTo>
                  <a:pt x="0" y="1579418"/>
                </a:ln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9"/>
          <p:cNvSpPr/>
          <p:nvPr/>
        </p:nvSpPr>
        <p:spPr>
          <a:xfrm flipH="1">
            <a:off x="2268360" y="2565360"/>
            <a:ext cx="1440000" cy="5176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H="1">
            <a:off x="5032080" y="2970360"/>
            <a:ext cx="291960" cy="73476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олилиния 23"/>
          <p:cNvSpPr/>
          <p:nvPr/>
        </p:nvSpPr>
        <p:spPr>
          <a:xfrm>
            <a:off x="5353200" y="2762280"/>
            <a:ext cx="1379520" cy="252252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2522520"/>
              <a:gd name="textAreaBottom" fmla="*/ 2522880 h 2522520"/>
            </a:gdLst>
            <a:ahLst/>
            <a:rect l="textAreaLeft" t="textAreaTop" r="textAreaRight" b="textAreaBottom"/>
            <a:pathLst>
              <a:path w="2032362" h="2470067">
                <a:moveTo>
                  <a:pt x="1425039" y="0"/>
                </a:moveTo>
                <a:cubicBezTo>
                  <a:pt x="1810986" y="571994"/>
                  <a:pt x="2196934" y="1143989"/>
                  <a:pt x="1959428" y="1555667"/>
                </a:cubicBezTo>
                <a:cubicBezTo>
                  <a:pt x="1721922" y="1967345"/>
                  <a:pt x="860961" y="2218706"/>
                  <a:pt x="0" y="2470067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6"/>
          <p:cNvSpPr/>
          <p:nvPr/>
        </p:nvSpPr>
        <p:spPr>
          <a:xfrm>
            <a:off x="6659640" y="2421000"/>
            <a:ext cx="1152360" cy="23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20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197000"/>
            <a:ext cx="882036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0.1 БК РФ «Бюджетные полномочия главного администратора (администратора) доходов бюджета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68360" y="2491920"/>
            <a:ext cx="83246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…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ведет реестр источников доходов бюджета по закрепленным за ним источникам доходов на основании перечня источников доходов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87138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5 БК РФ «Бюджетные полномочия Министерства финансов Российской Федерации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68360" y="3573360"/>
            <a:ext cx="832464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      …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формирует и ведет реестр источников доходов Российской Федерации, реестр источников доходов федерального бюдже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9280" y="1413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514185"/>
                </a:solidFill>
                <a:latin typeface="Times New Roman"/>
              </a:rPr>
              <a:t>Изменения в ст. 166.1 БК РФ «Бюджетные полномочия Федерального казначейства»</a:t>
            </a:r>
            <a:br>
              <a:rPr sz="4000"/>
            </a:br>
            <a:endParaRPr b="0" lang="en-US" sz="4000" spc="-1" strike="noStrike">
              <a:solidFill>
                <a:srgbClr val="514185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47840" y="3715920"/>
            <a:ext cx="8324640" cy="23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…</a:t>
            </a: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0000"/>
                </a:solidFill>
                <a:latin typeface="Times New Roman"/>
              </a:rPr>
              <a:t>формирует и ведет перечень источников доходов бюджетов бюджетной системы Российской Федер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3"/>
          <p:cNvSpPr/>
          <p:nvPr/>
        </p:nvSpPr>
        <p:spPr>
          <a:xfrm>
            <a:off x="7991640" y="563400"/>
            <a:ext cx="1152360" cy="432000"/>
          </a:xfrm>
          <a:prstGeom prst="rect">
            <a:avLst/>
          </a:prstGeom>
          <a:solidFill>
            <a:srgbClr val="ffff00"/>
          </a:solidFill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йд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3:42:30Z</dcterms:created>
  <dc:creator>Efimov I.L.</dc:creator>
  <dc:description/>
  <dc:language>en-US</dc:language>
  <cp:lastModifiedBy>ВКС</cp:lastModifiedBy>
  <cp:lastPrinted>2014-09-08T15:41:05Z</cp:lastPrinted>
  <dcterms:modified xsi:type="dcterms:W3CDTF">2014-09-09T05:26:42Z</dcterms:modified>
  <cp:revision>1282</cp:revision>
  <dc:subject/>
  <dc:title>No Slide Title</dc:title>
</cp:coreProperties>
</file>