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dt" idx="3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ftr" idx="3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 type="sldNum" idx="3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FFDF7D-0E75-4ACE-995E-0EF55F13E5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9C08B2F-49CD-4B79-AB6B-30E9976CFF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D9EAB9-3D4C-42D6-84EC-6D31AA75C8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07D89B-26AB-4D63-BE69-8B102F2811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656D85-EFD1-419F-8C08-059FD33202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0A64E7-7763-4C63-9ECD-1F8E172E2F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79320" y="4721400"/>
            <a:ext cx="54468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0652B7-9F0A-46B7-99DA-D59BCBE1E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2CCC-6409-45B2-9435-0C87BC948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E8C3-534D-4804-97CB-9422D64C7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BAEBC-C86B-415B-BE9E-F90C4D17B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48D3E6-AB06-4209-95CC-27B019C6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EAEE6-F223-4BFB-BC56-16909D4D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93F72-D506-4172-8BB1-173FBED5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57544-FB3B-43A7-9CAD-922CA94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D8564E-CD23-4811-B7F8-9D873971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774E8-10B5-4554-AB7E-DDBF1519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F9391-96E0-425F-9CF8-B24209DE7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C253C-734B-4FD4-B1A2-439DA25C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AECE7-C814-4DD7-8EB5-A1EE60E3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15E2-D562-464F-AE09-F9900FBD7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E8220-E012-4A80-880C-49E1EDA9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E4A9F-D144-455E-91F3-7DAABA63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17BB6-8E2F-4698-AF66-A6476594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87C9B-55F6-4FEA-ACA0-87325CD8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AA9D8-602D-4A97-8F3A-2568766C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456DE-FDD9-4832-94D5-21A42C82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085F3C-85B2-4816-AB69-1B7FBCE4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E44AD-8E2F-4745-B302-6118CA90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67EEF9-24E8-40A7-9B26-99BAE22C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4FA27-9A86-44F2-9868-23C02838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45A5-B175-498D-8F28-D8ABC61F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37130-87B8-42E5-A5A8-812E80E5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5872C-5D19-45CC-BDA4-D1B2D9869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374AD-56B5-4D93-8CCF-BA588C7C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3C029-7BE6-421B-9DC7-4E05BBA3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7FA90-B88C-4816-982D-A6908B5C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8E128-8327-4C45-96A3-5BF3A165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577CE-4FAE-46C8-A380-B5503E07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F527D-F76F-4B3B-BF54-F7705BAB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A3D6E-3333-4958-94EB-C9044944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F9427-7CBE-44FD-AD30-B6D3601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1ECD-B9DE-4D22-A659-172EF354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59759-BDF9-403F-A9F5-E2C390CA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A44F8-DBD9-431B-A51A-6E7E6ADDD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32A02-C397-47CA-9638-42EA6D03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7F6670-F384-4DAC-A265-8581FDDD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7286A-099F-468D-BE0F-388DC77B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E22C2-2B92-4AD1-80CB-E5A2181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B5C332-3D6E-4A7B-A1A2-D6CAE9AD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C5EBA7-FFD9-4F00-B494-872DF972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6D32F-DA00-41ED-B0FA-149BDB54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6F79D-F9B3-4EF5-8584-5070B3DB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2FC8-D404-441F-9E21-CCF45B55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EAF971-D32D-4355-A291-EF2000B1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DBE6C-6AE2-4F85-A0FA-66C269B3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CCD59-F2D9-44CA-A3F0-E460FB62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64F66-D10B-4A56-81D1-34509907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876D2-838B-4EB5-B0E0-36C9B8073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B898-181A-4856-BD80-830A7D06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5300E-810D-46DD-AB37-65B4B28F7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86E8-1A25-4431-8600-E932794E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37DC-A4AB-4F03-BAF5-798A8787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979C-E1DE-4950-8137-54938BD2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659-2803-419C-BFE9-219C7743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AF3F-A565-497B-9BE7-61BB10C1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81AA-2456-46CC-A601-94A95C21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838A-C3A3-47DE-ADC4-BC8F0C84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92AB6-A057-4706-8467-4CBDBCBC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6C5F-E658-45F5-B549-42B13A93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7CC5D-BE71-4FA3-A064-E9A5D949F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6124-4223-47AF-8BC1-EB11532A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33320-31FD-4D29-94AA-315859C2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1EB3A-D2B3-40F0-858C-B2C53AA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36EF4-7ED8-46A0-BF39-A0B785E0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C37-08E8-4E0D-8335-D7203193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B0C3-7D7C-4B26-BCD4-0D24E292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A06D1-F573-4717-B0EF-4E745CFC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C532C-BB53-4780-8A09-F35E8F77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B1B26-4426-478F-B91F-20EF649D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FF849-D8FF-49A5-AA19-A36896F2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1C65D-3B5B-4066-8663-F4211BAA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53B9-A453-4401-BFBC-D77189971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AB7F6-7D74-45AC-A5CD-27292085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C7A4A-0897-457C-881A-48C2BB52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EDC4-D197-4779-A250-83BCA9E1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809-22CF-461B-89B0-7842B475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F36EA-A1E0-4C84-830D-4DA8FB8B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A665A-33A4-4FB1-89D4-164C6CB3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F89A9-AE26-4AC2-9B57-EF760A9A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88CD0-FB05-480D-9E8B-6E15DCD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8646-2226-4503-A592-98588536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5AF67-8E8F-41AC-835E-EF2241BB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8685A5-2ACF-4C5C-88C0-30B195F1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98FD3-3F81-4C71-8B47-D5343D87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EC220-5416-43DB-ADA2-9F4394BB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4FE73-27BD-48CF-A133-4E536BD2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C4D0-B8F4-4E97-BCD9-2C4EA442E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65B99-FF9C-4FB9-BA41-1F823D43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C1DAC-8DB5-4D5C-B689-0FB997F9D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BCCDA-14A0-4DCD-BD67-AF8869F69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AE398-DBE4-44A0-A232-5CBA4365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9F683-6E9A-4188-BD1E-41D37F4D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72B6E-73D4-4A5E-8326-D237A608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B8333-6875-4405-B452-69A6F506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F763D-4F26-484C-90A1-38028D9F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1118D-FFD8-4061-ADF1-BEF271A0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8DFDB-1ECA-4BE7-806C-7CE10201F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91B-6DDF-4110-BC72-905C7CF3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4EB32-C841-43AE-B262-A9F7B1B1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7C778-E1F7-4B79-BD5E-28DBC47A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93413-014F-4A14-A891-923DD129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C261-467D-46D3-809E-45B14A36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E9406-0125-4547-A218-6EE1B3CA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0B02-9F4D-459A-840C-9E52033C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7F658-32BD-484F-ABB6-C1FFED53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B6B64-3806-47E8-A2CD-72C54F51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3693-4368-44A1-B0C9-3795EDB5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0676F-0185-4AD8-9E69-C2A4EB67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643D-EB2E-46E1-BFE3-BB61C431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98F1A-A4CF-4A90-B1EC-1F392F0A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8E6A8-6536-45EB-B5D9-448F53B3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AAE4E-7126-4A3A-BF02-2740CE6F1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8142B-6068-4200-9CC9-46E61AF8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BC77C0-EE59-4701-97E8-96C11B2D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81005-268F-4BB1-A942-F9259243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0ED39-1068-41F7-BA6B-E50A6BFA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F1E51-9838-446E-86BB-73BF5D3A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F3685-9C4F-4617-8528-3B50E59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8ECC5-32D7-4F7D-B5BE-4D6736A0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B982-4413-4F1F-AC6D-209CF561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62708-197F-4684-8C1B-400D0D92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FFA2A-1AF3-41B4-93A4-98939100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96A46-541A-4F6E-AD01-2FBD1702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417F3-F0E3-4BBF-B16A-4A8F6EC0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5A72E-491D-42FE-9ABB-00700209A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F74E4-6466-4CE1-93FC-FD764165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A1471-D1B3-4073-8167-33DE977C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D68C9-1E37-4810-91BD-B5B06A15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E1D28-06EB-409B-8E40-94C95D25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106D7-5A8C-4622-817F-DF8BD39B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A9F-0DC2-428D-AC20-29830A05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3E917-54AD-4E80-8260-E298DA6E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F04C2-D714-4DC0-A1F6-CA493CF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1A1A9-B571-4332-B769-3BBCDF33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751486-8A4C-4847-B401-4D108495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662406-4F4E-4494-820E-CB4205C5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EC2B1-2949-49A9-B415-9B33C8459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A55E3-3CDE-47CA-B68E-9972BAD8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7C8C1-E5F4-42A4-8251-DBC9AE917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A6ECB4-AC9C-4078-9373-0D4C967C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54052-0070-420F-AA5D-E061D7D1C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2EAC-2C85-420C-AC57-F482B771CFB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1AA2-9A30-460B-B3A6-469387A4EF8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6400-160A-4197-8A9F-C080FBD47AE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DBDB-B8FB-45A7-AEE9-0D17634AB5B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4499-4659-4F8B-A03F-E447760C936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E31E-A2DC-4D25-8F06-5FF1DBDCFD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7279C-1461-4AA0-BC21-F971B21F0F7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92D1-C8D4-4BF4-9DB6-3C4018B2F14A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76DE-4BE7-43DF-8ECD-8A7FC091FE3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DFCA-DE22-4173-99BA-E81ABFFF03B8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390E-464F-4FFE-96BA-1A3ADD3983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FBF4-0785-42FC-B490-D27D5D107A45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2525-1B7E-4F42-9B9B-33315E3FD6C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E563-236E-444A-936D-C0506E8832F6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34AA-322F-4FCA-8C57-EF56CF3A314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8F92-0087-46C2-BF7C-1D807EC7E40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E64E-78E2-451A-ABD4-B3C1D1C7F32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B24E-41C6-4287-B7DD-3D49113E754B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32A4-3A79-45B5-9909-7591C228FF3E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89F5-FD98-4297-8C49-45B680DD57B0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9E5C-8785-468F-9B39-69B5EE08B03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8" descr="kazna_top"/>
          <p:cNvPicPr/>
          <p:nvPr/>
        </p:nvPicPr>
        <p:blipFill>
          <a:blip r:embed="rId2"/>
          <a:stretch/>
        </p:blipFill>
        <p:spPr>
          <a:xfrm>
            <a:off x="0" y="0"/>
            <a:ext cx="9144000" cy="6825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6272-02B8-4482-92CD-A072DBDD4994}" type="datetime">
              <a:rPr b="0" lang="ru-RU" sz="1200" spc="-1" strike="noStrike">
                <a:solidFill>
                  <a:srgbClr val="898989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B4AB-4428-4868-AD15-E82E1DA0BBB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2" descr=""/>
          <p:cNvPicPr/>
          <p:nvPr/>
        </p:nvPicPr>
        <p:blipFill>
          <a:blip r:embed="rId2"/>
          <a:stretch/>
        </p:blipFill>
        <p:spPr>
          <a:xfrm>
            <a:off x="19080" y="6553080"/>
            <a:ext cx="9124920" cy="304920"/>
          </a:xfrm>
          <a:prstGeom prst="rect">
            <a:avLst/>
          </a:prstGeom>
          <a:ln w="0">
            <a:noFill/>
          </a:ln>
        </p:spPr>
      </p:pic>
      <p:sp>
        <p:nvSpPr>
          <p:cNvPr id="513" name="Номер слайда 5"/>
          <p:cNvSpPr/>
          <p:nvPr/>
        </p:nvSpPr>
        <p:spPr>
          <a:xfrm>
            <a:off x="7010280" y="61437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6619-7141-4C4E-A2A7-8D499E63313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68360" y="1773360"/>
            <a:ext cx="846144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просы кассового обслуживания исполнения бюджетов бюджетной системы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3"/>
          <p:cNvSpPr/>
          <p:nvPr/>
        </p:nvSpPr>
        <p:spPr>
          <a:xfrm>
            <a:off x="2671920" y="5661000"/>
            <a:ext cx="62578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Отдела методического обеспеч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ового обслуживания исполнения бюджет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В. Малах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16" name="TextBox 63"/>
          <p:cNvSpPr/>
          <p:nvPr/>
        </p:nvSpPr>
        <p:spPr>
          <a:xfrm>
            <a:off x="1403280" y="42552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ОЗВРАТ ДЕБИТОРСКОЙ ЗАДОЛЖЕННОСТИ ПРОШЛЫХ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0EB3-E3F7-4E22-8E2C-7FECCD1ADD39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Прямоугольник 13"/>
          <p:cNvSpPr/>
          <p:nvPr/>
        </p:nvSpPr>
        <p:spPr>
          <a:xfrm>
            <a:off x="3333600" y="2154240"/>
            <a:ext cx="512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ступили ЗКР ПБС субъекта на сумму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Прямоугольник 15"/>
          <p:cNvSpPr/>
          <p:nvPr/>
        </p:nvSpPr>
        <p:spPr>
          <a:xfrm>
            <a:off x="2050920" y="171144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ступил возврат дебиторской задолженности на сумму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Прямоугольник 16"/>
          <p:cNvSpPr/>
          <p:nvPr/>
        </p:nvSpPr>
        <p:spPr>
          <a:xfrm>
            <a:off x="3851280" y="323388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ММА ПОДКРЕПЛЕНИЯ равна 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Прямая соединительная линия 18"/>
          <p:cNvSpPr/>
          <p:nvPr/>
        </p:nvSpPr>
        <p:spPr>
          <a:xfrm>
            <a:off x="1908000" y="3213000"/>
            <a:ext cx="662472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Прямоугольник 19"/>
          <p:cNvSpPr/>
          <p:nvPr/>
        </p:nvSpPr>
        <p:spPr>
          <a:xfrm>
            <a:off x="2050920" y="1268280"/>
            <a:ext cx="640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таток  целевых средств на начало дня 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Прямоугольник 23"/>
          <p:cNvSpPr/>
          <p:nvPr/>
        </p:nvSpPr>
        <p:spPr>
          <a:xfrm>
            <a:off x="2700360" y="4189320"/>
            <a:ext cx="583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озвращена дебиторская задолженность прошлых лет в ФБ на сумму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Прямоугольник 24"/>
          <p:cNvSpPr/>
          <p:nvPr/>
        </p:nvSpPr>
        <p:spPr>
          <a:xfrm>
            <a:off x="3924360" y="582624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ММА ПОДКРЕПЛЕНИЯ равна 15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Прямая соединительная линия 25"/>
          <p:cNvSpPr/>
          <p:nvPr/>
        </p:nvSpPr>
        <p:spPr>
          <a:xfrm>
            <a:off x="2050920" y="5805360"/>
            <a:ext cx="655344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Прямоугольник 26"/>
          <p:cNvSpPr/>
          <p:nvPr/>
        </p:nvSpPr>
        <p:spPr>
          <a:xfrm>
            <a:off x="3019320" y="3860640"/>
            <a:ext cx="551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таток  целевых средств на начало дня 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Прямая соединительная линия 28"/>
          <p:cNvSpPr/>
          <p:nvPr/>
        </p:nvSpPr>
        <p:spPr>
          <a:xfrm>
            <a:off x="1619280" y="1197000"/>
            <a:ext cx="0" cy="5111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Прямая соединительная линия 30"/>
          <p:cNvSpPr/>
          <p:nvPr/>
        </p:nvSpPr>
        <p:spPr>
          <a:xfrm>
            <a:off x="179280" y="3716280"/>
            <a:ext cx="8425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Прямоугольник 39"/>
          <p:cNvSpPr/>
          <p:nvPr/>
        </p:nvSpPr>
        <p:spPr>
          <a:xfrm>
            <a:off x="2340000" y="2565360"/>
            <a:ext cx="611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c22"/>
                </a:solidFill>
                <a:latin typeface="Times New Roman"/>
                <a:ea typeface="Times New Roman"/>
              </a:rPr>
              <a:t>Остаток  целевых средств на момент расчета суммы подкрепления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Прямоугольник 40"/>
          <p:cNvSpPr/>
          <p:nvPr/>
        </p:nvSpPr>
        <p:spPr>
          <a:xfrm>
            <a:off x="2411280" y="5148360"/>
            <a:ext cx="61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4c22"/>
                </a:solidFill>
                <a:latin typeface="Times New Roman"/>
                <a:ea typeface="Times New Roman"/>
              </a:rPr>
              <a:t>Остаток  целевых средств на момент расчета суммы подкрепления минус 10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324000" y="191628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ень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324000" y="453060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ень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3405240" y="4797360"/>
            <a:ext cx="512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Поступили ЗКР ПБС субъекта на сумму 50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24000" y="1412640"/>
            <a:ext cx="857232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2671560" y="5660640"/>
            <a:ext cx="6257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ик Отдела методического обеспеч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сового обслуживания исполнения бюджетов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.В. Малах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24920" cy="304920"/>
          </a:xfrm>
          <a:prstGeom prst="rect">
            <a:avLst/>
          </a:prstGeom>
          <a:ln w="0">
            <a:noFill/>
          </a:ln>
        </p:spPr>
      </p:pic>
      <p:sp>
        <p:nvSpPr>
          <p:cNvPr id="518" name="Номер слайда 163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3813-D506-451D-AA23-31E8552437C4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714240" y="324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4863"/>
                </a:solidFill>
                <a:latin typeface="Times New Roman"/>
              </a:rPr>
              <a:t>ПОВЫШЕНИЕ КАЧЕСТВА КОИБ СУБЪЕКТОВ РФ (МО) И УЧЕТА ОПЕРАЦИЙ СО СРЕДСТВАМИ НУБ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AutoShape 10"/>
          <p:cNvSpPr/>
          <p:nvPr/>
        </p:nvSpPr>
        <p:spPr>
          <a:xfrm>
            <a:off x="214200" y="714240"/>
            <a:ext cx="8715600" cy="6143760"/>
          </a:xfrm>
          <a:prstGeom prst="horizontalScroll">
            <a:avLst>
              <a:gd name="adj" fmla="val 125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29"/>
          <p:cNvSpPr/>
          <p:nvPr/>
        </p:nvSpPr>
        <p:spPr>
          <a:xfrm>
            <a:off x="0" y="9288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ширение сферы применения Сводной ЗКР (ф. 05318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Picture 8" descr=""/>
          <p:cNvPicPr/>
          <p:nvPr/>
        </p:nvPicPr>
        <p:blipFill>
          <a:blip r:embed="rId3"/>
          <a:srcRect l="2067" t="23253" r="21850" b="12918"/>
          <a:stretch/>
        </p:blipFill>
        <p:spPr>
          <a:xfrm>
            <a:off x="214200" y="1428840"/>
            <a:ext cx="3714840" cy="2360520"/>
          </a:xfrm>
          <a:prstGeom prst="rect">
            <a:avLst/>
          </a:prstGeom>
          <a:ln w="0">
            <a:noFill/>
          </a:ln>
        </p:spPr>
      </p:pic>
      <p:sp>
        <p:nvSpPr>
          <p:cNvPr id="523" name="Прямоугольник 14"/>
          <p:cNvSpPr/>
          <p:nvPr/>
        </p:nvSpPr>
        <p:spPr>
          <a:xfrm>
            <a:off x="285840" y="1500120"/>
            <a:ext cx="928440" cy="367560"/>
          </a:xfrm>
          <a:prstGeom prst="rect">
            <a:avLst/>
          </a:prstGeom>
          <a:solidFill>
            <a:srgbClr val="c4e9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Aft>
                <a:spcPts val="437"/>
              </a:spcAft>
              <a:tabLst>
                <a:tab algn="l" pos="0"/>
                <a:tab algn="l" pos="622440"/>
                <a:tab algn="l" pos="1244520"/>
                <a:tab algn="l" pos="1866960"/>
                <a:tab algn="l" pos="2489040"/>
                <a:tab algn="l" pos="3111480"/>
                <a:tab algn="l" pos="3733920"/>
                <a:tab algn="l" pos="4356000"/>
                <a:tab algn="l" pos="4978440"/>
                <a:tab algn="l" pos="5600880"/>
                <a:tab algn="l" pos="6222960"/>
                <a:tab algn="l" pos="6845400"/>
                <a:tab algn="l" pos="7467480"/>
                <a:tab algn="l" pos="8089920"/>
                <a:tab algn="l" pos="8712360"/>
                <a:tab algn="l" pos="9334440"/>
                <a:tab algn="l" pos="9956880"/>
                <a:tab algn="l" pos="10578960"/>
              </a:tabLst>
            </a:pPr>
            <a:r>
              <a:rPr b="1" lang="ru-RU" sz="1000" spc="-1" strike="noStrike">
                <a:solidFill>
                  <a:srgbClr val="31859c"/>
                </a:solidFill>
                <a:latin typeface="Times New Roman"/>
              </a:rPr>
              <a:t>Сводная ЗКР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8"/>
          <p:cNvSpPr/>
          <p:nvPr/>
        </p:nvSpPr>
        <p:spPr>
          <a:xfrm>
            <a:off x="3929040" y="1796040"/>
            <a:ext cx="507204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точнен реквизитный состав электронного формуляра «Сводная ЗКР», что позволяет применять Сводную ЗКР при перечислении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БТ из бюджетов бюджетной системы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убсидий на выполнение государственного задания, иных субсидий бюджетным (автономным) учрежден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нежных средств в форме субсидий бюджетным (автономным) учреждением своим обособленным подразделен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рплаты (алиментов), социальных выплат населению, выплат по соцстрахованию, при их перечислении на банковские счета физлиц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8"/>
          <p:cNvSpPr/>
          <p:nvPr/>
        </p:nvSpPr>
        <p:spPr>
          <a:xfrm>
            <a:off x="928800" y="3715920"/>
            <a:ext cx="8001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енежных средств на счет № 40116 удаленным получателям, уполномоченным подразделения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логов и сборов в бюджеты бюджетной системы РФ в случаях, предусмотренных Приказом № 8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1000080" y="4291920"/>
            <a:ext cx="792972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менение Сводной ЗКР не предусмотрено для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ведения внебанковских операц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ведения операций в рамках внутриказначейских расчетов в части перераспределения средств между органом управления ГВФ РФ и территориальным органом ГВФ РФ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исания средств с лицевого счета для учета операций со средствами, поступающими во временное распоряжение ПБС, а также лицевого счета иного получателя бюджетных сред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Прямоугольник 18" descr=""/>
          <p:cNvPicPr/>
          <p:nvPr/>
        </p:nvPicPr>
        <p:blipFill>
          <a:blip r:embed="rId4"/>
          <a:stretch/>
        </p:blipFill>
        <p:spPr>
          <a:xfrm>
            <a:off x="-353880" y="3608280"/>
            <a:ext cx="2006640" cy="1970280"/>
          </a:xfrm>
          <a:prstGeom prst="rect">
            <a:avLst/>
          </a:prstGeom>
          <a:ln w="0">
            <a:noFill/>
          </a:ln>
        </p:spPr>
      </p:pic>
      <p:sp>
        <p:nvSpPr>
          <p:cNvPr id="528" name="Line 17"/>
          <p:cNvSpPr/>
          <p:nvPr/>
        </p:nvSpPr>
        <p:spPr>
          <a:xfrm flipV="1">
            <a:off x="1000080" y="5572080"/>
            <a:ext cx="7927920" cy="46080"/>
          </a:xfrm>
          <a:prstGeom prst="line">
            <a:avLst/>
          </a:prstGeom>
          <a:ln w="57240">
            <a:solidFill>
              <a:srgbClr val="ee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 flipV="1">
            <a:off x="1000080" y="5954760"/>
            <a:ext cx="7929720" cy="46080"/>
          </a:xfrm>
          <a:prstGeom prst="line">
            <a:avLst/>
          </a:prstGeom>
          <a:ln w="57240">
            <a:solidFill>
              <a:srgbClr val="ee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8"/>
          <p:cNvSpPr/>
          <p:nvPr/>
        </p:nvSpPr>
        <p:spPr>
          <a:xfrm>
            <a:off x="1071720" y="5572440"/>
            <a:ext cx="778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53735"/>
                </a:solidFill>
                <a:latin typeface="Times New Roman"/>
              </a:rPr>
              <a:t>ФК подготовлен проект  письма о порядке и правилах применения Сводной ЗК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765000"/>
          </a:xfrm>
          <a:prstGeom prst="rect">
            <a:avLst/>
          </a:prstGeom>
          <a:ln w="0">
            <a:noFill/>
          </a:ln>
        </p:spPr>
      </p:pic>
      <p:sp>
        <p:nvSpPr>
          <p:cNvPr id="532" name="TextBox 63"/>
          <p:cNvSpPr/>
          <p:nvPr/>
        </p:nvSpPr>
        <p:spPr>
          <a:xfrm>
            <a:off x="1547640" y="260280"/>
            <a:ext cx="631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СВОДНАЯ  ЗАЯВКА  НА  КАССОВЫЙ  РАС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3" name="Picture 6" descr=""/>
          <p:cNvPicPr/>
          <p:nvPr/>
        </p:nvPicPr>
        <p:blipFill>
          <a:blip r:embed="rId2"/>
          <a:stretch/>
        </p:blipFill>
        <p:spPr>
          <a:xfrm>
            <a:off x="142920" y="785880"/>
            <a:ext cx="8786880" cy="4786200"/>
          </a:xfrm>
          <a:prstGeom prst="rect">
            <a:avLst/>
          </a:prstGeom>
          <a:ln w="0">
            <a:noFill/>
          </a:ln>
        </p:spPr>
      </p:pic>
      <p:sp>
        <p:nvSpPr>
          <p:cNvPr id="534" name="AutoShape 11"/>
          <p:cNvSpPr/>
          <p:nvPr/>
        </p:nvSpPr>
        <p:spPr>
          <a:xfrm>
            <a:off x="714240" y="857160"/>
            <a:ext cx="2271960" cy="628920"/>
          </a:xfrm>
          <a:prstGeom prst="wedgeEllipseCallout">
            <a:avLst>
              <a:gd name="adj1" fmla="val 114810"/>
              <a:gd name="adj2" fmla="val 18886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. 1-7 – единые для всего докум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3"/>
          <p:cNvSpPr/>
          <p:nvPr/>
        </p:nvSpPr>
        <p:spPr>
          <a:xfrm>
            <a:off x="500040" y="5572080"/>
            <a:ext cx="8501040" cy="107172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именение клиентом Сводной ЗКР возможно при условии, что оплата ДО осуществляется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 одному коду бюджетной классификации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в рамках одного Б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без представления документов, подтверждающих возникновение Д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1"/>
          <p:cNvSpPr/>
          <p:nvPr/>
        </p:nvSpPr>
        <p:spPr>
          <a:xfrm>
            <a:off x="6572160" y="5000760"/>
            <a:ext cx="2271960" cy="628560"/>
          </a:xfrm>
          <a:prstGeom prst="wedgeEllipseCallout">
            <a:avLst>
              <a:gd name="adj1" fmla="val 138"/>
              <a:gd name="adj2" fmla="val -10034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бщая сумма гр. 18 = сумме гр.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1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Rectangle 3"/>
          <p:cNvSpPr/>
          <p:nvPr/>
        </p:nvSpPr>
        <p:spPr>
          <a:xfrm>
            <a:off x="179280" y="6164280"/>
            <a:ext cx="5761080" cy="360360"/>
          </a:xfrm>
          <a:prstGeom prst="rect">
            <a:avLst/>
          </a:prstGeom>
          <a:solidFill>
            <a:srgbClr val="098b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3780000" y="6164280"/>
            <a:ext cx="5113080" cy="360360"/>
          </a:xfrm>
          <a:prstGeom prst="rect">
            <a:avLst/>
          </a:prstGeom>
          <a:solidFill>
            <a:srgbClr val="054863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5E67-4D48-41C7-8EC6-D332AD349E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50920" y="333360"/>
            <a:ext cx="85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Прямоугольник 34"/>
          <p:cNvSpPr/>
          <p:nvPr/>
        </p:nvSpPr>
        <p:spPr>
          <a:xfrm>
            <a:off x="1476360" y="1628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1071720" y="11520"/>
            <a:ext cx="73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4863"/>
                </a:solidFill>
                <a:latin typeface="Times New Roman"/>
              </a:rPr>
              <a:t>ОТДЕЛЬНЫЕ ВОПРОСЫ КОИБ СУБЪЕКТОВ РФ (МО) И УЧЕТА ОПЕРАЦИЙ СО СРЕДСТВАМИ НУБ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Rectangle 12"/>
          <p:cNvSpPr/>
          <p:nvPr/>
        </p:nvSpPr>
        <p:spPr>
          <a:xfrm>
            <a:off x="179280" y="1052640"/>
            <a:ext cx="871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14"/>
          <p:cNvSpPr/>
          <p:nvPr/>
        </p:nvSpPr>
        <p:spPr>
          <a:xfrm>
            <a:off x="2786040" y="1000080"/>
            <a:ext cx="6357960" cy="2428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313"/>
          <p:cNvSpPr/>
          <p:nvPr/>
        </p:nvSpPr>
        <p:spPr>
          <a:xfrm>
            <a:off x="0" y="3500280"/>
            <a:ext cx="4464000" cy="0"/>
          </a:xfrm>
          <a:prstGeom prst="line">
            <a:avLst/>
          </a:prstGeom>
          <a:ln w="63360">
            <a:solidFill>
              <a:srgbClr val="ee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314"/>
          <p:cNvSpPr/>
          <p:nvPr/>
        </p:nvSpPr>
        <p:spPr>
          <a:xfrm>
            <a:off x="0" y="6143760"/>
            <a:ext cx="4464000" cy="0"/>
          </a:xfrm>
          <a:prstGeom prst="line">
            <a:avLst/>
          </a:prstGeom>
          <a:ln w="63360">
            <a:solidFill>
              <a:srgbClr val="ee7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316"/>
          <p:cNvSpPr/>
          <p:nvPr/>
        </p:nvSpPr>
        <p:spPr>
          <a:xfrm>
            <a:off x="0" y="1285920"/>
            <a:ext cx="2857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чет органом ФК бюджетных обязательств ПБС бюджета субъекта РФ (МБ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8"/>
          <p:cNvSpPr/>
          <p:nvPr/>
        </p:nvSpPr>
        <p:spPr>
          <a:xfrm>
            <a:off x="2857680" y="1011960"/>
            <a:ext cx="6286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номочия по учету БО передаются органу ФК на основании Соглашения об осуществлении отдельных функций по исполнению бюджет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Учет БО - в рамках технической возможности ФК (Приказ МФ РФ №98н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рядок устанавливает ФО (ст. 215.1, 219 Б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ППО АСФК реализована возможность проведения контроля БО ПБС бюджета субъекта РФ (МБ) на соответствие «Информации о Сведениях о госконтрактах» и «Информации о Сведениях об исполнении (расторжении) госонтрактов», размещенной на  соответствующем официальном сайте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316"/>
          <p:cNvSpPr/>
          <p:nvPr/>
        </p:nvSpPr>
        <p:spPr>
          <a:xfrm>
            <a:off x="142920" y="3571920"/>
            <a:ext cx="257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крытие в органе ФК лицевых счетов НУБ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14"/>
          <p:cNvSpPr/>
          <p:nvPr/>
        </p:nvSpPr>
        <p:spPr>
          <a:xfrm>
            <a:off x="2786040" y="3571920"/>
            <a:ext cx="6357960" cy="2500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8"/>
          <p:cNvSpPr/>
          <p:nvPr/>
        </p:nvSpPr>
        <p:spPr>
          <a:xfrm>
            <a:off x="2786040" y="3513600"/>
            <a:ext cx="63579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работан проект приказ ФК «О порядке осуществления ТОФК операций со средствами юр. лица (его обособленного подразделения), не являющегося УБП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азработан проект приказ ФК «О внесении изменений в Порядок открытия и ведения лицевых счетов ТОФК, утвержденный пр. ФК от 29.12.2012 № 24н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региональным операторам, осуществляющим деятельность по обеспечению проведения капремонта в многоквартирных домах – нет оснований для открытия л. сч. в ТОФК (ст. 180 ЖК РФ) (МФ РФ направлены предложения в Минстрой России о внесении изменений в ЖК Р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2880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55" name="TextBox 63"/>
          <p:cNvSpPr/>
          <p:nvPr/>
        </p:nvSpPr>
        <p:spPr>
          <a:xfrm>
            <a:off x="1428840" y="0"/>
            <a:ext cx="64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КТУАЛЬНЫЕ ВОПРОСЫ ФИНАНСИРОВАНИЯ ЦЕЛЕВЫХ РАСХОДОВ БЮДЖЕТОВ СУБЪЕКТОВ РФ (МБ) ПОД ФАКТИЧЕСКУЮ ПОТРЕБ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253-8E3E-4B80-B709-94D1B565490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Прямая со стрелкой 11"/>
          <p:cNvCxnSpPr/>
          <p:nvPr/>
        </p:nvCxnSpPr>
        <p:spPr>
          <a:xfrm>
            <a:off x="142920" y="3785760"/>
            <a:ext cx="8712720" cy="1080"/>
          </a:xfrm>
          <a:prstGeom prst="straightConnector1">
            <a:avLst/>
          </a:prstGeom>
          <a:ln w="66600">
            <a:solidFill>
              <a:srgbClr val="4a7ebb"/>
            </a:solidFill>
            <a:miter/>
            <a:tailEnd len="med" type="stealth" w="med"/>
          </a:ln>
        </p:spPr>
      </p:cxnSp>
      <p:sp>
        <p:nvSpPr>
          <p:cNvPr id="558" name="Text Box 4"/>
          <p:cNvSpPr/>
          <p:nvPr/>
        </p:nvSpPr>
        <p:spPr>
          <a:xfrm>
            <a:off x="108000" y="6093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й механиз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0" y="1143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й механиз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214200" y="157176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ие ЛБО на 14 л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79280" y="394668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ие ЛБО на 03 л/с ГРБС Ф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42920" y="20001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ие ПОФР на 03 л/с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79280" y="537372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целевых средств на 4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4067280" y="39337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поступлений и перечисление целевых средств на 402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6227640" y="393372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ие ПОФ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3 л/с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0" y="257184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ЗКР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214200" y="30002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исление целевых средств на 402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4"/>
          <p:cNvSpPr/>
          <p:nvPr/>
        </p:nvSpPr>
        <p:spPr>
          <a:xfrm>
            <a:off x="6227640" y="458136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 ЗКР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4067280" y="206064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ссовый расход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622764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ссовый расход ПБС субъек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Прямая соединительная линия 29"/>
          <p:cNvSpPr/>
          <p:nvPr/>
        </p:nvSpPr>
        <p:spPr>
          <a:xfrm>
            <a:off x="3851280" y="1125360"/>
            <a:ext cx="0" cy="518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179280" y="4365720"/>
            <a:ext cx="345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Представление ЗКР ГРБС Ф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……………………………</a:t>
            </a:r>
            <a:r>
              <a:rPr b="1" lang="ru-RU" sz="20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……………………………</a:t>
            </a:r>
            <a:r>
              <a:rPr b="1" lang="ru-RU" sz="20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Прямая соединительная линия 32"/>
          <p:cNvSpPr/>
          <p:nvPr/>
        </p:nvSpPr>
        <p:spPr>
          <a:xfrm>
            <a:off x="6012000" y="1125360"/>
            <a:ext cx="0" cy="518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Прямая соединительная линия 34"/>
          <p:cNvSpPr/>
          <p:nvPr/>
        </p:nvSpPr>
        <p:spPr>
          <a:xfrm>
            <a:off x="142920" y="1571760"/>
            <a:ext cx="8712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Прямая соединительная линия 35"/>
          <p:cNvSpPr/>
          <p:nvPr/>
        </p:nvSpPr>
        <p:spPr>
          <a:xfrm>
            <a:off x="250920" y="6093000"/>
            <a:ext cx="8713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Прямоугольник 36"/>
          <p:cNvSpPr/>
          <p:nvPr/>
        </p:nvSpPr>
        <p:spPr>
          <a:xfrm>
            <a:off x="3004920" y="1214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Прямоугольник 37"/>
          <p:cNvSpPr/>
          <p:nvPr/>
        </p:nvSpPr>
        <p:spPr>
          <a:xfrm>
            <a:off x="5148360" y="1214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2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Прямоугольник 38"/>
          <p:cNvSpPr/>
          <p:nvPr/>
        </p:nvSpPr>
        <p:spPr>
          <a:xfrm>
            <a:off x="8076960" y="1214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3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Прямоугольник 39"/>
          <p:cNvSpPr/>
          <p:nvPr/>
        </p:nvSpPr>
        <p:spPr>
          <a:xfrm>
            <a:off x="3064680" y="6083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1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Прямоугольник 40"/>
          <p:cNvSpPr/>
          <p:nvPr/>
        </p:nvSpPr>
        <p:spPr>
          <a:xfrm>
            <a:off x="5282280" y="608328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2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Прямоугольник 41"/>
          <p:cNvSpPr/>
          <p:nvPr/>
        </p:nvSpPr>
        <p:spPr>
          <a:xfrm>
            <a:off x="8105760" y="607536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3 ден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Группа 15" descr=""/>
          <p:cNvPicPr/>
          <p:nvPr/>
        </p:nvPicPr>
        <p:blipFill>
          <a:blip r:embed="rId3"/>
          <a:stretch/>
        </p:blipFill>
        <p:spPr>
          <a:xfrm>
            <a:off x="2054160" y="841320"/>
            <a:ext cx="5462640" cy="4017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85" name="TextBox 63"/>
          <p:cNvSpPr/>
          <p:nvPr/>
        </p:nvSpPr>
        <p:spPr>
          <a:xfrm>
            <a:off x="1403280" y="333360"/>
            <a:ext cx="64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РЕМЯ ПЕРЕЧИСЛЕНИЯ ЦЕЛЕВЫХ СРЕДСТВ В РАМКАХ ОДНОГО ОПЕРАЦИОННОГО Д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61B0-832C-48D6-A8EF-EA39282FEDCB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Picture 2" descr=""/>
          <p:cNvPicPr/>
          <p:nvPr/>
        </p:nvPicPr>
        <p:blipFill>
          <a:blip r:embed="rId3"/>
          <a:stretch/>
        </p:blipFill>
        <p:spPr>
          <a:xfrm>
            <a:off x="428760" y="1000080"/>
            <a:ext cx="5545080" cy="547200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10"/>
          <p:cNvSpPr/>
          <p:nvPr/>
        </p:nvSpPr>
        <p:spPr>
          <a:xfrm>
            <a:off x="6000840" y="1571760"/>
            <a:ext cx="3000240" cy="4572000"/>
          </a:xfrm>
          <a:custGeom>
            <a:avLst/>
            <a:gdLst>
              <a:gd name="textAreaLeft" fmla="*/ 146160 w 3000240"/>
              <a:gd name="textAreaRight" fmla="*/ 2854080 w 3000240"/>
              <a:gd name="textAreaTop" fmla="*/ 146160 h 4572000"/>
              <a:gd name="textAreaBottom" fmla="*/ 4425840 h 4572000"/>
            </a:gdLst>
            <a:ahLst/>
            <a:rect l="textAreaLeft" t="textAreaTop" r="textAreaRight" b="textAreaBottom"/>
            <a:pathLst>
              <a:path w="21600" h="32914">
                <a:moveTo>
                  <a:pt x="3600" y="0"/>
                </a:moveTo>
                <a:arcTo wR="3600" hR="3600" stAng="16200000" swAng="-5400000"/>
                <a:lnTo>
                  <a:pt x="0" y="29314"/>
                </a:lnTo>
                <a:arcTo wR="3600" hR="3600" stAng="10800000" swAng="-5400000"/>
                <a:lnTo>
                  <a:pt x="18000" y="329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оответствии с данны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изнес-процессом подкреп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диного счета бюджета субъек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Ф и кассовые выплаты получател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ств бюджета субъекта РФ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сточником финансов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я которых являю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целевые средства, осуществляю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рамках одного рабочего дн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случае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субъект РФ находитс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одном часовом поясе с Москво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огого соблюдения отражен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Бизнес-процессе  време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хождения докумен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91" name="TextBox 63"/>
          <p:cNvSpPr/>
          <p:nvPr/>
        </p:nvSpPr>
        <p:spPr>
          <a:xfrm>
            <a:off x="1403280" y="333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ТАТОК, ДОСТУПНЫЙ К РАСПРЕДЕЛ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7C1D-6BB6-48D6-A403-9ED28DB3A56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179280" y="414972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расчета остатка, доступного к распределению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 для бюджетов, в которых Соглашением предусмотрено доведение ПОФР в пределах свободного остатка на едином счете, т.к. до момента подкрепления ПОФР по новому механизму «на бумаге» уменьшают остаток, доступный к распределени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Прямоугольник 37"/>
          <p:cNvSpPr/>
          <p:nvPr/>
        </p:nvSpPr>
        <p:spPr>
          <a:xfrm>
            <a:off x="684360" y="1341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щее правило: </a:t>
            </a: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рганы ФК принимают платежные документы ПБС субъекта в пределах свободного остатка на едином сч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Прямоугольник 30"/>
          <p:cNvSpPr/>
          <p:nvPr/>
        </p:nvSpPr>
        <p:spPr>
          <a:xfrm>
            <a:off x="684360" y="21337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Новый механизм: </a:t>
            </a:r>
            <a:r>
              <a:rPr b="1" lang="ru-RU" sz="1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рганы ФК принимают платежные документы ПБС субъекта в пределах ЛБО на 14 л/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Стрелка вниз 33"/>
          <p:cNvSpPr/>
          <p:nvPr/>
        </p:nvSpPr>
        <p:spPr>
          <a:xfrm>
            <a:off x="3924360" y="2852640"/>
            <a:ext cx="1008000" cy="792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e39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Прямоугольник 42"/>
          <p:cNvSpPr/>
          <p:nvPr/>
        </p:nvSpPr>
        <p:spPr>
          <a:xfrm>
            <a:off x="684360" y="3645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Даже в случае «0» на счете бюджета, органы ФК  принимают ЗКР ПБ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00" name="TextBox 63"/>
          <p:cNvSpPr/>
          <p:nvPr/>
        </p:nvSpPr>
        <p:spPr>
          <a:xfrm>
            <a:off x="1403280" y="333360"/>
            <a:ext cx="64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ОСТАТОК, ДОСТУПНЫЙ К РАСПРЕДЕЛЕНИ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9ECD-4C46-44E1-8917-218B1DA1C6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324000" y="1197000"/>
          <a:ext cx="8064360" cy="4824360"/>
        </p:xfrm>
        <a:graphic>
          <a:graphicData uri="http://schemas.openxmlformats.org/drawingml/2006/table">
            <a:tbl>
              <a:tblPr/>
              <a:tblGrid>
                <a:gridCol w="403200"/>
                <a:gridCol w="1846080"/>
                <a:gridCol w="738360"/>
                <a:gridCol w="1403280"/>
                <a:gridCol w="896760"/>
                <a:gridCol w="1389240"/>
                <a:gridCol w="1387440"/>
              </a:tblGrid>
              <a:tr h="162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Поступления и выбыт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08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остаток средств бюджета на начало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 целевых средств, подлежащих контролю на начало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ых средств на начало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строки ф. 85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ок целевых средств на едином счете бюджета в разрезе КЦ на начало дн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ступлени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ы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таток целевых средств на едином счете бюджета в разрезе КЦ на конец дн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920">
                <a:tc rowSpan="7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, субвенции и иные межбюджетные трансферты, имеющие целевое назначение, подлежащие контролю, всего: 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о кодам цели: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1de"/>
                    </a:solidFill>
                  </a:tcPr>
                </a:tc>
              </a:tr>
              <a:tr h="18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, субвенции, контроль за использованием которых не возложен на органы Федерального казначейства, всего: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о кодам цели (при наличии):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, 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поступления и выплаты всего: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2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неклассифицированные поступления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5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ы из л/с бюджета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6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ы из л/с АИФДБ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выплаты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остаток средств бюджета на конец дня, 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3320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евых средств, подлежащих контролю, на конец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">
                <a:tc gridSpan="6">
                  <a:txBody>
                    <a:bodyPr lIns="6120" rIns="6120" tIns="612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бственных средств на конец дня, всег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 gridSpan="7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Распределение предельных объемов финансир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0"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остаток средств бюджета, не связанный ПОФР, на начало дн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"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исключением ПОФР, доведенных по новому механиз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600"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докумен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т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 цел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ное распис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5.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"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ное распис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5.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20600">
                <a:tc gridSpan="2"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ное расписание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05.201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6e0ec"/>
                    </a:solidFill>
                  </a:tcPr>
                </a:tc>
              </a:tr>
              <a:tr h="11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пределено ПОРФ 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9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 по целевым средствам, подлежащим контролю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по целевым средствам, предоставляемым по новому механиз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  <a:tr h="147600"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ободный остаток средств бюджета, не связанный ПОФР на конец дня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6120" rIns="6120" tIns="612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 исключением ПОФР, доведенных по новому механизму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cdb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53360" cy="9716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"/>
          <p:cNvPicPr/>
          <p:nvPr/>
        </p:nvPicPr>
        <p:blipFill>
          <a:blip r:embed="rId2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605" name="TextBox 63"/>
          <p:cNvSpPr/>
          <p:nvPr/>
        </p:nvSpPr>
        <p:spPr>
          <a:xfrm>
            <a:off x="1403280" y="425520"/>
            <a:ext cx="64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ОЗВРАТ ДЕБИТОРСКОЙ ЗАДОЛЖЕННОСТИ ПРОШЛЫХ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E7C6-7FEA-49A1-948D-3B27F909EDF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Прямоугольник 9"/>
          <p:cNvSpPr/>
          <p:nvPr/>
        </p:nvSpPr>
        <p:spPr>
          <a:xfrm>
            <a:off x="5651640" y="363528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УММА ПОДКРЕ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Прямоугольник 10"/>
          <p:cNvSpPr/>
          <p:nvPr/>
        </p:nvSpPr>
        <p:spPr>
          <a:xfrm>
            <a:off x="2771640" y="1628640"/>
            <a:ext cx="60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УММА ПРИНЯТЫХ, НО НЕ ИСПОЛНЕННЫХ ЗКР ПБС СУБЪЕКТА РФ ПО СООТВЕТСТВУЮЩЕМУ КОДУ Ц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Прямоугольник 11"/>
          <p:cNvSpPr/>
          <p:nvPr/>
        </p:nvSpPr>
        <p:spPr>
          <a:xfrm>
            <a:off x="2987640" y="2349360"/>
            <a:ext cx="583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СТАТОК ЦЕЛЕВЫХ СРЕДСТВ НА ЕДИНОМ СЧЕТЕ БЮДЖЕТА СУБЪЕКТА РФ ПО СООТВЕТСТВУЮЩЕМУ КОДУ Ц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Прямоугольник 12"/>
          <p:cNvSpPr/>
          <p:nvPr/>
        </p:nvSpPr>
        <p:spPr>
          <a:xfrm>
            <a:off x="2268360" y="177336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Прямая соединительная линия 14"/>
          <p:cNvSpPr/>
          <p:nvPr/>
        </p:nvSpPr>
        <p:spPr>
          <a:xfrm>
            <a:off x="2916360" y="3429000"/>
            <a:ext cx="5832360" cy="0"/>
          </a:xfrm>
          <a:prstGeom prst="line">
            <a:avLst/>
          </a:prstGeom>
          <a:ln w="349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Прямоугольная выноска 17"/>
          <p:cNvSpPr/>
          <p:nvPr/>
        </p:nvSpPr>
        <p:spPr>
          <a:xfrm>
            <a:off x="179280" y="3933720"/>
            <a:ext cx="4608720" cy="1656000"/>
          </a:xfrm>
          <a:prstGeom prst="wedgeRectCallout">
            <a:avLst>
              <a:gd name="adj1" fmla="val 40865"/>
              <a:gd name="adj2" fmla="val -115125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10253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озврат ГРБС ФБ целевых средств в сумме подтвержденной потреб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0253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Суммы подкрепления по аннулированным ЗК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0253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Возврат дебиторской задолженности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екущего года и прошлых лет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e39"/>
                </a:solidFill>
                <a:latin typeface="Times New Roman"/>
                <a:ea typeface="Times New Roman"/>
              </a:rPr>
              <a:t>- отрицательный остаток целевых сред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Прямоугольник 20"/>
          <p:cNvSpPr/>
          <p:nvPr/>
        </p:nvSpPr>
        <p:spPr>
          <a:xfrm>
            <a:off x="5003640" y="4508640"/>
            <a:ext cx="38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5c2a"/>
                </a:solidFill>
                <a:latin typeface="Times New Roman"/>
                <a:ea typeface="Times New Roman"/>
              </a:rPr>
              <a:t>!!! Органы Федерального казначейства не обладают полномочиями по проверке источников образования остатка целевых средст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2T13:01:31Z</dcterms:created>
  <dc:creator>User49</dc:creator>
  <dc:description/>
  <dc:language>en-US</dc:language>
  <cp:lastModifiedBy>2302</cp:lastModifiedBy>
  <dcterms:modified xsi:type="dcterms:W3CDTF">2014-09-09T15:30:24Z</dcterms:modified>
  <cp:revision>546</cp:revision>
  <dc:subject/>
  <dc:title>О перспективах развития Федерального казначейства</dc:title>
</cp:coreProperties>
</file>