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3258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4FFE-B7F5-4EEE-8CBD-F16512FA8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5F1C-9FBD-46F3-A4E8-B20B3320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13AD-18FB-422E-A1E8-5D4BB5A39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DA9D-FF1C-4B46-A68A-934221650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F733-3827-4EF6-8957-CA213B1F3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A975-BC0B-4B31-8FCC-434E94678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DC04-933E-4CA2-825E-E55DB581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03F3-B575-422A-8881-DE22802A0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0" y="115920"/>
            <a:ext cx="575964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CEF2-D0DA-4E0B-9C70-D33192BBA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8370-CA3D-4D90-86AB-EDE7494B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49D1-E92E-4FE5-9AD7-32C39821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FD85-E969-4E80-B4D6-ED2215E6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Shablon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68000" y="115920"/>
            <a:ext cx="5759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49e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8053D-4480-4241-958A-743F25BA65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одзаголовок 2"/>
          <p:cNvSpPr/>
          <p:nvPr/>
        </p:nvSpPr>
        <p:spPr>
          <a:xfrm>
            <a:off x="142920" y="1857240"/>
            <a:ext cx="88581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162387"/>
                </a:solidFill>
                <a:latin typeface="Arial"/>
              </a:rPr>
              <a:t>Повышение качества кассового обслуживания исполнения бюджетов Пенсионного фонда Российской Федерации и Фонда социального страхования Российской Федерации территориальными органами Федерального казначейства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5292720" y="5157720"/>
            <a:ext cx="374328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чальник Отдела кассового обслуживания исполнения бюджетов государственных внебюджетных фондов Федерального казначейст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.А. Ковале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108000" y="5445000"/>
            <a:ext cx="1584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ск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6912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2387"/>
                </a:solidFill>
                <a:latin typeface="Arial"/>
              </a:rPr>
              <a:t>Направления совершенствования кассового обслуживания исполнения бюджетов государственных внебюджетных фондов</a:t>
            </a:r>
            <a:endParaRPr b="1" lang="en-US" sz="16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46" name="Номер слайда 4"/>
          <p:cNvSpPr/>
          <p:nvPr/>
        </p:nvSpPr>
        <p:spPr>
          <a:xfrm>
            <a:off x="6875640" y="6308640"/>
            <a:ext cx="21333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35683-6E3A-44E2-BB53-DDCA578A631E}" type="slidenum">
              <a:rPr b="0" lang="ru-RU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16"/>
          <p:cNvGrpSpPr/>
          <p:nvPr/>
        </p:nvGrpSpPr>
        <p:grpSpPr>
          <a:xfrm>
            <a:off x="826920" y="1844640"/>
            <a:ext cx="7561440" cy="1008720"/>
            <a:chOff x="826920" y="1844640"/>
            <a:chExt cx="7561440" cy="1008720"/>
          </a:xfrm>
        </p:grpSpPr>
        <p:sp>
          <p:nvSpPr>
            <p:cNvPr id="48" name="AutoShape 12"/>
            <p:cNvSpPr/>
            <p:nvPr/>
          </p:nvSpPr>
          <p:spPr>
            <a:xfrm>
              <a:off x="826920" y="1844640"/>
              <a:ext cx="7561440" cy="1007280"/>
            </a:xfrm>
            <a:prstGeom prst="roundRect">
              <a:avLst>
                <a:gd name="adj" fmla="val 16667"/>
              </a:avLst>
            </a:prstGeom>
            <a:noFill/>
            <a:ln cap="rnd" w="19080">
              <a:solidFill>
                <a:srgbClr val="11446d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13"/>
            <p:cNvSpPr/>
            <p:nvPr/>
          </p:nvSpPr>
          <p:spPr>
            <a:xfrm>
              <a:off x="1031040" y="1844640"/>
              <a:ext cx="71755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618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66387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применение Сводной заявки на кассовый расход (для уплаты налогов) (код формы по КФД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0531860)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при осуществлении кассовых выплат клиентам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Group 16"/>
          <p:cNvGrpSpPr/>
          <p:nvPr/>
        </p:nvGrpSpPr>
        <p:grpSpPr>
          <a:xfrm>
            <a:off x="826920" y="4437000"/>
            <a:ext cx="7561440" cy="1051920"/>
            <a:chOff x="826920" y="4437000"/>
            <a:chExt cx="7561440" cy="1051920"/>
          </a:xfrm>
        </p:grpSpPr>
        <p:sp>
          <p:nvSpPr>
            <p:cNvPr id="51" name="AutoShape 12"/>
            <p:cNvSpPr/>
            <p:nvPr/>
          </p:nvSpPr>
          <p:spPr>
            <a:xfrm>
              <a:off x="826920" y="4437000"/>
              <a:ext cx="7561440" cy="1051920"/>
            </a:xfrm>
            <a:prstGeom prst="roundRect">
              <a:avLst>
                <a:gd name="adj" fmla="val 16667"/>
              </a:avLst>
            </a:prstGeom>
            <a:noFill/>
            <a:ln cap="rnd" w="19080">
              <a:solidFill>
                <a:srgbClr val="11446d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13"/>
            <p:cNvSpPr/>
            <p:nvPr/>
          </p:nvSpPr>
          <p:spPr>
            <a:xfrm>
              <a:off x="1031040" y="4437000"/>
              <a:ext cx="71755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618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66387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переход к функционированию единых счетов ПФР и ФСС РФ по аналогии с единым счетом федерального бюдже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Group 16"/>
          <p:cNvGrpSpPr/>
          <p:nvPr/>
        </p:nvGrpSpPr>
        <p:grpSpPr>
          <a:xfrm>
            <a:off x="826920" y="3284640"/>
            <a:ext cx="7561440" cy="729720"/>
            <a:chOff x="826920" y="3284640"/>
            <a:chExt cx="7561440" cy="729720"/>
          </a:xfrm>
        </p:grpSpPr>
        <p:sp>
          <p:nvSpPr>
            <p:cNvPr id="54" name="AutoShape 12"/>
            <p:cNvSpPr/>
            <p:nvPr/>
          </p:nvSpPr>
          <p:spPr>
            <a:xfrm>
              <a:off x="826920" y="3284640"/>
              <a:ext cx="7561440" cy="729720"/>
            </a:xfrm>
            <a:prstGeom prst="roundRect">
              <a:avLst>
                <a:gd name="adj" fmla="val 16667"/>
              </a:avLst>
            </a:prstGeom>
            <a:noFill/>
            <a:ln cap="rnd" w="19080">
              <a:solidFill>
                <a:srgbClr val="11446d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13"/>
            <p:cNvSpPr/>
            <p:nvPr/>
          </p:nvSpPr>
          <p:spPr>
            <a:xfrm>
              <a:off x="1031040" y="3284640"/>
              <a:ext cx="7175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6180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361800"/>
                  <a:tab algn="l" pos="66387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использование механизма «Автосанкционирование» при осуществлении кассовых выплат клиентами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" name="Picture 25" descr="MC900423567[1]"/>
          <p:cNvPicPr/>
          <p:nvPr/>
        </p:nvPicPr>
        <p:blipFill>
          <a:blip r:embed="rId1"/>
          <a:stretch/>
        </p:blipFill>
        <p:spPr>
          <a:xfrm>
            <a:off x="179280" y="1773360"/>
            <a:ext cx="608040" cy="1128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6" descr="MC900423567[1]"/>
          <p:cNvPicPr/>
          <p:nvPr/>
        </p:nvPicPr>
        <p:blipFill>
          <a:blip r:embed="rId2"/>
          <a:stretch/>
        </p:blipFill>
        <p:spPr>
          <a:xfrm>
            <a:off x="179280" y="3068640"/>
            <a:ext cx="608040" cy="1128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7" descr="MC900423567[1]"/>
          <p:cNvPicPr/>
          <p:nvPr/>
        </p:nvPicPr>
        <p:blipFill>
          <a:blip r:embed="rId3"/>
          <a:stretch/>
        </p:blipFill>
        <p:spPr>
          <a:xfrm>
            <a:off x="179280" y="4365720"/>
            <a:ext cx="608040" cy="11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11280" y="260280"/>
            <a:ext cx="561672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2387"/>
                </a:solidFill>
                <a:latin typeface="Arial"/>
              </a:rPr>
              <a:t>Применение Сводной заявки на кассовый расход (для уплаты налогов) (код формы по КФД 0531860) </a:t>
            </a:r>
            <a:endParaRPr b="1" lang="en-US" sz="16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60" name="Номер слайда 4"/>
          <p:cNvSpPr/>
          <p:nvPr/>
        </p:nvSpPr>
        <p:spPr>
          <a:xfrm>
            <a:off x="6875640" y="6308640"/>
            <a:ext cx="21333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3AEC2-504F-4655-9824-B9DF35A7287D}" type="slidenum">
              <a:rPr b="0" lang="ru-RU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1979640" y="1052640"/>
            <a:ext cx="7021440" cy="235260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21"/>
          <p:cNvSpPr/>
          <p:nvPr/>
        </p:nvSpPr>
        <p:spPr>
          <a:xfrm>
            <a:off x="3059280" y="3500280"/>
            <a:ext cx="2808000" cy="649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829"/>
          <p:cNvSpPr/>
          <p:nvPr/>
        </p:nvSpPr>
        <p:spPr>
          <a:xfrm>
            <a:off x="539640" y="4437000"/>
            <a:ext cx="8064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одная заявка на кассовый расход (для уплаты налогов) будет использоваться не только для уплаты налогов, но и для осуществления любых кассовых выплат                                               </a:t>
            </a:r>
            <a:r>
              <a:rPr b="1" lang="ru-RU" sz="1800" spc="-1" strike="noStrike">
                <a:solidFill>
                  <a:srgbClr val="e40000"/>
                </a:solidFill>
                <a:latin typeface="Arial"/>
              </a:rPr>
              <a:t>(в том числе для перечисления социальных выплат и пособий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семи участниками бюджетного процесса                                                                                 </a:t>
            </a:r>
            <a:r>
              <a:rPr b="1" lang="ru-RU" sz="1800" spc="-1" strike="noStrike">
                <a:solidFill>
                  <a:srgbClr val="e40000"/>
                </a:solidFill>
                <a:latin typeface="Arial"/>
              </a:rPr>
              <a:t>(в том числе государственными внебюджетными фондам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4830"/>
          <p:cNvSpPr/>
          <p:nvPr/>
        </p:nvSpPr>
        <p:spPr>
          <a:xfrm>
            <a:off x="179280" y="1125360"/>
            <a:ext cx="42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40000"/>
                </a:solidFill>
                <a:latin typeface="Arial"/>
              </a:rPr>
              <a:t>После внесения изменений в приказы Федерального казначейства                от 17 июня 2013 г. № 6н и                 от 23 августа 2013 г. № 12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47280" y="260280"/>
            <a:ext cx="648036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2387"/>
                </a:solidFill>
                <a:latin typeface="Arial"/>
              </a:rPr>
              <a:t>Подкрепление счетов № 40101 УФК для осуществления возврата (зачета, уточнения) администраторами доходов бюджетов государственных внебюджетных фондов </a:t>
            </a:r>
            <a:endParaRPr b="1" lang="en-US" sz="16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66" name="Номер слайда 4"/>
          <p:cNvSpPr/>
          <p:nvPr/>
        </p:nvSpPr>
        <p:spPr>
          <a:xfrm>
            <a:off x="6875640" y="6308640"/>
            <a:ext cx="21333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4C4AA-9BB9-4CFB-984A-FF95E4140BF7}" type="slidenum">
              <a:rPr b="0" lang="ru-RU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250920" y="4941720"/>
            <a:ext cx="856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крепление счетов № 40101 УФК для осуществления возврата (зачета, уточнения) администраторами доходов бюджетов государственных внебюджетных фондов будет осуществляться по аналогии с федеральным бюджетом со счетов № 40401 (№ 40402)     МОУ ФК </a:t>
            </a:r>
            <a:r>
              <a:rPr b="1" lang="ru-RU" sz="1800" spc="-1" strike="noStrike">
                <a:solidFill>
                  <a:srgbClr val="e40000"/>
                </a:solidFill>
                <a:latin typeface="Arial"/>
              </a:rPr>
              <a:t>на основании Консолидированных заявок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олученных от УФ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179280" y="1125360"/>
            <a:ext cx="46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40000"/>
                </a:solidFill>
                <a:latin typeface="Arial"/>
              </a:rPr>
              <a:t>После внесения изменений в приказ Министерства финансов Российской Федерации от 18 декабря 2013 г. № 125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3" descr=""/>
          <p:cNvPicPr/>
          <p:nvPr/>
        </p:nvPicPr>
        <p:blipFill>
          <a:blip r:embed="rId1"/>
          <a:stretch/>
        </p:blipFill>
        <p:spPr>
          <a:xfrm>
            <a:off x="2843280" y="1484280"/>
            <a:ext cx="608472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76000" y="260280"/>
            <a:ext cx="65516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2387"/>
                </a:solidFill>
                <a:latin typeface="Arial"/>
              </a:rPr>
              <a:t>Предполагаемая схема функционирования единого счета      № 40401 «Пенсионный фонд Российской Федерации»</a:t>
            </a:r>
            <a:endParaRPr b="1" lang="en-US" sz="16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71" name="Номер слайда 4"/>
          <p:cNvSpPr/>
          <p:nvPr/>
        </p:nvSpPr>
        <p:spPr>
          <a:xfrm>
            <a:off x="6875640" y="6308640"/>
            <a:ext cx="21333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6AF1B-DACD-402E-967B-E9A369C37CC8}" type="slidenum">
              <a:rPr b="0" lang="ru-RU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324000" y="5516640"/>
            <a:ext cx="849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Object 7"/>
          <p:cNvGraphicFramePr/>
          <p:nvPr/>
        </p:nvGraphicFramePr>
        <p:xfrm>
          <a:off x="324000" y="907920"/>
          <a:ext cx="8424720" cy="569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907920"/>
                    <a:ext cx="8424720" cy="56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280" y="260280"/>
            <a:ext cx="705636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2387"/>
                </a:solidFill>
                <a:latin typeface="Arial"/>
              </a:rPr>
              <a:t>Предполагаемая схема функционирования единого счета              № 40402 «Фонд социального страхования Российской Федерации»</a:t>
            </a:r>
            <a:endParaRPr b="1" lang="en-US" sz="16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76" name="Номер слайда 4"/>
          <p:cNvSpPr/>
          <p:nvPr/>
        </p:nvSpPr>
        <p:spPr>
          <a:xfrm>
            <a:off x="6875640" y="6308640"/>
            <a:ext cx="21333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476FB-EEC5-47FE-9B77-6598E57F59F1}" type="slidenum">
              <a:rPr b="0" lang="ru-RU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324000" y="5516640"/>
            <a:ext cx="849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Object 7"/>
          <p:cNvGraphicFramePr/>
          <p:nvPr/>
        </p:nvGraphicFramePr>
        <p:xfrm>
          <a:off x="324000" y="907920"/>
          <a:ext cx="8424720" cy="569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907920"/>
                    <a:ext cx="8424720" cy="56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11280" y="260280"/>
            <a:ext cx="561672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2387"/>
                </a:solidFill>
                <a:latin typeface="Arial"/>
              </a:rPr>
              <a:t>Представление клиентами Расшифровки к расчетному документу (код формы по КФД 0531806)  </a:t>
            </a:r>
            <a:endParaRPr b="1" lang="en-US" sz="16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81" name="Номер слайда 4"/>
          <p:cNvSpPr/>
          <p:nvPr/>
        </p:nvSpPr>
        <p:spPr>
          <a:xfrm>
            <a:off x="6875640" y="6308640"/>
            <a:ext cx="21333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222BC-91CD-4127-88A5-074C1F94F810}" type="slidenum">
              <a:rPr b="0" lang="ru-RU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324000" y="2637000"/>
            <a:ext cx="4103640" cy="1398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0000"/>
                </a:solidFill>
                <a:latin typeface="Arial"/>
              </a:rPr>
              <a:t>Абзац 9 пункта 20 приказа Федерального казначейства от 23 августа 2013 г. № 12н  </a:t>
            </a:r>
            <a:r>
              <a:rPr b="1" lang="ru-RU" sz="1200" spc="-1" strike="noStrike">
                <a:solidFill>
                  <a:srgbClr val="162387"/>
                </a:solidFill>
                <a:latin typeface="Arial"/>
              </a:rPr>
              <a:t>(действующая редакц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Расшифровка к расчетному документу (код формы по КФД 0531806) не представляется, если в расчетном документе </a:t>
            </a: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в реквизите «Назначение платежа»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указаны необходимые коды бюджетной классификации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179280" y="1125360"/>
            <a:ext cx="4248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 внесения изменений в приказ Федерального казначейства                от 23 августа 2013 г. № 12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40000"/>
                </a:solidFill>
                <a:latin typeface="Arial"/>
              </a:rPr>
              <a:t>(с 1 января 2015 го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"/>
          <p:cNvPicPr/>
          <p:nvPr/>
        </p:nvPicPr>
        <p:blipFill>
          <a:blip r:embed="rId1"/>
          <a:stretch/>
        </p:blipFill>
        <p:spPr>
          <a:xfrm>
            <a:off x="4788000" y="1341360"/>
            <a:ext cx="4087800" cy="48243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4"/>
          <p:cNvSpPr/>
          <p:nvPr/>
        </p:nvSpPr>
        <p:spPr>
          <a:xfrm>
            <a:off x="324000" y="4869000"/>
            <a:ext cx="4103640" cy="1398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40000"/>
                </a:solidFill>
                <a:latin typeface="Arial"/>
              </a:rPr>
              <a:t>Абзац 9 пункта 20 приказа Федерального казначейства от 23 августа 2013 г. № 12н       </a:t>
            </a:r>
            <a:r>
              <a:rPr b="1" lang="ru-RU" sz="1200" spc="-1" strike="noStrike">
                <a:solidFill>
                  <a:srgbClr val="162387"/>
                </a:solidFill>
                <a:latin typeface="Arial"/>
              </a:rPr>
              <a:t>(новая редакц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Расшифровка к расчетному документу (код формы по КФД 0531806) не представляется, если в расчетном документе </a:t>
            </a: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в электронном виде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указаны необходимые коды бюджетной классификации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5"/>
          <p:cNvSpPr/>
          <p:nvPr/>
        </p:nvSpPr>
        <p:spPr>
          <a:xfrm>
            <a:off x="1692360" y="4149720"/>
            <a:ext cx="1439640" cy="57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4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6"/>
          <p:cNvSpPr/>
          <p:nvPr/>
        </p:nvSpPr>
        <p:spPr>
          <a:xfrm>
            <a:off x="4716360" y="1197000"/>
            <a:ext cx="4248360" cy="5111640"/>
          </a:xfrm>
          <a:prstGeom prst="line">
            <a:avLst/>
          </a:prstGeom>
          <a:ln w="50760">
            <a:solidFill>
              <a:srgbClr val="e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7"/>
          <p:cNvSpPr/>
          <p:nvPr/>
        </p:nvSpPr>
        <p:spPr>
          <a:xfrm flipH="1">
            <a:off x="4716000" y="1197000"/>
            <a:ext cx="4248360" cy="5111640"/>
          </a:xfrm>
          <a:prstGeom prst="line">
            <a:avLst/>
          </a:prstGeom>
          <a:ln w="50760">
            <a:solidFill>
              <a:srgbClr val="e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6000" y="260280"/>
            <a:ext cx="6912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62387"/>
                </a:solidFill>
                <a:latin typeface="Arial"/>
              </a:rPr>
              <a:t>Перспективы расширения эксперимента по выплате социальных пособий ФСС РФ на счета физических лиц</a:t>
            </a:r>
            <a:r>
              <a:rPr b="1" lang="en-US" sz="1600" spc="-1" strike="noStrike">
                <a:solidFill>
                  <a:srgbClr val="162387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162387"/>
                </a:solidFill>
                <a:latin typeface="Arial"/>
              </a:rPr>
              <a:t>в 2015 году</a:t>
            </a:r>
            <a:endParaRPr b="1" lang="en-US" sz="1600" spc="-1" strike="noStrike">
              <a:solidFill>
                <a:srgbClr val="00449e"/>
              </a:solidFill>
              <a:latin typeface="Calibri"/>
            </a:endParaRPr>
          </a:p>
        </p:txBody>
      </p:sp>
      <p:sp>
        <p:nvSpPr>
          <p:cNvPr id="90" name="Номер слайда 4"/>
          <p:cNvSpPr/>
          <p:nvPr/>
        </p:nvSpPr>
        <p:spPr>
          <a:xfrm>
            <a:off x="6875640" y="6308640"/>
            <a:ext cx="21333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17D34-9100-482F-B9D6-0DADF5F48DBC}" type="slidenum">
              <a:rPr b="0" lang="ru-RU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Object 5"/>
          <p:cNvGraphicFramePr/>
          <p:nvPr/>
        </p:nvGraphicFramePr>
        <p:xfrm>
          <a:off x="1116000" y="1268280"/>
          <a:ext cx="7083360" cy="543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268280"/>
                    <a:ext cx="7083360" cy="54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07:53:23Z</dcterms:created>
  <dc:creator>vvnikolaev</dc:creator>
  <dc:description/>
  <dc:language>en-US</dc:language>
  <cp:lastModifiedBy>ВКС</cp:lastModifiedBy>
  <dcterms:modified xsi:type="dcterms:W3CDTF">2014-09-10T05:21:41Z</dcterms:modified>
  <cp:revision>102</cp:revision>
  <dc:subject/>
  <dc:title>Слайд 1</dc:title>
</cp:coreProperties>
</file>