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825163" cy="8121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5597-17FA-4420-9B44-0F820C450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ED8F-D9F0-449A-9740-A5FB3FDF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A76D-05E7-4F16-9E66-7252B9F1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354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31240" y="188928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6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354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31240" y="4694400"/>
            <a:ext cx="31384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CB44-4CD8-42D3-9F71-48C8B5D0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0A8-B20E-42D3-955F-06885857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58D0-6109-4555-9824-5B983E04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F56-DCCD-4BFF-B86C-3333559A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C968-BB64-41AD-91D8-22ED41B0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685960" y="140760"/>
            <a:ext cx="681984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227-F8F7-4344-AF54-69951A78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A88F-7CBD-488C-8F48-E2710193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4640" y="469440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482E-1B9E-4A8E-93C0-19B21BA4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4640" y="1889280"/>
            <a:ext cx="475668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640" y="4694400"/>
            <a:ext cx="9747360" cy="25614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6FA6-F624-4353-AB65-970AF04F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10826640" cy="8120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en-US" sz="28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880920" indent="-33948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352520" indent="-2728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3" marL="1892160" indent="-269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4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5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6" marL="2433600" indent="-270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6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12A0-638D-43BA-B571-E583E93CBC2A}" type="datetime">
              <a:rPr b="0" lang="ru-RU" sz="14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00080" y="7527600"/>
            <a:ext cx="34275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61240" y="7527600"/>
            <a:ext cx="2525760" cy="4366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F6E-489E-4912-B206-A2E0F17ECA5F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consultantplus://offline/ref=1FACB608E8246192CC6889842008E8BACB974555A6CE5874F4703098BF9FB0A1848E533B86A9113CMEECR" TargetMode="External"/><Relationship Id="rId2" Type="http://schemas.openxmlformats.org/officeDocument/2006/relationships/hyperlink" Target="consultantplus://offline/ref=1FACB608E8246192CC6889842008E8BACB974555A6CE5874F4703098BF9FB0A1848E533B86A9113CMEECR" TargetMode="External"/><Relationship Id="rId3" Type="http://schemas.openxmlformats.org/officeDocument/2006/relationships/hyperlink" Target="consultantplus://offline/ref=1FACB608E8246192CC6889842008E8BACB974555A6CE5874F4703098BF9FB0A1848E533B86A9113CMEECR" TargetMode="External"/><Relationship Id="rId4" Type="http://schemas.openxmlformats.org/officeDocument/2006/relationships/hyperlink" Target="consultantplus://offline/ref=1FACB608E8246192CC6889842008E8BACB974555A6CE5874F4703098BF9FB0A1848E533B86A9113CMEECR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DBCC-F94B-4319-BCE0-8193F62758CC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741320" y="243000"/>
            <a:ext cx="756144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2100" spc="-1" strike="noStrike">
                <a:solidFill>
                  <a:srgbClr val="254061"/>
                </a:solidFill>
                <a:latin typeface="Times New Roman"/>
              </a:rPr>
              <a:t>ФЕДЕРАЛЬНОЕ  КАЗНАЧЕЙСТВО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5413320" y="6364440"/>
            <a:ext cx="5413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тдел организации распределения поступлений между бюджетами Управления совершенствования функциональной деятельности Федерального казначейств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04960" y="1827360"/>
            <a:ext cx="8869320" cy="27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spcBef>
                <a:spcPts val="1312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которые актуальные вопросы учета поступлений в бюджетную систему Российской Федерации и их распределения между бюджетами бюджетной системы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9CF-78FA-4D85-A9B6-7B7436EBE4EE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65320" y="171000"/>
            <a:ext cx="86407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Урегулирование межбюджетной задолженности прошлых лет</a:t>
            </a: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 (1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88960" y="1684440"/>
            <a:ext cx="9747360" cy="518472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исьмо ФК №42-7.4-05/5.4 -540 от 03.09.2014 об использовании в работе  письма МФ РФ №02-08/22328 по наделению ФК полномочиями по согласованию Справки о межбюджетной задолженности за федеральный бюджет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Предложения ФК по установлению единого порядка погашения межбюджетной задолженност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вязи с тем, что на основании Справки ОФК перерасчет поступлений между бюджетами, обслуживающимися в разных ТОФК, произведен быть не может, в целях единообразия проведения операций погашения межбюджетной задолженности прошлых лет одного бюджета перед другим бюджетом предлагается изменить установленный абзацем первым пункта 21 Порядка № 125н механизм проведения указанных операций и проводить указанные операции не на основании Справки ОФК, а на основани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явки на возврат (код формы по КФД 0531803)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оформляемой финансовым органом (органом управления государственным внебюджетным фондом), в бюджет которого в прошлые годы были излишне распределены суммы поступле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AF8D-99A9-48ED-BD40-301C8AB19CDD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65320" y="242640"/>
            <a:ext cx="86407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Times New Roman"/>
              </a:rPr>
              <a:t>Урегулирование межбюджетной задолженности прошлых лет</a:t>
            </a:r>
            <a:r>
              <a:rPr b="1" lang="ru-RU" sz="2000" spc="-1" strike="noStrike">
                <a:solidFill>
                  <a:srgbClr val="00449e"/>
                </a:solidFill>
                <a:latin typeface="Calibri"/>
              </a:rPr>
              <a:t> (2)</a:t>
            </a:r>
            <a:endParaRPr b="1" lang="en-US" sz="20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640" y="1332000"/>
            <a:ext cx="9747360" cy="622440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 algn="ctr">
              <a:spcBef>
                <a:spcPts val="451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ядок погашения межбюджетной задолженност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ФК, в котором возникла межбюджетная задолженность прошлых лет, формирует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1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о межбюджетной задолженности, подписывает ее и направляет в финансовый орган (орган управления государственным внебюджетным фондом), перед бюджетом которого возникла задолженнос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ый орган (орган управления государственным внебюджетным фондом), перед бюджетом которого возникла задолженность, не позднее трех рабочих дней со дня, следующего за днем получения от ТОФК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2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межбюджетной задолженности, подписывает указанный документ и направляет его в финансовый орган (орган управления государственным внебюджетным фондом), в бюджет которого в прошлые годы были излишне распределены суммы поступлен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финансовый орган (орган управления государственным внебюджетным фондом), в бюджет которого в прошлые годы были излишне распределены суммы поступлений, в случае согласия с суммой задолженности, указанной в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3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 о межбюджетной задолженности, в течение трех рабочих дней со дня, следующего за днем получения </a:t>
            </a:r>
            <a:r>
              <a:rPr b="0" lang="ru-RU" sz="2000" spc="-1" strike="noStrike" u="sng">
                <a:solidFill>
                  <a:srgbClr val="17bbfd"/>
                </a:solidFill>
                <a:uFillTx/>
                <a:latin typeface="Calibri"/>
                <a:hlinkClick r:id="rId4"/>
              </a:rPr>
              <a:t>Справ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межбюджетной задолженности, подписывает указанный документ и направляет в ТОФК по месту своего обслуживания Заявку на возврат на сумму возникшей задолжен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>
              <a:lnSpc>
                <a:spcPct val="80000"/>
              </a:lnSpc>
              <a:spcAft>
                <a:spcPts val="751"/>
              </a:spcAft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2A6-307D-4818-BFEF-F487730F8E5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8600" y="316080"/>
            <a:ext cx="9217080" cy="59184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100" spc="-1" strike="noStrike">
                <a:solidFill>
                  <a:srgbClr val="00449e"/>
                </a:solidFill>
                <a:latin typeface="Times New Roman"/>
              </a:rPr>
              <a:t>Оптимизация процедур исполнения возвратов акцизов на нефтепродукты</a:t>
            </a:r>
            <a:endParaRPr b="1" lang="en-US" sz="21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640" y="1468080"/>
            <a:ext cx="9747360" cy="5791320"/>
          </a:xfrm>
          <a:prstGeom prst="rect">
            <a:avLst/>
          </a:prstGeom>
          <a:solidFill>
            <a:srgbClr val="d6e5ee"/>
          </a:solidFill>
          <a:ln w="9360">
            <a:solidFill>
              <a:srgbClr val="dddddd"/>
            </a:solidFill>
            <a:miter/>
          </a:ln>
          <a:effectLst>
            <a:outerShdw dist="188838" dir="2862256" blurRad="0" rotWithShape="0">
              <a:srgbClr val="d2d2d2"/>
            </a:outerShdw>
          </a:effectLst>
        </p:spPr>
        <p:txBody>
          <a:bodyPr lIns="108360" rIns="108360" tIns="54000" bIns="54000" anchor="t">
            <a:normAutofit/>
          </a:bodyPr>
          <a:p>
            <a:pPr marL="404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письмо ФК  и МФ РФ 100 от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.01.2014 № 02-08-05/1596 / № 42-7.4-05/5.4-36 по вопросу учета и распределения доходов от уплаты акцизов на автомобильный и прямогонный бензин, дизельное топливо, моторные масла для дизельных и (или) карбюраторных (инжекторных) двигателей, подлежащих зачислению в бюджеты субъектов Российской Федерации (далее – акцизы на нефтепродукты), а также доходов от уплаты акцизов на топливо печное бытовое, вырабатываемое из дизельных фракций прямой перегонки и (или) вторичного происхождения, кипящих в интервале температур от 280 до 360 градусов Цельсия, производимое на территории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рядка возврата акцизов на нефтепродукты в части обеспечения возможности осуществлять возврат средств плательщику за счет всех видов акцизных кодов (на уровне МОУ ФК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ствие- отсутствие задержек по исполнению возвратов акцизов на нефтепродукт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9AF7-3DA6-45A6-99EB-67586C10F3D1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75880" y="140760"/>
            <a:ext cx="8629560" cy="8938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Отражение операции передачи невыясненных поступлений федерального бюджета  из УФК в другой УФК 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 fontScale="98000"/>
          </a:bodyPr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ерация передачи НВС ФБ между УФК осуществляется без перечисления денежных средств  (в отчетности по лицевым счетам в графе "зачеты»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аналитических регистрах по 125н передача НВС ФБ отражаетс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журнал регистрации внебанковских операций (код по КФД 0531459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водная ведомость учета поступлений (код по КФД 0531469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авка о перечисленных поступлениях в бюджет (код по КФД 0531467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равка о перечислении поступлений в бюджеты (код по КФД 0531468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чет об операциях по поступлениям в бюджетную систему Российской Федерации, учитываемым органами Федерального казначейства (ф. 050315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-396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домость невыясненных поступлен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перации по передаче/приему НВС отражаются как поступления ФБ, минуя счет 4010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настоящее время налоговые органы не используют форму Уведомления , установленную приказом ФК №8 н.Вопрос находится в стадии реш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96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B9B9-B9D6-4E3B-91D9-FA756AE6AFB3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" descr="совещание"/>
          <p:cNvPicPr/>
          <p:nvPr/>
        </p:nvPicPr>
        <p:blipFill>
          <a:blip r:embed="rId1"/>
          <a:stretch/>
        </p:blipFill>
        <p:spPr>
          <a:xfrm>
            <a:off x="1812960" y="1468440"/>
            <a:ext cx="2095560" cy="157176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372960" y="1395360"/>
            <a:ext cx="5545080" cy="6048360"/>
          </a:xfrm>
          <a:custGeom>
            <a:avLst/>
            <a:gdLst>
              <a:gd name="textAreaLeft" fmla="*/ 0 w 5545080"/>
              <a:gd name="textAreaRight" fmla="*/ 5545440 w 5545080"/>
              <a:gd name="textAreaTop" fmla="*/ 0 h 6048360"/>
              <a:gd name="textAreaBottom" fmla="*/ 6048720 h 60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28" y="0"/>
                </a:lnTo>
                <a:lnTo>
                  <a:pt x="21600" y="10800"/>
                </a:lnTo>
                <a:lnTo>
                  <a:pt x="1782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8875400">
            <a:off x="2545560" y="2680200"/>
            <a:ext cx="879480" cy="903240"/>
          </a:xfrm>
          <a:prstGeom prst="rtTriangle">
            <a:avLst/>
          </a:prstGeom>
          <a:solidFill>
            <a:srgbClr val="99ccff"/>
          </a:solidFill>
          <a:ln w="633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88960" y="5356080"/>
            <a:ext cx="4608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едусмотрена интеграция Поиска НВС с ГИС ГМП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6566040" y="1395360"/>
            <a:ext cx="3743280" cy="6048360"/>
          </a:xfrm>
          <a:prstGeom prst="rect">
            <a:avLst/>
          </a:prstGeom>
          <a:noFill/>
          <a:ln w="381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ение в ГИС ГМП информации о поступлениях, учтенных ТОФК как НВС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змещение в ГИС ГМП информации о порядке возврата / уточнения НВ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1092240" y="171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Times New Roman"/>
              </a:rPr>
              <a:t>Перспективы внедрения раздела по поиску НВС Ф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949320" y="3916440"/>
            <a:ext cx="4103640" cy="1223640"/>
            <a:chOff x="949320" y="3916440"/>
            <a:chExt cx="4103640" cy="1223640"/>
          </a:xfrm>
        </p:grpSpPr>
        <p:sp>
          <p:nvSpPr>
            <p:cNvPr id="66" name="Прямоугольник с двумя скругленными противолежащими углами 40"/>
            <p:cNvSpPr/>
            <p:nvPr/>
          </p:nvSpPr>
          <p:spPr>
            <a:xfrm>
              <a:off x="949320" y="3916440"/>
              <a:ext cx="4103640" cy="1223640"/>
            </a:xfrm>
            <a:prstGeom prst="pie">
              <a:avLst/>
            </a:prstGeom>
            <a:solidFill>
              <a:srgbClr val="99ccff">
                <a:alpha val="15000"/>
              </a:srgbClr>
            </a:solidFill>
            <a:ln w="63360">
              <a:solidFill>
                <a:srgbClr val="95b3d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Picture 2" descr="Файл:Schetnaya palata.Emblema.gif"/>
            <p:cNvPicPr/>
            <p:nvPr/>
          </p:nvPicPr>
          <p:blipFill>
            <a:blip r:embed="rId2"/>
            <a:stretch/>
          </p:blipFill>
          <p:spPr>
            <a:xfrm>
              <a:off x="3613320" y="4492440"/>
              <a:ext cx="366480" cy="42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" descr="Файл:Roskazna.png"/>
            <p:cNvPicPr/>
            <p:nvPr/>
          </p:nvPicPr>
          <p:blipFill>
            <a:blip r:embed="rId3"/>
            <a:stretch/>
          </p:blipFill>
          <p:spPr>
            <a:xfrm>
              <a:off x="2100240" y="4492440"/>
              <a:ext cx="3888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2" descr="Файл:FAS.Emblema.gif"/>
            <p:cNvPicPr/>
            <p:nvPr/>
          </p:nvPicPr>
          <p:blipFill>
            <a:blip r:embed="rId4"/>
            <a:stretch/>
          </p:blipFill>
          <p:spPr>
            <a:xfrm>
              <a:off x="1380960" y="4132080"/>
              <a:ext cx="401760" cy="4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0" descr="Файл:COA of Rosfinmonitoring.png"/>
            <p:cNvPicPr/>
            <p:nvPr/>
          </p:nvPicPr>
          <p:blipFill>
            <a:blip r:embed="rId5"/>
            <a:stretch/>
          </p:blipFill>
          <p:spPr>
            <a:xfrm>
              <a:off x="4334040" y="4060800"/>
              <a:ext cx="3952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7" descr="Файл:Coat of Arms of the Russian Federation.svg"/>
            <p:cNvPicPr/>
            <p:nvPr/>
          </p:nvPicPr>
          <p:blipFill>
            <a:blip r:embed="rId6"/>
            <a:stretch/>
          </p:blipFill>
          <p:spPr>
            <a:xfrm>
              <a:off x="2820960" y="4132080"/>
              <a:ext cx="403200" cy="47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омер слайда 5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7161-C62C-43EC-9709-55B2F66DCBD2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84280" y="140760"/>
            <a:ext cx="802152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Учет невыясненных поступлени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563760" y="1827360"/>
            <a:ext cx="1089972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ложения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ормировать ведомость по невыясненным поступлениям, администратором которых является ФК, т.е. по КБК 100117…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04640" indent="0">
              <a:spcBef>
                <a:spcPts val="601"/>
              </a:spcBef>
              <a:buNone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69800" y="140760"/>
            <a:ext cx="72356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1" lang="ru-RU" sz="2800" spc="-1" strike="noStrike">
                <a:solidFill>
                  <a:srgbClr val="00449e"/>
                </a:solidFill>
                <a:latin typeface="Calibri"/>
              </a:rPr>
              <a:t>Реестр администрируемых платежей</a:t>
            </a: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27120" y="1344600"/>
            <a:ext cx="9747360" cy="157176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400"/>
              </a:spcBef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дготовлены предложения по внесению изменений в приказ ФК 24 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ополнительно для открытия лицевого счета администратора доходов бюджета представляе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……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еестр администрируемых платежей по форме согласно приложению № __ к настоящему Порядку (код формы по КФД ________)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D901-2C72-46D8-A279-501EF8B5BBA1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627120" y="2773440"/>
            <a:ext cx="9572400" cy="49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85960" y="140760"/>
            <a:ext cx="6819840" cy="59220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ctr">
            <a:noAutofit/>
          </a:bodyPr>
          <a:p>
            <a:pPr indent="0">
              <a:buNone/>
              <a:tabLst>
                <a:tab algn="l" pos="0"/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1" lang="en-US" sz="28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39640" y="1889280"/>
            <a:ext cx="9747360" cy="5370480"/>
          </a:xfrm>
          <a:prstGeom prst="rect">
            <a:avLst/>
          </a:prstGeom>
          <a:noFill/>
          <a:ln w="0">
            <a:noFill/>
          </a:ln>
        </p:spPr>
        <p:txBody>
          <a:bodyPr lIns="108360" rIns="108360" tIns="54000" bIns="54000" anchor="t">
            <a:normAutofit/>
          </a:bodyPr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404640" indent="-40464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79640"/>
                <a:tab algn="l" pos="2158920"/>
                <a:tab algn="l" pos="3238560"/>
                <a:tab algn="l" pos="4317840"/>
                <a:tab algn="l" pos="5397480"/>
                <a:tab algn="l" pos="6477120"/>
                <a:tab algn="l" pos="7556400"/>
                <a:tab algn="l" pos="8636040"/>
                <a:tab algn="l" pos="9715680"/>
                <a:tab algn="l" pos="107949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7761240" y="7527960"/>
            <a:ext cx="252576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360" rIns="108360" tIns="54000" bIns="54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F1FC-DBB1-4479-995A-81000D7FDCDD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Петрова</cp:lastModifiedBy>
  <dcterms:modified xsi:type="dcterms:W3CDTF">2014-09-10T05:41:58Z</dcterms:modified>
  <cp:revision>200</cp:revision>
  <dc:subject/>
  <dc:title>Слайд 1</dc:title>
</cp:coreProperties>
</file>