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D581-BE28-4B17-A16E-5573F233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D0A1-234D-418F-9F71-984753B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59A9-7DCF-47A8-B907-B78046E3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E207-DB9A-409D-A949-6F6EE007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7E08-DFF7-4CAD-9655-B0CC2D34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6B3-D6BD-44A6-B551-5681A3A3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7FB-AEEF-4CE7-B97D-0DD0E8AF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847-7CDF-4508-8776-BA2DE7179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5FDD-A597-41A1-A829-FA362812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D43F-CB56-474E-BC49-8C9BC206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42D-46C3-49B7-92E1-DF65C458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5BF0-A0B3-46E2-A26F-322B37BD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1C93-C825-498F-96B9-B1E1549AAE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740-B3A8-4B9F-BBBD-34AB19FCD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AA82-E3BB-45D5-A8DD-34978FAFDB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79280" y="1773360"/>
            <a:ext cx="8785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62387"/>
                </a:solidFill>
                <a:latin typeface="Book Antiqua"/>
              </a:rPr>
              <a:t>Вопросы взаимодействия Межрегионального операционного УФК и УФК по субъектам Российской Федерации в процессе формирования бюджетной отче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500720" y="3789360"/>
            <a:ext cx="4340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Заместитель руководител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Межрегионального операционного управления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Book Antiqua"/>
              </a:rPr>
              <a:t>Горина Наталия Михайловна</a:t>
            </a: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3492360" y="5838840"/>
            <a:ext cx="193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62387"/>
                </a:solidFill>
                <a:latin typeface="Book Antiqua"/>
              </a:rPr>
              <a:t>10 сентября 201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D601-5181-4040-A40E-9B038DA4C1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15560"/>
            <a:ext cx="77043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Взаимодействие функциональных отделов Межрегионального операционного УФК с территориальными органами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0" y="1052640"/>
            <a:ext cx="2411280" cy="5329080"/>
          </a:xfrm>
          <a:prstGeom prst="flowChartAlternateProcess">
            <a:avLst/>
          </a:prstGeom>
          <a:solidFill>
            <a:srgbClr val="d6e5ee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484360" y="981000"/>
            <a:ext cx="6551640" cy="5472360"/>
          </a:xfrm>
          <a:prstGeom prst="flowChartAlternateProcess">
            <a:avLst/>
          </a:prstGeom>
          <a:solidFill>
            <a:srgbClr val="d6e5ee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108000" y="1197000"/>
            <a:ext cx="2232000" cy="129528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108000" y="1197000"/>
            <a:ext cx="223200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бюджетного учета и отчетности по операциям бюдже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Ахмярова И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6"/>
          <p:cNvSpPr/>
          <p:nvPr/>
        </p:nvSpPr>
        <p:spPr>
          <a:xfrm>
            <a:off x="2771640" y="1197000"/>
            <a:ext cx="208944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7"/>
          <p:cNvSpPr/>
          <p:nvPr/>
        </p:nvSpPr>
        <p:spPr>
          <a:xfrm>
            <a:off x="4859280" y="1197000"/>
            <a:ext cx="194472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8"/>
          <p:cNvSpPr/>
          <p:nvPr/>
        </p:nvSpPr>
        <p:spPr>
          <a:xfrm>
            <a:off x="6804000" y="1197000"/>
            <a:ext cx="2016000" cy="1224000"/>
          </a:xfrm>
          <a:prstGeom prst="flowChartProcess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"/>
          <p:cNvSpPr/>
          <p:nvPr/>
        </p:nvSpPr>
        <p:spPr>
          <a:xfrm>
            <a:off x="2843280" y="1197000"/>
            <a:ext cx="201600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тчетности о кассовом исполнении бюджето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Кашурина Л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"/>
          <p:cNvSpPr/>
          <p:nvPr/>
        </p:nvSpPr>
        <p:spPr>
          <a:xfrm>
            <a:off x="4859280" y="1125360"/>
            <a:ext cx="196524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консолидированной отчет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Ульянов К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732720" y="1197000"/>
            <a:ext cx="216036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тчетности об исполнении федерального бюджет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Леонова М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"/>
          <p:cNvSpPr/>
          <p:nvPr/>
        </p:nvSpPr>
        <p:spPr>
          <a:xfrm>
            <a:off x="2843280" y="2421000"/>
            <a:ext cx="2016000" cy="3816360"/>
          </a:xfrm>
          <a:prstGeom prst="upArrowCallout">
            <a:avLst>
              <a:gd name="adj1" fmla="val 19622"/>
              <a:gd name="adj2" fmla="val 25000"/>
              <a:gd name="adj3" fmla="val 8878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5"/>
          <p:cNvSpPr/>
          <p:nvPr/>
        </p:nvSpPr>
        <p:spPr>
          <a:xfrm>
            <a:off x="2843280" y="2637000"/>
            <a:ext cx="2000160" cy="43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обслуживанию исполнения бюджетов бюджетной системы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исполнению федерального бюджет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бюджетной отчетности по кассовому обслуживанию бюджетных учреждений, автономных учреждений и иных организац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прием Отчетов об операциях по данным Главной книг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Book Antiqua"/>
              </a:rPr>
              <a:t>контроль за своевременностью, полнотой и качеством представления данных по базовым показателям для информационно-аналитической системы ключевых показателей исполнения бюджетов бюджетной системы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6"/>
          <p:cNvSpPr/>
          <p:nvPr/>
        </p:nvSpPr>
        <p:spPr>
          <a:xfrm>
            <a:off x="179280" y="249228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0"/>
          <p:cNvSpPr/>
          <p:nvPr/>
        </p:nvSpPr>
        <p:spPr>
          <a:xfrm>
            <a:off x="179280" y="3213000"/>
            <a:ext cx="20368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внутриказначейских расче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ности по кассовому обслуживанию исполнения бюджета Союзного государ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1"/>
          <p:cNvSpPr/>
          <p:nvPr/>
        </p:nvSpPr>
        <p:spPr>
          <a:xfrm>
            <a:off x="4932360" y="2421000"/>
            <a:ext cx="1871640" cy="1584360"/>
          </a:xfrm>
          <a:prstGeom prst="upArrowCallout">
            <a:avLst>
              <a:gd name="adj1" fmla="val 23147"/>
              <a:gd name="adj2" fmla="val 29533"/>
              <a:gd name="adj3" fmla="val 6259"/>
              <a:gd name="adj4" fmla="val 2344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4932360" y="292428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направленных межбюджетных трансфер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6"/>
          <p:cNvSpPr/>
          <p:nvPr/>
        </p:nvSpPr>
        <p:spPr>
          <a:xfrm>
            <a:off x="6948360" y="2421000"/>
            <a:ext cx="1871640" cy="1079280"/>
          </a:xfrm>
          <a:prstGeom prst="upArrowCallout">
            <a:avLst>
              <a:gd name="adj1" fmla="val 35746"/>
              <a:gd name="adj2" fmla="val 43354"/>
              <a:gd name="adj3" fmla="val 10338"/>
              <a:gd name="adj4" fmla="val 37618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7"/>
          <p:cNvSpPr/>
          <p:nvPr/>
        </p:nvSpPr>
        <p:spPr>
          <a:xfrm>
            <a:off x="6948360" y="2637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отчетности, представленной ГРБС с отчетностью ТОФ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8"/>
          <p:cNvSpPr/>
          <p:nvPr/>
        </p:nvSpPr>
        <p:spPr>
          <a:xfrm>
            <a:off x="4932360" y="4292640"/>
            <a:ext cx="1871640" cy="86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0"/>
          <p:cNvSpPr/>
          <p:nvPr/>
        </p:nvSpPr>
        <p:spPr>
          <a:xfrm>
            <a:off x="4932360" y="42498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осуществление сверки отчетности, представленной ФО с отчетностью ТОФ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4"/>
          <p:cNvSpPr/>
          <p:nvPr/>
        </p:nvSpPr>
        <p:spPr>
          <a:xfrm>
            <a:off x="7885080" y="3500280"/>
            <a:ext cx="0" cy="2233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5"/>
          <p:cNvSpPr/>
          <p:nvPr/>
        </p:nvSpPr>
        <p:spPr>
          <a:xfrm flipH="1">
            <a:off x="4858920" y="5734080"/>
            <a:ext cx="30258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6"/>
          <p:cNvSpPr/>
          <p:nvPr/>
        </p:nvSpPr>
        <p:spPr>
          <a:xfrm>
            <a:off x="5867280" y="5157720"/>
            <a:ext cx="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9"/>
          <p:cNvSpPr/>
          <p:nvPr/>
        </p:nvSpPr>
        <p:spPr>
          <a:xfrm>
            <a:off x="5148360" y="5805360"/>
            <a:ext cx="2663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40000"/>
                </a:solidFill>
                <a:latin typeface="Book Antiqua"/>
              </a:rPr>
              <a:t>передача информации о выявленных расхождения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FB63-23E5-4516-9F1B-AEFDA0EC01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7848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Взаимодействие функциональных отделов Межрегионального операционного УФК с территориальными органами </a:t>
            </a:r>
            <a:br>
              <a:rPr sz="1600"/>
            </a:br>
            <a:r>
              <a:rPr b="1" lang="ru-RU" sz="1600" spc="-1" strike="noStrike">
                <a:solidFill>
                  <a:srgbClr val="002060"/>
                </a:solidFill>
                <a:latin typeface="Book Antiqua"/>
              </a:rPr>
              <a:t>Федерального казначейства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108000" y="1197000"/>
            <a:ext cx="187308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2484360" y="1197000"/>
            <a:ext cx="187344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4859280" y="1052640"/>
            <a:ext cx="1873440" cy="122400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7093080" y="1197000"/>
            <a:ext cx="1873080" cy="1079640"/>
          </a:xfrm>
          <a:prstGeom prst="rect">
            <a:avLst/>
          </a:prstGeom>
          <a:solidFill>
            <a:srgbClr val="ccecff"/>
          </a:solidFill>
          <a:ln w="38160">
            <a:solidFill>
              <a:srgbClr val="16238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1"/>
          <p:cNvSpPr/>
          <p:nvPr/>
        </p:nvSpPr>
        <p:spPr>
          <a:xfrm>
            <a:off x="108000" y="234936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2"/>
          <p:cNvSpPr/>
          <p:nvPr/>
        </p:nvSpPr>
        <p:spPr>
          <a:xfrm>
            <a:off x="2268360" y="2349360"/>
            <a:ext cx="2374920" cy="3816360"/>
          </a:xfrm>
          <a:prstGeom prst="upArrowCallout">
            <a:avLst>
              <a:gd name="adj1" fmla="val 19622"/>
              <a:gd name="adj2" fmla="val 25000"/>
              <a:gd name="adj3" fmla="val 7536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13"/>
          <p:cNvSpPr/>
          <p:nvPr/>
        </p:nvSpPr>
        <p:spPr>
          <a:xfrm>
            <a:off x="4716360" y="2349360"/>
            <a:ext cx="2089080" cy="3816360"/>
          </a:xfrm>
          <a:prstGeom prst="upArrowCallout">
            <a:avLst>
              <a:gd name="adj1" fmla="val 19622"/>
              <a:gd name="adj2" fmla="val 25000"/>
              <a:gd name="adj3" fmla="val 8567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6948360" y="2349360"/>
            <a:ext cx="2089440" cy="3816360"/>
          </a:xfrm>
          <a:prstGeom prst="upArrowCallout">
            <a:avLst>
              <a:gd name="adj1" fmla="val 19622"/>
              <a:gd name="adj2" fmla="val 25000"/>
              <a:gd name="adj3" fmla="val 8566"/>
              <a:gd name="adj4" fmla="val 13854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23480" y="1268280"/>
            <a:ext cx="16772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доходо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Арешев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2559600" y="1278000"/>
            <a:ext cx="17168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расходов</a:t>
            </a:r>
            <a:r>
              <a:rPr b="0" lang="ru-RU" sz="13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Дмитриева О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4859280" y="1052640"/>
            <a:ext cx="187164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обслуживания силовых ведомст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Book Antiqua"/>
              </a:rPr>
              <a:t>Кулешова О.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7093080" y="1197000"/>
            <a:ext cx="18921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Book Antiqua"/>
              </a:rPr>
              <a:t>Отдел доведения бюджетных данных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Начальник отде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Book Antiqua"/>
              </a:rPr>
              <a:t>Башлыкова Л.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2268360" y="2565360"/>
            <a:ext cx="2374920" cy="39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Сведений об объемах средств, перечисляемых на расчетные (дебетовые) карты получателей средств федерального бюджета, получателей средств бюджетов государственных внебюджетных фондов Российской Федерации, федеральных бюджетных учреждений, федеральных автономных учреждений и их структурных (обособленных) подразделений (ф.0531615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(ф.053170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, принятых в целях реализации федеральной адресной инвестиционной программы (ф.053173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179280" y="2565360"/>
            <a:ext cx="189252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прием Сведений о суммах возвратов (возмещений) и суммах уплаты процентов при нарушении срока возврата (возмещения) из федерального бюджета излишне уплаченных (взысканных) платеже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(ф.050704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формирование  Сводных сведений по данным лицевых счетов подведомственных администраторов доходов бюджета главного администратора (администратора, осуществляющего полномочия главного администратора) доходов бюджета (ф. 053182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4767120" y="2833560"/>
            <a:ext cx="19656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053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прием Отчета об исполнении бюджетных обязательств, принятых в целях реализации федеральной адресной инвестицион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053173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7000920" y="2897280"/>
            <a:ext cx="20350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формирование  Сводных данных по лицевым счетам подведомственных учреждений главного распорядителя (распорядителя) бюджет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(ф. 053182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7A95-FD89-4DCA-B3D5-A37E081C20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Группа 8"/>
          <p:cNvGrpSpPr/>
          <p:nvPr/>
        </p:nvGrpSpPr>
        <p:grpSpPr>
          <a:xfrm>
            <a:off x="0" y="857160"/>
            <a:ext cx="9144000" cy="6000840"/>
            <a:chOff x="0" y="857160"/>
            <a:chExt cx="9144000" cy="6000840"/>
          </a:xfrm>
        </p:grpSpPr>
        <p:pic>
          <p:nvPicPr>
            <p:cNvPr id="9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857160"/>
              <a:ext cx="9144000" cy="600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Скругленная прямоугольная выноска 10"/>
            <p:cNvSpPr/>
            <p:nvPr/>
          </p:nvSpPr>
          <p:spPr>
            <a:xfrm>
              <a:off x="2786040" y="4429080"/>
              <a:ext cx="1500120" cy="1000080"/>
            </a:xfrm>
            <a:prstGeom prst="wedgeRoundRectCallout">
              <a:avLst>
                <a:gd name="adj1" fmla="val -30685"/>
                <a:gd name="adj2" fmla="val -80643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1"/>
            <p:cNvSpPr/>
            <p:nvPr/>
          </p:nvSpPr>
          <p:spPr>
            <a:xfrm>
              <a:off x="2857320" y="4500720"/>
              <a:ext cx="150012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ерное ОКТМО: 78000000 (ОКТМО субъекта, перечислившего средства 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2"/>
          <p:cNvSpPr/>
          <p:nvPr/>
        </p:nvSpPr>
        <p:spPr>
          <a:xfrm>
            <a:off x="7572240" y="3940200"/>
            <a:ext cx="1214640" cy="3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0010000110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Группа 13"/>
          <p:cNvGrpSpPr/>
          <p:nvPr/>
        </p:nvGrpSpPr>
        <p:grpSpPr>
          <a:xfrm>
            <a:off x="7358040" y="4786200"/>
            <a:ext cx="1643040" cy="1000080"/>
            <a:chOff x="7358040" y="4786200"/>
            <a:chExt cx="1643040" cy="1000080"/>
          </a:xfrm>
        </p:grpSpPr>
        <p:sp>
          <p:nvSpPr>
            <p:cNvPr id="100" name="Скругленная прямоугольная выноска 14"/>
            <p:cNvSpPr/>
            <p:nvPr/>
          </p:nvSpPr>
          <p:spPr>
            <a:xfrm>
              <a:off x="7429320" y="4786200"/>
              <a:ext cx="1500480" cy="1000080"/>
            </a:xfrm>
            <a:prstGeom prst="wedgeRoundRectCallout">
              <a:avLst>
                <a:gd name="adj1" fmla="val -34995"/>
                <a:gd name="adj2" fmla="val -11388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15"/>
            <p:cNvSpPr/>
            <p:nvPr/>
          </p:nvSpPr>
          <p:spPr>
            <a:xfrm>
              <a:off x="7358040" y="5000400"/>
              <a:ext cx="164304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Верное КБК: 100103022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0010000110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оугольник 11"/>
          <p:cNvSpPr/>
          <p:nvPr/>
        </p:nvSpPr>
        <p:spPr>
          <a:xfrm>
            <a:off x="928800" y="142920"/>
            <a:ext cx="707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оформления Заявки на возврат  сумм возврата доходов от уплаты акцизов на печное топливо (страница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9ACD-F0B6-45F8-AC73-A31822FDB4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8"/>
          <p:cNvSpPr/>
          <p:nvPr/>
        </p:nvSpPr>
        <p:spPr>
          <a:xfrm>
            <a:off x="3357720" y="2071800"/>
            <a:ext cx="1214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78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кругленная прямоугольная выноска 9"/>
          <p:cNvSpPr/>
          <p:nvPr/>
        </p:nvSpPr>
        <p:spPr>
          <a:xfrm>
            <a:off x="3857760" y="2643120"/>
            <a:ext cx="1500120" cy="890640"/>
          </a:xfrm>
          <a:prstGeom prst="wedgeRoundRectCallout">
            <a:avLst>
              <a:gd name="adj1" fmla="val -35129"/>
              <a:gd name="adj2" fmla="val -93675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ОКТМО: 78000000 (ОКТМО субъекта, перечислившего средств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2571840" y="2072880"/>
            <a:ext cx="1214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кругленная прямоугольная выноска 11"/>
          <p:cNvSpPr/>
          <p:nvPr/>
        </p:nvSpPr>
        <p:spPr>
          <a:xfrm>
            <a:off x="1428840" y="2643120"/>
            <a:ext cx="1643040" cy="890640"/>
          </a:xfrm>
          <a:prstGeom prst="wedgeRoundRectCallout">
            <a:avLst>
              <a:gd name="adj1" fmla="val 38888"/>
              <a:gd name="adj2" fmla="val -90800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7"/>
          <p:cNvSpPr/>
          <p:nvPr/>
        </p:nvSpPr>
        <p:spPr>
          <a:xfrm>
            <a:off x="1214280" y="14292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имер оформления Заявки на возврат  сумм возврата доходов от уплаты акцизов на печное топливо (страница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B59E-ADFE-4289-868D-ABABA63F36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5343840" cy="55530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5"/>
          <p:cNvSpPr/>
          <p:nvPr/>
        </p:nvSpPr>
        <p:spPr>
          <a:xfrm>
            <a:off x="2286000" y="4858920"/>
            <a:ext cx="1214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кругленная прямоугольная выноска 6"/>
          <p:cNvSpPr/>
          <p:nvPr/>
        </p:nvSpPr>
        <p:spPr>
          <a:xfrm>
            <a:off x="357120" y="5072040"/>
            <a:ext cx="1643040" cy="1000080"/>
          </a:xfrm>
          <a:prstGeom prst="wedgeRoundRectCallout">
            <a:avLst>
              <a:gd name="adj1" fmla="val 73611"/>
              <a:gd name="adj2" fmla="val -51087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 в поле «Назначение платежа»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кругленная прямоугольная выноска 7"/>
          <p:cNvSpPr/>
          <p:nvPr/>
        </p:nvSpPr>
        <p:spPr>
          <a:xfrm>
            <a:off x="4786200" y="5143680"/>
            <a:ext cx="1500480" cy="1000080"/>
          </a:xfrm>
          <a:prstGeom prst="wedgeRoundRectCallout">
            <a:avLst>
              <a:gd name="adj1" fmla="val -86708"/>
              <a:gd name="adj2" fmla="val -72333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286080" y="4795560"/>
            <a:ext cx="121464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0" bIns="360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780000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ая прямоугольная выноска 10"/>
          <p:cNvSpPr/>
          <p:nvPr/>
        </p:nvSpPr>
        <p:spPr>
          <a:xfrm>
            <a:off x="357120" y="3786120"/>
            <a:ext cx="1714680" cy="1000080"/>
          </a:xfrm>
          <a:prstGeom prst="wedgeRoundRectCallout">
            <a:avLst>
              <a:gd name="adj1" fmla="val 66851"/>
              <a:gd name="adj2" fmla="val 56958"/>
              <a:gd name="adj3" fmla="val 16667"/>
            </a:avLst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КБК в 104 поле: 100103022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1"/>
          <p:cNvSpPr/>
          <p:nvPr/>
        </p:nvSpPr>
        <p:spPr>
          <a:xfrm>
            <a:off x="4714920" y="5214960"/>
            <a:ext cx="1500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Верное ОКТМО: 78000000 (ОКТМО субъекта, перечислившего средств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12"/>
          <p:cNvSpPr/>
          <p:nvPr/>
        </p:nvSpPr>
        <p:spPr>
          <a:xfrm>
            <a:off x="7286760" y="3857760"/>
            <a:ext cx="1000080" cy="1440"/>
          </a:xfrm>
          <a:prstGeom prst="line">
            <a:avLst/>
          </a:prstGeom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13"/>
          <p:cNvSpPr/>
          <p:nvPr/>
        </p:nvSpPr>
        <p:spPr>
          <a:xfrm>
            <a:off x="2428920" y="4857840"/>
            <a:ext cx="1000080" cy="1440"/>
          </a:xfrm>
          <a:prstGeom prst="line">
            <a:avLst/>
          </a:prstGeom>
          <a:ln w="92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2286000" y="4787280"/>
            <a:ext cx="121428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360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100103022</a:t>
            </a: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700" spc="-1" strike="noStrike">
                <a:solidFill>
                  <a:srgbClr val="000000"/>
                </a:solidFill>
                <a:latin typeface="Times New Roman"/>
              </a:rPr>
              <a:t>001000011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5"/>
          <p:cNvSpPr/>
          <p:nvPr/>
        </p:nvSpPr>
        <p:spPr>
          <a:xfrm>
            <a:off x="785880" y="142920"/>
            <a:ext cx="728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мер платежного поручения, сформированного на основании Заявки на возврат  сумм возврата доходов от уплаты акцизов на печное топли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6"/>
          <p:cNvSpPr/>
          <p:nvPr/>
        </p:nvSpPr>
        <p:spPr>
          <a:xfrm>
            <a:off x="0" y="6357960"/>
            <a:ext cx="9144000" cy="50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2601-CD47-4E64-B2C3-424DEC74E2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3000240" y="1071720"/>
            <a:ext cx="6143760" cy="214308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ашивка 5"/>
          <p:cNvSpPr/>
          <p:nvPr/>
        </p:nvSpPr>
        <p:spPr>
          <a:xfrm>
            <a:off x="3500280" y="1071720"/>
            <a:ext cx="857520" cy="2143080"/>
          </a:xfrm>
          <a:custGeom>
            <a:avLst/>
            <a:gdLst>
              <a:gd name="textAreaLeft" fmla="*/ 0 w 857520"/>
              <a:gd name="textAreaRight" fmla="*/ 857880 w 85752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ятиугольник 6"/>
          <p:cNvSpPr/>
          <p:nvPr/>
        </p:nvSpPr>
        <p:spPr>
          <a:xfrm>
            <a:off x="3000240" y="1071720"/>
            <a:ext cx="857520" cy="2143080"/>
          </a:xfrm>
          <a:custGeom>
            <a:avLst/>
            <a:gdLst>
              <a:gd name="textAreaLeft" fmla="*/ 0 w 857520"/>
              <a:gd name="textAreaRight" fmla="*/ 857880 w 857520"/>
              <a:gd name="textAreaTop" fmla="*/ 0 h 2143080"/>
              <a:gd name="textAreaBottom" fmla="*/ 214344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7"/>
          <p:cNvSpPr/>
          <p:nvPr/>
        </p:nvSpPr>
        <p:spPr>
          <a:xfrm>
            <a:off x="4357800" y="1214280"/>
            <a:ext cx="478620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инистерство экономического развития Российской Федерации в 3-дневный срок после рассмотрения и одобрения Правительством Российской Федерации прогноза направляет прогноз в Министерство финансов Российской Федерации для представления Министерством финансов Российской Федерации в Правительство Российской Федерации в составе документов и материалов, подлежащих внесению в Государственную Думу Федерального Собрания Российской Федерации одновременно с проектом федерального закона о федеральном бюджете на очередной финансовый год и плановый период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роки разработки прогноза определяются Приказом Министерства экономического развития Российской Федерации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8"/>
          <p:cNvSpPr/>
          <p:nvPr/>
        </p:nvSpPr>
        <p:spPr>
          <a:xfrm>
            <a:off x="3000240" y="3286080"/>
            <a:ext cx="6143760" cy="3286080"/>
          </a:xfrm>
          <a:prstGeom prst="rect">
            <a:avLst/>
          </a:pr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Нашивка 9"/>
          <p:cNvSpPr/>
          <p:nvPr/>
        </p:nvSpPr>
        <p:spPr>
          <a:xfrm>
            <a:off x="3429000" y="3286080"/>
            <a:ext cx="866880" cy="3286080"/>
          </a:xfrm>
          <a:custGeom>
            <a:avLst/>
            <a:gdLst>
              <a:gd name="textAreaLeft" fmla="*/ 0 w 866880"/>
              <a:gd name="textAreaRight" fmla="*/ 867240 w 86688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b0f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ятиугольник 10"/>
          <p:cNvSpPr/>
          <p:nvPr/>
        </p:nvSpPr>
        <p:spPr>
          <a:xfrm>
            <a:off x="3000240" y="3286080"/>
            <a:ext cx="795600" cy="3286080"/>
          </a:xfrm>
          <a:custGeom>
            <a:avLst/>
            <a:gdLst>
              <a:gd name="textAreaLeft" fmla="*/ 0 w 795600"/>
              <a:gd name="textAreaRight" fmla="*/ 795960 w 795600"/>
              <a:gd name="textAreaTop" fmla="*/ 0 h 3286080"/>
              <a:gd name="textAreaBottom" fmla="*/ 3286440 h 328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f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4214880" y="3362760"/>
            <a:ext cx="484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ое операционное управление Федерального казначейства представляет в соответствующие управления Федерального казначейства по субъектам Российской Федерации  Прогноз поступлений доходов от уплаты акцизов на нефтепродукты на год и на плановый период в разрезе кодов бюджетной классификации Российской Федерации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пяти рабочих дн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 момента получения от Федерального казначейства необходимой информ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лучае уточнения Министерством финансов Российской Федерации прогнозируемых поступлений акцизов на нефтепродукты, подлежащих распределению в консолидированные бюджеты субъектов Российской Федерации на текущий финансовый год и на плановый период, Федеральное казначейство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трех рабочих дней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момента получения указанной информации от Министерства финансов Российской Федерации направляет ее в Межрегиональное операционное управление Федерального казначейств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Управление Федерального казначейства представляет в соответствующий финансовый орган субъекта Российской Федерации Прогноз поступлений доходов от уплаты акцизов на нефтепродукты на год и на плановый период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течение пяти рабочих дней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с момента получения необходимой информации от Межрегионального операционного управления Федерального казначейства, при условии установления законом субъекта Российской Федерации нормативов распределения в бюджет субъекта Российской Федерации и в местные бюджет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285840" y="107172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остановление Правительства РФ от 22.07.2009 N 596 "О порядке разработки прогноза социально-экономического развития Российской Федерации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14200" y="3162240"/>
            <a:ext cx="2571840" cy="34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Казначейства России от 30.12.2013 N 328 "О наделении территориальных органов Федерального казначейства отдельными полномочиями главного администратора (администратора) доходов бюджетов субъектов Российской Федерации и местных бюджетов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2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13"/>
          <p:cNvSpPr/>
          <p:nvPr/>
        </p:nvSpPr>
        <p:spPr>
          <a:xfrm>
            <a:off x="857160" y="0"/>
            <a:ext cx="7143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Этапы формирования и сроки представления в финансовые органы субъектов Российской Федерации и муниципальных образований прогноза поступлений по акцизам на нефтепроду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D936-F79C-477D-9631-F6F3E4F1CF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 rot="5400000">
            <a:off x="5857560" y="5357880"/>
            <a:ext cx="428760" cy="114300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1143000"/>
              <a:gd name="textAreaBottom" fmla="*/ 1122120 h 1143000"/>
            </a:gdLst>
            <a:ahLst/>
            <a:rect l="textAreaLeft" t="textAreaTop" r="textAreaRight" b="textAreaBottom"/>
            <a:pathLst>
              <a:path w="21600" h="57552">
                <a:moveTo>
                  <a:pt x="3600" y="0"/>
                </a:moveTo>
                <a:arcTo wR="3600" hR="3600" stAng="16200000" swAng="-5400000"/>
                <a:lnTo>
                  <a:pt x="0" y="53952"/>
                </a:lnTo>
                <a:arcTo wR="3600" hR="3600" stAng="10800000" swAng="-5400000"/>
                <a:lnTo>
                  <a:pt x="18000" y="575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715000" y="578628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по норматив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Shape 6" descr=""/>
          <p:cNvPicPr/>
          <p:nvPr/>
        </p:nvPicPr>
        <p:blipFill>
          <a:blip r:embed="rId1"/>
          <a:stretch/>
        </p:blipFill>
        <p:spPr>
          <a:xfrm>
            <a:off x="5778360" y="4595760"/>
            <a:ext cx="2054520" cy="993960"/>
          </a:xfrm>
          <a:prstGeom prst="rect">
            <a:avLst/>
          </a:prstGeom>
          <a:ln w="0">
            <a:noFill/>
          </a:ln>
        </p:spPr>
      </p:pic>
      <p:sp>
        <p:nvSpPr>
          <p:cNvPr id="140" name="Скругленный прямоугольник 7"/>
          <p:cNvSpPr/>
          <p:nvPr/>
        </p:nvSpPr>
        <p:spPr>
          <a:xfrm rot="5400000">
            <a:off x="2821320" y="4179240"/>
            <a:ext cx="428760" cy="12142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1214280"/>
              <a:gd name="textAreaBottom" fmla="*/ 1193400 h 1214280"/>
            </a:gdLst>
            <a:ahLst/>
            <a:rect l="textAreaLeft" t="textAreaTop" r="textAreaRight" b="textAreaBottom"/>
            <a:pathLst>
              <a:path w="21600" h="61140">
                <a:moveTo>
                  <a:pt x="3600" y="0"/>
                </a:moveTo>
                <a:arcTo wR="3600" hR="3600" stAng="16200000" swAng="-5400000"/>
                <a:lnTo>
                  <a:pt x="0" y="57540"/>
                </a:lnTo>
                <a:arcTo wR="3600" hR="3600" stAng="10800000" swAng="-5400000"/>
                <a:lnTo>
                  <a:pt x="18000" y="61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кругленный прямоугольник 8"/>
          <p:cNvSpPr/>
          <p:nvPr/>
        </p:nvSpPr>
        <p:spPr>
          <a:xfrm rot="5400000">
            <a:off x="6931080" y="896040"/>
            <a:ext cx="709920" cy="185724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1857240"/>
              <a:gd name="textAreaBottom" fmla="*/ 1822680 h 1857240"/>
            </a:gdLst>
            <a:ahLst/>
            <a:rect l="textAreaLeft" t="textAreaTop" r="textAreaRight" b="textAreaBottom"/>
            <a:pathLst>
              <a:path w="21600" h="56491">
                <a:moveTo>
                  <a:pt x="3600" y="0"/>
                </a:moveTo>
                <a:arcTo wR="3600" hR="3600" stAng="16200000" swAng="-5400000"/>
                <a:lnTo>
                  <a:pt x="0" y="52891"/>
                </a:lnTo>
                <a:arcTo wR="3600" hR="3600" stAng="10800000" swAng="-5400000"/>
                <a:lnTo>
                  <a:pt x="18000" y="56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9"/>
          <p:cNvSpPr/>
          <p:nvPr/>
        </p:nvSpPr>
        <p:spPr>
          <a:xfrm rot="5400000">
            <a:off x="4217040" y="1661040"/>
            <a:ext cx="709560" cy="1857600"/>
          </a:xfrm>
          <a:custGeom>
            <a:avLst/>
            <a:gdLst>
              <a:gd name="textAreaLeft" fmla="*/ 34560 w 709560"/>
              <a:gd name="textAreaRight" fmla="*/ 675000 w 709560"/>
              <a:gd name="textAreaTop" fmla="*/ 34560 h 1857600"/>
              <a:gd name="textAreaBottom" fmla="*/ 1823040 h 1857600"/>
            </a:gdLst>
            <a:ahLst/>
            <a:rect l="textAreaLeft" t="textAreaTop" r="textAreaRight" b="textAreaBottom"/>
            <a:pathLst>
              <a:path w="21600" h="56530">
                <a:moveTo>
                  <a:pt x="3600" y="0"/>
                </a:moveTo>
                <a:arcTo wR="3600" hR="3600" stAng="16200000" swAng="-5400000"/>
                <a:lnTo>
                  <a:pt x="0" y="52930"/>
                </a:lnTo>
                <a:arcTo wR="3600" hR="3600" stAng="10800000" swAng="-5400000"/>
                <a:lnTo>
                  <a:pt x="18000" y="565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Скругленный прямоугольник 10"/>
          <p:cNvSpPr/>
          <p:nvPr/>
        </p:nvSpPr>
        <p:spPr>
          <a:xfrm rot="5400000">
            <a:off x="1501920" y="896040"/>
            <a:ext cx="709920" cy="185724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1857240"/>
              <a:gd name="textAreaBottom" fmla="*/ 1822680 h 1857240"/>
            </a:gdLst>
            <a:ahLst/>
            <a:rect l="textAreaLeft" t="textAreaTop" r="textAreaRight" b="textAreaBottom"/>
            <a:pathLst>
              <a:path w="21600" h="56491">
                <a:moveTo>
                  <a:pt x="3600" y="0"/>
                </a:moveTo>
                <a:arcTo wR="3600" hR="3600" stAng="16200000" swAng="-5400000"/>
                <a:lnTo>
                  <a:pt x="0" y="52891"/>
                </a:lnTo>
                <a:arcTo wR="3600" hR="3600" stAng="10800000" swAng="-5400000"/>
                <a:lnTo>
                  <a:pt x="18000" y="564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df97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11"/>
          <p:cNvSpPr/>
          <p:nvPr/>
        </p:nvSpPr>
        <p:spPr>
          <a:xfrm rot="5400000">
            <a:off x="4287960" y="2626200"/>
            <a:ext cx="709920" cy="2000520"/>
          </a:xfrm>
          <a:custGeom>
            <a:avLst/>
            <a:gdLst>
              <a:gd name="textAreaLeft" fmla="*/ 34560 w 709920"/>
              <a:gd name="textAreaRight" fmla="*/ 675360 w 709920"/>
              <a:gd name="textAreaTop" fmla="*/ 34560 h 2000520"/>
              <a:gd name="textAreaBottom" fmla="*/ 1965960 h 2000520"/>
            </a:gdLst>
            <a:ahLst/>
            <a:rect l="textAreaLeft" t="textAreaTop" r="textAreaRight" b="textAreaBottom"/>
            <a:pathLst>
              <a:path w="21600" h="60848">
                <a:moveTo>
                  <a:pt x="3600" y="0"/>
                </a:moveTo>
                <a:arcTo wR="3600" hR="3600" stAng="16200000" swAng="-5400000"/>
                <a:lnTo>
                  <a:pt x="0" y="57248"/>
                </a:lnTo>
                <a:arcTo wR="3600" hR="3600" stAng="10800000" swAng="-5400000"/>
                <a:lnTo>
                  <a:pt x="18000" y="6084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2"/>
          <p:cNvSpPr/>
          <p:nvPr/>
        </p:nvSpPr>
        <p:spPr>
          <a:xfrm rot="5400000">
            <a:off x="4412160" y="4588920"/>
            <a:ext cx="819000" cy="1928520"/>
          </a:xfrm>
          <a:custGeom>
            <a:avLst/>
            <a:gdLst>
              <a:gd name="textAreaLeft" fmla="*/ 39960 w 819000"/>
              <a:gd name="textAreaRight" fmla="*/ 779040 w 819000"/>
              <a:gd name="textAreaTop" fmla="*/ 39960 h 1928520"/>
              <a:gd name="textAreaBottom" fmla="*/ 1888560 h 1928520"/>
            </a:gdLst>
            <a:ahLst/>
            <a:rect l="textAreaLeft" t="textAreaTop" r="textAreaRight" b="textAreaBottom"/>
            <a:pathLst>
              <a:path w="21600" h="50849">
                <a:moveTo>
                  <a:pt x="3600" y="0"/>
                </a:moveTo>
                <a:arcTo wR="3600" hR="3600" stAng="16200000" swAng="-5400000"/>
                <a:lnTo>
                  <a:pt x="0" y="47249"/>
                </a:lnTo>
                <a:arcTo wR="3600" hR="3600" stAng="10800000" swAng="-5400000"/>
                <a:lnTo>
                  <a:pt x="18000" y="508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3"/>
          <p:cNvSpPr/>
          <p:nvPr/>
        </p:nvSpPr>
        <p:spPr>
          <a:xfrm rot="5400000">
            <a:off x="1431000" y="3624840"/>
            <a:ext cx="709560" cy="1857600"/>
          </a:xfrm>
          <a:custGeom>
            <a:avLst/>
            <a:gdLst>
              <a:gd name="textAreaLeft" fmla="*/ 34560 w 709560"/>
              <a:gd name="textAreaRight" fmla="*/ 675000 w 709560"/>
              <a:gd name="textAreaTop" fmla="*/ 34560 h 1857600"/>
              <a:gd name="textAreaBottom" fmla="*/ 1823040 h 1857600"/>
            </a:gdLst>
            <a:ahLst/>
            <a:rect l="textAreaLeft" t="textAreaTop" r="textAreaRight" b="textAreaBottom"/>
            <a:pathLst>
              <a:path w="21600" h="56530">
                <a:moveTo>
                  <a:pt x="3600" y="0"/>
                </a:moveTo>
                <a:arcTo wR="3600" hR="3600" stAng="16200000" swAng="-5400000"/>
                <a:lnTo>
                  <a:pt x="0" y="52930"/>
                </a:lnTo>
                <a:arcTo wR="3600" hR="3600" stAng="10800000" swAng="-5400000"/>
                <a:lnTo>
                  <a:pt x="18000" y="565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3e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Скругленная соединительная линия 14"/>
          <p:cNvCxnSpPr>
            <a:stCxn id="143" idx="1"/>
            <a:endCxn id="141" idx="1"/>
          </p:cNvCxnSpPr>
          <p:nvPr/>
        </p:nvCxnSpPr>
        <p:spPr>
          <a:xfrm flipH="1" flipV="1" rot="5400000">
            <a:off x="4571640" y="-1245240"/>
            <a:ext cx="2520" cy="5431680"/>
          </a:xfrm>
          <a:prstGeom prst="curvedConnector5">
            <a:avLst>
              <a:gd name="adj1" fmla="val 25883333"/>
              <a:gd name="adj2" fmla="val 49996"/>
              <a:gd name="adj3" fmla="val 25883333"/>
            </a:avLst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48" name="Shape 15"/>
          <p:cNvCxnSpPr>
            <a:stCxn id="143" idx="3"/>
            <a:endCxn id="142" idx="2"/>
          </p:cNvCxnSpPr>
          <p:nvPr/>
        </p:nvCxnSpPr>
        <p:spPr>
          <a:xfrm flipH="1" rot="16200000">
            <a:off x="2544480" y="1491120"/>
            <a:ext cx="410040" cy="1786680"/>
          </a:xfrm>
          <a:prstGeom prst="curvedConnector2">
            <a:avLst/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49" name="Shape 16"/>
          <p:cNvCxnSpPr>
            <a:stCxn id="142" idx="0"/>
            <a:endCxn id="141" idx="3"/>
          </p:cNvCxnSpPr>
          <p:nvPr/>
        </p:nvCxnSpPr>
        <p:spPr>
          <a:xfrm flipV="1">
            <a:off x="5500440" y="2179080"/>
            <a:ext cx="1786680" cy="410040"/>
          </a:xfrm>
          <a:prstGeom prst="curvedConnector2">
            <a:avLst/>
          </a:prstGeom>
          <a:ln cap="sq" w="63360">
            <a:solidFill>
              <a:srgbClr val="00b050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150" name="Shape 17"/>
          <p:cNvCxnSpPr>
            <a:stCxn id="144" idx="2"/>
            <a:endCxn id="146" idx="1"/>
          </p:cNvCxnSpPr>
          <p:nvPr/>
        </p:nvCxnSpPr>
        <p:spPr>
          <a:xfrm flipV="1" rot="10800000">
            <a:off x="1785240" y="3625560"/>
            <a:ext cx="1857960" cy="573840"/>
          </a:xfrm>
          <a:prstGeom prst="curvedConnector2">
            <a:avLst/>
          </a:prstGeom>
          <a:ln w="63360">
            <a:solidFill>
              <a:srgbClr val="0070c0"/>
            </a:solidFill>
            <a:miter/>
            <a:tailEnd len="med" type="stealth" w="med"/>
          </a:ln>
        </p:spPr>
      </p:cxnSp>
      <p:sp>
        <p:nvSpPr>
          <p:cNvPr id="151" name="TextBox 18"/>
          <p:cNvSpPr/>
          <p:nvPr/>
        </p:nvSpPr>
        <p:spPr>
          <a:xfrm>
            <a:off x="3857760" y="5072040"/>
            <a:ext cx="1928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Территориальные органы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Стрелка вправо 19"/>
          <p:cNvGrpSpPr/>
          <p:nvPr/>
        </p:nvGrpSpPr>
        <p:grpSpPr>
          <a:xfrm>
            <a:off x="4352760" y="2992320"/>
            <a:ext cx="365400" cy="341280"/>
            <a:chOff x="4352760" y="2992320"/>
            <a:chExt cx="365400" cy="341280"/>
          </a:xfrm>
        </p:grpSpPr>
        <p:pic>
          <p:nvPicPr>
            <p:cNvPr id="153" name="Стрелка вправо 19" descr=""/>
            <p:cNvPicPr/>
            <p:nvPr/>
          </p:nvPicPr>
          <p:blipFill>
            <a:blip r:embed="rId2"/>
            <a:stretch/>
          </p:blipFill>
          <p:spPr>
            <a:xfrm>
              <a:off x="4352760" y="2992320"/>
              <a:ext cx="36540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 rot="5400000">
              <a:off x="4413240" y="3033720"/>
              <a:ext cx="24624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Box 20"/>
          <p:cNvSpPr/>
          <p:nvPr/>
        </p:nvSpPr>
        <p:spPr>
          <a:xfrm>
            <a:off x="1000080" y="1500120"/>
            <a:ext cx="1643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b050"/>
                </a:solidFill>
                <a:latin typeface="Arial"/>
              </a:rPr>
              <a:t>Федеральная налоговая служба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1"/>
          <p:cNvSpPr/>
          <p:nvPr/>
        </p:nvSpPr>
        <p:spPr>
          <a:xfrm>
            <a:off x="3571920" y="2214720"/>
            <a:ext cx="192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Министерство финансо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2"/>
          <p:cNvSpPr/>
          <p:nvPr/>
        </p:nvSpPr>
        <p:spPr>
          <a:xfrm>
            <a:off x="6286680" y="1428840"/>
            <a:ext cx="200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b050"/>
                </a:solidFill>
                <a:latin typeface="Arial"/>
              </a:rPr>
              <a:t>Министерство экономического развития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3"/>
          <p:cNvSpPr/>
          <p:nvPr/>
        </p:nvSpPr>
        <p:spPr>
          <a:xfrm>
            <a:off x="3643200" y="3357720"/>
            <a:ext cx="2071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Федеральное казначейство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4"/>
          <p:cNvSpPr/>
          <p:nvPr/>
        </p:nvSpPr>
        <p:spPr>
          <a:xfrm>
            <a:off x="785880" y="4286160"/>
            <a:ext cx="20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ежрегиональное операционное УФ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5"/>
          <p:cNvSpPr/>
          <p:nvPr/>
        </p:nvSpPr>
        <p:spPr>
          <a:xfrm>
            <a:off x="6715080" y="3929040"/>
            <a:ext cx="2071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00000"/>
                </a:solidFill>
                <a:latin typeface="Arial"/>
              </a:rPr>
              <a:t>Финансовые органы субъекта Российской Федерации и муниципальных образова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extBox 26" descr=""/>
          <p:cNvPicPr/>
          <p:nvPr/>
        </p:nvPicPr>
        <p:blipFill>
          <a:blip r:embed="rId3"/>
          <a:stretch/>
        </p:blipFill>
        <p:spPr>
          <a:xfrm>
            <a:off x="3408480" y="1122480"/>
            <a:ext cx="2322360" cy="261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7"/>
          <p:cNvSpPr/>
          <p:nvPr/>
        </p:nvSpPr>
        <p:spPr>
          <a:xfrm>
            <a:off x="5643720" y="2214720"/>
            <a:ext cx="92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8"/>
          <p:cNvSpPr/>
          <p:nvPr/>
        </p:nvSpPr>
        <p:spPr>
          <a:xfrm>
            <a:off x="2643120" y="37148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общей суммы поступлений по акциз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9"/>
          <p:cNvSpPr/>
          <p:nvPr/>
        </p:nvSpPr>
        <p:spPr>
          <a:xfrm>
            <a:off x="2214720" y="50720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по КБК в разрезе субъектов Р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0"/>
          <p:cNvSpPr/>
          <p:nvPr/>
        </p:nvSpPr>
        <p:spPr>
          <a:xfrm>
            <a:off x="5715000" y="4857840"/>
            <a:ext cx="157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по КБК  для субъекта РФ и местных бюджетов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1"/>
          <p:cNvSpPr/>
          <p:nvPr/>
        </p:nvSpPr>
        <p:spPr>
          <a:xfrm rot="5400000">
            <a:off x="7215120" y="3428640"/>
            <a:ext cx="857160" cy="1857600"/>
          </a:xfrm>
          <a:custGeom>
            <a:avLst/>
            <a:gdLst>
              <a:gd name="textAreaLeft" fmla="*/ 41760 w 857160"/>
              <a:gd name="textAreaRight" fmla="*/ 815400 w 857160"/>
              <a:gd name="textAreaTop" fmla="*/ 41760 h 1857600"/>
              <a:gd name="textAreaBottom" fmla="*/ 1815840 h 1857600"/>
            </a:gdLst>
            <a:ahLst/>
            <a:rect l="textAreaLeft" t="textAreaTop" r="textAreaRight" b="textAreaBottom"/>
            <a:pathLst>
              <a:path w="21600" h="46800">
                <a:moveTo>
                  <a:pt x="3600" y="0"/>
                </a:moveTo>
                <a:arcTo wR="3600" hR="3600" stAng="16200000" swAng="-5400000"/>
                <a:lnTo>
                  <a:pt x="0" y="43200"/>
                </a:lnTo>
                <a:arcTo wR="3600" hR="3600" stAng="10800000" swAng="-5400000"/>
                <a:lnTo>
                  <a:pt x="18000" y="46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9f12">
              <a:alpha val="3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2"/>
          <p:cNvSpPr/>
          <p:nvPr/>
        </p:nvSpPr>
        <p:spPr>
          <a:xfrm>
            <a:off x="2500200" y="2214720"/>
            <a:ext cx="92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3"/>
          <p:cNvSpPr/>
          <p:nvPr/>
        </p:nvSpPr>
        <p:spPr>
          <a:xfrm>
            <a:off x="0" y="5873760"/>
            <a:ext cx="1643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ФНС в качестве заинтересованного федерального органа исполнительной в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5"/>
          <p:cNvSpPr/>
          <p:nvPr/>
        </p:nvSpPr>
        <p:spPr>
          <a:xfrm>
            <a:off x="4572000" y="2928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Прогноз общей суммы поступлений по акциза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36"/>
          <p:cNvSpPr/>
          <p:nvPr/>
        </p:nvSpPr>
        <p:spPr>
          <a:xfrm>
            <a:off x="2643120" y="4572000"/>
            <a:ext cx="107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аспределение по норматива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Shape 37"/>
          <p:cNvCxnSpPr>
            <a:stCxn id="146" idx="3"/>
          </p:cNvCxnSpPr>
          <p:nvPr/>
        </p:nvCxnSpPr>
        <p:spPr>
          <a:xfrm flipH="1" rot="16200000">
            <a:off x="2382120" y="4311360"/>
            <a:ext cx="878400" cy="2072520"/>
          </a:xfrm>
          <a:prstGeom prst="curvedConnector2">
            <a:avLst/>
          </a:prstGeom>
          <a:ln w="63360">
            <a:solidFill>
              <a:srgbClr val="0070c0"/>
            </a:solidFill>
            <a:miter/>
            <a:tailEnd len="med" type="stealth" w="med"/>
          </a:ln>
        </p:spPr>
      </p:cxnSp>
      <p:sp>
        <p:nvSpPr>
          <p:cNvPr id="172" name="Прямоугольник 50"/>
          <p:cNvSpPr/>
          <p:nvPr/>
        </p:nvSpPr>
        <p:spPr>
          <a:xfrm>
            <a:off x="785880" y="0"/>
            <a:ext cx="764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776"/>
                </a:solidFill>
                <a:latin typeface="Times New Roman"/>
                <a:ea typeface="Times New Roman"/>
              </a:rPr>
              <a:t>Порядок составления и представления в финансовые органы субъектов Российской Федерации и муниципальных образований прогноза поступлений по акцизам на нефтепродук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8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Горина Наталия Михайловна</cp:lastModifiedBy>
  <dcterms:modified xsi:type="dcterms:W3CDTF">2014-09-09T14:45:12Z</dcterms:modified>
  <cp:revision>159</cp:revision>
  <dc:subject/>
  <dc:title>Слайд 1</dc:title>
</cp:coreProperties>
</file>