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4.wmf" ContentType="image/x-wmf"/>
  <Override PartName="/ppt/media/image5.png" ContentType="image/png"/>
  <Override PartName="/ppt/media/image2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B8F-E017-4C4F-9354-5F6AFAA9B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F9B-E9B3-4FC9-AB09-C061B40E6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726-1757-4EFD-B360-A10975427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6B8-06E7-43F8-8EE3-84DB0117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2A5-51BD-4A65-A732-4AC0D2F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55A-E478-48E9-A8DB-556C8D16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9E2-C387-41F4-BC58-12751ACC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86C-FEA0-467F-AE4A-C725425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70A-9D71-44EA-99C3-12646C5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1F6-4E97-403F-96F4-5F505D6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6DC-FEF8-4EEB-B064-093AFF10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02F-57C0-4DCC-BAEE-C7EBDF9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CB-D7EB-48F3-A219-E8AE74B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9BB-5455-4CFF-BAC1-484E21E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E93-3091-4A2A-AB4D-FA56CB9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33E-04BD-49E8-BE90-896FEFC5C9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001E-36F3-4BDB-9799-A949FD1A4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61680" y="660240"/>
            <a:ext cx="9728280" cy="43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mbria"/>
              </a:rPr>
              <a:t>Отдельные вопросы формирования бюджетной отчетности об исполнении бюджетов бюджетной системы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Прямоугольник 46"/>
          <p:cNvSpPr/>
          <p:nvPr/>
        </p:nvSpPr>
        <p:spPr>
          <a:xfrm>
            <a:off x="6730920" y="4919760"/>
            <a:ext cx="47149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Начальник Управления бюджетного учета и отчетност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А.В. Дуб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4 февраля 2016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5F6-BE35-40A4-A7D2-2C2C3184FB6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4"/>
          <p:cNvSpPr/>
          <p:nvPr/>
        </p:nvSpPr>
        <p:spPr>
          <a:xfrm>
            <a:off x="6445080" y="1346040"/>
            <a:ext cx="0" cy="448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76520" y="2819520"/>
            <a:ext cx="945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76520" y="4370400"/>
            <a:ext cx="953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1805040" y="1346040"/>
            <a:ext cx="0" cy="448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1" descr="MC900431627[1]"/>
          <p:cNvPicPr/>
          <p:nvPr/>
        </p:nvPicPr>
        <p:blipFill>
          <a:blip r:embed="rId1"/>
          <a:stretch/>
        </p:blipFill>
        <p:spPr>
          <a:xfrm>
            <a:off x="3467160" y="153360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39480" y="2281320"/>
            <a:ext cx="167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еред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676520" y="5708520"/>
            <a:ext cx="953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1" descr="MC900431627[1]"/>
          <p:cNvPicPr/>
          <p:nvPr/>
        </p:nvPicPr>
        <p:blipFill>
          <a:blip r:embed="rId2"/>
          <a:stretch/>
        </p:blipFill>
        <p:spPr>
          <a:xfrm>
            <a:off x="8197920" y="153360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7769160" y="2270160"/>
            <a:ext cx="165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луч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DCA-E6D7-4021-8830-870C6FA80B4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930400" y="631800"/>
            <a:ext cx="881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ередача имущества между учр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089080" y="2946240"/>
            <a:ext cx="35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401 20 241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105 хх 4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2086200" y="4572000"/>
            <a:ext cx="35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401 20 251 -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105 хх 4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0971360" y="1355760"/>
            <a:ext cx="0" cy="448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6793920" y="457200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105 хх 340 –</a:t>
            </a:r>
            <a:r>
              <a:rPr b="1" lang="ru-RU" sz="1800" spc="-1" strike="noStrike">
                <a:solidFill>
                  <a:srgbClr val="2f5597"/>
                </a:solidFill>
                <a:latin typeface="Calibri"/>
              </a:rPr>
              <a:t> КДБ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401 10 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4"/>
          <p:cNvSpPr/>
          <p:nvPr/>
        </p:nvSpPr>
        <p:spPr>
          <a:xfrm>
            <a:off x="6793920" y="2960640"/>
            <a:ext cx="36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105 хх 340 – </a:t>
            </a:r>
            <a:r>
              <a:rPr b="1" lang="ru-RU" sz="1800" spc="-1" strike="noStrike">
                <a:solidFill>
                  <a:srgbClr val="2f5597"/>
                </a:solidFill>
                <a:latin typeface="Calibri"/>
              </a:rPr>
              <a:t>КДБ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401 10 1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47"/>
          <p:cNvSpPr/>
          <p:nvPr/>
        </p:nvSpPr>
        <p:spPr>
          <a:xfrm>
            <a:off x="7531200" y="3597120"/>
            <a:ext cx="3254400" cy="416160"/>
          </a:xfrm>
          <a:prstGeom prst="wedgeRoundRectCallout">
            <a:avLst>
              <a:gd name="adj1" fmla="val -8787"/>
              <a:gd name="adj2" fmla="val -1216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libri"/>
                <a:ea typeface="Arial"/>
              </a:rPr>
              <a:t>000 2 07 00000 00 0000 1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7531200" y="5184720"/>
            <a:ext cx="3254400" cy="654120"/>
          </a:xfrm>
          <a:prstGeom prst="wedgeRoundRectCallout">
            <a:avLst>
              <a:gd name="adj1" fmla="val -7615"/>
              <a:gd name="adj2" fmla="val -1002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libri"/>
                <a:ea typeface="Arial"/>
              </a:rPr>
              <a:t>000 2 02 09000 00 0000 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Calibri"/>
                <a:ea typeface="Arial"/>
              </a:rPr>
              <a:t>000 2 02 04999 00 0000 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223360" y="625320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м. письма МФ РФ от 27.01.2016 № 02-06-07/3333, от 12.10.2009 № 02-06-07/47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право стрелка 18"/>
          <p:cNvSpPr/>
          <p:nvPr/>
        </p:nvSpPr>
        <p:spPr>
          <a:xfrm rot="5400000">
            <a:off x="2966760" y="2492280"/>
            <a:ext cx="523800" cy="2102040"/>
          </a:xfrm>
          <a:custGeom>
            <a:avLst/>
            <a:gdLst>
              <a:gd name="textAreaLeft" fmla="*/ 70200 w 523800"/>
              <a:gd name="textAreaRight" fmla="*/ 453600 w 523800"/>
              <a:gd name="textAreaTop" fmla="*/ 476280 h 2102040"/>
              <a:gd name="textAreaBottom" fmla="*/ 1560240 h 21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91" stAng="-5400000" swAng="5400000"/>
                <a:lnTo>
                  <a:pt x="21600" y="11137"/>
                </a:lnTo>
                <a:arcTo wR="21600" hR="9791" stAng="0" swAng="3619936"/>
                <a:lnTo>
                  <a:pt x="5400" y="21289"/>
                </a:lnTo>
                <a:lnTo>
                  <a:pt x="0" y="20254"/>
                </a:lnTo>
                <a:lnTo>
                  <a:pt x="5400" y="18597"/>
                </a:lnTo>
                <a:lnTo>
                  <a:pt x="5400" y="19270"/>
                </a:lnTo>
                <a:arcTo wR="21600" hR="9791" stAng="3619936" swAng="-3512606"/>
                <a:lnTo>
                  <a:pt x="21549" y="10464"/>
                </a:lnTo>
                <a:arcTo wR="21600" hR="9791" stAng="-107330" swAng="-5292670"/>
                <a:close/>
              </a:path>
              <a:path fill="darkenLess" w="21600" h="21600">
                <a:moveTo>
                  <a:pt x="0" y="0"/>
                </a:moveTo>
                <a:arcTo wR="21600" hR="9791" stAng="-5400000" swAng="5400000"/>
                <a:lnTo>
                  <a:pt x="21600" y="11137"/>
                </a:lnTo>
                <a:arcTo wR="21600" hR="9791" stAng="0" swAng="-107330"/>
                <a:lnTo>
                  <a:pt x="21549" y="10464"/>
                </a:lnTo>
                <a:arcTo wR="21600" hR="9791" stAng="-107330" swAng="-529267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52"/>
          <p:cNvSpPr/>
          <p:nvPr/>
        </p:nvSpPr>
        <p:spPr>
          <a:xfrm rot="5400000">
            <a:off x="2955600" y="4133880"/>
            <a:ext cx="523800" cy="2102040"/>
          </a:xfrm>
          <a:custGeom>
            <a:avLst/>
            <a:gdLst>
              <a:gd name="textAreaLeft" fmla="*/ 70200 w 523800"/>
              <a:gd name="textAreaRight" fmla="*/ 453600 w 523800"/>
              <a:gd name="textAreaTop" fmla="*/ 476280 h 2102040"/>
              <a:gd name="textAreaBottom" fmla="*/ 1560240 h 21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91" stAng="-5400000" swAng="5400000"/>
                <a:lnTo>
                  <a:pt x="21600" y="11137"/>
                </a:lnTo>
                <a:arcTo wR="21600" hR="9791" stAng="0" swAng="3619936"/>
                <a:lnTo>
                  <a:pt x="5400" y="21289"/>
                </a:lnTo>
                <a:lnTo>
                  <a:pt x="0" y="20254"/>
                </a:lnTo>
                <a:lnTo>
                  <a:pt x="5400" y="18597"/>
                </a:lnTo>
                <a:lnTo>
                  <a:pt x="5400" y="19270"/>
                </a:lnTo>
                <a:arcTo wR="21600" hR="9791" stAng="3619936" swAng="-3512606"/>
                <a:lnTo>
                  <a:pt x="21549" y="10464"/>
                </a:lnTo>
                <a:arcTo wR="21600" hR="9791" stAng="-107330" swAng="-5292670"/>
                <a:close/>
              </a:path>
              <a:path fill="darkenLess" w="21600" h="21600">
                <a:moveTo>
                  <a:pt x="0" y="0"/>
                </a:moveTo>
                <a:arcTo wR="21600" hR="9791" stAng="-5400000" swAng="5400000"/>
                <a:lnTo>
                  <a:pt x="21600" y="11137"/>
                </a:lnTo>
                <a:arcTo wR="21600" hR="9791" stAng="0" swAng="-107330"/>
                <a:lnTo>
                  <a:pt x="21549" y="10464"/>
                </a:lnTo>
                <a:arcTo wR="21600" hR="9791" stAng="-107330" swAng="-529267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439"/>
          <p:cNvSpPr/>
          <p:nvPr/>
        </p:nvSpPr>
        <p:spPr>
          <a:xfrm>
            <a:off x="4813200" y="3963960"/>
            <a:ext cx="343080" cy="268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930400" y="631800"/>
            <a:ext cx="881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ередача имущества между учр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418"/>
          <p:cNvSpPr/>
          <p:nvPr/>
        </p:nvSpPr>
        <p:spPr>
          <a:xfrm>
            <a:off x="652464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419"/>
          <p:cNvSpPr/>
          <p:nvPr/>
        </p:nvSpPr>
        <p:spPr>
          <a:xfrm>
            <a:off x="534960" y="202392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20"/>
          <p:cNvSpPr/>
          <p:nvPr/>
        </p:nvSpPr>
        <p:spPr>
          <a:xfrm>
            <a:off x="4039200" y="1554120"/>
            <a:ext cx="845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21"/>
          <p:cNvSpPr/>
          <p:nvPr/>
        </p:nvSpPr>
        <p:spPr>
          <a:xfrm>
            <a:off x="8662680" y="1488960"/>
            <a:ext cx="125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 +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22"/>
          <p:cNvSpPr/>
          <p:nvPr/>
        </p:nvSpPr>
        <p:spPr>
          <a:xfrm>
            <a:off x="9433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47"/>
          <p:cNvSpPr/>
          <p:nvPr/>
        </p:nvSpPr>
        <p:spPr>
          <a:xfrm>
            <a:off x="9688680" y="2157480"/>
            <a:ext cx="2246040" cy="869760"/>
          </a:xfrm>
          <a:prstGeom prst="wedgeRoundRectCallout">
            <a:avLst>
              <a:gd name="adj1" fmla="val -61083"/>
              <a:gd name="adj2" fmla="val 82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 годового от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24"/>
          <p:cNvSpPr/>
          <p:nvPr/>
        </p:nvSpPr>
        <p:spPr>
          <a:xfrm>
            <a:off x="620640" y="349560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25"/>
          <p:cNvSpPr/>
          <p:nvPr/>
        </p:nvSpPr>
        <p:spPr>
          <a:xfrm>
            <a:off x="241776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1" descr="MC900431627[1]"/>
          <p:cNvPicPr/>
          <p:nvPr/>
        </p:nvPicPr>
        <p:blipFill>
          <a:blip r:embed="rId1"/>
          <a:stretch/>
        </p:blipFill>
        <p:spPr>
          <a:xfrm>
            <a:off x="961920" y="21574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27"/>
          <p:cNvSpPr/>
          <p:nvPr/>
        </p:nvSpPr>
        <p:spPr>
          <a:xfrm>
            <a:off x="373320" y="2894040"/>
            <a:ext cx="167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еред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428"/>
          <p:cNvSpPr/>
          <p:nvPr/>
        </p:nvSpPr>
        <p:spPr>
          <a:xfrm>
            <a:off x="620640" y="483408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1" descr="MC900431627[1]"/>
          <p:cNvPicPr/>
          <p:nvPr/>
        </p:nvPicPr>
        <p:blipFill>
          <a:blip r:embed="rId2"/>
          <a:stretch/>
        </p:blipFill>
        <p:spPr>
          <a:xfrm>
            <a:off x="961920" y="363060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30"/>
          <p:cNvSpPr/>
          <p:nvPr/>
        </p:nvSpPr>
        <p:spPr>
          <a:xfrm>
            <a:off x="372240" y="4367160"/>
            <a:ext cx="165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луч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431"/>
          <p:cNvSpPr/>
          <p:nvPr/>
        </p:nvSpPr>
        <p:spPr>
          <a:xfrm>
            <a:off x="3016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4" descr="здание"/>
          <p:cNvPicPr/>
          <p:nvPr/>
        </p:nvPicPr>
        <p:blipFill>
          <a:blip r:embed="rId3"/>
          <a:stretch/>
        </p:blipFill>
        <p:spPr>
          <a:xfrm>
            <a:off x="876240" y="50338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34"/>
          <p:cNvSpPr/>
          <p:nvPr/>
        </p:nvSpPr>
        <p:spPr>
          <a:xfrm>
            <a:off x="741600" y="5837400"/>
            <a:ext cx="83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з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35"/>
          <p:cNvSpPr/>
          <p:nvPr/>
        </p:nvSpPr>
        <p:spPr>
          <a:xfrm>
            <a:off x="2603520" y="3897360"/>
            <a:ext cx="2379600" cy="450720"/>
          </a:xfrm>
          <a:prstGeom prst="rightArrow">
            <a:avLst>
              <a:gd name="adj1" fmla="val 50000"/>
              <a:gd name="adj2" fmla="val 8166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436"/>
          <p:cNvSpPr/>
          <p:nvPr/>
        </p:nvSpPr>
        <p:spPr>
          <a:xfrm>
            <a:off x="4983120" y="209088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47"/>
          <p:cNvSpPr/>
          <p:nvPr/>
        </p:nvSpPr>
        <p:spPr>
          <a:xfrm>
            <a:off x="3700440" y="1889280"/>
            <a:ext cx="2246400" cy="1388880"/>
          </a:xfrm>
          <a:prstGeom prst="wedgeRoundRectCallout">
            <a:avLst>
              <a:gd name="adj1" fmla="val -80393"/>
              <a:gd name="adj2" fmla="val 46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кращение права оперативного 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47"/>
          <p:cNvSpPr/>
          <p:nvPr/>
        </p:nvSpPr>
        <p:spPr>
          <a:xfrm>
            <a:off x="5495760" y="5100480"/>
            <a:ext cx="2246400" cy="669960"/>
          </a:xfrm>
          <a:prstGeom prst="wedgeRoundRectCallout">
            <a:avLst>
              <a:gd name="adj1" fmla="val -70990"/>
              <a:gd name="adj2" fmla="val -418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38"/>
          <p:cNvSpPr/>
          <p:nvPr/>
        </p:nvSpPr>
        <p:spPr>
          <a:xfrm>
            <a:off x="3447360" y="3630600"/>
            <a:ext cx="840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01 З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358-BCCB-492F-A627-8B538472191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9"/>
          <p:cNvSpPr/>
          <p:nvPr/>
        </p:nvSpPr>
        <p:spPr>
          <a:xfrm>
            <a:off x="6353280" y="3963960"/>
            <a:ext cx="342720" cy="268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652464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534960" y="202392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9200" y="1554120"/>
            <a:ext cx="845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8662680" y="1488960"/>
            <a:ext cx="125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 +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20640" y="349560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241776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1" descr="MC900431627[1]"/>
          <p:cNvPicPr/>
          <p:nvPr/>
        </p:nvPicPr>
        <p:blipFill>
          <a:blip r:embed="rId1"/>
          <a:stretch/>
        </p:blipFill>
        <p:spPr>
          <a:xfrm>
            <a:off x="961920" y="21574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373320" y="2894040"/>
            <a:ext cx="167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еред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620640" y="483408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1" descr="MC900431627[1]"/>
          <p:cNvPicPr/>
          <p:nvPr/>
        </p:nvPicPr>
        <p:blipFill>
          <a:blip r:embed="rId2"/>
          <a:stretch/>
        </p:blipFill>
        <p:spPr>
          <a:xfrm>
            <a:off x="961920" y="363060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372240" y="4367160"/>
            <a:ext cx="165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луч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3016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4" descr="здание"/>
          <p:cNvPicPr/>
          <p:nvPr/>
        </p:nvPicPr>
        <p:blipFill>
          <a:blip r:embed="rId3"/>
          <a:stretch/>
        </p:blipFill>
        <p:spPr>
          <a:xfrm>
            <a:off x="876240" y="50338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9"/>
          <p:cNvSpPr/>
          <p:nvPr/>
        </p:nvSpPr>
        <p:spPr>
          <a:xfrm>
            <a:off x="741600" y="5837400"/>
            <a:ext cx="83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з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2666880" y="3897360"/>
            <a:ext cx="3857760" cy="450720"/>
          </a:xfrm>
          <a:prstGeom prst="rightArrow">
            <a:avLst>
              <a:gd name="adj1" fmla="val 50000"/>
              <a:gd name="adj2" fmla="val 14855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84916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47"/>
          <p:cNvSpPr/>
          <p:nvPr/>
        </p:nvSpPr>
        <p:spPr>
          <a:xfrm>
            <a:off x="3700440" y="1889280"/>
            <a:ext cx="2246400" cy="1388880"/>
          </a:xfrm>
          <a:prstGeom prst="wedgeRoundRectCallout">
            <a:avLst>
              <a:gd name="adj1" fmla="val -80393"/>
              <a:gd name="adj2" fmla="val 46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кращение права оперативного 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47"/>
          <p:cNvSpPr/>
          <p:nvPr/>
        </p:nvSpPr>
        <p:spPr>
          <a:xfrm>
            <a:off x="5924520" y="5303880"/>
            <a:ext cx="2246400" cy="668160"/>
          </a:xfrm>
          <a:prstGeom prst="wedgeRoundRectCallout">
            <a:avLst>
              <a:gd name="adj1" fmla="val 62680"/>
              <a:gd name="adj2" fmla="val -41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7125120" y="3562200"/>
            <a:ext cx="887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П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9433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47"/>
          <p:cNvSpPr/>
          <p:nvPr/>
        </p:nvSpPr>
        <p:spPr>
          <a:xfrm>
            <a:off x="9688680" y="2157480"/>
            <a:ext cx="2246040" cy="869760"/>
          </a:xfrm>
          <a:prstGeom prst="wedgeRoundRectCallout">
            <a:avLst>
              <a:gd name="adj1" fmla="val -61083"/>
              <a:gd name="adj2" fmla="val 82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 годового от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7"/>
          <p:cNvSpPr/>
          <p:nvPr/>
        </p:nvSpPr>
        <p:spPr>
          <a:xfrm rot="10800000">
            <a:off x="6524280" y="3897360"/>
            <a:ext cx="1881000" cy="450720"/>
          </a:xfrm>
          <a:prstGeom prst="rightArrow">
            <a:avLst>
              <a:gd name="adj1" fmla="val 50000"/>
              <a:gd name="adj2" fmla="val 8159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045320" y="3562200"/>
            <a:ext cx="840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01 З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1CAE-6F56-4E1A-94C0-C7FC59CE43F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2930400" y="631800"/>
            <a:ext cx="881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ередача имущества между учр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4"/>
          <p:cNvSpPr/>
          <p:nvPr/>
        </p:nvSpPr>
        <p:spPr>
          <a:xfrm>
            <a:off x="652464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534960" y="202392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039200" y="1554120"/>
            <a:ext cx="845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8662680" y="1488960"/>
            <a:ext cx="1253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од Х +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620640" y="349560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2417760" y="1554120"/>
            <a:ext cx="0" cy="475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1" descr="MC900431627[1]"/>
          <p:cNvPicPr/>
          <p:nvPr/>
        </p:nvPicPr>
        <p:blipFill>
          <a:blip r:embed="rId1"/>
          <a:stretch/>
        </p:blipFill>
        <p:spPr>
          <a:xfrm>
            <a:off x="961920" y="21574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373320" y="2894040"/>
            <a:ext cx="1678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еред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0640" y="4834080"/>
            <a:ext cx="112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1" descr="MC900431627[1]"/>
          <p:cNvPicPr/>
          <p:nvPr/>
        </p:nvPicPr>
        <p:blipFill>
          <a:blip r:embed="rId2"/>
          <a:stretch/>
        </p:blipFill>
        <p:spPr>
          <a:xfrm>
            <a:off x="961920" y="363060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372240" y="4367160"/>
            <a:ext cx="165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лучающ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3016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4" descr="здание"/>
          <p:cNvPicPr/>
          <p:nvPr/>
        </p:nvPicPr>
        <p:blipFill>
          <a:blip r:embed="rId3"/>
          <a:stretch/>
        </p:blipFill>
        <p:spPr>
          <a:xfrm>
            <a:off x="876240" y="5033880"/>
            <a:ext cx="855720" cy="669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7"/>
          <p:cNvSpPr/>
          <p:nvPr/>
        </p:nvSpPr>
        <p:spPr>
          <a:xfrm>
            <a:off x="741600" y="5837400"/>
            <a:ext cx="83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з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84916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47"/>
          <p:cNvSpPr/>
          <p:nvPr/>
        </p:nvSpPr>
        <p:spPr>
          <a:xfrm>
            <a:off x="3700440" y="1889280"/>
            <a:ext cx="2246400" cy="1269720"/>
          </a:xfrm>
          <a:prstGeom prst="wedgeRoundRectCallout">
            <a:avLst>
              <a:gd name="adj1" fmla="val -80393"/>
              <a:gd name="adj2" fmla="val 46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кращение права оперативного 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7"/>
          <p:cNvSpPr/>
          <p:nvPr/>
        </p:nvSpPr>
        <p:spPr>
          <a:xfrm>
            <a:off x="9774360" y="3697200"/>
            <a:ext cx="2246040" cy="668520"/>
          </a:xfrm>
          <a:prstGeom prst="wedgeRoundRectCallout">
            <a:avLst>
              <a:gd name="adj1" fmla="val -6427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9433080" y="2023920"/>
            <a:ext cx="0" cy="42814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47"/>
          <p:cNvSpPr/>
          <p:nvPr/>
        </p:nvSpPr>
        <p:spPr>
          <a:xfrm>
            <a:off x="9688680" y="2290680"/>
            <a:ext cx="2246040" cy="868320"/>
          </a:xfrm>
          <a:prstGeom prst="wedgeRoundRectCallout">
            <a:avLst>
              <a:gd name="adj1" fmla="val -102310"/>
              <a:gd name="adj2" fmla="val 678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дставление годового от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4045320" y="3562200"/>
            <a:ext cx="840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01 З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2717640" y="3897360"/>
            <a:ext cx="6715440" cy="450720"/>
          </a:xfrm>
          <a:prstGeom prst="rightArrow">
            <a:avLst>
              <a:gd name="adj1" fmla="val 54898"/>
              <a:gd name="adj2" fmla="val 20921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67600" y="4367160"/>
            <a:ext cx="577800" cy="90648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4659120" y="4484160"/>
            <a:ext cx="302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Извещения (ф. 0504805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6353280" y="5303880"/>
            <a:ext cx="342720" cy="268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C45-41C0-4DED-98DA-54F29B5A219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2930400" y="631800"/>
            <a:ext cx="881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ередача имущества между учр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078" descr=""/>
          <p:cNvPicPr/>
          <p:nvPr/>
        </p:nvPicPr>
        <p:blipFill>
          <a:blip r:embed="rId1"/>
          <a:stretch/>
        </p:blipFill>
        <p:spPr>
          <a:xfrm>
            <a:off x="3735360" y="901800"/>
            <a:ext cx="7201080" cy="565452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624-4904-4F68-98C9-F7F4E69F74B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2930400" y="378000"/>
            <a:ext cx="881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Сведения ф. 050336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193680" y="4911840"/>
            <a:ext cx="2549520" cy="1805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казатели представляемые в Департамент межбюджетных отношений, Росстат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3529080" y="4978440"/>
            <a:ext cx="7543800" cy="1714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Двойная стрелка влево/вправо 6"/>
          <p:cNvSpPr/>
          <p:nvPr/>
        </p:nvSpPr>
        <p:spPr>
          <a:xfrm>
            <a:off x="2743200" y="5592600"/>
            <a:ext cx="785880" cy="486000"/>
          </a:xfrm>
          <a:prstGeom prst="leftRightArrow">
            <a:avLst>
              <a:gd name="adj1" fmla="val 50000"/>
              <a:gd name="adj2" fmla="val 4997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2928960" y="62244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 записка – Сведения (ф. 050316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4CC1-E995-4848-8B17-3C23F2679B7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1447920" y="2108160"/>
            <a:ext cx="9880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5597"/>
                </a:solidFill>
                <a:latin typeface="Calibri"/>
              </a:rPr>
              <a:t>1.7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ведения об исполнении мероприятий в рамках целевых программ (ф. 0503166) финансовыми органами, главными администраторами (администраторами) средств бюджетов субъектов Российской Федерации, муниципальных образований, органами управления ГВБФ, получателями средств бюджетов в составе отчетности за 2015 год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формиру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930400" y="60660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 записка – Сведения (ф. 050317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46400" y="1890720"/>
          <a:ext cx="4278240" cy="1316160"/>
        </p:xfrm>
        <a:graphic>
          <a:graphicData uri="http://schemas.openxmlformats.org/drawingml/2006/table">
            <a:tbl>
              <a:tblPr/>
              <a:tblGrid>
                <a:gridCol w="444240"/>
                <a:gridCol w="2808360"/>
                <a:gridCol w="1025640"/>
              </a:tblGrid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2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3"/>
          <p:cNvSpPr/>
          <p:nvPr/>
        </p:nvSpPr>
        <p:spPr>
          <a:xfrm>
            <a:off x="2937960" y="1355760"/>
            <a:ext cx="243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2014 год (исх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7987320" y="1355760"/>
            <a:ext cx="226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2015 год (вх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51600" y="1889280"/>
          <a:ext cx="4278240" cy="2631960"/>
        </p:xfrm>
        <a:graphic>
          <a:graphicData uri="http://schemas.openxmlformats.org/drawingml/2006/table">
            <a:tbl>
              <a:tblPr/>
              <a:tblGrid>
                <a:gridCol w="444600"/>
                <a:gridCol w="2808360"/>
                <a:gridCol w="1025280"/>
              </a:tblGrid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3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3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Oval 134"/>
          <p:cNvSpPr/>
          <p:nvPr/>
        </p:nvSpPr>
        <p:spPr>
          <a:xfrm>
            <a:off x="5326200" y="1846440"/>
            <a:ext cx="1198440" cy="6696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135"/>
          <p:cNvSpPr/>
          <p:nvPr/>
        </p:nvSpPr>
        <p:spPr>
          <a:xfrm>
            <a:off x="10032840" y="1846440"/>
            <a:ext cx="1197000" cy="6696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136"/>
          <p:cNvSpPr/>
          <p:nvPr/>
        </p:nvSpPr>
        <p:spPr>
          <a:xfrm>
            <a:off x="10032840" y="3184560"/>
            <a:ext cx="1197000" cy="6699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37"/>
          <p:cNvSpPr/>
          <p:nvPr/>
        </p:nvSpPr>
        <p:spPr>
          <a:xfrm>
            <a:off x="5326200" y="2514600"/>
            <a:ext cx="1198440" cy="66996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38"/>
          <p:cNvSpPr/>
          <p:nvPr/>
        </p:nvSpPr>
        <p:spPr>
          <a:xfrm>
            <a:off x="10032840" y="2514600"/>
            <a:ext cx="1197000" cy="66996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139"/>
          <p:cNvSpPr/>
          <p:nvPr/>
        </p:nvSpPr>
        <p:spPr>
          <a:xfrm>
            <a:off x="10032840" y="3852720"/>
            <a:ext cx="1197000" cy="66996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140"/>
          <p:cNvSpPr/>
          <p:nvPr/>
        </p:nvSpPr>
        <p:spPr>
          <a:xfrm>
            <a:off x="363600" y="4767120"/>
            <a:ext cx="115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41"/>
          <p:cNvSpPr/>
          <p:nvPr/>
        </p:nvSpPr>
        <p:spPr>
          <a:xfrm>
            <a:off x="1817640" y="1488960"/>
            <a:ext cx="0" cy="488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42"/>
          <p:cNvSpPr/>
          <p:nvPr/>
        </p:nvSpPr>
        <p:spPr>
          <a:xfrm>
            <a:off x="142920" y="2693880"/>
            <a:ext cx="1463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Балан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. 050313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43"/>
          <p:cNvSpPr/>
          <p:nvPr/>
        </p:nvSpPr>
        <p:spPr>
          <a:xfrm>
            <a:off x="257040" y="5235480"/>
            <a:ext cx="1238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лавна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ни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158920" y="4900680"/>
          <a:ext cx="4621320" cy="1315800"/>
        </p:xfrm>
        <a:graphic>
          <a:graphicData uri="http://schemas.openxmlformats.org/drawingml/2006/table">
            <a:tbl>
              <a:tblPr/>
              <a:tblGrid>
                <a:gridCol w="2482920"/>
                <a:gridCol w="941400"/>
                <a:gridCol w="1197000"/>
              </a:tblGrid>
              <a:tr h="496800">
                <a:tc rowSpan="2"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7121520" y="4900680"/>
          <a:ext cx="4621320" cy="1315800"/>
        </p:xfrm>
        <a:graphic>
          <a:graphicData uri="http://schemas.openxmlformats.org/drawingml/2006/table">
            <a:tbl>
              <a:tblPr/>
              <a:tblGrid>
                <a:gridCol w="2482920"/>
                <a:gridCol w="941400"/>
                <a:gridCol w="1197000"/>
              </a:tblGrid>
              <a:tr h="496800">
                <a:tc rowSpan="2"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3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9665-7ED0-4FB5-9D0C-C35EEBA718C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9"/>
          <p:cNvSpPr/>
          <p:nvPr/>
        </p:nvSpPr>
        <p:spPr>
          <a:xfrm>
            <a:off x="5505840" y="135720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на 01.01.20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46280" y="2093760"/>
          <a:ext cx="10094760" cy="3880080"/>
        </p:xfrm>
        <a:graphic>
          <a:graphicData uri="http://schemas.openxmlformats.org/drawingml/2006/table">
            <a:tbl>
              <a:tblPr/>
              <a:tblGrid>
                <a:gridCol w="822240"/>
                <a:gridCol w="3857760"/>
                <a:gridCol w="1744560"/>
                <a:gridCol w="1362240"/>
                <a:gridCol w="2307960"/>
              </a:tblGrid>
              <a:tr h="5335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3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ed7d31"/>
                          </a:solidFill>
                          <a:latin typeface="Arial"/>
                        </a:rPr>
                        <a:t>Итого по актив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3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ed7d31"/>
                          </a:solidFill>
                          <a:latin typeface="Arial"/>
                        </a:rPr>
                        <a:t>Итого по пассив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BA90-970B-470C-9372-78500C5E518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2930400" y="60660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записка – Сведения (ф. 050317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46400" y="1689120"/>
          <a:ext cx="4278240" cy="657360"/>
        </p:xfrm>
        <a:graphic>
          <a:graphicData uri="http://schemas.openxmlformats.org/drawingml/2006/table">
            <a:tbl>
              <a:tblPr/>
              <a:tblGrid>
                <a:gridCol w="444240"/>
                <a:gridCol w="2808360"/>
                <a:gridCol w="1025640"/>
              </a:tblGrid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33"/>
          <p:cNvSpPr/>
          <p:nvPr/>
        </p:nvSpPr>
        <p:spPr>
          <a:xfrm>
            <a:off x="2937960" y="1154160"/>
            <a:ext cx="243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2014 год (исх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7987320" y="1154160"/>
            <a:ext cx="226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2015 год (вх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951600" y="1687680"/>
          <a:ext cx="4961160" cy="2631960"/>
        </p:xfrm>
        <a:graphic>
          <a:graphicData uri="http://schemas.openxmlformats.org/drawingml/2006/table">
            <a:tbl>
              <a:tblPr/>
              <a:tblGrid>
                <a:gridCol w="416160"/>
                <a:gridCol w="2261880"/>
                <a:gridCol w="1322640"/>
                <a:gridCol w="960480"/>
              </a:tblGrid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5 00 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5 00 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5 00 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5 00 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Oval 134"/>
          <p:cNvSpPr/>
          <p:nvPr/>
        </p:nvSpPr>
        <p:spPr>
          <a:xfrm>
            <a:off x="5326200" y="1644480"/>
            <a:ext cx="1198440" cy="6699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135"/>
          <p:cNvSpPr/>
          <p:nvPr/>
        </p:nvSpPr>
        <p:spPr>
          <a:xfrm>
            <a:off x="9434520" y="1722600"/>
            <a:ext cx="1197000" cy="6696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136"/>
          <p:cNvSpPr/>
          <p:nvPr/>
        </p:nvSpPr>
        <p:spPr>
          <a:xfrm>
            <a:off x="9434520" y="3060720"/>
            <a:ext cx="1197000" cy="6699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137"/>
          <p:cNvSpPr/>
          <p:nvPr/>
        </p:nvSpPr>
        <p:spPr>
          <a:xfrm>
            <a:off x="5241960" y="1554120"/>
            <a:ext cx="1366920" cy="84924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138"/>
          <p:cNvSpPr/>
          <p:nvPr/>
        </p:nvSpPr>
        <p:spPr>
          <a:xfrm>
            <a:off x="10804680" y="2178000"/>
            <a:ext cx="1197000" cy="66852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139"/>
          <p:cNvSpPr/>
          <p:nvPr/>
        </p:nvSpPr>
        <p:spPr>
          <a:xfrm>
            <a:off x="10804680" y="3629160"/>
            <a:ext cx="1197000" cy="669960"/>
          </a:xfrm>
          <a:prstGeom prst="ellipse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140"/>
          <p:cNvSpPr/>
          <p:nvPr/>
        </p:nvSpPr>
        <p:spPr>
          <a:xfrm>
            <a:off x="363600" y="4834080"/>
            <a:ext cx="115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41"/>
          <p:cNvSpPr/>
          <p:nvPr/>
        </p:nvSpPr>
        <p:spPr>
          <a:xfrm>
            <a:off x="1817640" y="1488960"/>
            <a:ext cx="0" cy="488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42"/>
          <p:cNvSpPr/>
          <p:nvPr/>
        </p:nvSpPr>
        <p:spPr>
          <a:xfrm>
            <a:off x="142920" y="2490840"/>
            <a:ext cx="1463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Балан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. 050373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43"/>
          <p:cNvSpPr/>
          <p:nvPr/>
        </p:nvSpPr>
        <p:spPr>
          <a:xfrm>
            <a:off x="257040" y="5326200"/>
            <a:ext cx="1238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лавна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ни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158920" y="4991040"/>
          <a:ext cx="4621320" cy="1314360"/>
        </p:xfrm>
        <a:graphic>
          <a:graphicData uri="http://schemas.openxmlformats.org/drawingml/2006/table">
            <a:tbl>
              <a:tblPr/>
              <a:tblGrid>
                <a:gridCol w="2482920"/>
                <a:gridCol w="941400"/>
                <a:gridCol w="1197000"/>
              </a:tblGrid>
              <a:tr h="496800">
                <a:tc rowSpan="2"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7121520" y="4991040"/>
          <a:ext cx="4621320" cy="1314360"/>
        </p:xfrm>
        <a:graphic>
          <a:graphicData uri="http://schemas.openxmlformats.org/drawingml/2006/table">
            <a:tbl>
              <a:tblPr/>
              <a:tblGrid>
                <a:gridCol w="2482920"/>
                <a:gridCol w="941400"/>
                <a:gridCol w="1197000"/>
              </a:tblGrid>
              <a:tr h="496800">
                <a:tc rowSpan="2"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F8F-EDD0-460C-8A0B-FFADD9D0862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2930400" y="60660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 записка – Сведения (ф. 050377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3"/>
          <p:cNvSpPr/>
          <p:nvPr/>
        </p:nvSpPr>
        <p:spPr>
          <a:xfrm>
            <a:off x="2257200" y="159372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КВФО 2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!!!!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988760" y="159372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ed7d31"/>
                </a:solidFill>
                <a:latin typeface="Arial"/>
                <a:ea typeface="Arial"/>
              </a:rPr>
              <a:t>КВФО 4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!!!!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2240" y="2262240"/>
          <a:ext cx="5732280" cy="2633760"/>
        </p:xfrm>
        <a:graphic>
          <a:graphicData uri="http://schemas.openxmlformats.org/drawingml/2006/table">
            <a:tbl>
              <a:tblPr/>
              <a:tblGrid>
                <a:gridCol w="480960"/>
                <a:gridCol w="2235240"/>
                <a:gridCol w="1444320"/>
                <a:gridCol w="1571760"/>
              </a:tblGrid>
              <a:tr h="13176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267600" y="2262240"/>
          <a:ext cx="5732280" cy="2633760"/>
        </p:xfrm>
        <a:graphic>
          <a:graphicData uri="http://schemas.openxmlformats.org/drawingml/2006/table">
            <a:tbl>
              <a:tblPr/>
              <a:tblGrid>
                <a:gridCol w="480960"/>
                <a:gridCol w="2243160"/>
                <a:gridCol w="1436400"/>
                <a:gridCol w="1571760"/>
              </a:tblGrid>
              <a:tr h="13176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205 00 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39C-F550-411A-A19D-C62CD0D9611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930400" y="60660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 записка – Сведения (ф. 050377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ятно 2 1"/>
          <p:cNvSpPr/>
          <p:nvPr/>
        </p:nvSpPr>
        <p:spPr>
          <a:xfrm>
            <a:off x="8178840" y="4978440"/>
            <a:ext cx="3238560" cy="1854000"/>
          </a:xfrm>
          <a:prstGeom prst="irregularSeal2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дельно, по каждому КВФ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3BC2-6AAC-43AC-A17F-4F069D14C5D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97280" y="496800"/>
            <a:ext cx="89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mbria"/>
                <a:ea typeface="Arial"/>
              </a:rPr>
              <a:t>Основные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2" descr="BD00028_"/>
          <p:cNvPicPr/>
          <p:nvPr/>
        </p:nvPicPr>
        <p:blipFill>
          <a:blip r:embed="rId1"/>
          <a:stretch/>
        </p:blipFill>
        <p:spPr>
          <a:xfrm>
            <a:off x="1195560" y="4089240"/>
            <a:ext cx="90612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BD00028_"/>
          <p:cNvPicPr/>
          <p:nvPr/>
        </p:nvPicPr>
        <p:blipFill>
          <a:blip r:embed="rId2"/>
          <a:stretch/>
        </p:blipFill>
        <p:spPr>
          <a:xfrm>
            <a:off x="1182600" y="2781360"/>
            <a:ext cx="906480" cy="84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BD00028_"/>
          <p:cNvPicPr/>
          <p:nvPr/>
        </p:nvPicPr>
        <p:blipFill>
          <a:blip r:embed="rId3"/>
          <a:stretch/>
        </p:blipFill>
        <p:spPr>
          <a:xfrm>
            <a:off x="1195560" y="1617840"/>
            <a:ext cx="906120" cy="847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2273400" y="1749600"/>
            <a:ext cx="93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 методико-технологического обеспе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EC2-5A0B-4562-91E7-8A26736F95A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2451240" y="2781360"/>
            <a:ext cx="93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показателей Отчета об исполнении бюдже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560680" y="4221000"/>
            <a:ext cx="93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показателей финансовой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2" descr="BD00028_"/>
          <p:cNvPicPr/>
          <p:nvPr/>
        </p:nvPicPr>
        <p:blipFill>
          <a:blip r:embed="rId4"/>
          <a:stretch/>
        </p:blipFill>
        <p:spPr>
          <a:xfrm>
            <a:off x="1182600" y="5562720"/>
            <a:ext cx="906480" cy="847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548080" y="5557680"/>
            <a:ext cx="93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чие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2930400" y="1353960"/>
            <a:ext cx="7956720" cy="49626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3"/>
          <p:cNvSpPr/>
          <p:nvPr/>
        </p:nvSpPr>
        <p:spPr>
          <a:xfrm>
            <a:off x="2928960" y="62244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записка – Сведения (ф. 05031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5495760" y="3027240"/>
            <a:ext cx="3765600" cy="735120"/>
          </a:xfrm>
          <a:prstGeom prst="wedgeRoundRectCallout">
            <a:avLst>
              <a:gd name="adj1" fmla="val -71694"/>
              <a:gd name="adj2" fmla="val -33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дел 1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  <a:ea typeface="Arial"/>
              </a:rPr>
              <a:t>номер банковского счета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0DA-60EA-4A94-B01A-4CC2A1ED38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1"/>
          <p:cNvSpPr/>
          <p:nvPr/>
        </p:nvSpPr>
        <p:spPr>
          <a:xfrm>
            <a:off x="187200" y="63165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  <a:ea typeface="Arial"/>
              </a:rPr>
              <a:t>Сведения (ф. 0503779)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928960" y="622440"/>
            <a:ext cx="88995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ояснительная записка – Сведения (ф. 05031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3AC4-62A7-4C8D-BA72-A8DF684C61B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6138720" y="2928960"/>
            <a:ext cx="2006280" cy="1334520"/>
            <a:chOff x="6138720" y="2928960"/>
            <a:chExt cx="2006280" cy="1334520"/>
          </a:xfrm>
        </p:grpSpPr>
        <p:pic>
          <p:nvPicPr>
            <p:cNvPr id="277" name="Picture 3" descr="j0205462"/>
            <p:cNvPicPr/>
            <p:nvPr/>
          </p:nvPicPr>
          <p:blipFill>
            <a:blip r:embed="rId1"/>
            <a:stretch/>
          </p:blipFill>
          <p:spPr>
            <a:xfrm>
              <a:off x="6640200" y="2928960"/>
              <a:ext cx="97164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4"/>
            <p:cNvSpPr/>
            <p:nvPr/>
          </p:nvSpPr>
          <p:spPr>
            <a:xfrm>
              <a:off x="6138720" y="390600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Б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5"/>
          <p:cNvGrpSpPr/>
          <p:nvPr/>
        </p:nvGrpSpPr>
        <p:grpSpPr>
          <a:xfrm>
            <a:off x="2467080" y="2827440"/>
            <a:ext cx="1603440" cy="1690920"/>
            <a:chOff x="2467080" y="2827440"/>
            <a:chExt cx="1603440" cy="1690920"/>
          </a:xfrm>
        </p:grpSpPr>
        <p:pic>
          <p:nvPicPr>
            <p:cNvPr id="280" name="Picture 6" descr="MC900431627[1]"/>
            <p:cNvPicPr/>
            <p:nvPr/>
          </p:nvPicPr>
          <p:blipFill>
            <a:blip r:embed="rId2"/>
            <a:stretch/>
          </p:blipFill>
          <p:spPr>
            <a:xfrm>
              <a:off x="2724120" y="282744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2467080" y="414576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ru-RU" sz="1900" spc="-1" strike="noStrike">
                  <a:solidFill>
                    <a:srgbClr val="cc0000"/>
                  </a:solidFill>
                  <a:latin typeface="Arial"/>
                  <a:ea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AutoShape 13"/>
          <p:cNvSpPr/>
          <p:nvPr/>
        </p:nvSpPr>
        <p:spPr>
          <a:xfrm>
            <a:off x="4632480" y="330516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utoShape 14"/>
          <p:cNvSpPr/>
          <p:nvPr/>
        </p:nvSpPr>
        <p:spPr>
          <a:xfrm>
            <a:off x="4646520" y="496872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7"/>
          <p:cNvGrpSpPr/>
          <p:nvPr/>
        </p:nvGrpSpPr>
        <p:grpSpPr>
          <a:xfrm>
            <a:off x="6165720" y="4686480"/>
            <a:ext cx="2006280" cy="1334520"/>
            <a:chOff x="6165720" y="4686480"/>
            <a:chExt cx="2006280" cy="1334520"/>
          </a:xfrm>
        </p:grpSpPr>
        <p:pic>
          <p:nvPicPr>
            <p:cNvPr id="285" name="Picture 18" descr="j0205462"/>
            <p:cNvPicPr/>
            <p:nvPr/>
          </p:nvPicPr>
          <p:blipFill>
            <a:blip r:embed="rId3"/>
            <a:stretch/>
          </p:blipFill>
          <p:spPr>
            <a:xfrm>
              <a:off x="6667200" y="4686480"/>
              <a:ext cx="97164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ctangle 19"/>
            <p:cNvSpPr/>
            <p:nvPr/>
          </p:nvSpPr>
          <p:spPr>
            <a:xfrm>
              <a:off x="6165720" y="566352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Б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482920" y="4500720"/>
            <a:ext cx="1603440" cy="1690920"/>
            <a:chOff x="2482920" y="4500720"/>
            <a:chExt cx="1603440" cy="1690920"/>
          </a:xfrm>
        </p:grpSpPr>
        <p:pic>
          <p:nvPicPr>
            <p:cNvPr id="288" name="Picture 21" descr="MC900431627[1]"/>
            <p:cNvPicPr/>
            <p:nvPr/>
          </p:nvPicPr>
          <p:blipFill>
            <a:blip r:embed="rId4"/>
            <a:stretch/>
          </p:blipFill>
          <p:spPr>
            <a:xfrm>
              <a:off x="2739960" y="450072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22"/>
            <p:cNvSpPr/>
            <p:nvPr/>
          </p:nvSpPr>
          <p:spPr>
            <a:xfrm>
              <a:off x="2482920" y="581904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ru-RU" sz="1900" spc="-1" strike="noStrike">
                  <a:solidFill>
                    <a:srgbClr val="cc0000"/>
                  </a:solidFill>
                  <a:latin typeface="Arial"/>
                  <a:ea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Text Box 5"/>
          <p:cNvSpPr/>
          <p:nvPr/>
        </p:nvSpPr>
        <p:spPr>
          <a:xfrm>
            <a:off x="3252960" y="1521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чета расчетов*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трелка вниз 2"/>
          <p:cNvSpPr/>
          <p:nvPr/>
        </p:nvSpPr>
        <p:spPr>
          <a:xfrm rot="8421600">
            <a:off x="6357600" y="2206800"/>
            <a:ext cx="484200" cy="66816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Стрелка вниз 26"/>
          <p:cNvSpPr/>
          <p:nvPr/>
        </p:nvSpPr>
        <p:spPr>
          <a:xfrm rot="2536800">
            <a:off x="3827160" y="2182320"/>
            <a:ext cx="484200" cy="668520"/>
          </a:xfrm>
          <a:prstGeom prst="downArrow">
            <a:avLst>
              <a:gd name="adj1" fmla="val 50000"/>
              <a:gd name="adj2" fmla="val 5010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8172360" y="1917720"/>
            <a:ext cx="3035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* - счета расчет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учета средств в  иностранной валю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ета избирательных комисс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ета представительст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гие аналогичные сч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24"/>
          <p:cNvSpPr/>
          <p:nvPr/>
        </p:nvSpPr>
        <p:spPr>
          <a:xfrm>
            <a:off x="4637880" y="4267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татки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"/>
          <p:cNvSpPr/>
          <p:nvPr/>
        </p:nvSpPr>
        <p:spPr>
          <a:xfrm>
            <a:off x="3027240" y="609480"/>
            <a:ext cx="84013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Соответствие показателей бюджетной и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(письмо МФ РФ от 13.03.2015 № 02-06-07/136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15" descr="MC900431627[1]"/>
          <p:cNvPicPr/>
          <p:nvPr/>
        </p:nvPicPr>
        <p:blipFill>
          <a:blip r:embed="rId1"/>
          <a:stretch/>
        </p:blipFill>
        <p:spPr>
          <a:xfrm>
            <a:off x="2705040" y="2768760"/>
            <a:ext cx="852480" cy="6681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2115000" y="3505320"/>
            <a:ext cx="156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Учрежде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14" descr="здание"/>
          <p:cNvPicPr/>
          <p:nvPr/>
        </p:nvPicPr>
        <p:blipFill>
          <a:blip r:embed="rId2"/>
          <a:stretch/>
        </p:blipFill>
        <p:spPr>
          <a:xfrm>
            <a:off x="9107640" y="2766960"/>
            <a:ext cx="857160" cy="6699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8597880" y="3505320"/>
            <a:ext cx="151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Учредител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637280" y="4327560"/>
            <a:ext cx="234144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0 205 81 00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Arial"/>
                <a:ea typeface="Arial"/>
              </a:rPr>
              <a:t>0 401 40 18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8172360" y="4327560"/>
            <a:ext cx="23414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0 205 81 00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0 206 41 00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0 302 41 00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2900" spc="-1" strike="noStrike">
                <a:solidFill>
                  <a:srgbClr val="2f5597"/>
                </a:solidFill>
                <a:latin typeface="Arial"/>
                <a:ea typeface="Arial"/>
              </a:rPr>
              <a:t>0 206 73 00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5686560" y="4395960"/>
            <a:ext cx="1442880" cy="450720"/>
          </a:xfrm>
          <a:prstGeom prst="leftRightArrow">
            <a:avLst>
              <a:gd name="adj1" fmla="val 50000"/>
              <a:gd name="adj2" fmla="val 50079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598-F964-4C8C-8519-E77FC68972C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3"/>
          <p:cNvSpPr/>
          <p:nvPr/>
        </p:nvSpPr>
        <p:spPr>
          <a:xfrm>
            <a:off x="3027240" y="609480"/>
            <a:ext cx="8401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Месячная отчетность об исполнении бюдж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052-EC4B-4D36-A0D0-0FE0C868FED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069640" y="1852560"/>
            <a:ext cx="932616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Arial"/>
                <a:ea typeface="Arial"/>
              </a:rPr>
              <a:t>Приказ Минфина РФ от 31.12.2015 № 229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«О внесении изменений в Инструкцию о порядк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составления и представления годовой, квартальной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и месячной отчетности об исполнении бюджето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й системы Российской Федерации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ную приказом Министерства финансо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 28 декабря 2010 № 191н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3027240" y="609480"/>
            <a:ext cx="8401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Месячная отчетность об исполнении бюдж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28D-5F66-4BD6-B236-30C1B5B3B82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52" descr="Document"/>
          <p:cNvPicPr/>
          <p:nvPr/>
        </p:nvPicPr>
        <p:blipFill>
          <a:blip r:embed="rId1"/>
          <a:stretch/>
        </p:blipFill>
        <p:spPr>
          <a:xfrm>
            <a:off x="247680" y="3200400"/>
            <a:ext cx="1244520" cy="12445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"/>
          <p:cNvSpPr/>
          <p:nvPr/>
        </p:nvSpPr>
        <p:spPr>
          <a:xfrm>
            <a:off x="1388880" y="3252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1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п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БК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банк, некассовы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52" descr="Document"/>
          <p:cNvPicPr/>
          <p:nvPr/>
        </p:nvPicPr>
        <p:blipFill>
          <a:blip r:embed="rId2"/>
          <a:stretch/>
        </p:blipFill>
        <p:spPr>
          <a:xfrm>
            <a:off x="247680" y="4929120"/>
            <a:ext cx="1244520" cy="12445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498680" y="5003640"/>
            <a:ext cx="31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по денежным расчет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по счета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бюджетн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е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52" descr="Document"/>
          <p:cNvPicPr/>
          <p:nvPr/>
        </p:nvPicPr>
        <p:blipFill>
          <a:blip r:embed="rId3"/>
          <a:stretch/>
        </p:blipFill>
        <p:spPr>
          <a:xfrm>
            <a:off x="247680" y="1554120"/>
            <a:ext cx="1244520" cy="12445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9"/>
          <p:cNvSpPr/>
          <p:nvPr/>
        </p:nvSpPr>
        <p:spPr>
          <a:xfrm>
            <a:off x="1387800" y="158580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1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п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БК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4128480" y="6305400"/>
            <a:ext cx="44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БК: Д - ….. ; Р – ГРБС/РзПрз/ЦСР/КВР; И - 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52" descr="Document"/>
          <p:cNvPicPr/>
          <p:nvPr/>
        </p:nvPicPr>
        <p:blipFill>
          <a:blip r:embed="rId4"/>
          <a:stretch/>
        </p:blipFill>
        <p:spPr>
          <a:xfrm>
            <a:off x="5113440" y="3200400"/>
            <a:ext cx="1244520" cy="124452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3"/>
          <p:cNvSpPr/>
          <p:nvPr/>
        </p:nvSpPr>
        <p:spPr>
          <a:xfrm>
            <a:off x="6253560" y="328932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1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п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БК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2" descr="Document"/>
          <p:cNvPicPr/>
          <p:nvPr/>
        </p:nvPicPr>
        <p:blipFill>
          <a:blip r:embed="rId5"/>
          <a:stretch/>
        </p:blipFill>
        <p:spPr>
          <a:xfrm>
            <a:off x="8397720" y="3200400"/>
            <a:ext cx="1244880" cy="1244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5"/>
          <p:cNvSpPr/>
          <p:nvPr/>
        </p:nvSpPr>
        <p:spPr>
          <a:xfrm>
            <a:off x="9537480" y="3252960"/>
            <a:ext cx="23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п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КБ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расходы: РзПрз/КВР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0" name="Соединительная линия уступом 10"/>
          <p:cNvCxnSpPr>
            <a:stCxn id="314" idx="3"/>
            <a:endCxn id="316" idx="0"/>
          </p:cNvCxnSpPr>
          <p:nvPr/>
        </p:nvCxnSpPr>
        <p:spPr>
          <a:xfrm>
            <a:off x="3265200" y="1909440"/>
            <a:ext cx="2470680" cy="1291320"/>
          </a:xfrm>
          <a:prstGeom prst="bentConnector2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321" name="Соединительная линия уступом 18"/>
          <p:cNvCxnSpPr>
            <a:stCxn id="310" idx="3"/>
            <a:endCxn id="316" idx="1"/>
          </p:cNvCxnSpPr>
          <p:nvPr/>
        </p:nvCxnSpPr>
        <p:spPr>
          <a:xfrm>
            <a:off x="4271760" y="3575160"/>
            <a:ext cx="842040" cy="248400"/>
          </a:xfrm>
          <a:prstGeom prst="bentConnector3">
            <a:avLst>
              <a:gd name="adj1" fmla="val 50000"/>
            </a:avLst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322" name="Соединительная линия уступом 21"/>
          <p:cNvCxnSpPr>
            <a:stCxn id="316" idx="2"/>
          </p:cNvCxnSpPr>
          <p:nvPr/>
        </p:nvCxnSpPr>
        <p:spPr>
          <a:xfrm flipH="1" flipV="1" rot="5400000">
            <a:off x="6917040" y="2774160"/>
            <a:ext cx="488160" cy="2853720"/>
          </a:xfrm>
          <a:prstGeom prst="bentConnector4">
            <a:avLst>
              <a:gd name="adj1" fmla="val -46789"/>
              <a:gd name="adj2" fmla="val 60900"/>
            </a:avLst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323" name="Соединительная линия уступом 27"/>
          <p:cNvCxnSpPr>
            <a:endCxn id="318" idx="2"/>
          </p:cNvCxnSpPr>
          <p:nvPr/>
        </p:nvCxnSpPr>
        <p:spPr>
          <a:xfrm flipV="1">
            <a:off x="4394160" y="4444200"/>
            <a:ext cx="4626720" cy="1019880"/>
          </a:xfrm>
          <a:prstGeom prst="bentConnector2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3"/>
          <p:cNvSpPr/>
          <p:nvPr/>
        </p:nvSpPr>
        <p:spPr>
          <a:xfrm>
            <a:off x="3027240" y="609480"/>
            <a:ext cx="840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Месячная отчетность об исполнении бюдж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Отчет ф. 05033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E9F9-5965-41AA-A50A-AAC769BFE1E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28680" y="1898640"/>
            <a:ext cx="5398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(Федеральный закон № 383-ФЗ от 29.11.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328680" y="2711520"/>
            <a:ext cx="6899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 - бюджет сельского по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 - бюджет городского округа с внутригородским де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 - бюджет внутригородского рай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3 - бюджет городского по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авая фигурная скобка 5"/>
          <p:cNvSpPr/>
          <p:nvPr/>
        </p:nvSpPr>
        <p:spPr>
          <a:xfrm>
            <a:off x="6146640" y="1898640"/>
            <a:ext cx="1081080" cy="4505400"/>
          </a:xfrm>
          <a:custGeom>
            <a:avLst/>
            <a:gdLst>
              <a:gd name="textAreaLeft" fmla="*/ 0 w 1081080"/>
              <a:gd name="textAreaRight" fmla="*/ 390240 w 1081080"/>
              <a:gd name="textAreaTop" fmla="*/ 152280 h 4505400"/>
              <a:gd name="textAreaBottom" fmla="*/ 4353120 h 450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8"/>
                  <a:pt x="10800" y="2336"/>
                </a:cubicBezTo>
                <a:lnTo>
                  <a:pt x="10800" y="8525"/>
                </a:lnTo>
                <a:cubicBezTo>
                  <a:pt x="10800" y="9693"/>
                  <a:pt x="16200" y="10861"/>
                  <a:pt x="21600" y="10861"/>
                </a:cubicBezTo>
                <a:cubicBezTo>
                  <a:pt x="16200" y="10861"/>
                  <a:pt x="10800" y="12029"/>
                  <a:pt x="10800" y="13197"/>
                </a:cubicBezTo>
                <a:lnTo>
                  <a:pt x="10800" y="19264"/>
                </a:lnTo>
                <a:cubicBezTo>
                  <a:pt x="10800" y="204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2" descr="Document"/>
          <p:cNvPicPr/>
          <p:nvPr/>
        </p:nvPicPr>
        <p:blipFill>
          <a:blip r:embed="rId1"/>
          <a:stretch/>
        </p:blipFill>
        <p:spPr>
          <a:xfrm>
            <a:off x="9347040" y="2728800"/>
            <a:ext cx="1244880" cy="12448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3"/>
          <p:cNvSpPr/>
          <p:nvPr/>
        </p:nvSpPr>
        <p:spPr>
          <a:xfrm>
            <a:off x="8754480" y="224964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чет ф. 05033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11"/>
          <p:cNvSpPr/>
          <p:nvPr/>
        </p:nvSpPr>
        <p:spPr>
          <a:xfrm>
            <a:off x="7759080" y="4219560"/>
            <a:ext cx="441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бъект РФ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ый райо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ородской округ с внутригородск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л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f5597"/>
                </a:solidFill>
                <a:uFillTx/>
                <a:latin typeface="Arial"/>
                <a:ea typeface="Arial"/>
              </a:rPr>
              <a:t>см. ст. 15 БК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Рисунок 16" descr=""/>
          <p:cNvPicPr/>
          <p:nvPr/>
        </p:nvPicPr>
        <p:blipFill>
          <a:blip r:embed="rId2"/>
          <a:stretch/>
        </p:blipFill>
        <p:spPr>
          <a:xfrm>
            <a:off x="9737640" y="4959360"/>
            <a:ext cx="461880" cy="460440"/>
          </a:xfrm>
          <a:prstGeom prst="rect">
            <a:avLst/>
          </a:prstGeom>
          <a:ln w="0">
            <a:noFill/>
          </a:ln>
        </p:spPr>
      </p:pic>
      <p:sp>
        <p:nvSpPr>
          <p:cNvPr id="333" name="Правая фигурная скобка 10"/>
          <p:cNvSpPr/>
          <p:nvPr/>
        </p:nvSpPr>
        <p:spPr>
          <a:xfrm>
            <a:off x="5910120" y="4151160"/>
            <a:ext cx="389160" cy="1597320"/>
          </a:xfrm>
          <a:custGeom>
            <a:avLst/>
            <a:gdLst>
              <a:gd name="textAreaLeft" fmla="*/ 0 w 389160"/>
              <a:gd name="textAreaRight" fmla="*/ 140400 w 389160"/>
              <a:gd name="textAreaTop" fmla="*/ 54720 h 1597320"/>
              <a:gd name="textAreaBottom" fmla="*/ 1542600 h 159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6"/>
                  <a:pt x="10800" y="2371"/>
                </a:cubicBezTo>
                <a:lnTo>
                  <a:pt x="10800" y="8490"/>
                </a:lnTo>
                <a:cubicBezTo>
                  <a:pt x="10800" y="9676"/>
                  <a:pt x="16200" y="10861"/>
                  <a:pt x="21600" y="10861"/>
                </a:cubicBezTo>
                <a:cubicBezTo>
                  <a:pt x="16200" y="10861"/>
                  <a:pt x="10800" y="12047"/>
                  <a:pt x="10800" y="13232"/>
                </a:cubicBezTo>
                <a:lnTo>
                  <a:pt x="10800" y="19229"/>
                </a:lnTo>
                <a:cubicBezTo>
                  <a:pt x="10800" y="2041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3"/>
          <p:cNvSpPr/>
          <p:nvPr/>
        </p:nvSpPr>
        <p:spPr>
          <a:xfrm>
            <a:off x="3027240" y="609480"/>
            <a:ext cx="8401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 ПОФР на уровне ТОФ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B00-6CB8-478A-94D3-1520F3E05A5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2" descr="Document"/>
          <p:cNvPicPr/>
          <p:nvPr/>
        </p:nvPicPr>
        <p:blipFill>
          <a:blip r:embed="rId1"/>
          <a:stretch/>
        </p:blipFill>
        <p:spPr>
          <a:xfrm>
            <a:off x="1666800" y="173664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1613880" y="280368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Глав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кни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52" descr="Document"/>
          <p:cNvPicPr/>
          <p:nvPr/>
        </p:nvPicPr>
        <p:blipFill>
          <a:blip r:embed="rId2"/>
          <a:stretch/>
        </p:blipFill>
        <p:spPr>
          <a:xfrm>
            <a:off x="1708200" y="4540320"/>
            <a:ext cx="1044360" cy="10461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9"/>
          <p:cNvSpPr/>
          <p:nvPr/>
        </p:nvSpPr>
        <p:spPr>
          <a:xfrm>
            <a:off x="1629720" y="563076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Лице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Calibri"/>
              </a:rPr>
              <a:t>сч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2"/>
          <p:cNvSpPr/>
          <p:nvPr/>
        </p:nvSpPr>
        <p:spPr>
          <a:xfrm>
            <a:off x="3156120" y="1731960"/>
            <a:ext cx="78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3156840" y="4570560"/>
            <a:ext cx="83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Б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ПОФ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Стрелка вправо 4"/>
          <p:cNvSpPr/>
          <p:nvPr/>
        </p:nvSpPr>
        <p:spPr>
          <a:xfrm rot="1906800">
            <a:off x="4704840" y="2643120"/>
            <a:ext cx="1594080" cy="484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трелка вправо 15"/>
          <p:cNvSpPr/>
          <p:nvPr/>
        </p:nvSpPr>
        <p:spPr>
          <a:xfrm rot="19960800">
            <a:off x="4690800" y="4329000"/>
            <a:ext cx="1593720" cy="4842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6855480" y="2317680"/>
            <a:ext cx="516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онтроль не превышени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решению руко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дел расход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дел внутреннего контр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Двойная стрелка влево/вправо 7"/>
          <p:cNvSpPr/>
          <p:nvPr/>
        </p:nvSpPr>
        <p:spPr>
          <a:xfrm rot="16200000">
            <a:off x="1813680" y="3764520"/>
            <a:ext cx="723960" cy="48420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3027240" y="420840"/>
            <a:ext cx="8401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Публикация информации об исполнении бюдж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DC3A-1F12-42FC-B617-9D00F58D868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"/>
          <p:cNvSpPr/>
          <p:nvPr/>
        </p:nvSpPr>
        <p:spPr>
          <a:xfrm>
            <a:off x="1219320" y="1539720"/>
            <a:ext cx="10591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f5597"/>
                </a:solidFill>
                <a:latin typeface="Arial"/>
              </a:rPr>
              <a:t>Приказ 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f5597"/>
                </a:solidFill>
                <a:latin typeface="Arial"/>
              </a:rPr>
              <a:t>от 30.11.2015 № 327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«Об утверждении Общих требований к составу и срокам размещения информации о кассовом исполнении федерального бюджета, кассовом обслуживании исполнения бюджетов бюджетной системы Российской Федерации, бюджетных учреждений, автономных учреждений и иных организаций на официальных сайтах территориальных органов Федерального казначейства в информационно-телекоммуникационной сети «Интернет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3"/>
          <p:cNvSpPr/>
          <p:nvPr/>
        </p:nvSpPr>
        <p:spPr>
          <a:xfrm>
            <a:off x="3027240" y="609480"/>
            <a:ext cx="840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т 30.11.2015 № 3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по состоянию на 30.01.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BB79-E2CE-488F-8EF2-187C283C619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8265960" y="2127240"/>
            <a:ext cx="3305160" cy="427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290840" y="2127240"/>
            <a:ext cx="3305520" cy="4172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684360" y="2127240"/>
            <a:ext cx="2847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97000" y="972720"/>
            <a:ext cx="80280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mbria"/>
              </a:rPr>
              <a:t>Спасибо за внимание!</a:t>
            </a:r>
            <a:r>
              <a:rPr b="1" lang="ru-RU" sz="36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EB2-3199-4638-8AE8-0D8BCE6EF28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FB85-1BA8-462B-9422-95C4E328C3C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66FF-A855-4303-A4CF-D64D5C4AFF0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897280" y="496800"/>
            <a:ext cx="89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mbria"/>
                <a:ea typeface="Arial"/>
              </a:rPr>
              <a:t>Организационные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0992-5767-425A-9F8E-09EA17963F4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722600" y="1911240"/>
            <a:ext cx="10109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ъяснения по порядку формирования и представ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исьмо Минфина России и Федерального казначейства от 30.12.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02-07-07/77756 / 07-04-05/02-92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8" descr="MCj04338000000[1]"/>
          <p:cNvPicPr/>
          <p:nvPr/>
        </p:nvPicPr>
        <p:blipFill>
          <a:blip r:embed="rId1"/>
          <a:stretch/>
        </p:blipFill>
        <p:spPr>
          <a:xfrm>
            <a:off x="966960" y="2049480"/>
            <a:ext cx="647640" cy="561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722600" y="3789360"/>
            <a:ext cx="101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ьные соотнош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и представлении отчетности в МОУ Ф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8" descr="MCj04338000000[1]"/>
          <p:cNvPicPr/>
          <p:nvPr/>
        </p:nvPicPr>
        <p:blipFill>
          <a:blip r:embed="rId2"/>
          <a:stretch/>
        </p:blipFill>
        <p:spPr>
          <a:xfrm>
            <a:off x="966960" y="3789360"/>
            <a:ext cx="64764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766880" y="5275440"/>
            <a:ext cx="101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бования к форматам файл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и представлении отчетности в МОУ Ф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8" descr="MCj04338000000[1]"/>
          <p:cNvPicPr/>
          <p:nvPr/>
        </p:nvPicPr>
        <p:blipFill>
          <a:blip r:embed="rId3"/>
          <a:stretch/>
        </p:blipFill>
        <p:spPr>
          <a:xfrm>
            <a:off x="1011240" y="527544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959200" y="531720"/>
            <a:ext cx="88851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Ведение учета и формирование отчетности по распределяемым налогам и сбо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602-C981-4AA1-B398-F779DFF8280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722600" y="1911240"/>
            <a:ext cx="101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В порядке установленном нормативными документами с учетом положений письма Минфина от 05.07.2012 № 02-06-07/2561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8" descr="MCj04338000000[1]"/>
          <p:cNvPicPr/>
          <p:nvPr/>
        </p:nvPicPr>
        <p:blipFill>
          <a:blip r:embed="rId1"/>
          <a:stretch/>
        </p:blipFill>
        <p:spPr>
          <a:xfrm>
            <a:off x="966960" y="2049480"/>
            <a:ext cx="647640" cy="561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722600" y="4164120"/>
            <a:ext cx="10109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В согласованные сроки (Инструкция № 191н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. 27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8" descr="MCj04338000000[1]"/>
          <p:cNvPicPr/>
          <p:nvPr/>
        </p:nvPicPr>
        <p:blipFill>
          <a:blip r:embed="rId2"/>
          <a:stretch/>
        </p:blipFill>
        <p:spPr>
          <a:xfrm>
            <a:off x="966960" y="4164120"/>
            <a:ext cx="647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959200" y="531720"/>
            <a:ext cx="88851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Учет средств во временном распоря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614720" y="5778360"/>
            <a:ext cx="421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м. п. 56 Инструкции № 191н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5200" y="1565280"/>
          <a:ext cx="11549160" cy="3930480"/>
        </p:xfrm>
        <a:graphic>
          <a:graphicData uri="http://schemas.openxmlformats.org/drawingml/2006/table">
            <a:tbl>
              <a:tblPr/>
              <a:tblGrid>
                <a:gridCol w="2368800"/>
                <a:gridCol w="2506320"/>
                <a:gridCol w="2395800"/>
                <a:gridCol w="2139840"/>
                <a:gridCol w="2138400"/>
              </a:tblGrid>
              <a:tr h="420480">
                <a:tc rowSpan="2"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операц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Б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ление средств на счет временного распоряж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201 11 5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304 01 7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202 11 5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402 10 5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тие средств со счетов во временном распоряжен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304 01 8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201 11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402 20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202 11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592-5478-4190-82A7-E49A61A6D60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22"/>
          <p:cNvSpPr/>
          <p:nvPr/>
        </p:nvSpPr>
        <p:spPr>
          <a:xfrm flipH="1">
            <a:off x="7783560" y="2381400"/>
            <a:ext cx="3798720" cy="2025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6"/>
          <p:cNvSpPr/>
          <p:nvPr/>
        </p:nvSpPr>
        <p:spPr>
          <a:xfrm>
            <a:off x="7783560" y="4508640"/>
            <a:ext cx="3798720" cy="939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писка по л/счетам и первичные документы к счету 40302 представляемая ТОФК по за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923760" y="1554120"/>
            <a:ext cx="10819080" cy="4632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2844720" y="453960"/>
            <a:ext cx="889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Баланс по поступлениям и выбытиям бюджет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средств (ф. 05031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2"/>
          <p:cNvSpPr/>
          <p:nvPr/>
        </p:nvSpPr>
        <p:spPr>
          <a:xfrm flipH="1">
            <a:off x="9688680" y="3270240"/>
            <a:ext cx="1201680" cy="334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2"/>
          <p:cNvSpPr/>
          <p:nvPr/>
        </p:nvSpPr>
        <p:spPr>
          <a:xfrm flipH="1">
            <a:off x="9688680" y="4406760"/>
            <a:ext cx="1201680" cy="335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7"/>
          <p:cNvSpPr/>
          <p:nvPr/>
        </p:nvSpPr>
        <p:spPr>
          <a:xfrm>
            <a:off x="7018200" y="3436920"/>
            <a:ext cx="2395800" cy="468360"/>
          </a:xfrm>
          <a:prstGeom prst="wedgeRoundRectCallout">
            <a:avLst>
              <a:gd name="adj1" fmla="val 62078"/>
              <a:gd name="adj2" fmla="val -59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402 10 5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7018200" y="4340160"/>
            <a:ext cx="2394000" cy="466920"/>
          </a:xfrm>
          <a:prstGeom prst="wedgeRoundRectCallout">
            <a:avLst>
              <a:gd name="adj1" fmla="val 61407"/>
              <a:gd name="adj2" fmla="val -226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402 20 6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2819880" y="6198120"/>
            <a:ext cx="7026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0000"/>
                </a:solidFill>
                <a:latin typeface="Arial"/>
                <a:ea typeface="Arial"/>
              </a:rPr>
              <a:t>Письмо Минфина России от 16.11.2015 № 02-07-07/66771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C3B5-33D4-4208-A69A-DAC9112319F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2959200" y="531720"/>
            <a:ext cx="88851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Учет средств во временном распоря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2AE1-F519-4578-9F26-3170C82B9BD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2" descr="Document"/>
          <p:cNvPicPr/>
          <p:nvPr/>
        </p:nvPicPr>
        <p:blipFill>
          <a:blip r:embed="rId1"/>
          <a:stretch/>
        </p:blipFill>
        <p:spPr>
          <a:xfrm>
            <a:off x="981000" y="1873080"/>
            <a:ext cx="1244520" cy="124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2" descr="Document"/>
          <p:cNvPicPr/>
          <p:nvPr/>
        </p:nvPicPr>
        <p:blipFill>
          <a:blip r:embed="rId2"/>
          <a:stretch/>
        </p:blipFill>
        <p:spPr>
          <a:xfrm>
            <a:off x="981000" y="480384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2" descr="Document"/>
          <p:cNvPicPr/>
          <p:nvPr/>
        </p:nvPicPr>
        <p:blipFill>
          <a:blip r:embed="rId3"/>
          <a:stretch/>
        </p:blipFill>
        <p:spPr>
          <a:xfrm>
            <a:off x="7226280" y="3425760"/>
            <a:ext cx="124452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231280" y="1793880"/>
            <a:ext cx="221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ланс ф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05031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17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201 11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5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304 01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231280" y="4610160"/>
            <a:ext cx="221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ланс ф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05031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1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202 11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402 30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477640" y="3232080"/>
            <a:ext cx="221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аланс ф.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05031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1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202 11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. 5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304 01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трелка вправо 3"/>
          <p:cNvSpPr/>
          <p:nvPr/>
        </p:nvSpPr>
        <p:spPr>
          <a:xfrm>
            <a:off x="4452840" y="2041560"/>
            <a:ext cx="1757520" cy="48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право 13"/>
          <p:cNvSpPr/>
          <p:nvPr/>
        </p:nvSpPr>
        <p:spPr>
          <a:xfrm>
            <a:off x="4452840" y="2681280"/>
            <a:ext cx="1757520" cy="48564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право 14"/>
          <p:cNvSpPr/>
          <p:nvPr/>
        </p:nvSpPr>
        <p:spPr>
          <a:xfrm>
            <a:off x="4605480" y="4876920"/>
            <a:ext cx="17571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право 15"/>
          <p:cNvSpPr/>
          <p:nvPr/>
        </p:nvSpPr>
        <p:spPr>
          <a:xfrm>
            <a:off x="4605480" y="5516640"/>
            <a:ext cx="175716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4"/>
          <a:stretch/>
        </p:blipFill>
        <p:spPr>
          <a:xfrm>
            <a:off x="5064120" y="2016000"/>
            <a:ext cx="534960" cy="5367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5"/>
          <a:stretch/>
        </p:blipFill>
        <p:spPr>
          <a:xfrm>
            <a:off x="5064120" y="5522760"/>
            <a:ext cx="534960" cy="536760"/>
          </a:xfrm>
          <a:prstGeom prst="rect">
            <a:avLst/>
          </a:prstGeom>
          <a:ln w="0">
            <a:noFill/>
          </a:ln>
        </p:spPr>
      </p:pic>
      <p:sp>
        <p:nvSpPr>
          <p:cNvPr id="105" name="Правая фигурная скобка 4"/>
          <p:cNvSpPr/>
          <p:nvPr/>
        </p:nvSpPr>
        <p:spPr>
          <a:xfrm>
            <a:off x="6362640" y="1689120"/>
            <a:ext cx="774720" cy="4724280"/>
          </a:xfrm>
          <a:custGeom>
            <a:avLst/>
            <a:gdLst>
              <a:gd name="textAreaLeft" fmla="*/ 0 w 774720"/>
              <a:gd name="textAreaRight" fmla="*/ 279720 w 774720"/>
              <a:gd name="textAreaTop" fmla="*/ 111600 h 4724280"/>
              <a:gd name="textAreaBottom" fmla="*/ 461268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6"/>
                  <a:pt x="10800" y="1631"/>
                </a:cubicBezTo>
                <a:lnTo>
                  <a:pt x="10800" y="9227"/>
                </a:lnTo>
                <a:cubicBezTo>
                  <a:pt x="10800" y="10043"/>
                  <a:pt x="16200" y="10858"/>
                  <a:pt x="21600" y="10858"/>
                </a:cubicBezTo>
                <a:cubicBezTo>
                  <a:pt x="16200" y="10858"/>
                  <a:pt x="10800" y="11674"/>
                  <a:pt x="10800" y="12489"/>
                </a:cubicBezTo>
                <a:lnTo>
                  <a:pt x="10800" y="19969"/>
                </a:lnTo>
                <a:cubicBezTo>
                  <a:pt x="10800" y="2078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458600" y="357660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солид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осн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равки ф. 05031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959200" y="635040"/>
            <a:ext cx="8724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Баланс (ф. 0503130) – показатели по забалансовым сч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4960" y="1757520"/>
          <a:ext cx="11122200" cy="4416120"/>
        </p:xfrm>
        <a:graphic>
          <a:graphicData uri="http://schemas.openxmlformats.org/drawingml/2006/table">
            <a:tbl>
              <a:tblPr/>
              <a:tblGrid>
                <a:gridCol w="3706920"/>
                <a:gridCol w="3708360"/>
                <a:gridCol w="3706920"/>
              </a:tblGrid>
              <a:tr h="882360"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  отчет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«Поступления …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«Выбытия…..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AutoShape 47"/>
          <p:cNvSpPr/>
          <p:nvPr/>
        </p:nvSpPr>
        <p:spPr>
          <a:xfrm>
            <a:off x="6781680" y="4660920"/>
            <a:ext cx="3697560" cy="1282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до заклю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ателей по счет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включая СВР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C3C-4D72-4CBF-BDDA-6D053A98C50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2959200" y="635040"/>
            <a:ext cx="90043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mbria"/>
                <a:ea typeface="Arial"/>
              </a:rPr>
              <a:t>Справка (ф. 0503110) – соответствие КВР и КОС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E8B-D38E-4945-97CD-5295B2DC00A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943720" y="1231920"/>
            <a:ext cx="90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00 хххх 0000000 </a:t>
            </a:r>
            <a:r>
              <a:rPr b="1" lang="ru-RU" sz="4400" spc="-1" strike="noStrike" u="sng">
                <a:solidFill>
                  <a:srgbClr val="2f5597"/>
                </a:solidFill>
                <a:uFillTx/>
                <a:latin typeface="Calibri"/>
              </a:rPr>
              <a:t>КВ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1 401 20 </a:t>
            </a:r>
            <a:r>
              <a:rPr b="1" lang="ru-RU" sz="4400" spc="-1" strike="noStrike" u="sng">
                <a:solidFill>
                  <a:srgbClr val="2f5597"/>
                </a:solidFill>
                <a:uFillTx/>
                <a:latin typeface="Calibri"/>
              </a:rPr>
              <a:t>КОСГ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16160" y="2090880"/>
          <a:ext cx="8767800" cy="4678200"/>
        </p:xfrm>
        <a:graphic>
          <a:graphicData uri="http://schemas.openxmlformats.org/drawingml/2006/table">
            <a:tbl>
              <a:tblPr/>
              <a:tblGrid>
                <a:gridCol w="4383360"/>
                <a:gridCol w="4384440"/>
              </a:tblGrid>
              <a:tr h="630000"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рас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КОС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 121,122,14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</a:t>
                      </a: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5720">
                <a:tc>
                  <a:txBody>
                    <a:bodyPr lIns="108720" rIns="10872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, 224, 226, 232, 241, </a:t>
                      </a:r>
                      <a:r>
                        <a:rPr b="0" lang="ru-RU" sz="2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42, 243, 244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245, </a:t>
                      </a:r>
                      <a:r>
                        <a:rPr b="0" lang="ru-RU" sz="2900" spc="-1" strike="noStrike">
                          <a:solidFill>
                            <a:srgbClr val="2f5597"/>
                          </a:solidFill>
                          <a:latin typeface="Arial"/>
                        </a:rPr>
                        <a:t>323,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12, 414, 415, 611, 612, 613, 621, 622, 623, 810, 880, </a:t>
                      </a:r>
                      <a:r>
                        <a:rPr b="0" lang="ru-RU" sz="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</a:t>
                      </a: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720" rIns="108720" tIns="42480" bIns="42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8720" marR="10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AutoShape 47"/>
          <p:cNvSpPr/>
          <p:nvPr/>
        </p:nvSpPr>
        <p:spPr>
          <a:xfrm>
            <a:off x="114480" y="2108160"/>
            <a:ext cx="2844720" cy="4597560"/>
          </a:xfrm>
          <a:custGeom>
            <a:avLst/>
            <a:gdLst>
              <a:gd name="textAreaLeft" fmla="*/ 138600 w 2844720"/>
              <a:gd name="textAreaRight" fmla="*/ 2706120 w 2844720"/>
              <a:gd name="textAreaTop" fmla="*/ 138600 h 4597560"/>
              <a:gd name="textAreaBottom" fmla="*/ 4458960 h 4597560"/>
            </a:gdLst>
            <a:ahLst/>
            <a:rect l="textAreaLeft" t="textAreaTop" r="textAreaRight" b="textAreaBottom"/>
            <a:pathLst>
              <a:path w="21600" h="34908">
                <a:moveTo>
                  <a:pt x="3600" y="0"/>
                </a:moveTo>
                <a:arcTo wR="3600" hR="3600" stAng="16200000" swAng="-5400000"/>
                <a:lnTo>
                  <a:pt x="0" y="31308"/>
                </a:lnTo>
                <a:arcTo wR="3600" hR="3600" stAng="10800000" swAng="-5400000"/>
                <a:lnTo>
                  <a:pt x="18000" y="34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казания № 65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 5 </a:t>
            </a:r>
            <a:r>
              <a:rPr b="1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касса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струкция № 162н Приложение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Calibri"/>
                <a:ea typeface="Arial"/>
              </a:rPr>
              <a:t>Метод начислений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Дубовик Антон Викторович</cp:lastModifiedBy>
  <cp:lastPrinted>2015-10-14T14:08:59Z</cp:lastPrinted>
  <dcterms:modified xsi:type="dcterms:W3CDTF">2016-02-05T15:11:04Z</dcterms:modified>
  <cp:revision>777</cp:revision>
  <dc:subject/>
  <dc:title>Презентация PowerPoint</dc:title>
</cp:coreProperties>
</file>