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25F-C532-4FEC-804F-EA896B70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B94-A22E-4DEF-860A-43079C26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0CD-C4B8-4535-A9CA-A232FA24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54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2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54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2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A4C-3D4A-46A3-A81D-41317EA3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FA1-3EE3-41D6-928D-75E2980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994-C255-4D4D-8C26-413D7F4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7B3-B1FA-44E3-8939-0305607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E06-3BEF-4568-9043-AEF3F86D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85960" y="140760"/>
            <a:ext cx="6819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932-8C00-4606-B50C-2F65CE18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EFE-1272-49F6-B5CC-2B74D55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6BE-28D6-4E6D-87EF-E2F6673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DBC-02FE-4CAA-9553-A3FE2FC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10826640" cy="812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94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352520" indent="-2714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89396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433600" indent="-27000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0080" y="7527600"/>
            <a:ext cx="34275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612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102-8FFA-4DB7-853C-7F7E7EB05B38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Федеральное казначейство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Актуальные вопросы учета поступлений в бюджетную систему Российской Федерации и их распределение между бюджетами бюджетной системы Российской Федер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~PP236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Изменения, вносимые в приказ 92н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порядка учета доходов от уплаты акцизов на нефтепроду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валютных ФК в МОУ Ф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естр администрируемых платежей ГАД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 на ОКТМ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ача невыясненных поступлений между УФ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излишне распределенных сумм в связи с межбюджетной задолженност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ссовое обслуживание ГВБ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исление поступлений, предназначавшихся федеральным учрежд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~PP2227.WAV" descr=""/>
          <p:cNvPicPr/>
          <p:nvPr/>
        </p:nvPicPr>
        <p:blipFill>
          <a:blip r:embed="rId1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179360"/>
            <a:ext cx="7358040" cy="657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Указание в распоряжении  переводе денежных средств в бюджетную систему кодов ОКТМО и идентифи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8292960" y="3700440"/>
            <a:ext cx="2376720" cy="2087640"/>
          </a:xfrm>
          <a:prstGeom prst="wedgeRectCallout">
            <a:avLst>
              <a:gd name="adj1" fmla="val -207819"/>
              <a:gd name="adj2" fmla="val 6896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31.03.2014 в реквизите «Код» будет указываться уникальный идентификатор начисления (УИ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8726400" y="1755720"/>
            <a:ext cx="1727280" cy="863640"/>
          </a:xfrm>
          <a:prstGeom prst="wedgeRoundRectCallout">
            <a:avLst>
              <a:gd name="adj1" fmla="val -417787"/>
              <a:gd name="adj2" fmla="val 479962"/>
              <a:gd name="adj3" fmla="val 16667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01.01.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ТМ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150400" y="6435720"/>
            <a:ext cx="2376360" cy="898560"/>
          </a:xfrm>
          <a:prstGeom prst="wedgeRectCallout">
            <a:avLst>
              <a:gd name="adj1" fmla="val -379027"/>
              <a:gd name="adj2" fmla="val -37856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31.03.2014 УИН указывается в назначении платеж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~PP2695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165320" y="24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администрируемых платежей (приложение № 7 к Порядку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1" descr=""/>
          <p:cNvPicPr/>
          <p:nvPr/>
        </p:nvPicPr>
        <p:blipFill>
          <a:blip r:embed="rId1"/>
          <a:stretch/>
        </p:blipFill>
        <p:spPr>
          <a:xfrm>
            <a:off x="299880" y="2043000"/>
            <a:ext cx="10082520" cy="4451400"/>
          </a:xfrm>
          <a:prstGeom prst="rect">
            <a:avLst/>
          </a:prstGeom>
          <a:ln w="0">
            <a:noFill/>
          </a:ln>
        </p:spPr>
      </p:pic>
      <p:pic>
        <p:nvPicPr>
          <p:cNvPr id="56" name="~PP3677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4600" y="2043000"/>
            <a:ext cx="9361440" cy="3970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Реестр платежей, ошибочно зачисленных на счет другого органа Федерального казначейства</a:t>
            </a:r>
            <a:br>
              <a:rPr sz="2400"/>
            </a:b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(Приложение № 8 к Порядку № 92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~PP2452.WAV" descr=""/>
          <p:cNvPicPr/>
          <p:nvPr/>
        </p:nvPicPr>
        <p:blipFill>
          <a:blip r:embed="rId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4" descr="e-mail"/>
          <p:cNvPicPr/>
          <p:nvPr/>
        </p:nvPicPr>
        <p:blipFill>
          <a:blip r:embed="rId1"/>
          <a:stretch/>
        </p:blipFill>
        <p:spPr>
          <a:xfrm rot="7062000">
            <a:off x="3200400" y="3608280"/>
            <a:ext cx="657360" cy="69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папки"/>
          <p:cNvPicPr/>
          <p:nvPr/>
        </p:nvPicPr>
        <p:blipFill>
          <a:blip r:embed="rId2"/>
          <a:stretch/>
        </p:blipFill>
        <p:spPr>
          <a:xfrm>
            <a:off x="8366040" y="4275000"/>
            <a:ext cx="1008000" cy="87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3"/>
          <p:cNvSpPr/>
          <p:nvPr/>
        </p:nvSpPr>
        <p:spPr>
          <a:xfrm flipH="1" flipV="1" rot="13265400">
            <a:off x="7286760" y="2979360"/>
            <a:ext cx="1728720" cy="514044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1010520 h 5140440"/>
              <a:gd name="textAreaBottom" fmla="*/ 3615840 h 514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1653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Уточнение невыясненных поступлений, зачисляемых в федеральный бюджет, поступивших на счета № 40101 других органов Федерального казначе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AutoShape 61"/>
          <p:cNvGrpSpPr/>
          <p:nvPr/>
        </p:nvGrpSpPr>
        <p:grpSpPr>
          <a:xfrm>
            <a:off x="2597040" y="3429360"/>
            <a:ext cx="1554120" cy="1990080"/>
            <a:chOff x="2597040" y="3429360"/>
            <a:chExt cx="1554120" cy="1990080"/>
          </a:xfrm>
        </p:grpSpPr>
        <p:pic>
          <p:nvPicPr>
            <p:cNvPr id="67" name="AutoShape 61" descr=""/>
            <p:cNvPicPr/>
            <p:nvPr/>
          </p:nvPicPr>
          <p:blipFill>
            <a:blip r:embed="rId4"/>
            <a:stretch/>
          </p:blipFill>
          <p:spPr>
            <a:xfrm>
              <a:off x="2597040" y="3429360"/>
              <a:ext cx="1554120" cy="19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3260400">
              <a:off x="2305800" y="4234680"/>
              <a:ext cx="2019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60"/>
          <p:cNvGrpSpPr/>
          <p:nvPr/>
        </p:nvGrpSpPr>
        <p:grpSpPr>
          <a:xfrm>
            <a:off x="157320" y="1324080"/>
            <a:ext cx="2664720" cy="2158560"/>
            <a:chOff x="157320" y="1324080"/>
            <a:chExt cx="2664720" cy="2158560"/>
          </a:xfrm>
        </p:grpSpPr>
        <p:pic>
          <p:nvPicPr>
            <p:cNvPr id="70" name="Picture 57" descr="Дома в ромбе"/>
            <p:cNvPicPr/>
            <p:nvPr/>
          </p:nvPicPr>
          <p:blipFill>
            <a:blip r:embed="rId5"/>
            <a:stretch/>
          </p:blipFill>
          <p:spPr>
            <a:xfrm>
              <a:off x="157320" y="1324080"/>
              <a:ext cx="813240" cy="8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AutoShape 51"/>
            <p:cNvGrpSpPr/>
            <p:nvPr/>
          </p:nvGrpSpPr>
          <p:grpSpPr>
            <a:xfrm>
              <a:off x="497880" y="2018520"/>
              <a:ext cx="2324160" cy="1464120"/>
              <a:chOff x="497880" y="2018520"/>
              <a:chExt cx="2324160" cy="1464120"/>
            </a:xfrm>
          </p:grpSpPr>
          <p:pic>
            <p:nvPicPr>
              <p:cNvPr id="72" name="AutoShape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497880" y="2018520"/>
                <a:ext cx="2324160" cy="146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585000" y="2107080"/>
                <a:ext cx="214920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spcBef>
                    <a:spcPts val="1312"/>
                  </a:spcBef>
                  <a:tabLst>
                    <a:tab algn="l" pos="0"/>
                    <a:tab algn="l" pos="1081080"/>
                    <a:tab algn="l" pos="2162160"/>
                    <a:tab algn="l" pos="3243240"/>
                    <a:tab algn="l" pos="4324320"/>
                    <a:tab algn="l" pos="5405400"/>
                    <a:tab algn="l" pos="6486480"/>
                    <a:tab algn="l" pos="7567560"/>
                    <a:tab algn="l" pos="8648640"/>
                    <a:tab algn="l" pos="9729720"/>
                    <a:tab algn="l" pos="10810800"/>
                  </a:tabLst>
                </a:pPr>
                <a:r>
                  <a:rPr b="1" lang="ru-RU" sz="21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ор доходов бюджета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59"/>
          <p:cNvGrpSpPr/>
          <p:nvPr/>
        </p:nvGrpSpPr>
        <p:grpSpPr>
          <a:xfrm>
            <a:off x="7574040" y="1108080"/>
            <a:ext cx="2419200" cy="2464200"/>
            <a:chOff x="7574040" y="1108080"/>
            <a:chExt cx="2419200" cy="2464200"/>
          </a:xfrm>
        </p:grpSpPr>
        <p:sp>
          <p:nvSpPr>
            <p:cNvPr id="75" name="AutoShape 53"/>
            <p:cNvSpPr/>
            <p:nvPr/>
          </p:nvSpPr>
          <p:spPr>
            <a:xfrm>
              <a:off x="7574040" y="205200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55" descr="Дом"/>
            <p:cNvPicPr/>
            <p:nvPr/>
          </p:nvPicPr>
          <p:blipFill>
            <a:blip r:embed="rId7"/>
            <a:stretch/>
          </p:blipFill>
          <p:spPr>
            <a:xfrm>
              <a:off x="8724960" y="1108080"/>
              <a:ext cx="126828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65" descr="папка мои документы"/>
          <p:cNvPicPr/>
          <p:nvPr/>
        </p:nvPicPr>
        <p:blipFill>
          <a:blip r:embed="rId8"/>
          <a:stretch/>
        </p:blipFill>
        <p:spPr>
          <a:xfrm>
            <a:off x="4694400" y="240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7" descr="папка мои документы"/>
          <p:cNvPicPr/>
          <p:nvPr/>
        </p:nvPicPr>
        <p:blipFill>
          <a:blip r:embed="rId9"/>
          <a:stretch/>
        </p:blipFill>
        <p:spPr>
          <a:xfrm>
            <a:off x="8150400" y="4635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2"/>
          <p:cNvSpPr/>
          <p:nvPr/>
        </p:nvSpPr>
        <p:spPr>
          <a:xfrm rot="12952800">
            <a:off x="5213520" y="759960"/>
            <a:ext cx="1512720" cy="48942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962280 h 4894200"/>
              <a:gd name="textAreaBottom" fmla="*/ 3442320 h 48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1905633"/>
                <a:lnTo>
                  <a:pt x="11582" y="20276"/>
                </a:lnTo>
                <a:lnTo>
                  <a:pt x="0" y="18215"/>
                </a:lnTo>
                <a:lnTo>
                  <a:pt x="11582" y="13505"/>
                </a:lnTo>
                <a:lnTo>
                  <a:pt x="11582" y="15665"/>
                </a:lnTo>
                <a:arcTo wR="21600" hR="8495" stAng="1905633" swAng="-1708743"/>
                <a:lnTo>
                  <a:pt x="21374" y="9720"/>
                </a:lnTo>
                <a:arcTo wR="21600" hR="8495" stAng="-196891" swAng="-5203109"/>
                <a:close/>
              </a:path>
              <a:path fill="darkenLess" w="21600" h="21600">
                <a:moveTo>
                  <a:pt x="0" y="0"/>
                </a:moveTo>
                <a:arcTo wR="21600" hR="8495" stAng="-5400000" swAng="5400000"/>
                <a:lnTo>
                  <a:pt x="21600" y="10946"/>
                </a:lnTo>
                <a:arcTo wR="21600" hR="8495" stAng="0" swAng="-196891"/>
                <a:lnTo>
                  <a:pt x="21374" y="9720"/>
                </a:lnTo>
                <a:arcTo wR="21600" hR="8495" stAng="-196891" swAng="-5203109"/>
                <a:close/>
              </a:path>
            </a:pathLst>
          </a:custGeom>
          <a:blipFill rotWithShape="0">
            <a:blip r:embed="rId10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8"/>
          <p:cNvSpPr/>
          <p:nvPr/>
        </p:nvSpPr>
        <p:spPr>
          <a:xfrm>
            <a:off x="949320" y="4059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домление об уточнении вида и принадлежности плате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58"/>
          <p:cNvGrpSpPr/>
          <p:nvPr/>
        </p:nvGrpSpPr>
        <p:grpSpPr>
          <a:xfrm>
            <a:off x="4118040" y="4564080"/>
            <a:ext cx="2311200" cy="2378520"/>
            <a:chOff x="4118040" y="4564080"/>
            <a:chExt cx="2311200" cy="2378520"/>
          </a:xfrm>
        </p:grpSpPr>
        <p:sp>
          <p:nvSpPr>
            <p:cNvPr id="82" name="AutoShape 52"/>
            <p:cNvSpPr/>
            <p:nvPr/>
          </p:nvSpPr>
          <p:spPr>
            <a:xfrm>
              <a:off x="4118040" y="5422320"/>
              <a:ext cx="2149560" cy="152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Управление Федерального казначейства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54" descr="Дом2"/>
            <p:cNvPicPr/>
            <p:nvPr/>
          </p:nvPicPr>
          <p:blipFill>
            <a:blip r:embed="rId11"/>
            <a:stretch/>
          </p:blipFill>
          <p:spPr>
            <a:xfrm>
              <a:off x="5060880" y="4564080"/>
              <a:ext cx="1368360" cy="97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69"/>
          <p:cNvSpPr/>
          <p:nvPr/>
        </p:nvSpPr>
        <p:spPr>
          <a:xfrm>
            <a:off x="3036960" y="1324080"/>
            <a:ext cx="302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8292960" y="6004080"/>
            <a:ext cx="253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естр платежей, ошибочно зачисленных на счет другого органа ФК + информация из расчетных докумен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~PP3035.WAV" descr=""/>
          <p:cNvPicPr/>
          <p:nvPr/>
        </p:nvPicPr>
        <p:blipFill>
          <a:blip r:embed="rId12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0240" y="141120"/>
            <a:ext cx="6842160" cy="9669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Перечисление излишне распределенных поступлени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88" name="Picture 3" descr="Дом"/>
          <p:cNvPicPr/>
          <p:nvPr/>
        </p:nvPicPr>
        <p:blipFill>
          <a:blip r:embed="rId1"/>
          <a:stretch/>
        </p:blipFill>
        <p:spPr>
          <a:xfrm>
            <a:off x="0" y="2187720"/>
            <a:ext cx="1380960" cy="111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Дом2"/>
          <p:cNvPicPr/>
          <p:nvPr/>
        </p:nvPicPr>
        <p:blipFill>
          <a:blip r:embed="rId2"/>
          <a:stretch/>
        </p:blipFill>
        <p:spPr>
          <a:xfrm>
            <a:off x="0" y="5859360"/>
            <a:ext cx="15256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90" name="AutoShape 5"/>
          <p:cNvGrpSpPr/>
          <p:nvPr/>
        </p:nvGrpSpPr>
        <p:grpSpPr>
          <a:xfrm>
            <a:off x="1743120" y="1428480"/>
            <a:ext cx="2806920" cy="1303920"/>
            <a:chOff x="1743120" y="1428480"/>
            <a:chExt cx="2806920" cy="1303920"/>
          </a:xfrm>
        </p:grpSpPr>
        <p:pic>
          <p:nvPicPr>
            <p:cNvPr id="91" name="AutoShape 5" descr=""/>
            <p:cNvPicPr/>
            <p:nvPr/>
          </p:nvPicPr>
          <p:blipFill>
            <a:blip r:embed="rId3"/>
            <a:stretch/>
          </p:blipFill>
          <p:spPr>
            <a:xfrm>
              <a:off x="1743120" y="1573200"/>
              <a:ext cx="2707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1479200">
              <a:off x="1811160" y="1684080"/>
              <a:ext cx="26870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AutoShape 6"/>
          <p:cNvSpPr/>
          <p:nvPr/>
        </p:nvSpPr>
        <p:spPr>
          <a:xfrm>
            <a:off x="588960" y="1260360"/>
            <a:ext cx="2144880" cy="11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Управление Федерального казначей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 rot="19729800">
            <a:off x="4272480" y="2540880"/>
            <a:ext cx="2448000" cy="822960"/>
          </a:xfrm>
          <a:custGeom>
            <a:avLst/>
            <a:gdLst>
              <a:gd name="textAreaLeft" fmla="*/ 306000 w 2448000"/>
              <a:gd name="textAreaRight" fmla="*/ 2142000 w 2448000"/>
              <a:gd name="textAreaTop" fmla="*/ 205560 h 822960"/>
              <a:gd name="textAreaBottom" fmla="*/ 617400 h 82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0772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884240" y="2701440"/>
            <a:ext cx="2872080" cy="152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равка о межбюджетной задолженности (код по КФД 052144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060960" y="3203640"/>
            <a:ext cx="3894120" cy="116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>
                  <a:alpha val="50196"/>
                </a:srgbClr>
              </a:gs>
              <a:gs pos="100000">
                <a:srgbClr val="96ab94">
                  <a:alpha val="50196"/>
                </a:srgbClr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ерация перечисления излишне распределенных поступлени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7790040" y="24764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>
                  <a:alpha val="50196"/>
                </a:srgbClr>
              </a:gs>
              <a:gs pos="100000">
                <a:srgbClr val="96ab94">
                  <a:alpha val="50196"/>
                </a:srgbClr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AutoShape 11"/>
          <p:cNvGrpSpPr/>
          <p:nvPr/>
        </p:nvGrpSpPr>
        <p:grpSpPr>
          <a:xfrm>
            <a:off x="6546960" y="1231920"/>
            <a:ext cx="2755800" cy="1219320"/>
            <a:chOff x="6546960" y="1231920"/>
            <a:chExt cx="2755800" cy="1219320"/>
          </a:xfrm>
        </p:grpSpPr>
        <p:pic>
          <p:nvPicPr>
            <p:cNvPr id="99" name="AutoShape 11" descr=""/>
            <p:cNvPicPr/>
            <p:nvPr/>
          </p:nvPicPr>
          <p:blipFill>
            <a:blip r:embed="rId4"/>
            <a:stretch/>
          </p:blipFill>
          <p:spPr>
            <a:xfrm>
              <a:off x="6546960" y="1231920"/>
              <a:ext cx="2755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22920" y="1317240"/>
              <a:ext cx="2606760" cy="10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1081080"/>
                  <a:tab algn="l" pos="2162160"/>
                  <a:tab algn="l" pos="3243240"/>
                  <a:tab algn="l" pos="4324320"/>
                  <a:tab algn="l" pos="5405400"/>
                  <a:tab algn="l" pos="6486480"/>
                  <a:tab algn="l" pos="7567560"/>
                  <a:tab algn="l" pos="8648640"/>
                  <a:tab algn="l" pos="9729720"/>
                  <a:tab algn="l" pos="108108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правка органа Федерального казначейства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2676600" y="4613400"/>
            <a:ext cx="8150040" cy="314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3"/>
          <p:cNvSpPr/>
          <p:nvPr/>
        </p:nvSpPr>
        <p:spPr>
          <a:xfrm flipH="1" flipV="1" rot="9982200">
            <a:off x="1740960" y="4419000"/>
            <a:ext cx="2735280" cy="829080"/>
          </a:xfrm>
          <a:custGeom>
            <a:avLst/>
            <a:gdLst>
              <a:gd name="textAreaLeft" fmla="*/ 478440 w 2735280"/>
              <a:gd name="textAreaRight" fmla="*/ 1983240 w 2735280"/>
              <a:gd name="textAreaTop" fmla="*/ 110880 h 829080"/>
              <a:gd name="textAreaBottom" fmla="*/ 718200 h 8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72960" y="4644720"/>
            <a:ext cx="2160720" cy="11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~PP1622.WAV" descr=""/>
          <p:cNvPicPr/>
          <p:nvPr/>
        </p:nvPicPr>
        <p:blipFill>
          <a:blip r:embed="rId7"/>
          <a:stretch/>
        </p:blipFill>
        <p:spPr>
          <a:xfrm>
            <a:off x="10318680" y="761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Тоша</cp:lastModifiedBy>
  <dcterms:modified xsi:type="dcterms:W3CDTF">2013-09-04T05:53:28Z</dcterms:modified>
  <cp:revision>174</cp:revision>
  <dc:subject/>
  <dc:title>Слайд 1</dc:title>
</cp:coreProperties>
</file>