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12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38.jpeg" ContentType="image/jpeg"/>
  <Override PartName="/ppt/media/image41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A93B-D8A0-4649-825B-DE684A583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3EC6-996A-47CB-A1C2-7B2FF5294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5EF-67A6-43C3-8A74-6987360CB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815C-28FB-4B4A-A0CB-7D9747B0B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7342-2CD8-460D-9E71-FE6F30F19B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7698-7D1F-4ED1-9A65-2C9C3977C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D25-BA8B-4CE6-9CCD-D9CD33D1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53F-CAE4-4F4E-BDCB-3FB6743B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3E6-AA8E-4D7E-AC1A-43D87AB7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A53-2067-45F8-A3C2-0AB9EF1A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AAD-3871-42BD-8502-59BF2E32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1A3-7F27-4F41-AF8E-FFDD425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78D-09C3-4086-AD46-B762F6D9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569-76B1-485D-B904-483B34A4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0D5-783E-4421-8A55-B2D71FF7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739-F20A-4999-BD6D-01DE677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CC6-AE11-4AA4-9594-31BC7B93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07D-23BF-4116-9B1A-8EFDE2DC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DAB7-FBDC-4723-8AB0-833DCAACD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0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5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0040" y="14997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КТУАЛЬНЫЕ ВОПРО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ЗВИТИЯ УЧЕТНЫХ И ОТЧЕТНЫХ ПРОЦЕДУР В СЕКТОРЕ ГОСУДАРСТВЕННОГО УПР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429160" y="5286240"/>
            <a:ext cx="352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Руководитель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Р.Е. Артю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2714760" y="6143760"/>
            <a:ext cx="213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. Геленд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2315\Рабочий стол\Презентации Р.Е\Человечки\event-image-poster.jpg"/>
          <p:cNvPicPr/>
          <p:nvPr/>
        </p:nvPicPr>
        <p:blipFill>
          <a:blip r:embed="rId1"/>
          <a:stretch/>
        </p:blipFill>
        <p:spPr>
          <a:xfrm>
            <a:off x="142920" y="47862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1360" y="115920"/>
            <a:ext cx="6956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комендации экспертов по повышению уровня прозрачности информации в России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B19F-BFAA-4346-B833-D4EA6C2677D9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C:\Documents and Settings\2315\Рабочий стол\Презентации Р.Е\Человечки\фонды\iCA7L4MU1.jpg"/>
          <p:cNvPicPr/>
          <p:nvPr/>
        </p:nvPicPr>
        <p:blipFill>
          <a:blip r:embed="rId1"/>
          <a:stretch/>
        </p:blipFill>
        <p:spPr>
          <a:xfrm>
            <a:off x="214200" y="5357880"/>
            <a:ext cx="17226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2315\Рабочий стол\Презентации Р.Е\Человечки\фонды\perspektivy-razvitiya-malogo-biznesa.jpg"/>
          <p:cNvPicPr/>
          <p:nvPr/>
        </p:nvPicPr>
        <p:blipFill>
          <a:blip r:embed="rId2"/>
          <a:stretch/>
        </p:blipFill>
        <p:spPr>
          <a:xfrm>
            <a:off x="7215120" y="4929120"/>
            <a:ext cx="1928880" cy="15811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1"/>
          <p:cNvSpPr/>
          <p:nvPr/>
        </p:nvSpPr>
        <p:spPr>
          <a:xfrm>
            <a:off x="1071720" y="1571760"/>
            <a:ext cx="69292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и публиковать Гражданский бюдж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состав информации органов внутреннего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ть общественности возможность для участия в слушаниях законодательных органов по бюдже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2214720" y="121428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C:\Documents and Settings\2315\Рабочий стол\Презентации Р.Е\Человечки\фонды\iCA74GR8C.jpg"/>
          <p:cNvPicPr/>
          <p:nvPr/>
        </p:nvPicPr>
        <p:blipFill>
          <a:blip r:embed="rId3"/>
          <a:stretch/>
        </p:blipFill>
        <p:spPr>
          <a:xfrm>
            <a:off x="142920" y="1143000"/>
            <a:ext cx="10191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:\Go\20121009_Москва\Новая папка (2)\001-МФ (1).jpg"/>
          <p:cNvPicPr/>
          <p:nvPr/>
        </p:nvPicPr>
        <p:blipFill>
          <a:blip r:embed="rId1"/>
          <a:srcRect l="14102" t="0" r="19750" b="36177"/>
          <a:stretch/>
        </p:blipFill>
        <p:spPr>
          <a:xfrm>
            <a:off x="73080" y="1000080"/>
            <a:ext cx="5505480" cy="55976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sp>
        <p:nvSpPr>
          <p:cNvPr id="123" name="Номер слайда 5"/>
          <p:cNvSpPr/>
          <p:nvPr/>
        </p:nvSpPr>
        <p:spPr>
          <a:xfrm>
            <a:off x="7010280" y="6595920"/>
            <a:ext cx="213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403A-7FB0-4EED-A149-90B6AC2F7995}" type="slidenum">
              <a:rPr b="1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Единый пор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бюджетной системы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2387"/>
                </a:solidFill>
                <a:latin typeface="Times New Roman"/>
                <a:ea typeface="Times New Roman"/>
              </a:rPr>
              <a:t>www.budget.go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Схема 9" descr=""/>
          <p:cNvPicPr/>
          <p:nvPr/>
        </p:nvPicPr>
        <p:blipFill>
          <a:blip r:embed="rId2"/>
          <a:stretch/>
        </p:blipFill>
        <p:spPr>
          <a:xfrm>
            <a:off x="4925880" y="1030320"/>
            <a:ext cx="4834080" cy="55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77BF-CD03-4135-9473-6F37F9D4FD7A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7" descr=""/>
          <p:cNvPicPr/>
          <p:nvPr/>
        </p:nvPicPr>
        <p:blipFill>
          <a:blip r:embed="rId3"/>
          <a:stretch/>
        </p:blipFill>
        <p:spPr>
          <a:xfrm>
            <a:off x="536400" y="2919240"/>
            <a:ext cx="8205840" cy="1328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7091280" y="4357800"/>
            <a:ext cx="1481400" cy="1571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5"/>
          <a:stretch/>
        </p:blipFill>
        <p:spPr>
          <a:xfrm>
            <a:off x="714240" y="450072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20 ключевых рекомендаций по устранению пробелов в Статистических данных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9F57-1638-47AA-B048-69BCE214F7DB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071720" y="1785960"/>
            <a:ext cx="650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группы рекомендаци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устранению пробелов в Статистических данны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роста рисков в финансовом секто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качества данных по международному финансовому взаимодейст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данных официальной стат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2315\Рабочий стол\Презентации Р.Е\Человечки\фонды\iCA74GR8C.jpg"/>
          <p:cNvPicPr/>
          <p:nvPr/>
        </p:nvPicPr>
        <p:blipFill>
          <a:blip r:embed="rId1"/>
          <a:stretch/>
        </p:blipFill>
        <p:spPr>
          <a:xfrm>
            <a:off x="571680" y="5056200"/>
            <a:ext cx="928440" cy="1301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1643040" y="5143680"/>
            <a:ext cx="7000920" cy="1191240"/>
          </a:xfrm>
          <a:prstGeom prst="rect">
            <a:avLst/>
          </a:prstGeom>
          <a:noFill/>
          <a:ln w="9360">
            <a:solidFill>
              <a:srgbClr val="c2e3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информации по статистике государственных финансов на основе общепринятого международного стандарта, Руководства по статистике государственных финансов 200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2315\Рабочий стол\Презентации Р.Е\Человечки\фонды\iCA74GR8C.jpg"/>
          <p:cNvPicPr/>
          <p:nvPr/>
        </p:nvPicPr>
        <p:blipFill>
          <a:blip r:embed="rId2"/>
          <a:stretch/>
        </p:blipFill>
        <p:spPr>
          <a:xfrm>
            <a:off x="571680" y="5072040"/>
            <a:ext cx="928440" cy="1301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2315\Рабочий стол\Презентации Р.Е\Человечки\фонды\iCA74GR8C.jpg"/>
          <p:cNvPicPr/>
          <p:nvPr/>
        </p:nvPicPr>
        <p:blipFill>
          <a:blip r:embed="rId3"/>
          <a:stretch/>
        </p:blipFill>
        <p:spPr>
          <a:xfrm>
            <a:off x="571680" y="5000760"/>
            <a:ext cx="92844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5600" y="142920"/>
            <a:ext cx="61167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Единообразное понимание отчетной информации. Мировой опыт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3257640" cy="60300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8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2356920"/>
            <a:ext cx="3286080" cy="3929400"/>
          </a:xfrm>
          <a:prstGeom prst="rect">
            <a:avLst/>
          </a:prstGeom>
          <a:noFill/>
          <a:ln w="9360">
            <a:solidFill>
              <a:srgbClr val="c2e3ec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чет принимается долг бюджетных единиц центрального правительства сектора государственного управления по долговым ценным бумагам и кредит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28680" y="1571400"/>
            <a:ext cx="4786200" cy="639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4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28680" y="2356920"/>
            <a:ext cx="4786200" cy="392940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чет принимается долг всего сектора государственного управления, а именно: бюджетных и внебюджетных единиц центрального правительства, региональных и местных органов власти, фондов социального страх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кредитов и долговых ценных бумаг указанных институциональных единиц в расчет приняты депозиты, специальные права заимствования, другая кредиторская задолженность, а также подлежащие уплате условно исчисленные отчисления на социальные нуж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1A5C-D554-4F06-B654-78B87AD4EA5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1857240" y="100008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долг Канады на 01.01.2012 по отношению к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9" descr="C:\Documents and Settings\2315\Рабочий стол\Презентации Р.Е\Человечки\13942135-stressed-3d-small-person.jpg"/>
          <p:cNvPicPr/>
          <p:nvPr/>
        </p:nvPicPr>
        <p:blipFill>
          <a:blip r:embed="rId1"/>
          <a:stretch/>
        </p:blipFill>
        <p:spPr>
          <a:xfrm>
            <a:off x="428760" y="4857840"/>
            <a:ext cx="10778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0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E1EC-26AA-49D2-A79B-95ED8F0E183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7" descr=""/>
          <p:cNvPicPr/>
          <p:nvPr/>
        </p:nvPicPr>
        <p:blipFill>
          <a:blip r:embed="rId3"/>
          <a:stretch/>
        </p:blipFill>
        <p:spPr>
          <a:xfrm>
            <a:off x="566640" y="2597040"/>
            <a:ext cx="8199360" cy="1298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7091280" y="4357800"/>
            <a:ext cx="1481400" cy="157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5"/>
          <a:stretch/>
        </p:blipFill>
        <p:spPr>
          <a:xfrm>
            <a:off x="714240" y="450072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71760" y="285840"/>
            <a:ext cx="64562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Международные стандарты финансовой отчетности для общественного сектора (МСФО ОФ)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BFB9-DA0D-49A9-8C02-C29412D8515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714240" y="1714680"/>
            <a:ext cx="714384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образие подходов в отношении активов и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: чем является тот или иной объект активов и обязательст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: сколько стоит данный объек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информации:  какие факты об объекте мы должны отразить в финансовой отчетност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Documents and Settings\2315\Рабочий стол\Презентации Р.Е\Человечки\199394-yana.jpg"/>
          <p:cNvPicPr/>
          <p:nvPr/>
        </p:nvPicPr>
        <p:blipFill>
          <a:blip r:embed="rId1"/>
          <a:stretch/>
        </p:blipFill>
        <p:spPr>
          <a:xfrm>
            <a:off x="6780240" y="3357720"/>
            <a:ext cx="2363760" cy="14763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071800" y="550080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оведения сопоставимости финансовых результатов деятельности государственного и корпоративного секторов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:\Documents and Settings\2315\Рабочий стол\Презентации Р.Е\Человечки\Important-News-from-Orthos2.jpg"/>
          <p:cNvPicPr/>
          <p:nvPr/>
        </p:nvPicPr>
        <p:blipFill>
          <a:blip r:embed="rId2"/>
          <a:stretch/>
        </p:blipFill>
        <p:spPr>
          <a:xfrm>
            <a:off x="785880" y="5429160"/>
            <a:ext cx="1218960" cy="10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68850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армонизация  методологии бухгалтерского учета и отчетности с международными стандартами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62" name="Содержимое 4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4632480"/>
          </a:xfrm>
          <a:prstGeom prst="rect">
            <a:avLst/>
          </a:prstGeom>
          <a:ln w="0">
            <a:noFill/>
          </a:ln>
        </p:spPr>
      </p:pic>
      <p:sp>
        <p:nvSpPr>
          <p:cNvPr id="163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B241-EF6F-446B-84FF-B2B793EA366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C:\Documents and Settings\2315\Рабочий стол\Презентации Р.Е\Человечки\Important-News-from-Orthos2.jpg"/>
          <p:cNvPicPr/>
          <p:nvPr/>
        </p:nvPicPr>
        <p:blipFill>
          <a:blip r:embed="rId2"/>
          <a:stretch/>
        </p:blipFill>
        <p:spPr>
          <a:xfrm>
            <a:off x="285840" y="4857840"/>
            <a:ext cx="1218960" cy="108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2315\Рабочий стол\Презентации Р.Е\Человечки\figure-pointing-to-page-300x300.jpg"/>
          <p:cNvPicPr/>
          <p:nvPr/>
        </p:nvPicPr>
        <p:blipFill>
          <a:blip r:embed="rId3"/>
          <a:stretch/>
        </p:blipFill>
        <p:spPr>
          <a:xfrm>
            <a:off x="7786800" y="5000760"/>
            <a:ext cx="93492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9BB1-0547-4B67-AB1E-284E117C825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хема 7" descr=""/>
          <p:cNvPicPr/>
          <p:nvPr/>
        </p:nvPicPr>
        <p:blipFill>
          <a:blip r:embed="rId3"/>
          <a:stretch/>
        </p:blipFill>
        <p:spPr>
          <a:xfrm>
            <a:off x="566640" y="2597040"/>
            <a:ext cx="8193240" cy="1298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7091280" y="4357800"/>
            <a:ext cx="1481400" cy="1571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5"/>
          <a:stretch/>
        </p:blipFill>
        <p:spPr>
          <a:xfrm>
            <a:off x="714240" y="450072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1704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Активы и обязательства консолидированного бюджета 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убъекта Российской Федерации на 01.01.2013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5F75-2703-4CF6-9C0F-F61979DF960E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4280" y="1143000"/>
          <a:ext cx="7143840" cy="4986360"/>
        </p:xfrm>
        <a:graphic>
          <a:graphicData uri="http://schemas.openxmlformats.org/drawingml/2006/table">
            <a:tbl>
              <a:tblPr/>
              <a:tblGrid>
                <a:gridCol w="5407200"/>
                <a:gridCol w="973080"/>
                <a:gridCol w="763560"/>
              </a:tblGrid>
              <a:tr h="164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млр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инансовые актив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ожения в нефинансовые а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инансовые активы имущества каз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а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на счетах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в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ы с деби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ы по кредитам, зай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22860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ы по кредитам, зай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обязатель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1"/>
          <a:stretch/>
        </p:blipFill>
        <p:spPr>
          <a:xfrm>
            <a:off x="142920" y="5357880"/>
            <a:ext cx="100944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5600" y="285840"/>
            <a:ext cx="5761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ОДЕРЖАНИЕ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1"/>
          <a:stretch/>
        </p:blipFill>
        <p:spPr>
          <a:xfrm>
            <a:off x="208080" y="1023840"/>
            <a:ext cx="8661240" cy="130500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3" descr=""/>
          <p:cNvPicPr/>
          <p:nvPr/>
        </p:nvPicPr>
        <p:blipFill>
          <a:blip r:embed="rId2"/>
          <a:stretch/>
        </p:blipFill>
        <p:spPr>
          <a:xfrm>
            <a:off x="208080" y="4522680"/>
            <a:ext cx="8650080" cy="13050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6" descr=""/>
          <p:cNvPicPr/>
          <p:nvPr/>
        </p:nvPicPr>
        <p:blipFill>
          <a:blip r:embed="rId3"/>
          <a:stretch/>
        </p:blipFill>
        <p:spPr>
          <a:xfrm>
            <a:off x="208080" y="2736720"/>
            <a:ext cx="8650080" cy="1305000"/>
          </a:xfrm>
          <a:prstGeom prst="rect">
            <a:avLst/>
          </a:prstGeom>
          <a:ln w="0">
            <a:noFill/>
          </a:ln>
        </p:spPr>
      </p:pic>
      <p:pic>
        <p:nvPicPr>
          <p:cNvPr id="57" name="Схема 7" descr=""/>
          <p:cNvPicPr/>
          <p:nvPr/>
        </p:nvPicPr>
        <p:blipFill>
          <a:blip r:embed="rId4"/>
          <a:stretch/>
        </p:blipFill>
        <p:spPr>
          <a:xfrm>
            <a:off x="208080" y="3597120"/>
            <a:ext cx="8650080" cy="129888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8" descr=""/>
          <p:cNvPicPr/>
          <p:nvPr/>
        </p:nvPicPr>
        <p:blipFill>
          <a:blip r:embed="rId5"/>
          <a:stretch/>
        </p:blipFill>
        <p:spPr>
          <a:xfrm>
            <a:off x="208080" y="1878120"/>
            <a:ext cx="8650080" cy="1303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1500120" y="1214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изнанные мировые требования к формированию и опубликованию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1500120" y="21430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практика формирования  и опубликован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1571760" y="29289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МВФ по устранению пробелов в статистических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1571760" y="37861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дходы к формированию методологии бухгалтерского учета и отчетности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1500120" y="464328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 консолидированных бюджетов субъектов Российской Федерации активов и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8572680" y="6572160"/>
            <a:ext cx="571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E5A7-EB39-432F-8118-54050015CBCB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2315\Рабочий стол\Презентации Р.Е\Человечки\figure-pointing-to-page-300x300.jpg"/>
          <p:cNvPicPr/>
          <p:nvPr/>
        </p:nvPicPr>
        <p:blipFill>
          <a:blip r:embed="rId6"/>
          <a:stretch/>
        </p:blipFill>
        <p:spPr>
          <a:xfrm>
            <a:off x="7929720" y="5500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119320" y="33336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оссия и мир – использование имущества каз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7" descr="ANd9GcSDbBO01W-7yr4oPc5SnWRlbnZE3s_ohTscETQuaN6HSVO6OV0I"/>
          <p:cNvPicPr/>
          <p:nvPr/>
        </p:nvPicPr>
        <p:blipFill>
          <a:blip r:embed="rId1"/>
          <a:stretch/>
        </p:blipFill>
        <p:spPr>
          <a:xfrm>
            <a:off x="4643280" y="1428840"/>
            <a:ext cx="3571920" cy="151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Picture 39" descr="ANd9GcTaNqmGGmyKpYvRRRa0z0mmhnze75KCQz44l6Wp8CCU-TKPZo_J"/>
          <p:cNvPicPr/>
          <p:nvPr/>
        </p:nvPicPr>
        <p:blipFill>
          <a:blip r:embed="rId2"/>
          <a:stretch/>
        </p:blipFill>
        <p:spPr>
          <a:xfrm>
            <a:off x="857160" y="1428840"/>
            <a:ext cx="357192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80" name=""/>
          <p:cNvGraphicFramePr/>
          <p:nvPr/>
        </p:nvGraphicFramePr>
        <p:xfrm>
          <a:off x="785880" y="3143160"/>
          <a:ext cx="7561080" cy="29098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лесов, млн. кв.к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государства от использования лесов в 2012 году (млрд.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Picture 8" descr="i?id=106927965-45-72&amp;n=16"/>
          <p:cNvPicPr/>
          <p:nvPr/>
        </p:nvPicPr>
        <p:blipFill>
          <a:blip r:embed="rId3"/>
          <a:stretch/>
        </p:blipFill>
        <p:spPr>
          <a:xfrm>
            <a:off x="7643880" y="285840"/>
            <a:ext cx="50004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Номер слайда 7"/>
          <p:cNvSpPr/>
          <p:nvPr/>
        </p:nvSpPr>
        <p:spPr>
          <a:xfrm>
            <a:off x="6696000" y="6572160"/>
            <a:ext cx="244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7E96-5980-4249-A6FD-C72B674F123D}" type="slidenum">
              <a:rPr b="1" lang="ru-RU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5786280" y="100044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НЛЯ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>
            <a:off x="1928880" y="1000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428760" y="6064200"/>
            <a:ext cx="3786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wood.ru/ru/lonewsid-40346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.worldstat.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592280" y="28584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оссия и мир – использование имущества каз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ANd9GcTaNqmGGmyKpYvRRRa0z0mmhnze75KCQz44l6Wp8CCU-TKPZo_J"/>
          <p:cNvPicPr/>
          <p:nvPr/>
        </p:nvPicPr>
        <p:blipFill>
          <a:blip r:embed="rId1"/>
          <a:stretch/>
        </p:blipFill>
        <p:spPr>
          <a:xfrm>
            <a:off x="857160" y="1428840"/>
            <a:ext cx="2737080" cy="15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22" descr="&amp;Fcy;&amp;lcy;&amp;acy;&amp;gcy;: &amp;Vcy;&amp;iecy;&amp;lcy;&amp;icy;&amp;kcy;&amp;ocy;&amp;bcy;&amp;rcy;&amp;icy;&amp;tcy;&amp;acy;&amp;ncy;&amp;icy;&amp;yacy;"/>
          <p:cNvPicPr/>
          <p:nvPr/>
        </p:nvPicPr>
        <p:blipFill>
          <a:blip r:embed="rId2"/>
          <a:stretch/>
        </p:blipFill>
        <p:spPr>
          <a:xfrm>
            <a:off x="3786120" y="1357200"/>
            <a:ext cx="2571840" cy="1643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4"/>
          <p:cNvSpPr/>
          <p:nvPr/>
        </p:nvSpPr>
        <p:spPr>
          <a:xfrm>
            <a:off x="395280" y="5644080"/>
            <a:ext cx="842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- Сбор, взимаемый с пассажиров международных авиарей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5880" y="3143160"/>
          <a:ext cx="8001000" cy="15699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428920"/>
              </a:tblGrid>
              <a:tr h="53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й сбор*  (млрд.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3" descr="i?id=57147619-61-72&amp;n=21"/>
          <p:cNvPicPr/>
          <p:nvPr/>
        </p:nvPicPr>
        <p:blipFill>
          <a:blip r:embed="rId3"/>
          <a:stretch/>
        </p:blipFill>
        <p:spPr>
          <a:xfrm>
            <a:off x="6500880" y="1357200"/>
            <a:ext cx="2214360" cy="1652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i?id=106927965-45-72&amp;n=16"/>
          <p:cNvPicPr/>
          <p:nvPr/>
        </p:nvPicPr>
        <p:blipFill>
          <a:blip r:embed="rId4"/>
          <a:stretch/>
        </p:blipFill>
        <p:spPr>
          <a:xfrm>
            <a:off x="7643880" y="285840"/>
            <a:ext cx="500040" cy="595080"/>
          </a:xfrm>
          <a:prstGeom prst="rect">
            <a:avLst/>
          </a:prstGeom>
          <a:ln w="0">
            <a:noFill/>
          </a:ln>
        </p:spPr>
      </p:pic>
      <p:sp>
        <p:nvSpPr>
          <p:cNvPr id="193" name="Номер слайда 9"/>
          <p:cNvSpPr/>
          <p:nvPr/>
        </p:nvSpPr>
        <p:spPr>
          <a:xfrm>
            <a:off x="6696000" y="6500880"/>
            <a:ext cx="2448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7028-1390-4189-AC76-0EFBFC50A38A}" type="slidenum">
              <a:rPr b="1" lang="ru-RU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000680" y="100044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ЛИКОБР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1"/>
          <p:cNvSpPr/>
          <p:nvPr/>
        </p:nvSpPr>
        <p:spPr>
          <a:xfrm>
            <a:off x="1357200" y="100008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6715080" y="10004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М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357120" y="6064200"/>
            <a:ext cx="8780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ns.gov.uk/ons/datasets-and-tables/index.html?pageSize=50&amp;sortBy=none&amp;sortDirection=none&amp;newquery=air+ta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destatis.de/EN/FactsFigures/SocietyState/PublicFinanceTaxes/Taxes/AirTransportationTax/Tables/AirPassengersMonthTaxRate_201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6885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Анализ остатков целевых средств на счетах бюджетов субъектов Российской Федерации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99" name="Номер слайда 9"/>
          <p:cNvSpPr/>
          <p:nvPr/>
        </p:nvSpPr>
        <p:spPr>
          <a:xfrm>
            <a:off x="6696000" y="6500880"/>
            <a:ext cx="2448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6F4-7430-4FD5-87F4-4427029ADE21}" type="slidenum">
              <a:rPr b="1" lang="ru-RU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1720" y="1357200"/>
          <a:ext cx="7000560" cy="3899160"/>
        </p:xfrm>
        <a:graphic>
          <a:graphicData uri="http://schemas.openxmlformats.org/drawingml/2006/table">
            <a:tbl>
              <a:tblPr/>
              <a:tblGrid>
                <a:gridCol w="1054080"/>
                <a:gridCol w="1231920"/>
                <a:gridCol w="1077840"/>
                <a:gridCol w="1279440"/>
                <a:gridCol w="1143000"/>
                <a:gridCol w="1214280"/>
              </a:tblGrid>
              <a:tr h="205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7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,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01" name="TextBox 4"/>
          <p:cNvSpPr/>
          <p:nvPr/>
        </p:nvSpPr>
        <p:spPr>
          <a:xfrm>
            <a:off x="4929120" y="107172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рд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2315\Рабочий стол\Презентации Р.Е\Человечки\фонды\iCAAO1BZU.jpg"/>
          <p:cNvPicPr/>
          <p:nvPr/>
        </p:nvPicPr>
        <p:blipFill>
          <a:blip r:embed="rId1"/>
          <a:stretch/>
        </p:blipFill>
        <p:spPr>
          <a:xfrm>
            <a:off x="8186760" y="5357880"/>
            <a:ext cx="95724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3920" y="115920"/>
            <a:ext cx="6813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Перечень целевых статей классификациирасходов , </a:t>
            </a: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по которым сложился наибольший остаток               целевых средств на 01.07.2013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4" name="Номер слайда 9"/>
          <p:cNvSpPr/>
          <p:nvPr/>
        </p:nvSpPr>
        <p:spPr>
          <a:xfrm>
            <a:off x="6696000" y="6500880"/>
            <a:ext cx="2448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B1BB-B4BC-40DA-9ACE-43D315AF1298}" type="slidenum">
              <a:rPr b="1" lang="ru-RU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28840" y="1428840"/>
          <a:ext cx="6405480" cy="4965480"/>
        </p:xfrm>
        <a:graphic>
          <a:graphicData uri="http://schemas.openxmlformats.org/drawingml/2006/table">
            <a:tbl>
              <a:tblPr/>
              <a:tblGrid>
                <a:gridCol w="1571400"/>
                <a:gridCol w="3214800"/>
                <a:gridCol w="1619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остатка средст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 03 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мероприятий подпрограммы «Автомобильные доро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 2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рнизация региональных систем обще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 03 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отдельным категориям граждан государственной социальн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 04 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обеспечение закупок диагностических средств и антивирусных препаратов для лечения лиц, инфицированных вирусами иммунодефицита человека и гепатитов B и 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 46 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та жилищно-коммунальных услуг отдельным категориям граж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6" name="TextBox 4"/>
          <p:cNvSpPr/>
          <p:nvPr/>
        </p:nvSpPr>
        <p:spPr>
          <a:xfrm>
            <a:off x="6072120" y="1071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рд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Documents and Settings\2315\Рабочий стол\Презентации Р.Е\Человечки\figure-pointing-to-page-300x300.jpg"/>
          <p:cNvPicPr/>
          <p:nvPr/>
        </p:nvPicPr>
        <p:blipFill>
          <a:blip r:embed="rId1"/>
          <a:stretch/>
        </p:blipFill>
        <p:spPr>
          <a:xfrm>
            <a:off x="142920" y="528624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6215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Субъекты Российской Федерации</a:t>
            </a: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с наибольшим приростом остатков целевых средств на счетах</a:t>
            </a:r>
            <a:endParaRPr b="1" lang="en-US" sz="22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E575-8D5B-452C-AE19-BB72CD77B473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000080" y="1357200"/>
          <a:ext cx="6453360" cy="4969080"/>
        </p:xfrm>
        <a:graphic>
          <a:graphicData uri="http://schemas.openxmlformats.org/drawingml/2006/table">
            <a:tbl>
              <a:tblPr/>
              <a:tblGrid>
                <a:gridCol w="3000600"/>
                <a:gridCol w="1612800"/>
                <a:gridCol w="183996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убъекта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е остатков целевых сред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30,9 до 3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,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баровский кра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,0 до 4,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анкт-Петербу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5,6 до 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2,9 до 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Башкортоста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2,4 до 5,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,2 до 3,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дл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2,7 до 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2,4 до 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,1 до 2,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ченская Республ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0,4 до 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11" name="TextBox 5"/>
          <p:cNvSpPr/>
          <p:nvPr/>
        </p:nvSpPr>
        <p:spPr>
          <a:xfrm>
            <a:off x="6572160" y="100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рд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Documents and Settings\2315\Рабочий стол\Презентации Р.Е\Человечки\13942135-stressed-3d-small-person.jpg"/>
          <p:cNvPicPr/>
          <p:nvPr/>
        </p:nvPicPr>
        <p:blipFill>
          <a:blip r:embed="rId1"/>
          <a:stretch/>
        </p:blipFill>
        <p:spPr>
          <a:xfrm>
            <a:off x="7786800" y="4786200"/>
            <a:ext cx="11998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1859c"/>
              </a:solidFill>
              <a:latin typeface="Calibri"/>
            </a:endParaRPr>
          </a:p>
        </p:txBody>
      </p:sp>
      <p:pic>
        <p:nvPicPr>
          <p:cNvPr id="214" name="Picture 5" descr="C:\Documents and Settings\2315\Рабочий стол\Презентации Р.Е\Человечки\event-image-poster.jpg"/>
          <p:cNvPicPr/>
          <p:nvPr/>
        </p:nvPicPr>
        <p:blipFill>
          <a:blip r:embed="rId1"/>
          <a:stretch/>
        </p:blipFill>
        <p:spPr>
          <a:xfrm>
            <a:off x="742968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5" descr=""/>
          <p:cNvPicPr/>
          <p:nvPr/>
        </p:nvPicPr>
        <p:blipFill>
          <a:blip r:embed="rId2"/>
          <a:stretch/>
        </p:blipFill>
        <p:spPr>
          <a:xfrm>
            <a:off x="-298440" y="2316240"/>
            <a:ext cx="962496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4EA8-81E3-411A-AB1B-FAC1027AC424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хема 7" descr=""/>
          <p:cNvPicPr/>
          <p:nvPr/>
        </p:nvPicPr>
        <p:blipFill>
          <a:blip r:embed="rId3"/>
          <a:stretch/>
        </p:blipFill>
        <p:spPr>
          <a:xfrm>
            <a:off x="536400" y="2919240"/>
            <a:ext cx="8205840" cy="1328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7091280" y="4357800"/>
            <a:ext cx="1481400" cy="157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Documents and Settings\2315\Рабочий стол\Презентации Р.Е\Человечки\8165115-3d-man-conference-standing-near-a-blank-board.jpg"/>
          <p:cNvPicPr/>
          <p:nvPr/>
        </p:nvPicPr>
        <p:blipFill>
          <a:blip r:embed="rId5"/>
          <a:stretch/>
        </p:blipFill>
        <p:spPr>
          <a:xfrm>
            <a:off x="714240" y="450072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199A-85CC-4C48-BF34-E6EF5F7F6A5B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Цель обеспечения открытости бюджета 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 бюджетного процесса для общества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5" name="Скругленный прямоугольник 24"/>
          <p:cNvSpPr/>
          <p:nvPr/>
        </p:nvSpPr>
        <p:spPr>
          <a:xfrm>
            <a:off x="324000" y="1700280"/>
            <a:ext cx="3816360" cy="2449440"/>
          </a:xfrm>
          <a:prstGeom prst="roundRect">
            <a:avLst>
              <a:gd name="adj" fmla="val 5403"/>
            </a:avLst>
          </a:prstGeom>
          <a:solidFill>
            <a:srgbClr val="b9cde5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5"/>
          <p:cNvSpPr/>
          <p:nvPr/>
        </p:nvSpPr>
        <p:spPr>
          <a:xfrm>
            <a:off x="539640" y="1844640"/>
            <a:ext cx="3456000" cy="208908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lvl="1" marL="264960" indent="-264960" algn="just">
              <a:lnSpc>
                <a:spcPct val="9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бюджете доступна для каждого гражд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4"/>
          <p:cNvSpPr/>
          <p:nvPr/>
        </p:nvSpPr>
        <p:spPr>
          <a:xfrm>
            <a:off x="324000" y="4513320"/>
            <a:ext cx="8424720" cy="1003320"/>
          </a:xfrm>
          <a:prstGeom prst="roundRect">
            <a:avLst>
              <a:gd name="adj" fmla="val 5403"/>
            </a:avLst>
          </a:prstGeom>
          <a:solidFill>
            <a:srgbClr val="c6d9f1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25"/>
          <p:cNvSpPr/>
          <p:nvPr/>
        </p:nvSpPr>
        <p:spPr>
          <a:xfrm>
            <a:off x="660240" y="4689360"/>
            <a:ext cx="7848720" cy="68436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lvl="1" marL="264960" indent="-264960">
              <a:lnSpc>
                <a:spcPct val="90000"/>
              </a:lnSpc>
              <a:spcBef>
                <a:spcPts val="2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9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 доверяет государственным института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24"/>
          <p:cNvSpPr/>
          <p:nvPr/>
        </p:nvSpPr>
        <p:spPr>
          <a:xfrm>
            <a:off x="4286160" y="1700280"/>
            <a:ext cx="4462560" cy="2371680"/>
          </a:xfrm>
          <a:prstGeom prst="roundRect">
            <a:avLst>
              <a:gd name="adj" fmla="val 5403"/>
            </a:avLst>
          </a:prstGeom>
          <a:solidFill>
            <a:srgbClr val="c6d9f1"/>
          </a:solidFill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25"/>
          <p:cNvSpPr/>
          <p:nvPr/>
        </p:nvSpPr>
        <p:spPr>
          <a:xfrm>
            <a:off x="4427640" y="1916280"/>
            <a:ext cx="4176720" cy="86508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lvl="1" marL="264960" indent="-264960" algn="just">
              <a:lnSpc>
                <a:spcPct val="9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 понимает основные цели, задачи и ориентиры бюджетной политик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5"/>
          <p:cNvSpPr/>
          <p:nvPr/>
        </p:nvSpPr>
        <p:spPr>
          <a:xfrm>
            <a:off x="4427640" y="2924280"/>
            <a:ext cx="4176720" cy="93636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lvl="1" marL="264960" indent="-264960" algn="just">
              <a:lnSpc>
                <a:spcPct val="9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 понимает достигнутые результаты и государственные расходы, направленные на их дост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3920" y="115920"/>
            <a:ext cx="6813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одекс прозрачности в налогово- бюджетной сфере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8572680" y="6572160"/>
            <a:ext cx="571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F6FD-6CFA-4A51-A7E2-3F729EB63BF8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2920" y="857160"/>
          <a:ext cx="8858160" cy="5599080"/>
        </p:xfrm>
        <a:graphic>
          <a:graphicData uri="http://schemas.openxmlformats.org/drawingml/2006/table">
            <a:tbl>
              <a:tblPr/>
              <a:tblGrid>
                <a:gridCol w="1500120"/>
                <a:gridCol w="5143680"/>
                <a:gridCol w="2214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кумент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опублик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 опублик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проект бюдж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ожения, используемые для разработки бюджета, такие как общий ожидаемый доход, расходы, уровень долга и широкие ассигнования сектора экономик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месяц до передачи проекта бюджета на рассмотрение органам законодательной власт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бюдж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бные планы правительства, исходя из политических приоритетов и бюджетов для каждого министерства и ведомства на будущий бюджетный год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его одобрения законодательной властью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й документ, разрешающий исполнительной власти выполнять мероприятия, содержащиеся в бюджете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трех месяцев после одобрения бюджет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е отче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по собранным доходам, совершенным фактическим расходам, и долгам, возникшим в данный момент време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же трех месяцев после окончания отчетного период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одовой отч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е данные по бюджету з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одие (доходы, расходы и долги), переоценивает экономические ориентировочные расчеты, на которых первоначально был спроектирован бюджет, и соответственно регулирует бюджетные показатели на оставшиеся шесть месяцев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же трех месяцев после окончания отчетного период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й отч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ывает ситуацию с финансовой отчетностью правительства в конце финансового года и, в лучшем случае, включает оценку прогресса в отношении достижения целей политики, изложенных в Принятом бюджете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двух лет после окончания финансового год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орский отч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ысшими контрольными органами финансовых результатов деятельности Правительства за предыдущий бюджетный год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двух лет после окончания финансового год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и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ощенная версия бюджетного документа, который использует неформальный язык и доступные форматы, чтобы облегчить его понимание для граждан, их взаимодействие, планы и действия правительства во время бюджетного год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 же самое время, как и принятый бюджет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71800" y="213840"/>
            <a:ext cx="5759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оступность информаци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86" name="Содержимое 4" descr=""/>
          <p:cNvPicPr/>
          <p:nvPr/>
        </p:nvPicPr>
        <p:blipFill>
          <a:blip r:embed="rId1"/>
          <a:stretch/>
        </p:blipFill>
        <p:spPr>
          <a:xfrm>
            <a:off x="420840" y="1122480"/>
            <a:ext cx="8173800" cy="446724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BB9A-16D5-4C4D-9B4F-2D5C3638DDA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785960" y="314316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857760" y="3071880"/>
            <a:ext cx="1616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9" descr="C:\Documents and Settings\2315\Рабочий стол\Презентации Р.Е\Человечки\9624655-3d-person-running-with-usb-flash-drive-isolated-on-white-background.jpg"/>
          <p:cNvPicPr/>
          <p:nvPr/>
        </p:nvPicPr>
        <p:blipFill>
          <a:blip r:embed="rId2"/>
          <a:stretch/>
        </p:blipFill>
        <p:spPr>
          <a:xfrm>
            <a:off x="357120" y="4500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ая прямоугольная выноска 17"/>
          <p:cNvSpPr/>
          <p:nvPr/>
        </p:nvSpPr>
        <p:spPr>
          <a:xfrm>
            <a:off x="6357960" y="1643040"/>
            <a:ext cx="2214720" cy="2071800"/>
          </a:xfrm>
          <a:prstGeom prst="wedgeRoundRectCallout">
            <a:avLst>
              <a:gd name="adj1" fmla="val -12472"/>
              <a:gd name="adj2" fmla="val 102435"/>
              <a:gd name="adj3" fmla="val 16667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6572160" y="1785960"/>
            <a:ext cx="1928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ость пользователями информации анализировать,    группировать,     агрегировать информацию в любой необходимой фо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Documents and Settings\2315\Рабочий стол\Презентации Р.Е\Человечки\фонды\2390.jpg"/>
          <p:cNvPicPr/>
          <p:nvPr/>
        </p:nvPicPr>
        <p:blipFill>
          <a:blip r:embed="rId3"/>
          <a:stretch/>
        </p:blipFill>
        <p:spPr>
          <a:xfrm>
            <a:off x="6929280" y="4786200"/>
            <a:ext cx="1444680" cy="857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785880" y="5715000"/>
            <a:ext cx="835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10 июля 2013 г. №583 «Об обеспечении доступа к общедоступной информации о деятельности государственных органов и органов местного самоуправления в информационно-телекоммуникационной сети «Интернет» в форме открытых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C:\Documents and Settings\2315\Рабочий стол\Презентации Р.Е\Человечки\фонды\iCA74GR8C.jpg"/>
          <p:cNvPicPr/>
          <p:nvPr/>
        </p:nvPicPr>
        <p:blipFill>
          <a:blip r:embed="rId4"/>
          <a:stretch/>
        </p:blipFill>
        <p:spPr>
          <a:xfrm>
            <a:off x="142920" y="5857920"/>
            <a:ext cx="40788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FB8-3FE6-4936-8067-96756E93E12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хема 7" descr=""/>
          <p:cNvPicPr/>
          <p:nvPr/>
        </p:nvPicPr>
        <p:blipFill>
          <a:blip r:embed="rId3"/>
          <a:stretch/>
        </p:blipFill>
        <p:spPr>
          <a:xfrm>
            <a:off x="506520" y="2951280"/>
            <a:ext cx="8199360" cy="1296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3"/>
          <p:cNvSpPr/>
          <p:nvPr/>
        </p:nvSpPr>
        <p:spPr>
          <a:xfrm>
            <a:off x="1547640" y="26028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ФЕДЕРАЛЬНОЕ 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C:\Documents and Settings\2324\Мои документы\ТезисыСлайды\Человечки\13747.jpg"/>
          <p:cNvPicPr/>
          <p:nvPr/>
        </p:nvPicPr>
        <p:blipFill>
          <a:blip r:embed="rId4"/>
          <a:stretch/>
        </p:blipFill>
        <p:spPr>
          <a:xfrm>
            <a:off x="6804000" y="4221000"/>
            <a:ext cx="1873440" cy="2081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Documents and Settings\2315\Рабочий стол\Презентации Р.Е\Человечки\canstockphoto5290711-300x300.jpg"/>
          <p:cNvPicPr/>
          <p:nvPr/>
        </p:nvPicPr>
        <p:blipFill>
          <a:blip r:embed="rId5"/>
          <a:stretch/>
        </p:blipFill>
        <p:spPr>
          <a:xfrm>
            <a:off x="500040" y="435780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8840" y="213840"/>
            <a:ext cx="5759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Публикация отчетности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1F4E-C290-4261-8C7C-AB542F6B5353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7"/>
          <p:cNvSpPr/>
          <p:nvPr/>
        </p:nvSpPr>
        <p:spPr>
          <a:xfrm>
            <a:off x="357120" y="1500120"/>
            <a:ext cx="2357640" cy="3714840"/>
          </a:xfrm>
          <a:custGeom>
            <a:avLst/>
            <a:gdLst>
              <a:gd name="textAreaLeft" fmla="*/ 114840 w 2357640"/>
              <a:gd name="textAreaRight" fmla="*/ 2242800 w 2357640"/>
              <a:gd name="textAreaTop" fmla="*/ 114840 h 3714840"/>
              <a:gd name="textAreaBottom" fmla="*/ 3600000 h 3714840"/>
            </a:gdLst>
            <a:ahLst/>
            <a:rect l="textAreaLeft" t="textAreaTop" r="textAreaRight" b="textAreaBottom"/>
            <a:pathLst>
              <a:path w="21600" h="34032">
                <a:moveTo>
                  <a:pt x="3600" y="0"/>
                </a:moveTo>
                <a:arcTo wR="3600" hR="3600" stAng="16200000" swAng="-5400000"/>
                <a:lnTo>
                  <a:pt x="0" y="30432"/>
                </a:lnTo>
                <a:arcTo wR="3600" hR="3600" stAng="10800000" swAng="-5400000"/>
                <a:lnTo>
                  <a:pt x="18000" y="34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28760" y="1571760"/>
            <a:ext cx="242892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36 Бюджетного кодекса Российской Федер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е опубликование в средствах массовой информации утвержденных бюджетов и отчетов об их исполнении полноту представления информации о ходе исполнения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i?id=349418249-71-72&amp;n=21"/>
          <p:cNvPicPr/>
          <p:nvPr/>
        </p:nvPicPr>
        <p:blipFill>
          <a:blip r:embed="rId1"/>
          <a:stretch/>
        </p:blipFill>
        <p:spPr>
          <a:xfrm>
            <a:off x="500040" y="5472000"/>
            <a:ext cx="1571760" cy="104796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11" descr=""/>
          <p:cNvPicPr/>
          <p:nvPr/>
        </p:nvPicPr>
        <p:blipFill>
          <a:blip r:embed="rId2"/>
          <a:srcRect l="0" t="9700" r="5714" b="8504"/>
          <a:stretch/>
        </p:blipFill>
        <p:spPr>
          <a:xfrm>
            <a:off x="3286080" y="1500120"/>
            <a:ext cx="535788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6800" y="115920"/>
            <a:ext cx="7170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йтинг открытости и прозрачности бюджетного процесса стран мира за 2012 год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AC41-7CA9-4398-8391-6455ACEE03FF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одержимое 4" descr=""/>
          <p:cNvPicPr/>
          <p:nvPr/>
        </p:nvPicPr>
        <p:blipFill>
          <a:blip r:embed="rId1"/>
          <a:srcRect l="7668" t="19256" r="13488" b="6123"/>
          <a:stretch/>
        </p:blipFill>
        <p:spPr>
          <a:xfrm>
            <a:off x="1143000" y="1071720"/>
            <a:ext cx="7215120" cy="47401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428840" y="571500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012 год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- 10 место в рейтинге открытости и прозрачности бюджетного процесса стран мира по оценке Международного бюджетного 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:\Documents and Settings\2315\Рабочий стол\Презентации Р.Е\Человечки\Important-News-from-Orthos2.jpg"/>
          <p:cNvPicPr/>
          <p:nvPr/>
        </p:nvPicPr>
        <p:blipFill>
          <a:blip r:embed="rId2"/>
          <a:stretch/>
        </p:blipFill>
        <p:spPr>
          <a:xfrm>
            <a:off x="0" y="5357880"/>
            <a:ext cx="1219320" cy="10825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3"/>
          <p:cNvSpPr/>
          <p:nvPr/>
        </p:nvSpPr>
        <p:spPr>
          <a:xfrm>
            <a:off x="7162920" y="66452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04E2-4A8A-4A36-A736-90BA7555D2DC}" type="slidenum">
              <a:rPr b="1" lang="ru-RU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Antonec</cp:lastModifiedBy>
  <dcterms:modified xsi:type="dcterms:W3CDTF">2013-09-03T06:31:07Z</dcterms:modified>
  <cp:revision>1031</cp:revision>
  <dc:subject/>
  <dc:title>Слайд 1</dc:title>
</cp:coreProperties>
</file>