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20.jpeg" ContentType="image/jpeg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jpeg" ContentType="image/jpeg"/>
  <Override PartName="/ppt/media/image13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E985-5BA3-4A77-B99F-2BD0AE75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427-3717-45F2-86CC-770FF410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BC69-8A3F-423B-BE64-9FA95C29B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AEB1-F806-4405-981A-F76DC64E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5467-3B43-4368-9C63-F2A72621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DB08-F061-4A5E-83FA-A18EBA28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16F8-D98F-4D51-B929-67D3E557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2033-668D-467B-919E-7D91E550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3E4A-E145-464C-A30D-27E36A1D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6421-8BEF-4702-977B-F3D10185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AFC4-2A1E-4145-8105-9955820B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4F82-403B-4CC2-9B66-BB09A137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224E-D34C-48B1-B467-C485E0E70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539640" y="2852640"/>
            <a:ext cx="813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00080" y="1714680"/>
            <a:ext cx="7286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О практике применения нормативных правовых актов Минфина России по бюджетному учету и отчетности в органах Федерального казначейства, финансовых органах субъектов Российской Фед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211640" y="5445000"/>
            <a:ext cx="47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Начальник Управления бюджетного учета и отчетности Федерального казначейства А.В. Дубов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ри кассовом обслуживании государственных внебюджетных фондов и их территориальн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08680" y="1341360"/>
            <a:ext cx="66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ормирование бюджетной отчетности по кассов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служиванию исполнения бюджетов государ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небюджетных фондов (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в части ПФР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79280" y="4351320"/>
            <a:ext cx="792360" cy="1063080"/>
            <a:chOff x="179280" y="4351320"/>
            <a:chExt cx="792360" cy="10630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179280" y="4351320"/>
              <a:ext cx="767520" cy="7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79280" y="5107320"/>
              <a:ext cx="7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730680" y="2771640"/>
            <a:ext cx="1795320" cy="1189800"/>
            <a:chOff x="3730680" y="2771640"/>
            <a:chExt cx="1795320" cy="1189800"/>
          </a:xfrm>
        </p:grpSpPr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4179240" y="2771640"/>
              <a:ext cx="8690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730680" y="3441240"/>
              <a:ext cx="179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ерриториальный орган ПФ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692360" y="4351320"/>
            <a:ext cx="16761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. 05031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ф. 0503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endCxn id="117" idx="1"/>
          </p:cNvCxnSpPr>
          <p:nvPr/>
        </p:nvCxnSpPr>
        <p:spPr>
          <a:xfrm>
            <a:off x="899640" y="4704840"/>
            <a:ext cx="793080" cy="229320"/>
          </a:xfrm>
          <a:prstGeom prst="bentConnector3">
            <a:avLst>
              <a:gd name="adj1" fmla="val 4986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 flipH="1" flipV="1" rot="5400000">
            <a:off x="2728800" y="2953800"/>
            <a:ext cx="1152720" cy="16423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0" name=""/>
          <p:cNvGrpSpPr/>
          <p:nvPr/>
        </p:nvGrpSpPr>
        <p:grpSpPr>
          <a:xfrm>
            <a:off x="3635280" y="4278240"/>
            <a:ext cx="1871640" cy="853920"/>
            <a:chOff x="3635280" y="4278240"/>
            <a:chExt cx="1871640" cy="853920"/>
          </a:xfrm>
        </p:grpSpPr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190040" y="4278240"/>
              <a:ext cx="80532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635280" y="482508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У 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17" idx="3"/>
            <a:endCxn id="121" idx="1"/>
          </p:cNvCxnSpPr>
          <p:nvPr/>
        </p:nvCxnSpPr>
        <p:spPr>
          <a:xfrm flipV="1">
            <a:off x="3368520" y="4639680"/>
            <a:ext cx="821520" cy="294120"/>
          </a:xfrm>
          <a:prstGeom prst="bentConnector3">
            <a:avLst>
              <a:gd name="adj1" fmla="val 4989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4" name=""/>
          <p:cNvGrpSpPr/>
          <p:nvPr/>
        </p:nvGrpSpPr>
        <p:grpSpPr>
          <a:xfrm>
            <a:off x="7524720" y="4278240"/>
            <a:ext cx="1655640" cy="853920"/>
            <a:chOff x="7524720" y="4278240"/>
            <a:chExt cx="1655640" cy="853920"/>
          </a:xfrm>
        </p:grpSpPr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8015400" y="4278240"/>
              <a:ext cx="7124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524720" y="482508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Ф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703840" y="4351320"/>
            <a:ext cx="167652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водный Отч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. 05031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водный Отчет ф. 0503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/>
          <p:nvPr/>
        </p:nvCxnSpPr>
        <p:spPr>
          <a:xfrm>
            <a:off x="5003280" y="4638600"/>
            <a:ext cx="708840" cy="2944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7" idx="3"/>
            <a:endCxn id="125" idx="1"/>
          </p:cNvCxnSpPr>
          <p:nvPr/>
        </p:nvCxnSpPr>
        <p:spPr>
          <a:xfrm flipV="1">
            <a:off x="7380360" y="4639680"/>
            <a:ext cx="635760" cy="294120"/>
          </a:xfrm>
          <a:prstGeom prst="bentConnector3">
            <a:avLst>
              <a:gd name="adj1" fmla="val 4997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ри кассовом обслуживании государственных внебюджетных фондов и их территориальн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8680" y="1341360"/>
            <a:ext cx="66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ормирование бюджетной отчетности по кассов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служиванию исполнения бюджетов государ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небюджетных фондов (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в части ФСС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79280" y="4351320"/>
            <a:ext cx="792360" cy="1063080"/>
            <a:chOff x="179280" y="4351320"/>
            <a:chExt cx="792360" cy="106308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179280" y="4351320"/>
              <a:ext cx="767520" cy="7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79280" y="5107320"/>
              <a:ext cx="7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730680" y="2771640"/>
            <a:ext cx="1795320" cy="1189800"/>
            <a:chOff x="3730680" y="2771640"/>
            <a:chExt cx="1795320" cy="1189800"/>
          </a:xfrm>
        </p:grpSpPr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4179240" y="2771640"/>
              <a:ext cx="8690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730680" y="3441240"/>
              <a:ext cx="179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гиональное отделение ФС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692360" y="4351320"/>
            <a:ext cx="16761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. 05031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ф. 0503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endCxn id="139" idx="1"/>
          </p:cNvCxnSpPr>
          <p:nvPr/>
        </p:nvCxnSpPr>
        <p:spPr>
          <a:xfrm>
            <a:off x="899640" y="4704840"/>
            <a:ext cx="793080" cy="229320"/>
          </a:xfrm>
          <a:prstGeom prst="bentConnector3">
            <a:avLst>
              <a:gd name="adj1" fmla="val 4986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/>
          <p:nvPr/>
        </p:nvCxnSpPr>
        <p:spPr>
          <a:xfrm flipH="1" flipV="1" rot="5400000">
            <a:off x="2728800" y="2953800"/>
            <a:ext cx="1152720" cy="16423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2" name=""/>
          <p:cNvGrpSpPr/>
          <p:nvPr/>
        </p:nvGrpSpPr>
        <p:grpSpPr>
          <a:xfrm>
            <a:off x="3635280" y="4278240"/>
            <a:ext cx="1871640" cy="853920"/>
            <a:chOff x="3635280" y="4278240"/>
            <a:chExt cx="1871640" cy="853920"/>
          </a:xfrm>
        </p:grpSpPr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4190040" y="4278240"/>
              <a:ext cx="80532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3635280" y="482508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У 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5" name=""/>
          <p:cNvCxnSpPr>
            <a:stCxn id="139" idx="3"/>
            <a:endCxn id="143" idx="1"/>
          </p:cNvCxnSpPr>
          <p:nvPr/>
        </p:nvCxnSpPr>
        <p:spPr>
          <a:xfrm flipV="1">
            <a:off x="3368520" y="4639680"/>
            <a:ext cx="821520" cy="294120"/>
          </a:xfrm>
          <a:prstGeom prst="bentConnector3">
            <a:avLst>
              <a:gd name="adj1" fmla="val 4989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6" name=""/>
          <p:cNvGrpSpPr/>
          <p:nvPr/>
        </p:nvGrpSpPr>
        <p:grpSpPr>
          <a:xfrm>
            <a:off x="7524720" y="4278240"/>
            <a:ext cx="1655640" cy="853920"/>
            <a:chOff x="7524720" y="4278240"/>
            <a:chExt cx="1655640" cy="85392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8015400" y="4278240"/>
              <a:ext cx="7124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524720" y="482508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С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5703840" y="4351320"/>
            <a:ext cx="167652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водный Отч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. 05031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водный Отчет ф. 0503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/>
          <p:nvPr/>
        </p:nvCxnSpPr>
        <p:spPr>
          <a:xfrm>
            <a:off x="5003280" y="4638600"/>
            <a:ext cx="708840" cy="2944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9" idx="3"/>
            <a:endCxn id="147" idx="1"/>
          </p:cNvCxnSpPr>
          <p:nvPr/>
        </p:nvCxnSpPr>
        <p:spPr>
          <a:xfrm flipV="1">
            <a:off x="7380360" y="4639680"/>
            <a:ext cx="635760" cy="294120"/>
          </a:xfrm>
          <a:prstGeom prst="bentConnector3">
            <a:avLst>
              <a:gd name="adj1" fmla="val 4997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ри кассовом обслуживании государственных внебюджетных фондов и их территориальн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08680" y="1341360"/>
            <a:ext cx="66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ормирование бюджетной отчетности по кассов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служиванию исполнения бюджетов государ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небюджетных фондов (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в части ТФОМС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60960" y="4797360"/>
            <a:ext cx="806400" cy="722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506920" y="564984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инансовый орган субъекта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050920" y="3789360"/>
            <a:ext cx="792360" cy="1063080"/>
            <a:chOff x="2050920" y="3789360"/>
            <a:chExt cx="792360" cy="106308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2050920" y="3789360"/>
              <a:ext cx="767520" cy="7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050920" y="4545360"/>
              <a:ext cx="7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602320" y="2209680"/>
            <a:ext cx="1795320" cy="977040"/>
            <a:chOff x="5602320" y="2209680"/>
            <a:chExt cx="1795320" cy="977040"/>
          </a:xfrm>
        </p:grpSpPr>
        <p:pic>
          <p:nvPicPr>
            <p:cNvPr id="161" name="" descr=""/>
            <p:cNvPicPr/>
            <p:nvPr/>
          </p:nvPicPr>
          <p:blipFill>
            <a:blip r:embed="rId3"/>
            <a:stretch/>
          </p:blipFill>
          <p:spPr>
            <a:xfrm>
              <a:off x="6050880" y="2209680"/>
              <a:ext cx="869040" cy="7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602320" y="2879640"/>
              <a:ext cx="179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ФОМ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564000" y="3789360"/>
            <a:ext cx="16761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. 05031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ф. 0503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endCxn id="163" idx="1"/>
          </p:cNvCxnSpPr>
          <p:nvPr/>
        </p:nvCxnSpPr>
        <p:spPr>
          <a:xfrm>
            <a:off x="2771280" y="4142880"/>
            <a:ext cx="793080" cy="229320"/>
          </a:xfrm>
          <a:prstGeom prst="bentConnector3">
            <a:avLst>
              <a:gd name="adj1" fmla="val 4986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H="1" flipV="1" rot="5400000">
            <a:off x="4600440" y="2391840"/>
            <a:ext cx="1152720" cy="16423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/>
          <p:nvPr/>
        </p:nvCxnSpPr>
        <p:spPr>
          <a:xfrm flipH="1" rot="16200000">
            <a:off x="4397760" y="4903560"/>
            <a:ext cx="948240" cy="10339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1116000" y="5300640"/>
            <a:ext cx="2662200" cy="792360"/>
          </a:xfrm>
          <a:prstGeom prst="wedgeRoundRectCallout">
            <a:avLst>
              <a:gd name="adj1" fmla="val 71824"/>
              <a:gd name="adj2" fmla="val -75449"/>
              <a:gd name="adj3" fmla="val 16667"/>
            </a:avLst>
          </a:prstGeom>
          <a:solidFill>
            <a:srgbClr val="3366ff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В части ф. 0503151, представление осуществляется с учетом изменений вносимых в порядок представления в финансовый орган Отчета ф. 05031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ри кассовом обслуживании государственных внебюджетных фондов и их территориальн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08680" y="1341360"/>
            <a:ext cx="66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ормирование бюджетной отчетности по кассов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служиванию исполнения бюджетов государ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небюджетных фондов (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в части ТФОМС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24000" y="5229360"/>
            <a:ext cx="792000" cy="1062720"/>
            <a:chOff x="324000" y="5229360"/>
            <a:chExt cx="792000" cy="106272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324000" y="5229360"/>
              <a:ext cx="76716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324000" y="59850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979640" y="4797360"/>
            <a:ext cx="1676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. 05031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72" idx="3"/>
            <a:endCxn id="174" idx="1"/>
          </p:cNvCxnSpPr>
          <p:nvPr/>
        </p:nvCxnSpPr>
        <p:spPr>
          <a:xfrm flipV="1">
            <a:off x="1090440" y="5060520"/>
            <a:ext cx="889920" cy="542160"/>
          </a:xfrm>
          <a:prstGeom prst="bentConnector3">
            <a:avLst>
              <a:gd name="adj1" fmla="val 4981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76" name=""/>
          <p:cNvGrpSpPr/>
          <p:nvPr/>
        </p:nvGrpSpPr>
        <p:grpSpPr>
          <a:xfrm>
            <a:off x="3635280" y="3429000"/>
            <a:ext cx="1871640" cy="853920"/>
            <a:chOff x="3635280" y="3429000"/>
            <a:chExt cx="1871640" cy="85392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4190040" y="3429000"/>
              <a:ext cx="80532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635280" y="397584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У 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9" name=""/>
          <p:cNvCxnSpPr>
            <a:stCxn id="174" idx="3"/>
            <a:endCxn id="177" idx="1"/>
          </p:cNvCxnSpPr>
          <p:nvPr/>
        </p:nvCxnSpPr>
        <p:spPr>
          <a:xfrm flipV="1">
            <a:off x="3655800" y="3790440"/>
            <a:ext cx="533880" cy="12708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80" name=""/>
          <p:cNvGrpSpPr/>
          <p:nvPr/>
        </p:nvGrpSpPr>
        <p:grpSpPr>
          <a:xfrm>
            <a:off x="7093080" y="2133720"/>
            <a:ext cx="1655640" cy="853920"/>
            <a:chOff x="7093080" y="2133720"/>
            <a:chExt cx="1655640" cy="853920"/>
          </a:xfrm>
        </p:grpSpPr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7583760" y="2133720"/>
              <a:ext cx="7124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7093080" y="268056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ОМ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5703840" y="3502080"/>
            <a:ext cx="16765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Информация из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Отчетов ф. 05031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/>
          <p:nvPr/>
        </p:nvCxnSpPr>
        <p:spPr>
          <a:xfrm>
            <a:off x="5003280" y="3789360"/>
            <a:ext cx="708840" cy="2944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83" idx="0"/>
            <a:endCxn id="181" idx="1"/>
          </p:cNvCxnSpPr>
          <p:nvPr/>
        </p:nvCxnSpPr>
        <p:spPr>
          <a:xfrm flipH="1" flipV="1" rot="5400000">
            <a:off x="6558840" y="2477520"/>
            <a:ext cx="1007280" cy="10422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ри кассовом обслуживании государственных внебюджетных фондов и их территориальн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8680" y="1341360"/>
            <a:ext cx="66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ормирование бюджетной отчетности по кассов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служиванию исполнения бюджетов государ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небюджетных фондов (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в части ФОМС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84360" y="3213000"/>
            <a:ext cx="1871640" cy="853920"/>
            <a:chOff x="684360" y="3213000"/>
            <a:chExt cx="1871640" cy="85392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1239120" y="3213000"/>
              <a:ext cx="80532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84360" y="375984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У 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6804000" y="3141720"/>
            <a:ext cx="1655640" cy="853920"/>
            <a:chOff x="6804000" y="3141720"/>
            <a:chExt cx="1655640" cy="85392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7294680" y="3141720"/>
              <a:ext cx="7124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6804000" y="368856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ОМ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780000" y="3284640"/>
            <a:ext cx="16761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. 05031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 ф. 0503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0" idx="3"/>
          </p:cNvCxnSpPr>
          <p:nvPr/>
        </p:nvCxnSpPr>
        <p:spPr>
          <a:xfrm>
            <a:off x="2044800" y="3574800"/>
            <a:ext cx="1722960" cy="292680"/>
          </a:xfrm>
          <a:prstGeom prst="bentConnector3">
            <a:avLst>
              <a:gd name="adj1" fmla="val 4994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5" idx="3"/>
            <a:endCxn id="193" idx="1"/>
          </p:cNvCxnSpPr>
          <p:nvPr/>
        </p:nvCxnSpPr>
        <p:spPr>
          <a:xfrm flipV="1">
            <a:off x="5455800" y="3503160"/>
            <a:ext cx="1839240" cy="3643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ри кассовом обслуживании государственных внебюджетных фондов и их территориальн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11560" y="1341360"/>
            <a:ext cx="748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Сверка показателей отчетности по кассовому обслуживанию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кассовому исполнению бюджетов государ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небюджетных фонд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924360" y="2479680"/>
            <a:ext cx="1871640" cy="853920"/>
            <a:chOff x="3924360" y="2479680"/>
            <a:chExt cx="1871640" cy="85392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4479120" y="2479680"/>
              <a:ext cx="80532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924360" y="302652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У 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50920" y="5456160"/>
            <a:ext cx="1655640" cy="853920"/>
            <a:chOff x="250920" y="5456160"/>
            <a:chExt cx="1655640" cy="853920"/>
          </a:xfrm>
        </p:grpSpPr>
        <p:pic>
          <p:nvPicPr>
            <p:cNvPr id="205" name="" descr=""/>
            <p:cNvPicPr/>
            <p:nvPr/>
          </p:nvPicPr>
          <p:blipFill>
            <a:blip r:embed="rId2"/>
            <a:stretch/>
          </p:blipFill>
          <p:spPr>
            <a:xfrm>
              <a:off x="741600" y="5456160"/>
              <a:ext cx="7124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50920" y="600300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ОМ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050920" y="2335320"/>
            <a:ext cx="167652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. 05031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207" idx="3"/>
            <a:endCxn id="202" idx="1"/>
          </p:cNvCxnSpPr>
          <p:nvPr/>
        </p:nvCxnSpPr>
        <p:spPr>
          <a:xfrm>
            <a:off x="3727440" y="2660760"/>
            <a:ext cx="751680" cy="181440"/>
          </a:xfrm>
          <a:prstGeom prst="bentConnector3">
            <a:avLst>
              <a:gd name="adj1" fmla="val 4988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9" name=""/>
          <p:cNvGrpSpPr/>
          <p:nvPr/>
        </p:nvGrpSpPr>
        <p:grpSpPr>
          <a:xfrm>
            <a:off x="2698920" y="5383080"/>
            <a:ext cx="1655640" cy="853920"/>
            <a:chOff x="2698920" y="5383080"/>
            <a:chExt cx="1655640" cy="853920"/>
          </a:xfrm>
        </p:grpSpPr>
        <p:pic>
          <p:nvPicPr>
            <p:cNvPr id="210" name="" descr=""/>
            <p:cNvPicPr/>
            <p:nvPr/>
          </p:nvPicPr>
          <p:blipFill>
            <a:blip r:embed="rId3"/>
            <a:stretch/>
          </p:blipFill>
          <p:spPr>
            <a:xfrm>
              <a:off x="3189600" y="5383080"/>
              <a:ext cx="7124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2698920" y="592992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С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148360" y="5373720"/>
            <a:ext cx="1655640" cy="853920"/>
            <a:chOff x="5148360" y="5373720"/>
            <a:chExt cx="1655640" cy="853920"/>
          </a:xfrm>
        </p:grpSpPr>
        <p:pic>
          <p:nvPicPr>
            <p:cNvPr id="213" name="" descr=""/>
            <p:cNvPicPr/>
            <p:nvPr/>
          </p:nvPicPr>
          <p:blipFill>
            <a:blip r:embed="rId4"/>
            <a:stretch/>
          </p:blipFill>
          <p:spPr>
            <a:xfrm>
              <a:off x="5639040" y="5373720"/>
              <a:ext cx="7124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8360" y="592056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Ф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-36360" y="2624040"/>
            <a:ext cx="1871640" cy="853920"/>
            <a:chOff x="-36360" y="2624040"/>
            <a:chExt cx="1871640" cy="853920"/>
          </a:xfrm>
        </p:grpSpPr>
        <p:pic>
          <p:nvPicPr>
            <p:cNvPr id="216" name="" descr=""/>
            <p:cNvPicPr/>
            <p:nvPr/>
          </p:nvPicPr>
          <p:blipFill>
            <a:blip r:embed="rId5"/>
            <a:stretch/>
          </p:blipFill>
          <p:spPr>
            <a:xfrm>
              <a:off x="518400" y="2624040"/>
              <a:ext cx="80532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-36360" y="317088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8" name=""/>
          <p:cNvCxnSpPr/>
          <p:nvPr/>
        </p:nvCxnSpPr>
        <p:spPr>
          <a:xfrm flipV="1">
            <a:off x="1331640" y="2781000"/>
            <a:ext cx="727560" cy="2354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"/>
          <p:cNvGrpSpPr/>
          <p:nvPr/>
        </p:nvGrpSpPr>
        <p:grpSpPr>
          <a:xfrm>
            <a:off x="7380360" y="5383080"/>
            <a:ext cx="1655640" cy="853920"/>
            <a:chOff x="7380360" y="5383080"/>
            <a:chExt cx="1655640" cy="853920"/>
          </a:xfrm>
        </p:grpSpPr>
        <p:pic>
          <p:nvPicPr>
            <p:cNvPr id="220" name="" descr=""/>
            <p:cNvPicPr/>
            <p:nvPr/>
          </p:nvPicPr>
          <p:blipFill>
            <a:blip r:embed="rId6"/>
            <a:stretch/>
          </p:blipFill>
          <p:spPr>
            <a:xfrm>
              <a:off x="7871040" y="5383080"/>
              <a:ext cx="71244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7380360" y="592992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ФОМ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50920" y="4468680"/>
            <a:ext cx="16761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. 05031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9840" y="4468680"/>
            <a:ext cx="16761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. 05031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48360" y="4468680"/>
            <a:ext cx="16761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. 05031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359480" y="4468680"/>
            <a:ext cx="167652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. 0503317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55960" y="6330960"/>
            <a:ext cx="255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* - в части показателей ТФОМ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16720" y="2276640"/>
            <a:ext cx="1511280" cy="129672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Свер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22" idx="0"/>
            <a:endCxn id="203" idx="2"/>
          </p:cNvCxnSpPr>
          <p:nvPr/>
        </p:nvCxnSpPr>
        <p:spPr>
          <a:xfrm flipH="1" flipV="1" rot="5400000">
            <a:off x="2406600" y="2013840"/>
            <a:ext cx="1137240" cy="37728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5" idx="0"/>
            <a:endCxn id="203" idx="2"/>
          </p:cNvCxnSpPr>
          <p:nvPr/>
        </p:nvCxnSpPr>
        <p:spPr>
          <a:xfrm flipV="1" rot="16200000">
            <a:off x="5960520" y="2231280"/>
            <a:ext cx="1137240" cy="33375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3" idx="0"/>
            <a:endCxn id="203" idx="2"/>
          </p:cNvCxnSpPr>
          <p:nvPr/>
        </p:nvCxnSpPr>
        <p:spPr>
          <a:xfrm flipH="1" flipV="1" rot="5400000">
            <a:off x="3620880" y="3228120"/>
            <a:ext cx="1137240" cy="13438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4" idx="0"/>
            <a:endCxn id="203" idx="2"/>
          </p:cNvCxnSpPr>
          <p:nvPr/>
        </p:nvCxnSpPr>
        <p:spPr>
          <a:xfrm flipV="1" rot="16200000">
            <a:off x="4854960" y="3336840"/>
            <a:ext cx="1137240" cy="11260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02" idx="3"/>
            <a:endCxn id="227" idx="1"/>
          </p:cNvCxnSpPr>
          <p:nvPr/>
        </p:nvCxnSpPr>
        <p:spPr>
          <a:xfrm>
            <a:off x="5284800" y="2841480"/>
            <a:ext cx="1232280" cy="2088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четность при кассовом обслуживании бюджетов бюджетной системы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07240" y="1052640"/>
            <a:ext cx="713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зменение в порядке представления в финансовые орга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Консолидированного отчета о кассо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оступлениях и выбытиях (ф. 0503152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796000" y="2565360"/>
            <a:ext cx="1871640" cy="1278720"/>
            <a:chOff x="5796000" y="2565360"/>
            <a:chExt cx="1871640" cy="1278720"/>
          </a:xfrm>
        </p:grpSpPr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6350760" y="2565360"/>
              <a:ext cx="80532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5796000" y="3110760"/>
              <a:ext cx="1871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муниципального райо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3635280" y="2205000"/>
            <a:ext cx="167652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. 05031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по муниципальному район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9" idx="3"/>
            <a:endCxn id="237" idx="1"/>
          </p:cNvCxnSpPr>
          <p:nvPr/>
        </p:nvCxnSpPr>
        <p:spPr>
          <a:xfrm>
            <a:off x="5311800" y="2712960"/>
            <a:ext cx="1038600" cy="2152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826920" y="2708280"/>
            <a:ext cx="1872000" cy="853920"/>
            <a:chOff x="826920" y="2708280"/>
            <a:chExt cx="1872000" cy="853920"/>
          </a:xfrm>
        </p:grpSpPr>
        <p:pic>
          <p:nvPicPr>
            <p:cNvPr id="242" name="" descr=""/>
            <p:cNvPicPr/>
            <p:nvPr/>
          </p:nvPicPr>
          <p:blipFill>
            <a:blip r:embed="rId2"/>
            <a:stretch/>
          </p:blipFill>
          <p:spPr>
            <a:xfrm>
              <a:off x="1381680" y="2708280"/>
              <a:ext cx="80568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826920" y="3255120"/>
              <a:ext cx="18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44" name=""/>
          <p:cNvCxnSpPr>
            <a:endCxn id="239" idx="1"/>
          </p:cNvCxnSpPr>
          <p:nvPr/>
        </p:nvCxnSpPr>
        <p:spPr>
          <a:xfrm flipV="1">
            <a:off x="2195280" y="2712600"/>
            <a:ext cx="1440360" cy="357840"/>
          </a:xfrm>
          <a:prstGeom prst="bentConnector3">
            <a:avLst>
              <a:gd name="adj1" fmla="val 4992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2484360" y="3716280"/>
            <a:ext cx="239724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че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. 05031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по бюджетам, входящим в состав консолидированного бюджета райо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"/>
          <p:cNvCxnSpPr>
            <a:endCxn id="245" idx="1"/>
          </p:cNvCxnSpPr>
          <p:nvPr/>
        </p:nvCxnSpPr>
        <p:spPr>
          <a:xfrm>
            <a:off x="1763640" y="3573360"/>
            <a:ext cx="721440" cy="651600"/>
          </a:xfrm>
          <a:prstGeom prst="bentConnector3">
            <a:avLst>
              <a:gd name="adj1" fmla="val 4997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7" name=""/>
          <p:cNvGrpSpPr/>
          <p:nvPr/>
        </p:nvGrpSpPr>
        <p:grpSpPr>
          <a:xfrm>
            <a:off x="1116000" y="5445000"/>
            <a:ext cx="1871640" cy="1066680"/>
            <a:chOff x="1116000" y="5445000"/>
            <a:chExt cx="1871640" cy="1066680"/>
          </a:xfrm>
        </p:grpSpPr>
        <p:pic>
          <p:nvPicPr>
            <p:cNvPr id="248" name="" descr=""/>
            <p:cNvPicPr/>
            <p:nvPr/>
          </p:nvPicPr>
          <p:blipFill>
            <a:blip r:embed="rId3"/>
            <a:stretch/>
          </p:blipFill>
          <p:spPr>
            <a:xfrm>
              <a:off x="1670760" y="5445000"/>
              <a:ext cx="805320" cy="7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1116000" y="599148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бюджета …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08360" y="5445000"/>
            <a:ext cx="1871640" cy="1066680"/>
            <a:chOff x="3708360" y="5445000"/>
            <a:chExt cx="1871640" cy="1066680"/>
          </a:xfrm>
        </p:grpSpPr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4263120" y="5445000"/>
              <a:ext cx="805320" cy="7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3708360" y="599148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бюджета …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516720" y="5445000"/>
            <a:ext cx="1871640" cy="1066680"/>
            <a:chOff x="6516720" y="5445000"/>
            <a:chExt cx="1871640" cy="1066680"/>
          </a:xfrm>
        </p:grpSpPr>
        <p:pic>
          <p:nvPicPr>
            <p:cNvPr id="254" name="" descr=""/>
            <p:cNvPicPr/>
            <p:nvPr/>
          </p:nvPicPr>
          <p:blipFill>
            <a:blip r:embed="rId5"/>
            <a:stretch/>
          </p:blipFill>
          <p:spPr>
            <a:xfrm>
              <a:off x="7071480" y="5445000"/>
              <a:ext cx="805320" cy="7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6516720" y="599148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бюджета …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6" name=""/>
          <p:cNvCxnSpPr>
            <a:stCxn id="245" idx="2"/>
            <a:endCxn id="248" idx="3"/>
          </p:cNvCxnSpPr>
          <p:nvPr/>
        </p:nvCxnSpPr>
        <p:spPr>
          <a:xfrm rot="5400000">
            <a:off x="2542320" y="4664520"/>
            <a:ext cx="1075320" cy="1207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stCxn id="245" idx="2"/>
            <a:endCxn id="251" idx="0"/>
          </p:cNvCxnSpPr>
          <p:nvPr/>
        </p:nvCxnSpPr>
        <p:spPr>
          <a:xfrm flipH="1" rot="16200000">
            <a:off x="3816360" y="4596480"/>
            <a:ext cx="714960" cy="983160"/>
          </a:xfrm>
          <a:prstGeom prst="bentConnector3">
            <a:avLst>
              <a:gd name="adj1" fmla="val 4977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245" idx="2"/>
            <a:endCxn id="254" idx="0"/>
          </p:cNvCxnSpPr>
          <p:nvPr/>
        </p:nvCxnSpPr>
        <p:spPr>
          <a:xfrm flipH="1" rot="16200000">
            <a:off x="5221440" y="3192120"/>
            <a:ext cx="714960" cy="3791520"/>
          </a:xfrm>
          <a:prstGeom prst="bentConnector3">
            <a:avLst>
              <a:gd name="adj1" fmla="val 4977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stCxn id="245" idx="3"/>
            <a:endCxn id="238" idx="2"/>
          </p:cNvCxnSpPr>
          <p:nvPr/>
        </p:nvCxnSpPr>
        <p:spPr>
          <a:xfrm flipV="1">
            <a:off x="4881600" y="3841560"/>
            <a:ext cx="1851840" cy="3830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четность при кассовом обслуживании бюджетов бюджетной системы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07240" y="1052640"/>
            <a:ext cx="713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зменение в порядке представления в финансовые орга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Консолидированного отчета о кассо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оступлениях и выбытиях (ф. 0503152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796000" y="2565360"/>
            <a:ext cx="1871640" cy="1066680"/>
            <a:chOff x="5796000" y="2565360"/>
            <a:chExt cx="1871640" cy="106668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6350760" y="2565360"/>
              <a:ext cx="805320" cy="7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5796000" y="311184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субъекта Р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635280" y="2021040"/>
            <a:ext cx="16765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. 05031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по субъекту РФ и ТФОМ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66" idx="3"/>
            <a:endCxn id="264" idx="1"/>
          </p:cNvCxnSpPr>
          <p:nvPr/>
        </p:nvCxnSpPr>
        <p:spPr>
          <a:xfrm>
            <a:off x="5311800" y="2436840"/>
            <a:ext cx="1038600" cy="4896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68" name=""/>
          <p:cNvGrpSpPr/>
          <p:nvPr/>
        </p:nvGrpSpPr>
        <p:grpSpPr>
          <a:xfrm>
            <a:off x="826920" y="2708280"/>
            <a:ext cx="1872000" cy="853920"/>
            <a:chOff x="826920" y="2708280"/>
            <a:chExt cx="1872000" cy="853920"/>
          </a:xfrm>
        </p:grpSpPr>
        <p:pic>
          <p:nvPicPr>
            <p:cNvPr id="269" name="" descr=""/>
            <p:cNvPicPr/>
            <p:nvPr/>
          </p:nvPicPr>
          <p:blipFill>
            <a:blip r:embed="rId2"/>
            <a:stretch/>
          </p:blipFill>
          <p:spPr>
            <a:xfrm>
              <a:off x="1381680" y="2708280"/>
              <a:ext cx="80568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826920" y="3255120"/>
              <a:ext cx="18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endCxn id="266" idx="1"/>
          </p:cNvCxnSpPr>
          <p:nvPr/>
        </p:nvCxnSpPr>
        <p:spPr>
          <a:xfrm flipV="1">
            <a:off x="2195280" y="2436480"/>
            <a:ext cx="1440360" cy="450000"/>
          </a:xfrm>
          <a:prstGeom prst="bentConnector3">
            <a:avLst>
              <a:gd name="adj1" fmla="val 4992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2484360" y="3068640"/>
            <a:ext cx="2397240" cy="19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Отче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ф. 05031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по бюджетам, входящим в состав консолидированного бюджета субъекта)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Отчеты ф. 050315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(по бюджетам муниципальных районов, входящим в состав консолидированного бюджета субъекта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"/>
          <p:cNvCxnSpPr/>
          <p:nvPr/>
        </p:nvCxnSpPr>
        <p:spPr>
          <a:xfrm flipH="1" rot="16200000">
            <a:off x="1682640" y="3654000"/>
            <a:ext cx="882000" cy="7200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74" name=""/>
          <p:cNvGrpSpPr/>
          <p:nvPr/>
        </p:nvGrpSpPr>
        <p:grpSpPr>
          <a:xfrm>
            <a:off x="1116000" y="5445000"/>
            <a:ext cx="1871640" cy="1066680"/>
            <a:chOff x="1116000" y="5445000"/>
            <a:chExt cx="1871640" cy="1066680"/>
          </a:xfrm>
        </p:grpSpPr>
        <p:pic>
          <p:nvPicPr>
            <p:cNvPr id="275" name="" descr=""/>
            <p:cNvPicPr/>
            <p:nvPr/>
          </p:nvPicPr>
          <p:blipFill>
            <a:blip r:embed="rId3"/>
            <a:stretch/>
          </p:blipFill>
          <p:spPr>
            <a:xfrm>
              <a:off x="1670760" y="5445000"/>
              <a:ext cx="805320" cy="7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116000" y="599148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бюджета …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708360" y="5445000"/>
            <a:ext cx="1871640" cy="1066680"/>
            <a:chOff x="3708360" y="5445000"/>
            <a:chExt cx="1871640" cy="1066680"/>
          </a:xfrm>
        </p:grpSpPr>
        <p:pic>
          <p:nvPicPr>
            <p:cNvPr id="278" name="" descr=""/>
            <p:cNvPicPr/>
            <p:nvPr/>
          </p:nvPicPr>
          <p:blipFill>
            <a:blip r:embed="rId4"/>
            <a:stretch/>
          </p:blipFill>
          <p:spPr>
            <a:xfrm>
              <a:off x="4263120" y="5445000"/>
              <a:ext cx="805320" cy="7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3708360" y="599148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бюджета …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516720" y="5445000"/>
            <a:ext cx="1871640" cy="1066680"/>
            <a:chOff x="6516720" y="5445000"/>
            <a:chExt cx="1871640" cy="1066680"/>
          </a:xfrm>
        </p:grpSpPr>
        <p:pic>
          <p:nvPicPr>
            <p:cNvPr id="281" name="" descr=""/>
            <p:cNvPicPr/>
            <p:nvPr/>
          </p:nvPicPr>
          <p:blipFill>
            <a:blip r:embed="rId5"/>
            <a:stretch/>
          </p:blipFill>
          <p:spPr>
            <a:xfrm>
              <a:off x="7071480" y="5445000"/>
              <a:ext cx="805320" cy="7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6516720" y="599148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инансовый орган бюджета …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3" name=""/>
          <p:cNvCxnSpPr>
            <a:stCxn id="272" idx="2"/>
            <a:endCxn id="275" idx="3"/>
          </p:cNvCxnSpPr>
          <p:nvPr/>
        </p:nvCxnSpPr>
        <p:spPr>
          <a:xfrm rot="5400000">
            <a:off x="2674800" y="4797000"/>
            <a:ext cx="810360" cy="1207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2" idx="2"/>
            <a:endCxn id="278" idx="0"/>
          </p:cNvCxnSpPr>
          <p:nvPr/>
        </p:nvCxnSpPr>
        <p:spPr>
          <a:xfrm flipH="1" rot="16200000">
            <a:off x="3948840" y="4728960"/>
            <a:ext cx="450000" cy="983160"/>
          </a:xfrm>
          <a:prstGeom prst="bentConnector3">
            <a:avLst>
              <a:gd name="adj1" fmla="val 4979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2" idx="2"/>
            <a:endCxn id="281" idx="0"/>
          </p:cNvCxnSpPr>
          <p:nvPr/>
        </p:nvCxnSpPr>
        <p:spPr>
          <a:xfrm flipH="1" rot="16200000">
            <a:off x="5353920" y="3324600"/>
            <a:ext cx="450000" cy="3791520"/>
          </a:xfrm>
          <a:prstGeom prst="bentConnector3">
            <a:avLst>
              <a:gd name="adj1" fmla="val 4979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2" idx="3"/>
            <a:endCxn id="265" idx="2"/>
          </p:cNvCxnSpPr>
          <p:nvPr/>
        </p:nvCxnSpPr>
        <p:spPr>
          <a:xfrm flipV="1">
            <a:off x="4881600" y="3628800"/>
            <a:ext cx="1851840" cy="4039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собенности учета операций бюджетных и автономных учрежд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31760" y="1268280"/>
            <a:ext cx="743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остав операций бюджетных и автоном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627280" y="1828800"/>
            <a:ext cx="1871640" cy="1065960"/>
            <a:chOff x="2627280" y="1828800"/>
            <a:chExt cx="1871640" cy="1065960"/>
          </a:xfrm>
        </p:grpSpPr>
        <p:pic>
          <p:nvPicPr>
            <p:cNvPr id="290" name="" descr=""/>
            <p:cNvPicPr/>
            <p:nvPr/>
          </p:nvPicPr>
          <p:blipFill>
            <a:blip r:embed="rId1"/>
            <a:stretch/>
          </p:blipFill>
          <p:spPr>
            <a:xfrm>
              <a:off x="3182040" y="1828800"/>
              <a:ext cx="805320" cy="7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627280" y="237456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юджетное учреж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2" name=""/>
          <p:cNvGraphicFramePr/>
          <p:nvPr/>
        </p:nvGraphicFramePr>
        <p:xfrm>
          <a:off x="539640" y="4508640"/>
          <a:ext cx="2162160" cy="1460520"/>
        </p:xfrm>
        <a:graphic>
          <a:graphicData uri="http://schemas.openxmlformats.org/drawingml/2006/table">
            <a:tbl>
              <a:tblPr/>
              <a:tblGrid>
                <a:gridCol w="1081080"/>
                <a:gridCol w="108108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93" name=""/>
          <p:cNvGrpSpPr/>
          <p:nvPr/>
        </p:nvGrpSpPr>
        <p:grpSpPr>
          <a:xfrm>
            <a:off x="4786200" y="1773360"/>
            <a:ext cx="1871640" cy="1065600"/>
            <a:chOff x="4786200" y="1773360"/>
            <a:chExt cx="1871640" cy="1065600"/>
          </a:xfrm>
        </p:grpSpPr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5340960" y="1773360"/>
              <a:ext cx="805320" cy="72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4786200" y="231876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Автономное учреж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2905200" y="3429000"/>
            <a:ext cx="3463560" cy="4078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 деятельности (2,3,4,5,6,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2340000" y="5703840"/>
            <a:ext cx="64764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3564000" y="4508640"/>
          <a:ext cx="2162160" cy="1460520"/>
        </p:xfrm>
        <a:graphic>
          <a:graphicData uri="http://schemas.openxmlformats.org/drawingml/2006/table">
            <a:tbl>
              <a:tblPr/>
              <a:tblGrid>
                <a:gridCol w="1081080"/>
                <a:gridCol w="108108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5364000" y="5703840"/>
            <a:ext cx="64800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0" name=""/>
          <p:cNvGraphicFramePr/>
          <p:nvPr/>
        </p:nvGraphicFramePr>
        <p:xfrm>
          <a:off x="6516720" y="4508640"/>
          <a:ext cx="2162160" cy="1460520"/>
        </p:xfrm>
        <a:graphic>
          <a:graphicData uri="http://schemas.openxmlformats.org/drawingml/2006/table">
            <a:tbl>
              <a:tblPr/>
              <a:tblGrid>
                <a:gridCol w="1081080"/>
                <a:gridCol w="108108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Источ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1" name="" descr=""/>
          <p:cNvPicPr/>
          <p:nvPr/>
        </p:nvPicPr>
        <p:blipFill>
          <a:blip r:embed="rId5"/>
          <a:stretch/>
        </p:blipFill>
        <p:spPr>
          <a:xfrm>
            <a:off x="8317080" y="5703840"/>
            <a:ext cx="647640" cy="604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356000" y="2924280"/>
            <a:ext cx="486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356000" y="3933720"/>
            <a:ext cx="48600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3190800">
            <a:off x="2204280" y="3779640"/>
            <a:ext cx="486000" cy="647640"/>
          </a:xfrm>
          <a:prstGeom prst="downArrow">
            <a:avLst>
              <a:gd name="adj1" fmla="val 50000"/>
              <a:gd name="adj2" fmla="val 33315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8291000">
            <a:off x="6669000" y="3725280"/>
            <a:ext cx="485640" cy="648000"/>
          </a:xfrm>
          <a:prstGeom prst="downArrow">
            <a:avLst>
              <a:gd name="adj1" fmla="val 50000"/>
              <a:gd name="adj2" fmla="val 33358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собенности учета операций бюджетных и автономных учрежд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29880" y="1644480"/>
            <a:ext cx="7587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Допустимость кодов КОСГУ при кассо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обслуживании бюджетных и автоном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Письмо ФК в адрес ТОФК от 02.08.2013 № 42-7.4-05/2.2-4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40000" y="5445000"/>
            <a:ext cx="49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сутствие у АУ/БУ отдельных полномоч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1680" y="4876920"/>
            <a:ext cx="76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е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аний о порядке применения бюджетной класс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56000" y="2508120"/>
            <a:ext cx="486000" cy="648000"/>
          </a:xfrm>
          <a:prstGeom prst="downArrow">
            <a:avLst>
              <a:gd name="adj1" fmla="val 50000"/>
              <a:gd name="adj2" fmla="val 33333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356000" y="4092480"/>
            <a:ext cx="486000" cy="647640"/>
          </a:xfrm>
          <a:prstGeom prst="downArrow">
            <a:avLst>
              <a:gd name="adj1" fmla="val 50000"/>
              <a:gd name="adj2" fmla="val 33315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539640" y="2967120"/>
            <a:ext cx="8137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24000" y="1125360"/>
            <a:ext cx="72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2012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беспечение исполнения функции ведения учет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и формирования отчетности ТОФК и финансовыми орган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492360" y="1413000"/>
            <a:ext cx="1895400" cy="1009440"/>
            <a:chOff x="3492360" y="1413000"/>
            <a:chExt cx="1895400" cy="1009440"/>
          </a:xfrm>
        </p:grpSpPr>
        <p:pic>
          <p:nvPicPr>
            <p:cNvPr id="50" name="Picture 8" descr="i?id=106927965-45-72&amp;n=16"/>
            <p:cNvPicPr/>
            <p:nvPr/>
          </p:nvPicPr>
          <p:blipFill>
            <a:blip r:embed="rId1"/>
            <a:stretch/>
          </p:blipFill>
          <p:spPr>
            <a:xfrm>
              <a:off x="4163760" y="1413000"/>
              <a:ext cx="50004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92360" y="2054160"/>
              <a:ext cx="189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инфин Росс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324000" y="3038400"/>
            <a:ext cx="2754000" cy="6094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несение изменен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 Инструкцию № 162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57640" y="3038400"/>
            <a:ext cx="2754360" cy="6094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несение изменен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 Инструкцию № 191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56360" y="3038400"/>
            <a:ext cx="2754360" cy="6094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несение изменен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 Инструкцию № 33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1" idx="1"/>
            <a:endCxn id="52" idx="0"/>
          </p:cNvCxnSpPr>
          <p:nvPr/>
        </p:nvCxnSpPr>
        <p:spPr>
          <a:xfrm flipV="1" rot="10800000">
            <a:off x="1701000" y="2238120"/>
            <a:ext cx="1791360" cy="8006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51" idx="2"/>
          </p:cNvCxnSpPr>
          <p:nvPr/>
        </p:nvCxnSpPr>
        <p:spPr>
          <a:xfrm flipH="1" rot="16200000">
            <a:off x="4222440" y="2637360"/>
            <a:ext cx="616680" cy="183240"/>
          </a:xfrm>
          <a:prstGeom prst="bentConnector3">
            <a:avLst>
              <a:gd name="adj1" fmla="val 4970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3"/>
            <a:endCxn id="54" idx="0"/>
          </p:cNvCxnSpPr>
          <p:nvPr/>
        </p:nvCxnSpPr>
        <p:spPr>
          <a:xfrm>
            <a:off x="5388120" y="2238480"/>
            <a:ext cx="2147040" cy="8006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Text Box 3"/>
          <p:cNvSpPr/>
          <p:nvPr/>
        </p:nvSpPr>
        <p:spPr>
          <a:xfrm>
            <a:off x="539640" y="5486400"/>
            <a:ext cx="813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8880" y="464652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деральное казначе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557680"/>
            <a:ext cx="2754000" cy="6094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Особенности представления отчетнос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57640" y="5557680"/>
            <a:ext cx="2754360" cy="6094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Организационные процедур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56360" y="5557680"/>
            <a:ext cx="2754360" cy="6094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Технологическое обеспече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9" idx="1"/>
            <a:endCxn id="60" idx="0"/>
          </p:cNvCxnSpPr>
          <p:nvPr/>
        </p:nvCxnSpPr>
        <p:spPr>
          <a:xfrm flipV="1" rot="10800000">
            <a:off x="1701000" y="4829760"/>
            <a:ext cx="1215360" cy="7275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endCxn id="61" idx="0"/>
          </p:cNvCxnSpPr>
          <p:nvPr/>
        </p:nvCxnSpPr>
        <p:spPr>
          <a:xfrm flipH="1" rot="16200000">
            <a:off x="4295880" y="5217840"/>
            <a:ext cx="545040" cy="135360"/>
          </a:xfrm>
          <a:prstGeom prst="bentConnector3">
            <a:avLst>
              <a:gd name="adj1" fmla="val 4983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9" idx="3"/>
            <a:endCxn id="62" idx="0"/>
          </p:cNvCxnSpPr>
          <p:nvPr/>
        </p:nvCxnSpPr>
        <p:spPr>
          <a:xfrm>
            <a:off x="6039000" y="4830480"/>
            <a:ext cx="1496160" cy="7275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66" name="" descr="&amp;Ocy;&amp;fcy;&amp;icy;&amp;tscy;&amp;icy;&amp;acy;&amp;lcy;&amp;softcy;&amp;ncy;&amp;ycy;&amp;jcy; &amp;scy;&amp;acy;&amp;jcy;&amp;tcy; &amp;Fcy;&amp;iecy;&amp;dcy;&amp;iecy;&amp;rcy;&amp;acy;&amp;lcy;&amp;softcy;&amp;ncy;&amp;ocy;&amp;gcy;&amp;ocy; &amp;Kcy;&amp;acy;&amp;zcy;&amp;ncy;&amp;acy;&amp;chcy;&amp;iecy;&amp;jcy;&amp;scy;&amp;tcy;&amp;vcy;&amp;acy; &amp;Rcy;&amp;ocy;&amp;scy;&amp;scy;&amp;icy;&amp;icy;"/>
          <p:cNvPicPr/>
          <p:nvPr/>
        </p:nvPicPr>
        <p:blipFill>
          <a:blip r:embed="rId2"/>
          <a:stretch/>
        </p:blipFill>
        <p:spPr>
          <a:xfrm>
            <a:off x="1519200" y="2928960"/>
            <a:ext cx="6105600" cy="1000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140360" y="386064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239240" y="141300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до 01.11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39240" y="400536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до 01.01.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собенности учета операций бюджетных и автономных учрежд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21840" y="1195560"/>
            <a:ext cx="710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Допустимость кодов КОСГУ при кассо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обслуживании бюджетных и автоном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0800000">
            <a:off x="4284360" y="1989000"/>
            <a:ext cx="485640" cy="648000"/>
          </a:xfrm>
          <a:prstGeom prst="downArrow">
            <a:avLst>
              <a:gd name="adj1" fmla="val 50000"/>
              <a:gd name="adj2" fmla="val 33358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03680" y="2851200"/>
            <a:ext cx="707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Допустимость операций проводимых бюджетным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автономными учрежд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4284360" y="371592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31800" y="4579920"/>
            <a:ext cx="427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Ограничение по объектам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4327200" y="504792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14240" y="5911920"/>
            <a:ext cx="412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Инструкции № 162н, 174н, 183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812000" y="5373720"/>
            <a:ext cx="117000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о операциям с бюджетными кредитами представляемыми в соответствии со ст. 93.6 БК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62720" y="1123920"/>
            <a:ext cx="74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Бухгалтерские записи по операциям с бюджетными кредит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 органах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68360" y="1800360"/>
          <a:ext cx="8351640" cy="4365360"/>
        </p:xfrm>
        <a:graphic>
          <a:graphicData uri="http://schemas.openxmlformats.org/drawingml/2006/table">
            <a:tbl>
              <a:tblPr/>
              <a:tblGrid>
                <a:gridCol w="2879640"/>
                <a:gridCol w="1440000"/>
                <a:gridCol w="1368360"/>
                <a:gridCol w="1368360"/>
                <a:gridCol w="1295280"/>
              </a:tblGrid>
              <a:tr h="946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ФК в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части кассового исполнения федеральн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ФК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в части исполнения федерального бюджета по главе 10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Федеральное казначейств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б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д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б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д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ставление бюджетного креди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2 20 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Ф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2 11 6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7 11 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04 05 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исление процентов по договору (в соответствии с законом о федеральном бюджете), штраф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7 11 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1 10 120 (1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упление возврата основного дол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Ф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2 11 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2 10 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10 02 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7 11 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упление процентных платежей, штраф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Ф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2 11 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2 10 120 (1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10 02 120 (1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7 11 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о операциям с бюджетными кредитами представляемыми в соответствии со ст. 93.6 БК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89440" y="1123920"/>
            <a:ext cx="724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Сверка показателей по операциям с бюджетными кредит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между УФК и администратором ИФД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476360" y="2048040"/>
            <a:ext cx="1727280" cy="710640"/>
            <a:chOff x="1476360" y="2048040"/>
            <a:chExt cx="1727280" cy="710640"/>
          </a:xfrm>
        </p:grpSpPr>
        <p:pic>
          <p:nvPicPr>
            <p:cNvPr id="327" name="" descr=""/>
            <p:cNvPicPr/>
            <p:nvPr/>
          </p:nvPicPr>
          <p:blipFill>
            <a:blip r:embed="rId1"/>
            <a:stretch/>
          </p:blipFill>
          <p:spPr>
            <a:xfrm>
              <a:off x="1988280" y="2048040"/>
              <a:ext cx="743400" cy="5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1476360" y="2451600"/>
              <a:ext cx="17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ФК (глава 10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9" name=""/>
          <p:cNvGraphicFramePr/>
          <p:nvPr/>
        </p:nvGraphicFramePr>
        <p:xfrm>
          <a:off x="611280" y="1976400"/>
          <a:ext cx="8137440" cy="3973320"/>
        </p:xfrm>
        <a:graphic>
          <a:graphicData uri="http://schemas.openxmlformats.org/drawingml/2006/table">
            <a:tbl>
              <a:tblPr/>
              <a:tblGrid>
                <a:gridCol w="4068720"/>
                <a:gridCol w="4068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Справка по консолидируемым расчетам (ф. 050312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7 11 5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01 11 7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7 11 6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01 11 8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7 11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01 11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0" name=""/>
          <p:cNvGrpSpPr/>
          <p:nvPr/>
        </p:nvGrpSpPr>
        <p:grpSpPr>
          <a:xfrm>
            <a:off x="5940360" y="2048040"/>
            <a:ext cx="1727280" cy="710640"/>
            <a:chOff x="5940360" y="2048040"/>
            <a:chExt cx="1727280" cy="710640"/>
          </a:xfrm>
        </p:grpSpPr>
        <p:pic>
          <p:nvPicPr>
            <p:cNvPr id="331" name="" descr=""/>
            <p:cNvPicPr/>
            <p:nvPr/>
          </p:nvPicPr>
          <p:blipFill>
            <a:blip r:embed="rId2"/>
            <a:stretch/>
          </p:blipFill>
          <p:spPr>
            <a:xfrm>
              <a:off x="6452280" y="2048040"/>
              <a:ext cx="743400" cy="5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940360" y="2451600"/>
              <a:ext cx="17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АИФ бюдже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067280" y="330372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3366ff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067280" y="424332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3366ff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067280" y="501804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3366ff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5"/>
          <p:cNvSpPr/>
          <p:nvPr/>
        </p:nvSpPr>
        <p:spPr>
          <a:xfrm>
            <a:off x="1547640" y="38736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операций дополнительного пери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80680" y="1052640"/>
            <a:ext cx="64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Дополнительный период (ст. 242 Бюджетного кодек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3800" y="1844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1.12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619280" y="162864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0920" y="2276640"/>
            <a:ext cx="856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76360" y="328464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503280" y="539424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320" y="611676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лавная кни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539640" y="400536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294840" y="4792680"/>
            <a:ext cx="10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урна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04120" y="278136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876320" y="1844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09.13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162864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33440" y="3284640"/>
            <a:ext cx="486000" cy="647640"/>
          </a:xfrm>
          <a:prstGeom prst="downArrow">
            <a:avLst>
              <a:gd name="adj1" fmla="val 50000"/>
              <a:gd name="adj2" fmla="val 33315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2160720" y="5394240"/>
            <a:ext cx="576000" cy="6937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661400" y="611676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лавная кни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2197080" y="400536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952280" y="4792680"/>
            <a:ext cx="10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урна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861200" y="278136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566880" y="1844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10.13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967280" y="162864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24360" y="328464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5"/>
          <a:stretch/>
        </p:blipFill>
        <p:spPr>
          <a:xfrm>
            <a:off x="3851280" y="539424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352320" y="611676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лавная кни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6"/>
          <a:stretch/>
        </p:blipFill>
        <p:spPr>
          <a:xfrm>
            <a:off x="3887640" y="400536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643200" y="4792680"/>
            <a:ext cx="10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урна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52120" y="278136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454880" y="1844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15.13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236000" y="162864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77080" y="3284640"/>
            <a:ext cx="486000" cy="647640"/>
          </a:xfrm>
          <a:prstGeom prst="downArrow">
            <a:avLst>
              <a:gd name="adj1" fmla="val 50000"/>
              <a:gd name="adj2" fmla="val 33315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7"/>
          <a:stretch/>
        </p:blipFill>
        <p:spPr>
          <a:xfrm>
            <a:off x="7704000" y="539424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7205040" y="611676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лавная кни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8"/>
          <a:stretch/>
        </p:blipFill>
        <p:spPr>
          <a:xfrm>
            <a:off x="7740720" y="400536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7495920" y="4792680"/>
            <a:ext cx="10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урна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23480" y="2349360"/>
            <a:ext cx="171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ерации, в т.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ключ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ч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406480" y="184464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……………</a:t>
            </a: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424120" y="429264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Реализация в Федеральном казначействе концепции межотчетного периода в соответствии с нормативными докумен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16480" y="1606680"/>
            <a:ext cx="7998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иповые операции межотчетного пери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ренос показателей остатков по счетам учета в связи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менением бюджетной классифик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редача показателей при реорганизации участников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участников бюджетного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ренос показателей по счетам санкционирования (проект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рректировка учетных данных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Реализация в Федеральном казначействе концепции межотчетного периода в соответствии с нормативными докумен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137400" y="105264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ежотчетный перио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3800" y="183816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инансовый год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942520" y="183816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инансовый год Х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059280" y="162864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796000" y="162864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0920" y="2276640"/>
            <a:ext cx="856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066120" y="183816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ежотчетный перио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7080" y="2637000"/>
            <a:ext cx="3018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атки по счетам у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учетом дополни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иода и операций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лючению сче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Исходящие на дд.13.г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014160" y="2637000"/>
            <a:ext cx="3018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атки по счетам у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учетом дополни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иода и операций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лючению сче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ходящие на 01.01.гг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566880" y="2643120"/>
            <a:ext cx="16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отче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и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16000" y="429264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57640" y="429264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254720" y="4292640"/>
            <a:ext cx="486000" cy="647640"/>
          </a:xfrm>
          <a:prstGeom prst="downArrow">
            <a:avLst>
              <a:gd name="adj1" fmla="val 50000"/>
              <a:gd name="adj2" fmla="val 33315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042920" y="508464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457920" y="57834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ая кни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7207200" y="508464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6622200" y="57834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ая кни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4079880" y="508464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3252960" y="5783400"/>
            <a:ext cx="21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урнал по проч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ерац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03640" y="5229360"/>
            <a:ext cx="504720" cy="43164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12000" y="5229360"/>
            <a:ext cx="504720" cy="43164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95640" y="5229360"/>
            <a:ext cx="615960" cy="485640"/>
          </a:xfrm>
          <a:prstGeom prst="rightArrow">
            <a:avLst>
              <a:gd name="adj1" fmla="val 50000"/>
              <a:gd name="adj2" fmla="val 31709"/>
            </a:avLst>
          </a:prstGeom>
          <a:solidFill>
            <a:srgbClr val="3366ff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035680" y="5229360"/>
            <a:ext cx="615960" cy="485640"/>
          </a:xfrm>
          <a:prstGeom prst="rightArrow">
            <a:avLst>
              <a:gd name="adj1" fmla="val 50000"/>
              <a:gd name="adj2" fmla="val 31709"/>
            </a:avLst>
          </a:prstGeom>
          <a:solidFill>
            <a:srgbClr val="3366ff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Формирование регистров бюджетного учета в органах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539640" y="2087640"/>
            <a:ext cx="576360" cy="6937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539640" y="3932280"/>
            <a:ext cx="576360" cy="6937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539640" y="558972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1362600" y="1123920"/>
            <a:ext cx="69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еспечение специфики применения методологии учет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тчетности в органах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16200000">
            <a:off x="4292280" y="2055600"/>
            <a:ext cx="486000" cy="647640"/>
          </a:xfrm>
          <a:prstGeom prst="downArrow">
            <a:avLst>
              <a:gd name="adj1" fmla="val 50000"/>
              <a:gd name="adj2" fmla="val 33315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06880" y="2060640"/>
            <a:ext cx="241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дение уч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струкция № 162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16200000">
            <a:off x="4292280" y="4000320"/>
            <a:ext cx="486000" cy="647640"/>
          </a:xfrm>
          <a:prstGeom prst="downArrow">
            <a:avLst>
              <a:gd name="adj1" fmla="val 50000"/>
              <a:gd name="adj2" fmla="val 33315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406880" y="3867120"/>
            <a:ext cx="241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гистр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струкция № 173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6200000">
            <a:off x="4292640" y="559872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06880" y="5465880"/>
            <a:ext cx="241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чет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струкция № 191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08000" y="1916280"/>
            <a:ext cx="3816360" cy="453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5580000" y="2087640"/>
            <a:ext cx="576360" cy="6937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5"/>
          <a:stretch/>
        </p:blipFill>
        <p:spPr>
          <a:xfrm>
            <a:off x="5580000" y="3932280"/>
            <a:ext cx="576360" cy="6937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6"/>
          <a:stretch/>
        </p:blipFill>
        <p:spPr>
          <a:xfrm>
            <a:off x="5580000" y="558972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6442200" y="20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дение уч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???????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442200" y="386712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гистр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???????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446160" y="5465880"/>
            <a:ext cx="198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чет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каз № 4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148360" y="1916280"/>
            <a:ext cx="3816360" cy="453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Формирование регистров бюджетного учета в органах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268640" y="1405080"/>
            <a:ext cx="7274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Необходимость нормативного регулир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гламентация состава и периодичности форм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тодическое обеспечение технологических реш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личие «открытого» и «закрытого» конту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еспечение возможности использования регистров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ширенным реквизитным состав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ализация взаимосвязи и соответ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казателей регистров и показателей бюджетной отчет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ругие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812000" y="5373720"/>
            <a:ext cx="117000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Формирование регистров бюджетного учета в органах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8560" y="1123920"/>
            <a:ext cx="851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Нормативное регулирование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Проект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Приказа Федерального казначей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«Об утвержд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собенностей формирования регист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бюджетного учета в органах Федера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азначейства при кассовом исполн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федерального бюджета, кассовом обслуживани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бюджетов бюджетной системы Российской Федер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бюджетных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втономных учрежд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ных организац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7812000" y="5373720"/>
            <a:ext cx="117000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Формирование регистров бюджетного учета в органах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15960" y="1123920"/>
            <a:ext cx="66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Проект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Структуры Приказа Федерального казначей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7812000" y="5373720"/>
            <a:ext cx="1170000" cy="10936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900000" y="1916280"/>
            <a:ext cx="78487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ие по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 и особенности формирования регистров учет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исполнение ФБ, кассовое обслуживание бюджетов, Союзное государств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ные соотнош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регистры – регистры; регистры – отчетнос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Баланс консолидированного бюджета Российской Федерации и бюджетов государственных внебюджетных фондов на 01.01.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424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Формирование регистров бюджетного учета в органах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612720" y="380988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362600" y="1123920"/>
            <a:ext cx="69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еспечение специфики применения методологии учет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тчетности в органах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4365720" y="377784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479960" y="3789360"/>
            <a:ext cx="241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дение уч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струкция № 162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81080" y="3638520"/>
            <a:ext cx="3816360" cy="100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5580000" y="287964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6231600" y="2859120"/>
            <a:ext cx="268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дение уч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Рабочий план сче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Дополните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аналитики (КЦ и т.п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……………</a:t>
            </a: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148360" y="2708280"/>
            <a:ext cx="3816360" cy="266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415160" y="264960"/>
            <a:ext cx="6865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чет об операциях бюджета по использованию субсидий, субвенц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и иных межбюджетных трансфер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300320" y="981000"/>
            <a:ext cx="73152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Отчет ф. 0531888 – сверка с данными Главной книги (ф. 050407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2680" y="1628640"/>
            <a:ext cx="7922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Проблемы обеспечения сопоставимости показ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Отсутствие однозначной привязки поступлени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к потокам между ФБ и бюджетом субъ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Отсутствие однозначной привязки возвратов прошлых л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к потокам между ФБ и бюджетом субъекта и видам сред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………………………………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46600" y="5950080"/>
            <a:ext cx="51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Письмо ФК от 23.08.2013 №42-7.4-05/2.1-5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356000" y="2133720"/>
            <a:ext cx="486000" cy="647640"/>
          </a:xfrm>
          <a:prstGeom prst="downArrow">
            <a:avLst>
              <a:gd name="adj1" fmla="val 50000"/>
              <a:gd name="adj2" fmla="val 33315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356000" y="5157720"/>
            <a:ext cx="486000" cy="647640"/>
          </a:xfrm>
          <a:prstGeom prst="downArrow">
            <a:avLst>
              <a:gd name="adj1" fmla="val 50000"/>
              <a:gd name="adj2" fmla="val 33315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415160" y="264960"/>
            <a:ext cx="6865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чет об операциях бюджета по использованию субсидий, субвенц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и иных межбюджетных трансфер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00320" y="981000"/>
            <a:ext cx="73152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Отчет ф. 0531888 – сверка с данными Главной книги (ф. 050407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822400" y="2133720"/>
            <a:ext cx="597240" cy="7189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324000" y="3933720"/>
            <a:ext cx="8640720" cy="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050920" y="1773360"/>
            <a:ext cx="0" cy="431964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40720" y="263700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4200" y="4581360"/>
            <a:ext cx="2043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нсолидирова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юджет субъек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292428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авная кни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4983120" y="2133720"/>
            <a:ext cx="596880" cy="71892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4360680" y="292428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чет ф. 0503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7464600" y="2133720"/>
            <a:ext cx="596880" cy="71892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842160" y="292428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чет ф. 0531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925800" y="22050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4"/>
          <a:stretch/>
        </p:blipFill>
        <p:spPr>
          <a:xfrm>
            <a:off x="2822400" y="4576680"/>
            <a:ext cx="597240" cy="7192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2198520" y="536724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авная кни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5"/>
          <a:stretch/>
        </p:blipFill>
        <p:spPr>
          <a:xfrm>
            <a:off x="4983120" y="4576680"/>
            <a:ext cx="596880" cy="7192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4360680" y="536724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чет ф. 0503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6"/>
          <a:stretch/>
        </p:blipFill>
        <p:spPr>
          <a:xfrm>
            <a:off x="7464600" y="4576680"/>
            <a:ext cx="596880" cy="7192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6808680" y="537372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чет ф. 05033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25800" y="46483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499080" y="46530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7087320" y="364824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3366ff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4639320" y="364824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3366ff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16200000">
            <a:off x="2498040" y="364860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3366ff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004480" y="189000"/>
            <a:ext cx="5976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Сверка показателе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чета ф. 0503324 и Отчета ф. 05318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606760" y="1347840"/>
            <a:ext cx="5710320" cy="4817880"/>
          </a:xfrm>
          <a:prstGeom prst="ellipse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cc0000"/>
                </a:solidFill>
                <a:latin typeface="Arial"/>
              </a:rPr>
              <a:t>Отчет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cc0000"/>
                </a:solidFill>
                <a:latin typeface="Arial"/>
              </a:rPr>
              <a:t>по кодам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cc0000"/>
                </a:solidFill>
                <a:latin typeface="Arial"/>
              </a:rPr>
              <a:t>ЦС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ф.050332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660920" y="1951200"/>
            <a:ext cx="3656160" cy="3679560"/>
          </a:xfrm>
          <a:prstGeom prst="ellipse">
            <a:avLst/>
          </a:prstGeom>
          <a:blipFill rotWithShape="0">
            <a:blip r:embed="rId2">
              <a:alphaModFix amt="46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cc0000"/>
                </a:solidFill>
                <a:latin typeface="Arial"/>
              </a:rPr>
              <a:t>Отчет по кодам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cc0000"/>
                </a:solidFill>
                <a:latin typeface="Arial"/>
              </a:rPr>
              <a:t>цели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(ф.0531888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08000" y="1125360"/>
            <a:ext cx="2592360" cy="1849680"/>
          </a:xfrm>
          <a:prstGeom prst="wedgeRoundRectCallout">
            <a:avLst>
              <a:gd name="adj1" fmla="val 76208"/>
              <a:gd name="adj2" fmla="val 121157"/>
              <a:gd name="adj3" fmla="val 16667"/>
            </a:avLst>
          </a:prstGeom>
          <a:solidFill>
            <a:srgbClr val="99cc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Операции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Arial"/>
              </a:rPr>
              <a:t>- со средствами ФБ представленных из субъектов РФ ГВБФ, на счетах ГВБФ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Arial"/>
              </a:rPr>
              <a:t>- с «не кодированным» остатком.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011680" y="331920"/>
            <a:ext cx="59619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Сверка показателей Отчета ф. 0503324 и Отчета ф. 05318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619280" y="1052640"/>
            <a:ext cx="66088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Порядок сверки показател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512640" y="1711440"/>
          <a:ext cx="8229600" cy="4454280"/>
        </p:xfrm>
        <a:graphic>
          <a:graphicData uri="http://schemas.openxmlformats.org/drawingml/2006/table">
            <a:tbl>
              <a:tblPr/>
              <a:tblGrid>
                <a:gridCol w="2743200"/>
                <a:gridCol w="912960"/>
                <a:gridCol w="4573440"/>
              </a:tblGrid>
              <a:tr h="73656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чета (ф. 053188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отнош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чета (ф. 050332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Остаток всего» 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минус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Операции корректиров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 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Остаток на начало период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 1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Поступило из ФБ» 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мину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 1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Возвращено в ФБ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 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Поступило из ФБ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 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Перечислено дебиторской задолженности прошлых лет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 9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Восстановлено остатков МБТ прошлых лет»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минус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Операции корректиров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 1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Возвращено в ФБ остатков прошлых лет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 1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Возвращено в ФБ остатков прошлых лет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 1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Возвращено из ФБ в объеме потребност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 1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Возвращено из ФБ в объеме потребност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4" name=""/>
          <p:cNvSpPr/>
          <p:nvPr/>
        </p:nvSpPr>
        <p:spPr>
          <a:xfrm>
            <a:off x="573120" y="2486160"/>
            <a:ext cx="2558880" cy="511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211640" y="3860640"/>
            <a:ext cx="4176720" cy="7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6" name=""/>
          <p:cNvCxnSpPr>
            <a:stCxn id="474" idx="3"/>
            <a:endCxn id="475" idx="1"/>
          </p:cNvCxnSpPr>
          <p:nvPr/>
        </p:nvCxnSpPr>
        <p:spPr>
          <a:xfrm>
            <a:off x="3131640" y="2741400"/>
            <a:ext cx="1080360" cy="1516680"/>
          </a:xfrm>
          <a:prstGeom prst="bentConnector3">
            <a:avLst>
              <a:gd name="adj1" fmla="val 50000"/>
            </a:avLst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060640" y="222120"/>
            <a:ext cx="59619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Сверка показателей Отчета ф. 0503324 и Отчета ф. 05318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619280" y="1052640"/>
            <a:ext cx="66088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Порядок сверки показател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512640" y="1784520"/>
          <a:ext cx="8229600" cy="3498840"/>
        </p:xfrm>
        <a:graphic>
          <a:graphicData uri="http://schemas.openxmlformats.org/drawingml/2006/table">
            <a:tbl>
              <a:tblPr/>
              <a:tblGrid>
                <a:gridCol w="2743200"/>
                <a:gridCol w="912960"/>
                <a:gridCol w="4573440"/>
              </a:tblGrid>
              <a:tr h="73656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чета (ф. 053188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отнош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чета (ф. 050332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2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Остаток всег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 1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Остаток на конец периода» 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мину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Остаток на счетах ГВБФ за счет средств субъекта РФ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652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 1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Кассовый расход всего» 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мину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 1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Перечислено в местные бюджеты» 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плю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 19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Кассовый расход местных бюджет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Гр. 8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Кассовый расход» 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плю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Остаток на счетах ГВБФ за счет средств субъекта РФ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2832840" y="222120"/>
            <a:ext cx="46926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расчетов по межбюджетным трансферт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Заголовок 3"/>
          <p:cNvSpPr/>
          <p:nvPr/>
        </p:nvSpPr>
        <p:spPr>
          <a:xfrm>
            <a:off x="1332000" y="1052640"/>
            <a:ext cx="74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Восстановление остатков целевых средств </a:t>
            </a:r>
            <a:br>
              <a:rPr sz="1700"/>
            </a:b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(администратор МБТ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235080" y="1746360"/>
          <a:ext cx="8369280" cy="3408120"/>
        </p:xfrm>
        <a:graphic>
          <a:graphicData uri="http://schemas.openxmlformats.org/drawingml/2006/table">
            <a:tbl>
              <a:tblPr/>
              <a:tblGrid>
                <a:gridCol w="1682640"/>
                <a:gridCol w="2583000"/>
                <a:gridCol w="4103640"/>
              </a:tblGrid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точни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хгалтерские запис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ства бюджета, средства получателя (ФЛ или ЮЛ) средст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становление остатков с последующим возвратом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9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(КБК 202)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1 10 151 –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9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(КБК 202)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5 51 6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9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(КБК 202)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5 51 560 –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9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(КБК 219)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5 51 6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9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(КБК 219)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5 51 560 –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9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(КБК 219)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10 02 15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3" name=""/>
          <p:cNvSpPr/>
          <p:nvPr/>
        </p:nvSpPr>
        <p:spPr>
          <a:xfrm>
            <a:off x="4284720" y="2205000"/>
            <a:ext cx="2808360" cy="936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28600" y="5423040"/>
            <a:ext cx="8325000" cy="989640"/>
          </a:xfrm>
          <a:prstGeom prst="flowChartAlternateProcess">
            <a:avLst/>
          </a:prstGeom>
          <a:solidFill>
            <a:srgbClr val="17bbfd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а основании Уведомления по расчетам между бюджетами (ф. 0504817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с указанием в гр. 4 показателя со знаком «минус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5" name=""/>
          <p:cNvCxnSpPr>
            <a:stCxn id="483" idx="1"/>
            <a:endCxn id="484" idx="0"/>
          </p:cNvCxnSpPr>
          <p:nvPr/>
        </p:nvCxnSpPr>
        <p:spPr>
          <a:xfrm flipH="1" flipV="1" rot="10800000">
            <a:off x="4274640" y="2673000"/>
            <a:ext cx="116640" cy="2750400"/>
          </a:xfrm>
          <a:prstGeom prst="bentConnector4">
            <a:avLst>
              <a:gd name="adj1" fmla="val -188854"/>
              <a:gd name="adj2" fmla="val 58541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832840" y="222120"/>
            <a:ext cx="46926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расчетов по межбюджетным трансферт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Заголовок 3"/>
          <p:cNvSpPr/>
          <p:nvPr/>
        </p:nvSpPr>
        <p:spPr>
          <a:xfrm>
            <a:off x="1332000" y="1052640"/>
            <a:ext cx="74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Восстановление остатков целевых средств </a:t>
            </a:r>
            <a:br>
              <a:rPr sz="1700"/>
            </a:b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(ГРБС бюджета представившего МБТ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235080" y="1746360"/>
          <a:ext cx="8369280" cy="3408120"/>
        </p:xfrm>
        <a:graphic>
          <a:graphicData uri="http://schemas.openxmlformats.org/drawingml/2006/table">
            <a:tbl>
              <a:tblPr/>
              <a:tblGrid>
                <a:gridCol w="1682640"/>
                <a:gridCol w="2583000"/>
                <a:gridCol w="4103640"/>
              </a:tblGrid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точни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хгалтерские запис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ства бюджета, средства получателя (ФЛ или ЮЛ) средст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становление остатков с последующим возвратом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9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(КРБ)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6 51 560 –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9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(КРБ)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1 20 25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9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(КБК 218)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5 51 560 –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9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(КРБ)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6 51 6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9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(КБК 218)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10 02 151 –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9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(КБК 218)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5 51 6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9" name=""/>
          <p:cNvSpPr/>
          <p:nvPr/>
        </p:nvSpPr>
        <p:spPr>
          <a:xfrm>
            <a:off x="4284720" y="2205000"/>
            <a:ext cx="2808360" cy="936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28600" y="5423040"/>
            <a:ext cx="8325000" cy="989640"/>
          </a:xfrm>
          <a:prstGeom prst="flowChartAlternateProcess">
            <a:avLst/>
          </a:prstGeom>
          <a:solidFill>
            <a:srgbClr val="17bbfd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а основании Уведомления по расчетам между бюджетами (ф. 0504817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с указанием в гр. 4 показателя со знаком «минус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1" name=""/>
          <p:cNvCxnSpPr>
            <a:stCxn id="489" idx="1"/>
            <a:endCxn id="490" idx="0"/>
          </p:cNvCxnSpPr>
          <p:nvPr/>
        </p:nvCxnSpPr>
        <p:spPr>
          <a:xfrm flipH="1" flipV="1" rot="10800000">
            <a:off x="4274640" y="2673000"/>
            <a:ext cx="116640" cy="2750400"/>
          </a:xfrm>
          <a:prstGeom prst="bentConnector4">
            <a:avLst>
              <a:gd name="adj1" fmla="val -188854"/>
              <a:gd name="adj2" fmla="val 58541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4065120" y="260280"/>
            <a:ext cx="18518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чет ф. 05318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Заголовок 3"/>
          <p:cNvSpPr/>
          <p:nvPr/>
        </p:nvSpPr>
        <p:spPr>
          <a:xfrm>
            <a:off x="1836720" y="1052640"/>
            <a:ext cx="62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Расширение показателей Отчета ф. 053188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39640" y="2276640"/>
            <a:ext cx="2808360" cy="502920"/>
          </a:xfrm>
          <a:prstGeom prst="flowChartAlternateProcess">
            <a:avLst/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55640" y="3789360"/>
            <a:ext cx="2376360" cy="1008000"/>
          </a:xfrm>
          <a:prstGeom prst="flowChartAlternateProcess">
            <a:avLst/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юджет субъ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сий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55640" y="5011560"/>
            <a:ext cx="2376360" cy="503280"/>
          </a:xfrm>
          <a:prstGeom prst="flowChartAlternateProcess">
            <a:avLst/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39640" y="3573360"/>
            <a:ext cx="2808360" cy="230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692360" y="285264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364000" y="2276640"/>
            <a:ext cx="2808360" cy="502920"/>
          </a:xfrm>
          <a:prstGeom prst="flowChartAlternateProcess">
            <a:avLst/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580000" y="3789360"/>
            <a:ext cx="2376720" cy="1008000"/>
          </a:xfrm>
          <a:prstGeom prst="flowChartAlternateProcess">
            <a:avLst/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юджет субъ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сий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580000" y="5013360"/>
            <a:ext cx="2376720" cy="503280"/>
          </a:xfrm>
          <a:prstGeom prst="flowChartAlternateProcess">
            <a:avLst/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64000" y="3573360"/>
            <a:ext cx="2808360" cy="280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16720" y="285264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80000" y="5732640"/>
            <a:ext cx="2376720" cy="502920"/>
          </a:xfrm>
          <a:prstGeom prst="flowChartAlternateProcess">
            <a:avLst/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Бюджеты ГВБ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969480" y="1693800"/>
            <a:ext cx="20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риказ ФК № 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94920" y="170028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Проект Изме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2832840" y="222120"/>
            <a:ext cx="46926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расчетов по межбюджетным трансферт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Заголовок 3"/>
          <p:cNvSpPr/>
          <p:nvPr/>
        </p:nvSpPr>
        <p:spPr>
          <a:xfrm>
            <a:off x="1332000" y="1052640"/>
            <a:ext cx="748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Остатки целевых средств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342520" y="18446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443640" y="162864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9240" y="4000680"/>
            <a:ext cx="12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РБ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Бюджет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184520" y="18381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067280" y="162864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9240" y="5300640"/>
            <a:ext cx="12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Д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Бюджет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9280" y="2205000"/>
            <a:ext cx="864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9280" y="5013360"/>
            <a:ext cx="864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619280" y="1628640"/>
            <a:ext cx="0" cy="47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17280" y="1628640"/>
            <a:ext cx="163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Межотчет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ери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027880" y="3995640"/>
            <a:ext cx="173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левая стать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 00 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2560" y="5295960"/>
            <a:ext cx="182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д доход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 202 02123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79280" y="3573360"/>
            <a:ext cx="864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05560" y="2565360"/>
            <a:ext cx="104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каз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 Б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350440" y="2708280"/>
            <a:ext cx="90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0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311240" y="2708280"/>
            <a:ext cx="90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1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069440" y="2708280"/>
            <a:ext cx="90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0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465160" y="2708280"/>
            <a:ext cx="90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1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rot="16200000">
            <a:off x="4994280" y="2680920"/>
            <a:ext cx="485640" cy="397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359960" y="3573360"/>
            <a:ext cx="173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левая стать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 00 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003640" y="4111560"/>
            <a:ext cx="486000" cy="397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685400" y="4361040"/>
            <a:ext cx="10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 00 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003640" y="5553000"/>
            <a:ext cx="486000" cy="397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325400" y="5008680"/>
            <a:ext cx="182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д доход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 202 02123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25400" y="5972040"/>
            <a:ext cx="182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 202 02999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930000" y="3995640"/>
            <a:ext cx="173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левая стать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 00 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46480" y="5295960"/>
            <a:ext cx="182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д доход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 202 02999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324000" y="1125360"/>
            <a:ext cx="8137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задачи на 2013 – 2014 гг. – новый отчетный 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(годовая бюджетная отчетность за 2013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задачи органов Федерального казначейств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финансов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0160" y="2205000"/>
            <a:ext cx="8963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участие в работе проводимой Минфином России по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внесению изменений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нормативные акт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по бюджетному учету и отчетности в рамк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совершенствования учетных и отчетных процеду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обеспечени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Федеральным казначейством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организационно-технолог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готовности субъектов бюджетной отчетности к формированию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редставлению годовой бюджетной отчетности за 2013 го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своевременное и качественное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представление годовой бюджет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отчетности за 2013 го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субъектами бюджетной отчетности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Федеральное казначей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956720" y="5445000"/>
            <a:ext cx="936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2832840" y="222120"/>
            <a:ext cx="46926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расчетов по межбюджетным трансферт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Заголовок 3"/>
          <p:cNvSpPr/>
          <p:nvPr/>
        </p:nvSpPr>
        <p:spPr>
          <a:xfrm>
            <a:off x="1332000" y="1052640"/>
            <a:ext cx="748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Остатки целевых средств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342520" y="18446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443640" y="162864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9240" y="2281320"/>
            <a:ext cx="12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РБ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Бюджет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184520" y="18381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067280" y="162864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9240" y="3581280"/>
            <a:ext cx="12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Д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Бюджет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9280" y="2205000"/>
            <a:ext cx="864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79280" y="3294000"/>
            <a:ext cx="864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619280" y="162864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17280" y="1628640"/>
            <a:ext cx="163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Межотчет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ери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027880" y="2276640"/>
            <a:ext cx="173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левая стать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 00 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42560" y="3576600"/>
            <a:ext cx="182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д доход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 202 02123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930000" y="2276640"/>
            <a:ext cx="173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левая стать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 00 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846480" y="3576600"/>
            <a:ext cx="182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д доход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 202 02999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rot="16200000">
            <a:off x="2622600" y="3435120"/>
            <a:ext cx="360360" cy="22208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7600 h 2220840"/>
              <a:gd name="textAreaBottom" fmla="*/ 2163240 h 222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2484360" y="479736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494000" y="5511960"/>
            <a:ext cx="25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домление ф. 05048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(остато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16200000">
            <a:off x="7566120" y="3435120"/>
            <a:ext cx="360360" cy="22208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7600 h 2220840"/>
              <a:gd name="textAreaBottom" fmla="*/ 2163240 h 222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7427880" y="4797360"/>
            <a:ext cx="576360" cy="69372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6437520" y="5511960"/>
            <a:ext cx="25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домление ф. 05048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(Потребност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rot="18786000">
            <a:off x="4442040" y="3011760"/>
            <a:ext cx="1608840" cy="3373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Arial"/>
              </a:rPr>
              <a:t>Соглас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836360" y="1052640"/>
            <a:ext cx="6264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Концепция аналитической обработки показателей бюджетной отчетности в ППО АСФК</a:t>
            </a:r>
            <a:endParaRPr b="1" lang="en-US" sz="17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6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5BD6-0B83-4BFC-A2E4-3AAA77B22DA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396160" y="222120"/>
            <a:ext cx="53265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Расширение аналитических возможностей ППО АС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1428480" y="2862360"/>
            <a:ext cx="1768680" cy="1287360"/>
            <a:chOff x="1428480" y="2862360"/>
            <a:chExt cx="1768680" cy="1287360"/>
          </a:xfrm>
        </p:grpSpPr>
        <p:grpSp>
          <p:nvGrpSpPr>
            <p:cNvPr id="563" name="Group 52"/>
            <p:cNvGrpSpPr/>
            <p:nvPr/>
          </p:nvGrpSpPr>
          <p:grpSpPr>
            <a:xfrm>
              <a:off x="1909080" y="2862360"/>
              <a:ext cx="1008720" cy="843840"/>
              <a:chOff x="1909080" y="2862360"/>
              <a:chExt cx="1008720" cy="843840"/>
            </a:xfrm>
          </p:grpSpPr>
          <p:sp>
            <p:nvSpPr>
              <p:cNvPr id="564" name="Oval 53"/>
              <p:cNvSpPr/>
              <p:nvPr/>
            </p:nvSpPr>
            <p:spPr>
              <a:xfrm>
                <a:off x="1909080" y="3278160"/>
                <a:ext cx="1008720" cy="4183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e79281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e400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5" name="Picture 54" descr="j0433944[1]"/>
              <p:cNvPicPr/>
              <p:nvPr/>
            </p:nvPicPr>
            <p:blipFill>
              <a:blip r:embed="rId1"/>
              <a:stretch/>
            </p:blipFill>
            <p:spPr>
              <a:xfrm>
                <a:off x="2090880" y="2862360"/>
                <a:ext cx="733680" cy="843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6" name=""/>
            <p:cNvSpPr/>
            <p:nvPr/>
          </p:nvSpPr>
          <p:spPr>
            <a:xfrm>
              <a:off x="1428480" y="3766320"/>
              <a:ext cx="17686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63720"/>
                  <a:tab algn="l" pos="1927080"/>
                  <a:tab algn="l" pos="2890800"/>
                  <a:tab algn="l" pos="3854520"/>
                  <a:tab algn="l" pos="4818240"/>
                  <a:tab algn="l" pos="5781600"/>
                  <a:tab algn="l" pos="6745320"/>
                  <a:tab algn="l" pos="7709040"/>
                  <a:tab algn="l" pos="8672400"/>
                  <a:tab algn="l" pos="9636120"/>
                  <a:tab algn="l" pos="1059984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Пользовател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4067280" y="1700280"/>
            <a:ext cx="1584360" cy="792000"/>
          </a:xfrm>
          <a:prstGeom prst="flowChartAlternateProcess">
            <a:avLst/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и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067280" y="2637000"/>
            <a:ext cx="1584360" cy="792000"/>
          </a:xfrm>
          <a:prstGeom prst="flowChartAlternateProcess">
            <a:avLst/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форм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067280" y="3573360"/>
            <a:ext cx="1584360" cy="792360"/>
          </a:xfrm>
          <a:prstGeom prst="flowChartAlternateProcess">
            <a:avLst/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стро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067280" y="4508640"/>
            <a:ext cx="1584360" cy="792000"/>
          </a:xfrm>
          <a:prstGeom prst="flowChartAlternateProcess">
            <a:avLst/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ф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граф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1" name=""/>
          <p:cNvCxnSpPr>
            <a:stCxn id="564" idx="6"/>
            <a:endCxn id="567" idx="1"/>
          </p:cNvCxnSpPr>
          <p:nvPr/>
        </p:nvCxnSpPr>
        <p:spPr>
          <a:xfrm flipV="1">
            <a:off x="2917440" y="2096640"/>
            <a:ext cx="1150200" cy="1391040"/>
          </a:xfrm>
          <a:prstGeom prst="bentConnector3">
            <a:avLst>
              <a:gd name="adj1" fmla="val 4984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2" name=""/>
          <p:cNvCxnSpPr>
            <a:stCxn id="564" idx="6"/>
            <a:endCxn id="568" idx="1"/>
          </p:cNvCxnSpPr>
          <p:nvPr/>
        </p:nvCxnSpPr>
        <p:spPr>
          <a:xfrm flipV="1">
            <a:off x="2917440" y="3033000"/>
            <a:ext cx="1150200" cy="454680"/>
          </a:xfrm>
          <a:prstGeom prst="bentConnector3">
            <a:avLst>
              <a:gd name="adj1" fmla="val 4984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64" idx="6"/>
            <a:endCxn id="569" idx="1"/>
          </p:cNvCxnSpPr>
          <p:nvPr/>
        </p:nvCxnSpPr>
        <p:spPr>
          <a:xfrm>
            <a:off x="2917440" y="3487320"/>
            <a:ext cx="1150200" cy="483480"/>
          </a:xfrm>
          <a:prstGeom prst="bentConnector3">
            <a:avLst>
              <a:gd name="adj1" fmla="val 4984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64" idx="6"/>
            <a:endCxn id="570" idx="1"/>
          </p:cNvCxnSpPr>
          <p:nvPr/>
        </p:nvCxnSpPr>
        <p:spPr>
          <a:xfrm>
            <a:off x="2917440" y="3487680"/>
            <a:ext cx="1150200" cy="1418400"/>
          </a:xfrm>
          <a:prstGeom prst="bentConnector3">
            <a:avLst>
              <a:gd name="adj1" fmla="val 4984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75" name="Picture 96" descr="j0433892[1]"/>
          <p:cNvPicPr/>
          <p:nvPr/>
        </p:nvPicPr>
        <p:blipFill>
          <a:blip r:embed="rId2"/>
          <a:stretch/>
        </p:blipFill>
        <p:spPr>
          <a:xfrm>
            <a:off x="7091280" y="2637000"/>
            <a:ext cx="1281240" cy="1584000"/>
          </a:xfrm>
          <a:prstGeom prst="rect">
            <a:avLst/>
          </a:prstGeom>
          <a:ln w="0">
            <a:noFill/>
          </a:ln>
        </p:spPr>
      </p:pic>
      <p:sp>
        <p:nvSpPr>
          <p:cNvPr id="576" name="TextBox 63"/>
          <p:cNvSpPr/>
          <p:nvPr/>
        </p:nvSpPr>
        <p:spPr>
          <a:xfrm>
            <a:off x="7145280" y="424332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ПО АС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7" name=""/>
          <p:cNvCxnSpPr>
            <a:stCxn id="567" idx="3"/>
            <a:endCxn id="575" idx="1"/>
          </p:cNvCxnSpPr>
          <p:nvPr/>
        </p:nvCxnSpPr>
        <p:spPr>
          <a:xfrm>
            <a:off x="5651280" y="2097000"/>
            <a:ext cx="1440360" cy="1332720"/>
          </a:xfrm>
          <a:prstGeom prst="bentConnector3">
            <a:avLst>
              <a:gd name="adj1" fmla="val 4992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endCxn id="575" idx="1"/>
          </p:cNvCxnSpPr>
          <p:nvPr/>
        </p:nvCxnSpPr>
        <p:spPr>
          <a:xfrm>
            <a:off x="5651280" y="3033720"/>
            <a:ext cx="1440360" cy="396000"/>
          </a:xfrm>
          <a:prstGeom prst="bentConnector3">
            <a:avLst>
              <a:gd name="adj1" fmla="val 4992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>
            <a:stCxn id="569" idx="3"/>
            <a:endCxn id="575" idx="1"/>
          </p:cNvCxnSpPr>
          <p:nvPr/>
        </p:nvCxnSpPr>
        <p:spPr>
          <a:xfrm flipV="1">
            <a:off x="5651280" y="3428640"/>
            <a:ext cx="1440360" cy="542160"/>
          </a:xfrm>
          <a:prstGeom prst="bentConnector3">
            <a:avLst>
              <a:gd name="adj1" fmla="val 4992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0" name=""/>
          <p:cNvCxnSpPr>
            <a:stCxn id="570" idx="3"/>
            <a:endCxn id="575" idx="1"/>
          </p:cNvCxnSpPr>
          <p:nvPr/>
        </p:nvCxnSpPr>
        <p:spPr>
          <a:xfrm flipV="1">
            <a:off x="5651280" y="3428280"/>
            <a:ext cx="1440360" cy="1477080"/>
          </a:xfrm>
          <a:prstGeom prst="bentConnector3">
            <a:avLst>
              <a:gd name="adj1" fmla="val 4992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1" name=""/>
          <p:cNvSpPr/>
          <p:nvPr/>
        </p:nvSpPr>
        <p:spPr>
          <a:xfrm>
            <a:off x="4067280" y="5732640"/>
            <a:ext cx="1584360" cy="576000"/>
          </a:xfrm>
          <a:prstGeom prst="flowChartAlternateProcess">
            <a:avLst/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2" name=""/>
          <p:cNvCxnSpPr>
            <a:stCxn id="576" idx="2"/>
            <a:endCxn id="581" idx="3"/>
          </p:cNvCxnSpPr>
          <p:nvPr/>
        </p:nvCxnSpPr>
        <p:spPr>
          <a:xfrm rot="5400000">
            <a:off x="5987160" y="4243320"/>
            <a:ext cx="1442160" cy="21150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3" name=""/>
          <p:cNvCxnSpPr>
            <a:stCxn id="581" idx="1"/>
            <a:endCxn id="566" idx="2"/>
          </p:cNvCxnSpPr>
          <p:nvPr/>
        </p:nvCxnSpPr>
        <p:spPr>
          <a:xfrm rot="10800000">
            <a:off x="2312280" y="4147560"/>
            <a:ext cx="1755000" cy="18738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122200" y="1052280"/>
            <a:ext cx="55450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ППО АСФК: Форма анализа отчетности</a:t>
            </a:r>
            <a:endParaRPr b="1" lang="en-US" sz="17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8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BC19-E588-4A35-9AD8-F5169B68DBD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913440" cy="504036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2396160" y="222120"/>
            <a:ext cx="53265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Расширение аналитических возможностей ППО АС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5508720" y="1413000"/>
            <a:ext cx="3166920" cy="1295280"/>
          </a:xfrm>
          <a:prstGeom prst="wedgeRectCallout">
            <a:avLst>
              <a:gd name="adj1" fmla="val -55962"/>
              <a:gd name="adj2" fmla="val 81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ыборка подготовл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из отчета ф. 050312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 разрезе кодов территориальных У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508720" y="4221000"/>
            <a:ext cx="3024000" cy="1152720"/>
          </a:xfrm>
          <a:prstGeom prst="wedgeRectCallout">
            <a:avLst>
              <a:gd name="adj1" fmla="val -53726"/>
              <a:gd name="adj2" fmla="val 113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ыборка подготовлена с использованием механизма построения иерархии кодов бюджетной класс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4687920" cy="54576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2396160" y="222120"/>
            <a:ext cx="53265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Расширение аналитических возможностей ППО АС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244000" cy="374004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4932360" y="2349360"/>
            <a:ext cx="2376360" cy="1224000"/>
          </a:xfrm>
          <a:prstGeom prst="wedgeRectCallout">
            <a:avLst>
              <a:gd name="adj1" fmla="val -122277"/>
              <a:gd name="adj2" fmla="val 466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ыборка подготовл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из отчета ф. 052143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за определенный пери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067280" y="5373720"/>
            <a:ext cx="3960720" cy="863640"/>
          </a:xfrm>
          <a:prstGeom prst="wedgeRectCallout">
            <a:avLst>
              <a:gd name="adj1" fmla="val -71282"/>
              <a:gd name="adj2" fmla="val -558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ыборка подготовл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из отчета ф. 0521432 в разрезе операционных дней искомого пери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96160" y="222120"/>
            <a:ext cx="53265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Расширение аналитических возможностей ППО АС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577600" y="149400"/>
            <a:ext cx="44154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Хранение документов в электронном виде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иказ ФК от 30.12.2011 № 6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804960" y="1692720"/>
            <a:ext cx="757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Приказ ФК от 30.12.2011 № 6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Об утверждении Порядка хранения докум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 исполнению федерального бюдже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ссовому обслуживанию бюдже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юджетной системы Российской Федер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кассовому обслуживанию бюджетных учрежд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втономных учреждений и иных организац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9"/>
                </a:solidFill>
                <a:latin typeface="Times New Roman"/>
              </a:rPr>
              <a:t>не содержащих сведени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составляющ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сударственную тайн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Федеральном казначействе и его орга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электронном вид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2577600" y="149400"/>
            <a:ext cx="44154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Хранение документов в электронном виде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иказ ФК от 03.09.2012 № 3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84360" y="1986840"/>
            <a:ext cx="792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Приказ ФК от 03.09.2012 № 34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«Об утверждении </a:t>
            </a:r>
            <a:r>
              <a:rPr b="1" lang="en-US" sz="2400" spc="-1" strike="noStrike">
                <a:solidFill>
                  <a:srgbClr val="ff388c"/>
                </a:solidFill>
                <a:latin typeface="Times New Roman"/>
              </a:rPr>
              <a:t>Положения о структуре электронного архива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используемого для организации хранения документов по исполнению федерального бюджета, кассовому обслуживанию бюджетов бюджетной системы Российской Федерации и кассовому обслуживанию бюджетных учреждений, автономных учреждений и иных организаций, не содержащих сведений, составляющих государственную тайну, в Федеральном казначействе и его органах в электронном вид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2228040" y="222120"/>
            <a:ext cx="57531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Развитие механизмов хранения докумен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в электронном виде в органах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Заголовок 3"/>
          <p:cNvSpPr/>
          <p:nvPr/>
        </p:nvSpPr>
        <p:spPr>
          <a:xfrm>
            <a:off x="2050920" y="1052640"/>
            <a:ext cx="604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Настройка правил архивации и структуры архи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Рисунок 1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7993080" cy="475308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2050920" y="3573360"/>
            <a:ext cx="2016360" cy="505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2228040" y="222120"/>
            <a:ext cx="57531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Развитие механизмов хранения докумен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в электронном виде в органах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Заголовок 3"/>
          <p:cNvSpPr/>
          <p:nvPr/>
        </p:nvSpPr>
        <p:spPr>
          <a:xfrm>
            <a:off x="2050920" y="1052640"/>
            <a:ext cx="604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Настройка правил архивации и структуры архи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8921880" cy="46785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1042920" y="2492280"/>
            <a:ext cx="1728720" cy="1441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2228040" y="222120"/>
            <a:ext cx="57531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Развитие механизмов хранения докумен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в электронном виде в органах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Заголовок 3"/>
          <p:cNvSpPr/>
          <p:nvPr/>
        </p:nvSpPr>
        <p:spPr>
          <a:xfrm>
            <a:off x="2340000" y="1052640"/>
            <a:ext cx="554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Унифицированный интерфейс доступа к архив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33280" y="1414440"/>
            <a:ext cx="8910720" cy="467856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55640" y="2492280"/>
            <a:ext cx="2016000" cy="1657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1258920" y="1125360"/>
            <a:ext cx="7286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задачи на 2013 – 2014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(иные текущие задач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7400" y="2181240"/>
            <a:ext cx="8882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беспечение ТОФК учета операций и формирование отчет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 кассовому обслуживанию исполнения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бюджетов государств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внебюджетных фон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беспечение ТОФК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своевременного и качественного форм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Главной книги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по кассовому исполнению федерального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разработка приказ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Федерального казначейства «Об утвержд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собенностей формирования регистров бюджетного уче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задачи органов Федерального казначейств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финансов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956720" y="5445000"/>
            <a:ext cx="936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Номер слайда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35FD-061F-4F43-BFA9-6B37D28258BC}" type="slidenum">
              <a:rPr b="0" lang="en-US" sz="1200" spc="-1" strike="noStrike">
                <a:solidFill>
                  <a:srgbClr val="87878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3"/>
          <p:cNvSpPr/>
          <p:nvPr/>
        </p:nvSpPr>
        <p:spPr>
          <a:xfrm>
            <a:off x="1284120" y="249120"/>
            <a:ext cx="6540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22"/>
          <p:cNvSpPr/>
          <p:nvPr/>
        </p:nvSpPr>
        <p:spPr>
          <a:xfrm>
            <a:off x="8748720" y="6237360"/>
            <a:ext cx="314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9157-C20D-46EA-87FF-61E9BF5C81BB}" type="slidenum">
              <a:rPr b="0" lang="en-US" sz="1400" spc="-1" strike="noStrike">
                <a:solidFill>
                  <a:srgbClr val="1f497d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3"/>
          <p:cNvSpPr/>
          <p:nvPr/>
        </p:nvSpPr>
        <p:spPr>
          <a:xfrm>
            <a:off x="324000" y="363600"/>
            <a:ext cx="85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4"/>
          <p:cNvSpPr/>
          <p:nvPr/>
        </p:nvSpPr>
        <p:spPr>
          <a:xfrm>
            <a:off x="2556000" y="1628640"/>
            <a:ext cx="49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343080"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25" descr="circle_422_239"/>
          <p:cNvPicPr/>
          <p:nvPr/>
        </p:nvPicPr>
        <p:blipFill>
          <a:blip r:embed="rId2"/>
          <a:stretch/>
        </p:blipFill>
        <p:spPr>
          <a:xfrm>
            <a:off x="3203640" y="2781360"/>
            <a:ext cx="3089160" cy="193176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26"/>
          <p:cNvSpPr/>
          <p:nvPr/>
        </p:nvSpPr>
        <p:spPr>
          <a:xfrm>
            <a:off x="4695840" y="5013360"/>
            <a:ext cx="183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1258920" y="1125360"/>
            <a:ext cx="7286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задачи на 2013 – 2014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(перспективные задач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" y="2133720"/>
            <a:ext cx="8919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частие в разработке и утверждении Минфином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федеральных стандартов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для государственного секто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беспечение учета операций и формир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тчетности ТОФК в условиях включения Федера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азначейства в перечень участников платеж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в рамках Концепции реформирования системы бюдже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платежей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задачи органов Федерального казначейств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финансов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956720" y="5445000"/>
            <a:ext cx="936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19280" y="3213000"/>
            <a:ext cx="4608360" cy="3168720"/>
          </a:xfrm>
          <a:custGeom>
            <a:avLst/>
            <a:gdLst/>
            <a:ahLst/>
            <a:rect l="l" t="t" r="r" b="b"/>
            <a:pathLst>
              <a:path w="2903" h="1996">
                <a:moveTo>
                  <a:pt x="2813" y="0"/>
                </a:moveTo>
                <a:lnTo>
                  <a:pt x="2813" y="816"/>
                </a:lnTo>
                <a:lnTo>
                  <a:pt x="2268" y="816"/>
                </a:lnTo>
                <a:lnTo>
                  <a:pt x="2268" y="1860"/>
                </a:lnTo>
                <a:lnTo>
                  <a:pt x="726" y="1860"/>
                </a:lnTo>
                <a:lnTo>
                  <a:pt x="726" y="1996"/>
                </a:lnTo>
                <a:lnTo>
                  <a:pt x="0" y="1996"/>
                </a:lnTo>
                <a:lnTo>
                  <a:pt x="0" y="181"/>
                </a:lnTo>
                <a:lnTo>
                  <a:pt x="771" y="181"/>
                </a:lnTo>
                <a:lnTo>
                  <a:pt x="771" y="45"/>
                </a:lnTo>
                <a:lnTo>
                  <a:pt x="2903" y="4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9640" y="2852640"/>
            <a:ext cx="813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ри кассовом обслуживании государственных внебюджетных фондов и их территориальн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9560" y="1374840"/>
            <a:ext cx="745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едение бюджетного учета при кассовом обслуживании ГВБФ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порядке установленном для кассового обслужи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юджетов бюджетной системы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57440" y="3500280"/>
            <a:ext cx="8236080" cy="2889360"/>
            <a:chOff x="757440" y="3500280"/>
            <a:chExt cx="8236080" cy="2889360"/>
          </a:xfrm>
        </p:grpSpPr>
        <p:sp>
          <p:nvSpPr>
            <p:cNvPr id="90" name=""/>
            <p:cNvSpPr/>
            <p:nvPr/>
          </p:nvSpPr>
          <p:spPr>
            <a:xfrm>
              <a:off x="4214880" y="5661000"/>
              <a:ext cx="477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Бюджет субъекта Российской Федер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27640" y="3860640"/>
              <a:ext cx="20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Бюджет ТФОМ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51640" y="3500280"/>
              <a:ext cx="37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Бюджет муниципального райо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7440" y="6021360"/>
              <a:ext cx="167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Бюджет ФС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66520" y="4724280"/>
              <a:ext cx="315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Бюджет городского округ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851280" y="256536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41497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3080" y="39337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13080" y="50198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53085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539640" y="2852640"/>
            <a:ext cx="813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ри кассовом обслуживании государственных внебюджетных фондов и их территориальн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5800" y="1446120"/>
            <a:ext cx="6951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ормирование бюджетной отчет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порядке установленном Инструкцией № 191н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 учетом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осимых изменений в ча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формирование и представление бюджетной отчет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рганам управления государствен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небюджетными фонд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формирование и представление бюджетной отчет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территориальным органам государств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небюджетных фон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формирование и представление бюджетной отчет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территориальным государственным фондам ОМ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539640" y="2852640"/>
            <a:ext cx="813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ри кассовом обслуживании государственных внебюджетных фондов и их территориальн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11920" y="1446120"/>
            <a:ext cx="6997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ормирование бюджетной отчетности территориаль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рганами Федерального казначей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порядке установленном Приказом № 487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 учетом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осимых изменений в ча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формирование и представление бюджетной отчет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рганам управления государствен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небюджетными фонд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формирование и представление бюджетной отчет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территориальным органам государств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небюджетных фон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формирование и представление бюджетной отчет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территориальным государственным фондам ОМ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sony</cp:lastModifiedBy>
  <dcterms:modified xsi:type="dcterms:W3CDTF">2013-09-04T17:44:37Z</dcterms:modified>
  <cp:revision>372</cp:revision>
  <dc:subject/>
  <dc:title>Слайд 1</dc:title>
</cp:coreProperties>
</file>