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055-2D53-4BBE-99BB-39F61F96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BE6-A3A2-4FA3-BED8-99A3DD90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7AC-0BFC-4BFB-BFD2-CE6821E1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3EB-0070-4EEA-BD72-C3345055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D8D-F3DF-49A1-92E4-AF53385A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4BC-DCE7-4CB4-ABD2-CBC6CE11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8ED-9E50-40C4-8861-9AC85F5C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9E3-2C9B-41CE-8BCC-0DBB67D8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322-37B0-4BF3-B8EC-7B1FC86F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946-70CD-41EA-B874-D6DCD45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80A-4EC0-443B-B332-99A9BDE0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024-5813-4755-91EF-09E6EA9B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B3C1-A4DF-4DAE-96D2-A69CBF249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714680"/>
            <a:ext cx="728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ведения уче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я отчетности при исполнении консолидированного бюджета субъекта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Т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4000" y="5229360"/>
            <a:ext cx="792000" cy="1062720"/>
            <a:chOff x="324000" y="5229360"/>
            <a:chExt cx="792000" cy="10627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324000" y="5229360"/>
              <a:ext cx="7671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24000" y="59850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79640" y="4797360"/>
            <a:ext cx="1676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9" idx="3"/>
            <a:endCxn id="171" idx="1"/>
          </p:cNvCxnSpPr>
          <p:nvPr/>
        </p:nvCxnSpPr>
        <p:spPr>
          <a:xfrm flipV="1">
            <a:off x="1090440" y="5060520"/>
            <a:ext cx="889920" cy="542160"/>
          </a:xfrm>
          <a:prstGeom prst="bentConnector3">
            <a:avLst>
              <a:gd name="adj1" fmla="val 498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3" name=""/>
          <p:cNvGrpSpPr/>
          <p:nvPr/>
        </p:nvGrpSpPr>
        <p:grpSpPr>
          <a:xfrm>
            <a:off x="3635280" y="3429000"/>
            <a:ext cx="1871640" cy="853920"/>
            <a:chOff x="3635280" y="3429000"/>
            <a:chExt cx="1871640" cy="853920"/>
          </a:xfrm>
        </p:grpSpPr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4190040" y="342900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635280" y="397584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6" name=""/>
          <p:cNvCxnSpPr>
            <a:stCxn id="171" idx="3"/>
            <a:endCxn id="174" idx="1"/>
          </p:cNvCxnSpPr>
          <p:nvPr/>
        </p:nvCxnSpPr>
        <p:spPr>
          <a:xfrm flipV="1">
            <a:off x="3655800" y="3790440"/>
            <a:ext cx="533880" cy="1270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7" name=""/>
          <p:cNvGrpSpPr/>
          <p:nvPr/>
        </p:nvGrpSpPr>
        <p:grpSpPr>
          <a:xfrm>
            <a:off x="7093080" y="2133720"/>
            <a:ext cx="1655640" cy="853920"/>
            <a:chOff x="7093080" y="2133720"/>
            <a:chExt cx="1655640" cy="85392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7583760" y="2133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093080" y="2680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703840" y="3502080"/>
            <a:ext cx="1676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и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Отчетов ф. 0503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5003280" y="378936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0" idx="0"/>
            <a:endCxn id="178" idx="1"/>
          </p:cNvCxnSpPr>
          <p:nvPr/>
        </p:nvCxnSpPr>
        <p:spPr>
          <a:xfrm flipH="1" flipV="1" rot="5400000">
            <a:off x="6558840" y="2477520"/>
            <a:ext cx="1007280" cy="1042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84360" y="3213000"/>
            <a:ext cx="1871640" cy="853920"/>
            <a:chOff x="684360" y="3213000"/>
            <a:chExt cx="1871640" cy="85392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1239120" y="321300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84360" y="375984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804000" y="3141720"/>
            <a:ext cx="1655640" cy="853920"/>
            <a:chOff x="6804000" y="3141720"/>
            <a:chExt cx="1655640" cy="8539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7294680" y="3141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804000" y="3688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780000" y="328464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7" idx="3"/>
          </p:cNvCxnSpPr>
          <p:nvPr/>
        </p:nvCxnSpPr>
        <p:spPr>
          <a:xfrm>
            <a:off x="2044800" y="3574800"/>
            <a:ext cx="1722960" cy="292680"/>
          </a:xfrm>
          <a:prstGeom prst="bentConnector3">
            <a:avLst>
              <a:gd name="adj1" fmla="val 4994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2" idx="3"/>
            <a:endCxn id="190" idx="1"/>
          </p:cNvCxnSpPr>
          <p:nvPr/>
        </p:nvCxnSpPr>
        <p:spPr>
          <a:xfrm flipV="1">
            <a:off x="5455800" y="3503160"/>
            <a:ext cx="1839240" cy="3643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11560" y="1341360"/>
            <a:ext cx="748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верка показателей отчетности по кассовому обслужи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ассовому исполнению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24360" y="2479680"/>
            <a:ext cx="1871640" cy="853920"/>
            <a:chOff x="3924360" y="2479680"/>
            <a:chExt cx="1871640" cy="8539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4479120" y="247968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924360" y="302652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50920" y="5456160"/>
            <a:ext cx="1655640" cy="853920"/>
            <a:chOff x="250920" y="5456160"/>
            <a:chExt cx="1655640" cy="85392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741600" y="545616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50920" y="600300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050920" y="2335320"/>
            <a:ext cx="167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4" idx="3"/>
            <a:endCxn id="199" idx="1"/>
          </p:cNvCxnSpPr>
          <p:nvPr/>
        </p:nvCxnSpPr>
        <p:spPr>
          <a:xfrm>
            <a:off x="3727440" y="2660760"/>
            <a:ext cx="751680" cy="181440"/>
          </a:xfrm>
          <a:prstGeom prst="bentConnector3">
            <a:avLst>
              <a:gd name="adj1" fmla="val 49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"/>
          <p:cNvGrpSpPr/>
          <p:nvPr/>
        </p:nvGrpSpPr>
        <p:grpSpPr>
          <a:xfrm>
            <a:off x="2698920" y="5383080"/>
            <a:ext cx="1655640" cy="853920"/>
            <a:chOff x="2698920" y="5383080"/>
            <a:chExt cx="1655640" cy="85392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3189600" y="538308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698920" y="592992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148360" y="5373720"/>
            <a:ext cx="1655640" cy="853920"/>
            <a:chOff x="5148360" y="5373720"/>
            <a:chExt cx="1655640" cy="853920"/>
          </a:xfrm>
        </p:grpSpPr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5639040" y="5373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8360" y="5920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-36360" y="2624040"/>
            <a:ext cx="1871640" cy="853920"/>
            <a:chOff x="-36360" y="2624040"/>
            <a:chExt cx="1871640" cy="853920"/>
          </a:xfrm>
        </p:grpSpPr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518400" y="26240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-36360" y="31708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5" name=""/>
          <p:cNvCxnSpPr/>
          <p:nvPr/>
        </p:nvCxnSpPr>
        <p:spPr>
          <a:xfrm flipV="1">
            <a:off x="1331640" y="2781000"/>
            <a:ext cx="727560" cy="235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6" name=""/>
          <p:cNvGrpSpPr/>
          <p:nvPr/>
        </p:nvGrpSpPr>
        <p:grpSpPr>
          <a:xfrm>
            <a:off x="7380360" y="5383080"/>
            <a:ext cx="1655640" cy="853920"/>
            <a:chOff x="7380360" y="5383080"/>
            <a:chExt cx="1655640" cy="853920"/>
          </a:xfrm>
        </p:grpSpPr>
        <p:pic>
          <p:nvPicPr>
            <p:cNvPr id="217" name="" descr=""/>
            <p:cNvPicPr/>
            <p:nvPr/>
          </p:nvPicPr>
          <p:blipFill>
            <a:blip r:embed="rId6"/>
            <a:stretch/>
          </p:blipFill>
          <p:spPr>
            <a:xfrm>
              <a:off x="7871040" y="538308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380360" y="592992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092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984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4836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59480" y="4468680"/>
            <a:ext cx="167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317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5960" y="6330960"/>
            <a:ext cx="25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- в части показателей ТФОМ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16720" y="2276640"/>
            <a:ext cx="1511280" cy="12967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Свер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9" idx="0"/>
            <a:endCxn id="200" idx="2"/>
          </p:cNvCxnSpPr>
          <p:nvPr/>
        </p:nvCxnSpPr>
        <p:spPr>
          <a:xfrm flipH="1" flipV="1" rot="5400000">
            <a:off x="2406600" y="2013840"/>
            <a:ext cx="1137240" cy="3772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2" idx="0"/>
            <a:endCxn id="200" idx="2"/>
          </p:cNvCxnSpPr>
          <p:nvPr/>
        </p:nvCxnSpPr>
        <p:spPr>
          <a:xfrm flipV="1" rot="16200000">
            <a:off x="5960520" y="2231280"/>
            <a:ext cx="1137240" cy="33375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0" idx="0"/>
            <a:endCxn id="200" idx="2"/>
          </p:cNvCxnSpPr>
          <p:nvPr/>
        </p:nvCxnSpPr>
        <p:spPr>
          <a:xfrm flipH="1" flipV="1" rot="5400000">
            <a:off x="3620880" y="3228120"/>
            <a:ext cx="1137240" cy="13438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1" idx="0"/>
            <a:endCxn id="200" idx="2"/>
          </p:cNvCxnSpPr>
          <p:nvPr/>
        </p:nvCxnSpPr>
        <p:spPr>
          <a:xfrm flipV="1" rot="16200000">
            <a:off x="4854960" y="3336840"/>
            <a:ext cx="1137240" cy="1126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199" idx="3"/>
            <a:endCxn id="224" idx="1"/>
          </p:cNvCxnSpPr>
          <p:nvPr/>
        </p:nvCxnSpPr>
        <p:spPr>
          <a:xfrm>
            <a:off x="5284800" y="2841480"/>
            <a:ext cx="1232280" cy="208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ь при кассовом обслуживании бюджетов бюджетной системы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7240" y="105264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зменение в порядке представления в финансовые ор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нсолидированного отчета о касс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уплениях и выбытиях (ф. 050315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796000" y="2565360"/>
            <a:ext cx="1871640" cy="1278720"/>
            <a:chOff x="5796000" y="2565360"/>
            <a:chExt cx="1871640" cy="127872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6350760" y="256536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796000" y="3110760"/>
              <a:ext cx="1871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муниципального рай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635280" y="2205000"/>
            <a:ext cx="16765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муниципальному район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3"/>
            <a:endCxn id="234" idx="1"/>
          </p:cNvCxnSpPr>
          <p:nvPr/>
        </p:nvCxnSpPr>
        <p:spPr>
          <a:xfrm>
            <a:off x="5311800" y="2712960"/>
            <a:ext cx="1038600" cy="2152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8" name=""/>
          <p:cNvGrpSpPr/>
          <p:nvPr/>
        </p:nvGrpSpPr>
        <p:grpSpPr>
          <a:xfrm>
            <a:off x="826920" y="2708280"/>
            <a:ext cx="1872000" cy="853920"/>
            <a:chOff x="826920" y="2708280"/>
            <a:chExt cx="1872000" cy="85392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381680" y="2708280"/>
              <a:ext cx="80568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6920" y="32551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1" name=""/>
          <p:cNvCxnSpPr>
            <a:endCxn id="236" idx="1"/>
          </p:cNvCxnSpPr>
          <p:nvPr/>
        </p:nvCxnSpPr>
        <p:spPr>
          <a:xfrm flipV="1">
            <a:off x="2195280" y="2712600"/>
            <a:ext cx="1440360" cy="35784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2484360" y="3716280"/>
            <a:ext cx="23972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бюджетам, входящим в состав консолидированного бюджета рай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endCxn id="242" idx="1"/>
          </p:cNvCxnSpPr>
          <p:nvPr/>
        </p:nvCxnSpPr>
        <p:spPr>
          <a:xfrm>
            <a:off x="1763640" y="3573360"/>
            <a:ext cx="721440" cy="651600"/>
          </a:xfrm>
          <a:prstGeom prst="bentConnector3">
            <a:avLst>
              <a:gd name="adj1" fmla="val 499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4" name=""/>
          <p:cNvGrpSpPr/>
          <p:nvPr/>
        </p:nvGrpSpPr>
        <p:grpSpPr>
          <a:xfrm>
            <a:off x="1116000" y="5445000"/>
            <a:ext cx="1871640" cy="1066680"/>
            <a:chOff x="1116000" y="5445000"/>
            <a:chExt cx="1871640" cy="106668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167076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11600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708360" y="5445000"/>
            <a:ext cx="1871640" cy="1066680"/>
            <a:chOff x="3708360" y="5445000"/>
            <a:chExt cx="1871640" cy="1066680"/>
          </a:xfrm>
        </p:grpSpPr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426312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70836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516720" y="5445000"/>
            <a:ext cx="1871640" cy="1066680"/>
            <a:chOff x="6516720" y="5445000"/>
            <a:chExt cx="1871640" cy="1066680"/>
          </a:xfrm>
        </p:grpSpPr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707148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51672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3" name=""/>
          <p:cNvCxnSpPr>
            <a:stCxn id="242" idx="2"/>
            <a:endCxn id="245" idx="3"/>
          </p:cNvCxnSpPr>
          <p:nvPr/>
        </p:nvCxnSpPr>
        <p:spPr>
          <a:xfrm rot="5400000">
            <a:off x="2542320" y="4664520"/>
            <a:ext cx="1075320" cy="120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2" idx="2"/>
            <a:endCxn id="248" idx="0"/>
          </p:cNvCxnSpPr>
          <p:nvPr/>
        </p:nvCxnSpPr>
        <p:spPr>
          <a:xfrm flipH="1" rot="16200000">
            <a:off x="3816360" y="4596480"/>
            <a:ext cx="714960" cy="983160"/>
          </a:xfrm>
          <a:prstGeom prst="bentConnector3">
            <a:avLst>
              <a:gd name="adj1" fmla="val 497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2" idx="2"/>
            <a:endCxn id="251" idx="0"/>
          </p:cNvCxnSpPr>
          <p:nvPr/>
        </p:nvCxnSpPr>
        <p:spPr>
          <a:xfrm flipH="1" rot="16200000">
            <a:off x="5221440" y="3192120"/>
            <a:ext cx="714960" cy="3791520"/>
          </a:xfrm>
          <a:prstGeom prst="bentConnector3">
            <a:avLst>
              <a:gd name="adj1" fmla="val 497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2" idx="3"/>
            <a:endCxn id="235" idx="2"/>
          </p:cNvCxnSpPr>
          <p:nvPr/>
        </p:nvCxnSpPr>
        <p:spPr>
          <a:xfrm flipV="1">
            <a:off x="4881600" y="3841560"/>
            <a:ext cx="1851840" cy="383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ь при кассовом обслуживании бюджетов бюджетной системы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7240" y="105264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зменение в порядке представления в финансовые ор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нсолидированного отчета о касс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уплениях и выбытиях (ф. 050315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796000" y="2565360"/>
            <a:ext cx="1871640" cy="1066680"/>
            <a:chOff x="5796000" y="2565360"/>
            <a:chExt cx="1871640" cy="106668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350760" y="256536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796000" y="311184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субъекта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635280" y="2021040"/>
            <a:ext cx="1676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субъекту РФ и ТФОМ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1" idx="1"/>
          </p:cNvCxnSpPr>
          <p:nvPr/>
        </p:nvCxnSpPr>
        <p:spPr>
          <a:xfrm>
            <a:off x="5311800" y="2436840"/>
            <a:ext cx="1038600" cy="489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5" name=""/>
          <p:cNvGrpSpPr/>
          <p:nvPr/>
        </p:nvGrpSpPr>
        <p:grpSpPr>
          <a:xfrm>
            <a:off x="826920" y="2708280"/>
            <a:ext cx="1872000" cy="853920"/>
            <a:chOff x="826920" y="2708280"/>
            <a:chExt cx="1872000" cy="85392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1381680" y="2708280"/>
              <a:ext cx="80568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26920" y="32551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endCxn id="263" idx="1"/>
          </p:cNvCxnSpPr>
          <p:nvPr/>
        </p:nvCxnSpPr>
        <p:spPr>
          <a:xfrm flipV="1">
            <a:off x="2195280" y="2436480"/>
            <a:ext cx="1440360" cy="45000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2484360" y="3068640"/>
            <a:ext cx="239724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тче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бюджетам, входящим в состав консолидированного бюджета субъекта)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тчеты ф. 050315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по бюджетам муниципальных районов, входящим в состав консолидированного бюджета субъекта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/>
          <p:nvPr/>
        </p:nvCxnSpPr>
        <p:spPr>
          <a:xfrm flipH="1" rot="16200000">
            <a:off x="1682640" y="3654000"/>
            <a:ext cx="882000" cy="720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1" name=""/>
          <p:cNvGrpSpPr/>
          <p:nvPr/>
        </p:nvGrpSpPr>
        <p:grpSpPr>
          <a:xfrm>
            <a:off x="1116000" y="5445000"/>
            <a:ext cx="1871640" cy="1066680"/>
            <a:chOff x="1116000" y="5445000"/>
            <a:chExt cx="1871640" cy="106668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167076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11600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708360" y="5445000"/>
            <a:ext cx="1871640" cy="1066680"/>
            <a:chOff x="3708360" y="5445000"/>
            <a:chExt cx="1871640" cy="1066680"/>
          </a:xfrm>
        </p:grpSpPr>
        <p:pic>
          <p:nvPicPr>
            <p:cNvPr id="275" name="" descr=""/>
            <p:cNvPicPr/>
            <p:nvPr/>
          </p:nvPicPr>
          <p:blipFill>
            <a:blip r:embed="rId4"/>
            <a:stretch/>
          </p:blipFill>
          <p:spPr>
            <a:xfrm>
              <a:off x="426312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70836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516720" y="5445000"/>
            <a:ext cx="1871640" cy="1066680"/>
            <a:chOff x="6516720" y="5445000"/>
            <a:chExt cx="1871640" cy="1066680"/>
          </a:xfrm>
        </p:grpSpPr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707148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51672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0" name=""/>
          <p:cNvCxnSpPr>
            <a:stCxn id="269" idx="2"/>
            <a:endCxn id="272" idx="3"/>
          </p:cNvCxnSpPr>
          <p:nvPr/>
        </p:nvCxnSpPr>
        <p:spPr>
          <a:xfrm rot="5400000">
            <a:off x="2674800" y="4797000"/>
            <a:ext cx="810360" cy="120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9" idx="2"/>
            <a:endCxn id="275" idx="0"/>
          </p:cNvCxnSpPr>
          <p:nvPr/>
        </p:nvCxnSpPr>
        <p:spPr>
          <a:xfrm flipH="1" rot="16200000">
            <a:off x="3948840" y="4728960"/>
            <a:ext cx="450000" cy="98316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9" idx="2"/>
            <a:endCxn id="278" idx="0"/>
          </p:cNvCxnSpPr>
          <p:nvPr/>
        </p:nvCxnSpPr>
        <p:spPr>
          <a:xfrm flipH="1" rot="16200000">
            <a:off x="5353920" y="3324600"/>
            <a:ext cx="450000" cy="379152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9" idx="3"/>
            <a:endCxn id="262" idx="2"/>
          </p:cNvCxnSpPr>
          <p:nvPr/>
        </p:nvCxnSpPr>
        <p:spPr>
          <a:xfrm flipV="1">
            <a:off x="4881600" y="3628800"/>
            <a:ext cx="1851840" cy="403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28480" y="2205000"/>
            <a:ext cx="2052720" cy="736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х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97640" y="2136600"/>
            <a:ext cx="2052720" cy="7369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61000" y="4413240"/>
            <a:ext cx="2052720" cy="736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8480" y="4479840"/>
            <a:ext cx="2052720" cy="7351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ефицит/Профици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44920" y="3809880"/>
            <a:ext cx="2052720" cy="736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Закон о бюдже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44920" y="2806560"/>
            <a:ext cx="2052720" cy="7369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Бюджетна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оспис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7" idx="3"/>
            <a:endCxn id="288" idx="1"/>
          </p:cNvCxnSpPr>
          <p:nvPr/>
        </p:nvCxnSpPr>
        <p:spPr>
          <a:xfrm flipV="1">
            <a:off x="2580840" y="4177440"/>
            <a:ext cx="964440" cy="670680"/>
          </a:xfrm>
          <a:prstGeom prst="bentConnector3">
            <a:avLst>
              <a:gd name="adj1" fmla="val 49887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4" idx="3"/>
            <a:endCxn id="288" idx="1"/>
          </p:cNvCxnSpPr>
          <p:nvPr/>
        </p:nvCxnSpPr>
        <p:spPr>
          <a:xfrm>
            <a:off x="2580840" y="2573280"/>
            <a:ext cx="964440" cy="1605600"/>
          </a:xfrm>
          <a:prstGeom prst="bentConnector3">
            <a:avLst>
              <a:gd name="adj1" fmla="val 49887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5" idx="1"/>
            <a:endCxn id="289" idx="0"/>
          </p:cNvCxnSpPr>
          <p:nvPr/>
        </p:nvCxnSpPr>
        <p:spPr>
          <a:xfrm flipV="1" rot="10800000">
            <a:off x="4571280" y="2504160"/>
            <a:ext cx="1926360" cy="30204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6" idx="0"/>
            <a:endCxn id="289" idx="3"/>
          </p:cNvCxnSpPr>
          <p:nvPr/>
        </p:nvCxnSpPr>
        <p:spPr>
          <a:xfrm flipV="1" rot="16200000">
            <a:off x="5973120" y="2798280"/>
            <a:ext cx="1239120" cy="199116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6" idx="1"/>
            <a:endCxn id="288" idx="3"/>
          </p:cNvCxnSpPr>
          <p:nvPr/>
        </p:nvCxnSpPr>
        <p:spPr>
          <a:xfrm rot="10800000">
            <a:off x="5596920" y="4178160"/>
            <a:ext cx="964080" cy="603720"/>
          </a:xfrm>
          <a:prstGeom prst="bentConnector3">
            <a:avLst>
              <a:gd name="adj1" fmla="val 50056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068560" y="1817640"/>
            <a:ext cx="4491000" cy="100188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утрен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52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46360" y="355752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утрен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Поступления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46360" y="516240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утрен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Выбытия – Бюджетная роспис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068560" y="1744560"/>
            <a:ext cx="4491000" cy="100188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еш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62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46360" y="348444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еш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Поступления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46360" y="508968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еш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Выбытия – Бюджетная роспис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068560" y="1817640"/>
            <a:ext cx="4491000" cy="100188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зменение остатков средст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70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46360" y="355752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величение остатков средст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71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46360" y="5162400"/>
            <a:ext cx="449100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ение остатков средст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720 – Бюджетная роспис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36600" y="2887560"/>
            <a:ext cx="3875040" cy="10033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утреннег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52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6600" y="1816200"/>
            <a:ext cx="4491000" cy="736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финанс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500 = стр. 520 + стр. 620 + стр. 7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26160" y="3295800"/>
            <a:ext cx="3078000" cy="14713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ефицит/Профици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стр. 450 – Закон о бюджет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6600" y="4226040"/>
            <a:ext cx="3875040" cy="100152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сточники внешн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финансирова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62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6600" y="5570640"/>
            <a:ext cx="3875040" cy="7347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Изменение остатков средст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стр. 700 – Закон о бюджет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33920" y="4164120"/>
            <a:ext cx="3337200" cy="4032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720" y="3421080"/>
            <a:ext cx="3102120" cy="4698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5880" y="4761000"/>
            <a:ext cx="3101760" cy="4683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5880" y="5904000"/>
            <a:ext cx="3101760" cy="4683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3" idx="3"/>
            <a:endCxn id="314" idx="1"/>
          </p:cNvCxnSpPr>
          <p:nvPr/>
        </p:nvCxnSpPr>
        <p:spPr>
          <a:xfrm>
            <a:off x="4827600" y="2184120"/>
            <a:ext cx="899280" cy="1848600"/>
          </a:xfrm>
          <a:prstGeom prst="bentConnector3">
            <a:avLst>
              <a:gd name="adj1" fmla="val 49819"/>
            </a:avLst>
          </a:prstGeom>
          <a:ln w="22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539640" y="2967120"/>
            <a:ext cx="813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24000" y="112536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0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492360" y="1413000"/>
            <a:ext cx="1895400" cy="1009440"/>
            <a:chOff x="3492360" y="1413000"/>
            <a:chExt cx="1895400" cy="1009440"/>
          </a:xfrm>
        </p:grpSpPr>
        <p:pic>
          <p:nvPicPr>
            <p:cNvPr id="49" name="Picture 8" descr="i?id=106927965-45-72&amp;n=16"/>
            <p:cNvPicPr/>
            <p:nvPr/>
          </p:nvPicPr>
          <p:blipFill>
            <a:blip r:embed="rId1"/>
            <a:stretch/>
          </p:blipFill>
          <p:spPr>
            <a:xfrm>
              <a:off x="4163760" y="1413000"/>
              <a:ext cx="50004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492360" y="2054160"/>
              <a:ext cx="18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нфин Ро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4000" y="3038400"/>
            <a:ext cx="275400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162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57640" y="303840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191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03840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33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0" idx="1"/>
            <a:endCxn id="51" idx="0"/>
          </p:cNvCxnSpPr>
          <p:nvPr/>
        </p:nvCxnSpPr>
        <p:spPr>
          <a:xfrm flipV="1" rot="10800000">
            <a:off x="1701000" y="2238120"/>
            <a:ext cx="1791360" cy="800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2"/>
          </p:cNvCxnSpPr>
          <p:nvPr/>
        </p:nvCxnSpPr>
        <p:spPr>
          <a:xfrm flipH="1" rot="16200000">
            <a:off x="4222440" y="2637360"/>
            <a:ext cx="616680" cy="183240"/>
          </a:xfrm>
          <a:prstGeom prst="bentConnector3">
            <a:avLst>
              <a:gd name="adj1" fmla="val 497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53" idx="0"/>
          </p:cNvCxnSpPr>
          <p:nvPr/>
        </p:nvCxnSpPr>
        <p:spPr>
          <a:xfrm>
            <a:off x="5388120" y="2238480"/>
            <a:ext cx="2147040" cy="800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Text Box 3"/>
          <p:cNvSpPr/>
          <p:nvPr/>
        </p:nvSpPr>
        <p:spPr>
          <a:xfrm>
            <a:off x="539640" y="548640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8880" y="46465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557680"/>
            <a:ext cx="275400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собенности представления отчет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57640" y="555768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555768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8" idx="1"/>
            <a:endCxn id="59" idx="0"/>
          </p:cNvCxnSpPr>
          <p:nvPr/>
        </p:nvCxnSpPr>
        <p:spPr>
          <a:xfrm flipV="1" rot="10800000">
            <a:off x="1701000" y="4829760"/>
            <a:ext cx="1215360" cy="727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endCxn id="60" idx="0"/>
          </p:cNvCxnSpPr>
          <p:nvPr/>
        </p:nvCxnSpPr>
        <p:spPr>
          <a:xfrm flipH="1" rot="16200000">
            <a:off x="4295880" y="5217840"/>
            <a:ext cx="545040" cy="135360"/>
          </a:xfrm>
          <a:prstGeom prst="bentConnector3">
            <a:avLst>
              <a:gd name="adj1" fmla="val 4983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8" idx="3"/>
            <a:endCxn id="61" idx="0"/>
          </p:cNvCxnSpPr>
          <p:nvPr/>
        </p:nvCxnSpPr>
        <p:spPr>
          <a:xfrm>
            <a:off x="6039000" y="4830480"/>
            <a:ext cx="1496160" cy="727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" descr="&amp;Ocy;&amp;fcy;&amp;icy;&amp;tscy;&amp;icy;&amp;acy;&amp;lcy;&amp;softcy;&amp;ncy;&amp;ycy;&amp;jcy; &amp;scy;&amp;acy;&amp;jcy;&amp;tcy; &amp;Fcy;&amp;iecy;&amp;dcy;&amp;iecy;&amp;rcy;&amp;acy;&amp;lcy;&amp;softcy;&amp;ncy;&amp;ocy;&amp;gcy;&amp;ocy; &amp;Kcy;&amp;acy;&amp;zcy;&amp;ncy;&amp;acy;&amp;chcy;&amp;iecy;&amp;jcy;&amp;scy;&amp;tcy;&amp;vcy;&amp;acy; &amp;Rcy;&amp;ocy;&amp;scy;&amp;scy;&amp;icy;&amp;icy;"/>
          <p:cNvPicPr/>
          <p:nvPr/>
        </p:nvPicPr>
        <p:blipFill>
          <a:blip r:embed="rId2"/>
          <a:stretch/>
        </p:blipFill>
        <p:spPr>
          <a:xfrm>
            <a:off x="1519200" y="2928960"/>
            <a:ext cx="6105600" cy="100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40360" y="386064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39240" y="1413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до 01.11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9240" y="40053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до 01.01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271440" y="1557360"/>
          <a:ext cx="862344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557360"/>
                    <a:ext cx="8623440" cy="407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956120" y="5310360"/>
            <a:ext cx="1359000" cy="423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72320" y="5310360"/>
            <a:ext cx="1359000" cy="423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9520" y="5837400"/>
            <a:ext cx="2822760" cy="6030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ъем неисполненных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знач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59360" y="5837400"/>
            <a:ext cx="2822400" cy="6030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Гр. 4 – Гр.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endCxn id="329" idx="1"/>
          </p:cNvCxnSpPr>
          <p:nvPr/>
        </p:nvCxnSpPr>
        <p:spPr>
          <a:xfrm>
            <a:off x="3059280" y="6092640"/>
            <a:ext cx="1000800" cy="46440"/>
          </a:xfrm>
          <a:prstGeom prst="bentConnector3">
            <a:avLst>
              <a:gd name="adj1" fmla="val 4998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9" idx="3"/>
            <a:endCxn id="327" idx="4"/>
          </p:cNvCxnSpPr>
          <p:nvPr/>
        </p:nvCxnSpPr>
        <p:spPr>
          <a:xfrm flipV="1">
            <a:off x="6881760" y="5743080"/>
            <a:ext cx="1470960" cy="3960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117 – плановые показа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59280" y="2997360"/>
            <a:ext cx="2305080" cy="647640"/>
          </a:xfrm>
          <a:prstGeom prst="wedgeRoundRectCallout">
            <a:avLst>
              <a:gd name="adj1" fmla="val -67495"/>
              <a:gd name="adj2" fmla="val 112254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 структуре закона о бюджете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954160" y="222120"/>
            <a:ext cx="434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исполнении бюджета (ф. 0503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Заголовок 3"/>
          <p:cNvSpPr/>
          <p:nvPr/>
        </p:nvSpPr>
        <p:spPr>
          <a:xfrm>
            <a:off x="1763640" y="1052640"/>
            <a:ext cx="64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737 – отражение возврата неиспользованных остат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108000" y="3056040"/>
            <a:ext cx="1972800" cy="1145160"/>
            <a:chOff x="-108000" y="3056040"/>
            <a:chExt cx="1972800" cy="114516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385200" y="3056040"/>
              <a:ext cx="9554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-108000" y="3894120"/>
              <a:ext cx="197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-108000" y="5157720"/>
            <a:ext cx="1972800" cy="1145160"/>
            <a:chOff x="-108000" y="5157720"/>
            <a:chExt cx="1972800" cy="1145160"/>
          </a:xfrm>
        </p:grpSpPr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385200" y="5157720"/>
              <a:ext cx="9554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-108000" y="5995800"/>
              <a:ext cx="197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У/Б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805040" y="3133800"/>
            <a:ext cx="1903320" cy="8622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еречисление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2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9720" y="5240160"/>
            <a:ext cx="1898640" cy="1115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ступление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180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стр. 101 – 10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37600" y="2276640"/>
            <a:ext cx="1736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кущий го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92680" y="3135240"/>
            <a:ext cx="1903320" cy="8622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зврат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«–»2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95560" y="5240160"/>
            <a:ext cx="1898640" cy="1115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зврат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«-» 180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стр. 101 – 10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51720" y="3144960"/>
            <a:ext cx="1903320" cy="86220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зврат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1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59640" y="5267160"/>
            <a:ext cx="1898640" cy="1115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зврат субсид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КОСГУ «-» 180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10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44360" y="2276640"/>
            <a:ext cx="2158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ледующий го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278136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27640" y="170028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47640" y="170028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465300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881440" y="222120"/>
            <a:ext cx="4588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ируемые расчеты – 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ации показателей Отчета ф. 0503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154560" y="2538360"/>
            <a:ext cx="2057400" cy="2155680"/>
            <a:chOff x="6154560" y="2538360"/>
            <a:chExt cx="2057400" cy="21556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6327720" y="2538360"/>
              <a:ext cx="177156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154560" y="3960720"/>
              <a:ext cx="205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ДБ муниципального рай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954000" y="2541600"/>
            <a:ext cx="2057400" cy="1942560"/>
            <a:chOff x="954000" y="2541600"/>
            <a:chExt cx="2057400" cy="1942560"/>
          </a:xfrm>
        </p:grpSpPr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1127160" y="2541600"/>
              <a:ext cx="177156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954000" y="396396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БС бюджета субъекта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643280" y="1557360"/>
            <a:ext cx="4319640" cy="4824360"/>
          </a:xfrm>
          <a:prstGeom prst="rect">
            <a:avLst/>
          </a:prstGeom>
          <a:noFill/>
          <a:ln w="1908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1557360"/>
            <a:ext cx="4176720" cy="4824360"/>
          </a:xfrm>
          <a:prstGeom prst="rect">
            <a:avLst/>
          </a:prstGeom>
          <a:noFill/>
          <a:ln w="1908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38360" y="1557360"/>
            <a:ext cx="327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юджет муниципальн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йо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83440" y="1577880"/>
            <a:ext cx="2811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юджет субъекта РФ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3213000"/>
            <a:ext cx="2089080" cy="486000"/>
          </a:xfrm>
          <a:prstGeom prst="rightArrow">
            <a:avLst>
              <a:gd name="adj1" fmla="val 50000"/>
              <a:gd name="adj2" fmla="val 107463"/>
            </a:avLst>
          </a:prstGeom>
          <a:solidFill>
            <a:srgbClr val="00cc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50440" y="3833640"/>
            <a:ext cx="254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ередан объект О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4932360"/>
            <a:ext cx="395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т 1 401 20 251 – Кт 1 101 хх 4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т 1 104 хх 410 – Кт 1 401 20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32360" y="4932360"/>
            <a:ext cx="395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т 1 101 хх 310 – Кт 1 401 10 15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т 1 401 10 151 – Кт 1 104 хх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378000" y="1339920"/>
          <a:ext cx="8370720" cy="2370240"/>
        </p:xfrm>
        <a:graphic>
          <a:graphicData uri="http://schemas.openxmlformats.org/drawingml/2006/table">
            <a:tbl>
              <a:tblPr/>
              <a:tblGrid>
                <a:gridCol w="625320"/>
                <a:gridCol w="1062000"/>
                <a:gridCol w="1123920"/>
                <a:gridCol w="2685960"/>
                <a:gridCol w="687600"/>
                <a:gridCol w="623880"/>
                <a:gridCol w="1562040"/>
              </a:tblGrid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125 (1 401 20 251) 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БС субъекта РФ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мент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45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 401 20 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1 хх 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45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1 401 20 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4 хх 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78000" y="4005360"/>
          <a:ext cx="8370720" cy="2238120"/>
        </p:xfrm>
        <a:graphic>
          <a:graphicData uri="http://schemas.openxmlformats.org/drawingml/2006/table">
            <a:tbl>
              <a:tblPr/>
              <a:tblGrid>
                <a:gridCol w="625320"/>
                <a:gridCol w="1062000"/>
                <a:gridCol w="1123920"/>
                <a:gridCol w="2685960"/>
                <a:gridCol w="687600"/>
                <a:gridCol w="623880"/>
                <a:gridCol w="1562040"/>
              </a:tblGrid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125 (1 401 10 151) 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БС М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мент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5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1 401 10 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1 хх 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5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1 401 10 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4 хх 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2881440" y="222120"/>
            <a:ext cx="4588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ируемые расчеты – 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ации показателей Отчета ф. 0503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881440" y="222120"/>
            <a:ext cx="4588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ируемые расчеты – 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ации показателей Отчета ф. 0503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Заголовок 3"/>
          <p:cNvSpPr/>
          <p:nvPr/>
        </p:nvSpPr>
        <p:spPr>
          <a:xfrm>
            <a:off x="2340000" y="1052640"/>
            <a:ext cx="554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Консолидированный отчет о финансовых результатах деятельности ф. 0503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703520"/>
          <a:ext cx="8291520" cy="4763880"/>
        </p:xfrm>
        <a:graphic>
          <a:graphicData uri="http://schemas.openxmlformats.org/drawingml/2006/table">
            <a:tbl>
              <a:tblPr/>
              <a:tblGrid>
                <a:gridCol w="1658880"/>
                <a:gridCol w="1376280"/>
                <a:gridCol w="1940040"/>
                <a:gridCol w="1657440"/>
                <a:gridCol w="1658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олидрованный 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лежит исключ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 субъекта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 муниципального рай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= 100 -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= 100 -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= 1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20 +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= 100 –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3851280" y="5950080"/>
            <a:ext cx="1657440" cy="5745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235640" y="5805360"/>
            <a:ext cx="936360" cy="287640"/>
          </a:xfrm>
          <a:prstGeom prst="line">
            <a:avLst/>
          </a:prstGeom>
          <a:ln w="1584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092720" y="4941720"/>
            <a:ext cx="936360" cy="574920"/>
          </a:xfrm>
          <a:prstGeom prst="line">
            <a:avLst/>
          </a:prstGeom>
          <a:ln w="1584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881440" y="222120"/>
            <a:ext cx="4588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ируемые расчеты – 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онсолидации показателей Отчета ф. 0503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Заголовок 3"/>
          <p:cNvSpPr/>
          <p:nvPr/>
        </p:nvSpPr>
        <p:spPr>
          <a:xfrm>
            <a:off x="2340000" y="1052640"/>
            <a:ext cx="554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Консолидированный отчет о финансовых результатах деятельности ф. 0503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24000" y="1739880"/>
          <a:ext cx="8507160" cy="4581720"/>
        </p:xfrm>
        <a:graphic>
          <a:graphicData uri="http://schemas.openxmlformats.org/drawingml/2006/table">
            <a:tbl>
              <a:tblPr/>
              <a:tblGrid>
                <a:gridCol w="3514680"/>
                <a:gridCol w="647640"/>
                <a:gridCol w="1584360"/>
                <a:gridCol w="1735200"/>
                <a:gridCol w="1025280"/>
              </a:tblGrid>
              <a:tr h="319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видам выбытий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ы муниципальных рай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видам выбытий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4716360" y="4724280"/>
            <a:ext cx="2160720" cy="0"/>
          </a:xfrm>
          <a:prstGeom prst="line">
            <a:avLst/>
          </a:prstGeom>
          <a:ln w="19080">
            <a:solidFill>
              <a:srgbClr val="e40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804000" y="3212640"/>
            <a:ext cx="0" cy="1366920"/>
          </a:xfrm>
          <a:prstGeom prst="line">
            <a:avLst/>
          </a:prstGeom>
          <a:ln w="19080">
            <a:solidFill>
              <a:srgbClr val="e40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62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3800" y="183816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42520" y="183816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5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9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66120" y="18381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000" y="2637000"/>
            <a:ext cx="282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ки по счетам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инансовые 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е 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яз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443700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2680" y="51354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книг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исходящие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124160" y="305280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79800" y="3751200"/>
            <a:ext cx="264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равка ф. 05048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блица соответ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дов Б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четов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98680" y="2637000"/>
            <a:ext cx="282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ки по счетам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инансовые 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е 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яз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7005600" y="443700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138360" y="513540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книг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входящие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2000" y="5734080"/>
            <a:ext cx="2592360" cy="647640"/>
          </a:xfrm>
          <a:prstGeom prst="wedgeRoundRectCallout">
            <a:avLst>
              <a:gd name="adj1" fmla="val 3583"/>
              <a:gd name="adj2" fmla="val -120342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ребует нормативного закрепления</a:t>
            </a: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62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3800" y="183816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42520" y="183816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66120" y="18381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2708280"/>
            <a:ext cx="28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й акт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ый кред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 бюдж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 01 06 05 02 02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207 11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40360" y="2708280"/>
            <a:ext cx="28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й акт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ый кред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 бюдж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 01 08 07 05 02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207 11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63600" y="385452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 06 05 02 02 0000 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76200" y="5294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 08 07 05 02 0000 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93000" y="2441520"/>
            <a:ext cx="20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юдже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11640" y="42530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62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800" y="183816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2520" y="183816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5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9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66120" y="18381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708280"/>
            <a:ext cx="280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инансовый акт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мобиль, приобретен в рам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азвитие скорой медицинской по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 0901 1234567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101 25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82760" y="3645000"/>
            <a:ext cx="261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ды БК исключ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указаний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верш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93000" y="2441520"/>
            <a:ext cx="20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юдже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12000" y="2708280"/>
            <a:ext cx="280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инансовый акт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мобиль, приобретен в рам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азвитие скорой медицинской по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 0901 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??????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101 25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58920" y="4797360"/>
            <a:ext cx="1009440" cy="43200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5734080"/>
            <a:ext cx="2592360" cy="792000"/>
          </a:xfrm>
          <a:prstGeom prst="wedgeRoundRectCallout">
            <a:avLst>
              <a:gd name="adj1" fmla="val 3583"/>
              <a:gd name="adj2" fmla="val -107513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рограмма «Развитие скорой медицинской помощи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91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2480" y="2181240"/>
            <a:ext cx="848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едакционные пра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работки с учетом перехода на обслуживание в орг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К государственных внебюджетных фо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переформатирование» Сведений ф. 050316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ложения по Сведениям о доходах бюджета от пере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асти прибыли государственных (муниципальны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нитарных предприятий (ф. 05031ХХ)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 отчетност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иказ ФК № 18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00000" y="2997360"/>
            <a:ext cx="1295280" cy="1721520"/>
            <a:chOff x="900000" y="2997360"/>
            <a:chExt cx="1295280" cy="172152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900000" y="2997360"/>
              <a:ext cx="125496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900000" y="3985560"/>
              <a:ext cx="1295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субъекта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781440" y="4221000"/>
            <a:ext cx="1676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юджетная отче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1440" y="2852640"/>
            <a:ext cx="1676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хгалтерская  отчетность АУ/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093080" y="2997360"/>
            <a:ext cx="1294920" cy="1294920"/>
            <a:chOff x="7093080" y="2997360"/>
            <a:chExt cx="1294920" cy="12949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093080" y="29973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093080" y="398520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"/>
          <p:cNvCxnSpPr>
            <a:stCxn id="72" idx="3"/>
            <a:endCxn id="75" idx="1"/>
          </p:cNvCxnSpPr>
          <p:nvPr/>
        </p:nvCxnSpPr>
        <p:spPr>
          <a:xfrm flipV="1">
            <a:off x="2155680" y="3222360"/>
            <a:ext cx="1626480" cy="26424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2" idx="3"/>
            <a:endCxn id="74" idx="1"/>
          </p:cNvCxnSpPr>
          <p:nvPr/>
        </p:nvCxnSpPr>
        <p:spPr>
          <a:xfrm>
            <a:off x="2155680" y="3485880"/>
            <a:ext cx="1626480" cy="99900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5" idx="3"/>
            <a:endCxn id="77" idx="1"/>
          </p:cNvCxnSpPr>
          <p:nvPr/>
        </p:nvCxnSpPr>
        <p:spPr>
          <a:xfrm>
            <a:off x="5457960" y="3222720"/>
            <a:ext cx="1635840" cy="264240"/>
          </a:xfrm>
          <a:prstGeom prst="bentConnector3">
            <a:avLst>
              <a:gd name="adj1" fmla="val 499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4" idx="3"/>
            <a:endCxn id="77" idx="1"/>
          </p:cNvCxnSpPr>
          <p:nvPr/>
        </p:nvCxnSpPr>
        <p:spPr>
          <a:xfrm flipV="1">
            <a:off x="5457960" y="3485520"/>
            <a:ext cx="1635840" cy="999000"/>
          </a:xfrm>
          <a:prstGeom prst="bentConnector3">
            <a:avLst>
              <a:gd name="adj1" fmla="val 499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 месячной и квартальной отчетности в МОУ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5373720"/>
            <a:ext cx="2952720" cy="647640"/>
          </a:xfrm>
          <a:prstGeom prst="wedgeRoundRectCallout">
            <a:avLst>
              <a:gd name="adj1" fmla="val 53120"/>
              <a:gd name="adj2" fmla="val -144851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e40059"/>
                </a:solidFill>
                <a:latin typeface="Arial"/>
              </a:rPr>
              <a:t>15 числа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месяца, следующего за отчет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1773360"/>
            <a:ext cx="2952720" cy="647640"/>
          </a:xfrm>
          <a:prstGeom prst="wedgeRoundRectCallout">
            <a:avLst>
              <a:gd name="adj1" fmla="val -49407"/>
              <a:gd name="adj2" fmla="val 114949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e40059"/>
                </a:solidFill>
                <a:latin typeface="Arial"/>
              </a:rPr>
              <a:t>25 числа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месяца, следующего за отчет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91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Текст 2"/>
          <p:cNvGraphicFramePr/>
          <p:nvPr/>
        </p:nvGraphicFramePr>
        <p:xfrm>
          <a:off x="611280" y="1484280"/>
          <a:ext cx="7931160" cy="49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793116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7016040" y="616572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9"/>
                </a:solidFill>
                <a:latin typeface="Arial"/>
              </a:rPr>
              <a:t>Предложения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649960" y="222120"/>
            <a:ext cx="5017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вершенствование нормативного рег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 формирования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Инструкция № 191н - Предложения ФК по внесению измен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16040" y="616572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9"/>
                </a:solidFill>
                <a:latin typeface="Arial"/>
              </a:rPr>
              <a:t>Предложения 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Текст 2"/>
          <p:cNvGraphicFramePr/>
          <p:nvPr/>
        </p:nvGraphicFramePr>
        <p:xfrm>
          <a:off x="514440" y="1773360"/>
          <a:ext cx="8342280" cy="296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773360"/>
                    <a:ext cx="834228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640320" y="222120"/>
            <a:ext cx="3098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Кассовое обслуживание АУ/Б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ражение в учете органа, осуществляющего кассовое</a:t>
            </a:r>
            <a:br>
              <a:rPr sz="1700"/>
            </a:b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бслуживание АУ/БУ невыясненных поступлений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50720" y="1733400"/>
          <a:ext cx="8298000" cy="4923000"/>
        </p:xfrm>
        <a:graphic>
          <a:graphicData uri="http://schemas.openxmlformats.org/drawingml/2006/table">
            <a:tbl>
              <a:tblPr/>
              <a:tblGrid>
                <a:gridCol w="4151520"/>
                <a:gridCol w="41464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, осуществляющий кассовое обслуживание АУ/Б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. Поступление НВС н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чета 40601(407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3 13 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07 13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2. Уточнение Н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7 13 18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7 13 хх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7 13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03 13 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3 13 6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07 13 хх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3. Возврат Н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7 13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203 13 6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870840" y="1601640"/>
            <a:ext cx="743112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ерации по обеспечению ПБ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личными денежными средства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 использованием расчетных (дебетовых) кар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в части осуществления операций 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нежными средствами с использование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анковских карт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как для получения (внесени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аличных денег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так и для осуществления расчет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5812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465120" y="1488960"/>
          <a:ext cx="8231040" cy="391968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9421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5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ание средств с ЛС учреждения на счет, открытый органу ФК на балансовом счете № 40116 «Средства для выплаты наличных денег организациям», на основании Заявки на получение наличных денежных средств, перечисляемых на карту (код формы по КФД 053184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5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304 05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65120" y="1488960"/>
          <a:ext cx="8231040" cy="490536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10029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денежных средств подотчетному лицу на карт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08 хх 5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к учету произведенных расходов по авансовому отчету подотчетного   ли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105 хх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106 хх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302 хх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08 хх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465120" y="1488960"/>
          <a:ext cx="8231040" cy="476892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92304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588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неиспользованных остатков сумм, выданных под отчет или возврат невостребованной суммы со счета № 40116 через банкомат или пункт выдачи наличных денежных средств на основании Расшифровки сумм неиспользованных (внесенных через банкомат или пункт выдачи наличных денежных средств) средств (код формы по КФД 053184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5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08 хх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465120" y="1488960"/>
          <a:ext cx="8231040" cy="391968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9421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5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числение денежных средств на лицевой счет учреждения, открытый в органе казначейства на основании Расшифровки сумм неиспользованных (внесенных через банкомат или пункт выдачи наличных денежных средств) средств (код формы по КФД 053184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304 05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465120" y="1488960"/>
          <a:ext cx="8231040" cy="3919680"/>
        </p:xfrm>
        <a:graphic>
          <a:graphicData uri="http://schemas.openxmlformats.org/drawingml/2006/table">
            <a:tbl>
              <a:tblPr/>
              <a:tblGrid>
                <a:gridCol w="714240"/>
                <a:gridCol w="3402360"/>
                <a:gridCol w="2057040"/>
                <a:gridCol w="2057400"/>
              </a:tblGrid>
              <a:tr h="9421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5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числение денежных средств на лицевой счет учреждения, открытый в органе казначейства на основании Расшифровки сумм неиспользованных (внесенных через банкомат или пункт выдачи наличных денежных средств) средств (код формы по КФД 053184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304 05 хх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210 03 6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>
            <a:off x="2275560" y="222120"/>
            <a:ext cx="5457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оведение расчетов с использование банковских к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D034-C323-4CD2-B02F-201878471CEA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8694720" y="6230880"/>
            <a:ext cx="314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2025-B513-4381-BE73-D99E83A10B9F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Мероприятия в 2013-2014 гг. по обеспечению формирования и представления годовой бюджетной отчетности за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720" y="2181240"/>
            <a:ext cx="7981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ве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собенностей формирова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довой бюджетной отчетности за 2013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аботка/доработка и утверж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форм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электронного обме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ри представлении отчетност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аботка/доработка и утверж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контро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соотношени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для показателей отчетности представля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ведение дополнительной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видеоконференц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по вопро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ормирования и представления отчетности за 2013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2400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Мероприятия в 2013-2014 гг. по обеспечению формирования и представления годовой бюджетной отчетности за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3480" y="2327400"/>
            <a:ext cx="129276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48200" y="2327400"/>
            <a:ext cx="20638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уб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84560" y="3767040"/>
            <a:ext cx="211572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б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4920" y="5261040"/>
            <a:ext cx="1915920" cy="91476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нес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93280" y="5638680"/>
            <a:ext cx="22312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076640" y="154728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393400">
            <a:off x="5292360" y="29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91800">
            <a:off x="2484000" y="443700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4076640" y="466200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3716280"/>
            <a:ext cx="792000" cy="8650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!!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Мероприятия в 2013-2014 гг. по обеспечению формирования и представления годовой бюджетной отчетности за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0720" y="2292480"/>
            <a:ext cx="826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верка показател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заимосвязанных расчетов п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остоя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01.10.201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в период </a:t>
            </a: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с ????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по ????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ПФР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9280" y="4351320"/>
            <a:ext cx="792360" cy="1063080"/>
            <a:chOff x="179280" y="4351320"/>
            <a:chExt cx="792360" cy="10630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79280" y="435132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79280" y="51073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30680" y="2771640"/>
            <a:ext cx="1795320" cy="1189800"/>
            <a:chOff x="3730680" y="2771640"/>
            <a:chExt cx="1795320" cy="118980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179240" y="2771640"/>
              <a:ext cx="8690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730680" y="3441240"/>
              <a:ext cx="17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рриториальный орган 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692360" y="435132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endCxn id="114" idx="1"/>
          </p:cNvCxnSpPr>
          <p:nvPr/>
        </p:nvCxnSpPr>
        <p:spPr>
          <a:xfrm>
            <a:off x="899640" y="470484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 flipH="1" flipV="1" rot="5400000">
            <a:off x="2728800" y="295380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3635280" y="4278240"/>
            <a:ext cx="1871640" cy="853920"/>
            <a:chOff x="3635280" y="4278240"/>
            <a:chExt cx="1871640" cy="85392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190040" y="42782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35280" y="48250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0" name=""/>
          <p:cNvCxnSpPr>
            <a:stCxn id="114" idx="3"/>
            <a:endCxn id="118" idx="1"/>
          </p:cNvCxnSpPr>
          <p:nvPr/>
        </p:nvCxnSpPr>
        <p:spPr>
          <a:xfrm flipV="1">
            <a:off x="3368520" y="4639680"/>
            <a:ext cx="821520" cy="294120"/>
          </a:xfrm>
          <a:prstGeom prst="bentConnector3">
            <a:avLst>
              <a:gd name="adj1" fmla="val 498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1" name=""/>
          <p:cNvGrpSpPr/>
          <p:nvPr/>
        </p:nvGrpSpPr>
        <p:grpSpPr>
          <a:xfrm>
            <a:off x="7524720" y="4278240"/>
            <a:ext cx="1655640" cy="853920"/>
            <a:chOff x="7524720" y="4278240"/>
            <a:chExt cx="1655640" cy="85392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8015400" y="427824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524720" y="482508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703840" y="4351320"/>
            <a:ext cx="16765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/>
          <p:nvPr/>
        </p:nvCxnSpPr>
        <p:spPr>
          <a:xfrm>
            <a:off x="5003280" y="463860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3"/>
            <a:endCxn id="122" idx="1"/>
          </p:cNvCxnSpPr>
          <p:nvPr/>
        </p:nvCxnSpPr>
        <p:spPr>
          <a:xfrm flipV="1">
            <a:off x="7380360" y="4639680"/>
            <a:ext cx="635760" cy="294120"/>
          </a:xfrm>
          <a:prstGeom prst="bentConnector3">
            <a:avLst>
              <a:gd name="adj1" fmla="val 4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ПФР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9280" y="4351320"/>
            <a:ext cx="792360" cy="1063080"/>
            <a:chOff x="179280" y="4351320"/>
            <a:chExt cx="792360" cy="1063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79280" y="435132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79280" y="51073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730680" y="2771640"/>
            <a:ext cx="1795320" cy="1189800"/>
            <a:chOff x="3730680" y="2771640"/>
            <a:chExt cx="1795320" cy="11898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179240" y="2771640"/>
              <a:ext cx="8690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730680" y="3441240"/>
              <a:ext cx="17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гиональное отделение 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692360" y="435132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endCxn id="136" idx="1"/>
          </p:cNvCxnSpPr>
          <p:nvPr/>
        </p:nvCxnSpPr>
        <p:spPr>
          <a:xfrm>
            <a:off x="899640" y="470484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flipV="1" rot="5400000">
            <a:off x="2728800" y="295380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9" name=""/>
          <p:cNvGrpSpPr/>
          <p:nvPr/>
        </p:nvGrpSpPr>
        <p:grpSpPr>
          <a:xfrm>
            <a:off x="3635280" y="4278240"/>
            <a:ext cx="1871640" cy="853920"/>
            <a:chOff x="3635280" y="4278240"/>
            <a:chExt cx="1871640" cy="85392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4190040" y="42782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635280" y="48250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2" name=""/>
          <p:cNvCxnSpPr>
            <a:stCxn id="136" idx="3"/>
            <a:endCxn id="140" idx="1"/>
          </p:cNvCxnSpPr>
          <p:nvPr/>
        </p:nvCxnSpPr>
        <p:spPr>
          <a:xfrm flipV="1">
            <a:off x="3368520" y="4639680"/>
            <a:ext cx="821520" cy="294120"/>
          </a:xfrm>
          <a:prstGeom prst="bentConnector3">
            <a:avLst>
              <a:gd name="adj1" fmla="val 498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" name=""/>
          <p:cNvGrpSpPr/>
          <p:nvPr/>
        </p:nvGrpSpPr>
        <p:grpSpPr>
          <a:xfrm>
            <a:off x="7524720" y="4278240"/>
            <a:ext cx="1655640" cy="853920"/>
            <a:chOff x="7524720" y="4278240"/>
            <a:chExt cx="1655640" cy="853920"/>
          </a:xfrm>
        </p:grpSpPr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8015400" y="427824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524720" y="482508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703840" y="4351320"/>
            <a:ext cx="16765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5003280" y="463860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44" idx="1"/>
          </p:cNvCxnSpPr>
          <p:nvPr/>
        </p:nvCxnSpPr>
        <p:spPr>
          <a:xfrm flipV="1">
            <a:off x="7380360" y="4639680"/>
            <a:ext cx="635760" cy="294120"/>
          </a:xfrm>
          <a:prstGeom prst="bentConnector3">
            <a:avLst>
              <a:gd name="adj1" fmla="val 4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Т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60960" y="4797360"/>
            <a:ext cx="806400" cy="722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506920" y="56498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й орган субъект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50920" y="3789360"/>
            <a:ext cx="792360" cy="1063080"/>
            <a:chOff x="2050920" y="3789360"/>
            <a:chExt cx="792360" cy="106308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2050920" y="378936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050920" y="454536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02320" y="2209680"/>
            <a:ext cx="1795320" cy="977040"/>
            <a:chOff x="5602320" y="2209680"/>
            <a:chExt cx="1795320" cy="97704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6050880" y="2209680"/>
              <a:ext cx="8690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602320" y="2879640"/>
              <a:ext cx="17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564000" y="378936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endCxn id="160" idx="1"/>
          </p:cNvCxnSpPr>
          <p:nvPr/>
        </p:nvCxnSpPr>
        <p:spPr>
          <a:xfrm>
            <a:off x="2771280" y="414288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H="1" flipV="1" rot="5400000">
            <a:off x="4600440" y="239184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4397760" y="4903560"/>
            <a:ext cx="948240" cy="1033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1116000" y="5300640"/>
            <a:ext cx="2662200" cy="792360"/>
          </a:xfrm>
          <a:prstGeom prst="wedgeRoundRectCallout">
            <a:avLst>
              <a:gd name="adj1" fmla="val 71824"/>
              <a:gd name="adj2" fmla="val -75449"/>
              <a:gd name="adj3" fmla="val 16667"/>
            </a:avLst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 части ф. 0503151, представление осуществляется с учетом изменений вносимых в порядок представления в финансовый орган Отчета ф. 05031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sony</cp:lastModifiedBy>
  <dcterms:modified xsi:type="dcterms:W3CDTF">2013-09-04T17:49:48Z</dcterms:modified>
  <cp:revision>375</cp:revision>
  <dc:subject/>
  <dc:title>Слайд 1</dc:title>
</cp:coreProperties>
</file>