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33.jpeg" ContentType="image/jpeg"/>
  <Override PartName="/ppt/media/image27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49.jpeg" ContentType="image/jpeg"/>
  <Override PartName="/ppt/media/image6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E25900-A244-4E16-A1A0-46F7EEC10BF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E9D96DC-B9B9-49F2-8CC1-DEE7629E5B9B}" type="slidenum">
              <a:rPr b="0" lang="ru-RU" sz="1200" spc="-1" strike="noStrike">
                <a:solidFill>
                  <a:srgbClr val="5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5BCC153-035F-4B08-8525-42E83DE60730}" type="slidenum">
              <a:rPr b="0" lang="ru-RU" sz="1200" spc="-1" strike="noStrike">
                <a:solidFill>
                  <a:srgbClr val="5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C655-48F0-4556-BBDD-8C996910E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401364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55CA-C138-4C1E-ACAB-548419E18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996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E0DD-0F3F-4894-A321-495DD3279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532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064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532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064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70B5-EAF0-419C-9096-5E10B18C3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58920" y="43920"/>
            <a:ext cx="5618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2D47-5FBF-4174-A7BB-DCFC7685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96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401364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96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532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0640" y="126792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532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0640" y="4013640"/>
            <a:ext cx="29095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3329-12EB-415D-9ADE-D94023EEE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160B-F37D-492F-A429-B562BB697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9714-C3E1-406B-B149-26C52CF90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8920" y="43920"/>
            <a:ext cx="5618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711B-6032-4E53-B0D8-6156C2C0C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A22E-9C0B-46B8-B1D0-1CD9A68AC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9960" y="401364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49CF-EA05-4D54-BF10-4AD84BAFF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960" y="1267920"/>
            <a:ext cx="4409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4013640"/>
            <a:ext cx="9036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BEAC-5F4E-4150-ACA1-945B14450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1C_06_L"/>
          <p:cNvPicPr/>
          <p:nvPr/>
        </p:nvPicPr>
        <p:blipFill>
          <a:blip r:embed="rId3"/>
          <a:stretch/>
        </p:blipFill>
        <p:spPr>
          <a:xfrm>
            <a:off x="0" y="6616800"/>
            <a:ext cx="9144000" cy="2412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1258920" y="115920"/>
            <a:ext cx="0" cy="86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1258920" y="117360"/>
            <a:ext cx="0" cy="865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" name="Picture 44" descr="лого2"/>
          <p:cNvPicPr/>
          <p:nvPr/>
        </p:nvPicPr>
        <p:blipFill>
          <a:blip r:embed="rId4"/>
          <a:stretch/>
        </p:blipFill>
        <p:spPr>
          <a:xfrm>
            <a:off x="179280" y="26028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624"/>
              </a:spcBef>
              <a:buSzPct val="1110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44000" y="6597360"/>
            <a:ext cx="766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5b091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D4A-814E-461E-8745-677BFC10D170}" type="slidenum">
              <a:rPr b="1" lang="ru-RU" sz="1400" spc="-1" strike="noStrike">
                <a:solidFill>
                  <a:srgbClr val="5b091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8" descr="top01"/>
          <p:cNvPicPr/>
          <p:nvPr/>
        </p:nvPicPr>
        <p:blipFill>
          <a:blip r:embed="rId3"/>
          <a:stretch/>
        </p:blipFill>
        <p:spPr>
          <a:xfrm>
            <a:off x="0" y="0"/>
            <a:ext cx="9144000" cy="11667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4"/>
          <p:cNvGrpSpPr/>
          <p:nvPr/>
        </p:nvGrpSpPr>
        <p:grpSpPr>
          <a:xfrm>
            <a:off x="539640" y="5084640"/>
            <a:ext cx="8207280" cy="7920"/>
            <a:chOff x="539640" y="5084640"/>
            <a:chExt cx="8207280" cy="7920"/>
          </a:xfrm>
        </p:grpSpPr>
        <p:sp>
          <p:nvSpPr>
            <p:cNvPr id="46" name="Line 15"/>
            <p:cNvSpPr/>
            <p:nvPr/>
          </p:nvSpPr>
          <p:spPr>
            <a:xfrm>
              <a:off x="539640" y="5092560"/>
              <a:ext cx="8207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47" name="Line 16"/>
            <p:cNvSpPr/>
            <p:nvPr/>
          </p:nvSpPr>
          <p:spPr>
            <a:xfrm>
              <a:off x="539640" y="5084640"/>
              <a:ext cx="820728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48" name="Picture 34" descr="лого2"/>
          <p:cNvPicPr/>
          <p:nvPr/>
        </p:nvPicPr>
        <p:blipFill>
          <a:blip r:embed="rId4"/>
          <a:stretch/>
        </p:blipFill>
        <p:spPr>
          <a:xfrm>
            <a:off x="108000" y="33336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9" name="Line 35"/>
          <p:cNvSpPr/>
          <p:nvPr/>
        </p:nvSpPr>
        <p:spPr>
          <a:xfrm>
            <a:off x="971640" y="115920"/>
            <a:ext cx="0" cy="8650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624"/>
              </a:spcBef>
              <a:buSzPct val="1110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62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6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4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1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2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2.png"/><Relationship Id="rId3" Type="http://schemas.openxmlformats.org/officeDocument/2006/relationships/image" Target="../media/image4.png"/><Relationship Id="rId4" Type="http://schemas.openxmlformats.org/officeDocument/2006/relationships/image" Target="../media/image6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6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Развитие и поддержка решений для государственных (муниципальных) учреждений в связи с изменением законодательства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6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f0000"/>
                </a:solidFill>
                <a:latin typeface="Arial"/>
              </a:rPr>
              <a:t>Сергеева Ксения Викторовна –</a:t>
            </a:r>
            <a:br>
              <a:rPr sz="2200"/>
            </a:br>
            <a:r>
              <a:rPr b="0" lang="ru-RU" sz="2200" spc="-1" strike="noStrike">
                <a:solidFill>
                  <a:srgbClr val="5f0000"/>
                </a:solidFill>
                <a:latin typeface="Arial"/>
              </a:rPr>
              <a:t>Руководитель отдела разработки программ бюджетного учета фирмы «1С», </a:t>
            </a:r>
            <a:br>
              <a:rPr sz="2200"/>
            </a:br>
            <a:r>
              <a:rPr b="0" lang="ru-RU" sz="2200" spc="-1" strike="noStrike">
                <a:solidFill>
                  <a:srgbClr val="5f0000"/>
                </a:solidFill>
                <a:latin typeface="Arial"/>
              </a:rPr>
              <a:t>лауреат премии Правительства России в области науки и техники</a:t>
            </a:r>
            <a:endParaRPr b="1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71640" y="0"/>
            <a:ext cx="81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241c"/>
                </a:solidFill>
                <a:latin typeface="Arial"/>
              </a:rPr>
              <a:t>Всероссийское совещание по вопросам организации бюджетного учета и составления отчетности для специалистов УФК и финансовых органов субъектов Российской Феде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83664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3-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сентября 201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г., г. Геленджик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99" name="Picture 6" descr="вотон"/>
          <p:cNvPicPr/>
          <p:nvPr/>
        </p:nvPicPr>
        <p:blipFill>
          <a:blip r:embed="rId1"/>
          <a:stretch/>
        </p:blipFill>
        <p:spPr>
          <a:xfrm>
            <a:off x="222120" y="3992400"/>
            <a:ext cx="3384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96A-BEDA-48E6-AD52-4C3AB5E322CC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вое в 2013 г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нсоль руководителя – ключевые показатели исполнения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доступном для понимания руководителя виде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25 отчетов по основным направлениям деятельности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мен электронными документами с контрагентами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ыгрузка бюджетной и бухгалтерской отчетности в форматах ФНС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С:Отчетность – отправка непосредственно из программы налоговых деклараций, статистической отчетности в ФНС, ФСС, ПФР, статистику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сширены возможности по взаимодействию с информационными системами регистрации начислений и платежей (ИС РНиП)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еализован обмен данными с ГИС ГМП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едение налогового учета в соответствии с гл. 21, 25, 26.2, 26.3, 30 НК РФ, включая автозаполнение по данным учета налоговых деклараций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ДС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лог на прибыль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УСН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НВД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лог на имущество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26920" y="1915920"/>
            <a:ext cx="58309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3300"/>
                </a:solidFill>
                <a:latin typeface="Arial"/>
              </a:rPr>
              <a:t>Обмен электронными документами</a:t>
            </a:r>
            <a:endParaRPr b="1" lang="en-US" sz="4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0" name="Picture 3" descr="BBU8Prez"/>
          <p:cNvPicPr/>
          <p:nvPr/>
        </p:nvPicPr>
        <p:blipFill>
          <a:blip r:embed="rId1"/>
          <a:stretch/>
        </p:blipFill>
        <p:spPr>
          <a:xfrm>
            <a:off x="0" y="1125360"/>
            <a:ext cx="244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30A-56DE-4342-A54D-A1F3A41D8BBD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троль документов поставк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годня «созданы условия для разработки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истемы контроля, при которой формирование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правление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органы ФК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окументов, подтверждающих возникновение денежных обязательств получателей средств федерального бюджета (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Акты, Накладные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т.п.), может осуществляться исключительно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электронном виде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 телекоммуникационным каналам связи с применением электронной подписи.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едполагается, что после осуществления заказчиком – получателем средств федерального бюджета акцепта документов, подтверждающих возникновение у него денежных обязательств по государственным контрактам (договорам) на оказание услуг (выполнение работ),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рган ФК получит возможность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существле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нтроля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в том числе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автоматическом режиме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на их соответствие государственному контракту (договору).»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ля этого данные о документах поставки должны передаваться в структурированном виде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79280" y="5734080"/>
            <a:ext cx="64764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D72-58C5-4382-868D-45EA3CE75188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е основы обмена электронными документам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настоящее время полностью сформирована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ормативно - правовая база для обмена электронными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кументами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 8 апреля 2011 года действует Федеральный закон от 06.04.2011 №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3-ФЗ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"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б электронной подписи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", который определил порядок получения и использования электронной подписи и обязанности участников обмена электронными документами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овместным приказом Минфина России и ФНС России о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7.02.2011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№ ММВ-7-2/168@ утвержден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рядок представления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по требованию налогового органа документо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 электронном вид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Для того чтобы налогоплательщики могли представлять документы в налоговые органы в электронном виде, ФНС России приказом от 21.03.2012 № ММВ-7-6/172@ утвердила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орматы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первичных документов 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ТОРГ-12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акта приемки-сдачи работ (услуг)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о 2 сентября 2010 года действует абз. 2 п. 1 ст. 169 НК РФ, предоставляющий налогоплательщикам возможность выставлять счета-фактуры в электронном виде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казом ФНС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России от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30.01.2012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№ ММВ-7-6/36@ утвержден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орматы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представления документов, используемых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 обмене счетами-фактурами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в электронном виде по телекоммуникационным каналам связи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орядок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выставления и получения счетов-фактур в электронном виде утвержден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казом Минфина России от 25.04.2011 № 50н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 1 января 2013 г. в соответствии с Законом 402-ФЗ легитимны первичные документы в электронном виде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BED-CBFD-4051-AC48-DD50DF49B3D8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программе «1С:Бухгалтерия государственного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чреждения 8» реализована подсистема обмена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электронными документами с контрагентами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еализован обмен следующими электронными документами: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Акт приемки-сдачи выполненных работ (оказанных услуг)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Товарная накладная ТОРГ-12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чет-фактура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орректировочный счет-фактура; Исправительный счет-фактура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роизвольный электронный документ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ступны два варианта обмена: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Через оператора электронного документооборота - Такском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390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рямой обмен с контрагентом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се документы, включая Произвольный электронный документ вместе с вложениями, могут быть зашифрованы и подписаны электронной подписью (ЭП)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235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ля обмена данными применяются форматы, утвержденные приказами ФНС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, что позволяет организовать юридически значимый документооборот с контрагентами и налоговыми органами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45FC-08ED-4823-9571-71742302D5E2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-36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бмен электронными документам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2" name="Picture 4" descr="new1"/>
          <p:cNvPicPr/>
          <p:nvPr/>
        </p:nvPicPr>
        <p:blipFill>
          <a:blip r:embed="rId13"/>
          <a:stretch/>
        </p:blipFill>
        <p:spPr>
          <a:xfrm>
            <a:off x="7667640" y="-171360"/>
            <a:ext cx="1284120" cy="13683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>
            <a:off x="5364000" y="765000"/>
            <a:ext cx="1224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ffcc00">
                  <a:alpha val="60392"/>
                </a:srgbClr>
              </a:gs>
            </a:gsLst>
            <a:lin ang="5400000"/>
          </a:gradFill>
          <a:ln w="9360">
            <a:solidFill>
              <a:srgbClr val="d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.0.16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3300"/>
                </a:solidFill>
                <a:latin typeface="Arial"/>
              </a:rPr>
              <a:t>Программа повышения эффективности управления общественными (государственными и муниципальными) финансами на период до 2018 года</a:t>
            </a:r>
            <a:endParaRPr b="1" lang="en-US" sz="43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E542-F922-45CB-9745-1B5C6A36F4EA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 сайте Минфина России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19.02.2013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публикован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ект Программы повышения эффективности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правления общественными (государственными и муниципальными) финансами на период до 2018 год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ые направления работы Минфина, Финорганов, ГРБ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1738-B8FA-4AE0-A73E-1A6B6EC7D391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нутренний контроль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6.1. Повышение качества финансового менеджмен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органах исполнительной власти и государственных (муниципальных) учреждениях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еобходимым условием обеспечения эффективного финансового управления на ведомственном уровне становитс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рмирование полноценных систем внутреннего финансового контроля и аудита в органах государственной власт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органах местного самоуправления)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несены поправки в БК РФ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нутренний финансовый контроль в системе главного администратора бюджетных средств определен как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система мер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установлению и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контролю за внутренними процедурами планирования и исполнения бюджета, ведения бюджетного учета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 составления и представления бюджетной отчетности, а также формированию предложений по улучшению качества бюджетных процедур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нутренний контроль должен превратиться в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стоянный процесс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осуществляемый руководством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и должностными лицами всех структурных уровней в ходе исполнения функций (оказания услуг) и полномочий, направленный на предоставление разумных гарантий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1EB-C6F7-4197-8EAB-93AAAC90B2A2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оль руководител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67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овая подсистем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ключена в панель стандартных отчетов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одержит набор из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25 аналитических отчетов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позволяющих оперативно получать в наглядном виде информацию о ключевых финансовых показателях деятельности учреждения, таких как 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татки денежных средств на счетах и в кассе учреждения;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труктура доходов и расходов учреждения, дебиторская и кредиторская задолженность;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полнение принятых обязательств;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инамика изменения показателей.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651640" y="620640"/>
            <a:ext cx="122400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ffcc00">
                  <a:alpha val="60392"/>
                </a:srgbClr>
              </a:gs>
            </a:gsLst>
            <a:lin ang="5400000"/>
          </a:gradFill>
          <a:ln w="9360">
            <a:solidFill>
              <a:srgbClr val="d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.0.17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75" name="Picture 5" descr="Панель СТ_отчетов_2"/>
          <p:cNvPicPr/>
          <p:nvPr/>
        </p:nvPicPr>
        <p:blipFill>
          <a:blip r:embed="rId8"/>
          <a:stretch/>
        </p:blipFill>
        <p:spPr>
          <a:xfrm>
            <a:off x="108000" y="2205000"/>
            <a:ext cx="6337080" cy="45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Панель СТ_отчетов"/>
          <p:cNvPicPr/>
          <p:nvPr/>
        </p:nvPicPr>
        <p:blipFill>
          <a:blip r:embed="rId9"/>
          <a:stretch/>
        </p:blipFill>
        <p:spPr>
          <a:xfrm>
            <a:off x="6305400" y="2852640"/>
            <a:ext cx="2838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BEB2-A799-46F8-8146-99A02DFF8CC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оль руководител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67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овая подсистем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80" name="Picture 7" descr="Консоль1"/>
          <p:cNvPicPr/>
          <p:nvPr/>
        </p:nvPicPr>
        <p:blipFill>
          <a:blip r:embed="rId2"/>
          <a:stretch/>
        </p:blipFill>
        <p:spPr>
          <a:xfrm>
            <a:off x="0" y="1197000"/>
            <a:ext cx="5311800" cy="2860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Консоль2"/>
          <p:cNvPicPr/>
          <p:nvPr/>
        </p:nvPicPr>
        <p:blipFill>
          <a:blip r:embed="rId3"/>
          <a:stretch/>
        </p:blipFill>
        <p:spPr>
          <a:xfrm>
            <a:off x="4427640" y="1197000"/>
            <a:ext cx="5311800" cy="2860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Консоль3"/>
          <p:cNvPicPr/>
          <p:nvPr/>
        </p:nvPicPr>
        <p:blipFill>
          <a:blip r:embed="rId4"/>
          <a:stretch/>
        </p:blipFill>
        <p:spPr>
          <a:xfrm>
            <a:off x="0" y="3997440"/>
            <a:ext cx="5311800" cy="2860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Консоль_3"/>
          <p:cNvPicPr/>
          <p:nvPr/>
        </p:nvPicPr>
        <p:blipFill>
          <a:blip r:embed="rId5"/>
          <a:stretch/>
        </p:blipFill>
        <p:spPr>
          <a:xfrm>
            <a:off x="4643280" y="3546360"/>
            <a:ext cx="4783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95C-07E1-490E-A801-F04BA5B0331D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Управление бюджетным процессом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Электронный документооборот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Управление имуществом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Управление закупками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Анализ и мониторинг показателей развития регион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мплексная система управления регионом (муниципальными образованиями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6"/>
          <a:stretch/>
        </p:blipFill>
        <p:spPr>
          <a:xfrm>
            <a:off x="431640" y="4757760"/>
            <a:ext cx="900360" cy="76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4606920" y="2581200"/>
            <a:ext cx="1330200" cy="77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8"/>
          <a:stretch/>
        </p:blipFill>
        <p:spPr>
          <a:xfrm>
            <a:off x="395280" y="1413000"/>
            <a:ext cx="75096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9"/>
          <a:stretch/>
        </p:blipFill>
        <p:spPr>
          <a:xfrm>
            <a:off x="2627280" y="1413000"/>
            <a:ext cx="600120" cy="704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10"/>
          <a:stretch/>
        </p:blipFill>
        <p:spPr>
          <a:xfrm>
            <a:off x="5326200" y="1417680"/>
            <a:ext cx="846000" cy="69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11"/>
          <a:stretch/>
        </p:blipFill>
        <p:spPr>
          <a:xfrm>
            <a:off x="358920" y="2492280"/>
            <a:ext cx="804600" cy="90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1366920" y="2635200"/>
            <a:ext cx="2592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нутриведомственный документооборо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118200" y="2635200"/>
            <a:ext cx="2486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ежведомственный документооборо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2"/>
          <a:stretch/>
        </p:blipFill>
        <p:spPr>
          <a:xfrm>
            <a:off x="120600" y="3645000"/>
            <a:ext cx="1282680" cy="8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ЦБ_s2 copy"/>
          <p:cNvPicPr/>
          <p:nvPr/>
        </p:nvPicPr>
        <p:blipFill>
          <a:blip r:embed="rId13"/>
          <a:stretch/>
        </p:blipFill>
        <p:spPr>
          <a:xfrm>
            <a:off x="4716360" y="3645000"/>
            <a:ext cx="1081080" cy="79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6"/>
          <p:cNvSpPr/>
          <p:nvPr/>
        </p:nvSpPr>
        <p:spPr>
          <a:xfrm>
            <a:off x="1116000" y="1413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Исполнение бюдж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276720" y="134136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Государственны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и муниципальные зад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6191280" y="1413000"/>
            <a:ext cx="14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Целевые программ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403280" y="48690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Государственные и муниципальные закуп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403280" y="371808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естр государственного и муниципального имуще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867280" y="371808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Электронное взаимодействие с учетными системами бюджетных учрежд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9" name="Picture 24" descr=""/>
          <p:cNvPicPr/>
          <p:nvPr/>
        </p:nvPicPr>
        <p:blipFill>
          <a:blip r:embed="rId14"/>
          <a:stretch/>
        </p:blipFill>
        <p:spPr>
          <a:xfrm>
            <a:off x="7740720" y="1154160"/>
            <a:ext cx="1208160" cy="78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5"/>
          <p:cNvSpPr/>
          <p:nvPr/>
        </p:nvSpPr>
        <p:spPr>
          <a:xfrm>
            <a:off x="7559640" y="186840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Свод от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21" name="Picture 26" descr=""/>
          <p:cNvPicPr/>
          <p:nvPr/>
        </p:nvPicPr>
        <p:blipFill>
          <a:blip r:embed="rId15"/>
          <a:stretch/>
        </p:blipFill>
        <p:spPr>
          <a:xfrm>
            <a:off x="324000" y="6022800"/>
            <a:ext cx="1800000" cy="83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7"/>
          <p:cNvSpPr/>
          <p:nvPr/>
        </p:nvSpPr>
        <p:spPr>
          <a:xfrm>
            <a:off x="2195640" y="601668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Вертикально-интегрированная система сбора и хранилище данны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23" name="Picture 28" descr="10141014_s_r_p~"/>
          <p:cNvPicPr/>
          <p:nvPr/>
        </p:nvPicPr>
        <p:blipFill>
          <a:blip r:embed="rId16"/>
          <a:stretch/>
        </p:blipFill>
        <p:spPr>
          <a:xfrm>
            <a:off x="6145200" y="5877000"/>
            <a:ext cx="1235160" cy="90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7380360" y="587700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Средства анализа и визуализ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1915920"/>
            <a:ext cx="58309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Электронный бюджет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5" name="Picture 3" descr="BBU8Prez"/>
          <p:cNvPicPr/>
          <p:nvPr/>
        </p:nvPicPr>
        <p:blipFill>
          <a:blip r:embed="rId1"/>
          <a:stretch/>
        </p:blipFill>
        <p:spPr>
          <a:xfrm>
            <a:off x="0" y="1125360"/>
            <a:ext cx="244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1F11-1AD2-4AED-B968-03348E9EA14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здание ведомственных и региональных (местных) центров обработки данных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настоящее время у органов власти, главных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аспорядителей бюджетных средств есть 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требность  в организации учета подведомственных государственных, муниципальных учреждений в единой базе данных или «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блаке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» - создание ведомственных и региональных (местных)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ентров обработки данных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предусматривающих удаленную работу и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даленное взаимодействие участников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и не участников бюджетного процесса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ля такой модели ведения учета предназначен новый программный продукт "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С:Бухгалтерия государственного учреждения 8. Редакция 2".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EB57-E9A3-4C7F-8105-EED50D07D633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ухгалтерия госучреждения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дакция 2.0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738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37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C 15.03.2012 приложение доступно на сайте http://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cfresh.com*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 28.04.2012 на интернет-странице поддержки пользователей http://users.v8.1c.ru/ . Готовится к выпуску обновление 1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 платформе 8.2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ддержка тонкого и веб-клиента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63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зработана, в том числе, чтобы удовлетворить спрос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сучреждений на работу с учетными решениями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модели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aaS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адействованы возможности платформы 8.2: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овые возможности управления интерфейсом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рограммы и отдельных форм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SzPct val="1390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еренос основной "вычислительной" нагрузки на сервер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 экономное использование ресурсов клиента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SzPct val="1390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озможность удаленного доступа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SzPct val="13905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озможность использования в модели "программа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ак услуга " – SaaS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01760" y="6283440"/>
            <a:ext cx="6475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*)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cfresh.com -</a:t>
            </a:r>
            <a:r>
              <a:rPr b="1" lang="en-US" sz="1800" spc="-1" strike="noStrike">
                <a:solidFill>
                  <a:srgbClr val="36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5f0000"/>
                </a:solidFill>
                <a:latin typeface="Arial"/>
              </a:rPr>
              <a:t>сервис для работы и публикации </a:t>
            </a:r>
            <a:br>
              <a:rPr sz="1800"/>
            </a:br>
            <a:r>
              <a:rPr b="1" lang="ru-RU" sz="1800" spc="-1" strike="noStrike">
                <a:solidFill>
                  <a:srgbClr val="5f0000"/>
                </a:solidFill>
                <a:latin typeface="Arial"/>
              </a:rPr>
              <a:t>приложений 1С через Интернет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3" name="Picture 7" descr="В облака"/>
          <p:cNvPicPr/>
          <p:nvPr/>
        </p:nvPicPr>
        <p:blipFill>
          <a:blip r:embed="rId11"/>
          <a:stretch/>
        </p:blipFill>
        <p:spPr>
          <a:xfrm>
            <a:off x="6761160" y="2492280"/>
            <a:ext cx="2382840" cy="357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con_БГУ_4"/>
          <p:cNvPicPr/>
          <p:nvPr/>
        </p:nvPicPr>
        <p:blipFill>
          <a:blip r:embed="rId12"/>
          <a:stretch/>
        </p:blipFill>
        <p:spPr>
          <a:xfrm>
            <a:off x="6877080" y="620640"/>
            <a:ext cx="1835280" cy="1835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6516720" y="6093000"/>
            <a:ext cx="2627280" cy="3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000"/>
                </a:solidFill>
                <a:latin typeface="Arial"/>
              </a:rPr>
              <a:t>Уже используется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5830-16E0-4611-9EFF-7EFABECCD76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ухгалтерия госучреждения,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дакция 2.0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8" name="Picture 4" descr="new2"/>
          <p:cNvPicPr/>
          <p:nvPr/>
        </p:nvPicPr>
        <p:blipFill>
          <a:blip r:embed="rId1"/>
          <a:stretch/>
        </p:blipFill>
        <p:spPr>
          <a:xfrm>
            <a:off x="-36360" y="4076640"/>
            <a:ext cx="3240000" cy="2822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спользование облачного решения предполагает удаленное </a:t>
            </a:r>
            <a:br>
              <a:rPr sz="1600"/>
            </a:b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опровождение. Пользователю не надо думать об обновлении программы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 другой стороны, то, что раньше было составной частью конфигурации, вынесено в пользовательские настройки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Пользователь может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SzPct val="1587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Опционально устанавливать параметры учета: валютный учет, учет по источникам финансового обеспечения (ИФО), учет по подразделениям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SzPct val="1587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Вводить пользовательские счета, субсчета, субконто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SzPct val="1587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Устанавливать порядок формирования проводок по документам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SzPct val="1587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Вводить новые типовые операции к документам 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545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Реализован перенос данных из БГУ1.0 в объеме функционала БГУ2 – справочники, остатки, обороты, документы 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03640" y="4292640"/>
            <a:ext cx="5905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1125"/>
              </a:spcBef>
              <a:buSzPct val="1235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ботает и «в облаке», и «из коробки» - устанавливается локально на компьютере или в сети, как обычно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236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ть механизм перехода из «облака» в «коробку» и наоборо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132000" y="5661000"/>
            <a:ext cx="601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1012"/>
              </a:spcBef>
              <a:buSzPct val="1235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ГУ 2.0 – это другая программа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12"/>
              </a:spcBef>
              <a:buSzPct val="1235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ддержка БГУ 1.0 НЕ прекращается!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349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2" name="Picture 8" descr="new1"/>
          <p:cNvPicPr/>
          <p:nvPr/>
        </p:nvPicPr>
        <p:blipFill>
          <a:blip r:embed="rId14"/>
          <a:stretch/>
        </p:blipFill>
        <p:spPr>
          <a:xfrm>
            <a:off x="7524720" y="-171360"/>
            <a:ext cx="1763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одели построения информационных систем</a:t>
            </a:r>
            <a:br>
              <a:rPr sz="2400"/>
            </a:b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чредитель,  финансовый орган, ГРБС могут использовать различные модели построения информационных систем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ГАУ Морской регистр (г. Санкт-Петербург)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ая база для учета головного учреждения и филиалов, в т. ч. Расположенных за рубежом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оступ – тонкий (российские подразделения) и веб-клиент (загранучреждения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енсионный фонд  России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89 отделений – РБС, БГУ 1.0, толстый клиен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правления (2500 учреждений) – в единой базе отделений, тонкий клиен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чреждения г. Москвы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ая автоматизированная облачная система обеспечения финансовой деятельности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66D0-8E78-4F73-8F82-DA419D2EE36D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40000" y="1052640"/>
            <a:ext cx="54003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дключение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 Единой автоматизированной облачной системе обеспечения финансовой деятельности учреждений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. Москвы</a:t>
            </a: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7" name="Picture 8" descr="Департамент"/>
          <p:cNvPicPr/>
          <p:nvPr/>
        </p:nvPicPr>
        <p:blipFill>
          <a:blip r:embed="rId1"/>
          <a:stretch/>
        </p:blipFill>
        <p:spPr>
          <a:xfrm>
            <a:off x="0" y="1697040"/>
            <a:ext cx="40672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B293-8D70-4775-94E9-E27295D83201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диная автоматизированная облачная система обеспечения финансовой деятельности учреждений г. Москв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2012 г. – 2013 г. по итогам конкурсов были заключены госконтракты на создание Единой автоматизированной облачной системы обеспечения финансовой деятельности учреждений г. Москвы и по подключению к ней пилотных учреждений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ЦОД (сервера, другое оборудование, защищенная сеть) – ДИТ (Департамент информационных технологий) Правительства Москвы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налы связи предоставляет ДИТ. Своя сеть, в которой настраивается необходимая скорость передачи данных через интернет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варительно в каждом учреждении были сделаны замеры скорости интернета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отрудники технической службы ДИТа установили настройки для каналов связи, необходимые для работы в облаке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лако развернуто, в том числе, на платформе 1С:Предприятие 8.2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1" name="Picture 5" descr="Департамент"/>
          <p:cNvPicPr/>
          <p:nvPr/>
        </p:nvPicPr>
        <p:blipFill>
          <a:blip r:embed="rId7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B2B1-1D7C-4181-A945-D124F1B948DF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блако 1С:Предприятие 8.2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5435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1С-облаке, в том числе, развернуты: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Бухгалтерия государственного учреждения 8, ред. 2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- типовая конфигурация доработана, ориентирована на особенности Москвы, далее – 1С:БГУ2м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-ПАРУС. Зарплата и кадры государственного учреждения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рплата и кадры образовательного учреждения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– учитывает специфику образовательных учреждений, НСОТ и т.д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236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ческая отчетность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– на баз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Свод отчетов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реализовано формирование консолидированной управленческой отчетности. Формы утверждены ДОГМ (Департамент образования г. Москвы)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5" name="Picture 4" descr="Департамент"/>
          <p:cNvPicPr/>
          <p:nvPr/>
        </p:nvPicPr>
        <p:blipFill>
          <a:blip r:embed="rId6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ЗКГУ"/>
          <p:cNvPicPr/>
          <p:nvPr/>
        </p:nvPicPr>
        <p:blipFill>
          <a:blip r:embed="rId7"/>
          <a:stretch/>
        </p:blipFill>
        <p:spPr>
          <a:xfrm>
            <a:off x="7164360" y="2158920"/>
            <a:ext cx="1836720" cy="117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БГУ_"/>
          <p:cNvPicPr/>
          <p:nvPr/>
        </p:nvPicPr>
        <p:blipFill>
          <a:blip r:embed="rId8"/>
          <a:stretch/>
        </p:blipFill>
        <p:spPr>
          <a:xfrm>
            <a:off x="5435640" y="1268280"/>
            <a:ext cx="1763640" cy="113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ЗКГОУ"/>
          <p:cNvPicPr/>
          <p:nvPr/>
        </p:nvPicPr>
        <p:blipFill>
          <a:blip r:embed="rId9"/>
          <a:stretch/>
        </p:blipFill>
        <p:spPr>
          <a:xfrm>
            <a:off x="5292720" y="2689200"/>
            <a:ext cx="1871640" cy="1214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Свод"/>
          <p:cNvPicPr/>
          <p:nvPr/>
        </p:nvPicPr>
        <p:blipFill>
          <a:blip r:embed="rId10"/>
          <a:stretch/>
        </p:blipFill>
        <p:spPr>
          <a:xfrm>
            <a:off x="6985080" y="3716280"/>
            <a:ext cx="2050920" cy="1320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4941720"/>
            <a:ext cx="9036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SzPct val="1236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Регулярно, по расписанию, из всех областей с учетными данными 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ческая отчетность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ыгружаются данные (бухгалтерский учет, кадровый учет, расчетные данные по заработной плате), по которым можно формировать управленческую отчетность за любой период с даты учета в единой облачной системе.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уководителям предоставлен доступ, а также контролерам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236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аждую строку отчета можно детализировать по учреждениям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SzPct val="1236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онтролерам нет необходимости выезжать с проверкой, аудит можно провести удаленно, на своем рабочем месте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E04-AEBE-4E86-A62B-62A30517700F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реждения - пилоты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пилотном проекте на платформе 1С были задействованы 105 учр.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еленоградского окружного Управления образования Департамента образования г. Москв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включая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ЦБ (71 обслуживаемых учреждений),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правление (ОИВ, распорядитель, учредитель),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3 учреждения на отдельном балансе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224" name="Picture 36" descr="Департамент"/>
          <p:cNvPicPr/>
          <p:nvPr/>
        </p:nvPicPr>
        <p:blipFill>
          <a:blip r:embed="rId5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7" descr="ДИТ"/>
          <p:cNvPicPr/>
          <p:nvPr/>
        </p:nvPicPr>
        <p:blipFill>
          <a:blip r:embed="rId6"/>
          <a:stretch/>
        </p:blipFill>
        <p:spPr>
          <a:xfrm>
            <a:off x="684360" y="4816440"/>
            <a:ext cx="2867040" cy="1565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226" name="Picture 38" descr="ДОГМ_2"/>
          <p:cNvPicPr/>
          <p:nvPr/>
        </p:nvPicPr>
        <p:blipFill>
          <a:blip r:embed="rId7"/>
          <a:stretch/>
        </p:blipFill>
        <p:spPr>
          <a:xfrm>
            <a:off x="3708360" y="4797360"/>
            <a:ext cx="3959280" cy="1584360"/>
          </a:xfrm>
          <a:prstGeom prst="rect">
            <a:avLst/>
          </a:prstGeom>
          <a:ln w="9360">
            <a:solidFill>
              <a:srgbClr val="4757cd"/>
            </a:solidFill>
            <a:miter/>
          </a:ln>
        </p:spPr>
      </p:pic>
      <p:pic>
        <p:nvPicPr>
          <p:cNvPr id="227" name="Picture 39" descr="ЗОУО"/>
          <p:cNvPicPr/>
          <p:nvPr/>
        </p:nvPicPr>
        <p:blipFill>
          <a:blip r:embed="rId8"/>
          <a:stretch/>
        </p:blipFill>
        <p:spPr>
          <a:xfrm>
            <a:off x="395280" y="3429000"/>
            <a:ext cx="8305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82E-6EF6-4C76-9442-DBC50F77755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реждения - пилоты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Облако 24"/>
          <p:cNvSpPr/>
          <p:nvPr/>
        </p:nvSpPr>
        <p:spPr>
          <a:xfrm>
            <a:off x="209520" y="1189080"/>
            <a:ext cx="8756640" cy="5059440"/>
          </a:xfrm>
          <a:custGeom>
            <a:avLst/>
            <a:gdLst>
              <a:gd name="textAreaLeft" fmla="*/ 1206720 w 8756640"/>
              <a:gd name="textAreaRight" fmla="*/ 6927120 w 8756640"/>
              <a:gd name="textAreaTop" fmla="*/ 763920 h 5059440"/>
              <a:gd name="textAreaBottom" fmla="*/ 4061160 h 5059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99ccff">
              <a:alpha val="4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2700360" y="1700280"/>
            <a:ext cx="5886360" cy="25527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3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70000"/>
                </a:solidFill>
                <a:latin typeface="Arial"/>
              </a:rPr>
              <a:t>ЦБ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6084720" y="2349360"/>
            <a:ext cx="205452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Школ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(17 учр.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3348000" y="2205000"/>
            <a:ext cx="21272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Детские сад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(43 учр.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826920" y="2924280"/>
            <a:ext cx="1920960" cy="1326960"/>
          </a:xfrm>
          <a:prstGeom prst="ellipse">
            <a:avLst/>
          </a:prstGeom>
          <a:solidFill>
            <a:srgbClr val="99cc00">
              <a:alpha val="34000"/>
            </a:srgbClr>
          </a:solidFill>
          <a:ln w="25560">
            <a:solidFill>
              <a:srgbClr val="3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Школы н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самостоятельном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баланс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(33 учр.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4500720" y="3284640"/>
            <a:ext cx="1993680" cy="92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Ины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учреждения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  <a:ea typeface="Arial"/>
              </a:rPr>
              <a:t>(11 учр.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7640" y="4724280"/>
          <a:ext cx="4541760" cy="1986120"/>
        </p:xfrm>
        <a:graphic>
          <a:graphicData uri="http://schemas.openxmlformats.org/drawingml/2006/table">
            <a:tbl>
              <a:tblPr/>
              <a:tblGrid>
                <a:gridCol w="3647880"/>
                <a:gridCol w="89388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того учреждений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5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57cd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персонала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ументов в системе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 852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проводок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7 528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шно сданных отчетов по з/пл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ьзователей в системе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2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7" name="Oval 33"/>
          <p:cNvSpPr/>
          <p:nvPr/>
        </p:nvSpPr>
        <p:spPr>
          <a:xfrm>
            <a:off x="1258920" y="4221000"/>
            <a:ext cx="2736720" cy="1440000"/>
          </a:xfrm>
          <a:prstGeom prst="ellipse">
            <a:avLst/>
          </a:prstGeom>
          <a:solidFill>
            <a:srgbClr val="f9e383">
              <a:alpha val="50000"/>
            </a:srgbClr>
          </a:solidFill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116000" y="43657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000"/>
                </a:solidFill>
                <a:latin typeface="Calibri"/>
                <a:ea typeface="Arial"/>
              </a:rPr>
              <a:t>Зеленоградское окружное управление образования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000"/>
                </a:solidFill>
                <a:latin typeface="Calibri"/>
                <a:ea typeface="Arial"/>
              </a:rPr>
              <a:t>(1 учр.)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39" name="Picture 41" descr="Департамент"/>
          <p:cNvPicPr/>
          <p:nvPr/>
        </p:nvPicPr>
        <p:blipFill>
          <a:blip r:embed="rId1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3" descr="ЗОУО_м"/>
          <p:cNvPicPr/>
          <p:nvPr/>
        </p:nvPicPr>
        <p:blipFill>
          <a:blip r:embed="rId2"/>
          <a:stretch/>
        </p:blipFill>
        <p:spPr>
          <a:xfrm>
            <a:off x="0" y="1125360"/>
            <a:ext cx="1152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Поддержка законодательства</a:t>
            </a:r>
            <a:endParaRPr b="1" lang="en-US" sz="4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67D8-50C2-4D92-978E-90FDD372092F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42" name="Picture 4" descr="ЕОС"/>
          <p:cNvPicPr/>
          <p:nvPr/>
        </p:nvPicPr>
        <p:blipFill>
          <a:blip r:embed="rId1"/>
          <a:stretch/>
        </p:blipFill>
        <p:spPr>
          <a:xfrm>
            <a:off x="0" y="1197000"/>
            <a:ext cx="9420120" cy="5286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ьзователи системы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1301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На 105 учреждений 702 пользователя системы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901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 самостоятельных учреждениях, как правило, 2 бухгалтера, в комплексах – больше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901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лавный бухгалтер ЦБ-10 Зеленоградского окружного Управления образования имеет доступ к базам всех подведомственных учреждений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1100"/>
              </a:spcBef>
              <a:buSzPct val="1236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уководители учреждений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 также имеют доступ к данным своих учреждений – им предоставлены права на формирование любой отчетности в базе управленческой отчетности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1100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Доступ к управленческой отчетности имеют также ДИТ и Департамент образования г. Москвы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1100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Также доступ предоставлен техническим специалистам и консультантам внедренческих организаций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5" name="Picture 5" descr="Департамент"/>
          <p:cNvPicPr/>
          <p:nvPr/>
        </p:nvPicPr>
        <p:blipFill>
          <a:blip r:embed="rId8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E7F6-321C-4213-94E4-1731D9DA4CD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тоги внедрения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8" name="Picture 4" descr="Департамент"/>
          <p:cNvPicPr/>
          <p:nvPr/>
        </p:nvPicPr>
        <p:blipFill>
          <a:blip r:embed="rId1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7"/>
          <p:cNvGrpSpPr/>
          <p:nvPr/>
        </p:nvGrpSpPr>
        <p:grpSpPr>
          <a:xfrm>
            <a:off x="5219640" y="2133720"/>
            <a:ext cx="4465440" cy="3816000"/>
            <a:chOff x="5219640" y="2133720"/>
            <a:chExt cx="4465440" cy="3816000"/>
          </a:xfrm>
        </p:grpSpPr>
        <p:pic>
          <p:nvPicPr>
            <p:cNvPr id="250" name="Picture 5" descr="улей1"/>
            <p:cNvPicPr/>
            <p:nvPr/>
          </p:nvPicPr>
          <p:blipFill>
            <a:blip r:embed="rId2"/>
            <a:stretch/>
          </p:blipFill>
          <p:spPr>
            <a:xfrm>
              <a:off x="5219640" y="2163600"/>
              <a:ext cx="438768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6"/>
            <p:cNvSpPr/>
            <p:nvPr/>
          </p:nvSpPr>
          <p:spPr>
            <a:xfrm>
              <a:off x="5219640" y="2133720"/>
              <a:ext cx="4465440" cy="3816000"/>
            </a:xfrm>
            <a:prstGeom prst="rect">
              <a:avLst/>
            </a:prstGeom>
            <a:solidFill>
              <a:srgbClr val="f9e3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716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Конвертированы, перенесены в облако учетные данные,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выверены совместно с бухгалтерами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азделены данные учреждений, выделенных из ЦБ на самостоятельный баланс (20 учр.)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Проведено обучение в группах и индивидуальное,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на рабочих местах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Создана база «Система обработки инцидентов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и замечаний», в которой фиксируются замечания,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вопросы и ответы на них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Текущий учет ведется в единой облачной системе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егламентированная отчетность, бухгалтерская,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налоговая, статистическая, формируется в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единой облачной системе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уководители и контролеры имеют оперативный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доступ к актуальной информации о финансовой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деятельности учреждений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2348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епартамент образования Правительства </a:t>
            </a:r>
            <a:br>
              <a:rPr sz="1400"/>
            </a:b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Москвы признал пилотный проект успешным. </a:t>
            </a:r>
            <a:br>
              <a:rPr sz="1400"/>
            </a:b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Отмечены грамотой руководитель и главный </a:t>
            </a:r>
            <a:br>
              <a:rPr sz="1400"/>
            </a:b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бухгалтер ЦБ г. Зеленограда.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7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К работе в единой облачной системе подключаются новые департаменты и учреждения</a:t>
            </a:r>
            <a:endParaRPr b="1" lang="en-US" sz="14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36B-2AF4-419D-9DCC-707052B24A7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вые пилоты в 2013 г.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901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епартамент физической культуры и спорта г. Москвы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11 пилотных учреждений;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90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епартамент туризма г. Москвы (ОИВ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90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епартамент Культуры г. Москвы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99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10 пилотных учреждений и сам ОИВ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90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ъявили желание подключиться в первую очередь второго этапа (2014 г.) и другие департаменты Правительства г. Москв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56" name="Picture 4" descr="школа"/>
          <p:cNvPicPr/>
          <p:nvPr/>
        </p:nvPicPr>
        <p:blipFill>
          <a:blip r:embed="rId7"/>
          <a:stretch/>
        </p:blipFill>
        <p:spPr>
          <a:xfrm>
            <a:off x="0" y="3141720"/>
            <a:ext cx="6637320" cy="4054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6622920" y="3789360"/>
            <a:ext cx="2413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аботают в том же облаке, в отдельных абонентах и отдельных областях.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ухгалтерская конфигурация – единая, Московская.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58" name="Picture 6" descr="Департамент"/>
          <p:cNvPicPr/>
          <p:nvPr/>
        </p:nvPicPr>
        <p:blipFill>
          <a:blip r:embed="rId11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5E5-F51E-48C0-A11B-93E85BA74C4A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60" name="Picture 10" descr="saaserv"/>
          <p:cNvPicPr/>
          <p:nvPr/>
        </p:nvPicPr>
        <p:blipFill>
          <a:blip r:embed="rId1"/>
          <a:stretch/>
        </p:blipFill>
        <p:spPr>
          <a:xfrm>
            <a:off x="250920" y="1309680"/>
            <a:ext cx="8724960" cy="4711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1258920" y="44280"/>
            <a:ext cx="5977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зультат реализации проекта внедрения единой облачной системы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4365720"/>
            <a:ext cx="903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51280" y="4797360"/>
            <a:ext cx="5184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SzPct val="1236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озможность работы в системе с любых устройств, на которых может быть запущен WEB-браузер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12"/>
              </a:spcBef>
              <a:buSzPct val="1234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Windows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-совместимых,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12"/>
              </a:spcBef>
              <a:buSzPct val="1234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Mac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-совместимых,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12"/>
              </a:spcBef>
              <a:buSzPct val="1234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iPhone/iPad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12"/>
              </a:spcBef>
              <a:buSzPct val="1234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смартфонов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12"/>
              </a:spcBef>
              <a:buSzPct val="1234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 пр.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64" name="Picture 8" descr="Департамент"/>
          <p:cNvPicPr/>
          <p:nvPr/>
        </p:nvPicPr>
        <p:blipFill>
          <a:blip r:embed="rId8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519-084A-47A4-8A2F-9CE67E1772E3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зультат реализации проекта внедрения единой облачной систем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ование единой инфраструктуры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ый центр обработки данных (ЦОД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ые операционные процессы для функций во всех учреждениях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ование единой методологии и процессов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ая методология по БУ и НУ для всех учреждений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ые процессы ведения БУ/НУ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ые специализированные процессы – обновление конфигураций, архивирование данных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 т.п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ые регламенты и графики документооборот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ование единой информационной системы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диная шаблонная учетная систем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централизованная разработка и поддержка систем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8" name="Picture 4" descr="Департамент"/>
          <p:cNvPicPr/>
          <p:nvPr/>
        </p:nvPicPr>
        <p:blipFill>
          <a:blip r:embed="rId12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F67-69BC-4B46-A97E-C531E63BF88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70" name="Picture 4" descr="Управденческая отчетность ДОгМ"/>
          <p:cNvPicPr/>
          <p:nvPr/>
        </p:nvPicPr>
        <p:blipFill>
          <a:blip r:embed="rId1"/>
          <a:stretch/>
        </p:blipFill>
        <p:spPr>
          <a:xfrm>
            <a:off x="0" y="1125360"/>
            <a:ext cx="9756720" cy="54864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С:Управленческая отчетность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4720" y="2781360"/>
            <a:ext cx="4859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Регулярно, по расписанию, из всех областей с учетными данными в 1С:Управленческая отчетность выгружаются данные (бухгалтерский учет, кадровый учет, расчетные данные по заработной плате), по которым в нем можно формировать управленческую отчетность за любой период с даты учета в единой облачной системе. 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8A79-BBDB-4997-AE9D-C7AFF7405EF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зультат реализации проекта внедрения единой облачной систем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тализация данных управленческой отчетности до каждого учреждения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250920" y="1890720"/>
            <a:ext cx="8748720" cy="4967280"/>
          </a:xfrm>
          <a:prstGeom prst="rect">
            <a:avLst/>
          </a:prstGeom>
          <a:ln w="9360">
            <a:solidFill>
              <a:srgbClr val="369900"/>
            </a:solidFill>
            <a:miter/>
          </a:ln>
        </p:spPr>
      </p:pic>
      <p:pic>
        <p:nvPicPr>
          <p:cNvPr id="277" name="Picture 5" descr="Департамент"/>
          <p:cNvPicPr/>
          <p:nvPr/>
        </p:nvPicPr>
        <p:blipFill>
          <a:blip r:embed="rId3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EED2-9766-4942-BF2F-66088BA1041E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зультат реализации проекта внедрения единой облачной систем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истема позволяет своевременно формировать статистические отчеты по заработной плате и следить за изменениями (отклонениями) количественных показателей: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700"/>
              </a:spcBef>
              <a:buSzPct val="1390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годового фонда оплаты труда сотрудников образовательного учреждения,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700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редней заработной платы работников образовательного учреждения (в зависимости от уровня квалификации) и т.п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4"/>
          <a:stretch/>
        </p:blipFill>
        <p:spPr>
          <a:xfrm>
            <a:off x="287280" y="2637000"/>
            <a:ext cx="8856720" cy="4636800"/>
          </a:xfrm>
          <a:prstGeom prst="rect">
            <a:avLst/>
          </a:prstGeom>
          <a:ln w="9360">
            <a:solidFill>
              <a:srgbClr val="369900"/>
            </a:solidFill>
            <a:miter/>
          </a:ln>
        </p:spPr>
      </p:pic>
      <p:pic>
        <p:nvPicPr>
          <p:cNvPr id="282" name="Picture 7" descr="Департамент"/>
          <p:cNvPicPr/>
          <p:nvPr/>
        </p:nvPicPr>
        <p:blipFill>
          <a:blip r:embed="rId5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2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091-E5B3-4EF7-8CCB-B51A6C021DAA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5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f7f7f"/>
                </a:solidFill>
                <a:latin typeface="Arial"/>
                <a:ea typeface="Arial"/>
              </a:rPr>
              <a:t>2</a:t>
            </a:r>
            <a:endParaRPr b="1" lang="en-US" sz="1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104480" y="0"/>
            <a:ext cx="696276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зультаты реализации проекта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днократный ввод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52360" y="6534000"/>
            <a:ext cx="86025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7f7f7f"/>
              </a:solidFill>
              <a:latin typeface="Arial"/>
              <a:ea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692360" y="2060640"/>
            <a:ext cx="26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5cf28"/>
                </a:solidFill>
                <a:latin typeface="Arial"/>
              </a:rPr>
              <a:t>Начисления,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5cf28"/>
                </a:solidFill>
                <a:latin typeface="Arial"/>
              </a:rPr>
              <a:t>сведения об оплате по конкретному ребенку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84360" y="3559320"/>
            <a:ext cx="28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  <a:ea typeface="Arial"/>
              </a:rPr>
              <a:t>Оперативная информация о принятом на учет имуществе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2771640" y="4365720"/>
            <a:ext cx="331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  <a:ea typeface="Arial"/>
              </a:rPr>
              <a:t>Сведения об обеспеченности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  <a:ea typeface="Arial"/>
              </a:rPr>
              <a:t>учреждения библиотечными фондами, с целью анализ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  <a:ea typeface="Arial"/>
              </a:rPr>
              <a:t>и формирования доп. потребности в учебных материалах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3276720" y="2781360"/>
            <a:ext cx="2519280" cy="1008000"/>
          </a:xfrm>
          <a:prstGeom prst="flowChartPreparation">
            <a:avLst/>
          </a:prstGeom>
          <a:solidFill>
            <a:srgbClr val="f9e383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Единая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автоматизированная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облачная систем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395280" y="1268280"/>
            <a:ext cx="1368360" cy="6494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ИС РНиП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H="1" flipV="1">
            <a:off x="1834920" y="1827360"/>
            <a:ext cx="360360" cy="23328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132000" y="2781360"/>
            <a:ext cx="432000" cy="21600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179280" y="4365720"/>
            <a:ext cx="19447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истема учет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особо ценного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имуществ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2556000" y="3284640"/>
            <a:ext cx="647640" cy="28728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H="1">
            <a:off x="1042920" y="4076640"/>
            <a:ext cx="649440" cy="28908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338560" y="5877000"/>
            <a:ext cx="1728720" cy="649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истема закупки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учебников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8" name="AutoShape 21"/>
          <p:cNvSpPr/>
          <p:nvPr/>
        </p:nvSpPr>
        <p:spPr>
          <a:xfrm>
            <a:off x="4354560" y="5877000"/>
            <a:ext cx="1512720" cy="649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Библиотечная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истем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 flipH="1" flipV="1">
            <a:off x="4138200" y="3789000"/>
            <a:ext cx="1800" cy="64764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417840" y="5516640"/>
            <a:ext cx="432000" cy="36036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4570560" y="5516640"/>
            <a:ext cx="431640" cy="36036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2" name="AutoShape 25"/>
          <p:cNvSpPr/>
          <p:nvPr/>
        </p:nvSpPr>
        <p:spPr>
          <a:xfrm>
            <a:off x="6983280" y="1305000"/>
            <a:ext cx="1657440" cy="576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АСУ ГФ /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АИС УБП 1-М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5292720" y="1969920"/>
            <a:ext cx="38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Calibri"/>
                <a:ea typeface="Arial"/>
              </a:rPr>
              <a:t>Информационная поддержка процессов планирования и исполнения бюджета, плана ФХД учреждения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4" name="Line 27"/>
          <p:cNvSpPr/>
          <p:nvPr/>
        </p:nvSpPr>
        <p:spPr>
          <a:xfrm flipH="1">
            <a:off x="5508360" y="2637000"/>
            <a:ext cx="431640" cy="36036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5" name="Line 28"/>
          <p:cNvSpPr/>
          <p:nvPr/>
        </p:nvSpPr>
        <p:spPr>
          <a:xfrm flipV="1">
            <a:off x="6732720" y="1879200"/>
            <a:ext cx="252360" cy="18108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6" name="AutoShape 30"/>
          <p:cNvSpPr/>
          <p:nvPr/>
        </p:nvSpPr>
        <p:spPr>
          <a:xfrm>
            <a:off x="6804000" y="5661000"/>
            <a:ext cx="1944720" cy="6494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5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Реестр педкадров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6372360" y="4076640"/>
            <a:ext cx="266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5cf28"/>
                </a:solidFill>
                <a:latin typeface="Arial"/>
              </a:rPr>
              <a:t>Квалификация и ее повышение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5cf28"/>
                </a:solidFill>
                <a:latin typeface="Arial"/>
              </a:rPr>
              <a:t>Заработная плата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5cf28"/>
                </a:solidFill>
                <a:latin typeface="Arial"/>
              </a:rPr>
              <a:t>История кадровых перемещений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8" name="Line 32"/>
          <p:cNvSpPr/>
          <p:nvPr/>
        </p:nvSpPr>
        <p:spPr>
          <a:xfrm>
            <a:off x="7164360" y="5157720"/>
            <a:ext cx="398520" cy="53964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09" name="Line 34"/>
          <p:cNvSpPr/>
          <p:nvPr/>
        </p:nvSpPr>
        <p:spPr>
          <a:xfrm flipH="1" flipV="1">
            <a:off x="5651640" y="3428640"/>
            <a:ext cx="792000" cy="863640"/>
          </a:xfrm>
          <a:prstGeom prst="line">
            <a:avLst/>
          </a:prstGeom>
          <a:ln w="9360">
            <a:solidFill>
              <a:srgbClr val="5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10" name="Picture 28" descr="Департамент"/>
          <p:cNvPicPr/>
          <p:nvPr/>
        </p:nvPicPr>
        <p:blipFill>
          <a:blip r:embed="rId1"/>
          <a:stretch/>
        </p:blipFill>
        <p:spPr>
          <a:xfrm>
            <a:off x="7688160" y="0"/>
            <a:ext cx="1455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Взаимодействие </a:t>
            </a:r>
            <a:br>
              <a:rPr sz="4700"/>
            </a:b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с ИС РНиП / ГИС ГМП</a:t>
            </a:r>
            <a:endParaRPr b="1" lang="en-US" sz="4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982-A71B-458A-94C6-39BFDA308DF9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юджетная классификаци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SzPct val="1545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юджетная классификация используется для формирования 26-разрядных номеров счетов Рабочего плана счетов учреждения, при оформлении расчетно-платежных документов, а также для построения иерархической структуры бюджетной классификации в целях формирования бюджетной отчетности в структуре бюджета (сводной бюджетной росписи)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Для построения иерархической структуры классификаторы пришлось еще более детализировать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Коды бюджетной классификации имеют период действия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C 2014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. изменена структура классификации целевых статей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каз Минфина России от 18.03.2013 № 31н, от 01.07.2013 № 65н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 этом году одновременно должны жить и текущая классификация, приказ № 171н, - для учета текущего года, и классификация 2014 – для планирования </a:t>
            </a:r>
            <a:br>
              <a:rPr sz="1600"/>
            </a:b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на 2014 г. 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Провели соответствующую работу: в одной информационной базе загружены обе классификации, каждый элемент со своим периодом действия и со своей структурой.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049"/>
              </a:spcBef>
              <a:buSzPct val="1234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Таким образом учет 2013 г. можно вести по приказу № 171н и планировать бюджет 2014 г.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по приказу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№ 65н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Picture 4" descr="БК"/>
          <p:cNvPicPr/>
          <p:nvPr/>
        </p:nvPicPr>
        <p:blipFill>
          <a:blip r:embed="rId8"/>
          <a:stretch/>
        </p:blipFill>
        <p:spPr>
          <a:xfrm>
            <a:off x="6084720" y="2421000"/>
            <a:ext cx="33148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B89-42EB-4499-BE1D-3C869F6980A9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заимодействие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 ИС РНиП  г. Москв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становлением Правительства Москвы от 09.10.2012 г. № 544-ПП был установлен срок создания государственной информационной системы, обеспечивающей в городе Москве регистрацию начислений и платежей (далее - ИС РНиП), - до 1 января 2013 г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Департамент информационных технологий г. Москвы является оператором ИС РНиП, государственным заказчиком работ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ператор ИС РНиП осуществляет взаимодействие с оператором государственной информационной системы о государственных и муниципальных платежах (ГИС ГМП) в режиме шлюза, осуществляя передачу информации между оператором ГИС ГМП и органами исполнительной власти г. Москвы - администраторами начислений посредством инфраструктуры взаимодействия в соответствии с Порядком ведения государственной информационной системы о государственных и муниципальных платежах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рганы исполнительной власти г. Москвы, предоставляющие государственные услуги, до 1 января 2013 г. должны были обеспечить техническую готовность к подключению к ИС РНиП и взаимодействию в рамках ИС РНиП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 прошлом Совещании я рассказывала об этом проекте, к которому мы подключились на начальной стадии – в конце мая 2012 г.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 августе 2012 г. подсистема для интеграции с ИС РНиП была встроена в типовые конфигурации программы «1С:Бухгалтерия государственного учреждения 8» как редакции 1, так и редакции 2.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4A2-8D27-4C80-8E02-81A274081DF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заимодействие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 ИС РНиП  г. Москв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 ИС РНиП г. Москв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гистрируют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не только платежи за услуги, являющиеся источниками формирования доходов бюджетов, но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слуги, оказываемые бюджетными и автономными учреждениями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г. Москв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рамках приносящей доход деятельности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, например, услуги, оказываемые детскими дошкольными учреждениями, учреждениями дополнительного образования, развития и спорта, за предоставление которых взимается плата.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Учреждения Зеленоградского окружного управления образования с июля 2013 г. ежемесячно передают данные о начислениях </a:t>
            </a:r>
            <a:br>
              <a:rPr sz="1600"/>
            </a:b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 ИС РНиП.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ти данные доступны родителям –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лательщикам в личном кабинете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 портале гос. и муниципальных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услуг: http://pgu.mos.ru/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01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епартамент культуры, музыкальные школы, начисление доходов производится на полугодие, </a:t>
            </a:r>
            <a:br>
              <a:rPr sz="1600"/>
            </a:b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2 раза в год – в январе и сентябре.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астройка взаимодействия с ИС РНиП произведена.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Тест на интеграцию пройден успешно.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В сентябре планируется реальная передача данных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9" name="Picture 6" descr="Портал_госуслуг"/>
          <p:cNvPicPr/>
          <p:nvPr/>
        </p:nvPicPr>
        <p:blipFill>
          <a:blip r:embed="rId8"/>
          <a:stretch/>
        </p:blipFill>
        <p:spPr>
          <a:xfrm>
            <a:off x="6084720" y="1413000"/>
            <a:ext cx="2867040" cy="1180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Оплата_ИСРНИП"/>
          <p:cNvPicPr/>
          <p:nvPr/>
        </p:nvPicPr>
        <p:blipFill>
          <a:blip r:embed="rId9"/>
          <a:stretch/>
        </p:blipFill>
        <p:spPr>
          <a:xfrm>
            <a:off x="5651640" y="3537000"/>
            <a:ext cx="41400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2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D3C-9F4A-42F6-A43C-15C050864108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75E-FA97-4C63-A4C3-16D5C146206B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заимодействие с информационными системами регистрации начислений и платежей (фактов оплаты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строенная в «1С:Бухгалтерию государственного учреждения» подсистема «Взаимодействие с ИС РНИП / ГИС ГМП» предусматривает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901"/>
              </a:spcBef>
              <a:buSzPct val="1390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кспорт информации о начислениях за предоставляемые услуги физическим и юридическим лицам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788"/>
              </a:spcBef>
              <a:buSzPct val="1174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Информация о начислении может формироваться на основании бухгалтерских данных 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901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Формирование запроса к системе на получение информации о платеже по начислениям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901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мпорт информации о произведенном плательщиком платеже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901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кспорт и импорт каталога оказываемых услуг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901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спользование электронной подписи (ЭП) при обмене документами </a:t>
            </a:r>
            <a:br>
              <a:rPr sz="1600"/>
            </a:b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 ИС РНиП/ ГИС ГМП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2792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ля обмена электронными сообщениями с системами РНиП может использоваться как стандартный механизм обмена данными с банковскими и казначейскими системами, который предусматривает обмен разными документами в различных настраиваемых форматах, так и специализированный.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325" name="Picture 9" descr="Функции_Взаимодействие"/>
          <p:cNvPicPr/>
          <p:nvPr/>
        </p:nvPicPr>
        <p:blipFill>
          <a:blip r:embed="rId9"/>
          <a:stretch/>
        </p:blipFill>
        <p:spPr>
          <a:xfrm>
            <a:off x="3203640" y="3716280"/>
            <a:ext cx="4514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D2FF-F9CF-4985-9F74-AA938B418F54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27" name="Picture 6" descr="D:\METOD\8\Бухгалтерия\ИТС\УНИФО\Статья\ГИС_ГМП.gif"/>
          <p:cNvPicPr/>
          <p:nvPr/>
        </p:nvPicPr>
        <p:blipFill>
          <a:blip r:embed="rId1"/>
          <a:stretch/>
        </p:blipFill>
        <p:spPr>
          <a:xfrm>
            <a:off x="1979640" y="4437000"/>
            <a:ext cx="5935680" cy="23385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заимодействие с ГИС ГМП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программу «1С:Бухгалтерия государственного учреждения 8» (версии 1.0.20 редакции 1 (2.0.12 редакции 2) встроены механизмы, позволяющие осуществлять интеграцию с ГИС ГМП в требуемом формате XMLDSIG.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дсистема "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заимодействие с ИС РНИП / ГИС ГМП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" в соответствии с Порядком информационного взаимодействия Участников с оператором ГИС ГМП (утв. Приказом Казначейства России от 30.11.2012 № 19н) предусматривает: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кспорт информации о начислениях за предоставляемые гос. услуги;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формирование запроса к системе на получение информации о платеже по начислениям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мпорт информации о произведенном плательщиком платеже;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использование электронной подписи (ЭП) при обмене документами с ГИС ГМП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FE90-F5DE-439B-BD4E-DD382C1ECBB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31" name="Picture 2" descr="D:\METOD\8\Бухгалтерия\ИТС\УНИФО\Статья\ГИС_ГМП.gif"/>
          <p:cNvPicPr/>
          <p:nvPr/>
        </p:nvPicPr>
        <p:blipFill>
          <a:blip r:embed="rId1"/>
          <a:stretch/>
        </p:blipFill>
        <p:spPr>
          <a:xfrm>
            <a:off x="1619280" y="2708280"/>
            <a:ext cx="5935680" cy="23385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заимодействие с ГИС ГМП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программе «1С:Бухгалтерия государственного учреждения 8» реализовано взаимодействие с ГИС ГМП для главных администраторов начислений, а также для администраторов начислений, которым главный администратор передал полномочие взаимодействия с ГИС ГМП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5084640"/>
            <a:ext cx="9036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ы благодарны за сотрудничество с Департаментом финансов г. Краснодара по отработке взаимодействия с ГИС ГМП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акже может быть настроено взаимодействие программы «1С:Бухгалтерия государственного учреждения 8» с региональной ИС РНиП, которая, в свою очередь, обменивается данными с ГИС ГМП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6C91-BD11-4DDB-89E1-9CB89486428F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36" name="Picture 5" descr="D:\METOD\8\Бухгалтерия\ИТС\УНИФО\Статья\ИС_РНИП.gif"/>
          <p:cNvPicPr/>
          <p:nvPr/>
        </p:nvPicPr>
        <p:blipFill>
          <a:blip r:embed="rId1"/>
          <a:stretch/>
        </p:blipFill>
        <p:spPr>
          <a:xfrm>
            <a:off x="1403280" y="3860640"/>
            <a:ext cx="6697800" cy="2625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заимодействие с региональной ИС РНиП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скольку в каждом регионе могут быть свои особенности реализации такой системы, в программе «1С:Бухгалтерия государственного учреждения 8» предусмотрена соответствующая настройк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меющийся механизм подсистемы "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заимодействие с ИС РНИП / ГИС ГМП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" программы «1С:Бухгалтерия государственного учреждения 8»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зволяет настроить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формирование уникальных идентификаторов, правил экспорта/импорта в соответствии с требованиями, предъявляемыми информационными системами учета начислений и платежей ведомства или региона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 помощью обращайтесь к региональным партнерам 1С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F96-E7B8-4398-AD80-4EE2A0E68B7C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342" name="Picture 4" descr="1C-Desktop-summer"/>
          <p:cNvPicPr/>
          <p:nvPr/>
        </p:nvPicPr>
        <p:blipFill>
          <a:blip r:embed="rId1"/>
          <a:stretch/>
        </p:blipFill>
        <p:spPr>
          <a:xfrm>
            <a:off x="0" y="25560"/>
            <a:ext cx="9180360" cy="68594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6264360" y="4967280"/>
            <a:ext cx="273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Сергеева Ксения Викторовна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Руководитель отдела разработки программ бюджетн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44" name="Group 10"/>
          <p:cNvGrpSpPr/>
          <p:nvPr/>
        </p:nvGrpSpPr>
        <p:grpSpPr>
          <a:xfrm>
            <a:off x="-181080" y="260280"/>
            <a:ext cx="3851280" cy="2442960"/>
            <a:chOff x="-181080" y="260280"/>
            <a:chExt cx="3851280" cy="2442960"/>
          </a:xfrm>
        </p:grpSpPr>
        <p:sp>
          <p:nvSpPr>
            <p:cNvPr id="345" name="Oval 7"/>
            <p:cNvSpPr/>
            <p:nvPr/>
          </p:nvSpPr>
          <p:spPr>
            <a:xfrm>
              <a:off x="0" y="260280"/>
              <a:ext cx="3492360" cy="2232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9e3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46" name="Text Box 5"/>
            <p:cNvSpPr/>
            <p:nvPr/>
          </p:nvSpPr>
          <p:spPr>
            <a:xfrm>
              <a:off x="-181080" y="476280"/>
              <a:ext cx="3851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800000"/>
                  </a:solidFill>
                  <a:latin typeface="Arial Black"/>
                </a:rPr>
                <a:t>Поздравляю </a:t>
              </a:r>
              <a:br>
                <a:rPr sz="2800"/>
              </a:br>
              <a:r>
                <a:rPr b="0" i="1" lang="ru-RU" sz="2800" spc="-1" strike="noStrike">
                  <a:solidFill>
                    <a:srgbClr val="800000"/>
                  </a:solidFill>
                  <a:latin typeface="Arial Black"/>
                </a:rPr>
                <a:t>с наступающим днем </a:t>
              </a:r>
              <a:br>
                <a:rPr sz="2800"/>
              </a:br>
              <a:r>
                <a:rPr b="0" i="1" lang="ru-RU" sz="2800" spc="-1" strike="noStrike">
                  <a:solidFill>
                    <a:srgbClr val="800000"/>
                  </a:solidFill>
                  <a:latin typeface="Arial Black"/>
                </a:rPr>
                <a:t>Финансиста!</a:t>
              </a:r>
              <a:r>
                <a:rPr b="1" lang="ru-RU" sz="2800" spc="-1" strike="noStrike">
                  <a:solidFill>
                    <a:srgbClr val="8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5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Консолидация отчетности</a:t>
            </a:r>
            <a:endParaRPr b="1" lang="en-US" sz="4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3BE-8824-4774-BA2A-5E7C693505B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е инструментов для консолидации отчетност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же 4 года эксплуатируетс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1С:Свод отчетов 8» нового поколения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шел промышленную эксплуатацию у ряда ГРБС и пилотное внедрение в Министерстве финансов Свердловской обл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ущественно доработали решение под нужды финансового органа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держка сбора отчетности по нескольким уровням бюджета в одной базе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держка нескольких планов счетов, для учета отчетности в «переходный период» - при изменении законодательств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оступ к информационной базе с помощью веб-браузера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бота с отчетностью через Интернет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втоматизированная загрузка отчетности и обмен протоколами с подведомственными учреждениями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B0C-B93F-4DC7-A01E-78DC892B683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е инструментов для консолидации и анализа отчетност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овые средства регламентации рабочего процесс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Назначение ответственных лиц по логическим областям учета – ответственных за группу учреждений, отрасль, департамент и т.п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структор отчетов позволяет задавать алгоритмы построения группировочных показателей в отчетах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Например, может быть задан алгоритм расчета группировочных кодов в структуре бюджета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е аналитических отчетов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оздание произвольных аналитических отчетов с возможностью произвольного изменения настроек компоновки данных, (перегруппировки, отборов, оформления) на лету.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озданные отчеты могут быть использованы в веб-клиенте, каждый веб-пользователь может настроить себе отчет на «свой вкус»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изуальное сравнение версий файлов отчетности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 виде бланка отображаются различия между двумя поступившими версиями одного отчета.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ешение попроще –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1С:Бюджетная отчетность 8»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даптировано для работы с отчетностью через Интернет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01C5-D5F4-4A78-8AB6-F9596EFF1DA3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юджетная классификаци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443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SzPct val="1545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Очень хочется, чтобы новые бюджетные классификаторы оперативно можно было загружать из файлов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По крайней мере, иметь их в структурированном виде, а не в виде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pdf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-файлов</a:t>
            </a:r>
            <a:endParaRPr b="1" lang="en-US" sz="1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34" name="Picture 5" descr="БК"/>
          <p:cNvPicPr/>
          <p:nvPr/>
        </p:nvPicPr>
        <p:blipFill>
          <a:blip r:embed="rId3"/>
          <a:stretch/>
        </p:blipFill>
        <p:spPr>
          <a:xfrm>
            <a:off x="3348000" y="2349360"/>
            <a:ext cx="5622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E0F-41F9-4CF1-A832-C6AF6FB4B918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абота с отчетностью через Интерне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оступ к информационной базе с помощью веб-браузера или тонкого клиента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Загрузка готовых данных из файлов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Ручной ввод данных в базу консолидирующего органа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верка по контрольным соотношениям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ечать отчета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смотр статуса отчета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онсолидация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Расшифровка сводного отчета до первичных (исходных) отчетов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лучение аналитических выборок, каждый веб-пользователь может настроить себе отчет на «свой вкус»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8201-0943-434D-99C3-A731FA639B8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абота с отчетностью через Интерне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агрузка готовых данных из файлов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учной ввод данных в базу консолидирующего органа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верка по контрольным соотношениям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ечать отчета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смотр статуса отчета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нсолидация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сшифровка сводного отчета до первичного документа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лучение аналитических выборок, каждый веб-пользователь может настроить себе отчет на «свой вкус»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1" name="Picture 6" descr="main-screen"/>
          <p:cNvPicPr/>
          <p:nvPr/>
        </p:nvPicPr>
        <p:blipFill>
          <a:blip r:embed="rId9"/>
          <a:stretch/>
        </p:blipFill>
        <p:spPr>
          <a:xfrm>
            <a:off x="539640" y="1484280"/>
            <a:ext cx="82076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AEA-AAD2-457D-876E-711EDFD0DB0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абота с отчетностью через Интерне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лучение аналитических выборок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365" name="Picture 5" descr="screen2"/>
          <p:cNvPicPr/>
          <p:nvPr/>
        </p:nvPicPr>
        <p:blipFill>
          <a:blip r:embed="rId2"/>
          <a:stretch/>
        </p:blipFill>
        <p:spPr>
          <a:xfrm>
            <a:off x="34920" y="1557360"/>
            <a:ext cx="92170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099-6BD6-4605-B1EC-C1C98586562C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дсистема аналитических отчетов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лучшены возможности формирования произвольных отчетов по данным информационной базы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овый механизм позволяет создать аналитические отчеты без использования программирования, с различными вариантами применения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369" name="Picture 4" descr="Ход сбора отчетности"/>
          <p:cNvPicPr/>
          <p:nvPr/>
        </p:nvPicPr>
        <p:blipFill>
          <a:blip r:embed="rId3"/>
          <a:stretch/>
        </p:blipFill>
        <p:spPr>
          <a:xfrm>
            <a:off x="250920" y="1773360"/>
            <a:ext cx="83167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9E0-94D1-44D2-BB2C-DFE1888BF553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руктор финансовых отчетов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36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зволяет получить финансовые отчеты по данным системы с помощью перетаскивания интересующих показателей мышью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373" name="Picture 4" descr="generator"/>
          <p:cNvPicPr/>
          <p:nvPr/>
        </p:nvPicPr>
        <p:blipFill>
          <a:blip r:embed="rId2"/>
          <a:stretch/>
        </p:blipFill>
        <p:spPr>
          <a:xfrm>
            <a:off x="179280" y="1844640"/>
            <a:ext cx="8570880" cy="5191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3924360" y="5589720"/>
            <a:ext cx="3924360" cy="1079280"/>
          </a:xfrm>
          <a:prstGeom prst="rect">
            <a:avLst/>
          </a:prstGeom>
          <a:solidFill>
            <a:srgbClr val="f9e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1463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ыбираем интересующие экономические показатели, "складываем" их на экране в нужном порядке.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75" name="Picture 7" descr="analiz"/>
          <p:cNvPicPr/>
          <p:nvPr/>
        </p:nvPicPr>
        <p:blipFill>
          <a:blip r:embed="rId4"/>
          <a:stretch/>
        </p:blipFill>
        <p:spPr>
          <a:xfrm>
            <a:off x="179280" y="1773360"/>
            <a:ext cx="8799480" cy="5572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new1"/>
          <p:cNvPicPr/>
          <p:nvPr/>
        </p:nvPicPr>
        <p:blipFill>
          <a:blip r:embed="rId5"/>
          <a:stretch/>
        </p:blipFill>
        <p:spPr>
          <a:xfrm>
            <a:off x="7596360" y="260280"/>
            <a:ext cx="1295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0567-2E31-4294-92BB-20909BA8DAE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руктор финансовых отчетов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36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ожно составлять новые отчеты для перекрестного анализа данных имеющихся отчетов за различные периоды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924360" y="5589720"/>
            <a:ext cx="3924360" cy="1079280"/>
          </a:xfrm>
          <a:prstGeom prst="rect">
            <a:avLst/>
          </a:prstGeom>
          <a:solidFill>
            <a:srgbClr val="f9e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1463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ыбираем интересующие экономические показатели, "складываем" их на экране в нужном порядке.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81" name="Picture 6" descr="analiz"/>
          <p:cNvPicPr/>
          <p:nvPr/>
        </p:nvPicPr>
        <p:blipFill>
          <a:blip r:embed="rId3"/>
          <a:stretch/>
        </p:blipFill>
        <p:spPr>
          <a:xfrm>
            <a:off x="179280" y="1844640"/>
            <a:ext cx="8799480" cy="5572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new1"/>
          <p:cNvPicPr/>
          <p:nvPr/>
        </p:nvPicPr>
        <p:blipFill>
          <a:blip r:embed="rId4"/>
          <a:stretch/>
        </p:blipFill>
        <p:spPr>
          <a:xfrm>
            <a:off x="7596360" y="260280"/>
            <a:ext cx="1295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10D6-2983-4BCA-8417-B462770DC03A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руктора правил заполнения форм регламентированной отчетност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оздание правил автозаполнения отчета в пользовательском режиме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ьзователь указывает источники данных для заполнения показателей – счета, аналитику, остатки или оборот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 наглядной форме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ставляем типовые правила. Пользователь может изменить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совокупности с Конструктором отчетов и Конструктором поставки отчетов позволяет достаточно просто создавать новые отчеты, которые могут заполняться по бухгалтерским данным и доводить их до подведомственных учреждений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0228-65C0-4368-8418-E653E8F358E3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бота с криптографией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еализована возможность получения зашифрованных отчетных данных, обеспечивающая как подлинность информации, так и ее скрытность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дсистема криптографии предоставляет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ледующие возможности: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ием зашифрованных файлов отчетности по открытым каналам связи с автоматической расшифровкой при получении;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верка подлинности файлов отчетности с помощью электронной цифровой подписи;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ибкая настройка политики проверки подписей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временного отключения контроля ЭЦП по техническим или организационным причинам (при наличии соответствующих прав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39B-2FC5-4137-AC6E-CAE94DA6BF0E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С:Документооборот государственного учреждения 8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оответствует всем действующим ГОСТам, нормам, рекомендациям и традициям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едназначен для комплексного решения широкого спектра задач автоматизации документооборота и делопроизводства государственных (муниципальных) учреждений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Учет входящих, исходящих и внутренних документов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SzPct val="1174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Работа с документами любых типов. Каждый документ сопровождается учетно-регистрационной карточкой, набор реквизитов которой соответствует ГОСТ Р 6.30-2003. Ведется учет входящих и исходящих документов, организационно-распорядительных, информационно-справочных и прочих документов. 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Учет обращений граждан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SzPct val="1174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едется регистрация и обработка обращений граждан в соответствии с Федеральным законом от 02 мая 2006 г. № 59-ФЗ «О порядке рассмотрения обращений граждан Российской Федерации».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SzPct val="1174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редусмотрен учет дубликатов и повторных обращений, а также учет переадресации обращений граждан в сторонние организации и от них.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SzPct val="1390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ежведомственный электронный документооборот (МЭДО) и СМЭВ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SzPct val="1174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ередача и прием электронных документов посредством МЭДО между различными учреждениями. 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SzPct val="1174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редусмотрена возможность интеграции с системой  межведомственного электронного взаимодействия (СМЭВ)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B824-D8B3-4102-B665-E7C235FCAC08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С:Документооборот государственного учреждения 8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03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лектронная подпись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одписание и шифрования документов и файлов сертифицированными механизмами ЭП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иск данных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олнотекстовый поиск данных по всем полям, в том числе и по содержимому документов. Также имеется возможность поиска документов по любым реквизитам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цессы и совместная работ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ля автоматизации коллективной работы с документами в программе предусмотрены следующие процессы: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Рассмотрение, Исполнение, Согласование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Утверждение, Регистрация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Ознакомление, Поручение, Приглашение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Обработка входящего документа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Обработка исходящего документа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Обработка внутреннего документа, 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омплексный процесс.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4"/>
          <a:stretch/>
        </p:blipFill>
        <p:spPr>
          <a:xfrm>
            <a:off x="0" y="112536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30BE-7116-4FC4-A26C-67A2E2066BF5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рмирование сведений о принятых бюджетных обязательствах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ормирование сведений о принятых бюджетных обязательствах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иказ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Минфина РФ от 19.09.2008 № 98н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течение года несколько раз менялись требования к формам и составу показателей, в том числе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казание нескольких контрагентов, их счетов по контракту (догово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оответственные изменения вносились в форматы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следние изменения внесены совместным письмом Минфина России и Федерального казначейства от 19.08.2013 № 02-03-09/33862/ 42-7.4-05/5.1-507 «О применении отдельных положений Порядка 98н и Порядка 87н – отменена необходимость заполнения ряда реквизитов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Должны применяться с 1 сентября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пасибо коллегам из ОТР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которые подтвердили, что в принимающем ПО казначейства согласно письму сняты ограничения – не производится проверка на заполнение соответствующих реквизитов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ы оперативно внесли соответствующие изменения в программы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E502-4DF3-4B72-B834-FFB3F97658C0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щита информаци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Фирмой "1С" получен сертификат соответствия № 2137 от 20.07.2010 г., выданный ФСТЭК России, который подтверждает, что защищенный программный комплекс (ЗПК) "1С:Предприятие, версия 8.2z" признан программным средством общего назначения со встроенными средствами защиты информации от несанкционированного доступа (НСД) к информации, не содержащей сведения, составляющие государственную тайну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результатам сертификации подтверждено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оответствие требованиям руководящих документов по защите от НСД - 5 класса,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 уровню контроля отсутствия недекларированных возможностей (НДВ) - по 4 уровню контроля,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дтверждена возможность использования для создания автоматизированных систем (АС) до класса защищенности 1Г (т.е. АС, обеспечивающих защиту конфиденциальной информации в ЛВС) включительно, а также для защиты информации в информационных системах персональных данных (ИСПДн) до класса К1 включительно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се конфигурации, разработанные на платформе «1С:Предприятие 8.2», например, "Документооборот государственного учреждения", "Зарплата и кадры бюджетного учреждения", "Бухгалтерия государственного учреждения" могут быть использованы при создании информационной системы персональных данных любого класса и дополнительная сертификация прикладных решений не требуется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5868-A4C2-4F92-9520-F8E352E630D2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щита информаци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ебование об обязательном применении ПП,  прошедших оценку соответствия (сертификацию), теперь предусмотрено в 152-ФЗ.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ирмой «1С» проведена сертификация 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ПК «1С:Предприятие 8.2z» сертификат 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№ 2137 от 20.07.2010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новления ЗПК: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ертификация вновь выходящих релизов проводится на регулярной основе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новления для пользователей ЗПК доступны 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 сайте www.online1c.ru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1B9-7E7F-4FAF-AC5E-C70B0360591C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щита информации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Фирмой "1С" получен сертификат соответствия № 2137 от 20.07.2010 г., выданный ФСТЭК России, который подтверждает, что защищенный программный комплекс (ЗПК) "1С:Предприятие, версия 8.2z" признан программным средством общего назначения со встроенными средствами защиты информации от несанкционированного доступа (НСД) к информации, не содержащей сведения, составляющие государственную тайну 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63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результатам сертификации подтверждено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соответствие требованиям руководящих документов по защите от НСД - 5 класса,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 уровню контроля отсутствия недекларированных возможностей (НДВ) - по 4 уровню контроля,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SzPct val="1390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подтверждена возможность использования для создания автоматизированных систем (АС) до класса защищенности 1Г (т.е. АС, обеспечивающих защиту конфиденциальной информации в ЛВС) включительно, а также для защиты информации в информационных системах персональных данных (ИСПДн) до класса К1 включительно.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се конфигурации, разработанные на платформе «1С:Предприятие 8.2», например, "Документооборот государственного учреждения", "Зарплата и кадры бюджетного учреждения", "Бухгалтерия государственного учреждения" могут быть использованы при создании информационной системы персональных данных любого класса и дополнительная сертификация прикладных решений не требуется</a:t>
            </a:r>
            <a:endParaRPr b="1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405" name="Picture 4" descr="SERT"/>
          <p:cNvPicPr/>
          <p:nvPr/>
        </p:nvPicPr>
        <p:blipFill>
          <a:blip r:embed="rId7"/>
          <a:stretch/>
        </p:blipFill>
        <p:spPr>
          <a:xfrm>
            <a:off x="47520" y="-316080"/>
            <a:ext cx="5499360" cy="75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3300"/>
                </a:solidFill>
                <a:latin typeface="Arial"/>
              </a:rPr>
              <a:t>Бюджетная и бухгалтерская отчетность</a:t>
            </a:r>
            <a:endParaRPr b="1" lang="en-US" sz="4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9CFC-0B31-486D-AC88-A9A86A7C054D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юджетная и бухгалтерская отчетность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комплект бухгалтерской отчетности включены формы согласно приказам Минфина России 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т 28.12.2010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№ 191н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» -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юджетная отчетность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т 25.03.2011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№ 33н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Об утверждении Инструкции о порядке составления, представления годовой, квартальной бухгалтерской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тчетност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государственных (муниципальных)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юджетных и автономных учреждени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» и др.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дусмотрено автозаполнение отчетов по бухгалтерским данным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омплект отчетности для финорганов – 100-е и 300-е формы – 30 форм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составе комплекта бухгалтерской отчетности поставляется типовой набор контрольных соотношений 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зависимости от периода отчета к нему применяются месячные, квартальные или годовые КС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ьзователь может править поставляемые КС, а так же создавать свои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8244000" y="6597720"/>
            <a:ext cx="766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B5C4-90B2-4C18-965A-D1A45DC95CC6}" type="slidenum">
              <a:rPr b="1" lang="ru-RU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юджетная и бухгалтерская отчетность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ормы, вроде, устоялись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 заполнять, поняли 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пасибо Федеральному казначейству за оперативно размещаемые на сайте ФК письма с уточнениями и разъяснениями по составлению отчетности, а также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нне Николаевне Кривинец и Марии Владимировне Леоновой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за их выступления, презентации и статьи с конкретными примерами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авда, есть еще отдельные вопросы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624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этому создали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нструктор правил заполнения отчетности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с помощью которого </a:t>
            </a:r>
            <a:r>
              <a:rPr b="1" lang="ru-RU" sz="2000" spc="-1" strike="noStrike" u="sng">
                <a:solidFill>
                  <a:srgbClr val="663300"/>
                </a:solidFill>
                <a:uFillTx/>
                <a:latin typeface="Arial"/>
              </a:rPr>
              <a:t>в пользовательском режиме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можно составлять алгоритмы автоматического </a:t>
            </a:r>
            <a:r>
              <a:rPr b="1" lang="ru-RU" sz="2000" spc="-1" strike="noStrike" u="sng">
                <a:solidFill>
                  <a:srgbClr val="663300"/>
                </a:solidFill>
                <a:uFillTx/>
                <a:latin typeface="Arial"/>
              </a:rPr>
              <a:t>заполнения форм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тчетности по бухгалтерским данным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ожно править поставляемые типовые правил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ожно создавать свои правил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ля одной и той же формы можно применять разные правила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349"/>
              </a:spcBef>
              <a:buSzPct val="123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ожно обмениваться правилами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/>
  <dc:description/>
  <dc:language>en-US</dc:language>
  <cp:lastModifiedBy>User</cp:lastModifiedBy>
  <dcterms:modified xsi:type="dcterms:W3CDTF">2013-09-05T06:41:27Z</dcterms:modified>
  <cp:revision>1349</cp:revision>
  <dc:subject/>
  <dc:title>Развитие и поддержка бюджетных решений в связи с изменением законодательства </dc:title>
</cp:coreProperties>
</file>