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4.png" ContentType="image/png"/>
  <Override PartName="/ppt/media/image21.png" ContentType="image/png"/>
  <Override PartName="/ppt/media/image19.png" ContentType="image/png"/>
  <Override PartName="/ppt/media/image16.jpeg" ContentType="image/jpeg"/>
  <Override PartName="/ppt/media/image15.png" ContentType="image/png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17.jpeg" ContentType="image/jpeg"/>
  <Override PartName="/ppt/media/image3.png" ContentType="image/png"/>
  <Override PartName="/ppt/media/image10.png" ContentType="image/png"/>
  <Override PartName="/ppt/media/image6.jpeg" ContentType="image/jpeg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</p:sldMasterIdLst>
  <p:sldIdLst>
    <p:sldId id="256" r:id="rId22"/>
    <p:sldId id="257" r:id="rId23"/>
    <p:sldId id="258" r:id="rId24"/>
    <p:sldId id="259" r:id="rId25"/>
    <p:sldId id="260" r:id="rId26"/>
    <p:sldId id="261" r:id="rId27"/>
    <p:sldId id="262" r:id="rId28"/>
    <p:sldId id="263" r:id="rId29"/>
    <p:sldId id="264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" Target="slides/slide1.xml"/><Relationship Id="rId23" Type="http://schemas.openxmlformats.org/officeDocument/2006/relationships/slide" Target="slides/slide2.xml"/><Relationship Id="rId24" Type="http://schemas.openxmlformats.org/officeDocument/2006/relationships/slide" Target="slides/slide3.xml"/><Relationship Id="rId25" Type="http://schemas.openxmlformats.org/officeDocument/2006/relationships/slide" Target="slides/slide4.xml"/><Relationship Id="rId26" Type="http://schemas.openxmlformats.org/officeDocument/2006/relationships/slide" Target="slides/slide5.xml"/><Relationship Id="rId27" Type="http://schemas.openxmlformats.org/officeDocument/2006/relationships/slide" Target="slides/slide6.xml"/><Relationship Id="rId28" Type="http://schemas.openxmlformats.org/officeDocument/2006/relationships/slide" Target="slides/slide7.xml"/><Relationship Id="rId29" Type="http://schemas.openxmlformats.org/officeDocument/2006/relationships/slide" Target="slides/slide8.xml"/><Relationship Id="rId30" Type="http://schemas.openxmlformats.org/officeDocument/2006/relationships/slide" Target="slides/slide9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880C89-591F-42B0-8117-6C63208F3D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8040" y="1628640"/>
            <a:ext cx="818532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8040" y="3749040"/>
            <a:ext cx="818532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412BD5-C4BF-4027-B491-737BD5CBE6B1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98040" y="1628640"/>
            <a:ext cx="3994200" cy="40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892400" y="1628640"/>
            <a:ext cx="3994200" cy="40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19E2F91-E9AE-46E3-9E53-75189F0720AF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2E997A6-89B9-4DB3-94E2-B43BB271FCE5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598320" y="134640"/>
            <a:ext cx="6235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9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F889D04-4C5F-45A2-B94F-F531D717DEC3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98040" y="16286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892400" y="1628640"/>
            <a:ext cx="3994200" cy="40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98040" y="37490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E582B12-E743-420E-8569-F1D3095CC48F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98040" y="1628640"/>
            <a:ext cx="3994200" cy="40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892400" y="16286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892400" y="37490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9442EC2-02C7-4D8F-B4E3-94C9628EA360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98040" y="16286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892400" y="16286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98040" y="3749040"/>
            <a:ext cx="818532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05AB477-A1DA-418B-8C8A-1D47377D27FE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98040" y="1628640"/>
            <a:ext cx="818532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698040" y="3749040"/>
            <a:ext cx="818532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4403926-6F37-4DB2-80CC-B702340F1416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98040" y="16286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892400" y="16286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98040" y="37490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892400" y="37490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FCA3A7A-EDE5-4C83-9B0C-077785D2944F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98040" y="1628640"/>
            <a:ext cx="263556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465720" y="1628640"/>
            <a:ext cx="263556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233400" y="1628640"/>
            <a:ext cx="263556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698040" y="3749040"/>
            <a:ext cx="263556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465720" y="3749040"/>
            <a:ext cx="263556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6233400" y="3749040"/>
            <a:ext cx="263556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823736D-BE35-465E-B96A-831FB2819326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ABE3E92-4E91-4883-81B0-69487D050F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8040" y="16286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2400" y="16286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8040" y="37490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92400" y="37490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4207AB-80F1-44A1-893E-7F8DBE9F9687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698040" y="1628640"/>
            <a:ext cx="8185320" cy="405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9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D8D5AC5-DE23-4EA2-BC99-903C4064C56A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98040" y="1628640"/>
            <a:ext cx="8185320" cy="40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212ECB7-CAB4-4F69-B81D-C73365282C8D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98040" y="1628640"/>
            <a:ext cx="3994200" cy="40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2400" y="1628640"/>
            <a:ext cx="3994200" cy="40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F6FD49E-10FE-444B-B9F4-72ABDF408D9D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DB20602-2A27-4F54-A110-431CB4C6A877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ubTitle"/>
          </p:nvPr>
        </p:nvSpPr>
        <p:spPr>
          <a:xfrm>
            <a:off x="598320" y="134640"/>
            <a:ext cx="6235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9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8259DDA-8827-4F5E-85FE-A73AC6EA49A1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98040" y="16286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892400" y="1628640"/>
            <a:ext cx="3994200" cy="40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98040" y="37490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C92DA79-763A-4608-BFF5-84894A774EFF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98040" y="1628640"/>
            <a:ext cx="3994200" cy="40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892400" y="16286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892400" y="37490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E2B0B6-26EF-4F1C-A30D-60D74268DDA0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98040" y="16286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892400" y="16286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698040" y="3749040"/>
            <a:ext cx="818532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5EB5387-A4A0-4B6F-8AC2-B1897B08AEA7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98040" y="1628640"/>
            <a:ext cx="818532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698040" y="3749040"/>
            <a:ext cx="818532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4FAB006-E61E-4B15-8CA3-AFC242B3C287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98040" y="16286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892400" y="16286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98040" y="37490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892400" y="37490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AC2B3E0-04DF-4688-8F1B-781BAF1BEB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8040" y="1628640"/>
            <a:ext cx="263556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465720" y="1628640"/>
            <a:ext cx="263556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33400" y="1628640"/>
            <a:ext cx="263556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8040" y="3749040"/>
            <a:ext cx="263556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465720" y="3749040"/>
            <a:ext cx="263556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33400" y="3749040"/>
            <a:ext cx="263556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256EB7-229A-410B-B11A-3147A57BCDC7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98040" y="1628640"/>
            <a:ext cx="263556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3465720" y="1628640"/>
            <a:ext cx="263556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6233400" y="1628640"/>
            <a:ext cx="263556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698040" y="3749040"/>
            <a:ext cx="263556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386" name="PlaceHolder 6"/>
          <p:cNvSpPr>
            <a:spLocks noGrp="1"/>
          </p:cNvSpPr>
          <p:nvPr>
            <p:ph/>
          </p:nvPr>
        </p:nvSpPr>
        <p:spPr>
          <a:xfrm>
            <a:off x="3465720" y="3749040"/>
            <a:ext cx="263556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387" name="PlaceHolder 7"/>
          <p:cNvSpPr>
            <a:spLocks noGrp="1"/>
          </p:cNvSpPr>
          <p:nvPr>
            <p:ph/>
          </p:nvPr>
        </p:nvSpPr>
        <p:spPr>
          <a:xfrm>
            <a:off x="6233400" y="3749040"/>
            <a:ext cx="263556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29AE025-69AA-4DB1-B035-48814BFD4BDB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E57D15-0849-4009-8941-D31594D82A33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subTitle"/>
          </p:nvPr>
        </p:nvSpPr>
        <p:spPr>
          <a:xfrm>
            <a:off x="698040" y="1628640"/>
            <a:ext cx="8185320" cy="405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9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DCA7AE-9F99-44C4-BFA4-E42B1C9BD1BD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98040" y="1628640"/>
            <a:ext cx="8185320" cy="40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EBDEB3-8DE6-4388-B15B-095F29436529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98040" y="1628640"/>
            <a:ext cx="3994200" cy="40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892400" y="1628640"/>
            <a:ext cx="3994200" cy="40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D8DFF0-3E18-422F-A4FD-EDA4B50D22FA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DA93D2-4F43-4F36-95E4-966668AA335F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ubTitle"/>
          </p:nvPr>
        </p:nvSpPr>
        <p:spPr>
          <a:xfrm>
            <a:off x="598320" y="134640"/>
            <a:ext cx="6235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9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7DE521-FF6C-4F19-AC60-F7357505C53F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98040" y="16286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892400" y="1628640"/>
            <a:ext cx="3994200" cy="40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698040" y="37490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FB6349-2BA1-4583-94E3-001DCF91FBBD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98040" y="1628640"/>
            <a:ext cx="3994200" cy="40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892400" y="16286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892400" y="37490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407FD7-1129-412E-87A1-E08CDFD30DFF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98040" y="16286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892400" y="16286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98040" y="3749040"/>
            <a:ext cx="818532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ABC1CC-A8A8-4751-AD15-EBC9360795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5C257D-59B4-4BCF-9957-1B5ED21920D8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698040" y="1628640"/>
            <a:ext cx="818532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698040" y="3749040"/>
            <a:ext cx="818532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18019B-0690-4ABC-8957-F1D8B62AEA24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98040" y="16286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892400" y="16286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698040" y="37490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4892400" y="37490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B79DF8-93C4-40C9-9B25-DF858D4E86B4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98040" y="1628640"/>
            <a:ext cx="263556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3465720" y="1628640"/>
            <a:ext cx="263556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6233400" y="1628640"/>
            <a:ext cx="263556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698040" y="3749040"/>
            <a:ext cx="263556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425" name="PlaceHolder 6"/>
          <p:cNvSpPr>
            <a:spLocks noGrp="1"/>
          </p:cNvSpPr>
          <p:nvPr>
            <p:ph/>
          </p:nvPr>
        </p:nvSpPr>
        <p:spPr>
          <a:xfrm>
            <a:off x="3465720" y="3749040"/>
            <a:ext cx="263556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426" name="PlaceHolder 7"/>
          <p:cNvSpPr>
            <a:spLocks noGrp="1"/>
          </p:cNvSpPr>
          <p:nvPr>
            <p:ph/>
          </p:nvPr>
        </p:nvSpPr>
        <p:spPr>
          <a:xfrm>
            <a:off x="6233400" y="3749040"/>
            <a:ext cx="263556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EDF97B-7169-4F9B-B98F-8CA3D94BF767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F2D6D65-FF8E-4DF1-BF2C-89381585601D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subTitle"/>
          </p:nvPr>
        </p:nvSpPr>
        <p:spPr>
          <a:xfrm>
            <a:off x="698040" y="1628640"/>
            <a:ext cx="8185320" cy="405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9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DD892E9-6F54-4B0F-AB9E-E01BF1005A71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98040" y="1628640"/>
            <a:ext cx="8185320" cy="40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D2F1D17-13E6-4A86-B5B1-AC98A333BD6B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698040" y="1628640"/>
            <a:ext cx="3994200" cy="40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892400" y="1628640"/>
            <a:ext cx="3994200" cy="40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585C7A9-8402-4298-842C-F09981AF6857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9429744-3699-401E-B93D-C5CBADBFD2C6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ubTitle"/>
          </p:nvPr>
        </p:nvSpPr>
        <p:spPr>
          <a:xfrm>
            <a:off x="598320" y="134640"/>
            <a:ext cx="6235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9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3D78173-092F-47D8-BB59-427CF78083D2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98040" y="16286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892400" y="1628640"/>
            <a:ext cx="3994200" cy="40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98040" y="37490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F66473C-FE51-4B9F-89A4-25A78C71822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98040" y="1628640"/>
            <a:ext cx="8185320" cy="405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9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D55337-A5DA-409B-817E-C49B9840ADC8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98040" y="1628640"/>
            <a:ext cx="3994200" cy="40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892400" y="16286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892400" y="37490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5C5B3F8-8C1C-4B02-88BC-4360CAA94633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98040" y="16286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892400" y="16286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98040" y="3749040"/>
            <a:ext cx="818532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B12C01F-5A66-4A18-8C25-08F4E2387F78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98040" y="1628640"/>
            <a:ext cx="818532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698040" y="3749040"/>
            <a:ext cx="818532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BA22B25-DAE6-4107-9AC5-27E3EFA4420A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698040" y="16286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892400" y="16286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98040" y="37490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892400" y="37490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1568574-7C75-4EA4-8748-399F3967A6AC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98040" y="1628640"/>
            <a:ext cx="263556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3465720" y="1628640"/>
            <a:ext cx="263556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6233400" y="1628640"/>
            <a:ext cx="263556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698040" y="3749040"/>
            <a:ext cx="263556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/>
          </p:nvPr>
        </p:nvSpPr>
        <p:spPr>
          <a:xfrm>
            <a:off x="3465720" y="3749040"/>
            <a:ext cx="263556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465" name="PlaceHolder 7"/>
          <p:cNvSpPr>
            <a:spLocks noGrp="1"/>
          </p:cNvSpPr>
          <p:nvPr>
            <p:ph/>
          </p:nvPr>
        </p:nvSpPr>
        <p:spPr>
          <a:xfrm>
            <a:off x="6233400" y="3749040"/>
            <a:ext cx="263556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2A2F4CB-FE62-433A-BFB3-B0FFF782E1C2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86B9D9C-E14B-4CB1-AD62-3C2398E1B8DE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698040" y="1628640"/>
            <a:ext cx="8185320" cy="405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9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AF1C822-C6DC-4075-A9B9-9F19B4B18022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98040" y="1628640"/>
            <a:ext cx="8185320" cy="40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F9AF941-B87A-46B6-93AB-B4CAB1A8DFA4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98040" y="1628640"/>
            <a:ext cx="3994200" cy="40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892400" y="1628640"/>
            <a:ext cx="3994200" cy="40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22BA4BE-0106-46B2-A2F7-FF4AD2BD3862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4E6EE23-2377-4F01-B148-86CB0BF60BD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8040" y="1628640"/>
            <a:ext cx="8185320" cy="40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D03190-4955-492E-888C-FB0A98F89B27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598320" y="134640"/>
            <a:ext cx="6235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9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7279AB4-A315-4303-9FF5-18A4C3D340F2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98040" y="16286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892400" y="1628640"/>
            <a:ext cx="3994200" cy="40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698040" y="37490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AF26EAE-5305-4CE7-8B76-4F6F5643B5BB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698040" y="1628640"/>
            <a:ext cx="3994200" cy="40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892400" y="16286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892400" y="37490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0E63C65-C719-4121-BCB8-05E6CDFD6292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698040" y="16286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892400" y="16286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698040" y="3749040"/>
            <a:ext cx="818532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EF5F50F-AD66-4BBF-A2DB-4AAD03F2565D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698040" y="1628640"/>
            <a:ext cx="818532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698040" y="3749040"/>
            <a:ext cx="818532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63B8641-7912-4BC2-BFD4-B7BD8C773D26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698040" y="16286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892400" y="16286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698040" y="37490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892400" y="37490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EF07E1B-2FDA-4634-BB02-94E72F0C496B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98040" y="1628640"/>
            <a:ext cx="263556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465720" y="1628640"/>
            <a:ext cx="263556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233400" y="1628640"/>
            <a:ext cx="263556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698040" y="3749040"/>
            <a:ext cx="263556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465720" y="3749040"/>
            <a:ext cx="263556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233400" y="3749040"/>
            <a:ext cx="263556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B659F55-81B2-4D3B-B503-B29F5AE5D3CA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E01713-6740-4E97-A0C1-027CDBA69838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subTitle"/>
          </p:nvPr>
        </p:nvSpPr>
        <p:spPr>
          <a:xfrm>
            <a:off x="698040" y="1628640"/>
            <a:ext cx="8185320" cy="405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9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10EDA4-9205-4A7F-877E-1BD4316D3F0D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98040" y="1628640"/>
            <a:ext cx="8185320" cy="40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5CF2CB-2F17-4A1F-A000-B410C6324A5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98040" y="1628640"/>
            <a:ext cx="3994200" cy="40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92400" y="1628640"/>
            <a:ext cx="3994200" cy="40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1CE1EF-3B0A-4FE6-A0A1-CEF7E95C246B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98040" y="1628640"/>
            <a:ext cx="3994200" cy="40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892400" y="1628640"/>
            <a:ext cx="3994200" cy="40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6DBF8C-C2E7-406C-A70B-71A8FD8EA1F1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5049EC-9622-41E8-BBF5-B01F92B1F131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ubTitle"/>
          </p:nvPr>
        </p:nvSpPr>
        <p:spPr>
          <a:xfrm>
            <a:off x="598320" y="134640"/>
            <a:ext cx="6235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9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4B75F1-0908-4CCD-A0A1-86D59348AF64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698040" y="16286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892400" y="1628640"/>
            <a:ext cx="3994200" cy="40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98040" y="37490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92D773-6B10-4DB8-87B2-E04455FD74C6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98040" y="1628640"/>
            <a:ext cx="3994200" cy="40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892400" y="16286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892400" y="37490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6FB05C-A8BE-4D5A-AC07-811E46A1DFFF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98040" y="16286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892400" y="16286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698040" y="3749040"/>
            <a:ext cx="818532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F4F467-965A-4F17-A3E2-D3D1F9B9888E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98040" y="1628640"/>
            <a:ext cx="818532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698040" y="3749040"/>
            <a:ext cx="818532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72394C-44CB-484F-96D6-1DAF8184EB6A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698040" y="16286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892400" y="16286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698040" y="37490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4892400" y="37490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166C49-FF0B-406D-8F23-B79BD9377F55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698040" y="1628640"/>
            <a:ext cx="263556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3465720" y="1628640"/>
            <a:ext cx="263556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6233400" y="1628640"/>
            <a:ext cx="263556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/>
          </p:nvPr>
        </p:nvSpPr>
        <p:spPr>
          <a:xfrm>
            <a:off x="698040" y="3749040"/>
            <a:ext cx="263556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542" name="PlaceHolder 6"/>
          <p:cNvSpPr>
            <a:spLocks noGrp="1"/>
          </p:cNvSpPr>
          <p:nvPr>
            <p:ph/>
          </p:nvPr>
        </p:nvSpPr>
        <p:spPr>
          <a:xfrm>
            <a:off x="3465720" y="3749040"/>
            <a:ext cx="263556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543" name="PlaceHolder 7"/>
          <p:cNvSpPr>
            <a:spLocks noGrp="1"/>
          </p:cNvSpPr>
          <p:nvPr>
            <p:ph/>
          </p:nvPr>
        </p:nvSpPr>
        <p:spPr>
          <a:xfrm>
            <a:off x="6233400" y="3749040"/>
            <a:ext cx="263556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7C430A-B428-4314-946E-573D7C63F70C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5B814A1-3E37-4BB1-93D6-D04D9D5F984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9F6800-6C7B-43F4-BECB-00D2A0932DEC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698040" y="1628640"/>
            <a:ext cx="8185320" cy="405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9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D435A11-ED88-48B8-AE80-06F7E76A2E05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698040" y="1628640"/>
            <a:ext cx="8185320" cy="40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07E27CD-61D6-4176-B4AC-BF7B14B1CA91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98040" y="1628640"/>
            <a:ext cx="3994200" cy="40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892400" y="1628640"/>
            <a:ext cx="3994200" cy="40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90022BD-E694-4BFB-A431-294F1D306C52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7C9B255-C924-4D76-92D9-D6CC4094132E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598320" y="134640"/>
            <a:ext cx="6235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9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DA0B561-FC1E-49D3-941D-50C9FF15C090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98040" y="16286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892400" y="1628640"/>
            <a:ext cx="3994200" cy="40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698040" y="37490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4693297-81D9-4493-892A-335DCCB87B44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698040" y="1628640"/>
            <a:ext cx="3994200" cy="40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892400" y="16286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892400" y="37490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732DAAE-7D08-4994-998A-C23FA5F2904D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698040" y="16286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892400" y="16286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698040" y="3749040"/>
            <a:ext cx="818532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25A47E2-AFCD-4E05-B010-B9687A408FFA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698040" y="1628640"/>
            <a:ext cx="818532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698040" y="3749040"/>
            <a:ext cx="818532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FFB7A02-CFCC-42B3-9A39-B39895181168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698040" y="16286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892400" y="16286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698040" y="37490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892400" y="37490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DEC1467-E494-4D06-BC18-95F99F5D471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598320" y="134640"/>
            <a:ext cx="6235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9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FC0AF6-2DF4-4C3B-9DBB-D36A3AB6E109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698040" y="1628640"/>
            <a:ext cx="263556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465720" y="1628640"/>
            <a:ext cx="263556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233400" y="1628640"/>
            <a:ext cx="263556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698040" y="3749040"/>
            <a:ext cx="263556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465720" y="3749040"/>
            <a:ext cx="263556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233400" y="3749040"/>
            <a:ext cx="263556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59FF29B-FCC5-49A7-BDF2-F30376FB419C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C80087A-D413-43C6-AE7C-C0D61AD7A1EE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 type="subTitle"/>
          </p:nvPr>
        </p:nvSpPr>
        <p:spPr>
          <a:xfrm>
            <a:off x="698040" y="1628640"/>
            <a:ext cx="8185320" cy="405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9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B5FBEC9-758E-4936-A628-C8AA142057F6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698040" y="1628640"/>
            <a:ext cx="8185320" cy="40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42DB07B-34BA-4C29-9937-803DAA71A6FA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698040" y="1628640"/>
            <a:ext cx="3994200" cy="40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892400" y="1628640"/>
            <a:ext cx="3994200" cy="40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055597A-2A5A-4D72-BDFB-BA34941B8486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B62F186-A5FC-4FEE-A6E3-A12349F81D78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subTitle"/>
          </p:nvPr>
        </p:nvSpPr>
        <p:spPr>
          <a:xfrm>
            <a:off x="598320" y="134640"/>
            <a:ext cx="6235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9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B53D6A0-4F68-48FA-BE99-52AF8BF4C51E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698040" y="16286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892400" y="1628640"/>
            <a:ext cx="3994200" cy="40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698040" y="37490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DAAF5C9-07C3-4143-88D7-0E710D4BC16F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698040" y="1628640"/>
            <a:ext cx="3994200" cy="40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892400" y="16286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4892400" y="37490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2B75050-316C-417E-B566-91DA6EA9A41F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98040" y="16286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892400" y="16286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698040" y="3749040"/>
            <a:ext cx="818532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4B9EBF4-10D1-45ED-9A58-F98C9E25C03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98040" y="16286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892400" y="1628640"/>
            <a:ext cx="3994200" cy="40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98040" y="37490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200147-58B2-43D9-A726-9256408E08DC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698040" y="1628640"/>
            <a:ext cx="818532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698040" y="3749040"/>
            <a:ext cx="818532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CD72EC6-B3C8-4CBC-8646-33D0A9631305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98040" y="16286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892400" y="16286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698040" y="37490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4892400" y="37490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431E420-521E-4B57-9793-B66ADCAF630F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698040" y="1628640"/>
            <a:ext cx="263556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3465720" y="1628640"/>
            <a:ext cx="263556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6233400" y="1628640"/>
            <a:ext cx="263556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/>
          </p:nvPr>
        </p:nvSpPr>
        <p:spPr>
          <a:xfrm>
            <a:off x="698040" y="3749040"/>
            <a:ext cx="263556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620" name="PlaceHolder 6"/>
          <p:cNvSpPr>
            <a:spLocks noGrp="1"/>
          </p:cNvSpPr>
          <p:nvPr>
            <p:ph/>
          </p:nvPr>
        </p:nvSpPr>
        <p:spPr>
          <a:xfrm>
            <a:off x="3465720" y="3749040"/>
            <a:ext cx="263556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621" name="PlaceHolder 7"/>
          <p:cNvSpPr>
            <a:spLocks noGrp="1"/>
          </p:cNvSpPr>
          <p:nvPr>
            <p:ph/>
          </p:nvPr>
        </p:nvSpPr>
        <p:spPr>
          <a:xfrm>
            <a:off x="6233400" y="3749040"/>
            <a:ext cx="263556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83ACE48-AC1E-4106-8DF0-F4BB87C089F1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6A0359-FE9B-4260-857C-06160A8F91C7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 type="subTitle"/>
          </p:nvPr>
        </p:nvSpPr>
        <p:spPr>
          <a:xfrm>
            <a:off x="698040" y="1628640"/>
            <a:ext cx="8185320" cy="405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9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5FD3C8-C9C9-487F-807C-B06D001378D7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698040" y="1628640"/>
            <a:ext cx="8185320" cy="40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3F9A45-37B1-4CB1-8462-A6B382603DFE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698040" y="1628640"/>
            <a:ext cx="3994200" cy="40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892400" y="1628640"/>
            <a:ext cx="3994200" cy="40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383981-B479-466E-843F-00F69E247E1E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DA90D9-9F21-4CED-AB26-8E0D02DBF9C2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subTitle"/>
          </p:nvPr>
        </p:nvSpPr>
        <p:spPr>
          <a:xfrm>
            <a:off x="598320" y="134640"/>
            <a:ext cx="6235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9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D2592B-F70E-4C3D-B345-7C54A3D1A31E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98040" y="16286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892400" y="1628640"/>
            <a:ext cx="3994200" cy="40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698040" y="37490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4E76BC-3DCF-452D-A8E7-3F016DEC98B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8040" y="1628640"/>
            <a:ext cx="8185320" cy="405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9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ADC319-5F8E-406C-A29E-D6BA814389D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98040" y="1628640"/>
            <a:ext cx="3994200" cy="40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92400" y="16286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892400" y="37490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55D157-A934-49C0-BF7E-B23867D715F6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98040" y="1628640"/>
            <a:ext cx="3994200" cy="40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892400" y="16286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4892400" y="37490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2DA6D1-896A-4B29-979C-F26E94B61698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698040" y="16286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892400" y="16286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698040" y="3749040"/>
            <a:ext cx="818532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AB7110-A042-4992-BD61-3E1DC8AF835B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698040" y="1628640"/>
            <a:ext cx="818532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698040" y="3749040"/>
            <a:ext cx="818532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6D6F9A-DFF9-4B32-BB3D-BCC766698D20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698040" y="16286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892400" y="16286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98040" y="37490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4892400" y="37490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70D7FD-FB94-4F99-B34B-664CC9A302C2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698040" y="1628640"/>
            <a:ext cx="263556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3465720" y="1628640"/>
            <a:ext cx="263556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6233400" y="1628640"/>
            <a:ext cx="263556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658" name="PlaceHolder 5"/>
          <p:cNvSpPr>
            <a:spLocks noGrp="1"/>
          </p:cNvSpPr>
          <p:nvPr>
            <p:ph/>
          </p:nvPr>
        </p:nvSpPr>
        <p:spPr>
          <a:xfrm>
            <a:off x="698040" y="3749040"/>
            <a:ext cx="263556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659" name="PlaceHolder 6"/>
          <p:cNvSpPr>
            <a:spLocks noGrp="1"/>
          </p:cNvSpPr>
          <p:nvPr>
            <p:ph/>
          </p:nvPr>
        </p:nvSpPr>
        <p:spPr>
          <a:xfrm>
            <a:off x="3465720" y="3749040"/>
            <a:ext cx="263556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660" name="PlaceHolder 7"/>
          <p:cNvSpPr>
            <a:spLocks noGrp="1"/>
          </p:cNvSpPr>
          <p:nvPr>
            <p:ph/>
          </p:nvPr>
        </p:nvSpPr>
        <p:spPr>
          <a:xfrm>
            <a:off x="6233400" y="3749040"/>
            <a:ext cx="263556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31172D-9E1A-4D3F-97D6-3C6D3B349C5B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606E387-C7FF-4799-9450-71A8C997987C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 type="subTitle"/>
          </p:nvPr>
        </p:nvSpPr>
        <p:spPr>
          <a:xfrm>
            <a:off x="698040" y="1628640"/>
            <a:ext cx="8185320" cy="405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9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46B8166-8C8B-418D-8182-D92F1F9A70CB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698040" y="1628640"/>
            <a:ext cx="8185320" cy="40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BA578EF-498D-474E-ACE7-E47C8523B584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698040" y="1628640"/>
            <a:ext cx="3994200" cy="40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892400" y="1628640"/>
            <a:ext cx="3994200" cy="40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48892D8-68BF-4C2E-A281-759BCF98FE80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C9FEF2C-0DD2-4661-A982-A2EF70C4AE5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98040" y="16286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92400" y="16286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98040" y="3749040"/>
            <a:ext cx="818532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A62475-457C-4FAD-A4B2-5D6B572CCD6D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subTitle"/>
          </p:nvPr>
        </p:nvSpPr>
        <p:spPr>
          <a:xfrm>
            <a:off x="598320" y="134640"/>
            <a:ext cx="6235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9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2A71B00-C0B9-4EFA-B71D-B2864EE52BA6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698040" y="16286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892400" y="1628640"/>
            <a:ext cx="3994200" cy="40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698040" y="37490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A728A6F-1496-42A8-9A7B-9CA1C63C57DD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98040" y="1628640"/>
            <a:ext cx="3994200" cy="40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892400" y="16286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4892400" y="37490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63A6A7A-F815-4C42-AFE4-F010FD090A80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98040" y="16286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892400" y="16286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698040" y="3749040"/>
            <a:ext cx="818532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F936A24-2DB2-4AFC-9A08-29CA865A1377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698040" y="1628640"/>
            <a:ext cx="818532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698040" y="3749040"/>
            <a:ext cx="818532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6154BDE-332E-43CD-A103-F62FD4133119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698040" y="16286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892400" y="16286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698040" y="37490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692" name="PlaceHolder 5"/>
          <p:cNvSpPr>
            <a:spLocks noGrp="1"/>
          </p:cNvSpPr>
          <p:nvPr>
            <p:ph/>
          </p:nvPr>
        </p:nvSpPr>
        <p:spPr>
          <a:xfrm>
            <a:off x="4892400" y="37490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4CA91D6-2C59-4C33-A421-0CAC5E6CE45E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698040" y="1628640"/>
            <a:ext cx="263556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3465720" y="1628640"/>
            <a:ext cx="263556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6233400" y="1628640"/>
            <a:ext cx="263556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697" name="PlaceHolder 5"/>
          <p:cNvSpPr>
            <a:spLocks noGrp="1"/>
          </p:cNvSpPr>
          <p:nvPr>
            <p:ph/>
          </p:nvPr>
        </p:nvSpPr>
        <p:spPr>
          <a:xfrm>
            <a:off x="698040" y="3749040"/>
            <a:ext cx="263556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698" name="PlaceHolder 6"/>
          <p:cNvSpPr>
            <a:spLocks noGrp="1"/>
          </p:cNvSpPr>
          <p:nvPr>
            <p:ph/>
          </p:nvPr>
        </p:nvSpPr>
        <p:spPr>
          <a:xfrm>
            <a:off x="3465720" y="3749040"/>
            <a:ext cx="263556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699" name="PlaceHolder 7"/>
          <p:cNvSpPr>
            <a:spLocks noGrp="1"/>
          </p:cNvSpPr>
          <p:nvPr>
            <p:ph/>
          </p:nvPr>
        </p:nvSpPr>
        <p:spPr>
          <a:xfrm>
            <a:off x="6233400" y="3749040"/>
            <a:ext cx="263556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73E7A48-486C-4C39-935C-1546994DE98B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DE68AC0-5207-4E54-9478-CCD22EB5BDC0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 type="subTitle"/>
          </p:nvPr>
        </p:nvSpPr>
        <p:spPr>
          <a:xfrm>
            <a:off x="698040" y="1628640"/>
            <a:ext cx="8185320" cy="405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9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F3FABCB-7C14-4CC5-BE21-D26EFFD572C7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698040" y="1628640"/>
            <a:ext cx="8185320" cy="40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FB32FB1-4659-4F08-B8B6-033F25FD701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98040" y="1628640"/>
            <a:ext cx="818532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98040" y="3749040"/>
            <a:ext cx="818532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7B4E9E-F987-40B1-8A64-2187D9094E67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698040" y="1628640"/>
            <a:ext cx="3994200" cy="40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892400" y="1628640"/>
            <a:ext cx="3994200" cy="40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C7F58EC-1BAB-42BD-9A36-315ECB204E94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EE5511C-113A-45B6-BD04-75747864CBFA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subTitle"/>
          </p:nvPr>
        </p:nvSpPr>
        <p:spPr>
          <a:xfrm>
            <a:off x="598320" y="134640"/>
            <a:ext cx="6235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9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EC0B3AC-4B1D-4BD0-82AF-B9417BDFC205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698040" y="16286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892400" y="1628640"/>
            <a:ext cx="3994200" cy="40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98040" y="37490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63AB133-E814-45C2-9723-E39264DC499B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698040" y="1628640"/>
            <a:ext cx="3994200" cy="40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4892400" y="16286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4892400" y="37490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BBCBC94-B9E7-4BA9-987D-05A84C767AEF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698040" y="16286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892400" y="16286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698040" y="3749040"/>
            <a:ext cx="818532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E57F9A4-7CE0-433E-8D3B-39A3FE56045A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698040" y="1628640"/>
            <a:ext cx="818532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698040" y="3749040"/>
            <a:ext cx="818532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2EAC386-9998-42E8-BB7D-0C865ED259B8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698040" y="16286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4892400" y="16286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698040" y="37490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731" name="PlaceHolder 5"/>
          <p:cNvSpPr>
            <a:spLocks noGrp="1"/>
          </p:cNvSpPr>
          <p:nvPr>
            <p:ph/>
          </p:nvPr>
        </p:nvSpPr>
        <p:spPr>
          <a:xfrm>
            <a:off x="4892400" y="37490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BDFF7A8-D9C9-4CED-9547-8F636F4EC438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698040" y="1628640"/>
            <a:ext cx="263556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3465720" y="1628640"/>
            <a:ext cx="263556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6233400" y="1628640"/>
            <a:ext cx="263556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736" name="PlaceHolder 5"/>
          <p:cNvSpPr>
            <a:spLocks noGrp="1"/>
          </p:cNvSpPr>
          <p:nvPr>
            <p:ph/>
          </p:nvPr>
        </p:nvSpPr>
        <p:spPr>
          <a:xfrm>
            <a:off x="698040" y="3749040"/>
            <a:ext cx="263556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737" name="PlaceHolder 6"/>
          <p:cNvSpPr>
            <a:spLocks noGrp="1"/>
          </p:cNvSpPr>
          <p:nvPr>
            <p:ph/>
          </p:nvPr>
        </p:nvSpPr>
        <p:spPr>
          <a:xfrm>
            <a:off x="3465720" y="3749040"/>
            <a:ext cx="263556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738" name="PlaceHolder 7"/>
          <p:cNvSpPr>
            <a:spLocks noGrp="1"/>
          </p:cNvSpPr>
          <p:nvPr>
            <p:ph/>
          </p:nvPr>
        </p:nvSpPr>
        <p:spPr>
          <a:xfrm>
            <a:off x="6233400" y="3749040"/>
            <a:ext cx="263556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D41987A-6CC7-4E20-AE8C-E9A10A25FE0F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A0B32A-DA0B-4426-8CBE-682CBDF5FA4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98040" y="16286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2400" y="16286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98040" y="37490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892400" y="37490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5BC896-AA21-4807-BE43-A40C48965297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 type="subTitle"/>
          </p:nvPr>
        </p:nvSpPr>
        <p:spPr>
          <a:xfrm>
            <a:off x="698040" y="1628640"/>
            <a:ext cx="8185320" cy="405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9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9CE6BC-1430-4501-8BCA-0E46A2C30378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698040" y="1628640"/>
            <a:ext cx="8185320" cy="40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A1A8A0-DCE8-48EB-90C1-670E61B74FC3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698040" y="1628640"/>
            <a:ext cx="3994200" cy="40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892400" y="1628640"/>
            <a:ext cx="3994200" cy="40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050B52-CAD2-48FF-9316-D2204A796B57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89B645-1988-495D-86C5-A00A540C3EFD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subTitle"/>
          </p:nvPr>
        </p:nvSpPr>
        <p:spPr>
          <a:xfrm>
            <a:off x="598320" y="134640"/>
            <a:ext cx="6235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9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BF38FD-F8DD-4E00-86CE-94F8EC8A3338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698040" y="16286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892400" y="1628640"/>
            <a:ext cx="3994200" cy="40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698040" y="37490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AA13BA-48AD-466A-BF4B-39E39B4CBA4D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698040" y="1628640"/>
            <a:ext cx="3994200" cy="40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4892400" y="16286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4892400" y="37490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75951E-6A7C-46AE-9CC0-D29853EE5E83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698040" y="16286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892400" y="16286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698040" y="3749040"/>
            <a:ext cx="818532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6AC55F-F0DE-466A-805F-0D20C51056FB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698040" y="1628640"/>
            <a:ext cx="818532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698040" y="3749040"/>
            <a:ext cx="818532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A02263-DB4D-4645-BFDD-A9B28876ADF9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698040" y="16286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892400" y="16286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769" name="PlaceHolder 4"/>
          <p:cNvSpPr>
            <a:spLocks noGrp="1"/>
          </p:cNvSpPr>
          <p:nvPr>
            <p:ph/>
          </p:nvPr>
        </p:nvSpPr>
        <p:spPr>
          <a:xfrm>
            <a:off x="698040" y="37490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770" name="PlaceHolder 5"/>
          <p:cNvSpPr>
            <a:spLocks noGrp="1"/>
          </p:cNvSpPr>
          <p:nvPr>
            <p:ph/>
          </p:nvPr>
        </p:nvSpPr>
        <p:spPr>
          <a:xfrm>
            <a:off x="4892400" y="37490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E69E02-5FFD-41FA-A12B-B1810B839E9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98040" y="1628640"/>
            <a:ext cx="263556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465720" y="1628640"/>
            <a:ext cx="263556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233400" y="1628640"/>
            <a:ext cx="263556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98040" y="3749040"/>
            <a:ext cx="263556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465720" y="3749040"/>
            <a:ext cx="263556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233400" y="3749040"/>
            <a:ext cx="263556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E8E3BB-2B81-4DE5-B604-BBDCCF78331B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698040" y="1628640"/>
            <a:ext cx="263556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3465720" y="1628640"/>
            <a:ext cx="263556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/>
          </p:nvPr>
        </p:nvSpPr>
        <p:spPr>
          <a:xfrm>
            <a:off x="6233400" y="1628640"/>
            <a:ext cx="263556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775" name="PlaceHolder 5"/>
          <p:cNvSpPr>
            <a:spLocks noGrp="1"/>
          </p:cNvSpPr>
          <p:nvPr>
            <p:ph/>
          </p:nvPr>
        </p:nvSpPr>
        <p:spPr>
          <a:xfrm>
            <a:off x="698040" y="3749040"/>
            <a:ext cx="263556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776" name="PlaceHolder 6"/>
          <p:cNvSpPr>
            <a:spLocks noGrp="1"/>
          </p:cNvSpPr>
          <p:nvPr>
            <p:ph/>
          </p:nvPr>
        </p:nvSpPr>
        <p:spPr>
          <a:xfrm>
            <a:off x="3465720" y="3749040"/>
            <a:ext cx="263556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777" name="PlaceHolder 7"/>
          <p:cNvSpPr>
            <a:spLocks noGrp="1"/>
          </p:cNvSpPr>
          <p:nvPr>
            <p:ph/>
          </p:nvPr>
        </p:nvSpPr>
        <p:spPr>
          <a:xfrm>
            <a:off x="6233400" y="3749040"/>
            <a:ext cx="263556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B78AFD-67C9-4EDC-992D-3DA816A4236F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698040" y="1628640"/>
            <a:ext cx="8185320" cy="405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9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98040" y="1628640"/>
            <a:ext cx="8185320" cy="40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98040" y="1628640"/>
            <a:ext cx="3994200" cy="40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92400" y="1628640"/>
            <a:ext cx="3994200" cy="40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8040" y="1628640"/>
            <a:ext cx="8185320" cy="40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093936-FB38-4079-8339-EEEE05C387A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598320" y="134640"/>
            <a:ext cx="6235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9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98040" y="16286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892400" y="1628640"/>
            <a:ext cx="3994200" cy="40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98040" y="37490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98040" y="1628640"/>
            <a:ext cx="3994200" cy="40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892400" y="16286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892400" y="37490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98040" y="16286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92400" y="16286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98040" y="3749040"/>
            <a:ext cx="818532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98040" y="1628640"/>
            <a:ext cx="818532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98040" y="3749040"/>
            <a:ext cx="818532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98040" y="16286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892400" y="16286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98040" y="37490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892400" y="37490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98040" y="1628640"/>
            <a:ext cx="263556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465720" y="1628640"/>
            <a:ext cx="263556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233400" y="1628640"/>
            <a:ext cx="263556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698040" y="3749040"/>
            <a:ext cx="263556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465720" y="3749040"/>
            <a:ext cx="263556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233400" y="3749040"/>
            <a:ext cx="263556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698040" y="1628640"/>
            <a:ext cx="8185320" cy="405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9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98040" y="1628640"/>
            <a:ext cx="8185320" cy="40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8040" y="1628640"/>
            <a:ext cx="3994200" cy="40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92400" y="1628640"/>
            <a:ext cx="3994200" cy="40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A9FC79-558B-46D8-929B-99C0B29FBD8D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98040" y="1628640"/>
            <a:ext cx="3994200" cy="40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892400" y="1628640"/>
            <a:ext cx="3994200" cy="40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598320" y="134640"/>
            <a:ext cx="6235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9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98040" y="16286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892400" y="1628640"/>
            <a:ext cx="3994200" cy="40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98040" y="37490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98040" y="1628640"/>
            <a:ext cx="3994200" cy="40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892400" y="16286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892400" y="37490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98040" y="16286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892400" y="16286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98040" y="3749040"/>
            <a:ext cx="818532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98040" y="1628640"/>
            <a:ext cx="818532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698040" y="3749040"/>
            <a:ext cx="818532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98040" y="16286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892400" y="16286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98040" y="37490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892400" y="37490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98040" y="1628640"/>
            <a:ext cx="263556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465720" y="1628640"/>
            <a:ext cx="263556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233400" y="1628640"/>
            <a:ext cx="263556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698040" y="3749040"/>
            <a:ext cx="263556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465720" y="3749040"/>
            <a:ext cx="263556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233400" y="3749040"/>
            <a:ext cx="263556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2A6D8-BA00-40AC-BAF3-D8B57639D3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8EEDBE-CBA4-44B3-A5AC-E8832A8C0B8F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698040" y="1628640"/>
            <a:ext cx="8185320" cy="405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9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586ED-C083-4757-BF7E-3C5D806B9DCF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98040" y="1628640"/>
            <a:ext cx="8185320" cy="40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F635B-670B-4796-8C93-82580F7EEEC8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98040" y="1628640"/>
            <a:ext cx="3994200" cy="40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892400" y="1628640"/>
            <a:ext cx="3994200" cy="40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BAAB6-F994-4F4C-9159-2BBD68786370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E5F69-5525-45A7-ADE2-04F092CE6C9A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598320" y="134640"/>
            <a:ext cx="6235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9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35448-D8D6-415A-A2AD-41AF9AD50BCF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98040" y="16286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892400" y="1628640"/>
            <a:ext cx="3994200" cy="40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98040" y="37490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00EEC-4808-443F-9B04-B9FA40CCB914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98040" y="1628640"/>
            <a:ext cx="3994200" cy="40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2400" y="16286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892400" y="37490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F903D-22E6-42CB-BDD8-17F3F750D71B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98040" y="16286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892400" y="16286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98040" y="3749040"/>
            <a:ext cx="818532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135FE-A298-482E-9091-68BC9C79391E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98040" y="1628640"/>
            <a:ext cx="818532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98040" y="3749040"/>
            <a:ext cx="818532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62BD6-F794-489F-A762-855F7628080B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98040" y="16286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92400" y="16286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98040" y="37490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892400" y="37490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D95F2-17C7-4540-8396-55754A6B6D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598320" y="134640"/>
            <a:ext cx="6235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9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01D8F7-095C-49B8-A84E-2D8482C06B63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98040" y="1628640"/>
            <a:ext cx="263556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465720" y="1628640"/>
            <a:ext cx="263556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233400" y="1628640"/>
            <a:ext cx="263556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698040" y="3749040"/>
            <a:ext cx="263556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3465720" y="3749040"/>
            <a:ext cx="263556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6233400" y="3749040"/>
            <a:ext cx="263556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54F1D-30DC-4EB7-AA5C-EFE89D8103AC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45E4F3-1D93-4436-9656-7C2DDF383D30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698040" y="1628640"/>
            <a:ext cx="8185320" cy="405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9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43F973-AA38-432E-95BF-9EA84E8C103D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98040" y="1628640"/>
            <a:ext cx="8185320" cy="40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BD64E0-B89C-405F-B3E4-D97019F9805E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98040" y="1628640"/>
            <a:ext cx="3994200" cy="40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2400" y="1628640"/>
            <a:ext cx="3994200" cy="40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8865BC-3248-455C-B3DD-C6CBF105F044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D49A8D-F901-4106-9AAD-77CDE37B1AB3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598320" y="134640"/>
            <a:ext cx="6235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9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A9701F-B073-4426-B1C4-1BF2A14E37D4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98040" y="16286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2400" y="1628640"/>
            <a:ext cx="3994200" cy="40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98040" y="37490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95EAB2-6CC9-4AA4-989B-C4700DFD9830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98040" y="1628640"/>
            <a:ext cx="3994200" cy="40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2400" y="16286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892400" y="37490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C4B2FF-CCB0-41CF-B33E-1BDCFBFF8024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98040" y="16286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892400" y="16286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98040" y="3749040"/>
            <a:ext cx="818532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937944-2069-42FE-97B4-102A643C73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8040" y="16286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92400" y="1628640"/>
            <a:ext cx="3994200" cy="40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8040" y="37490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1A8FF8-C3B0-4935-9099-268BF107DC8E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98040" y="1628640"/>
            <a:ext cx="818532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698040" y="3749040"/>
            <a:ext cx="818532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7261F9-C232-4969-92ED-3A6F9FC5C006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98040" y="16286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892400" y="16286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98040" y="37490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892400" y="37490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20D75C-95BA-4D69-82BD-1F6E77BF3AC9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98040" y="1628640"/>
            <a:ext cx="263556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465720" y="1628640"/>
            <a:ext cx="263556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233400" y="1628640"/>
            <a:ext cx="263556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698040" y="3749040"/>
            <a:ext cx="263556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465720" y="3749040"/>
            <a:ext cx="263556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233400" y="3749040"/>
            <a:ext cx="263556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D64083-CD8F-41F6-9495-F15818C678DF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4B10A6-8EC1-4C6E-A065-A3A4D52E27BB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698040" y="1628640"/>
            <a:ext cx="8185320" cy="405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9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8F4CAE-C253-4F4E-A53F-8D9A80DCE718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98040" y="1628640"/>
            <a:ext cx="8185320" cy="40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FD06A9-6C42-49F8-A9AD-A690B47CAD43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98040" y="1628640"/>
            <a:ext cx="3994200" cy="40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892400" y="1628640"/>
            <a:ext cx="3994200" cy="40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F850BC-46F6-46BE-9872-4B4125261898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1F2877-118D-437A-9FD2-CFD200D419BE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598320" y="134640"/>
            <a:ext cx="6235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9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50295A-3381-4C24-856E-CE7D3E97C197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98040" y="16286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2400" y="1628640"/>
            <a:ext cx="3994200" cy="40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98040" y="37490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49DA10-01B0-4EC5-998D-A9F5B7B6D1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8040" y="1628640"/>
            <a:ext cx="3994200" cy="40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2400" y="16286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92400" y="37490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9D2E65-C2BA-4273-9E00-98F9CDB90954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98040" y="1628640"/>
            <a:ext cx="3994200" cy="40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892400" y="16286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892400" y="37490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FF88A1-CC93-43A1-A89A-FC53C1316FD8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98040" y="16286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892400" y="16286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98040" y="3749040"/>
            <a:ext cx="818532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B3016E-08E7-49C1-8D4B-E2C689484349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98040" y="1628640"/>
            <a:ext cx="818532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698040" y="3749040"/>
            <a:ext cx="818532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8C19AB-BF70-4943-9828-4CFAB5EAB640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98040" y="16286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892400" y="16286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98040" y="37490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892400" y="37490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28008A-677D-4DF3-9ADD-C3C07E0618AF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98040" y="1628640"/>
            <a:ext cx="263556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465720" y="1628640"/>
            <a:ext cx="263556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33400" y="1628640"/>
            <a:ext cx="263556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698040" y="3749040"/>
            <a:ext cx="263556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3465720" y="3749040"/>
            <a:ext cx="263556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6233400" y="3749040"/>
            <a:ext cx="263556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D25DCC-283E-4A7C-AE4F-696FBAC00EC7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665F1-C7FB-44ED-933E-84E7A7AC39F7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698040" y="1628640"/>
            <a:ext cx="8185320" cy="405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9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FB785-9A65-482E-988D-49579F50FB0A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98040" y="1628640"/>
            <a:ext cx="8185320" cy="40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981D6-DD22-4DF6-8745-1FF9A85B3E43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98040" y="1628640"/>
            <a:ext cx="3994200" cy="40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892400" y="1628640"/>
            <a:ext cx="3994200" cy="40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6DC14-B790-4C4A-8C4F-A0E195B5EAD5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956D9-C838-420D-9AD2-0B256AC080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8040" y="16286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2400" y="16286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8040" y="3749040"/>
            <a:ext cx="818532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74411A-10F6-4DB5-83CD-20A96BCB4F9B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ubTitle"/>
          </p:nvPr>
        </p:nvSpPr>
        <p:spPr>
          <a:xfrm>
            <a:off x="598320" y="134640"/>
            <a:ext cx="6235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9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3FD98-D4A6-46C4-AA10-FA2629E77606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98040" y="16286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892400" y="1628640"/>
            <a:ext cx="3994200" cy="40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98040" y="37490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F9C5B-7D68-480E-AD73-055DEA3AA5DE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98040" y="1628640"/>
            <a:ext cx="3994200" cy="40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892400" y="16286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892400" y="37490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5DC93-5A12-460D-AA4B-9505A1AD53CC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98040" y="16286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892400" y="16286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98040" y="3749040"/>
            <a:ext cx="818532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19A88-CD70-46B9-90D4-3594B9DC8C55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98040" y="1628640"/>
            <a:ext cx="818532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698040" y="3749040"/>
            <a:ext cx="818532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18C97-3182-4166-A932-460D70AE1F09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98040" y="16286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892400" y="16286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98040" y="37490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892400" y="37490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29D33-5E1F-4318-845B-2D01361E7F07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98040" y="1628640"/>
            <a:ext cx="263556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3465720" y="1628640"/>
            <a:ext cx="263556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233400" y="1628640"/>
            <a:ext cx="263556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698040" y="3749040"/>
            <a:ext cx="263556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308" name="PlaceHolder 6"/>
          <p:cNvSpPr>
            <a:spLocks noGrp="1"/>
          </p:cNvSpPr>
          <p:nvPr>
            <p:ph/>
          </p:nvPr>
        </p:nvSpPr>
        <p:spPr>
          <a:xfrm>
            <a:off x="3465720" y="3749040"/>
            <a:ext cx="263556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309" name="PlaceHolder 7"/>
          <p:cNvSpPr>
            <a:spLocks noGrp="1"/>
          </p:cNvSpPr>
          <p:nvPr>
            <p:ph/>
          </p:nvPr>
        </p:nvSpPr>
        <p:spPr>
          <a:xfrm>
            <a:off x="6233400" y="3749040"/>
            <a:ext cx="263556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BAAA1-3F57-4564-9CCF-F90430D9F4A5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00A9D8D-B5F9-4DAF-93F8-A0C7157C72E9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698040" y="1628640"/>
            <a:ext cx="8185320" cy="405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9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34CB76D-BA10-4337-9171-347393882922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98040" y="1628640"/>
            <a:ext cx="8185320" cy="40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14EABC4-DF39-4A11-AF3B-50B8254A71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09.xml"/><Relationship Id="rId11" Type="http://schemas.openxmlformats.org/officeDocument/2006/relationships/slideLayout" Target="../slideLayouts/slideLayout110.xml"/><Relationship Id="rId12" Type="http://schemas.openxmlformats.org/officeDocument/2006/relationships/slideLayout" Target="../slideLayouts/slideLayout111.xml"/><Relationship Id="rId13" Type="http://schemas.openxmlformats.org/officeDocument/2006/relationships/slideLayout" Target="../slideLayouts/slideLayout112.xml"/><Relationship Id="rId14" Type="http://schemas.openxmlformats.org/officeDocument/2006/relationships/slideLayout" Target="../slideLayouts/slideLayout113.xml"/><Relationship Id="rId15" Type="http://schemas.openxmlformats.org/officeDocument/2006/relationships/slideLayout" Target="../slideLayouts/slideLayout114.xml"/><Relationship Id="rId16" Type="http://schemas.openxmlformats.org/officeDocument/2006/relationships/slideLayout" Target="../slideLayouts/slideLayout115.xml"/><Relationship Id="rId17" Type="http://schemas.openxmlformats.org/officeDocument/2006/relationships/slideLayout" Target="../slideLayouts/slideLayout116.xml"/><Relationship Id="rId18" Type="http://schemas.openxmlformats.org/officeDocument/2006/relationships/slideLayout" Target="../slideLayouts/slideLayout117.xml"/><Relationship Id="rId19" Type="http://schemas.openxmlformats.org/officeDocument/2006/relationships/slideLayout" Target="../slideLayouts/slideLayout118.xml"/><Relationship Id="rId20" Type="http://schemas.openxmlformats.org/officeDocument/2006/relationships/slideLayout" Target="../slideLayouts/slideLayout119.xml"/><Relationship Id="rId21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21.xml"/><Relationship Id="rId11" Type="http://schemas.openxmlformats.org/officeDocument/2006/relationships/slideLayout" Target="../slideLayouts/slideLayout122.xml"/><Relationship Id="rId12" Type="http://schemas.openxmlformats.org/officeDocument/2006/relationships/slideLayout" Target="../slideLayouts/slideLayout123.xml"/><Relationship Id="rId13" Type="http://schemas.openxmlformats.org/officeDocument/2006/relationships/slideLayout" Target="../slideLayouts/slideLayout124.xml"/><Relationship Id="rId14" Type="http://schemas.openxmlformats.org/officeDocument/2006/relationships/slideLayout" Target="../slideLayouts/slideLayout125.xml"/><Relationship Id="rId15" Type="http://schemas.openxmlformats.org/officeDocument/2006/relationships/slideLayout" Target="../slideLayouts/slideLayout126.xml"/><Relationship Id="rId16" Type="http://schemas.openxmlformats.org/officeDocument/2006/relationships/slideLayout" Target="../slideLayouts/slideLayout127.xml"/><Relationship Id="rId17" Type="http://schemas.openxmlformats.org/officeDocument/2006/relationships/slideLayout" Target="../slideLayouts/slideLayout128.xml"/><Relationship Id="rId18" Type="http://schemas.openxmlformats.org/officeDocument/2006/relationships/slideLayout" Target="../slideLayouts/slideLayout129.xml"/><Relationship Id="rId19" Type="http://schemas.openxmlformats.org/officeDocument/2006/relationships/slideLayout" Target="../slideLayouts/slideLayout130.xml"/><Relationship Id="rId20" Type="http://schemas.openxmlformats.org/officeDocument/2006/relationships/slideLayout" Target="../slideLayouts/slideLayout131.xml"/><Relationship Id="rId21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33.xml"/><Relationship Id="rId11" Type="http://schemas.openxmlformats.org/officeDocument/2006/relationships/slideLayout" Target="../slideLayouts/slideLayout134.xml"/><Relationship Id="rId12" Type="http://schemas.openxmlformats.org/officeDocument/2006/relationships/slideLayout" Target="../slideLayouts/slideLayout135.xml"/><Relationship Id="rId13" Type="http://schemas.openxmlformats.org/officeDocument/2006/relationships/slideLayout" Target="../slideLayouts/slideLayout136.xml"/><Relationship Id="rId14" Type="http://schemas.openxmlformats.org/officeDocument/2006/relationships/slideLayout" Target="../slideLayouts/slideLayout137.xml"/><Relationship Id="rId15" Type="http://schemas.openxmlformats.org/officeDocument/2006/relationships/slideLayout" Target="../slideLayouts/slideLayout138.xml"/><Relationship Id="rId16" Type="http://schemas.openxmlformats.org/officeDocument/2006/relationships/slideLayout" Target="../slideLayouts/slideLayout139.xml"/><Relationship Id="rId17" Type="http://schemas.openxmlformats.org/officeDocument/2006/relationships/slideLayout" Target="../slideLayouts/slideLayout140.xml"/><Relationship Id="rId18" Type="http://schemas.openxmlformats.org/officeDocument/2006/relationships/slideLayout" Target="../slideLayouts/slideLayout141.xml"/><Relationship Id="rId19" Type="http://schemas.openxmlformats.org/officeDocument/2006/relationships/slideLayout" Target="../slideLayouts/slideLayout142.xml"/><Relationship Id="rId20" Type="http://schemas.openxmlformats.org/officeDocument/2006/relationships/slideLayout" Target="../slideLayouts/slideLayout143.xml"/><Relationship Id="rId21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45.xml"/><Relationship Id="rId11" Type="http://schemas.openxmlformats.org/officeDocument/2006/relationships/slideLayout" Target="../slideLayouts/slideLayout146.xml"/><Relationship Id="rId12" Type="http://schemas.openxmlformats.org/officeDocument/2006/relationships/slideLayout" Target="../slideLayouts/slideLayout147.xml"/><Relationship Id="rId13" Type="http://schemas.openxmlformats.org/officeDocument/2006/relationships/slideLayout" Target="../slideLayouts/slideLayout148.xml"/><Relationship Id="rId14" Type="http://schemas.openxmlformats.org/officeDocument/2006/relationships/slideLayout" Target="../slideLayouts/slideLayout149.xml"/><Relationship Id="rId15" Type="http://schemas.openxmlformats.org/officeDocument/2006/relationships/slideLayout" Target="../slideLayouts/slideLayout150.xml"/><Relationship Id="rId16" Type="http://schemas.openxmlformats.org/officeDocument/2006/relationships/slideLayout" Target="../slideLayouts/slideLayout151.xml"/><Relationship Id="rId17" Type="http://schemas.openxmlformats.org/officeDocument/2006/relationships/slideLayout" Target="../slideLayouts/slideLayout152.xml"/><Relationship Id="rId18" Type="http://schemas.openxmlformats.org/officeDocument/2006/relationships/slideLayout" Target="../slideLayouts/slideLayout153.xml"/><Relationship Id="rId19" Type="http://schemas.openxmlformats.org/officeDocument/2006/relationships/slideLayout" Target="../slideLayouts/slideLayout154.xml"/><Relationship Id="rId20" Type="http://schemas.openxmlformats.org/officeDocument/2006/relationships/slideLayout" Target="../slideLayouts/slideLayout155.xml"/><Relationship Id="rId21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57.xml"/><Relationship Id="rId11" Type="http://schemas.openxmlformats.org/officeDocument/2006/relationships/slideLayout" Target="../slideLayouts/slideLayout158.xml"/><Relationship Id="rId12" Type="http://schemas.openxmlformats.org/officeDocument/2006/relationships/slideLayout" Target="../slideLayouts/slideLayout159.xml"/><Relationship Id="rId13" Type="http://schemas.openxmlformats.org/officeDocument/2006/relationships/slideLayout" Target="../slideLayouts/slideLayout160.xml"/><Relationship Id="rId14" Type="http://schemas.openxmlformats.org/officeDocument/2006/relationships/slideLayout" Target="../slideLayouts/slideLayout161.xml"/><Relationship Id="rId15" Type="http://schemas.openxmlformats.org/officeDocument/2006/relationships/slideLayout" Target="../slideLayouts/slideLayout162.xml"/><Relationship Id="rId16" Type="http://schemas.openxmlformats.org/officeDocument/2006/relationships/slideLayout" Target="../slideLayouts/slideLayout163.xml"/><Relationship Id="rId17" Type="http://schemas.openxmlformats.org/officeDocument/2006/relationships/slideLayout" Target="../slideLayouts/slideLayout164.xml"/><Relationship Id="rId18" Type="http://schemas.openxmlformats.org/officeDocument/2006/relationships/slideLayout" Target="../slideLayouts/slideLayout165.xml"/><Relationship Id="rId19" Type="http://schemas.openxmlformats.org/officeDocument/2006/relationships/slideLayout" Target="../slideLayouts/slideLayout166.xml"/><Relationship Id="rId20" Type="http://schemas.openxmlformats.org/officeDocument/2006/relationships/slideLayout" Target="../slideLayouts/slideLayout167.xml"/><Relationship Id="rId21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69.xml"/><Relationship Id="rId11" Type="http://schemas.openxmlformats.org/officeDocument/2006/relationships/slideLayout" Target="../slideLayouts/slideLayout170.xml"/><Relationship Id="rId12" Type="http://schemas.openxmlformats.org/officeDocument/2006/relationships/slideLayout" Target="../slideLayouts/slideLayout171.xml"/><Relationship Id="rId13" Type="http://schemas.openxmlformats.org/officeDocument/2006/relationships/slideLayout" Target="../slideLayouts/slideLayout172.xml"/><Relationship Id="rId14" Type="http://schemas.openxmlformats.org/officeDocument/2006/relationships/slideLayout" Target="../slideLayouts/slideLayout173.xml"/><Relationship Id="rId15" Type="http://schemas.openxmlformats.org/officeDocument/2006/relationships/slideLayout" Target="../slideLayouts/slideLayout174.xml"/><Relationship Id="rId16" Type="http://schemas.openxmlformats.org/officeDocument/2006/relationships/slideLayout" Target="../slideLayouts/slideLayout175.xml"/><Relationship Id="rId17" Type="http://schemas.openxmlformats.org/officeDocument/2006/relationships/slideLayout" Target="../slideLayouts/slideLayout176.xml"/><Relationship Id="rId18" Type="http://schemas.openxmlformats.org/officeDocument/2006/relationships/slideLayout" Target="../slideLayouts/slideLayout177.xml"/><Relationship Id="rId19" Type="http://schemas.openxmlformats.org/officeDocument/2006/relationships/slideLayout" Target="../slideLayouts/slideLayout178.xml"/><Relationship Id="rId20" Type="http://schemas.openxmlformats.org/officeDocument/2006/relationships/slideLayout" Target="../slideLayouts/slideLayout179.xml"/><Relationship Id="rId21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81.xml"/><Relationship Id="rId11" Type="http://schemas.openxmlformats.org/officeDocument/2006/relationships/slideLayout" Target="../slideLayouts/slideLayout182.xml"/><Relationship Id="rId12" Type="http://schemas.openxmlformats.org/officeDocument/2006/relationships/slideLayout" Target="../slideLayouts/slideLayout183.xml"/><Relationship Id="rId13" Type="http://schemas.openxmlformats.org/officeDocument/2006/relationships/slideLayout" Target="../slideLayouts/slideLayout184.xml"/><Relationship Id="rId14" Type="http://schemas.openxmlformats.org/officeDocument/2006/relationships/slideLayout" Target="../slideLayouts/slideLayout185.xml"/><Relationship Id="rId15" Type="http://schemas.openxmlformats.org/officeDocument/2006/relationships/slideLayout" Target="../slideLayouts/slideLayout186.xml"/><Relationship Id="rId16" Type="http://schemas.openxmlformats.org/officeDocument/2006/relationships/slideLayout" Target="../slideLayouts/slideLayout187.xml"/><Relationship Id="rId17" Type="http://schemas.openxmlformats.org/officeDocument/2006/relationships/slideLayout" Target="../slideLayouts/slideLayout188.xml"/><Relationship Id="rId18" Type="http://schemas.openxmlformats.org/officeDocument/2006/relationships/slideLayout" Target="../slideLayouts/slideLayout189.xml"/><Relationship Id="rId19" Type="http://schemas.openxmlformats.org/officeDocument/2006/relationships/slideLayout" Target="../slideLayouts/slideLayout190.xml"/><Relationship Id="rId20" Type="http://schemas.openxmlformats.org/officeDocument/2006/relationships/slideLayout" Target="../slideLayouts/slideLayout191.xml"/><Relationship Id="rId21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93.xml"/><Relationship Id="rId11" Type="http://schemas.openxmlformats.org/officeDocument/2006/relationships/slideLayout" Target="../slideLayouts/slideLayout194.xml"/><Relationship Id="rId12" Type="http://schemas.openxmlformats.org/officeDocument/2006/relationships/slideLayout" Target="../slideLayouts/slideLayout195.xml"/><Relationship Id="rId13" Type="http://schemas.openxmlformats.org/officeDocument/2006/relationships/slideLayout" Target="../slideLayouts/slideLayout196.xml"/><Relationship Id="rId14" Type="http://schemas.openxmlformats.org/officeDocument/2006/relationships/slideLayout" Target="../slideLayouts/slideLayout197.xml"/><Relationship Id="rId15" Type="http://schemas.openxmlformats.org/officeDocument/2006/relationships/slideLayout" Target="../slideLayouts/slideLayout198.xml"/><Relationship Id="rId16" Type="http://schemas.openxmlformats.org/officeDocument/2006/relationships/slideLayout" Target="../slideLayouts/slideLayout199.xml"/><Relationship Id="rId17" Type="http://schemas.openxmlformats.org/officeDocument/2006/relationships/slideLayout" Target="../slideLayouts/slideLayout200.xml"/><Relationship Id="rId18" Type="http://schemas.openxmlformats.org/officeDocument/2006/relationships/slideLayout" Target="../slideLayouts/slideLayout201.xml"/><Relationship Id="rId19" Type="http://schemas.openxmlformats.org/officeDocument/2006/relationships/slideLayout" Target="../slideLayouts/slideLayout202.xml"/><Relationship Id="rId20" Type="http://schemas.openxmlformats.org/officeDocument/2006/relationships/slideLayout" Target="../slideLayouts/slideLayout203.xml"/><Relationship Id="rId21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205.xml"/><Relationship Id="rId11" Type="http://schemas.openxmlformats.org/officeDocument/2006/relationships/slideLayout" Target="../slideLayouts/slideLayout206.xml"/><Relationship Id="rId12" Type="http://schemas.openxmlformats.org/officeDocument/2006/relationships/slideLayout" Target="../slideLayouts/slideLayout207.xml"/><Relationship Id="rId13" Type="http://schemas.openxmlformats.org/officeDocument/2006/relationships/slideLayout" Target="../slideLayouts/slideLayout208.xml"/><Relationship Id="rId14" Type="http://schemas.openxmlformats.org/officeDocument/2006/relationships/slideLayout" Target="../slideLayouts/slideLayout209.xml"/><Relationship Id="rId15" Type="http://schemas.openxmlformats.org/officeDocument/2006/relationships/slideLayout" Target="../slideLayouts/slideLayout210.xml"/><Relationship Id="rId16" Type="http://schemas.openxmlformats.org/officeDocument/2006/relationships/slideLayout" Target="../slideLayouts/slideLayout211.xml"/><Relationship Id="rId17" Type="http://schemas.openxmlformats.org/officeDocument/2006/relationships/slideLayout" Target="../slideLayouts/slideLayout212.xml"/><Relationship Id="rId18" Type="http://schemas.openxmlformats.org/officeDocument/2006/relationships/slideLayout" Target="../slideLayouts/slideLayout213.xml"/><Relationship Id="rId19" Type="http://schemas.openxmlformats.org/officeDocument/2006/relationships/slideLayout" Target="../slideLayouts/slideLayout214.xml"/><Relationship Id="rId20" Type="http://schemas.openxmlformats.org/officeDocument/2006/relationships/slideLayout" Target="../slideLayouts/slideLayout215.xml"/><Relationship Id="rId21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217.xml"/><Relationship Id="rId11" Type="http://schemas.openxmlformats.org/officeDocument/2006/relationships/slideLayout" Target="../slideLayouts/slideLayout218.xml"/><Relationship Id="rId12" Type="http://schemas.openxmlformats.org/officeDocument/2006/relationships/slideLayout" Target="../slideLayouts/slideLayout219.xml"/><Relationship Id="rId13" Type="http://schemas.openxmlformats.org/officeDocument/2006/relationships/slideLayout" Target="../slideLayouts/slideLayout220.xml"/><Relationship Id="rId14" Type="http://schemas.openxmlformats.org/officeDocument/2006/relationships/slideLayout" Target="../slideLayouts/slideLayout221.xml"/><Relationship Id="rId15" Type="http://schemas.openxmlformats.org/officeDocument/2006/relationships/slideLayout" Target="../slideLayouts/slideLayout222.xml"/><Relationship Id="rId16" Type="http://schemas.openxmlformats.org/officeDocument/2006/relationships/slideLayout" Target="../slideLayouts/slideLayout223.xml"/><Relationship Id="rId17" Type="http://schemas.openxmlformats.org/officeDocument/2006/relationships/slideLayout" Target="../slideLayouts/slideLayout224.xml"/><Relationship Id="rId18" Type="http://schemas.openxmlformats.org/officeDocument/2006/relationships/slideLayout" Target="../slideLayouts/slideLayout225.xml"/><Relationship Id="rId19" Type="http://schemas.openxmlformats.org/officeDocument/2006/relationships/slideLayout" Target="../slideLayouts/slideLayout226.xml"/><Relationship Id="rId20" Type="http://schemas.openxmlformats.org/officeDocument/2006/relationships/slideLayout" Target="../slideLayouts/slideLayout227.xml"/><Relationship Id="rId21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229.xml"/><Relationship Id="rId11" Type="http://schemas.openxmlformats.org/officeDocument/2006/relationships/slideLayout" Target="../slideLayouts/slideLayout230.xml"/><Relationship Id="rId12" Type="http://schemas.openxmlformats.org/officeDocument/2006/relationships/slideLayout" Target="../slideLayouts/slideLayout231.xml"/><Relationship Id="rId13" Type="http://schemas.openxmlformats.org/officeDocument/2006/relationships/slideLayout" Target="../slideLayouts/slideLayout232.xml"/><Relationship Id="rId14" Type="http://schemas.openxmlformats.org/officeDocument/2006/relationships/slideLayout" Target="../slideLayouts/slideLayout233.xml"/><Relationship Id="rId15" Type="http://schemas.openxmlformats.org/officeDocument/2006/relationships/slideLayout" Target="../slideLayouts/slideLayout234.xml"/><Relationship Id="rId16" Type="http://schemas.openxmlformats.org/officeDocument/2006/relationships/slideLayout" Target="../slideLayouts/slideLayout235.xml"/><Relationship Id="rId17" Type="http://schemas.openxmlformats.org/officeDocument/2006/relationships/slideLayout" Target="../slideLayouts/slideLayout236.xml"/><Relationship Id="rId18" Type="http://schemas.openxmlformats.org/officeDocument/2006/relationships/slideLayout" Target="../slideLayouts/slideLayout237.xml"/><Relationship Id="rId19" Type="http://schemas.openxmlformats.org/officeDocument/2006/relationships/slideLayout" Target="../slideLayouts/slideLayout238.xml"/><Relationship Id="rId20" Type="http://schemas.openxmlformats.org/officeDocument/2006/relationships/slideLayout" Target="../slideLayouts/slideLayout239.xml"/><Relationship Id="rId21" Type="http://schemas.openxmlformats.org/officeDocument/2006/relationships/slideLayout" Target="../slideLayouts/slideLayout240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6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25.xml"/><Relationship Id="rId11" Type="http://schemas.openxmlformats.org/officeDocument/2006/relationships/slideLayout" Target="../slideLayouts/slideLayout26.xml"/><Relationship Id="rId12" Type="http://schemas.openxmlformats.org/officeDocument/2006/relationships/slideLayout" Target="../slideLayouts/slideLayout27.xml"/><Relationship Id="rId13" Type="http://schemas.openxmlformats.org/officeDocument/2006/relationships/slideLayout" Target="../slideLayouts/slideLayout28.xml"/><Relationship Id="rId14" Type="http://schemas.openxmlformats.org/officeDocument/2006/relationships/slideLayout" Target="../slideLayouts/slideLayout29.xml"/><Relationship Id="rId15" Type="http://schemas.openxmlformats.org/officeDocument/2006/relationships/slideLayout" Target="../slideLayouts/slideLayout30.xml"/><Relationship Id="rId16" Type="http://schemas.openxmlformats.org/officeDocument/2006/relationships/slideLayout" Target="../slideLayouts/slideLayout31.xml"/><Relationship Id="rId17" Type="http://schemas.openxmlformats.org/officeDocument/2006/relationships/slideLayout" Target="../slideLayouts/slideLayout32.xml"/><Relationship Id="rId18" Type="http://schemas.openxmlformats.org/officeDocument/2006/relationships/slideLayout" Target="../slideLayouts/slideLayout33.xml"/><Relationship Id="rId19" Type="http://schemas.openxmlformats.org/officeDocument/2006/relationships/slideLayout" Target="../slideLayouts/slideLayout34.xml"/><Relationship Id="rId20" Type="http://schemas.openxmlformats.org/officeDocument/2006/relationships/slideLayout" Target="../slideLayouts/slideLayout35.xml"/><Relationship Id="rId21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7.xml"/><Relationship Id="rId11" Type="http://schemas.openxmlformats.org/officeDocument/2006/relationships/slideLayout" Target="../slideLayouts/slideLayout38.xml"/><Relationship Id="rId12" Type="http://schemas.openxmlformats.org/officeDocument/2006/relationships/slideLayout" Target="../slideLayouts/slideLayout39.xml"/><Relationship Id="rId13" Type="http://schemas.openxmlformats.org/officeDocument/2006/relationships/slideLayout" Target="../slideLayouts/slideLayout40.xml"/><Relationship Id="rId14" Type="http://schemas.openxmlformats.org/officeDocument/2006/relationships/slideLayout" Target="../slideLayouts/slideLayout41.xml"/><Relationship Id="rId15" Type="http://schemas.openxmlformats.org/officeDocument/2006/relationships/slideLayout" Target="../slideLayouts/slideLayout42.xml"/><Relationship Id="rId16" Type="http://schemas.openxmlformats.org/officeDocument/2006/relationships/slideLayout" Target="../slideLayouts/slideLayout43.xml"/><Relationship Id="rId17" Type="http://schemas.openxmlformats.org/officeDocument/2006/relationships/slideLayout" Target="../slideLayouts/slideLayout44.xml"/><Relationship Id="rId18" Type="http://schemas.openxmlformats.org/officeDocument/2006/relationships/slideLayout" Target="../slideLayouts/slideLayout45.xml"/><Relationship Id="rId19" Type="http://schemas.openxmlformats.org/officeDocument/2006/relationships/slideLayout" Target="../slideLayouts/slideLayout46.xml"/><Relationship Id="rId20" Type="http://schemas.openxmlformats.org/officeDocument/2006/relationships/slideLayout" Target="../slideLayouts/slideLayout47.xml"/><Relationship Id="rId21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49.xml"/><Relationship Id="rId11" Type="http://schemas.openxmlformats.org/officeDocument/2006/relationships/slideLayout" Target="../slideLayouts/slideLayout50.xml"/><Relationship Id="rId12" Type="http://schemas.openxmlformats.org/officeDocument/2006/relationships/slideLayout" Target="../slideLayouts/slideLayout51.xml"/><Relationship Id="rId13" Type="http://schemas.openxmlformats.org/officeDocument/2006/relationships/slideLayout" Target="../slideLayouts/slideLayout52.xml"/><Relationship Id="rId14" Type="http://schemas.openxmlformats.org/officeDocument/2006/relationships/slideLayout" Target="../slideLayouts/slideLayout53.xml"/><Relationship Id="rId15" Type="http://schemas.openxmlformats.org/officeDocument/2006/relationships/slideLayout" Target="../slideLayouts/slideLayout54.xml"/><Relationship Id="rId16" Type="http://schemas.openxmlformats.org/officeDocument/2006/relationships/slideLayout" Target="../slideLayouts/slideLayout55.xml"/><Relationship Id="rId17" Type="http://schemas.openxmlformats.org/officeDocument/2006/relationships/slideLayout" Target="../slideLayouts/slideLayout56.xml"/><Relationship Id="rId18" Type="http://schemas.openxmlformats.org/officeDocument/2006/relationships/slideLayout" Target="../slideLayouts/slideLayout57.xml"/><Relationship Id="rId19" Type="http://schemas.openxmlformats.org/officeDocument/2006/relationships/slideLayout" Target="../slideLayouts/slideLayout58.xml"/><Relationship Id="rId20" Type="http://schemas.openxmlformats.org/officeDocument/2006/relationships/slideLayout" Target="../slideLayouts/slideLayout59.xml"/><Relationship Id="rId21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61.xml"/><Relationship Id="rId11" Type="http://schemas.openxmlformats.org/officeDocument/2006/relationships/slideLayout" Target="../slideLayouts/slideLayout62.xml"/><Relationship Id="rId12" Type="http://schemas.openxmlformats.org/officeDocument/2006/relationships/slideLayout" Target="../slideLayouts/slideLayout63.xml"/><Relationship Id="rId13" Type="http://schemas.openxmlformats.org/officeDocument/2006/relationships/slideLayout" Target="../slideLayouts/slideLayout64.xml"/><Relationship Id="rId14" Type="http://schemas.openxmlformats.org/officeDocument/2006/relationships/slideLayout" Target="../slideLayouts/slideLayout65.xml"/><Relationship Id="rId15" Type="http://schemas.openxmlformats.org/officeDocument/2006/relationships/slideLayout" Target="../slideLayouts/slideLayout66.xml"/><Relationship Id="rId16" Type="http://schemas.openxmlformats.org/officeDocument/2006/relationships/slideLayout" Target="../slideLayouts/slideLayout67.xml"/><Relationship Id="rId17" Type="http://schemas.openxmlformats.org/officeDocument/2006/relationships/slideLayout" Target="../slideLayouts/slideLayout68.xml"/><Relationship Id="rId18" Type="http://schemas.openxmlformats.org/officeDocument/2006/relationships/slideLayout" Target="../slideLayouts/slideLayout69.xml"/><Relationship Id="rId19" Type="http://schemas.openxmlformats.org/officeDocument/2006/relationships/slideLayout" Target="../slideLayouts/slideLayout70.xml"/><Relationship Id="rId20" Type="http://schemas.openxmlformats.org/officeDocument/2006/relationships/slideLayout" Target="../slideLayouts/slideLayout71.xml"/><Relationship Id="rId21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73.xml"/><Relationship Id="rId11" Type="http://schemas.openxmlformats.org/officeDocument/2006/relationships/slideLayout" Target="../slideLayouts/slideLayout74.xml"/><Relationship Id="rId12" Type="http://schemas.openxmlformats.org/officeDocument/2006/relationships/slideLayout" Target="../slideLayouts/slideLayout75.xml"/><Relationship Id="rId13" Type="http://schemas.openxmlformats.org/officeDocument/2006/relationships/slideLayout" Target="../slideLayouts/slideLayout76.xml"/><Relationship Id="rId14" Type="http://schemas.openxmlformats.org/officeDocument/2006/relationships/slideLayout" Target="../slideLayouts/slideLayout77.xml"/><Relationship Id="rId15" Type="http://schemas.openxmlformats.org/officeDocument/2006/relationships/slideLayout" Target="../slideLayouts/slideLayout78.xml"/><Relationship Id="rId16" Type="http://schemas.openxmlformats.org/officeDocument/2006/relationships/slideLayout" Target="../slideLayouts/slideLayout79.xml"/><Relationship Id="rId17" Type="http://schemas.openxmlformats.org/officeDocument/2006/relationships/slideLayout" Target="../slideLayouts/slideLayout80.xml"/><Relationship Id="rId18" Type="http://schemas.openxmlformats.org/officeDocument/2006/relationships/slideLayout" Target="../slideLayouts/slideLayout81.xml"/><Relationship Id="rId19" Type="http://schemas.openxmlformats.org/officeDocument/2006/relationships/slideLayout" Target="../slideLayouts/slideLayout82.xml"/><Relationship Id="rId20" Type="http://schemas.openxmlformats.org/officeDocument/2006/relationships/slideLayout" Target="../slideLayouts/slideLayout83.xml"/><Relationship Id="rId21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85.xml"/><Relationship Id="rId11" Type="http://schemas.openxmlformats.org/officeDocument/2006/relationships/slideLayout" Target="../slideLayouts/slideLayout86.xml"/><Relationship Id="rId12" Type="http://schemas.openxmlformats.org/officeDocument/2006/relationships/slideLayout" Target="../slideLayouts/slideLayout87.xml"/><Relationship Id="rId13" Type="http://schemas.openxmlformats.org/officeDocument/2006/relationships/slideLayout" Target="../slideLayouts/slideLayout88.xml"/><Relationship Id="rId14" Type="http://schemas.openxmlformats.org/officeDocument/2006/relationships/slideLayout" Target="../slideLayouts/slideLayout89.xml"/><Relationship Id="rId15" Type="http://schemas.openxmlformats.org/officeDocument/2006/relationships/slideLayout" Target="../slideLayouts/slideLayout90.xml"/><Relationship Id="rId16" Type="http://schemas.openxmlformats.org/officeDocument/2006/relationships/slideLayout" Target="../slideLayouts/slideLayout91.xml"/><Relationship Id="rId17" Type="http://schemas.openxmlformats.org/officeDocument/2006/relationships/slideLayout" Target="../slideLayouts/slideLayout92.xml"/><Relationship Id="rId18" Type="http://schemas.openxmlformats.org/officeDocument/2006/relationships/slideLayout" Target="../slideLayouts/slideLayout93.xml"/><Relationship Id="rId19" Type="http://schemas.openxmlformats.org/officeDocument/2006/relationships/slideLayout" Target="../slideLayouts/slideLayout94.xml"/><Relationship Id="rId20" Type="http://schemas.openxmlformats.org/officeDocument/2006/relationships/slideLayout" Target="../slideLayouts/slideLayout95.xml"/><Relationship Id="rId21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97.xml"/><Relationship Id="rId11" Type="http://schemas.openxmlformats.org/officeDocument/2006/relationships/slideLayout" Target="../slideLayouts/slideLayout98.xml"/><Relationship Id="rId12" Type="http://schemas.openxmlformats.org/officeDocument/2006/relationships/slideLayout" Target="../slideLayouts/slideLayout99.xml"/><Relationship Id="rId13" Type="http://schemas.openxmlformats.org/officeDocument/2006/relationships/slideLayout" Target="../slideLayouts/slideLayout100.xml"/><Relationship Id="rId14" Type="http://schemas.openxmlformats.org/officeDocument/2006/relationships/slideLayout" Target="../slideLayouts/slideLayout101.xml"/><Relationship Id="rId15" Type="http://schemas.openxmlformats.org/officeDocument/2006/relationships/slideLayout" Target="../slideLayouts/slideLayout102.xml"/><Relationship Id="rId16" Type="http://schemas.openxmlformats.org/officeDocument/2006/relationships/slideLayout" Target="../slideLayouts/slideLayout103.xml"/><Relationship Id="rId17" Type="http://schemas.openxmlformats.org/officeDocument/2006/relationships/slideLayout" Target="../slideLayouts/slideLayout104.xml"/><Relationship Id="rId18" Type="http://schemas.openxmlformats.org/officeDocument/2006/relationships/slideLayout" Target="../slideLayouts/slideLayout105.xml"/><Relationship Id="rId19" Type="http://schemas.openxmlformats.org/officeDocument/2006/relationships/slideLayout" Target="../slideLayouts/slideLayout106.xml"/><Relationship Id="rId20" Type="http://schemas.openxmlformats.org/officeDocument/2006/relationships/slideLayout" Target="../slideLayouts/slideLayout107.xml"/><Relationship Id="rId21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98040" y="1628640"/>
            <a:ext cx="8185320" cy="40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6120" indent="-276120">
              <a:spcAft>
                <a:spcPts val="975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5e5d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  <a:p>
            <a:pPr lvl="1" marL="530280" indent="-252360">
              <a:spcAft>
                <a:spcPts val="975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5e5d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  <a:p>
            <a:pPr lvl="2" marL="808200" indent="-276480">
              <a:spcAft>
                <a:spcPts val="975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5e5d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  <a:p>
            <a:pPr lvl="3" marL="1062000" indent="-252360">
              <a:spcAft>
                <a:spcPts val="975"/>
              </a:spcAft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5e5d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  <a:p>
            <a:pPr lvl="4" marL="1347840" indent="-284040">
              <a:spcAft>
                <a:spcPts val="975"/>
              </a:spcAft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5e5d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  <a:p>
            <a:pPr lvl="5" marL="1347840" indent="-284040">
              <a:spcAft>
                <a:spcPts val="975"/>
              </a:spcAft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5e5d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  <a:p>
            <a:pPr lvl="6" marL="1347840" indent="-284040">
              <a:spcAft>
                <a:spcPts val="975"/>
              </a:spcAft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5e5d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8143560" y="6330600"/>
            <a:ext cx="576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95A8D-4CFF-419D-9ED4-7653113942D6}" type="slidenum"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811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698040" y="1628640"/>
            <a:ext cx="8185320" cy="40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6120" indent="-276120">
              <a:spcAft>
                <a:spcPts val="975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5e5d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  <a:p>
            <a:pPr lvl="1" marL="530280" indent="-252360">
              <a:spcAft>
                <a:spcPts val="975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5e5d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  <a:p>
            <a:pPr lvl="2" marL="808200" indent="-276480">
              <a:spcAft>
                <a:spcPts val="975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5e5d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  <a:p>
            <a:pPr lvl="3" marL="1062000" indent="-252360">
              <a:spcAft>
                <a:spcPts val="975"/>
              </a:spcAft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5e5d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  <a:p>
            <a:pPr lvl="4" marL="1347840" indent="-284040">
              <a:spcAft>
                <a:spcPts val="975"/>
              </a:spcAft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5e5d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  <a:p>
            <a:pPr lvl="5" marL="1347840" indent="-284040">
              <a:spcAft>
                <a:spcPts val="975"/>
              </a:spcAft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5e5d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  <a:p>
            <a:pPr lvl="6" marL="1347840" indent="-284040">
              <a:spcAft>
                <a:spcPts val="975"/>
              </a:spcAft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5e5d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811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sldNum" idx="8"/>
          </p:nvPr>
        </p:nvSpPr>
        <p:spPr>
          <a:xfrm>
            <a:off x="8143560" y="6330600"/>
            <a:ext cx="576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93977-653B-4205-B21C-E5253E8FC902}" type="slidenum"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10"/>
    <p:sldLayoutId id="2147483767" r:id="rId11"/>
    <p:sldLayoutId id="2147483768" r:id="rId12"/>
    <p:sldLayoutId id="2147483769" r:id="rId13"/>
    <p:sldLayoutId id="2147483770" r:id="rId14"/>
    <p:sldLayoutId id="2147483771" r:id="rId15"/>
    <p:sldLayoutId id="2147483772" r:id="rId16"/>
    <p:sldLayoutId id="2147483773" r:id="rId17"/>
    <p:sldLayoutId id="2147483774" r:id="rId18"/>
    <p:sldLayoutId id="2147483775" r:id="rId19"/>
    <p:sldLayoutId id="2147483776" r:id="rId20"/>
    <p:sldLayoutId id="2147483777" r:id="rId21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body"/>
          </p:nvPr>
        </p:nvSpPr>
        <p:spPr>
          <a:xfrm>
            <a:off x="698040" y="1628640"/>
            <a:ext cx="8185320" cy="40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6120" indent="-276120">
              <a:spcAft>
                <a:spcPts val="975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5e5d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  <a:p>
            <a:pPr lvl="1" marL="530280" indent="-252360">
              <a:spcAft>
                <a:spcPts val="975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5e5d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  <a:p>
            <a:pPr lvl="2" marL="808200" indent="-276480">
              <a:spcAft>
                <a:spcPts val="975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5e5d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  <a:p>
            <a:pPr lvl="3" marL="1062000" indent="-252360">
              <a:spcAft>
                <a:spcPts val="975"/>
              </a:spcAft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5e5d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  <a:p>
            <a:pPr lvl="4" marL="1347840" indent="-284040">
              <a:spcAft>
                <a:spcPts val="975"/>
              </a:spcAft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5e5d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  <a:p>
            <a:pPr lvl="5" marL="1347840" indent="-284040">
              <a:spcAft>
                <a:spcPts val="975"/>
              </a:spcAft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5e5d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  <a:p>
            <a:pPr lvl="6" marL="1347840" indent="-284040">
              <a:spcAft>
                <a:spcPts val="975"/>
              </a:spcAft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5e5d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811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 type="sldNum" idx="9"/>
          </p:nvPr>
        </p:nvSpPr>
        <p:spPr>
          <a:xfrm>
            <a:off x="8143560" y="6330600"/>
            <a:ext cx="576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E31F7-C1E6-472B-85F0-C9DE1B1BF722}" type="slidenum"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10"/>
    <p:sldLayoutId id="2147483780" r:id="rId11"/>
    <p:sldLayoutId id="2147483781" r:id="rId12"/>
    <p:sldLayoutId id="2147483782" r:id="rId13"/>
    <p:sldLayoutId id="2147483783" r:id="rId14"/>
    <p:sldLayoutId id="2147483784" r:id="rId15"/>
    <p:sldLayoutId id="2147483785" r:id="rId16"/>
    <p:sldLayoutId id="2147483786" r:id="rId17"/>
    <p:sldLayoutId id="2147483787" r:id="rId18"/>
    <p:sldLayoutId id="2147483788" r:id="rId19"/>
    <p:sldLayoutId id="2147483789" r:id="rId20"/>
    <p:sldLayoutId id="2147483790" r:id="rId21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body"/>
          </p:nvPr>
        </p:nvSpPr>
        <p:spPr>
          <a:xfrm>
            <a:off x="698040" y="1628640"/>
            <a:ext cx="8185320" cy="40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6120" indent="-276120">
              <a:spcAft>
                <a:spcPts val="975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5e5d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  <a:p>
            <a:pPr lvl="1" marL="530280" indent="-252360">
              <a:spcAft>
                <a:spcPts val="975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5e5d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  <a:p>
            <a:pPr lvl="2" marL="808200" indent="-276480">
              <a:spcAft>
                <a:spcPts val="975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5e5d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  <a:p>
            <a:pPr lvl="3" marL="1062000" indent="-252360">
              <a:spcAft>
                <a:spcPts val="975"/>
              </a:spcAft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5e5d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  <a:p>
            <a:pPr lvl="4" marL="1347840" indent="-284040">
              <a:spcAft>
                <a:spcPts val="975"/>
              </a:spcAft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5e5d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  <a:p>
            <a:pPr lvl="5" marL="1347840" indent="-284040">
              <a:spcAft>
                <a:spcPts val="975"/>
              </a:spcAft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5e5d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  <a:p>
            <a:pPr lvl="6" marL="1347840" indent="-284040">
              <a:spcAft>
                <a:spcPts val="975"/>
              </a:spcAft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5e5d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811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 type="sldNum" idx="10"/>
          </p:nvPr>
        </p:nvSpPr>
        <p:spPr>
          <a:xfrm>
            <a:off x="8143560" y="6330600"/>
            <a:ext cx="576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320AA-2126-4B4F-9495-FDFD8EF95028}" type="slidenum"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10"/>
    <p:sldLayoutId id="2147483793" r:id="rId11"/>
    <p:sldLayoutId id="2147483794" r:id="rId12"/>
    <p:sldLayoutId id="2147483795" r:id="rId13"/>
    <p:sldLayoutId id="2147483796" r:id="rId14"/>
    <p:sldLayoutId id="2147483797" r:id="rId15"/>
    <p:sldLayoutId id="2147483798" r:id="rId16"/>
    <p:sldLayoutId id="2147483799" r:id="rId17"/>
    <p:sldLayoutId id="2147483800" r:id="rId18"/>
    <p:sldLayoutId id="2147483801" r:id="rId19"/>
    <p:sldLayoutId id="2147483802" r:id="rId20"/>
    <p:sldLayoutId id="2147483803" r:id="rId21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body"/>
          </p:nvPr>
        </p:nvSpPr>
        <p:spPr>
          <a:xfrm>
            <a:off x="698040" y="1628640"/>
            <a:ext cx="8185320" cy="40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6120" indent="-276120">
              <a:spcAft>
                <a:spcPts val="975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5e5d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  <a:p>
            <a:pPr lvl="1" marL="530280" indent="-252360">
              <a:spcAft>
                <a:spcPts val="975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5e5d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  <a:p>
            <a:pPr lvl="2" marL="808200" indent="-276480">
              <a:spcAft>
                <a:spcPts val="975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5e5d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  <a:p>
            <a:pPr lvl="3" marL="1062000" indent="-252360">
              <a:spcAft>
                <a:spcPts val="975"/>
              </a:spcAft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5e5d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  <a:p>
            <a:pPr lvl="4" marL="1347840" indent="-284040">
              <a:spcAft>
                <a:spcPts val="975"/>
              </a:spcAft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5e5d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  <a:p>
            <a:pPr lvl="5" marL="1347840" indent="-284040">
              <a:spcAft>
                <a:spcPts val="975"/>
              </a:spcAft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5e5d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  <a:p>
            <a:pPr lvl="6" marL="1347840" indent="-284040">
              <a:spcAft>
                <a:spcPts val="975"/>
              </a:spcAft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5e5d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811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sldNum" idx="11"/>
          </p:nvPr>
        </p:nvSpPr>
        <p:spPr>
          <a:xfrm>
            <a:off x="8143560" y="6330600"/>
            <a:ext cx="576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D1E2E-52DD-4BFC-B086-DD3FF2BB9C53}" type="slidenum"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10"/>
    <p:sldLayoutId id="2147483806" r:id="rId11"/>
    <p:sldLayoutId id="2147483807" r:id="rId12"/>
    <p:sldLayoutId id="2147483808" r:id="rId13"/>
    <p:sldLayoutId id="2147483809" r:id="rId14"/>
    <p:sldLayoutId id="2147483810" r:id="rId15"/>
    <p:sldLayoutId id="2147483811" r:id="rId16"/>
    <p:sldLayoutId id="2147483812" r:id="rId17"/>
    <p:sldLayoutId id="2147483813" r:id="rId18"/>
    <p:sldLayoutId id="2147483814" r:id="rId19"/>
    <p:sldLayoutId id="2147483815" r:id="rId20"/>
    <p:sldLayoutId id="2147483816" r:id="rId21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body"/>
          </p:nvPr>
        </p:nvSpPr>
        <p:spPr>
          <a:xfrm>
            <a:off x="698040" y="1628640"/>
            <a:ext cx="8185320" cy="40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6120" indent="-276120">
              <a:spcAft>
                <a:spcPts val="975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5e5d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  <a:p>
            <a:pPr lvl="1" marL="530280" indent="-252360">
              <a:spcAft>
                <a:spcPts val="975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5e5d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  <a:p>
            <a:pPr lvl="2" marL="808200" indent="-276480">
              <a:spcAft>
                <a:spcPts val="975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5e5d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  <a:p>
            <a:pPr lvl="3" marL="1062000" indent="-252360">
              <a:spcAft>
                <a:spcPts val="975"/>
              </a:spcAft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5e5d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  <a:p>
            <a:pPr lvl="4" marL="1347840" indent="-284040">
              <a:spcAft>
                <a:spcPts val="975"/>
              </a:spcAft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5e5d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  <a:p>
            <a:pPr lvl="5" marL="1347840" indent="-284040">
              <a:spcAft>
                <a:spcPts val="975"/>
              </a:spcAft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5e5d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  <a:p>
            <a:pPr lvl="6" marL="1347840" indent="-284040">
              <a:spcAft>
                <a:spcPts val="975"/>
              </a:spcAft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5e5d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811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 type="sldNum" idx="12"/>
          </p:nvPr>
        </p:nvSpPr>
        <p:spPr>
          <a:xfrm>
            <a:off x="8143560" y="6330600"/>
            <a:ext cx="576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D089B-AD03-4381-8AB3-6B25094B406E}" type="slidenum"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10"/>
    <p:sldLayoutId id="2147483819" r:id="rId11"/>
    <p:sldLayoutId id="2147483820" r:id="rId12"/>
    <p:sldLayoutId id="2147483821" r:id="rId13"/>
    <p:sldLayoutId id="2147483822" r:id="rId14"/>
    <p:sldLayoutId id="2147483823" r:id="rId15"/>
    <p:sldLayoutId id="2147483824" r:id="rId16"/>
    <p:sldLayoutId id="2147483825" r:id="rId17"/>
    <p:sldLayoutId id="2147483826" r:id="rId18"/>
    <p:sldLayoutId id="2147483827" r:id="rId19"/>
    <p:sldLayoutId id="2147483828" r:id="rId20"/>
    <p:sldLayoutId id="2147483829" r:id="rId21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body"/>
          </p:nvPr>
        </p:nvSpPr>
        <p:spPr>
          <a:xfrm>
            <a:off x="698040" y="1628640"/>
            <a:ext cx="8185320" cy="40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6120" indent="-276120">
              <a:spcAft>
                <a:spcPts val="975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5e5d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  <a:p>
            <a:pPr lvl="1" marL="530280" indent="-252360">
              <a:spcAft>
                <a:spcPts val="975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5e5d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  <a:p>
            <a:pPr lvl="2" marL="808200" indent="-276480">
              <a:spcAft>
                <a:spcPts val="975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5e5d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  <a:p>
            <a:pPr lvl="3" marL="1062000" indent="-252360">
              <a:spcAft>
                <a:spcPts val="975"/>
              </a:spcAft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5e5d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  <a:p>
            <a:pPr lvl="4" marL="1347840" indent="-284040">
              <a:spcAft>
                <a:spcPts val="975"/>
              </a:spcAft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5e5d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  <a:p>
            <a:pPr lvl="5" marL="1347840" indent="-284040">
              <a:spcAft>
                <a:spcPts val="975"/>
              </a:spcAft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5e5d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  <a:p>
            <a:pPr lvl="6" marL="1347840" indent="-284040">
              <a:spcAft>
                <a:spcPts val="975"/>
              </a:spcAft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5e5d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811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 type="sldNum" idx="13"/>
          </p:nvPr>
        </p:nvSpPr>
        <p:spPr>
          <a:xfrm>
            <a:off x="8143560" y="6330600"/>
            <a:ext cx="576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21EE8-386F-4A5C-BA26-FBB4BBBE1FF2}" type="slidenum"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10"/>
    <p:sldLayoutId id="2147483832" r:id="rId11"/>
    <p:sldLayoutId id="2147483833" r:id="rId12"/>
    <p:sldLayoutId id="2147483834" r:id="rId13"/>
    <p:sldLayoutId id="2147483835" r:id="rId14"/>
    <p:sldLayoutId id="2147483836" r:id="rId15"/>
    <p:sldLayoutId id="2147483837" r:id="rId16"/>
    <p:sldLayoutId id="2147483838" r:id="rId17"/>
    <p:sldLayoutId id="2147483839" r:id="rId18"/>
    <p:sldLayoutId id="2147483840" r:id="rId19"/>
    <p:sldLayoutId id="2147483841" r:id="rId20"/>
    <p:sldLayoutId id="2147483842" r:id="rId21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body"/>
          </p:nvPr>
        </p:nvSpPr>
        <p:spPr>
          <a:xfrm>
            <a:off x="698040" y="1628640"/>
            <a:ext cx="8185320" cy="40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6120" indent="-276120">
              <a:spcAft>
                <a:spcPts val="975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5e5d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  <a:p>
            <a:pPr lvl="1" marL="530280" indent="-252360">
              <a:spcAft>
                <a:spcPts val="975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5e5d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  <a:p>
            <a:pPr lvl="2" marL="808200" indent="-276480">
              <a:spcAft>
                <a:spcPts val="975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5e5d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  <a:p>
            <a:pPr lvl="3" marL="1062000" indent="-252360">
              <a:spcAft>
                <a:spcPts val="975"/>
              </a:spcAft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5e5d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  <a:p>
            <a:pPr lvl="4" marL="1347840" indent="-284040">
              <a:spcAft>
                <a:spcPts val="975"/>
              </a:spcAft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5e5d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  <a:p>
            <a:pPr lvl="5" marL="1347840" indent="-284040">
              <a:spcAft>
                <a:spcPts val="975"/>
              </a:spcAft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5e5d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  <a:p>
            <a:pPr lvl="6" marL="1347840" indent="-284040">
              <a:spcAft>
                <a:spcPts val="975"/>
              </a:spcAft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5e5d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811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 type="sldNum" idx="14"/>
          </p:nvPr>
        </p:nvSpPr>
        <p:spPr>
          <a:xfrm>
            <a:off x="8143560" y="6330600"/>
            <a:ext cx="576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D6ADB-F74E-4748-B142-1761F4334E76}" type="slidenum"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10"/>
    <p:sldLayoutId id="2147483845" r:id="rId11"/>
    <p:sldLayoutId id="2147483846" r:id="rId12"/>
    <p:sldLayoutId id="2147483847" r:id="rId13"/>
    <p:sldLayoutId id="2147483848" r:id="rId14"/>
    <p:sldLayoutId id="2147483849" r:id="rId15"/>
    <p:sldLayoutId id="2147483850" r:id="rId16"/>
    <p:sldLayoutId id="2147483851" r:id="rId17"/>
    <p:sldLayoutId id="2147483852" r:id="rId18"/>
    <p:sldLayoutId id="2147483853" r:id="rId19"/>
    <p:sldLayoutId id="2147483854" r:id="rId20"/>
    <p:sldLayoutId id="2147483855" r:id="rId21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body"/>
          </p:nvPr>
        </p:nvSpPr>
        <p:spPr>
          <a:xfrm>
            <a:off x="698040" y="1628640"/>
            <a:ext cx="8185320" cy="40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6120" indent="-276120">
              <a:spcAft>
                <a:spcPts val="975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5e5d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  <a:p>
            <a:pPr lvl="1" marL="530280" indent="-252360">
              <a:spcAft>
                <a:spcPts val="975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5e5d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  <a:p>
            <a:pPr lvl="2" marL="808200" indent="-276480">
              <a:spcAft>
                <a:spcPts val="975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5e5d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  <a:p>
            <a:pPr lvl="3" marL="1062000" indent="-252360">
              <a:spcAft>
                <a:spcPts val="975"/>
              </a:spcAft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5e5d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  <a:p>
            <a:pPr lvl="4" marL="1347840" indent="-284040">
              <a:spcAft>
                <a:spcPts val="975"/>
              </a:spcAft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5e5d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  <a:p>
            <a:pPr lvl="5" marL="1347840" indent="-284040">
              <a:spcAft>
                <a:spcPts val="975"/>
              </a:spcAft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5e5d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  <a:p>
            <a:pPr lvl="6" marL="1347840" indent="-284040">
              <a:spcAft>
                <a:spcPts val="975"/>
              </a:spcAft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5e5d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811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 type="sldNum" idx="15"/>
          </p:nvPr>
        </p:nvSpPr>
        <p:spPr>
          <a:xfrm>
            <a:off x="8143560" y="6330600"/>
            <a:ext cx="576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EC405-A583-4B28-A1D7-EE65B1AED824}" type="slidenum"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10"/>
    <p:sldLayoutId id="2147483858" r:id="rId11"/>
    <p:sldLayoutId id="2147483859" r:id="rId12"/>
    <p:sldLayoutId id="2147483860" r:id="rId13"/>
    <p:sldLayoutId id="2147483861" r:id="rId14"/>
    <p:sldLayoutId id="2147483862" r:id="rId15"/>
    <p:sldLayoutId id="2147483863" r:id="rId16"/>
    <p:sldLayoutId id="2147483864" r:id="rId17"/>
    <p:sldLayoutId id="2147483865" r:id="rId18"/>
    <p:sldLayoutId id="2147483866" r:id="rId19"/>
    <p:sldLayoutId id="2147483867" r:id="rId20"/>
    <p:sldLayoutId id="2147483868" r:id="rId21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body"/>
          </p:nvPr>
        </p:nvSpPr>
        <p:spPr>
          <a:xfrm>
            <a:off x="698040" y="1628640"/>
            <a:ext cx="8185320" cy="40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6120" indent="-276120">
              <a:spcAft>
                <a:spcPts val="975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5e5d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  <a:p>
            <a:pPr lvl="1" marL="530280" indent="-252360">
              <a:spcAft>
                <a:spcPts val="975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5e5d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  <a:p>
            <a:pPr lvl="2" marL="808200" indent="-276480">
              <a:spcAft>
                <a:spcPts val="975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5e5d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  <a:p>
            <a:pPr lvl="3" marL="1062000" indent="-252360">
              <a:spcAft>
                <a:spcPts val="975"/>
              </a:spcAft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5e5d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  <a:p>
            <a:pPr lvl="4" marL="1347840" indent="-284040">
              <a:spcAft>
                <a:spcPts val="975"/>
              </a:spcAft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5e5d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  <a:p>
            <a:pPr lvl="5" marL="1347840" indent="-284040">
              <a:spcAft>
                <a:spcPts val="975"/>
              </a:spcAft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5e5d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  <a:p>
            <a:pPr lvl="6" marL="1347840" indent="-284040">
              <a:spcAft>
                <a:spcPts val="975"/>
              </a:spcAft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5e5d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811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 type="sldNum" idx="16"/>
          </p:nvPr>
        </p:nvSpPr>
        <p:spPr>
          <a:xfrm>
            <a:off x="8143560" y="6330600"/>
            <a:ext cx="576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05DED-7140-43F8-85EE-F320A4A7409A}" type="slidenum"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10"/>
    <p:sldLayoutId id="2147483871" r:id="rId11"/>
    <p:sldLayoutId id="2147483872" r:id="rId12"/>
    <p:sldLayoutId id="2147483873" r:id="rId13"/>
    <p:sldLayoutId id="2147483874" r:id="rId14"/>
    <p:sldLayoutId id="2147483875" r:id="rId15"/>
    <p:sldLayoutId id="2147483876" r:id="rId16"/>
    <p:sldLayoutId id="2147483877" r:id="rId17"/>
    <p:sldLayoutId id="2147483878" r:id="rId18"/>
    <p:sldLayoutId id="2147483879" r:id="rId19"/>
    <p:sldLayoutId id="2147483880" r:id="rId20"/>
    <p:sldLayoutId id="2147483881" r:id="rId21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body"/>
          </p:nvPr>
        </p:nvSpPr>
        <p:spPr>
          <a:xfrm>
            <a:off x="698040" y="1628640"/>
            <a:ext cx="8185320" cy="40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6120" indent="-276120">
              <a:spcAft>
                <a:spcPts val="975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5e5d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  <a:p>
            <a:pPr lvl="1" marL="530280" indent="-252360">
              <a:spcAft>
                <a:spcPts val="975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5e5d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  <a:p>
            <a:pPr lvl="2" marL="808200" indent="-276480">
              <a:spcAft>
                <a:spcPts val="975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5e5d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  <a:p>
            <a:pPr lvl="3" marL="1062000" indent="-252360">
              <a:spcAft>
                <a:spcPts val="975"/>
              </a:spcAft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5e5d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  <a:p>
            <a:pPr lvl="4" marL="1347840" indent="-284040">
              <a:spcAft>
                <a:spcPts val="975"/>
              </a:spcAft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5e5d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  <a:p>
            <a:pPr lvl="5" marL="1347840" indent="-284040">
              <a:spcAft>
                <a:spcPts val="975"/>
              </a:spcAft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5e5d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  <a:p>
            <a:pPr lvl="6" marL="1347840" indent="-284040">
              <a:spcAft>
                <a:spcPts val="975"/>
              </a:spcAft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5e5d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811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sldNum" idx="17"/>
          </p:nvPr>
        </p:nvSpPr>
        <p:spPr>
          <a:xfrm>
            <a:off x="8143560" y="6330600"/>
            <a:ext cx="576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3025A-A4F3-4123-A6A5-144FD6E29274}" type="slidenum"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10"/>
    <p:sldLayoutId id="2147483884" r:id="rId11"/>
    <p:sldLayoutId id="2147483885" r:id="rId12"/>
    <p:sldLayoutId id="2147483886" r:id="rId13"/>
    <p:sldLayoutId id="2147483887" r:id="rId14"/>
    <p:sldLayoutId id="2147483888" r:id="rId15"/>
    <p:sldLayoutId id="2147483889" r:id="rId16"/>
    <p:sldLayoutId id="2147483890" r:id="rId17"/>
    <p:sldLayoutId id="2147483891" r:id="rId18"/>
    <p:sldLayoutId id="2147483892" r:id="rId19"/>
    <p:sldLayoutId id="2147483893" r:id="rId20"/>
    <p:sldLayoutId id="2147483894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698040" y="1628640"/>
            <a:ext cx="8185320" cy="40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6120" indent="-276120">
              <a:spcAft>
                <a:spcPts val="975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5e5d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  <a:p>
            <a:pPr lvl="1" marL="530280" indent="-252360">
              <a:spcAft>
                <a:spcPts val="975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5e5d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  <a:p>
            <a:pPr lvl="2" marL="808200" indent="-276480">
              <a:spcAft>
                <a:spcPts val="975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5e5d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  <a:p>
            <a:pPr lvl="3" marL="1062000" indent="-252360">
              <a:spcAft>
                <a:spcPts val="975"/>
              </a:spcAft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5e5d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  <a:p>
            <a:pPr lvl="4" marL="1347840" indent="-284040">
              <a:spcAft>
                <a:spcPts val="975"/>
              </a:spcAft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5e5d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  <a:p>
            <a:pPr lvl="5" marL="1347840" indent="-284040">
              <a:spcAft>
                <a:spcPts val="975"/>
              </a:spcAft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5e5d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  <a:p>
            <a:pPr lvl="6" marL="1347840" indent="-284040">
              <a:spcAft>
                <a:spcPts val="975"/>
              </a:spcAft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5e5d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ldNum" idx="2"/>
          </p:nvPr>
        </p:nvSpPr>
        <p:spPr>
          <a:xfrm>
            <a:off x="8143560" y="6330600"/>
            <a:ext cx="576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E2D3C-444B-4047-AD68-587C43F4A2F2}" type="slidenum"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811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body"/>
          </p:nvPr>
        </p:nvSpPr>
        <p:spPr>
          <a:xfrm>
            <a:off x="698040" y="1628640"/>
            <a:ext cx="8185320" cy="40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6120" indent="-276120">
              <a:spcAft>
                <a:spcPts val="975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5e5d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  <a:p>
            <a:pPr lvl="1" marL="530280" indent="-252360">
              <a:spcAft>
                <a:spcPts val="975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5e5d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  <a:p>
            <a:pPr lvl="2" marL="808200" indent="-276480">
              <a:spcAft>
                <a:spcPts val="975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5e5d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  <a:p>
            <a:pPr lvl="3" marL="1062000" indent="-252360">
              <a:spcAft>
                <a:spcPts val="975"/>
              </a:spcAft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5e5d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  <a:p>
            <a:pPr lvl="4" marL="1347840" indent="-284040">
              <a:spcAft>
                <a:spcPts val="975"/>
              </a:spcAft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5e5d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  <a:p>
            <a:pPr lvl="5" marL="1347840" indent="-284040">
              <a:spcAft>
                <a:spcPts val="975"/>
              </a:spcAft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5e5d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  <a:p>
            <a:pPr lvl="6" marL="1347840" indent="-284040">
              <a:spcAft>
                <a:spcPts val="975"/>
              </a:spcAft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5e5d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811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 type="sldNum" idx="18"/>
          </p:nvPr>
        </p:nvSpPr>
        <p:spPr>
          <a:xfrm>
            <a:off x="8143560" y="6330600"/>
            <a:ext cx="576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7D182-353B-4317-8018-EB7E9DE4E4EF}" type="slidenum"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10"/>
    <p:sldLayoutId id="2147483897" r:id="rId11"/>
    <p:sldLayoutId id="2147483898" r:id="rId12"/>
    <p:sldLayoutId id="2147483899" r:id="rId13"/>
    <p:sldLayoutId id="2147483900" r:id="rId14"/>
    <p:sldLayoutId id="2147483901" r:id="rId15"/>
    <p:sldLayoutId id="2147483902" r:id="rId16"/>
    <p:sldLayoutId id="2147483903" r:id="rId17"/>
    <p:sldLayoutId id="2147483904" r:id="rId18"/>
    <p:sldLayoutId id="2147483905" r:id="rId19"/>
    <p:sldLayoutId id="2147483906" r:id="rId20"/>
    <p:sldLayoutId id="2147483907" r:id="rId21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body"/>
          </p:nvPr>
        </p:nvSpPr>
        <p:spPr>
          <a:xfrm>
            <a:off x="698040" y="1628640"/>
            <a:ext cx="8185320" cy="40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6120" indent="-276120">
              <a:spcAft>
                <a:spcPts val="975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5e5d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  <a:p>
            <a:pPr lvl="1" marL="530280" indent="-252360">
              <a:spcAft>
                <a:spcPts val="975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5e5d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  <a:p>
            <a:pPr lvl="2" marL="808200" indent="-276480">
              <a:spcAft>
                <a:spcPts val="975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5e5d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  <a:p>
            <a:pPr lvl="3" marL="1062000" indent="-252360">
              <a:spcAft>
                <a:spcPts val="975"/>
              </a:spcAft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5e5d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  <a:p>
            <a:pPr lvl="4" marL="1347840" indent="-284040">
              <a:spcAft>
                <a:spcPts val="975"/>
              </a:spcAft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5e5d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  <a:p>
            <a:pPr lvl="5" marL="1347840" indent="-284040">
              <a:spcAft>
                <a:spcPts val="975"/>
              </a:spcAft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5e5d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  <a:p>
            <a:pPr lvl="6" marL="1347840" indent="-284040">
              <a:spcAft>
                <a:spcPts val="975"/>
              </a:spcAft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5e5d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811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0"/>
    <p:sldLayoutId id="2147483676" r:id="rId11"/>
    <p:sldLayoutId id="2147483677" r:id="rId12"/>
    <p:sldLayoutId id="2147483678" r:id="rId13"/>
    <p:sldLayoutId id="2147483679" r:id="rId14"/>
    <p:sldLayoutId id="2147483680" r:id="rId15"/>
    <p:sldLayoutId id="2147483681" r:id="rId16"/>
    <p:sldLayoutId id="2147483682" r:id="rId17"/>
    <p:sldLayoutId id="2147483683" r:id="rId18"/>
    <p:sldLayoutId id="2147483684" r:id="rId19"/>
    <p:sldLayoutId id="2147483685" r:id="rId20"/>
    <p:sldLayoutId id="2147483686" r:id="rId21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body"/>
          </p:nvPr>
        </p:nvSpPr>
        <p:spPr>
          <a:xfrm>
            <a:off x="698040" y="1628640"/>
            <a:ext cx="8185320" cy="40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6120" indent="-276120">
              <a:spcAft>
                <a:spcPts val="975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5e5d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  <a:p>
            <a:pPr lvl="1" marL="530280" indent="-252360">
              <a:spcAft>
                <a:spcPts val="975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5e5d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  <a:p>
            <a:pPr lvl="2" marL="808200" indent="-276480">
              <a:spcAft>
                <a:spcPts val="975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5e5d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  <a:p>
            <a:pPr lvl="3" marL="1062000" indent="-252360">
              <a:spcAft>
                <a:spcPts val="975"/>
              </a:spcAft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5e5d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  <a:p>
            <a:pPr lvl="4" marL="1347840" indent="-284040">
              <a:spcAft>
                <a:spcPts val="975"/>
              </a:spcAft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5e5d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  <a:p>
            <a:pPr lvl="5" marL="1347840" indent="-284040">
              <a:spcAft>
                <a:spcPts val="975"/>
              </a:spcAft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5e5d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  <a:p>
            <a:pPr lvl="6" marL="1347840" indent="-284040">
              <a:spcAft>
                <a:spcPts val="975"/>
              </a:spcAft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5e5d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811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0"/>
    <p:sldLayoutId id="2147483689" r:id="rId11"/>
    <p:sldLayoutId id="2147483690" r:id="rId12"/>
    <p:sldLayoutId id="2147483691" r:id="rId13"/>
    <p:sldLayoutId id="2147483692" r:id="rId14"/>
    <p:sldLayoutId id="2147483693" r:id="rId15"/>
    <p:sldLayoutId id="2147483694" r:id="rId16"/>
    <p:sldLayoutId id="2147483695" r:id="rId17"/>
    <p:sldLayoutId id="2147483696" r:id="rId18"/>
    <p:sldLayoutId id="2147483697" r:id="rId19"/>
    <p:sldLayoutId id="2147483698" r:id="rId20"/>
    <p:sldLayoutId id="2147483699" r:id="rId21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body"/>
          </p:nvPr>
        </p:nvSpPr>
        <p:spPr>
          <a:xfrm>
            <a:off x="698040" y="1628640"/>
            <a:ext cx="8185320" cy="40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6120" indent="-276120">
              <a:spcAft>
                <a:spcPts val="975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5e5d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  <a:p>
            <a:pPr lvl="1" marL="530280" indent="-252360">
              <a:spcAft>
                <a:spcPts val="975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5e5d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  <a:p>
            <a:pPr lvl="2" marL="808200" indent="-276480">
              <a:spcAft>
                <a:spcPts val="975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5e5d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  <a:p>
            <a:pPr lvl="3" marL="1062000" indent="-252360">
              <a:spcAft>
                <a:spcPts val="975"/>
              </a:spcAft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5e5d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  <a:p>
            <a:pPr lvl="4" marL="1347840" indent="-284040">
              <a:spcAft>
                <a:spcPts val="975"/>
              </a:spcAft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5e5d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  <a:p>
            <a:pPr lvl="5" marL="1347840" indent="-284040">
              <a:spcAft>
                <a:spcPts val="975"/>
              </a:spcAft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5e5d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  <a:p>
            <a:pPr lvl="6" marL="1347840" indent="-284040">
              <a:spcAft>
                <a:spcPts val="975"/>
              </a:spcAft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5e5d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811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sldNum" idx="3"/>
          </p:nvPr>
        </p:nvSpPr>
        <p:spPr>
          <a:xfrm>
            <a:off x="8143560" y="6330600"/>
            <a:ext cx="576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9ECA4-B299-4C4A-9BE0-CE9360689496}" type="slidenum"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10"/>
    <p:sldLayoutId id="2147483702" r:id="rId11"/>
    <p:sldLayoutId id="2147483703" r:id="rId12"/>
    <p:sldLayoutId id="2147483704" r:id="rId13"/>
    <p:sldLayoutId id="2147483705" r:id="rId14"/>
    <p:sldLayoutId id="2147483706" r:id="rId15"/>
    <p:sldLayoutId id="2147483707" r:id="rId16"/>
    <p:sldLayoutId id="2147483708" r:id="rId17"/>
    <p:sldLayoutId id="2147483709" r:id="rId18"/>
    <p:sldLayoutId id="2147483710" r:id="rId19"/>
    <p:sldLayoutId id="2147483711" r:id="rId20"/>
    <p:sldLayoutId id="2147483712" r:id="rId21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698040" y="1628640"/>
            <a:ext cx="8185320" cy="40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6120" indent="-276120">
              <a:spcAft>
                <a:spcPts val="975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5e5d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  <a:p>
            <a:pPr lvl="1" marL="530280" indent="-252360">
              <a:spcAft>
                <a:spcPts val="975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5e5d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  <a:p>
            <a:pPr lvl="2" marL="808200" indent="-276480">
              <a:spcAft>
                <a:spcPts val="975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5e5d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  <a:p>
            <a:pPr lvl="3" marL="1062000" indent="-252360">
              <a:spcAft>
                <a:spcPts val="975"/>
              </a:spcAft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5e5d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  <a:p>
            <a:pPr lvl="4" marL="1347840" indent="-284040">
              <a:spcAft>
                <a:spcPts val="975"/>
              </a:spcAft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5e5d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  <a:p>
            <a:pPr lvl="5" marL="1347840" indent="-284040">
              <a:spcAft>
                <a:spcPts val="975"/>
              </a:spcAft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5e5d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  <a:p>
            <a:pPr lvl="6" marL="1347840" indent="-284040">
              <a:spcAft>
                <a:spcPts val="975"/>
              </a:spcAft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5e5d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811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sldNum" idx="4"/>
          </p:nvPr>
        </p:nvSpPr>
        <p:spPr>
          <a:xfrm>
            <a:off x="8143560" y="6330600"/>
            <a:ext cx="576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823AD-B033-463D-8B5D-2E576302D04C}" type="slidenum"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10"/>
    <p:sldLayoutId id="2147483715" r:id="rId11"/>
    <p:sldLayoutId id="2147483716" r:id="rId12"/>
    <p:sldLayoutId id="2147483717" r:id="rId13"/>
    <p:sldLayoutId id="2147483718" r:id="rId14"/>
    <p:sldLayoutId id="2147483719" r:id="rId15"/>
    <p:sldLayoutId id="2147483720" r:id="rId16"/>
    <p:sldLayoutId id="2147483721" r:id="rId17"/>
    <p:sldLayoutId id="2147483722" r:id="rId18"/>
    <p:sldLayoutId id="2147483723" r:id="rId19"/>
    <p:sldLayoutId id="2147483724" r:id="rId20"/>
    <p:sldLayoutId id="2147483725" r:id="rId21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698040" y="1628640"/>
            <a:ext cx="8185320" cy="40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6120" indent="-276120">
              <a:spcAft>
                <a:spcPts val="975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5e5d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  <a:p>
            <a:pPr lvl="1" marL="530280" indent="-252360">
              <a:spcAft>
                <a:spcPts val="975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5e5d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  <a:p>
            <a:pPr lvl="2" marL="808200" indent="-276480">
              <a:spcAft>
                <a:spcPts val="975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5e5d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  <a:p>
            <a:pPr lvl="3" marL="1062000" indent="-252360">
              <a:spcAft>
                <a:spcPts val="975"/>
              </a:spcAft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5e5d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  <a:p>
            <a:pPr lvl="4" marL="1347840" indent="-284040">
              <a:spcAft>
                <a:spcPts val="975"/>
              </a:spcAft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5e5d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  <a:p>
            <a:pPr lvl="5" marL="1347840" indent="-284040">
              <a:spcAft>
                <a:spcPts val="975"/>
              </a:spcAft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5e5d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  <a:p>
            <a:pPr lvl="6" marL="1347840" indent="-284040">
              <a:spcAft>
                <a:spcPts val="975"/>
              </a:spcAft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5e5d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811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sldNum" idx="5"/>
          </p:nvPr>
        </p:nvSpPr>
        <p:spPr>
          <a:xfrm>
            <a:off x="8143560" y="6330600"/>
            <a:ext cx="576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1330D-AC10-448C-823F-BC38C300D475}" type="slidenum"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10"/>
    <p:sldLayoutId id="2147483728" r:id="rId11"/>
    <p:sldLayoutId id="2147483729" r:id="rId12"/>
    <p:sldLayoutId id="2147483730" r:id="rId13"/>
    <p:sldLayoutId id="2147483731" r:id="rId14"/>
    <p:sldLayoutId id="2147483732" r:id="rId15"/>
    <p:sldLayoutId id="2147483733" r:id="rId16"/>
    <p:sldLayoutId id="2147483734" r:id="rId17"/>
    <p:sldLayoutId id="2147483735" r:id="rId18"/>
    <p:sldLayoutId id="2147483736" r:id="rId19"/>
    <p:sldLayoutId id="2147483737" r:id="rId20"/>
    <p:sldLayoutId id="2147483738" r:id="rId21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body"/>
          </p:nvPr>
        </p:nvSpPr>
        <p:spPr>
          <a:xfrm>
            <a:off x="698040" y="1628640"/>
            <a:ext cx="8185320" cy="40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6120" indent="-276120">
              <a:spcAft>
                <a:spcPts val="975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5e5d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  <a:p>
            <a:pPr lvl="1" marL="530280" indent="-252360">
              <a:spcAft>
                <a:spcPts val="975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5e5d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  <a:p>
            <a:pPr lvl="2" marL="808200" indent="-276480">
              <a:spcAft>
                <a:spcPts val="975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5e5d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  <a:p>
            <a:pPr lvl="3" marL="1062000" indent="-252360">
              <a:spcAft>
                <a:spcPts val="975"/>
              </a:spcAft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5e5d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  <a:p>
            <a:pPr lvl="4" marL="1347840" indent="-284040">
              <a:spcAft>
                <a:spcPts val="975"/>
              </a:spcAft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5e5d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  <a:p>
            <a:pPr lvl="5" marL="1347840" indent="-284040">
              <a:spcAft>
                <a:spcPts val="975"/>
              </a:spcAft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5e5d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  <a:p>
            <a:pPr lvl="6" marL="1347840" indent="-284040">
              <a:spcAft>
                <a:spcPts val="975"/>
              </a:spcAft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5e5d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811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sldNum" idx="6"/>
          </p:nvPr>
        </p:nvSpPr>
        <p:spPr>
          <a:xfrm>
            <a:off x="8143560" y="6330600"/>
            <a:ext cx="576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79522-51C3-4EEF-A79B-C890D9B2B34D}" type="slidenum"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10"/>
    <p:sldLayoutId id="2147483741" r:id="rId11"/>
    <p:sldLayoutId id="2147483742" r:id="rId12"/>
    <p:sldLayoutId id="2147483743" r:id="rId13"/>
    <p:sldLayoutId id="2147483744" r:id="rId14"/>
    <p:sldLayoutId id="2147483745" r:id="rId15"/>
    <p:sldLayoutId id="2147483746" r:id="rId16"/>
    <p:sldLayoutId id="2147483747" r:id="rId17"/>
    <p:sldLayoutId id="2147483748" r:id="rId18"/>
    <p:sldLayoutId id="2147483749" r:id="rId19"/>
    <p:sldLayoutId id="2147483750" r:id="rId20"/>
    <p:sldLayoutId id="2147483751" r:id="rId21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body"/>
          </p:nvPr>
        </p:nvSpPr>
        <p:spPr>
          <a:xfrm>
            <a:off x="698040" y="1628640"/>
            <a:ext cx="8185320" cy="40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6120" indent="-276120">
              <a:spcAft>
                <a:spcPts val="975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5e5d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  <a:p>
            <a:pPr lvl="1" marL="530280" indent="-252360">
              <a:spcAft>
                <a:spcPts val="975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5e5d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  <a:p>
            <a:pPr lvl="2" marL="808200" indent="-276480">
              <a:spcAft>
                <a:spcPts val="975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5e5d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  <a:p>
            <a:pPr lvl="3" marL="1062000" indent="-252360">
              <a:spcAft>
                <a:spcPts val="975"/>
              </a:spcAft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5e5d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  <a:p>
            <a:pPr lvl="4" marL="1347840" indent="-284040">
              <a:spcAft>
                <a:spcPts val="975"/>
              </a:spcAft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5e5d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  <a:p>
            <a:pPr lvl="5" marL="1347840" indent="-284040">
              <a:spcAft>
                <a:spcPts val="975"/>
              </a:spcAft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5e5d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  <a:p>
            <a:pPr lvl="6" marL="1347840" indent="-284040">
              <a:spcAft>
                <a:spcPts val="975"/>
              </a:spcAft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5e5d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811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sldNum" idx="7"/>
          </p:nvPr>
        </p:nvSpPr>
        <p:spPr>
          <a:xfrm>
            <a:off x="8143560" y="6330600"/>
            <a:ext cx="576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FFF70-8AB0-45DE-B791-9E85E9DF8D84}" type="slidenum"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10"/>
    <p:sldLayoutId id="2147483754" r:id="rId11"/>
    <p:sldLayoutId id="2147483755" r:id="rId12"/>
    <p:sldLayoutId id="2147483756" r:id="rId13"/>
    <p:sldLayoutId id="2147483757" r:id="rId14"/>
    <p:sldLayoutId id="2147483758" r:id="rId15"/>
    <p:sldLayoutId id="2147483759" r:id="rId16"/>
    <p:sldLayoutId id="2147483760" r:id="rId17"/>
    <p:sldLayoutId id="2147483761" r:id="rId18"/>
    <p:sldLayoutId id="2147483762" r:id="rId19"/>
    <p:sldLayoutId id="2147483763" r:id="rId20"/>
    <p:sldLayoutId id="2147483764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5.png"/><Relationship Id="rId8" Type="http://schemas.openxmlformats.org/officeDocument/2006/relationships/image" Target="../media/image16.jpeg"/><Relationship Id="rId9" Type="http://schemas.openxmlformats.org/officeDocument/2006/relationships/image" Target="../media/image17.jpeg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image" Target="../media/image21.png"/><Relationship Id="rId9" Type="http://schemas.openxmlformats.org/officeDocument/2006/relationships/image" Target="../media/image14.jpeg"/><Relationship Id="rId10" Type="http://schemas.openxmlformats.org/officeDocument/2006/relationships/image" Target="../media/image20.png"/><Relationship Id="rId11" Type="http://schemas.openxmlformats.org/officeDocument/2006/relationships/image" Target="../media/image21.png"/><Relationship Id="rId1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1004760" y="4187880"/>
            <a:ext cx="7593120" cy="14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84646"/>
                </a:solidFill>
                <a:latin typeface="Arial"/>
              </a:rPr>
              <a:t>Взаимодействие Федерального казначейства с другими участниками бюджетного процесса в части сдачи и приема бюджетной отчетности</a:t>
            </a: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779" name="Text Box 54"/>
          <p:cNvSpPr/>
          <p:nvPr/>
        </p:nvSpPr>
        <p:spPr>
          <a:xfrm>
            <a:off x="1357200" y="5827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268000" y="18900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3811f"/>
                </a:solidFill>
                <a:latin typeface="Arial"/>
              </a:rPr>
              <a:t>Содержание</a:t>
            </a: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781" name=""/>
          <p:cNvSpPr txBox="1"/>
          <p:nvPr/>
        </p:nvSpPr>
        <p:spPr>
          <a:xfrm>
            <a:off x="457200" y="1341000"/>
            <a:ext cx="8229600" cy="494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Aft>
                <a:spcPts val="975"/>
              </a:spcAft>
              <a:buClr>
                <a:srgbClr val="605e5d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605e5d"/>
                </a:solidFill>
                <a:latin typeface="Arial"/>
              </a:rPr>
              <a:t>Ошибки, допускаемые при сдаче бюджетной отчетности</a:t>
            </a: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  <a:p>
            <a:pPr marL="514440" indent="-514440">
              <a:spcAft>
                <a:spcPts val="975"/>
              </a:spcAft>
              <a:buClr>
                <a:srgbClr val="605e5d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605e5d"/>
                </a:solidFill>
                <a:latin typeface="Arial"/>
              </a:rPr>
              <a:t>Механизм реализации доработок ППО. </a:t>
            </a: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  <a:p>
            <a:pPr marL="514440" indent="-514440">
              <a:spcAft>
                <a:spcPts val="975"/>
              </a:spcAft>
              <a:buClr>
                <a:srgbClr val="605e5d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605e5d"/>
                </a:solidFill>
                <a:latin typeface="Arial"/>
              </a:rPr>
              <a:t>Перевод клиентов Федерального казначейства на СУФД-Портал. Перспективы дальнейшего развития.</a:t>
            </a: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  <a:p>
            <a:pPr marL="514440" indent="-514440">
              <a:spcAft>
                <a:spcPts val="975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782" name="Номер слайда 6"/>
          <p:cNvSpPr/>
          <p:nvPr/>
        </p:nvSpPr>
        <p:spPr>
          <a:xfrm>
            <a:off x="6553080" y="6377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32CC1-BD41-4201-B280-200BA8A071A8}" type="slidenum">
              <a:rPr b="1" lang="en-US" sz="2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785880" y="2643120"/>
            <a:ext cx="763272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3811f"/>
                </a:solidFill>
                <a:latin typeface="Arial"/>
              </a:rPr>
              <a:t>1. ОШИБКИ, ДОПУСКАЕМЫЕ ПРИ СДАЧЕ ОТЧЕТНОСТИ</a:t>
            </a:r>
            <a:br>
              <a:rPr sz="4000"/>
            </a:br>
            <a:endParaRPr b="1" lang="en-US" sz="40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784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2BFD2-5ED2-4AA9-90FE-51EE449D8636}" type="slidenum">
              <a:rPr b="1" lang="en-US" sz="2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73120" y="215640"/>
            <a:ext cx="7035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811f"/>
                </a:solidFill>
                <a:latin typeface="Arial"/>
              </a:rPr>
              <a:t>Алгоритм проведения контроля в ППО АСФК</a:t>
            </a: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grpSp>
        <p:nvGrpSpPr>
          <p:cNvPr id="786" name="Group 52"/>
          <p:cNvGrpSpPr/>
          <p:nvPr/>
        </p:nvGrpSpPr>
        <p:grpSpPr>
          <a:xfrm>
            <a:off x="3959280" y="879480"/>
            <a:ext cx="1298160" cy="786960"/>
            <a:chOff x="3959280" y="879480"/>
            <a:chExt cx="1298160" cy="786960"/>
          </a:xfrm>
        </p:grpSpPr>
        <p:sp>
          <p:nvSpPr>
            <p:cNvPr id="787" name="Oval 53"/>
            <p:cNvSpPr/>
            <p:nvPr/>
          </p:nvSpPr>
          <p:spPr>
            <a:xfrm>
              <a:off x="3959280" y="1267200"/>
              <a:ext cx="1298160" cy="39024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e79281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3811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788" name="Picture 54" descr="j0433944[1]"/>
            <p:cNvPicPr/>
            <p:nvPr/>
          </p:nvPicPr>
          <p:blipFill>
            <a:blip r:embed="rId2"/>
            <a:stretch/>
          </p:blipFill>
          <p:spPr>
            <a:xfrm>
              <a:off x="4193280" y="879480"/>
              <a:ext cx="943920" cy="7869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89" name="" descr=""/>
          <p:cNvPicPr/>
          <p:nvPr/>
        </p:nvPicPr>
        <p:blipFill>
          <a:blip r:embed="rId3"/>
          <a:stretch/>
        </p:blipFill>
        <p:spPr>
          <a:xfrm>
            <a:off x="2351160" y="896760"/>
            <a:ext cx="758880" cy="765360"/>
          </a:xfrm>
          <a:prstGeom prst="rect">
            <a:avLst/>
          </a:prstGeom>
          <a:ln w="0">
            <a:noFill/>
          </a:ln>
        </p:spPr>
      </p:pic>
      <p:sp>
        <p:nvSpPr>
          <p:cNvPr id="790" name="Прямоугольник 26"/>
          <p:cNvSpPr/>
          <p:nvPr/>
        </p:nvSpPr>
        <p:spPr>
          <a:xfrm>
            <a:off x="1633680" y="2757600"/>
            <a:ext cx="2212920" cy="514080"/>
          </a:xfrm>
          <a:prstGeom prst="rect">
            <a:avLst/>
          </a:prstGeom>
          <a:gradFill rotWithShape="0">
            <a:gsLst>
              <a:gs pos="0">
                <a:srgbClr val="ffb180"/>
              </a:gs>
              <a:gs pos="100000">
                <a:srgbClr val="ffe7da"/>
              </a:gs>
            </a:gsLst>
            <a:lin ang="16200000"/>
          </a:gradFill>
          <a:ln w="9360">
            <a:solidFill>
              <a:srgbClr val="f37e1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b1824"/>
                </a:solidFill>
                <a:latin typeface="Arial"/>
              </a:rPr>
              <a:t>Контроль на соответствие ТФФ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Прямоугольник 26"/>
          <p:cNvSpPr/>
          <p:nvPr/>
        </p:nvSpPr>
        <p:spPr>
          <a:xfrm>
            <a:off x="1622520" y="3889440"/>
            <a:ext cx="2212920" cy="514440"/>
          </a:xfrm>
          <a:prstGeom prst="rect">
            <a:avLst/>
          </a:prstGeom>
          <a:gradFill rotWithShape="0">
            <a:gsLst>
              <a:gs pos="0">
                <a:srgbClr val="ffb180"/>
              </a:gs>
              <a:gs pos="100000">
                <a:srgbClr val="ffe7da"/>
              </a:gs>
            </a:gsLst>
            <a:lin ang="16200000"/>
          </a:gradFill>
          <a:ln w="9360">
            <a:solidFill>
              <a:srgbClr val="f37e1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b1824"/>
                </a:solidFill>
                <a:latin typeface="Arial"/>
              </a:rPr>
              <a:t>Протокол форматного контроля (ТФФ)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Скругленный прямоугольник 81"/>
          <p:cNvSpPr/>
          <p:nvPr/>
        </p:nvSpPr>
        <p:spPr>
          <a:xfrm flipH="1">
            <a:off x="911160" y="2187720"/>
            <a:ext cx="3562560" cy="4492440"/>
          </a:xfrm>
          <a:custGeom>
            <a:avLst/>
            <a:gdLst>
              <a:gd name="textAreaLeft" fmla="*/ 57240 w 3562560"/>
              <a:gd name="textAreaRight" fmla="*/ 3505320 w 3562560"/>
              <a:gd name="textAreaTop" fmla="*/ 57240 h 4492440"/>
              <a:gd name="textAreaBottom" fmla="*/ 4435200 h 4492440"/>
            </a:gdLst>
            <a:ahLst/>
            <a:rect l="textAreaLeft" t="textAreaTop" r="textAreaRight" b="textAreaBottom"/>
            <a:pathLst>
              <a:path w="21600" h="27237">
                <a:moveTo>
                  <a:pt x="1188" y="0"/>
                </a:moveTo>
                <a:arcTo wR="1188" hR="1188" stAng="16200000" swAng="-5400000"/>
                <a:lnTo>
                  <a:pt x="0" y="26049"/>
                </a:lnTo>
                <a:arcTo wR="1188" hR="1188" stAng="10800000" swAng="-5400000"/>
                <a:lnTo>
                  <a:pt x="20412" y="27237"/>
                </a:lnTo>
                <a:arcTo wR="1188" hR="1188" stAng="5400000" swAng="-5400000"/>
                <a:lnTo>
                  <a:pt x="21600" y="1188"/>
                </a:lnTo>
                <a:arcTo wR="1188" hR="1188" stAng="0" swAng="-5400000"/>
                <a:close/>
              </a:path>
            </a:pathLst>
          </a:custGeom>
          <a:noFill/>
          <a:ln w="38160">
            <a:solidFill>
              <a:srgbClr val="b0aea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Прямоугольник 26"/>
          <p:cNvSpPr/>
          <p:nvPr/>
        </p:nvSpPr>
        <p:spPr>
          <a:xfrm>
            <a:off x="1636560" y="4932360"/>
            <a:ext cx="2175120" cy="565200"/>
          </a:xfrm>
          <a:prstGeom prst="rect">
            <a:avLst/>
          </a:prstGeom>
          <a:gradFill rotWithShape="0">
            <a:gsLst>
              <a:gs pos="0">
                <a:srgbClr val="ffb180"/>
              </a:gs>
              <a:gs pos="100000">
                <a:srgbClr val="ffe7da"/>
              </a:gs>
            </a:gsLst>
            <a:lin ang="16200000"/>
          </a:gradFill>
          <a:ln w="9360">
            <a:solidFill>
              <a:srgbClr val="f37e1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b1824"/>
                </a:solidFill>
                <a:latin typeface="Arial"/>
              </a:rPr>
              <a:t>Наличие ошибок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Прямоугольник 26"/>
          <p:cNvSpPr/>
          <p:nvPr/>
        </p:nvSpPr>
        <p:spPr>
          <a:xfrm>
            <a:off x="1625760" y="5987880"/>
            <a:ext cx="2199960" cy="463680"/>
          </a:xfrm>
          <a:prstGeom prst="rect">
            <a:avLst/>
          </a:prstGeom>
          <a:gradFill rotWithShape="0">
            <a:gsLst>
              <a:gs pos="0">
                <a:srgbClr val="ffb180"/>
              </a:gs>
              <a:gs pos="100000">
                <a:srgbClr val="ffe7da"/>
              </a:gs>
            </a:gsLst>
            <a:lin ang="16200000"/>
          </a:gradFill>
          <a:ln w="9360">
            <a:solidFill>
              <a:srgbClr val="f37e1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b1824"/>
                </a:solidFill>
                <a:latin typeface="Arial"/>
              </a:rPr>
              <a:t>Конец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825480" y="2298600"/>
            <a:ext cx="11811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TextBox 9"/>
          <p:cNvSpPr/>
          <p:nvPr/>
        </p:nvSpPr>
        <p:spPr>
          <a:xfrm rot="16200000">
            <a:off x="838080" y="4100400"/>
            <a:ext cx="82548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b1824"/>
                </a:solidFill>
                <a:latin typeface="Arial"/>
              </a:rPr>
              <a:t>СУФД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TextBox 9"/>
          <p:cNvSpPr/>
          <p:nvPr/>
        </p:nvSpPr>
        <p:spPr>
          <a:xfrm>
            <a:off x="2262240" y="1790640"/>
            <a:ext cx="95256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b1824"/>
                </a:solidFill>
                <a:latin typeface="Arial"/>
              </a:rPr>
              <a:t>Отчет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798" name=""/>
          <p:cNvCxnSpPr>
            <a:stCxn id="797" idx="2"/>
            <a:endCxn id="790" idx="0"/>
          </p:cNvCxnSpPr>
          <p:nvPr/>
        </p:nvCxnSpPr>
        <p:spPr>
          <a:xfrm>
            <a:off x="2738520" y="2075040"/>
            <a:ext cx="2160" cy="682920"/>
          </a:xfrm>
          <a:prstGeom prst="straightConnector1">
            <a:avLst/>
          </a:prstGeom>
          <a:ln w="9360">
            <a:solidFill>
              <a:srgbClr val="605e5d"/>
            </a:solidFill>
            <a:miter/>
            <a:tailEnd len="med" type="triangle" w="med"/>
          </a:ln>
        </p:spPr>
      </p:cxnSp>
      <p:cxnSp>
        <p:nvCxnSpPr>
          <p:cNvPr id="799" name=""/>
          <p:cNvCxnSpPr>
            <a:stCxn id="790" idx="2"/>
            <a:endCxn id="791" idx="0"/>
          </p:cNvCxnSpPr>
          <p:nvPr/>
        </p:nvCxnSpPr>
        <p:spPr>
          <a:xfrm flipH="1">
            <a:off x="2728080" y="3271680"/>
            <a:ext cx="11880" cy="618480"/>
          </a:xfrm>
          <a:prstGeom prst="straightConnector1">
            <a:avLst/>
          </a:prstGeom>
          <a:ln w="9360">
            <a:solidFill>
              <a:srgbClr val="605e5d"/>
            </a:solidFill>
            <a:miter/>
            <a:tailEnd len="med" type="triangle" w="med"/>
          </a:ln>
        </p:spPr>
      </p:cxnSp>
      <p:cxnSp>
        <p:nvCxnSpPr>
          <p:cNvPr id="800" name=""/>
          <p:cNvCxnSpPr>
            <a:stCxn id="791" idx="2"/>
            <a:endCxn id="793" idx="0"/>
          </p:cNvCxnSpPr>
          <p:nvPr/>
        </p:nvCxnSpPr>
        <p:spPr>
          <a:xfrm flipH="1">
            <a:off x="2723400" y="4403880"/>
            <a:ext cx="5400" cy="529200"/>
          </a:xfrm>
          <a:prstGeom prst="straightConnector1">
            <a:avLst/>
          </a:prstGeom>
          <a:ln w="9360">
            <a:solidFill>
              <a:srgbClr val="605e5d"/>
            </a:solidFill>
            <a:miter/>
            <a:tailEnd len="med" type="triangle" w="med"/>
          </a:ln>
        </p:spPr>
      </p:cxnSp>
      <p:cxnSp>
        <p:nvCxnSpPr>
          <p:cNvPr id="801" name=""/>
          <p:cNvCxnSpPr>
            <a:stCxn id="793" idx="2"/>
            <a:endCxn id="794" idx="0"/>
          </p:cNvCxnSpPr>
          <p:nvPr/>
        </p:nvCxnSpPr>
        <p:spPr>
          <a:xfrm>
            <a:off x="2724120" y="5497560"/>
            <a:ext cx="2160" cy="491040"/>
          </a:xfrm>
          <a:prstGeom prst="straightConnector1">
            <a:avLst/>
          </a:prstGeom>
          <a:ln w="9360">
            <a:solidFill>
              <a:srgbClr val="605e5d"/>
            </a:solidFill>
            <a:miter/>
            <a:tailEnd len="med" type="triangle" w="med"/>
          </a:ln>
        </p:spPr>
      </p:cxnSp>
      <p:cxnSp>
        <p:nvCxnSpPr>
          <p:cNvPr id="802" name=""/>
          <p:cNvCxnSpPr>
            <a:stCxn id="791" idx="3"/>
            <a:endCxn id="803" idx="2"/>
          </p:cNvCxnSpPr>
          <p:nvPr/>
        </p:nvCxnSpPr>
        <p:spPr>
          <a:xfrm flipV="1">
            <a:off x="3835080" y="2126520"/>
            <a:ext cx="835560" cy="2019960"/>
          </a:xfrm>
          <a:prstGeom prst="bentConnector2">
            <a:avLst/>
          </a:prstGeom>
          <a:ln w="9360">
            <a:solidFill>
              <a:srgbClr val="605e5d"/>
            </a:solidFill>
            <a:miter/>
            <a:tailEnd len="med" type="triangle" w="med"/>
          </a:ln>
        </p:spPr>
      </p:cxnSp>
      <p:sp>
        <p:nvSpPr>
          <p:cNvPr id="804" name="TextBox 9"/>
          <p:cNvSpPr/>
          <p:nvPr/>
        </p:nvSpPr>
        <p:spPr>
          <a:xfrm>
            <a:off x="2884320" y="5587920"/>
            <a:ext cx="82584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b1824"/>
                </a:solidFill>
                <a:latin typeface="Arial"/>
              </a:rPr>
              <a:t>Да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Прямоугольник 26"/>
          <p:cNvSpPr/>
          <p:nvPr/>
        </p:nvSpPr>
        <p:spPr>
          <a:xfrm>
            <a:off x="5526000" y="4871880"/>
            <a:ext cx="2657520" cy="679680"/>
          </a:xfrm>
          <a:prstGeom prst="rect">
            <a:avLst/>
          </a:prstGeom>
          <a:gradFill rotWithShape="0">
            <a:gsLst>
              <a:gs pos="0">
                <a:srgbClr val="ffb180"/>
              </a:gs>
              <a:gs pos="100000">
                <a:srgbClr val="ffe7da"/>
              </a:gs>
            </a:gsLst>
            <a:lin ang="16200000"/>
          </a:gradFill>
          <a:ln w="9360">
            <a:solidFill>
              <a:srgbClr val="f37e1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b1824"/>
                </a:solidFill>
                <a:latin typeface="Arial"/>
              </a:rPr>
              <a:t>Контроль форматный (НСИ), ВДК, МДК, ВНК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Прямоугольник 26"/>
          <p:cNvSpPr/>
          <p:nvPr/>
        </p:nvSpPr>
        <p:spPr>
          <a:xfrm>
            <a:off x="5535720" y="3890880"/>
            <a:ext cx="2631960" cy="514440"/>
          </a:xfrm>
          <a:prstGeom prst="rect">
            <a:avLst/>
          </a:prstGeom>
          <a:gradFill rotWithShape="0">
            <a:gsLst>
              <a:gs pos="0">
                <a:srgbClr val="ffb180"/>
              </a:gs>
              <a:gs pos="100000">
                <a:srgbClr val="ffe7da"/>
              </a:gs>
            </a:gsLst>
            <a:lin ang="16200000"/>
          </a:gradFill>
          <a:ln w="9360">
            <a:solidFill>
              <a:srgbClr val="f37e1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b1824"/>
                </a:solidFill>
                <a:latin typeface="Arial"/>
              </a:rPr>
              <a:t>Протоколы контроля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07" name=""/>
          <p:cNvCxnSpPr>
            <a:stCxn id="793" idx="3"/>
            <a:endCxn id="805" idx="1"/>
          </p:cNvCxnSpPr>
          <p:nvPr/>
        </p:nvCxnSpPr>
        <p:spPr>
          <a:xfrm flipV="1">
            <a:off x="3811680" y="5211000"/>
            <a:ext cx="1715040" cy="3960"/>
          </a:xfrm>
          <a:prstGeom prst="straightConnector1">
            <a:avLst/>
          </a:prstGeom>
          <a:ln w="9360">
            <a:solidFill>
              <a:srgbClr val="605e5d"/>
            </a:solidFill>
            <a:miter/>
            <a:tailEnd len="med" type="triangle" w="med"/>
          </a:ln>
        </p:spPr>
      </p:cxnSp>
      <p:cxnSp>
        <p:nvCxnSpPr>
          <p:cNvPr id="808" name=""/>
          <p:cNvCxnSpPr>
            <a:stCxn id="806" idx="1"/>
            <a:endCxn id="803" idx="2"/>
          </p:cNvCxnSpPr>
          <p:nvPr/>
        </p:nvCxnSpPr>
        <p:spPr>
          <a:xfrm rot="10800000">
            <a:off x="4669560" y="2126520"/>
            <a:ext cx="866160" cy="2021760"/>
          </a:xfrm>
          <a:prstGeom prst="bentConnector2">
            <a:avLst/>
          </a:prstGeom>
          <a:ln w="9360">
            <a:solidFill>
              <a:srgbClr val="605e5d"/>
            </a:solidFill>
            <a:miter/>
            <a:tailEnd len="med" type="triangle" w="med"/>
          </a:ln>
        </p:spPr>
      </p:cxnSp>
      <p:sp>
        <p:nvSpPr>
          <p:cNvPr id="803" name="TextBox 9"/>
          <p:cNvSpPr/>
          <p:nvPr/>
        </p:nvSpPr>
        <p:spPr>
          <a:xfrm>
            <a:off x="3622680" y="1843200"/>
            <a:ext cx="209556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b1824"/>
                </a:solidFill>
                <a:latin typeface="Arial"/>
              </a:rPr>
              <a:t>ФО, ГРБС, ГВБФ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Прямоугольник 26"/>
          <p:cNvSpPr/>
          <p:nvPr/>
        </p:nvSpPr>
        <p:spPr>
          <a:xfrm>
            <a:off x="5537160" y="2800440"/>
            <a:ext cx="2631960" cy="514440"/>
          </a:xfrm>
          <a:prstGeom prst="rect">
            <a:avLst/>
          </a:prstGeom>
          <a:gradFill rotWithShape="0">
            <a:gsLst>
              <a:gs pos="0">
                <a:srgbClr val="ffb180"/>
              </a:gs>
              <a:gs pos="100000">
                <a:srgbClr val="ffe7da"/>
              </a:gs>
            </a:gsLst>
            <a:lin ang="16200000"/>
          </a:gradFill>
          <a:ln w="9360">
            <a:solidFill>
              <a:srgbClr val="f37e1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b1824"/>
                </a:solidFill>
                <a:latin typeface="Arial"/>
              </a:rPr>
              <a:t>Синхронизация статуса в СУФД-портале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10" name=""/>
          <p:cNvCxnSpPr>
            <a:stCxn id="805" idx="0"/>
            <a:endCxn id="806" idx="2"/>
          </p:cNvCxnSpPr>
          <p:nvPr/>
        </p:nvCxnSpPr>
        <p:spPr>
          <a:xfrm flipH="1" flipV="1">
            <a:off x="6850800" y="4404960"/>
            <a:ext cx="3960" cy="467280"/>
          </a:xfrm>
          <a:prstGeom prst="straightConnector1">
            <a:avLst/>
          </a:prstGeom>
          <a:ln w="9360">
            <a:solidFill>
              <a:srgbClr val="605e5d"/>
            </a:solidFill>
            <a:miter/>
            <a:tailEnd len="med" type="triangle" w="med"/>
          </a:ln>
        </p:spPr>
      </p:cxnSp>
      <p:sp>
        <p:nvSpPr>
          <p:cNvPr id="811" name="Скругленный прямоугольник 81"/>
          <p:cNvSpPr/>
          <p:nvPr/>
        </p:nvSpPr>
        <p:spPr>
          <a:xfrm flipH="1">
            <a:off x="4899960" y="2163600"/>
            <a:ext cx="4032360" cy="4492800"/>
          </a:xfrm>
          <a:custGeom>
            <a:avLst/>
            <a:gdLst>
              <a:gd name="textAreaLeft" fmla="*/ 64800 w 4032360"/>
              <a:gd name="textAreaRight" fmla="*/ 3967560 w 4032360"/>
              <a:gd name="textAreaTop" fmla="*/ 64800 h 4492800"/>
              <a:gd name="textAreaBottom" fmla="*/ 4428000 h 4492800"/>
            </a:gdLst>
            <a:ahLst/>
            <a:rect l="textAreaLeft" t="textAreaTop" r="textAreaRight" b="textAreaBottom"/>
            <a:pathLst>
              <a:path w="21600" h="24066">
                <a:moveTo>
                  <a:pt x="1188" y="0"/>
                </a:moveTo>
                <a:arcTo wR="1188" hR="1188" stAng="16200000" swAng="-5400000"/>
                <a:lnTo>
                  <a:pt x="0" y="22878"/>
                </a:lnTo>
                <a:arcTo wR="1188" hR="1188" stAng="10800000" swAng="-5400000"/>
                <a:lnTo>
                  <a:pt x="20412" y="24066"/>
                </a:lnTo>
                <a:arcTo wR="1188" hR="1188" stAng="5400000" swAng="-5400000"/>
                <a:lnTo>
                  <a:pt x="21600" y="1188"/>
                </a:lnTo>
                <a:arcTo wR="1188" hR="1188" stAng="0" swAng="-5400000"/>
                <a:close/>
              </a:path>
            </a:pathLst>
          </a:custGeom>
          <a:noFill/>
          <a:ln w="38160">
            <a:solidFill>
              <a:srgbClr val="b0aea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2" name="TextBox 9"/>
          <p:cNvSpPr/>
          <p:nvPr/>
        </p:nvSpPr>
        <p:spPr>
          <a:xfrm rot="16200000">
            <a:off x="8130960" y="4114440"/>
            <a:ext cx="82548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b1824"/>
                </a:solidFill>
                <a:latin typeface="Arial"/>
              </a:rPr>
              <a:t>АСФК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13" name=""/>
          <p:cNvCxnSpPr>
            <a:stCxn id="806" idx="0"/>
            <a:endCxn id="809" idx="2"/>
          </p:cNvCxnSpPr>
          <p:nvPr/>
        </p:nvCxnSpPr>
        <p:spPr>
          <a:xfrm flipV="1">
            <a:off x="6851160" y="3314880"/>
            <a:ext cx="2520" cy="576360"/>
          </a:xfrm>
          <a:prstGeom prst="straightConnector1">
            <a:avLst/>
          </a:prstGeom>
          <a:ln w="9360">
            <a:solidFill>
              <a:srgbClr val="605e5d"/>
            </a:solidFill>
            <a:miter/>
            <a:tailEnd len="med" type="triangle" w="med"/>
          </a:ln>
        </p:spPr>
      </p:cxnSp>
      <p:cxnSp>
        <p:nvCxnSpPr>
          <p:cNvPr id="814" name=""/>
          <p:cNvCxnSpPr>
            <a:stCxn id="788" idx="1"/>
            <a:endCxn id="789" idx="3"/>
          </p:cNvCxnSpPr>
          <p:nvPr/>
        </p:nvCxnSpPr>
        <p:spPr>
          <a:xfrm flipH="1">
            <a:off x="3109320" y="1272960"/>
            <a:ext cx="1084680" cy="6840"/>
          </a:xfrm>
          <a:prstGeom prst="straightConnector1">
            <a:avLst/>
          </a:prstGeom>
          <a:ln w="9360">
            <a:solidFill>
              <a:srgbClr val="605e5d"/>
            </a:solidFill>
            <a:miter/>
            <a:tailEnd len="med" type="triangle" w="med"/>
          </a:ln>
        </p:spPr>
      </p:cxn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" dur="5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" dur="5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" dur="5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" dur="5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642960" y="2857680"/>
            <a:ext cx="7772400" cy="86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3811f"/>
                </a:solidFill>
                <a:latin typeface="Arial"/>
              </a:rPr>
              <a:t>2. МЕХАНИЗМ РЕАЛИЗАЦИИ ДОРАБОТОК ППО.</a:t>
            </a:r>
            <a:endParaRPr b="1" lang="en-US" sz="40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816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BD7E7-7AEE-4C1A-AF44-C52CB2F4F984}" type="slidenum">
              <a:rPr b="1" lang="en-US" sz="2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742680" y="115920"/>
            <a:ext cx="75740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3811f"/>
                </a:solidFill>
                <a:latin typeface="Arial"/>
              </a:rPr>
              <a:t>Механизм реализации доработок ППО.</a:t>
            </a: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818" name="TextBox 9"/>
          <p:cNvSpPr/>
          <p:nvPr/>
        </p:nvSpPr>
        <p:spPr>
          <a:xfrm>
            <a:off x="3373560" y="1090440"/>
            <a:ext cx="17143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b1824"/>
                </a:solidFill>
                <a:latin typeface="Arial"/>
              </a:rPr>
              <a:t>Федеральное казначейство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19" name="Picture 12" descr="http://expert.ru/data/public/383474/383694/internet300-200_jpg_300x200_crop_q70.jpg"/>
          <p:cNvPicPr/>
          <p:nvPr/>
        </p:nvPicPr>
        <p:blipFill>
          <a:blip r:embed="rId2"/>
          <a:stretch/>
        </p:blipFill>
        <p:spPr>
          <a:xfrm>
            <a:off x="3208320" y="3327480"/>
            <a:ext cx="2006640" cy="1403280"/>
          </a:xfrm>
          <a:prstGeom prst="rect">
            <a:avLst/>
          </a:prstGeom>
          <a:ln w="0">
            <a:noFill/>
          </a:ln>
        </p:spPr>
      </p:pic>
      <p:sp>
        <p:nvSpPr>
          <p:cNvPr id="820" name="TextBox 13"/>
          <p:cNvSpPr/>
          <p:nvPr/>
        </p:nvSpPr>
        <p:spPr>
          <a:xfrm>
            <a:off x="3343320" y="4586400"/>
            <a:ext cx="1714320" cy="2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b1824"/>
                </a:solidFill>
                <a:latin typeface="Arial"/>
              </a:rPr>
              <a:t>Разработчики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1" name="Picture 14" descr="http://yakutia.roskazna.ru/file/gallery/21.1451.jpg"/>
          <p:cNvPicPr/>
          <p:nvPr/>
        </p:nvPicPr>
        <p:blipFill>
          <a:blip r:embed="rId3"/>
          <a:stretch/>
        </p:blipFill>
        <p:spPr>
          <a:xfrm>
            <a:off x="237960" y="2646360"/>
            <a:ext cx="2035440" cy="1401840"/>
          </a:xfrm>
          <a:prstGeom prst="rect">
            <a:avLst/>
          </a:prstGeom>
          <a:ln w="0">
            <a:noFill/>
          </a:ln>
        </p:spPr>
      </p:pic>
      <p:pic>
        <p:nvPicPr>
          <p:cNvPr id="822" name="Picture 16" descr="http://31vrn.roskazna.ru/file/gallery/31.13.jpg"/>
          <p:cNvPicPr/>
          <p:nvPr/>
        </p:nvPicPr>
        <p:blipFill>
          <a:blip r:embed="rId4"/>
          <a:stretch/>
        </p:blipFill>
        <p:spPr>
          <a:xfrm>
            <a:off x="237960" y="1257480"/>
            <a:ext cx="2035440" cy="1469880"/>
          </a:xfrm>
          <a:prstGeom prst="rect">
            <a:avLst/>
          </a:prstGeom>
          <a:ln w="0">
            <a:noFill/>
          </a:ln>
        </p:spPr>
      </p:pic>
      <p:pic>
        <p:nvPicPr>
          <p:cNvPr id="823" name="Picture 18" descr="http://vologodskaya.roskazna.ru/file/gallery/80.517.jpg"/>
          <p:cNvPicPr/>
          <p:nvPr/>
        </p:nvPicPr>
        <p:blipFill>
          <a:blip r:embed="rId5"/>
          <a:stretch/>
        </p:blipFill>
        <p:spPr>
          <a:xfrm>
            <a:off x="237960" y="3992400"/>
            <a:ext cx="2035440" cy="1395720"/>
          </a:xfrm>
          <a:prstGeom prst="rect">
            <a:avLst/>
          </a:prstGeom>
          <a:ln w="0">
            <a:noFill/>
          </a:ln>
        </p:spPr>
      </p:pic>
      <p:sp>
        <p:nvSpPr>
          <p:cNvPr id="824" name="TextBox 19"/>
          <p:cNvSpPr/>
          <p:nvPr/>
        </p:nvSpPr>
        <p:spPr>
          <a:xfrm>
            <a:off x="415800" y="5342040"/>
            <a:ext cx="171468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b1824"/>
                </a:solidFill>
                <a:latin typeface="Arial"/>
              </a:rPr>
              <a:t>Территориальные органы Федерального казначейства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5" name="Прямоугольник 26"/>
          <p:cNvSpPr/>
          <p:nvPr/>
        </p:nvSpPr>
        <p:spPr>
          <a:xfrm>
            <a:off x="3094200" y="4954680"/>
            <a:ext cx="2212920" cy="374400"/>
          </a:xfrm>
          <a:prstGeom prst="rect">
            <a:avLst/>
          </a:prstGeom>
          <a:gradFill rotWithShape="0">
            <a:gsLst>
              <a:gs pos="0">
                <a:srgbClr val="ffb180"/>
              </a:gs>
              <a:gs pos="100000">
                <a:srgbClr val="ffe7da"/>
              </a:gs>
            </a:gsLst>
            <a:lin ang="16200000"/>
          </a:gradFill>
          <a:ln w="9360">
            <a:solidFill>
              <a:srgbClr val="f37e1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b1824"/>
                </a:solidFill>
                <a:latin typeface="Arial"/>
              </a:rPr>
              <a:t>Анализ изменений НПА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26" name="Прямая со стрелкой 28"/>
          <p:cNvCxnSpPr>
            <a:stCxn id="820" idx="2"/>
            <a:endCxn id="825" idx="0"/>
          </p:cNvCxnSpPr>
          <p:nvPr/>
        </p:nvCxnSpPr>
        <p:spPr>
          <a:xfrm>
            <a:off x="4200120" y="4815000"/>
            <a:ext cx="1080" cy="140400"/>
          </a:xfrm>
          <a:prstGeom prst="straightConnector1">
            <a:avLst/>
          </a:prstGeom>
          <a:ln w="19080">
            <a:solidFill>
              <a:srgbClr val="ff3300"/>
            </a:solidFill>
            <a:miter/>
            <a:tailEnd len="med" type="arrow" w="med"/>
          </a:ln>
        </p:spPr>
      </p:cxnSp>
      <p:sp>
        <p:nvSpPr>
          <p:cNvPr id="827" name="Прямоугольник 39"/>
          <p:cNvSpPr/>
          <p:nvPr/>
        </p:nvSpPr>
        <p:spPr>
          <a:xfrm>
            <a:off x="3087720" y="5475240"/>
            <a:ext cx="2212920" cy="399960"/>
          </a:xfrm>
          <a:prstGeom prst="rect">
            <a:avLst/>
          </a:prstGeom>
          <a:gradFill rotWithShape="0">
            <a:gsLst>
              <a:gs pos="0">
                <a:srgbClr val="ffb180"/>
              </a:gs>
              <a:gs pos="100000">
                <a:srgbClr val="ffe7da"/>
              </a:gs>
            </a:gsLst>
            <a:lin ang="16200000"/>
          </a:gradFill>
          <a:ln w="9360">
            <a:solidFill>
              <a:srgbClr val="f37e1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b1824"/>
                </a:solidFill>
                <a:latin typeface="Arial"/>
              </a:rPr>
              <a:t>Реализация доработок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28" name="Прямая со стрелкой 43"/>
          <p:cNvCxnSpPr>
            <a:stCxn id="825" idx="2"/>
            <a:endCxn id="827" idx="0"/>
          </p:cNvCxnSpPr>
          <p:nvPr/>
        </p:nvCxnSpPr>
        <p:spPr>
          <a:xfrm flipH="1">
            <a:off x="4193640" y="5329080"/>
            <a:ext cx="7200" cy="146880"/>
          </a:xfrm>
          <a:prstGeom prst="straightConnector1">
            <a:avLst/>
          </a:prstGeom>
          <a:ln w="19080">
            <a:solidFill>
              <a:srgbClr val="ff3300"/>
            </a:solidFill>
            <a:miter/>
            <a:tailEnd len="med" type="arrow" w="med"/>
          </a:ln>
        </p:spPr>
      </p:cxnSp>
      <p:sp>
        <p:nvSpPr>
          <p:cNvPr id="829" name="Прямоугольник 53"/>
          <p:cNvSpPr/>
          <p:nvPr/>
        </p:nvSpPr>
        <p:spPr>
          <a:xfrm>
            <a:off x="3081240" y="6089760"/>
            <a:ext cx="2225880" cy="438120"/>
          </a:xfrm>
          <a:prstGeom prst="rect">
            <a:avLst/>
          </a:prstGeom>
          <a:gradFill rotWithShape="0">
            <a:gsLst>
              <a:gs pos="0">
                <a:srgbClr val="ffb180"/>
              </a:gs>
              <a:gs pos="100000">
                <a:srgbClr val="ffe7da"/>
              </a:gs>
            </a:gsLst>
            <a:lin ang="16200000"/>
          </a:gradFill>
          <a:ln w="9360">
            <a:solidFill>
              <a:srgbClr val="f37e1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b1824"/>
                </a:solidFill>
                <a:latin typeface="Arial"/>
              </a:rPr>
              <a:t>Доведение изменений до заказчика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30" name="Прямая со стрелкой 55"/>
          <p:cNvCxnSpPr>
            <a:stCxn id="827" idx="2"/>
            <a:endCxn id="829" idx="0"/>
          </p:cNvCxnSpPr>
          <p:nvPr/>
        </p:nvCxnSpPr>
        <p:spPr>
          <a:xfrm>
            <a:off x="4193640" y="5875200"/>
            <a:ext cx="1080" cy="215280"/>
          </a:xfrm>
          <a:prstGeom prst="straightConnector1">
            <a:avLst/>
          </a:prstGeom>
          <a:ln w="19080">
            <a:solidFill>
              <a:srgbClr val="ff3300"/>
            </a:solidFill>
            <a:miter/>
            <a:tailEnd len="med" type="arrow" w="med"/>
          </a:ln>
        </p:spPr>
      </p:cxnSp>
      <p:sp>
        <p:nvSpPr>
          <p:cNvPr id="831" name="Скругленный прямоугольник 81"/>
          <p:cNvSpPr/>
          <p:nvPr/>
        </p:nvSpPr>
        <p:spPr>
          <a:xfrm>
            <a:off x="142920" y="1071720"/>
            <a:ext cx="8858160" cy="5572080"/>
          </a:xfrm>
          <a:prstGeom prst="roundRect">
            <a:avLst>
              <a:gd name="adj" fmla="val 5500"/>
            </a:avLst>
          </a:prstGeom>
          <a:noFill/>
          <a:ln w="38160">
            <a:solidFill>
              <a:srgbClr val="b0aea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2" name="TextBox 82"/>
          <p:cNvSpPr/>
          <p:nvPr/>
        </p:nvSpPr>
        <p:spPr>
          <a:xfrm>
            <a:off x="428760" y="1071720"/>
            <a:ext cx="2928960" cy="2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89695"/>
                </a:solidFill>
                <a:latin typeface="Arial"/>
              </a:rPr>
              <a:t>Единое информационное пространство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 flipH="1">
            <a:off x="2286000" y="2006640"/>
            <a:ext cx="914400" cy="0"/>
          </a:xfrm>
          <a:prstGeom prst="line">
            <a:avLst/>
          </a:prstGeom>
          <a:ln w="38160">
            <a:solidFill>
              <a:srgbClr val="f3811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 flipV="1">
            <a:off x="2705040" y="2006280"/>
            <a:ext cx="0" cy="4280040"/>
          </a:xfrm>
          <a:prstGeom prst="line">
            <a:avLst/>
          </a:prstGeom>
          <a:ln w="38160">
            <a:solidFill>
              <a:srgbClr val="f3811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 flipV="1">
            <a:off x="2695680" y="6270120"/>
            <a:ext cx="371520" cy="1800"/>
          </a:xfrm>
          <a:prstGeom prst="line">
            <a:avLst/>
          </a:prstGeom>
          <a:ln w="38160">
            <a:solidFill>
              <a:srgbClr val="f381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36" name="" descr=""/>
          <p:cNvPicPr/>
          <p:nvPr/>
        </p:nvPicPr>
        <p:blipFill>
          <a:blip r:embed="rId6"/>
          <a:stretch/>
        </p:blipFill>
        <p:spPr>
          <a:xfrm>
            <a:off x="7407360" y="1569960"/>
            <a:ext cx="1085760" cy="1325520"/>
          </a:xfrm>
          <a:prstGeom prst="rect">
            <a:avLst/>
          </a:prstGeom>
          <a:ln w="0">
            <a:noFill/>
          </a:ln>
        </p:spPr>
      </p:pic>
      <p:pic>
        <p:nvPicPr>
          <p:cNvPr id="837" name="" descr=""/>
          <p:cNvPicPr/>
          <p:nvPr/>
        </p:nvPicPr>
        <p:blipFill>
          <a:blip r:embed="rId7"/>
          <a:stretch/>
        </p:blipFill>
        <p:spPr>
          <a:xfrm>
            <a:off x="3608280" y="1409760"/>
            <a:ext cx="1289160" cy="1298520"/>
          </a:xfrm>
          <a:prstGeom prst="rect">
            <a:avLst/>
          </a:prstGeom>
          <a:ln w="0">
            <a:noFill/>
          </a:ln>
        </p:spPr>
      </p:pic>
      <p:sp>
        <p:nvSpPr>
          <p:cNvPr id="838" name="Прямоугольник 26"/>
          <p:cNvSpPr/>
          <p:nvPr/>
        </p:nvSpPr>
        <p:spPr>
          <a:xfrm>
            <a:off x="2879640" y="2822400"/>
            <a:ext cx="2530440" cy="374760"/>
          </a:xfrm>
          <a:prstGeom prst="rect">
            <a:avLst/>
          </a:prstGeom>
          <a:gradFill rotWithShape="0">
            <a:gsLst>
              <a:gs pos="0">
                <a:srgbClr val="ffb180"/>
              </a:gs>
              <a:gs pos="100000">
                <a:srgbClr val="ffe7da"/>
              </a:gs>
            </a:gsLst>
            <a:lin ang="16200000"/>
          </a:gradFill>
          <a:ln w="9360">
            <a:solidFill>
              <a:srgbClr val="f37e1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b1824"/>
                </a:solidFill>
                <a:latin typeface="Arial"/>
              </a:rPr>
              <a:t>Изменение в НПА, ТФФ, КС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9" name="TextBox 19"/>
          <p:cNvSpPr/>
          <p:nvPr/>
        </p:nvSpPr>
        <p:spPr>
          <a:xfrm>
            <a:off x="7085160" y="5788080"/>
            <a:ext cx="17143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b1824"/>
                </a:solidFill>
                <a:latin typeface="Arial"/>
              </a:rPr>
              <a:t>Клиенты Федерального казначейства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0" name="" descr=""/>
          <p:cNvPicPr/>
          <p:nvPr/>
        </p:nvPicPr>
        <p:blipFill>
          <a:blip r:embed="rId8"/>
          <a:stretch/>
        </p:blipFill>
        <p:spPr>
          <a:xfrm>
            <a:off x="7237440" y="3021120"/>
            <a:ext cx="1425600" cy="1425600"/>
          </a:xfrm>
          <a:prstGeom prst="rect">
            <a:avLst/>
          </a:prstGeom>
          <a:ln w="0">
            <a:noFill/>
          </a:ln>
        </p:spPr>
      </p:pic>
      <p:pic>
        <p:nvPicPr>
          <p:cNvPr id="841" name="" descr=""/>
          <p:cNvPicPr/>
          <p:nvPr/>
        </p:nvPicPr>
        <p:blipFill>
          <a:blip r:embed="rId9"/>
          <a:stretch/>
        </p:blipFill>
        <p:spPr>
          <a:xfrm>
            <a:off x="7126200" y="4379760"/>
            <a:ext cx="1789200" cy="1246320"/>
          </a:xfrm>
          <a:prstGeom prst="rect">
            <a:avLst/>
          </a:prstGeom>
          <a:ln w="0">
            <a:noFill/>
          </a:ln>
        </p:spPr>
      </p:pic>
      <p:sp>
        <p:nvSpPr>
          <p:cNvPr id="842" name=""/>
          <p:cNvSpPr/>
          <p:nvPr/>
        </p:nvSpPr>
        <p:spPr>
          <a:xfrm>
            <a:off x="5334120" y="1854360"/>
            <a:ext cx="1917720" cy="609480"/>
          </a:xfrm>
          <a:custGeom>
            <a:avLst/>
            <a:gdLst>
              <a:gd name="textAreaLeft" fmla="*/ 0 w 1917720"/>
              <a:gd name="textAreaRight" fmla="*/ 1918080 w 191772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b180"/>
              </a:gs>
              <a:gs pos="100000">
                <a:srgbClr val="ffe7da"/>
              </a:gs>
            </a:gsLst>
            <a:lin ang="16200000"/>
          </a:gradFill>
          <a:ln w="9360">
            <a:solidFill>
              <a:srgbClr val="f37e1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b1824"/>
                </a:solidFill>
                <a:latin typeface="Arial"/>
              </a:rPr>
              <a:t>Доведение изменений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b1824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b1824"/>
                </a:solidFill>
                <a:latin typeface="Arial"/>
              </a:rPr>
              <a:t>по НПА, 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b1824"/>
                </a:solidFill>
                <a:latin typeface="Arial"/>
              </a:rPr>
              <a:t>ТФФ, КС до клиентов ФК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5386320" y="3557520"/>
            <a:ext cx="1917720" cy="609840"/>
          </a:xfrm>
          <a:custGeom>
            <a:avLst/>
            <a:gdLst>
              <a:gd name="textAreaLeft" fmla="*/ 0 w 1917720"/>
              <a:gd name="textAreaRight" fmla="*/ 1918080 w 191772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b180"/>
              </a:gs>
              <a:gs pos="100000">
                <a:srgbClr val="ffe7da"/>
              </a:gs>
            </a:gsLst>
            <a:lin ang="16200000"/>
          </a:gradFill>
          <a:ln w="9360">
            <a:solidFill>
              <a:srgbClr val="f37e1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b1824"/>
                </a:solidFill>
                <a:latin typeface="Arial"/>
              </a:rPr>
              <a:t>Доведение изменений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b1824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b1824"/>
                </a:solidFill>
                <a:latin typeface="Arial"/>
              </a:rPr>
              <a:t>по НПА, 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b1824"/>
                </a:solidFill>
                <a:latin typeface="Arial"/>
              </a:rPr>
              <a:t>ТФФ, КС до клиентов ФК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5451480" y="5197320"/>
            <a:ext cx="1917720" cy="609840"/>
          </a:xfrm>
          <a:custGeom>
            <a:avLst/>
            <a:gdLst>
              <a:gd name="textAreaLeft" fmla="*/ 0 w 1917720"/>
              <a:gd name="textAreaRight" fmla="*/ 1918080 w 191772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b180"/>
              </a:gs>
              <a:gs pos="100000">
                <a:srgbClr val="ffe7da"/>
              </a:gs>
            </a:gsLst>
            <a:lin ang="16200000"/>
          </a:gradFill>
          <a:ln w="9360">
            <a:solidFill>
              <a:srgbClr val="f37e1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b1824"/>
                </a:solidFill>
                <a:latin typeface="Arial"/>
              </a:rPr>
              <a:t>Доведение изменений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b1824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b1824"/>
                </a:solidFill>
                <a:latin typeface="Arial"/>
              </a:rPr>
              <a:t>по НПА, 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b1824"/>
                </a:solidFill>
                <a:latin typeface="Arial"/>
              </a:rPr>
              <a:t>ТФФ, КС до клиентов ФК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8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3" dur="10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000"/>
                            </p:stCondLst>
                            <p:childTnLst>
                              <p:par>
                                <p:cTn id="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3000"/>
                            </p:stCondLst>
                            <p:childTnLst>
                              <p:par>
                                <p:cTn id="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5000"/>
                            </p:stCondLst>
                            <p:childTnLst>
                              <p:par>
                                <p:cTn id="10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1000"/>
                            </p:stCondLst>
                            <p:childTnLst>
                              <p:par>
                                <p:cTn id="13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3" dur="5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6" dur="500"/>
                                        <p:tgtEl>
                                          <p:spTgt spid="8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9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2" dur="500"/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5" dur="5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1500"/>
                            </p:stCondLst>
                            <p:childTnLst>
                              <p:par>
                                <p:cTn id="15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798480" y="1809360"/>
            <a:ext cx="7772400" cy="74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3811f"/>
                </a:solidFill>
                <a:latin typeface="Arial"/>
              </a:rPr>
              <a:t>3. ПЕРЕВОД КЛИЕНТОВ ФЕДЕРАЛЬНОГО КАЗНАЧЕЙСТВА НА</a:t>
            </a:r>
            <a:br>
              <a:rPr sz="4000"/>
            </a:br>
            <a:r>
              <a:rPr b="1" lang="ru-RU" sz="4000" spc="-1" strike="noStrike">
                <a:solidFill>
                  <a:srgbClr val="f3811f"/>
                </a:solidFill>
                <a:latin typeface="Arial"/>
              </a:rPr>
              <a:t> СУФД-ПОРТАЛ.</a:t>
            </a:r>
            <a:br>
              <a:rPr sz="4000"/>
            </a:br>
            <a:r>
              <a:rPr b="1" lang="ru-RU" sz="4000" spc="-1" strike="noStrike">
                <a:solidFill>
                  <a:srgbClr val="f3811f"/>
                </a:solidFill>
                <a:latin typeface="Arial"/>
              </a:rPr>
              <a:t> ПЕРСПЕКТИВЫ ДАЛЬНЕЙШЕГО РАЗВИТИЯ.</a:t>
            </a:r>
            <a:br>
              <a:rPr sz="4000"/>
            </a:br>
            <a:endParaRPr b="1" lang="en-US" sz="40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846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11F92-1C72-4866-9539-28D3F39D9601}" type="slidenum">
              <a:rPr b="1" lang="en-US" sz="2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7" name="" descr=""/>
          <p:cNvPicPr/>
          <p:nvPr/>
        </p:nvPicPr>
        <p:blipFill>
          <a:blip r:embed="rId2"/>
          <a:stretch/>
        </p:blipFill>
        <p:spPr>
          <a:xfrm>
            <a:off x="3403440" y="914400"/>
            <a:ext cx="1074960" cy="1082520"/>
          </a:xfrm>
          <a:prstGeom prst="rect">
            <a:avLst/>
          </a:prstGeom>
          <a:ln w="0">
            <a:noFill/>
          </a:ln>
        </p:spPr>
      </p:pic>
      <p:pic>
        <p:nvPicPr>
          <p:cNvPr id="848" name="Picture 6" descr="C:\Users\Оксана\Desktop\Стандарты презентации\Icons_\Classy Icons Pack\png\128x128\database.png"/>
          <p:cNvPicPr/>
          <p:nvPr/>
        </p:nvPicPr>
        <p:blipFill>
          <a:blip r:embed="rId3">
            <a:lum bright="8000"/>
          </a:blip>
          <a:stretch/>
        </p:blipFill>
        <p:spPr>
          <a:xfrm>
            <a:off x="4726080" y="1454040"/>
            <a:ext cx="761760" cy="798480"/>
          </a:xfrm>
          <a:prstGeom prst="rect">
            <a:avLst/>
          </a:prstGeom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849" name="Picture 6" descr="C:\Users\Оксана\Desktop\Стандарты презентации\Icons_\Classy Icons Pack\png\128x128\database.png"/>
          <p:cNvPicPr/>
          <p:nvPr/>
        </p:nvPicPr>
        <p:blipFill>
          <a:blip r:embed="rId4">
            <a:lum bright="8000"/>
          </a:blip>
          <a:stretch/>
        </p:blipFill>
        <p:spPr>
          <a:xfrm>
            <a:off x="4448160" y="1633680"/>
            <a:ext cx="709560" cy="742680"/>
          </a:xfrm>
          <a:prstGeom prst="rect">
            <a:avLst/>
          </a:prstGeom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850" name="Picture 6" descr="C:\Users\Оксана\Desktop\Стандарты презентации\Icons_\Classy Icons Pack\png\128x128\database.png"/>
          <p:cNvPicPr/>
          <p:nvPr/>
        </p:nvPicPr>
        <p:blipFill>
          <a:blip r:embed="rId5">
            <a:lum bright="8000"/>
          </a:blip>
          <a:stretch/>
        </p:blipFill>
        <p:spPr>
          <a:xfrm>
            <a:off x="4137120" y="1817640"/>
            <a:ext cx="657000" cy="689040"/>
          </a:xfrm>
          <a:prstGeom prst="rect">
            <a:avLst/>
          </a:prstGeom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</p:pic>
      <p:cxnSp>
        <p:nvCxnSpPr>
          <p:cNvPr id="851" name="Соединительная линия уступом 88"/>
          <p:cNvCxnSpPr/>
          <p:nvPr/>
        </p:nvCxnSpPr>
        <p:spPr>
          <a:xfrm flipV="1">
            <a:off x="857160" y="3148920"/>
            <a:ext cx="5185440" cy="375480"/>
          </a:xfrm>
          <a:prstGeom prst="bentConnector3">
            <a:avLst>
              <a:gd name="adj1" fmla="val 49996"/>
            </a:avLst>
          </a:prstGeom>
          <a:ln w="76320">
            <a:solidFill>
              <a:srgbClr val="6f6f6f"/>
            </a:solidFill>
            <a:miter/>
          </a:ln>
        </p:spPr>
      </p:cxnSp>
      <p:sp>
        <p:nvSpPr>
          <p:cNvPr id="852" name="Скругленный прямоугольник 120"/>
          <p:cNvSpPr/>
          <p:nvPr/>
        </p:nvSpPr>
        <p:spPr>
          <a:xfrm>
            <a:off x="824040" y="5742000"/>
            <a:ext cx="2531880" cy="814320"/>
          </a:xfrm>
          <a:prstGeom prst="roundRect">
            <a:avLst>
              <a:gd name="adj" fmla="val 5403"/>
            </a:avLst>
          </a:prstGeom>
          <a:gradFill rotWithShape="0">
            <a:gsLst>
              <a:gs pos="0">
                <a:srgbClr val="88d8b4"/>
              </a:gs>
              <a:gs pos="100000">
                <a:srgbClr val="4cb88f"/>
              </a:gs>
            </a:gsLst>
            <a:lin ang="5400000"/>
          </a:gra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3f7fb"/>
                </a:solidFill>
                <a:latin typeface="Tahoma"/>
                <a:ea typeface="Tahoma"/>
              </a:rPr>
              <a:t>Локальное обновление справочников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3" name="Скругленный прямоугольник 121"/>
          <p:cNvSpPr/>
          <p:nvPr/>
        </p:nvSpPr>
        <p:spPr>
          <a:xfrm>
            <a:off x="3486240" y="3711600"/>
            <a:ext cx="2496960" cy="849240"/>
          </a:xfrm>
          <a:prstGeom prst="roundRect">
            <a:avLst>
              <a:gd name="adj" fmla="val 5403"/>
            </a:avLst>
          </a:prstGeom>
          <a:gradFill rotWithShape="0">
            <a:gsLst>
              <a:gs pos="0">
                <a:srgbClr val="57d185"/>
              </a:gs>
              <a:gs pos="100000">
                <a:srgbClr val="32c876"/>
              </a:gs>
            </a:gsLst>
            <a:lin ang="5400000"/>
          </a:gra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  <a:ea typeface="Tahoma"/>
              </a:rPr>
              <a:t>Единая информационная среда СУФД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4" name="Скругленный прямоугольник 66"/>
          <p:cNvSpPr/>
          <p:nvPr/>
        </p:nvSpPr>
        <p:spPr>
          <a:xfrm>
            <a:off x="6377040" y="3462480"/>
            <a:ext cx="2338200" cy="1006200"/>
          </a:xfrm>
          <a:prstGeom prst="roundRect">
            <a:avLst>
              <a:gd name="adj" fmla="val 5403"/>
            </a:avLst>
          </a:prstGeom>
          <a:gradFill rotWithShape="0">
            <a:gsLst>
              <a:gs pos="0">
                <a:srgbClr val="57d185"/>
              </a:gs>
              <a:gs pos="100000">
                <a:srgbClr val="32c876"/>
              </a:gs>
            </a:gsLst>
            <a:lin ang="5400000"/>
          </a:gra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  <a:ea typeface="Tahoma"/>
              </a:rPr>
              <a:t>Использование сервиса предварительной проверки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Скругленный прямоугольник 46"/>
          <p:cNvSpPr/>
          <p:nvPr/>
        </p:nvSpPr>
        <p:spPr>
          <a:xfrm>
            <a:off x="825480" y="4818240"/>
            <a:ext cx="2479680" cy="687240"/>
          </a:xfrm>
          <a:prstGeom prst="roundRect">
            <a:avLst>
              <a:gd name="adj" fmla="val 5403"/>
            </a:avLst>
          </a:prstGeom>
          <a:gradFill rotWithShape="0">
            <a:gsLst>
              <a:gs pos="0">
                <a:srgbClr val="7bafed"/>
              </a:gs>
              <a:gs pos="100000">
                <a:srgbClr val="5c8dee"/>
              </a:gs>
            </a:gsLst>
            <a:lin ang="5400000"/>
          </a:gra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  <a:ea typeface="Tahoma"/>
              </a:rPr>
              <a:t>Децентрализованная автоматизации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Скругленный прямоугольник 47"/>
          <p:cNvSpPr/>
          <p:nvPr/>
        </p:nvSpPr>
        <p:spPr>
          <a:xfrm>
            <a:off x="824040" y="3755880"/>
            <a:ext cx="2493720" cy="750960"/>
          </a:xfrm>
          <a:prstGeom prst="roundRect">
            <a:avLst>
              <a:gd name="adj" fmla="val 5403"/>
            </a:avLst>
          </a:prstGeom>
          <a:gradFill rotWithShape="0">
            <a:gsLst>
              <a:gs pos="0">
                <a:srgbClr val="57d185"/>
              </a:gs>
              <a:gs pos="100000">
                <a:srgbClr val="32c876"/>
              </a:gs>
            </a:gsLst>
            <a:lin ang="5400000"/>
          </a:gra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  <a:ea typeface="Tahoma"/>
              </a:rPr>
              <a:t>Локальные информационные системы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Скругленный прямоугольник 48"/>
          <p:cNvSpPr/>
          <p:nvPr/>
        </p:nvSpPr>
        <p:spPr>
          <a:xfrm>
            <a:off x="3486240" y="4826160"/>
            <a:ext cx="2496960" cy="733320"/>
          </a:xfrm>
          <a:prstGeom prst="roundRect">
            <a:avLst>
              <a:gd name="adj" fmla="val 5403"/>
            </a:avLst>
          </a:prstGeom>
          <a:gradFill rotWithShape="0">
            <a:gsLst>
              <a:gs pos="0">
                <a:srgbClr val="7bafed"/>
              </a:gs>
              <a:gs pos="100000">
                <a:srgbClr val="5c8dee"/>
              </a:gs>
            </a:gsLst>
            <a:lin ang="5400000"/>
          </a:gra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  <a:ea typeface="Tahoma"/>
              </a:rPr>
              <a:t>Централизованное обновление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Скругленный прямоугольник 52"/>
          <p:cNvSpPr/>
          <p:nvPr/>
        </p:nvSpPr>
        <p:spPr>
          <a:xfrm>
            <a:off x="3498840" y="5757840"/>
            <a:ext cx="2497320" cy="822240"/>
          </a:xfrm>
          <a:prstGeom prst="roundRect">
            <a:avLst>
              <a:gd name="adj" fmla="val 5403"/>
            </a:avLst>
          </a:prstGeom>
          <a:gradFill rotWithShape="0">
            <a:gsLst>
              <a:gs pos="0">
                <a:srgbClr val="88d8b4"/>
              </a:gs>
              <a:gs pos="100000">
                <a:srgbClr val="4cb88f"/>
              </a:gs>
            </a:gsLst>
            <a:lin ang="5400000"/>
          </a:gra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3f7fb"/>
                </a:solidFill>
                <a:latin typeface="Tahoma"/>
                <a:ea typeface="Tahoma"/>
              </a:rPr>
              <a:t>Единая система справочников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Скругленный прямоугольник 54"/>
          <p:cNvSpPr/>
          <p:nvPr/>
        </p:nvSpPr>
        <p:spPr>
          <a:xfrm>
            <a:off x="6377040" y="4579920"/>
            <a:ext cx="2338200" cy="1042920"/>
          </a:xfrm>
          <a:prstGeom prst="roundRect">
            <a:avLst>
              <a:gd name="adj" fmla="val 5403"/>
            </a:avLst>
          </a:prstGeom>
          <a:gradFill rotWithShape="0">
            <a:gsLst>
              <a:gs pos="0">
                <a:srgbClr val="7bafed"/>
              </a:gs>
              <a:gs pos="100000">
                <a:srgbClr val="5c8dee"/>
              </a:gs>
            </a:gsLst>
            <a:lin ang="5400000"/>
          </a:gra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  <a:ea typeface="Tahoma"/>
              </a:rPr>
              <a:t>Использование аналитического инструмента анализа отчетности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0" name="Скругленный прямоугольник 55"/>
          <p:cNvSpPr/>
          <p:nvPr/>
        </p:nvSpPr>
        <p:spPr>
          <a:xfrm>
            <a:off x="6377040" y="5746680"/>
            <a:ext cx="2338200" cy="846360"/>
          </a:xfrm>
          <a:prstGeom prst="roundRect">
            <a:avLst>
              <a:gd name="adj" fmla="val 5403"/>
            </a:avLst>
          </a:prstGeom>
          <a:gradFill rotWithShape="0">
            <a:gsLst>
              <a:gs pos="0">
                <a:srgbClr val="88d8b4"/>
              </a:gs>
              <a:gs pos="100000">
                <a:srgbClr val="4cb88f"/>
              </a:gs>
            </a:gsLst>
            <a:lin ang="5400000"/>
          </a:gra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  <a:ea typeface="Tahoma"/>
              </a:rPr>
              <a:t>Подключение подведомственных учреждений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1" name="Picture 3" descr="C:\Users\designer\Desktop\Для презентаций\выбор лота.png"/>
          <p:cNvPicPr/>
          <p:nvPr/>
        </p:nvPicPr>
        <p:blipFill>
          <a:blip r:embed="rId6"/>
          <a:stretch/>
        </p:blipFill>
        <p:spPr>
          <a:xfrm rot="21046200">
            <a:off x="5114880" y="1633680"/>
            <a:ext cx="1036800" cy="825480"/>
          </a:xfrm>
          <a:prstGeom prst="rect">
            <a:avLst/>
          </a:prstGeom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862" name="Picture 39" descr="111"/>
          <p:cNvPicPr/>
          <p:nvPr/>
        </p:nvPicPr>
        <p:blipFill>
          <a:blip r:embed="rId7"/>
          <a:stretch/>
        </p:blipFill>
        <p:spPr>
          <a:xfrm>
            <a:off x="1857240" y="1692360"/>
            <a:ext cx="1022400" cy="1069920"/>
          </a:xfrm>
          <a:prstGeom prst="rect">
            <a:avLst/>
          </a:prstGeom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863" name="Picture 1" descr="C:\Users\designer\Desktop\Для презентаций\САЙТ МИНФИНА1.png"/>
          <p:cNvPicPr/>
          <p:nvPr/>
        </p:nvPicPr>
        <p:blipFill>
          <a:blip r:embed="rId8"/>
          <a:stretch/>
        </p:blipFill>
        <p:spPr>
          <a:xfrm rot="21156000">
            <a:off x="1953720" y="1750680"/>
            <a:ext cx="505080" cy="534960"/>
          </a:xfrm>
          <a:prstGeom prst="rect">
            <a:avLst/>
          </a:prstGeom>
          <a:ln w="0">
            <a:noFill/>
          </a:ln>
        </p:spPr>
      </p:pic>
      <p:pic>
        <p:nvPicPr>
          <p:cNvPr id="864" name="" descr=""/>
          <p:cNvPicPr/>
          <p:nvPr/>
        </p:nvPicPr>
        <p:blipFill>
          <a:blip r:embed="rId9"/>
          <a:stretch/>
        </p:blipFill>
        <p:spPr>
          <a:xfrm>
            <a:off x="919080" y="909720"/>
            <a:ext cx="919080" cy="1122120"/>
          </a:xfrm>
          <a:prstGeom prst="rect">
            <a:avLst/>
          </a:prstGeom>
          <a:ln w="0">
            <a:noFill/>
          </a:ln>
        </p:spPr>
      </p:pic>
      <p:sp>
        <p:nvSpPr>
          <p:cNvPr id="865" name=""/>
          <p:cNvSpPr/>
          <p:nvPr/>
        </p:nvSpPr>
        <p:spPr>
          <a:xfrm>
            <a:off x="1015920" y="2971800"/>
            <a:ext cx="207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05e5d"/>
                </a:solidFill>
                <a:latin typeface="Arial"/>
              </a:rPr>
              <a:t>сегодня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2064240" y="258840"/>
            <a:ext cx="515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3811f"/>
                </a:solidFill>
                <a:latin typeface="Arial"/>
              </a:rPr>
              <a:t>Перевод клиентов ФК на СУФД-Портал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3519360" y="2643120"/>
            <a:ext cx="207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05e5d"/>
                </a:solidFill>
                <a:latin typeface="Arial"/>
              </a:rPr>
              <a:t>С 01.02.2014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6340320" y="2479680"/>
            <a:ext cx="257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05e5d"/>
                </a:solidFill>
                <a:latin typeface="Arial"/>
              </a:rPr>
              <a:t>Дополнительные возможности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9" name="Picture 39" descr="111"/>
          <p:cNvPicPr/>
          <p:nvPr/>
        </p:nvPicPr>
        <p:blipFill>
          <a:blip r:embed="rId10"/>
          <a:stretch/>
        </p:blipFill>
        <p:spPr>
          <a:xfrm>
            <a:off x="7040520" y="1401840"/>
            <a:ext cx="1022400" cy="1069920"/>
          </a:xfrm>
          <a:prstGeom prst="rect">
            <a:avLst/>
          </a:prstGeom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870" name="Picture 1" descr="C:\Users\designer\Desktop\Для презентаций\САЙТ МИНФИНА1.png"/>
          <p:cNvPicPr/>
          <p:nvPr/>
        </p:nvPicPr>
        <p:blipFill>
          <a:blip r:embed="rId11"/>
          <a:stretch/>
        </p:blipFill>
        <p:spPr>
          <a:xfrm rot="21156000">
            <a:off x="7137000" y="1460160"/>
            <a:ext cx="504720" cy="534960"/>
          </a:xfrm>
          <a:prstGeom prst="rect">
            <a:avLst/>
          </a:prstGeom>
          <a:ln w="0">
            <a:noFill/>
          </a:ln>
        </p:spPr>
      </p:pic>
      <p:sp>
        <p:nvSpPr>
          <p:cNvPr id="871" name=""/>
          <p:cNvSpPr/>
          <p:nvPr/>
        </p:nvSpPr>
        <p:spPr>
          <a:xfrm>
            <a:off x="3098880" y="4152960"/>
            <a:ext cx="635040" cy="0"/>
          </a:xfrm>
          <a:prstGeom prst="line">
            <a:avLst/>
          </a:prstGeom>
          <a:ln w="57240">
            <a:solidFill>
              <a:srgbClr val="605e5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3112920" y="5234040"/>
            <a:ext cx="635040" cy="0"/>
          </a:xfrm>
          <a:prstGeom prst="line">
            <a:avLst/>
          </a:prstGeom>
          <a:ln w="57240">
            <a:solidFill>
              <a:srgbClr val="605e5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3102120" y="6137280"/>
            <a:ext cx="634680" cy="0"/>
          </a:xfrm>
          <a:prstGeom prst="line">
            <a:avLst/>
          </a:prstGeom>
          <a:ln w="57240">
            <a:solidFill>
              <a:srgbClr val="605e5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20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20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20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01" dur="500"/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04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07" dur="5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500"/>
                            </p:stCondLst>
                            <p:childTnLst>
                              <p:par>
                                <p:cTn id="2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20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20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20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20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20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20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20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2000"/>
                                        <p:tgtEl>
                                          <p:spTgt spid="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3" dur="5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5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9" dur="500"/>
                                        <p:tgtEl>
                                          <p:spTgt spid="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5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8" dur="50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874800" y="2800080"/>
            <a:ext cx="7772400" cy="74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3811f"/>
                </a:solidFill>
                <a:latin typeface="Arial"/>
              </a:rPr>
              <a:t>СПАСИБО ЗА ВНИМАНИЕ</a:t>
            </a:r>
            <a:endParaRPr b="1" lang="en-US" sz="40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875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8FDA4-D30D-4176-9D1D-E173AF6FC870}" type="slidenum">
              <a:rPr b="1" lang="en-US" sz="2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7T06:57:33Z</dcterms:created>
  <dc:creator>PowerLexis</dc:creator>
  <dc:description/>
  <dc:language>en-US</dc:language>
  <cp:lastModifiedBy>user</cp:lastModifiedBy>
  <dcterms:modified xsi:type="dcterms:W3CDTF">2013-09-03T06:37:47Z</dcterms:modified>
  <cp:revision>568</cp:revision>
  <dc:subject/>
  <dc:title>Корпоративный шаблон презентаций компании ОТР</dc:title>
</cp:coreProperties>
</file>