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907588" cy="6858000"/>
  <p:notesSz cx="6670675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D70-EAA4-45E2-BD43-DCCF299C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A92-4027-4887-9C01-33168B66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DE6-7F28-40FC-8965-7736645B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F4E-71F6-43C2-B4CC-70A06635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942-4303-4783-BD10-108A6800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1BE-43CF-4BAA-97F4-A1209A5A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230-F6AC-4D98-B8F2-C3B9968A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1F8-9D67-47F9-8E4F-C0C4D738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165D-3695-482D-B2B7-97559788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FD2-DA73-4542-BB75-6A570639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46D5-0A25-4F32-940C-0579D1A5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E59-8C3E-419F-9207-C25EE4A4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5C6F-3A5F-48A8-AF32-7110EFC49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mebelizh.ru/images_editor/875346_thumb.gif" TargetMode="External"/><Relationship Id="rId2" Type="http://schemas.openxmlformats.org/officeDocument/2006/relationships/image" Target="../media/image4.gif"/><Relationship Id="rId3" Type="http://schemas.openxmlformats.org/officeDocument/2006/relationships/image" Target="../media/image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819000" y="5661000"/>
            <a:ext cx="83455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600" y="999720"/>
            <a:ext cx="91602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российское совещание по вопросам бюджетного учета и отчет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811840" y="556416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logo"/>
          <p:cNvPicPr/>
          <p:nvPr/>
        </p:nvPicPr>
        <p:blipFill>
          <a:blip r:embed="rId2"/>
          <a:stretch/>
        </p:blipFill>
        <p:spPr>
          <a:xfrm>
            <a:off x="3095640" y="1968480"/>
            <a:ext cx="3674880" cy="43545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6"/>
          <p:cNvSpPr/>
          <p:nvPr/>
        </p:nvSpPr>
        <p:spPr>
          <a:xfrm>
            <a:off x="166680" y="6072120"/>
            <a:ext cx="2786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7 сентября 201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95000" y="765000"/>
            <a:ext cx="89154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рок проведения реорганизационных или ликвидационных мероприя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здание ликвидационной комиссии или органа (комиссии), уполномоченного учредителем на реорганизацию с назначением председателя ликвидационной комиссии при ликвидации учреждения или соответственно органа (комиссии) при реорганизации учре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сточник финансирования расходов, связанных с проведением ликвидации или реорганиз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еречень учреждений, которым передаются функции, права и обязанности, активы (финансовые и нефинансовые) и обязательства (далее - активы и обязательства) реорганизуемого или ликвидируемого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казанных решениях обязательно отражаются вопросы, связанные с передачей имущества, в том числе Росимуществу с указанием даты, выполнения этих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89154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691920"/>
            <a:ext cx="8915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Минфину России необходимо выпуст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2349000"/>
            <a:ext cx="89154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каз Министерства финансо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проведении процедуры реорганизации в госсек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89154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95000" y="2143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ПОРЯДКУ ОТРАЖЕНИЯ В БУХГАЛТЕРСКОМ УЧЕТЕ ВХОДЯЩИХ ОСТАТКОВ ПО АКТИВАМ, ОБЯЗАТЕЛЬСТВАМ И ФИНАНСОВЫМ РЕЗУЛЬТАТАМ ПРИ ПРИНЯТИИ РЕШЕНИЯ О ПРЕОБРАЗОВАНИИ ГОСУДАРСТВЕННОГО (МУНИЦИПАЛЬНОГО) УЧРЕЖДЕНИЯ ПУТЕМ ИЗМЕНЕНИЯ Е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ПИСЬМО от 25 апреля 2011 г. N 02-06-07/15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89" name="Номер слайда 4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73AD-B77A-45F8-A57B-9B869B8C1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95000" y="1428840"/>
            <a:ext cx="91011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ПОРЯДКУ ОТРАЖЕНИЯ В БУХГАЛТЕРСКОМ УЧЕТЕ И БУХГАЛТЕРСКОЙ ОТЧЕТНОСТИ ОПЕРАЦИЙ С АКТИВАМИ, ОБЯЗАТЕЛЬСТВАМИ И ФИНАНСОВЫМ РЕЗУЛЬТАТОМ ПРИ ПРИНЯТИИ РЕШЕНИЯ В ТЕЧЕНИЕ ФИНАНСОВОГО ГОДА О ПРЕОБРАЗОВАНИИ ГОСУДАРСТВЕННОГО (МУНИЦИПАЛЬНОГО) УЧРЕЖДЕНИЯ ПУТЕМ ИЗМЕНЕНИЯ Е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ПИСЬМО от 22 декабря 2011 г. N 02-06-07/52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92" name="Номер слайда 4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E09E-16B6-4CE6-B023-3B4E3DAED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95000" y="1857240"/>
            <a:ext cx="89154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02-03-07/50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ЕДЕРАЛЬНОЕ КАЗНАЧ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42-7.4-05/5.1-7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СЬ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 6 декабря 2010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95" name="Номер слайда 4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9FC1-5365-4593-AE38-0AC4A31AA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95000" y="1071720"/>
            <a:ext cx="8915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ЯДОК ОТКРЫТИЯ И ВЕДЕНИЯ ЛИЦЕВЫХ СЧЕТОВ ТЕРРИТОРИАЛЬНЫМИ ОРГАНАМИ ФЕДЕРАЛЬНОГО КАЗНАЧЕЙ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ФЕДЕРАЛЬНОЕ КАЗНАЧЕЙСТВО ПРИКАЗ от 29 декабря 2012 г. N 24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в ред. Приказов Казначейства РФ от 21.06.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D29E-5578-4634-90F9-558E97BF2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857160"/>
            <a:ext cx="89154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ьшение бюджетных ассигнований текущего финансового года, утвержденных «старому» главному распорядителю бюджетных средств до реорганизации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5000" y="3429000"/>
            <a:ext cx="89154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738360" y="3214800"/>
          <a:ext cx="8572320" cy="264312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117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нансовый орг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вный распорядитель бюджетных средств (ГРБС) (Учредител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7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расное сторно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т  1 503 19 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  1 503 11 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7398-C598-497C-9427-189747C19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785880"/>
            <a:ext cx="8915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бюджетных ассигнований, доведенных (полученных) на текущий финансовый год «старым» главным распорядителем (распорядителем) бюджетных средств распорядителю (получателю) бюджетных средств до реорганизации Учре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2520" y="2643120"/>
          <a:ext cx="8915400" cy="4168800"/>
        </p:xfrm>
        <a:graphic>
          <a:graphicData uri="http://schemas.openxmlformats.org/drawingml/2006/table">
            <a:tbl>
              <a:tblPr/>
              <a:tblGrid>
                <a:gridCol w="4457520"/>
                <a:gridCol w="4457880"/>
              </a:tblGrid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ый орг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бюджетных средств (ГРБС) (Учредите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5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2 00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2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4 00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1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2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2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4 00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1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2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107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478A-FAE0-4F22-86D3-B30038FBE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714240"/>
            <a:ext cx="8915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величение бюджетных ассигнований текущего финансового года, утвержденных «новому» главному распорядителю бюдже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09680" y="2500200"/>
          <a:ext cx="7143840" cy="4297320"/>
        </p:xfrm>
        <a:graphic>
          <a:graphicData uri="http://schemas.openxmlformats.org/drawingml/2006/table">
            <a:tbl>
              <a:tblPr/>
              <a:tblGrid>
                <a:gridCol w="3571920"/>
                <a:gridCol w="3571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ый орг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бюджетных средств (ГРБС) (Учредите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9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1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5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2 00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2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4 00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1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2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2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4 00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1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2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10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111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1FA0-7C8C-43FE-AE0B-A3D7061FE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856800"/>
            <a:ext cx="8915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ьшение бюджетных ассигнований текущего финансового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95360" y="1600200"/>
          <a:ext cx="8915400" cy="4297320"/>
        </p:xfrm>
        <a:graphic>
          <a:graphicData uri="http://schemas.openxmlformats.org/drawingml/2006/table">
            <a:tbl>
              <a:tblPr/>
              <a:tblGrid>
                <a:gridCol w="4457520"/>
                <a:gridCol w="445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ый орг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бюджетных средств (ГРБС) (Учредите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3 19 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1 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4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3 15 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2 24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3 12 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4 24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3 11 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2 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2 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4 24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 1 503 11 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 1 503 12 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115" name="Номер слайда 5"/>
          <p:cNvSpPr/>
          <p:nvPr/>
        </p:nvSpPr>
        <p:spPr>
          <a:xfrm>
            <a:off x="9520200" y="6381720"/>
            <a:ext cx="38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7D31-CA7E-4359-914F-6AC0B1242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3680" y="765000"/>
            <a:ext cx="9050400" cy="41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реорганизации бюджетных и автономных учрежд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66680" y="2357280"/>
            <a:ext cx="9204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9244080" y="765000"/>
            <a:ext cx="544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9"/>
          <p:cNvSpPr/>
          <p:nvPr/>
        </p:nvSpPr>
        <p:spPr>
          <a:xfrm>
            <a:off x="3657600" y="5229360"/>
            <a:ext cx="56894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меститель начальника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бюджетного учета и отчетности – главный бухгал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Т.А. Зачиня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714240"/>
            <a:ext cx="8915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величение бюджетных ассигнований текущего финансово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95360" y="1857240"/>
          <a:ext cx="8915400" cy="3382920"/>
        </p:xfrm>
        <a:graphic>
          <a:graphicData uri="http://schemas.openxmlformats.org/drawingml/2006/table">
            <a:tbl>
              <a:tblPr/>
              <a:tblGrid>
                <a:gridCol w="4457520"/>
                <a:gridCol w="445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ый орг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бюджетных средств (ГРБС) (Учредите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3 19 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1 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3 11 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2 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3 11 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2 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1 503 12 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 1 503 13 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3 12 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3 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119" name="Номер слайда 5"/>
          <p:cNvSpPr/>
          <p:nvPr/>
        </p:nvSpPr>
        <p:spPr>
          <a:xfrm>
            <a:off x="9520200" y="6381720"/>
            <a:ext cx="38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6E31-B5C7-45BF-98D1-E1444EE7E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857160"/>
            <a:ext cx="8915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ьшение лимитов бюджетных обязательств, утвержденных главному распорядителю бюджет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95360" y="1785960"/>
          <a:ext cx="9172440" cy="4832280"/>
        </p:xfrm>
        <a:graphic>
          <a:graphicData uri="http://schemas.openxmlformats.org/drawingml/2006/table">
            <a:tbl>
              <a:tblPr/>
              <a:tblGrid>
                <a:gridCol w="2457360"/>
                <a:gridCol w="2552760"/>
                <a:gridCol w="4162320"/>
              </a:tblGrid>
              <a:tr h="928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ый орг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бюджетных средств (ГРБС) (Учредите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9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1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9 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1 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2 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4 00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1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2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5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3 000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2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4 00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5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2 00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2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4 00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1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2 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1 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2 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1 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2 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Номер слайда 3"/>
          <p:cNvSpPr/>
          <p:nvPr/>
        </p:nvSpPr>
        <p:spPr>
          <a:xfrm>
            <a:off x="9520200" y="6381720"/>
            <a:ext cx="38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5B48-D52D-40FF-9242-3E0C0B15A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71424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величение лимитов бюджетных обязательств, утвержденных «новому» главному распорядителю бюджетных сред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23800" y="1432080"/>
          <a:ext cx="8915400" cy="536256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4457520"/>
              </a:tblGrid>
              <a:tr h="61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ый орган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бюджетных средств (ГРБС) (Учредитель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9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1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1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2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2 00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4 000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1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2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5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3 000;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2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4 000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5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2 000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2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4 000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1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3 12 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2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3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9 25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1 25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9 25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1 25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1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2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9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1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1 501 12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1 501 13 2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127" name="Номер слайда 5"/>
          <p:cNvSpPr/>
          <p:nvPr/>
        </p:nvSpPr>
        <p:spPr>
          <a:xfrm>
            <a:off x="9520200" y="6459480"/>
            <a:ext cx="38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C6E3-14F8-4FC8-8873-700EEDC3C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71424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несение изменений в показатели сметных назна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95360" y="1600200"/>
          <a:ext cx="8915400" cy="5248440"/>
        </p:xfrm>
        <a:graphic>
          <a:graphicData uri="http://schemas.openxmlformats.org/drawingml/2006/table">
            <a:tbl>
              <a:tblPr/>
              <a:tblGrid>
                <a:gridCol w="4457520"/>
                <a:gridCol w="4457880"/>
              </a:tblGrid>
              <a:tr h="3715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ь бюджетных средств (ПБС) по старой подчин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ь бюджетных средств (ПБС) по новой подчинен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2 504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504 10 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2 506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506 10 30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7 504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 504 10 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7 506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 506 10 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2 504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504 10 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2 506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506 10 30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7 504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 504 10 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7 506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 506 10 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2 507 10 100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2 504 10 100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асное стор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7 507 10 100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7 504 10 100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2 507 10 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2 504 10 10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7 507 10 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7 504 10 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4 504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 504 10 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4 506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 506 10 30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т  5 504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 504 10 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  5 506 10 20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 506 10 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131" name="Номер слайда 4"/>
          <p:cNvSpPr/>
          <p:nvPr/>
        </p:nvSpPr>
        <p:spPr>
          <a:xfrm>
            <a:off x="9520200" y="6381720"/>
            <a:ext cx="38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634E-DAAF-44D3-9F92-5EC430B86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БОВАНИЯ К ПЛАНУ ФИНАНСОВО-ХОЗЯЙСТВЕННОЙ ДЕЯТЕЛЬНОСТИ ГОСУДАРСТВЕННОГО (МУНИЦИПАЛЬНОГО)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ПРИКАЗ от 28 июля 2010 г. N 81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134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2765-5956-4E36-B8AC-571789A26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95000" y="857160"/>
            <a:ext cx="89154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ТРУКЦИЯ О ПОРЯДКЕ СОСТАВЛЕНИЯ И ПРЕДСТАВЛЕНИЯ ГОДОВОЙ, КВАРТАЛЬНОЙ И МЕСЯЧНОЙ ОТЧЕТНОСТИ ОБ ИСПОЛНЕНИИ БЮДЖЕТОВ БЮДЖЕТНОЙ СИСТЕМЫ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VI. Особенности формирования бюджетной отчетности при реорганизации или ликвидации получателя бюджет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ПРИКАЗ от 28 декабря 2010 г. N 191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 ред. Приказа Минфина РФ от 29.12.2011 N 191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9520200" y="6381720"/>
            <a:ext cx="38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160E-102B-4C96-B57D-C790CFD8E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37960" y="856800"/>
            <a:ext cx="94298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делительный (ликвидационный) баланс главного распорядителя, распорядителя, получателя бюджетных средств, главного администратора, администратора источников финансирования дефицита бюджета, главного администратора, администратора доходов бюджета (ф. 050323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равка по консолидируемым расчетам (ф. 050312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равка по заключению счетов бюджетного учета отчетного финансового года (ф. 05031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чет об исполнении бюджета главного распорядителя, распорядителя, получателя бюджетных средств, главного администратора, администратора источников финансирования дефицита бюджета, главного администратора, администратора доходов бюджета (ф. 050312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чет об исполнении смет доходов и расходов по приносящей доход деятельности главного распорядителя, распорядителя, получателя бюджетных средств (ф. 050313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чет о финансовых результатах деятельности (ф. 050312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яснительная записка (ф. 050316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9966-353F-404D-BFDE-40387767C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8520" y="54900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организация бюдж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ля финансового органа (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необходимо включить в приказ 191н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ланс по поступлениям и выбытиям бюджетных средств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(ф. 0503140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ланс исполнения бюджета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(ф. 0503120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равка по консолидируемым расчетам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(ф. 0503125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равка по заключению счетов бюджетного учета отчетного финансового года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(ф. 0503110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 о кассовом поступлении и выбытии бюджетных средств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(ф. 0503124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 об исполнении бюджета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(ф. 0503117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 о движении денежных средств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(ф. 0503123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 о финансовых результатах деятельност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(ф. 0503121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(ф. 0503160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ФК__005"/>
          <p:cNvPicPr/>
          <p:nvPr/>
        </p:nvPicPr>
        <p:blipFill>
          <a:blip r:embed="rId10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09600" y="928440"/>
            <a:ext cx="9429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СТРУКЦИИ О ПОРЯДКЕ СОСТАВЛЕНИЯ, ПРЕДСТАВЛЕНИЯ ГОДОВОЙ, КВАРТАЛЬНОЙ БУХГАЛТЕРСКОЙ ОТЧЕТНОСТИ ГОСУДАРСТВЕННЫХ (МУНИЦИПАЛЬНЫХ) БЮДЖЕТНЫХ И АВТОНОМНЫХ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Особенности формирования бухгалтерской отчетности при реорганизации или ликвидации учре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ПРИКАЗ от 25 марта 2011 г. N 33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9310680" y="6215040"/>
            <a:ext cx="38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94F0-16EF-4367-A624-F07A91420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37600" y="785520"/>
            <a:ext cx="950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делительный (ликвидационный) баланс государственного (муниципального) учреждения (ф. 050383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равка по консолидируемым расчетам учреждения (ф. 050372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равка по заключению учреждением счетов бухгалтерского учета отчетного финансового года (ф. 05037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 об исполнении плана учреждения по финансово-хозяйственной деятельности (ф. 050373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 о принятых учреждением обязательствах (ф. 0503738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 о финансовых результатах деятельности учреждения (ф. 050372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снительная записка к Балансу учреждения (ф. 050376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9520200" y="6381720"/>
            <a:ext cx="38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29F7-6470-430D-B68A-AA2044B4D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95000" y="1341360"/>
            <a:ext cx="891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Федеральный зако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т 12.01.1996 N 7-ФЗ (ред. от 02.07.2013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"О некоммерческих организациях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DAFA-3EF3-4220-896D-FE5E0F04F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60160" y="30492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836640"/>
            <a:ext cx="8915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Заключение счетов учреждение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Т 1 401 30 000 «Финансовый результат прошлых отчетных периодов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Т 1 210 02 000 «Расчеты с финансовым органом по поступления в бюдж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Т 1 304 05 000 «Расчеты по платежам из бюджета с финансовым органом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Т 1 401 30 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Т 1 401 10 000 «Доходы текущего финансового года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Т 1 401 30 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Т 1 401 30 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Т 1 401 20 000  «Расходы текущего финансового года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713880"/>
            <a:ext cx="89154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вод показателей входящих остатков активов и обязательств (На основании Справок (ф. 0504833) и соответствующих аналитических регистров аналитического учета)  межотчетным пери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95360" y="2071800"/>
          <a:ext cx="8915400" cy="4937040"/>
        </p:xfrm>
        <a:graphic>
          <a:graphicData uri="http://schemas.openxmlformats.org/drawingml/2006/table">
            <a:tbl>
              <a:tblPr/>
              <a:tblGrid>
                <a:gridCol w="4457520"/>
                <a:gridCol w="44578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умме нефинансовых актив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101ХХ410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2ХХ420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5ХХ440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Х1410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2420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4440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7Х1410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7Х3440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960ХХ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4013000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104ХХ410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4Х94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3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101ХХ31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2ХХ32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5ХХ34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131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232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434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7Х131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7Х334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960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401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104ХХ41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Номер слайда 3"/>
          <p:cNvSpPr/>
          <p:nvPr/>
        </p:nvSpPr>
        <p:spPr>
          <a:xfrm>
            <a:off x="9520200" y="6357960"/>
            <a:ext cx="38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1C12-C23B-48B6-A3DE-746254363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785520"/>
            <a:ext cx="8915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вод показателей входящих остатков активов и обязательств (На основании Справок (ф. 0504833) и соответствующих аналитических регистров аналитического учета)  межотчетным пери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95360" y="2143080"/>
          <a:ext cx="8915400" cy="4664160"/>
        </p:xfrm>
        <a:graphic>
          <a:graphicData uri="http://schemas.openxmlformats.org/drawingml/2006/table">
            <a:tbl>
              <a:tblPr/>
              <a:tblGrid>
                <a:gridCol w="2228760"/>
                <a:gridCol w="2228760"/>
                <a:gridCol w="2229120"/>
                <a:gridCol w="2228760"/>
              </a:tblGrid>
              <a:tr h="1739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части  недвижимого имущества и движимого особо ценного имущества, закрепленного Учредителем за Учреждением нового тип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сумме балансовой стоимости объектов нефинансовых активов, числящихся на балансовых счетах Рабочего плана счет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средств бюджета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средств бюджета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12043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1401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3000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42100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00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12043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1401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3000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42100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00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Номер слайда 3"/>
          <p:cNvSpPr/>
          <p:nvPr/>
        </p:nvSpPr>
        <p:spPr>
          <a:xfrm>
            <a:off x="9520200" y="6381720"/>
            <a:ext cx="38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4280-71D8-408A-B2F9-F25256658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714240"/>
            <a:ext cx="8915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вод показателей входящих остатков активов и обязательств (На основании Справок (ф. 0504833) и соответствующих аналитических регистров аналитического учета)  межотчетным периодом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сумме финансовых акти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09600" y="3500280"/>
          <a:ext cx="9029520" cy="2473560"/>
        </p:xfrm>
        <a:graphic>
          <a:graphicData uri="http://schemas.openxmlformats.org/drawingml/2006/table">
            <a:tbl>
              <a:tblPr/>
              <a:tblGrid>
                <a:gridCol w="4292640"/>
                <a:gridCol w="47368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умме денежных средств учреждения на счета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220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240130000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220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2401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A667-C099-4FC7-88D8-882E0DC87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9240" y="1071360"/>
            <a:ext cx="8915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вод показателей входящих остатков активов и обязательств (На основании Справок (ф. 0504833) и соответствующих аналитических регистров аналитического учета)  межотчетным пери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2520" y="3429000"/>
          <a:ext cx="8915400" cy="1925640"/>
        </p:xfrm>
        <a:graphic>
          <a:graphicData uri="http://schemas.openxmlformats.org/drawingml/2006/table">
            <a:tbl>
              <a:tblPr/>
              <a:tblGrid>
                <a:gridCol w="4457520"/>
                <a:gridCol w="44578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умме входящих остатков по счетам дебиторской задолж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20600000-0209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401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20600000-0209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401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6806-C804-4BAD-A275-BBC4A79D5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2160" y="1214280"/>
            <a:ext cx="8915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вод показателей входящих остатков активов и обязательств (На основании Справок (ф. 0504833) и соответствующих аналитических регистров аналитического учета)  межотчетным пери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2520" y="3143160"/>
          <a:ext cx="8915400" cy="2468520"/>
        </p:xfrm>
        <a:graphic>
          <a:graphicData uri="http://schemas.openxmlformats.org/drawingml/2006/table">
            <a:tbl>
              <a:tblPr/>
              <a:tblGrid>
                <a:gridCol w="4457520"/>
                <a:gridCol w="445788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умме входящих остатков по счетам кредиторской задолж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30200000-0303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30200000-0303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410C-A003-4B95-AAFD-790B483C2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713880"/>
            <a:ext cx="89154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еревод оборотов по активам и обязательствам (На основании Справок (ф. 0504833) и соответствующих аналитических регистров аналитического учета)  датой ре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9520200" y="6381720"/>
            <a:ext cx="38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9F4D-0519-460F-972B-5AFDC1B0D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452520" y="1920960"/>
          <a:ext cx="8915400" cy="4767120"/>
        </p:xfrm>
        <a:graphic>
          <a:graphicData uri="http://schemas.openxmlformats.org/drawingml/2006/table">
            <a:tbl>
              <a:tblPr/>
              <a:tblGrid>
                <a:gridCol w="4457520"/>
                <a:gridCol w="44578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умме нефинансовых актив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101ХХ310,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2ХХ32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5ХХ34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131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232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434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7Х131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7Х334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960ХХ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20100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200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405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104ХХ41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202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101ХХ31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2ХХ32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5ХХ34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131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232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6Х434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7Х131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7Х334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9602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20100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200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0405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202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104ХХ410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713880"/>
            <a:ext cx="89154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еревод оборотов по активам и обязательствам (На основании Справок (ф. 0504833) и соответствующих аналитических регистров аналитического учета)  датой ре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96D3-E821-49B3-825F-426D67C44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380880" y="1928880"/>
          <a:ext cx="8915400" cy="4664160"/>
        </p:xfrm>
        <a:graphic>
          <a:graphicData uri="http://schemas.openxmlformats.org/drawingml/2006/table">
            <a:tbl>
              <a:tblPr/>
              <a:tblGrid>
                <a:gridCol w="2229120"/>
                <a:gridCol w="2228760"/>
                <a:gridCol w="2228760"/>
                <a:gridCol w="2228760"/>
              </a:tblGrid>
              <a:tr h="1739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части  недвижимого имущества и движимого особо ценного имущества, закрепленного Учредителем за Учреждением нового тип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сумме балансовой стоимости объектов нефинансовых активов, числящихся на балансовых счетах Рабочего плана счет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средств бюджета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распорядитель средств бюджета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120433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641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130405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1018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421006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006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120433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641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130405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1018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421006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006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714240"/>
            <a:ext cx="8915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ревод оборотов по активам и обязательствам (На основании Справок (ф. 0504833) и соответствующих аналитических регистров аналитического учета)  датой ре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BFFA-B0E1-423C-9BA0-183A07BC3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166680" y="2786040"/>
          <a:ext cx="9029880" cy="3565440"/>
        </p:xfrm>
        <a:graphic>
          <a:graphicData uri="http://schemas.openxmlformats.org/drawingml/2006/table">
            <a:tbl>
              <a:tblPr/>
              <a:tblGrid>
                <a:gridCol w="4292640"/>
                <a:gridCol w="473724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умме перечисления остатка денежных средств учреждения на новые сче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240110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2201216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алансов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а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ОСГУ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алансов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а 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оду доходов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220112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240110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A1CD-3061-413F-8AE0-B35BA2F3D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452520" y="3429000"/>
          <a:ext cx="8915400" cy="2200320"/>
        </p:xfrm>
        <a:graphic>
          <a:graphicData uri="http://schemas.openxmlformats.org/drawingml/2006/table">
            <a:tbl>
              <a:tblPr/>
              <a:tblGrid>
                <a:gridCol w="4457520"/>
                <a:gridCol w="44578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умме оборотов по счетам дебиторской задолж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20600560-020900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3040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127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20600560-020900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3040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0127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928440"/>
            <a:ext cx="8915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ревод оборотов по активам и обязательствам (На основании Справок (ф. 0504833) и соответствующих аналитических регистров аналитического учета)  датой ре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95000" y="1557360"/>
            <a:ext cx="891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Федеральный зак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т 03.11.2006 N 174-ФЗ (ред. от 03.12.2012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"Об автономных учреждениях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7520-34C0-4C6B-AF1B-058FFBD40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785880"/>
            <a:ext cx="8915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еревод оборотов по активам и обязательствам (На основании Справок (ф. 0504833) и соответствующих аналитических регистров аналитического учета)  датой ре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E1F2-AE2A-4675-85DE-38CA4E2C5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23800" y="2500200"/>
          <a:ext cx="8915400" cy="2468520"/>
        </p:xfrm>
        <a:graphic>
          <a:graphicData uri="http://schemas.openxmlformats.org/drawingml/2006/table">
            <a:tbl>
              <a:tblPr/>
              <a:tblGrid>
                <a:gridCol w="4457880"/>
                <a:gridCol w="445752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умме оборотов по счетам кредиторской задолженности, образовавшейся в период с 1 января текущего года по дату ре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еред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атель бюджетных средств (ПБС) принимающ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асное стор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2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30200730-0303007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т 04012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 030200730-0303007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2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95000" y="1999800"/>
            <a:ext cx="89154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ПИСЬМО от 16 июня 2003 г. N 03-01-01/08-1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9381960" y="6286680"/>
            <a:ext cx="3859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2AEC-39F6-4F21-A1D8-2A28C68FB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Картинка 120 из 38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23960" y="2071800"/>
            <a:ext cx="5000760" cy="4286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ФК__005"/>
          <p:cNvPicPr/>
          <p:nvPr/>
        </p:nvPicPr>
        <p:blipFill>
          <a:blip r:embed="rId3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4" descr=""/>
          <p:cNvPicPr/>
          <p:nvPr/>
        </p:nvPicPr>
        <p:blipFill>
          <a:blip r:embed="rId4"/>
          <a:stretch/>
        </p:blipFill>
        <p:spPr>
          <a:xfrm>
            <a:off x="1017720" y="738360"/>
            <a:ext cx="788832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4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9930-7B3F-4717-AF87-6CBA3B620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415800" y="765000"/>
            <a:ext cx="2737080" cy="4464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ЮДЖЕТ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БС 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юджетное (автономное) учре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6176880" y="692280"/>
            <a:ext cx="2952720" cy="2449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ЮДЖЕТ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БС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юджетное (автономное) учрежд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8"/>
          <p:cNvCxnSpPr/>
          <p:nvPr/>
        </p:nvCxnSpPr>
        <p:spPr>
          <a:xfrm>
            <a:off x="3152880" y="981000"/>
            <a:ext cx="3024720" cy="432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Овал 11"/>
          <p:cNvSpPr/>
          <p:nvPr/>
        </p:nvSpPr>
        <p:spPr>
          <a:xfrm>
            <a:off x="3513240" y="4292640"/>
            <a:ext cx="2952720" cy="2232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Автономное (бюджетное) учрежде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Выноска-облако 12"/>
          <p:cNvSpPr/>
          <p:nvPr/>
        </p:nvSpPr>
        <p:spPr>
          <a:xfrm>
            <a:off x="7184880" y="4581360"/>
            <a:ext cx="2505240" cy="1908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зен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Прямая со стрелкой 14"/>
          <p:cNvCxnSpPr/>
          <p:nvPr/>
        </p:nvCxnSpPr>
        <p:spPr>
          <a:xfrm flipH="1">
            <a:off x="5384520" y="2781000"/>
            <a:ext cx="792720" cy="165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Прямая со стрелкой 16"/>
          <p:cNvCxnSpPr/>
          <p:nvPr/>
        </p:nvCxnSpPr>
        <p:spPr>
          <a:xfrm>
            <a:off x="8192880" y="3141720"/>
            <a:ext cx="361080" cy="1583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Прямоугольник 18"/>
          <p:cNvSpPr/>
          <p:nvPr/>
        </p:nvSpPr>
        <p:spPr>
          <a:xfrm>
            <a:off x="3513240" y="1341360"/>
            <a:ext cx="24480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тельство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ший исполнительный орган субъекта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>
            <a:off x="7689960" y="3357720"/>
            <a:ext cx="2216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вительство РФ Высший исполнительный орган субъек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3"/>
          <p:cNvSpPr/>
          <p:nvPr/>
        </p:nvSpPr>
        <p:spPr>
          <a:xfrm>
            <a:off x="3368520" y="3357720"/>
            <a:ext cx="338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едеральный орган исполнительной власти, осуществляющий функции и полномочия по выработке государственной политики и нормативно-правовому регулированию в установленной сфере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95000" y="713880"/>
            <a:ext cx="89154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тельство Российской Федерации или высший орган исполнительной власти субъекта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по реорганизации, в результате которого образуется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зен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режд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бо осуществляется изменение подведомственности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4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6E29-FD91-45B5-92DE-4CB429CF9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44520" y="1071360"/>
            <a:ext cx="9029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ган исполнительной власти, осуществляющий функции и полномочия по выработке государственной политики и нормативно-правовому регулированию в установленной сфере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75" name="Номер слайда 4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FB77-0616-4918-9F80-9271E31D3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95000" y="765000"/>
            <a:ext cx="89154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26.07.2010 N 53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Об утверждении Порядка создания, реорганизации, изменения типа и ликвидации федеральных государственных учреждений, а также утверждения уставов федеральных государственных учреждений и внесения в них изменений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E89C-D408-45B4-934C-E8949CCF5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37960" y="785880"/>
            <a:ext cx="9429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должно содержа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) наименование федеральных учреждений, участвующих в процессе реорганизации, с указанием их тип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) форму реорганиз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) наименование федерального учреждения (учреждений) после завершения процесса реорганиз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) наименование федерального органа (органов) исполнительной власти, осуществляющего функции и полномочия учредителя реорганизуемого федерального учреждения (учреждений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) информацию об изменении (сохранении) основных целей деятельности реорганизуемого учреждения (учреждений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) информацию об изменении (сохранении) штатной численности (для казенных учреждений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) перечень мероприятий по реорганизации федерального учреждения с указанием сроков их провед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ФК__005"/>
          <p:cNvPicPr/>
          <p:nvPr/>
        </p:nvPicPr>
        <p:blipFill>
          <a:blip r:embed="rId1"/>
          <a:stretch/>
        </p:blipFill>
        <p:spPr>
          <a:xfrm>
            <a:off x="0" y="0"/>
            <a:ext cx="9906120" cy="684360"/>
          </a:xfrm>
          <a:prstGeom prst="rect">
            <a:avLst/>
          </a:prstGeom>
          <a:ln w="0">
            <a:noFill/>
          </a:ln>
        </p:spPr>
      </p:pic>
      <p:sp>
        <p:nvSpPr>
          <p:cNvPr id="81" name="Номер слайда 4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CF17-3BB6-4341-BF2A-3BEFB8718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9:17:48Z</dcterms:created>
  <dc:creator>user</dc:creator>
  <dc:description/>
  <dc:language>en-US</dc:language>
  <cp:lastModifiedBy>user</cp:lastModifiedBy>
  <dcterms:modified xsi:type="dcterms:W3CDTF">2013-09-05T18:34:17Z</dcterms:modified>
  <cp:revision>788</cp:revision>
  <dc:subject/>
  <dc:title>Слайд 1</dc:title>
</cp:coreProperties>
</file>