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6.jpeg" ContentType="image/jpeg"/>
  <Override PartName="/ppt/media/image15.png" ContentType="image/png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10.png" ContentType="image/png"/>
  <Override PartName="/ppt/media/image6.jpeg" ContentType="image/jpeg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52A1B-8579-4CF5-B150-ACE4BBD948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8040" y="37490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15189-A7B6-4331-ABA6-3DF38F540E73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BC9BFA-A3C1-4C87-8574-3E973C33B931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FAC175-C4D6-45B4-89E5-A2BAD0908613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98320" y="134640"/>
            <a:ext cx="623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9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19B3A6-C624-4782-86C4-5943C6E83230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ECD786-62A7-4841-AF26-4AA1A74CE61D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89240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E7FD26-61AA-4A94-8EB0-F494E6DDCE80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5DC20F-075F-474F-B13D-63C0B10DDDCB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98040" y="37490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3B4973-33F9-4146-8419-51E495122BBD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89240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548A20-BBBF-48C1-AC58-479F7ECD0059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46572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23340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9804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46572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23340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5EE491-D20E-4C0D-9FA5-75487F8F209A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F2E5E4-FE37-4ABE-B107-5B56E778BC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9240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7CAD2-95D1-44F2-B1A1-6E73071F932F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CE893C-E832-487A-A574-D20CCC923D0B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6C3638-5007-429E-B5D2-4398488B72F9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2C9564-A946-4082-94CF-D3E226B8AB00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696283-649D-46C3-81A6-CEBD16A956FC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598320" y="134640"/>
            <a:ext cx="623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9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F6D319-7199-4AA8-BC0E-0DC134307013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B7ECE6-3087-4C25-A6B5-4581B09A8EE0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89240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E2AB92-B624-415A-B5E5-2C48B4F3FF21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6F261F-4710-4680-83D9-8106C707E7F3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698040" y="37490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6F7964-4507-4A19-B3E9-FA695B796A9A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89240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54B8AA-3917-4DE2-B4AC-B3D150868E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6572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3340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804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6572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3340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EEA95-0192-409C-A94F-65DE44F8BB00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46572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23340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69804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46572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23340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208AEC-82BE-43CC-AB3B-B92453BAD897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34B16-E700-44FF-B793-99161849C9D9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F0468-2BD3-4141-A418-F8563516B516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8DDF9-BAA2-41F1-BD4E-AD2049E1A379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16D59-7952-411E-A5AC-5B17D3911E5D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2CE9D-A5EC-44A9-9353-CD4F75BD93C0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598320" y="134640"/>
            <a:ext cx="623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9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23987-5A55-4162-A24C-C3F9B49743C7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B2F7D-F0DD-417C-9910-1B26DC3520E6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89240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A38B1-DE59-45FB-922B-25B60BCE36E5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B0BB5-3317-4899-AFF2-647352C75A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6DFB9-E8B4-4D83-A374-2399567354B8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698040" y="37490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F8689-8CA9-4677-91C7-7A726A01690F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89240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95326-8D80-4662-9C9E-B689A36F0A7A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46572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23340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69804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46572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23340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3EA5B-4EBB-423A-9574-EF20501A7D8D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33D3DF-C6D5-4176-8185-B62C08805B2F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4CF237-7B33-421F-BE3D-A30549C4B646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80CDD7-DED9-4C26-9305-B0A30BB98D18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AB05C6-F9C9-4D5D-B4DD-EB1588377F39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1D0ED4-62EC-4FA7-ABEB-66ACD699BE35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598320" y="134640"/>
            <a:ext cx="623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9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3086FF-5BC8-4094-BDEE-0EFE9B9B1603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B979DC-7824-4D5A-A7E6-DFD9251D663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AE21B-D49A-43FC-A22D-3784E5AB5CAB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89240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B4D613-F5C9-45F9-92DF-34863C161A6F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0F3737-1EBA-44B2-A7B2-5806798F2BFE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98040" y="37490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A2F285-27A1-4430-8051-7714F3F8076A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89240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4B1AF8-75B8-4A20-A567-9249CE460C80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46572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23340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69804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46572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623340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DC2244-48B9-4FCB-8531-1986842AE66C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3A8AC0-4B44-4CED-BC1D-C042F2EF9E53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7C64F4-EE08-4EB8-82F1-484AA4FD6126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A68C7A-05B3-4E9F-8392-09BA62E9481B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38ED2F-8454-40CA-B519-221569651BC2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E55E6F-6EC1-4A8A-A439-5660D3259C4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DD15E-9FB1-4127-925A-9AA84F41CD90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598320" y="134640"/>
            <a:ext cx="623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9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B032E8-8739-49AF-A092-32F9961614DD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268B8B-A7A9-4680-9C68-26804685C374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89240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3B6264-8EBD-47BE-82B1-8E37F213EF2A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1E10F8-EFA7-4CCA-8707-20D7C4BD3F9D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698040" y="37490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FF07F4-D45D-4620-8A6B-61C24BD076BA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89240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86EAC2-3BAB-445C-8DAF-9FA20F5C7631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46572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23340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69804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46572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23340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AF1A32-DC34-40C7-8E6F-8C7CA011B57F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C2A3C-FBA5-4A12-A244-EB9B0BDCCEB9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D8D69-A7AE-4B92-A473-0E4B2484DF66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5540F-85CD-4F37-8A23-F9CD6454F47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4C8C5-C937-45B5-9BC2-54122E1A6454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DDA3C-0DA9-4D8B-895A-B29823416922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36C98-D7E1-4234-B135-CF4DBEC67A57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598320" y="134640"/>
            <a:ext cx="623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9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B8DDB-80A3-4CAF-9858-711F94D5A8F3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36020A-82F2-4B86-A41C-B8139B1144DF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89240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A88A5-4425-4F64-8622-11139133084E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C003C-D7D9-45AF-97B7-DEB80F676887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698040" y="37490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994FE-7242-42A3-8C77-83EBEBB467F9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89240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F89BC-EF63-4C9D-8570-632CE27F56A6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46572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23340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69804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46572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623340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9C896-7946-437B-8FAD-5825E4B312B2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6C0868F-F2D0-4132-B0BD-D9CA0D49219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70848-9C21-4171-AC7E-FFD50CA40674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D38AE2A-B290-4D92-9889-9C70BA4649DA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E240D69-2C63-439B-9ED1-D83FA757858A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125CD75-224A-452C-A4C9-9C7F4EA308F4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F7EE00E-FC29-4897-9771-50C6D14153E4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598320" y="134640"/>
            <a:ext cx="623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9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185AAE7-58AF-4903-B2B8-56E93558BC5D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F9261E6-6033-4755-8946-23EA1AEE2E46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89240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5D9635B-E3AB-4994-B535-84FE0808AA54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549CD0A-C7BC-4555-8FF4-192765A394AF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698040" y="37490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0644B42-F9C4-4EC8-8681-2E1CA90C6C57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89240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F5531FD-628C-4EBA-899D-943914D1D1D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598320" y="134640"/>
            <a:ext cx="623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9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55500-6198-4A2F-9775-812E2B951D56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46572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23340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69804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46572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23340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D7CE7D5-F7B4-4509-9CF5-F98AE8746513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AE5A70-5C30-4E75-8853-6237B1B1C969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8B36D7-7FCC-421E-A748-07F347114D8B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635A1B-782D-4398-B59C-1067568111EE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69B0D8-43F7-4A91-A2B7-FD9437E3C0E4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88E5FE-7EFF-4BC7-948B-0006F9E4DA15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ubTitle"/>
          </p:nvPr>
        </p:nvSpPr>
        <p:spPr>
          <a:xfrm>
            <a:off x="598320" y="134640"/>
            <a:ext cx="623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9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708C4B-CF2A-4788-9156-619915D0571E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5576D8-F501-4BE4-9C41-D3EAF5530AE9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89240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133E8E-FC14-4A09-AA36-0EB8E5AFB4C3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95162F-1328-4C6D-9B80-B903F3F78EA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F0DAC-D1FF-4DA3-9AB4-579FF919E056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698040" y="37490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B41F31-5EE0-475A-B0A6-D4FA6288B467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89240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6331D6-18C1-4C9B-9198-93725972721A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346572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623340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69804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20" name="PlaceHolder 6"/>
          <p:cNvSpPr>
            <a:spLocks noGrp="1"/>
          </p:cNvSpPr>
          <p:nvPr>
            <p:ph/>
          </p:nvPr>
        </p:nvSpPr>
        <p:spPr>
          <a:xfrm>
            <a:off x="346572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21" name="PlaceHolder 7"/>
          <p:cNvSpPr>
            <a:spLocks noGrp="1"/>
          </p:cNvSpPr>
          <p:nvPr>
            <p:ph/>
          </p:nvPr>
        </p:nvSpPr>
        <p:spPr>
          <a:xfrm>
            <a:off x="623340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6A0D5F-867C-4D5B-9E54-7F828164454B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5DD2B6-BB92-46F2-8739-DA74D94F91C0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subTitle"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B2F84C-2754-44B3-A9D3-D6C3590604D5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3B44BD-9E47-4F93-9A8F-393362383FFF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6A1C7C-8850-44D2-B938-F324EF5840D8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38C65D-8E9B-4BC2-BEB3-65E7F73C2065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ubTitle"/>
          </p:nvPr>
        </p:nvSpPr>
        <p:spPr>
          <a:xfrm>
            <a:off x="598320" y="134640"/>
            <a:ext cx="623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9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567E17-A999-4795-86D7-6EA79065E7C4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7D91A-AC67-4517-BA91-FEDC83F86D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988B9-4186-4E52-85C3-CFAF079251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89240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CB768-8EE9-4966-ACE6-493EEC934262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89240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B75872-9F4A-4A41-8E1C-8308BA164BAF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EBFBFA-2F5D-406A-B48F-92E0F636DD05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698040" y="37490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DF40B5-6FF6-4E54-A073-06C5E8AAB780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89240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D0405D-E954-42AC-AAEE-CBB1218A740B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346572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623340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69804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59" name="PlaceHolder 6"/>
          <p:cNvSpPr>
            <a:spLocks noGrp="1"/>
          </p:cNvSpPr>
          <p:nvPr>
            <p:ph/>
          </p:nvPr>
        </p:nvSpPr>
        <p:spPr>
          <a:xfrm>
            <a:off x="346572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60" name="PlaceHolder 7"/>
          <p:cNvSpPr>
            <a:spLocks noGrp="1"/>
          </p:cNvSpPr>
          <p:nvPr>
            <p:ph/>
          </p:nvPr>
        </p:nvSpPr>
        <p:spPr>
          <a:xfrm>
            <a:off x="623340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9F7661-D47D-4377-8D45-8527B0C98D4D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ECB52D7-D914-4B74-8A00-74A0774E6CC9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6BA423A-36D0-40AA-8D19-6CCC38D571CF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0E8368D-51ED-4EF2-A92E-1E9AE285FE7B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AE2ACEB-5CA5-41CF-9FFB-C99E96539B08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612EF83-3840-46B4-AE98-E0E262A040B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8EDF5-B959-48A7-BF70-FD0532D637CE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598320" y="134640"/>
            <a:ext cx="623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9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65D883B-E575-4402-99AC-9947A5D9E940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3F0EBBF-A97E-432D-8535-4CE0216A9777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89240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DF0A41E-BC3C-4C94-A791-A6A09CA70898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B0AD385-D3AE-40B2-BD48-8B45A7767542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698040" y="37490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FC3752E-696C-4425-8F54-1BE39191B875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89240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0C75875-8C0A-4A95-BE99-FB414A250148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46572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23340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69804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46572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23340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50AD600-0876-451B-AE01-34E797C46E09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201098-D6C2-46BD-B54A-048632A9CEBF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subTitle"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41DA33-0F10-4100-BABC-E4B819BA2CBE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37BC15-8955-43AC-8CC1-0508B4F76DE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98040" y="37490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02953-6235-4F71-AE2A-C230070F668F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5E48F9-995E-4DDB-9315-5538865F5AAA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88126F-FD6A-4184-901E-AEAB3CF63218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ubTitle"/>
          </p:nvPr>
        </p:nvSpPr>
        <p:spPr>
          <a:xfrm>
            <a:off x="598320" y="134640"/>
            <a:ext cx="623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9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7497CC-897F-4B91-85C2-D935084621FC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69E156-B003-4B74-833F-6F2AF6C37294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89240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992F01-F4DC-464D-9A02-A9DC2982BB5D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14C9A1-9330-4872-B264-83E9E1DF506C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698040" y="37490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E74574-3958-4224-8181-A4B2EFF3E7DD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489240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1063F1-E139-4B31-BB17-8EEBEBC35246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346572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623340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69804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/>
          </p:nvPr>
        </p:nvSpPr>
        <p:spPr>
          <a:xfrm>
            <a:off x="346572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38" name="PlaceHolder 7"/>
          <p:cNvSpPr>
            <a:spLocks noGrp="1"/>
          </p:cNvSpPr>
          <p:nvPr>
            <p:ph/>
          </p:nvPr>
        </p:nvSpPr>
        <p:spPr>
          <a:xfrm>
            <a:off x="623340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55BE21-68E8-4A71-B85B-E1BBDE75DD42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698778-FCBC-4E8C-B5AC-8DE8FE979A5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89240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D7AFA-E5EE-4F53-AB8D-659BB1F40C06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subTitle"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4F9BB0-1C8B-41F2-940D-72F0E5479F01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9BE34C-420A-4131-AC8E-A546A06B45F9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C59FA8-7A66-4AB4-8D13-19CA4AB20667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2A54D7-4A89-4DCD-8164-EE27EA9B298D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ubTitle"/>
          </p:nvPr>
        </p:nvSpPr>
        <p:spPr>
          <a:xfrm>
            <a:off x="598320" y="134640"/>
            <a:ext cx="623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9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146F40-21BB-4392-AA8A-AC75F993F832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F326E6-7E53-4019-807D-B9AAB7321DE3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89240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297611-1F91-4BE1-B0CB-0C893D2861D7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B850B7-BF75-4A1E-BD8D-F0F2D67F7D8F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698040" y="37490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9B86E6-BE7D-4213-B9FB-2555902FC539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489240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A632F5-7721-47FF-AB31-07BD69BBC42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46572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3340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9804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46572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23340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14B1A-1050-4C1D-8C5C-CF9940A4A9C4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346572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623340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69804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76" name="PlaceHolder 6"/>
          <p:cNvSpPr>
            <a:spLocks noGrp="1"/>
          </p:cNvSpPr>
          <p:nvPr>
            <p:ph/>
          </p:nvPr>
        </p:nvSpPr>
        <p:spPr>
          <a:xfrm>
            <a:off x="346572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77" name="PlaceHolder 7"/>
          <p:cNvSpPr>
            <a:spLocks noGrp="1"/>
          </p:cNvSpPr>
          <p:nvPr>
            <p:ph/>
          </p:nvPr>
        </p:nvSpPr>
        <p:spPr>
          <a:xfrm>
            <a:off x="623340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52A976-4425-45F3-BE74-6A7796197F2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E9FC0-C87E-4743-B6D8-2B04DC962EF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598320" y="134640"/>
            <a:ext cx="623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9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89240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98040" y="37490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89240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46572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23340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9804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46572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23340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84339-87E6-4B7D-8AE3-902AF168DD9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598320" y="134640"/>
            <a:ext cx="623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9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89240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98040" y="37490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89240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46572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23340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9804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46572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23340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6A5C-20DD-4121-9825-C53C723523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48049-9EE5-4335-B150-8430B869786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1951-A27B-4280-8F43-2371975FA1B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8045-EB6E-4CAE-B811-F0214E830D8B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20AC-A4EE-4166-B3BC-BF36AD51262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338D-D1D7-4307-A841-7C267D9C9BD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598320" y="134640"/>
            <a:ext cx="623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9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CAC0-A23B-45E4-B11D-38EFC85AA6E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9454-6E5F-49E5-8B81-2CF6EC085B2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89240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7154-3911-43BB-8D12-C9D4FDF35E3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CDED-03D6-4293-9909-808B2F55088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98040" y="37490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E977-A238-4A25-BFD1-12473739E3A9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89240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D04B-8FDE-476B-8884-55EF1CD1E6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98320" y="134640"/>
            <a:ext cx="623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9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DCDB0-5C7B-46DE-B4D3-16DAA4C0B3A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46572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23340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69804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46572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23340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C75C-BC79-4806-816C-2A98F7A8E50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2CA2F4-5FCC-4E5A-8CB2-1D44EA30A4B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D7444D-E4E7-455C-A394-AEC6765B0449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F7B977-D52F-440F-A48F-26C05235659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4800BF-10A0-4A62-80B9-8369AF40554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407E57-5DDD-40E1-B3B9-86AB710A179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598320" y="134640"/>
            <a:ext cx="623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9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B9A668-F40B-4935-9E45-F5CA73A7880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24F955-D23E-49B2-8C3A-20D1D86FCC3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89240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5FA18B-96A0-4A24-BE35-F497770149B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9754D1-678E-4166-94CD-6D41DE8FD5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571DE-E946-4989-BC8F-75B745B5D31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98040" y="37490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650AF8-3E23-4F13-8C5F-6EA9D01CCE3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89240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63F280-1B37-490A-962A-D8C43DB4CC2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46572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23340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69804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46572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23340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A6568B-D015-46AB-B318-B905181BB63F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B8BDD6-A546-42E1-AAA4-2BAB101D34E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F5AFD9-C3FC-4AAD-95DC-72A7B7D0F0A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2F8B6F-3BE7-4BE3-8336-302111B47B3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C5597F-2F64-4C03-B39E-3BEA7430114E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6B863B-C6DB-4DB4-817C-C0467D13299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598320" y="134640"/>
            <a:ext cx="623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9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8F2398-B62F-485D-B3E6-9C9C172F4D0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FFA6E7-ACB1-4249-9043-B673F44DA1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9240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5F73A-89FE-4A35-A27B-AEF789B297C9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89240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B48EF1-2BF3-451B-9CEC-A2F7D8E2F15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7E8AD0-FAE5-4AC6-977F-F4E8BBCB933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98040" y="37490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62E673-5D2D-486E-80BC-A998457483E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89240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E34101-5869-4D18-AC5F-5341456743A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46572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3340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69804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46572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23340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FB8093-1C1C-4EA1-AA4A-0053A9DE7149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DD6D7-7F32-4BD8-A7B6-5BAE44361583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E91D6-4B8F-4771-82EB-5B730393CB67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6B52D-EB5D-43CE-892E-CD759B708434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4E7BD-0599-45F6-A410-302EAF718548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DD94D-6429-4882-BAB0-625658E2A5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706E0-2547-4277-A230-4AF331651E76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598320" y="134640"/>
            <a:ext cx="623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9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72773-1A21-43E7-A0ED-464C256921D6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2EB51-4EC9-48CF-854A-13B99E5FE692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89240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C3CA5-25C6-4686-8AA0-6F63495BC50F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1C7F2-6A00-4D7C-9086-54B01F48EE4F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98040" y="37490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6D70D-0E29-4771-8F6F-42EED4E800EA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89240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B72D8-8D76-4932-8E54-5E529BA552D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46572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23340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69804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46572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23340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8B885-DDFB-45AC-9728-EF3033FFD0A8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394132-9FD4-443A-A2BE-A3DE4651367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3FE304-D7CA-4ADA-93BC-E662D0850353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53A00E-4269-4836-B7A1-989D6D5F95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09.xml"/><Relationship Id="rId11" Type="http://schemas.openxmlformats.org/officeDocument/2006/relationships/slideLayout" Target="../slideLayouts/slideLayout110.xml"/><Relationship Id="rId12" Type="http://schemas.openxmlformats.org/officeDocument/2006/relationships/slideLayout" Target="../slideLayouts/slideLayout111.xml"/><Relationship Id="rId13" Type="http://schemas.openxmlformats.org/officeDocument/2006/relationships/slideLayout" Target="../slideLayouts/slideLayout112.xml"/><Relationship Id="rId14" Type="http://schemas.openxmlformats.org/officeDocument/2006/relationships/slideLayout" Target="../slideLayouts/slideLayout113.xml"/><Relationship Id="rId15" Type="http://schemas.openxmlformats.org/officeDocument/2006/relationships/slideLayout" Target="../slideLayouts/slideLayout114.xml"/><Relationship Id="rId16" Type="http://schemas.openxmlformats.org/officeDocument/2006/relationships/slideLayout" Target="../slideLayouts/slideLayout115.xml"/><Relationship Id="rId17" Type="http://schemas.openxmlformats.org/officeDocument/2006/relationships/slideLayout" Target="../slideLayouts/slideLayout116.xml"/><Relationship Id="rId18" Type="http://schemas.openxmlformats.org/officeDocument/2006/relationships/slideLayout" Target="../slideLayouts/slideLayout117.xml"/><Relationship Id="rId19" Type="http://schemas.openxmlformats.org/officeDocument/2006/relationships/slideLayout" Target="../slideLayouts/slideLayout118.xml"/><Relationship Id="rId20" Type="http://schemas.openxmlformats.org/officeDocument/2006/relationships/slideLayout" Target="../slideLayouts/slideLayout119.xml"/><Relationship Id="rId21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21.xml"/><Relationship Id="rId11" Type="http://schemas.openxmlformats.org/officeDocument/2006/relationships/slideLayout" Target="../slideLayouts/slideLayout122.xml"/><Relationship Id="rId12" Type="http://schemas.openxmlformats.org/officeDocument/2006/relationships/slideLayout" Target="../slideLayouts/slideLayout123.xml"/><Relationship Id="rId13" Type="http://schemas.openxmlformats.org/officeDocument/2006/relationships/slideLayout" Target="../slideLayouts/slideLayout124.xml"/><Relationship Id="rId14" Type="http://schemas.openxmlformats.org/officeDocument/2006/relationships/slideLayout" Target="../slideLayouts/slideLayout125.xml"/><Relationship Id="rId15" Type="http://schemas.openxmlformats.org/officeDocument/2006/relationships/slideLayout" Target="../slideLayouts/slideLayout126.xml"/><Relationship Id="rId16" Type="http://schemas.openxmlformats.org/officeDocument/2006/relationships/slideLayout" Target="../slideLayouts/slideLayout127.xml"/><Relationship Id="rId17" Type="http://schemas.openxmlformats.org/officeDocument/2006/relationships/slideLayout" Target="../slideLayouts/slideLayout128.xml"/><Relationship Id="rId18" Type="http://schemas.openxmlformats.org/officeDocument/2006/relationships/slideLayout" Target="../slideLayouts/slideLayout129.xml"/><Relationship Id="rId19" Type="http://schemas.openxmlformats.org/officeDocument/2006/relationships/slideLayout" Target="../slideLayouts/slideLayout130.xml"/><Relationship Id="rId20" Type="http://schemas.openxmlformats.org/officeDocument/2006/relationships/slideLayout" Target="../slideLayouts/slideLayout131.xml"/><Relationship Id="rId21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33.xml"/><Relationship Id="rId11" Type="http://schemas.openxmlformats.org/officeDocument/2006/relationships/slideLayout" Target="../slideLayouts/slideLayout134.xml"/><Relationship Id="rId12" Type="http://schemas.openxmlformats.org/officeDocument/2006/relationships/slideLayout" Target="../slideLayouts/slideLayout135.xml"/><Relationship Id="rId13" Type="http://schemas.openxmlformats.org/officeDocument/2006/relationships/slideLayout" Target="../slideLayouts/slideLayout136.xml"/><Relationship Id="rId14" Type="http://schemas.openxmlformats.org/officeDocument/2006/relationships/slideLayout" Target="../slideLayouts/slideLayout137.xml"/><Relationship Id="rId15" Type="http://schemas.openxmlformats.org/officeDocument/2006/relationships/slideLayout" Target="../slideLayouts/slideLayout138.xml"/><Relationship Id="rId16" Type="http://schemas.openxmlformats.org/officeDocument/2006/relationships/slideLayout" Target="../slideLayouts/slideLayout139.xml"/><Relationship Id="rId17" Type="http://schemas.openxmlformats.org/officeDocument/2006/relationships/slideLayout" Target="../slideLayouts/slideLayout140.xml"/><Relationship Id="rId18" Type="http://schemas.openxmlformats.org/officeDocument/2006/relationships/slideLayout" Target="../slideLayouts/slideLayout141.xml"/><Relationship Id="rId19" Type="http://schemas.openxmlformats.org/officeDocument/2006/relationships/slideLayout" Target="../slideLayouts/slideLayout142.xml"/><Relationship Id="rId20" Type="http://schemas.openxmlformats.org/officeDocument/2006/relationships/slideLayout" Target="../slideLayouts/slideLayout143.xml"/><Relationship Id="rId21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45.xml"/><Relationship Id="rId11" Type="http://schemas.openxmlformats.org/officeDocument/2006/relationships/slideLayout" Target="../slideLayouts/slideLayout146.xml"/><Relationship Id="rId12" Type="http://schemas.openxmlformats.org/officeDocument/2006/relationships/slideLayout" Target="../slideLayouts/slideLayout147.xml"/><Relationship Id="rId13" Type="http://schemas.openxmlformats.org/officeDocument/2006/relationships/slideLayout" Target="../slideLayouts/slideLayout148.xml"/><Relationship Id="rId14" Type="http://schemas.openxmlformats.org/officeDocument/2006/relationships/slideLayout" Target="../slideLayouts/slideLayout149.xml"/><Relationship Id="rId15" Type="http://schemas.openxmlformats.org/officeDocument/2006/relationships/slideLayout" Target="../slideLayouts/slideLayout150.xml"/><Relationship Id="rId16" Type="http://schemas.openxmlformats.org/officeDocument/2006/relationships/slideLayout" Target="../slideLayouts/slideLayout151.xml"/><Relationship Id="rId17" Type="http://schemas.openxmlformats.org/officeDocument/2006/relationships/slideLayout" Target="../slideLayouts/slideLayout152.xml"/><Relationship Id="rId18" Type="http://schemas.openxmlformats.org/officeDocument/2006/relationships/slideLayout" Target="../slideLayouts/slideLayout153.xml"/><Relationship Id="rId19" Type="http://schemas.openxmlformats.org/officeDocument/2006/relationships/slideLayout" Target="../slideLayouts/slideLayout154.xml"/><Relationship Id="rId20" Type="http://schemas.openxmlformats.org/officeDocument/2006/relationships/slideLayout" Target="../slideLayouts/slideLayout155.xml"/><Relationship Id="rId21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57.xml"/><Relationship Id="rId11" Type="http://schemas.openxmlformats.org/officeDocument/2006/relationships/slideLayout" Target="../slideLayouts/slideLayout158.xml"/><Relationship Id="rId12" Type="http://schemas.openxmlformats.org/officeDocument/2006/relationships/slideLayout" Target="../slideLayouts/slideLayout159.xml"/><Relationship Id="rId13" Type="http://schemas.openxmlformats.org/officeDocument/2006/relationships/slideLayout" Target="../slideLayouts/slideLayout160.xml"/><Relationship Id="rId14" Type="http://schemas.openxmlformats.org/officeDocument/2006/relationships/slideLayout" Target="../slideLayouts/slideLayout161.xml"/><Relationship Id="rId15" Type="http://schemas.openxmlformats.org/officeDocument/2006/relationships/slideLayout" Target="../slideLayouts/slideLayout162.xml"/><Relationship Id="rId16" Type="http://schemas.openxmlformats.org/officeDocument/2006/relationships/slideLayout" Target="../slideLayouts/slideLayout163.xml"/><Relationship Id="rId17" Type="http://schemas.openxmlformats.org/officeDocument/2006/relationships/slideLayout" Target="../slideLayouts/slideLayout164.xml"/><Relationship Id="rId18" Type="http://schemas.openxmlformats.org/officeDocument/2006/relationships/slideLayout" Target="../slideLayouts/slideLayout165.xml"/><Relationship Id="rId19" Type="http://schemas.openxmlformats.org/officeDocument/2006/relationships/slideLayout" Target="../slideLayouts/slideLayout166.xml"/><Relationship Id="rId20" Type="http://schemas.openxmlformats.org/officeDocument/2006/relationships/slideLayout" Target="../slideLayouts/slideLayout167.xml"/><Relationship Id="rId21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69.xml"/><Relationship Id="rId11" Type="http://schemas.openxmlformats.org/officeDocument/2006/relationships/slideLayout" Target="../slideLayouts/slideLayout170.xml"/><Relationship Id="rId12" Type="http://schemas.openxmlformats.org/officeDocument/2006/relationships/slideLayout" Target="../slideLayouts/slideLayout171.xml"/><Relationship Id="rId13" Type="http://schemas.openxmlformats.org/officeDocument/2006/relationships/slideLayout" Target="../slideLayouts/slideLayout172.xml"/><Relationship Id="rId14" Type="http://schemas.openxmlformats.org/officeDocument/2006/relationships/slideLayout" Target="../slideLayouts/slideLayout173.xml"/><Relationship Id="rId15" Type="http://schemas.openxmlformats.org/officeDocument/2006/relationships/slideLayout" Target="../slideLayouts/slideLayout174.xml"/><Relationship Id="rId16" Type="http://schemas.openxmlformats.org/officeDocument/2006/relationships/slideLayout" Target="../slideLayouts/slideLayout175.xml"/><Relationship Id="rId17" Type="http://schemas.openxmlformats.org/officeDocument/2006/relationships/slideLayout" Target="../slideLayouts/slideLayout176.xml"/><Relationship Id="rId18" Type="http://schemas.openxmlformats.org/officeDocument/2006/relationships/slideLayout" Target="../slideLayouts/slideLayout177.xml"/><Relationship Id="rId19" Type="http://schemas.openxmlformats.org/officeDocument/2006/relationships/slideLayout" Target="../slideLayouts/slideLayout178.xml"/><Relationship Id="rId20" Type="http://schemas.openxmlformats.org/officeDocument/2006/relationships/slideLayout" Target="../slideLayouts/slideLayout179.xml"/><Relationship Id="rId21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81.xml"/><Relationship Id="rId11" Type="http://schemas.openxmlformats.org/officeDocument/2006/relationships/slideLayout" Target="../slideLayouts/slideLayout182.xml"/><Relationship Id="rId12" Type="http://schemas.openxmlformats.org/officeDocument/2006/relationships/slideLayout" Target="../slideLayouts/slideLayout183.xml"/><Relationship Id="rId13" Type="http://schemas.openxmlformats.org/officeDocument/2006/relationships/slideLayout" Target="../slideLayouts/slideLayout184.xml"/><Relationship Id="rId14" Type="http://schemas.openxmlformats.org/officeDocument/2006/relationships/slideLayout" Target="../slideLayouts/slideLayout185.xml"/><Relationship Id="rId15" Type="http://schemas.openxmlformats.org/officeDocument/2006/relationships/slideLayout" Target="../slideLayouts/slideLayout186.xml"/><Relationship Id="rId16" Type="http://schemas.openxmlformats.org/officeDocument/2006/relationships/slideLayout" Target="../slideLayouts/slideLayout187.xml"/><Relationship Id="rId17" Type="http://schemas.openxmlformats.org/officeDocument/2006/relationships/slideLayout" Target="../slideLayouts/slideLayout188.xml"/><Relationship Id="rId18" Type="http://schemas.openxmlformats.org/officeDocument/2006/relationships/slideLayout" Target="../slideLayouts/slideLayout189.xml"/><Relationship Id="rId19" Type="http://schemas.openxmlformats.org/officeDocument/2006/relationships/slideLayout" Target="../slideLayouts/slideLayout190.xml"/><Relationship Id="rId20" Type="http://schemas.openxmlformats.org/officeDocument/2006/relationships/slideLayout" Target="../slideLayouts/slideLayout191.xml"/><Relationship Id="rId21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93.xml"/><Relationship Id="rId11" Type="http://schemas.openxmlformats.org/officeDocument/2006/relationships/slideLayout" Target="../slideLayouts/slideLayout194.xml"/><Relationship Id="rId12" Type="http://schemas.openxmlformats.org/officeDocument/2006/relationships/slideLayout" Target="../slideLayouts/slideLayout195.xml"/><Relationship Id="rId13" Type="http://schemas.openxmlformats.org/officeDocument/2006/relationships/slideLayout" Target="../slideLayouts/slideLayout196.xml"/><Relationship Id="rId14" Type="http://schemas.openxmlformats.org/officeDocument/2006/relationships/slideLayout" Target="../slideLayouts/slideLayout197.xml"/><Relationship Id="rId15" Type="http://schemas.openxmlformats.org/officeDocument/2006/relationships/slideLayout" Target="../slideLayouts/slideLayout198.xml"/><Relationship Id="rId16" Type="http://schemas.openxmlformats.org/officeDocument/2006/relationships/slideLayout" Target="../slideLayouts/slideLayout199.xml"/><Relationship Id="rId17" Type="http://schemas.openxmlformats.org/officeDocument/2006/relationships/slideLayout" Target="../slideLayouts/slideLayout200.xml"/><Relationship Id="rId18" Type="http://schemas.openxmlformats.org/officeDocument/2006/relationships/slideLayout" Target="../slideLayouts/slideLayout201.xml"/><Relationship Id="rId19" Type="http://schemas.openxmlformats.org/officeDocument/2006/relationships/slideLayout" Target="../slideLayouts/slideLayout202.xml"/><Relationship Id="rId20" Type="http://schemas.openxmlformats.org/officeDocument/2006/relationships/slideLayout" Target="../slideLayouts/slideLayout203.xml"/><Relationship Id="rId21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05.xml"/><Relationship Id="rId11" Type="http://schemas.openxmlformats.org/officeDocument/2006/relationships/slideLayout" Target="../slideLayouts/slideLayout206.xml"/><Relationship Id="rId12" Type="http://schemas.openxmlformats.org/officeDocument/2006/relationships/slideLayout" Target="../slideLayouts/slideLayout207.xml"/><Relationship Id="rId13" Type="http://schemas.openxmlformats.org/officeDocument/2006/relationships/slideLayout" Target="../slideLayouts/slideLayout208.xml"/><Relationship Id="rId14" Type="http://schemas.openxmlformats.org/officeDocument/2006/relationships/slideLayout" Target="../slideLayouts/slideLayout209.xml"/><Relationship Id="rId15" Type="http://schemas.openxmlformats.org/officeDocument/2006/relationships/slideLayout" Target="../slideLayouts/slideLayout210.xml"/><Relationship Id="rId16" Type="http://schemas.openxmlformats.org/officeDocument/2006/relationships/slideLayout" Target="../slideLayouts/slideLayout211.xml"/><Relationship Id="rId17" Type="http://schemas.openxmlformats.org/officeDocument/2006/relationships/slideLayout" Target="../slideLayouts/slideLayout212.xml"/><Relationship Id="rId18" Type="http://schemas.openxmlformats.org/officeDocument/2006/relationships/slideLayout" Target="../slideLayouts/slideLayout213.xml"/><Relationship Id="rId19" Type="http://schemas.openxmlformats.org/officeDocument/2006/relationships/slideLayout" Target="../slideLayouts/slideLayout214.xml"/><Relationship Id="rId20" Type="http://schemas.openxmlformats.org/officeDocument/2006/relationships/slideLayout" Target="../slideLayouts/slideLayout215.xml"/><Relationship Id="rId21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17.xml"/><Relationship Id="rId11" Type="http://schemas.openxmlformats.org/officeDocument/2006/relationships/slideLayout" Target="../slideLayouts/slideLayout218.xml"/><Relationship Id="rId12" Type="http://schemas.openxmlformats.org/officeDocument/2006/relationships/slideLayout" Target="../slideLayouts/slideLayout219.xml"/><Relationship Id="rId13" Type="http://schemas.openxmlformats.org/officeDocument/2006/relationships/slideLayout" Target="../slideLayouts/slideLayout220.xml"/><Relationship Id="rId14" Type="http://schemas.openxmlformats.org/officeDocument/2006/relationships/slideLayout" Target="../slideLayouts/slideLayout221.xml"/><Relationship Id="rId15" Type="http://schemas.openxmlformats.org/officeDocument/2006/relationships/slideLayout" Target="../slideLayouts/slideLayout222.xml"/><Relationship Id="rId16" Type="http://schemas.openxmlformats.org/officeDocument/2006/relationships/slideLayout" Target="../slideLayouts/slideLayout223.xml"/><Relationship Id="rId17" Type="http://schemas.openxmlformats.org/officeDocument/2006/relationships/slideLayout" Target="../slideLayouts/slideLayout224.xml"/><Relationship Id="rId18" Type="http://schemas.openxmlformats.org/officeDocument/2006/relationships/slideLayout" Target="../slideLayouts/slideLayout225.xml"/><Relationship Id="rId19" Type="http://schemas.openxmlformats.org/officeDocument/2006/relationships/slideLayout" Target="../slideLayouts/slideLayout226.xml"/><Relationship Id="rId20" Type="http://schemas.openxmlformats.org/officeDocument/2006/relationships/slideLayout" Target="../slideLayouts/slideLayout227.xml"/><Relationship Id="rId21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29.xml"/><Relationship Id="rId11" Type="http://schemas.openxmlformats.org/officeDocument/2006/relationships/slideLayout" Target="../slideLayouts/slideLayout230.xml"/><Relationship Id="rId12" Type="http://schemas.openxmlformats.org/officeDocument/2006/relationships/slideLayout" Target="../slideLayouts/slideLayout231.xml"/><Relationship Id="rId13" Type="http://schemas.openxmlformats.org/officeDocument/2006/relationships/slideLayout" Target="../slideLayouts/slideLayout232.xml"/><Relationship Id="rId14" Type="http://schemas.openxmlformats.org/officeDocument/2006/relationships/slideLayout" Target="../slideLayouts/slideLayout233.xml"/><Relationship Id="rId15" Type="http://schemas.openxmlformats.org/officeDocument/2006/relationships/slideLayout" Target="../slideLayouts/slideLayout234.xml"/><Relationship Id="rId16" Type="http://schemas.openxmlformats.org/officeDocument/2006/relationships/slideLayout" Target="../slideLayouts/slideLayout235.xml"/><Relationship Id="rId17" Type="http://schemas.openxmlformats.org/officeDocument/2006/relationships/slideLayout" Target="../slideLayouts/slideLayout236.xml"/><Relationship Id="rId18" Type="http://schemas.openxmlformats.org/officeDocument/2006/relationships/slideLayout" Target="../slideLayouts/slideLayout237.xml"/><Relationship Id="rId19" Type="http://schemas.openxmlformats.org/officeDocument/2006/relationships/slideLayout" Target="../slideLayouts/slideLayout238.xml"/><Relationship Id="rId20" Type="http://schemas.openxmlformats.org/officeDocument/2006/relationships/slideLayout" Target="../slideLayouts/slideLayout239.xml"/><Relationship Id="rId21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49.xml"/><Relationship Id="rId11" Type="http://schemas.openxmlformats.org/officeDocument/2006/relationships/slideLayout" Target="../slideLayouts/slideLayout50.xml"/><Relationship Id="rId12" Type="http://schemas.openxmlformats.org/officeDocument/2006/relationships/slideLayout" Target="../slideLayouts/slideLayout51.xml"/><Relationship Id="rId13" Type="http://schemas.openxmlformats.org/officeDocument/2006/relationships/slideLayout" Target="../slideLayouts/slideLayout52.xml"/><Relationship Id="rId14" Type="http://schemas.openxmlformats.org/officeDocument/2006/relationships/slideLayout" Target="../slideLayouts/slideLayout53.xml"/><Relationship Id="rId15" Type="http://schemas.openxmlformats.org/officeDocument/2006/relationships/slideLayout" Target="../slideLayouts/slideLayout54.xml"/><Relationship Id="rId16" Type="http://schemas.openxmlformats.org/officeDocument/2006/relationships/slideLayout" Target="../slideLayouts/slideLayout55.xml"/><Relationship Id="rId17" Type="http://schemas.openxmlformats.org/officeDocument/2006/relationships/slideLayout" Target="../slideLayouts/slideLayout56.xml"/><Relationship Id="rId18" Type="http://schemas.openxmlformats.org/officeDocument/2006/relationships/slideLayout" Target="../slideLayouts/slideLayout57.xml"/><Relationship Id="rId19" Type="http://schemas.openxmlformats.org/officeDocument/2006/relationships/slideLayout" Target="../slideLayouts/slideLayout58.xml"/><Relationship Id="rId20" Type="http://schemas.openxmlformats.org/officeDocument/2006/relationships/slideLayout" Target="../slideLayouts/slideLayout59.xml"/><Relationship Id="rId21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61.xml"/><Relationship Id="rId11" Type="http://schemas.openxmlformats.org/officeDocument/2006/relationships/slideLayout" Target="../slideLayouts/slideLayout62.xml"/><Relationship Id="rId12" Type="http://schemas.openxmlformats.org/officeDocument/2006/relationships/slideLayout" Target="../slideLayouts/slideLayout63.xml"/><Relationship Id="rId13" Type="http://schemas.openxmlformats.org/officeDocument/2006/relationships/slideLayout" Target="../slideLayouts/slideLayout64.xml"/><Relationship Id="rId14" Type="http://schemas.openxmlformats.org/officeDocument/2006/relationships/slideLayout" Target="../slideLayouts/slideLayout65.xml"/><Relationship Id="rId15" Type="http://schemas.openxmlformats.org/officeDocument/2006/relationships/slideLayout" Target="../slideLayouts/slideLayout66.xml"/><Relationship Id="rId16" Type="http://schemas.openxmlformats.org/officeDocument/2006/relationships/slideLayout" Target="../slideLayouts/slideLayout67.xml"/><Relationship Id="rId17" Type="http://schemas.openxmlformats.org/officeDocument/2006/relationships/slideLayout" Target="../slideLayouts/slideLayout68.xml"/><Relationship Id="rId18" Type="http://schemas.openxmlformats.org/officeDocument/2006/relationships/slideLayout" Target="../slideLayouts/slideLayout69.xml"/><Relationship Id="rId19" Type="http://schemas.openxmlformats.org/officeDocument/2006/relationships/slideLayout" Target="../slideLayouts/slideLayout70.xml"/><Relationship Id="rId20" Type="http://schemas.openxmlformats.org/officeDocument/2006/relationships/slideLayout" Target="../slideLayouts/slideLayout71.xml"/><Relationship Id="rId21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73.xml"/><Relationship Id="rId11" Type="http://schemas.openxmlformats.org/officeDocument/2006/relationships/slideLayout" Target="../slideLayouts/slideLayout74.xml"/><Relationship Id="rId12" Type="http://schemas.openxmlformats.org/officeDocument/2006/relationships/slideLayout" Target="../slideLayouts/slideLayout75.xml"/><Relationship Id="rId13" Type="http://schemas.openxmlformats.org/officeDocument/2006/relationships/slideLayout" Target="../slideLayouts/slideLayout76.xml"/><Relationship Id="rId14" Type="http://schemas.openxmlformats.org/officeDocument/2006/relationships/slideLayout" Target="../slideLayouts/slideLayout77.xml"/><Relationship Id="rId15" Type="http://schemas.openxmlformats.org/officeDocument/2006/relationships/slideLayout" Target="../slideLayouts/slideLayout78.xml"/><Relationship Id="rId16" Type="http://schemas.openxmlformats.org/officeDocument/2006/relationships/slideLayout" Target="../slideLayouts/slideLayout79.xml"/><Relationship Id="rId17" Type="http://schemas.openxmlformats.org/officeDocument/2006/relationships/slideLayout" Target="../slideLayouts/slideLayout80.xml"/><Relationship Id="rId18" Type="http://schemas.openxmlformats.org/officeDocument/2006/relationships/slideLayout" Target="../slideLayouts/slideLayout81.xml"/><Relationship Id="rId19" Type="http://schemas.openxmlformats.org/officeDocument/2006/relationships/slideLayout" Target="../slideLayouts/slideLayout82.xml"/><Relationship Id="rId20" Type="http://schemas.openxmlformats.org/officeDocument/2006/relationships/slideLayout" Target="../slideLayouts/slideLayout83.xml"/><Relationship Id="rId21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85.xml"/><Relationship Id="rId11" Type="http://schemas.openxmlformats.org/officeDocument/2006/relationships/slideLayout" Target="../slideLayouts/slideLayout86.xml"/><Relationship Id="rId12" Type="http://schemas.openxmlformats.org/officeDocument/2006/relationships/slideLayout" Target="../slideLayouts/slideLayout87.xml"/><Relationship Id="rId13" Type="http://schemas.openxmlformats.org/officeDocument/2006/relationships/slideLayout" Target="../slideLayouts/slideLayout88.xml"/><Relationship Id="rId14" Type="http://schemas.openxmlformats.org/officeDocument/2006/relationships/slideLayout" Target="../slideLayouts/slideLayout89.xml"/><Relationship Id="rId15" Type="http://schemas.openxmlformats.org/officeDocument/2006/relationships/slideLayout" Target="../slideLayouts/slideLayout90.xml"/><Relationship Id="rId16" Type="http://schemas.openxmlformats.org/officeDocument/2006/relationships/slideLayout" Target="../slideLayouts/slideLayout91.xml"/><Relationship Id="rId17" Type="http://schemas.openxmlformats.org/officeDocument/2006/relationships/slideLayout" Target="../slideLayouts/slideLayout92.xml"/><Relationship Id="rId18" Type="http://schemas.openxmlformats.org/officeDocument/2006/relationships/slideLayout" Target="../slideLayouts/slideLayout93.xml"/><Relationship Id="rId19" Type="http://schemas.openxmlformats.org/officeDocument/2006/relationships/slideLayout" Target="../slideLayouts/slideLayout94.xml"/><Relationship Id="rId20" Type="http://schemas.openxmlformats.org/officeDocument/2006/relationships/slideLayout" Target="../slideLayouts/slideLayout95.xml"/><Relationship Id="rId21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97.xml"/><Relationship Id="rId11" Type="http://schemas.openxmlformats.org/officeDocument/2006/relationships/slideLayout" Target="../slideLayouts/slideLayout98.xml"/><Relationship Id="rId12" Type="http://schemas.openxmlformats.org/officeDocument/2006/relationships/slideLayout" Target="../slideLayouts/slideLayout99.xml"/><Relationship Id="rId13" Type="http://schemas.openxmlformats.org/officeDocument/2006/relationships/slideLayout" Target="../slideLayouts/slideLayout100.xml"/><Relationship Id="rId14" Type="http://schemas.openxmlformats.org/officeDocument/2006/relationships/slideLayout" Target="../slideLayouts/slideLayout101.xml"/><Relationship Id="rId15" Type="http://schemas.openxmlformats.org/officeDocument/2006/relationships/slideLayout" Target="../slideLayouts/slideLayout102.xml"/><Relationship Id="rId16" Type="http://schemas.openxmlformats.org/officeDocument/2006/relationships/slideLayout" Target="../slideLayouts/slideLayout103.xml"/><Relationship Id="rId17" Type="http://schemas.openxmlformats.org/officeDocument/2006/relationships/slideLayout" Target="../slideLayouts/slideLayout104.xml"/><Relationship Id="rId18" Type="http://schemas.openxmlformats.org/officeDocument/2006/relationships/slideLayout" Target="../slideLayouts/slideLayout105.xml"/><Relationship Id="rId19" Type="http://schemas.openxmlformats.org/officeDocument/2006/relationships/slideLayout" Target="../slideLayouts/slideLayout106.xml"/><Relationship Id="rId20" Type="http://schemas.openxmlformats.org/officeDocument/2006/relationships/slideLayout" Target="../slideLayouts/slideLayout107.xml"/><Relationship Id="rId21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6120" indent="-276120">
              <a:spcAft>
                <a:spcPts val="975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1" marL="530280" indent="-252360">
              <a:spcAft>
                <a:spcPts val="975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2" marL="808200" indent="-276480">
              <a:spcAft>
                <a:spcPts val="975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3" marL="1062000" indent="-252360">
              <a:spcAft>
                <a:spcPts val="975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4" marL="1347840" indent="-284040">
              <a:spcAft>
                <a:spcPts val="975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5" marL="1347840" indent="-284040">
              <a:spcAft>
                <a:spcPts val="975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6" marL="1347840" indent="-284040">
              <a:spcAft>
                <a:spcPts val="975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143560" y="6330600"/>
            <a:ext cx="576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1F5FA-6FA1-4F72-BC4F-9A384B93FCEB}" type="slidenum"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811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6120" indent="-276120">
              <a:spcAft>
                <a:spcPts val="975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1" marL="530280" indent="-252360">
              <a:spcAft>
                <a:spcPts val="975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2" marL="808200" indent="-276480">
              <a:spcAft>
                <a:spcPts val="975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3" marL="1062000" indent="-252360">
              <a:spcAft>
                <a:spcPts val="975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4" marL="1347840" indent="-284040">
              <a:spcAft>
                <a:spcPts val="975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5" marL="1347840" indent="-284040">
              <a:spcAft>
                <a:spcPts val="975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6" marL="1347840" indent="-284040">
              <a:spcAft>
                <a:spcPts val="975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811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sldNum" idx="8"/>
          </p:nvPr>
        </p:nvSpPr>
        <p:spPr>
          <a:xfrm>
            <a:off x="8143560" y="6330600"/>
            <a:ext cx="576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721C3-0C0C-4E3C-B4F7-E6BB725349DD}" type="slidenum"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10"/>
    <p:sldLayoutId id="2147483767" r:id="rId11"/>
    <p:sldLayoutId id="2147483768" r:id="rId12"/>
    <p:sldLayoutId id="2147483769" r:id="rId13"/>
    <p:sldLayoutId id="2147483770" r:id="rId14"/>
    <p:sldLayoutId id="2147483771" r:id="rId15"/>
    <p:sldLayoutId id="2147483772" r:id="rId16"/>
    <p:sldLayoutId id="2147483773" r:id="rId17"/>
    <p:sldLayoutId id="2147483774" r:id="rId18"/>
    <p:sldLayoutId id="2147483775" r:id="rId19"/>
    <p:sldLayoutId id="2147483776" r:id="rId20"/>
    <p:sldLayoutId id="2147483777" r:id="rId21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body"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6120" indent="-276120">
              <a:spcAft>
                <a:spcPts val="975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1" marL="530280" indent="-252360">
              <a:spcAft>
                <a:spcPts val="975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2" marL="808200" indent="-276480">
              <a:spcAft>
                <a:spcPts val="975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3" marL="1062000" indent="-252360">
              <a:spcAft>
                <a:spcPts val="975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4" marL="1347840" indent="-284040">
              <a:spcAft>
                <a:spcPts val="975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5" marL="1347840" indent="-284040">
              <a:spcAft>
                <a:spcPts val="975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6" marL="1347840" indent="-284040">
              <a:spcAft>
                <a:spcPts val="975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811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sldNum" idx="9"/>
          </p:nvPr>
        </p:nvSpPr>
        <p:spPr>
          <a:xfrm>
            <a:off x="8143560" y="6330600"/>
            <a:ext cx="576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D2272-D70B-4561-BFAC-F638CDCC19F5}" type="slidenum"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10"/>
    <p:sldLayoutId id="2147483780" r:id="rId11"/>
    <p:sldLayoutId id="2147483781" r:id="rId12"/>
    <p:sldLayoutId id="2147483782" r:id="rId13"/>
    <p:sldLayoutId id="2147483783" r:id="rId14"/>
    <p:sldLayoutId id="2147483784" r:id="rId15"/>
    <p:sldLayoutId id="2147483785" r:id="rId16"/>
    <p:sldLayoutId id="2147483786" r:id="rId17"/>
    <p:sldLayoutId id="2147483787" r:id="rId18"/>
    <p:sldLayoutId id="2147483788" r:id="rId19"/>
    <p:sldLayoutId id="2147483789" r:id="rId20"/>
    <p:sldLayoutId id="2147483790" r:id="rId21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body"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6120" indent="-276120">
              <a:spcAft>
                <a:spcPts val="975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1" marL="530280" indent="-252360">
              <a:spcAft>
                <a:spcPts val="975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2" marL="808200" indent="-276480">
              <a:spcAft>
                <a:spcPts val="975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3" marL="1062000" indent="-252360">
              <a:spcAft>
                <a:spcPts val="975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4" marL="1347840" indent="-284040">
              <a:spcAft>
                <a:spcPts val="975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5" marL="1347840" indent="-284040">
              <a:spcAft>
                <a:spcPts val="975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6" marL="1347840" indent="-284040">
              <a:spcAft>
                <a:spcPts val="975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811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sldNum" idx="10"/>
          </p:nvPr>
        </p:nvSpPr>
        <p:spPr>
          <a:xfrm>
            <a:off x="8143560" y="6330600"/>
            <a:ext cx="576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AB895-40AE-4704-8D9D-4D45FEAD0467}" type="slidenum"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10"/>
    <p:sldLayoutId id="2147483793" r:id="rId11"/>
    <p:sldLayoutId id="2147483794" r:id="rId12"/>
    <p:sldLayoutId id="2147483795" r:id="rId13"/>
    <p:sldLayoutId id="2147483796" r:id="rId14"/>
    <p:sldLayoutId id="2147483797" r:id="rId15"/>
    <p:sldLayoutId id="2147483798" r:id="rId16"/>
    <p:sldLayoutId id="2147483799" r:id="rId17"/>
    <p:sldLayoutId id="2147483800" r:id="rId18"/>
    <p:sldLayoutId id="2147483801" r:id="rId19"/>
    <p:sldLayoutId id="2147483802" r:id="rId20"/>
    <p:sldLayoutId id="2147483803" r:id="rId21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body"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6120" indent="-276120">
              <a:spcAft>
                <a:spcPts val="975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1" marL="530280" indent="-252360">
              <a:spcAft>
                <a:spcPts val="975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2" marL="808200" indent="-276480">
              <a:spcAft>
                <a:spcPts val="975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3" marL="1062000" indent="-252360">
              <a:spcAft>
                <a:spcPts val="975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4" marL="1347840" indent="-284040">
              <a:spcAft>
                <a:spcPts val="975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5" marL="1347840" indent="-284040">
              <a:spcAft>
                <a:spcPts val="975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6" marL="1347840" indent="-284040">
              <a:spcAft>
                <a:spcPts val="975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811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1"/>
          </p:nvPr>
        </p:nvSpPr>
        <p:spPr>
          <a:xfrm>
            <a:off x="8143560" y="6330600"/>
            <a:ext cx="576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0FA04-060A-436D-AB64-AA4BDC628F2A}" type="slidenum"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10"/>
    <p:sldLayoutId id="2147483806" r:id="rId11"/>
    <p:sldLayoutId id="2147483807" r:id="rId12"/>
    <p:sldLayoutId id="2147483808" r:id="rId13"/>
    <p:sldLayoutId id="2147483809" r:id="rId14"/>
    <p:sldLayoutId id="2147483810" r:id="rId15"/>
    <p:sldLayoutId id="2147483811" r:id="rId16"/>
    <p:sldLayoutId id="2147483812" r:id="rId17"/>
    <p:sldLayoutId id="2147483813" r:id="rId18"/>
    <p:sldLayoutId id="2147483814" r:id="rId19"/>
    <p:sldLayoutId id="2147483815" r:id="rId20"/>
    <p:sldLayoutId id="2147483816" r:id="rId21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body"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6120" indent="-276120">
              <a:spcAft>
                <a:spcPts val="975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1" marL="530280" indent="-252360">
              <a:spcAft>
                <a:spcPts val="975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2" marL="808200" indent="-276480">
              <a:spcAft>
                <a:spcPts val="975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3" marL="1062000" indent="-252360">
              <a:spcAft>
                <a:spcPts val="975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4" marL="1347840" indent="-284040">
              <a:spcAft>
                <a:spcPts val="975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5" marL="1347840" indent="-284040">
              <a:spcAft>
                <a:spcPts val="975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6" marL="1347840" indent="-284040">
              <a:spcAft>
                <a:spcPts val="975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811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sldNum" idx="12"/>
          </p:nvPr>
        </p:nvSpPr>
        <p:spPr>
          <a:xfrm>
            <a:off x="8143560" y="6330600"/>
            <a:ext cx="576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B199F-5851-4DA2-B48B-9C0A7DA3C175}" type="slidenum"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10"/>
    <p:sldLayoutId id="2147483819" r:id="rId11"/>
    <p:sldLayoutId id="2147483820" r:id="rId12"/>
    <p:sldLayoutId id="2147483821" r:id="rId13"/>
    <p:sldLayoutId id="2147483822" r:id="rId14"/>
    <p:sldLayoutId id="2147483823" r:id="rId15"/>
    <p:sldLayoutId id="2147483824" r:id="rId16"/>
    <p:sldLayoutId id="2147483825" r:id="rId17"/>
    <p:sldLayoutId id="2147483826" r:id="rId18"/>
    <p:sldLayoutId id="2147483827" r:id="rId19"/>
    <p:sldLayoutId id="2147483828" r:id="rId20"/>
    <p:sldLayoutId id="2147483829" r:id="rId21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body"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6120" indent="-276120">
              <a:spcAft>
                <a:spcPts val="975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1" marL="530280" indent="-252360">
              <a:spcAft>
                <a:spcPts val="975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2" marL="808200" indent="-276480">
              <a:spcAft>
                <a:spcPts val="975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3" marL="1062000" indent="-252360">
              <a:spcAft>
                <a:spcPts val="975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4" marL="1347840" indent="-284040">
              <a:spcAft>
                <a:spcPts val="975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5" marL="1347840" indent="-284040">
              <a:spcAft>
                <a:spcPts val="975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6" marL="1347840" indent="-284040">
              <a:spcAft>
                <a:spcPts val="975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811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 type="sldNum" idx="13"/>
          </p:nvPr>
        </p:nvSpPr>
        <p:spPr>
          <a:xfrm>
            <a:off x="8143560" y="6330600"/>
            <a:ext cx="576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3432B-CDEF-4F7D-BB73-B89DE9DEAAD7}" type="slidenum"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10"/>
    <p:sldLayoutId id="2147483832" r:id="rId11"/>
    <p:sldLayoutId id="2147483833" r:id="rId12"/>
    <p:sldLayoutId id="2147483834" r:id="rId13"/>
    <p:sldLayoutId id="2147483835" r:id="rId14"/>
    <p:sldLayoutId id="2147483836" r:id="rId15"/>
    <p:sldLayoutId id="2147483837" r:id="rId16"/>
    <p:sldLayoutId id="2147483838" r:id="rId17"/>
    <p:sldLayoutId id="2147483839" r:id="rId18"/>
    <p:sldLayoutId id="2147483840" r:id="rId19"/>
    <p:sldLayoutId id="2147483841" r:id="rId20"/>
    <p:sldLayoutId id="2147483842" r:id="rId21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body"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6120" indent="-276120">
              <a:spcAft>
                <a:spcPts val="975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1" marL="530280" indent="-252360">
              <a:spcAft>
                <a:spcPts val="975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2" marL="808200" indent="-276480">
              <a:spcAft>
                <a:spcPts val="975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3" marL="1062000" indent="-252360">
              <a:spcAft>
                <a:spcPts val="975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4" marL="1347840" indent="-284040">
              <a:spcAft>
                <a:spcPts val="975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5" marL="1347840" indent="-284040">
              <a:spcAft>
                <a:spcPts val="975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6" marL="1347840" indent="-284040">
              <a:spcAft>
                <a:spcPts val="975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811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 type="sldNum" idx="14"/>
          </p:nvPr>
        </p:nvSpPr>
        <p:spPr>
          <a:xfrm>
            <a:off x="8143560" y="6330600"/>
            <a:ext cx="576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A8565-2220-4B9F-A71C-2E2B84882A6A}" type="slidenum"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10"/>
    <p:sldLayoutId id="2147483845" r:id="rId11"/>
    <p:sldLayoutId id="2147483846" r:id="rId12"/>
    <p:sldLayoutId id="2147483847" r:id="rId13"/>
    <p:sldLayoutId id="2147483848" r:id="rId14"/>
    <p:sldLayoutId id="2147483849" r:id="rId15"/>
    <p:sldLayoutId id="2147483850" r:id="rId16"/>
    <p:sldLayoutId id="2147483851" r:id="rId17"/>
    <p:sldLayoutId id="2147483852" r:id="rId18"/>
    <p:sldLayoutId id="2147483853" r:id="rId19"/>
    <p:sldLayoutId id="2147483854" r:id="rId20"/>
    <p:sldLayoutId id="2147483855" r:id="rId21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body"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6120" indent="-276120">
              <a:spcAft>
                <a:spcPts val="975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1" marL="530280" indent="-252360">
              <a:spcAft>
                <a:spcPts val="975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2" marL="808200" indent="-276480">
              <a:spcAft>
                <a:spcPts val="975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3" marL="1062000" indent="-252360">
              <a:spcAft>
                <a:spcPts val="975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4" marL="1347840" indent="-284040">
              <a:spcAft>
                <a:spcPts val="975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5" marL="1347840" indent="-284040">
              <a:spcAft>
                <a:spcPts val="975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6" marL="1347840" indent="-284040">
              <a:spcAft>
                <a:spcPts val="975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811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sldNum" idx="15"/>
          </p:nvPr>
        </p:nvSpPr>
        <p:spPr>
          <a:xfrm>
            <a:off x="8143560" y="6330600"/>
            <a:ext cx="576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2523F-F1D7-4ECE-BD42-2073EECA6C96}" type="slidenum"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10"/>
    <p:sldLayoutId id="2147483858" r:id="rId11"/>
    <p:sldLayoutId id="2147483859" r:id="rId12"/>
    <p:sldLayoutId id="2147483860" r:id="rId13"/>
    <p:sldLayoutId id="2147483861" r:id="rId14"/>
    <p:sldLayoutId id="2147483862" r:id="rId15"/>
    <p:sldLayoutId id="2147483863" r:id="rId16"/>
    <p:sldLayoutId id="2147483864" r:id="rId17"/>
    <p:sldLayoutId id="2147483865" r:id="rId18"/>
    <p:sldLayoutId id="2147483866" r:id="rId19"/>
    <p:sldLayoutId id="2147483867" r:id="rId20"/>
    <p:sldLayoutId id="2147483868" r:id="rId21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body"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6120" indent="-276120">
              <a:spcAft>
                <a:spcPts val="975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1" marL="530280" indent="-252360">
              <a:spcAft>
                <a:spcPts val="975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2" marL="808200" indent="-276480">
              <a:spcAft>
                <a:spcPts val="975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3" marL="1062000" indent="-252360">
              <a:spcAft>
                <a:spcPts val="975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4" marL="1347840" indent="-284040">
              <a:spcAft>
                <a:spcPts val="975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5" marL="1347840" indent="-284040">
              <a:spcAft>
                <a:spcPts val="975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6" marL="1347840" indent="-284040">
              <a:spcAft>
                <a:spcPts val="975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811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 type="sldNum" idx="16"/>
          </p:nvPr>
        </p:nvSpPr>
        <p:spPr>
          <a:xfrm>
            <a:off x="8143560" y="6330600"/>
            <a:ext cx="576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F3886-C5EA-4099-B367-C36CDE824696}" type="slidenum"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10"/>
    <p:sldLayoutId id="2147483871" r:id="rId11"/>
    <p:sldLayoutId id="2147483872" r:id="rId12"/>
    <p:sldLayoutId id="2147483873" r:id="rId13"/>
    <p:sldLayoutId id="2147483874" r:id="rId14"/>
    <p:sldLayoutId id="2147483875" r:id="rId15"/>
    <p:sldLayoutId id="2147483876" r:id="rId16"/>
    <p:sldLayoutId id="2147483877" r:id="rId17"/>
    <p:sldLayoutId id="2147483878" r:id="rId18"/>
    <p:sldLayoutId id="2147483879" r:id="rId19"/>
    <p:sldLayoutId id="2147483880" r:id="rId20"/>
    <p:sldLayoutId id="2147483881" r:id="rId21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body"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6120" indent="-276120">
              <a:spcAft>
                <a:spcPts val="975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1" marL="530280" indent="-252360">
              <a:spcAft>
                <a:spcPts val="975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2" marL="808200" indent="-276480">
              <a:spcAft>
                <a:spcPts val="975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3" marL="1062000" indent="-252360">
              <a:spcAft>
                <a:spcPts val="975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4" marL="1347840" indent="-284040">
              <a:spcAft>
                <a:spcPts val="975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5" marL="1347840" indent="-284040">
              <a:spcAft>
                <a:spcPts val="975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6" marL="1347840" indent="-284040">
              <a:spcAft>
                <a:spcPts val="975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811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sldNum" idx="17"/>
          </p:nvPr>
        </p:nvSpPr>
        <p:spPr>
          <a:xfrm>
            <a:off x="8143560" y="6330600"/>
            <a:ext cx="576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2A52B-FF85-4E96-9E6B-0C3EBD80F8FB}" type="slidenum"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10"/>
    <p:sldLayoutId id="2147483884" r:id="rId11"/>
    <p:sldLayoutId id="2147483885" r:id="rId12"/>
    <p:sldLayoutId id="2147483886" r:id="rId13"/>
    <p:sldLayoutId id="2147483887" r:id="rId14"/>
    <p:sldLayoutId id="2147483888" r:id="rId15"/>
    <p:sldLayoutId id="2147483889" r:id="rId16"/>
    <p:sldLayoutId id="2147483890" r:id="rId17"/>
    <p:sldLayoutId id="2147483891" r:id="rId18"/>
    <p:sldLayoutId id="2147483892" r:id="rId19"/>
    <p:sldLayoutId id="2147483893" r:id="rId20"/>
    <p:sldLayoutId id="2147483894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6120" indent="-276120">
              <a:spcAft>
                <a:spcPts val="975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1" marL="530280" indent="-252360">
              <a:spcAft>
                <a:spcPts val="975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2" marL="808200" indent="-276480">
              <a:spcAft>
                <a:spcPts val="975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3" marL="1062000" indent="-252360">
              <a:spcAft>
                <a:spcPts val="975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4" marL="1347840" indent="-284040">
              <a:spcAft>
                <a:spcPts val="975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5" marL="1347840" indent="-284040">
              <a:spcAft>
                <a:spcPts val="975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6" marL="1347840" indent="-284040">
              <a:spcAft>
                <a:spcPts val="975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Num" idx="2"/>
          </p:nvPr>
        </p:nvSpPr>
        <p:spPr>
          <a:xfrm>
            <a:off x="8143560" y="6330600"/>
            <a:ext cx="576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D3D18-FE46-4EFB-AAB0-A40038BD580C}" type="slidenum"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811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body"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6120" indent="-276120">
              <a:spcAft>
                <a:spcPts val="975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1" marL="530280" indent="-252360">
              <a:spcAft>
                <a:spcPts val="975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2" marL="808200" indent="-276480">
              <a:spcAft>
                <a:spcPts val="975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3" marL="1062000" indent="-252360">
              <a:spcAft>
                <a:spcPts val="975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4" marL="1347840" indent="-284040">
              <a:spcAft>
                <a:spcPts val="975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5" marL="1347840" indent="-284040">
              <a:spcAft>
                <a:spcPts val="975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6" marL="1347840" indent="-284040">
              <a:spcAft>
                <a:spcPts val="975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811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 type="sldNum" idx="18"/>
          </p:nvPr>
        </p:nvSpPr>
        <p:spPr>
          <a:xfrm>
            <a:off x="8143560" y="6330600"/>
            <a:ext cx="576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1B2DD-C1F1-4F76-AAD8-428A84C4086D}" type="slidenum"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10"/>
    <p:sldLayoutId id="2147483897" r:id="rId11"/>
    <p:sldLayoutId id="2147483898" r:id="rId12"/>
    <p:sldLayoutId id="2147483899" r:id="rId13"/>
    <p:sldLayoutId id="2147483900" r:id="rId14"/>
    <p:sldLayoutId id="2147483901" r:id="rId15"/>
    <p:sldLayoutId id="2147483902" r:id="rId16"/>
    <p:sldLayoutId id="2147483903" r:id="rId17"/>
    <p:sldLayoutId id="2147483904" r:id="rId18"/>
    <p:sldLayoutId id="2147483905" r:id="rId19"/>
    <p:sldLayoutId id="2147483906" r:id="rId20"/>
    <p:sldLayoutId id="2147483907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body"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6120" indent="-276120">
              <a:spcAft>
                <a:spcPts val="975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1" marL="530280" indent="-252360">
              <a:spcAft>
                <a:spcPts val="975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2" marL="808200" indent="-276480">
              <a:spcAft>
                <a:spcPts val="975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3" marL="1062000" indent="-252360">
              <a:spcAft>
                <a:spcPts val="975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4" marL="1347840" indent="-284040">
              <a:spcAft>
                <a:spcPts val="975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5" marL="1347840" indent="-284040">
              <a:spcAft>
                <a:spcPts val="975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6" marL="1347840" indent="-284040">
              <a:spcAft>
                <a:spcPts val="975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811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6120" indent="-276120">
              <a:spcAft>
                <a:spcPts val="975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1" marL="530280" indent="-252360">
              <a:spcAft>
                <a:spcPts val="975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2" marL="808200" indent="-276480">
              <a:spcAft>
                <a:spcPts val="975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3" marL="1062000" indent="-252360">
              <a:spcAft>
                <a:spcPts val="975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4" marL="1347840" indent="-284040">
              <a:spcAft>
                <a:spcPts val="975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5" marL="1347840" indent="-284040">
              <a:spcAft>
                <a:spcPts val="975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6" marL="1347840" indent="-284040">
              <a:spcAft>
                <a:spcPts val="975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811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6120" indent="-276120">
              <a:spcAft>
                <a:spcPts val="975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1" marL="530280" indent="-252360">
              <a:spcAft>
                <a:spcPts val="975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2" marL="808200" indent="-276480">
              <a:spcAft>
                <a:spcPts val="975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3" marL="1062000" indent="-252360">
              <a:spcAft>
                <a:spcPts val="975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4" marL="1347840" indent="-284040">
              <a:spcAft>
                <a:spcPts val="975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5" marL="1347840" indent="-284040">
              <a:spcAft>
                <a:spcPts val="975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6" marL="1347840" indent="-284040">
              <a:spcAft>
                <a:spcPts val="975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811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sldNum" idx="3"/>
          </p:nvPr>
        </p:nvSpPr>
        <p:spPr>
          <a:xfrm>
            <a:off x="8143560" y="6330600"/>
            <a:ext cx="576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8CE2B-F3AA-49F5-8267-A8D735A7518E}" type="slidenum"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0"/>
    <p:sldLayoutId id="2147483702" r:id="rId11"/>
    <p:sldLayoutId id="2147483703" r:id="rId12"/>
    <p:sldLayoutId id="2147483704" r:id="rId13"/>
    <p:sldLayoutId id="2147483705" r:id="rId14"/>
    <p:sldLayoutId id="2147483706" r:id="rId15"/>
    <p:sldLayoutId id="2147483707" r:id="rId16"/>
    <p:sldLayoutId id="2147483708" r:id="rId17"/>
    <p:sldLayoutId id="2147483709" r:id="rId18"/>
    <p:sldLayoutId id="2147483710" r:id="rId19"/>
    <p:sldLayoutId id="2147483711" r:id="rId20"/>
    <p:sldLayoutId id="2147483712" r:id="rId21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6120" indent="-276120">
              <a:spcAft>
                <a:spcPts val="975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1" marL="530280" indent="-252360">
              <a:spcAft>
                <a:spcPts val="975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2" marL="808200" indent="-276480">
              <a:spcAft>
                <a:spcPts val="975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3" marL="1062000" indent="-252360">
              <a:spcAft>
                <a:spcPts val="975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4" marL="1347840" indent="-284040">
              <a:spcAft>
                <a:spcPts val="975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5" marL="1347840" indent="-284040">
              <a:spcAft>
                <a:spcPts val="975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6" marL="1347840" indent="-284040">
              <a:spcAft>
                <a:spcPts val="975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811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Num" idx="4"/>
          </p:nvPr>
        </p:nvSpPr>
        <p:spPr>
          <a:xfrm>
            <a:off x="8143560" y="6330600"/>
            <a:ext cx="576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1300D-C171-4164-B670-BD38E0B49D71}" type="slidenum"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0"/>
    <p:sldLayoutId id="2147483715" r:id="rId11"/>
    <p:sldLayoutId id="2147483716" r:id="rId12"/>
    <p:sldLayoutId id="2147483717" r:id="rId13"/>
    <p:sldLayoutId id="2147483718" r:id="rId14"/>
    <p:sldLayoutId id="2147483719" r:id="rId15"/>
    <p:sldLayoutId id="2147483720" r:id="rId16"/>
    <p:sldLayoutId id="2147483721" r:id="rId17"/>
    <p:sldLayoutId id="2147483722" r:id="rId18"/>
    <p:sldLayoutId id="2147483723" r:id="rId19"/>
    <p:sldLayoutId id="2147483724" r:id="rId20"/>
    <p:sldLayoutId id="2147483725" r:id="rId21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6120" indent="-276120">
              <a:spcAft>
                <a:spcPts val="975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1" marL="530280" indent="-252360">
              <a:spcAft>
                <a:spcPts val="975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2" marL="808200" indent="-276480">
              <a:spcAft>
                <a:spcPts val="975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3" marL="1062000" indent="-252360">
              <a:spcAft>
                <a:spcPts val="975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4" marL="1347840" indent="-284040">
              <a:spcAft>
                <a:spcPts val="975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5" marL="1347840" indent="-284040">
              <a:spcAft>
                <a:spcPts val="975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6" marL="1347840" indent="-284040">
              <a:spcAft>
                <a:spcPts val="975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811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sldNum" idx="5"/>
          </p:nvPr>
        </p:nvSpPr>
        <p:spPr>
          <a:xfrm>
            <a:off x="8143560" y="6330600"/>
            <a:ext cx="576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EC906-D3DB-44A1-AFE3-D7B51BF67824}" type="slidenum"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0"/>
    <p:sldLayoutId id="2147483728" r:id="rId11"/>
    <p:sldLayoutId id="2147483729" r:id="rId12"/>
    <p:sldLayoutId id="2147483730" r:id="rId13"/>
    <p:sldLayoutId id="2147483731" r:id="rId14"/>
    <p:sldLayoutId id="2147483732" r:id="rId15"/>
    <p:sldLayoutId id="2147483733" r:id="rId16"/>
    <p:sldLayoutId id="2147483734" r:id="rId17"/>
    <p:sldLayoutId id="2147483735" r:id="rId18"/>
    <p:sldLayoutId id="2147483736" r:id="rId19"/>
    <p:sldLayoutId id="2147483737" r:id="rId20"/>
    <p:sldLayoutId id="2147483738" r:id="rId21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6120" indent="-276120">
              <a:spcAft>
                <a:spcPts val="975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1" marL="530280" indent="-252360">
              <a:spcAft>
                <a:spcPts val="975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2" marL="808200" indent="-276480">
              <a:spcAft>
                <a:spcPts val="975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3" marL="1062000" indent="-252360">
              <a:spcAft>
                <a:spcPts val="975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4" marL="1347840" indent="-284040">
              <a:spcAft>
                <a:spcPts val="975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5" marL="1347840" indent="-284040">
              <a:spcAft>
                <a:spcPts val="975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6" marL="1347840" indent="-284040">
              <a:spcAft>
                <a:spcPts val="975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811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sldNum" idx="6"/>
          </p:nvPr>
        </p:nvSpPr>
        <p:spPr>
          <a:xfrm>
            <a:off x="8143560" y="6330600"/>
            <a:ext cx="576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2B0C6-4A0C-4B42-AEAD-0DDC419A02CE}" type="slidenum"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0"/>
    <p:sldLayoutId id="2147483741" r:id="rId11"/>
    <p:sldLayoutId id="2147483742" r:id="rId12"/>
    <p:sldLayoutId id="2147483743" r:id="rId13"/>
    <p:sldLayoutId id="2147483744" r:id="rId14"/>
    <p:sldLayoutId id="2147483745" r:id="rId15"/>
    <p:sldLayoutId id="2147483746" r:id="rId16"/>
    <p:sldLayoutId id="2147483747" r:id="rId17"/>
    <p:sldLayoutId id="2147483748" r:id="rId18"/>
    <p:sldLayoutId id="2147483749" r:id="rId19"/>
    <p:sldLayoutId id="2147483750" r:id="rId20"/>
    <p:sldLayoutId id="2147483751" r:id="rId21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6120" indent="-276120">
              <a:spcAft>
                <a:spcPts val="975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1" marL="530280" indent="-252360">
              <a:spcAft>
                <a:spcPts val="975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2" marL="808200" indent="-276480">
              <a:spcAft>
                <a:spcPts val="975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3" marL="1062000" indent="-252360">
              <a:spcAft>
                <a:spcPts val="975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4" marL="1347840" indent="-284040">
              <a:spcAft>
                <a:spcPts val="975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5" marL="1347840" indent="-284040">
              <a:spcAft>
                <a:spcPts val="975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6" marL="1347840" indent="-284040">
              <a:spcAft>
                <a:spcPts val="975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811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sldNum" idx="7"/>
          </p:nvPr>
        </p:nvSpPr>
        <p:spPr>
          <a:xfrm>
            <a:off x="8143560" y="6330600"/>
            <a:ext cx="576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13A8C-F95F-4A19-B1ED-BC70FCAB279C}" type="slidenum"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10"/>
    <p:sldLayoutId id="2147483754" r:id="rId11"/>
    <p:sldLayoutId id="2147483755" r:id="rId12"/>
    <p:sldLayoutId id="2147483756" r:id="rId13"/>
    <p:sldLayoutId id="2147483757" r:id="rId14"/>
    <p:sldLayoutId id="2147483758" r:id="rId15"/>
    <p:sldLayoutId id="2147483759" r:id="rId16"/>
    <p:sldLayoutId id="2147483760" r:id="rId17"/>
    <p:sldLayoutId id="2147483761" r:id="rId18"/>
    <p:sldLayoutId id="2147483762" r:id="rId19"/>
    <p:sldLayoutId id="2147483763" r:id="rId20"/>
    <p:sldLayoutId id="2147483764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5.pn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14.jpe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1004760" y="4187880"/>
            <a:ext cx="7593120" cy="14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84646"/>
                </a:solidFill>
                <a:latin typeface="Arial"/>
              </a:rPr>
              <a:t>Взаимодействие Федерального казначейства с другими участниками бюджетного процесса в части сдачи и приема бюджетной отчетности</a:t>
            </a: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779" name="Text Box 54"/>
          <p:cNvSpPr/>
          <p:nvPr/>
        </p:nvSpPr>
        <p:spPr>
          <a:xfrm>
            <a:off x="1357200" y="5827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268000" y="18900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3811f"/>
                </a:solidFill>
                <a:latin typeface="Arial"/>
              </a:rPr>
              <a:t>Содержание</a:t>
            </a: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457200" y="1341000"/>
            <a:ext cx="8229600" cy="494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Aft>
                <a:spcPts val="975"/>
              </a:spcAft>
              <a:buClr>
                <a:srgbClr val="605e5d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05e5d"/>
                </a:solidFill>
                <a:latin typeface="Arial"/>
              </a:rPr>
              <a:t>Ошибки, допускаемые при сдаче бюджетной отчетности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marL="514440" indent="-514440">
              <a:spcAft>
                <a:spcPts val="975"/>
              </a:spcAft>
              <a:buClr>
                <a:srgbClr val="605e5d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05e5d"/>
                </a:solidFill>
                <a:latin typeface="Arial"/>
              </a:rPr>
              <a:t>Механизм реализации доработок ППО. 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marL="514440" indent="-514440">
              <a:spcAft>
                <a:spcPts val="975"/>
              </a:spcAft>
              <a:buClr>
                <a:srgbClr val="605e5d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05e5d"/>
                </a:solidFill>
                <a:latin typeface="Arial"/>
              </a:rPr>
              <a:t>Перевод клиентов Федерального казначейства на СУФД-Портал. Перспективы дальнейшего развития.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marL="514440" indent="-514440">
              <a:spcAft>
                <a:spcPts val="975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82" name="Номер слайда 6"/>
          <p:cNvSpPr/>
          <p:nvPr/>
        </p:nvSpPr>
        <p:spPr>
          <a:xfrm>
            <a:off x="655308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6FB95-B864-400C-BE5B-D13F35B33117}" type="slidenum">
              <a:rPr b="1" lang="en-US" sz="2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785880" y="2643120"/>
            <a:ext cx="763272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3811f"/>
                </a:solidFill>
                <a:latin typeface="Arial"/>
              </a:rPr>
              <a:t>1. ОШИБКИ, ДОПУСКАЕМЫЕ ПРИ СДАЧЕ ОТЧЕТНОСТИ</a:t>
            </a:r>
            <a:br>
              <a:rPr sz="4000"/>
            </a:br>
            <a:endParaRPr b="1" lang="en-US" sz="40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784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1C675-6BE8-49C8-8E4C-95D74DCD524E}" type="slidenum">
              <a:rPr b="1" lang="en-US" sz="2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73120" y="215640"/>
            <a:ext cx="703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811f"/>
                </a:solidFill>
                <a:latin typeface="Arial"/>
              </a:rPr>
              <a:t>Алгоритм проведения контроля в ППО АСФК</a:t>
            </a: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grpSp>
        <p:nvGrpSpPr>
          <p:cNvPr id="786" name="Group 52"/>
          <p:cNvGrpSpPr/>
          <p:nvPr/>
        </p:nvGrpSpPr>
        <p:grpSpPr>
          <a:xfrm>
            <a:off x="3959280" y="879480"/>
            <a:ext cx="1298160" cy="786960"/>
            <a:chOff x="3959280" y="879480"/>
            <a:chExt cx="1298160" cy="786960"/>
          </a:xfrm>
        </p:grpSpPr>
        <p:sp>
          <p:nvSpPr>
            <p:cNvPr id="787" name="Oval 53"/>
            <p:cNvSpPr/>
            <p:nvPr/>
          </p:nvSpPr>
          <p:spPr>
            <a:xfrm>
              <a:off x="3959280" y="1267200"/>
              <a:ext cx="1298160" cy="39024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e79281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381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88" name="Picture 54" descr="j0433944[1]"/>
            <p:cNvPicPr/>
            <p:nvPr/>
          </p:nvPicPr>
          <p:blipFill>
            <a:blip r:embed="rId2"/>
            <a:stretch/>
          </p:blipFill>
          <p:spPr>
            <a:xfrm>
              <a:off x="4193280" y="879480"/>
              <a:ext cx="943920" cy="786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89" name="" descr=""/>
          <p:cNvPicPr/>
          <p:nvPr/>
        </p:nvPicPr>
        <p:blipFill>
          <a:blip r:embed="rId3"/>
          <a:stretch/>
        </p:blipFill>
        <p:spPr>
          <a:xfrm>
            <a:off x="2351160" y="896760"/>
            <a:ext cx="758880" cy="765360"/>
          </a:xfrm>
          <a:prstGeom prst="rect">
            <a:avLst/>
          </a:prstGeom>
          <a:ln w="0">
            <a:noFill/>
          </a:ln>
        </p:spPr>
      </p:pic>
      <p:sp>
        <p:nvSpPr>
          <p:cNvPr id="790" name="Прямоугольник 26"/>
          <p:cNvSpPr/>
          <p:nvPr/>
        </p:nvSpPr>
        <p:spPr>
          <a:xfrm>
            <a:off x="1633680" y="2757600"/>
            <a:ext cx="2212920" cy="514080"/>
          </a:xfrm>
          <a:prstGeom prst="rect">
            <a:avLst/>
          </a:prstGeom>
          <a:gradFill rotWithShape="0">
            <a:gsLst>
              <a:gs pos="0">
                <a:srgbClr val="ffb180"/>
              </a:gs>
              <a:gs pos="100000">
                <a:srgbClr val="ffe7da"/>
              </a:gs>
            </a:gsLst>
            <a:lin ang="16200000"/>
          </a:gradFill>
          <a:ln w="9360">
            <a:solidFill>
              <a:srgbClr val="f37e1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b1824"/>
                </a:solidFill>
                <a:latin typeface="Arial"/>
              </a:rPr>
              <a:t>Контроль на соответствие ТФФ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Прямоугольник 26"/>
          <p:cNvSpPr/>
          <p:nvPr/>
        </p:nvSpPr>
        <p:spPr>
          <a:xfrm>
            <a:off x="1622520" y="3889440"/>
            <a:ext cx="2212920" cy="514440"/>
          </a:xfrm>
          <a:prstGeom prst="rect">
            <a:avLst/>
          </a:prstGeom>
          <a:gradFill rotWithShape="0">
            <a:gsLst>
              <a:gs pos="0">
                <a:srgbClr val="ffb180"/>
              </a:gs>
              <a:gs pos="100000">
                <a:srgbClr val="ffe7da"/>
              </a:gs>
            </a:gsLst>
            <a:lin ang="16200000"/>
          </a:gradFill>
          <a:ln w="9360">
            <a:solidFill>
              <a:srgbClr val="f37e1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b1824"/>
                </a:solidFill>
                <a:latin typeface="Arial"/>
              </a:rPr>
              <a:t>Протокол форматного контроля (ТФФ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Скругленный прямоугольник 81"/>
          <p:cNvSpPr/>
          <p:nvPr/>
        </p:nvSpPr>
        <p:spPr>
          <a:xfrm flipH="1">
            <a:off x="911160" y="2187720"/>
            <a:ext cx="3562560" cy="4492440"/>
          </a:xfrm>
          <a:custGeom>
            <a:avLst/>
            <a:gdLst>
              <a:gd name="textAreaLeft" fmla="*/ 57240 w 3562560"/>
              <a:gd name="textAreaRight" fmla="*/ 3505320 w 3562560"/>
              <a:gd name="textAreaTop" fmla="*/ 57240 h 4492440"/>
              <a:gd name="textAreaBottom" fmla="*/ 4435200 h 4492440"/>
            </a:gdLst>
            <a:ahLst/>
            <a:rect l="textAreaLeft" t="textAreaTop" r="textAreaRight" b="textAreaBottom"/>
            <a:pathLst>
              <a:path w="21600" h="27237">
                <a:moveTo>
                  <a:pt x="1188" y="0"/>
                </a:moveTo>
                <a:arcTo wR="1188" hR="1188" stAng="16200000" swAng="-5400000"/>
                <a:lnTo>
                  <a:pt x="0" y="26049"/>
                </a:lnTo>
                <a:arcTo wR="1188" hR="1188" stAng="10800000" swAng="-5400000"/>
                <a:lnTo>
                  <a:pt x="20412" y="27237"/>
                </a:lnTo>
                <a:arcTo wR="1188" hR="1188" stAng="5400000" swAng="-5400000"/>
                <a:lnTo>
                  <a:pt x="21600" y="1188"/>
                </a:lnTo>
                <a:arcTo wR="1188" hR="1188" stAng="0" swAng="-5400000"/>
                <a:close/>
              </a:path>
            </a:pathLst>
          </a:custGeom>
          <a:noFill/>
          <a:ln w="38160">
            <a:solidFill>
              <a:srgbClr val="b0aea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Прямоугольник 26"/>
          <p:cNvSpPr/>
          <p:nvPr/>
        </p:nvSpPr>
        <p:spPr>
          <a:xfrm>
            <a:off x="1636560" y="4932360"/>
            <a:ext cx="2175120" cy="565200"/>
          </a:xfrm>
          <a:prstGeom prst="rect">
            <a:avLst/>
          </a:prstGeom>
          <a:gradFill rotWithShape="0">
            <a:gsLst>
              <a:gs pos="0">
                <a:srgbClr val="ffb180"/>
              </a:gs>
              <a:gs pos="100000">
                <a:srgbClr val="ffe7da"/>
              </a:gs>
            </a:gsLst>
            <a:lin ang="16200000"/>
          </a:gradFill>
          <a:ln w="9360">
            <a:solidFill>
              <a:srgbClr val="f37e1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b1824"/>
                </a:solidFill>
                <a:latin typeface="Arial"/>
              </a:rPr>
              <a:t>Наличие ошибок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Прямоугольник 26"/>
          <p:cNvSpPr/>
          <p:nvPr/>
        </p:nvSpPr>
        <p:spPr>
          <a:xfrm>
            <a:off x="1625760" y="5987880"/>
            <a:ext cx="2199960" cy="463680"/>
          </a:xfrm>
          <a:prstGeom prst="rect">
            <a:avLst/>
          </a:prstGeom>
          <a:gradFill rotWithShape="0">
            <a:gsLst>
              <a:gs pos="0">
                <a:srgbClr val="ffb180"/>
              </a:gs>
              <a:gs pos="100000">
                <a:srgbClr val="ffe7da"/>
              </a:gs>
            </a:gsLst>
            <a:lin ang="16200000"/>
          </a:gradFill>
          <a:ln w="9360">
            <a:solidFill>
              <a:srgbClr val="f37e1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b1824"/>
                </a:solidFill>
                <a:latin typeface="Arial"/>
              </a:rPr>
              <a:t>Конец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825480" y="2298600"/>
            <a:ext cx="11811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TextBox 9"/>
          <p:cNvSpPr/>
          <p:nvPr/>
        </p:nvSpPr>
        <p:spPr>
          <a:xfrm rot="16200000">
            <a:off x="838080" y="4100400"/>
            <a:ext cx="8254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b1824"/>
                </a:solidFill>
                <a:latin typeface="Arial"/>
              </a:rPr>
              <a:t>СУФД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TextBox 9"/>
          <p:cNvSpPr/>
          <p:nvPr/>
        </p:nvSpPr>
        <p:spPr>
          <a:xfrm>
            <a:off x="2262240" y="1790640"/>
            <a:ext cx="9525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b1824"/>
                </a:solidFill>
                <a:latin typeface="Arial"/>
              </a:rPr>
              <a:t>Отчет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98" name=""/>
          <p:cNvCxnSpPr>
            <a:stCxn id="797" idx="2"/>
            <a:endCxn id="790" idx="0"/>
          </p:cNvCxnSpPr>
          <p:nvPr/>
        </p:nvCxnSpPr>
        <p:spPr>
          <a:xfrm>
            <a:off x="2738520" y="2075040"/>
            <a:ext cx="2160" cy="682920"/>
          </a:xfrm>
          <a:prstGeom prst="straightConnector1">
            <a:avLst/>
          </a:prstGeom>
          <a:ln w="9360">
            <a:solidFill>
              <a:srgbClr val="605e5d"/>
            </a:solidFill>
            <a:miter/>
            <a:tailEnd len="med" type="triangle" w="med"/>
          </a:ln>
        </p:spPr>
      </p:cxnSp>
      <p:cxnSp>
        <p:nvCxnSpPr>
          <p:cNvPr id="799" name=""/>
          <p:cNvCxnSpPr>
            <a:stCxn id="790" idx="2"/>
            <a:endCxn id="791" idx="0"/>
          </p:cNvCxnSpPr>
          <p:nvPr/>
        </p:nvCxnSpPr>
        <p:spPr>
          <a:xfrm flipH="1">
            <a:off x="2728080" y="3271680"/>
            <a:ext cx="11880" cy="618480"/>
          </a:xfrm>
          <a:prstGeom prst="straightConnector1">
            <a:avLst/>
          </a:prstGeom>
          <a:ln w="9360">
            <a:solidFill>
              <a:srgbClr val="605e5d"/>
            </a:solidFill>
            <a:miter/>
            <a:tailEnd len="med" type="triangle" w="med"/>
          </a:ln>
        </p:spPr>
      </p:cxnSp>
      <p:cxnSp>
        <p:nvCxnSpPr>
          <p:cNvPr id="800" name=""/>
          <p:cNvCxnSpPr>
            <a:stCxn id="791" idx="2"/>
            <a:endCxn id="793" idx="0"/>
          </p:cNvCxnSpPr>
          <p:nvPr/>
        </p:nvCxnSpPr>
        <p:spPr>
          <a:xfrm flipH="1">
            <a:off x="2723400" y="4403880"/>
            <a:ext cx="5400" cy="529200"/>
          </a:xfrm>
          <a:prstGeom prst="straightConnector1">
            <a:avLst/>
          </a:prstGeom>
          <a:ln w="9360">
            <a:solidFill>
              <a:srgbClr val="605e5d"/>
            </a:solidFill>
            <a:miter/>
            <a:tailEnd len="med" type="triangle" w="med"/>
          </a:ln>
        </p:spPr>
      </p:cxnSp>
      <p:cxnSp>
        <p:nvCxnSpPr>
          <p:cNvPr id="801" name=""/>
          <p:cNvCxnSpPr>
            <a:stCxn id="793" idx="2"/>
            <a:endCxn id="794" idx="0"/>
          </p:cNvCxnSpPr>
          <p:nvPr/>
        </p:nvCxnSpPr>
        <p:spPr>
          <a:xfrm>
            <a:off x="2724120" y="5497560"/>
            <a:ext cx="2160" cy="491040"/>
          </a:xfrm>
          <a:prstGeom prst="straightConnector1">
            <a:avLst/>
          </a:prstGeom>
          <a:ln w="9360">
            <a:solidFill>
              <a:srgbClr val="605e5d"/>
            </a:solidFill>
            <a:miter/>
            <a:tailEnd len="med" type="triangle" w="med"/>
          </a:ln>
        </p:spPr>
      </p:cxnSp>
      <p:cxnSp>
        <p:nvCxnSpPr>
          <p:cNvPr id="802" name=""/>
          <p:cNvCxnSpPr>
            <a:stCxn id="791" idx="3"/>
            <a:endCxn id="803" idx="2"/>
          </p:cNvCxnSpPr>
          <p:nvPr/>
        </p:nvCxnSpPr>
        <p:spPr>
          <a:xfrm flipV="1">
            <a:off x="3835080" y="2126520"/>
            <a:ext cx="835560" cy="2019960"/>
          </a:xfrm>
          <a:prstGeom prst="bentConnector2">
            <a:avLst/>
          </a:prstGeom>
          <a:ln w="9360">
            <a:solidFill>
              <a:srgbClr val="605e5d"/>
            </a:solidFill>
            <a:miter/>
            <a:tailEnd len="med" type="triangle" w="med"/>
          </a:ln>
        </p:spPr>
      </p:cxnSp>
      <p:sp>
        <p:nvSpPr>
          <p:cNvPr id="804" name="TextBox 9"/>
          <p:cNvSpPr/>
          <p:nvPr/>
        </p:nvSpPr>
        <p:spPr>
          <a:xfrm>
            <a:off x="2884320" y="5587920"/>
            <a:ext cx="8258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b1824"/>
                </a:solidFill>
                <a:latin typeface="Arial"/>
              </a:rPr>
              <a:t>Да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Прямоугольник 26"/>
          <p:cNvSpPr/>
          <p:nvPr/>
        </p:nvSpPr>
        <p:spPr>
          <a:xfrm>
            <a:off x="5526000" y="4871880"/>
            <a:ext cx="2657520" cy="679680"/>
          </a:xfrm>
          <a:prstGeom prst="rect">
            <a:avLst/>
          </a:prstGeom>
          <a:gradFill rotWithShape="0">
            <a:gsLst>
              <a:gs pos="0">
                <a:srgbClr val="ffb180"/>
              </a:gs>
              <a:gs pos="100000">
                <a:srgbClr val="ffe7da"/>
              </a:gs>
            </a:gsLst>
            <a:lin ang="16200000"/>
          </a:gradFill>
          <a:ln w="9360">
            <a:solidFill>
              <a:srgbClr val="f37e1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b1824"/>
                </a:solidFill>
                <a:latin typeface="Arial"/>
              </a:rPr>
              <a:t>Контроль форматный (НСИ), ВДК, МДК, ВНК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Прямоугольник 26"/>
          <p:cNvSpPr/>
          <p:nvPr/>
        </p:nvSpPr>
        <p:spPr>
          <a:xfrm>
            <a:off x="5535720" y="3890880"/>
            <a:ext cx="2631960" cy="514440"/>
          </a:xfrm>
          <a:prstGeom prst="rect">
            <a:avLst/>
          </a:prstGeom>
          <a:gradFill rotWithShape="0">
            <a:gsLst>
              <a:gs pos="0">
                <a:srgbClr val="ffb180"/>
              </a:gs>
              <a:gs pos="100000">
                <a:srgbClr val="ffe7da"/>
              </a:gs>
            </a:gsLst>
            <a:lin ang="16200000"/>
          </a:gradFill>
          <a:ln w="9360">
            <a:solidFill>
              <a:srgbClr val="f37e1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b1824"/>
                </a:solidFill>
                <a:latin typeface="Arial"/>
              </a:rPr>
              <a:t>Протоколы контрол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07" name=""/>
          <p:cNvCxnSpPr>
            <a:stCxn id="793" idx="3"/>
            <a:endCxn id="805" idx="1"/>
          </p:cNvCxnSpPr>
          <p:nvPr/>
        </p:nvCxnSpPr>
        <p:spPr>
          <a:xfrm flipV="1">
            <a:off x="3811680" y="5211000"/>
            <a:ext cx="1715040" cy="3960"/>
          </a:xfrm>
          <a:prstGeom prst="straightConnector1">
            <a:avLst/>
          </a:prstGeom>
          <a:ln w="9360">
            <a:solidFill>
              <a:srgbClr val="605e5d"/>
            </a:solidFill>
            <a:miter/>
            <a:tailEnd len="med" type="triangle" w="med"/>
          </a:ln>
        </p:spPr>
      </p:cxnSp>
      <p:cxnSp>
        <p:nvCxnSpPr>
          <p:cNvPr id="808" name=""/>
          <p:cNvCxnSpPr>
            <a:stCxn id="806" idx="1"/>
            <a:endCxn id="803" idx="2"/>
          </p:cNvCxnSpPr>
          <p:nvPr/>
        </p:nvCxnSpPr>
        <p:spPr>
          <a:xfrm rot="10800000">
            <a:off x="4669560" y="2126520"/>
            <a:ext cx="866160" cy="2021760"/>
          </a:xfrm>
          <a:prstGeom prst="bentConnector2">
            <a:avLst/>
          </a:prstGeom>
          <a:ln w="9360">
            <a:solidFill>
              <a:srgbClr val="605e5d"/>
            </a:solidFill>
            <a:miter/>
            <a:tailEnd len="med" type="triangle" w="med"/>
          </a:ln>
        </p:spPr>
      </p:cxnSp>
      <p:sp>
        <p:nvSpPr>
          <p:cNvPr id="803" name="TextBox 9"/>
          <p:cNvSpPr/>
          <p:nvPr/>
        </p:nvSpPr>
        <p:spPr>
          <a:xfrm>
            <a:off x="3622680" y="1843200"/>
            <a:ext cx="20955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b1824"/>
                </a:solidFill>
                <a:latin typeface="Arial"/>
              </a:rPr>
              <a:t>ФО, ГРБС, ГВБФ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Прямоугольник 26"/>
          <p:cNvSpPr/>
          <p:nvPr/>
        </p:nvSpPr>
        <p:spPr>
          <a:xfrm>
            <a:off x="5537160" y="2800440"/>
            <a:ext cx="2631960" cy="514440"/>
          </a:xfrm>
          <a:prstGeom prst="rect">
            <a:avLst/>
          </a:prstGeom>
          <a:gradFill rotWithShape="0">
            <a:gsLst>
              <a:gs pos="0">
                <a:srgbClr val="ffb180"/>
              </a:gs>
              <a:gs pos="100000">
                <a:srgbClr val="ffe7da"/>
              </a:gs>
            </a:gsLst>
            <a:lin ang="16200000"/>
          </a:gradFill>
          <a:ln w="9360">
            <a:solidFill>
              <a:srgbClr val="f37e1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b1824"/>
                </a:solidFill>
                <a:latin typeface="Arial"/>
              </a:rPr>
              <a:t>Синхронизация статуса в СУФД-портале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10" name=""/>
          <p:cNvCxnSpPr>
            <a:stCxn id="805" idx="0"/>
            <a:endCxn id="806" idx="2"/>
          </p:cNvCxnSpPr>
          <p:nvPr/>
        </p:nvCxnSpPr>
        <p:spPr>
          <a:xfrm flipH="1" flipV="1">
            <a:off x="6850800" y="4404960"/>
            <a:ext cx="3960" cy="467280"/>
          </a:xfrm>
          <a:prstGeom prst="straightConnector1">
            <a:avLst/>
          </a:prstGeom>
          <a:ln w="9360">
            <a:solidFill>
              <a:srgbClr val="605e5d"/>
            </a:solidFill>
            <a:miter/>
            <a:tailEnd len="med" type="triangle" w="med"/>
          </a:ln>
        </p:spPr>
      </p:cxnSp>
      <p:sp>
        <p:nvSpPr>
          <p:cNvPr id="811" name="Скругленный прямоугольник 81"/>
          <p:cNvSpPr/>
          <p:nvPr/>
        </p:nvSpPr>
        <p:spPr>
          <a:xfrm flipH="1">
            <a:off x="4899960" y="2163600"/>
            <a:ext cx="4032360" cy="4492800"/>
          </a:xfrm>
          <a:custGeom>
            <a:avLst/>
            <a:gdLst>
              <a:gd name="textAreaLeft" fmla="*/ 64800 w 4032360"/>
              <a:gd name="textAreaRight" fmla="*/ 3967560 w 4032360"/>
              <a:gd name="textAreaTop" fmla="*/ 64800 h 4492800"/>
              <a:gd name="textAreaBottom" fmla="*/ 4428000 h 4492800"/>
            </a:gdLst>
            <a:ahLst/>
            <a:rect l="textAreaLeft" t="textAreaTop" r="textAreaRight" b="textAreaBottom"/>
            <a:pathLst>
              <a:path w="21600" h="24066">
                <a:moveTo>
                  <a:pt x="1188" y="0"/>
                </a:moveTo>
                <a:arcTo wR="1188" hR="1188" stAng="16200000" swAng="-5400000"/>
                <a:lnTo>
                  <a:pt x="0" y="22878"/>
                </a:lnTo>
                <a:arcTo wR="1188" hR="1188" stAng="10800000" swAng="-5400000"/>
                <a:lnTo>
                  <a:pt x="20412" y="24066"/>
                </a:lnTo>
                <a:arcTo wR="1188" hR="1188" stAng="5400000" swAng="-5400000"/>
                <a:lnTo>
                  <a:pt x="21600" y="1188"/>
                </a:lnTo>
                <a:arcTo wR="1188" hR="1188" stAng="0" swAng="-5400000"/>
                <a:close/>
              </a:path>
            </a:pathLst>
          </a:custGeom>
          <a:noFill/>
          <a:ln w="38160">
            <a:solidFill>
              <a:srgbClr val="b0aea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TextBox 9"/>
          <p:cNvSpPr/>
          <p:nvPr/>
        </p:nvSpPr>
        <p:spPr>
          <a:xfrm rot="16200000">
            <a:off x="8130960" y="4114440"/>
            <a:ext cx="8254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b1824"/>
                </a:solidFill>
                <a:latin typeface="Arial"/>
              </a:rPr>
              <a:t>АСФК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13" name=""/>
          <p:cNvCxnSpPr>
            <a:stCxn id="806" idx="0"/>
            <a:endCxn id="809" idx="2"/>
          </p:cNvCxnSpPr>
          <p:nvPr/>
        </p:nvCxnSpPr>
        <p:spPr>
          <a:xfrm flipV="1">
            <a:off x="6851160" y="3314880"/>
            <a:ext cx="2520" cy="576360"/>
          </a:xfrm>
          <a:prstGeom prst="straightConnector1">
            <a:avLst/>
          </a:prstGeom>
          <a:ln w="9360">
            <a:solidFill>
              <a:srgbClr val="605e5d"/>
            </a:solidFill>
            <a:miter/>
            <a:tailEnd len="med" type="triangle" w="med"/>
          </a:ln>
        </p:spPr>
      </p:cxnSp>
      <p:cxnSp>
        <p:nvCxnSpPr>
          <p:cNvPr id="814" name=""/>
          <p:cNvCxnSpPr>
            <a:stCxn id="788" idx="1"/>
            <a:endCxn id="789" idx="3"/>
          </p:cNvCxnSpPr>
          <p:nvPr/>
        </p:nvCxnSpPr>
        <p:spPr>
          <a:xfrm flipH="1">
            <a:off x="3109320" y="1272960"/>
            <a:ext cx="1084680" cy="6840"/>
          </a:xfrm>
          <a:prstGeom prst="straightConnector1">
            <a:avLst/>
          </a:prstGeom>
          <a:ln w="9360">
            <a:solidFill>
              <a:srgbClr val="605e5d"/>
            </a:solidFill>
            <a:miter/>
            <a:tailEnd len="med" type="triangle" w="med"/>
          </a:ln>
        </p:spPr>
      </p:cxn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42960" y="2857680"/>
            <a:ext cx="7772400" cy="86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3811f"/>
                </a:solidFill>
                <a:latin typeface="Arial"/>
              </a:rPr>
              <a:t>2. МЕХАНИЗМ РЕАЛИЗАЦИИ ДОРАБОТОК ППО.</a:t>
            </a:r>
            <a:endParaRPr b="1" lang="en-US" sz="40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81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CFB61-14C4-4F89-BD54-DB7BB07440E7}" type="slidenum">
              <a:rPr b="1" lang="en-US" sz="2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742680" y="115920"/>
            <a:ext cx="75740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3811f"/>
                </a:solidFill>
                <a:latin typeface="Arial"/>
              </a:rPr>
              <a:t>Механизм реализации доработок ППО.</a:t>
            </a: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818" name="TextBox 9"/>
          <p:cNvSpPr/>
          <p:nvPr/>
        </p:nvSpPr>
        <p:spPr>
          <a:xfrm>
            <a:off x="3373560" y="1090440"/>
            <a:ext cx="1714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b1824"/>
                </a:solidFill>
                <a:latin typeface="Arial"/>
              </a:rPr>
              <a:t>Федеральное казначейство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9" name="Picture 12" descr="http://expert.ru/data/public/383474/383694/internet300-200_jpg_300x200_crop_q70.jpg"/>
          <p:cNvPicPr/>
          <p:nvPr/>
        </p:nvPicPr>
        <p:blipFill>
          <a:blip r:embed="rId2"/>
          <a:stretch/>
        </p:blipFill>
        <p:spPr>
          <a:xfrm>
            <a:off x="3208320" y="3327480"/>
            <a:ext cx="2006640" cy="1403280"/>
          </a:xfrm>
          <a:prstGeom prst="rect">
            <a:avLst/>
          </a:prstGeom>
          <a:ln w="0">
            <a:noFill/>
          </a:ln>
        </p:spPr>
      </p:pic>
      <p:sp>
        <p:nvSpPr>
          <p:cNvPr id="820" name="TextBox 13"/>
          <p:cNvSpPr/>
          <p:nvPr/>
        </p:nvSpPr>
        <p:spPr>
          <a:xfrm>
            <a:off x="3343320" y="4586400"/>
            <a:ext cx="171432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b1824"/>
                </a:solidFill>
                <a:latin typeface="Arial"/>
              </a:rPr>
              <a:t>Разработчики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1" name="Picture 14" descr="http://yakutia.roskazna.ru/file/gallery/21.1451.jpg"/>
          <p:cNvPicPr/>
          <p:nvPr/>
        </p:nvPicPr>
        <p:blipFill>
          <a:blip r:embed="rId3"/>
          <a:stretch/>
        </p:blipFill>
        <p:spPr>
          <a:xfrm>
            <a:off x="237960" y="2646360"/>
            <a:ext cx="2035440" cy="1401840"/>
          </a:xfrm>
          <a:prstGeom prst="rect">
            <a:avLst/>
          </a:prstGeom>
          <a:ln w="0">
            <a:noFill/>
          </a:ln>
        </p:spPr>
      </p:pic>
      <p:pic>
        <p:nvPicPr>
          <p:cNvPr id="822" name="Picture 16" descr="http://31vrn.roskazna.ru/file/gallery/31.13.jpg"/>
          <p:cNvPicPr/>
          <p:nvPr/>
        </p:nvPicPr>
        <p:blipFill>
          <a:blip r:embed="rId4"/>
          <a:stretch/>
        </p:blipFill>
        <p:spPr>
          <a:xfrm>
            <a:off x="237960" y="1257480"/>
            <a:ext cx="2035440" cy="1469880"/>
          </a:xfrm>
          <a:prstGeom prst="rect">
            <a:avLst/>
          </a:prstGeom>
          <a:ln w="0">
            <a:noFill/>
          </a:ln>
        </p:spPr>
      </p:pic>
      <p:pic>
        <p:nvPicPr>
          <p:cNvPr id="823" name="Picture 18" descr="http://vologodskaya.roskazna.ru/file/gallery/80.517.jpg"/>
          <p:cNvPicPr/>
          <p:nvPr/>
        </p:nvPicPr>
        <p:blipFill>
          <a:blip r:embed="rId5"/>
          <a:stretch/>
        </p:blipFill>
        <p:spPr>
          <a:xfrm>
            <a:off x="237960" y="3992400"/>
            <a:ext cx="2035440" cy="1395720"/>
          </a:xfrm>
          <a:prstGeom prst="rect">
            <a:avLst/>
          </a:prstGeom>
          <a:ln w="0">
            <a:noFill/>
          </a:ln>
        </p:spPr>
      </p:pic>
      <p:sp>
        <p:nvSpPr>
          <p:cNvPr id="824" name="TextBox 19"/>
          <p:cNvSpPr/>
          <p:nvPr/>
        </p:nvSpPr>
        <p:spPr>
          <a:xfrm>
            <a:off x="415800" y="5342040"/>
            <a:ext cx="17146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b1824"/>
                </a:solidFill>
                <a:latin typeface="Arial"/>
              </a:rPr>
              <a:t>Территориальные органы Федерального казначейства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Прямоугольник 26"/>
          <p:cNvSpPr/>
          <p:nvPr/>
        </p:nvSpPr>
        <p:spPr>
          <a:xfrm>
            <a:off x="3094200" y="4954680"/>
            <a:ext cx="2212920" cy="374400"/>
          </a:xfrm>
          <a:prstGeom prst="rect">
            <a:avLst/>
          </a:prstGeom>
          <a:gradFill rotWithShape="0">
            <a:gsLst>
              <a:gs pos="0">
                <a:srgbClr val="ffb180"/>
              </a:gs>
              <a:gs pos="100000">
                <a:srgbClr val="ffe7da"/>
              </a:gs>
            </a:gsLst>
            <a:lin ang="16200000"/>
          </a:gradFill>
          <a:ln w="9360">
            <a:solidFill>
              <a:srgbClr val="f37e1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b1824"/>
                </a:solidFill>
                <a:latin typeface="Arial"/>
              </a:rPr>
              <a:t>Анализ изменений НПА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6" name="Прямая со стрелкой 28"/>
          <p:cNvCxnSpPr>
            <a:stCxn id="820" idx="2"/>
            <a:endCxn id="825" idx="0"/>
          </p:cNvCxnSpPr>
          <p:nvPr/>
        </p:nvCxnSpPr>
        <p:spPr>
          <a:xfrm>
            <a:off x="4200120" y="4815000"/>
            <a:ext cx="1080" cy="140400"/>
          </a:xfrm>
          <a:prstGeom prst="straightConnector1">
            <a:avLst/>
          </a:prstGeom>
          <a:ln w="19080">
            <a:solidFill>
              <a:srgbClr val="ff3300"/>
            </a:solidFill>
            <a:miter/>
            <a:tailEnd len="med" type="arrow" w="med"/>
          </a:ln>
        </p:spPr>
      </p:cxnSp>
      <p:sp>
        <p:nvSpPr>
          <p:cNvPr id="827" name="Прямоугольник 39"/>
          <p:cNvSpPr/>
          <p:nvPr/>
        </p:nvSpPr>
        <p:spPr>
          <a:xfrm>
            <a:off x="3087720" y="5475240"/>
            <a:ext cx="2212920" cy="399960"/>
          </a:xfrm>
          <a:prstGeom prst="rect">
            <a:avLst/>
          </a:prstGeom>
          <a:gradFill rotWithShape="0">
            <a:gsLst>
              <a:gs pos="0">
                <a:srgbClr val="ffb180"/>
              </a:gs>
              <a:gs pos="100000">
                <a:srgbClr val="ffe7da"/>
              </a:gs>
            </a:gsLst>
            <a:lin ang="16200000"/>
          </a:gradFill>
          <a:ln w="9360">
            <a:solidFill>
              <a:srgbClr val="f37e1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b1824"/>
                </a:solidFill>
                <a:latin typeface="Arial"/>
              </a:rPr>
              <a:t>Реализация доработок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8" name="Прямая со стрелкой 43"/>
          <p:cNvCxnSpPr>
            <a:stCxn id="825" idx="2"/>
            <a:endCxn id="827" idx="0"/>
          </p:cNvCxnSpPr>
          <p:nvPr/>
        </p:nvCxnSpPr>
        <p:spPr>
          <a:xfrm flipH="1">
            <a:off x="4193640" y="5329080"/>
            <a:ext cx="7200" cy="146880"/>
          </a:xfrm>
          <a:prstGeom prst="straightConnector1">
            <a:avLst/>
          </a:prstGeom>
          <a:ln w="19080">
            <a:solidFill>
              <a:srgbClr val="ff3300"/>
            </a:solidFill>
            <a:miter/>
            <a:tailEnd len="med" type="arrow" w="med"/>
          </a:ln>
        </p:spPr>
      </p:cxnSp>
      <p:sp>
        <p:nvSpPr>
          <p:cNvPr id="829" name="Прямоугольник 53"/>
          <p:cNvSpPr/>
          <p:nvPr/>
        </p:nvSpPr>
        <p:spPr>
          <a:xfrm>
            <a:off x="3081240" y="6089760"/>
            <a:ext cx="2225880" cy="438120"/>
          </a:xfrm>
          <a:prstGeom prst="rect">
            <a:avLst/>
          </a:prstGeom>
          <a:gradFill rotWithShape="0">
            <a:gsLst>
              <a:gs pos="0">
                <a:srgbClr val="ffb180"/>
              </a:gs>
              <a:gs pos="100000">
                <a:srgbClr val="ffe7da"/>
              </a:gs>
            </a:gsLst>
            <a:lin ang="16200000"/>
          </a:gradFill>
          <a:ln w="9360">
            <a:solidFill>
              <a:srgbClr val="f37e1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b1824"/>
                </a:solidFill>
                <a:latin typeface="Arial"/>
              </a:rPr>
              <a:t>Доведение изменений до заказчика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30" name="Прямая со стрелкой 55"/>
          <p:cNvCxnSpPr>
            <a:stCxn id="827" idx="2"/>
            <a:endCxn id="829" idx="0"/>
          </p:cNvCxnSpPr>
          <p:nvPr/>
        </p:nvCxnSpPr>
        <p:spPr>
          <a:xfrm>
            <a:off x="4193640" y="5875200"/>
            <a:ext cx="1080" cy="215280"/>
          </a:xfrm>
          <a:prstGeom prst="straightConnector1">
            <a:avLst/>
          </a:prstGeom>
          <a:ln w="19080">
            <a:solidFill>
              <a:srgbClr val="ff3300"/>
            </a:solidFill>
            <a:miter/>
            <a:tailEnd len="med" type="arrow" w="med"/>
          </a:ln>
        </p:spPr>
      </p:cxnSp>
      <p:sp>
        <p:nvSpPr>
          <p:cNvPr id="831" name="Скругленный прямоугольник 81"/>
          <p:cNvSpPr/>
          <p:nvPr/>
        </p:nvSpPr>
        <p:spPr>
          <a:xfrm>
            <a:off x="142920" y="1071720"/>
            <a:ext cx="8858160" cy="5572080"/>
          </a:xfrm>
          <a:prstGeom prst="roundRect">
            <a:avLst>
              <a:gd name="adj" fmla="val 5500"/>
            </a:avLst>
          </a:prstGeom>
          <a:noFill/>
          <a:ln w="38160">
            <a:solidFill>
              <a:srgbClr val="b0aea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TextBox 82"/>
          <p:cNvSpPr/>
          <p:nvPr/>
        </p:nvSpPr>
        <p:spPr>
          <a:xfrm>
            <a:off x="428760" y="1071720"/>
            <a:ext cx="292896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89695"/>
                </a:solidFill>
                <a:latin typeface="Arial"/>
              </a:rPr>
              <a:t>Единое информационное пространство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 flipH="1">
            <a:off x="2286000" y="2006640"/>
            <a:ext cx="914400" cy="0"/>
          </a:xfrm>
          <a:prstGeom prst="line">
            <a:avLst/>
          </a:prstGeom>
          <a:ln w="38160">
            <a:solidFill>
              <a:srgbClr val="f3811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 flipV="1">
            <a:off x="2705040" y="2006280"/>
            <a:ext cx="0" cy="4280040"/>
          </a:xfrm>
          <a:prstGeom prst="line">
            <a:avLst/>
          </a:prstGeom>
          <a:ln w="38160">
            <a:solidFill>
              <a:srgbClr val="f3811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 flipV="1">
            <a:off x="2695680" y="6270120"/>
            <a:ext cx="371520" cy="1800"/>
          </a:xfrm>
          <a:prstGeom prst="line">
            <a:avLst/>
          </a:prstGeom>
          <a:ln w="38160">
            <a:solidFill>
              <a:srgbClr val="f38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6" name="" descr=""/>
          <p:cNvPicPr/>
          <p:nvPr/>
        </p:nvPicPr>
        <p:blipFill>
          <a:blip r:embed="rId6"/>
          <a:stretch/>
        </p:blipFill>
        <p:spPr>
          <a:xfrm>
            <a:off x="7407360" y="1569960"/>
            <a:ext cx="1085760" cy="1325520"/>
          </a:xfrm>
          <a:prstGeom prst="rect">
            <a:avLst/>
          </a:prstGeom>
          <a:ln w="0">
            <a:noFill/>
          </a:ln>
        </p:spPr>
      </p:pic>
      <p:pic>
        <p:nvPicPr>
          <p:cNvPr id="837" name="" descr=""/>
          <p:cNvPicPr/>
          <p:nvPr/>
        </p:nvPicPr>
        <p:blipFill>
          <a:blip r:embed="rId7"/>
          <a:stretch/>
        </p:blipFill>
        <p:spPr>
          <a:xfrm>
            <a:off x="3608280" y="1409760"/>
            <a:ext cx="1289160" cy="1298520"/>
          </a:xfrm>
          <a:prstGeom prst="rect">
            <a:avLst/>
          </a:prstGeom>
          <a:ln w="0">
            <a:noFill/>
          </a:ln>
        </p:spPr>
      </p:pic>
      <p:sp>
        <p:nvSpPr>
          <p:cNvPr id="838" name="Прямоугольник 26"/>
          <p:cNvSpPr/>
          <p:nvPr/>
        </p:nvSpPr>
        <p:spPr>
          <a:xfrm>
            <a:off x="2879640" y="2822400"/>
            <a:ext cx="2530440" cy="374760"/>
          </a:xfrm>
          <a:prstGeom prst="rect">
            <a:avLst/>
          </a:prstGeom>
          <a:gradFill rotWithShape="0">
            <a:gsLst>
              <a:gs pos="0">
                <a:srgbClr val="ffb180"/>
              </a:gs>
              <a:gs pos="100000">
                <a:srgbClr val="ffe7da"/>
              </a:gs>
            </a:gsLst>
            <a:lin ang="16200000"/>
          </a:gradFill>
          <a:ln w="9360">
            <a:solidFill>
              <a:srgbClr val="f37e1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b1824"/>
                </a:solidFill>
                <a:latin typeface="Arial"/>
              </a:rPr>
              <a:t>Изменение в НПА, ТФФ, КС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TextBox 19"/>
          <p:cNvSpPr/>
          <p:nvPr/>
        </p:nvSpPr>
        <p:spPr>
          <a:xfrm>
            <a:off x="7085160" y="5788080"/>
            <a:ext cx="1714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b1824"/>
                </a:solidFill>
                <a:latin typeface="Arial"/>
              </a:rPr>
              <a:t>Клиенты Федерального казначейства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0" name="" descr=""/>
          <p:cNvPicPr/>
          <p:nvPr/>
        </p:nvPicPr>
        <p:blipFill>
          <a:blip r:embed="rId8"/>
          <a:stretch/>
        </p:blipFill>
        <p:spPr>
          <a:xfrm>
            <a:off x="7237440" y="3021120"/>
            <a:ext cx="1425600" cy="1425600"/>
          </a:xfrm>
          <a:prstGeom prst="rect">
            <a:avLst/>
          </a:prstGeom>
          <a:ln w="0">
            <a:noFill/>
          </a:ln>
        </p:spPr>
      </p:pic>
      <p:pic>
        <p:nvPicPr>
          <p:cNvPr id="841" name="" descr=""/>
          <p:cNvPicPr/>
          <p:nvPr/>
        </p:nvPicPr>
        <p:blipFill>
          <a:blip r:embed="rId9"/>
          <a:stretch/>
        </p:blipFill>
        <p:spPr>
          <a:xfrm>
            <a:off x="7126200" y="4379760"/>
            <a:ext cx="1789200" cy="1246320"/>
          </a:xfrm>
          <a:prstGeom prst="rect">
            <a:avLst/>
          </a:prstGeom>
          <a:ln w="0">
            <a:noFill/>
          </a:ln>
        </p:spPr>
      </p:pic>
      <p:sp>
        <p:nvSpPr>
          <p:cNvPr id="842" name=""/>
          <p:cNvSpPr/>
          <p:nvPr/>
        </p:nvSpPr>
        <p:spPr>
          <a:xfrm>
            <a:off x="5334120" y="1854360"/>
            <a:ext cx="1917720" cy="609480"/>
          </a:xfrm>
          <a:custGeom>
            <a:avLst/>
            <a:gdLst>
              <a:gd name="textAreaLeft" fmla="*/ 0 w 1917720"/>
              <a:gd name="textAreaRight" fmla="*/ 1918080 w 19177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b180"/>
              </a:gs>
              <a:gs pos="100000">
                <a:srgbClr val="ffe7da"/>
              </a:gs>
            </a:gsLst>
            <a:lin ang="16200000"/>
          </a:gradFill>
          <a:ln w="9360">
            <a:solidFill>
              <a:srgbClr val="f37e1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b1824"/>
                </a:solidFill>
                <a:latin typeface="Arial"/>
              </a:rPr>
              <a:t>Доведение изменений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b1824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b1824"/>
                </a:solidFill>
                <a:latin typeface="Arial"/>
              </a:rPr>
              <a:t>по НПА, 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b1824"/>
                </a:solidFill>
                <a:latin typeface="Arial"/>
              </a:rPr>
              <a:t>ТФФ, КС до клиентов ФК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5386320" y="3557520"/>
            <a:ext cx="1917720" cy="609840"/>
          </a:xfrm>
          <a:custGeom>
            <a:avLst/>
            <a:gdLst>
              <a:gd name="textAreaLeft" fmla="*/ 0 w 1917720"/>
              <a:gd name="textAreaRight" fmla="*/ 1918080 w 191772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b180"/>
              </a:gs>
              <a:gs pos="100000">
                <a:srgbClr val="ffe7da"/>
              </a:gs>
            </a:gsLst>
            <a:lin ang="16200000"/>
          </a:gradFill>
          <a:ln w="9360">
            <a:solidFill>
              <a:srgbClr val="f37e1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b1824"/>
                </a:solidFill>
                <a:latin typeface="Arial"/>
              </a:rPr>
              <a:t>Доведение изменений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b1824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b1824"/>
                </a:solidFill>
                <a:latin typeface="Arial"/>
              </a:rPr>
              <a:t>по НПА, 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b1824"/>
                </a:solidFill>
                <a:latin typeface="Arial"/>
              </a:rPr>
              <a:t>ТФФ, КС до клиентов ФК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5451480" y="5197320"/>
            <a:ext cx="1917720" cy="609840"/>
          </a:xfrm>
          <a:custGeom>
            <a:avLst/>
            <a:gdLst>
              <a:gd name="textAreaLeft" fmla="*/ 0 w 1917720"/>
              <a:gd name="textAreaRight" fmla="*/ 1918080 w 191772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b180"/>
              </a:gs>
              <a:gs pos="100000">
                <a:srgbClr val="ffe7da"/>
              </a:gs>
            </a:gsLst>
            <a:lin ang="16200000"/>
          </a:gradFill>
          <a:ln w="9360">
            <a:solidFill>
              <a:srgbClr val="f37e1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b1824"/>
                </a:solidFill>
                <a:latin typeface="Arial"/>
              </a:rPr>
              <a:t>Доведение изменений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b1824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b1824"/>
                </a:solidFill>
                <a:latin typeface="Arial"/>
              </a:rPr>
              <a:t>по НПА, 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b1824"/>
                </a:solidFill>
                <a:latin typeface="Arial"/>
              </a:rPr>
              <a:t>ТФФ, КС до клиентов ФК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" dur="10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3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6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9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2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5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798480" y="1809360"/>
            <a:ext cx="777240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3811f"/>
                </a:solidFill>
                <a:latin typeface="Arial"/>
              </a:rPr>
              <a:t>3. ПЕРЕВОД КЛИЕНТОВ ФЕДЕРАЛЬНОГО КАЗНАЧЕЙСТВА НА</a:t>
            </a:r>
            <a:br>
              <a:rPr sz="4000"/>
            </a:br>
            <a:r>
              <a:rPr b="1" lang="ru-RU" sz="4000" spc="-1" strike="noStrike">
                <a:solidFill>
                  <a:srgbClr val="f3811f"/>
                </a:solidFill>
                <a:latin typeface="Arial"/>
              </a:rPr>
              <a:t> СУФД-ПОРТАЛ.</a:t>
            </a:r>
            <a:br>
              <a:rPr sz="4000"/>
            </a:br>
            <a:r>
              <a:rPr b="1" lang="ru-RU" sz="4000" spc="-1" strike="noStrike">
                <a:solidFill>
                  <a:srgbClr val="f3811f"/>
                </a:solidFill>
                <a:latin typeface="Arial"/>
              </a:rPr>
              <a:t> ПЕРСПЕКТИВЫ ДАЛЬНЕЙШЕГО РАЗВИТИЯ.</a:t>
            </a:r>
            <a:br>
              <a:rPr sz="4000"/>
            </a:br>
            <a:endParaRPr b="1" lang="en-US" sz="40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84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32D8A-F9B7-4F9F-A508-9EBFE26FB53D}" type="slidenum">
              <a:rPr b="1" lang="en-US" sz="2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7" name="" descr=""/>
          <p:cNvPicPr/>
          <p:nvPr/>
        </p:nvPicPr>
        <p:blipFill>
          <a:blip r:embed="rId2"/>
          <a:stretch/>
        </p:blipFill>
        <p:spPr>
          <a:xfrm>
            <a:off x="3403440" y="914400"/>
            <a:ext cx="1074960" cy="1082520"/>
          </a:xfrm>
          <a:prstGeom prst="rect">
            <a:avLst/>
          </a:prstGeom>
          <a:ln w="0">
            <a:noFill/>
          </a:ln>
        </p:spPr>
      </p:pic>
      <p:pic>
        <p:nvPicPr>
          <p:cNvPr id="848" name="Picture 6" descr="C:\Users\Оксана\Desktop\Стандарты презентации\Icons_\Classy Icons Pack\png\128x128\database.png"/>
          <p:cNvPicPr/>
          <p:nvPr/>
        </p:nvPicPr>
        <p:blipFill>
          <a:blip r:embed="rId3">
            <a:lum bright="8000"/>
          </a:blip>
          <a:stretch/>
        </p:blipFill>
        <p:spPr>
          <a:xfrm>
            <a:off x="4726080" y="1454040"/>
            <a:ext cx="761760" cy="79848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849" name="Picture 6" descr="C:\Users\Оксана\Desktop\Стандарты презентации\Icons_\Classy Icons Pack\png\128x128\database.png"/>
          <p:cNvPicPr/>
          <p:nvPr/>
        </p:nvPicPr>
        <p:blipFill>
          <a:blip r:embed="rId4">
            <a:lum bright="8000"/>
          </a:blip>
          <a:stretch/>
        </p:blipFill>
        <p:spPr>
          <a:xfrm>
            <a:off x="4448160" y="1633680"/>
            <a:ext cx="709560" cy="74268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850" name="Picture 6" descr="C:\Users\Оксана\Desktop\Стандарты презентации\Icons_\Classy Icons Pack\png\128x128\database.png"/>
          <p:cNvPicPr/>
          <p:nvPr/>
        </p:nvPicPr>
        <p:blipFill>
          <a:blip r:embed="rId5">
            <a:lum bright="8000"/>
          </a:blip>
          <a:stretch/>
        </p:blipFill>
        <p:spPr>
          <a:xfrm>
            <a:off x="4137120" y="1817640"/>
            <a:ext cx="657000" cy="68904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</p:pic>
      <p:cxnSp>
        <p:nvCxnSpPr>
          <p:cNvPr id="851" name="Соединительная линия уступом 88"/>
          <p:cNvCxnSpPr/>
          <p:nvPr/>
        </p:nvCxnSpPr>
        <p:spPr>
          <a:xfrm flipV="1">
            <a:off x="857160" y="3148920"/>
            <a:ext cx="5185440" cy="375480"/>
          </a:xfrm>
          <a:prstGeom prst="bentConnector3">
            <a:avLst>
              <a:gd name="adj1" fmla="val 49996"/>
            </a:avLst>
          </a:prstGeom>
          <a:ln w="76320">
            <a:solidFill>
              <a:srgbClr val="6f6f6f"/>
            </a:solidFill>
            <a:miter/>
          </a:ln>
        </p:spPr>
      </p:cxnSp>
      <p:sp>
        <p:nvSpPr>
          <p:cNvPr id="852" name="Скругленный прямоугольник 120"/>
          <p:cNvSpPr/>
          <p:nvPr/>
        </p:nvSpPr>
        <p:spPr>
          <a:xfrm>
            <a:off x="824040" y="5742000"/>
            <a:ext cx="2531880" cy="814320"/>
          </a:xfrm>
          <a:prstGeom prst="roundRect">
            <a:avLst>
              <a:gd name="adj" fmla="val 5403"/>
            </a:avLst>
          </a:prstGeom>
          <a:gradFill rotWithShape="0">
            <a:gsLst>
              <a:gs pos="0">
                <a:srgbClr val="88d8b4"/>
              </a:gs>
              <a:gs pos="100000">
                <a:srgbClr val="4cb88f"/>
              </a:gs>
            </a:gsLst>
            <a:lin ang="5400000"/>
          </a:gra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3f7fb"/>
                </a:solidFill>
                <a:latin typeface="Tahoma"/>
                <a:ea typeface="Tahoma"/>
              </a:rPr>
              <a:t>Локальное обновление справочников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Скругленный прямоугольник 121"/>
          <p:cNvSpPr/>
          <p:nvPr/>
        </p:nvSpPr>
        <p:spPr>
          <a:xfrm>
            <a:off x="3486240" y="3711600"/>
            <a:ext cx="2496960" cy="849240"/>
          </a:xfrm>
          <a:prstGeom prst="roundRect">
            <a:avLst>
              <a:gd name="adj" fmla="val 5403"/>
            </a:avLst>
          </a:prstGeom>
          <a:gradFill rotWithShape="0">
            <a:gsLst>
              <a:gs pos="0">
                <a:srgbClr val="57d185"/>
              </a:gs>
              <a:gs pos="100000">
                <a:srgbClr val="32c876"/>
              </a:gs>
            </a:gsLst>
            <a:lin ang="5400000"/>
          </a:gra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Единая информационная среда СУФД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Скругленный прямоугольник 66"/>
          <p:cNvSpPr/>
          <p:nvPr/>
        </p:nvSpPr>
        <p:spPr>
          <a:xfrm>
            <a:off x="6377040" y="3462480"/>
            <a:ext cx="2338200" cy="1006200"/>
          </a:xfrm>
          <a:prstGeom prst="roundRect">
            <a:avLst>
              <a:gd name="adj" fmla="val 5403"/>
            </a:avLst>
          </a:prstGeom>
          <a:gradFill rotWithShape="0">
            <a:gsLst>
              <a:gs pos="0">
                <a:srgbClr val="57d185"/>
              </a:gs>
              <a:gs pos="100000">
                <a:srgbClr val="32c876"/>
              </a:gs>
            </a:gsLst>
            <a:lin ang="5400000"/>
          </a:gra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Использование сервиса предварительной проверки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Скругленный прямоугольник 46"/>
          <p:cNvSpPr/>
          <p:nvPr/>
        </p:nvSpPr>
        <p:spPr>
          <a:xfrm>
            <a:off x="825480" y="4818240"/>
            <a:ext cx="2479680" cy="687240"/>
          </a:xfrm>
          <a:prstGeom prst="roundRect">
            <a:avLst>
              <a:gd name="adj" fmla="val 5403"/>
            </a:avLst>
          </a:prstGeom>
          <a:gradFill rotWithShape="0">
            <a:gsLst>
              <a:gs pos="0">
                <a:srgbClr val="7bafed"/>
              </a:gs>
              <a:gs pos="100000">
                <a:srgbClr val="5c8dee"/>
              </a:gs>
            </a:gsLst>
            <a:lin ang="5400000"/>
          </a:gra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Децентрализованная автоматизации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Скругленный прямоугольник 47"/>
          <p:cNvSpPr/>
          <p:nvPr/>
        </p:nvSpPr>
        <p:spPr>
          <a:xfrm>
            <a:off x="824040" y="3755880"/>
            <a:ext cx="2493720" cy="750960"/>
          </a:xfrm>
          <a:prstGeom prst="roundRect">
            <a:avLst>
              <a:gd name="adj" fmla="val 5403"/>
            </a:avLst>
          </a:prstGeom>
          <a:gradFill rotWithShape="0">
            <a:gsLst>
              <a:gs pos="0">
                <a:srgbClr val="57d185"/>
              </a:gs>
              <a:gs pos="100000">
                <a:srgbClr val="32c876"/>
              </a:gs>
            </a:gsLst>
            <a:lin ang="5400000"/>
          </a:gra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Локальные информационные системы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Скругленный прямоугольник 48"/>
          <p:cNvSpPr/>
          <p:nvPr/>
        </p:nvSpPr>
        <p:spPr>
          <a:xfrm>
            <a:off x="3486240" y="4826160"/>
            <a:ext cx="2496960" cy="733320"/>
          </a:xfrm>
          <a:prstGeom prst="roundRect">
            <a:avLst>
              <a:gd name="adj" fmla="val 5403"/>
            </a:avLst>
          </a:prstGeom>
          <a:gradFill rotWithShape="0">
            <a:gsLst>
              <a:gs pos="0">
                <a:srgbClr val="7bafed"/>
              </a:gs>
              <a:gs pos="100000">
                <a:srgbClr val="5c8dee"/>
              </a:gs>
            </a:gsLst>
            <a:lin ang="5400000"/>
          </a:gra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Централизованное обновление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Скругленный прямоугольник 52"/>
          <p:cNvSpPr/>
          <p:nvPr/>
        </p:nvSpPr>
        <p:spPr>
          <a:xfrm>
            <a:off x="3498840" y="5757840"/>
            <a:ext cx="2497320" cy="822240"/>
          </a:xfrm>
          <a:prstGeom prst="roundRect">
            <a:avLst>
              <a:gd name="adj" fmla="val 5403"/>
            </a:avLst>
          </a:prstGeom>
          <a:gradFill rotWithShape="0">
            <a:gsLst>
              <a:gs pos="0">
                <a:srgbClr val="88d8b4"/>
              </a:gs>
              <a:gs pos="100000">
                <a:srgbClr val="4cb88f"/>
              </a:gs>
            </a:gsLst>
            <a:lin ang="5400000"/>
          </a:gra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3f7fb"/>
                </a:solidFill>
                <a:latin typeface="Tahoma"/>
                <a:ea typeface="Tahoma"/>
              </a:rPr>
              <a:t>Единая система справочников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Скругленный прямоугольник 54"/>
          <p:cNvSpPr/>
          <p:nvPr/>
        </p:nvSpPr>
        <p:spPr>
          <a:xfrm>
            <a:off x="6377040" y="4579920"/>
            <a:ext cx="2338200" cy="1042920"/>
          </a:xfrm>
          <a:prstGeom prst="roundRect">
            <a:avLst>
              <a:gd name="adj" fmla="val 5403"/>
            </a:avLst>
          </a:prstGeom>
          <a:gradFill rotWithShape="0">
            <a:gsLst>
              <a:gs pos="0">
                <a:srgbClr val="7bafed"/>
              </a:gs>
              <a:gs pos="100000">
                <a:srgbClr val="5c8dee"/>
              </a:gs>
            </a:gsLst>
            <a:lin ang="5400000"/>
          </a:gra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Использование аналитического инструмента анализа отчетности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Скругленный прямоугольник 55"/>
          <p:cNvSpPr/>
          <p:nvPr/>
        </p:nvSpPr>
        <p:spPr>
          <a:xfrm>
            <a:off x="6377040" y="5746680"/>
            <a:ext cx="2338200" cy="846360"/>
          </a:xfrm>
          <a:prstGeom prst="roundRect">
            <a:avLst>
              <a:gd name="adj" fmla="val 5403"/>
            </a:avLst>
          </a:prstGeom>
          <a:gradFill rotWithShape="0">
            <a:gsLst>
              <a:gs pos="0">
                <a:srgbClr val="88d8b4"/>
              </a:gs>
              <a:gs pos="100000">
                <a:srgbClr val="4cb88f"/>
              </a:gs>
            </a:gsLst>
            <a:lin ang="5400000"/>
          </a:gra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Подключение подведомственных учреждений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1" name="Picture 3" descr="C:\Users\designer\Desktop\Для презентаций\выбор лота.png"/>
          <p:cNvPicPr/>
          <p:nvPr/>
        </p:nvPicPr>
        <p:blipFill>
          <a:blip r:embed="rId6"/>
          <a:stretch/>
        </p:blipFill>
        <p:spPr>
          <a:xfrm rot="21046200">
            <a:off x="5114880" y="1633680"/>
            <a:ext cx="1036800" cy="82548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862" name="Picture 39" descr="111"/>
          <p:cNvPicPr/>
          <p:nvPr/>
        </p:nvPicPr>
        <p:blipFill>
          <a:blip r:embed="rId7"/>
          <a:stretch/>
        </p:blipFill>
        <p:spPr>
          <a:xfrm>
            <a:off x="1857240" y="1692360"/>
            <a:ext cx="1022400" cy="106992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863" name="Picture 1" descr="C:\Users\designer\Desktop\Для презентаций\САЙТ МИНФИНА1.png"/>
          <p:cNvPicPr/>
          <p:nvPr/>
        </p:nvPicPr>
        <p:blipFill>
          <a:blip r:embed="rId8"/>
          <a:stretch/>
        </p:blipFill>
        <p:spPr>
          <a:xfrm rot="21156000">
            <a:off x="1953720" y="1750680"/>
            <a:ext cx="505080" cy="534960"/>
          </a:xfrm>
          <a:prstGeom prst="rect">
            <a:avLst/>
          </a:prstGeom>
          <a:ln w="0">
            <a:noFill/>
          </a:ln>
        </p:spPr>
      </p:pic>
      <p:pic>
        <p:nvPicPr>
          <p:cNvPr id="864" name="" descr=""/>
          <p:cNvPicPr/>
          <p:nvPr/>
        </p:nvPicPr>
        <p:blipFill>
          <a:blip r:embed="rId9"/>
          <a:stretch/>
        </p:blipFill>
        <p:spPr>
          <a:xfrm>
            <a:off x="919080" y="909720"/>
            <a:ext cx="919080" cy="1122120"/>
          </a:xfrm>
          <a:prstGeom prst="rect">
            <a:avLst/>
          </a:prstGeom>
          <a:ln w="0">
            <a:noFill/>
          </a:ln>
        </p:spPr>
      </p:pic>
      <p:sp>
        <p:nvSpPr>
          <p:cNvPr id="865" name=""/>
          <p:cNvSpPr/>
          <p:nvPr/>
        </p:nvSpPr>
        <p:spPr>
          <a:xfrm>
            <a:off x="1015920" y="2971800"/>
            <a:ext cx="207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05e5d"/>
                </a:solidFill>
                <a:latin typeface="Arial"/>
              </a:rPr>
              <a:t>сегодня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2064240" y="258840"/>
            <a:ext cx="515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811f"/>
                </a:solidFill>
                <a:latin typeface="Arial"/>
              </a:rPr>
              <a:t>Перевод клиентов ФК на СУФД-Портал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3519360" y="2643120"/>
            <a:ext cx="207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05e5d"/>
                </a:solidFill>
                <a:latin typeface="Arial"/>
              </a:rPr>
              <a:t>С 01.02.2014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6340320" y="2479680"/>
            <a:ext cx="257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05e5d"/>
                </a:solidFill>
                <a:latin typeface="Arial"/>
              </a:rPr>
              <a:t>Дополнительные возможност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9" name="Picture 39" descr="111"/>
          <p:cNvPicPr/>
          <p:nvPr/>
        </p:nvPicPr>
        <p:blipFill>
          <a:blip r:embed="rId10"/>
          <a:stretch/>
        </p:blipFill>
        <p:spPr>
          <a:xfrm>
            <a:off x="7040520" y="1401840"/>
            <a:ext cx="1022400" cy="106992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870" name="Picture 1" descr="C:\Users\designer\Desktop\Для презентаций\САЙТ МИНФИНА1.png"/>
          <p:cNvPicPr/>
          <p:nvPr/>
        </p:nvPicPr>
        <p:blipFill>
          <a:blip r:embed="rId11"/>
          <a:stretch/>
        </p:blipFill>
        <p:spPr>
          <a:xfrm rot="21156000">
            <a:off x="7137000" y="1460160"/>
            <a:ext cx="504720" cy="534960"/>
          </a:xfrm>
          <a:prstGeom prst="rect">
            <a:avLst/>
          </a:prstGeom>
          <a:ln w="0">
            <a:noFill/>
          </a:ln>
        </p:spPr>
      </p:pic>
      <p:sp>
        <p:nvSpPr>
          <p:cNvPr id="871" name=""/>
          <p:cNvSpPr/>
          <p:nvPr/>
        </p:nvSpPr>
        <p:spPr>
          <a:xfrm>
            <a:off x="3098880" y="4152960"/>
            <a:ext cx="635040" cy="0"/>
          </a:xfrm>
          <a:prstGeom prst="line">
            <a:avLst/>
          </a:prstGeom>
          <a:ln w="57240">
            <a:solidFill>
              <a:srgbClr val="605e5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3112920" y="5234040"/>
            <a:ext cx="635040" cy="0"/>
          </a:xfrm>
          <a:prstGeom prst="line">
            <a:avLst/>
          </a:prstGeom>
          <a:ln w="57240">
            <a:solidFill>
              <a:srgbClr val="605e5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3102120" y="6137280"/>
            <a:ext cx="634680" cy="0"/>
          </a:xfrm>
          <a:prstGeom prst="line">
            <a:avLst/>
          </a:prstGeom>
          <a:ln w="57240">
            <a:solidFill>
              <a:srgbClr val="605e5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1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4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7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874800" y="2800080"/>
            <a:ext cx="777240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3811f"/>
                </a:solidFill>
                <a:latin typeface="Arial"/>
              </a:rPr>
              <a:t>СПАСИБО ЗА ВНИМАНИЕ</a:t>
            </a:r>
            <a:endParaRPr b="1" lang="en-US" sz="40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87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E4DBC-1D32-4A14-A989-905040932C12}" type="slidenum">
              <a:rPr b="1" lang="en-US" sz="2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7T06:57:33Z</dcterms:created>
  <dc:creator>PowerLexis</dc:creator>
  <dc:description/>
  <dc:language>en-US</dc:language>
  <cp:lastModifiedBy>user</cp:lastModifiedBy>
  <dcterms:modified xsi:type="dcterms:W3CDTF">2013-09-03T06:37:47Z</dcterms:modified>
  <cp:revision>568</cp:revision>
  <dc:subject/>
  <dc:title>Корпоративный шаблон презентаций компании ОТР</dc:title>
</cp:coreProperties>
</file>