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596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356-AF6B-4192-BEBA-BE8D9C1F1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5596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91E-19E5-4ACA-AA72-DAD5C9E21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2AB-E2A6-46AF-9AEA-5EAC82D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01C-1948-415C-9346-FBD622E4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5E4-C433-4035-9613-868C57D6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659-92A7-4E2A-BC50-F462C713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13A-A10A-47DB-B4E8-0610937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8BC-9A6A-4E06-AD2E-104CA32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79E-1C26-4DC0-AB7F-6891547C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D64-BC4D-454C-9DD4-D6B87AB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76-BD67-4B4B-A3C1-36B1D60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255-6211-4533-87DE-CAADF12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0D0-EE31-46FD-953A-D6F093A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83F-1621-4AC0-8077-AC7768E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E51-7231-470E-BDA3-85C5C9F436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34F-5CDA-45B1-A460-499660CA6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430200" y="3708360"/>
            <a:ext cx="84279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49e"/>
                </a:solidFill>
                <a:latin typeface="Calibri"/>
              </a:rPr>
              <a:t>Подготовка и Закрытие 201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52DA-E162-495E-B851-AA4FD7A3B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115920"/>
            <a:ext cx="612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Типовой план работ по завершению финансового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ные выше доработки привели к изменению типового плана работ и документации ПП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ой план работ (изменения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CDBF-84D9-481A-8CA3-E385C6131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2133720"/>
          <a:ext cx="7704000" cy="3456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закрывались дваж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закрываются 1 раз в последний день дополнительного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ос «АСФК: Корректировка внутриказначейских расчетов» используется для корректировки отражения операций по внутренним расче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ос «АСФК: Корректировка внутриказначейских расчетов»  используется только для валютных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5759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Этапы  пилотирования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ECEE-3E07-47CE-A94B-B09204C6D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3933720"/>
          <a:ext cx="8462880" cy="2046240"/>
        </p:xfrm>
        <a:graphic>
          <a:graphicData uri="http://schemas.openxmlformats.org/drawingml/2006/table">
            <a:tbl>
              <a:tblPr/>
              <a:tblGrid>
                <a:gridCol w="5931000"/>
                <a:gridCol w="2531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62387"/>
                          </a:solidFill>
                          <a:uFillTx/>
                          <a:latin typeface="Calibri"/>
                        </a:rPr>
                        <a:t>2 этап пилотирова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62387"/>
                          </a:solidFill>
                          <a:uFillTx/>
                          <a:latin typeface="Calibri"/>
                        </a:rPr>
                        <a:t>ППИ 17 вер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Проверка корректности формирования реги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05.11.201</a:t>
                      </a: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 - 15.11.201</a:t>
                      </a: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Проверка быстродействия П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8.11.201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– 22.11.201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Проверить консолидацию с учетом доработки Отчета об операц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18.11.2013 – </a:t>
                      </a:r>
                      <a:r>
                        <a:rPr b="0" lang="en-US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9.11.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8360" y="1197000"/>
          <a:ext cx="8353440" cy="2544840"/>
        </p:xfrm>
        <a:graphic>
          <a:graphicData uri="http://schemas.openxmlformats.org/drawingml/2006/table">
            <a:tbl>
              <a:tblPr/>
              <a:tblGrid>
                <a:gridCol w="5878440"/>
                <a:gridCol w="2475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449e"/>
                          </a:solidFill>
                          <a:uFillTx/>
                          <a:latin typeface="Calibri"/>
                        </a:rPr>
                        <a:t>1 этап пилотирова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449e"/>
                          </a:solidFill>
                          <a:uFillTx/>
                          <a:latin typeface="Calibri"/>
                        </a:rPr>
                        <a:t>ППИ 16 вер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Проверка учетных данных на промышленном инстан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02.09.201</a:t>
                      </a:r>
                      <a:r>
                        <a:rPr b="0" lang="en-US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 - </a:t>
                      </a:r>
                      <a:r>
                        <a:rPr b="0" lang="en-US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06</a:t>
                      </a:r>
                      <a:r>
                        <a:rPr b="0" lang="ru-RU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.09.201</a:t>
                      </a:r>
                      <a:r>
                        <a:rPr b="0" lang="en-US" sz="16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Подготовка тестовой среды для пилот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.09.201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– 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9</a:t>
                      </a:r>
                      <a:r>
                        <a:rPr b="0" lang="ru-RU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.201</a:t>
                      </a:r>
                      <a:r>
                        <a:rPr b="0" lang="en-US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Проверка остатков на лицевых счетах по новой дорабо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11</a:t>
                      </a: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.0</a:t>
                      </a: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.2013 – 1</a:t>
                      </a: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.0</a:t>
                      </a:r>
                      <a:r>
                        <a:rPr b="0" lang="en-US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.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Закрытие 2013 года на тестовом инстан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.0</a:t>
                      </a:r>
                      <a:r>
                        <a:rPr b="0" lang="en-US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.2013 – </a:t>
                      </a:r>
                      <a:r>
                        <a:rPr b="0" lang="en-US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23</a:t>
                      </a: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.0</a:t>
                      </a:r>
                      <a:r>
                        <a:rPr b="0" lang="en-US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600" spc="-1" strike="noStrike">
                          <a:solidFill>
                            <a:srgbClr val="604a7b"/>
                          </a:solidFill>
                          <a:latin typeface="Calibri"/>
                        </a:rPr>
                        <a:t>.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9760" y="115560"/>
            <a:ext cx="65278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Координация и контроль работ. 1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0920" y="235728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marL="312120" indent="0">
              <a:lnSpc>
                <a:spcPct val="15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лоты фиксируют ход работ в интерактивных чек-листах на портале поддер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4C6D-C892-4C7A-B833-8A73FA4B6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3892680" y="3000240"/>
            <a:ext cx="1358640" cy="1357560"/>
          </a:xfrm>
          <a:prstGeom prst="ellipse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00200" y="4928760"/>
            <a:ext cx="35719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lnSpc>
                <a:spcPct val="15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матически формируется сводный отчет, отражающий динамику пилот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43680" y="114300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marL="294840" indent="0">
              <a:lnSpc>
                <a:spcPct val="15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15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и ФК просматривают сводный отчет в интерактивном режи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8"/>
          <p:cNvSpPr/>
          <p:nvPr/>
        </p:nvSpPr>
        <p:spPr>
          <a:xfrm>
            <a:off x="1606680" y="3643200"/>
            <a:ext cx="2251080" cy="870120"/>
          </a:xfrm>
          <a:custGeom>
            <a:avLst/>
            <a:gdLst/>
            <a:ahLst/>
            <a:rect l="l" t="t" r="r" b="b"/>
            <a:pathLst>
              <a:path w="2251494" h="870097">
                <a:moveTo>
                  <a:pt x="0" y="0"/>
                </a:moveTo>
                <a:cubicBezTo>
                  <a:pt x="241556" y="400946"/>
                  <a:pt x="467455" y="870097"/>
                  <a:pt x="2251494" y="379563"/>
                </a:cubicBezTo>
              </a:path>
            </a:pathLst>
          </a:custGeom>
          <a:noFill/>
          <a:ln w="76320">
            <a:solidFill>
              <a:srgbClr val="f7964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9"/>
          <p:cNvSpPr/>
          <p:nvPr/>
        </p:nvSpPr>
        <p:spPr>
          <a:xfrm flipH="1" rot="20619600">
            <a:off x="5266080" y="2687400"/>
            <a:ext cx="1927440" cy="592200"/>
          </a:xfrm>
          <a:custGeom>
            <a:avLst/>
            <a:gdLst/>
            <a:ahLst/>
            <a:rect l="l" t="t" r="r" b="b"/>
            <a:pathLst>
              <a:path w="1926695" h="592315">
                <a:moveTo>
                  <a:pt x="0" y="0"/>
                </a:moveTo>
                <a:cubicBezTo>
                  <a:pt x="47269" y="526759"/>
                  <a:pt x="1438644" y="592315"/>
                  <a:pt x="1926695" y="477140"/>
                </a:cubicBezTo>
              </a:path>
            </a:pathLst>
          </a:custGeom>
          <a:noFill/>
          <a:ln w="76320">
            <a:solidFill>
              <a:srgbClr val="4f81bd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10"/>
          <p:cNvSpPr/>
          <p:nvPr/>
        </p:nvSpPr>
        <p:spPr>
          <a:xfrm rot="12724200">
            <a:off x="4848120" y="4398480"/>
            <a:ext cx="1789200" cy="993960"/>
          </a:xfrm>
          <a:custGeom>
            <a:avLst/>
            <a:gdLst/>
            <a:ahLst/>
            <a:rect l="l" t="t" r="r" b="b"/>
            <a:pathLst>
              <a:path w="1788438" h="992797">
                <a:moveTo>
                  <a:pt x="278396" y="0"/>
                </a:moveTo>
                <a:cubicBezTo>
                  <a:pt x="0" y="162089"/>
                  <a:pt x="4399" y="992797"/>
                  <a:pt x="1788438" y="502263"/>
                </a:cubicBezTo>
              </a:path>
            </a:pathLst>
          </a:custGeom>
          <a:noFill/>
          <a:ln w="76320">
            <a:solidFill>
              <a:srgbClr val="9bbb5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Типовой план работ по завершению финансового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итогам пилотирования закрытия года пилотным регионам необходимо буд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ить возможные ошибки в реализованном функционале по закрытию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корректность  выполнения операций, которые носят специфику, связанную с особенностью рег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ить корректность отражения результатов закрытия в регистрах, отчетах, лицевых сч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анализировать весь пакет документов по З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предложения/замечания к пакету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окончании каждого этапа пилотирования, версии будут переданы в промышленную эксплуатацию с доработанным пакетом документов по замечаниям пилотных реги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1E86-9B1F-413A-B1C3-FB3138EC1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Цель проекта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1360" y="2071800"/>
            <a:ext cx="67150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ытие 2013 года в установленные планом работ сроки с результатами, обеспечивающими своевременную сдачу годовой отчетности и корректное формирование главной книг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70B1-3C0C-469A-B4EE-6B6E20F06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http://russianpoetry.ru/images/photos/medium/article98675.jpg"/>
          <p:cNvPicPr/>
          <p:nvPr/>
        </p:nvPicPr>
        <p:blipFill>
          <a:blip r:embed="rId1"/>
          <a:stretch/>
        </p:blipFill>
        <p:spPr>
          <a:xfrm>
            <a:off x="6357960" y="3573360"/>
            <a:ext cx="2786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данных к завершению года заключается в диагностике и исправлении ошибок, обнаруженных в ходе диагностики данных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2013 года процедура и порядок выполнения диагностических мероприятий вошли в состав ТР 111.  Структура ТР 111 представлена в таблиц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768D-859C-4A31-BE38-8E8AD7A81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908000" y="115560"/>
            <a:ext cx="6120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ТР 111. Диагностика данных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2708280"/>
          <a:ext cx="8640720" cy="345744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гностика и исправление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гностика и исправление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гностика и исправление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ытие операционного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справ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справ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ытие учетного периода = меся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ршение финансового года по пла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Особенности диагностики данных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жедневная диагностика включ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гностику и исправление непроведенных журна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ение ошибок, отраженных в отчете по ошибкам закрытого операционного дня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жемесячная диагностика включ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у справоч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гностику и исправление непроведенных журна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агностику и исправление балан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у корректности остатков на лицевых сч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гностика данных перед завершением г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ет мероприятия ежемесячной диагностики с частотой выполнения – 2 раза в декаб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D40F-CC5B-4847-BF7E-FBD3C0DA6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16 версия. Новое в ППО по диагностике данных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 отдельный пункт меню с названием «Диагностика данны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FCA9-20AE-4221-9D91-75C228D95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13-09-02_152825.jpg"/>
          <p:cNvPicPr/>
          <p:nvPr/>
        </p:nvPicPr>
        <p:blipFill>
          <a:blip r:embed="rId1"/>
          <a:stretch/>
        </p:blipFill>
        <p:spPr>
          <a:xfrm>
            <a:off x="539640" y="1989000"/>
            <a:ext cx="799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16 версия. Новое в ППО по диагностике данных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 остатков на лицевых счетах выполняется с помощью нерегламентированных отчетов (5 отче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по закрытому операционному дню дополнен новыми провер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и в отчете по закрытому операционному дню сгруппированы по периодам: день, месяц ,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по закрытому операционному дню формируется быстрее (быстродействие предстоит оценить пилотным регион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B72-3340-43CC-9018-331AE85FA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16 версия. Новое в ППО по закрытию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 отдельный пункт меню «Завершение финансового го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ы по закрытию года сгруппированы по годам: 2010, 2011, 201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BA46-A5E9-4A08-A572-DE4A2137C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2013-09-02_152639.jpg"/>
          <p:cNvPicPr/>
          <p:nvPr/>
        </p:nvPicPr>
        <p:blipFill>
          <a:blip r:embed="rId1"/>
          <a:stretch/>
        </p:blipFill>
        <p:spPr>
          <a:xfrm>
            <a:off x="755640" y="1989000"/>
            <a:ext cx="7416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16 версия. Новое в ППО по закрытию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ытие года в ППО можно выполнить по типу учреждения и виду средст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азенным учрежде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неучастникам (автономным и бюджетным учреждения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менить результаты закрытия (запрос «Удаление проводок в межотчетном периоде») мож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ьно по доходам и отдельно по расхо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ипу учреждения и виду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  «АСФК: Корректировка внутриказначейских расчетов» выполняется только по валютным операц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отказа от использования субсчета 40212 уменьшаем длительность работы запросов по закрытию года в части дох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лючаем из корреспонденции субсчет 402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ции межотчетного периода отражаются первым днем нового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ции заключения счетов отражаются в ведомости внутренних расч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6542-576D-4F3C-A396-25510E2D6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17 версия. Новое в ППО по закрытию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заказу федерального казначейства будет выполнена еще часть доработок, направленных на оптимизацию функционала по закрытию года и формированию регистров. Эти доработки войдут в состав 17 верс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работка по Отчету об операциях с делением на 3 раз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работка по автоматизации проверки справки по заключению счетов с главной книгой (федеральный бюдж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работка, направленная на улучшение быстродействия формирования отчетов, регистров, запросов по закрытию года и других запросов (организовано хранение данных в таблице по балансам в разрезе месяцев, ранее данные хранили по годам. Это позволит максимально быстро выполнять операции в ППО АСФ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5FB8-F0C5-48E4-90E4-2964070AB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>Краткая презентация для руководителя ФК</dc:description>
  <dc:language>en-US</dc:language>
  <cp:lastModifiedBy>Ренат Мамлеев</cp:lastModifiedBy>
  <dcterms:modified xsi:type="dcterms:W3CDTF">2013-09-11T07:08:00Z</dcterms:modified>
  <cp:revision>965</cp:revision>
  <dc:subject/>
  <dc:title>Краткая 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