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F58EE-3127-4564-A950-9A57F3927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9CB6A-94A4-4FA5-8176-84E57D120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22160-7D2A-434C-9221-9A7A9EEA7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96C51-A6F8-4127-89B4-2B73F4DBE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A14-DC7C-4990-8B40-ED589018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E6D-D052-4D10-844B-526806C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504-E667-472C-B63A-79CC28DF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3CB-26B5-4DCB-95C8-0B4197C8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B73-D830-402A-B3D9-22C4439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5F6-6AB5-4E43-AE75-41A52C4B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AED-2E73-4F43-A5D3-5E6CD8BF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AC6-C980-4F86-8B6C-25C99D8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0E3-8877-4853-B166-524209C0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E03-26C2-4F60-9823-63C12A08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09E-A5DB-4ACF-AABD-DAEA3C5D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E3E-61DA-4E09-BD2D-A7A7552B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4258-529D-4F15-9E42-D67C72010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4000" y="1341360"/>
            <a:ext cx="84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Актуальные вопросы ведения бюджетного учета по кассовому обслуживанию бюджетных и автономных учрежд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187280" y="5157720"/>
            <a:ext cx="795672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Заместитель начальника Отдела методического обеспе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бюджетного учета и отчетности кассового обслуживания бюдже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Управления бюджетного учета и отчет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Федерального казначейст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Н.Е. Марк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5" name="Rounded Rectangle 8"/>
          <p:cNvSpPr/>
          <p:nvPr/>
        </p:nvSpPr>
        <p:spPr>
          <a:xfrm>
            <a:off x="287280" y="1268280"/>
            <a:ext cx="4284720" cy="266544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ланс по операциям кассового обслуживания бюджетных учреждений, автономных учреждений и иных организац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ф. 05031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040 графы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ounded Rectangle 8"/>
          <p:cNvSpPr/>
          <p:nvPr/>
        </p:nvSpPr>
        <p:spPr>
          <a:xfrm>
            <a:off x="4716360" y="1268280"/>
            <a:ext cx="4176720" cy="266544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чет о кассовом поступлении и выбытии средств бюджетных учреждений, автономных учреждений и иных организаций (ф. 050315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826 графы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8200" y="3284640"/>
            <a:ext cx="813744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38200" y="4581360"/>
            <a:ext cx="8137440" cy="136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четы не подлежат консолид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равка по консолидируемым расчетам (ф. 050312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формиру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2131920"/>
            <a:ext cx="4245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пераций по кассовому обслуживанию бюджетных учрежд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2203200"/>
            <a:ext cx="4495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пераций по кассовому обслуживанию исполнения соответствующего бюдж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94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открытия и ведения лицевых счетов бюджетных и автономных учреждений в финансовом органе субъекта Российской Федерации (муниципального образован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306720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005f"/>
                </a:solidFill>
                <a:latin typeface="Times New Roman"/>
              </a:rPr>
              <a:t>Перечисление остатков средств бюджетных, автономных учреждений с балансового счета № 40601 (№ 40701) на балансовый счет № 40201 (№ 402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3789360"/>
            <a:ext cx="4572000" cy="71928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Дебет 000 00 00 00 00 00 0000 8 307 13 000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Кредит 100 01 05 02 01 XX 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&lt;1&gt;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 0000 8 203 13 610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643280" y="3789360"/>
            <a:ext cx="4500720" cy="71928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100 01 05 02 01 XX 0000 1 203 12 5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XXX  01  06  10 02 XX XXXX &lt;2&gt; 1 307 12 5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457992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005f"/>
                </a:solidFill>
                <a:latin typeface="Times New Roman"/>
              </a:rPr>
              <a:t>Перечисление/ возврат средств с балансового счета № 40201 (№ 40204) на балансовый счет № 40601 (№ 4070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0" y="5302080"/>
            <a:ext cx="4572000" cy="64800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Дебет 100 01 05 02 01 XX 0000 8 203 13 510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Кредит 000 00 00 00 00 00 0000 8 307 13 000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643280" y="5302080"/>
            <a:ext cx="4500720" cy="64800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XXX 01 06 10 02 XX XXXX 1 307 12 5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100  01  05  02 01 XX 0000 1 203 12 6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0" y="6025320"/>
            <a:ext cx="820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1&gt; XX - соответствующий код элемента кода статьи источников финансирования дефицитов бюджетов - 10 02 X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3&gt; XXXX - соответствующий код вида источников финансирования дефицита бюджето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142920" y="1052640"/>
            <a:ext cx="889308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4" name="Rounded Rectangle 8"/>
          <p:cNvSpPr/>
          <p:nvPr/>
        </p:nvSpPr>
        <p:spPr>
          <a:xfrm>
            <a:off x="179280" y="1268280"/>
            <a:ext cx="4284720" cy="316872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ланс по операциям кассового обслуживания бюджетных учреждений, автономных учреждений и иных организац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ф. 05031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графы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ounded Rectangle 8"/>
          <p:cNvSpPr/>
          <p:nvPr/>
        </p:nvSpPr>
        <p:spPr>
          <a:xfrm>
            <a:off x="4537080" y="1268280"/>
            <a:ext cx="4427640" cy="316872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чет о кассовом поступлении и выбытии средств бюджетных учреждений, автономных учреждений и иных организаций (ф. 050315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010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графы 4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части поступлен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коду строки 200 графы 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части выбыт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539640" y="3068640"/>
            <a:ext cx="8137800" cy="25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В общей сумме поступлений и выбыт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средств бюджетных (автономных)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04"/>
          <p:cNvSpPr/>
          <p:nvPr/>
        </p:nvSpPr>
        <p:spPr>
          <a:xfrm>
            <a:off x="-1282680" y="3785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25"/>
          <p:cNvSpPr/>
          <p:nvPr/>
        </p:nvSpPr>
        <p:spPr>
          <a:xfrm>
            <a:off x="0" y="0"/>
            <a:ext cx="8604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фина России от 28.12.2010 № 191н «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 и представления годовой, квартальной и месячной отчетности об исполнении бюджетов бюджетной системы Российской Федерации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ounded Rectangle 8"/>
          <p:cNvSpPr/>
          <p:nvPr/>
        </p:nvSpPr>
        <p:spPr>
          <a:xfrm>
            <a:off x="1116000" y="4292640"/>
            <a:ext cx="7777080" cy="14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не представляется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главным распорядителям бюджетных средств, осуществляющим полномочия по предоставлению из соответствующего бюджета субсидии государственному (муниципальному) бюджетному, автономному учрежд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58680" y="5732640"/>
            <a:ext cx="908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 Минфин России направлены предложения о внесении изменений в приказ от 28.12.2010 № 191н в части исключения абзаца 3 пункта 257 и абзаца 4 пункта 265, как противоречащих абзацу 1 указанных пунктов приказ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ounded Rectangle 8"/>
          <p:cNvSpPr/>
          <p:nvPr/>
        </p:nvSpPr>
        <p:spPr>
          <a:xfrm>
            <a:off x="0" y="1052640"/>
            <a:ext cx="4572000" cy="129672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ланс по операциям кассового обслуживания бюджетных учреждений, автономных учреждений и иных организаций (ф. 05031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ounded Rectangle 8"/>
          <p:cNvSpPr/>
          <p:nvPr/>
        </p:nvSpPr>
        <p:spPr>
          <a:xfrm>
            <a:off x="4643280" y="1052640"/>
            <a:ext cx="4500720" cy="1296720"/>
          </a:xfrm>
          <a:prstGeom prst="roundRect">
            <a:avLst>
              <a:gd name="adj" fmla="val 16667"/>
            </a:avLst>
          </a:prstGeom>
          <a:solidFill>
            <a:srgbClr val="e9f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 о кассовом поступлении и выбытии средств бюджетных учреждений, автономных учреждений и иных организаций (ф. 050315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1" descr="qwe"/>
          <p:cNvPicPr/>
          <p:nvPr/>
        </p:nvPicPr>
        <p:blipFill>
          <a:blip r:embed="rId1"/>
          <a:stretch/>
        </p:blipFill>
        <p:spPr>
          <a:xfrm>
            <a:off x="112680" y="2781360"/>
            <a:ext cx="858960" cy="8586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8"/>
          <p:cNvSpPr/>
          <p:nvPr/>
        </p:nvSpPr>
        <p:spPr>
          <a:xfrm>
            <a:off x="1116000" y="2421000"/>
            <a:ext cx="7704000" cy="16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представляется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в финансовый орган бюджета, в рамках которого осуществляют свою деятельность главные администраторы средств бюджета, являющиеся учредителями бюджетных учреждений, автономных учреждений и иных организ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3" descr="dgdg"/>
          <p:cNvPicPr/>
          <p:nvPr/>
        </p:nvPicPr>
        <p:blipFill>
          <a:blip r:embed="rId2"/>
          <a:stretch/>
        </p:blipFill>
        <p:spPr>
          <a:xfrm>
            <a:off x="0" y="4462560"/>
            <a:ext cx="10796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 115 приказа Минфина России от 6 декабря 2010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2н «Об утверждении Плана счетов бюджетного учета и Инструкции по его применению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д. Приказа Минфина России от 24.12.2012 N 174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едение учета по счетам 030713000 "Расчеты по операциям бюджетных учреждений", 030714000 "Расчеты по операциям автономных учреждений" обеспечивается органом, осуществляющим кассовое обслуживание,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Times New Roman"/>
              </a:rPr>
              <a:t>с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казанием в первых трех разрядах номера счета кода главного распорядителя бюджетных средств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 осуществляющего полномочия по предоставлению из соответствующего бюджета субсидии государственному (муниципальному) бюджетному, автономному учреждению, операции по обслуживанию лицевого счета которого отражаются на соответствующем счете аналитического учета Плана счетов бюджетного уч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84360" y="1810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ведения бюджетного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395280" y="2492280"/>
            <a:ext cx="8569440" cy="395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0" y="1062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2014 года бюджетный учет операций со средствами бюджетных и автономных учреждений  будет осуществляться с указанием в структуре номеров счетов расчетов кодов глав главных распорядителей бюджетных средств, осуществляющих полномочия учредителей бюджетных или автономных учрежд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Группа 4"/>
          <p:cNvGrpSpPr/>
          <p:nvPr/>
        </p:nvGrpSpPr>
        <p:grpSpPr>
          <a:xfrm>
            <a:off x="253440" y="3705120"/>
            <a:ext cx="8710200" cy="1739880"/>
            <a:chOff x="253440" y="3705120"/>
            <a:chExt cx="8710200" cy="1739880"/>
          </a:xfrm>
        </p:grpSpPr>
        <p:sp>
          <p:nvSpPr>
            <p:cNvPr id="175" name="TextBox 5"/>
            <p:cNvSpPr/>
            <p:nvPr/>
          </p:nvSpPr>
          <p:spPr>
            <a:xfrm>
              <a:off x="253440" y="3982680"/>
              <a:ext cx="577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ППП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00000000000000 7(8,9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Box 7"/>
            <p:cNvSpPr/>
            <p:nvPr/>
          </p:nvSpPr>
          <p:spPr>
            <a:xfrm>
              <a:off x="3394080" y="3705120"/>
              <a:ext cx="4486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21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0713(4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09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Box 10"/>
            <p:cNvSpPr/>
            <p:nvPr/>
          </p:nvSpPr>
          <p:spPr>
            <a:xfrm>
              <a:off x="4475880" y="3982680"/>
              <a:ext cx="448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ХХ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TextBox 12"/>
          <p:cNvSpPr/>
          <p:nvPr/>
        </p:nvSpPr>
        <p:spPr>
          <a:xfrm>
            <a:off x="0" y="5589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де, ППП – код главы главного распорядителя средств бюджета, осуществляющего полномочия учредителя бюджетных или автономных учрежд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ХХ – код КОС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24000" y="181080"/>
            <a:ext cx="74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ведения бюджетного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04"/>
          <p:cNvSpPr/>
          <p:nvPr/>
        </p:nvSpPr>
        <p:spPr>
          <a:xfrm>
            <a:off x="-1282680" y="3785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10"/>
          <p:cNvSpPr/>
          <p:nvPr/>
        </p:nvSpPr>
        <p:spPr>
          <a:xfrm>
            <a:off x="539640" y="0"/>
            <a:ext cx="8064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инансово-хозяйственной деятельности (ф. 0503737)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ounded Rectangle 8"/>
          <p:cNvSpPr/>
          <p:nvPr/>
        </p:nvSpPr>
        <p:spPr>
          <a:xfrm>
            <a:off x="655560" y="1557360"/>
            <a:ext cx="7804080" cy="86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25"/>
          <p:cNvSpPr/>
          <p:nvPr/>
        </p:nvSpPr>
        <p:spPr>
          <a:xfrm>
            <a:off x="34920" y="1052640"/>
            <a:ext cx="9028080" cy="459720"/>
          </a:xfrm>
          <a:prstGeom prst="rect">
            <a:avLst/>
          </a:prstGeom>
          <a:solidFill>
            <a:srgbClr val="c3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фина России от 25.03.2011 № 33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ounded Rectangle 8"/>
          <p:cNvSpPr/>
          <p:nvPr/>
        </p:nvSpPr>
        <p:spPr>
          <a:xfrm>
            <a:off x="250920" y="2492280"/>
            <a:ext cx="8642160" cy="34578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ся учреждением (обособленным подразделением) в разрезе видов финансового обеспечения (деятельности) по состоянию на 1 апреля, 1 июля, 1 октября, 1 января года, следующего за отчетным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е доходы учреждения (код вида - 2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я на выполнение государственного (муниципального) задания (код вида - 4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 на иные цели (код вида - 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инвестиции (код вида - 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по обязательному медицинскому страхованию (код вида - 7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58680" y="5956200"/>
            <a:ext cx="89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ф. 0503737 по виду финансового обеспечения (деятельности) - средства во временном распоряжен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 (код вида – 3) не составля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04"/>
          <p:cNvSpPr/>
          <p:nvPr/>
        </p:nvSpPr>
        <p:spPr>
          <a:xfrm>
            <a:off x="-1282680" y="3785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10"/>
          <p:cNvSpPr/>
          <p:nvPr/>
        </p:nvSpPr>
        <p:spPr>
          <a:xfrm>
            <a:off x="539640" y="0"/>
            <a:ext cx="8064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инансово-хозяйственной деятельности (ф. 0503737)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ounded Rectangle 8"/>
          <p:cNvSpPr/>
          <p:nvPr/>
        </p:nvSpPr>
        <p:spPr>
          <a:xfrm>
            <a:off x="5364000" y="4940280"/>
            <a:ext cx="3699000" cy="15130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вой счет бюджетного учреждения для учета операций со средствами ОМС (ф.05319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ounded Rectangle 8"/>
          <p:cNvSpPr/>
          <p:nvPr/>
        </p:nvSpPr>
        <p:spPr>
          <a:xfrm>
            <a:off x="34920" y="1557360"/>
            <a:ext cx="424980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5"/>
          <p:cNvSpPr/>
          <p:nvPr/>
        </p:nvSpPr>
        <p:spPr>
          <a:xfrm>
            <a:off x="34920" y="1052640"/>
            <a:ext cx="9028080" cy="368280"/>
          </a:xfrm>
          <a:prstGeom prst="rect">
            <a:avLst/>
          </a:prstGeom>
          <a:solidFill>
            <a:srgbClr val="c3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ounded Rectangle 8"/>
          <p:cNvSpPr/>
          <p:nvPr/>
        </p:nvSpPr>
        <p:spPr>
          <a:xfrm>
            <a:off x="34920" y="3271680"/>
            <a:ext cx="424980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ounded Rectangle 8"/>
          <p:cNvSpPr/>
          <p:nvPr/>
        </p:nvSpPr>
        <p:spPr>
          <a:xfrm>
            <a:off x="34920" y="4940280"/>
            <a:ext cx="4249800" cy="1513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ounded Rectangle 8"/>
          <p:cNvSpPr/>
          <p:nvPr/>
        </p:nvSpPr>
        <p:spPr>
          <a:xfrm>
            <a:off x="5364000" y="3271680"/>
            <a:ext cx="3699000" cy="15112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дельный лицевой счет бюджетного учре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ф.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ounded Rectangle 8"/>
          <p:cNvSpPr/>
          <p:nvPr/>
        </p:nvSpPr>
        <p:spPr>
          <a:xfrm>
            <a:off x="5364000" y="1557360"/>
            <a:ext cx="3699000" cy="15112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вой счет бюджетного учре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ф. 05319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Двойная стрелка влево/вправо 6"/>
          <p:cNvSpPr/>
          <p:nvPr/>
        </p:nvSpPr>
        <p:spPr>
          <a:xfrm>
            <a:off x="4284720" y="1916280"/>
            <a:ext cx="1079280" cy="576000"/>
          </a:xfrm>
          <a:prstGeom prst="leftRightArrow">
            <a:avLst>
              <a:gd name="adj1" fmla="val 50000"/>
              <a:gd name="adj2" fmla="val 50010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Двойная стрелка влево/вправо 24"/>
          <p:cNvSpPr/>
          <p:nvPr/>
        </p:nvSpPr>
        <p:spPr>
          <a:xfrm>
            <a:off x="4289400" y="3786120"/>
            <a:ext cx="1081080" cy="576360"/>
          </a:xfrm>
          <a:prstGeom prst="leftRightArrow">
            <a:avLst>
              <a:gd name="adj1" fmla="val 50000"/>
              <a:gd name="adj2" fmla="val 49993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Двойная стрелка влево/вправо 25"/>
          <p:cNvSpPr/>
          <p:nvPr/>
        </p:nvSpPr>
        <p:spPr>
          <a:xfrm>
            <a:off x="4284720" y="5486400"/>
            <a:ext cx="1079280" cy="576360"/>
          </a:xfrm>
          <a:prstGeom prst="leftRightArrow">
            <a:avLst>
              <a:gd name="adj1" fmla="val 50000"/>
              <a:gd name="adj2" fmla="val 49978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04"/>
          <p:cNvSpPr/>
          <p:nvPr/>
        </p:nvSpPr>
        <p:spPr>
          <a:xfrm>
            <a:off x="-1282680" y="3785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0"/>
          <p:cNvSpPr/>
          <p:nvPr/>
        </p:nvSpPr>
        <p:spPr>
          <a:xfrm>
            <a:off x="539640" y="0"/>
            <a:ext cx="80647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инансово-хозяйственной деятельности (ф. 0503737)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ounded Rectangle 8"/>
          <p:cNvSpPr/>
          <p:nvPr/>
        </p:nvSpPr>
        <p:spPr>
          <a:xfrm>
            <a:off x="5364000" y="4940280"/>
            <a:ext cx="3699000" cy="15130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вой счет автономного учреждения для учета операций со средствами ОМС (ф.05319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ounded Rectangle 8"/>
          <p:cNvSpPr/>
          <p:nvPr/>
        </p:nvSpPr>
        <p:spPr>
          <a:xfrm>
            <a:off x="108000" y="1557360"/>
            <a:ext cx="417672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дам КОСГ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25"/>
          <p:cNvSpPr/>
          <p:nvPr/>
        </p:nvSpPr>
        <p:spPr>
          <a:xfrm>
            <a:off x="34920" y="1052640"/>
            <a:ext cx="9028080" cy="368280"/>
          </a:xfrm>
          <a:prstGeom prst="rect">
            <a:avLst/>
          </a:prstGeom>
          <a:solidFill>
            <a:srgbClr val="c3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ном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ounded Rectangle 8"/>
          <p:cNvSpPr/>
          <p:nvPr/>
        </p:nvSpPr>
        <p:spPr>
          <a:xfrm>
            <a:off x="108000" y="3271680"/>
            <a:ext cx="417672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ounded Rectangle 8"/>
          <p:cNvSpPr/>
          <p:nvPr/>
        </p:nvSpPr>
        <p:spPr>
          <a:xfrm>
            <a:off x="108000" y="4940280"/>
            <a:ext cx="4176720" cy="1513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учреждением плана его финансово-хозяйственной деятельности 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финансового обеспечен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ounded Rectangle 8"/>
          <p:cNvSpPr/>
          <p:nvPr/>
        </p:nvSpPr>
        <p:spPr>
          <a:xfrm>
            <a:off x="5364000" y="3271680"/>
            <a:ext cx="3699000" cy="15112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дельный лицевой счет автономного учре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ф.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ounded Rectangle 8"/>
          <p:cNvSpPr/>
          <p:nvPr/>
        </p:nvSpPr>
        <p:spPr>
          <a:xfrm>
            <a:off x="5364000" y="1557360"/>
            <a:ext cx="3699000" cy="151128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евой счет автономного учреждения (ф. 05319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без кодов КОСГ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Двойная стрелка влево/вправо 24"/>
          <p:cNvSpPr/>
          <p:nvPr/>
        </p:nvSpPr>
        <p:spPr>
          <a:xfrm>
            <a:off x="4289400" y="3786120"/>
            <a:ext cx="1081080" cy="576360"/>
          </a:xfrm>
          <a:prstGeom prst="leftRightArrow">
            <a:avLst>
              <a:gd name="adj1" fmla="val 50000"/>
              <a:gd name="adj2" fmla="val 49993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Двойная стрелка влево/вправо 25"/>
          <p:cNvSpPr/>
          <p:nvPr/>
        </p:nvSpPr>
        <p:spPr>
          <a:xfrm>
            <a:off x="4284720" y="5486400"/>
            <a:ext cx="1079280" cy="576360"/>
          </a:xfrm>
          <a:prstGeom prst="leftRightArrow">
            <a:avLst>
              <a:gd name="adj1" fmla="val 50000"/>
              <a:gd name="adj2" fmla="val 49978"/>
            </a:avLst>
          </a:prstGeom>
          <a:noFill/>
          <a:ln w="25560">
            <a:solidFill>
              <a:srgbClr val="84b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Умножение 1"/>
          <p:cNvSpPr/>
          <p:nvPr/>
        </p:nvSpPr>
        <p:spPr>
          <a:xfrm>
            <a:off x="3708360" y="1628640"/>
            <a:ext cx="2232000" cy="1295640"/>
          </a:xfrm>
          <a:custGeom>
            <a:avLst/>
            <a:gdLst>
              <a:gd name="textAreaLeft" fmla="*/ 459360 w 2232000"/>
              <a:gd name="textAreaRight" fmla="*/ 1772640 w 2232000"/>
              <a:gd name="textAreaTop" fmla="*/ 179280 h 1295640"/>
              <a:gd name="textAreaBottom" fmla="*/ 1116360 h 1295640"/>
            </a:gdLst>
            <a:ahLst/>
            <a:rect l="textAreaLeft" t="textAreaTop" r="textAreaRight" b="textAreaBottom"/>
            <a:pathLst>
              <a:path w="2232025" h="1295400">
                <a:moveTo>
                  <a:pt x="459609" y="442880"/>
                </a:moveTo>
                <a:lnTo>
                  <a:pt x="612544" y="179366"/>
                </a:lnTo>
                <a:lnTo>
                  <a:pt x="1116013" y="471564"/>
                </a:lnTo>
                <a:lnTo>
                  <a:pt x="1619481" y="179366"/>
                </a:lnTo>
                <a:lnTo>
                  <a:pt x="1772416" y="442880"/>
                </a:lnTo>
                <a:lnTo>
                  <a:pt x="1419502" y="647700"/>
                </a:lnTo>
                <a:lnTo>
                  <a:pt x="1772416" y="852520"/>
                </a:lnTo>
                <a:lnTo>
                  <a:pt x="1619481" y="1116034"/>
                </a:lnTo>
                <a:lnTo>
                  <a:pt x="1116013" y="823836"/>
                </a:lnTo>
                <a:lnTo>
                  <a:pt x="612544" y="1116034"/>
                </a:lnTo>
                <a:lnTo>
                  <a:pt x="459609" y="852520"/>
                </a:lnTo>
                <a:lnTo>
                  <a:pt x="812523" y="6477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10"/>
          <p:cNvSpPr/>
          <p:nvPr/>
        </p:nvSpPr>
        <p:spPr>
          <a:xfrm>
            <a:off x="539640" y="20520"/>
            <a:ext cx="8064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инансово-хозяйственной деятельности (ф. 0503737)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647640" y="1700280"/>
            <a:ext cx="81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графы 4 «Утверждено плановых назначений», графы 6 «Исполнено плановых назначений через банковские счета», графы 7 «Исполнено плановых назначений через кассу банка», графы 8 «Исполнено плановых назначений некассовыми операциями», графы 9 «Исполнено итого» и графы 10 «Не исполнено плановых назначений» Отчета ф. 0503737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сверяются органами Федерального казначей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05360"/>
            <a:ext cx="8229600" cy="2448000"/>
          </a:xfrm>
          <a:prstGeom prst="rect">
            <a:avLst/>
          </a:prstGeom>
          <a:solidFill>
            <a:srgbClr val="169e3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струкция о порядке составления и представления годовой, квартальной и месячной отчетности об исполнении бюджетов бюджет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22400" y="181080"/>
            <a:ext cx="67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4000" y="1341360"/>
            <a:ext cx="8675640" cy="1150920"/>
          </a:xfrm>
          <a:prstGeom prst="rect">
            <a:avLst/>
          </a:prstGeom>
          <a:solidFill>
            <a:srgbClr val="ddc7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лан счетов бюджетного учета и Инструкция по его примен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3851280" y="2708280"/>
            <a:ext cx="1297080" cy="1368360"/>
          </a:xfrm>
          <a:prstGeom prst="upDownArrow">
            <a:avLst>
              <a:gd name="adj1" fmla="val 50000"/>
              <a:gd name="adj2" fmla="val 21001"/>
            </a:avLst>
          </a:prstGeom>
          <a:solidFill>
            <a:srgbClr val="6c52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10"/>
          <p:cNvSpPr/>
          <p:nvPr/>
        </p:nvSpPr>
        <p:spPr>
          <a:xfrm>
            <a:off x="539640" y="0"/>
            <a:ext cx="80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Контрольные соотношения между показател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Отчета (ф. 0503737) и Отчетов (ф. 0531965, ф. 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8000" y="981000"/>
          <a:ext cx="8928000" cy="4899240"/>
        </p:xfrm>
        <a:graphic>
          <a:graphicData uri="http://schemas.openxmlformats.org/drawingml/2006/table">
            <a:tbl>
              <a:tblPr/>
              <a:tblGrid>
                <a:gridCol w="150480"/>
                <a:gridCol w="4006800"/>
                <a:gridCol w="621720"/>
                <a:gridCol w="4149000"/>
              </a:tblGrid>
              <a:tr h="43200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Отчет (ф. 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тчет (ф.0531965, ф. 0531966)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4672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Раздел  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Доходы»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Графа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2» +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</a:t>
                      </a:r>
                      <a:r>
                        <a:rPr b="0" lang="en-US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030, 040, 050, 062, 063, 092, 093, 094, 095, 096, 097, 098,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5» + «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</a:t>
                      </a:r>
                      <a:r>
                        <a:rPr b="0" lang="en-US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030, 040, 050, 062, 063, 092, 093, 094, 095, 096, 097, 098,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7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</a:t>
                      </a:r>
                      <a:r>
                        <a:rPr b="0" lang="en-US" sz="16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030, 040, 050, 062, 063, 092, 093, 094, 095, 096, 097, 098,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1]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8» -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л/с 20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2]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графа 2 - графа 3 по соответствующему коду КОС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9» -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л/с 21, 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3: графа 3 – графа 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 соответствующему коду КОС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7»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 л/с 22,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2 - графа 3 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 соответствующему коду КОС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218" name="Rectangle 1"/>
          <p:cNvSpPr/>
          <p:nvPr/>
        </p:nvSpPr>
        <p:spPr>
          <a:xfrm>
            <a:off x="4938840" y="2393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5732640"/>
            <a:ext cx="30175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5807880"/>
            <a:ext cx="889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пустимое расхождение на сумму изменения остатка средств, поступивших во временное распоряжение бюджетного учреждения по коду 180 КОСГ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2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гласование показателей по операциям автономных учреждений, осуществляемым на лицевом счете автономного учреждения (код 30) с Отчетом ф. 0503737 по видам финансового обеспечения (деятельности) 2 и 4 не осуществляе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08000" y="1089000"/>
          <a:ext cx="8928000" cy="4791240"/>
        </p:xfrm>
        <a:graphic>
          <a:graphicData uri="http://schemas.openxmlformats.org/drawingml/2006/table">
            <a:tbl>
              <a:tblPr/>
              <a:tblGrid>
                <a:gridCol w="150480"/>
                <a:gridCol w="4006800"/>
                <a:gridCol w="621720"/>
                <a:gridCol w="4149000"/>
              </a:tblGrid>
              <a:tr h="32400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Отчет (ф. 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тчет (ф.0531965, ф. 05319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4672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Раздел 2 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Расходы»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Графа 5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2» +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161, 162, 163, 171, 172, 173, 174, 175, 176, 191, 192, 211, 212, 232, 233, 242, 243, 250, 261, 262, 263, 264, 271, 272, 273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5» + «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161, 162, 163, 171, 172, 173, 174, 175, 176, 191, 192, 211, 212, 232, 233, 242, 243, 250, 261, 262, 263, 264, 271, 272, 273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7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161, 162, 163, 171, 172, 173, 174, 175, 176, 191, 192, 211, 212, 232, 233, 242, 243, 250, 261, 262, 263, 264, 271, 272, 27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8»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 л/с 20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1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2 - графа 3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9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- л/с 21, 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3: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графа 4 - графа 3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7»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 л/с 22,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- графа 2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223" name="Rectangle 1"/>
          <p:cNvSpPr/>
          <p:nvPr/>
        </p:nvSpPr>
        <p:spPr>
          <a:xfrm>
            <a:off x="4938840" y="2393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95280" y="5946840"/>
            <a:ext cx="30178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6074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гласование показателей по операциям автономных учреждений, осуществляемым на лицевом счете автономного учреждения (код 30) с Отчетом ф. 0503737 по видам финансового обеспечения (деятельности) 2 и 4 не осуществляе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10"/>
          <p:cNvSpPr/>
          <p:nvPr/>
        </p:nvSpPr>
        <p:spPr>
          <a:xfrm>
            <a:off x="539640" y="0"/>
            <a:ext cx="80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Контрольные соотношения между показател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Отчета (ф. 0503737) и Отчетов (ф. 0531965, ф. 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8000" y="1125360"/>
          <a:ext cx="8928000" cy="4864320"/>
        </p:xfrm>
        <a:graphic>
          <a:graphicData uri="http://schemas.openxmlformats.org/drawingml/2006/table">
            <a:tbl>
              <a:tblPr/>
              <a:tblGrid>
                <a:gridCol w="150480"/>
                <a:gridCol w="4006800"/>
                <a:gridCol w="621720"/>
                <a:gridCol w="4149000"/>
              </a:tblGrid>
              <a:tr h="358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Отчет (ф. 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тчет (ф.0531965, ф. 0531966)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50540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Раздел 3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 «Источники»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Графа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2» +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521+621, 525, 526, 527, 528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5» + «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521+621, 525, 526, 527, 528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7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строки кодов аналитики 521+621, 525, 526, 527, 528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8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0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1]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- графа 2 (графа 2 – графа 3)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9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1, 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3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4 - графа 3 (графа 3 - графа 4)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«7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2,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 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- графа 2 (графа 2 – графа 3) по соответствующему коду 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3"/>
          <p:cNvSpPr/>
          <p:nvPr/>
        </p:nvSpPr>
        <p:spPr>
          <a:xfrm>
            <a:off x="108000" y="6042600"/>
            <a:ext cx="903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гласование показателей по операциям автономных учреждений, осуществляемым на лицевом счете автономного учреждения (код 30) с Отчетом ф. 0503737 по видам финансового обеспечения (деятельности) 2 и 4 не осуществляе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10"/>
          <p:cNvSpPr/>
          <p:nvPr/>
        </p:nvSpPr>
        <p:spPr>
          <a:xfrm>
            <a:off x="539640" y="0"/>
            <a:ext cx="80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Контрольные соотношения между показател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Отчета (ф. 0503737) и Отчетов (ф. 0531965, ф. 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08000" y="1125360"/>
          <a:ext cx="8928000" cy="5023080"/>
        </p:xfrm>
        <a:graphic>
          <a:graphicData uri="http://schemas.openxmlformats.org/drawingml/2006/table">
            <a:tbl>
              <a:tblPr/>
              <a:tblGrid>
                <a:gridCol w="150480"/>
                <a:gridCol w="4006080"/>
                <a:gridCol w="621720"/>
                <a:gridCol w="4149720"/>
              </a:tblGrid>
              <a:tr h="358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Отчет (ф. 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тчет (ф.0531965, ф. 05319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6641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Раздел 3</a:t>
                      </a: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 «Источники»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Графа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2» +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5» + «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«7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Код строки </a:t>
                      </a:r>
                      <a:r>
                        <a:rPr b="1" lang="ru-RU" sz="1800" spc="-1" strike="noStrike">
                          <a:solidFill>
                            <a:srgbClr val="001a4f"/>
                          </a:solidFill>
                          <a:latin typeface="Times New Roman"/>
                          <a:ea typeface="Times New Roman"/>
                        </a:rPr>
                        <a:t>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8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2 – графа 3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– графа 2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9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1, 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3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– графа 4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4 – графа 3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деятельности: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«7»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- л/с 22,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дел 2: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2 – графа 3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а 3 – графа 2 по коду КОСГУ </a:t>
                      </a: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233" name="Rectangle 3"/>
          <p:cNvSpPr/>
          <p:nvPr/>
        </p:nvSpPr>
        <p:spPr>
          <a:xfrm>
            <a:off x="108000" y="6114240"/>
            <a:ext cx="903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1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гласование показателей по операциям автономных учреждений, осуществляемым на лицевом счете автономного учреждения (код 30) с Отчетом ф. 0503737 по видам финансового обеспечения (деятельности) 2 и 4 не осуществляетс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10"/>
          <p:cNvSpPr/>
          <p:nvPr/>
        </p:nvSpPr>
        <p:spPr>
          <a:xfrm>
            <a:off x="539640" y="0"/>
            <a:ext cx="80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Контрольные соотношения между показател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Отчета (ф. 0503737) и Отчетов (ф. 0531965, ф. 053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684360" y="0"/>
            <a:ext cx="757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Отчета об исполнении учреждением плана его финансово-хозяйственной деятельности (ф. 0503737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6300720" y="2781360"/>
            <a:ext cx="2447640" cy="1199160"/>
            <a:chOff x="6300720" y="2781360"/>
            <a:chExt cx="2447640" cy="1199160"/>
          </a:xfrm>
        </p:grpSpPr>
        <p:pic>
          <p:nvPicPr>
            <p:cNvPr id="238" name="Picture 7" descr="j0205462"/>
            <p:cNvPicPr/>
            <p:nvPr/>
          </p:nvPicPr>
          <p:blipFill>
            <a:blip r:embed="rId1"/>
            <a:stretch/>
          </p:blipFill>
          <p:spPr>
            <a:xfrm>
              <a:off x="7026120" y="2781360"/>
              <a:ext cx="1053360" cy="109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8"/>
            <p:cNvSpPr/>
            <p:nvPr/>
          </p:nvSpPr>
          <p:spPr>
            <a:xfrm>
              <a:off x="6300720" y="361224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ТОФ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3276720" y="1268280"/>
            <a:ext cx="2663640" cy="1739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Отчет об исполнении учреждением плана его финансово-хозяйственной деятель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(ф. 05037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11"/>
          <p:cNvCxnSpPr>
            <a:stCxn id="240" idx="3"/>
          </p:cNvCxnSpPr>
          <p:nvPr/>
        </p:nvCxnSpPr>
        <p:spPr>
          <a:xfrm>
            <a:off x="5940360" y="2144880"/>
            <a:ext cx="1613520" cy="6372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3"/>
          <p:cNvCxnSpPr>
            <a:stCxn id="239" idx="2"/>
          </p:cNvCxnSpPr>
          <p:nvPr/>
        </p:nvCxnSpPr>
        <p:spPr>
          <a:xfrm rot="5400000">
            <a:off x="5823000" y="3448800"/>
            <a:ext cx="1170720" cy="22327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AutoShape 14"/>
          <p:cNvCxnSpPr/>
          <p:nvPr/>
        </p:nvCxnSpPr>
        <p:spPr>
          <a:xfrm rot="10800000">
            <a:off x="1368360" y="4209480"/>
            <a:ext cx="2557800" cy="1037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44" name="Picture 96" descr="j0433892[1]"/>
          <p:cNvPicPr/>
          <p:nvPr/>
        </p:nvPicPr>
        <p:blipFill>
          <a:blip r:embed="rId2"/>
          <a:stretch/>
        </p:blipFill>
        <p:spPr>
          <a:xfrm>
            <a:off x="4067280" y="3141720"/>
            <a:ext cx="104760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63"/>
          <p:cNvSpPr/>
          <p:nvPr/>
        </p:nvSpPr>
        <p:spPr>
          <a:xfrm>
            <a:off x="3635280" y="436572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СУФД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АСФ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7" descr="bilding"/>
          <p:cNvPicPr/>
          <p:nvPr/>
        </p:nvPicPr>
        <p:blipFill>
          <a:blip r:embed="rId3"/>
          <a:stretch/>
        </p:blipFill>
        <p:spPr>
          <a:xfrm>
            <a:off x="468360" y="2492280"/>
            <a:ext cx="1800000" cy="1717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4"/>
          <p:cNvSpPr/>
          <p:nvPr/>
        </p:nvSpPr>
        <p:spPr>
          <a:xfrm>
            <a:off x="179280" y="3860640"/>
            <a:ext cx="158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е (автономное) учрежде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27"/>
          <p:cNvCxnSpPr>
            <a:endCxn id="240" idx="1"/>
          </p:cNvCxnSpPr>
          <p:nvPr/>
        </p:nvCxnSpPr>
        <p:spPr>
          <a:xfrm flipH="1" flipV="1" rot="5400000">
            <a:off x="2148480" y="1363680"/>
            <a:ext cx="347760" cy="1909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Documents"/>
          <p:cNvSpPr/>
          <p:nvPr/>
        </p:nvSpPr>
        <p:spPr>
          <a:xfrm>
            <a:off x="3975120" y="4888080"/>
            <a:ext cx="1228680" cy="660240"/>
          </a:xfrm>
          <a:custGeom>
            <a:avLst/>
            <a:gdLst>
              <a:gd name="textAreaLeft" fmla="*/ 93600 w 1228680"/>
              <a:gd name="textAreaRight" fmla="*/ 939960 w 1228680"/>
              <a:gd name="textAreaTop" fmla="*/ 127440 h 660240"/>
              <a:gd name="textAreaBottom" fmla="*/ 52920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4"/>
          <p:cNvSpPr/>
          <p:nvPr/>
        </p:nvSpPr>
        <p:spPr>
          <a:xfrm>
            <a:off x="3975120" y="550404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токолы о результатах соглас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-181080" y="0"/>
            <a:ext cx="8498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сверка Отчета об исполнении бюджета главного распорядителя, распорядителя, получателя бюджетных средств, главного администратора, администратора источников финансирования дефицита бюджета, главного администратора, администратора доходов бюджета (ф. 050312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риториальных органах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143240" y="1004760"/>
            <a:ext cx="4969080" cy="91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 Федераль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4920" y="1004760"/>
            <a:ext cx="3384720" cy="91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н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4920" y="1989000"/>
            <a:ext cx="338472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чет об исполнении бюджета главного распорядителя, распорядителя, получателя бюджетных средств, главного администратора, администратора источников финансирования дефицита бюджета, главного администратора, администратора доходов бюджета (ф. 050312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4140360" y="1989000"/>
            <a:ext cx="5003640" cy="21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ицевой счет главного распорядителя (распорядителя) бюджетных средств) (ф. 0531785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ицевой счет получателя бюджетных средств (ф. 0531786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ицевой счет для учета операций по переданным полномочиям получателя бюджетных средств (ф. 053178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ицевой счет администратора источников внутреннего финансирования дефицита бюджета (ф. 053179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4140360" y="4560840"/>
            <a:ext cx="4968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т о кассовых выбытиях средств федераль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азрезе получателей средств федераль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ф. 05214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4140360" y="5354640"/>
            <a:ext cx="49687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Отчет о поступлениях в федеральный бюджет в разрезе администраторов доходов федерального бюджета и администраторов источников финансирования дефицита федерального бюджета (ф. 0531340)</a:t>
            </a:r>
            <a:r>
              <a:rPr b="0" lang="ru-RU" sz="10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 [1]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08000" y="619848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[1]</a:t>
            </a:r>
            <a:r>
              <a:rPr b="0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 1 января 2014 года (проект приказа Федерального казначейства Об Особенностях формирования бюджетной отчетности по кассовому исполнению федерального бюджета, кассовому обслуживанию исполнения бюджетов бюджетной системы Российской Федерации, бюджетных учреждений, автономных учреждений и иных организаций территориальными органами Федерального казначейс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127400" y="4149720"/>
            <a:ext cx="496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ка о перечислении поступлений в бюджеты (ф. 053146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авая круглая скобка 16"/>
          <p:cNvSpPr/>
          <p:nvPr/>
        </p:nvSpPr>
        <p:spPr>
          <a:xfrm>
            <a:off x="3419640" y="2205000"/>
            <a:ext cx="144360" cy="360036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3600360"/>
              <a:gd name="textAreaBottom" fmla="*/ 359460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"/>
                  <a:pt x="21600" y="72"/>
                </a:cubicBezTo>
                <a:lnTo>
                  <a:pt x="21600" y="21528"/>
                </a:lnTo>
                <a:cubicBezTo>
                  <a:pt x="21600" y="21564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Прямая со стрелкой 18"/>
          <p:cNvCxnSpPr/>
          <p:nvPr/>
        </p:nvCxnSpPr>
        <p:spPr>
          <a:xfrm>
            <a:off x="3563640" y="2852280"/>
            <a:ext cx="577080" cy="108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263" name="Прямая со стрелкой 20"/>
          <p:cNvCxnSpPr/>
          <p:nvPr/>
        </p:nvCxnSpPr>
        <p:spPr>
          <a:xfrm>
            <a:off x="3551400" y="4292280"/>
            <a:ext cx="576360" cy="108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264" name="Прямая со стрелкой 21"/>
          <p:cNvCxnSpPr/>
          <p:nvPr/>
        </p:nvCxnSpPr>
        <p:spPr>
          <a:xfrm>
            <a:off x="3563640" y="4941360"/>
            <a:ext cx="577080" cy="108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</p:cxnSp>
      <p:cxnSp>
        <p:nvCxnSpPr>
          <p:cNvPr id="265" name="Прямая со стрелкой 22"/>
          <p:cNvCxnSpPr/>
          <p:nvPr/>
        </p:nvCxnSpPr>
        <p:spPr>
          <a:xfrm>
            <a:off x="3563640" y="5660640"/>
            <a:ext cx="577080" cy="108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6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0" y="44280"/>
            <a:ext cx="8748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сверка Отчета об исполнении бюдж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 0503117) в территориальных органах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4857840" y="3351240"/>
            <a:ext cx="4075200" cy="29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территориа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ом Федераль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50920" y="3429000"/>
            <a:ext cx="388944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финансовым орган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а, органом 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бюджетным фон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риториальным орган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бюджетного фон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250920" y="1282680"/>
            <a:ext cx="3889440" cy="22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(ф. 05031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857840" y="1282680"/>
            <a:ext cx="4075200" cy="22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ступлени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быти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. 05031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3851280" y="2133720"/>
            <a:ext cx="1297080" cy="863640"/>
          </a:xfrm>
          <a:prstGeom prst="leftRightArrow">
            <a:avLst>
              <a:gd name="adj1" fmla="val 50000"/>
              <a:gd name="adj2" fmla="val 298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4"/>
          <p:cNvSpPr/>
          <p:nvPr/>
        </p:nvSpPr>
        <p:spPr>
          <a:xfrm>
            <a:off x="4857840" y="4075200"/>
            <a:ext cx="3890880" cy="21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территориа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ом Федераль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50920" y="4076640"/>
            <a:ext cx="43210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финансовым орган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олномоченным на формиро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ной отчет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 исполнении соответствующе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олидированного бюдж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ной систем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857840" y="1282680"/>
            <a:ext cx="3890880" cy="27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солидированный отч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 кассовых поступлени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ыбыти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ф. 05031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50920" y="1268280"/>
            <a:ext cx="432108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тчет об исполнен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нсолидированного бюдже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убъекта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бюджета территориальног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сударственного внебюджетн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нда (ф. 05033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0" y="50760"/>
            <a:ext cx="867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сверка Отчета об исполнении консолидированного бюджета субъекта Российской Федерации и бюджета территориального государственного внебюджетного фонда (ф. 0503317) в территориальных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1"/>
          <p:cNvSpPr/>
          <p:nvPr/>
        </p:nvSpPr>
        <p:spPr>
          <a:xfrm>
            <a:off x="4067280" y="3286080"/>
            <a:ext cx="1296720" cy="863640"/>
          </a:xfrm>
          <a:prstGeom prst="leftRightArrow">
            <a:avLst>
              <a:gd name="adj1" fmla="val 50000"/>
              <a:gd name="adj2" fmla="val 29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684360" y="189000"/>
            <a:ext cx="757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внутриказначейских расчетов меж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611280" y="2852640"/>
            <a:ext cx="1871640" cy="1185480"/>
            <a:chOff x="611280" y="2852640"/>
            <a:chExt cx="1871640" cy="1185480"/>
          </a:xfrm>
        </p:grpSpPr>
        <p:pic>
          <p:nvPicPr>
            <p:cNvPr id="283" name="Picture 4" descr="j0205462"/>
            <p:cNvPicPr/>
            <p:nvPr/>
          </p:nvPicPr>
          <p:blipFill>
            <a:blip r:embed="rId1"/>
            <a:stretch/>
          </p:blipFill>
          <p:spPr>
            <a:xfrm>
              <a:off x="1166040" y="2852640"/>
              <a:ext cx="805320" cy="88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5"/>
            <p:cNvSpPr/>
            <p:nvPr/>
          </p:nvSpPr>
          <p:spPr>
            <a:xfrm>
              <a:off x="611280" y="3517920"/>
              <a:ext cx="18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ОФК (отправитель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6"/>
          <p:cNvGrpSpPr/>
          <p:nvPr/>
        </p:nvGrpSpPr>
        <p:grpSpPr>
          <a:xfrm>
            <a:off x="6804000" y="2882880"/>
            <a:ext cx="1873440" cy="934920"/>
            <a:chOff x="6804000" y="2882880"/>
            <a:chExt cx="1873440" cy="934920"/>
          </a:xfrm>
        </p:grpSpPr>
        <p:pic>
          <p:nvPicPr>
            <p:cNvPr id="286" name="Picture 7" descr="j0205462"/>
            <p:cNvPicPr/>
            <p:nvPr/>
          </p:nvPicPr>
          <p:blipFill>
            <a:blip r:embed="rId2"/>
            <a:stretch/>
          </p:blipFill>
          <p:spPr>
            <a:xfrm>
              <a:off x="7359120" y="2882880"/>
              <a:ext cx="806400" cy="8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8"/>
            <p:cNvSpPr/>
            <p:nvPr/>
          </p:nvSpPr>
          <p:spPr>
            <a:xfrm>
              <a:off x="6804000" y="3510720"/>
              <a:ext cx="187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ОФК (получатель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Rectangle 9"/>
          <p:cNvSpPr/>
          <p:nvPr/>
        </p:nvSpPr>
        <p:spPr>
          <a:xfrm>
            <a:off x="3492360" y="1268280"/>
            <a:ext cx="2087640" cy="1372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 сверки внутриказначейских расчет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. 05214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13"/>
          <p:cNvCxnSpPr/>
          <p:nvPr/>
        </p:nvCxnSpPr>
        <p:spPr>
          <a:xfrm flipH="1">
            <a:off x="5363280" y="3986280"/>
            <a:ext cx="2391480" cy="1332720"/>
          </a:xfrm>
          <a:prstGeom prst="bentConnector3">
            <a:avLst>
              <a:gd name="adj1" fmla="val -49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14"/>
          <p:cNvCxnSpPr/>
          <p:nvPr/>
        </p:nvCxnSpPr>
        <p:spPr>
          <a:xfrm rot="10800000">
            <a:off x="1546920" y="3859920"/>
            <a:ext cx="2444040" cy="1493280"/>
          </a:xfrm>
          <a:prstGeom prst="bentConnector3">
            <a:avLst>
              <a:gd name="adj1" fmla="val 10013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1" name="Picture 96" descr="j0433892[1]"/>
          <p:cNvPicPr/>
          <p:nvPr/>
        </p:nvPicPr>
        <p:blipFill>
          <a:blip r:embed="rId3"/>
          <a:stretch/>
        </p:blipFill>
        <p:spPr>
          <a:xfrm>
            <a:off x="4081320" y="3049560"/>
            <a:ext cx="1047960" cy="12952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3"/>
          <p:cNvSpPr/>
          <p:nvPr/>
        </p:nvSpPr>
        <p:spPr>
          <a:xfrm>
            <a:off x="3657600" y="413712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АСФК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ППО СУФ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Соединительная линия уступом 2"/>
          <p:cNvCxnSpPr>
            <a:endCxn id="288" idx="1"/>
          </p:cNvCxnSpPr>
          <p:nvPr/>
        </p:nvCxnSpPr>
        <p:spPr>
          <a:xfrm flipH="1" rot="10800000">
            <a:off x="1618920" y="1958400"/>
            <a:ext cx="1873800" cy="822960"/>
          </a:xfrm>
          <a:prstGeom prst="bentConnector3">
            <a:avLst>
              <a:gd name="adj1" fmla="val -65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Соединительная линия уступом 5"/>
          <p:cNvCxnSpPr>
            <a:stCxn id="288" idx="3"/>
          </p:cNvCxnSpPr>
          <p:nvPr/>
        </p:nvCxnSpPr>
        <p:spPr>
          <a:xfrm>
            <a:off x="5580000" y="1959120"/>
            <a:ext cx="2183760" cy="9244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Documents"/>
          <p:cNvSpPr/>
          <p:nvPr/>
        </p:nvSpPr>
        <p:spPr>
          <a:xfrm>
            <a:off x="3990960" y="4803840"/>
            <a:ext cx="1228680" cy="660240"/>
          </a:xfrm>
          <a:custGeom>
            <a:avLst/>
            <a:gdLst>
              <a:gd name="textAreaLeft" fmla="*/ 93600 w 1228680"/>
              <a:gd name="textAreaRight" fmla="*/ 939960 w 1228680"/>
              <a:gd name="textAreaTop" fmla="*/ 127440 h 660240"/>
              <a:gd name="textAreaBottom" fmla="*/ 52920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4"/>
          <p:cNvSpPr/>
          <p:nvPr/>
        </p:nvSpPr>
        <p:spPr>
          <a:xfrm>
            <a:off x="3564360" y="5504040"/>
            <a:ext cx="210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токо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 результатах соглас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5"/>
          <p:cNvSpPr/>
          <p:nvPr/>
        </p:nvSpPr>
        <p:spPr>
          <a:xfrm>
            <a:off x="1547640" y="189000"/>
            <a:ext cx="67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внутриказначейских расчетов меж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/>
          <p:cNvSpPr/>
          <p:nvPr/>
        </p:nvSpPr>
        <p:spPr>
          <a:xfrm rot="16200000">
            <a:off x="2887560" y="4192560"/>
            <a:ext cx="3368880" cy="1152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 сверки внутриказначейских расчетов (ф. 05214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87360" y="3105000"/>
            <a:ext cx="2952720" cy="2845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равка по внутренним расчет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ф. 052146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ереданным ЛБО и 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33"/>
          <p:cNvSpPr/>
          <p:nvPr/>
        </p:nvSpPr>
        <p:spPr>
          <a:xfrm>
            <a:off x="395280" y="2119320"/>
            <a:ext cx="2952720" cy="9493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38"/>
          <p:cNvGrpSpPr/>
          <p:nvPr/>
        </p:nvGrpSpPr>
        <p:grpSpPr>
          <a:xfrm>
            <a:off x="5803920" y="2227320"/>
            <a:ext cx="3095280" cy="899640"/>
            <a:chOff x="5803920" y="2227320"/>
            <a:chExt cx="3095280" cy="899640"/>
          </a:xfrm>
        </p:grpSpPr>
        <p:pic>
          <p:nvPicPr>
            <p:cNvPr id="303" name="Picture 39" descr="j0205462"/>
            <p:cNvPicPr/>
            <p:nvPr/>
          </p:nvPicPr>
          <p:blipFill>
            <a:blip r:embed="rId1"/>
            <a:stretch/>
          </p:blipFill>
          <p:spPr>
            <a:xfrm>
              <a:off x="6649200" y="2227320"/>
              <a:ext cx="1332360" cy="8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40"/>
            <p:cNvSpPr/>
            <p:nvPr/>
          </p:nvSpPr>
          <p:spPr>
            <a:xfrm>
              <a:off x="5803920" y="2819880"/>
              <a:ext cx="30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ФК (получатель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AutoShape 41"/>
          <p:cNvSpPr/>
          <p:nvPr/>
        </p:nvSpPr>
        <p:spPr>
          <a:xfrm>
            <a:off x="5751360" y="2125800"/>
            <a:ext cx="2953080" cy="950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2"/>
          <p:cNvSpPr/>
          <p:nvPr/>
        </p:nvSpPr>
        <p:spPr>
          <a:xfrm>
            <a:off x="5796000" y="3111480"/>
            <a:ext cx="2952720" cy="2838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равка по внутренним расчет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ф. 052146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олученным ЛБО и 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44"/>
          <p:cNvSpPr/>
          <p:nvPr/>
        </p:nvSpPr>
        <p:spPr>
          <a:xfrm>
            <a:off x="3348000" y="4365720"/>
            <a:ext cx="647640" cy="431640"/>
          </a:xfrm>
          <a:prstGeom prst="leftRightArrow">
            <a:avLst>
              <a:gd name="adj1" fmla="val 50000"/>
              <a:gd name="adj2" fmla="val 29869"/>
            </a:avLst>
          </a:prstGeom>
          <a:solidFill>
            <a:srgbClr val="de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7"/>
          <p:cNvSpPr/>
          <p:nvPr/>
        </p:nvSpPr>
        <p:spPr>
          <a:xfrm>
            <a:off x="5148360" y="4365720"/>
            <a:ext cx="647640" cy="431640"/>
          </a:xfrm>
          <a:prstGeom prst="leftRightArrow">
            <a:avLst>
              <a:gd name="adj1" fmla="val 50000"/>
              <a:gd name="adj2" fmla="val 29869"/>
            </a:avLst>
          </a:prstGeom>
          <a:solidFill>
            <a:srgbClr val="de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216080" y="1128600"/>
            <a:ext cx="67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втоматизированная сверка с бюджетной отчет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1 этап доработки ППО «АСФ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9" descr="j0205462"/>
          <p:cNvPicPr/>
          <p:nvPr/>
        </p:nvPicPr>
        <p:blipFill>
          <a:blip r:embed="rId2"/>
          <a:stretch/>
        </p:blipFill>
        <p:spPr>
          <a:xfrm>
            <a:off x="1160640" y="2219400"/>
            <a:ext cx="1333440" cy="8571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0"/>
          <p:cNvSpPr/>
          <p:nvPr/>
        </p:nvSpPr>
        <p:spPr>
          <a:xfrm>
            <a:off x="279360" y="282096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ФК (получатель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368360"/>
          </a:xfrm>
          <a:prstGeom prst="rect">
            <a:avLst/>
          </a:prstGeom>
          <a:solidFill>
            <a:srgbClr val="169e3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исьмо Федерального казначей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от 02.08.2013 № 42-7.4-05/2.2-4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22400" y="181080"/>
            <a:ext cx="67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24000" y="1341360"/>
            <a:ext cx="8675640" cy="1727280"/>
          </a:xfrm>
          <a:prstGeom prst="rect">
            <a:avLst/>
          </a:prstGeom>
          <a:solidFill>
            <a:srgbClr val="ddc7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Указания о порядке примен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бюджетной классификац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4140360" y="3213000"/>
            <a:ext cx="936360" cy="1511280"/>
          </a:xfrm>
          <a:prstGeom prst="downArrow">
            <a:avLst>
              <a:gd name="adj1" fmla="val 50000"/>
              <a:gd name="adj2" fmla="val 4035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5"/>
          <p:cNvSpPr/>
          <p:nvPr/>
        </p:nvSpPr>
        <p:spPr>
          <a:xfrm>
            <a:off x="1547640" y="189000"/>
            <a:ext cx="67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ование внутриказначейских расчетов меж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ерриториальными органам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6"/>
          <p:cNvSpPr/>
          <p:nvPr/>
        </p:nvSpPr>
        <p:spPr>
          <a:xfrm rot="16200000">
            <a:off x="2771640" y="4076640"/>
            <a:ext cx="3600720" cy="1152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 сверки внутриказначейских расчетов (ф. 05214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200160" y="2781360"/>
            <a:ext cx="3435120" cy="3743280"/>
          </a:xfrm>
          <a:custGeom>
            <a:avLst/>
            <a:gdLst>
              <a:gd name="textAreaLeft" fmla="*/ 167400 w 3435120"/>
              <a:gd name="textAreaRight" fmla="*/ 3267720 w 3435120"/>
              <a:gd name="textAreaTop" fmla="*/ 167400 h 3743280"/>
              <a:gd name="textAreaBottom" fmla="*/ 3575880 h 3743280"/>
            </a:gdLst>
            <a:ahLst/>
            <a:rect l="textAreaLeft" t="textAreaTop" r="textAreaRight" b="textAreaBottom"/>
            <a:pathLst>
              <a:path w="21600" h="23538">
                <a:moveTo>
                  <a:pt x="3600" y="0"/>
                </a:moveTo>
                <a:arcTo wR="3600" hR="3600" stAng="16200000" swAng="-5400000"/>
                <a:lnTo>
                  <a:pt x="0" y="19938"/>
                </a:lnTo>
                <a:arcTo wR="3600" hR="3600" stAng="10800000" swAng="-5400000"/>
                <a:lnTo>
                  <a:pt x="18000" y="23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равка по консолидируемым расчетам (ф. 05031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переданным кассовым расходам при реорганизации или ликвидации УБ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перечислению средств между головным учреждением и его обособленными подразделениями в рамках кассового обслуживания БУ/АУ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ереданны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33"/>
          <p:cNvSpPr/>
          <p:nvPr/>
        </p:nvSpPr>
        <p:spPr>
          <a:xfrm>
            <a:off x="250920" y="1773360"/>
            <a:ext cx="3219480" cy="1020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8"/>
          <p:cNvGrpSpPr/>
          <p:nvPr/>
        </p:nvGrpSpPr>
        <p:grpSpPr>
          <a:xfrm>
            <a:off x="5803920" y="1773360"/>
            <a:ext cx="3095280" cy="1024560"/>
            <a:chOff x="5803920" y="1773360"/>
            <a:chExt cx="3095280" cy="1024560"/>
          </a:xfrm>
        </p:grpSpPr>
        <p:pic>
          <p:nvPicPr>
            <p:cNvPr id="318" name="Picture 39" descr="j0205462"/>
            <p:cNvPicPr/>
            <p:nvPr/>
          </p:nvPicPr>
          <p:blipFill>
            <a:blip r:embed="rId1"/>
            <a:stretch/>
          </p:blipFill>
          <p:spPr>
            <a:xfrm>
              <a:off x="6649200" y="1773360"/>
              <a:ext cx="1332360" cy="8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40"/>
            <p:cNvSpPr/>
            <p:nvPr/>
          </p:nvSpPr>
          <p:spPr>
            <a:xfrm>
              <a:off x="5803920" y="2490840"/>
              <a:ext cx="30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ФК (получатель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AutoShape 41"/>
          <p:cNvSpPr/>
          <p:nvPr/>
        </p:nvSpPr>
        <p:spPr>
          <a:xfrm>
            <a:off x="5607000" y="1773360"/>
            <a:ext cx="3213000" cy="1008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5508720" y="2781360"/>
            <a:ext cx="3456000" cy="374328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743280"/>
              <a:gd name="textAreaBottom" fmla="*/ 3574800 h 3743280"/>
            </a:gdLst>
            <a:ahLst/>
            <a:rect l="textAreaLeft" t="textAreaTop" r="textAreaRight" b="textAreaBottom"/>
            <a:pathLst>
              <a:path w="21600" h="23395">
                <a:moveTo>
                  <a:pt x="3600" y="0"/>
                </a:moveTo>
                <a:arcTo wR="3600" hR="3600" stAng="16200000" swAng="-5400000"/>
                <a:lnTo>
                  <a:pt x="0" y="19795"/>
                </a:lnTo>
                <a:arcTo wR="3600" hR="3600" stAng="10800000" swAng="-5400000"/>
                <a:lnTo>
                  <a:pt x="18000" y="23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равка по консолидируемым расчетам (ф. 05031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 полученным кассовым расходам при реорганизации или ликвидации УБ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перечислению средств между головным учреждением и его обособленными подразделениями в рамках кассового обслуживания БУ/АУ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ученны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44"/>
          <p:cNvSpPr/>
          <p:nvPr/>
        </p:nvSpPr>
        <p:spPr>
          <a:xfrm>
            <a:off x="3564000" y="4365720"/>
            <a:ext cx="503280" cy="431640"/>
          </a:xfrm>
          <a:prstGeom prst="leftRightArrow">
            <a:avLst>
              <a:gd name="adj1" fmla="val 50000"/>
              <a:gd name="adj2" fmla="val 23211"/>
            </a:avLst>
          </a:prstGeom>
          <a:solidFill>
            <a:srgbClr val="de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47"/>
          <p:cNvSpPr/>
          <p:nvPr/>
        </p:nvSpPr>
        <p:spPr>
          <a:xfrm>
            <a:off x="5076720" y="4365720"/>
            <a:ext cx="503280" cy="431640"/>
          </a:xfrm>
          <a:prstGeom prst="leftRightArrow">
            <a:avLst>
              <a:gd name="adj1" fmla="val 50000"/>
              <a:gd name="adj2" fmla="val 23211"/>
            </a:avLst>
          </a:prstGeom>
          <a:solidFill>
            <a:srgbClr val="defb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146240" y="1155600"/>
            <a:ext cx="67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втоматизированная сверка с бюджетной отчет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 этап доработки ППО «АСФ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9" descr="j0205462"/>
          <p:cNvPicPr/>
          <p:nvPr/>
        </p:nvPicPr>
        <p:blipFill>
          <a:blip r:embed="rId2"/>
          <a:stretch/>
        </p:blipFill>
        <p:spPr>
          <a:xfrm>
            <a:off x="1160640" y="1773360"/>
            <a:ext cx="1333440" cy="8571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0"/>
          <p:cNvSpPr/>
          <p:nvPr/>
        </p:nvSpPr>
        <p:spPr>
          <a:xfrm>
            <a:off x="279360" y="24922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ФК (получатель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7CF8-E4A4-4064-9ED6-4C156E1B3743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1403280" y="1628640"/>
            <a:ext cx="63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022400" y="181080"/>
            <a:ext cx="67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33760" y="1268280"/>
            <a:ext cx="76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пустимость кодов КОСГУ при кассов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бслуживании бюджетных 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421000"/>
          <a:ext cx="8424720" cy="2730600"/>
        </p:xfrm>
        <a:graphic>
          <a:graphicData uri="http://schemas.openxmlformats.org/drawingml/2006/table">
            <a:tbl>
              <a:tblPr/>
              <a:tblGrid>
                <a:gridCol w="5322600"/>
                <a:gridCol w="3102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анали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устимость опер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Доходы от реализации актив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Чрезвычайные доходы от операций с активам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ходы по операциям с активам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AutoShape 33"/>
          <p:cNvSpPr/>
          <p:nvPr/>
        </p:nvSpPr>
        <p:spPr>
          <a:xfrm>
            <a:off x="7020000" y="299736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5"/>
          <p:cNvSpPr/>
          <p:nvPr/>
        </p:nvSpPr>
        <p:spPr>
          <a:xfrm>
            <a:off x="7020000" y="378936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6"/>
          <p:cNvSpPr/>
          <p:nvPr/>
        </p:nvSpPr>
        <p:spPr>
          <a:xfrm>
            <a:off x="7020000" y="458136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386280" y="5516640"/>
            <a:ext cx="83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казаний о порядке применения бюджетной классифик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1547640" y="189000"/>
            <a:ext cx="67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бенности учета операций бюджетных и автономных учрежд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833760" y="1268280"/>
            <a:ext cx="76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пустимость кодов КОСГУ при кассов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бслуживании бюджетных 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2421000"/>
          <a:ext cx="8424720" cy="3560760"/>
        </p:xfrm>
        <a:graphic>
          <a:graphicData uri="http://schemas.openxmlformats.org/drawingml/2006/table">
            <a:tbl>
              <a:tblPr/>
              <a:tblGrid>
                <a:gridCol w="5322600"/>
                <a:gridCol w="3102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анали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устимость опер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Налоговые доход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Безвозмездные поступления от других бюджетов бюджетной системы Российской Федерац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Страховые взносы на обязательное социальное страхова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Безвозмездные перечисления другим бюджетам бюджетной системы Российской Федерац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74"/>
          <p:cNvSpPr/>
          <p:nvPr/>
        </p:nvSpPr>
        <p:spPr>
          <a:xfrm>
            <a:off x="7020000" y="285264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75"/>
          <p:cNvSpPr/>
          <p:nvPr/>
        </p:nvSpPr>
        <p:spPr>
          <a:xfrm>
            <a:off x="7020000" y="285264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77"/>
          <p:cNvSpPr/>
          <p:nvPr/>
        </p:nvSpPr>
        <p:spPr>
          <a:xfrm>
            <a:off x="7020000" y="364500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8"/>
          <p:cNvSpPr/>
          <p:nvPr/>
        </p:nvSpPr>
        <p:spPr>
          <a:xfrm>
            <a:off x="7020000" y="443700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79"/>
          <p:cNvSpPr/>
          <p:nvPr/>
        </p:nvSpPr>
        <p:spPr>
          <a:xfrm>
            <a:off x="7020000" y="530064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6"/>
          <p:cNvSpPr/>
          <p:nvPr/>
        </p:nvSpPr>
        <p:spPr>
          <a:xfrm>
            <a:off x="2334600" y="609300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сутствие у АУ/БУ отдельных полномоч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0" y="115920"/>
            <a:ext cx="845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Автоматизированный контроль на недопустимость применения кодов КОСГУ при осуществлении операций государственными (муниципальными) бюджетными, автономными учреждения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территориальных органах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0" descr="bilding"/>
          <p:cNvPicPr/>
          <p:nvPr/>
        </p:nvPicPr>
        <p:blipFill>
          <a:blip r:embed="rId1"/>
          <a:stretch/>
        </p:blipFill>
        <p:spPr>
          <a:xfrm>
            <a:off x="6551640" y="4221000"/>
            <a:ext cx="2592360" cy="230832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4"/>
          <p:cNvGrpSpPr/>
          <p:nvPr/>
        </p:nvGrpSpPr>
        <p:grpSpPr>
          <a:xfrm>
            <a:off x="165960" y="1125360"/>
            <a:ext cx="1925640" cy="1462680"/>
            <a:chOff x="165960" y="1125360"/>
            <a:chExt cx="1925640" cy="1462680"/>
          </a:xfrm>
        </p:grpSpPr>
        <p:grpSp>
          <p:nvGrpSpPr>
            <p:cNvPr id="84" name="Group 52"/>
            <p:cNvGrpSpPr/>
            <p:nvPr/>
          </p:nvGrpSpPr>
          <p:grpSpPr>
            <a:xfrm>
              <a:off x="752760" y="1125360"/>
              <a:ext cx="1223640" cy="1007640"/>
              <a:chOff x="752760" y="1125360"/>
              <a:chExt cx="1223640" cy="1007640"/>
            </a:xfrm>
          </p:grpSpPr>
          <p:sp>
            <p:nvSpPr>
              <p:cNvPr id="85" name="Oval 53"/>
              <p:cNvSpPr/>
              <p:nvPr/>
            </p:nvSpPr>
            <p:spPr>
              <a:xfrm>
                <a:off x="752760" y="1621800"/>
                <a:ext cx="1223640" cy="499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e79281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e40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Picture 54" descr="j0433944[1]"/>
              <p:cNvPicPr/>
              <p:nvPr/>
            </p:nvPicPr>
            <p:blipFill>
              <a:blip r:embed="rId2"/>
              <a:stretch/>
            </p:blipFill>
            <p:spPr>
              <a:xfrm>
                <a:off x="973440" y="1125360"/>
                <a:ext cx="889920" cy="100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" name="Text Box 38"/>
            <p:cNvSpPr/>
            <p:nvPr/>
          </p:nvSpPr>
          <p:spPr>
            <a:xfrm>
              <a:off x="165960" y="2204640"/>
              <a:ext cx="1925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Внешняя сред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ounded Rectangle 8"/>
          <p:cNvSpPr/>
          <p:nvPr/>
        </p:nvSpPr>
        <p:spPr>
          <a:xfrm>
            <a:off x="179280" y="2565360"/>
            <a:ext cx="2521080" cy="295128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951280"/>
              <a:gd name="textAreaBottom" fmla="*/ 2828520 h 2951280"/>
            </a:gdLst>
            <a:ahLst/>
            <a:rect l="textAreaLeft" t="textAreaTop" r="textAreaRight" b="textAreaBottom"/>
            <a:pathLst>
              <a:path w="21600" h="25285">
                <a:moveTo>
                  <a:pt x="3600" y="0"/>
                </a:moveTo>
                <a:arcTo wR="3600" hR="3600" stAng="16200000" swAng="-5400000"/>
                <a:lnTo>
                  <a:pt x="0" y="21685"/>
                </a:lnTo>
                <a:arcTo wR="3600" hR="3600" stAng="10800000" swAng="-5400000"/>
                <a:lnTo>
                  <a:pt x="18000" y="252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тежные документы с указанием в 104 реквизите кодов КОС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72, 173, 110, 151, 16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1, 271, 272, 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4"/>
          <p:cNvSpPr/>
          <p:nvPr/>
        </p:nvSpPr>
        <p:spPr>
          <a:xfrm>
            <a:off x="7236000" y="3860640"/>
            <a:ext cx="19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е (автономное) учрежде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ounded Rectangle 8"/>
          <p:cNvSpPr/>
          <p:nvPr/>
        </p:nvSpPr>
        <p:spPr>
          <a:xfrm>
            <a:off x="3564000" y="4797360"/>
            <a:ext cx="3095640" cy="165600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числение на лицевой счет клиента по коду КОСГ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рочие доходы» (без права расходования) – невыясненные 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Стрелка вправо 6"/>
          <p:cNvSpPr/>
          <p:nvPr/>
        </p:nvSpPr>
        <p:spPr>
          <a:xfrm>
            <a:off x="2700360" y="2997360"/>
            <a:ext cx="2232000" cy="1008000"/>
          </a:xfrm>
          <a:prstGeom prst="rightArrow">
            <a:avLst>
              <a:gd name="adj1" fmla="val 50000"/>
              <a:gd name="adj2" fmla="val 7424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ка бан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Стрелка вниз 9"/>
          <p:cNvSpPr/>
          <p:nvPr/>
        </p:nvSpPr>
        <p:spPr>
          <a:xfrm>
            <a:off x="5221440" y="4076640"/>
            <a:ext cx="718920" cy="679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5508720" y="692280"/>
            <a:ext cx="3310920" cy="2159640"/>
            <a:chOff x="5508720" y="692280"/>
            <a:chExt cx="3310920" cy="2159640"/>
          </a:xfrm>
        </p:grpSpPr>
        <p:pic>
          <p:nvPicPr>
            <p:cNvPr id="94" name="Picture 7" descr="j0205462"/>
            <p:cNvPicPr/>
            <p:nvPr/>
          </p:nvPicPr>
          <p:blipFill>
            <a:blip r:embed="rId3"/>
            <a:stretch/>
          </p:blipFill>
          <p:spPr>
            <a:xfrm>
              <a:off x="6384600" y="692280"/>
              <a:ext cx="1686240" cy="21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8"/>
            <p:cNvSpPr/>
            <p:nvPr/>
          </p:nvSpPr>
          <p:spPr>
            <a:xfrm>
              <a:off x="5508720" y="2123280"/>
              <a:ext cx="33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4" descr="nff"/>
          <p:cNvPicPr/>
          <p:nvPr/>
        </p:nvPicPr>
        <p:blipFill>
          <a:blip r:embed="rId4"/>
          <a:stretch/>
        </p:blipFill>
        <p:spPr>
          <a:xfrm>
            <a:off x="4871880" y="2637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6" descr="j0433892[1]"/>
          <p:cNvPicPr/>
          <p:nvPr/>
        </p:nvPicPr>
        <p:blipFill>
          <a:blip r:embed="rId5"/>
          <a:stretch/>
        </p:blipFill>
        <p:spPr>
          <a:xfrm>
            <a:off x="5724360" y="2060640"/>
            <a:ext cx="1678320" cy="1476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63"/>
          <p:cNvSpPr/>
          <p:nvPr/>
        </p:nvSpPr>
        <p:spPr>
          <a:xfrm>
            <a:off x="5508720" y="263700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АСФ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115920"/>
            <a:ext cx="845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Автоматизированный контроль на недопустимость применения кодов КОСГУ при осуществлении операций государственными (муниципальными) бюджетными, автономными учреждения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территориальных органах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0" descr="bilding"/>
          <p:cNvPicPr/>
          <p:nvPr/>
        </p:nvPicPr>
        <p:blipFill>
          <a:blip r:embed="rId1"/>
          <a:stretch/>
        </p:blipFill>
        <p:spPr>
          <a:xfrm>
            <a:off x="6407280" y="4076640"/>
            <a:ext cx="273672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le 8"/>
          <p:cNvSpPr/>
          <p:nvPr/>
        </p:nvSpPr>
        <p:spPr>
          <a:xfrm>
            <a:off x="6443640" y="1125360"/>
            <a:ext cx="2631960" cy="3167280"/>
          </a:xfrm>
          <a:custGeom>
            <a:avLst/>
            <a:gdLst>
              <a:gd name="textAreaLeft" fmla="*/ 128160 w 2631960"/>
              <a:gd name="textAreaRight" fmla="*/ 2503800 w 2631960"/>
              <a:gd name="textAreaTop" fmla="*/ 128160 h 3167280"/>
              <a:gd name="textAreaBottom" fmla="*/ 3039120 h 3167280"/>
            </a:gdLst>
            <a:ahLst/>
            <a:rect l="textAreaLeft" t="textAreaTop" r="textAreaRight" b="textAreaBottom"/>
            <a:pathLst>
              <a:path w="21600" h="25993">
                <a:moveTo>
                  <a:pt x="3600" y="0"/>
                </a:moveTo>
                <a:arcTo wR="3600" hR="3600" stAng="16200000" swAng="-5400000"/>
                <a:lnTo>
                  <a:pt x="0" y="22393"/>
                </a:lnTo>
                <a:arcTo wR="3600" hR="3600" stAng="10800000" swAng="-5400000"/>
                <a:lnTo>
                  <a:pt x="18000" y="25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ные документы на осуществление кассовых выплат с указанием кодов КОС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72, 173, 11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1, 16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1, 271, 272, 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4"/>
          <p:cNvSpPr/>
          <p:nvPr/>
        </p:nvSpPr>
        <p:spPr>
          <a:xfrm>
            <a:off x="6227640" y="57229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е (автономное) учрежде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3924360" y="4724280"/>
            <a:ext cx="1800000" cy="1584360"/>
          </a:xfrm>
          <a:prstGeom prst="roundRect">
            <a:avLst>
              <a:gd name="adj" fmla="val 16667"/>
            </a:avLst>
          </a:prstGeom>
          <a:solidFill>
            <a:srgbClr val="fcf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окол об отказе в принятии документа к опла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-396720" y="1197000"/>
            <a:ext cx="3888720" cy="2413800"/>
            <a:chOff x="-396720" y="1197000"/>
            <a:chExt cx="3888720" cy="2413800"/>
          </a:xfrm>
        </p:grpSpPr>
        <p:pic>
          <p:nvPicPr>
            <p:cNvPr id="106" name="Picture 7" descr="j0205462"/>
            <p:cNvPicPr/>
            <p:nvPr/>
          </p:nvPicPr>
          <p:blipFill>
            <a:blip r:embed="rId2"/>
            <a:stretch/>
          </p:blipFill>
          <p:spPr>
            <a:xfrm>
              <a:off x="710280" y="1197000"/>
              <a:ext cx="1673640" cy="241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8"/>
            <p:cNvSpPr/>
            <p:nvPr/>
          </p:nvSpPr>
          <p:spPr>
            <a:xfrm>
              <a:off x="-396720" y="2741040"/>
              <a:ext cx="38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Стрелка влево 5"/>
          <p:cNvSpPr/>
          <p:nvPr/>
        </p:nvSpPr>
        <p:spPr>
          <a:xfrm>
            <a:off x="5076720" y="2421000"/>
            <a:ext cx="1366920" cy="936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яв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6"/>
          <p:cNvSpPr/>
          <p:nvPr/>
        </p:nvSpPr>
        <p:spPr>
          <a:xfrm>
            <a:off x="4067280" y="3789360"/>
            <a:ext cx="619200" cy="9349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" descr="nff"/>
          <p:cNvPicPr/>
          <p:nvPr/>
        </p:nvPicPr>
        <p:blipFill>
          <a:blip r:embed="rId3"/>
          <a:stretch/>
        </p:blipFill>
        <p:spPr>
          <a:xfrm>
            <a:off x="3635280" y="2349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6" descr="j0433892[1]"/>
          <p:cNvPicPr/>
          <p:nvPr/>
        </p:nvPicPr>
        <p:blipFill>
          <a:blip r:embed="rId4"/>
          <a:stretch/>
        </p:blipFill>
        <p:spPr>
          <a:xfrm>
            <a:off x="2195640" y="2276640"/>
            <a:ext cx="1800000" cy="1582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3"/>
          <p:cNvSpPr/>
          <p:nvPr/>
        </p:nvSpPr>
        <p:spPr>
          <a:xfrm>
            <a:off x="1908000" y="314172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ПО АСФ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24720" cy="1368360"/>
          </a:xfrm>
          <a:prstGeom prst="rect">
            <a:avLst/>
          </a:prstGeom>
          <a:noFill/>
          <a:ln w="9360">
            <a:solidFill>
              <a:srgbClr val="169e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46"/>
                </a:solidFill>
                <a:latin typeface="Times New Roman"/>
              </a:rPr>
              <a:t>Приказ Минфина России </a:t>
            </a:r>
            <a:br>
              <a:rPr sz="3600"/>
            </a:br>
            <a:r>
              <a:rPr b="1" lang="ru-RU" sz="3600" spc="-1" strike="noStrike">
                <a:solidFill>
                  <a:srgbClr val="002046"/>
                </a:solidFill>
                <a:latin typeface="Times New Roman"/>
              </a:rPr>
              <a:t>от 08.07.2012 № 76н</a:t>
            </a:r>
            <a:endParaRPr b="1" lang="en-US" sz="3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3212640"/>
            <a:ext cx="8424720" cy="1295640"/>
          </a:xfrm>
          <a:prstGeom prst="rect">
            <a:avLst/>
          </a:prstGeom>
          <a:noFill/>
          <a:ln w="9360">
            <a:solidFill>
              <a:srgbClr val="169e36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Письмо Минфина Росс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от 30.07.2012 № 02-06-07/296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50920" y="-860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24000" y="5300640"/>
            <a:ext cx="8424720" cy="1224000"/>
          </a:xfrm>
          <a:prstGeom prst="rect">
            <a:avLst/>
          </a:prstGeom>
          <a:noFill/>
          <a:ln w="9360">
            <a:solidFill>
              <a:srgbClr val="169e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Письмо Федерального казначей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от 13.06.2013 № 42-7.4-05/2.2-35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4140360" y="2421000"/>
            <a:ext cx="86328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4140360" y="4508640"/>
            <a:ext cx="86328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 операций, осуществляемых в соответствии с приказом Минфина России от 08.06.2012 № 76н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245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пераций по кассовому обслуживанию бюджетных учрежд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15920"/>
            <a:ext cx="4495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пераций по кассовому обслуживанию исполнения соответствующего бюдж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1055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открытия и ведения лицевых счетов бюджетных и автономных учреждений в органе Федерального казначей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3502080"/>
            <a:ext cx="4572000" cy="71892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XXX &lt;1&gt; 00 00 00 00 00  0000 8 211 01 56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100 01 05 02 01 XX &lt;2&gt; 0000 8 203 13 6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572000" y="3502080"/>
            <a:ext cx="4572000" cy="71892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100 01 05 02 01 XX 0000 1 203 12 5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XXX  01  06  10 02 XX XXXX &lt;3&gt; 1 307 12 5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4292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005f"/>
                </a:solidFill>
                <a:latin typeface="Times New Roman"/>
              </a:rPr>
              <a:t>Перечисление/ возврат средств с балансового счета № 40201 (№ 40204) на балансовый счет № 40601 (№ 4070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5013360"/>
            <a:ext cx="4572000" cy="64764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100  01  05  02  01 XX 0000 8 203 13 5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XXX  00  00  00  00 00 0000 8 211 01 66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4643280" y="5013360"/>
            <a:ext cx="4500720" cy="647640"/>
          </a:xfrm>
          <a:prstGeom prst="rect">
            <a:avLst/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Дебет XXX 01 06 10 02 XX XXXX 1 307 12 55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Times New Roman"/>
              </a:rPr>
              <a:t>Кредит 100  01  05  02 01 XX 0000 1 203 12 61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5949360"/>
            <a:ext cx="820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1&gt; XXX - соответствующий код главного администратора источников финансирования дефицита бюджет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2&gt; XX - соответствующий код элемента кода статьи источников финансирования дефицитов бюджетов - 10 02 X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3&gt; XXXX - соответствующий код вида источников финансирования дефицита бюджето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142920" y="1052640"/>
            <a:ext cx="889308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285120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005f"/>
                </a:solidFill>
                <a:latin typeface="Times New Roman"/>
              </a:rPr>
              <a:t>Перечисление остатков средств бюджетных, автономных учреждений с балансового счета № 40601 (№ 40701) на балансовый счет № 40201 (№ 402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Nataliya Markova</dc:creator>
  <dc:description/>
  <dc:language>en-US</dc:language>
  <cp:lastModifiedBy>somebody</cp:lastModifiedBy>
  <dcterms:modified xsi:type="dcterms:W3CDTF">2013-09-06T04:36:13Z</dcterms:modified>
  <cp:revision>423</cp:revision>
  <dc:subject/>
  <dc:title>Слайд 1</dc:title>
</cp:coreProperties>
</file>