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2843-7F7A-40AF-9A87-1126F8CD5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7A24-3A56-4A10-9129-CAB41C86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EB01-38A2-4D35-BFDF-ABB31E229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EBB0-D421-448A-8706-328BEE153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D71A-A855-4334-B4E8-15530A81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E6CA-E096-4706-9D33-F5037A5B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E4A9-2810-4CC2-89C5-B51C2C12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FD01-8BEB-4587-B5D4-ED4DF5D6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F74E-7E6C-4B5D-AC8B-75FCCCBE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4432-7DB4-42C3-8A70-C2C7544F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B4B6-4429-4B46-8F1F-EE736B78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3A9E-20D8-4DFB-B3F5-9CCF54F2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5915-9B56-4549-AE1D-4383E487D9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63280" y="40428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Федерального казначейст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 Удмуртской Республик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C:\Documents and Settings\2741\Рабочий стол\Слайды Артюхину\Шапка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2384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1476360" y="189000"/>
            <a:ext cx="63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Управление Федерального казначей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 Удмуртской Республ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4500720" y="4365720"/>
            <a:ext cx="3958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3635280" y="5950080"/>
            <a:ext cx="23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сентябрь 2013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42"/>
          <p:cNvSpPr/>
          <p:nvPr/>
        </p:nvSpPr>
        <p:spPr>
          <a:xfrm>
            <a:off x="900000" y="1700280"/>
            <a:ext cx="295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45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8713800" cy="511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" descr="C:\Documents and Settings\2741\Рабочий стол\Слайды Артюхину\Шапка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149" name="TextBox 5"/>
          <p:cNvSpPr/>
          <p:nvPr/>
        </p:nvSpPr>
        <p:spPr>
          <a:xfrm>
            <a:off x="1476360" y="0"/>
            <a:ext cx="6335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cc"/>
                </a:solidFill>
                <a:latin typeface="Times New Roman"/>
              </a:rPr>
              <a:t>Передача в Главную кни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4427640" y="2852640"/>
            <a:ext cx="38876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4479840" y="4498920"/>
            <a:ext cx="35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397512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4284720" y="1125360"/>
            <a:ext cx="43909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571680" y="5715000"/>
            <a:ext cx="79293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2"/>
          <a:stretch/>
        </p:blipFill>
        <p:spPr>
          <a:xfrm>
            <a:off x="500040" y="1143000"/>
            <a:ext cx="8001000" cy="4500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</p:pic>
      <p:sp>
        <p:nvSpPr>
          <p:cNvPr id="156" name="Oval 4"/>
          <p:cNvSpPr/>
          <p:nvPr/>
        </p:nvSpPr>
        <p:spPr>
          <a:xfrm>
            <a:off x="5143680" y="1643040"/>
            <a:ext cx="1214280" cy="3571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1"/>
          <p:cNvSpPr/>
          <p:nvPr/>
        </p:nvSpPr>
        <p:spPr>
          <a:xfrm>
            <a:off x="428760" y="565776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успешного выполнения операции статус документа принимает значение 801 «Актуализирова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C:\Documents and Settings\2741\Рабочий стол\Слайды Артюхину\Шапка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159" name="TextBox 5"/>
          <p:cNvSpPr/>
          <p:nvPr/>
        </p:nvSpPr>
        <p:spPr>
          <a:xfrm>
            <a:off x="1476360" y="0"/>
            <a:ext cx="633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cc"/>
                </a:solidFill>
                <a:latin typeface="Times New Roman"/>
              </a:rPr>
              <a:t>Синхронизация докумен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cc"/>
                </a:solidFill>
                <a:latin typeface="Times New Roman"/>
              </a:rPr>
              <a:t>открытого и защищенного конту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4427640" y="2852640"/>
            <a:ext cx="38876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4479840" y="4498920"/>
            <a:ext cx="35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397512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4284720" y="1125360"/>
            <a:ext cx="43909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684360" y="2565360"/>
            <a:ext cx="74898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2"/>
          <a:stretch/>
        </p:blipFill>
        <p:spPr>
          <a:xfrm>
            <a:off x="785880" y="1285920"/>
            <a:ext cx="3286080" cy="4116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</p:pic>
      <p:pic>
        <p:nvPicPr>
          <p:cNvPr id="166" name="Picture 3" descr=""/>
          <p:cNvPicPr/>
          <p:nvPr/>
        </p:nvPicPr>
        <p:blipFill>
          <a:blip r:embed="rId3"/>
          <a:stretch/>
        </p:blipFill>
        <p:spPr>
          <a:xfrm>
            <a:off x="5143680" y="1285920"/>
            <a:ext cx="3338280" cy="4127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</p:pic>
      <p:sp>
        <p:nvSpPr>
          <p:cNvPr id="167" name="TextBox 12"/>
          <p:cNvSpPr/>
          <p:nvPr/>
        </p:nvSpPr>
        <p:spPr>
          <a:xfrm>
            <a:off x="428760" y="565776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успешного выполнения операции статус документа принимает значение 004 «Проведе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" descr="C:\Documents and Settings\2741\Рабочий стол\Слайды Артюхину\Шапка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5"/>
          <p:cNvSpPr/>
          <p:nvPr/>
        </p:nvSpPr>
        <p:spPr>
          <a:xfrm>
            <a:off x="1476360" y="0"/>
            <a:ext cx="63356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Формирование исключений (тип ИО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в защищенном кон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4427640" y="2852640"/>
            <a:ext cx="38876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4479840" y="4498920"/>
            <a:ext cx="35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397512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4284720" y="1125360"/>
            <a:ext cx="43909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684360" y="2565360"/>
            <a:ext cx="74898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85840" y="578592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ыполнении операции осуществляются исключения дублирования оборотов между открытым контуром и защищенным конту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285840" y="1071720"/>
            <a:ext cx="8686800" cy="4714560"/>
          </a:xfrm>
          <a:prstGeom prst="rect">
            <a:avLst/>
          </a:prstGeom>
          <a:ln w="0">
            <a:noFill/>
          </a:ln>
        </p:spPr>
      </p:pic>
      <p:sp>
        <p:nvSpPr>
          <p:cNvPr id="177" name="Oval 4"/>
          <p:cNvSpPr/>
          <p:nvPr/>
        </p:nvSpPr>
        <p:spPr>
          <a:xfrm>
            <a:off x="642960" y="1785960"/>
            <a:ext cx="1214280" cy="3571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" descr="C:\Documents and Settings\2741\Рабочий стол\Слайды Артюхину\Шапка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179" name="TextBox 5"/>
          <p:cNvSpPr/>
          <p:nvPr/>
        </p:nvSpPr>
        <p:spPr>
          <a:xfrm>
            <a:off x="1476360" y="0"/>
            <a:ext cx="63356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Формирование исключений (тип ИО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в защищенном кон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4427640" y="2852640"/>
            <a:ext cx="38876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479840" y="4498920"/>
            <a:ext cx="35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397512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4284720" y="1125360"/>
            <a:ext cx="43909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684360" y="2565360"/>
            <a:ext cx="74898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57120" y="528588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успешного формирования документа с типом «ИОЗ» через «Выполнить» проводятся действия «Сформировать исключение», «Проверить наличие исключени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2"/>
          <a:stretch/>
        </p:blipFill>
        <p:spPr>
          <a:xfrm>
            <a:off x="928800" y="1285920"/>
            <a:ext cx="3019320" cy="3743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"/>
          <p:cNvPicPr/>
          <p:nvPr/>
        </p:nvPicPr>
        <p:blipFill>
          <a:blip r:embed="rId3"/>
          <a:stretch/>
        </p:blipFill>
        <p:spPr>
          <a:xfrm>
            <a:off x="5286240" y="1285920"/>
            <a:ext cx="30196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1" descr="C:\Documents and Settings\2741\Рабочий стол\Слайды Артюхину\Шапка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189" name="TextBox 5"/>
          <p:cNvSpPr/>
          <p:nvPr/>
        </p:nvSpPr>
        <p:spPr>
          <a:xfrm>
            <a:off x="1476360" y="0"/>
            <a:ext cx="63356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Формирование исключений (тип ИО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в защищенном кон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4479840" y="4498920"/>
            <a:ext cx="35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397512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4284720" y="1125360"/>
            <a:ext cx="43909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684360" y="2565360"/>
            <a:ext cx="74898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-360" y="1071720"/>
            <a:ext cx="89298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ле завершения операции «Проверить наличие исключений»  документа с типом «ИОЗ» приобретает статус 003 «Зарегистрировано» и подлежит дальнейшей обработке аналогично документу с типом «КОЗ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642960" y="5715000"/>
            <a:ext cx="8229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вершается обработка документа с типом «ИОЗ» со статусом 004 «Проведе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2" descr=""/>
          <p:cNvPicPr/>
          <p:nvPr/>
        </p:nvPicPr>
        <p:blipFill>
          <a:blip r:embed="rId2"/>
          <a:stretch/>
        </p:blipFill>
        <p:spPr>
          <a:xfrm>
            <a:off x="214200" y="2000160"/>
            <a:ext cx="2071800" cy="3857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</p:pic>
      <p:pic>
        <p:nvPicPr>
          <p:cNvPr id="197" name="Picture 2" descr=""/>
          <p:cNvPicPr/>
          <p:nvPr/>
        </p:nvPicPr>
        <p:blipFill>
          <a:blip r:embed="rId3"/>
          <a:stretch/>
        </p:blipFill>
        <p:spPr>
          <a:xfrm>
            <a:off x="4714920" y="2000160"/>
            <a:ext cx="2044800" cy="3857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</p:pic>
      <p:pic>
        <p:nvPicPr>
          <p:cNvPr id="198" name="Picture 3" descr=""/>
          <p:cNvPicPr/>
          <p:nvPr/>
        </p:nvPicPr>
        <p:blipFill>
          <a:blip r:embed="rId4"/>
          <a:stretch/>
        </p:blipFill>
        <p:spPr>
          <a:xfrm>
            <a:off x="6858000" y="2000160"/>
            <a:ext cx="2081160" cy="3857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</p:pic>
      <p:pic>
        <p:nvPicPr>
          <p:cNvPr id="199" name="Picture 23" descr=""/>
          <p:cNvPicPr/>
          <p:nvPr/>
        </p:nvPicPr>
        <p:blipFill>
          <a:blip r:embed="rId5"/>
          <a:stretch/>
        </p:blipFill>
        <p:spPr>
          <a:xfrm>
            <a:off x="2428920" y="2000160"/>
            <a:ext cx="2143080" cy="3857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" descr="C:\Documents and Settings\2741\Рабочий стол\Слайды Артюхину\Шапка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201" name="TextBox 5"/>
          <p:cNvSpPr/>
          <p:nvPr/>
        </p:nvSpPr>
        <p:spPr>
          <a:xfrm>
            <a:off x="1476360" y="0"/>
            <a:ext cx="63356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cc"/>
                </a:solidFill>
                <a:latin typeface="Times New Roman"/>
              </a:rPr>
              <a:t>Визуальный  контроль показ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66cc"/>
                </a:solidFill>
                <a:latin typeface="Times New Roman"/>
              </a:rPr>
              <a:t>(защищенный контур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4427640" y="2852640"/>
            <a:ext cx="38876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4479840" y="4498920"/>
            <a:ext cx="35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397512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4284720" y="1125360"/>
            <a:ext cx="43909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3"/>
          <p:cNvSpPr/>
          <p:nvPr/>
        </p:nvSpPr>
        <p:spPr>
          <a:xfrm>
            <a:off x="684360" y="2565360"/>
            <a:ext cx="74898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42960" y="1357200"/>
          <a:ext cx="7858080" cy="3916440"/>
        </p:xfrm>
        <a:graphic>
          <a:graphicData uri="http://schemas.openxmlformats.org/drawingml/2006/table">
            <a:tbl>
              <a:tblPr/>
              <a:tblGrid>
                <a:gridCol w="2619360"/>
                <a:gridCol w="2619360"/>
                <a:gridCol w="261936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умент с типом ИОЗ «Исключения для учета организации исполнения бюджет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ри наличии оборотов в защищенном контур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тнош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ая книга (ф.0504072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открытого контур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17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граф 2, 3 «Оборот по дебету, кредиту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 граф 7,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чету 140220000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2110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" descr="C:\Documents and Settings\2741\Рабочий стол\Слайды Артюхину\Шапка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209" name="TextBox 5"/>
          <p:cNvSpPr/>
          <p:nvPr/>
        </p:nvSpPr>
        <p:spPr>
          <a:xfrm>
            <a:off x="1476360" y="0"/>
            <a:ext cx="63356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Формирование Консолидированной Главной книги (ф.050407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4427640" y="2852640"/>
            <a:ext cx="38876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4479840" y="4498920"/>
            <a:ext cx="35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397512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4284720" y="1125360"/>
            <a:ext cx="43909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684360" y="2565360"/>
            <a:ext cx="74898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2"/>
          <a:stretch/>
        </p:blipFill>
        <p:spPr>
          <a:xfrm>
            <a:off x="1143000" y="1143000"/>
            <a:ext cx="6705720" cy="4105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</p:pic>
      <p:sp>
        <p:nvSpPr>
          <p:cNvPr id="216" name="TextBox 10"/>
          <p:cNvSpPr/>
          <p:nvPr/>
        </p:nvSpPr>
        <p:spPr>
          <a:xfrm>
            <a:off x="428760" y="56437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нная Главная книга ф.0504072 сохраняется со статусом документа 002 «Провере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" descr="C:\Documents and Settings\2741\Рабочий стол\Слайды Артюхину\Шапка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1476360" y="0"/>
            <a:ext cx="63356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Контроль Консолидированной Главной книги (ф.050407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4427640" y="2852640"/>
            <a:ext cx="38876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4479840" y="4498920"/>
            <a:ext cx="35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397512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4284720" y="1125360"/>
            <a:ext cx="43909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684360" y="2565360"/>
            <a:ext cx="74898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2" descr=""/>
          <p:cNvPicPr/>
          <p:nvPr/>
        </p:nvPicPr>
        <p:blipFill>
          <a:blip r:embed="rId2"/>
          <a:stretch/>
        </p:blipFill>
        <p:spPr>
          <a:xfrm>
            <a:off x="357120" y="1214280"/>
            <a:ext cx="8505720" cy="5143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</p:pic>
      <p:sp>
        <p:nvSpPr>
          <p:cNvPr id="225" name="Oval 4"/>
          <p:cNvSpPr/>
          <p:nvPr/>
        </p:nvSpPr>
        <p:spPr>
          <a:xfrm>
            <a:off x="357120" y="4357800"/>
            <a:ext cx="6286680" cy="285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5"/>
          <p:cNvSpPr/>
          <p:nvPr/>
        </p:nvSpPr>
        <p:spPr>
          <a:xfrm>
            <a:off x="6715080" y="42148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!!!!!!!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1" descr="C:\Documents and Settings\2741\Рабочий стол\Слайды Артюхину\Шапка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6"/>
          <p:cNvSpPr/>
          <p:nvPr/>
        </p:nvSpPr>
        <p:spPr>
          <a:xfrm>
            <a:off x="397512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4284720" y="1125360"/>
            <a:ext cx="43909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10"/>
          <p:cNvSpPr/>
          <p:nvPr/>
        </p:nvSpPr>
        <p:spPr>
          <a:xfrm>
            <a:off x="1785960" y="142920"/>
            <a:ext cx="59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Успешное прохождение контроля показателей Консолидированной Главной книги (ф.050407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Прямоугольник 44"/>
          <p:cNvGrpSpPr/>
          <p:nvPr/>
        </p:nvGrpSpPr>
        <p:grpSpPr>
          <a:xfrm>
            <a:off x="341280" y="4840200"/>
            <a:ext cx="2548080" cy="817560"/>
            <a:chOff x="341280" y="4840200"/>
            <a:chExt cx="2548080" cy="817560"/>
          </a:xfrm>
        </p:grpSpPr>
        <p:pic>
          <p:nvPicPr>
            <p:cNvPr id="232" name="Прямоугольник 44" descr=""/>
            <p:cNvPicPr/>
            <p:nvPr/>
          </p:nvPicPr>
          <p:blipFill>
            <a:blip r:embed="rId2"/>
            <a:stretch/>
          </p:blipFill>
          <p:spPr>
            <a:xfrm>
              <a:off x="341280" y="4840200"/>
              <a:ext cx="25480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357120" y="4857840"/>
              <a:ext cx="252108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2520" tIns="92520" bIns="9252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Блок-схема: процесс 50"/>
          <p:cNvSpPr/>
          <p:nvPr/>
        </p:nvSpPr>
        <p:spPr>
          <a:xfrm>
            <a:off x="2857680" y="3214800"/>
            <a:ext cx="3214440" cy="928440"/>
          </a:xfrm>
          <a:prstGeom prst="flowChart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с показателями оперативной отчетности (ф.0521432, ф.0521436, ф.0521458, ф.0521462,  ф.052146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Блок-схема: процесс 14"/>
          <p:cNvSpPr/>
          <p:nvPr/>
        </p:nvSpPr>
        <p:spPr>
          <a:xfrm>
            <a:off x="2928960" y="4429080"/>
            <a:ext cx="3286080" cy="785880"/>
          </a:xfrm>
          <a:prstGeom prst="flowChart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с показател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ячной отчет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.0503124, ф.0503140,  ф.052146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Блок-схема: процесс 18"/>
          <p:cNvSpPr/>
          <p:nvPr/>
        </p:nvSpPr>
        <p:spPr>
          <a:xfrm>
            <a:off x="2857680" y="2143080"/>
            <a:ext cx="3214440" cy="785880"/>
          </a:xfrm>
          <a:prstGeom prst="flowChart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на соответствие справочников в базах данных открытого и защищенного контур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Блок-схема: процесс 20"/>
          <p:cNvSpPr/>
          <p:nvPr/>
        </p:nvSpPr>
        <p:spPr>
          <a:xfrm>
            <a:off x="2857680" y="1143000"/>
            <a:ext cx="3214440" cy="714240"/>
          </a:xfrm>
          <a:prstGeom prst="flowChart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Консолидированной Главной книги (ф.050407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23"/>
          <p:cNvSpPr/>
          <p:nvPr/>
        </p:nvSpPr>
        <p:spPr>
          <a:xfrm>
            <a:off x="3786120" y="5653080"/>
            <a:ext cx="1368360" cy="4870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троль пройд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Стрелка вправо 27"/>
          <p:cNvSpPr/>
          <p:nvPr/>
        </p:nvSpPr>
        <p:spPr>
          <a:xfrm>
            <a:off x="5143680" y="5715000"/>
            <a:ext cx="150012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Стрелка влево 28"/>
          <p:cNvSpPr/>
          <p:nvPr/>
        </p:nvSpPr>
        <p:spPr>
          <a:xfrm flipV="1">
            <a:off x="2214720" y="5714280"/>
            <a:ext cx="1571400" cy="214200"/>
          </a:xfrm>
          <a:prstGeom prst="leftArrow">
            <a:avLst>
              <a:gd name="adj1" fmla="val 50000"/>
              <a:gd name="adj2" fmla="val 5002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трелка вниз 30"/>
          <p:cNvSpPr/>
          <p:nvPr/>
        </p:nvSpPr>
        <p:spPr>
          <a:xfrm>
            <a:off x="4286160" y="1857240"/>
            <a:ext cx="214560" cy="2858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трелка вниз 31"/>
          <p:cNvSpPr/>
          <p:nvPr/>
        </p:nvSpPr>
        <p:spPr>
          <a:xfrm>
            <a:off x="4286160" y="2928960"/>
            <a:ext cx="214560" cy="2858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Стрелка вниз 32"/>
          <p:cNvSpPr/>
          <p:nvPr/>
        </p:nvSpPr>
        <p:spPr>
          <a:xfrm>
            <a:off x="4357800" y="4143240"/>
            <a:ext cx="214200" cy="2858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Стрелка вниз 33"/>
          <p:cNvSpPr/>
          <p:nvPr/>
        </p:nvSpPr>
        <p:spPr>
          <a:xfrm>
            <a:off x="4357800" y="5214960"/>
            <a:ext cx="214200" cy="2858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Блок-схема: процесс 34"/>
          <p:cNvSpPr/>
          <p:nvPr/>
        </p:nvSpPr>
        <p:spPr>
          <a:xfrm>
            <a:off x="6715080" y="5143680"/>
            <a:ext cx="1714680" cy="1428480"/>
          </a:xfrm>
          <a:prstGeom prst="flowChartProcess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отчета об операциях по данным главной книги (ф.053198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35"/>
          <p:cNvSpPr/>
          <p:nvPr/>
        </p:nvSpPr>
        <p:spPr>
          <a:xfrm>
            <a:off x="5572080" y="542916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37"/>
          <p:cNvSpPr/>
          <p:nvPr/>
        </p:nvSpPr>
        <p:spPr>
          <a:xfrm>
            <a:off x="2786040" y="542916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Блок-схема: процесс 38"/>
          <p:cNvSpPr/>
          <p:nvPr/>
        </p:nvSpPr>
        <p:spPr>
          <a:xfrm>
            <a:off x="428760" y="5143680"/>
            <a:ext cx="1714320" cy="1428480"/>
          </a:xfrm>
          <a:prstGeom prst="flowChartProcess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и контроль устранения выявленных ошибочных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" descr="C:\Documents and Settings\2741\Рабочий стол\Слайды Артюхину\Шапка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250" name="TextBox 5"/>
          <p:cNvSpPr/>
          <p:nvPr/>
        </p:nvSpPr>
        <p:spPr>
          <a:xfrm>
            <a:off x="1476360" y="0"/>
            <a:ext cx="63356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cc"/>
                </a:solidFill>
                <a:latin typeface="Times New Roman"/>
              </a:rPr>
              <a:t>Визуальный  контроль показ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66cc"/>
                </a:solidFill>
                <a:latin typeface="Times New Roman"/>
              </a:rPr>
              <a:t>(защищенный контур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4427640" y="2852640"/>
            <a:ext cx="38876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4479840" y="4498920"/>
            <a:ext cx="35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9"/>
          <p:cNvSpPr/>
          <p:nvPr/>
        </p:nvSpPr>
        <p:spPr>
          <a:xfrm>
            <a:off x="397512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0"/>
          <p:cNvSpPr/>
          <p:nvPr/>
        </p:nvSpPr>
        <p:spPr>
          <a:xfrm>
            <a:off x="4284720" y="1125360"/>
            <a:ext cx="43909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3"/>
          <p:cNvSpPr/>
          <p:nvPr/>
        </p:nvSpPr>
        <p:spPr>
          <a:xfrm>
            <a:off x="684360" y="2565360"/>
            <a:ext cx="74898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428760" y="1214280"/>
          <a:ext cx="8286480" cy="5034240"/>
        </p:xfrm>
        <a:graphic>
          <a:graphicData uri="http://schemas.openxmlformats.org/drawingml/2006/table">
            <a:tbl>
              <a:tblPr/>
              <a:tblGrid>
                <a:gridCol w="1785960"/>
                <a:gridCol w="1285560"/>
                <a:gridCol w="1900440"/>
                <a:gridCol w="1314360"/>
                <a:gridCol w="2000160"/>
              </a:tblGrid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олидированная  Главная книга (ф.050407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умент с типом ИГ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тнош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ая книга (ф.0504072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открытого контур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тнош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олидированный Журнал операций (ф.0504071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 по сче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202 11 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 7, 8 «Оборот по дебету, кредиту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 по сче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202 11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 7, 8 «Оборот по дебету, кредиту»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01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граф 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борот за день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граф 7,8 «Оборот за день» + сумма операций защищенного контура (ЛБО полученные, внебанковские операции) при налич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обороты за д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:\Documents and Settings\2741\Рабочий стол\Слайды Артюхину\Шапка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1476360" y="0"/>
            <a:ext cx="63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Цели и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397512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7"/>
          <p:cNvSpPr/>
          <p:nvPr/>
        </p:nvSpPr>
        <p:spPr>
          <a:xfrm>
            <a:off x="214200" y="2928960"/>
            <a:ext cx="8715600" cy="1643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>
                  <a:alpha val="50196"/>
                </a:srgbClr>
              </a:gs>
              <a:gs pos="50000">
                <a:srgbClr val="ffffff"/>
              </a:gs>
              <a:gs pos="100000">
                <a:srgbClr val="bbe0e3">
                  <a:alpha val="50196"/>
                </a:srgbClr>
              </a:gs>
            </a:gsLst>
            <a:lin ang="5400000"/>
          </a:gra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cc"/>
                </a:solidFill>
                <a:latin typeface="Times New Roman"/>
              </a:rPr>
              <a:t>Формирование Управлениями Федерального казначейства Главной книги (ф.0504072) , передача Отчета об операциях по данным Главной книги (ф.0531981) и Сведений о входящих остатках по счетам Главной  книги (ф.0531982) в Межрегиональное операционное управление Федерального казначей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214200" y="4929120"/>
            <a:ext cx="8715600" cy="17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>
                  <a:alpha val="50196"/>
                </a:srgbClr>
              </a:gs>
              <a:gs pos="50000">
                <a:srgbClr val="ffffff"/>
              </a:gs>
              <a:gs pos="100000">
                <a:srgbClr val="bbe0e3">
                  <a:alpha val="50196"/>
                </a:srgbClr>
              </a:gs>
            </a:gsLst>
            <a:lin ang="5400000"/>
          </a:gra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cc"/>
                </a:solidFill>
                <a:latin typeface="Times New Roman"/>
              </a:rPr>
              <a:t>Ежедневное формирование Межрегиональным операционным управлением Федерального казначейства Консолидированной Главной книги Федерального казначейства на основании сформированных Главных книг по каждому территориальному органу Федерального казначейства, сверка с показателями консолидированной отчетности Федерального казначе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8"/>
          <p:cNvSpPr/>
          <p:nvPr/>
        </p:nvSpPr>
        <p:spPr>
          <a:xfrm>
            <a:off x="3143160" y="2071800"/>
            <a:ext cx="3065400" cy="457200"/>
          </a:xfrm>
          <a:prstGeom prst="roundRect">
            <a:avLst>
              <a:gd name="adj" fmla="val 16667"/>
            </a:avLst>
          </a:pr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Arial"/>
                <a:ea typeface="Arial"/>
              </a:rPr>
              <a:t>Решаемые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9"/>
          <p:cNvSpPr/>
          <p:nvPr/>
        </p:nvSpPr>
        <p:spPr>
          <a:xfrm>
            <a:off x="571680" y="1071720"/>
            <a:ext cx="785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66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66cc"/>
                </a:solidFill>
                <a:latin typeface="Times New Roman"/>
              </a:rPr>
              <a:t>Обеспечение Федеральным казначейством необходимой </a:t>
            </a:r>
            <a:r>
              <a:rPr b="0" lang="ru-RU" sz="1800" spc="-1" strike="noStrike">
                <a:solidFill>
                  <a:srgbClr val="3366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66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66cc"/>
                </a:solidFill>
                <a:latin typeface="Times New Roman"/>
              </a:rPr>
              <a:t>информацией пользователей в режиме времени, близком к </a:t>
            </a:r>
            <a:r>
              <a:rPr b="0" lang="ru-RU" sz="1800" spc="-1" strike="noStrike">
                <a:solidFill>
                  <a:srgbClr val="3366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66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66cc"/>
                </a:solidFill>
                <a:latin typeface="Times New Roman"/>
              </a:rPr>
              <a:t>реальном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0"/>
          <p:cNvSpPr/>
          <p:nvPr/>
        </p:nvSpPr>
        <p:spPr>
          <a:xfrm>
            <a:off x="642960" y="1214280"/>
            <a:ext cx="1512720" cy="3603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Arial"/>
              </a:rPr>
              <a:t>Ц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трелка вправо 13"/>
          <p:cNvSpPr/>
          <p:nvPr/>
        </p:nvSpPr>
        <p:spPr>
          <a:xfrm rot="5400000">
            <a:off x="4462560" y="2610000"/>
            <a:ext cx="333360" cy="257040"/>
          </a:xfrm>
          <a:prstGeom prst="rightArrow">
            <a:avLst>
              <a:gd name="adj1" fmla="val 50000"/>
              <a:gd name="adj2" fmla="val 50021"/>
            </a:avLst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трелка вправо 14"/>
          <p:cNvSpPr/>
          <p:nvPr/>
        </p:nvSpPr>
        <p:spPr>
          <a:xfrm rot="5400000">
            <a:off x="4462560" y="4610160"/>
            <a:ext cx="333360" cy="257040"/>
          </a:xfrm>
          <a:prstGeom prst="rightArrow">
            <a:avLst>
              <a:gd name="adj1" fmla="val 50000"/>
              <a:gd name="adj2" fmla="val 50021"/>
            </a:avLst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1" descr="C:\Documents and Settings\2741\Рабочий стол\Слайды Артюхину\Шапка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258" name="TextBox 5"/>
          <p:cNvSpPr/>
          <p:nvPr/>
        </p:nvSpPr>
        <p:spPr>
          <a:xfrm>
            <a:off x="1476360" y="0"/>
            <a:ext cx="63356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Формирование Отчета об операция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(ф.0531981) в защищенном контуре УФ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4427640" y="2852640"/>
            <a:ext cx="38876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4479840" y="4498920"/>
            <a:ext cx="35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397512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4284720" y="1125360"/>
            <a:ext cx="43909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684360" y="2565360"/>
            <a:ext cx="74898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0" descr=""/>
          <p:cNvPicPr/>
          <p:nvPr/>
        </p:nvPicPr>
        <p:blipFill>
          <a:blip r:embed="rId2"/>
          <a:stretch/>
        </p:blipFill>
        <p:spPr>
          <a:xfrm>
            <a:off x="642960" y="1214280"/>
            <a:ext cx="7929720" cy="5286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1" descr="C:\Documents and Settings\2741\Рабочий стол\Слайды Артюхину\Шапка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266" name="TextBox 5"/>
          <p:cNvSpPr/>
          <p:nvPr/>
        </p:nvSpPr>
        <p:spPr>
          <a:xfrm>
            <a:off x="1476360" y="0"/>
            <a:ext cx="63356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Формирование отчета об операция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(ф.0531981) в защищенном конту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4427640" y="2852640"/>
            <a:ext cx="38876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4479840" y="4498920"/>
            <a:ext cx="35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397512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4284720" y="1125360"/>
            <a:ext cx="43909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684360" y="2565360"/>
            <a:ext cx="74898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2"/>
          <a:stretch/>
        </p:blipFill>
        <p:spPr>
          <a:xfrm>
            <a:off x="285840" y="1071720"/>
            <a:ext cx="8658000" cy="5643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" descr="C:\Documents and Settings\2741\Рабочий стол\Слайды Артюхину\Шапка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274" name="TextBox 5"/>
          <p:cNvSpPr/>
          <p:nvPr/>
        </p:nvSpPr>
        <p:spPr>
          <a:xfrm>
            <a:off x="1476360" y="0"/>
            <a:ext cx="63356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cc"/>
                </a:solidFill>
                <a:latin typeface="Times New Roman"/>
              </a:rPr>
              <a:t>Визуальный  контроль показ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66cc"/>
                </a:solidFill>
                <a:latin typeface="Times New Roman"/>
              </a:rPr>
              <a:t>(защищенный контур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27640" y="2852640"/>
            <a:ext cx="38876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4479840" y="4498920"/>
            <a:ext cx="35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397512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4284720" y="1125360"/>
            <a:ext cx="43909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3"/>
          <p:cNvSpPr/>
          <p:nvPr/>
        </p:nvSpPr>
        <p:spPr>
          <a:xfrm>
            <a:off x="684360" y="2565360"/>
            <a:ext cx="74898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285840" y="1357200"/>
          <a:ext cx="8572320" cy="4357800"/>
        </p:xfrm>
        <a:graphic>
          <a:graphicData uri="http://schemas.openxmlformats.org/drawingml/2006/table">
            <a:tbl>
              <a:tblPr/>
              <a:tblGrid>
                <a:gridCol w="1428840"/>
                <a:gridCol w="1500120"/>
                <a:gridCol w="2000160"/>
                <a:gridCol w="1500120"/>
                <a:gridCol w="2143080"/>
              </a:tblGrid>
              <a:tr h="217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умент с типом ДГК «Отчет об операциях» (ф.053198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тнош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олидирован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ая книга (ф.0504072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тнош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олидированный Журнал операций (ф.0504071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17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гр.2,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борот по дебету, кредиту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граф 7,8 «Оборот за день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обороты за д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1" descr="C:\Documents and Settings\2741\Рабочий стол\Слайды Артюхину\Шапка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4"/>
          <p:cNvSpPr/>
          <p:nvPr/>
        </p:nvSpPr>
        <p:spPr>
          <a:xfrm>
            <a:off x="4427640" y="2852640"/>
            <a:ext cx="38876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397512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4284720" y="1125360"/>
            <a:ext cx="43909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"/>
          <p:cNvSpPr/>
          <p:nvPr/>
        </p:nvSpPr>
        <p:spPr>
          <a:xfrm>
            <a:off x="684360" y="2565360"/>
            <a:ext cx="74898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10"/>
          <p:cNvSpPr/>
          <p:nvPr/>
        </p:nvSpPr>
        <p:spPr>
          <a:xfrm>
            <a:off x="1785960" y="142920"/>
            <a:ext cx="59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Утверждение отчета об операция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(ф.0531981) и отправка в МОУ Ф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Овал 12"/>
          <p:cNvGrpSpPr/>
          <p:nvPr/>
        </p:nvGrpSpPr>
        <p:grpSpPr>
          <a:xfrm>
            <a:off x="3432240" y="2816280"/>
            <a:ext cx="1463760" cy="1017360"/>
            <a:chOff x="3432240" y="2816280"/>
            <a:chExt cx="1463760" cy="1017360"/>
          </a:xfrm>
        </p:grpSpPr>
        <p:pic>
          <p:nvPicPr>
            <p:cNvPr id="288" name="Овал 12" descr=""/>
            <p:cNvPicPr/>
            <p:nvPr/>
          </p:nvPicPr>
          <p:blipFill>
            <a:blip r:embed="rId2"/>
            <a:stretch/>
          </p:blipFill>
          <p:spPr>
            <a:xfrm>
              <a:off x="3432240" y="2816280"/>
              <a:ext cx="1463760" cy="101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3695760" y="2989440"/>
              <a:ext cx="94140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65160" bIns="651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262626"/>
                  </a:solidFill>
                  <a:latin typeface="Tahoma"/>
                  <a:ea typeface="ＭＳ Ｐゴシック"/>
                </a:rPr>
                <a:t>СУФ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0" name="Picture 2" descr="arrow 58 icon"/>
          <p:cNvPicPr/>
          <p:nvPr/>
        </p:nvPicPr>
        <p:blipFill>
          <a:blip r:embed="rId3">
            <a:grayscl/>
          </a:blip>
          <a:stretch/>
        </p:blipFill>
        <p:spPr>
          <a:xfrm rot="20784000">
            <a:off x="2515680" y="308772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" descr="arrow 58 icon"/>
          <p:cNvPicPr/>
          <p:nvPr/>
        </p:nvPicPr>
        <p:blipFill>
          <a:blip r:embed="rId4">
            <a:grayscl/>
          </a:blip>
          <a:stretch/>
        </p:blipFill>
        <p:spPr>
          <a:xfrm rot="1958400">
            <a:off x="4944960" y="2948040"/>
            <a:ext cx="843120" cy="83664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8"/>
          <p:cNvSpPr/>
          <p:nvPr/>
        </p:nvSpPr>
        <p:spPr>
          <a:xfrm>
            <a:off x="6357960" y="47149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У Ф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5" descr=""/>
          <p:cNvPicPr/>
          <p:nvPr/>
        </p:nvPicPr>
        <p:blipFill>
          <a:blip r:embed="rId5"/>
          <a:stretch/>
        </p:blipFill>
        <p:spPr>
          <a:xfrm>
            <a:off x="571680" y="2643120"/>
            <a:ext cx="1785600" cy="185760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11"/>
          <p:cNvSpPr/>
          <p:nvPr/>
        </p:nvSpPr>
        <p:spPr>
          <a:xfrm>
            <a:off x="428760" y="4643280"/>
            <a:ext cx="20574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ФК по Удмуртской Республи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Documents"/>
          <p:cNvSpPr/>
          <p:nvPr/>
        </p:nvSpPr>
        <p:spPr>
          <a:xfrm>
            <a:off x="3857760" y="5214960"/>
            <a:ext cx="544320" cy="66024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9"/>
          <p:cNvSpPr/>
          <p:nvPr/>
        </p:nvSpPr>
        <p:spPr>
          <a:xfrm>
            <a:off x="3574440" y="6072120"/>
            <a:ext cx="13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ток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Овал 23"/>
          <p:cNvGrpSpPr/>
          <p:nvPr/>
        </p:nvGrpSpPr>
        <p:grpSpPr>
          <a:xfrm>
            <a:off x="3432240" y="4102200"/>
            <a:ext cx="1463760" cy="1019160"/>
            <a:chOff x="3432240" y="4102200"/>
            <a:chExt cx="1463760" cy="1019160"/>
          </a:xfrm>
        </p:grpSpPr>
        <p:pic>
          <p:nvPicPr>
            <p:cNvPr id="298" name="Овал 23" descr=""/>
            <p:cNvPicPr/>
            <p:nvPr/>
          </p:nvPicPr>
          <p:blipFill>
            <a:blip r:embed="rId6"/>
            <a:stretch/>
          </p:blipFill>
          <p:spPr>
            <a:xfrm>
              <a:off x="3432240" y="4102200"/>
              <a:ext cx="146376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3695760" y="4275000"/>
              <a:ext cx="941400" cy="6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65160" bIns="651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262626"/>
                  </a:solidFill>
                  <a:latin typeface="Tahoma"/>
                  <a:ea typeface="ＭＳ Ｐゴシック"/>
                </a:rPr>
                <a:t>СЭ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0" name="Picture 2" descr="arrow 58 icon"/>
          <p:cNvPicPr/>
          <p:nvPr/>
        </p:nvPicPr>
        <p:blipFill>
          <a:blip r:embed="rId7">
            <a:grayscl/>
          </a:blip>
          <a:stretch/>
        </p:blipFill>
        <p:spPr>
          <a:xfrm rot="9429600">
            <a:off x="4916520" y="398772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" descr="arrow 58 icon"/>
          <p:cNvPicPr/>
          <p:nvPr/>
        </p:nvPicPr>
        <p:blipFill>
          <a:blip r:embed="rId8">
            <a:grayscl/>
          </a:blip>
          <a:stretch/>
        </p:blipFill>
        <p:spPr>
          <a:xfrm rot="13402800">
            <a:off x="2530080" y="4102200"/>
            <a:ext cx="836640" cy="836640"/>
          </a:xfrm>
          <a:prstGeom prst="rect">
            <a:avLst/>
          </a:prstGeom>
          <a:ln w="0">
            <a:noFill/>
          </a:ln>
        </p:spPr>
      </p:pic>
      <p:sp>
        <p:nvSpPr>
          <p:cNvPr id="302" name="Documents"/>
          <p:cNvSpPr/>
          <p:nvPr/>
        </p:nvSpPr>
        <p:spPr>
          <a:xfrm>
            <a:off x="3786120" y="2000160"/>
            <a:ext cx="544680" cy="6606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27" descr=""/>
          <p:cNvPicPr/>
          <p:nvPr/>
        </p:nvPicPr>
        <p:blipFill>
          <a:blip r:embed="rId9"/>
          <a:stretch/>
        </p:blipFill>
        <p:spPr>
          <a:xfrm>
            <a:off x="6215040" y="2643120"/>
            <a:ext cx="2000160" cy="1895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</p:pic>
      <p:sp>
        <p:nvSpPr>
          <p:cNvPr id="304" name="Text Box 26"/>
          <p:cNvSpPr/>
          <p:nvPr/>
        </p:nvSpPr>
        <p:spPr>
          <a:xfrm>
            <a:off x="3500280" y="1214280"/>
            <a:ext cx="112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чет об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ераци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1" descr="C:\Documents and Settings\2741\Рабочий стол\Слайды Артюхину\Шапка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306" name="TextBox 5"/>
          <p:cNvSpPr/>
          <p:nvPr/>
        </p:nvSpPr>
        <p:spPr>
          <a:xfrm>
            <a:off x="1476360" y="0"/>
            <a:ext cx="63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Информация о принят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Отчета об операциях (ф.053198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4427640" y="2852640"/>
            <a:ext cx="38876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4479840" y="4498920"/>
            <a:ext cx="35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397512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4284720" y="1125360"/>
            <a:ext cx="43909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8"/>
          <p:cNvSpPr/>
          <p:nvPr/>
        </p:nvSpPr>
        <p:spPr>
          <a:xfrm>
            <a:off x="684360" y="2565360"/>
            <a:ext cx="74898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9" descr=""/>
          <p:cNvPicPr/>
          <p:nvPr/>
        </p:nvPicPr>
        <p:blipFill>
          <a:blip r:embed="rId2"/>
          <a:stretch/>
        </p:blipFill>
        <p:spPr>
          <a:xfrm>
            <a:off x="214200" y="1285920"/>
            <a:ext cx="8339400" cy="5143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1" descr="C:\Documents and Settings\2741\Рабочий стол\Слайды Артюхину\Шапка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4"/>
          <p:cNvSpPr/>
          <p:nvPr/>
        </p:nvSpPr>
        <p:spPr>
          <a:xfrm>
            <a:off x="4427640" y="2852640"/>
            <a:ext cx="38876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4479840" y="4498920"/>
            <a:ext cx="35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397512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8"/>
          <p:cNvSpPr/>
          <p:nvPr/>
        </p:nvSpPr>
        <p:spPr>
          <a:xfrm>
            <a:off x="684360" y="2565360"/>
            <a:ext cx="74898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10"/>
          <p:cNvSpPr/>
          <p:nvPr/>
        </p:nvSpPr>
        <p:spPr>
          <a:xfrm>
            <a:off x="1785960" y="142920"/>
            <a:ext cx="59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АРМ Руководителя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\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Управленческий контур СП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12" descr=""/>
          <p:cNvPicPr/>
          <p:nvPr/>
        </p:nvPicPr>
        <p:blipFill>
          <a:blip r:embed="rId2"/>
          <a:stretch/>
        </p:blipFill>
        <p:spPr>
          <a:xfrm>
            <a:off x="4929120" y="2000160"/>
            <a:ext cx="3210120" cy="466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</p:pic>
      <p:pic>
        <p:nvPicPr>
          <p:cNvPr id="320" name="Picture 13" descr=""/>
          <p:cNvPicPr/>
          <p:nvPr/>
        </p:nvPicPr>
        <p:blipFill>
          <a:blip r:embed="rId3"/>
          <a:stretch/>
        </p:blipFill>
        <p:spPr>
          <a:xfrm>
            <a:off x="714240" y="2071800"/>
            <a:ext cx="2881440" cy="466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</p:pic>
      <p:pic>
        <p:nvPicPr>
          <p:cNvPr id="321" name="Picture 15" descr=""/>
          <p:cNvPicPr/>
          <p:nvPr/>
        </p:nvPicPr>
        <p:blipFill>
          <a:blip r:embed="rId4"/>
          <a:stretch/>
        </p:blipFill>
        <p:spPr>
          <a:xfrm>
            <a:off x="857160" y="2571840"/>
            <a:ext cx="7858080" cy="4071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</p:pic>
      <p:pic>
        <p:nvPicPr>
          <p:cNvPr id="322" name="Picture 16" descr=""/>
          <p:cNvPicPr/>
          <p:nvPr/>
        </p:nvPicPr>
        <p:blipFill>
          <a:blip r:embed="rId5"/>
          <a:stretch/>
        </p:blipFill>
        <p:spPr>
          <a:xfrm>
            <a:off x="857160" y="1071720"/>
            <a:ext cx="7215120" cy="628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</p:pic>
      <p:pic>
        <p:nvPicPr>
          <p:cNvPr id="323" name="Picture 17" descr=""/>
          <p:cNvPicPr/>
          <p:nvPr/>
        </p:nvPicPr>
        <p:blipFill>
          <a:blip r:embed="rId6"/>
          <a:stretch/>
        </p:blipFill>
        <p:spPr>
          <a:xfrm>
            <a:off x="928800" y="1714680"/>
            <a:ext cx="4162320" cy="180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1" descr="C:\Documents and Settings\2741\Рабочий стол\Слайды Артюхину\Шапка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4"/>
          <p:cNvSpPr/>
          <p:nvPr/>
        </p:nvSpPr>
        <p:spPr>
          <a:xfrm>
            <a:off x="4427640" y="2852640"/>
            <a:ext cx="38876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4479840" y="4498920"/>
            <a:ext cx="35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397512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4284720" y="1125360"/>
            <a:ext cx="43909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684360" y="2565360"/>
            <a:ext cx="74898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449280" algn="just">
              <a:lnSpc>
                <a:spcPct val="100000"/>
              </a:lnSpc>
              <a:buClr>
                <a:srgbClr val="014b65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Исключить из междокументального контроля показателей Главной книги (ф.0504072) с показателями оперативной отчетности,  контроль показателей  с Отчетом по данным главной книги (ф.0531981) за данный операционный день, который по технологии формируется после создания самой Главной кни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14b65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Реализовать процесс сверки ежемесячной бюджетной отчетности с показателями Главной книги  по другим бюджетам (республиканский, местны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10"/>
          <p:cNvSpPr/>
          <p:nvPr/>
        </p:nvSpPr>
        <p:spPr>
          <a:xfrm>
            <a:off x="1785960" y="14292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ед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1" descr="C:\Documents and Settings\2741\Рабочий стол\Слайды Артюхину\Шапка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4"/>
          <p:cNvSpPr/>
          <p:nvPr/>
        </p:nvSpPr>
        <p:spPr>
          <a:xfrm>
            <a:off x="4427640" y="2852640"/>
            <a:ext cx="38876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4479840" y="4498920"/>
            <a:ext cx="35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397512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4284720" y="1125360"/>
            <a:ext cx="43909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8"/>
          <p:cNvSpPr/>
          <p:nvPr/>
        </p:nvSpPr>
        <p:spPr>
          <a:xfrm>
            <a:off x="684360" y="2565360"/>
            <a:ext cx="74898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marL="343080" indent="0" algn="ctr">
              <a:lnSpc>
                <a:spcPct val="9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cc"/>
                </a:solidFill>
                <a:latin typeface="Calibri"/>
                <a:ea typeface="ＭＳ Ｐゴシック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10"/>
          <p:cNvSpPr/>
          <p:nvPr/>
        </p:nvSpPr>
        <p:spPr>
          <a:xfrm>
            <a:off x="1785960" y="142920"/>
            <a:ext cx="59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Управление Федерального казначей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 Удмуртской Республ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413000"/>
            <a:ext cx="8353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cc"/>
                </a:solidFill>
                <a:latin typeface="Times New Roman"/>
              </a:rPr>
              <a:t>«Главная бухгалтерская книга – сводный документ, в котором представлены итоговые данные по бухгалтерским отчетам и счетам» (Википедия-свободная энциклопедия).  </a:t>
            </a:r>
            <a:br>
              <a:rPr sz="2000"/>
            </a:b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2060280"/>
            <a:ext cx="7416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" descr="C:\Documents and Settings\2741\Рабочий стол\Слайды Артюхину\Шапка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61" name="TextBox 5"/>
          <p:cNvSpPr/>
          <p:nvPr/>
        </p:nvSpPr>
        <p:spPr>
          <a:xfrm>
            <a:off x="1476360" y="0"/>
            <a:ext cx="63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сто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4479840" y="4498920"/>
            <a:ext cx="35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4572000" y="3141720"/>
            <a:ext cx="38876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397512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4859280" y="2133720"/>
            <a:ext cx="3888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"/>
          <p:cNvPicPr/>
          <p:nvPr/>
        </p:nvPicPr>
        <p:blipFill>
          <a:blip r:embed="rId2"/>
          <a:stretch/>
        </p:blipFill>
        <p:spPr>
          <a:xfrm>
            <a:off x="539640" y="2060640"/>
            <a:ext cx="8209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C:\Documents and Settings\2741\Рабочий стол\Слайды Артюхину\Шапка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1476360" y="0"/>
            <a:ext cx="63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иказы Министерства финан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4479840" y="4498920"/>
            <a:ext cx="35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4572000" y="3141720"/>
            <a:ext cx="38876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397512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642960" y="5000760"/>
            <a:ext cx="1633680" cy="590400"/>
          </a:xfrm>
          <a:prstGeom prst="rect">
            <a:avLst/>
          </a:prstGeom>
          <a:solidFill>
            <a:srgbClr val="a3a3e0"/>
          </a:solidFill>
          <a:ln w="9360">
            <a:solidFill>
              <a:srgbClr val="29298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ая книга (ф.05120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5719680" y="4049640"/>
            <a:ext cx="1633680" cy="649440"/>
          </a:xfrm>
          <a:prstGeom prst="rect">
            <a:avLst/>
          </a:prstGeom>
          <a:gradFill rotWithShape="0">
            <a:gsLst>
              <a:gs pos="0">
                <a:srgbClr val="14146f"/>
              </a:gs>
              <a:gs pos="100000">
                <a:srgbClr val="1c1c96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ая книга (ф.05040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61"/>
          <p:cNvSpPr/>
          <p:nvPr/>
        </p:nvSpPr>
        <p:spPr>
          <a:xfrm>
            <a:off x="285840" y="1143000"/>
            <a:ext cx="4143240" cy="5500800"/>
          </a:xfrm>
          <a:prstGeom prst="can">
            <a:avLst>
              <a:gd name="adj" fmla="val 10439"/>
            </a:avLst>
          </a:prstGeom>
          <a:solidFill>
            <a:srgbClr val="badde1"/>
          </a:soli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каз Министерства финан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 17 февраля 1999 года №15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Об утверждении Инструк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бухгалтерскому уче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сполнения бюджетов»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1"/>
          <p:cNvSpPr/>
          <p:nvPr/>
        </p:nvSpPr>
        <p:spPr>
          <a:xfrm>
            <a:off x="4714920" y="1143000"/>
            <a:ext cx="4214880" cy="5500800"/>
          </a:xfrm>
          <a:prstGeom prst="can">
            <a:avLst>
              <a:gd name="adj" fmla="val 8712"/>
            </a:avLst>
          </a:prstGeom>
          <a:solidFill>
            <a:srgbClr val="badde1"/>
          </a:soli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каз Министерства финан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 15 декабря 2010 г. N 173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"Об утверждении форм первич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етных документов и регистров бухгалтерск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ета, применяемых органами государствен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ласти (государственными органами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рганами местного самоуправлени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рганами управления государственны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небюджетными фондами, государственны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кадемиями наук, государственны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муниципальными) учреждениями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тодических указаний по их применению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4857840" y="5715000"/>
            <a:ext cx="1406520" cy="55728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рн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.050407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7215120" y="5715000"/>
            <a:ext cx="1276560" cy="649440"/>
          </a:xfrm>
          <a:prstGeom prst="rect">
            <a:avLst/>
          </a:prstGeom>
          <a:solidFill>
            <a:srgbClr val="a3a3e0"/>
          </a:solidFill>
          <a:ln w="9360">
            <a:solidFill>
              <a:srgbClr val="29298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ая книга (ф.05040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2643120" y="5715000"/>
            <a:ext cx="1621080" cy="55728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мориальный ордер (ф.05120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трелка вправо 34"/>
          <p:cNvSpPr/>
          <p:nvPr/>
        </p:nvSpPr>
        <p:spPr>
          <a:xfrm>
            <a:off x="6429240" y="5786280"/>
            <a:ext cx="64296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трелка влево 35"/>
          <p:cNvSpPr/>
          <p:nvPr/>
        </p:nvSpPr>
        <p:spPr>
          <a:xfrm>
            <a:off x="1785960" y="5857920"/>
            <a:ext cx="785880" cy="48420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357120" y="5715000"/>
            <a:ext cx="1357560" cy="649440"/>
          </a:xfrm>
          <a:prstGeom prst="rect">
            <a:avLst/>
          </a:prstGeom>
          <a:solidFill>
            <a:srgbClr val="a3a3e0"/>
          </a:solidFill>
          <a:ln w="9360">
            <a:solidFill>
              <a:srgbClr val="29298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ая книга (ф.05120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1413000"/>
            <a:ext cx="8353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" descr="C:\Documents and Settings\2741\Рабочий стол\Слайды Артюхину\Шапка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84" name="TextBox 5"/>
          <p:cNvSpPr/>
          <p:nvPr/>
        </p:nvSpPr>
        <p:spPr>
          <a:xfrm>
            <a:off x="1476360" y="0"/>
            <a:ext cx="63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облемы формирования консолидированной главной кн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4427640" y="2852640"/>
            <a:ext cx="38876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4479840" y="4498920"/>
            <a:ext cx="35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397512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3366cc"/>
                </a:solidFill>
                <a:latin typeface="Times New Roman"/>
              </a:rPr>
              <a:t>При переходе на ППО «АСФК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cc"/>
                </a:solidFill>
                <a:latin typeface="Times New Roman"/>
              </a:rPr>
              <a:t>с 01 января 2011 год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некорректные остатки на начало года по балансовым счетам 40302 и 4050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выявление и устранение недостатков в работе систе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проблемы с синхронизацией справочников, корректностью справочников открытого и закрытого контур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формирование КОЗ и ИО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3366cc"/>
                </a:solidFill>
                <a:latin typeface="Times New Roman"/>
              </a:rPr>
              <a:t>При закрытии 2011 года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чета внутренних расчетов закрылись оборотами, а не остатк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рицательные суммы, остатки на начало 2011 года по счетам 120211610, 140220000 в закрытом контуре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C:\Documents and Settings\2741\Рабочий стол\Слайды Артюхину\Шапка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90" name="TextBox 5"/>
          <p:cNvSpPr/>
          <p:nvPr/>
        </p:nvSpPr>
        <p:spPr>
          <a:xfrm>
            <a:off x="1476360" y="0"/>
            <a:ext cx="63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Функции формирования Консолидированной главной кн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4572000" y="3141720"/>
            <a:ext cx="38876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397512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Группа 8"/>
          <p:cNvGrpSpPr/>
          <p:nvPr/>
        </p:nvGrpSpPr>
        <p:grpSpPr>
          <a:xfrm>
            <a:off x="142920" y="1714680"/>
            <a:ext cx="1071360" cy="2714400"/>
            <a:chOff x="142920" y="1714680"/>
            <a:chExt cx="1071360" cy="2714400"/>
          </a:xfrm>
        </p:grpSpPr>
        <p:sp>
          <p:nvSpPr>
            <p:cNvPr id="94" name="Скругленный прямоугольник 9"/>
            <p:cNvSpPr/>
            <p:nvPr/>
          </p:nvSpPr>
          <p:spPr>
            <a:xfrm>
              <a:off x="214200" y="1714680"/>
              <a:ext cx="1000080" cy="2714400"/>
            </a:xfrm>
            <a:custGeom>
              <a:avLst/>
              <a:gdLst>
                <a:gd name="textAreaLeft" fmla="*/ 29160 w 1000080"/>
                <a:gd name="textAreaRight" fmla="*/ 970920 w 1000080"/>
                <a:gd name="textAreaTop" fmla="*/ 29160 h 2714400"/>
                <a:gd name="textAreaBottom" fmla="*/ 2685240 h 2714400"/>
              </a:gdLst>
              <a:ahLst/>
              <a:rect l="textAreaLeft" t="textAreaTop" r="textAreaRight" b="textAreaBottom"/>
              <a:pathLst>
                <a:path w="21600" h="58613">
                  <a:moveTo>
                    <a:pt x="2160" y="0"/>
                  </a:moveTo>
                  <a:arcTo wR="2160" hR="2160" stAng="16200000" swAng="-5400000"/>
                  <a:lnTo>
                    <a:pt x="0" y="56453"/>
                  </a:lnTo>
                  <a:arcTo wR="2160" hR="2160" stAng="10800000" swAng="-5400000"/>
                  <a:lnTo>
                    <a:pt x="19440" y="58613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gradFill rotWithShape="0">
              <a:gsLst>
                <a:gs pos="0">
                  <a:srgbClr val="cfffff"/>
                </a:gs>
                <a:gs pos="100000">
                  <a:srgbClr val="f0ffff"/>
                </a:gs>
              </a:gsLst>
              <a:lin ang="16200000"/>
            </a:gradFill>
            <a:ln w="9360">
              <a:solidFill>
                <a:srgbClr val="b6dcd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Скругленный прямоугольник 4"/>
            <p:cNvSpPr/>
            <p:nvPr/>
          </p:nvSpPr>
          <p:spPr>
            <a:xfrm>
              <a:off x="142920" y="1714680"/>
              <a:ext cx="1042920" cy="2714400"/>
            </a:xfrm>
            <a:prstGeom prst="rect">
              <a:avLst/>
            </a:prstGeom>
            <a:gradFill rotWithShape="0">
              <a:gsLst>
                <a:gs pos="0">
                  <a:srgbClr val="cfffff"/>
                </a:gs>
                <a:gs pos="100000">
                  <a:srgbClr val="f0ffff"/>
                </a:gs>
              </a:gsLst>
              <a:lin ang="16200000"/>
            </a:gradFill>
            <a:ln w="9360">
              <a:solidFill>
                <a:srgbClr val="b6dcd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3320" rIns="13320" tIns="13320" bIns="13320" anchor="t">
              <a:noAutofit/>
            </a:bodyPr>
            <a:p>
              <a:pPr lvl="1" marL="57240" indent="-57240" algn="ctr">
                <a:lnSpc>
                  <a:spcPct val="90000"/>
                </a:lnSpc>
                <a:spcAft>
                  <a:spcPts val="264"/>
                </a:spcAft>
                <a:tabLst>
                  <a:tab algn="l" pos="0"/>
                  <a:tab algn="l" pos="311040"/>
                  <a:tab algn="l" pos="622440"/>
                  <a:tab algn="l" pos="933480"/>
                  <a:tab algn="l" pos="1244520"/>
                  <a:tab algn="l" pos="1555920"/>
                  <a:tab algn="l" pos="1866960"/>
                  <a:tab algn="l" pos="2178000"/>
                  <a:tab algn="l" pos="2489040"/>
                  <a:tab algn="l" pos="2800440"/>
                  <a:tab algn="l" pos="3111480"/>
                  <a:tab algn="l" pos="3422520"/>
                  <a:tab algn="l" pos="3733920"/>
                  <a:tab algn="l" pos="4044960"/>
                  <a:tab algn="l" pos="4356000"/>
                  <a:tab algn="l" pos="4667400"/>
                  <a:tab algn="l" pos="4978440"/>
                  <a:tab algn="l" pos="5289480"/>
                  <a:tab algn="l" pos="5600880"/>
                  <a:tab algn="l" pos="5911920"/>
                  <a:tab algn="l" pos="62229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формируется Отчет об операциях с типом документа «КОЗ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7240" indent="-57240">
                <a:lnSpc>
                  <a:spcPct val="90000"/>
                </a:lnSpc>
                <a:spcAft>
                  <a:spcPts val="264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311040"/>
                  <a:tab algn="l" pos="622440"/>
                  <a:tab algn="l" pos="933480"/>
                  <a:tab algn="l" pos="1244520"/>
                  <a:tab algn="l" pos="1555920"/>
                  <a:tab algn="l" pos="1866960"/>
                  <a:tab algn="l" pos="2178000"/>
                  <a:tab algn="l" pos="2489040"/>
                  <a:tab algn="l" pos="2800440"/>
                  <a:tab algn="l" pos="3111480"/>
                  <a:tab algn="l" pos="3422520"/>
                  <a:tab algn="l" pos="3733920"/>
                  <a:tab algn="l" pos="4044960"/>
                  <a:tab algn="l" pos="4356000"/>
                  <a:tab algn="l" pos="4667400"/>
                  <a:tab algn="l" pos="4978440"/>
                  <a:tab algn="l" pos="5289480"/>
                  <a:tab algn="l" pos="5600880"/>
                  <a:tab algn="l" pos="5911920"/>
                  <a:tab algn="l" pos="62229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Группа 11"/>
          <p:cNvGrpSpPr/>
          <p:nvPr/>
        </p:nvGrpSpPr>
        <p:grpSpPr>
          <a:xfrm>
            <a:off x="1285920" y="1714680"/>
            <a:ext cx="1143000" cy="2714400"/>
            <a:chOff x="1285920" y="1714680"/>
            <a:chExt cx="1143000" cy="2714400"/>
          </a:xfrm>
        </p:grpSpPr>
        <p:sp>
          <p:nvSpPr>
            <p:cNvPr id="97" name="Скругленный прямоугольник 12"/>
            <p:cNvSpPr/>
            <p:nvPr/>
          </p:nvSpPr>
          <p:spPr>
            <a:xfrm>
              <a:off x="1285920" y="1714680"/>
              <a:ext cx="1143000" cy="2714400"/>
            </a:xfrm>
            <a:custGeom>
              <a:avLst/>
              <a:gdLst>
                <a:gd name="textAreaLeft" fmla="*/ 33480 w 1143000"/>
                <a:gd name="textAreaRight" fmla="*/ 1109520 w 1143000"/>
                <a:gd name="textAreaTop" fmla="*/ 33480 h 2714400"/>
                <a:gd name="textAreaBottom" fmla="*/ 2680920 h 2714400"/>
              </a:gdLst>
              <a:ahLst/>
              <a:rect l="textAreaLeft" t="textAreaTop" r="textAreaRight" b="textAreaBottom"/>
              <a:pathLst>
                <a:path w="21600" h="51286">
                  <a:moveTo>
                    <a:pt x="2160" y="0"/>
                  </a:moveTo>
                  <a:arcTo wR="2160" hR="2160" stAng="16200000" swAng="-5400000"/>
                  <a:lnTo>
                    <a:pt x="0" y="49126"/>
                  </a:lnTo>
                  <a:arcTo wR="2160" hR="2160" stAng="10800000" swAng="-5400000"/>
                  <a:lnTo>
                    <a:pt x="19440" y="51286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gradFill rotWithShape="0">
              <a:gsLst>
                <a:gs pos="0">
                  <a:srgbClr val="cfffff"/>
                </a:gs>
                <a:gs pos="100000">
                  <a:srgbClr val="f0ffff"/>
                </a:gs>
              </a:gsLst>
              <a:lin ang="16200000"/>
            </a:gradFill>
            <a:ln w="9360">
              <a:solidFill>
                <a:srgbClr val="b6dcd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Скругленный прямоугольник 4"/>
            <p:cNvSpPr/>
            <p:nvPr/>
          </p:nvSpPr>
          <p:spPr>
            <a:xfrm>
              <a:off x="1319040" y="1816200"/>
              <a:ext cx="1109880" cy="25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" rIns="13320" tIns="13320" bIns="13320" anchor="t">
              <a:noAutofit/>
            </a:bodyPr>
            <a:p>
              <a:pPr lvl="1" marL="57240" indent="-57240" algn="ctr">
                <a:lnSpc>
                  <a:spcPct val="90000"/>
                </a:lnSpc>
                <a:spcAft>
                  <a:spcPts val="264"/>
                </a:spcAft>
                <a:tabLst>
                  <a:tab algn="l" pos="0"/>
                  <a:tab algn="l" pos="311040"/>
                  <a:tab algn="l" pos="622440"/>
                  <a:tab algn="l" pos="933480"/>
                  <a:tab algn="l" pos="1244520"/>
                  <a:tab algn="l" pos="1555920"/>
                  <a:tab algn="l" pos="1866960"/>
                  <a:tab algn="l" pos="2178000"/>
                  <a:tab algn="l" pos="2489040"/>
                  <a:tab algn="l" pos="2800440"/>
                  <a:tab algn="l" pos="3111480"/>
                  <a:tab algn="l" pos="3422520"/>
                  <a:tab algn="l" pos="3733920"/>
                  <a:tab algn="l" pos="4044960"/>
                  <a:tab algn="l" pos="4356000"/>
                  <a:tab algn="l" pos="4667400"/>
                  <a:tab algn="l" pos="4978440"/>
                  <a:tab algn="l" pos="5289480"/>
                  <a:tab algn="l" pos="5600880"/>
                  <a:tab algn="l" pos="5911920"/>
                  <a:tab algn="l" pos="62229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осуществляется передача Отчета об операциях из открытого в защищенный конту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Группа 18"/>
          <p:cNvGrpSpPr/>
          <p:nvPr/>
        </p:nvGrpSpPr>
        <p:grpSpPr>
          <a:xfrm>
            <a:off x="571680" y="1071720"/>
            <a:ext cx="1261800" cy="501480"/>
            <a:chOff x="571680" y="1071720"/>
            <a:chExt cx="1261800" cy="501480"/>
          </a:xfrm>
        </p:grpSpPr>
        <p:sp>
          <p:nvSpPr>
            <p:cNvPr id="100" name="Скругленный прямоугольник 19"/>
            <p:cNvSpPr/>
            <p:nvPr/>
          </p:nvSpPr>
          <p:spPr>
            <a:xfrm>
              <a:off x="571680" y="1071720"/>
              <a:ext cx="1261800" cy="50148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85aaad"/>
                </a:gs>
                <a:gs pos="100000">
                  <a:srgbClr val="afe0e4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Скругленный прямоугольник 4"/>
            <p:cNvSpPr/>
            <p:nvPr/>
          </p:nvSpPr>
          <p:spPr>
            <a:xfrm>
              <a:off x="585720" y="1085760"/>
              <a:ext cx="123336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11520" bIns="1152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ТКРЫТЫЙ КОНТУ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Круговая стрелка 21"/>
          <p:cNvGrpSpPr/>
          <p:nvPr/>
        </p:nvGrpSpPr>
        <p:grpSpPr>
          <a:xfrm>
            <a:off x="2023920" y="1095480"/>
            <a:ext cx="1640160" cy="785160"/>
            <a:chOff x="2023920" y="1095480"/>
            <a:chExt cx="1640160" cy="785160"/>
          </a:xfrm>
        </p:grpSpPr>
        <p:pic>
          <p:nvPicPr>
            <p:cNvPr id="103" name="Круговая стрелка 21" descr=""/>
            <p:cNvPicPr/>
            <p:nvPr/>
          </p:nvPicPr>
          <p:blipFill>
            <a:blip r:embed="rId2"/>
            <a:stretch/>
          </p:blipFill>
          <p:spPr>
            <a:xfrm>
              <a:off x="2023920" y="1139760"/>
              <a:ext cx="1640160" cy="22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0700000">
              <a:off x="2220480" y="1250280"/>
              <a:ext cx="12621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Группа 22"/>
          <p:cNvGrpSpPr/>
          <p:nvPr/>
        </p:nvGrpSpPr>
        <p:grpSpPr>
          <a:xfrm>
            <a:off x="2643120" y="1785960"/>
            <a:ext cx="1143000" cy="2643120"/>
            <a:chOff x="2643120" y="1785960"/>
            <a:chExt cx="1143000" cy="2643120"/>
          </a:xfrm>
        </p:grpSpPr>
        <p:sp>
          <p:nvSpPr>
            <p:cNvPr id="106" name="Скругленный прямоугольник 23"/>
            <p:cNvSpPr/>
            <p:nvPr/>
          </p:nvSpPr>
          <p:spPr>
            <a:xfrm>
              <a:off x="2643120" y="1785960"/>
              <a:ext cx="1143000" cy="2643120"/>
            </a:xfrm>
            <a:custGeom>
              <a:avLst/>
              <a:gdLst>
                <a:gd name="textAreaLeft" fmla="*/ 33480 w 1143000"/>
                <a:gd name="textAreaRight" fmla="*/ 1109520 w 1143000"/>
                <a:gd name="textAreaTop" fmla="*/ 33480 h 2643120"/>
                <a:gd name="textAreaBottom" fmla="*/ 2609640 h 2643120"/>
              </a:gdLst>
              <a:ahLst/>
              <a:rect l="textAreaLeft" t="textAreaTop" r="textAreaRight" b="textAreaBottom"/>
              <a:pathLst>
                <a:path w="21600" h="49940">
                  <a:moveTo>
                    <a:pt x="2160" y="0"/>
                  </a:moveTo>
                  <a:arcTo wR="2160" hR="2160" stAng="16200000" swAng="-5400000"/>
                  <a:lnTo>
                    <a:pt x="0" y="47780"/>
                  </a:lnTo>
                  <a:arcTo wR="2160" hR="2160" stAng="10800000" swAng="-5400000"/>
                  <a:lnTo>
                    <a:pt x="19440" y="49940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Скругленный прямоугольник 4"/>
            <p:cNvSpPr/>
            <p:nvPr/>
          </p:nvSpPr>
          <p:spPr>
            <a:xfrm>
              <a:off x="2643120" y="1785960"/>
              <a:ext cx="1143000" cy="2643120"/>
            </a:xfrm>
            <a:prstGeom prst="rect">
              <a:avLst/>
            </a:prstGeom>
            <a:gradFill rotWithShape="0">
              <a:gsLst>
                <a:gs pos="0">
                  <a:srgbClr val="acace1"/>
                </a:gs>
                <a:gs pos="100000">
                  <a:srgbClr val="e9e9f7"/>
                </a:gs>
              </a:gsLst>
              <a:lin ang="16200000"/>
            </a:gradFill>
            <a:ln w="9360">
              <a:solidFill>
                <a:srgbClr val="29298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3320" rIns="13320" tIns="13320" bIns="13320" anchor="t">
              <a:noAutofit/>
            </a:bodyPr>
            <a:p>
              <a:pPr lvl="1" marL="57240" indent="-57240" algn="ctr">
                <a:lnSpc>
                  <a:spcPct val="90000"/>
                </a:lnSpc>
                <a:spcAft>
                  <a:spcPts val="264"/>
                </a:spcAft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622760"/>
                  <a:tab algn="l" pos="4978440"/>
                  <a:tab algn="l" pos="5334120"/>
                  <a:tab algn="l" pos="5689440"/>
                  <a:tab algn="l" pos="6045120"/>
                  <a:tab algn="l" pos="6400800"/>
                  <a:tab algn="l" pos="6756480"/>
                  <a:tab algn="l" pos="71121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обработка Отчета об операциях из открытого контур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Схема 43" descr=""/>
          <p:cNvPicPr/>
          <p:nvPr/>
        </p:nvPicPr>
        <p:blipFill>
          <a:blip r:embed="rId3"/>
          <a:stretch/>
        </p:blipFill>
        <p:spPr>
          <a:xfrm>
            <a:off x="171360" y="4705200"/>
            <a:ext cx="8875800" cy="1586160"/>
          </a:xfrm>
          <a:prstGeom prst="rect">
            <a:avLst/>
          </a:prstGeom>
          <a:ln w="0">
            <a:noFill/>
          </a:ln>
        </p:spPr>
      </p:pic>
      <p:grpSp>
        <p:nvGrpSpPr>
          <p:cNvPr id="109" name="Группа 49"/>
          <p:cNvGrpSpPr/>
          <p:nvPr/>
        </p:nvGrpSpPr>
        <p:grpSpPr>
          <a:xfrm>
            <a:off x="4714920" y="1071720"/>
            <a:ext cx="1857240" cy="501480"/>
            <a:chOff x="4714920" y="1071720"/>
            <a:chExt cx="1857240" cy="501480"/>
          </a:xfrm>
        </p:grpSpPr>
        <p:sp>
          <p:nvSpPr>
            <p:cNvPr id="110" name="Скругленный прямоугольник 50"/>
            <p:cNvSpPr/>
            <p:nvPr/>
          </p:nvSpPr>
          <p:spPr>
            <a:xfrm>
              <a:off x="4714920" y="1071720"/>
              <a:ext cx="1857240" cy="50148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85aaad"/>
                </a:gs>
                <a:gs pos="100000">
                  <a:srgbClr val="afe0e4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Скругленный прямоугольник 4"/>
            <p:cNvSpPr/>
            <p:nvPr/>
          </p:nvSpPr>
          <p:spPr>
            <a:xfrm>
              <a:off x="4736880" y="1085760"/>
              <a:ext cx="1812960" cy="473040"/>
            </a:xfrm>
            <a:prstGeom prst="rect">
              <a:avLst/>
            </a:prstGeom>
            <a:gradFill rotWithShape="0">
              <a:gsLst>
                <a:gs pos="0">
                  <a:srgbClr val="acace1"/>
                </a:gs>
                <a:gs pos="100000">
                  <a:srgbClr val="e9e9f7"/>
                </a:gs>
              </a:gsLst>
              <a:lin ang="16200000"/>
            </a:gradFill>
            <a:ln w="9360">
              <a:solidFill>
                <a:srgbClr val="29298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7280" rIns="17280" tIns="11520" bIns="1152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ЩИЩЕННЫЙ КОНТУ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Скругленный прямоугольник 4"/>
          <p:cNvSpPr/>
          <p:nvPr/>
        </p:nvSpPr>
        <p:spPr>
          <a:xfrm>
            <a:off x="5214960" y="1785960"/>
            <a:ext cx="1108080" cy="25858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320" rIns="13320" tIns="13320" bIns="13320" anchor="t">
            <a:noAutofit/>
          </a:bodyPr>
          <a:p>
            <a:pPr lvl="1" marL="57240" indent="-57240" algn="ctr">
              <a:lnSpc>
                <a:spcPct val="90000"/>
              </a:lnSpc>
              <a:spcAft>
                <a:spcPts val="264"/>
              </a:spcAft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ормируется Главная книга (ф.050407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ый прямоугольник 4"/>
          <p:cNvSpPr/>
          <p:nvPr/>
        </p:nvSpPr>
        <p:spPr>
          <a:xfrm>
            <a:off x="6500880" y="1785960"/>
            <a:ext cx="1108080" cy="25858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320" rIns="13320" tIns="13320" bIns="13320" anchor="t">
            <a:noAutofit/>
          </a:bodyPr>
          <a:p>
            <a:pPr lvl="1" marL="57240" indent="-57240" algn="ctr">
              <a:lnSpc>
                <a:spcPct val="90000"/>
              </a:lnSpc>
              <a:spcAft>
                <a:spcPts val="264"/>
              </a:spcAft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ормируется Отчет об операциях по данным Главной книги (ф.053198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240" indent="-57240" algn="ctr">
              <a:lnSpc>
                <a:spcPct val="90000"/>
              </a:lnSpc>
              <a:spcAft>
                <a:spcPts val="264"/>
              </a:spcAft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кругленный прямоугольник 4"/>
          <p:cNvSpPr/>
          <p:nvPr/>
        </p:nvSpPr>
        <p:spPr>
          <a:xfrm>
            <a:off x="7858080" y="1785960"/>
            <a:ext cx="1143000" cy="25858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320" rIns="13320" tIns="13320" bIns="13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существляется передача Отчета об операциях по данным Главной книги  (ф.0531981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МОУ Ф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Группа 71"/>
          <p:cNvGrpSpPr/>
          <p:nvPr/>
        </p:nvGrpSpPr>
        <p:grpSpPr>
          <a:xfrm>
            <a:off x="3929040" y="1785960"/>
            <a:ext cx="1143000" cy="2643120"/>
            <a:chOff x="3929040" y="1785960"/>
            <a:chExt cx="1143000" cy="2643120"/>
          </a:xfrm>
        </p:grpSpPr>
        <p:sp>
          <p:nvSpPr>
            <p:cNvPr id="116" name="Скругленный прямоугольник 72"/>
            <p:cNvSpPr/>
            <p:nvPr/>
          </p:nvSpPr>
          <p:spPr>
            <a:xfrm>
              <a:off x="3929040" y="1785960"/>
              <a:ext cx="1143000" cy="2643120"/>
            </a:xfrm>
            <a:custGeom>
              <a:avLst/>
              <a:gdLst>
                <a:gd name="textAreaLeft" fmla="*/ 33480 w 1143000"/>
                <a:gd name="textAreaRight" fmla="*/ 1109520 w 1143000"/>
                <a:gd name="textAreaTop" fmla="*/ 33480 h 2643120"/>
                <a:gd name="textAreaBottom" fmla="*/ 2609640 h 2643120"/>
              </a:gdLst>
              <a:ahLst/>
              <a:rect l="textAreaLeft" t="textAreaTop" r="textAreaRight" b="textAreaBottom"/>
              <a:pathLst>
                <a:path w="21600" h="49940">
                  <a:moveTo>
                    <a:pt x="2160" y="0"/>
                  </a:moveTo>
                  <a:arcTo wR="2160" hR="2160" stAng="16200000" swAng="-5400000"/>
                  <a:lnTo>
                    <a:pt x="0" y="47780"/>
                  </a:lnTo>
                  <a:arcTo wR="2160" hR="2160" stAng="10800000" swAng="-5400000"/>
                  <a:lnTo>
                    <a:pt x="19440" y="49940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Скругленный прямоугольник 4"/>
            <p:cNvSpPr/>
            <p:nvPr/>
          </p:nvSpPr>
          <p:spPr>
            <a:xfrm>
              <a:off x="3929040" y="1785960"/>
              <a:ext cx="1143000" cy="2643120"/>
            </a:xfrm>
            <a:prstGeom prst="rect">
              <a:avLst/>
            </a:prstGeom>
            <a:gradFill rotWithShape="0">
              <a:gsLst>
                <a:gs pos="0">
                  <a:srgbClr val="acace1"/>
                </a:gs>
                <a:gs pos="100000">
                  <a:srgbClr val="e9e9f7"/>
                </a:gs>
              </a:gsLst>
              <a:lin ang="16200000"/>
            </a:gradFill>
            <a:ln w="9360">
              <a:solidFill>
                <a:srgbClr val="29298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3320" rIns="13320" tIns="13320" bIns="13320" anchor="t">
              <a:noAutofit/>
            </a:bodyPr>
            <a:p>
              <a:pPr lvl="1" marL="57240" indent="-57240" algn="ctr">
                <a:lnSpc>
                  <a:spcPct val="90000"/>
                </a:lnSpc>
                <a:spcAft>
                  <a:spcPts val="264"/>
                </a:spcAft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622760"/>
                  <a:tab algn="l" pos="4978440"/>
                  <a:tab algn="l" pos="5334120"/>
                  <a:tab algn="l" pos="5689440"/>
                  <a:tab algn="l" pos="6045120"/>
                  <a:tab algn="l" pos="6400800"/>
                  <a:tab algn="l" pos="6756480"/>
                  <a:tab algn="l" pos="71121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формируется Отчет об операциях с типом документа «ИОЗ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7240" indent="-57240" algn="ctr">
                <a:lnSpc>
                  <a:spcPct val="90000"/>
                </a:lnSpc>
                <a:spcAft>
                  <a:spcPts val="264"/>
                </a:spcAft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622760"/>
                  <a:tab algn="l" pos="4978440"/>
                  <a:tab algn="l" pos="5334120"/>
                  <a:tab algn="l" pos="5689440"/>
                  <a:tab algn="l" pos="6045120"/>
                  <a:tab algn="l" pos="6400800"/>
                  <a:tab algn="l" pos="6756480"/>
                  <a:tab algn="l" pos="71121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Picture 12" descr="flash, storage, usb icon"/>
          <p:cNvPicPr/>
          <p:nvPr/>
        </p:nvPicPr>
        <p:blipFill>
          <a:blip r:embed="rId4"/>
          <a:stretch/>
        </p:blipFill>
        <p:spPr>
          <a:xfrm rot="781200">
            <a:off x="2487600" y="1273320"/>
            <a:ext cx="581040" cy="581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flash, storage, usb icon"/>
          <p:cNvPicPr/>
          <p:nvPr/>
        </p:nvPicPr>
        <p:blipFill>
          <a:blip r:embed="rId5"/>
          <a:stretch/>
        </p:blipFill>
        <p:spPr>
          <a:xfrm rot="781200">
            <a:off x="2487600" y="1273320"/>
            <a:ext cx="58104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000" y="4941720"/>
            <a:ext cx="799308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" descr="C:\Documents and Settings\2741\Рабочий стол\Слайды Артюхину\Шапка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/>
          <p:cNvSpPr/>
          <p:nvPr/>
        </p:nvSpPr>
        <p:spPr>
          <a:xfrm>
            <a:off x="1476360" y="0"/>
            <a:ext cx="63356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cc"/>
                </a:solidFill>
                <a:latin typeface="Times New Roman"/>
              </a:rPr>
              <a:t>Формирование Отчета об операц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66cc"/>
                </a:solidFill>
                <a:latin typeface="Times New Roman"/>
              </a:rPr>
              <a:t>(тип документа «КОЗ»)</a:t>
            </a:r>
            <a:r>
              <a:rPr b="0" lang="ru-RU" sz="2400" spc="-1" strike="noStrike">
                <a:solidFill>
                  <a:srgbClr val="3366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4427640" y="2852640"/>
            <a:ext cx="38876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4479840" y="4498920"/>
            <a:ext cx="35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397512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4284720" y="1125360"/>
            <a:ext cx="43909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1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8569080" cy="39607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2"/>
          <p:cNvSpPr/>
          <p:nvPr/>
        </p:nvSpPr>
        <p:spPr>
          <a:xfrm>
            <a:off x="611280" y="5157720"/>
            <a:ext cx="8064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жим «Навигатор – Консолидация ГК: Отчеты об операциях – Отчет об операциях АСФК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полнить следующие поля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«Тип» – «КОЗ» – «Отчет об операциях – Консолидация учета Организации исполнения бюджета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«За операционный день» –  операционный день, за который необходимо получить отчет по операц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148000" y="1413000"/>
            <a:ext cx="3600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Защищенный контур: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" descr="C:\Documents and Settings\2741\Рабочий стол\Слайды Артюхину\Шапка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/>
          <p:cNvSpPr/>
          <p:nvPr/>
        </p:nvSpPr>
        <p:spPr>
          <a:xfrm>
            <a:off x="1476360" y="260280"/>
            <a:ext cx="63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cc"/>
                </a:solidFill>
                <a:latin typeface="Times New Roman"/>
              </a:rPr>
              <a:t>Отправка Отчета об операц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66cc"/>
                </a:solidFill>
                <a:latin typeface="Times New Roman"/>
              </a:rPr>
              <a:t>в закрытый контур</a:t>
            </a:r>
            <a:r>
              <a:rPr b="0" lang="ru-RU" sz="1800" spc="-1" strike="noStrike">
                <a:solidFill>
                  <a:srgbClr val="3366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4427640" y="2852640"/>
            <a:ext cx="38876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4479840" y="4498920"/>
            <a:ext cx="35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4572000" y="3141720"/>
            <a:ext cx="38876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397512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4284720" y="1125360"/>
            <a:ext cx="43909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3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8704080" cy="5229000"/>
          </a:xfrm>
          <a:prstGeom prst="rect">
            <a:avLst/>
          </a:prstGeom>
          <a:ln w="0">
            <a:noFill/>
          </a:ln>
        </p:spPr>
      </p:pic>
      <p:sp>
        <p:nvSpPr>
          <p:cNvPr id="139" name="Oval 4"/>
          <p:cNvSpPr/>
          <p:nvPr/>
        </p:nvSpPr>
        <p:spPr>
          <a:xfrm>
            <a:off x="357120" y="2571840"/>
            <a:ext cx="1143000" cy="285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C:\Documents and Settings\2741\Рабочий стол\Слайды Артюхину\Шапка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5"/>
          <p:cNvSpPr/>
          <p:nvPr/>
        </p:nvSpPr>
        <p:spPr>
          <a:xfrm>
            <a:off x="1476360" y="0"/>
            <a:ext cx="63356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cc"/>
                </a:solidFill>
                <a:latin typeface="Times New Roman"/>
              </a:rPr>
              <a:t>Визуальный  контроль показ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66cc"/>
                </a:solidFill>
                <a:latin typeface="Times New Roman"/>
              </a:rPr>
              <a:t>«Обороты за день» (открытый контур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4427640" y="2852640"/>
            <a:ext cx="38876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4479840" y="4498920"/>
            <a:ext cx="35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397512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4284720" y="1125360"/>
            <a:ext cx="43909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684360" y="2565360"/>
            <a:ext cx="74898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642960" y="1357200"/>
          <a:ext cx="7858080" cy="3751200"/>
        </p:xfrm>
        <a:graphic>
          <a:graphicData uri="http://schemas.openxmlformats.org/drawingml/2006/table">
            <a:tbl>
              <a:tblPr/>
              <a:tblGrid>
                <a:gridCol w="2619360"/>
                <a:gridCol w="2619360"/>
                <a:gridCol w="2619360"/>
              </a:tblGrid>
              <a:tr h="157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умент с типом КОЗ «Отчет об операциях – Консолидация учета организации исполнения бюджет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тнош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ая книга (ф.050407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открытого контур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17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граф 2, 3 «Оборот по дебету, кредиту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граф 7,8 «Оборот за период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7T12:43:59Z</dcterms:created>
  <dc:creator>2</dc:creator>
  <dc:description/>
  <dc:language>en-US</dc:language>
  <cp:lastModifiedBy>TitovaEV</cp:lastModifiedBy>
  <dcterms:modified xsi:type="dcterms:W3CDTF">2013-08-30T09:38:34Z</dcterms:modified>
  <cp:revision>352</cp:revision>
  <dc:subject/>
  <dc:title>Слайд 1</dc:title>
</cp:coreProperties>
</file>