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DED-D564-4E62-AB28-EEA624B6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27D-C40E-4D33-9BE7-74EED7B2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1EFAF-B5C2-4131-9E6D-EABEBE6B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20007-7B0E-44E7-989E-546A7C6E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CCEF4-FCB6-412A-918C-4523DC56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92FCF-A2DD-4B6F-870C-6E286E14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48154-39D4-4DE9-B746-A4A1B536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7844D-50FD-4E5B-883B-FB968155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76FA0-3E21-48C8-A34F-6400065D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B370B-9DA1-4538-A7E2-0CC88AD9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C56FA-C50A-409E-A1E3-7DA05DB4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1FCA4-5DAB-4890-8FB1-D4C01D2E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26E-58F3-4803-9FDC-9D5E8339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654D0-8446-4FF7-BAD4-921DD314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B5B51-EBBE-45A1-8AC0-8A6F9BB1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7F6BC-1639-4742-8745-4D91825B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CDF7D-240D-457C-8FC3-55518A75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92D5E-4244-45CF-A70C-D6325B7C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1FE0F-CAE2-4E57-8923-01972684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8BFC3-A4E9-48A8-9DB9-CABA4FF1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80A49-E6D7-4C03-9AE5-C5E2ED38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245A9-F4B9-4A01-8358-3654C6B1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48F6F-79EC-4576-9621-9AE49776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96B-7309-4FEA-861D-209A5BD4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F49F2-3E27-49D8-8785-3BE94CE7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0C597-925B-4D47-979B-915F8348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1E37E-F7B9-473B-9FEC-0292CE50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0D531-403F-4BD5-B5DA-51E00EEE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24EAF-F407-4DEF-96F4-DAB8EFB5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12755-78AC-4E3F-9CBD-0D6C01DF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7546F-9F2C-4597-BD3F-1A5F5333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BD958-C7F0-4A9D-AD12-2D58846F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8379B-6973-47DB-877A-CECB4E7D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F1C14-2A1A-4B55-B783-9ABFEFB0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3C66-58D0-46F4-B5B3-DC84B47D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ACA91-38E9-4580-B0B5-388122A1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64D17-873A-4EEF-B2C5-5EFB98B0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0C023-CAA0-48F3-994A-4517A48C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A9E34-D4CD-4346-B405-1D73BD0C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1133B-544A-43AE-8EB3-37C85BA8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4E10B-0D7E-4531-8A3C-148E6412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54B23-6751-4C4F-9B46-A3DB9E8E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CFD14-DAFF-40A6-BDC2-9B145FA6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F4DDD-C02F-4B3D-A138-990D0EB2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E75E2-FB8C-4702-89E9-A5CDE78E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026E-EA47-46E1-92D6-3578BDD7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C7951-F934-487B-9F22-0C76BA69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D3F14-CB42-43E7-B009-F8BBA9FA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52505-1134-44C0-9776-9597C8B5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41FF9-D060-4912-A9A9-49F7ABF1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E8F3D-1D3F-486A-BBCB-CBB7E9FA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B32F1-001F-4500-BAE3-BD77B2AA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D79A7-A461-4580-86BF-EF70244A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ED428-EDE9-4987-A5B3-1EE7326E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A496A-01F8-4310-BBC0-C5A559C5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8B6F2-C8F1-47E5-A455-AE85EC03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2E69-2DC2-4880-BBDF-0EE143A5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CB639-7668-4FC5-AACC-AE2026FC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7EF58-88A5-4BBC-9257-E3E75FBC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58430-6D7D-4BD9-AC48-1C5363A3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8AAA7-12BA-442B-9788-850D71B5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699A8-92DA-494A-93E7-AC23806E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4C47E-4866-4F57-9375-8C8904AA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BC751-A7A3-450F-A2B0-8C976018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5129-5885-4DFA-868A-0AEABAA3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EBEE-9A5E-4287-8B38-5ACF5415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AF1A-7C89-45A4-B442-332AC12F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7560-B071-44C5-A80F-E3D6E7DE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583-1D00-40EA-A22F-54E5C766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B684-BADE-498C-BAC9-CB5397DB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D130-0FCC-4CCA-9E4C-E3C09633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C97E-8957-446F-A50F-984F6566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FCD8-393F-4A03-B1ED-34AFADB7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8F78-7B0E-4C63-BB49-D0DDEF3D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5D1B-6FAE-4078-B1D0-25DD2D66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2ECE-F3CE-4ED4-B07B-923FE690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1AE22-9CDD-40D2-BF53-E4AF2C3D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A84DE-5DAF-494F-97B9-9FB737DB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4E94-DA9A-4B7F-BB9A-DAE00E70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0F9-8C6A-46CE-8914-75F59C38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22E1-1926-4597-BABE-F499F8A5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8F1D-0A83-4253-A00F-83B2D85B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68573-9A11-4B44-81CE-B6C3C974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0FBCF-BCB5-4636-8290-400B6E25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DEAA7-3CCE-4AB4-8CD7-1231CE0C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4BAD4-FDBA-4143-922C-A5F1FCA3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9F5F-22E3-4F2D-81E8-BF7DB3FE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6D2F-E1D3-4497-AA82-5204262E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8F292-216F-4F90-AC0E-6BB38CE9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66C33-6BD4-4C50-BD97-A27C49D0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CE0-0951-4CAB-A863-DB7F53F3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6CB4E-54A7-4A0F-9B8A-7BBDBC24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67649-D221-4666-8865-AF5CA8FF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DEED5-F012-41C4-97DA-954BB1AA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AADA2-F2B2-4317-A834-A2D715ED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BFBB1-2CF9-42B8-962D-07EDD5B9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F2EB7-23DF-40DE-B115-6A9C3172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4787E-74E7-43FC-989D-954FB29A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4451A-8F90-4554-A9DC-AE960FD0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CDEA9-2F28-4EE2-993A-F306277F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AFB96-7ABA-4A69-90C5-224E5073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22F-0504-48C9-B447-D7171BE5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B3D30-2B41-4CA7-BEB7-BA57598D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16EED-2788-4F14-BCE1-D26962B6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D876-9BE8-4170-BA25-6FBFE0D6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B272C-A173-4C3D-AD1E-83F77137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A2D24-8794-4454-ACEC-88B7A4EA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90A87-853D-4F3D-A2EB-1E90D517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8DC7C-3A03-4AED-BDB6-12690347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2F611-4E03-40CE-99C2-E8785FFD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FA9CE-633E-41F8-914F-3404C6F3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5380A-0C0A-4E51-9361-9B8C471E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057-FE3A-4F30-8CD8-32FE5433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83475-D0EF-438E-B769-07F82849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C9FB-9210-4BB3-A852-248A975B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BC1C7-BE46-48FB-9BE4-FAAD23B8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5732E-6633-4D29-BBC4-816FF362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44C24-8DAC-49FD-99AF-6627B434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F2630-6C0B-43A9-BA52-BE4F4D76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81CF2-9CF3-4E7D-8B30-F52DABBA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BD9D1-D250-4B2A-BF25-64127973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C764A-8CA1-45C9-A9E8-E234EBE0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12944-4AA2-412E-A116-C28B7F4F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73B-8C46-40DA-862F-60BCB19C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81C11-B5F9-4980-8B36-6CCE1314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EAA6A-E21F-4766-BB0B-182D328C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2C500-CBD8-4FC7-8269-FEC5654D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A9F30-A39A-4A64-9D8A-041FE81C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864FE-ED71-4888-B4E8-2C5960E2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1D16C-7C1F-41CD-8F9A-A772D96A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680C5-BDE4-4495-B839-BBF7BF15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147C6-E3DD-4C8B-9C13-EE57DFA9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1246D-D90D-4AE7-86F8-2BE11159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8EE9B-0593-4E94-8C76-4C4D8C84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3C2-9C39-4D29-86E9-79F0CBE2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F3038-800A-49DA-B9B1-673E327B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02D31-16AF-4498-A6FB-7BFF21F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6C2FD-2208-41C7-8D9D-0B3173E0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CCE48-5805-4EF2-B53D-C185DD62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F53E2-576E-4057-AA81-7D58B273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06AF3-9E66-4CB7-992D-A9EF937F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64D39-BF48-4B3B-9D31-0F8B94D3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B1EC5-9D30-46A6-B5BB-A1D4A242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64767-F033-4A37-93AC-D4A48C97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7C3AE-1C83-4083-B3C6-1F95EA6A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D2D-096E-4FB4-92DE-B334F6A8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4A0AA-E840-4B63-83B5-70E8675A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E87E0-C471-46BE-91EA-88108986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61779-8085-4D1E-BA22-797C35FD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DD361-3919-42B5-BEE0-DE53D614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1B97A-DB15-4460-8EF8-64A81309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C676C-B8C9-43BA-9EC8-43E8F354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F601A-5472-45F8-9966-2BD6E0D0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D0132-EABE-4D67-BEE4-80CD8ACA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EAAB7-79C4-4145-8503-C6F2F05F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013D1-0033-45D6-833E-6A1F2439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d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42280" y="6597360"/>
            <a:ext cx="8380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D56F-6206-4AC9-B31F-20A3FAD917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456F-B23E-49AC-8CFB-A8ED3B6491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961B-2B7B-4199-A9BC-77305F9A5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2FE7-C333-4388-8D0A-02A9D5476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184A-4224-48DB-A9D1-FA53B1019E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2D5A-CD2A-4DF6-8922-2398541214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4C97-EED7-4BF3-9113-55C55C8D96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C9DD-730F-402D-8E2F-DBA9DC8179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46B4-8D78-4D3E-A180-BC582A2518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930A-6C80-4893-BA56-834D301EE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DB76-86DF-4A7E-B9F8-5C8F88A8F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2E94-15A4-4FF6-B3F5-AA486C2E9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04.09.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E4D8-5501-4B2B-BDE5-10A204933C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уальные вопросы технологического обеспечения ведения бюджетного учета и формирования бюджетной отчетности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108000" y="5445000"/>
            <a:ext cx="5759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сурина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альник отдел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ение финансовых технолог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5.09.20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7BCF-F0A1-42D4-AB43-855DFE6EB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Calibri"/>
              </a:rPr>
              <a:t>Изменение кода бюджетной классификации расходов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ествующая структура кода бюджетной классификации расходов бюдж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Picture 4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567480" cy="215604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468360" y="378936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вая структура кода бюджетной классификации расходов бюдже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7" descr=""/>
          <p:cNvPicPr/>
          <p:nvPr/>
        </p:nvPicPr>
        <p:blipFill>
          <a:blip r:embed="rId2"/>
          <a:stretch/>
        </p:blipFill>
        <p:spPr>
          <a:xfrm>
            <a:off x="1476360" y="4221000"/>
            <a:ext cx="6191280" cy="2190960"/>
          </a:xfrm>
          <a:prstGeom prst="rect">
            <a:avLst/>
          </a:prstGeom>
          <a:ln w="0">
            <a:noFill/>
          </a:ln>
        </p:spPr>
      </p:pic>
      <p:sp>
        <p:nvSpPr>
          <p:cNvPr id="619" name="Oval 8"/>
          <p:cNvSpPr/>
          <p:nvPr/>
        </p:nvSpPr>
        <p:spPr>
          <a:xfrm>
            <a:off x="3851280" y="1989000"/>
            <a:ext cx="1800360" cy="1727280"/>
          </a:xfrm>
          <a:prstGeom prst="ellipse">
            <a:avLst/>
          </a:prstGeom>
          <a:noFill/>
          <a:ln w="381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Oval 9"/>
          <p:cNvSpPr/>
          <p:nvPr/>
        </p:nvSpPr>
        <p:spPr>
          <a:xfrm>
            <a:off x="3203640" y="4437000"/>
            <a:ext cx="2592360" cy="2087640"/>
          </a:xfrm>
          <a:prstGeom prst="ellipse">
            <a:avLst/>
          </a:prstGeom>
          <a:noFill/>
          <a:ln w="381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2A86-51E1-4882-9A52-06B9585F5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Аналитический инструмент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1"/>
          <a:srcRect l="0" t="0" r="0" b="3691"/>
          <a:stretch/>
        </p:blipFill>
        <p:spPr>
          <a:xfrm>
            <a:off x="250920" y="1484280"/>
            <a:ext cx="6337080" cy="4881600"/>
          </a:xfrm>
          <a:prstGeom prst="rect">
            <a:avLst/>
          </a:prstGeom>
          <a:ln w="0">
            <a:noFill/>
          </a:ln>
        </p:spPr>
      </p:pic>
      <p:sp>
        <p:nvSpPr>
          <p:cNvPr id="625" name="Заголовок 3"/>
          <p:cNvSpPr/>
          <p:nvPr/>
        </p:nvSpPr>
        <p:spPr>
          <a:xfrm>
            <a:off x="1835280" y="1052640"/>
            <a:ext cx="38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Форма анализа отчетно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6732720" y="1488960"/>
            <a:ext cx="2305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ск инстр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Форма анализа отчетности» производится через меню навигатора АСФК «Отчетность – Меню ЦАФК – Аналитическая отчетность – Форма анализа отчетности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Номер слайда 8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161F-BAAA-4BFC-84BA-9955FED936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052720" y="128160"/>
            <a:ext cx="57592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Средства ГИИС ЭБ для управления НСИ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30" name="Прямоугольник 1"/>
          <p:cNvSpPr/>
          <p:nvPr/>
        </p:nvSpPr>
        <p:spPr>
          <a:xfrm>
            <a:off x="550800" y="3057480"/>
            <a:ext cx="812952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трализация ведения справоч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ификация информации по заданным правил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остранение данных справочников из единого источ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рмонизация НСИ в ведомственных систем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Прямоугольник 73"/>
          <p:cNvSpPr/>
          <p:nvPr/>
        </p:nvSpPr>
        <p:spPr>
          <a:xfrm>
            <a:off x="539640" y="162864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ГИИС «Электронный бюджет» включает систему управления нормативно-справочной информацией которая обеспечивает следующие фун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9DC6-8224-4A26-A351-5B38F3928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Прямоугольник 25"/>
          <p:cNvSpPr/>
          <p:nvPr/>
        </p:nvSpPr>
        <p:spPr>
          <a:xfrm>
            <a:off x="4284720" y="1427040"/>
            <a:ext cx="2519280" cy="3730680"/>
          </a:xfrm>
          <a:prstGeom prst="rect">
            <a:avLst/>
          </a:prstGeom>
          <a:solidFill>
            <a:srgbClr val="ffffff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Прямоугольник 25"/>
          <p:cNvSpPr/>
          <p:nvPr/>
        </p:nvSpPr>
        <p:spPr>
          <a:xfrm>
            <a:off x="1835280" y="3232080"/>
            <a:ext cx="1800000" cy="1925640"/>
          </a:xfrm>
          <a:prstGeom prst="rect">
            <a:avLst/>
          </a:prstGeom>
          <a:solidFill>
            <a:srgbClr val="ffffff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Rectangle 10"/>
          <p:cNvGrpSpPr/>
          <p:nvPr/>
        </p:nvGrpSpPr>
        <p:grpSpPr>
          <a:xfrm>
            <a:off x="2189160" y="3736800"/>
            <a:ext cx="1108080" cy="968400"/>
            <a:chOff x="2189160" y="3736800"/>
            <a:chExt cx="1108080" cy="968400"/>
          </a:xfrm>
        </p:grpSpPr>
        <p:pic>
          <p:nvPicPr>
            <p:cNvPr id="637" name="Rectangle 10" descr=""/>
            <p:cNvPicPr/>
            <p:nvPr/>
          </p:nvPicPr>
          <p:blipFill>
            <a:blip r:embed="rId1"/>
            <a:stretch/>
          </p:blipFill>
          <p:spPr>
            <a:xfrm>
              <a:off x="2189160" y="3736800"/>
              <a:ext cx="11080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2200320" y="3754440"/>
              <a:ext cx="1081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СУФД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9" name="Rectangle 10"/>
          <p:cNvGrpSpPr/>
          <p:nvPr/>
        </p:nvGrpSpPr>
        <p:grpSpPr>
          <a:xfrm>
            <a:off x="5132520" y="3773520"/>
            <a:ext cx="1109520" cy="969840"/>
            <a:chOff x="5132520" y="3773520"/>
            <a:chExt cx="1109520" cy="969840"/>
          </a:xfrm>
        </p:grpSpPr>
        <p:pic>
          <p:nvPicPr>
            <p:cNvPr id="640" name="Rectangle 10" descr=""/>
            <p:cNvPicPr/>
            <p:nvPr/>
          </p:nvPicPr>
          <p:blipFill>
            <a:blip r:embed="rId2"/>
            <a:stretch/>
          </p:blipFill>
          <p:spPr>
            <a:xfrm>
              <a:off x="5132520" y="3773520"/>
              <a:ext cx="110952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5148360" y="3789360"/>
              <a:ext cx="1079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СУФД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TextBox 41"/>
          <p:cNvSpPr/>
          <p:nvPr/>
        </p:nvSpPr>
        <p:spPr>
          <a:xfrm>
            <a:off x="5796000" y="524520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явк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Box 42"/>
          <p:cNvSpPr/>
          <p:nvPr/>
        </p:nvSpPr>
        <p:spPr>
          <a:xfrm>
            <a:off x="4356000" y="515772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тверждение/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тка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Заголовок 1"/>
          <p:cNvSpPr/>
          <p:nvPr/>
        </p:nvSpPr>
        <p:spPr>
          <a:xfrm>
            <a:off x="2700360" y="32320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49e"/>
                </a:solidFill>
                <a:latin typeface="Calibri"/>
              </a:rPr>
              <a:t>ТОФ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5" name="Picture 63" descr="Трое.png"/>
          <p:cNvPicPr/>
          <p:nvPr/>
        </p:nvPicPr>
        <p:blipFill>
          <a:blip r:embed="rId3"/>
          <a:stretch/>
        </p:blipFill>
        <p:spPr>
          <a:xfrm>
            <a:off x="5424480" y="5634000"/>
            <a:ext cx="576360" cy="614520"/>
          </a:xfrm>
          <a:prstGeom prst="rect">
            <a:avLst/>
          </a:prstGeom>
          <a:ln w="0">
            <a:noFill/>
          </a:ln>
        </p:spPr>
      </p:pic>
      <p:sp>
        <p:nvSpPr>
          <p:cNvPr id="646" name="TextBox 64"/>
          <p:cNvSpPr/>
          <p:nvPr/>
        </p:nvSpPr>
        <p:spPr>
          <a:xfrm>
            <a:off x="5435640" y="61992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АБ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Заголовок 1"/>
          <p:cNvSpPr/>
          <p:nvPr/>
        </p:nvSpPr>
        <p:spPr>
          <a:xfrm>
            <a:off x="6012000" y="1379520"/>
            <a:ext cx="93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49e"/>
                </a:solidFill>
                <a:latin typeface="Calibri"/>
              </a:rPr>
              <a:t>МО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4"/>
          <p:cNvSpPr/>
          <p:nvPr/>
        </p:nvSpPr>
        <p:spPr>
          <a:xfrm flipH="1">
            <a:off x="3348000" y="4076640"/>
            <a:ext cx="1728720" cy="0"/>
          </a:xfrm>
          <a:prstGeom prst="line">
            <a:avLst/>
          </a:prstGeom>
          <a:ln w="19080">
            <a:solidFill>
              <a:srgbClr val="ffc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800000" y="128160"/>
            <a:ext cx="6011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Ведение справочников Федерального казначейства</a:t>
            </a:r>
            <a:br>
              <a:rPr sz="2400"/>
            </a:b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Реализация в НСИ ЭБ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50" name="Line 4"/>
          <p:cNvSpPr/>
          <p:nvPr/>
        </p:nvSpPr>
        <p:spPr>
          <a:xfrm flipV="1">
            <a:off x="5796000" y="4724280"/>
            <a:ext cx="0" cy="865440"/>
          </a:xfrm>
          <a:prstGeom prst="line">
            <a:avLst/>
          </a:prstGeom>
          <a:ln w="19080">
            <a:solidFill>
              <a:srgbClr val="ffc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4"/>
          <p:cNvSpPr/>
          <p:nvPr/>
        </p:nvSpPr>
        <p:spPr>
          <a:xfrm>
            <a:off x="5580000" y="4797360"/>
            <a:ext cx="0" cy="792360"/>
          </a:xfrm>
          <a:prstGeom prst="line">
            <a:avLst/>
          </a:prstGeom>
          <a:ln w="19080">
            <a:solidFill>
              <a:srgbClr val="ffc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10"/>
          <p:cNvSpPr/>
          <p:nvPr/>
        </p:nvSpPr>
        <p:spPr>
          <a:xfrm flipH="1">
            <a:off x="4716360" y="1798560"/>
            <a:ext cx="1835280" cy="12891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Электрон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юдж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С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4"/>
          <p:cNvSpPr/>
          <p:nvPr/>
        </p:nvSpPr>
        <p:spPr>
          <a:xfrm flipV="1">
            <a:off x="5796000" y="3130200"/>
            <a:ext cx="0" cy="623880"/>
          </a:xfrm>
          <a:prstGeom prst="line">
            <a:avLst/>
          </a:prstGeom>
          <a:ln w="19080">
            <a:solidFill>
              <a:srgbClr val="ffc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Box 118"/>
          <p:cNvSpPr/>
          <p:nvPr/>
        </p:nvSpPr>
        <p:spPr>
          <a:xfrm>
            <a:off x="5759280" y="3213000"/>
            <a:ext cx="11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явк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бавление/измен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754200" y="2637000"/>
            <a:ext cx="3962160" cy="0"/>
          </a:xfrm>
          <a:prstGeom prst="line">
            <a:avLst/>
          </a:prstGeom>
          <a:ln w="19080">
            <a:solidFill>
              <a:srgbClr val="7f7f7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Text Box 6"/>
          <p:cNvGrpSpPr/>
          <p:nvPr/>
        </p:nvGrpSpPr>
        <p:grpSpPr>
          <a:xfrm>
            <a:off x="8089920" y="1255680"/>
            <a:ext cx="888840" cy="749160"/>
            <a:chOff x="8089920" y="1255680"/>
            <a:chExt cx="888840" cy="749160"/>
          </a:xfrm>
        </p:grpSpPr>
        <p:pic>
          <p:nvPicPr>
            <p:cNvPr id="657" name="Text Box 6" descr=""/>
            <p:cNvPicPr/>
            <p:nvPr/>
          </p:nvPicPr>
          <p:blipFill>
            <a:blip r:embed="rId4"/>
            <a:stretch/>
          </p:blipFill>
          <p:spPr>
            <a:xfrm>
              <a:off x="8089920" y="1255680"/>
              <a:ext cx="8888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8107200" y="1268280"/>
              <a:ext cx="857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864"/>
                  </a:solidFill>
                  <a:latin typeface="Arial"/>
                </a:rPr>
                <a:t>ОО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9" name="Text Box 6"/>
          <p:cNvGrpSpPr/>
          <p:nvPr/>
        </p:nvGrpSpPr>
        <p:grpSpPr>
          <a:xfrm>
            <a:off x="8089920" y="2395440"/>
            <a:ext cx="888840" cy="749520"/>
            <a:chOff x="8089920" y="2395440"/>
            <a:chExt cx="888840" cy="749520"/>
          </a:xfrm>
        </p:grpSpPr>
        <p:pic>
          <p:nvPicPr>
            <p:cNvPr id="660" name="Text Box 6" descr=""/>
            <p:cNvPicPr/>
            <p:nvPr/>
          </p:nvPicPr>
          <p:blipFill>
            <a:blip r:embed="rId5"/>
            <a:stretch/>
          </p:blipFill>
          <p:spPr>
            <a:xfrm>
              <a:off x="8089920" y="2395440"/>
              <a:ext cx="8888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8107200" y="2411280"/>
              <a:ext cx="8575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864"/>
                  </a:solidFill>
                  <a:latin typeface="Arial"/>
                </a:rPr>
                <a:t>Сайт ГМ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2" name="Text Box 6"/>
          <p:cNvGrpSpPr/>
          <p:nvPr/>
        </p:nvGrpSpPr>
        <p:grpSpPr>
          <a:xfrm>
            <a:off x="8089920" y="3492360"/>
            <a:ext cx="888840" cy="750960"/>
            <a:chOff x="8089920" y="3492360"/>
            <a:chExt cx="888840" cy="750960"/>
          </a:xfrm>
        </p:grpSpPr>
        <p:pic>
          <p:nvPicPr>
            <p:cNvPr id="663" name="Text Box 6" descr=""/>
            <p:cNvPicPr/>
            <p:nvPr/>
          </p:nvPicPr>
          <p:blipFill>
            <a:blip r:embed="rId6"/>
            <a:stretch/>
          </p:blipFill>
          <p:spPr>
            <a:xfrm>
              <a:off x="8089920" y="3492360"/>
              <a:ext cx="888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107200" y="3510000"/>
              <a:ext cx="8575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80000"/>
                </a:lnSpc>
                <a:spcBef>
                  <a:spcPts val="689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864"/>
                  </a:solidFill>
                  <a:latin typeface="Arial"/>
                </a:rPr>
                <a:t>ИАС ФК (КПЭ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5" name="Line 4"/>
          <p:cNvSpPr/>
          <p:nvPr/>
        </p:nvSpPr>
        <p:spPr>
          <a:xfrm flipH="1">
            <a:off x="7465680" y="1600200"/>
            <a:ext cx="641160" cy="0"/>
          </a:xfrm>
          <a:prstGeom prst="line">
            <a:avLst/>
          </a:prstGeom>
          <a:ln w="19080">
            <a:solidFill>
              <a:srgbClr val="4bacc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4"/>
          <p:cNvSpPr/>
          <p:nvPr/>
        </p:nvSpPr>
        <p:spPr>
          <a:xfrm flipH="1">
            <a:off x="7465680" y="2770200"/>
            <a:ext cx="641160" cy="0"/>
          </a:xfrm>
          <a:prstGeom prst="line">
            <a:avLst/>
          </a:prstGeom>
          <a:ln w="19080">
            <a:solidFill>
              <a:srgbClr val="4bacc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4"/>
          <p:cNvSpPr/>
          <p:nvPr/>
        </p:nvSpPr>
        <p:spPr>
          <a:xfrm flipH="1">
            <a:off x="7472160" y="3870360"/>
            <a:ext cx="641160" cy="0"/>
          </a:xfrm>
          <a:prstGeom prst="line">
            <a:avLst/>
          </a:prstGeom>
          <a:ln w="19080">
            <a:solidFill>
              <a:srgbClr val="4bacc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4"/>
          <p:cNvSpPr/>
          <p:nvPr/>
        </p:nvSpPr>
        <p:spPr>
          <a:xfrm flipV="1">
            <a:off x="7488360" y="1600200"/>
            <a:ext cx="0" cy="3341520"/>
          </a:xfrm>
          <a:prstGeom prst="line">
            <a:avLst/>
          </a:prstGeom>
          <a:ln w="19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Box 72"/>
          <p:cNvSpPr/>
          <p:nvPr/>
        </p:nvSpPr>
        <p:spPr>
          <a:xfrm>
            <a:off x="6664320" y="2522520"/>
            <a:ext cx="100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4"/>
          <p:cNvSpPr/>
          <p:nvPr/>
        </p:nvSpPr>
        <p:spPr>
          <a:xfrm flipH="1">
            <a:off x="6566040" y="2770200"/>
            <a:ext cx="900000" cy="0"/>
          </a:xfrm>
          <a:prstGeom prst="line">
            <a:avLst/>
          </a:prstGeom>
          <a:ln w="19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Box 78"/>
          <p:cNvSpPr/>
          <p:nvPr/>
        </p:nvSpPr>
        <p:spPr>
          <a:xfrm>
            <a:off x="108000" y="4221000"/>
            <a:ext cx="79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лиент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К С ЭП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Picture 15" descr="C:\Documents and Settings\haipov.e\Рабочий стол\Pic\Растр\14.png"/>
          <p:cNvPicPr/>
          <p:nvPr/>
        </p:nvPicPr>
        <p:blipFill>
          <a:blip r:embed="rId7"/>
          <a:stretch/>
        </p:blipFill>
        <p:spPr>
          <a:xfrm>
            <a:off x="179280" y="3500280"/>
            <a:ext cx="795600" cy="644760"/>
          </a:xfrm>
          <a:prstGeom prst="rect">
            <a:avLst/>
          </a:prstGeom>
          <a:ln w="0">
            <a:noFill/>
          </a:ln>
        </p:spPr>
      </p:pic>
      <p:sp>
        <p:nvSpPr>
          <p:cNvPr id="673" name="TextBox 80"/>
          <p:cNvSpPr/>
          <p:nvPr/>
        </p:nvSpPr>
        <p:spPr>
          <a:xfrm>
            <a:off x="974880" y="4005360"/>
            <a:ext cx="100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явк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бавление/измен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4"/>
          <p:cNvSpPr/>
          <p:nvPr/>
        </p:nvSpPr>
        <p:spPr>
          <a:xfrm>
            <a:off x="1015920" y="4216320"/>
            <a:ext cx="1157400" cy="0"/>
          </a:xfrm>
          <a:prstGeom prst="line">
            <a:avLst/>
          </a:prstGeom>
          <a:ln w="19080">
            <a:solidFill>
              <a:srgbClr val="ffc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"/>
          <p:cNvSpPr/>
          <p:nvPr/>
        </p:nvSpPr>
        <p:spPr>
          <a:xfrm flipV="1">
            <a:off x="5508720" y="3141720"/>
            <a:ext cx="0" cy="665280"/>
          </a:xfrm>
          <a:prstGeom prst="line">
            <a:avLst/>
          </a:prstGeom>
          <a:ln w="19080">
            <a:solidFill>
              <a:srgbClr val="4bacc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Box 83"/>
          <p:cNvSpPr/>
          <p:nvPr/>
        </p:nvSpPr>
        <p:spPr>
          <a:xfrm>
            <a:off x="4503600" y="3314880"/>
            <a:ext cx="10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Группа 84"/>
          <p:cNvGrpSpPr/>
          <p:nvPr/>
        </p:nvGrpSpPr>
        <p:grpSpPr>
          <a:xfrm>
            <a:off x="2389320" y="1332000"/>
            <a:ext cx="1245960" cy="743760"/>
            <a:chOff x="2389320" y="1332000"/>
            <a:chExt cx="1245960" cy="743760"/>
          </a:xfrm>
        </p:grpSpPr>
        <p:grpSp>
          <p:nvGrpSpPr>
            <p:cNvPr id="678" name="Группа 86"/>
            <p:cNvGrpSpPr/>
            <p:nvPr/>
          </p:nvGrpSpPr>
          <p:grpSpPr>
            <a:xfrm>
              <a:off x="2676960" y="1332000"/>
              <a:ext cx="630360" cy="440280"/>
              <a:chOff x="2676960" y="1332000"/>
              <a:chExt cx="630360" cy="440280"/>
            </a:xfrm>
          </p:grpSpPr>
          <p:sp>
            <p:nvSpPr>
              <p:cNvPr id="679" name="Freeform 64"/>
              <p:cNvSpPr/>
              <p:nvPr/>
            </p:nvSpPr>
            <p:spPr>
              <a:xfrm>
                <a:off x="2676960" y="1332000"/>
                <a:ext cx="630360" cy="440280"/>
              </a:xfrm>
              <a:custGeom>
                <a:avLst/>
                <a:gdLst/>
                <a:ahLst/>
                <a:rect l="l" t="t" r="r" b="b"/>
                <a:pathLst>
                  <a:path w="2017" h="1230">
                    <a:moveTo>
                      <a:pt x="1525" y="816"/>
                    </a:moveTo>
                    <a:lnTo>
                      <a:pt x="1936" y="955"/>
                    </a:lnTo>
                    <a:lnTo>
                      <a:pt x="1936" y="815"/>
                    </a:lnTo>
                    <a:lnTo>
                      <a:pt x="1525" y="632"/>
                    </a:lnTo>
                    <a:lnTo>
                      <a:pt x="1525" y="816"/>
                    </a:lnTo>
                    <a:close/>
                    <a:moveTo>
                      <a:pt x="1571" y="354"/>
                    </a:moveTo>
                    <a:lnTo>
                      <a:pt x="1571" y="443"/>
                    </a:lnTo>
                    <a:lnTo>
                      <a:pt x="1621" y="476"/>
                    </a:lnTo>
                    <a:lnTo>
                      <a:pt x="1621" y="388"/>
                    </a:lnTo>
                    <a:lnTo>
                      <a:pt x="1571" y="354"/>
                    </a:lnTo>
                    <a:close/>
                    <a:moveTo>
                      <a:pt x="114" y="881"/>
                    </a:moveTo>
                    <a:lnTo>
                      <a:pt x="114" y="959"/>
                    </a:lnTo>
                    <a:lnTo>
                      <a:pt x="157" y="955"/>
                    </a:lnTo>
                    <a:lnTo>
                      <a:pt x="157" y="873"/>
                    </a:lnTo>
                    <a:lnTo>
                      <a:pt x="114" y="881"/>
                    </a:lnTo>
                    <a:close/>
                    <a:moveTo>
                      <a:pt x="319" y="845"/>
                    </a:moveTo>
                    <a:lnTo>
                      <a:pt x="319" y="936"/>
                    </a:lnTo>
                    <a:lnTo>
                      <a:pt x="362" y="933"/>
                    </a:lnTo>
                    <a:lnTo>
                      <a:pt x="363" y="839"/>
                    </a:lnTo>
                    <a:lnTo>
                      <a:pt x="319" y="845"/>
                    </a:lnTo>
                    <a:close/>
                    <a:moveTo>
                      <a:pt x="625" y="790"/>
                    </a:moveTo>
                    <a:lnTo>
                      <a:pt x="625" y="899"/>
                    </a:lnTo>
                    <a:lnTo>
                      <a:pt x="705" y="891"/>
                    </a:lnTo>
                    <a:lnTo>
                      <a:pt x="706" y="779"/>
                    </a:lnTo>
                    <a:lnTo>
                      <a:pt x="625" y="790"/>
                    </a:lnTo>
                    <a:close/>
                    <a:moveTo>
                      <a:pt x="1024" y="726"/>
                    </a:moveTo>
                    <a:lnTo>
                      <a:pt x="1024" y="853"/>
                    </a:lnTo>
                    <a:lnTo>
                      <a:pt x="1131" y="841"/>
                    </a:lnTo>
                    <a:lnTo>
                      <a:pt x="1132" y="704"/>
                    </a:lnTo>
                    <a:lnTo>
                      <a:pt x="1024" y="726"/>
                    </a:lnTo>
                    <a:close/>
                    <a:moveTo>
                      <a:pt x="1024" y="417"/>
                    </a:moveTo>
                    <a:lnTo>
                      <a:pt x="1024" y="545"/>
                    </a:lnTo>
                    <a:lnTo>
                      <a:pt x="1131" y="520"/>
                    </a:lnTo>
                    <a:lnTo>
                      <a:pt x="1132" y="385"/>
                    </a:lnTo>
                    <a:lnTo>
                      <a:pt x="1024" y="417"/>
                    </a:lnTo>
                    <a:close/>
                    <a:moveTo>
                      <a:pt x="625" y="535"/>
                    </a:moveTo>
                    <a:lnTo>
                      <a:pt x="625" y="644"/>
                    </a:lnTo>
                    <a:lnTo>
                      <a:pt x="705" y="625"/>
                    </a:lnTo>
                    <a:lnTo>
                      <a:pt x="706" y="513"/>
                    </a:lnTo>
                    <a:lnTo>
                      <a:pt x="625" y="535"/>
                    </a:lnTo>
                    <a:close/>
                    <a:moveTo>
                      <a:pt x="319" y="629"/>
                    </a:moveTo>
                    <a:lnTo>
                      <a:pt x="319" y="719"/>
                    </a:lnTo>
                    <a:lnTo>
                      <a:pt x="362" y="710"/>
                    </a:lnTo>
                    <a:lnTo>
                      <a:pt x="363" y="616"/>
                    </a:lnTo>
                    <a:lnTo>
                      <a:pt x="319" y="629"/>
                    </a:lnTo>
                    <a:close/>
                    <a:moveTo>
                      <a:pt x="114" y="690"/>
                    </a:moveTo>
                    <a:lnTo>
                      <a:pt x="114" y="769"/>
                    </a:lnTo>
                    <a:lnTo>
                      <a:pt x="157" y="759"/>
                    </a:lnTo>
                    <a:lnTo>
                      <a:pt x="157" y="678"/>
                    </a:lnTo>
                    <a:lnTo>
                      <a:pt x="114" y="690"/>
                    </a:lnTo>
                    <a:close/>
                    <a:moveTo>
                      <a:pt x="1821" y="806"/>
                    </a:moveTo>
                    <a:lnTo>
                      <a:pt x="1821" y="882"/>
                    </a:lnTo>
                    <a:lnTo>
                      <a:pt x="1870" y="903"/>
                    </a:lnTo>
                    <a:lnTo>
                      <a:pt x="1870" y="822"/>
                    </a:lnTo>
                    <a:lnTo>
                      <a:pt x="1821" y="806"/>
                    </a:lnTo>
                    <a:close/>
                    <a:moveTo>
                      <a:pt x="1698" y="760"/>
                    </a:moveTo>
                    <a:lnTo>
                      <a:pt x="1695" y="843"/>
                    </a:lnTo>
                    <a:lnTo>
                      <a:pt x="1751" y="861"/>
                    </a:lnTo>
                    <a:lnTo>
                      <a:pt x="1751" y="779"/>
                    </a:lnTo>
                    <a:lnTo>
                      <a:pt x="1698" y="760"/>
                    </a:lnTo>
                    <a:close/>
                    <a:moveTo>
                      <a:pt x="1571" y="705"/>
                    </a:moveTo>
                    <a:lnTo>
                      <a:pt x="1571" y="795"/>
                    </a:lnTo>
                    <a:lnTo>
                      <a:pt x="1621" y="814"/>
                    </a:lnTo>
                    <a:lnTo>
                      <a:pt x="1621" y="726"/>
                    </a:lnTo>
                    <a:lnTo>
                      <a:pt x="1571" y="705"/>
                    </a:lnTo>
                    <a:close/>
                    <a:moveTo>
                      <a:pt x="1821" y="523"/>
                    </a:moveTo>
                    <a:lnTo>
                      <a:pt x="1821" y="598"/>
                    </a:lnTo>
                    <a:lnTo>
                      <a:pt x="1870" y="633"/>
                    </a:lnTo>
                    <a:lnTo>
                      <a:pt x="1870" y="552"/>
                    </a:lnTo>
                    <a:lnTo>
                      <a:pt x="1821" y="523"/>
                    </a:lnTo>
                    <a:close/>
                    <a:moveTo>
                      <a:pt x="1698" y="443"/>
                    </a:moveTo>
                    <a:lnTo>
                      <a:pt x="1695" y="525"/>
                    </a:lnTo>
                    <a:lnTo>
                      <a:pt x="1751" y="559"/>
                    </a:lnTo>
                    <a:lnTo>
                      <a:pt x="1751" y="476"/>
                    </a:lnTo>
                    <a:lnTo>
                      <a:pt x="1698" y="443"/>
                    </a:lnTo>
                    <a:close/>
                    <a:moveTo>
                      <a:pt x="1981" y="970"/>
                    </a:moveTo>
                    <a:lnTo>
                      <a:pt x="2017" y="982"/>
                    </a:lnTo>
                    <a:lnTo>
                      <a:pt x="2017" y="1050"/>
                    </a:lnTo>
                    <a:lnTo>
                      <a:pt x="1981" y="1047"/>
                    </a:lnTo>
                    <a:lnTo>
                      <a:pt x="1981" y="1098"/>
                    </a:lnTo>
                    <a:lnTo>
                      <a:pt x="1981" y="1115"/>
                    </a:lnTo>
                    <a:lnTo>
                      <a:pt x="1963" y="1119"/>
                    </a:lnTo>
                    <a:lnTo>
                      <a:pt x="1504" y="1230"/>
                    </a:lnTo>
                    <a:lnTo>
                      <a:pt x="42" y="1120"/>
                    </a:lnTo>
                    <a:lnTo>
                      <a:pt x="22" y="1118"/>
                    </a:lnTo>
                    <a:lnTo>
                      <a:pt x="22" y="1098"/>
                    </a:lnTo>
                    <a:lnTo>
                      <a:pt x="22" y="1050"/>
                    </a:lnTo>
                    <a:lnTo>
                      <a:pt x="0" y="1050"/>
                    </a:lnTo>
                    <a:lnTo>
                      <a:pt x="0" y="982"/>
                    </a:lnTo>
                    <a:lnTo>
                      <a:pt x="22" y="980"/>
                    </a:lnTo>
                    <a:lnTo>
                      <a:pt x="22" y="880"/>
                    </a:lnTo>
                    <a:lnTo>
                      <a:pt x="0" y="884"/>
                    </a:lnTo>
                    <a:lnTo>
                      <a:pt x="0" y="816"/>
                    </a:lnTo>
                    <a:lnTo>
                      <a:pt x="22" y="810"/>
                    </a:lnTo>
                    <a:lnTo>
                      <a:pt x="22" y="699"/>
                    </a:lnTo>
                    <a:lnTo>
                      <a:pt x="0" y="706"/>
                    </a:lnTo>
                    <a:lnTo>
                      <a:pt x="0" y="617"/>
                    </a:lnTo>
                    <a:lnTo>
                      <a:pt x="1511" y="0"/>
                    </a:lnTo>
                    <a:lnTo>
                      <a:pt x="2017" y="411"/>
                    </a:lnTo>
                    <a:lnTo>
                      <a:pt x="2017" y="593"/>
                    </a:lnTo>
                    <a:lnTo>
                      <a:pt x="1981" y="569"/>
                    </a:lnTo>
                    <a:lnTo>
                      <a:pt x="1981" y="727"/>
                    </a:lnTo>
                    <a:lnTo>
                      <a:pt x="2017" y="749"/>
                    </a:lnTo>
                    <a:lnTo>
                      <a:pt x="2017" y="851"/>
                    </a:lnTo>
                    <a:lnTo>
                      <a:pt x="1981" y="835"/>
                    </a:lnTo>
                    <a:lnTo>
                      <a:pt x="1981" y="970"/>
                    </a:lnTo>
                    <a:close/>
                    <a:moveTo>
                      <a:pt x="1936" y="1042"/>
                    </a:moveTo>
                    <a:lnTo>
                      <a:pt x="1525" y="998"/>
                    </a:lnTo>
                    <a:lnTo>
                      <a:pt x="1525" y="1178"/>
                    </a:lnTo>
                    <a:lnTo>
                      <a:pt x="1936" y="1079"/>
                    </a:lnTo>
                    <a:lnTo>
                      <a:pt x="1936" y="1042"/>
                    </a:lnTo>
                    <a:close/>
                    <a:moveTo>
                      <a:pt x="1480" y="998"/>
                    </a:moveTo>
                    <a:lnTo>
                      <a:pt x="66" y="1048"/>
                    </a:lnTo>
                    <a:lnTo>
                      <a:pt x="66" y="1076"/>
                    </a:lnTo>
                    <a:lnTo>
                      <a:pt x="1480" y="1183"/>
                    </a:lnTo>
                    <a:lnTo>
                      <a:pt x="1480" y="998"/>
                    </a:lnTo>
                    <a:close/>
                    <a:moveTo>
                      <a:pt x="66" y="975"/>
                    </a:moveTo>
                    <a:lnTo>
                      <a:pt x="1480" y="815"/>
                    </a:lnTo>
                    <a:lnTo>
                      <a:pt x="1480" y="631"/>
                    </a:lnTo>
                    <a:lnTo>
                      <a:pt x="66" y="872"/>
                    </a:lnTo>
                    <a:lnTo>
                      <a:pt x="66" y="975"/>
                    </a:lnTo>
                    <a:close/>
                    <a:moveTo>
                      <a:pt x="1679" y="362"/>
                    </a:moveTo>
                    <a:lnTo>
                      <a:pt x="1525" y="275"/>
                    </a:lnTo>
                    <a:lnTo>
                      <a:pt x="1525" y="450"/>
                    </a:lnTo>
                    <a:lnTo>
                      <a:pt x="1936" y="699"/>
                    </a:lnTo>
                    <a:lnTo>
                      <a:pt x="1936" y="538"/>
                    </a:lnTo>
                    <a:lnTo>
                      <a:pt x="1679" y="362"/>
                    </a:lnTo>
                    <a:close/>
                    <a:moveTo>
                      <a:pt x="1480" y="266"/>
                    </a:moveTo>
                    <a:lnTo>
                      <a:pt x="66" y="697"/>
                    </a:lnTo>
                    <a:lnTo>
                      <a:pt x="66" y="799"/>
                    </a:lnTo>
                    <a:lnTo>
                      <a:pt x="1480" y="449"/>
                    </a:lnTo>
                    <a:lnTo>
                      <a:pt x="1480" y="2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8dbe"/>
                  </a:gs>
                  <a:gs pos="100000">
                    <a:srgbClr val="004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65"/>
              <p:cNvSpPr/>
              <p:nvPr/>
            </p:nvSpPr>
            <p:spPr>
              <a:xfrm>
                <a:off x="2697480" y="1427400"/>
                <a:ext cx="582840" cy="327600"/>
              </a:xfrm>
              <a:custGeom>
                <a:avLst/>
                <a:gdLst/>
                <a:ahLst/>
                <a:rect l="l" t="t" r="r" b="b"/>
                <a:pathLst>
                  <a:path w="1870" h="917">
                    <a:moveTo>
                      <a:pt x="1870" y="776"/>
                    </a:moveTo>
                    <a:lnTo>
                      <a:pt x="1459" y="732"/>
                    </a:lnTo>
                    <a:lnTo>
                      <a:pt x="1459" y="912"/>
                    </a:lnTo>
                    <a:lnTo>
                      <a:pt x="1870" y="813"/>
                    </a:lnTo>
                    <a:lnTo>
                      <a:pt x="1870" y="776"/>
                    </a:lnTo>
                    <a:close/>
                    <a:moveTo>
                      <a:pt x="1414" y="732"/>
                    </a:moveTo>
                    <a:lnTo>
                      <a:pt x="0" y="782"/>
                    </a:lnTo>
                    <a:lnTo>
                      <a:pt x="0" y="810"/>
                    </a:lnTo>
                    <a:lnTo>
                      <a:pt x="1414" y="917"/>
                    </a:lnTo>
                    <a:lnTo>
                      <a:pt x="1414" y="732"/>
                    </a:lnTo>
                    <a:close/>
                    <a:moveTo>
                      <a:pt x="1414" y="365"/>
                    </a:moveTo>
                    <a:lnTo>
                      <a:pt x="0" y="606"/>
                    </a:lnTo>
                    <a:lnTo>
                      <a:pt x="0" y="709"/>
                    </a:lnTo>
                    <a:lnTo>
                      <a:pt x="1414" y="549"/>
                    </a:lnTo>
                    <a:lnTo>
                      <a:pt x="1414" y="365"/>
                    </a:lnTo>
                    <a:close/>
                    <a:moveTo>
                      <a:pt x="640" y="513"/>
                    </a:moveTo>
                    <a:lnTo>
                      <a:pt x="639" y="625"/>
                    </a:lnTo>
                    <a:lnTo>
                      <a:pt x="559" y="633"/>
                    </a:lnTo>
                    <a:lnTo>
                      <a:pt x="559" y="524"/>
                    </a:lnTo>
                    <a:lnTo>
                      <a:pt x="640" y="513"/>
                    </a:lnTo>
                    <a:close/>
                    <a:moveTo>
                      <a:pt x="297" y="573"/>
                    </a:moveTo>
                    <a:lnTo>
                      <a:pt x="296" y="667"/>
                    </a:lnTo>
                    <a:lnTo>
                      <a:pt x="253" y="670"/>
                    </a:lnTo>
                    <a:lnTo>
                      <a:pt x="253" y="579"/>
                    </a:lnTo>
                    <a:lnTo>
                      <a:pt x="297" y="573"/>
                    </a:lnTo>
                    <a:close/>
                    <a:moveTo>
                      <a:pt x="91" y="607"/>
                    </a:moveTo>
                    <a:lnTo>
                      <a:pt x="91" y="689"/>
                    </a:lnTo>
                    <a:lnTo>
                      <a:pt x="48" y="693"/>
                    </a:lnTo>
                    <a:lnTo>
                      <a:pt x="48" y="615"/>
                    </a:lnTo>
                    <a:lnTo>
                      <a:pt x="91" y="607"/>
                    </a:lnTo>
                    <a:close/>
                    <a:moveTo>
                      <a:pt x="958" y="587"/>
                    </a:moveTo>
                    <a:lnTo>
                      <a:pt x="958" y="460"/>
                    </a:lnTo>
                    <a:lnTo>
                      <a:pt x="1066" y="438"/>
                    </a:lnTo>
                    <a:lnTo>
                      <a:pt x="1065" y="575"/>
                    </a:lnTo>
                    <a:lnTo>
                      <a:pt x="958" y="587"/>
                    </a:lnTo>
                    <a:close/>
                    <a:moveTo>
                      <a:pt x="1414" y="0"/>
                    </a:moveTo>
                    <a:lnTo>
                      <a:pt x="0" y="431"/>
                    </a:lnTo>
                    <a:lnTo>
                      <a:pt x="0" y="533"/>
                    </a:lnTo>
                    <a:lnTo>
                      <a:pt x="1414" y="183"/>
                    </a:lnTo>
                    <a:lnTo>
                      <a:pt x="1414" y="0"/>
                    </a:lnTo>
                    <a:close/>
                    <a:moveTo>
                      <a:pt x="958" y="279"/>
                    </a:moveTo>
                    <a:lnTo>
                      <a:pt x="958" y="151"/>
                    </a:lnTo>
                    <a:lnTo>
                      <a:pt x="1066" y="119"/>
                    </a:lnTo>
                    <a:lnTo>
                      <a:pt x="1065" y="254"/>
                    </a:lnTo>
                    <a:lnTo>
                      <a:pt x="958" y="279"/>
                    </a:lnTo>
                    <a:close/>
                    <a:moveTo>
                      <a:pt x="640" y="247"/>
                    </a:moveTo>
                    <a:lnTo>
                      <a:pt x="639" y="359"/>
                    </a:lnTo>
                    <a:lnTo>
                      <a:pt x="559" y="378"/>
                    </a:lnTo>
                    <a:lnTo>
                      <a:pt x="559" y="269"/>
                    </a:lnTo>
                    <a:lnTo>
                      <a:pt x="640" y="247"/>
                    </a:lnTo>
                    <a:close/>
                    <a:moveTo>
                      <a:pt x="297" y="350"/>
                    </a:moveTo>
                    <a:lnTo>
                      <a:pt x="296" y="444"/>
                    </a:lnTo>
                    <a:lnTo>
                      <a:pt x="253" y="453"/>
                    </a:lnTo>
                    <a:lnTo>
                      <a:pt x="253" y="363"/>
                    </a:lnTo>
                    <a:lnTo>
                      <a:pt x="297" y="350"/>
                    </a:lnTo>
                    <a:close/>
                    <a:moveTo>
                      <a:pt x="91" y="412"/>
                    </a:moveTo>
                    <a:lnTo>
                      <a:pt x="91" y="493"/>
                    </a:lnTo>
                    <a:lnTo>
                      <a:pt x="48" y="503"/>
                    </a:lnTo>
                    <a:lnTo>
                      <a:pt x="48" y="424"/>
                    </a:lnTo>
                    <a:lnTo>
                      <a:pt x="91" y="412"/>
                    </a:lnTo>
                    <a:close/>
                    <a:moveTo>
                      <a:pt x="1870" y="272"/>
                    </a:moveTo>
                    <a:lnTo>
                      <a:pt x="1613" y="96"/>
                    </a:lnTo>
                    <a:lnTo>
                      <a:pt x="1459" y="9"/>
                    </a:lnTo>
                    <a:lnTo>
                      <a:pt x="1459" y="184"/>
                    </a:lnTo>
                    <a:lnTo>
                      <a:pt x="1870" y="433"/>
                    </a:lnTo>
                    <a:lnTo>
                      <a:pt x="1870" y="272"/>
                    </a:lnTo>
                    <a:close/>
                    <a:moveTo>
                      <a:pt x="1555" y="122"/>
                    </a:moveTo>
                    <a:lnTo>
                      <a:pt x="1555" y="210"/>
                    </a:lnTo>
                    <a:lnTo>
                      <a:pt x="1505" y="177"/>
                    </a:lnTo>
                    <a:lnTo>
                      <a:pt x="1505" y="88"/>
                    </a:lnTo>
                    <a:lnTo>
                      <a:pt x="1555" y="122"/>
                    </a:lnTo>
                    <a:close/>
                    <a:moveTo>
                      <a:pt x="1755" y="332"/>
                    </a:moveTo>
                    <a:lnTo>
                      <a:pt x="1755" y="257"/>
                    </a:lnTo>
                    <a:lnTo>
                      <a:pt x="1804" y="286"/>
                    </a:lnTo>
                    <a:lnTo>
                      <a:pt x="1804" y="367"/>
                    </a:lnTo>
                    <a:lnTo>
                      <a:pt x="1755" y="332"/>
                    </a:lnTo>
                    <a:close/>
                    <a:moveTo>
                      <a:pt x="1632" y="177"/>
                    </a:moveTo>
                    <a:lnTo>
                      <a:pt x="1685" y="210"/>
                    </a:lnTo>
                    <a:lnTo>
                      <a:pt x="1685" y="293"/>
                    </a:lnTo>
                    <a:lnTo>
                      <a:pt x="1629" y="259"/>
                    </a:lnTo>
                    <a:lnTo>
                      <a:pt x="1632" y="177"/>
                    </a:lnTo>
                    <a:close/>
                    <a:moveTo>
                      <a:pt x="1870" y="549"/>
                    </a:moveTo>
                    <a:lnTo>
                      <a:pt x="1459" y="366"/>
                    </a:lnTo>
                    <a:lnTo>
                      <a:pt x="1459" y="550"/>
                    </a:lnTo>
                    <a:lnTo>
                      <a:pt x="1870" y="689"/>
                    </a:lnTo>
                    <a:lnTo>
                      <a:pt x="1870" y="549"/>
                    </a:lnTo>
                    <a:close/>
                    <a:moveTo>
                      <a:pt x="1629" y="577"/>
                    </a:moveTo>
                    <a:lnTo>
                      <a:pt x="1632" y="494"/>
                    </a:lnTo>
                    <a:lnTo>
                      <a:pt x="1685" y="513"/>
                    </a:lnTo>
                    <a:lnTo>
                      <a:pt x="1685" y="595"/>
                    </a:lnTo>
                    <a:lnTo>
                      <a:pt x="1629" y="577"/>
                    </a:lnTo>
                    <a:close/>
                    <a:moveTo>
                      <a:pt x="1755" y="616"/>
                    </a:moveTo>
                    <a:lnTo>
                      <a:pt x="1755" y="540"/>
                    </a:lnTo>
                    <a:lnTo>
                      <a:pt x="1804" y="556"/>
                    </a:lnTo>
                    <a:lnTo>
                      <a:pt x="1804" y="637"/>
                    </a:lnTo>
                    <a:lnTo>
                      <a:pt x="1755" y="616"/>
                    </a:lnTo>
                    <a:close/>
                    <a:moveTo>
                      <a:pt x="1555" y="460"/>
                    </a:moveTo>
                    <a:lnTo>
                      <a:pt x="1555" y="548"/>
                    </a:lnTo>
                    <a:lnTo>
                      <a:pt x="1505" y="529"/>
                    </a:lnTo>
                    <a:lnTo>
                      <a:pt x="1505" y="439"/>
                    </a:lnTo>
                    <a:lnTo>
                      <a:pt x="1555" y="46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1" name="Прямоугольник 88"/>
            <p:cNvSpPr/>
            <p:nvPr/>
          </p:nvSpPr>
          <p:spPr>
            <a:xfrm>
              <a:off x="2389320" y="1768680"/>
              <a:ext cx="124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Росста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2" name="Группа 91"/>
          <p:cNvGrpSpPr/>
          <p:nvPr/>
        </p:nvGrpSpPr>
        <p:grpSpPr>
          <a:xfrm>
            <a:off x="1295280" y="1363680"/>
            <a:ext cx="1094040" cy="696240"/>
            <a:chOff x="1295280" y="1363680"/>
            <a:chExt cx="1094040" cy="696240"/>
          </a:xfrm>
        </p:grpSpPr>
        <p:grpSp>
          <p:nvGrpSpPr>
            <p:cNvPr id="683" name="Группа 92"/>
            <p:cNvGrpSpPr/>
            <p:nvPr/>
          </p:nvGrpSpPr>
          <p:grpSpPr>
            <a:xfrm>
              <a:off x="1511280" y="1363680"/>
              <a:ext cx="673920" cy="434880"/>
              <a:chOff x="1511280" y="1363680"/>
              <a:chExt cx="673920" cy="434880"/>
            </a:xfrm>
          </p:grpSpPr>
          <p:sp>
            <p:nvSpPr>
              <p:cNvPr id="684" name="Freeform 43"/>
              <p:cNvSpPr/>
              <p:nvPr/>
            </p:nvSpPr>
            <p:spPr>
              <a:xfrm>
                <a:off x="1511280" y="1363680"/>
                <a:ext cx="673920" cy="434880"/>
              </a:xfrm>
              <a:custGeom>
                <a:avLst/>
                <a:gdLst/>
                <a:ahLst/>
                <a:rect l="l" t="t" r="r" b="b"/>
                <a:pathLst>
                  <a:path w="2295" h="1348">
                    <a:moveTo>
                      <a:pt x="80" y="1091"/>
                    </a:moveTo>
                    <a:lnTo>
                      <a:pt x="718" y="1180"/>
                    </a:lnTo>
                    <a:lnTo>
                      <a:pt x="718" y="770"/>
                    </a:lnTo>
                    <a:lnTo>
                      <a:pt x="718" y="750"/>
                    </a:lnTo>
                    <a:lnTo>
                      <a:pt x="723" y="750"/>
                    </a:lnTo>
                    <a:lnTo>
                      <a:pt x="738" y="750"/>
                    </a:lnTo>
                    <a:lnTo>
                      <a:pt x="744" y="750"/>
                    </a:lnTo>
                    <a:lnTo>
                      <a:pt x="1063" y="750"/>
                    </a:lnTo>
                    <a:lnTo>
                      <a:pt x="1063" y="750"/>
                    </a:lnTo>
                    <a:lnTo>
                      <a:pt x="1084" y="750"/>
                    </a:lnTo>
                    <a:lnTo>
                      <a:pt x="1099" y="750"/>
                    </a:lnTo>
                    <a:lnTo>
                      <a:pt x="1104" y="750"/>
                    </a:lnTo>
                    <a:lnTo>
                      <a:pt x="1120" y="750"/>
                    </a:lnTo>
                    <a:lnTo>
                      <a:pt x="1139" y="750"/>
                    </a:lnTo>
                    <a:lnTo>
                      <a:pt x="1139" y="750"/>
                    </a:lnTo>
                    <a:lnTo>
                      <a:pt x="1195" y="751"/>
                    </a:lnTo>
                    <a:lnTo>
                      <a:pt x="1216" y="751"/>
                    </a:lnTo>
                    <a:lnTo>
                      <a:pt x="1216" y="771"/>
                    </a:lnTo>
                    <a:lnTo>
                      <a:pt x="1211" y="1240"/>
                    </a:lnTo>
                    <a:lnTo>
                      <a:pt x="1683" y="1302"/>
                    </a:lnTo>
                    <a:lnTo>
                      <a:pt x="1697" y="209"/>
                    </a:lnTo>
                    <a:lnTo>
                      <a:pt x="86" y="379"/>
                    </a:lnTo>
                    <a:lnTo>
                      <a:pt x="80" y="1091"/>
                    </a:lnTo>
                    <a:close/>
                    <a:moveTo>
                      <a:pt x="1991" y="841"/>
                    </a:moveTo>
                    <a:lnTo>
                      <a:pt x="2006" y="841"/>
                    </a:lnTo>
                    <a:lnTo>
                      <a:pt x="2020" y="842"/>
                    </a:lnTo>
                    <a:lnTo>
                      <a:pt x="2041" y="843"/>
                    </a:lnTo>
                    <a:lnTo>
                      <a:pt x="2061" y="845"/>
                    </a:lnTo>
                    <a:lnTo>
                      <a:pt x="2076" y="845"/>
                    </a:lnTo>
                    <a:lnTo>
                      <a:pt x="2091" y="846"/>
                    </a:lnTo>
                    <a:lnTo>
                      <a:pt x="2110" y="847"/>
                    </a:lnTo>
                    <a:lnTo>
                      <a:pt x="2110" y="866"/>
                    </a:lnTo>
                    <a:lnTo>
                      <a:pt x="2110" y="962"/>
                    </a:lnTo>
                    <a:lnTo>
                      <a:pt x="2110" y="1058"/>
                    </a:lnTo>
                    <a:lnTo>
                      <a:pt x="2110" y="1073"/>
                    </a:lnTo>
                    <a:lnTo>
                      <a:pt x="2096" y="1077"/>
                    </a:lnTo>
                    <a:lnTo>
                      <a:pt x="2068" y="1087"/>
                    </a:lnTo>
                    <a:lnTo>
                      <a:pt x="2046" y="1095"/>
                    </a:lnTo>
                    <a:lnTo>
                      <a:pt x="2046" y="1095"/>
                    </a:lnTo>
                    <a:lnTo>
                      <a:pt x="1996" y="1112"/>
                    </a:lnTo>
                    <a:lnTo>
                      <a:pt x="1968" y="1123"/>
                    </a:lnTo>
                    <a:lnTo>
                      <a:pt x="1968" y="1094"/>
                    </a:lnTo>
                    <a:lnTo>
                      <a:pt x="1968" y="977"/>
                    </a:lnTo>
                    <a:lnTo>
                      <a:pt x="1968" y="860"/>
                    </a:lnTo>
                    <a:lnTo>
                      <a:pt x="1989" y="860"/>
                    </a:lnTo>
                    <a:lnTo>
                      <a:pt x="1991" y="841"/>
                    </a:lnTo>
                    <a:close/>
                    <a:moveTo>
                      <a:pt x="2018" y="882"/>
                    </a:moveTo>
                    <a:lnTo>
                      <a:pt x="2009" y="881"/>
                    </a:lnTo>
                    <a:lnTo>
                      <a:pt x="2009" y="977"/>
                    </a:lnTo>
                    <a:lnTo>
                      <a:pt x="2009" y="1065"/>
                    </a:lnTo>
                    <a:lnTo>
                      <a:pt x="2033" y="1056"/>
                    </a:lnTo>
                    <a:lnTo>
                      <a:pt x="2033" y="1056"/>
                    </a:lnTo>
                    <a:lnTo>
                      <a:pt x="2055" y="1048"/>
                    </a:lnTo>
                    <a:lnTo>
                      <a:pt x="2060" y="1047"/>
                    </a:lnTo>
                    <a:lnTo>
                      <a:pt x="2069" y="1044"/>
                    </a:lnTo>
                    <a:lnTo>
                      <a:pt x="2069" y="962"/>
                    </a:lnTo>
                    <a:lnTo>
                      <a:pt x="2069" y="885"/>
                    </a:lnTo>
                    <a:lnTo>
                      <a:pt x="2058" y="884"/>
                    </a:lnTo>
                    <a:lnTo>
                      <a:pt x="2038" y="883"/>
                    </a:lnTo>
                    <a:lnTo>
                      <a:pt x="2018" y="882"/>
                    </a:lnTo>
                    <a:close/>
                    <a:moveTo>
                      <a:pt x="2012" y="448"/>
                    </a:moveTo>
                    <a:lnTo>
                      <a:pt x="2023" y="459"/>
                    </a:lnTo>
                    <a:lnTo>
                      <a:pt x="2038" y="471"/>
                    </a:lnTo>
                    <a:lnTo>
                      <a:pt x="2055" y="486"/>
                    </a:lnTo>
                    <a:lnTo>
                      <a:pt x="2099" y="523"/>
                    </a:lnTo>
                    <a:lnTo>
                      <a:pt x="2106" y="529"/>
                    </a:lnTo>
                    <a:lnTo>
                      <a:pt x="2106" y="538"/>
                    </a:lnTo>
                    <a:lnTo>
                      <a:pt x="2106" y="643"/>
                    </a:lnTo>
                    <a:lnTo>
                      <a:pt x="2106" y="748"/>
                    </a:lnTo>
                    <a:lnTo>
                      <a:pt x="2106" y="776"/>
                    </a:lnTo>
                    <a:lnTo>
                      <a:pt x="2078" y="767"/>
                    </a:lnTo>
                    <a:lnTo>
                      <a:pt x="2036" y="753"/>
                    </a:lnTo>
                    <a:lnTo>
                      <a:pt x="1992" y="739"/>
                    </a:lnTo>
                    <a:lnTo>
                      <a:pt x="1979" y="734"/>
                    </a:lnTo>
                    <a:lnTo>
                      <a:pt x="1979" y="719"/>
                    </a:lnTo>
                    <a:lnTo>
                      <a:pt x="1979" y="592"/>
                    </a:lnTo>
                    <a:lnTo>
                      <a:pt x="1979" y="464"/>
                    </a:lnTo>
                    <a:lnTo>
                      <a:pt x="1999" y="464"/>
                    </a:lnTo>
                    <a:lnTo>
                      <a:pt x="2012" y="448"/>
                    </a:lnTo>
                    <a:close/>
                    <a:moveTo>
                      <a:pt x="2028" y="517"/>
                    </a:moveTo>
                    <a:lnTo>
                      <a:pt x="2019" y="509"/>
                    </a:lnTo>
                    <a:lnTo>
                      <a:pt x="2019" y="592"/>
                    </a:lnTo>
                    <a:lnTo>
                      <a:pt x="2019" y="705"/>
                    </a:lnTo>
                    <a:lnTo>
                      <a:pt x="2049" y="714"/>
                    </a:lnTo>
                    <a:lnTo>
                      <a:pt x="2065" y="720"/>
                    </a:lnTo>
                    <a:lnTo>
                      <a:pt x="2065" y="643"/>
                    </a:lnTo>
                    <a:lnTo>
                      <a:pt x="2065" y="547"/>
                    </a:lnTo>
                    <a:lnTo>
                      <a:pt x="2028" y="517"/>
                    </a:lnTo>
                    <a:close/>
                    <a:moveTo>
                      <a:pt x="1790" y="820"/>
                    </a:moveTo>
                    <a:lnTo>
                      <a:pt x="1805" y="821"/>
                    </a:lnTo>
                    <a:lnTo>
                      <a:pt x="1820" y="822"/>
                    </a:lnTo>
                    <a:lnTo>
                      <a:pt x="1849" y="823"/>
                    </a:lnTo>
                    <a:lnTo>
                      <a:pt x="1849" y="823"/>
                    </a:lnTo>
                    <a:lnTo>
                      <a:pt x="1859" y="824"/>
                    </a:lnTo>
                    <a:lnTo>
                      <a:pt x="1870" y="824"/>
                    </a:lnTo>
                    <a:lnTo>
                      <a:pt x="1880" y="825"/>
                    </a:lnTo>
                    <a:lnTo>
                      <a:pt x="1890" y="826"/>
                    </a:lnTo>
                    <a:lnTo>
                      <a:pt x="1908" y="827"/>
                    </a:lnTo>
                    <a:lnTo>
                      <a:pt x="1928" y="828"/>
                    </a:lnTo>
                    <a:lnTo>
                      <a:pt x="1928" y="847"/>
                    </a:lnTo>
                    <a:lnTo>
                      <a:pt x="1928" y="993"/>
                    </a:lnTo>
                    <a:lnTo>
                      <a:pt x="1928" y="1140"/>
                    </a:lnTo>
                    <a:lnTo>
                      <a:pt x="1928" y="1154"/>
                    </a:lnTo>
                    <a:lnTo>
                      <a:pt x="1914" y="1159"/>
                    </a:lnTo>
                    <a:lnTo>
                      <a:pt x="1882" y="1171"/>
                    </a:lnTo>
                    <a:lnTo>
                      <a:pt x="1854" y="1180"/>
                    </a:lnTo>
                    <a:lnTo>
                      <a:pt x="1795" y="1201"/>
                    </a:lnTo>
                    <a:lnTo>
                      <a:pt x="1769" y="1210"/>
                    </a:lnTo>
                    <a:lnTo>
                      <a:pt x="1769" y="1182"/>
                    </a:lnTo>
                    <a:lnTo>
                      <a:pt x="1769" y="1012"/>
                    </a:lnTo>
                    <a:lnTo>
                      <a:pt x="1769" y="841"/>
                    </a:lnTo>
                    <a:lnTo>
                      <a:pt x="1789" y="841"/>
                    </a:lnTo>
                    <a:lnTo>
                      <a:pt x="1790" y="820"/>
                    </a:lnTo>
                    <a:close/>
                    <a:moveTo>
                      <a:pt x="1818" y="862"/>
                    </a:moveTo>
                    <a:lnTo>
                      <a:pt x="1809" y="862"/>
                    </a:lnTo>
                    <a:lnTo>
                      <a:pt x="1809" y="1012"/>
                    </a:lnTo>
                    <a:lnTo>
                      <a:pt x="1809" y="1153"/>
                    </a:lnTo>
                    <a:lnTo>
                      <a:pt x="1841" y="1142"/>
                    </a:lnTo>
                    <a:lnTo>
                      <a:pt x="1851" y="1138"/>
                    </a:lnTo>
                    <a:lnTo>
                      <a:pt x="1869" y="1132"/>
                    </a:lnTo>
                    <a:lnTo>
                      <a:pt x="1876" y="1130"/>
                    </a:lnTo>
                    <a:lnTo>
                      <a:pt x="1887" y="1126"/>
                    </a:lnTo>
                    <a:lnTo>
                      <a:pt x="1887" y="993"/>
                    </a:lnTo>
                    <a:lnTo>
                      <a:pt x="1887" y="866"/>
                    </a:lnTo>
                    <a:lnTo>
                      <a:pt x="1877" y="866"/>
                    </a:lnTo>
                    <a:lnTo>
                      <a:pt x="1866" y="865"/>
                    </a:lnTo>
                    <a:lnTo>
                      <a:pt x="1857" y="864"/>
                    </a:lnTo>
                    <a:lnTo>
                      <a:pt x="1847" y="864"/>
                    </a:lnTo>
                    <a:lnTo>
                      <a:pt x="1847" y="864"/>
                    </a:lnTo>
                    <a:lnTo>
                      <a:pt x="1818" y="862"/>
                    </a:lnTo>
                    <a:close/>
                    <a:moveTo>
                      <a:pt x="1800" y="311"/>
                    </a:moveTo>
                    <a:lnTo>
                      <a:pt x="1830" y="331"/>
                    </a:lnTo>
                    <a:lnTo>
                      <a:pt x="1859" y="351"/>
                    </a:lnTo>
                    <a:lnTo>
                      <a:pt x="1861" y="353"/>
                    </a:lnTo>
                    <a:lnTo>
                      <a:pt x="1868" y="357"/>
                    </a:lnTo>
                    <a:lnTo>
                      <a:pt x="1877" y="363"/>
                    </a:lnTo>
                    <a:lnTo>
                      <a:pt x="1893" y="374"/>
                    </a:lnTo>
                    <a:lnTo>
                      <a:pt x="1918" y="391"/>
                    </a:lnTo>
                    <a:lnTo>
                      <a:pt x="1928" y="398"/>
                    </a:lnTo>
                    <a:lnTo>
                      <a:pt x="1928" y="408"/>
                    </a:lnTo>
                    <a:lnTo>
                      <a:pt x="1928" y="554"/>
                    </a:lnTo>
                    <a:lnTo>
                      <a:pt x="1928" y="701"/>
                    </a:lnTo>
                    <a:lnTo>
                      <a:pt x="1928" y="726"/>
                    </a:lnTo>
                    <a:lnTo>
                      <a:pt x="1902" y="720"/>
                    </a:lnTo>
                    <a:lnTo>
                      <a:pt x="1854" y="707"/>
                    </a:lnTo>
                    <a:lnTo>
                      <a:pt x="1843" y="705"/>
                    </a:lnTo>
                    <a:lnTo>
                      <a:pt x="1841" y="704"/>
                    </a:lnTo>
                    <a:lnTo>
                      <a:pt x="1825" y="700"/>
                    </a:lnTo>
                    <a:lnTo>
                      <a:pt x="1809" y="696"/>
                    </a:lnTo>
                    <a:lnTo>
                      <a:pt x="1795" y="692"/>
                    </a:lnTo>
                    <a:lnTo>
                      <a:pt x="1784" y="689"/>
                    </a:lnTo>
                    <a:lnTo>
                      <a:pt x="1769" y="685"/>
                    </a:lnTo>
                    <a:lnTo>
                      <a:pt x="1769" y="669"/>
                    </a:lnTo>
                    <a:lnTo>
                      <a:pt x="1769" y="498"/>
                    </a:lnTo>
                    <a:lnTo>
                      <a:pt x="1769" y="327"/>
                    </a:lnTo>
                    <a:lnTo>
                      <a:pt x="1789" y="327"/>
                    </a:lnTo>
                    <a:lnTo>
                      <a:pt x="1800" y="311"/>
                    </a:lnTo>
                    <a:close/>
                    <a:moveTo>
                      <a:pt x="1837" y="384"/>
                    </a:moveTo>
                    <a:lnTo>
                      <a:pt x="1809" y="366"/>
                    </a:lnTo>
                    <a:lnTo>
                      <a:pt x="1809" y="498"/>
                    </a:lnTo>
                    <a:lnTo>
                      <a:pt x="1809" y="654"/>
                    </a:lnTo>
                    <a:lnTo>
                      <a:pt x="1821" y="657"/>
                    </a:lnTo>
                    <a:lnTo>
                      <a:pt x="1832" y="660"/>
                    </a:lnTo>
                    <a:lnTo>
                      <a:pt x="1842" y="662"/>
                    </a:lnTo>
                    <a:lnTo>
                      <a:pt x="1851" y="665"/>
                    </a:lnTo>
                    <a:lnTo>
                      <a:pt x="1853" y="665"/>
                    </a:lnTo>
                    <a:lnTo>
                      <a:pt x="1864" y="668"/>
                    </a:lnTo>
                    <a:lnTo>
                      <a:pt x="1887" y="675"/>
                    </a:lnTo>
                    <a:lnTo>
                      <a:pt x="1887" y="554"/>
                    </a:lnTo>
                    <a:lnTo>
                      <a:pt x="1887" y="419"/>
                    </a:lnTo>
                    <a:lnTo>
                      <a:pt x="1838" y="385"/>
                    </a:lnTo>
                    <a:lnTo>
                      <a:pt x="1837" y="384"/>
                    </a:lnTo>
                    <a:close/>
                    <a:moveTo>
                      <a:pt x="1501" y="779"/>
                    </a:moveTo>
                    <a:lnTo>
                      <a:pt x="1615" y="779"/>
                    </a:lnTo>
                    <a:lnTo>
                      <a:pt x="1635" y="779"/>
                    </a:lnTo>
                    <a:lnTo>
                      <a:pt x="1635" y="800"/>
                    </a:lnTo>
                    <a:lnTo>
                      <a:pt x="1635" y="979"/>
                    </a:lnTo>
                    <a:lnTo>
                      <a:pt x="1635" y="1213"/>
                    </a:lnTo>
                    <a:lnTo>
                      <a:pt x="1635" y="1235"/>
                    </a:lnTo>
                    <a:lnTo>
                      <a:pt x="1614" y="1234"/>
                    </a:lnTo>
                    <a:lnTo>
                      <a:pt x="1503" y="1223"/>
                    </a:lnTo>
                    <a:lnTo>
                      <a:pt x="1499" y="1223"/>
                    </a:lnTo>
                    <a:lnTo>
                      <a:pt x="1480" y="1221"/>
                    </a:lnTo>
                    <a:lnTo>
                      <a:pt x="1480" y="1203"/>
                    </a:lnTo>
                    <a:lnTo>
                      <a:pt x="1480" y="976"/>
                    </a:lnTo>
                    <a:lnTo>
                      <a:pt x="1480" y="800"/>
                    </a:lnTo>
                    <a:lnTo>
                      <a:pt x="1501" y="800"/>
                    </a:lnTo>
                    <a:lnTo>
                      <a:pt x="1501" y="779"/>
                    </a:lnTo>
                    <a:close/>
                    <a:moveTo>
                      <a:pt x="1594" y="820"/>
                    </a:moveTo>
                    <a:lnTo>
                      <a:pt x="1520" y="820"/>
                    </a:lnTo>
                    <a:lnTo>
                      <a:pt x="1520" y="976"/>
                    </a:lnTo>
                    <a:lnTo>
                      <a:pt x="1520" y="1184"/>
                    </a:lnTo>
                    <a:lnTo>
                      <a:pt x="1594" y="1192"/>
                    </a:lnTo>
                    <a:lnTo>
                      <a:pt x="1594" y="979"/>
                    </a:lnTo>
                    <a:lnTo>
                      <a:pt x="1594" y="820"/>
                    </a:lnTo>
                    <a:close/>
                    <a:moveTo>
                      <a:pt x="1499" y="276"/>
                    </a:moveTo>
                    <a:lnTo>
                      <a:pt x="1614" y="266"/>
                    </a:lnTo>
                    <a:lnTo>
                      <a:pt x="1635" y="264"/>
                    </a:lnTo>
                    <a:lnTo>
                      <a:pt x="1635" y="287"/>
                    </a:lnTo>
                    <a:lnTo>
                      <a:pt x="1635" y="466"/>
                    </a:lnTo>
                    <a:lnTo>
                      <a:pt x="1635" y="646"/>
                    </a:lnTo>
                    <a:lnTo>
                      <a:pt x="1635" y="665"/>
                    </a:lnTo>
                    <a:lnTo>
                      <a:pt x="1616" y="665"/>
                    </a:lnTo>
                    <a:lnTo>
                      <a:pt x="1501" y="668"/>
                    </a:lnTo>
                    <a:lnTo>
                      <a:pt x="1480" y="669"/>
                    </a:lnTo>
                    <a:lnTo>
                      <a:pt x="1480" y="648"/>
                    </a:lnTo>
                    <a:lnTo>
                      <a:pt x="1480" y="472"/>
                    </a:lnTo>
                    <a:lnTo>
                      <a:pt x="1480" y="297"/>
                    </a:lnTo>
                    <a:lnTo>
                      <a:pt x="1501" y="297"/>
                    </a:lnTo>
                    <a:lnTo>
                      <a:pt x="1499" y="276"/>
                    </a:lnTo>
                    <a:close/>
                    <a:moveTo>
                      <a:pt x="1594" y="308"/>
                    </a:moveTo>
                    <a:lnTo>
                      <a:pt x="1520" y="315"/>
                    </a:lnTo>
                    <a:lnTo>
                      <a:pt x="1520" y="472"/>
                    </a:lnTo>
                    <a:lnTo>
                      <a:pt x="1520" y="628"/>
                    </a:lnTo>
                    <a:lnTo>
                      <a:pt x="1594" y="626"/>
                    </a:lnTo>
                    <a:lnTo>
                      <a:pt x="1594" y="466"/>
                    </a:lnTo>
                    <a:lnTo>
                      <a:pt x="1594" y="308"/>
                    </a:lnTo>
                    <a:close/>
                    <a:moveTo>
                      <a:pt x="1304" y="779"/>
                    </a:moveTo>
                    <a:lnTo>
                      <a:pt x="1318" y="779"/>
                    </a:lnTo>
                    <a:lnTo>
                      <a:pt x="1333" y="779"/>
                    </a:lnTo>
                    <a:lnTo>
                      <a:pt x="1348" y="779"/>
                    </a:lnTo>
                    <a:lnTo>
                      <a:pt x="1362" y="779"/>
                    </a:lnTo>
                    <a:lnTo>
                      <a:pt x="1376" y="779"/>
                    </a:lnTo>
                    <a:lnTo>
                      <a:pt x="1391" y="779"/>
                    </a:lnTo>
                    <a:lnTo>
                      <a:pt x="1405" y="779"/>
                    </a:lnTo>
                    <a:lnTo>
                      <a:pt x="1418" y="779"/>
                    </a:lnTo>
                    <a:lnTo>
                      <a:pt x="1439" y="779"/>
                    </a:lnTo>
                    <a:lnTo>
                      <a:pt x="1439" y="800"/>
                    </a:lnTo>
                    <a:lnTo>
                      <a:pt x="1439" y="973"/>
                    </a:lnTo>
                    <a:lnTo>
                      <a:pt x="1439" y="1195"/>
                    </a:lnTo>
                    <a:lnTo>
                      <a:pt x="1439" y="1216"/>
                    </a:lnTo>
                    <a:lnTo>
                      <a:pt x="1417" y="1215"/>
                    </a:lnTo>
                    <a:lnTo>
                      <a:pt x="1302" y="1202"/>
                    </a:lnTo>
                    <a:lnTo>
                      <a:pt x="1284" y="1201"/>
                    </a:lnTo>
                    <a:lnTo>
                      <a:pt x="1284" y="1183"/>
                    </a:lnTo>
                    <a:lnTo>
                      <a:pt x="1284" y="969"/>
                    </a:lnTo>
                    <a:lnTo>
                      <a:pt x="1284" y="800"/>
                    </a:lnTo>
                    <a:lnTo>
                      <a:pt x="1304" y="800"/>
                    </a:lnTo>
                    <a:lnTo>
                      <a:pt x="1304" y="779"/>
                    </a:lnTo>
                    <a:close/>
                    <a:moveTo>
                      <a:pt x="1362" y="819"/>
                    </a:moveTo>
                    <a:lnTo>
                      <a:pt x="1325" y="819"/>
                    </a:lnTo>
                    <a:lnTo>
                      <a:pt x="1325" y="969"/>
                    </a:lnTo>
                    <a:lnTo>
                      <a:pt x="1325" y="1166"/>
                    </a:lnTo>
                    <a:lnTo>
                      <a:pt x="1399" y="1174"/>
                    </a:lnTo>
                    <a:lnTo>
                      <a:pt x="1399" y="973"/>
                    </a:lnTo>
                    <a:lnTo>
                      <a:pt x="1399" y="820"/>
                    </a:lnTo>
                    <a:lnTo>
                      <a:pt x="1362" y="819"/>
                    </a:lnTo>
                    <a:close/>
                    <a:moveTo>
                      <a:pt x="1302" y="294"/>
                    </a:moveTo>
                    <a:lnTo>
                      <a:pt x="1316" y="292"/>
                    </a:lnTo>
                    <a:lnTo>
                      <a:pt x="1331" y="291"/>
                    </a:lnTo>
                    <a:lnTo>
                      <a:pt x="1345" y="290"/>
                    </a:lnTo>
                    <a:lnTo>
                      <a:pt x="1358" y="289"/>
                    </a:lnTo>
                    <a:lnTo>
                      <a:pt x="1373" y="288"/>
                    </a:lnTo>
                    <a:lnTo>
                      <a:pt x="1388" y="285"/>
                    </a:lnTo>
                    <a:lnTo>
                      <a:pt x="1402" y="284"/>
                    </a:lnTo>
                    <a:lnTo>
                      <a:pt x="1417" y="283"/>
                    </a:lnTo>
                    <a:lnTo>
                      <a:pt x="1439" y="281"/>
                    </a:lnTo>
                    <a:lnTo>
                      <a:pt x="1439" y="304"/>
                    </a:lnTo>
                    <a:lnTo>
                      <a:pt x="1439" y="477"/>
                    </a:lnTo>
                    <a:lnTo>
                      <a:pt x="1439" y="650"/>
                    </a:lnTo>
                    <a:lnTo>
                      <a:pt x="1439" y="670"/>
                    </a:lnTo>
                    <a:lnTo>
                      <a:pt x="1419" y="670"/>
                    </a:lnTo>
                    <a:lnTo>
                      <a:pt x="1419" y="670"/>
                    </a:lnTo>
                    <a:lnTo>
                      <a:pt x="1419" y="670"/>
                    </a:lnTo>
                    <a:lnTo>
                      <a:pt x="1391" y="671"/>
                    </a:lnTo>
                    <a:lnTo>
                      <a:pt x="1361" y="673"/>
                    </a:lnTo>
                    <a:lnTo>
                      <a:pt x="1333" y="673"/>
                    </a:lnTo>
                    <a:lnTo>
                      <a:pt x="1304" y="674"/>
                    </a:lnTo>
                    <a:lnTo>
                      <a:pt x="1284" y="675"/>
                    </a:lnTo>
                    <a:lnTo>
                      <a:pt x="1284" y="653"/>
                    </a:lnTo>
                    <a:lnTo>
                      <a:pt x="1284" y="483"/>
                    </a:lnTo>
                    <a:lnTo>
                      <a:pt x="1284" y="313"/>
                    </a:lnTo>
                    <a:lnTo>
                      <a:pt x="1304" y="313"/>
                    </a:lnTo>
                    <a:lnTo>
                      <a:pt x="1302" y="294"/>
                    </a:lnTo>
                    <a:close/>
                    <a:moveTo>
                      <a:pt x="1362" y="328"/>
                    </a:moveTo>
                    <a:lnTo>
                      <a:pt x="1325" y="332"/>
                    </a:lnTo>
                    <a:lnTo>
                      <a:pt x="1325" y="483"/>
                    </a:lnTo>
                    <a:lnTo>
                      <a:pt x="1325" y="633"/>
                    </a:lnTo>
                    <a:lnTo>
                      <a:pt x="1343" y="632"/>
                    </a:lnTo>
                    <a:lnTo>
                      <a:pt x="1361" y="632"/>
                    </a:lnTo>
                    <a:lnTo>
                      <a:pt x="1380" y="631"/>
                    </a:lnTo>
                    <a:lnTo>
                      <a:pt x="1399" y="631"/>
                    </a:lnTo>
                    <a:lnTo>
                      <a:pt x="1399" y="477"/>
                    </a:lnTo>
                    <a:lnTo>
                      <a:pt x="1399" y="325"/>
                    </a:lnTo>
                    <a:lnTo>
                      <a:pt x="1362" y="328"/>
                    </a:lnTo>
                    <a:close/>
                    <a:moveTo>
                      <a:pt x="1105" y="311"/>
                    </a:moveTo>
                    <a:lnTo>
                      <a:pt x="1136" y="308"/>
                    </a:lnTo>
                    <a:lnTo>
                      <a:pt x="1151" y="307"/>
                    </a:lnTo>
                    <a:lnTo>
                      <a:pt x="1158" y="306"/>
                    </a:lnTo>
                    <a:lnTo>
                      <a:pt x="1164" y="306"/>
                    </a:lnTo>
                    <a:lnTo>
                      <a:pt x="1221" y="301"/>
                    </a:lnTo>
                    <a:lnTo>
                      <a:pt x="1243" y="299"/>
                    </a:lnTo>
                    <a:lnTo>
                      <a:pt x="1243" y="320"/>
                    </a:lnTo>
                    <a:lnTo>
                      <a:pt x="1243" y="488"/>
                    </a:lnTo>
                    <a:lnTo>
                      <a:pt x="1243" y="655"/>
                    </a:lnTo>
                    <a:lnTo>
                      <a:pt x="1243" y="676"/>
                    </a:lnTo>
                    <a:lnTo>
                      <a:pt x="1223" y="676"/>
                    </a:lnTo>
                    <a:lnTo>
                      <a:pt x="1184" y="677"/>
                    </a:lnTo>
                    <a:lnTo>
                      <a:pt x="1165" y="677"/>
                    </a:lnTo>
                    <a:lnTo>
                      <a:pt x="1146" y="678"/>
                    </a:lnTo>
                    <a:lnTo>
                      <a:pt x="1127" y="678"/>
                    </a:lnTo>
                    <a:lnTo>
                      <a:pt x="1108" y="679"/>
                    </a:lnTo>
                    <a:lnTo>
                      <a:pt x="1087" y="679"/>
                    </a:lnTo>
                    <a:lnTo>
                      <a:pt x="1087" y="658"/>
                    </a:lnTo>
                    <a:lnTo>
                      <a:pt x="1087" y="494"/>
                    </a:lnTo>
                    <a:lnTo>
                      <a:pt x="1087" y="330"/>
                    </a:lnTo>
                    <a:lnTo>
                      <a:pt x="1108" y="330"/>
                    </a:lnTo>
                    <a:lnTo>
                      <a:pt x="1105" y="311"/>
                    </a:lnTo>
                    <a:close/>
                    <a:moveTo>
                      <a:pt x="1167" y="346"/>
                    </a:moveTo>
                    <a:lnTo>
                      <a:pt x="1152" y="347"/>
                    </a:lnTo>
                    <a:lnTo>
                      <a:pt x="1142" y="348"/>
                    </a:lnTo>
                    <a:lnTo>
                      <a:pt x="1134" y="349"/>
                    </a:lnTo>
                    <a:lnTo>
                      <a:pt x="1128" y="349"/>
                    </a:lnTo>
                    <a:lnTo>
                      <a:pt x="1128" y="494"/>
                    </a:lnTo>
                    <a:lnTo>
                      <a:pt x="1128" y="638"/>
                    </a:lnTo>
                    <a:lnTo>
                      <a:pt x="1141" y="637"/>
                    </a:lnTo>
                    <a:lnTo>
                      <a:pt x="1155" y="637"/>
                    </a:lnTo>
                    <a:lnTo>
                      <a:pt x="1170" y="637"/>
                    </a:lnTo>
                    <a:lnTo>
                      <a:pt x="1183" y="636"/>
                    </a:lnTo>
                    <a:lnTo>
                      <a:pt x="1202" y="636"/>
                    </a:lnTo>
                    <a:lnTo>
                      <a:pt x="1202" y="488"/>
                    </a:lnTo>
                    <a:lnTo>
                      <a:pt x="1202" y="343"/>
                    </a:lnTo>
                    <a:lnTo>
                      <a:pt x="1167" y="346"/>
                    </a:lnTo>
                    <a:close/>
                    <a:moveTo>
                      <a:pt x="909" y="327"/>
                    </a:moveTo>
                    <a:lnTo>
                      <a:pt x="913" y="327"/>
                    </a:lnTo>
                    <a:lnTo>
                      <a:pt x="1024" y="318"/>
                    </a:lnTo>
                    <a:lnTo>
                      <a:pt x="1046" y="316"/>
                    </a:lnTo>
                    <a:lnTo>
                      <a:pt x="1046" y="337"/>
                    </a:lnTo>
                    <a:lnTo>
                      <a:pt x="1046" y="499"/>
                    </a:lnTo>
                    <a:lnTo>
                      <a:pt x="1046" y="660"/>
                    </a:lnTo>
                    <a:lnTo>
                      <a:pt x="1046" y="680"/>
                    </a:lnTo>
                    <a:lnTo>
                      <a:pt x="1026" y="681"/>
                    </a:lnTo>
                    <a:lnTo>
                      <a:pt x="911" y="684"/>
                    </a:lnTo>
                    <a:lnTo>
                      <a:pt x="891" y="684"/>
                    </a:lnTo>
                    <a:lnTo>
                      <a:pt x="891" y="663"/>
                    </a:lnTo>
                    <a:lnTo>
                      <a:pt x="891" y="505"/>
                    </a:lnTo>
                    <a:lnTo>
                      <a:pt x="891" y="348"/>
                    </a:lnTo>
                    <a:lnTo>
                      <a:pt x="911" y="348"/>
                    </a:lnTo>
                    <a:lnTo>
                      <a:pt x="909" y="327"/>
                    </a:lnTo>
                    <a:close/>
                    <a:moveTo>
                      <a:pt x="1006" y="360"/>
                    </a:moveTo>
                    <a:lnTo>
                      <a:pt x="979" y="362"/>
                    </a:lnTo>
                    <a:lnTo>
                      <a:pt x="959" y="364"/>
                    </a:lnTo>
                    <a:lnTo>
                      <a:pt x="943" y="365"/>
                    </a:lnTo>
                    <a:lnTo>
                      <a:pt x="931" y="366"/>
                    </a:lnTo>
                    <a:lnTo>
                      <a:pt x="931" y="505"/>
                    </a:lnTo>
                    <a:lnTo>
                      <a:pt x="931" y="642"/>
                    </a:lnTo>
                    <a:lnTo>
                      <a:pt x="1006" y="641"/>
                    </a:lnTo>
                    <a:lnTo>
                      <a:pt x="1006" y="499"/>
                    </a:lnTo>
                    <a:lnTo>
                      <a:pt x="1006" y="360"/>
                    </a:lnTo>
                    <a:close/>
                    <a:moveTo>
                      <a:pt x="712" y="345"/>
                    </a:moveTo>
                    <a:lnTo>
                      <a:pt x="757" y="340"/>
                    </a:lnTo>
                    <a:lnTo>
                      <a:pt x="788" y="338"/>
                    </a:lnTo>
                    <a:lnTo>
                      <a:pt x="809" y="336"/>
                    </a:lnTo>
                    <a:lnTo>
                      <a:pt x="824" y="335"/>
                    </a:lnTo>
                    <a:lnTo>
                      <a:pt x="827" y="334"/>
                    </a:lnTo>
                    <a:lnTo>
                      <a:pt x="850" y="332"/>
                    </a:lnTo>
                    <a:lnTo>
                      <a:pt x="850" y="355"/>
                    </a:lnTo>
                    <a:lnTo>
                      <a:pt x="850" y="511"/>
                    </a:lnTo>
                    <a:lnTo>
                      <a:pt x="850" y="665"/>
                    </a:lnTo>
                    <a:lnTo>
                      <a:pt x="850" y="685"/>
                    </a:lnTo>
                    <a:lnTo>
                      <a:pt x="829" y="686"/>
                    </a:lnTo>
                    <a:lnTo>
                      <a:pt x="791" y="687"/>
                    </a:lnTo>
                    <a:lnTo>
                      <a:pt x="772" y="687"/>
                    </a:lnTo>
                    <a:lnTo>
                      <a:pt x="753" y="688"/>
                    </a:lnTo>
                    <a:lnTo>
                      <a:pt x="734" y="688"/>
                    </a:lnTo>
                    <a:lnTo>
                      <a:pt x="715" y="688"/>
                    </a:lnTo>
                    <a:lnTo>
                      <a:pt x="694" y="689"/>
                    </a:lnTo>
                    <a:lnTo>
                      <a:pt x="694" y="668"/>
                    </a:lnTo>
                    <a:lnTo>
                      <a:pt x="694" y="517"/>
                    </a:lnTo>
                    <a:lnTo>
                      <a:pt x="694" y="365"/>
                    </a:lnTo>
                    <a:lnTo>
                      <a:pt x="714" y="365"/>
                    </a:lnTo>
                    <a:lnTo>
                      <a:pt x="712" y="345"/>
                    </a:lnTo>
                    <a:close/>
                    <a:moveTo>
                      <a:pt x="809" y="377"/>
                    </a:moveTo>
                    <a:lnTo>
                      <a:pt x="735" y="383"/>
                    </a:lnTo>
                    <a:lnTo>
                      <a:pt x="735" y="517"/>
                    </a:lnTo>
                    <a:lnTo>
                      <a:pt x="735" y="647"/>
                    </a:lnTo>
                    <a:lnTo>
                      <a:pt x="749" y="647"/>
                    </a:lnTo>
                    <a:lnTo>
                      <a:pt x="762" y="647"/>
                    </a:lnTo>
                    <a:lnTo>
                      <a:pt x="776" y="646"/>
                    </a:lnTo>
                    <a:lnTo>
                      <a:pt x="790" y="646"/>
                    </a:lnTo>
                    <a:lnTo>
                      <a:pt x="809" y="646"/>
                    </a:lnTo>
                    <a:lnTo>
                      <a:pt x="809" y="511"/>
                    </a:lnTo>
                    <a:lnTo>
                      <a:pt x="809" y="377"/>
                    </a:lnTo>
                    <a:close/>
                    <a:moveTo>
                      <a:pt x="518" y="777"/>
                    </a:moveTo>
                    <a:lnTo>
                      <a:pt x="527" y="777"/>
                    </a:lnTo>
                    <a:lnTo>
                      <a:pt x="535" y="777"/>
                    </a:lnTo>
                    <a:lnTo>
                      <a:pt x="548" y="777"/>
                    </a:lnTo>
                    <a:lnTo>
                      <a:pt x="576" y="778"/>
                    </a:lnTo>
                    <a:lnTo>
                      <a:pt x="590" y="778"/>
                    </a:lnTo>
                    <a:lnTo>
                      <a:pt x="604" y="778"/>
                    </a:lnTo>
                    <a:lnTo>
                      <a:pt x="619" y="778"/>
                    </a:lnTo>
                    <a:lnTo>
                      <a:pt x="633" y="778"/>
                    </a:lnTo>
                    <a:lnTo>
                      <a:pt x="653" y="778"/>
                    </a:lnTo>
                    <a:lnTo>
                      <a:pt x="653" y="798"/>
                    </a:lnTo>
                    <a:lnTo>
                      <a:pt x="653" y="947"/>
                    </a:lnTo>
                    <a:lnTo>
                      <a:pt x="653" y="1116"/>
                    </a:lnTo>
                    <a:lnTo>
                      <a:pt x="653" y="1137"/>
                    </a:lnTo>
                    <a:lnTo>
                      <a:pt x="497" y="1116"/>
                    </a:lnTo>
                    <a:lnTo>
                      <a:pt x="497" y="1097"/>
                    </a:lnTo>
                    <a:lnTo>
                      <a:pt x="497" y="943"/>
                    </a:lnTo>
                    <a:lnTo>
                      <a:pt x="497" y="798"/>
                    </a:lnTo>
                    <a:lnTo>
                      <a:pt x="518" y="798"/>
                    </a:lnTo>
                    <a:lnTo>
                      <a:pt x="518" y="777"/>
                    </a:lnTo>
                    <a:close/>
                    <a:moveTo>
                      <a:pt x="576" y="818"/>
                    </a:moveTo>
                    <a:lnTo>
                      <a:pt x="571" y="818"/>
                    </a:lnTo>
                    <a:lnTo>
                      <a:pt x="567" y="818"/>
                    </a:lnTo>
                    <a:lnTo>
                      <a:pt x="556" y="818"/>
                    </a:lnTo>
                    <a:lnTo>
                      <a:pt x="538" y="818"/>
                    </a:lnTo>
                    <a:lnTo>
                      <a:pt x="538" y="943"/>
                    </a:lnTo>
                    <a:lnTo>
                      <a:pt x="538" y="1083"/>
                    </a:lnTo>
                    <a:lnTo>
                      <a:pt x="612" y="1091"/>
                    </a:lnTo>
                    <a:lnTo>
                      <a:pt x="612" y="947"/>
                    </a:lnTo>
                    <a:lnTo>
                      <a:pt x="612" y="818"/>
                    </a:lnTo>
                    <a:lnTo>
                      <a:pt x="576" y="818"/>
                    </a:lnTo>
                    <a:close/>
                    <a:moveTo>
                      <a:pt x="516" y="362"/>
                    </a:moveTo>
                    <a:lnTo>
                      <a:pt x="531" y="361"/>
                    </a:lnTo>
                    <a:lnTo>
                      <a:pt x="545" y="360"/>
                    </a:lnTo>
                    <a:lnTo>
                      <a:pt x="559" y="358"/>
                    </a:lnTo>
                    <a:lnTo>
                      <a:pt x="574" y="357"/>
                    </a:lnTo>
                    <a:lnTo>
                      <a:pt x="588" y="356"/>
                    </a:lnTo>
                    <a:lnTo>
                      <a:pt x="602" y="355"/>
                    </a:lnTo>
                    <a:lnTo>
                      <a:pt x="616" y="353"/>
                    </a:lnTo>
                    <a:lnTo>
                      <a:pt x="631" y="352"/>
                    </a:lnTo>
                    <a:lnTo>
                      <a:pt x="653" y="350"/>
                    </a:lnTo>
                    <a:lnTo>
                      <a:pt x="653" y="372"/>
                    </a:lnTo>
                    <a:lnTo>
                      <a:pt x="653" y="521"/>
                    </a:lnTo>
                    <a:lnTo>
                      <a:pt x="653" y="670"/>
                    </a:lnTo>
                    <a:lnTo>
                      <a:pt x="653" y="690"/>
                    </a:lnTo>
                    <a:lnTo>
                      <a:pt x="633" y="691"/>
                    </a:lnTo>
                    <a:lnTo>
                      <a:pt x="605" y="691"/>
                    </a:lnTo>
                    <a:lnTo>
                      <a:pt x="577" y="692"/>
                    </a:lnTo>
                    <a:lnTo>
                      <a:pt x="547" y="693"/>
                    </a:lnTo>
                    <a:lnTo>
                      <a:pt x="519" y="693"/>
                    </a:lnTo>
                    <a:lnTo>
                      <a:pt x="519" y="693"/>
                    </a:lnTo>
                    <a:lnTo>
                      <a:pt x="497" y="694"/>
                    </a:lnTo>
                    <a:lnTo>
                      <a:pt x="497" y="673"/>
                    </a:lnTo>
                    <a:lnTo>
                      <a:pt x="497" y="528"/>
                    </a:lnTo>
                    <a:lnTo>
                      <a:pt x="497" y="382"/>
                    </a:lnTo>
                    <a:lnTo>
                      <a:pt x="518" y="382"/>
                    </a:lnTo>
                    <a:lnTo>
                      <a:pt x="516" y="362"/>
                    </a:lnTo>
                    <a:close/>
                    <a:moveTo>
                      <a:pt x="577" y="398"/>
                    </a:moveTo>
                    <a:lnTo>
                      <a:pt x="538" y="401"/>
                    </a:lnTo>
                    <a:lnTo>
                      <a:pt x="538" y="528"/>
                    </a:lnTo>
                    <a:lnTo>
                      <a:pt x="538" y="652"/>
                    </a:lnTo>
                    <a:lnTo>
                      <a:pt x="556" y="652"/>
                    </a:lnTo>
                    <a:lnTo>
                      <a:pt x="575" y="651"/>
                    </a:lnTo>
                    <a:lnTo>
                      <a:pt x="594" y="651"/>
                    </a:lnTo>
                    <a:lnTo>
                      <a:pt x="612" y="650"/>
                    </a:lnTo>
                    <a:lnTo>
                      <a:pt x="612" y="521"/>
                    </a:lnTo>
                    <a:lnTo>
                      <a:pt x="612" y="394"/>
                    </a:lnTo>
                    <a:lnTo>
                      <a:pt x="577" y="398"/>
                    </a:lnTo>
                    <a:close/>
                    <a:moveTo>
                      <a:pt x="321" y="777"/>
                    </a:moveTo>
                    <a:lnTo>
                      <a:pt x="330" y="777"/>
                    </a:lnTo>
                    <a:lnTo>
                      <a:pt x="338" y="777"/>
                    </a:lnTo>
                    <a:lnTo>
                      <a:pt x="353" y="777"/>
                    </a:lnTo>
                    <a:lnTo>
                      <a:pt x="379" y="777"/>
                    </a:lnTo>
                    <a:lnTo>
                      <a:pt x="393" y="777"/>
                    </a:lnTo>
                    <a:lnTo>
                      <a:pt x="408" y="777"/>
                    </a:lnTo>
                    <a:lnTo>
                      <a:pt x="422" y="777"/>
                    </a:lnTo>
                    <a:lnTo>
                      <a:pt x="436" y="777"/>
                    </a:lnTo>
                    <a:lnTo>
                      <a:pt x="457" y="777"/>
                    </a:lnTo>
                    <a:lnTo>
                      <a:pt x="457" y="798"/>
                    </a:lnTo>
                    <a:lnTo>
                      <a:pt x="457" y="940"/>
                    </a:lnTo>
                    <a:lnTo>
                      <a:pt x="457" y="1092"/>
                    </a:lnTo>
                    <a:lnTo>
                      <a:pt x="457" y="1113"/>
                    </a:lnTo>
                    <a:lnTo>
                      <a:pt x="302" y="1095"/>
                    </a:lnTo>
                    <a:lnTo>
                      <a:pt x="302" y="1076"/>
                    </a:lnTo>
                    <a:lnTo>
                      <a:pt x="302" y="937"/>
                    </a:lnTo>
                    <a:lnTo>
                      <a:pt x="302" y="798"/>
                    </a:lnTo>
                    <a:lnTo>
                      <a:pt x="321" y="798"/>
                    </a:lnTo>
                    <a:lnTo>
                      <a:pt x="321" y="777"/>
                    </a:lnTo>
                    <a:close/>
                    <a:moveTo>
                      <a:pt x="379" y="818"/>
                    </a:moveTo>
                    <a:lnTo>
                      <a:pt x="375" y="818"/>
                    </a:lnTo>
                    <a:lnTo>
                      <a:pt x="370" y="818"/>
                    </a:lnTo>
                    <a:lnTo>
                      <a:pt x="360" y="818"/>
                    </a:lnTo>
                    <a:lnTo>
                      <a:pt x="341" y="818"/>
                    </a:lnTo>
                    <a:lnTo>
                      <a:pt x="341" y="937"/>
                    </a:lnTo>
                    <a:lnTo>
                      <a:pt x="341" y="1063"/>
                    </a:lnTo>
                    <a:lnTo>
                      <a:pt x="360" y="1065"/>
                    </a:lnTo>
                    <a:lnTo>
                      <a:pt x="378" y="1067"/>
                    </a:lnTo>
                    <a:lnTo>
                      <a:pt x="397" y="1069"/>
                    </a:lnTo>
                    <a:lnTo>
                      <a:pt x="416" y="1070"/>
                    </a:lnTo>
                    <a:lnTo>
                      <a:pt x="416" y="940"/>
                    </a:lnTo>
                    <a:lnTo>
                      <a:pt x="416" y="818"/>
                    </a:lnTo>
                    <a:lnTo>
                      <a:pt x="379" y="818"/>
                    </a:lnTo>
                    <a:close/>
                    <a:moveTo>
                      <a:pt x="320" y="379"/>
                    </a:moveTo>
                    <a:lnTo>
                      <a:pt x="334" y="378"/>
                    </a:lnTo>
                    <a:lnTo>
                      <a:pt x="349" y="376"/>
                    </a:lnTo>
                    <a:lnTo>
                      <a:pt x="364" y="375"/>
                    </a:lnTo>
                    <a:lnTo>
                      <a:pt x="378" y="374"/>
                    </a:lnTo>
                    <a:lnTo>
                      <a:pt x="392" y="373"/>
                    </a:lnTo>
                    <a:lnTo>
                      <a:pt x="407" y="371"/>
                    </a:lnTo>
                    <a:lnTo>
                      <a:pt x="421" y="370"/>
                    </a:lnTo>
                    <a:lnTo>
                      <a:pt x="434" y="369"/>
                    </a:lnTo>
                    <a:lnTo>
                      <a:pt x="457" y="367"/>
                    </a:lnTo>
                    <a:lnTo>
                      <a:pt x="457" y="389"/>
                    </a:lnTo>
                    <a:lnTo>
                      <a:pt x="457" y="532"/>
                    </a:lnTo>
                    <a:lnTo>
                      <a:pt x="457" y="676"/>
                    </a:lnTo>
                    <a:lnTo>
                      <a:pt x="457" y="695"/>
                    </a:lnTo>
                    <a:lnTo>
                      <a:pt x="437" y="695"/>
                    </a:lnTo>
                    <a:lnTo>
                      <a:pt x="423" y="696"/>
                    </a:lnTo>
                    <a:lnTo>
                      <a:pt x="409" y="696"/>
                    </a:lnTo>
                    <a:lnTo>
                      <a:pt x="394" y="696"/>
                    </a:lnTo>
                    <a:lnTo>
                      <a:pt x="379" y="697"/>
                    </a:lnTo>
                    <a:lnTo>
                      <a:pt x="365" y="697"/>
                    </a:lnTo>
                    <a:lnTo>
                      <a:pt x="352" y="697"/>
                    </a:lnTo>
                    <a:lnTo>
                      <a:pt x="336" y="698"/>
                    </a:lnTo>
                    <a:lnTo>
                      <a:pt x="322" y="698"/>
                    </a:lnTo>
                    <a:lnTo>
                      <a:pt x="302" y="699"/>
                    </a:lnTo>
                    <a:lnTo>
                      <a:pt x="302" y="678"/>
                    </a:lnTo>
                    <a:lnTo>
                      <a:pt x="302" y="539"/>
                    </a:lnTo>
                    <a:lnTo>
                      <a:pt x="302" y="400"/>
                    </a:lnTo>
                    <a:lnTo>
                      <a:pt x="321" y="400"/>
                    </a:lnTo>
                    <a:lnTo>
                      <a:pt x="320" y="379"/>
                    </a:lnTo>
                    <a:close/>
                    <a:moveTo>
                      <a:pt x="381" y="414"/>
                    </a:moveTo>
                    <a:lnTo>
                      <a:pt x="341" y="418"/>
                    </a:lnTo>
                    <a:lnTo>
                      <a:pt x="341" y="539"/>
                    </a:lnTo>
                    <a:lnTo>
                      <a:pt x="341" y="657"/>
                    </a:lnTo>
                    <a:lnTo>
                      <a:pt x="351" y="657"/>
                    </a:lnTo>
                    <a:lnTo>
                      <a:pt x="360" y="657"/>
                    </a:lnTo>
                    <a:lnTo>
                      <a:pt x="369" y="656"/>
                    </a:lnTo>
                    <a:lnTo>
                      <a:pt x="378" y="656"/>
                    </a:lnTo>
                    <a:lnTo>
                      <a:pt x="387" y="656"/>
                    </a:lnTo>
                    <a:lnTo>
                      <a:pt x="397" y="656"/>
                    </a:lnTo>
                    <a:lnTo>
                      <a:pt x="407" y="655"/>
                    </a:lnTo>
                    <a:lnTo>
                      <a:pt x="416" y="655"/>
                    </a:lnTo>
                    <a:lnTo>
                      <a:pt x="416" y="532"/>
                    </a:lnTo>
                    <a:lnTo>
                      <a:pt x="416" y="412"/>
                    </a:lnTo>
                    <a:lnTo>
                      <a:pt x="381" y="414"/>
                    </a:lnTo>
                    <a:close/>
                    <a:moveTo>
                      <a:pt x="125" y="777"/>
                    </a:moveTo>
                    <a:lnTo>
                      <a:pt x="201" y="777"/>
                    </a:lnTo>
                    <a:lnTo>
                      <a:pt x="240" y="777"/>
                    </a:lnTo>
                    <a:lnTo>
                      <a:pt x="260" y="777"/>
                    </a:lnTo>
                    <a:lnTo>
                      <a:pt x="260" y="798"/>
                    </a:lnTo>
                    <a:lnTo>
                      <a:pt x="260" y="934"/>
                    </a:lnTo>
                    <a:lnTo>
                      <a:pt x="260" y="1071"/>
                    </a:lnTo>
                    <a:lnTo>
                      <a:pt x="260" y="1092"/>
                    </a:lnTo>
                    <a:lnTo>
                      <a:pt x="105" y="1072"/>
                    </a:lnTo>
                    <a:lnTo>
                      <a:pt x="105" y="1053"/>
                    </a:lnTo>
                    <a:lnTo>
                      <a:pt x="105" y="930"/>
                    </a:lnTo>
                    <a:lnTo>
                      <a:pt x="105" y="798"/>
                    </a:lnTo>
                    <a:lnTo>
                      <a:pt x="125" y="798"/>
                    </a:lnTo>
                    <a:lnTo>
                      <a:pt x="125" y="777"/>
                    </a:lnTo>
                    <a:close/>
                    <a:moveTo>
                      <a:pt x="201" y="818"/>
                    </a:moveTo>
                    <a:lnTo>
                      <a:pt x="193" y="818"/>
                    </a:lnTo>
                    <a:lnTo>
                      <a:pt x="182" y="818"/>
                    </a:lnTo>
                    <a:lnTo>
                      <a:pt x="167" y="817"/>
                    </a:lnTo>
                    <a:lnTo>
                      <a:pt x="145" y="817"/>
                    </a:lnTo>
                    <a:lnTo>
                      <a:pt x="145" y="930"/>
                    </a:lnTo>
                    <a:lnTo>
                      <a:pt x="145" y="1039"/>
                    </a:lnTo>
                    <a:lnTo>
                      <a:pt x="219" y="1049"/>
                    </a:lnTo>
                    <a:lnTo>
                      <a:pt x="219" y="934"/>
                    </a:lnTo>
                    <a:lnTo>
                      <a:pt x="219" y="818"/>
                    </a:lnTo>
                    <a:lnTo>
                      <a:pt x="201" y="818"/>
                    </a:lnTo>
                    <a:close/>
                    <a:moveTo>
                      <a:pt x="123" y="397"/>
                    </a:moveTo>
                    <a:lnTo>
                      <a:pt x="153" y="393"/>
                    </a:lnTo>
                    <a:lnTo>
                      <a:pt x="170" y="392"/>
                    </a:lnTo>
                    <a:lnTo>
                      <a:pt x="178" y="391"/>
                    </a:lnTo>
                    <a:lnTo>
                      <a:pt x="182" y="391"/>
                    </a:lnTo>
                    <a:lnTo>
                      <a:pt x="205" y="389"/>
                    </a:lnTo>
                    <a:lnTo>
                      <a:pt x="218" y="388"/>
                    </a:lnTo>
                    <a:lnTo>
                      <a:pt x="227" y="387"/>
                    </a:lnTo>
                    <a:lnTo>
                      <a:pt x="239" y="386"/>
                    </a:lnTo>
                    <a:lnTo>
                      <a:pt x="260" y="384"/>
                    </a:lnTo>
                    <a:lnTo>
                      <a:pt x="260" y="407"/>
                    </a:lnTo>
                    <a:lnTo>
                      <a:pt x="260" y="543"/>
                    </a:lnTo>
                    <a:lnTo>
                      <a:pt x="260" y="680"/>
                    </a:lnTo>
                    <a:lnTo>
                      <a:pt x="260" y="700"/>
                    </a:lnTo>
                    <a:lnTo>
                      <a:pt x="241" y="700"/>
                    </a:lnTo>
                    <a:lnTo>
                      <a:pt x="222" y="701"/>
                    </a:lnTo>
                    <a:lnTo>
                      <a:pt x="203" y="701"/>
                    </a:lnTo>
                    <a:lnTo>
                      <a:pt x="185" y="702"/>
                    </a:lnTo>
                    <a:lnTo>
                      <a:pt x="165" y="702"/>
                    </a:lnTo>
                    <a:lnTo>
                      <a:pt x="125" y="703"/>
                    </a:lnTo>
                    <a:lnTo>
                      <a:pt x="105" y="703"/>
                    </a:lnTo>
                    <a:lnTo>
                      <a:pt x="105" y="683"/>
                    </a:lnTo>
                    <a:lnTo>
                      <a:pt x="105" y="549"/>
                    </a:lnTo>
                    <a:lnTo>
                      <a:pt x="105" y="417"/>
                    </a:lnTo>
                    <a:lnTo>
                      <a:pt x="125" y="417"/>
                    </a:lnTo>
                    <a:lnTo>
                      <a:pt x="123" y="397"/>
                    </a:lnTo>
                    <a:close/>
                    <a:moveTo>
                      <a:pt x="187" y="431"/>
                    </a:moveTo>
                    <a:lnTo>
                      <a:pt x="173" y="432"/>
                    </a:lnTo>
                    <a:lnTo>
                      <a:pt x="162" y="433"/>
                    </a:lnTo>
                    <a:lnTo>
                      <a:pt x="153" y="434"/>
                    </a:lnTo>
                    <a:lnTo>
                      <a:pt x="145" y="435"/>
                    </a:lnTo>
                    <a:lnTo>
                      <a:pt x="145" y="549"/>
                    </a:lnTo>
                    <a:lnTo>
                      <a:pt x="145" y="662"/>
                    </a:lnTo>
                    <a:lnTo>
                      <a:pt x="164" y="661"/>
                    </a:lnTo>
                    <a:lnTo>
                      <a:pt x="178" y="661"/>
                    </a:lnTo>
                    <a:lnTo>
                      <a:pt x="192" y="661"/>
                    </a:lnTo>
                    <a:lnTo>
                      <a:pt x="206" y="660"/>
                    </a:lnTo>
                    <a:lnTo>
                      <a:pt x="219" y="660"/>
                    </a:lnTo>
                    <a:lnTo>
                      <a:pt x="219" y="543"/>
                    </a:lnTo>
                    <a:lnTo>
                      <a:pt x="219" y="428"/>
                    </a:lnTo>
                    <a:lnTo>
                      <a:pt x="187" y="431"/>
                    </a:lnTo>
                    <a:close/>
                    <a:moveTo>
                      <a:pt x="1199" y="1281"/>
                    </a:moveTo>
                    <a:lnTo>
                      <a:pt x="1129" y="1314"/>
                    </a:lnTo>
                    <a:lnTo>
                      <a:pt x="1102" y="1327"/>
                    </a:lnTo>
                    <a:lnTo>
                      <a:pt x="1102" y="1327"/>
                    </a:lnTo>
                    <a:lnTo>
                      <a:pt x="1102" y="1327"/>
                    </a:lnTo>
                    <a:lnTo>
                      <a:pt x="1101" y="1327"/>
                    </a:lnTo>
                    <a:lnTo>
                      <a:pt x="1101" y="1327"/>
                    </a:lnTo>
                    <a:lnTo>
                      <a:pt x="1080" y="1324"/>
                    </a:lnTo>
                    <a:lnTo>
                      <a:pt x="736" y="1277"/>
                    </a:lnTo>
                    <a:lnTo>
                      <a:pt x="718" y="1275"/>
                    </a:lnTo>
                    <a:lnTo>
                      <a:pt x="718" y="1258"/>
                    </a:lnTo>
                    <a:lnTo>
                      <a:pt x="718" y="1220"/>
                    </a:lnTo>
                    <a:lnTo>
                      <a:pt x="56" y="1129"/>
                    </a:lnTo>
                    <a:lnTo>
                      <a:pt x="39" y="1127"/>
                    </a:lnTo>
                    <a:lnTo>
                      <a:pt x="39" y="1109"/>
                    </a:lnTo>
                    <a:lnTo>
                      <a:pt x="45" y="381"/>
                    </a:lnTo>
                    <a:lnTo>
                      <a:pt x="25" y="384"/>
                    </a:lnTo>
                    <a:lnTo>
                      <a:pt x="2" y="387"/>
                    </a:lnTo>
                    <a:lnTo>
                      <a:pt x="2" y="365"/>
                    </a:lnTo>
                    <a:lnTo>
                      <a:pt x="1" y="280"/>
                    </a:lnTo>
                    <a:lnTo>
                      <a:pt x="0" y="263"/>
                    </a:lnTo>
                    <a:lnTo>
                      <a:pt x="17" y="260"/>
                    </a:lnTo>
                    <a:lnTo>
                      <a:pt x="1721" y="1"/>
                    </a:lnTo>
                    <a:lnTo>
                      <a:pt x="1730" y="0"/>
                    </a:lnTo>
                    <a:lnTo>
                      <a:pt x="1737" y="6"/>
                    </a:lnTo>
                    <a:lnTo>
                      <a:pt x="2288" y="486"/>
                    </a:lnTo>
                    <a:lnTo>
                      <a:pt x="2295" y="492"/>
                    </a:lnTo>
                    <a:lnTo>
                      <a:pt x="2295" y="501"/>
                    </a:lnTo>
                    <a:lnTo>
                      <a:pt x="2295" y="570"/>
                    </a:lnTo>
                    <a:lnTo>
                      <a:pt x="2295" y="612"/>
                    </a:lnTo>
                    <a:lnTo>
                      <a:pt x="2265" y="587"/>
                    </a:lnTo>
                    <a:lnTo>
                      <a:pt x="2268" y="1053"/>
                    </a:lnTo>
                    <a:lnTo>
                      <a:pt x="2268" y="1066"/>
                    </a:lnTo>
                    <a:lnTo>
                      <a:pt x="2257" y="1071"/>
                    </a:lnTo>
                    <a:lnTo>
                      <a:pt x="1723" y="1348"/>
                    </a:lnTo>
                    <a:lnTo>
                      <a:pt x="1700" y="1345"/>
                    </a:lnTo>
                    <a:lnTo>
                      <a:pt x="1201" y="1279"/>
                    </a:lnTo>
                    <a:lnTo>
                      <a:pt x="1199" y="1281"/>
                    </a:lnTo>
                    <a:close/>
                    <a:moveTo>
                      <a:pt x="758" y="1240"/>
                    </a:moveTo>
                    <a:lnTo>
                      <a:pt x="1063" y="1282"/>
                    </a:lnTo>
                    <a:lnTo>
                      <a:pt x="1064" y="791"/>
                    </a:lnTo>
                    <a:lnTo>
                      <a:pt x="763" y="791"/>
                    </a:lnTo>
                    <a:lnTo>
                      <a:pt x="761" y="1203"/>
                    </a:lnTo>
                    <a:lnTo>
                      <a:pt x="761" y="1226"/>
                    </a:lnTo>
                    <a:lnTo>
                      <a:pt x="758" y="1226"/>
                    </a:lnTo>
                    <a:lnTo>
                      <a:pt x="758" y="1240"/>
                    </a:lnTo>
                    <a:close/>
                    <a:moveTo>
                      <a:pt x="41" y="298"/>
                    </a:moveTo>
                    <a:lnTo>
                      <a:pt x="42" y="342"/>
                    </a:lnTo>
                    <a:lnTo>
                      <a:pt x="1720" y="105"/>
                    </a:lnTo>
                    <a:lnTo>
                      <a:pt x="1728" y="103"/>
                    </a:lnTo>
                    <a:lnTo>
                      <a:pt x="1735" y="109"/>
                    </a:lnTo>
                    <a:lnTo>
                      <a:pt x="2255" y="528"/>
                    </a:lnTo>
                    <a:lnTo>
                      <a:pt x="2255" y="511"/>
                    </a:lnTo>
                    <a:lnTo>
                      <a:pt x="1718" y="43"/>
                    </a:lnTo>
                    <a:lnTo>
                      <a:pt x="41" y="298"/>
                    </a:lnTo>
                    <a:close/>
                    <a:moveTo>
                      <a:pt x="2224" y="570"/>
                    </a:moveTo>
                    <a:lnTo>
                      <a:pt x="1738" y="225"/>
                    </a:lnTo>
                    <a:lnTo>
                      <a:pt x="1724" y="1292"/>
                    </a:lnTo>
                    <a:lnTo>
                      <a:pt x="2227" y="1040"/>
                    </a:lnTo>
                    <a:lnTo>
                      <a:pt x="2224" y="5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8dbe"/>
                  </a:gs>
                  <a:gs pos="100000">
                    <a:srgbClr val="004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46"/>
              <p:cNvSpPr/>
              <p:nvPr/>
            </p:nvSpPr>
            <p:spPr>
              <a:xfrm>
                <a:off x="1522080" y="1377720"/>
                <a:ext cx="651960" cy="405000"/>
              </a:xfrm>
              <a:custGeom>
                <a:avLst/>
                <a:gdLst/>
                <a:ahLst/>
                <a:rect l="l" t="t" r="r" b="b"/>
                <a:pathLst>
                  <a:path w="2214" h="1259">
                    <a:moveTo>
                      <a:pt x="2065" y="486"/>
                    </a:moveTo>
                    <a:lnTo>
                      <a:pt x="2065" y="733"/>
                    </a:lnTo>
                    <a:lnTo>
                      <a:pt x="1938" y="691"/>
                    </a:lnTo>
                    <a:lnTo>
                      <a:pt x="1938" y="421"/>
                    </a:lnTo>
                    <a:lnTo>
                      <a:pt x="1958" y="421"/>
                    </a:lnTo>
                    <a:lnTo>
                      <a:pt x="1971" y="405"/>
                    </a:lnTo>
                    <a:lnTo>
                      <a:pt x="2065" y="486"/>
                    </a:lnTo>
                    <a:close/>
                    <a:moveTo>
                      <a:pt x="1202" y="256"/>
                    </a:moveTo>
                    <a:lnTo>
                      <a:pt x="1202" y="633"/>
                    </a:lnTo>
                    <a:lnTo>
                      <a:pt x="1046" y="636"/>
                    </a:lnTo>
                    <a:lnTo>
                      <a:pt x="1046" y="287"/>
                    </a:lnTo>
                    <a:lnTo>
                      <a:pt x="1067" y="287"/>
                    </a:lnTo>
                    <a:lnTo>
                      <a:pt x="1064" y="268"/>
                    </a:lnTo>
                    <a:lnTo>
                      <a:pt x="1202" y="256"/>
                    </a:lnTo>
                    <a:close/>
                    <a:moveTo>
                      <a:pt x="1" y="299"/>
                    </a:moveTo>
                    <a:lnTo>
                      <a:pt x="1687" y="60"/>
                    </a:lnTo>
                    <a:lnTo>
                      <a:pt x="2214" y="485"/>
                    </a:lnTo>
                    <a:lnTo>
                      <a:pt x="2214" y="468"/>
                    </a:lnTo>
                    <a:lnTo>
                      <a:pt x="1677" y="0"/>
                    </a:lnTo>
                    <a:lnTo>
                      <a:pt x="0" y="255"/>
                    </a:lnTo>
                    <a:lnTo>
                      <a:pt x="1" y="299"/>
                    </a:lnTo>
                    <a:close/>
                    <a:moveTo>
                      <a:pt x="1005" y="273"/>
                    </a:moveTo>
                    <a:lnTo>
                      <a:pt x="1005" y="637"/>
                    </a:lnTo>
                    <a:lnTo>
                      <a:pt x="850" y="641"/>
                    </a:lnTo>
                    <a:lnTo>
                      <a:pt x="850" y="305"/>
                    </a:lnTo>
                    <a:lnTo>
                      <a:pt x="870" y="305"/>
                    </a:lnTo>
                    <a:lnTo>
                      <a:pt x="868" y="284"/>
                    </a:lnTo>
                    <a:lnTo>
                      <a:pt x="1005" y="273"/>
                    </a:lnTo>
                    <a:close/>
                    <a:moveTo>
                      <a:pt x="809" y="289"/>
                    </a:moveTo>
                    <a:lnTo>
                      <a:pt x="809" y="642"/>
                    </a:lnTo>
                    <a:lnTo>
                      <a:pt x="653" y="646"/>
                    </a:lnTo>
                    <a:lnTo>
                      <a:pt x="653" y="322"/>
                    </a:lnTo>
                    <a:lnTo>
                      <a:pt x="673" y="322"/>
                    </a:lnTo>
                    <a:lnTo>
                      <a:pt x="671" y="302"/>
                    </a:lnTo>
                    <a:lnTo>
                      <a:pt x="809" y="289"/>
                    </a:lnTo>
                    <a:close/>
                    <a:moveTo>
                      <a:pt x="677" y="707"/>
                    </a:moveTo>
                    <a:lnTo>
                      <a:pt x="1022" y="707"/>
                    </a:lnTo>
                    <a:lnTo>
                      <a:pt x="1022" y="707"/>
                    </a:lnTo>
                    <a:lnTo>
                      <a:pt x="1098" y="707"/>
                    </a:lnTo>
                    <a:lnTo>
                      <a:pt x="1098" y="707"/>
                    </a:lnTo>
                    <a:lnTo>
                      <a:pt x="1175" y="708"/>
                    </a:lnTo>
                    <a:lnTo>
                      <a:pt x="1170" y="1197"/>
                    </a:lnTo>
                    <a:lnTo>
                      <a:pt x="1642" y="1259"/>
                    </a:lnTo>
                    <a:lnTo>
                      <a:pt x="1656" y="166"/>
                    </a:lnTo>
                    <a:lnTo>
                      <a:pt x="45" y="336"/>
                    </a:lnTo>
                    <a:lnTo>
                      <a:pt x="39" y="1048"/>
                    </a:lnTo>
                    <a:lnTo>
                      <a:pt x="677" y="1137"/>
                    </a:lnTo>
                    <a:lnTo>
                      <a:pt x="677" y="707"/>
                    </a:lnTo>
                    <a:close/>
                    <a:moveTo>
                      <a:pt x="1263" y="270"/>
                    </a:moveTo>
                    <a:lnTo>
                      <a:pt x="1261" y="251"/>
                    </a:lnTo>
                    <a:lnTo>
                      <a:pt x="1398" y="238"/>
                    </a:lnTo>
                    <a:lnTo>
                      <a:pt x="1398" y="627"/>
                    </a:lnTo>
                    <a:lnTo>
                      <a:pt x="1243" y="632"/>
                    </a:lnTo>
                    <a:lnTo>
                      <a:pt x="1243" y="270"/>
                    </a:lnTo>
                    <a:lnTo>
                      <a:pt x="1263" y="270"/>
                    </a:lnTo>
                    <a:close/>
                    <a:moveTo>
                      <a:pt x="1439" y="626"/>
                    </a:moveTo>
                    <a:lnTo>
                      <a:pt x="1439" y="254"/>
                    </a:lnTo>
                    <a:lnTo>
                      <a:pt x="1460" y="254"/>
                    </a:lnTo>
                    <a:lnTo>
                      <a:pt x="1458" y="233"/>
                    </a:lnTo>
                    <a:lnTo>
                      <a:pt x="1594" y="221"/>
                    </a:lnTo>
                    <a:lnTo>
                      <a:pt x="1594" y="622"/>
                    </a:lnTo>
                    <a:lnTo>
                      <a:pt x="1439" y="626"/>
                    </a:lnTo>
                    <a:close/>
                    <a:moveTo>
                      <a:pt x="1460" y="736"/>
                    </a:moveTo>
                    <a:lnTo>
                      <a:pt x="1594" y="736"/>
                    </a:lnTo>
                    <a:lnTo>
                      <a:pt x="1594" y="1192"/>
                    </a:lnTo>
                    <a:lnTo>
                      <a:pt x="1439" y="1178"/>
                    </a:lnTo>
                    <a:lnTo>
                      <a:pt x="1439" y="757"/>
                    </a:lnTo>
                    <a:lnTo>
                      <a:pt x="1460" y="757"/>
                    </a:lnTo>
                    <a:lnTo>
                      <a:pt x="1460" y="736"/>
                    </a:lnTo>
                    <a:close/>
                    <a:moveTo>
                      <a:pt x="1263" y="736"/>
                    </a:moveTo>
                    <a:lnTo>
                      <a:pt x="1398" y="736"/>
                    </a:lnTo>
                    <a:lnTo>
                      <a:pt x="1398" y="1173"/>
                    </a:lnTo>
                    <a:lnTo>
                      <a:pt x="1243" y="1158"/>
                    </a:lnTo>
                    <a:lnTo>
                      <a:pt x="1243" y="757"/>
                    </a:lnTo>
                    <a:lnTo>
                      <a:pt x="1263" y="757"/>
                    </a:lnTo>
                    <a:lnTo>
                      <a:pt x="1263" y="736"/>
                    </a:lnTo>
                    <a:close/>
                    <a:moveTo>
                      <a:pt x="477" y="734"/>
                    </a:moveTo>
                    <a:lnTo>
                      <a:pt x="612" y="735"/>
                    </a:lnTo>
                    <a:lnTo>
                      <a:pt x="612" y="1094"/>
                    </a:lnTo>
                    <a:lnTo>
                      <a:pt x="456" y="1073"/>
                    </a:lnTo>
                    <a:lnTo>
                      <a:pt x="456" y="755"/>
                    </a:lnTo>
                    <a:lnTo>
                      <a:pt x="477" y="755"/>
                    </a:lnTo>
                    <a:lnTo>
                      <a:pt x="477" y="734"/>
                    </a:lnTo>
                    <a:close/>
                    <a:moveTo>
                      <a:pt x="612" y="307"/>
                    </a:moveTo>
                    <a:lnTo>
                      <a:pt x="612" y="647"/>
                    </a:lnTo>
                    <a:lnTo>
                      <a:pt x="456" y="651"/>
                    </a:lnTo>
                    <a:lnTo>
                      <a:pt x="456" y="339"/>
                    </a:lnTo>
                    <a:lnTo>
                      <a:pt x="477" y="339"/>
                    </a:lnTo>
                    <a:lnTo>
                      <a:pt x="475" y="319"/>
                    </a:lnTo>
                    <a:lnTo>
                      <a:pt x="612" y="307"/>
                    </a:lnTo>
                    <a:close/>
                    <a:moveTo>
                      <a:pt x="280" y="734"/>
                    </a:moveTo>
                    <a:lnTo>
                      <a:pt x="416" y="734"/>
                    </a:lnTo>
                    <a:lnTo>
                      <a:pt x="416" y="1070"/>
                    </a:lnTo>
                    <a:lnTo>
                      <a:pt x="261" y="1052"/>
                    </a:lnTo>
                    <a:lnTo>
                      <a:pt x="261" y="755"/>
                    </a:lnTo>
                    <a:lnTo>
                      <a:pt x="280" y="755"/>
                    </a:lnTo>
                    <a:lnTo>
                      <a:pt x="280" y="734"/>
                    </a:lnTo>
                    <a:close/>
                    <a:moveTo>
                      <a:pt x="416" y="324"/>
                    </a:moveTo>
                    <a:lnTo>
                      <a:pt x="416" y="652"/>
                    </a:lnTo>
                    <a:lnTo>
                      <a:pt x="261" y="656"/>
                    </a:lnTo>
                    <a:lnTo>
                      <a:pt x="261" y="357"/>
                    </a:lnTo>
                    <a:lnTo>
                      <a:pt x="280" y="357"/>
                    </a:lnTo>
                    <a:lnTo>
                      <a:pt x="279" y="336"/>
                    </a:lnTo>
                    <a:lnTo>
                      <a:pt x="416" y="324"/>
                    </a:lnTo>
                    <a:close/>
                    <a:moveTo>
                      <a:pt x="84" y="734"/>
                    </a:moveTo>
                    <a:lnTo>
                      <a:pt x="219" y="734"/>
                    </a:lnTo>
                    <a:lnTo>
                      <a:pt x="219" y="1049"/>
                    </a:lnTo>
                    <a:lnTo>
                      <a:pt x="64" y="1029"/>
                    </a:lnTo>
                    <a:lnTo>
                      <a:pt x="64" y="755"/>
                    </a:lnTo>
                    <a:lnTo>
                      <a:pt x="84" y="755"/>
                    </a:lnTo>
                    <a:lnTo>
                      <a:pt x="84" y="734"/>
                    </a:lnTo>
                    <a:close/>
                    <a:moveTo>
                      <a:pt x="82" y="354"/>
                    </a:moveTo>
                    <a:lnTo>
                      <a:pt x="219" y="341"/>
                    </a:lnTo>
                    <a:lnTo>
                      <a:pt x="219" y="657"/>
                    </a:lnTo>
                    <a:lnTo>
                      <a:pt x="64" y="660"/>
                    </a:lnTo>
                    <a:lnTo>
                      <a:pt x="64" y="374"/>
                    </a:lnTo>
                    <a:lnTo>
                      <a:pt x="84" y="374"/>
                    </a:lnTo>
                    <a:lnTo>
                      <a:pt x="82" y="354"/>
                    </a:lnTo>
                    <a:close/>
                    <a:moveTo>
                      <a:pt x="1697" y="182"/>
                    </a:moveTo>
                    <a:lnTo>
                      <a:pt x="1683" y="1249"/>
                    </a:lnTo>
                    <a:lnTo>
                      <a:pt x="2186" y="997"/>
                    </a:lnTo>
                    <a:lnTo>
                      <a:pt x="2183" y="527"/>
                    </a:lnTo>
                    <a:lnTo>
                      <a:pt x="1697" y="182"/>
                    </a:lnTo>
                    <a:close/>
                    <a:moveTo>
                      <a:pt x="1950" y="798"/>
                    </a:moveTo>
                    <a:lnTo>
                      <a:pt x="2069" y="804"/>
                    </a:lnTo>
                    <a:lnTo>
                      <a:pt x="2069" y="1030"/>
                    </a:lnTo>
                    <a:lnTo>
                      <a:pt x="1927" y="1080"/>
                    </a:lnTo>
                    <a:lnTo>
                      <a:pt x="1927" y="817"/>
                    </a:lnTo>
                    <a:lnTo>
                      <a:pt x="1948" y="817"/>
                    </a:lnTo>
                    <a:lnTo>
                      <a:pt x="1950" y="798"/>
                    </a:lnTo>
                    <a:close/>
                    <a:moveTo>
                      <a:pt x="1749" y="777"/>
                    </a:moveTo>
                    <a:lnTo>
                      <a:pt x="1808" y="780"/>
                    </a:lnTo>
                    <a:lnTo>
                      <a:pt x="1887" y="785"/>
                    </a:lnTo>
                    <a:lnTo>
                      <a:pt x="1887" y="1111"/>
                    </a:lnTo>
                    <a:lnTo>
                      <a:pt x="1728" y="1167"/>
                    </a:lnTo>
                    <a:lnTo>
                      <a:pt x="1728" y="798"/>
                    </a:lnTo>
                    <a:lnTo>
                      <a:pt x="1748" y="798"/>
                    </a:lnTo>
                    <a:lnTo>
                      <a:pt x="1749" y="777"/>
                    </a:lnTo>
                    <a:close/>
                    <a:moveTo>
                      <a:pt x="1887" y="355"/>
                    </a:moveTo>
                    <a:lnTo>
                      <a:pt x="1887" y="683"/>
                    </a:lnTo>
                    <a:lnTo>
                      <a:pt x="1728" y="642"/>
                    </a:lnTo>
                    <a:lnTo>
                      <a:pt x="1728" y="284"/>
                    </a:lnTo>
                    <a:lnTo>
                      <a:pt x="1748" y="284"/>
                    </a:lnTo>
                    <a:lnTo>
                      <a:pt x="1759" y="268"/>
                    </a:lnTo>
                    <a:lnTo>
                      <a:pt x="1887" y="3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6" name="Прямоугольник 93"/>
            <p:cNvSpPr/>
            <p:nvPr/>
          </p:nvSpPr>
          <p:spPr>
            <a:xfrm>
              <a:off x="1295280" y="1752840"/>
              <a:ext cx="10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Минфи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7" name="Группа 96"/>
          <p:cNvGrpSpPr/>
          <p:nvPr/>
        </p:nvGrpSpPr>
        <p:grpSpPr>
          <a:xfrm>
            <a:off x="173160" y="1052640"/>
            <a:ext cx="1093680" cy="1027800"/>
            <a:chOff x="173160" y="1052640"/>
            <a:chExt cx="1093680" cy="1027800"/>
          </a:xfrm>
        </p:grpSpPr>
        <p:grpSp>
          <p:nvGrpSpPr>
            <p:cNvPr id="688" name="Group 62"/>
            <p:cNvGrpSpPr/>
            <p:nvPr/>
          </p:nvGrpSpPr>
          <p:grpSpPr>
            <a:xfrm>
              <a:off x="357120" y="1052640"/>
              <a:ext cx="690480" cy="729720"/>
              <a:chOff x="357120" y="1052640"/>
              <a:chExt cx="690480" cy="729720"/>
            </a:xfrm>
          </p:grpSpPr>
          <p:sp>
            <p:nvSpPr>
              <p:cNvPr id="689" name="Freeform 34"/>
              <p:cNvSpPr/>
              <p:nvPr/>
            </p:nvSpPr>
            <p:spPr>
              <a:xfrm>
                <a:off x="357120" y="1052640"/>
                <a:ext cx="690480" cy="729720"/>
              </a:xfrm>
              <a:custGeom>
                <a:avLst/>
                <a:gdLst/>
                <a:ahLst/>
                <a:rect l="l" t="t" r="r" b="b"/>
                <a:pathLst>
                  <a:path w="12834" h="16275">
                    <a:moveTo>
                      <a:pt x="7520" y="911"/>
                    </a:moveTo>
                    <a:lnTo>
                      <a:pt x="7003" y="209"/>
                    </a:lnTo>
                    <a:lnTo>
                      <a:pt x="5365" y="209"/>
                    </a:lnTo>
                    <a:lnTo>
                      <a:pt x="4544" y="911"/>
                    </a:lnTo>
                    <a:lnTo>
                      <a:pt x="7520" y="911"/>
                    </a:lnTo>
                    <a:close/>
                    <a:moveTo>
                      <a:pt x="0" y="13245"/>
                    </a:moveTo>
                    <a:lnTo>
                      <a:pt x="0" y="13453"/>
                    </a:lnTo>
                    <a:lnTo>
                      <a:pt x="8341" y="16275"/>
                    </a:lnTo>
                    <a:lnTo>
                      <a:pt x="9492" y="15355"/>
                    </a:lnTo>
                    <a:lnTo>
                      <a:pt x="9491" y="15176"/>
                    </a:lnTo>
                    <a:lnTo>
                      <a:pt x="8872" y="15015"/>
                    </a:lnTo>
                    <a:lnTo>
                      <a:pt x="8866" y="14442"/>
                    </a:lnTo>
                    <a:lnTo>
                      <a:pt x="10777" y="12840"/>
                    </a:lnTo>
                    <a:lnTo>
                      <a:pt x="11715" y="13157"/>
                    </a:lnTo>
                    <a:lnTo>
                      <a:pt x="12834" y="12256"/>
                    </a:lnTo>
                    <a:lnTo>
                      <a:pt x="12833" y="12078"/>
                    </a:lnTo>
                    <a:lnTo>
                      <a:pt x="12833" y="12078"/>
                    </a:lnTo>
                    <a:lnTo>
                      <a:pt x="12833" y="12078"/>
                    </a:lnTo>
                    <a:lnTo>
                      <a:pt x="12833" y="12077"/>
                    </a:lnTo>
                    <a:lnTo>
                      <a:pt x="12832" y="12078"/>
                    </a:lnTo>
                    <a:lnTo>
                      <a:pt x="12105" y="11889"/>
                    </a:lnTo>
                    <a:lnTo>
                      <a:pt x="12098" y="1573"/>
                    </a:lnTo>
                    <a:lnTo>
                      <a:pt x="11994" y="1573"/>
                    </a:lnTo>
                    <a:lnTo>
                      <a:pt x="12099" y="1573"/>
                    </a:lnTo>
                    <a:lnTo>
                      <a:pt x="12098" y="1562"/>
                    </a:lnTo>
                    <a:lnTo>
                      <a:pt x="12096" y="1552"/>
                    </a:lnTo>
                    <a:lnTo>
                      <a:pt x="12093" y="1542"/>
                    </a:lnTo>
                    <a:lnTo>
                      <a:pt x="12090" y="1532"/>
                    </a:lnTo>
                    <a:lnTo>
                      <a:pt x="12085" y="1524"/>
                    </a:lnTo>
                    <a:lnTo>
                      <a:pt x="12080" y="1515"/>
                    </a:lnTo>
                    <a:lnTo>
                      <a:pt x="12074" y="1506"/>
                    </a:lnTo>
                    <a:lnTo>
                      <a:pt x="12068" y="1499"/>
                    </a:lnTo>
                    <a:lnTo>
                      <a:pt x="12060" y="1492"/>
                    </a:lnTo>
                    <a:lnTo>
                      <a:pt x="12053" y="1486"/>
                    </a:lnTo>
                    <a:lnTo>
                      <a:pt x="12044" y="1481"/>
                    </a:lnTo>
                    <a:lnTo>
                      <a:pt x="12034" y="1477"/>
                    </a:lnTo>
                    <a:lnTo>
                      <a:pt x="12025" y="1473"/>
                    </a:lnTo>
                    <a:lnTo>
                      <a:pt x="12015" y="1471"/>
                    </a:lnTo>
                    <a:lnTo>
                      <a:pt x="12005" y="1469"/>
                    </a:lnTo>
                    <a:lnTo>
                      <a:pt x="11994" y="1469"/>
                    </a:lnTo>
                    <a:lnTo>
                      <a:pt x="11989" y="1469"/>
                    </a:lnTo>
                    <a:lnTo>
                      <a:pt x="11982" y="1469"/>
                    </a:lnTo>
                    <a:lnTo>
                      <a:pt x="11024" y="1485"/>
                    </a:lnTo>
                    <a:lnTo>
                      <a:pt x="11024" y="1120"/>
                    </a:lnTo>
                    <a:lnTo>
                      <a:pt x="11396" y="1120"/>
                    </a:lnTo>
                    <a:lnTo>
                      <a:pt x="11078" y="927"/>
                    </a:lnTo>
                    <a:lnTo>
                      <a:pt x="9577" y="15"/>
                    </a:lnTo>
                    <a:lnTo>
                      <a:pt x="9552" y="0"/>
                    </a:lnTo>
                    <a:lnTo>
                      <a:pt x="9523" y="0"/>
                    </a:lnTo>
                    <a:lnTo>
                      <a:pt x="7108" y="0"/>
                    </a:lnTo>
                    <a:lnTo>
                      <a:pt x="7055" y="0"/>
                    </a:lnTo>
                    <a:lnTo>
                      <a:pt x="6849" y="0"/>
                    </a:lnTo>
                    <a:lnTo>
                      <a:pt x="5328" y="0"/>
                    </a:lnTo>
                    <a:lnTo>
                      <a:pt x="5289" y="0"/>
                    </a:lnTo>
                    <a:lnTo>
                      <a:pt x="5259" y="25"/>
                    </a:lnTo>
                    <a:lnTo>
                      <a:pt x="4195" y="937"/>
                    </a:lnTo>
                    <a:lnTo>
                      <a:pt x="3981" y="1120"/>
                    </a:lnTo>
                    <a:lnTo>
                      <a:pt x="4263" y="1120"/>
                    </a:lnTo>
                    <a:lnTo>
                      <a:pt x="4263" y="1504"/>
                    </a:lnTo>
                    <a:lnTo>
                      <a:pt x="2848" y="1496"/>
                    </a:lnTo>
                    <a:lnTo>
                      <a:pt x="2848" y="1496"/>
                    </a:lnTo>
                    <a:lnTo>
                      <a:pt x="2838" y="1496"/>
                    </a:lnTo>
                    <a:lnTo>
                      <a:pt x="2827" y="1498"/>
                    </a:lnTo>
                    <a:lnTo>
                      <a:pt x="2818" y="1500"/>
                    </a:lnTo>
                    <a:lnTo>
                      <a:pt x="2807" y="1504"/>
                    </a:lnTo>
                    <a:lnTo>
                      <a:pt x="2798" y="1508"/>
                    </a:lnTo>
                    <a:lnTo>
                      <a:pt x="2790" y="1514"/>
                    </a:lnTo>
                    <a:lnTo>
                      <a:pt x="2782" y="1520"/>
                    </a:lnTo>
                    <a:lnTo>
                      <a:pt x="2774" y="1527"/>
                    </a:lnTo>
                    <a:lnTo>
                      <a:pt x="2768" y="1534"/>
                    </a:lnTo>
                    <a:lnTo>
                      <a:pt x="2762" y="1542"/>
                    </a:lnTo>
                    <a:lnTo>
                      <a:pt x="2756" y="1550"/>
                    </a:lnTo>
                    <a:lnTo>
                      <a:pt x="2751" y="1559"/>
                    </a:lnTo>
                    <a:lnTo>
                      <a:pt x="2748" y="1570"/>
                    </a:lnTo>
                    <a:lnTo>
                      <a:pt x="2745" y="1579"/>
                    </a:lnTo>
                    <a:lnTo>
                      <a:pt x="2744" y="1590"/>
                    </a:lnTo>
                    <a:lnTo>
                      <a:pt x="2743" y="1600"/>
                    </a:lnTo>
                    <a:lnTo>
                      <a:pt x="2743" y="1601"/>
                    </a:lnTo>
                    <a:lnTo>
                      <a:pt x="2743" y="7891"/>
                    </a:lnTo>
                    <a:lnTo>
                      <a:pt x="695" y="8370"/>
                    </a:lnTo>
                    <a:lnTo>
                      <a:pt x="689" y="8371"/>
                    </a:lnTo>
                    <a:lnTo>
                      <a:pt x="682" y="8373"/>
                    </a:lnTo>
                    <a:lnTo>
                      <a:pt x="681" y="8373"/>
                    </a:lnTo>
                    <a:lnTo>
                      <a:pt x="668" y="8379"/>
                    </a:lnTo>
                    <a:lnTo>
                      <a:pt x="656" y="8385"/>
                    </a:lnTo>
                    <a:lnTo>
                      <a:pt x="645" y="8393"/>
                    </a:lnTo>
                    <a:lnTo>
                      <a:pt x="635" y="8402"/>
                    </a:lnTo>
                    <a:lnTo>
                      <a:pt x="626" y="8412"/>
                    </a:lnTo>
                    <a:lnTo>
                      <a:pt x="619" y="8424"/>
                    </a:lnTo>
                    <a:lnTo>
                      <a:pt x="613" y="8438"/>
                    </a:lnTo>
                    <a:lnTo>
                      <a:pt x="609" y="8452"/>
                    </a:lnTo>
                    <a:lnTo>
                      <a:pt x="608" y="8460"/>
                    </a:lnTo>
                    <a:lnTo>
                      <a:pt x="607" y="8468"/>
                    </a:lnTo>
                    <a:lnTo>
                      <a:pt x="607" y="8476"/>
                    </a:lnTo>
                    <a:lnTo>
                      <a:pt x="607" y="8484"/>
                    </a:lnTo>
                    <a:lnTo>
                      <a:pt x="666" y="12949"/>
                    </a:lnTo>
                    <a:lnTo>
                      <a:pt x="0" y="13245"/>
                    </a:lnTo>
                    <a:close/>
                    <a:moveTo>
                      <a:pt x="3374" y="10126"/>
                    </a:moveTo>
                    <a:lnTo>
                      <a:pt x="3374" y="10336"/>
                    </a:lnTo>
                    <a:lnTo>
                      <a:pt x="4800" y="10818"/>
                    </a:lnTo>
                    <a:lnTo>
                      <a:pt x="4800" y="11282"/>
                    </a:lnTo>
                    <a:lnTo>
                      <a:pt x="4850" y="11293"/>
                    </a:lnTo>
                    <a:lnTo>
                      <a:pt x="4900" y="11305"/>
                    </a:lnTo>
                    <a:lnTo>
                      <a:pt x="4950" y="11317"/>
                    </a:lnTo>
                    <a:lnTo>
                      <a:pt x="5000" y="11328"/>
                    </a:lnTo>
                    <a:lnTo>
                      <a:pt x="5048" y="11341"/>
                    </a:lnTo>
                    <a:lnTo>
                      <a:pt x="5098" y="11352"/>
                    </a:lnTo>
                    <a:lnTo>
                      <a:pt x="5148" y="11364"/>
                    </a:lnTo>
                    <a:lnTo>
                      <a:pt x="5198" y="11376"/>
                    </a:lnTo>
                    <a:lnTo>
                      <a:pt x="5248" y="11387"/>
                    </a:lnTo>
                    <a:lnTo>
                      <a:pt x="5298" y="11400"/>
                    </a:lnTo>
                    <a:lnTo>
                      <a:pt x="5348" y="11411"/>
                    </a:lnTo>
                    <a:lnTo>
                      <a:pt x="5398" y="11423"/>
                    </a:lnTo>
                    <a:lnTo>
                      <a:pt x="5448" y="11434"/>
                    </a:lnTo>
                    <a:lnTo>
                      <a:pt x="5498" y="11446"/>
                    </a:lnTo>
                    <a:lnTo>
                      <a:pt x="5548" y="11459"/>
                    </a:lnTo>
                    <a:lnTo>
                      <a:pt x="5597" y="11470"/>
                    </a:lnTo>
                    <a:lnTo>
                      <a:pt x="5597" y="11088"/>
                    </a:lnTo>
                    <a:lnTo>
                      <a:pt x="6021" y="11232"/>
                    </a:lnTo>
                    <a:lnTo>
                      <a:pt x="6021" y="11569"/>
                    </a:lnTo>
                    <a:lnTo>
                      <a:pt x="6071" y="11581"/>
                    </a:lnTo>
                    <a:lnTo>
                      <a:pt x="6121" y="11593"/>
                    </a:lnTo>
                    <a:lnTo>
                      <a:pt x="6171" y="11604"/>
                    </a:lnTo>
                    <a:lnTo>
                      <a:pt x="6221" y="11616"/>
                    </a:lnTo>
                    <a:lnTo>
                      <a:pt x="6271" y="11628"/>
                    </a:lnTo>
                    <a:lnTo>
                      <a:pt x="6321" y="11640"/>
                    </a:lnTo>
                    <a:lnTo>
                      <a:pt x="6371" y="11652"/>
                    </a:lnTo>
                    <a:lnTo>
                      <a:pt x="6421" y="11663"/>
                    </a:lnTo>
                    <a:lnTo>
                      <a:pt x="6470" y="11675"/>
                    </a:lnTo>
                    <a:lnTo>
                      <a:pt x="6520" y="11687"/>
                    </a:lnTo>
                    <a:lnTo>
                      <a:pt x="6570" y="11699"/>
                    </a:lnTo>
                    <a:lnTo>
                      <a:pt x="6620" y="11711"/>
                    </a:lnTo>
                    <a:lnTo>
                      <a:pt x="6670" y="11723"/>
                    </a:lnTo>
                    <a:lnTo>
                      <a:pt x="6719" y="11734"/>
                    </a:lnTo>
                    <a:lnTo>
                      <a:pt x="6769" y="11746"/>
                    </a:lnTo>
                    <a:lnTo>
                      <a:pt x="6819" y="11759"/>
                    </a:lnTo>
                    <a:lnTo>
                      <a:pt x="6819" y="11501"/>
                    </a:lnTo>
                    <a:lnTo>
                      <a:pt x="7244" y="11645"/>
                    </a:lnTo>
                    <a:lnTo>
                      <a:pt x="7244" y="11857"/>
                    </a:lnTo>
                    <a:lnTo>
                      <a:pt x="7294" y="11870"/>
                    </a:lnTo>
                    <a:lnTo>
                      <a:pt x="7343" y="11881"/>
                    </a:lnTo>
                    <a:lnTo>
                      <a:pt x="7393" y="11893"/>
                    </a:lnTo>
                    <a:lnTo>
                      <a:pt x="7443" y="11904"/>
                    </a:lnTo>
                    <a:lnTo>
                      <a:pt x="7493" y="11916"/>
                    </a:lnTo>
                    <a:lnTo>
                      <a:pt x="7542" y="11928"/>
                    </a:lnTo>
                    <a:lnTo>
                      <a:pt x="7592" y="11940"/>
                    </a:lnTo>
                    <a:lnTo>
                      <a:pt x="7642" y="11952"/>
                    </a:lnTo>
                    <a:lnTo>
                      <a:pt x="7692" y="11963"/>
                    </a:lnTo>
                    <a:lnTo>
                      <a:pt x="7742" y="11975"/>
                    </a:lnTo>
                    <a:lnTo>
                      <a:pt x="7792" y="11988"/>
                    </a:lnTo>
                    <a:lnTo>
                      <a:pt x="7842" y="11999"/>
                    </a:lnTo>
                    <a:lnTo>
                      <a:pt x="7891" y="12011"/>
                    </a:lnTo>
                    <a:lnTo>
                      <a:pt x="7941" y="12022"/>
                    </a:lnTo>
                    <a:lnTo>
                      <a:pt x="7991" y="12034"/>
                    </a:lnTo>
                    <a:lnTo>
                      <a:pt x="8041" y="12047"/>
                    </a:lnTo>
                    <a:lnTo>
                      <a:pt x="8041" y="11914"/>
                    </a:lnTo>
                    <a:lnTo>
                      <a:pt x="8332" y="12013"/>
                    </a:lnTo>
                    <a:lnTo>
                      <a:pt x="8336" y="14874"/>
                    </a:lnTo>
                    <a:lnTo>
                      <a:pt x="8192" y="14837"/>
                    </a:lnTo>
                    <a:lnTo>
                      <a:pt x="8198" y="14500"/>
                    </a:lnTo>
                    <a:lnTo>
                      <a:pt x="8199" y="14491"/>
                    </a:lnTo>
                    <a:lnTo>
                      <a:pt x="8199" y="14482"/>
                    </a:lnTo>
                    <a:lnTo>
                      <a:pt x="8198" y="14473"/>
                    </a:lnTo>
                    <a:lnTo>
                      <a:pt x="8196" y="14464"/>
                    </a:lnTo>
                    <a:lnTo>
                      <a:pt x="8194" y="14455"/>
                    </a:lnTo>
                    <a:lnTo>
                      <a:pt x="8191" y="14447"/>
                    </a:lnTo>
                    <a:lnTo>
                      <a:pt x="8187" y="14439"/>
                    </a:lnTo>
                    <a:lnTo>
                      <a:pt x="8182" y="14432"/>
                    </a:lnTo>
                    <a:lnTo>
                      <a:pt x="8177" y="14425"/>
                    </a:lnTo>
                    <a:lnTo>
                      <a:pt x="8171" y="14418"/>
                    </a:lnTo>
                    <a:lnTo>
                      <a:pt x="8164" y="14412"/>
                    </a:lnTo>
                    <a:lnTo>
                      <a:pt x="8157" y="14405"/>
                    </a:lnTo>
                    <a:lnTo>
                      <a:pt x="8150" y="14400"/>
                    </a:lnTo>
                    <a:lnTo>
                      <a:pt x="8142" y="14396"/>
                    </a:lnTo>
                    <a:lnTo>
                      <a:pt x="8134" y="14392"/>
                    </a:lnTo>
                    <a:lnTo>
                      <a:pt x="8125" y="14389"/>
                    </a:lnTo>
                    <a:lnTo>
                      <a:pt x="8094" y="14489"/>
                    </a:lnTo>
                    <a:lnTo>
                      <a:pt x="8125" y="14389"/>
                    </a:lnTo>
                    <a:lnTo>
                      <a:pt x="7306" y="14142"/>
                    </a:lnTo>
                    <a:lnTo>
                      <a:pt x="7298" y="14139"/>
                    </a:lnTo>
                    <a:lnTo>
                      <a:pt x="7289" y="14138"/>
                    </a:lnTo>
                    <a:lnTo>
                      <a:pt x="7280" y="14137"/>
                    </a:lnTo>
                    <a:lnTo>
                      <a:pt x="7272" y="14136"/>
                    </a:lnTo>
                    <a:lnTo>
                      <a:pt x="7261" y="14137"/>
                    </a:lnTo>
                    <a:lnTo>
                      <a:pt x="7251" y="14138"/>
                    </a:lnTo>
                    <a:lnTo>
                      <a:pt x="7241" y="14141"/>
                    </a:lnTo>
                    <a:lnTo>
                      <a:pt x="7231" y="14144"/>
                    </a:lnTo>
                    <a:lnTo>
                      <a:pt x="7222" y="14149"/>
                    </a:lnTo>
                    <a:lnTo>
                      <a:pt x="7214" y="14154"/>
                    </a:lnTo>
                    <a:lnTo>
                      <a:pt x="7206" y="14160"/>
                    </a:lnTo>
                    <a:lnTo>
                      <a:pt x="7198" y="14166"/>
                    </a:lnTo>
                    <a:lnTo>
                      <a:pt x="7192" y="14175"/>
                    </a:lnTo>
                    <a:lnTo>
                      <a:pt x="7186" y="14183"/>
                    </a:lnTo>
                    <a:lnTo>
                      <a:pt x="7180" y="14191"/>
                    </a:lnTo>
                    <a:lnTo>
                      <a:pt x="7175" y="14200"/>
                    </a:lnTo>
                    <a:lnTo>
                      <a:pt x="7172" y="14209"/>
                    </a:lnTo>
                    <a:lnTo>
                      <a:pt x="7169" y="14219"/>
                    </a:lnTo>
                    <a:lnTo>
                      <a:pt x="7168" y="14229"/>
                    </a:lnTo>
                    <a:lnTo>
                      <a:pt x="7167" y="14241"/>
                    </a:lnTo>
                    <a:lnTo>
                      <a:pt x="7167" y="14568"/>
                    </a:lnTo>
                    <a:lnTo>
                      <a:pt x="7073" y="14543"/>
                    </a:lnTo>
                    <a:lnTo>
                      <a:pt x="7073" y="14162"/>
                    </a:lnTo>
                    <a:lnTo>
                      <a:pt x="7073" y="14154"/>
                    </a:lnTo>
                    <a:lnTo>
                      <a:pt x="7071" y="14145"/>
                    </a:lnTo>
                    <a:lnTo>
                      <a:pt x="7069" y="14137"/>
                    </a:lnTo>
                    <a:lnTo>
                      <a:pt x="7067" y="14129"/>
                    </a:lnTo>
                    <a:lnTo>
                      <a:pt x="7064" y="14121"/>
                    </a:lnTo>
                    <a:lnTo>
                      <a:pt x="7060" y="14113"/>
                    </a:lnTo>
                    <a:lnTo>
                      <a:pt x="7056" y="14105"/>
                    </a:lnTo>
                    <a:lnTo>
                      <a:pt x="7052" y="14098"/>
                    </a:lnTo>
                    <a:lnTo>
                      <a:pt x="7046" y="14092"/>
                    </a:lnTo>
                    <a:lnTo>
                      <a:pt x="7041" y="14086"/>
                    </a:lnTo>
                    <a:lnTo>
                      <a:pt x="7034" y="14080"/>
                    </a:lnTo>
                    <a:lnTo>
                      <a:pt x="7028" y="14075"/>
                    </a:lnTo>
                    <a:lnTo>
                      <a:pt x="7020" y="14071"/>
                    </a:lnTo>
                    <a:lnTo>
                      <a:pt x="7012" y="14067"/>
                    </a:lnTo>
                    <a:lnTo>
                      <a:pt x="7004" y="14063"/>
                    </a:lnTo>
                    <a:lnTo>
                      <a:pt x="6995" y="14061"/>
                    </a:lnTo>
                    <a:lnTo>
                      <a:pt x="6995" y="14061"/>
                    </a:lnTo>
                    <a:lnTo>
                      <a:pt x="6361" y="13888"/>
                    </a:lnTo>
                    <a:lnTo>
                      <a:pt x="6353" y="13885"/>
                    </a:lnTo>
                    <a:lnTo>
                      <a:pt x="6344" y="13883"/>
                    </a:lnTo>
                    <a:lnTo>
                      <a:pt x="6335" y="13882"/>
                    </a:lnTo>
                    <a:lnTo>
                      <a:pt x="6326" y="13881"/>
                    </a:lnTo>
                    <a:lnTo>
                      <a:pt x="6315" y="13882"/>
                    </a:lnTo>
                    <a:lnTo>
                      <a:pt x="6304" y="13883"/>
                    </a:lnTo>
                    <a:lnTo>
                      <a:pt x="6294" y="13886"/>
                    </a:lnTo>
                    <a:lnTo>
                      <a:pt x="6285" y="13889"/>
                    </a:lnTo>
                    <a:lnTo>
                      <a:pt x="6276" y="13893"/>
                    </a:lnTo>
                    <a:lnTo>
                      <a:pt x="6267" y="13898"/>
                    </a:lnTo>
                    <a:lnTo>
                      <a:pt x="6259" y="13904"/>
                    </a:lnTo>
                    <a:lnTo>
                      <a:pt x="6251" y="13911"/>
                    </a:lnTo>
                    <a:lnTo>
                      <a:pt x="6244" y="13918"/>
                    </a:lnTo>
                    <a:lnTo>
                      <a:pt x="6238" y="13926"/>
                    </a:lnTo>
                    <a:lnTo>
                      <a:pt x="6233" y="13934"/>
                    </a:lnTo>
                    <a:lnTo>
                      <a:pt x="6229" y="13944"/>
                    </a:lnTo>
                    <a:lnTo>
                      <a:pt x="6225" y="13954"/>
                    </a:lnTo>
                    <a:lnTo>
                      <a:pt x="6223" y="13963"/>
                    </a:lnTo>
                    <a:lnTo>
                      <a:pt x="6221" y="13974"/>
                    </a:lnTo>
                    <a:lnTo>
                      <a:pt x="6220" y="13984"/>
                    </a:lnTo>
                    <a:lnTo>
                      <a:pt x="6221" y="13984"/>
                    </a:lnTo>
                    <a:lnTo>
                      <a:pt x="6218" y="14319"/>
                    </a:lnTo>
                    <a:lnTo>
                      <a:pt x="6105" y="14289"/>
                    </a:lnTo>
                    <a:lnTo>
                      <a:pt x="6105" y="13893"/>
                    </a:lnTo>
                    <a:lnTo>
                      <a:pt x="6104" y="13885"/>
                    </a:lnTo>
                    <a:lnTo>
                      <a:pt x="6104" y="13876"/>
                    </a:lnTo>
                    <a:lnTo>
                      <a:pt x="6102" y="13868"/>
                    </a:lnTo>
                    <a:lnTo>
                      <a:pt x="6100" y="13860"/>
                    </a:lnTo>
                    <a:lnTo>
                      <a:pt x="6097" y="13852"/>
                    </a:lnTo>
                    <a:lnTo>
                      <a:pt x="6093" y="13844"/>
                    </a:lnTo>
                    <a:lnTo>
                      <a:pt x="6088" y="13837"/>
                    </a:lnTo>
                    <a:lnTo>
                      <a:pt x="6084" y="13830"/>
                    </a:lnTo>
                    <a:lnTo>
                      <a:pt x="6079" y="13824"/>
                    </a:lnTo>
                    <a:lnTo>
                      <a:pt x="6073" y="13817"/>
                    </a:lnTo>
                    <a:lnTo>
                      <a:pt x="6067" y="13811"/>
                    </a:lnTo>
                    <a:lnTo>
                      <a:pt x="6060" y="13806"/>
                    </a:lnTo>
                    <a:lnTo>
                      <a:pt x="6053" y="13802"/>
                    </a:lnTo>
                    <a:lnTo>
                      <a:pt x="6046" y="13798"/>
                    </a:lnTo>
                    <a:lnTo>
                      <a:pt x="6038" y="13794"/>
                    </a:lnTo>
                    <a:lnTo>
                      <a:pt x="6028" y="13791"/>
                    </a:lnTo>
                    <a:lnTo>
                      <a:pt x="6028" y="13791"/>
                    </a:lnTo>
                    <a:lnTo>
                      <a:pt x="5294" y="13583"/>
                    </a:lnTo>
                    <a:lnTo>
                      <a:pt x="5286" y="13579"/>
                    </a:lnTo>
                    <a:lnTo>
                      <a:pt x="5278" y="13578"/>
                    </a:lnTo>
                    <a:lnTo>
                      <a:pt x="5268" y="13577"/>
                    </a:lnTo>
                    <a:lnTo>
                      <a:pt x="5260" y="13576"/>
                    </a:lnTo>
                    <a:lnTo>
                      <a:pt x="5250" y="13577"/>
                    </a:lnTo>
                    <a:lnTo>
                      <a:pt x="5239" y="13578"/>
                    </a:lnTo>
                    <a:lnTo>
                      <a:pt x="5229" y="13581"/>
                    </a:lnTo>
                    <a:lnTo>
                      <a:pt x="5220" y="13585"/>
                    </a:lnTo>
                    <a:lnTo>
                      <a:pt x="5210" y="13590"/>
                    </a:lnTo>
                    <a:lnTo>
                      <a:pt x="5202" y="13595"/>
                    </a:lnTo>
                    <a:lnTo>
                      <a:pt x="5194" y="13601"/>
                    </a:lnTo>
                    <a:lnTo>
                      <a:pt x="5186" y="13607"/>
                    </a:lnTo>
                    <a:lnTo>
                      <a:pt x="5180" y="13615"/>
                    </a:lnTo>
                    <a:lnTo>
                      <a:pt x="5174" y="13623"/>
                    </a:lnTo>
                    <a:lnTo>
                      <a:pt x="5169" y="13631"/>
                    </a:lnTo>
                    <a:lnTo>
                      <a:pt x="5164" y="13640"/>
                    </a:lnTo>
                    <a:lnTo>
                      <a:pt x="5160" y="13650"/>
                    </a:lnTo>
                    <a:lnTo>
                      <a:pt x="5157" y="13660"/>
                    </a:lnTo>
                    <a:lnTo>
                      <a:pt x="5156" y="13671"/>
                    </a:lnTo>
                    <a:lnTo>
                      <a:pt x="5155" y="13681"/>
                    </a:lnTo>
                    <a:lnTo>
                      <a:pt x="5155" y="14040"/>
                    </a:lnTo>
                    <a:lnTo>
                      <a:pt x="5054" y="14014"/>
                    </a:lnTo>
                    <a:lnTo>
                      <a:pt x="5054" y="13588"/>
                    </a:lnTo>
                    <a:lnTo>
                      <a:pt x="5054" y="13578"/>
                    </a:lnTo>
                    <a:lnTo>
                      <a:pt x="5053" y="13570"/>
                    </a:lnTo>
                    <a:lnTo>
                      <a:pt x="5051" y="13562"/>
                    </a:lnTo>
                    <a:lnTo>
                      <a:pt x="5049" y="13554"/>
                    </a:lnTo>
                    <a:lnTo>
                      <a:pt x="5046" y="13546"/>
                    </a:lnTo>
                    <a:lnTo>
                      <a:pt x="5043" y="13539"/>
                    </a:lnTo>
                    <a:lnTo>
                      <a:pt x="5039" y="13531"/>
                    </a:lnTo>
                    <a:lnTo>
                      <a:pt x="5034" y="13525"/>
                    </a:lnTo>
                    <a:lnTo>
                      <a:pt x="5029" y="13517"/>
                    </a:lnTo>
                    <a:lnTo>
                      <a:pt x="5024" y="13511"/>
                    </a:lnTo>
                    <a:lnTo>
                      <a:pt x="5018" y="13505"/>
                    </a:lnTo>
                    <a:lnTo>
                      <a:pt x="5011" y="13500"/>
                    </a:lnTo>
                    <a:lnTo>
                      <a:pt x="5004" y="13495"/>
                    </a:lnTo>
                    <a:lnTo>
                      <a:pt x="4996" y="13491"/>
                    </a:lnTo>
                    <a:lnTo>
                      <a:pt x="4988" y="13488"/>
                    </a:lnTo>
                    <a:lnTo>
                      <a:pt x="4980" y="13485"/>
                    </a:lnTo>
                    <a:lnTo>
                      <a:pt x="4980" y="13485"/>
                    </a:lnTo>
                    <a:lnTo>
                      <a:pt x="4290" y="13273"/>
                    </a:lnTo>
                    <a:lnTo>
                      <a:pt x="4280" y="13270"/>
                    </a:lnTo>
                    <a:lnTo>
                      <a:pt x="4271" y="13268"/>
                    </a:lnTo>
                    <a:lnTo>
                      <a:pt x="4261" y="13267"/>
                    </a:lnTo>
                    <a:lnTo>
                      <a:pt x="4251" y="13266"/>
                    </a:lnTo>
                    <a:lnTo>
                      <a:pt x="4241" y="13267"/>
                    </a:lnTo>
                    <a:lnTo>
                      <a:pt x="4229" y="13268"/>
                    </a:lnTo>
                    <a:lnTo>
                      <a:pt x="4220" y="13271"/>
                    </a:lnTo>
                    <a:lnTo>
                      <a:pt x="4210" y="13274"/>
                    </a:lnTo>
                    <a:lnTo>
                      <a:pt x="4201" y="13279"/>
                    </a:lnTo>
                    <a:lnTo>
                      <a:pt x="4193" y="13284"/>
                    </a:lnTo>
                    <a:lnTo>
                      <a:pt x="4185" y="13291"/>
                    </a:lnTo>
                    <a:lnTo>
                      <a:pt x="4177" y="13297"/>
                    </a:lnTo>
                    <a:lnTo>
                      <a:pt x="4170" y="13305"/>
                    </a:lnTo>
                    <a:lnTo>
                      <a:pt x="4164" y="13313"/>
                    </a:lnTo>
                    <a:lnTo>
                      <a:pt x="4159" y="13321"/>
                    </a:lnTo>
                    <a:lnTo>
                      <a:pt x="4155" y="13330"/>
                    </a:lnTo>
                    <a:lnTo>
                      <a:pt x="4151" y="13339"/>
                    </a:lnTo>
                    <a:lnTo>
                      <a:pt x="4149" y="13350"/>
                    </a:lnTo>
                    <a:lnTo>
                      <a:pt x="4147" y="13360"/>
                    </a:lnTo>
                    <a:lnTo>
                      <a:pt x="4147" y="13371"/>
                    </a:lnTo>
                    <a:lnTo>
                      <a:pt x="4147" y="13776"/>
                    </a:lnTo>
                    <a:lnTo>
                      <a:pt x="4038" y="13747"/>
                    </a:lnTo>
                    <a:lnTo>
                      <a:pt x="4038" y="13291"/>
                    </a:lnTo>
                    <a:lnTo>
                      <a:pt x="4037" y="13282"/>
                    </a:lnTo>
                    <a:lnTo>
                      <a:pt x="4037" y="13273"/>
                    </a:lnTo>
                    <a:lnTo>
                      <a:pt x="4035" y="13265"/>
                    </a:lnTo>
                    <a:lnTo>
                      <a:pt x="4033" y="13257"/>
                    </a:lnTo>
                    <a:lnTo>
                      <a:pt x="4030" y="13249"/>
                    </a:lnTo>
                    <a:lnTo>
                      <a:pt x="4027" y="13242"/>
                    </a:lnTo>
                    <a:lnTo>
                      <a:pt x="4023" y="13235"/>
                    </a:lnTo>
                    <a:lnTo>
                      <a:pt x="4019" y="13228"/>
                    </a:lnTo>
                    <a:lnTo>
                      <a:pt x="4013" y="13220"/>
                    </a:lnTo>
                    <a:lnTo>
                      <a:pt x="4007" y="13214"/>
                    </a:lnTo>
                    <a:lnTo>
                      <a:pt x="4001" y="13209"/>
                    </a:lnTo>
                    <a:lnTo>
                      <a:pt x="3994" y="13203"/>
                    </a:lnTo>
                    <a:lnTo>
                      <a:pt x="3987" y="13199"/>
                    </a:lnTo>
                    <a:lnTo>
                      <a:pt x="3980" y="13195"/>
                    </a:lnTo>
                    <a:lnTo>
                      <a:pt x="3972" y="13191"/>
                    </a:lnTo>
                    <a:lnTo>
                      <a:pt x="3964" y="13188"/>
                    </a:lnTo>
                    <a:lnTo>
                      <a:pt x="3933" y="13288"/>
                    </a:lnTo>
                    <a:lnTo>
                      <a:pt x="3964" y="13189"/>
                    </a:lnTo>
                    <a:lnTo>
                      <a:pt x="3170" y="12947"/>
                    </a:lnTo>
                    <a:lnTo>
                      <a:pt x="3161" y="12943"/>
                    </a:lnTo>
                    <a:lnTo>
                      <a:pt x="3152" y="12941"/>
                    </a:lnTo>
                    <a:lnTo>
                      <a:pt x="3142" y="12940"/>
                    </a:lnTo>
                    <a:lnTo>
                      <a:pt x="3131" y="12939"/>
                    </a:lnTo>
                    <a:lnTo>
                      <a:pt x="3120" y="12940"/>
                    </a:lnTo>
                    <a:lnTo>
                      <a:pt x="3110" y="12941"/>
                    </a:lnTo>
                    <a:lnTo>
                      <a:pt x="3100" y="12944"/>
                    </a:lnTo>
                    <a:lnTo>
                      <a:pt x="3091" y="12947"/>
                    </a:lnTo>
                    <a:lnTo>
                      <a:pt x="3081" y="12951"/>
                    </a:lnTo>
                    <a:lnTo>
                      <a:pt x="3072" y="12957"/>
                    </a:lnTo>
                    <a:lnTo>
                      <a:pt x="3064" y="12962"/>
                    </a:lnTo>
                    <a:lnTo>
                      <a:pt x="3057" y="12969"/>
                    </a:lnTo>
                    <a:lnTo>
                      <a:pt x="3051" y="12976"/>
                    </a:lnTo>
                    <a:lnTo>
                      <a:pt x="3045" y="12984"/>
                    </a:lnTo>
                    <a:lnTo>
                      <a:pt x="3040" y="12994"/>
                    </a:lnTo>
                    <a:lnTo>
                      <a:pt x="3035" y="13003"/>
                    </a:lnTo>
                    <a:lnTo>
                      <a:pt x="3032" y="13012"/>
                    </a:lnTo>
                    <a:lnTo>
                      <a:pt x="3028" y="13022"/>
                    </a:lnTo>
                    <a:lnTo>
                      <a:pt x="3027" y="13032"/>
                    </a:lnTo>
                    <a:lnTo>
                      <a:pt x="3026" y="13043"/>
                    </a:lnTo>
                    <a:lnTo>
                      <a:pt x="3026" y="13483"/>
                    </a:lnTo>
                    <a:lnTo>
                      <a:pt x="1860" y="13177"/>
                    </a:lnTo>
                    <a:lnTo>
                      <a:pt x="1860" y="12638"/>
                    </a:lnTo>
                    <a:lnTo>
                      <a:pt x="1860" y="12628"/>
                    </a:lnTo>
                    <a:lnTo>
                      <a:pt x="1859" y="12620"/>
                    </a:lnTo>
                    <a:lnTo>
                      <a:pt x="1857" y="12611"/>
                    </a:lnTo>
                    <a:lnTo>
                      <a:pt x="1855" y="12603"/>
                    </a:lnTo>
                    <a:lnTo>
                      <a:pt x="1852" y="12595"/>
                    </a:lnTo>
                    <a:lnTo>
                      <a:pt x="1848" y="12588"/>
                    </a:lnTo>
                    <a:lnTo>
                      <a:pt x="1844" y="12580"/>
                    </a:lnTo>
                    <a:lnTo>
                      <a:pt x="1839" y="12573"/>
                    </a:lnTo>
                    <a:lnTo>
                      <a:pt x="1834" y="12566"/>
                    </a:lnTo>
                    <a:lnTo>
                      <a:pt x="1827" y="12560"/>
                    </a:lnTo>
                    <a:lnTo>
                      <a:pt x="1821" y="12554"/>
                    </a:lnTo>
                    <a:lnTo>
                      <a:pt x="1814" y="12549"/>
                    </a:lnTo>
                    <a:lnTo>
                      <a:pt x="1807" y="12545"/>
                    </a:lnTo>
                    <a:lnTo>
                      <a:pt x="1799" y="12541"/>
                    </a:lnTo>
                    <a:lnTo>
                      <a:pt x="1791" y="12537"/>
                    </a:lnTo>
                    <a:lnTo>
                      <a:pt x="1782" y="12535"/>
                    </a:lnTo>
                    <a:lnTo>
                      <a:pt x="1782" y="12535"/>
                    </a:lnTo>
                    <a:lnTo>
                      <a:pt x="1118" y="12361"/>
                    </a:lnTo>
                    <a:lnTo>
                      <a:pt x="1110" y="12358"/>
                    </a:lnTo>
                    <a:lnTo>
                      <a:pt x="1102" y="12357"/>
                    </a:lnTo>
                    <a:lnTo>
                      <a:pt x="1094" y="12356"/>
                    </a:lnTo>
                    <a:lnTo>
                      <a:pt x="1085" y="12355"/>
                    </a:lnTo>
                    <a:lnTo>
                      <a:pt x="1074" y="12356"/>
                    </a:lnTo>
                    <a:lnTo>
                      <a:pt x="1063" y="12357"/>
                    </a:lnTo>
                    <a:lnTo>
                      <a:pt x="1053" y="12360"/>
                    </a:lnTo>
                    <a:lnTo>
                      <a:pt x="1044" y="12363"/>
                    </a:lnTo>
                    <a:lnTo>
                      <a:pt x="1035" y="12368"/>
                    </a:lnTo>
                    <a:lnTo>
                      <a:pt x="1027" y="12373"/>
                    </a:lnTo>
                    <a:lnTo>
                      <a:pt x="1019" y="12379"/>
                    </a:lnTo>
                    <a:lnTo>
                      <a:pt x="1011" y="12385"/>
                    </a:lnTo>
                    <a:lnTo>
                      <a:pt x="1004" y="12393"/>
                    </a:lnTo>
                    <a:lnTo>
                      <a:pt x="998" y="12402"/>
                    </a:lnTo>
                    <a:lnTo>
                      <a:pt x="993" y="12410"/>
                    </a:lnTo>
                    <a:lnTo>
                      <a:pt x="988" y="12419"/>
                    </a:lnTo>
                    <a:lnTo>
                      <a:pt x="985" y="12428"/>
                    </a:lnTo>
                    <a:lnTo>
                      <a:pt x="982" y="12438"/>
                    </a:lnTo>
                    <a:lnTo>
                      <a:pt x="981" y="12448"/>
                    </a:lnTo>
                    <a:lnTo>
                      <a:pt x="980" y="12460"/>
                    </a:lnTo>
                    <a:lnTo>
                      <a:pt x="980" y="12946"/>
                    </a:lnTo>
                    <a:lnTo>
                      <a:pt x="874" y="12918"/>
                    </a:lnTo>
                    <a:lnTo>
                      <a:pt x="817" y="8602"/>
                    </a:lnTo>
                    <a:lnTo>
                      <a:pt x="2820" y="9030"/>
                    </a:lnTo>
                    <a:lnTo>
                      <a:pt x="2833" y="9033"/>
                    </a:lnTo>
                    <a:lnTo>
                      <a:pt x="2848" y="9034"/>
                    </a:lnTo>
                    <a:lnTo>
                      <a:pt x="2858" y="9033"/>
                    </a:lnTo>
                    <a:lnTo>
                      <a:pt x="2869" y="9031"/>
                    </a:lnTo>
                    <a:lnTo>
                      <a:pt x="2879" y="9029"/>
                    </a:lnTo>
                    <a:lnTo>
                      <a:pt x="2889" y="9024"/>
                    </a:lnTo>
                    <a:lnTo>
                      <a:pt x="2897" y="9020"/>
                    </a:lnTo>
                    <a:lnTo>
                      <a:pt x="2906" y="9015"/>
                    </a:lnTo>
                    <a:lnTo>
                      <a:pt x="2914" y="9009"/>
                    </a:lnTo>
                    <a:lnTo>
                      <a:pt x="2921" y="9002"/>
                    </a:lnTo>
                    <a:lnTo>
                      <a:pt x="2929" y="8995"/>
                    </a:lnTo>
                    <a:lnTo>
                      <a:pt x="2935" y="8987"/>
                    </a:lnTo>
                    <a:lnTo>
                      <a:pt x="2940" y="8979"/>
                    </a:lnTo>
                    <a:lnTo>
                      <a:pt x="2944" y="8970"/>
                    </a:lnTo>
                    <a:lnTo>
                      <a:pt x="2948" y="8959"/>
                    </a:lnTo>
                    <a:lnTo>
                      <a:pt x="2950" y="8950"/>
                    </a:lnTo>
                    <a:lnTo>
                      <a:pt x="2952" y="8939"/>
                    </a:lnTo>
                    <a:lnTo>
                      <a:pt x="2952" y="8929"/>
                    </a:lnTo>
                    <a:lnTo>
                      <a:pt x="2952" y="1705"/>
                    </a:lnTo>
                    <a:lnTo>
                      <a:pt x="8319" y="1735"/>
                    </a:lnTo>
                    <a:lnTo>
                      <a:pt x="8331" y="10907"/>
                    </a:lnTo>
                    <a:lnTo>
                      <a:pt x="8041" y="10832"/>
                    </a:lnTo>
                    <a:lnTo>
                      <a:pt x="8041" y="10489"/>
                    </a:lnTo>
                    <a:lnTo>
                      <a:pt x="7991" y="10479"/>
                    </a:lnTo>
                    <a:lnTo>
                      <a:pt x="7941" y="10469"/>
                    </a:lnTo>
                    <a:lnTo>
                      <a:pt x="7891" y="10459"/>
                    </a:lnTo>
                    <a:lnTo>
                      <a:pt x="7842" y="10450"/>
                    </a:lnTo>
                    <a:lnTo>
                      <a:pt x="7792" y="10439"/>
                    </a:lnTo>
                    <a:lnTo>
                      <a:pt x="7742" y="10429"/>
                    </a:lnTo>
                    <a:lnTo>
                      <a:pt x="7692" y="10420"/>
                    </a:lnTo>
                    <a:lnTo>
                      <a:pt x="7642" y="10410"/>
                    </a:lnTo>
                    <a:lnTo>
                      <a:pt x="7592" y="10400"/>
                    </a:lnTo>
                    <a:lnTo>
                      <a:pt x="7542" y="10391"/>
                    </a:lnTo>
                    <a:lnTo>
                      <a:pt x="7493" y="10380"/>
                    </a:lnTo>
                    <a:lnTo>
                      <a:pt x="7443" y="10371"/>
                    </a:lnTo>
                    <a:lnTo>
                      <a:pt x="7393" y="10361"/>
                    </a:lnTo>
                    <a:lnTo>
                      <a:pt x="7343" y="10351"/>
                    </a:lnTo>
                    <a:lnTo>
                      <a:pt x="7294" y="10342"/>
                    </a:lnTo>
                    <a:lnTo>
                      <a:pt x="7244" y="10332"/>
                    </a:lnTo>
                    <a:lnTo>
                      <a:pt x="7244" y="10625"/>
                    </a:lnTo>
                    <a:lnTo>
                      <a:pt x="6819" y="10514"/>
                    </a:lnTo>
                    <a:lnTo>
                      <a:pt x="6819" y="10247"/>
                    </a:lnTo>
                    <a:lnTo>
                      <a:pt x="6769" y="10237"/>
                    </a:lnTo>
                    <a:lnTo>
                      <a:pt x="6719" y="10228"/>
                    </a:lnTo>
                    <a:lnTo>
                      <a:pt x="6670" y="10218"/>
                    </a:lnTo>
                    <a:lnTo>
                      <a:pt x="6620" y="10207"/>
                    </a:lnTo>
                    <a:lnTo>
                      <a:pt x="6570" y="10197"/>
                    </a:lnTo>
                    <a:lnTo>
                      <a:pt x="6520" y="10188"/>
                    </a:lnTo>
                    <a:lnTo>
                      <a:pt x="6470" y="10178"/>
                    </a:lnTo>
                    <a:lnTo>
                      <a:pt x="6421" y="10168"/>
                    </a:lnTo>
                    <a:lnTo>
                      <a:pt x="6371" y="10159"/>
                    </a:lnTo>
                    <a:lnTo>
                      <a:pt x="6321" y="10148"/>
                    </a:lnTo>
                    <a:lnTo>
                      <a:pt x="6271" y="10138"/>
                    </a:lnTo>
                    <a:lnTo>
                      <a:pt x="6221" y="10129"/>
                    </a:lnTo>
                    <a:lnTo>
                      <a:pt x="6171" y="10119"/>
                    </a:lnTo>
                    <a:lnTo>
                      <a:pt x="6121" y="10109"/>
                    </a:lnTo>
                    <a:lnTo>
                      <a:pt x="6071" y="10099"/>
                    </a:lnTo>
                    <a:lnTo>
                      <a:pt x="6021" y="10089"/>
                    </a:lnTo>
                    <a:lnTo>
                      <a:pt x="6021" y="10306"/>
                    </a:lnTo>
                    <a:lnTo>
                      <a:pt x="5597" y="10196"/>
                    </a:lnTo>
                    <a:lnTo>
                      <a:pt x="5597" y="10006"/>
                    </a:lnTo>
                    <a:lnTo>
                      <a:pt x="5548" y="9996"/>
                    </a:lnTo>
                    <a:lnTo>
                      <a:pt x="5498" y="9986"/>
                    </a:lnTo>
                    <a:lnTo>
                      <a:pt x="5448" y="9976"/>
                    </a:lnTo>
                    <a:lnTo>
                      <a:pt x="5398" y="9966"/>
                    </a:lnTo>
                    <a:lnTo>
                      <a:pt x="5348" y="9956"/>
                    </a:lnTo>
                    <a:lnTo>
                      <a:pt x="5298" y="9946"/>
                    </a:lnTo>
                    <a:lnTo>
                      <a:pt x="5248" y="9937"/>
                    </a:lnTo>
                    <a:lnTo>
                      <a:pt x="5198" y="9927"/>
                    </a:lnTo>
                    <a:lnTo>
                      <a:pt x="5148" y="9917"/>
                    </a:lnTo>
                    <a:lnTo>
                      <a:pt x="5098" y="9906"/>
                    </a:lnTo>
                    <a:lnTo>
                      <a:pt x="5048" y="9897"/>
                    </a:lnTo>
                    <a:lnTo>
                      <a:pt x="5000" y="9887"/>
                    </a:lnTo>
                    <a:lnTo>
                      <a:pt x="4950" y="9877"/>
                    </a:lnTo>
                    <a:lnTo>
                      <a:pt x="4900" y="9868"/>
                    </a:lnTo>
                    <a:lnTo>
                      <a:pt x="4850" y="9858"/>
                    </a:lnTo>
                    <a:lnTo>
                      <a:pt x="4800" y="9847"/>
                    </a:lnTo>
                    <a:lnTo>
                      <a:pt x="4800" y="9989"/>
                    </a:lnTo>
                    <a:lnTo>
                      <a:pt x="4375" y="9878"/>
                    </a:lnTo>
                    <a:lnTo>
                      <a:pt x="4375" y="9764"/>
                    </a:lnTo>
                    <a:lnTo>
                      <a:pt x="4325" y="9754"/>
                    </a:lnTo>
                    <a:lnTo>
                      <a:pt x="4275" y="9744"/>
                    </a:lnTo>
                    <a:lnTo>
                      <a:pt x="4225" y="9734"/>
                    </a:lnTo>
                    <a:lnTo>
                      <a:pt x="4175" y="9724"/>
                    </a:lnTo>
                    <a:lnTo>
                      <a:pt x="4127" y="9714"/>
                    </a:lnTo>
                    <a:lnTo>
                      <a:pt x="4077" y="9704"/>
                    </a:lnTo>
                    <a:lnTo>
                      <a:pt x="4027" y="9695"/>
                    </a:lnTo>
                    <a:lnTo>
                      <a:pt x="3977" y="9685"/>
                    </a:lnTo>
                    <a:lnTo>
                      <a:pt x="3927" y="9674"/>
                    </a:lnTo>
                    <a:lnTo>
                      <a:pt x="3877" y="9664"/>
                    </a:lnTo>
                    <a:lnTo>
                      <a:pt x="3827" y="9655"/>
                    </a:lnTo>
                    <a:lnTo>
                      <a:pt x="3777" y="9645"/>
                    </a:lnTo>
                    <a:lnTo>
                      <a:pt x="3727" y="9635"/>
                    </a:lnTo>
                    <a:lnTo>
                      <a:pt x="3677" y="9626"/>
                    </a:lnTo>
                    <a:lnTo>
                      <a:pt x="3627" y="9615"/>
                    </a:lnTo>
                    <a:lnTo>
                      <a:pt x="3578" y="9605"/>
                    </a:lnTo>
                    <a:lnTo>
                      <a:pt x="3578" y="9665"/>
                    </a:lnTo>
                    <a:lnTo>
                      <a:pt x="3578" y="9725"/>
                    </a:lnTo>
                    <a:lnTo>
                      <a:pt x="3578" y="9785"/>
                    </a:lnTo>
                    <a:lnTo>
                      <a:pt x="3578" y="9845"/>
                    </a:lnTo>
                    <a:lnTo>
                      <a:pt x="3578" y="9905"/>
                    </a:lnTo>
                    <a:lnTo>
                      <a:pt x="3578" y="9965"/>
                    </a:lnTo>
                    <a:lnTo>
                      <a:pt x="3578" y="10025"/>
                    </a:lnTo>
                    <a:lnTo>
                      <a:pt x="3578" y="10085"/>
                    </a:lnTo>
                    <a:lnTo>
                      <a:pt x="3720" y="10116"/>
                    </a:lnTo>
                    <a:lnTo>
                      <a:pt x="3556" y="10188"/>
                    </a:lnTo>
                    <a:lnTo>
                      <a:pt x="3374" y="10126"/>
                    </a:lnTo>
                    <a:close/>
                    <a:moveTo>
                      <a:pt x="8548" y="12086"/>
                    </a:moveTo>
                    <a:lnTo>
                      <a:pt x="9162" y="12294"/>
                    </a:lnTo>
                    <a:lnTo>
                      <a:pt x="8933" y="12475"/>
                    </a:lnTo>
                    <a:lnTo>
                      <a:pt x="8933" y="12541"/>
                    </a:lnTo>
                    <a:lnTo>
                      <a:pt x="8933" y="12607"/>
                    </a:lnTo>
                    <a:lnTo>
                      <a:pt x="8933" y="12673"/>
                    </a:lnTo>
                    <a:lnTo>
                      <a:pt x="8933" y="12739"/>
                    </a:lnTo>
                    <a:lnTo>
                      <a:pt x="8933" y="12805"/>
                    </a:lnTo>
                    <a:lnTo>
                      <a:pt x="8933" y="12871"/>
                    </a:lnTo>
                    <a:lnTo>
                      <a:pt x="8933" y="12938"/>
                    </a:lnTo>
                    <a:lnTo>
                      <a:pt x="8933" y="13005"/>
                    </a:lnTo>
                    <a:lnTo>
                      <a:pt x="9016" y="12937"/>
                    </a:lnTo>
                    <a:lnTo>
                      <a:pt x="9099" y="12868"/>
                    </a:lnTo>
                    <a:lnTo>
                      <a:pt x="9182" y="12801"/>
                    </a:lnTo>
                    <a:lnTo>
                      <a:pt x="9266" y="12733"/>
                    </a:lnTo>
                    <a:lnTo>
                      <a:pt x="9348" y="12666"/>
                    </a:lnTo>
                    <a:lnTo>
                      <a:pt x="9432" y="12598"/>
                    </a:lnTo>
                    <a:lnTo>
                      <a:pt x="9515" y="12531"/>
                    </a:lnTo>
                    <a:lnTo>
                      <a:pt x="9599" y="12464"/>
                    </a:lnTo>
                    <a:lnTo>
                      <a:pt x="9599" y="12441"/>
                    </a:lnTo>
                    <a:lnTo>
                      <a:pt x="9948" y="12560"/>
                    </a:lnTo>
                    <a:lnTo>
                      <a:pt x="9948" y="12617"/>
                    </a:lnTo>
                    <a:lnTo>
                      <a:pt x="9948" y="12674"/>
                    </a:lnTo>
                    <a:lnTo>
                      <a:pt x="9948" y="12731"/>
                    </a:lnTo>
                    <a:lnTo>
                      <a:pt x="9948" y="12788"/>
                    </a:lnTo>
                    <a:lnTo>
                      <a:pt x="9948" y="12845"/>
                    </a:lnTo>
                    <a:lnTo>
                      <a:pt x="9948" y="12901"/>
                    </a:lnTo>
                    <a:lnTo>
                      <a:pt x="9949" y="12958"/>
                    </a:lnTo>
                    <a:lnTo>
                      <a:pt x="9949" y="13014"/>
                    </a:lnTo>
                    <a:lnTo>
                      <a:pt x="9995" y="12973"/>
                    </a:lnTo>
                    <a:lnTo>
                      <a:pt x="10042" y="12932"/>
                    </a:lnTo>
                    <a:lnTo>
                      <a:pt x="10089" y="12891"/>
                    </a:lnTo>
                    <a:lnTo>
                      <a:pt x="10135" y="12850"/>
                    </a:lnTo>
                    <a:lnTo>
                      <a:pt x="10181" y="12808"/>
                    </a:lnTo>
                    <a:lnTo>
                      <a:pt x="10228" y="12768"/>
                    </a:lnTo>
                    <a:lnTo>
                      <a:pt x="10274" y="12727"/>
                    </a:lnTo>
                    <a:lnTo>
                      <a:pt x="10321" y="12686"/>
                    </a:lnTo>
                    <a:lnTo>
                      <a:pt x="10546" y="12762"/>
                    </a:lnTo>
                    <a:lnTo>
                      <a:pt x="8699" y="14310"/>
                    </a:lnTo>
                    <a:lnTo>
                      <a:pt x="8690" y="14318"/>
                    </a:lnTo>
                    <a:lnTo>
                      <a:pt x="8682" y="14327"/>
                    </a:lnTo>
                    <a:lnTo>
                      <a:pt x="8675" y="14336"/>
                    </a:lnTo>
                    <a:lnTo>
                      <a:pt x="8669" y="14346"/>
                    </a:lnTo>
                    <a:lnTo>
                      <a:pt x="8664" y="14358"/>
                    </a:lnTo>
                    <a:lnTo>
                      <a:pt x="8661" y="14370"/>
                    </a:lnTo>
                    <a:lnTo>
                      <a:pt x="8658" y="14382"/>
                    </a:lnTo>
                    <a:lnTo>
                      <a:pt x="8658" y="14395"/>
                    </a:lnTo>
                    <a:lnTo>
                      <a:pt x="8658" y="14395"/>
                    </a:lnTo>
                    <a:lnTo>
                      <a:pt x="8664" y="14960"/>
                    </a:lnTo>
                    <a:lnTo>
                      <a:pt x="8554" y="14931"/>
                    </a:lnTo>
                    <a:lnTo>
                      <a:pt x="8548" y="12086"/>
                    </a:lnTo>
                    <a:close/>
                    <a:moveTo>
                      <a:pt x="11897" y="11835"/>
                    </a:moveTo>
                    <a:lnTo>
                      <a:pt x="11412" y="11709"/>
                    </a:lnTo>
                    <a:lnTo>
                      <a:pt x="11631" y="11515"/>
                    </a:lnTo>
                    <a:lnTo>
                      <a:pt x="11631" y="11461"/>
                    </a:lnTo>
                    <a:lnTo>
                      <a:pt x="11631" y="11408"/>
                    </a:lnTo>
                    <a:lnTo>
                      <a:pt x="11631" y="11354"/>
                    </a:lnTo>
                    <a:lnTo>
                      <a:pt x="11631" y="11300"/>
                    </a:lnTo>
                    <a:lnTo>
                      <a:pt x="11631" y="11245"/>
                    </a:lnTo>
                    <a:lnTo>
                      <a:pt x="11631" y="11191"/>
                    </a:lnTo>
                    <a:lnTo>
                      <a:pt x="11631" y="11137"/>
                    </a:lnTo>
                    <a:lnTo>
                      <a:pt x="11631" y="11082"/>
                    </a:lnTo>
                    <a:lnTo>
                      <a:pt x="11555" y="11147"/>
                    </a:lnTo>
                    <a:lnTo>
                      <a:pt x="11478" y="11213"/>
                    </a:lnTo>
                    <a:lnTo>
                      <a:pt x="11402" y="11279"/>
                    </a:lnTo>
                    <a:lnTo>
                      <a:pt x="11325" y="11344"/>
                    </a:lnTo>
                    <a:lnTo>
                      <a:pt x="11248" y="11410"/>
                    </a:lnTo>
                    <a:lnTo>
                      <a:pt x="11172" y="11475"/>
                    </a:lnTo>
                    <a:lnTo>
                      <a:pt x="11095" y="11541"/>
                    </a:lnTo>
                    <a:lnTo>
                      <a:pt x="11019" y="11606"/>
                    </a:lnTo>
                    <a:lnTo>
                      <a:pt x="10614" y="11501"/>
                    </a:lnTo>
                    <a:lnTo>
                      <a:pt x="10614" y="11146"/>
                    </a:lnTo>
                    <a:lnTo>
                      <a:pt x="10277" y="11413"/>
                    </a:lnTo>
                    <a:lnTo>
                      <a:pt x="9598" y="11237"/>
                    </a:lnTo>
                    <a:lnTo>
                      <a:pt x="9598" y="11074"/>
                    </a:lnTo>
                    <a:lnTo>
                      <a:pt x="9432" y="11193"/>
                    </a:lnTo>
                    <a:lnTo>
                      <a:pt x="9040" y="11091"/>
                    </a:lnTo>
                    <a:lnTo>
                      <a:pt x="9109" y="11044"/>
                    </a:lnTo>
                    <a:lnTo>
                      <a:pt x="9179" y="10996"/>
                    </a:lnTo>
                    <a:lnTo>
                      <a:pt x="9248" y="10949"/>
                    </a:lnTo>
                    <a:lnTo>
                      <a:pt x="9319" y="10901"/>
                    </a:lnTo>
                    <a:lnTo>
                      <a:pt x="9389" y="10854"/>
                    </a:lnTo>
                    <a:lnTo>
                      <a:pt x="9458" y="10807"/>
                    </a:lnTo>
                    <a:lnTo>
                      <a:pt x="9527" y="10760"/>
                    </a:lnTo>
                    <a:lnTo>
                      <a:pt x="9598" y="10713"/>
                    </a:lnTo>
                    <a:lnTo>
                      <a:pt x="9598" y="10649"/>
                    </a:lnTo>
                    <a:lnTo>
                      <a:pt x="9598" y="10585"/>
                    </a:lnTo>
                    <a:lnTo>
                      <a:pt x="9598" y="10521"/>
                    </a:lnTo>
                    <a:lnTo>
                      <a:pt x="9598" y="10457"/>
                    </a:lnTo>
                    <a:lnTo>
                      <a:pt x="9598" y="10393"/>
                    </a:lnTo>
                    <a:lnTo>
                      <a:pt x="9598" y="10329"/>
                    </a:lnTo>
                    <a:lnTo>
                      <a:pt x="9598" y="10263"/>
                    </a:lnTo>
                    <a:lnTo>
                      <a:pt x="9598" y="10199"/>
                    </a:lnTo>
                    <a:lnTo>
                      <a:pt x="9514" y="10254"/>
                    </a:lnTo>
                    <a:lnTo>
                      <a:pt x="9431" y="10308"/>
                    </a:lnTo>
                    <a:lnTo>
                      <a:pt x="9348" y="10363"/>
                    </a:lnTo>
                    <a:lnTo>
                      <a:pt x="9265" y="10417"/>
                    </a:lnTo>
                    <a:lnTo>
                      <a:pt x="9182" y="10472"/>
                    </a:lnTo>
                    <a:lnTo>
                      <a:pt x="9099" y="10526"/>
                    </a:lnTo>
                    <a:lnTo>
                      <a:pt x="9016" y="10581"/>
                    </a:lnTo>
                    <a:lnTo>
                      <a:pt x="8933" y="10635"/>
                    </a:lnTo>
                    <a:lnTo>
                      <a:pt x="8933" y="11064"/>
                    </a:lnTo>
                    <a:lnTo>
                      <a:pt x="8545" y="10963"/>
                    </a:lnTo>
                    <a:lnTo>
                      <a:pt x="8527" y="1734"/>
                    </a:lnTo>
                    <a:lnTo>
                      <a:pt x="11890" y="1678"/>
                    </a:lnTo>
                    <a:lnTo>
                      <a:pt x="11897" y="11835"/>
                    </a:lnTo>
                    <a:close/>
                    <a:moveTo>
                      <a:pt x="7984" y="14782"/>
                    </a:moveTo>
                    <a:lnTo>
                      <a:pt x="7376" y="14623"/>
                    </a:lnTo>
                    <a:lnTo>
                      <a:pt x="7376" y="14381"/>
                    </a:lnTo>
                    <a:lnTo>
                      <a:pt x="7989" y="14566"/>
                    </a:lnTo>
                    <a:lnTo>
                      <a:pt x="7984" y="14782"/>
                    </a:lnTo>
                    <a:close/>
                    <a:moveTo>
                      <a:pt x="6864" y="14488"/>
                    </a:moveTo>
                    <a:lnTo>
                      <a:pt x="6427" y="14374"/>
                    </a:lnTo>
                    <a:lnTo>
                      <a:pt x="6428" y="14121"/>
                    </a:lnTo>
                    <a:lnTo>
                      <a:pt x="6864" y="14240"/>
                    </a:lnTo>
                    <a:lnTo>
                      <a:pt x="6864" y="14488"/>
                    </a:lnTo>
                    <a:close/>
                    <a:moveTo>
                      <a:pt x="5896" y="14235"/>
                    </a:moveTo>
                    <a:lnTo>
                      <a:pt x="5365" y="14095"/>
                    </a:lnTo>
                    <a:lnTo>
                      <a:pt x="5365" y="13820"/>
                    </a:lnTo>
                    <a:lnTo>
                      <a:pt x="5896" y="13970"/>
                    </a:lnTo>
                    <a:lnTo>
                      <a:pt x="5896" y="14235"/>
                    </a:lnTo>
                    <a:close/>
                    <a:moveTo>
                      <a:pt x="4845" y="13959"/>
                    </a:moveTo>
                    <a:lnTo>
                      <a:pt x="4356" y="13831"/>
                    </a:lnTo>
                    <a:lnTo>
                      <a:pt x="4356" y="13511"/>
                    </a:lnTo>
                    <a:lnTo>
                      <a:pt x="4845" y="13662"/>
                    </a:lnTo>
                    <a:lnTo>
                      <a:pt x="4845" y="13959"/>
                    </a:lnTo>
                    <a:close/>
                    <a:moveTo>
                      <a:pt x="3828" y="13692"/>
                    </a:moveTo>
                    <a:lnTo>
                      <a:pt x="3235" y="13538"/>
                    </a:lnTo>
                    <a:lnTo>
                      <a:pt x="3235" y="13184"/>
                    </a:lnTo>
                    <a:lnTo>
                      <a:pt x="3828" y="13365"/>
                    </a:lnTo>
                    <a:lnTo>
                      <a:pt x="3828" y="13692"/>
                    </a:lnTo>
                    <a:close/>
                    <a:moveTo>
                      <a:pt x="1651" y="13122"/>
                    </a:moveTo>
                    <a:lnTo>
                      <a:pt x="1190" y="13001"/>
                    </a:lnTo>
                    <a:lnTo>
                      <a:pt x="1190" y="12595"/>
                    </a:lnTo>
                    <a:lnTo>
                      <a:pt x="1651" y="12716"/>
                    </a:lnTo>
                    <a:lnTo>
                      <a:pt x="1651" y="13122"/>
                    </a:lnTo>
                    <a:close/>
                    <a:moveTo>
                      <a:pt x="10965" y="10871"/>
                    </a:moveTo>
                    <a:lnTo>
                      <a:pt x="11047" y="10805"/>
                    </a:lnTo>
                    <a:lnTo>
                      <a:pt x="11131" y="10739"/>
                    </a:lnTo>
                    <a:lnTo>
                      <a:pt x="11214" y="10673"/>
                    </a:lnTo>
                    <a:lnTo>
                      <a:pt x="11297" y="10608"/>
                    </a:lnTo>
                    <a:lnTo>
                      <a:pt x="11380" y="10542"/>
                    </a:lnTo>
                    <a:lnTo>
                      <a:pt x="11464" y="10476"/>
                    </a:lnTo>
                    <a:lnTo>
                      <a:pt x="11546" y="10411"/>
                    </a:lnTo>
                    <a:lnTo>
                      <a:pt x="11630" y="10345"/>
                    </a:lnTo>
                    <a:lnTo>
                      <a:pt x="11630" y="10400"/>
                    </a:lnTo>
                    <a:lnTo>
                      <a:pt x="11630" y="10454"/>
                    </a:lnTo>
                    <a:lnTo>
                      <a:pt x="11631" y="10508"/>
                    </a:lnTo>
                    <a:lnTo>
                      <a:pt x="11631" y="10562"/>
                    </a:lnTo>
                    <a:lnTo>
                      <a:pt x="11631" y="10616"/>
                    </a:lnTo>
                    <a:lnTo>
                      <a:pt x="11631" y="10670"/>
                    </a:lnTo>
                    <a:lnTo>
                      <a:pt x="11631" y="10724"/>
                    </a:lnTo>
                    <a:lnTo>
                      <a:pt x="11631" y="10777"/>
                    </a:lnTo>
                    <a:lnTo>
                      <a:pt x="11547" y="10845"/>
                    </a:lnTo>
                    <a:lnTo>
                      <a:pt x="11464" y="10913"/>
                    </a:lnTo>
                    <a:lnTo>
                      <a:pt x="11381" y="10981"/>
                    </a:lnTo>
                    <a:lnTo>
                      <a:pt x="11298" y="11049"/>
                    </a:lnTo>
                    <a:lnTo>
                      <a:pt x="11214" y="11117"/>
                    </a:lnTo>
                    <a:lnTo>
                      <a:pt x="11132" y="11185"/>
                    </a:lnTo>
                    <a:lnTo>
                      <a:pt x="11048" y="11253"/>
                    </a:lnTo>
                    <a:lnTo>
                      <a:pt x="10965" y="11321"/>
                    </a:lnTo>
                    <a:lnTo>
                      <a:pt x="10965" y="11264"/>
                    </a:lnTo>
                    <a:lnTo>
                      <a:pt x="10965" y="11208"/>
                    </a:lnTo>
                    <a:lnTo>
                      <a:pt x="10965" y="11151"/>
                    </a:lnTo>
                    <a:lnTo>
                      <a:pt x="10965" y="11095"/>
                    </a:lnTo>
                    <a:lnTo>
                      <a:pt x="10965" y="11040"/>
                    </a:lnTo>
                    <a:lnTo>
                      <a:pt x="10965" y="10983"/>
                    </a:lnTo>
                    <a:lnTo>
                      <a:pt x="10965" y="10927"/>
                    </a:lnTo>
                    <a:lnTo>
                      <a:pt x="10965" y="10871"/>
                    </a:lnTo>
                    <a:close/>
                    <a:moveTo>
                      <a:pt x="10965" y="10086"/>
                    </a:moveTo>
                    <a:lnTo>
                      <a:pt x="11047" y="10026"/>
                    </a:lnTo>
                    <a:lnTo>
                      <a:pt x="11131" y="9966"/>
                    </a:lnTo>
                    <a:lnTo>
                      <a:pt x="11213" y="9906"/>
                    </a:lnTo>
                    <a:lnTo>
                      <a:pt x="11297" y="9846"/>
                    </a:lnTo>
                    <a:lnTo>
                      <a:pt x="11380" y="9786"/>
                    </a:lnTo>
                    <a:lnTo>
                      <a:pt x="11463" y="9726"/>
                    </a:lnTo>
                    <a:lnTo>
                      <a:pt x="11546" y="9666"/>
                    </a:lnTo>
                    <a:lnTo>
                      <a:pt x="11629" y="9606"/>
                    </a:lnTo>
                    <a:lnTo>
                      <a:pt x="11629" y="9660"/>
                    </a:lnTo>
                    <a:lnTo>
                      <a:pt x="11629" y="9715"/>
                    </a:lnTo>
                    <a:lnTo>
                      <a:pt x="11630" y="9769"/>
                    </a:lnTo>
                    <a:lnTo>
                      <a:pt x="11630" y="9823"/>
                    </a:lnTo>
                    <a:lnTo>
                      <a:pt x="11630" y="9878"/>
                    </a:lnTo>
                    <a:lnTo>
                      <a:pt x="11630" y="9932"/>
                    </a:lnTo>
                    <a:lnTo>
                      <a:pt x="11630" y="9985"/>
                    </a:lnTo>
                    <a:lnTo>
                      <a:pt x="11630" y="10039"/>
                    </a:lnTo>
                    <a:lnTo>
                      <a:pt x="11546" y="10102"/>
                    </a:lnTo>
                    <a:lnTo>
                      <a:pt x="11464" y="10164"/>
                    </a:lnTo>
                    <a:lnTo>
                      <a:pt x="11380" y="10226"/>
                    </a:lnTo>
                    <a:lnTo>
                      <a:pt x="11297" y="10289"/>
                    </a:lnTo>
                    <a:lnTo>
                      <a:pt x="11214" y="10351"/>
                    </a:lnTo>
                    <a:lnTo>
                      <a:pt x="11131" y="10413"/>
                    </a:lnTo>
                    <a:lnTo>
                      <a:pt x="11047" y="10476"/>
                    </a:lnTo>
                    <a:lnTo>
                      <a:pt x="10965" y="10538"/>
                    </a:lnTo>
                    <a:lnTo>
                      <a:pt x="10965" y="10482"/>
                    </a:lnTo>
                    <a:lnTo>
                      <a:pt x="10965" y="10425"/>
                    </a:lnTo>
                    <a:lnTo>
                      <a:pt x="10965" y="10369"/>
                    </a:lnTo>
                    <a:lnTo>
                      <a:pt x="10965" y="10312"/>
                    </a:lnTo>
                    <a:lnTo>
                      <a:pt x="10965" y="10256"/>
                    </a:lnTo>
                    <a:lnTo>
                      <a:pt x="10965" y="10199"/>
                    </a:lnTo>
                    <a:lnTo>
                      <a:pt x="10965" y="10143"/>
                    </a:lnTo>
                    <a:lnTo>
                      <a:pt x="10965" y="10086"/>
                    </a:lnTo>
                    <a:close/>
                    <a:moveTo>
                      <a:pt x="10964" y="9305"/>
                    </a:moveTo>
                    <a:lnTo>
                      <a:pt x="11047" y="9251"/>
                    </a:lnTo>
                    <a:lnTo>
                      <a:pt x="11130" y="9196"/>
                    </a:lnTo>
                    <a:lnTo>
                      <a:pt x="11213" y="9141"/>
                    </a:lnTo>
                    <a:lnTo>
                      <a:pt x="11296" y="9088"/>
                    </a:lnTo>
                    <a:lnTo>
                      <a:pt x="11379" y="9033"/>
                    </a:lnTo>
                    <a:lnTo>
                      <a:pt x="11463" y="8979"/>
                    </a:lnTo>
                    <a:lnTo>
                      <a:pt x="11545" y="8925"/>
                    </a:lnTo>
                    <a:lnTo>
                      <a:pt x="11629" y="8870"/>
                    </a:lnTo>
                    <a:lnTo>
                      <a:pt x="11629" y="8924"/>
                    </a:lnTo>
                    <a:lnTo>
                      <a:pt x="11629" y="8979"/>
                    </a:lnTo>
                    <a:lnTo>
                      <a:pt x="11629" y="9033"/>
                    </a:lnTo>
                    <a:lnTo>
                      <a:pt x="11629" y="9087"/>
                    </a:lnTo>
                    <a:lnTo>
                      <a:pt x="11629" y="9140"/>
                    </a:lnTo>
                    <a:lnTo>
                      <a:pt x="11629" y="9194"/>
                    </a:lnTo>
                    <a:lnTo>
                      <a:pt x="11629" y="9248"/>
                    </a:lnTo>
                    <a:lnTo>
                      <a:pt x="11629" y="9303"/>
                    </a:lnTo>
                    <a:lnTo>
                      <a:pt x="11546" y="9359"/>
                    </a:lnTo>
                    <a:lnTo>
                      <a:pt x="11463" y="9416"/>
                    </a:lnTo>
                    <a:lnTo>
                      <a:pt x="11379" y="9472"/>
                    </a:lnTo>
                    <a:lnTo>
                      <a:pt x="11297" y="9529"/>
                    </a:lnTo>
                    <a:lnTo>
                      <a:pt x="11213" y="9585"/>
                    </a:lnTo>
                    <a:lnTo>
                      <a:pt x="11130" y="9642"/>
                    </a:lnTo>
                    <a:lnTo>
                      <a:pt x="11047" y="9699"/>
                    </a:lnTo>
                    <a:lnTo>
                      <a:pt x="10964" y="9756"/>
                    </a:lnTo>
                    <a:lnTo>
                      <a:pt x="10964" y="9700"/>
                    </a:lnTo>
                    <a:lnTo>
                      <a:pt x="10964" y="9643"/>
                    </a:lnTo>
                    <a:lnTo>
                      <a:pt x="10964" y="9587"/>
                    </a:lnTo>
                    <a:lnTo>
                      <a:pt x="10964" y="9531"/>
                    </a:lnTo>
                    <a:lnTo>
                      <a:pt x="10964" y="9474"/>
                    </a:lnTo>
                    <a:lnTo>
                      <a:pt x="10964" y="9418"/>
                    </a:lnTo>
                    <a:lnTo>
                      <a:pt x="10964" y="9361"/>
                    </a:lnTo>
                    <a:lnTo>
                      <a:pt x="10964" y="9305"/>
                    </a:lnTo>
                    <a:close/>
                    <a:moveTo>
                      <a:pt x="10963" y="8522"/>
                    </a:moveTo>
                    <a:lnTo>
                      <a:pt x="11046" y="8472"/>
                    </a:lnTo>
                    <a:lnTo>
                      <a:pt x="11129" y="8423"/>
                    </a:lnTo>
                    <a:lnTo>
                      <a:pt x="11212" y="8375"/>
                    </a:lnTo>
                    <a:lnTo>
                      <a:pt x="11296" y="8326"/>
                    </a:lnTo>
                    <a:lnTo>
                      <a:pt x="11378" y="8277"/>
                    </a:lnTo>
                    <a:lnTo>
                      <a:pt x="11462" y="8229"/>
                    </a:lnTo>
                    <a:lnTo>
                      <a:pt x="11544" y="8180"/>
                    </a:lnTo>
                    <a:lnTo>
                      <a:pt x="11628" y="8131"/>
                    </a:lnTo>
                    <a:lnTo>
                      <a:pt x="11628" y="8186"/>
                    </a:lnTo>
                    <a:lnTo>
                      <a:pt x="11628" y="8240"/>
                    </a:lnTo>
                    <a:lnTo>
                      <a:pt x="11628" y="8295"/>
                    </a:lnTo>
                    <a:lnTo>
                      <a:pt x="11628" y="8349"/>
                    </a:lnTo>
                    <a:lnTo>
                      <a:pt x="11628" y="8403"/>
                    </a:lnTo>
                    <a:lnTo>
                      <a:pt x="11628" y="8457"/>
                    </a:lnTo>
                    <a:lnTo>
                      <a:pt x="11628" y="8511"/>
                    </a:lnTo>
                    <a:lnTo>
                      <a:pt x="11629" y="8564"/>
                    </a:lnTo>
                    <a:lnTo>
                      <a:pt x="11545" y="8615"/>
                    </a:lnTo>
                    <a:lnTo>
                      <a:pt x="11462" y="8665"/>
                    </a:lnTo>
                    <a:lnTo>
                      <a:pt x="11379" y="8716"/>
                    </a:lnTo>
                    <a:lnTo>
                      <a:pt x="11296" y="8767"/>
                    </a:lnTo>
                    <a:lnTo>
                      <a:pt x="11212" y="8819"/>
                    </a:lnTo>
                    <a:lnTo>
                      <a:pt x="11130" y="8870"/>
                    </a:lnTo>
                    <a:lnTo>
                      <a:pt x="11046" y="8922"/>
                    </a:lnTo>
                    <a:lnTo>
                      <a:pt x="10963" y="8974"/>
                    </a:lnTo>
                    <a:lnTo>
                      <a:pt x="10963" y="8917"/>
                    </a:lnTo>
                    <a:lnTo>
                      <a:pt x="10963" y="8861"/>
                    </a:lnTo>
                    <a:lnTo>
                      <a:pt x="10963" y="8805"/>
                    </a:lnTo>
                    <a:lnTo>
                      <a:pt x="10963" y="8748"/>
                    </a:lnTo>
                    <a:lnTo>
                      <a:pt x="10963" y="8691"/>
                    </a:lnTo>
                    <a:lnTo>
                      <a:pt x="10963" y="8635"/>
                    </a:lnTo>
                    <a:lnTo>
                      <a:pt x="10963" y="8578"/>
                    </a:lnTo>
                    <a:lnTo>
                      <a:pt x="10963" y="8522"/>
                    </a:lnTo>
                    <a:close/>
                    <a:moveTo>
                      <a:pt x="10963" y="7738"/>
                    </a:moveTo>
                    <a:lnTo>
                      <a:pt x="11045" y="7695"/>
                    </a:lnTo>
                    <a:lnTo>
                      <a:pt x="11129" y="7651"/>
                    </a:lnTo>
                    <a:lnTo>
                      <a:pt x="11211" y="7609"/>
                    </a:lnTo>
                    <a:lnTo>
                      <a:pt x="11295" y="7566"/>
                    </a:lnTo>
                    <a:lnTo>
                      <a:pt x="11377" y="7522"/>
                    </a:lnTo>
                    <a:lnTo>
                      <a:pt x="11461" y="7479"/>
                    </a:lnTo>
                    <a:lnTo>
                      <a:pt x="11544" y="7436"/>
                    </a:lnTo>
                    <a:lnTo>
                      <a:pt x="11627" y="7393"/>
                    </a:lnTo>
                    <a:lnTo>
                      <a:pt x="11627" y="7448"/>
                    </a:lnTo>
                    <a:lnTo>
                      <a:pt x="11627" y="7502"/>
                    </a:lnTo>
                    <a:lnTo>
                      <a:pt x="11627" y="7556"/>
                    </a:lnTo>
                    <a:lnTo>
                      <a:pt x="11627" y="7611"/>
                    </a:lnTo>
                    <a:lnTo>
                      <a:pt x="11627" y="7665"/>
                    </a:lnTo>
                    <a:lnTo>
                      <a:pt x="11628" y="7718"/>
                    </a:lnTo>
                    <a:lnTo>
                      <a:pt x="11628" y="7772"/>
                    </a:lnTo>
                    <a:lnTo>
                      <a:pt x="11628" y="7826"/>
                    </a:lnTo>
                    <a:lnTo>
                      <a:pt x="11544" y="7872"/>
                    </a:lnTo>
                    <a:lnTo>
                      <a:pt x="11462" y="7917"/>
                    </a:lnTo>
                    <a:lnTo>
                      <a:pt x="11378" y="7963"/>
                    </a:lnTo>
                    <a:lnTo>
                      <a:pt x="11295" y="8007"/>
                    </a:lnTo>
                    <a:lnTo>
                      <a:pt x="11212" y="8053"/>
                    </a:lnTo>
                    <a:lnTo>
                      <a:pt x="11129" y="8098"/>
                    </a:lnTo>
                    <a:lnTo>
                      <a:pt x="11045" y="8144"/>
                    </a:lnTo>
                    <a:lnTo>
                      <a:pt x="10963" y="8189"/>
                    </a:lnTo>
                    <a:lnTo>
                      <a:pt x="10963" y="8133"/>
                    </a:lnTo>
                    <a:lnTo>
                      <a:pt x="10963" y="8076"/>
                    </a:lnTo>
                    <a:lnTo>
                      <a:pt x="10963" y="8021"/>
                    </a:lnTo>
                    <a:lnTo>
                      <a:pt x="10963" y="7965"/>
                    </a:lnTo>
                    <a:lnTo>
                      <a:pt x="10963" y="7908"/>
                    </a:lnTo>
                    <a:lnTo>
                      <a:pt x="10963" y="7852"/>
                    </a:lnTo>
                    <a:lnTo>
                      <a:pt x="10963" y="7795"/>
                    </a:lnTo>
                    <a:lnTo>
                      <a:pt x="10963" y="7738"/>
                    </a:lnTo>
                    <a:close/>
                    <a:moveTo>
                      <a:pt x="10962" y="6957"/>
                    </a:moveTo>
                    <a:lnTo>
                      <a:pt x="11044" y="6919"/>
                    </a:lnTo>
                    <a:lnTo>
                      <a:pt x="11128" y="6881"/>
                    </a:lnTo>
                    <a:lnTo>
                      <a:pt x="11211" y="6844"/>
                    </a:lnTo>
                    <a:lnTo>
                      <a:pt x="11294" y="6806"/>
                    </a:lnTo>
                    <a:lnTo>
                      <a:pt x="11377" y="6768"/>
                    </a:lnTo>
                    <a:lnTo>
                      <a:pt x="11460" y="6731"/>
                    </a:lnTo>
                    <a:lnTo>
                      <a:pt x="11543" y="6693"/>
                    </a:lnTo>
                    <a:lnTo>
                      <a:pt x="11627" y="6655"/>
                    </a:lnTo>
                    <a:lnTo>
                      <a:pt x="11627" y="6710"/>
                    </a:lnTo>
                    <a:lnTo>
                      <a:pt x="11627" y="6764"/>
                    </a:lnTo>
                    <a:lnTo>
                      <a:pt x="11627" y="6818"/>
                    </a:lnTo>
                    <a:lnTo>
                      <a:pt x="11627" y="6873"/>
                    </a:lnTo>
                    <a:lnTo>
                      <a:pt x="11627" y="6927"/>
                    </a:lnTo>
                    <a:lnTo>
                      <a:pt x="11627" y="6981"/>
                    </a:lnTo>
                    <a:lnTo>
                      <a:pt x="11627" y="7035"/>
                    </a:lnTo>
                    <a:lnTo>
                      <a:pt x="11627" y="7088"/>
                    </a:lnTo>
                    <a:lnTo>
                      <a:pt x="11543" y="7127"/>
                    </a:lnTo>
                    <a:lnTo>
                      <a:pt x="11461" y="7167"/>
                    </a:lnTo>
                    <a:lnTo>
                      <a:pt x="11377" y="7208"/>
                    </a:lnTo>
                    <a:lnTo>
                      <a:pt x="11295" y="7247"/>
                    </a:lnTo>
                    <a:lnTo>
                      <a:pt x="11211" y="7287"/>
                    </a:lnTo>
                    <a:lnTo>
                      <a:pt x="11129" y="7327"/>
                    </a:lnTo>
                    <a:lnTo>
                      <a:pt x="11045" y="7366"/>
                    </a:lnTo>
                    <a:lnTo>
                      <a:pt x="10963" y="7406"/>
                    </a:lnTo>
                    <a:lnTo>
                      <a:pt x="10962" y="7350"/>
                    </a:lnTo>
                    <a:lnTo>
                      <a:pt x="10962" y="7293"/>
                    </a:lnTo>
                    <a:lnTo>
                      <a:pt x="10962" y="7237"/>
                    </a:lnTo>
                    <a:lnTo>
                      <a:pt x="10962" y="7181"/>
                    </a:lnTo>
                    <a:lnTo>
                      <a:pt x="10962" y="7124"/>
                    </a:lnTo>
                    <a:lnTo>
                      <a:pt x="10962" y="7068"/>
                    </a:lnTo>
                    <a:lnTo>
                      <a:pt x="10962" y="7012"/>
                    </a:lnTo>
                    <a:lnTo>
                      <a:pt x="10962" y="6957"/>
                    </a:lnTo>
                    <a:close/>
                    <a:moveTo>
                      <a:pt x="10961" y="6172"/>
                    </a:moveTo>
                    <a:lnTo>
                      <a:pt x="11044" y="6141"/>
                    </a:lnTo>
                    <a:lnTo>
                      <a:pt x="11128" y="6108"/>
                    </a:lnTo>
                    <a:lnTo>
                      <a:pt x="11210" y="6077"/>
                    </a:lnTo>
                    <a:lnTo>
                      <a:pt x="11294" y="6044"/>
                    </a:lnTo>
                    <a:lnTo>
                      <a:pt x="11376" y="6013"/>
                    </a:lnTo>
                    <a:lnTo>
                      <a:pt x="11460" y="5981"/>
                    </a:lnTo>
                    <a:lnTo>
                      <a:pt x="11543" y="5949"/>
                    </a:lnTo>
                    <a:lnTo>
                      <a:pt x="11626" y="5917"/>
                    </a:lnTo>
                    <a:lnTo>
                      <a:pt x="11626" y="5971"/>
                    </a:lnTo>
                    <a:lnTo>
                      <a:pt x="11626" y="6026"/>
                    </a:lnTo>
                    <a:lnTo>
                      <a:pt x="11626" y="6080"/>
                    </a:lnTo>
                    <a:lnTo>
                      <a:pt x="11626" y="6134"/>
                    </a:lnTo>
                    <a:lnTo>
                      <a:pt x="11626" y="6189"/>
                    </a:lnTo>
                    <a:lnTo>
                      <a:pt x="11626" y="6241"/>
                    </a:lnTo>
                    <a:lnTo>
                      <a:pt x="11626" y="6295"/>
                    </a:lnTo>
                    <a:lnTo>
                      <a:pt x="11626" y="6349"/>
                    </a:lnTo>
                    <a:lnTo>
                      <a:pt x="11543" y="6384"/>
                    </a:lnTo>
                    <a:lnTo>
                      <a:pt x="11460" y="6418"/>
                    </a:lnTo>
                    <a:lnTo>
                      <a:pt x="11377" y="6453"/>
                    </a:lnTo>
                    <a:lnTo>
                      <a:pt x="11294" y="6487"/>
                    </a:lnTo>
                    <a:lnTo>
                      <a:pt x="11210" y="6521"/>
                    </a:lnTo>
                    <a:lnTo>
                      <a:pt x="11128" y="6556"/>
                    </a:lnTo>
                    <a:lnTo>
                      <a:pt x="11044" y="6589"/>
                    </a:lnTo>
                    <a:lnTo>
                      <a:pt x="10962" y="6624"/>
                    </a:lnTo>
                    <a:lnTo>
                      <a:pt x="10962" y="6568"/>
                    </a:lnTo>
                    <a:lnTo>
                      <a:pt x="10962" y="6512"/>
                    </a:lnTo>
                    <a:lnTo>
                      <a:pt x="10962" y="6455"/>
                    </a:lnTo>
                    <a:lnTo>
                      <a:pt x="10962" y="6399"/>
                    </a:lnTo>
                    <a:lnTo>
                      <a:pt x="10962" y="6342"/>
                    </a:lnTo>
                    <a:lnTo>
                      <a:pt x="10961" y="6286"/>
                    </a:lnTo>
                    <a:lnTo>
                      <a:pt x="10961" y="6229"/>
                    </a:lnTo>
                    <a:lnTo>
                      <a:pt x="10961" y="6172"/>
                    </a:lnTo>
                    <a:close/>
                    <a:moveTo>
                      <a:pt x="10961" y="5391"/>
                    </a:moveTo>
                    <a:lnTo>
                      <a:pt x="11043" y="5365"/>
                    </a:lnTo>
                    <a:lnTo>
                      <a:pt x="11127" y="5338"/>
                    </a:lnTo>
                    <a:lnTo>
                      <a:pt x="11210" y="5312"/>
                    </a:lnTo>
                    <a:lnTo>
                      <a:pt x="11293" y="5285"/>
                    </a:lnTo>
                    <a:lnTo>
                      <a:pt x="11376" y="5259"/>
                    </a:lnTo>
                    <a:lnTo>
                      <a:pt x="11459" y="5232"/>
                    </a:lnTo>
                    <a:lnTo>
                      <a:pt x="11542" y="5206"/>
                    </a:lnTo>
                    <a:lnTo>
                      <a:pt x="11625" y="5180"/>
                    </a:lnTo>
                    <a:lnTo>
                      <a:pt x="11625" y="5234"/>
                    </a:lnTo>
                    <a:lnTo>
                      <a:pt x="11625" y="5288"/>
                    </a:lnTo>
                    <a:lnTo>
                      <a:pt x="11625" y="5343"/>
                    </a:lnTo>
                    <a:lnTo>
                      <a:pt x="11625" y="5397"/>
                    </a:lnTo>
                    <a:lnTo>
                      <a:pt x="11625" y="5452"/>
                    </a:lnTo>
                    <a:lnTo>
                      <a:pt x="11625" y="5506"/>
                    </a:lnTo>
                    <a:lnTo>
                      <a:pt x="11625" y="5560"/>
                    </a:lnTo>
                    <a:lnTo>
                      <a:pt x="11625" y="5614"/>
                    </a:lnTo>
                    <a:lnTo>
                      <a:pt x="11542" y="5641"/>
                    </a:lnTo>
                    <a:lnTo>
                      <a:pt x="11459" y="5670"/>
                    </a:lnTo>
                    <a:lnTo>
                      <a:pt x="11376" y="5698"/>
                    </a:lnTo>
                    <a:lnTo>
                      <a:pt x="11293" y="5728"/>
                    </a:lnTo>
                    <a:lnTo>
                      <a:pt x="11210" y="5756"/>
                    </a:lnTo>
                    <a:lnTo>
                      <a:pt x="11127" y="5785"/>
                    </a:lnTo>
                    <a:lnTo>
                      <a:pt x="11044" y="5813"/>
                    </a:lnTo>
                    <a:lnTo>
                      <a:pt x="10961" y="5842"/>
                    </a:lnTo>
                    <a:lnTo>
                      <a:pt x="10961" y="5785"/>
                    </a:lnTo>
                    <a:lnTo>
                      <a:pt x="10961" y="5729"/>
                    </a:lnTo>
                    <a:lnTo>
                      <a:pt x="10961" y="5672"/>
                    </a:lnTo>
                    <a:lnTo>
                      <a:pt x="10961" y="5616"/>
                    </a:lnTo>
                    <a:lnTo>
                      <a:pt x="10961" y="5560"/>
                    </a:lnTo>
                    <a:lnTo>
                      <a:pt x="10961" y="5504"/>
                    </a:lnTo>
                    <a:lnTo>
                      <a:pt x="10961" y="5447"/>
                    </a:lnTo>
                    <a:lnTo>
                      <a:pt x="10961" y="5391"/>
                    </a:lnTo>
                    <a:close/>
                    <a:moveTo>
                      <a:pt x="10961" y="4607"/>
                    </a:moveTo>
                    <a:lnTo>
                      <a:pt x="11043" y="4586"/>
                    </a:lnTo>
                    <a:lnTo>
                      <a:pt x="11127" y="4566"/>
                    </a:lnTo>
                    <a:lnTo>
                      <a:pt x="11209" y="4545"/>
                    </a:lnTo>
                    <a:lnTo>
                      <a:pt x="11292" y="4524"/>
                    </a:lnTo>
                    <a:lnTo>
                      <a:pt x="11375" y="4504"/>
                    </a:lnTo>
                    <a:lnTo>
                      <a:pt x="11458" y="4484"/>
                    </a:lnTo>
                    <a:lnTo>
                      <a:pt x="11541" y="4462"/>
                    </a:lnTo>
                    <a:lnTo>
                      <a:pt x="11624" y="4442"/>
                    </a:lnTo>
                    <a:lnTo>
                      <a:pt x="11624" y="4497"/>
                    </a:lnTo>
                    <a:lnTo>
                      <a:pt x="11624" y="4551"/>
                    </a:lnTo>
                    <a:lnTo>
                      <a:pt x="11624" y="4606"/>
                    </a:lnTo>
                    <a:lnTo>
                      <a:pt x="11624" y="4660"/>
                    </a:lnTo>
                    <a:lnTo>
                      <a:pt x="11624" y="4714"/>
                    </a:lnTo>
                    <a:lnTo>
                      <a:pt x="11625" y="4768"/>
                    </a:lnTo>
                    <a:lnTo>
                      <a:pt x="11625" y="4821"/>
                    </a:lnTo>
                    <a:lnTo>
                      <a:pt x="11625" y="4874"/>
                    </a:lnTo>
                    <a:lnTo>
                      <a:pt x="11541" y="4898"/>
                    </a:lnTo>
                    <a:lnTo>
                      <a:pt x="11459" y="4921"/>
                    </a:lnTo>
                    <a:lnTo>
                      <a:pt x="11375" y="4944"/>
                    </a:lnTo>
                    <a:lnTo>
                      <a:pt x="11293" y="4967"/>
                    </a:lnTo>
                    <a:lnTo>
                      <a:pt x="11209" y="4989"/>
                    </a:lnTo>
                    <a:lnTo>
                      <a:pt x="11127" y="5013"/>
                    </a:lnTo>
                    <a:lnTo>
                      <a:pt x="11043" y="5035"/>
                    </a:lnTo>
                    <a:lnTo>
                      <a:pt x="10961" y="5058"/>
                    </a:lnTo>
                    <a:lnTo>
                      <a:pt x="10961" y="5003"/>
                    </a:lnTo>
                    <a:lnTo>
                      <a:pt x="10961" y="4947"/>
                    </a:lnTo>
                    <a:lnTo>
                      <a:pt x="10961" y="4890"/>
                    </a:lnTo>
                    <a:lnTo>
                      <a:pt x="10961" y="4834"/>
                    </a:lnTo>
                    <a:lnTo>
                      <a:pt x="10961" y="4777"/>
                    </a:lnTo>
                    <a:lnTo>
                      <a:pt x="10961" y="4720"/>
                    </a:lnTo>
                    <a:lnTo>
                      <a:pt x="10961" y="4664"/>
                    </a:lnTo>
                    <a:lnTo>
                      <a:pt x="10961" y="4607"/>
                    </a:lnTo>
                    <a:close/>
                    <a:moveTo>
                      <a:pt x="10960" y="3825"/>
                    </a:moveTo>
                    <a:lnTo>
                      <a:pt x="11043" y="3809"/>
                    </a:lnTo>
                    <a:lnTo>
                      <a:pt x="11126" y="3794"/>
                    </a:lnTo>
                    <a:lnTo>
                      <a:pt x="11208" y="3780"/>
                    </a:lnTo>
                    <a:lnTo>
                      <a:pt x="11292" y="3765"/>
                    </a:lnTo>
                    <a:lnTo>
                      <a:pt x="11374" y="3749"/>
                    </a:lnTo>
                    <a:lnTo>
                      <a:pt x="11457" y="3735"/>
                    </a:lnTo>
                    <a:lnTo>
                      <a:pt x="11540" y="3720"/>
                    </a:lnTo>
                    <a:lnTo>
                      <a:pt x="11623" y="3705"/>
                    </a:lnTo>
                    <a:lnTo>
                      <a:pt x="11624" y="3760"/>
                    </a:lnTo>
                    <a:lnTo>
                      <a:pt x="11624" y="3813"/>
                    </a:lnTo>
                    <a:lnTo>
                      <a:pt x="11624" y="3868"/>
                    </a:lnTo>
                    <a:lnTo>
                      <a:pt x="11624" y="3922"/>
                    </a:lnTo>
                    <a:lnTo>
                      <a:pt x="11624" y="3976"/>
                    </a:lnTo>
                    <a:lnTo>
                      <a:pt x="11624" y="4030"/>
                    </a:lnTo>
                    <a:lnTo>
                      <a:pt x="11624" y="4084"/>
                    </a:lnTo>
                    <a:lnTo>
                      <a:pt x="11624" y="4137"/>
                    </a:lnTo>
                    <a:lnTo>
                      <a:pt x="11541" y="4154"/>
                    </a:lnTo>
                    <a:lnTo>
                      <a:pt x="11458" y="4171"/>
                    </a:lnTo>
                    <a:lnTo>
                      <a:pt x="11375" y="4189"/>
                    </a:lnTo>
                    <a:lnTo>
                      <a:pt x="11292" y="4206"/>
                    </a:lnTo>
                    <a:lnTo>
                      <a:pt x="11208" y="4223"/>
                    </a:lnTo>
                    <a:lnTo>
                      <a:pt x="11126" y="4241"/>
                    </a:lnTo>
                    <a:lnTo>
                      <a:pt x="11043" y="4258"/>
                    </a:lnTo>
                    <a:lnTo>
                      <a:pt x="10960" y="4276"/>
                    </a:lnTo>
                    <a:lnTo>
                      <a:pt x="10960" y="4219"/>
                    </a:lnTo>
                    <a:lnTo>
                      <a:pt x="10960" y="4163"/>
                    </a:lnTo>
                    <a:lnTo>
                      <a:pt x="10960" y="4106"/>
                    </a:lnTo>
                    <a:lnTo>
                      <a:pt x="10960" y="4050"/>
                    </a:lnTo>
                    <a:lnTo>
                      <a:pt x="10960" y="3993"/>
                    </a:lnTo>
                    <a:lnTo>
                      <a:pt x="10960" y="3938"/>
                    </a:lnTo>
                    <a:lnTo>
                      <a:pt x="10960" y="3881"/>
                    </a:lnTo>
                    <a:lnTo>
                      <a:pt x="10960" y="3825"/>
                    </a:lnTo>
                    <a:close/>
                    <a:moveTo>
                      <a:pt x="10959" y="3041"/>
                    </a:moveTo>
                    <a:lnTo>
                      <a:pt x="11042" y="3032"/>
                    </a:lnTo>
                    <a:lnTo>
                      <a:pt x="11125" y="3023"/>
                    </a:lnTo>
                    <a:lnTo>
                      <a:pt x="11208" y="3014"/>
                    </a:lnTo>
                    <a:lnTo>
                      <a:pt x="11291" y="3004"/>
                    </a:lnTo>
                    <a:lnTo>
                      <a:pt x="11373" y="2995"/>
                    </a:lnTo>
                    <a:lnTo>
                      <a:pt x="11457" y="2984"/>
                    </a:lnTo>
                    <a:lnTo>
                      <a:pt x="11539" y="2975"/>
                    </a:lnTo>
                    <a:lnTo>
                      <a:pt x="11623" y="2966"/>
                    </a:lnTo>
                    <a:lnTo>
                      <a:pt x="11623" y="3021"/>
                    </a:lnTo>
                    <a:lnTo>
                      <a:pt x="11623" y="3075"/>
                    </a:lnTo>
                    <a:lnTo>
                      <a:pt x="11623" y="3129"/>
                    </a:lnTo>
                    <a:lnTo>
                      <a:pt x="11623" y="3184"/>
                    </a:lnTo>
                    <a:lnTo>
                      <a:pt x="11623" y="3238"/>
                    </a:lnTo>
                    <a:lnTo>
                      <a:pt x="11623" y="3292"/>
                    </a:lnTo>
                    <a:lnTo>
                      <a:pt x="11623" y="3346"/>
                    </a:lnTo>
                    <a:lnTo>
                      <a:pt x="11623" y="3398"/>
                    </a:lnTo>
                    <a:lnTo>
                      <a:pt x="11540" y="3411"/>
                    </a:lnTo>
                    <a:lnTo>
                      <a:pt x="11457" y="3422"/>
                    </a:lnTo>
                    <a:lnTo>
                      <a:pt x="11374" y="3434"/>
                    </a:lnTo>
                    <a:lnTo>
                      <a:pt x="11291" y="3445"/>
                    </a:lnTo>
                    <a:lnTo>
                      <a:pt x="11208" y="3457"/>
                    </a:lnTo>
                    <a:lnTo>
                      <a:pt x="11125" y="3470"/>
                    </a:lnTo>
                    <a:lnTo>
                      <a:pt x="11042" y="3481"/>
                    </a:lnTo>
                    <a:lnTo>
                      <a:pt x="10959" y="3493"/>
                    </a:lnTo>
                    <a:lnTo>
                      <a:pt x="10959" y="3437"/>
                    </a:lnTo>
                    <a:lnTo>
                      <a:pt x="10959" y="3380"/>
                    </a:lnTo>
                    <a:lnTo>
                      <a:pt x="10959" y="3323"/>
                    </a:lnTo>
                    <a:lnTo>
                      <a:pt x="10959" y="3267"/>
                    </a:lnTo>
                    <a:lnTo>
                      <a:pt x="10959" y="3210"/>
                    </a:lnTo>
                    <a:lnTo>
                      <a:pt x="10959" y="3154"/>
                    </a:lnTo>
                    <a:lnTo>
                      <a:pt x="10959" y="3097"/>
                    </a:lnTo>
                    <a:lnTo>
                      <a:pt x="10959" y="3041"/>
                    </a:lnTo>
                    <a:close/>
                    <a:moveTo>
                      <a:pt x="10959" y="2258"/>
                    </a:moveTo>
                    <a:lnTo>
                      <a:pt x="11041" y="2254"/>
                    </a:lnTo>
                    <a:lnTo>
                      <a:pt x="11125" y="2250"/>
                    </a:lnTo>
                    <a:lnTo>
                      <a:pt x="11207" y="2246"/>
                    </a:lnTo>
                    <a:lnTo>
                      <a:pt x="11290" y="2243"/>
                    </a:lnTo>
                    <a:lnTo>
                      <a:pt x="11373" y="2239"/>
                    </a:lnTo>
                    <a:lnTo>
                      <a:pt x="11456" y="2235"/>
                    </a:lnTo>
                    <a:lnTo>
                      <a:pt x="11539" y="2231"/>
                    </a:lnTo>
                    <a:lnTo>
                      <a:pt x="11622" y="2228"/>
                    </a:lnTo>
                    <a:lnTo>
                      <a:pt x="11622" y="2283"/>
                    </a:lnTo>
                    <a:lnTo>
                      <a:pt x="11622" y="2337"/>
                    </a:lnTo>
                    <a:lnTo>
                      <a:pt x="11622" y="2391"/>
                    </a:lnTo>
                    <a:lnTo>
                      <a:pt x="11622" y="2446"/>
                    </a:lnTo>
                    <a:lnTo>
                      <a:pt x="11622" y="2500"/>
                    </a:lnTo>
                    <a:lnTo>
                      <a:pt x="11623" y="2554"/>
                    </a:lnTo>
                    <a:lnTo>
                      <a:pt x="11623" y="2608"/>
                    </a:lnTo>
                    <a:lnTo>
                      <a:pt x="11623" y="2661"/>
                    </a:lnTo>
                    <a:lnTo>
                      <a:pt x="11539" y="2667"/>
                    </a:lnTo>
                    <a:lnTo>
                      <a:pt x="11457" y="2673"/>
                    </a:lnTo>
                    <a:lnTo>
                      <a:pt x="11373" y="2679"/>
                    </a:lnTo>
                    <a:lnTo>
                      <a:pt x="11291" y="2685"/>
                    </a:lnTo>
                    <a:lnTo>
                      <a:pt x="11207" y="2691"/>
                    </a:lnTo>
                    <a:lnTo>
                      <a:pt x="11125" y="2698"/>
                    </a:lnTo>
                    <a:lnTo>
                      <a:pt x="11041" y="2704"/>
                    </a:lnTo>
                    <a:lnTo>
                      <a:pt x="10959" y="2711"/>
                    </a:lnTo>
                    <a:lnTo>
                      <a:pt x="10959" y="2654"/>
                    </a:lnTo>
                    <a:lnTo>
                      <a:pt x="10959" y="2598"/>
                    </a:lnTo>
                    <a:lnTo>
                      <a:pt x="10959" y="2541"/>
                    </a:lnTo>
                    <a:lnTo>
                      <a:pt x="10959" y="2485"/>
                    </a:lnTo>
                    <a:lnTo>
                      <a:pt x="10959" y="2428"/>
                    </a:lnTo>
                    <a:lnTo>
                      <a:pt x="10959" y="2371"/>
                    </a:lnTo>
                    <a:lnTo>
                      <a:pt x="10959" y="2315"/>
                    </a:lnTo>
                    <a:lnTo>
                      <a:pt x="10959" y="2258"/>
                    </a:lnTo>
                    <a:close/>
                    <a:moveTo>
                      <a:pt x="9948" y="10820"/>
                    </a:moveTo>
                    <a:lnTo>
                      <a:pt x="10032" y="10760"/>
                    </a:lnTo>
                    <a:lnTo>
                      <a:pt x="10114" y="10700"/>
                    </a:lnTo>
                    <a:lnTo>
                      <a:pt x="10198" y="10640"/>
                    </a:lnTo>
                    <a:lnTo>
                      <a:pt x="10281" y="10580"/>
                    </a:lnTo>
                    <a:lnTo>
                      <a:pt x="10365" y="10520"/>
                    </a:lnTo>
                    <a:lnTo>
                      <a:pt x="10447" y="10460"/>
                    </a:lnTo>
                    <a:lnTo>
                      <a:pt x="10531" y="10400"/>
                    </a:lnTo>
                    <a:lnTo>
                      <a:pt x="10613" y="10340"/>
                    </a:lnTo>
                    <a:lnTo>
                      <a:pt x="10613" y="10399"/>
                    </a:lnTo>
                    <a:lnTo>
                      <a:pt x="10614" y="10459"/>
                    </a:lnTo>
                    <a:lnTo>
                      <a:pt x="10614" y="10518"/>
                    </a:lnTo>
                    <a:lnTo>
                      <a:pt x="10614" y="10578"/>
                    </a:lnTo>
                    <a:lnTo>
                      <a:pt x="10614" y="10637"/>
                    </a:lnTo>
                    <a:lnTo>
                      <a:pt x="10614" y="10696"/>
                    </a:lnTo>
                    <a:lnTo>
                      <a:pt x="10614" y="10755"/>
                    </a:lnTo>
                    <a:lnTo>
                      <a:pt x="10614" y="10813"/>
                    </a:lnTo>
                    <a:lnTo>
                      <a:pt x="10531" y="10876"/>
                    </a:lnTo>
                    <a:lnTo>
                      <a:pt x="10447" y="10938"/>
                    </a:lnTo>
                    <a:lnTo>
                      <a:pt x="10365" y="11000"/>
                    </a:lnTo>
                    <a:lnTo>
                      <a:pt x="10281" y="11062"/>
                    </a:lnTo>
                    <a:lnTo>
                      <a:pt x="10198" y="11124"/>
                    </a:lnTo>
                    <a:lnTo>
                      <a:pt x="10114" y="11186"/>
                    </a:lnTo>
                    <a:lnTo>
                      <a:pt x="10032" y="11249"/>
                    </a:lnTo>
                    <a:lnTo>
                      <a:pt x="9948" y="11311"/>
                    </a:lnTo>
                    <a:lnTo>
                      <a:pt x="9948" y="11250"/>
                    </a:lnTo>
                    <a:lnTo>
                      <a:pt x="9948" y="11189"/>
                    </a:lnTo>
                    <a:lnTo>
                      <a:pt x="9948" y="11128"/>
                    </a:lnTo>
                    <a:lnTo>
                      <a:pt x="9948" y="11066"/>
                    </a:lnTo>
                    <a:lnTo>
                      <a:pt x="9948" y="11005"/>
                    </a:lnTo>
                    <a:lnTo>
                      <a:pt x="9948" y="10943"/>
                    </a:lnTo>
                    <a:lnTo>
                      <a:pt x="9948" y="10882"/>
                    </a:lnTo>
                    <a:lnTo>
                      <a:pt x="9948" y="10820"/>
                    </a:lnTo>
                    <a:close/>
                    <a:moveTo>
                      <a:pt x="9947" y="9970"/>
                    </a:moveTo>
                    <a:lnTo>
                      <a:pt x="10031" y="9916"/>
                    </a:lnTo>
                    <a:lnTo>
                      <a:pt x="10114" y="9861"/>
                    </a:lnTo>
                    <a:lnTo>
                      <a:pt x="10198" y="9807"/>
                    </a:lnTo>
                    <a:lnTo>
                      <a:pt x="10280" y="9752"/>
                    </a:lnTo>
                    <a:lnTo>
                      <a:pt x="10364" y="9698"/>
                    </a:lnTo>
                    <a:lnTo>
                      <a:pt x="10447" y="9643"/>
                    </a:lnTo>
                    <a:lnTo>
                      <a:pt x="10531" y="9588"/>
                    </a:lnTo>
                    <a:lnTo>
                      <a:pt x="10613" y="9533"/>
                    </a:lnTo>
                    <a:lnTo>
                      <a:pt x="10613" y="9593"/>
                    </a:lnTo>
                    <a:lnTo>
                      <a:pt x="10613" y="9652"/>
                    </a:lnTo>
                    <a:lnTo>
                      <a:pt x="10613" y="9711"/>
                    </a:lnTo>
                    <a:lnTo>
                      <a:pt x="10613" y="9771"/>
                    </a:lnTo>
                    <a:lnTo>
                      <a:pt x="10613" y="9830"/>
                    </a:lnTo>
                    <a:lnTo>
                      <a:pt x="10613" y="9889"/>
                    </a:lnTo>
                    <a:lnTo>
                      <a:pt x="10613" y="9948"/>
                    </a:lnTo>
                    <a:lnTo>
                      <a:pt x="10613" y="10007"/>
                    </a:lnTo>
                    <a:lnTo>
                      <a:pt x="10531" y="10064"/>
                    </a:lnTo>
                    <a:lnTo>
                      <a:pt x="10447" y="10120"/>
                    </a:lnTo>
                    <a:lnTo>
                      <a:pt x="10364" y="10177"/>
                    </a:lnTo>
                    <a:lnTo>
                      <a:pt x="10280" y="10233"/>
                    </a:lnTo>
                    <a:lnTo>
                      <a:pt x="10198" y="10290"/>
                    </a:lnTo>
                    <a:lnTo>
                      <a:pt x="10114" y="10347"/>
                    </a:lnTo>
                    <a:lnTo>
                      <a:pt x="10031" y="10404"/>
                    </a:lnTo>
                    <a:lnTo>
                      <a:pt x="9947" y="10462"/>
                    </a:lnTo>
                    <a:lnTo>
                      <a:pt x="9947" y="10400"/>
                    </a:lnTo>
                    <a:lnTo>
                      <a:pt x="9947" y="10339"/>
                    </a:lnTo>
                    <a:lnTo>
                      <a:pt x="9947" y="10277"/>
                    </a:lnTo>
                    <a:lnTo>
                      <a:pt x="9947" y="10216"/>
                    </a:lnTo>
                    <a:lnTo>
                      <a:pt x="9947" y="10155"/>
                    </a:lnTo>
                    <a:lnTo>
                      <a:pt x="9947" y="10094"/>
                    </a:lnTo>
                    <a:lnTo>
                      <a:pt x="9947" y="10032"/>
                    </a:lnTo>
                    <a:lnTo>
                      <a:pt x="9947" y="9970"/>
                    </a:lnTo>
                    <a:close/>
                    <a:moveTo>
                      <a:pt x="9947" y="9117"/>
                    </a:moveTo>
                    <a:lnTo>
                      <a:pt x="10031" y="9069"/>
                    </a:lnTo>
                    <a:lnTo>
                      <a:pt x="10114" y="9020"/>
                    </a:lnTo>
                    <a:lnTo>
                      <a:pt x="10197" y="8972"/>
                    </a:lnTo>
                    <a:lnTo>
                      <a:pt x="10280" y="8923"/>
                    </a:lnTo>
                    <a:lnTo>
                      <a:pt x="10364" y="8874"/>
                    </a:lnTo>
                    <a:lnTo>
                      <a:pt x="10446" y="8825"/>
                    </a:lnTo>
                    <a:lnTo>
                      <a:pt x="10530" y="8776"/>
                    </a:lnTo>
                    <a:lnTo>
                      <a:pt x="10613" y="8727"/>
                    </a:lnTo>
                    <a:lnTo>
                      <a:pt x="10613" y="8787"/>
                    </a:lnTo>
                    <a:lnTo>
                      <a:pt x="10613" y="8846"/>
                    </a:lnTo>
                    <a:lnTo>
                      <a:pt x="10613" y="8905"/>
                    </a:lnTo>
                    <a:lnTo>
                      <a:pt x="10613" y="8964"/>
                    </a:lnTo>
                    <a:lnTo>
                      <a:pt x="10613" y="9023"/>
                    </a:lnTo>
                    <a:lnTo>
                      <a:pt x="10613" y="9082"/>
                    </a:lnTo>
                    <a:lnTo>
                      <a:pt x="10613" y="9141"/>
                    </a:lnTo>
                    <a:lnTo>
                      <a:pt x="10613" y="9199"/>
                    </a:lnTo>
                    <a:lnTo>
                      <a:pt x="10530" y="9250"/>
                    </a:lnTo>
                    <a:lnTo>
                      <a:pt x="10447" y="9302"/>
                    </a:lnTo>
                    <a:lnTo>
                      <a:pt x="10364" y="9353"/>
                    </a:lnTo>
                    <a:lnTo>
                      <a:pt x="10280" y="9404"/>
                    </a:lnTo>
                    <a:lnTo>
                      <a:pt x="10197" y="9455"/>
                    </a:lnTo>
                    <a:lnTo>
                      <a:pt x="10114" y="9507"/>
                    </a:lnTo>
                    <a:lnTo>
                      <a:pt x="10031" y="9557"/>
                    </a:lnTo>
                    <a:lnTo>
                      <a:pt x="9947" y="9609"/>
                    </a:lnTo>
                    <a:lnTo>
                      <a:pt x="9947" y="9547"/>
                    </a:lnTo>
                    <a:lnTo>
                      <a:pt x="9947" y="9486"/>
                    </a:lnTo>
                    <a:lnTo>
                      <a:pt x="9947" y="9425"/>
                    </a:lnTo>
                    <a:lnTo>
                      <a:pt x="9947" y="9363"/>
                    </a:lnTo>
                    <a:lnTo>
                      <a:pt x="9947" y="9302"/>
                    </a:lnTo>
                    <a:lnTo>
                      <a:pt x="9947" y="9241"/>
                    </a:lnTo>
                    <a:lnTo>
                      <a:pt x="9947" y="9179"/>
                    </a:lnTo>
                    <a:lnTo>
                      <a:pt x="9947" y="9117"/>
                    </a:lnTo>
                    <a:close/>
                    <a:moveTo>
                      <a:pt x="9947" y="8266"/>
                    </a:moveTo>
                    <a:lnTo>
                      <a:pt x="10030" y="8223"/>
                    </a:lnTo>
                    <a:lnTo>
                      <a:pt x="10113" y="8179"/>
                    </a:lnTo>
                    <a:lnTo>
                      <a:pt x="10197" y="8136"/>
                    </a:lnTo>
                    <a:lnTo>
                      <a:pt x="10279" y="8093"/>
                    </a:lnTo>
                    <a:lnTo>
                      <a:pt x="10363" y="8050"/>
                    </a:lnTo>
                    <a:lnTo>
                      <a:pt x="10446" y="8006"/>
                    </a:lnTo>
                    <a:lnTo>
                      <a:pt x="10530" y="7964"/>
                    </a:lnTo>
                    <a:lnTo>
                      <a:pt x="10612" y="7920"/>
                    </a:lnTo>
                    <a:lnTo>
                      <a:pt x="10612" y="7980"/>
                    </a:lnTo>
                    <a:lnTo>
                      <a:pt x="10612" y="8039"/>
                    </a:lnTo>
                    <a:lnTo>
                      <a:pt x="10612" y="8099"/>
                    </a:lnTo>
                    <a:lnTo>
                      <a:pt x="10612" y="8158"/>
                    </a:lnTo>
                    <a:lnTo>
                      <a:pt x="10612" y="8217"/>
                    </a:lnTo>
                    <a:lnTo>
                      <a:pt x="10612" y="8276"/>
                    </a:lnTo>
                    <a:lnTo>
                      <a:pt x="10613" y="8335"/>
                    </a:lnTo>
                    <a:lnTo>
                      <a:pt x="10613" y="8394"/>
                    </a:lnTo>
                    <a:lnTo>
                      <a:pt x="10530" y="8439"/>
                    </a:lnTo>
                    <a:lnTo>
                      <a:pt x="10446" y="8484"/>
                    </a:lnTo>
                    <a:lnTo>
                      <a:pt x="10364" y="8529"/>
                    </a:lnTo>
                    <a:lnTo>
                      <a:pt x="10280" y="8575"/>
                    </a:lnTo>
                    <a:lnTo>
                      <a:pt x="10197" y="8620"/>
                    </a:lnTo>
                    <a:lnTo>
                      <a:pt x="10113" y="8665"/>
                    </a:lnTo>
                    <a:lnTo>
                      <a:pt x="10031" y="8710"/>
                    </a:lnTo>
                    <a:lnTo>
                      <a:pt x="9947" y="8756"/>
                    </a:lnTo>
                    <a:lnTo>
                      <a:pt x="9947" y="8695"/>
                    </a:lnTo>
                    <a:lnTo>
                      <a:pt x="9947" y="8634"/>
                    </a:lnTo>
                    <a:lnTo>
                      <a:pt x="9947" y="8573"/>
                    </a:lnTo>
                    <a:lnTo>
                      <a:pt x="9947" y="8512"/>
                    </a:lnTo>
                    <a:lnTo>
                      <a:pt x="9947" y="8451"/>
                    </a:lnTo>
                    <a:lnTo>
                      <a:pt x="9947" y="8389"/>
                    </a:lnTo>
                    <a:lnTo>
                      <a:pt x="9947" y="8328"/>
                    </a:lnTo>
                    <a:lnTo>
                      <a:pt x="9947" y="8266"/>
                    </a:lnTo>
                    <a:close/>
                    <a:moveTo>
                      <a:pt x="9947" y="7414"/>
                    </a:moveTo>
                    <a:lnTo>
                      <a:pt x="10030" y="7378"/>
                    </a:lnTo>
                    <a:lnTo>
                      <a:pt x="10113" y="7340"/>
                    </a:lnTo>
                    <a:lnTo>
                      <a:pt x="10196" y="7302"/>
                    </a:lnTo>
                    <a:lnTo>
                      <a:pt x="10279" y="7265"/>
                    </a:lnTo>
                    <a:lnTo>
                      <a:pt x="10363" y="7227"/>
                    </a:lnTo>
                    <a:lnTo>
                      <a:pt x="10445" y="7189"/>
                    </a:lnTo>
                    <a:lnTo>
                      <a:pt x="10529" y="7152"/>
                    </a:lnTo>
                    <a:lnTo>
                      <a:pt x="10611" y="7114"/>
                    </a:lnTo>
                    <a:lnTo>
                      <a:pt x="10612" y="7173"/>
                    </a:lnTo>
                    <a:lnTo>
                      <a:pt x="10612" y="7232"/>
                    </a:lnTo>
                    <a:lnTo>
                      <a:pt x="10612" y="7291"/>
                    </a:lnTo>
                    <a:lnTo>
                      <a:pt x="10612" y="7351"/>
                    </a:lnTo>
                    <a:lnTo>
                      <a:pt x="10612" y="7410"/>
                    </a:lnTo>
                    <a:lnTo>
                      <a:pt x="10612" y="7469"/>
                    </a:lnTo>
                    <a:lnTo>
                      <a:pt x="10612" y="7527"/>
                    </a:lnTo>
                    <a:lnTo>
                      <a:pt x="10612" y="7586"/>
                    </a:lnTo>
                    <a:lnTo>
                      <a:pt x="10530" y="7626"/>
                    </a:lnTo>
                    <a:lnTo>
                      <a:pt x="10446" y="7666"/>
                    </a:lnTo>
                    <a:lnTo>
                      <a:pt x="10363" y="7706"/>
                    </a:lnTo>
                    <a:lnTo>
                      <a:pt x="10279" y="7746"/>
                    </a:lnTo>
                    <a:lnTo>
                      <a:pt x="10197" y="7786"/>
                    </a:lnTo>
                    <a:lnTo>
                      <a:pt x="10113" y="7825"/>
                    </a:lnTo>
                    <a:lnTo>
                      <a:pt x="10030" y="7865"/>
                    </a:lnTo>
                    <a:lnTo>
                      <a:pt x="9947" y="7905"/>
                    </a:lnTo>
                    <a:lnTo>
                      <a:pt x="9947" y="7844"/>
                    </a:lnTo>
                    <a:lnTo>
                      <a:pt x="9947" y="7783"/>
                    </a:lnTo>
                    <a:lnTo>
                      <a:pt x="9947" y="7721"/>
                    </a:lnTo>
                    <a:lnTo>
                      <a:pt x="9947" y="7659"/>
                    </a:lnTo>
                    <a:lnTo>
                      <a:pt x="9947" y="7598"/>
                    </a:lnTo>
                    <a:lnTo>
                      <a:pt x="9947" y="7537"/>
                    </a:lnTo>
                    <a:lnTo>
                      <a:pt x="9947" y="7476"/>
                    </a:lnTo>
                    <a:lnTo>
                      <a:pt x="9947" y="7414"/>
                    </a:lnTo>
                    <a:close/>
                    <a:moveTo>
                      <a:pt x="9946" y="6562"/>
                    </a:moveTo>
                    <a:lnTo>
                      <a:pt x="10030" y="6530"/>
                    </a:lnTo>
                    <a:lnTo>
                      <a:pt x="10113" y="6498"/>
                    </a:lnTo>
                    <a:lnTo>
                      <a:pt x="10196" y="6466"/>
                    </a:lnTo>
                    <a:lnTo>
                      <a:pt x="10279" y="6435"/>
                    </a:lnTo>
                    <a:lnTo>
                      <a:pt x="10363" y="6402"/>
                    </a:lnTo>
                    <a:lnTo>
                      <a:pt x="10445" y="6371"/>
                    </a:lnTo>
                    <a:lnTo>
                      <a:pt x="10529" y="6339"/>
                    </a:lnTo>
                    <a:lnTo>
                      <a:pt x="10611" y="6307"/>
                    </a:lnTo>
                    <a:lnTo>
                      <a:pt x="10611" y="6367"/>
                    </a:lnTo>
                    <a:lnTo>
                      <a:pt x="10611" y="6426"/>
                    </a:lnTo>
                    <a:lnTo>
                      <a:pt x="10611" y="6485"/>
                    </a:lnTo>
                    <a:lnTo>
                      <a:pt x="10611" y="6544"/>
                    </a:lnTo>
                    <a:lnTo>
                      <a:pt x="10611" y="6603"/>
                    </a:lnTo>
                    <a:lnTo>
                      <a:pt x="10611" y="6662"/>
                    </a:lnTo>
                    <a:lnTo>
                      <a:pt x="10611" y="6721"/>
                    </a:lnTo>
                    <a:lnTo>
                      <a:pt x="10611" y="6780"/>
                    </a:lnTo>
                    <a:lnTo>
                      <a:pt x="10529" y="6814"/>
                    </a:lnTo>
                    <a:lnTo>
                      <a:pt x="10445" y="6849"/>
                    </a:lnTo>
                    <a:lnTo>
                      <a:pt x="10363" y="6882"/>
                    </a:lnTo>
                    <a:lnTo>
                      <a:pt x="10279" y="6917"/>
                    </a:lnTo>
                    <a:lnTo>
                      <a:pt x="10196" y="6951"/>
                    </a:lnTo>
                    <a:lnTo>
                      <a:pt x="10113" y="6985"/>
                    </a:lnTo>
                    <a:lnTo>
                      <a:pt x="10030" y="7020"/>
                    </a:lnTo>
                    <a:lnTo>
                      <a:pt x="9947" y="7054"/>
                    </a:lnTo>
                    <a:lnTo>
                      <a:pt x="9947" y="6992"/>
                    </a:lnTo>
                    <a:lnTo>
                      <a:pt x="9947" y="6931"/>
                    </a:lnTo>
                    <a:lnTo>
                      <a:pt x="9947" y="6870"/>
                    </a:lnTo>
                    <a:lnTo>
                      <a:pt x="9946" y="6808"/>
                    </a:lnTo>
                    <a:lnTo>
                      <a:pt x="9946" y="6747"/>
                    </a:lnTo>
                    <a:lnTo>
                      <a:pt x="9946" y="6685"/>
                    </a:lnTo>
                    <a:lnTo>
                      <a:pt x="9946" y="6624"/>
                    </a:lnTo>
                    <a:lnTo>
                      <a:pt x="9946" y="6562"/>
                    </a:lnTo>
                    <a:close/>
                    <a:moveTo>
                      <a:pt x="9946" y="5710"/>
                    </a:moveTo>
                    <a:lnTo>
                      <a:pt x="10030" y="5685"/>
                    </a:lnTo>
                    <a:lnTo>
                      <a:pt x="10112" y="5659"/>
                    </a:lnTo>
                    <a:lnTo>
                      <a:pt x="10196" y="5633"/>
                    </a:lnTo>
                    <a:lnTo>
                      <a:pt x="10278" y="5607"/>
                    </a:lnTo>
                    <a:lnTo>
                      <a:pt x="10362" y="5581"/>
                    </a:lnTo>
                    <a:lnTo>
                      <a:pt x="10445" y="5555"/>
                    </a:lnTo>
                    <a:lnTo>
                      <a:pt x="10528" y="5528"/>
                    </a:lnTo>
                    <a:lnTo>
                      <a:pt x="10611" y="5502"/>
                    </a:lnTo>
                    <a:lnTo>
                      <a:pt x="10611" y="5561"/>
                    </a:lnTo>
                    <a:lnTo>
                      <a:pt x="10611" y="5621"/>
                    </a:lnTo>
                    <a:lnTo>
                      <a:pt x="10611" y="5680"/>
                    </a:lnTo>
                    <a:lnTo>
                      <a:pt x="10611" y="5739"/>
                    </a:lnTo>
                    <a:lnTo>
                      <a:pt x="10611" y="5798"/>
                    </a:lnTo>
                    <a:lnTo>
                      <a:pt x="10611" y="5857"/>
                    </a:lnTo>
                    <a:lnTo>
                      <a:pt x="10611" y="5916"/>
                    </a:lnTo>
                    <a:lnTo>
                      <a:pt x="10611" y="5975"/>
                    </a:lnTo>
                    <a:lnTo>
                      <a:pt x="10528" y="6002"/>
                    </a:lnTo>
                    <a:lnTo>
                      <a:pt x="10445" y="6031"/>
                    </a:lnTo>
                    <a:lnTo>
                      <a:pt x="10362" y="6059"/>
                    </a:lnTo>
                    <a:lnTo>
                      <a:pt x="10278" y="6088"/>
                    </a:lnTo>
                    <a:lnTo>
                      <a:pt x="10196" y="6116"/>
                    </a:lnTo>
                    <a:lnTo>
                      <a:pt x="10112" y="6145"/>
                    </a:lnTo>
                    <a:lnTo>
                      <a:pt x="10030" y="6173"/>
                    </a:lnTo>
                    <a:lnTo>
                      <a:pt x="9946" y="6203"/>
                    </a:lnTo>
                    <a:lnTo>
                      <a:pt x="9946" y="6141"/>
                    </a:lnTo>
                    <a:lnTo>
                      <a:pt x="9946" y="6080"/>
                    </a:lnTo>
                    <a:lnTo>
                      <a:pt x="9946" y="6019"/>
                    </a:lnTo>
                    <a:lnTo>
                      <a:pt x="9946" y="5957"/>
                    </a:lnTo>
                    <a:lnTo>
                      <a:pt x="9946" y="5896"/>
                    </a:lnTo>
                    <a:lnTo>
                      <a:pt x="9946" y="5835"/>
                    </a:lnTo>
                    <a:lnTo>
                      <a:pt x="9946" y="5773"/>
                    </a:lnTo>
                    <a:lnTo>
                      <a:pt x="9946" y="5710"/>
                    </a:lnTo>
                    <a:close/>
                    <a:moveTo>
                      <a:pt x="9946" y="4859"/>
                    </a:moveTo>
                    <a:lnTo>
                      <a:pt x="10029" y="4839"/>
                    </a:lnTo>
                    <a:lnTo>
                      <a:pt x="10112" y="4818"/>
                    </a:lnTo>
                    <a:lnTo>
                      <a:pt x="10195" y="4798"/>
                    </a:lnTo>
                    <a:lnTo>
                      <a:pt x="10278" y="4777"/>
                    </a:lnTo>
                    <a:lnTo>
                      <a:pt x="10361" y="4756"/>
                    </a:lnTo>
                    <a:lnTo>
                      <a:pt x="10444" y="4736"/>
                    </a:lnTo>
                    <a:lnTo>
                      <a:pt x="10528" y="4716"/>
                    </a:lnTo>
                    <a:lnTo>
                      <a:pt x="10610" y="4694"/>
                    </a:lnTo>
                    <a:lnTo>
                      <a:pt x="10610" y="4754"/>
                    </a:lnTo>
                    <a:lnTo>
                      <a:pt x="10610" y="4813"/>
                    </a:lnTo>
                    <a:lnTo>
                      <a:pt x="10610" y="4872"/>
                    </a:lnTo>
                    <a:lnTo>
                      <a:pt x="10610" y="4931"/>
                    </a:lnTo>
                    <a:lnTo>
                      <a:pt x="10611" y="4990"/>
                    </a:lnTo>
                    <a:lnTo>
                      <a:pt x="10611" y="5049"/>
                    </a:lnTo>
                    <a:lnTo>
                      <a:pt x="10611" y="5108"/>
                    </a:lnTo>
                    <a:lnTo>
                      <a:pt x="10611" y="5167"/>
                    </a:lnTo>
                    <a:lnTo>
                      <a:pt x="10528" y="5191"/>
                    </a:lnTo>
                    <a:lnTo>
                      <a:pt x="10445" y="5213"/>
                    </a:lnTo>
                    <a:lnTo>
                      <a:pt x="10362" y="5236"/>
                    </a:lnTo>
                    <a:lnTo>
                      <a:pt x="10278" y="5259"/>
                    </a:lnTo>
                    <a:lnTo>
                      <a:pt x="10196" y="5281"/>
                    </a:lnTo>
                    <a:lnTo>
                      <a:pt x="10112" y="5305"/>
                    </a:lnTo>
                    <a:lnTo>
                      <a:pt x="10030" y="5327"/>
                    </a:lnTo>
                    <a:lnTo>
                      <a:pt x="9946" y="5349"/>
                    </a:lnTo>
                    <a:lnTo>
                      <a:pt x="9946" y="5288"/>
                    </a:lnTo>
                    <a:lnTo>
                      <a:pt x="9946" y="5227"/>
                    </a:lnTo>
                    <a:lnTo>
                      <a:pt x="9946" y="5166"/>
                    </a:lnTo>
                    <a:lnTo>
                      <a:pt x="9946" y="5105"/>
                    </a:lnTo>
                    <a:lnTo>
                      <a:pt x="9946" y="5044"/>
                    </a:lnTo>
                    <a:lnTo>
                      <a:pt x="9946" y="4982"/>
                    </a:lnTo>
                    <a:lnTo>
                      <a:pt x="9946" y="4921"/>
                    </a:lnTo>
                    <a:lnTo>
                      <a:pt x="9946" y="4859"/>
                    </a:lnTo>
                    <a:close/>
                    <a:moveTo>
                      <a:pt x="9945" y="4009"/>
                    </a:moveTo>
                    <a:lnTo>
                      <a:pt x="10029" y="3993"/>
                    </a:lnTo>
                    <a:lnTo>
                      <a:pt x="10112" y="3978"/>
                    </a:lnTo>
                    <a:lnTo>
                      <a:pt x="10195" y="3963"/>
                    </a:lnTo>
                    <a:lnTo>
                      <a:pt x="10278" y="3949"/>
                    </a:lnTo>
                    <a:lnTo>
                      <a:pt x="10361" y="3933"/>
                    </a:lnTo>
                    <a:lnTo>
                      <a:pt x="10444" y="3918"/>
                    </a:lnTo>
                    <a:lnTo>
                      <a:pt x="10528" y="3903"/>
                    </a:lnTo>
                    <a:lnTo>
                      <a:pt x="10610" y="3888"/>
                    </a:lnTo>
                    <a:lnTo>
                      <a:pt x="10610" y="3947"/>
                    </a:lnTo>
                    <a:lnTo>
                      <a:pt x="10610" y="4007"/>
                    </a:lnTo>
                    <a:lnTo>
                      <a:pt x="10610" y="4066"/>
                    </a:lnTo>
                    <a:lnTo>
                      <a:pt x="10610" y="4126"/>
                    </a:lnTo>
                    <a:lnTo>
                      <a:pt x="10610" y="4185"/>
                    </a:lnTo>
                    <a:lnTo>
                      <a:pt x="10610" y="4244"/>
                    </a:lnTo>
                    <a:lnTo>
                      <a:pt x="10610" y="4303"/>
                    </a:lnTo>
                    <a:lnTo>
                      <a:pt x="10610" y="4361"/>
                    </a:lnTo>
                    <a:lnTo>
                      <a:pt x="10528" y="4378"/>
                    </a:lnTo>
                    <a:lnTo>
                      <a:pt x="10444" y="4395"/>
                    </a:lnTo>
                    <a:lnTo>
                      <a:pt x="10361" y="4412"/>
                    </a:lnTo>
                    <a:lnTo>
                      <a:pt x="10278" y="4429"/>
                    </a:lnTo>
                    <a:lnTo>
                      <a:pt x="10195" y="4446"/>
                    </a:lnTo>
                    <a:lnTo>
                      <a:pt x="10112" y="4463"/>
                    </a:lnTo>
                    <a:lnTo>
                      <a:pt x="10029" y="4481"/>
                    </a:lnTo>
                    <a:lnTo>
                      <a:pt x="9945" y="4498"/>
                    </a:lnTo>
                    <a:lnTo>
                      <a:pt x="9945" y="4437"/>
                    </a:lnTo>
                    <a:lnTo>
                      <a:pt x="9945" y="4376"/>
                    </a:lnTo>
                    <a:lnTo>
                      <a:pt x="9945" y="4315"/>
                    </a:lnTo>
                    <a:lnTo>
                      <a:pt x="9945" y="4253"/>
                    </a:lnTo>
                    <a:lnTo>
                      <a:pt x="9945" y="4192"/>
                    </a:lnTo>
                    <a:lnTo>
                      <a:pt x="9945" y="4131"/>
                    </a:lnTo>
                    <a:lnTo>
                      <a:pt x="9945" y="4070"/>
                    </a:lnTo>
                    <a:lnTo>
                      <a:pt x="9945" y="4009"/>
                    </a:lnTo>
                    <a:close/>
                    <a:moveTo>
                      <a:pt x="9945" y="3155"/>
                    </a:moveTo>
                    <a:lnTo>
                      <a:pt x="10029" y="3146"/>
                    </a:lnTo>
                    <a:lnTo>
                      <a:pt x="10111" y="3137"/>
                    </a:lnTo>
                    <a:lnTo>
                      <a:pt x="10195" y="3128"/>
                    </a:lnTo>
                    <a:lnTo>
                      <a:pt x="10277" y="3119"/>
                    </a:lnTo>
                    <a:lnTo>
                      <a:pt x="10361" y="3109"/>
                    </a:lnTo>
                    <a:lnTo>
                      <a:pt x="10443" y="3099"/>
                    </a:lnTo>
                    <a:lnTo>
                      <a:pt x="10527" y="3090"/>
                    </a:lnTo>
                    <a:lnTo>
                      <a:pt x="10609" y="3080"/>
                    </a:lnTo>
                    <a:lnTo>
                      <a:pt x="10609" y="3140"/>
                    </a:lnTo>
                    <a:lnTo>
                      <a:pt x="10609" y="3199"/>
                    </a:lnTo>
                    <a:lnTo>
                      <a:pt x="10609" y="3259"/>
                    </a:lnTo>
                    <a:lnTo>
                      <a:pt x="10609" y="3318"/>
                    </a:lnTo>
                    <a:lnTo>
                      <a:pt x="10609" y="3377"/>
                    </a:lnTo>
                    <a:lnTo>
                      <a:pt x="10609" y="3436"/>
                    </a:lnTo>
                    <a:lnTo>
                      <a:pt x="10609" y="3495"/>
                    </a:lnTo>
                    <a:lnTo>
                      <a:pt x="10609" y="3554"/>
                    </a:lnTo>
                    <a:lnTo>
                      <a:pt x="10527" y="3565"/>
                    </a:lnTo>
                    <a:lnTo>
                      <a:pt x="10444" y="3577"/>
                    </a:lnTo>
                    <a:lnTo>
                      <a:pt x="10361" y="3589"/>
                    </a:lnTo>
                    <a:lnTo>
                      <a:pt x="10278" y="3601"/>
                    </a:lnTo>
                    <a:lnTo>
                      <a:pt x="10195" y="3612"/>
                    </a:lnTo>
                    <a:lnTo>
                      <a:pt x="10112" y="3623"/>
                    </a:lnTo>
                    <a:lnTo>
                      <a:pt x="10029" y="3635"/>
                    </a:lnTo>
                    <a:lnTo>
                      <a:pt x="9945" y="3648"/>
                    </a:lnTo>
                    <a:lnTo>
                      <a:pt x="9945" y="3586"/>
                    </a:lnTo>
                    <a:lnTo>
                      <a:pt x="9945" y="3525"/>
                    </a:lnTo>
                    <a:lnTo>
                      <a:pt x="9945" y="3464"/>
                    </a:lnTo>
                    <a:lnTo>
                      <a:pt x="9945" y="3401"/>
                    </a:lnTo>
                    <a:lnTo>
                      <a:pt x="9945" y="3340"/>
                    </a:lnTo>
                    <a:lnTo>
                      <a:pt x="9945" y="3279"/>
                    </a:lnTo>
                    <a:lnTo>
                      <a:pt x="9945" y="3217"/>
                    </a:lnTo>
                    <a:lnTo>
                      <a:pt x="9945" y="3155"/>
                    </a:lnTo>
                    <a:close/>
                    <a:moveTo>
                      <a:pt x="9945" y="2303"/>
                    </a:moveTo>
                    <a:lnTo>
                      <a:pt x="10028" y="2300"/>
                    </a:lnTo>
                    <a:lnTo>
                      <a:pt x="10111" y="2296"/>
                    </a:lnTo>
                    <a:lnTo>
                      <a:pt x="10194" y="2292"/>
                    </a:lnTo>
                    <a:lnTo>
                      <a:pt x="10277" y="2289"/>
                    </a:lnTo>
                    <a:lnTo>
                      <a:pt x="10361" y="2285"/>
                    </a:lnTo>
                    <a:lnTo>
                      <a:pt x="10443" y="2281"/>
                    </a:lnTo>
                    <a:lnTo>
                      <a:pt x="10526" y="2276"/>
                    </a:lnTo>
                    <a:lnTo>
                      <a:pt x="10609" y="2272"/>
                    </a:lnTo>
                    <a:lnTo>
                      <a:pt x="10609" y="2332"/>
                    </a:lnTo>
                    <a:lnTo>
                      <a:pt x="10609" y="2392"/>
                    </a:lnTo>
                    <a:lnTo>
                      <a:pt x="10609" y="2452"/>
                    </a:lnTo>
                    <a:lnTo>
                      <a:pt x="10609" y="2511"/>
                    </a:lnTo>
                    <a:lnTo>
                      <a:pt x="10609" y="2571"/>
                    </a:lnTo>
                    <a:lnTo>
                      <a:pt x="10609" y="2630"/>
                    </a:lnTo>
                    <a:lnTo>
                      <a:pt x="10609" y="2689"/>
                    </a:lnTo>
                    <a:lnTo>
                      <a:pt x="10609" y="2747"/>
                    </a:lnTo>
                    <a:lnTo>
                      <a:pt x="10527" y="2754"/>
                    </a:lnTo>
                    <a:lnTo>
                      <a:pt x="10443" y="2760"/>
                    </a:lnTo>
                    <a:lnTo>
                      <a:pt x="10361" y="2766"/>
                    </a:lnTo>
                    <a:lnTo>
                      <a:pt x="10277" y="2772"/>
                    </a:lnTo>
                    <a:lnTo>
                      <a:pt x="10194" y="2778"/>
                    </a:lnTo>
                    <a:lnTo>
                      <a:pt x="10111" y="2784"/>
                    </a:lnTo>
                    <a:lnTo>
                      <a:pt x="10028" y="2790"/>
                    </a:lnTo>
                    <a:lnTo>
                      <a:pt x="9945" y="2796"/>
                    </a:lnTo>
                    <a:lnTo>
                      <a:pt x="9945" y="2734"/>
                    </a:lnTo>
                    <a:lnTo>
                      <a:pt x="9945" y="2673"/>
                    </a:lnTo>
                    <a:lnTo>
                      <a:pt x="9945" y="2612"/>
                    </a:lnTo>
                    <a:lnTo>
                      <a:pt x="9945" y="2550"/>
                    </a:lnTo>
                    <a:lnTo>
                      <a:pt x="9945" y="2489"/>
                    </a:lnTo>
                    <a:lnTo>
                      <a:pt x="9945" y="2427"/>
                    </a:lnTo>
                    <a:lnTo>
                      <a:pt x="9945" y="2365"/>
                    </a:lnTo>
                    <a:lnTo>
                      <a:pt x="9945" y="2303"/>
                    </a:lnTo>
                    <a:close/>
                    <a:moveTo>
                      <a:pt x="8933" y="13394"/>
                    </a:moveTo>
                    <a:lnTo>
                      <a:pt x="9016" y="13323"/>
                    </a:lnTo>
                    <a:lnTo>
                      <a:pt x="9099" y="13252"/>
                    </a:lnTo>
                    <a:lnTo>
                      <a:pt x="9182" y="13181"/>
                    </a:lnTo>
                    <a:lnTo>
                      <a:pt x="9266" y="13110"/>
                    </a:lnTo>
                    <a:lnTo>
                      <a:pt x="9348" y="13038"/>
                    </a:lnTo>
                    <a:lnTo>
                      <a:pt x="9432" y="12967"/>
                    </a:lnTo>
                    <a:lnTo>
                      <a:pt x="9515" y="12896"/>
                    </a:lnTo>
                    <a:lnTo>
                      <a:pt x="9599" y="12825"/>
                    </a:lnTo>
                    <a:lnTo>
                      <a:pt x="9599" y="12889"/>
                    </a:lnTo>
                    <a:lnTo>
                      <a:pt x="9599" y="12953"/>
                    </a:lnTo>
                    <a:lnTo>
                      <a:pt x="9599" y="13018"/>
                    </a:lnTo>
                    <a:lnTo>
                      <a:pt x="9599" y="13082"/>
                    </a:lnTo>
                    <a:lnTo>
                      <a:pt x="9599" y="13146"/>
                    </a:lnTo>
                    <a:lnTo>
                      <a:pt x="9599" y="13210"/>
                    </a:lnTo>
                    <a:lnTo>
                      <a:pt x="9599" y="13274"/>
                    </a:lnTo>
                    <a:lnTo>
                      <a:pt x="9599" y="13338"/>
                    </a:lnTo>
                    <a:lnTo>
                      <a:pt x="9515" y="13412"/>
                    </a:lnTo>
                    <a:lnTo>
                      <a:pt x="9432" y="13485"/>
                    </a:lnTo>
                    <a:lnTo>
                      <a:pt x="9348" y="13558"/>
                    </a:lnTo>
                    <a:lnTo>
                      <a:pt x="9266" y="13631"/>
                    </a:lnTo>
                    <a:lnTo>
                      <a:pt x="9182" y="13705"/>
                    </a:lnTo>
                    <a:lnTo>
                      <a:pt x="9099" y="13778"/>
                    </a:lnTo>
                    <a:lnTo>
                      <a:pt x="9016" y="13851"/>
                    </a:lnTo>
                    <a:lnTo>
                      <a:pt x="8933" y="13924"/>
                    </a:lnTo>
                    <a:lnTo>
                      <a:pt x="8933" y="13858"/>
                    </a:lnTo>
                    <a:lnTo>
                      <a:pt x="8933" y="13792"/>
                    </a:lnTo>
                    <a:lnTo>
                      <a:pt x="8933" y="13726"/>
                    </a:lnTo>
                    <a:lnTo>
                      <a:pt x="8933" y="13660"/>
                    </a:lnTo>
                    <a:lnTo>
                      <a:pt x="8933" y="13594"/>
                    </a:lnTo>
                    <a:lnTo>
                      <a:pt x="8933" y="13528"/>
                    </a:lnTo>
                    <a:lnTo>
                      <a:pt x="8933" y="13460"/>
                    </a:lnTo>
                    <a:lnTo>
                      <a:pt x="8933" y="13394"/>
                    </a:lnTo>
                    <a:close/>
                    <a:moveTo>
                      <a:pt x="8933" y="9713"/>
                    </a:moveTo>
                    <a:lnTo>
                      <a:pt x="9016" y="9665"/>
                    </a:lnTo>
                    <a:lnTo>
                      <a:pt x="9099" y="9616"/>
                    </a:lnTo>
                    <a:lnTo>
                      <a:pt x="9182" y="9568"/>
                    </a:lnTo>
                    <a:lnTo>
                      <a:pt x="9265" y="9519"/>
                    </a:lnTo>
                    <a:lnTo>
                      <a:pt x="9348" y="9470"/>
                    </a:lnTo>
                    <a:lnTo>
                      <a:pt x="9431" y="9421"/>
                    </a:lnTo>
                    <a:lnTo>
                      <a:pt x="9514" y="9372"/>
                    </a:lnTo>
                    <a:lnTo>
                      <a:pt x="9598" y="9324"/>
                    </a:lnTo>
                    <a:lnTo>
                      <a:pt x="9598" y="9388"/>
                    </a:lnTo>
                    <a:lnTo>
                      <a:pt x="9598" y="9453"/>
                    </a:lnTo>
                    <a:lnTo>
                      <a:pt x="9598" y="9517"/>
                    </a:lnTo>
                    <a:lnTo>
                      <a:pt x="9598" y="9581"/>
                    </a:lnTo>
                    <a:lnTo>
                      <a:pt x="9598" y="9645"/>
                    </a:lnTo>
                    <a:lnTo>
                      <a:pt x="9598" y="9709"/>
                    </a:lnTo>
                    <a:lnTo>
                      <a:pt x="9598" y="9773"/>
                    </a:lnTo>
                    <a:lnTo>
                      <a:pt x="9598" y="9837"/>
                    </a:lnTo>
                    <a:lnTo>
                      <a:pt x="9514" y="9887"/>
                    </a:lnTo>
                    <a:lnTo>
                      <a:pt x="9431" y="9938"/>
                    </a:lnTo>
                    <a:lnTo>
                      <a:pt x="9348" y="9989"/>
                    </a:lnTo>
                    <a:lnTo>
                      <a:pt x="9265" y="10040"/>
                    </a:lnTo>
                    <a:lnTo>
                      <a:pt x="9182" y="10091"/>
                    </a:lnTo>
                    <a:lnTo>
                      <a:pt x="9099" y="10141"/>
                    </a:lnTo>
                    <a:lnTo>
                      <a:pt x="9016" y="10192"/>
                    </a:lnTo>
                    <a:lnTo>
                      <a:pt x="8933" y="10243"/>
                    </a:lnTo>
                    <a:lnTo>
                      <a:pt x="8933" y="10177"/>
                    </a:lnTo>
                    <a:lnTo>
                      <a:pt x="8933" y="10111"/>
                    </a:lnTo>
                    <a:lnTo>
                      <a:pt x="8933" y="10045"/>
                    </a:lnTo>
                    <a:lnTo>
                      <a:pt x="8933" y="9979"/>
                    </a:lnTo>
                    <a:lnTo>
                      <a:pt x="8933" y="9912"/>
                    </a:lnTo>
                    <a:lnTo>
                      <a:pt x="8933" y="9846"/>
                    </a:lnTo>
                    <a:lnTo>
                      <a:pt x="8933" y="9779"/>
                    </a:lnTo>
                    <a:lnTo>
                      <a:pt x="8933" y="9713"/>
                    </a:lnTo>
                    <a:close/>
                    <a:moveTo>
                      <a:pt x="8933" y="8792"/>
                    </a:moveTo>
                    <a:lnTo>
                      <a:pt x="9016" y="8749"/>
                    </a:lnTo>
                    <a:lnTo>
                      <a:pt x="9099" y="8706"/>
                    </a:lnTo>
                    <a:lnTo>
                      <a:pt x="9182" y="8663"/>
                    </a:lnTo>
                    <a:lnTo>
                      <a:pt x="9265" y="8621"/>
                    </a:lnTo>
                    <a:lnTo>
                      <a:pt x="9348" y="8577"/>
                    </a:lnTo>
                    <a:lnTo>
                      <a:pt x="9431" y="8534"/>
                    </a:lnTo>
                    <a:lnTo>
                      <a:pt x="9514" y="8490"/>
                    </a:lnTo>
                    <a:lnTo>
                      <a:pt x="9597" y="8448"/>
                    </a:lnTo>
                    <a:lnTo>
                      <a:pt x="9597" y="8512"/>
                    </a:lnTo>
                    <a:lnTo>
                      <a:pt x="9597" y="8577"/>
                    </a:lnTo>
                    <a:lnTo>
                      <a:pt x="9597" y="8641"/>
                    </a:lnTo>
                    <a:lnTo>
                      <a:pt x="9597" y="8705"/>
                    </a:lnTo>
                    <a:lnTo>
                      <a:pt x="9597" y="8769"/>
                    </a:lnTo>
                    <a:lnTo>
                      <a:pt x="9598" y="8833"/>
                    </a:lnTo>
                    <a:lnTo>
                      <a:pt x="9598" y="8898"/>
                    </a:lnTo>
                    <a:lnTo>
                      <a:pt x="9598" y="8962"/>
                    </a:lnTo>
                    <a:lnTo>
                      <a:pt x="9514" y="9007"/>
                    </a:lnTo>
                    <a:lnTo>
                      <a:pt x="9431" y="9052"/>
                    </a:lnTo>
                    <a:lnTo>
                      <a:pt x="9348" y="9097"/>
                    </a:lnTo>
                    <a:lnTo>
                      <a:pt x="9265" y="9141"/>
                    </a:lnTo>
                    <a:lnTo>
                      <a:pt x="9182" y="9186"/>
                    </a:lnTo>
                    <a:lnTo>
                      <a:pt x="9099" y="9232"/>
                    </a:lnTo>
                    <a:lnTo>
                      <a:pt x="9016" y="9277"/>
                    </a:lnTo>
                    <a:lnTo>
                      <a:pt x="8933" y="9322"/>
                    </a:lnTo>
                    <a:lnTo>
                      <a:pt x="8933" y="9256"/>
                    </a:lnTo>
                    <a:lnTo>
                      <a:pt x="8933" y="9190"/>
                    </a:lnTo>
                    <a:lnTo>
                      <a:pt x="8933" y="9124"/>
                    </a:lnTo>
                    <a:lnTo>
                      <a:pt x="8933" y="9058"/>
                    </a:lnTo>
                    <a:lnTo>
                      <a:pt x="8933" y="8992"/>
                    </a:lnTo>
                    <a:lnTo>
                      <a:pt x="8933" y="8926"/>
                    </a:lnTo>
                    <a:lnTo>
                      <a:pt x="8933" y="8859"/>
                    </a:lnTo>
                    <a:lnTo>
                      <a:pt x="8933" y="8792"/>
                    </a:lnTo>
                    <a:close/>
                    <a:moveTo>
                      <a:pt x="8933" y="7872"/>
                    </a:moveTo>
                    <a:lnTo>
                      <a:pt x="9016" y="7834"/>
                    </a:lnTo>
                    <a:lnTo>
                      <a:pt x="9099" y="7798"/>
                    </a:lnTo>
                    <a:lnTo>
                      <a:pt x="9182" y="7760"/>
                    </a:lnTo>
                    <a:lnTo>
                      <a:pt x="9265" y="7722"/>
                    </a:lnTo>
                    <a:lnTo>
                      <a:pt x="9348" y="7685"/>
                    </a:lnTo>
                    <a:lnTo>
                      <a:pt x="9431" y="7648"/>
                    </a:lnTo>
                    <a:lnTo>
                      <a:pt x="9514" y="7611"/>
                    </a:lnTo>
                    <a:lnTo>
                      <a:pt x="9597" y="7573"/>
                    </a:lnTo>
                    <a:lnTo>
                      <a:pt x="9597" y="7637"/>
                    </a:lnTo>
                    <a:lnTo>
                      <a:pt x="9597" y="7701"/>
                    </a:lnTo>
                    <a:lnTo>
                      <a:pt x="9597" y="7765"/>
                    </a:lnTo>
                    <a:lnTo>
                      <a:pt x="9597" y="7830"/>
                    </a:lnTo>
                    <a:lnTo>
                      <a:pt x="9597" y="7894"/>
                    </a:lnTo>
                    <a:lnTo>
                      <a:pt x="9597" y="7958"/>
                    </a:lnTo>
                    <a:lnTo>
                      <a:pt x="9597" y="8023"/>
                    </a:lnTo>
                    <a:lnTo>
                      <a:pt x="9597" y="8087"/>
                    </a:lnTo>
                    <a:lnTo>
                      <a:pt x="9514" y="8125"/>
                    </a:lnTo>
                    <a:lnTo>
                      <a:pt x="9431" y="8165"/>
                    </a:lnTo>
                    <a:lnTo>
                      <a:pt x="9348" y="8204"/>
                    </a:lnTo>
                    <a:lnTo>
                      <a:pt x="9265" y="8243"/>
                    </a:lnTo>
                    <a:lnTo>
                      <a:pt x="9182" y="8283"/>
                    </a:lnTo>
                    <a:lnTo>
                      <a:pt x="9099" y="8323"/>
                    </a:lnTo>
                    <a:lnTo>
                      <a:pt x="9016" y="8362"/>
                    </a:lnTo>
                    <a:lnTo>
                      <a:pt x="8933" y="8402"/>
                    </a:lnTo>
                    <a:lnTo>
                      <a:pt x="8933" y="8336"/>
                    </a:lnTo>
                    <a:lnTo>
                      <a:pt x="8933" y="8270"/>
                    </a:lnTo>
                    <a:lnTo>
                      <a:pt x="8933" y="8204"/>
                    </a:lnTo>
                    <a:lnTo>
                      <a:pt x="8933" y="8136"/>
                    </a:lnTo>
                    <a:lnTo>
                      <a:pt x="8933" y="8070"/>
                    </a:lnTo>
                    <a:lnTo>
                      <a:pt x="8933" y="8004"/>
                    </a:lnTo>
                    <a:lnTo>
                      <a:pt x="8933" y="7938"/>
                    </a:lnTo>
                    <a:lnTo>
                      <a:pt x="8933" y="7872"/>
                    </a:lnTo>
                    <a:close/>
                    <a:moveTo>
                      <a:pt x="8933" y="6950"/>
                    </a:moveTo>
                    <a:lnTo>
                      <a:pt x="9016" y="6919"/>
                    </a:lnTo>
                    <a:lnTo>
                      <a:pt x="9099" y="6887"/>
                    </a:lnTo>
                    <a:lnTo>
                      <a:pt x="9182" y="6856"/>
                    </a:lnTo>
                    <a:lnTo>
                      <a:pt x="9265" y="6824"/>
                    </a:lnTo>
                    <a:lnTo>
                      <a:pt x="9348" y="6793"/>
                    </a:lnTo>
                    <a:lnTo>
                      <a:pt x="9431" y="6760"/>
                    </a:lnTo>
                    <a:lnTo>
                      <a:pt x="9514" y="6729"/>
                    </a:lnTo>
                    <a:lnTo>
                      <a:pt x="9597" y="6697"/>
                    </a:lnTo>
                    <a:lnTo>
                      <a:pt x="9597" y="6761"/>
                    </a:lnTo>
                    <a:lnTo>
                      <a:pt x="9597" y="6825"/>
                    </a:lnTo>
                    <a:lnTo>
                      <a:pt x="9597" y="6889"/>
                    </a:lnTo>
                    <a:lnTo>
                      <a:pt x="9597" y="6953"/>
                    </a:lnTo>
                    <a:lnTo>
                      <a:pt x="9597" y="7018"/>
                    </a:lnTo>
                    <a:lnTo>
                      <a:pt x="9597" y="7082"/>
                    </a:lnTo>
                    <a:lnTo>
                      <a:pt x="9597" y="7146"/>
                    </a:lnTo>
                    <a:lnTo>
                      <a:pt x="9597" y="7209"/>
                    </a:lnTo>
                    <a:lnTo>
                      <a:pt x="9514" y="7243"/>
                    </a:lnTo>
                    <a:lnTo>
                      <a:pt x="9431" y="7278"/>
                    </a:lnTo>
                    <a:lnTo>
                      <a:pt x="9348" y="7313"/>
                    </a:lnTo>
                    <a:lnTo>
                      <a:pt x="9265" y="7346"/>
                    </a:lnTo>
                    <a:lnTo>
                      <a:pt x="9182" y="7381"/>
                    </a:lnTo>
                    <a:lnTo>
                      <a:pt x="9099" y="7414"/>
                    </a:lnTo>
                    <a:lnTo>
                      <a:pt x="9016" y="7448"/>
                    </a:lnTo>
                    <a:lnTo>
                      <a:pt x="8933" y="7482"/>
                    </a:lnTo>
                    <a:lnTo>
                      <a:pt x="8933" y="7416"/>
                    </a:lnTo>
                    <a:lnTo>
                      <a:pt x="8933" y="7350"/>
                    </a:lnTo>
                    <a:lnTo>
                      <a:pt x="8933" y="7284"/>
                    </a:lnTo>
                    <a:lnTo>
                      <a:pt x="8933" y="7217"/>
                    </a:lnTo>
                    <a:lnTo>
                      <a:pt x="8933" y="7151"/>
                    </a:lnTo>
                    <a:lnTo>
                      <a:pt x="8933" y="7085"/>
                    </a:lnTo>
                    <a:lnTo>
                      <a:pt x="8933" y="7018"/>
                    </a:lnTo>
                    <a:lnTo>
                      <a:pt x="8933" y="6950"/>
                    </a:lnTo>
                    <a:close/>
                    <a:moveTo>
                      <a:pt x="8933" y="6032"/>
                    </a:moveTo>
                    <a:lnTo>
                      <a:pt x="9016" y="6005"/>
                    </a:lnTo>
                    <a:lnTo>
                      <a:pt x="9099" y="5980"/>
                    </a:lnTo>
                    <a:lnTo>
                      <a:pt x="9182" y="5954"/>
                    </a:lnTo>
                    <a:lnTo>
                      <a:pt x="9265" y="5927"/>
                    </a:lnTo>
                    <a:lnTo>
                      <a:pt x="9348" y="5901"/>
                    </a:lnTo>
                    <a:lnTo>
                      <a:pt x="9431" y="5874"/>
                    </a:lnTo>
                    <a:lnTo>
                      <a:pt x="9514" y="5849"/>
                    </a:lnTo>
                    <a:lnTo>
                      <a:pt x="9597" y="5822"/>
                    </a:lnTo>
                    <a:lnTo>
                      <a:pt x="9597" y="5886"/>
                    </a:lnTo>
                    <a:lnTo>
                      <a:pt x="9597" y="5952"/>
                    </a:lnTo>
                    <a:lnTo>
                      <a:pt x="9597" y="6016"/>
                    </a:lnTo>
                    <a:lnTo>
                      <a:pt x="9597" y="6080"/>
                    </a:lnTo>
                    <a:lnTo>
                      <a:pt x="9597" y="6144"/>
                    </a:lnTo>
                    <a:lnTo>
                      <a:pt x="9597" y="6208"/>
                    </a:lnTo>
                    <a:lnTo>
                      <a:pt x="9597" y="6272"/>
                    </a:lnTo>
                    <a:lnTo>
                      <a:pt x="9597" y="6336"/>
                    </a:lnTo>
                    <a:lnTo>
                      <a:pt x="9514" y="6364"/>
                    </a:lnTo>
                    <a:lnTo>
                      <a:pt x="9431" y="6392"/>
                    </a:lnTo>
                    <a:lnTo>
                      <a:pt x="9348" y="6420"/>
                    </a:lnTo>
                    <a:lnTo>
                      <a:pt x="9265" y="6449"/>
                    </a:lnTo>
                    <a:lnTo>
                      <a:pt x="9182" y="6477"/>
                    </a:lnTo>
                    <a:lnTo>
                      <a:pt x="9099" y="6506"/>
                    </a:lnTo>
                    <a:lnTo>
                      <a:pt x="9016" y="6533"/>
                    </a:lnTo>
                    <a:lnTo>
                      <a:pt x="8933" y="6562"/>
                    </a:lnTo>
                    <a:lnTo>
                      <a:pt x="8933" y="6496"/>
                    </a:lnTo>
                    <a:lnTo>
                      <a:pt x="8933" y="6430"/>
                    </a:lnTo>
                    <a:lnTo>
                      <a:pt x="8933" y="6364"/>
                    </a:lnTo>
                    <a:lnTo>
                      <a:pt x="8933" y="6297"/>
                    </a:lnTo>
                    <a:lnTo>
                      <a:pt x="8933" y="6231"/>
                    </a:lnTo>
                    <a:lnTo>
                      <a:pt x="8933" y="6165"/>
                    </a:lnTo>
                    <a:lnTo>
                      <a:pt x="8933" y="6098"/>
                    </a:lnTo>
                    <a:lnTo>
                      <a:pt x="8933" y="6032"/>
                    </a:lnTo>
                    <a:close/>
                    <a:moveTo>
                      <a:pt x="8933" y="5110"/>
                    </a:moveTo>
                    <a:lnTo>
                      <a:pt x="9016" y="5090"/>
                    </a:lnTo>
                    <a:lnTo>
                      <a:pt x="9099" y="5070"/>
                    </a:lnTo>
                    <a:lnTo>
                      <a:pt x="9181" y="5049"/>
                    </a:lnTo>
                    <a:lnTo>
                      <a:pt x="9265" y="5028"/>
                    </a:lnTo>
                    <a:lnTo>
                      <a:pt x="9347" y="5008"/>
                    </a:lnTo>
                    <a:lnTo>
                      <a:pt x="9431" y="4987"/>
                    </a:lnTo>
                    <a:lnTo>
                      <a:pt x="9513" y="4967"/>
                    </a:lnTo>
                    <a:lnTo>
                      <a:pt x="9597" y="4946"/>
                    </a:lnTo>
                    <a:lnTo>
                      <a:pt x="9597" y="5011"/>
                    </a:lnTo>
                    <a:lnTo>
                      <a:pt x="9597" y="5076"/>
                    </a:lnTo>
                    <a:lnTo>
                      <a:pt x="9597" y="5140"/>
                    </a:lnTo>
                    <a:lnTo>
                      <a:pt x="9597" y="5204"/>
                    </a:lnTo>
                    <a:lnTo>
                      <a:pt x="9597" y="5268"/>
                    </a:lnTo>
                    <a:lnTo>
                      <a:pt x="9597" y="5332"/>
                    </a:lnTo>
                    <a:lnTo>
                      <a:pt x="9597" y="5396"/>
                    </a:lnTo>
                    <a:lnTo>
                      <a:pt x="9597" y="5459"/>
                    </a:lnTo>
                    <a:lnTo>
                      <a:pt x="9513" y="5483"/>
                    </a:lnTo>
                    <a:lnTo>
                      <a:pt x="9431" y="5505"/>
                    </a:lnTo>
                    <a:lnTo>
                      <a:pt x="9347" y="5528"/>
                    </a:lnTo>
                    <a:lnTo>
                      <a:pt x="9265" y="5551"/>
                    </a:lnTo>
                    <a:lnTo>
                      <a:pt x="9181" y="5573"/>
                    </a:lnTo>
                    <a:lnTo>
                      <a:pt x="9099" y="5596"/>
                    </a:lnTo>
                    <a:lnTo>
                      <a:pt x="9016" y="5618"/>
                    </a:lnTo>
                    <a:lnTo>
                      <a:pt x="8933" y="5641"/>
                    </a:lnTo>
                    <a:lnTo>
                      <a:pt x="8933" y="5575"/>
                    </a:lnTo>
                    <a:lnTo>
                      <a:pt x="8933" y="5509"/>
                    </a:lnTo>
                    <a:lnTo>
                      <a:pt x="8933" y="5443"/>
                    </a:lnTo>
                    <a:lnTo>
                      <a:pt x="8933" y="5377"/>
                    </a:lnTo>
                    <a:lnTo>
                      <a:pt x="8933" y="5310"/>
                    </a:lnTo>
                    <a:lnTo>
                      <a:pt x="8933" y="5244"/>
                    </a:lnTo>
                    <a:lnTo>
                      <a:pt x="8933" y="5177"/>
                    </a:lnTo>
                    <a:lnTo>
                      <a:pt x="8933" y="5110"/>
                    </a:lnTo>
                    <a:close/>
                    <a:moveTo>
                      <a:pt x="8933" y="4191"/>
                    </a:moveTo>
                    <a:lnTo>
                      <a:pt x="9016" y="4176"/>
                    </a:lnTo>
                    <a:lnTo>
                      <a:pt x="9099" y="4161"/>
                    </a:lnTo>
                    <a:lnTo>
                      <a:pt x="9181" y="4146"/>
                    </a:lnTo>
                    <a:lnTo>
                      <a:pt x="9265" y="4131"/>
                    </a:lnTo>
                    <a:lnTo>
                      <a:pt x="9347" y="4117"/>
                    </a:lnTo>
                    <a:lnTo>
                      <a:pt x="9431" y="4101"/>
                    </a:lnTo>
                    <a:lnTo>
                      <a:pt x="9513" y="4086"/>
                    </a:lnTo>
                    <a:lnTo>
                      <a:pt x="9597" y="4072"/>
                    </a:lnTo>
                    <a:lnTo>
                      <a:pt x="9597" y="4136"/>
                    </a:lnTo>
                    <a:lnTo>
                      <a:pt x="9597" y="4201"/>
                    </a:lnTo>
                    <a:lnTo>
                      <a:pt x="9597" y="4265"/>
                    </a:lnTo>
                    <a:lnTo>
                      <a:pt x="9597" y="4329"/>
                    </a:lnTo>
                    <a:lnTo>
                      <a:pt x="9597" y="4393"/>
                    </a:lnTo>
                    <a:lnTo>
                      <a:pt x="9597" y="4457"/>
                    </a:lnTo>
                    <a:lnTo>
                      <a:pt x="9597" y="4521"/>
                    </a:lnTo>
                    <a:lnTo>
                      <a:pt x="9597" y="4584"/>
                    </a:lnTo>
                    <a:lnTo>
                      <a:pt x="9513" y="4602"/>
                    </a:lnTo>
                    <a:lnTo>
                      <a:pt x="9431" y="4618"/>
                    </a:lnTo>
                    <a:lnTo>
                      <a:pt x="9347" y="4635"/>
                    </a:lnTo>
                    <a:lnTo>
                      <a:pt x="9265" y="4652"/>
                    </a:lnTo>
                    <a:lnTo>
                      <a:pt x="9181" y="4669"/>
                    </a:lnTo>
                    <a:lnTo>
                      <a:pt x="9099" y="4686"/>
                    </a:lnTo>
                    <a:lnTo>
                      <a:pt x="9016" y="4703"/>
                    </a:lnTo>
                    <a:lnTo>
                      <a:pt x="8933" y="4721"/>
                    </a:lnTo>
                    <a:lnTo>
                      <a:pt x="8933" y="4655"/>
                    </a:lnTo>
                    <a:lnTo>
                      <a:pt x="8933" y="4589"/>
                    </a:lnTo>
                    <a:lnTo>
                      <a:pt x="8933" y="4522"/>
                    </a:lnTo>
                    <a:lnTo>
                      <a:pt x="8933" y="4456"/>
                    </a:lnTo>
                    <a:lnTo>
                      <a:pt x="8933" y="4390"/>
                    </a:lnTo>
                    <a:lnTo>
                      <a:pt x="8933" y="4323"/>
                    </a:lnTo>
                    <a:lnTo>
                      <a:pt x="8933" y="4257"/>
                    </a:lnTo>
                    <a:lnTo>
                      <a:pt x="8933" y="4191"/>
                    </a:lnTo>
                    <a:close/>
                    <a:moveTo>
                      <a:pt x="8933" y="3269"/>
                    </a:moveTo>
                    <a:lnTo>
                      <a:pt x="9016" y="3260"/>
                    </a:lnTo>
                    <a:lnTo>
                      <a:pt x="9099" y="3251"/>
                    </a:lnTo>
                    <a:lnTo>
                      <a:pt x="9181" y="3242"/>
                    </a:lnTo>
                    <a:lnTo>
                      <a:pt x="9265" y="3233"/>
                    </a:lnTo>
                    <a:lnTo>
                      <a:pt x="9347" y="3223"/>
                    </a:lnTo>
                    <a:lnTo>
                      <a:pt x="9431" y="3214"/>
                    </a:lnTo>
                    <a:lnTo>
                      <a:pt x="9513" y="3205"/>
                    </a:lnTo>
                    <a:lnTo>
                      <a:pt x="9597" y="3195"/>
                    </a:lnTo>
                    <a:lnTo>
                      <a:pt x="9597" y="3260"/>
                    </a:lnTo>
                    <a:lnTo>
                      <a:pt x="9597" y="3324"/>
                    </a:lnTo>
                    <a:lnTo>
                      <a:pt x="9597" y="3388"/>
                    </a:lnTo>
                    <a:lnTo>
                      <a:pt x="9597" y="3452"/>
                    </a:lnTo>
                    <a:lnTo>
                      <a:pt x="9597" y="3516"/>
                    </a:lnTo>
                    <a:lnTo>
                      <a:pt x="9597" y="3582"/>
                    </a:lnTo>
                    <a:lnTo>
                      <a:pt x="9597" y="3645"/>
                    </a:lnTo>
                    <a:lnTo>
                      <a:pt x="9597" y="3709"/>
                    </a:lnTo>
                    <a:lnTo>
                      <a:pt x="9513" y="3720"/>
                    </a:lnTo>
                    <a:lnTo>
                      <a:pt x="9431" y="3732"/>
                    </a:lnTo>
                    <a:lnTo>
                      <a:pt x="9347" y="3743"/>
                    </a:lnTo>
                    <a:lnTo>
                      <a:pt x="9265" y="3754"/>
                    </a:lnTo>
                    <a:lnTo>
                      <a:pt x="9181" y="3766"/>
                    </a:lnTo>
                    <a:lnTo>
                      <a:pt x="9099" y="3778"/>
                    </a:lnTo>
                    <a:lnTo>
                      <a:pt x="9016" y="3789"/>
                    </a:lnTo>
                    <a:lnTo>
                      <a:pt x="8933" y="3801"/>
                    </a:lnTo>
                    <a:lnTo>
                      <a:pt x="8933" y="3734"/>
                    </a:lnTo>
                    <a:lnTo>
                      <a:pt x="8933" y="3668"/>
                    </a:lnTo>
                    <a:lnTo>
                      <a:pt x="8933" y="3602"/>
                    </a:lnTo>
                    <a:lnTo>
                      <a:pt x="8933" y="3536"/>
                    </a:lnTo>
                    <a:lnTo>
                      <a:pt x="8933" y="3469"/>
                    </a:lnTo>
                    <a:lnTo>
                      <a:pt x="8933" y="3402"/>
                    </a:lnTo>
                    <a:lnTo>
                      <a:pt x="8933" y="3336"/>
                    </a:lnTo>
                    <a:lnTo>
                      <a:pt x="8933" y="3269"/>
                    </a:lnTo>
                    <a:close/>
                    <a:moveTo>
                      <a:pt x="8933" y="2349"/>
                    </a:moveTo>
                    <a:lnTo>
                      <a:pt x="9016" y="2345"/>
                    </a:lnTo>
                    <a:lnTo>
                      <a:pt x="9099" y="2341"/>
                    </a:lnTo>
                    <a:lnTo>
                      <a:pt x="9181" y="2337"/>
                    </a:lnTo>
                    <a:lnTo>
                      <a:pt x="9265" y="2333"/>
                    </a:lnTo>
                    <a:lnTo>
                      <a:pt x="9347" y="2330"/>
                    </a:lnTo>
                    <a:lnTo>
                      <a:pt x="9430" y="2326"/>
                    </a:lnTo>
                    <a:lnTo>
                      <a:pt x="9513" y="2323"/>
                    </a:lnTo>
                    <a:lnTo>
                      <a:pt x="9596" y="2319"/>
                    </a:lnTo>
                    <a:lnTo>
                      <a:pt x="9596" y="2384"/>
                    </a:lnTo>
                    <a:lnTo>
                      <a:pt x="9596" y="2449"/>
                    </a:lnTo>
                    <a:lnTo>
                      <a:pt x="9596" y="2513"/>
                    </a:lnTo>
                    <a:lnTo>
                      <a:pt x="9596" y="2579"/>
                    </a:lnTo>
                    <a:lnTo>
                      <a:pt x="9596" y="2643"/>
                    </a:lnTo>
                    <a:lnTo>
                      <a:pt x="9596" y="2707"/>
                    </a:lnTo>
                    <a:lnTo>
                      <a:pt x="9597" y="2771"/>
                    </a:lnTo>
                    <a:lnTo>
                      <a:pt x="9597" y="2834"/>
                    </a:lnTo>
                    <a:lnTo>
                      <a:pt x="9513" y="2840"/>
                    </a:lnTo>
                    <a:lnTo>
                      <a:pt x="9431" y="2846"/>
                    </a:lnTo>
                    <a:lnTo>
                      <a:pt x="9347" y="2851"/>
                    </a:lnTo>
                    <a:lnTo>
                      <a:pt x="9265" y="2857"/>
                    </a:lnTo>
                    <a:lnTo>
                      <a:pt x="9181" y="2863"/>
                    </a:lnTo>
                    <a:lnTo>
                      <a:pt x="9099" y="2868"/>
                    </a:lnTo>
                    <a:lnTo>
                      <a:pt x="9016" y="2875"/>
                    </a:lnTo>
                    <a:lnTo>
                      <a:pt x="8933" y="2881"/>
                    </a:lnTo>
                    <a:lnTo>
                      <a:pt x="8933" y="2815"/>
                    </a:lnTo>
                    <a:lnTo>
                      <a:pt x="8933" y="2748"/>
                    </a:lnTo>
                    <a:lnTo>
                      <a:pt x="8933" y="2682"/>
                    </a:lnTo>
                    <a:lnTo>
                      <a:pt x="8933" y="2615"/>
                    </a:lnTo>
                    <a:lnTo>
                      <a:pt x="8933" y="2549"/>
                    </a:lnTo>
                    <a:lnTo>
                      <a:pt x="8933" y="2483"/>
                    </a:lnTo>
                    <a:lnTo>
                      <a:pt x="8933" y="2416"/>
                    </a:lnTo>
                    <a:lnTo>
                      <a:pt x="8933" y="2349"/>
                    </a:lnTo>
                    <a:close/>
                    <a:moveTo>
                      <a:pt x="9495" y="209"/>
                    </a:moveTo>
                    <a:lnTo>
                      <a:pt x="7262" y="209"/>
                    </a:lnTo>
                    <a:lnTo>
                      <a:pt x="7778" y="911"/>
                    </a:lnTo>
                    <a:lnTo>
                      <a:pt x="10651" y="911"/>
                    </a:lnTo>
                    <a:lnTo>
                      <a:pt x="9495" y="209"/>
                    </a:lnTo>
                    <a:close/>
                    <a:moveTo>
                      <a:pt x="3578" y="2348"/>
                    </a:moveTo>
                    <a:lnTo>
                      <a:pt x="3627" y="2348"/>
                    </a:lnTo>
                    <a:lnTo>
                      <a:pt x="3677" y="2348"/>
                    </a:lnTo>
                    <a:lnTo>
                      <a:pt x="3727" y="2348"/>
                    </a:lnTo>
                    <a:lnTo>
                      <a:pt x="3777" y="2348"/>
                    </a:lnTo>
                    <a:lnTo>
                      <a:pt x="3827" y="2348"/>
                    </a:lnTo>
                    <a:lnTo>
                      <a:pt x="3877" y="2348"/>
                    </a:lnTo>
                    <a:lnTo>
                      <a:pt x="3927" y="2348"/>
                    </a:lnTo>
                    <a:lnTo>
                      <a:pt x="3977" y="2348"/>
                    </a:lnTo>
                    <a:lnTo>
                      <a:pt x="4027" y="2348"/>
                    </a:lnTo>
                    <a:lnTo>
                      <a:pt x="4077" y="2348"/>
                    </a:lnTo>
                    <a:lnTo>
                      <a:pt x="4127" y="2348"/>
                    </a:lnTo>
                    <a:lnTo>
                      <a:pt x="4175" y="2348"/>
                    </a:lnTo>
                    <a:lnTo>
                      <a:pt x="4225" y="2348"/>
                    </a:lnTo>
                    <a:lnTo>
                      <a:pt x="4275" y="2348"/>
                    </a:lnTo>
                    <a:lnTo>
                      <a:pt x="4325" y="2348"/>
                    </a:lnTo>
                    <a:lnTo>
                      <a:pt x="4375" y="2348"/>
                    </a:lnTo>
                    <a:lnTo>
                      <a:pt x="4375" y="2409"/>
                    </a:lnTo>
                    <a:lnTo>
                      <a:pt x="4375" y="2471"/>
                    </a:lnTo>
                    <a:lnTo>
                      <a:pt x="4375" y="2533"/>
                    </a:lnTo>
                    <a:lnTo>
                      <a:pt x="4375" y="2594"/>
                    </a:lnTo>
                    <a:lnTo>
                      <a:pt x="4375" y="2655"/>
                    </a:lnTo>
                    <a:lnTo>
                      <a:pt x="4375" y="2717"/>
                    </a:lnTo>
                    <a:lnTo>
                      <a:pt x="4375" y="2778"/>
                    </a:lnTo>
                    <a:lnTo>
                      <a:pt x="4375" y="2839"/>
                    </a:lnTo>
                    <a:lnTo>
                      <a:pt x="4325" y="2838"/>
                    </a:lnTo>
                    <a:lnTo>
                      <a:pt x="4275" y="2838"/>
                    </a:lnTo>
                    <a:lnTo>
                      <a:pt x="4225" y="2838"/>
                    </a:lnTo>
                    <a:lnTo>
                      <a:pt x="4175" y="2837"/>
                    </a:lnTo>
                    <a:lnTo>
                      <a:pt x="4127" y="2836"/>
                    </a:lnTo>
                    <a:lnTo>
                      <a:pt x="4077" y="2836"/>
                    </a:lnTo>
                    <a:lnTo>
                      <a:pt x="4027" y="2835"/>
                    </a:lnTo>
                    <a:lnTo>
                      <a:pt x="3977" y="2835"/>
                    </a:lnTo>
                    <a:lnTo>
                      <a:pt x="3927" y="2834"/>
                    </a:lnTo>
                    <a:lnTo>
                      <a:pt x="3877" y="2833"/>
                    </a:lnTo>
                    <a:lnTo>
                      <a:pt x="3827" y="2833"/>
                    </a:lnTo>
                    <a:lnTo>
                      <a:pt x="3777" y="2832"/>
                    </a:lnTo>
                    <a:lnTo>
                      <a:pt x="3727" y="2831"/>
                    </a:lnTo>
                    <a:lnTo>
                      <a:pt x="3677" y="2831"/>
                    </a:lnTo>
                    <a:lnTo>
                      <a:pt x="3627" y="2830"/>
                    </a:lnTo>
                    <a:lnTo>
                      <a:pt x="3578" y="2829"/>
                    </a:lnTo>
                    <a:lnTo>
                      <a:pt x="3578" y="2769"/>
                    </a:lnTo>
                    <a:lnTo>
                      <a:pt x="3578" y="2709"/>
                    </a:lnTo>
                    <a:lnTo>
                      <a:pt x="3578" y="2649"/>
                    </a:lnTo>
                    <a:lnTo>
                      <a:pt x="3578" y="2589"/>
                    </a:lnTo>
                    <a:lnTo>
                      <a:pt x="3578" y="2529"/>
                    </a:lnTo>
                    <a:lnTo>
                      <a:pt x="3578" y="2469"/>
                    </a:lnTo>
                    <a:lnTo>
                      <a:pt x="3578" y="2408"/>
                    </a:lnTo>
                    <a:lnTo>
                      <a:pt x="3578" y="2348"/>
                    </a:lnTo>
                    <a:close/>
                    <a:moveTo>
                      <a:pt x="7244" y="13324"/>
                    </a:moveTo>
                    <a:lnTo>
                      <a:pt x="7294" y="13338"/>
                    </a:lnTo>
                    <a:lnTo>
                      <a:pt x="7343" y="13352"/>
                    </a:lnTo>
                    <a:lnTo>
                      <a:pt x="7393" y="13365"/>
                    </a:lnTo>
                    <a:lnTo>
                      <a:pt x="7443" y="13379"/>
                    </a:lnTo>
                    <a:lnTo>
                      <a:pt x="7493" y="13392"/>
                    </a:lnTo>
                    <a:lnTo>
                      <a:pt x="7542" y="13406"/>
                    </a:lnTo>
                    <a:lnTo>
                      <a:pt x="7592" y="13420"/>
                    </a:lnTo>
                    <a:lnTo>
                      <a:pt x="7642" y="13433"/>
                    </a:lnTo>
                    <a:lnTo>
                      <a:pt x="7692" y="13447"/>
                    </a:lnTo>
                    <a:lnTo>
                      <a:pt x="7742" y="13460"/>
                    </a:lnTo>
                    <a:lnTo>
                      <a:pt x="7792" y="13474"/>
                    </a:lnTo>
                    <a:lnTo>
                      <a:pt x="7842" y="13488"/>
                    </a:lnTo>
                    <a:lnTo>
                      <a:pt x="7891" y="13501"/>
                    </a:lnTo>
                    <a:lnTo>
                      <a:pt x="7941" y="13514"/>
                    </a:lnTo>
                    <a:lnTo>
                      <a:pt x="7991" y="13529"/>
                    </a:lnTo>
                    <a:lnTo>
                      <a:pt x="8041" y="13542"/>
                    </a:lnTo>
                    <a:lnTo>
                      <a:pt x="8041" y="13609"/>
                    </a:lnTo>
                    <a:lnTo>
                      <a:pt x="8041" y="13676"/>
                    </a:lnTo>
                    <a:lnTo>
                      <a:pt x="8041" y="13743"/>
                    </a:lnTo>
                    <a:lnTo>
                      <a:pt x="8041" y="13810"/>
                    </a:lnTo>
                    <a:lnTo>
                      <a:pt x="8041" y="13879"/>
                    </a:lnTo>
                    <a:lnTo>
                      <a:pt x="8041" y="13946"/>
                    </a:lnTo>
                    <a:lnTo>
                      <a:pt x="8041" y="14013"/>
                    </a:lnTo>
                    <a:lnTo>
                      <a:pt x="8041" y="14080"/>
                    </a:lnTo>
                    <a:lnTo>
                      <a:pt x="7991" y="14066"/>
                    </a:lnTo>
                    <a:lnTo>
                      <a:pt x="7941" y="14051"/>
                    </a:lnTo>
                    <a:lnTo>
                      <a:pt x="7891" y="14037"/>
                    </a:lnTo>
                    <a:lnTo>
                      <a:pt x="7842" y="14023"/>
                    </a:lnTo>
                    <a:lnTo>
                      <a:pt x="7792" y="14009"/>
                    </a:lnTo>
                    <a:lnTo>
                      <a:pt x="7742" y="13994"/>
                    </a:lnTo>
                    <a:lnTo>
                      <a:pt x="7692" y="13980"/>
                    </a:lnTo>
                    <a:lnTo>
                      <a:pt x="7642" y="13966"/>
                    </a:lnTo>
                    <a:lnTo>
                      <a:pt x="7592" y="13952"/>
                    </a:lnTo>
                    <a:lnTo>
                      <a:pt x="7542" y="13938"/>
                    </a:lnTo>
                    <a:lnTo>
                      <a:pt x="7493" y="13923"/>
                    </a:lnTo>
                    <a:lnTo>
                      <a:pt x="7443" y="13909"/>
                    </a:lnTo>
                    <a:lnTo>
                      <a:pt x="7393" y="13895"/>
                    </a:lnTo>
                    <a:lnTo>
                      <a:pt x="7343" y="13881"/>
                    </a:lnTo>
                    <a:lnTo>
                      <a:pt x="7294" y="13866"/>
                    </a:lnTo>
                    <a:lnTo>
                      <a:pt x="7244" y="13852"/>
                    </a:lnTo>
                    <a:lnTo>
                      <a:pt x="7244" y="13787"/>
                    </a:lnTo>
                    <a:lnTo>
                      <a:pt x="7244" y="13721"/>
                    </a:lnTo>
                    <a:lnTo>
                      <a:pt x="7244" y="13655"/>
                    </a:lnTo>
                    <a:lnTo>
                      <a:pt x="7244" y="13589"/>
                    </a:lnTo>
                    <a:lnTo>
                      <a:pt x="7244" y="13522"/>
                    </a:lnTo>
                    <a:lnTo>
                      <a:pt x="7244" y="13456"/>
                    </a:lnTo>
                    <a:lnTo>
                      <a:pt x="7244" y="13390"/>
                    </a:lnTo>
                    <a:lnTo>
                      <a:pt x="7244" y="13324"/>
                    </a:lnTo>
                    <a:close/>
                    <a:moveTo>
                      <a:pt x="6021" y="12993"/>
                    </a:moveTo>
                    <a:lnTo>
                      <a:pt x="6071" y="13006"/>
                    </a:lnTo>
                    <a:lnTo>
                      <a:pt x="6121" y="13019"/>
                    </a:lnTo>
                    <a:lnTo>
                      <a:pt x="6171" y="13033"/>
                    </a:lnTo>
                    <a:lnTo>
                      <a:pt x="6221" y="13046"/>
                    </a:lnTo>
                    <a:lnTo>
                      <a:pt x="6271" y="13060"/>
                    </a:lnTo>
                    <a:lnTo>
                      <a:pt x="6321" y="13074"/>
                    </a:lnTo>
                    <a:lnTo>
                      <a:pt x="6371" y="13087"/>
                    </a:lnTo>
                    <a:lnTo>
                      <a:pt x="6421" y="13101"/>
                    </a:lnTo>
                    <a:lnTo>
                      <a:pt x="6470" y="13115"/>
                    </a:lnTo>
                    <a:lnTo>
                      <a:pt x="6520" y="13128"/>
                    </a:lnTo>
                    <a:lnTo>
                      <a:pt x="6570" y="13142"/>
                    </a:lnTo>
                    <a:lnTo>
                      <a:pt x="6620" y="13155"/>
                    </a:lnTo>
                    <a:lnTo>
                      <a:pt x="6670" y="13169"/>
                    </a:lnTo>
                    <a:lnTo>
                      <a:pt x="6719" y="13183"/>
                    </a:lnTo>
                    <a:lnTo>
                      <a:pt x="6769" y="13196"/>
                    </a:lnTo>
                    <a:lnTo>
                      <a:pt x="6819" y="13209"/>
                    </a:lnTo>
                    <a:lnTo>
                      <a:pt x="6819" y="13275"/>
                    </a:lnTo>
                    <a:lnTo>
                      <a:pt x="6819" y="13340"/>
                    </a:lnTo>
                    <a:lnTo>
                      <a:pt x="6819" y="13406"/>
                    </a:lnTo>
                    <a:lnTo>
                      <a:pt x="6819" y="13471"/>
                    </a:lnTo>
                    <a:lnTo>
                      <a:pt x="6819" y="13536"/>
                    </a:lnTo>
                    <a:lnTo>
                      <a:pt x="6819" y="13601"/>
                    </a:lnTo>
                    <a:lnTo>
                      <a:pt x="6819" y="13666"/>
                    </a:lnTo>
                    <a:lnTo>
                      <a:pt x="6819" y="13732"/>
                    </a:lnTo>
                    <a:lnTo>
                      <a:pt x="6769" y="13718"/>
                    </a:lnTo>
                    <a:lnTo>
                      <a:pt x="6719" y="13704"/>
                    </a:lnTo>
                    <a:lnTo>
                      <a:pt x="6670" y="13688"/>
                    </a:lnTo>
                    <a:lnTo>
                      <a:pt x="6620" y="13674"/>
                    </a:lnTo>
                    <a:lnTo>
                      <a:pt x="6570" y="13660"/>
                    </a:lnTo>
                    <a:lnTo>
                      <a:pt x="6520" y="13646"/>
                    </a:lnTo>
                    <a:lnTo>
                      <a:pt x="6470" y="13631"/>
                    </a:lnTo>
                    <a:lnTo>
                      <a:pt x="6421" y="13617"/>
                    </a:lnTo>
                    <a:lnTo>
                      <a:pt x="6371" y="13603"/>
                    </a:lnTo>
                    <a:lnTo>
                      <a:pt x="6321" y="13589"/>
                    </a:lnTo>
                    <a:lnTo>
                      <a:pt x="6271" y="13574"/>
                    </a:lnTo>
                    <a:lnTo>
                      <a:pt x="6221" y="13560"/>
                    </a:lnTo>
                    <a:lnTo>
                      <a:pt x="6171" y="13546"/>
                    </a:lnTo>
                    <a:lnTo>
                      <a:pt x="6121" y="13532"/>
                    </a:lnTo>
                    <a:lnTo>
                      <a:pt x="6071" y="13517"/>
                    </a:lnTo>
                    <a:lnTo>
                      <a:pt x="6021" y="13503"/>
                    </a:lnTo>
                    <a:lnTo>
                      <a:pt x="6021" y="13439"/>
                    </a:lnTo>
                    <a:lnTo>
                      <a:pt x="6021" y="13375"/>
                    </a:lnTo>
                    <a:lnTo>
                      <a:pt x="6021" y="13312"/>
                    </a:lnTo>
                    <a:lnTo>
                      <a:pt x="6021" y="13248"/>
                    </a:lnTo>
                    <a:lnTo>
                      <a:pt x="6021" y="13184"/>
                    </a:lnTo>
                    <a:lnTo>
                      <a:pt x="6021" y="13120"/>
                    </a:lnTo>
                    <a:lnTo>
                      <a:pt x="6021" y="13056"/>
                    </a:lnTo>
                    <a:lnTo>
                      <a:pt x="6021" y="12993"/>
                    </a:lnTo>
                    <a:close/>
                    <a:moveTo>
                      <a:pt x="4800" y="12660"/>
                    </a:moveTo>
                    <a:lnTo>
                      <a:pt x="4850" y="12673"/>
                    </a:lnTo>
                    <a:lnTo>
                      <a:pt x="4900" y="12687"/>
                    </a:lnTo>
                    <a:lnTo>
                      <a:pt x="4950" y="12701"/>
                    </a:lnTo>
                    <a:lnTo>
                      <a:pt x="5000" y="12714"/>
                    </a:lnTo>
                    <a:lnTo>
                      <a:pt x="5048" y="12728"/>
                    </a:lnTo>
                    <a:lnTo>
                      <a:pt x="5098" y="12741"/>
                    </a:lnTo>
                    <a:lnTo>
                      <a:pt x="5148" y="12755"/>
                    </a:lnTo>
                    <a:lnTo>
                      <a:pt x="5198" y="12768"/>
                    </a:lnTo>
                    <a:lnTo>
                      <a:pt x="5248" y="12782"/>
                    </a:lnTo>
                    <a:lnTo>
                      <a:pt x="5298" y="12795"/>
                    </a:lnTo>
                    <a:lnTo>
                      <a:pt x="5348" y="12808"/>
                    </a:lnTo>
                    <a:lnTo>
                      <a:pt x="5398" y="12822"/>
                    </a:lnTo>
                    <a:lnTo>
                      <a:pt x="5448" y="12836"/>
                    </a:lnTo>
                    <a:lnTo>
                      <a:pt x="5498" y="12849"/>
                    </a:lnTo>
                    <a:lnTo>
                      <a:pt x="5548" y="12862"/>
                    </a:lnTo>
                    <a:lnTo>
                      <a:pt x="5597" y="12877"/>
                    </a:lnTo>
                    <a:lnTo>
                      <a:pt x="5597" y="12940"/>
                    </a:lnTo>
                    <a:lnTo>
                      <a:pt x="5597" y="13003"/>
                    </a:lnTo>
                    <a:lnTo>
                      <a:pt x="5597" y="13067"/>
                    </a:lnTo>
                    <a:lnTo>
                      <a:pt x="5597" y="13130"/>
                    </a:lnTo>
                    <a:lnTo>
                      <a:pt x="5597" y="13193"/>
                    </a:lnTo>
                    <a:lnTo>
                      <a:pt x="5597" y="13256"/>
                    </a:lnTo>
                    <a:lnTo>
                      <a:pt x="5597" y="13319"/>
                    </a:lnTo>
                    <a:lnTo>
                      <a:pt x="5597" y="13382"/>
                    </a:lnTo>
                    <a:lnTo>
                      <a:pt x="5548" y="13368"/>
                    </a:lnTo>
                    <a:lnTo>
                      <a:pt x="5498" y="13354"/>
                    </a:lnTo>
                    <a:lnTo>
                      <a:pt x="5448" y="13339"/>
                    </a:lnTo>
                    <a:lnTo>
                      <a:pt x="5398" y="13325"/>
                    </a:lnTo>
                    <a:lnTo>
                      <a:pt x="5348" y="13311"/>
                    </a:lnTo>
                    <a:lnTo>
                      <a:pt x="5298" y="13298"/>
                    </a:lnTo>
                    <a:lnTo>
                      <a:pt x="5248" y="13283"/>
                    </a:lnTo>
                    <a:lnTo>
                      <a:pt x="5198" y="13269"/>
                    </a:lnTo>
                    <a:lnTo>
                      <a:pt x="5148" y="13255"/>
                    </a:lnTo>
                    <a:lnTo>
                      <a:pt x="5098" y="13241"/>
                    </a:lnTo>
                    <a:lnTo>
                      <a:pt x="5048" y="13226"/>
                    </a:lnTo>
                    <a:lnTo>
                      <a:pt x="5000" y="13212"/>
                    </a:lnTo>
                    <a:lnTo>
                      <a:pt x="4950" y="13198"/>
                    </a:lnTo>
                    <a:lnTo>
                      <a:pt x="4900" y="13184"/>
                    </a:lnTo>
                    <a:lnTo>
                      <a:pt x="4850" y="13170"/>
                    </a:lnTo>
                    <a:lnTo>
                      <a:pt x="4800" y="13155"/>
                    </a:lnTo>
                    <a:lnTo>
                      <a:pt x="4800" y="13093"/>
                    </a:lnTo>
                    <a:lnTo>
                      <a:pt x="4800" y="13032"/>
                    </a:lnTo>
                    <a:lnTo>
                      <a:pt x="4800" y="12970"/>
                    </a:lnTo>
                    <a:lnTo>
                      <a:pt x="4800" y="12908"/>
                    </a:lnTo>
                    <a:lnTo>
                      <a:pt x="4800" y="12846"/>
                    </a:lnTo>
                    <a:lnTo>
                      <a:pt x="4800" y="12784"/>
                    </a:lnTo>
                    <a:lnTo>
                      <a:pt x="4800" y="12722"/>
                    </a:lnTo>
                    <a:lnTo>
                      <a:pt x="4800" y="12660"/>
                    </a:lnTo>
                    <a:close/>
                    <a:moveTo>
                      <a:pt x="3578" y="12326"/>
                    </a:moveTo>
                    <a:lnTo>
                      <a:pt x="3627" y="12341"/>
                    </a:lnTo>
                    <a:lnTo>
                      <a:pt x="3677" y="12354"/>
                    </a:lnTo>
                    <a:lnTo>
                      <a:pt x="3727" y="12367"/>
                    </a:lnTo>
                    <a:lnTo>
                      <a:pt x="3777" y="12381"/>
                    </a:lnTo>
                    <a:lnTo>
                      <a:pt x="3827" y="12394"/>
                    </a:lnTo>
                    <a:lnTo>
                      <a:pt x="3877" y="12408"/>
                    </a:lnTo>
                    <a:lnTo>
                      <a:pt x="3927" y="12422"/>
                    </a:lnTo>
                    <a:lnTo>
                      <a:pt x="3977" y="12435"/>
                    </a:lnTo>
                    <a:lnTo>
                      <a:pt x="4027" y="12449"/>
                    </a:lnTo>
                    <a:lnTo>
                      <a:pt x="4077" y="12463"/>
                    </a:lnTo>
                    <a:lnTo>
                      <a:pt x="4127" y="12476"/>
                    </a:lnTo>
                    <a:lnTo>
                      <a:pt x="4175" y="12490"/>
                    </a:lnTo>
                    <a:lnTo>
                      <a:pt x="4225" y="12503"/>
                    </a:lnTo>
                    <a:lnTo>
                      <a:pt x="4275" y="12516"/>
                    </a:lnTo>
                    <a:lnTo>
                      <a:pt x="4325" y="12531"/>
                    </a:lnTo>
                    <a:lnTo>
                      <a:pt x="4375" y="12544"/>
                    </a:lnTo>
                    <a:lnTo>
                      <a:pt x="4375" y="12606"/>
                    </a:lnTo>
                    <a:lnTo>
                      <a:pt x="4375" y="12667"/>
                    </a:lnTo>
                    <a:lnTo>
                      <a:pt x="4375" y="12728"/>
                    </a:lnTo>
                    <a:lnTo>
                      <a:pt x="4375" y="12790"/>
                    </a:lnTo>
                    <a:lnTo>
                      <a:pt x="4375" y="12851"/>
                    </a:lnTo>
                    <a:lnTo>
                      <a:pt x="4375" y="12912"/>
                    </a:lnTo>
                    <a:lnTo>
                      <a:pt x="4375" y="12973"/>
                    </a:lnTo>
                    <a:lnTo>
                      <a:pt x="4375" y="13034"/>
                    </a:lnTo>
                    <a:lnTo>
                      <a:pt x="4325" y="13020"/>
                    </a:lnTo>
                    <a:lnTo>
                      <a:pt x="4275" y="13006"/>
                    </a:lnTo>
                    <a:lnTo>
                      <a:pt x="4225" y="12992"/>
                    </a:lnTo>
                    <a:lnTo>
                      <a:pt x="4175" y="12977"/>
                    </a:lnTo>
                    <a:lnTo>
                      <a:pt x="4127" y="12963"/>
                    </a:lnTo>
                    <a:lnTo>
                      <a:pt x="4077" y="12949"/>
                    </a:lnTo>
                    <a:lnTo>
                      <a:pt x="4027" y="12935"/>
                    </a:lnTo>
                    <a:lnTo>
                      <a:pt x="3977" y="12920"/>
                    </a:lnTo>
                    <a:lnTo>
                      <a:pt x="3927" y="12906"/>
                    </a:lnTo>
                    <a:lnTo>
                      <a:pt x="3877" y="12892"/>
                    </a:lnTo>
                    <a:lnTo>
                      <a:pt x="3827" y="12878"/>
                    </a:lnTo>
                    <a:lnTo>
                      <a:pt x="3777" y="12863"/>
                    </a:lnTo>
                    <a:lnTo>
                      <a:pt x="3727" y="12849"/>
                    </a:lnTo>
                    <a:lnTo>
                      <a:pt x="3677" y="12835"/>
                    </a:lnTo>
                    <a:lnTo>
                      <a:pt x="3627" y="12821"/>
                    </a:lnTo>
                    <a:lnTo>
                      <a:pt x="3578" y="12806"/>
                    </a:lnTo>
                    <a:lnTo>
                      <a:pt x="3578" y="12746"/>
                    </a:lnTo>
                    <a:lnTo>
                      <a:pt x="3578" y="12686"/>
                    </a:lnTo>
                    <a:lnTo>
                      <a:pt x="3578" y="12626"/>
                    </a:lnTo>
                    <a:lnTo>
                      <a:pt x="3578" y="12566"/>
                    </a:lnTo>
                    <a:lnTo>
                      <a:pt x="3578" y="12507"/>
                    </a:lnTo>
                    <a:lnTo>
                      <a:pt x="3578" y="12447"/>
                    </a:lnTo>
                    <a:lnTo>
                      <a:pt x="3578" y="12386"/>
                    </a:lnTo>
                    <a:lnTo>
                      <a:pt x="3578" y="12326"/>
                    </a:lnTo>
                    <a:close/>
                    <a:moveTo>
                      <a:pt x="2356" y="11995"/>
                    </a:moveTo>
                    <a:lnTo>
                      <a:pt x="2406" y="12008"/>
                    </a:lnTo>
                    <a:lnTo>
                      <a:pt x="2456" y="12021"/>
                    </a:lnTo>
                    <a:lnTo>
                      <a:pt x="2506" y="12035"/>
                    </a:lnTo>
                    <a:lnTo>
                      <a:pt x="2555" y="12049"/>
                    </a:lnTo>
                    <a:lnTo>
                      <a:pt x="2605" y="12062"/>
                    </a:lnTo>
                    <a:lnTo>
                      <a:pt x="2655" y="12076"/>
                    </a:lnTo>
                    <a:lnTo>
                      <a:pt x="2705" y="12089"/>
                    </a:lnTo>
                    <a:lnTo>
                      <a:pt x="2754" y="12104"/>
                    </a:lnTo>
                    <a:lnTo>
                      <a:pt x="2804" y="12117"/>
                    </a:lnTo>
                    <a:lnTo>
                      <a:pt x="2854" y="12130"/>
                    </a:lnTo>
                    <a:lnTo>
                      <a:pt x="2904" y="12144"/>
                    </a:lnTo>
                    <a:lnTo>
                      <a:pt x="2954" y="12157"/>
                    </a:lnTo>
                    <a:lnTo>
                      <a:pt x="3004" y="12171"/>
                    </a:lnTo>
                    <a:lnTo>
                      <a:pt x="3054" y="12185"/>
                    </a:lnTo>
                    <a:lnTo>
                      <a:pt x="3104" y="12198"/>
                    </a:lnTo>
                    <a:lnTo>
                      <a:pt x="3154" y="12211"/>
                    </a:lnTo>
                    <a:lnTo>
                      <a:pt x="3154" y="12271"/>
                    </a:lnTo>
                    <a:lnTo>
                      <a:pt x="3154" y="12330"/>
                    </a:lnTo>
                    <a:lnTo>
                      <a:pt x="3154" y="12389"/>
                    </a:lnTo>
                    <a:lnTo>
                      <a:pt x="3154" y="12449"/>
                    </a:lnTo>
                    <a:lnTo>
                      <a:pt x="3154" y="12508"/>
                    </a:lnTo>
                    <a:lnTo>
                      <a:pt x="3154" y="12567"/>
                    </a:lnTo>
                    <a:lnTo>
                      <a:pt x="3154" y="12626"/>
                    </a:lnTo>
                    <a:lnTo>
                      <a:pt x="3154" y="12685"/>
                    </a:lnTo>
                    <a:lnTo>
                      <a:pt x="3104" y="12671"/>
                    </a:lnTo>
                    <a:lnTo>
                      <a:pt x="3054" y="12657"/>
                    </a:lnTo>
                    <a:lnTo>
                      <a:pt x="3004" y="12643"/>
                    </a:lnTo>
                    <a:lnTo>
                      <a:pt x="2954" y="12628"/>
                    </a:lnTo>
                    <a:lnTo>
                      <a:pt x="2904" y="12614"/>
                    </a:lnTo>
                    <a:lnTo>
                      <a:pt x="2854" y="12600"/>
                    </a:lnTo>
                    <a:lnTo>
                      <a:pt x="2804" y="12586"/>
                    </a:lnTo>
                    <a:lnTo>
                      <a:pt x="2754" y="12571"/>
                    </a:lnTo>
                    <a:lnTo>
                      <a:pt x="2705" y="12557"/>
                    </a:lnTo>
                    <a:lnTo>
                      <a:pt x="2655" y="12544"/>
                    </a:lnTo>
                    <a:lnTo>
                      <a:pt x="2605" y="12530"/>
                    </a:lnTo>
                    <a:lnTo>
                      <a:pt x="2555" y="12515"/>
                    </a:lnTo>
                    <a:lnTo>
                      <a:pt x="2506" y="12501"/>
                    </a:lnTo>
                    <a:lnTo>
                      <a:pt x="2456" y="12487"/>
                    </a:lnTo>
                    <a:lnTo>
                      <a:pt x="2406" y="12473"/>
                    </a:lnTo>
                    <a:lnTo>
                      <a:pt x="2356" y="12459"/>
                    </a:lnTo>
                    <a:lnTo>
                      <a:pt x="2356" y="12401"/>
                    </a:lnTo>
                    <a:lnTo>
                      <a:pt x="2356" y="12343"/>
                    </a:lnTo>
                    <a:lnTo>
                      <a:pt x="2356" y="12285"/>
                    </a:lnTo>
                    <a:lnTo>
                      <a:pt x="2356" y="12227"/>
                    </a:lnTo>
                    <a:lnTo>
                      <a:pt x="2356" y="12169"/>
                    </a:lnTo>
                    <a:lnTo>
                      <a:pt x="2356" y="12111"/>
                    </a:lnTo>
                    <a:lnTo>
                      <a:pt x="2356" y="12053"/>
                    </a:lnTo>
                    <a:lnTo>
                      <a:pt x="2356" y="11995"/>
                    </a:lnTo>
                    <a:close/>
                    <a:moveTo>
                      <a:pt x="1134" y="11663"/>
                    </a:moveTo>
                    <a:lnTo>
                      <a:pt x="1184" y="11677"/>
                    </a:lnTo>
                    <a:lnTo>
                      <a:pt x="1234" y="11691"/>
                    </a:lnTo>
                    <a:lnTo>
                      <a:pt x="1284" y="11704"/>
                    </a:lnTo>
                    <a:lnTo>
                      <a:pt x="1333" y="11717"/>
                    </a:lnTo>
                    <a:lnTo>
                      <a:pt x="1383" y="11731"/>
                    </a:lnTo>
                    <a:lnTo>
                      <a:pt x="1433" y="11744"/>
                    </a:lnTo>
                    <a:lnTo>
                      <a:pt x="1483" y="11758"/>
                    </a:lnTo>
                    <a:lnTo>
                      <a:pt x="1533" y="11771"/>
                    </a:lnTo>
                    <a:lnTo>
                      <a:pt x="1583" y="11785"/>
                    </a:lnTo>
                    <a:lnTo>
                      <a:pt x="1633" y="11798"/>
                    </a:lnTo>
                    <a:lnTo>
                      <a:pt x="1683" y="11812"/>
                    </a:lnTo>
                    <a:lnTo>
                      <a:pt x="1732" y="11826"/>
                    </a:lnTo>
                    <a:lnTo>
                      <a:pt x="1782" y="11839"/>
                    </a:lnTo>
                    <a:lnTo>
                      <a:pt x="1832" y="11852"/>
                    </a:lnTo>
                    <a:lnTo>
                      <a:pt x="1881" y="11865"/>
                    </a:lnTo>
                    <a:lnTo>
                      <a:pt x="1931" y="11880"/>
                    </a:lnTo>
                    <a:lnTo>
                      <a:pt x="1931" y="11937"/>
                    </a:lnTo>
                    <a:lnTo>
                      <a:pt x="1931" y="11994"/>
                    </a:lnTo>
                    <a:lnTo>
                      <a:pt x="1931" y="12052"/>
                    </a:lnTo>
                    <a:lnTo>
                      <a:pt x="1931" y="12109"/>
                    </a:lnTo>
                    <a:lnTo>
                      <a:pt x="1931" y="12166"/>
                    </a:lnTo>
                    <a:lnTo>
                      <a:pt x="1931" y="12223"/>
                    </a:lnTo>
                    <a:lnTo>
                      <a:pt x="1931" y="12281"/>
                    </a:lnTo>
                    <a:lnTo>
                      <a:pt x="1931" y="12337"/>
                    </a:lnTo>
                    <a:lnTo>
                      <a:pt x="1881" y="12323"/>
                    </a:lnTo>
                    <a:lnTo>
                      <a:pt x="1832" y="12309"/>
                    </a:lnTo>
                    <a:lnTo>
                      <a:pt x="1782" y="12295"/>
                    </a:lnTo>
                    <a:lnTo>
                      <a:pt x="1732" y="12281"/>
                    </a:lnTo>
                    <a:lnTo>
                      <a:pt x="1683" y="12266"/>
                    </a:lnTo>
                    <a:lnTo>
                      <a:pt x="1633" y="12252"/>
                    </a:lnTo>
                    <a:lnTo>
                      <a:pt x="1583" y="12238"/>
                    </a:lnTo>
                    <a:lnTo>
                      <a:pt x="1533" y="12224"/>
                    </a:lnTo>
                    <a:lnTo>
                      <a:pt x="1483" y="12209"/>
                    </a:lnTo>
                    <a:lnTo>
                      <a:pt x="1433" y="12195"/>
                    </a:lnTo>
                    <a:lnTo>
                      <a:pt x="1383" y="12182"/>
                    </a:lnTo>
                    <a:lnTo>
                      <a:pt x="1333" y="12168"/>
                    </a:lnTo>
                    <a:lnTo>
                      <a:pt x="1284" y="12153"/>
                    </a:lnTo>
                    <a:lnTo>
                      <a:pt x="1234" y="12139"/>
                    </a:lnTo>
                    <a:lnTo>
                      <a:pt x="1184" y="12125"/>
                    </a:lnTo>
                    <a:lnTo>
                      <a:pt x="1134" y="12111"/>
                    </a:lnTo>
                    <a:lnTo>
                      <a:pt x="1134" y="12055"/>
                    </a:lnTo>
                    <a:lnTo>
                      <a:pt x="1134" y="11999"/>
                    </a:lnTo>
                    <a:lnTo>
                      <a:pt x="1134" y="11943"/>
                    </a:lnTo>
                    <a:lnTo>
                      <a:pt x="1134" y="11887"/>
                    </a:lnTo>
                    <a:lnTo>
                      <a:pt x="1134" y="11831"/>
                    </a:lnTo>
                    <a:lnTo>
                      <a:pt x="1134" y="11775"/>
                    </a:lnTo>
                    <a:lnTo>
                      <a:pt x="1134" y="11719"/>
                    </a:lnTo>
                    <a:lnTo>
                      <a:pt x="1134" y="11663"/>
                    </a:lnTo>
                    <a:close/>
                    <a:moveTo>
                      <a:pt x="7244" y="12327"/>
                    </a:moveTo>
                    <a:lnTo>
                      <a:pt x="7294" y="12340"/>
                    </a:lnTo>
                    <a:lnTo>
                      <a:pt x="7343" y="12352"/>
                    </a:lnTo>
                    <a:lnTo>
                      <a:pt x="7393" y="12365"/>
                    </a:lnTo>
                    <a:lnTo>
                      <a:pt x="7443" y="12377"/>
                    </a:lnTo>
                    <a:lnTo>
                      <a:pt x="7493" y="12389"/>
                    </a:lnTo>
                    <a:lnTo>
                      <a:pt x="7542" y="12402"/>
                    </a:lnTo>
                    <a:lnTo>
                      <a:pt x="7592" y="12414"/>
                    </a:lnTo>
                    <a:lnTo>
                      <a:pt x="7642" y="12426"/>
                    </a:lnTo>
                    <a:lnTo>
                      <a:pt x="7692" y="12438"/>
                    </a:lnTo>
                    <a:lnTo>
                      <a:pt x="7742" y="12450"/>
                    </a:lnTo>
                    <a:lnTo>
                      <a:pt x="7792" y="12463"/>
                    </a:lnTo>
                    <a:lnTo>
                      <a:pt x="7842" y="12475"/>
                    </a:lnTo>
                    <a:lnTo>
                      <a:pt x="7891" y="12487"/>
                    </a:lnTo>
                    <a:lnTo>
                      <a:pt x="7941" y="12500"/>
                    </a:lnTo>
                    <a:lnTo>
                      <a:pt x="7991" y="12512"/>
                    </a:lnTo>
                    <a:lnTo>
                      <a:pt x="8041" y="12525"/>
                    </a:lnTo>
                    <a:lnTo>
                      <a:pt x="8041" y="12592"/>
                    </a:lnTo>
                    <a:lnTo>
                      <a:pt x="8041" y="12659"/>
                    </a:lnTo>
                    <a:lnTo>
                      <a:pt x="8041" y="12726"/>
                    </a:lnTo>
                    <a:lnTo>
                      <a:pt x="8041" y="12793"/>
                    </a:lnTo>
                    <a:lnTo>
                      <a:pt x="8041" y="12861"/>
                    </a:lnTo>
                    <a:lnTo>
                      <a:pt x="8041" y="12928"/>
                    </a:lnTo>
                    <a:lnTo>
                      <a:pt x="8041" y="12996"/>
                    </a:lnTo>
                    <a:lnTo>
                      <a:pt x="8041" y="13064"/>
                    </a:lnTo>
                    <a:lnTo>
                      <a:pt x="7991" y="13051"/>
                    </a:lnTo>
                    <a:lnTo>
                      <a:pt x="7941" y="13037"/>
                    </a:lnTo>
                    <a:lnTo>
                      <a:pt x="7891" y="13024"/>
                    </a:lnTo>
                    <a:lnTo>
                      <a:pt x="7842" y="13011"/>
                    </a:lnTo>
                    <a:lnTo>
                      <a:pt x="7792" y="12998"/>
                    </a:lnTo>
                    <a:lnTo>
                      <a:pt x="7742" y="12984"/>
                    </a:lnTo>
                    <a:lnTo>
                      <a:pt x="7692" y="12972"/>
                    </a:lnTo>
                    <a:lnTo>
                      <a:pt x="7642" y="12959"/>
                    </a:lnTo>
                    <a:lnTo>
                      <a:pt x="7592" y="12946"/>
                    </a:lnTo>
                    <a:lnTo>
                      <a:pt x="7542" y="12933"/>
                    </a:lnTo>
                    <a:lnTo>
                      <a:pt x="7493" y="12919"/>
                    </a:lnTo>
                    <a:lnTo>
                      <a:pt x="7443" y="12907"/>
                    </a:lnTo>
                    <a:lnTo>
                      <a:pt x="7393" y="12894"/>
                    </a:lnTo>
                    <a:lnTo>
                      <a:pt x="7343" y="12881"/>
                    </a:lnTo>
                    <a:lnTo>
                      <a:pt x="7294" y="12868"/>
                    </a:lnTo>
                    <a:lnTo>
                      <a:pt x="7244" y="12855"/>
                    </a:lnTo>
                    <a:lnTo>
                      <a:pt x="7244" y="12789"/>
                    </a:lnTo>
                    <a:lnTo>
                      <a:pt x="7244" y="12723"/>
                    </a:lnTo>
                    <a:lnTo>
                      <a:pt x="7244" y="12657"/>
                    </a:lnTo>
                    <a:lnTo>
                      <a:pt x="7244" y="12592"/>
                    </a:lnTo>
                    <a:lnTo>
                      <a:pt x="7244" y="12526"/>
                    </a:lnTo>
                    <a:lnTo>
                      <a:pt x="7244" y="12460"/>
                    </a:lnTo>
                    <a:lnTo>
                      <a:pt x="7244" y="12393"/>
                    </a:lnTo>
                    <a:lnTo>
                      <a:pt x="7244" y="12327"/>
                    </a:lnTo>
                    <a:close/>
                    <a:moveTo>
                      <a:pt x="6021" y="12024"/>
                    </a:moveTo>
                    <a:lnTo>
                      <a:pt x="6071" y="12037"/>
                    </a:lnTo>
                    <a:lnTo>
                      <a:pt x="6121" y="12050"/>
                    </a:lnTo>
                    <a:lnTo>
                      <a:pt x="6171" y="12062"/>
                    </a:lnTo>
                    <a:lnTo>
                      <a:pt x="6221" y="12074"/>
                    </a:lnTo>
                    <a:lnTo>
                      <a:pt x="6271" y="12086"/>
                    </a:lnTo>
                    <a:lnTo>
                      <a:pt x="6321" y="12098"/>
                    </a:lnTo>
                    <a:lnTo>
                      <a:pt x="6371" y="12112"/>
                    </a:lnTo>
                    <a:lnTo>
                      <a:pt x="6421" y="12124"/>
                    </a:lnTo>
                    <a:lnTo>
                      <a:pt x="6470" y="12136"/>
                    </a:lnTo>
                    <a:lnTo>
                      <a:pt x="6520" y="12148"/>
                    </a:lnTo>
                    <a:lnTo>
                      <a:pt x="6570" y="12160"/>
                    </a:lnTo>
                    <a:lnTo>
                      <a:pt x="6620" y="12173"/>
                    </a:lnTo>
                    <a:lnTo>
                      <a:pt x="6670" y="12185"/>
                    </a:lnTo>
                    <a:lnTo>
                      <a:pt x="6719" y="12198"/>
                    </a:lnTo>
                    <a:lnTo>
                      <a:pt x="6769" y="12210"/>
                    </a:lnTo>
                    <a:lnTo>
                      <a:pt x="6819" y="12223"/>
                    </a:lnTo>
                    <a:lnTo>
                      <a:pt x="6819" y="12288"/>
                    </a:lnTo>
                    <a:lnTo>
                      <a:pt x="6819" y="12353"/>
                    </a:lnTo>
                    <a:lnTo>
                      <a:pt x="6819" y="12419"/>
                    </a:lnTo>
                    <a:lnTo>
                      <a:pt x="6819" y="12484"/>
                    </a:lnTo>
                    <a:lnTo>
                      <a:pt x="6819" y="12549"/>
                    </a:lnTo>
                    <a:lnTo>
                      <a:pt x="6819" y="12614"/>
                    </a:lnTo>
                    <a:lnTo>
                      <a:pt x="6819" y="12680"/>
                    </a:lnTo>
                    <a:lnTo>
                      <a:pt x="6819" y="12745"/>
                    </a:lnTo>
                    <a:lnTo>
                      <a:pt x="6769" y="12732"/>
                    </a:lnTo>
                    <a:lnTo>
                      <a:pt x="6719" y="12720"/>
                    </a:lnTo>
                    <a:lnTo>
                      <a:pt x="6670" y="12707"/>
                    </a:lnTo>
                    <a:lnTo>
                      <a:pt x="6620" y="12693"/>
                    </a:lnTo>
                    <a:lnTo>
                      <a:pt x="6570" y="12680"/>
                    </a:lnTo>
                    <a:lnTo>
                      <a:pt x="6520" y="12667"/>
                    </a:lnTo>
                    <a:lnTo>
                      <a:pt x="6470" y="12654"/>
                    </a:lnTo>
                    <a:lnTo>
                      <a:pt x="6421" y="12641"/>
                    </a:lnTo>
                    <a:lnTo>
                      <a:pt x="6371" y="12627"/>
                    </a:lnTo>
                    <a:lnTo>
                      <a:pt x="6321" y="12614"/>
                    </a:lnTo>
                    <a:lnTo>
                      <a:pt x="6271" y="12602"/>
                    </a:lnTo>
                    <a:lnTo>
                      <a:pt x="6221" y="12589"/>
                    </a:lnTo>
                    <a:lnTo>
                      <a:pt x="6171" y="12575"/>
                    </a:lnTo>
                    <a:lnTo>
                      <a:pt x="6121" y="12562"/>
                    </a:lnTo>
                    <a:lnTo>
                      <a:pt x="6071" y="12550"/>
                    </a:lnTo>
                    <a:lnTo>
                      <a:pt x="6021" y="12537"/>
                    </a:lnTo>
                    <a:lnTo>
                      <a:pt x="6021" y="12473"/>
                    </a:lnTo>
                    <a:lnTo>
                      <a:pt x="6021" y="12409"/>
                    </a:lnTo>
                    <a:lnTo>
                      <a:pt x="6021" y="12345"/>
                    </a:lnTo>
                    <a:lnTo>
                      <a:pt x="6021" y="12281"/>
                    </a:lnTo>
                    <a:lnTo>
                      <a:pt x="6021" y="12216"/>
                    </a:lnTo>
                    <a:lnTo>
                      <a:pt x="6021" y="12152"/>
                    </a:lnTo>
                    <a:lnTo>
                      <a:pt x="6021" y="12088"/>
                    </a:lnTo>
                    <a:lnTo>
                      <a:pt x="6021" y="12024"/>
                    </a:lnTo>
                    <a:close/>
                    <a:moveTo>
                      <a:pt x="4800" y="11722"/>
                    </a:moveTo>
                    <a:lnTo>
                      <a:pt x="4850" y="11735"/>
                    </a:lnTo>
                    <a:lnTo>
                      <a:pt x="4900" y="11747"/>
                    </a:lnTo>
                    <a:lnTo>
                      <a:pt x="4950" y="11760"/>
                    </a:lnTo>
                    <a:lnTo>
                      <a:pt x="5000" y="11772"/>
                    </a:lnTo>
                    <a:lnTo>
                      <a:pt x="5048" y="11784"/>
                    </a:lnTo>
                    <a:lnTo>
                      <a:pt x="5098" y="11796"/>
                    </a:lnTo>
                    <a:lnTo>
                      <a:pt x="5148" y="11810"/>
                    </a:lnTo>
                    <a:lnTo>
                      <a:pt x="5198" y="11822"/>
                    </a:lnTo>
                    <a:lnTo>
                      <a:pt x="5248" y="11834"/>
                    </a:lnTo>
                    <a:lnTo>
                      <a:pt x="5298" y="11846"/>
                    </a:lnTo>
                    <a:lnTo>
                      <a:pt x="5348" y="11858"/>
                    </a:lnTo>
                    <a:lnTo>
                      <a:pt x="5398" y="11871"/>
                    </a:lnTo>
                    <a:lnTo>
                      <a:pt x="5448" y="11883"/>
                    </a:lnTo>
                    <a:lnTo>
                      <a:pt x="5498" y="11895"/>
                    </a:lnTo>
                    <a:lnTo>
                      <a:pt x="5548" y="11907"/>
                    </a:lnTo>
                    <a:lnTo>
                      <a:pt x="5597" y="11919"/>
                    </a:lnTo>
                    <a:lnTo>
                      <a:pt x="5597" y="11982"/>
                    </a:lnTo>
                    <a:lnTo>
                      <a:pt x="5597" y="12047"/>
                    </a:lnTo>
                    <a:lnTo>
                      <a:pt x="5597" y="12110"/>
                    </a:lnTo>
                    <a:lnTo>
                      <a:pt x="5597" y="12173"/>
                    </a:lnTo>
                    <a:lnTo>
                      <a:pt x="5597" y="12237"/>
                    </a:lnTo>
                    <a:lnTo>
                      <a:pt x="5597" y="12300"/>
                    </a:lnTo>
                    <a:lnTo>
                      <a:pt x="5597" y="12363"/>
                    </a:lnTo>
                    <a:lnTo>
                      <a:pt x="5597" y="12427"/>
                    </a:lnTo>
                    <a:lnTo>
                      <a:pt x="5548" y="12414"/>
                    </a:lnTo>
                    <a:lnTo>
                      <a:pt x="5498" y="12401"/>
                    </a:lnTo>
                    <a:lnTo>
                      <a:pt x="5448" y="12387"/>
                    </a:lnTo>
                    <a:lnTo>
                      <a:pt x="5398" y="12374"/>
                    </a:lnTo>
                    <a:lnTo>
                      <a:pt x="5348" y="12362"/>
                    </a:lnTo>
                    <a:lnTo>
                      <a:pt x="5298" y="12349"/>
                    </a:lnTo>
                    <a:lnTo>
                      <a:pt x="5248" y="12335"/>
                    </a:lnTo>
                    <a:lnTo>
                      <a:pt x="5198" y="12322"/>
                    </a:lnTo>
                    <a:lnTo>
                      <a:pt x="5148" y="12309"/>
                    </a:lnTo>
                    <a:lnTo>
                      <a:pt x="5098" y="12297"/>
                    </a:lnTo>
                    <a:lnTo>
                      <a:pt x="5048" y="12284"/>
                    </a:lnTo>
                    <a:lnTo>
                      <a:pt x="5000" y="12270"/>
                    </a:lnTo>
                    <a:lnTo>
                      <a:pt x="4950" y="12258"/>
                    </a:lnTo>
                    <a:lnTo>
                      <a:pt x="4900" y="12245"/>
                    </a:lnTo>
                    <a:lnTo>
                      <a:pt x="4850" y="12232"/>
                    </a:lnTo>
                    <a:lnTo>
                      <a:pt x="4800" y="12219"/>
                    </a:lnTo>
                    <a:lnTo>
                      <a:pt x="4800" y="12157"/>
                    </a:lnTo>
                    <a:lnTo>
                      <a:pt x="4800" y="12094"/>
                    </a:lnTo>
                    <a:lnTo>
                      <a:pt x="4800" y="12032"/>
                    </a:lnTo>
                    <a:lnTo>
                      <a:pt x="4800" y="11970"/>
                    </a:lnTo>
                    <a:lnTo>
                      <a:pt x="4800" y="11908"/>
                    </a:lnTo>
                    <a:lnTo>
                      <a:pt x="4800" y="11846"/>
                    </a:lnTo>
                    <a:lnTo>
                      <a:pt x="4800" y="11784"/>
                    </a:lnTo>
                    <a:lnTo>
                      <a:pt x="4800" y="11722"/>
                    </a:lnTo>
                    <a:close/>
                    <a:moveTo>
                      <a:pt x="3578" y="11420"/>
                    </a:moveTo>
                    <a:lnTo>
                      <a:pt x="3627" y="11433"/>
                    </a:lnTo>
                    <a:lnTo>
                      <a:pt x="3677" y="11445"/>
                    </a:lnTo>
                    <a:lnTo>
                      <a:pt x="3727" y="11458"/>
                    </a:lnTo>
                    <a:lnTo>
                      <a:pt x="3777" y="11470"/>
                    </a:lnTo>
                    <a:lnTo>
                      <a:pt x="3827" y="11482"/>
                    </a:lnTo>
                    <a:lnTo>
                      <a:pt x="3877" y="11494"/>
                    </a:lnTo>
                    <a:lnTo>
                      <a:pt x="3927" y="11506"/>
                    </a:lnTo>
                    <a:lnTo>
                      <a:pt x="3977" y="11519"/>
                    </a:lnTo>
                    <a:lnTo>
                      <a:pt x="4027" y="11532"/>
                    </a:lnTo>
                    <a:lnTo>
                      <a:pt x="4077" y="11544"/>
                    </a:lnTo>
                    <a:lnTo>
                      <a:pt x="4127" y="11556"/>
                    </a:lnTo>
                    <a:lnTo>
                      <a:pt x="4175" y="11568"/>
                    </a:lnTo>
                    <a:lnTo>
                      <a:pt x="4225" y="11581"/>
                    </a:lnTo>
                    <a:lnTo>
                      <a:pt x="4275" y="11594"/>
                    </a:lnTo>
                    <a:lnTo>
                      <a:pt x="4325" y="11606"/>
                    </a:lnTo>
                    <a:lnTo>
                      <a:pt x="4375" y="11618"/>
                    </a:lnTo>
                    <a:lnTo>
                      <a:pt x="4375" y="11679"/>
                    </a:lnTo>
                    <a:lnTo>
                      <a:pt x="4375" y="11741"/>
                    </a:lnTo>
                    <a:lnTo>
                      <a:pt x="4375" y="11802"/>
                    </a:lnTo>
                    <a:lnTo>
                      <a:pt x="4375" y="11863"/>
                    </a:lnTo>
                    <a:lnTo>
                      <a:pt x="4375" y="11924"/>
                    </a:lnTo>
                    <a:lnTo>
                      <a:pt x="4375" y="11986"/>
                    </a:lnTo>
                    <a:lnTo>
                      <a:pt x="4375" y="12048"/>
                    </a:lnTo>
                    <a:lnTo>
                      <a:pt x="4375" y="12109"/>
                    </a:lnTo>
                    <a:lnTo>
                      <a:pt x="4325" y="12096"/>
                    </a:lnTo>
                    <a:lnTo>
                      <a:pt x="4275" y="12083"/>
                    </a:lnTo>
                    <a:lnTo>
                      <a:pt x="4225" y="12070"/>
                    </a:lnTo>
                    <a:lnTo>
                      <a:pt x="4175" y="12057"/>
                    </a:lnTo>
                    <a:lnTo>
                      <a:pt x="4127" y="12044"/>
                    </a:lnTo>
                    <a:lnTo>
                      <a:pt x="4077" y="12030"/>
                    </a:lnTo>
                    <a:lnTo>
                      <a:pt x="4027" y="12017"/>
                    </a:lnTo>
                    <a:lnTo>
                      <a:pt x="3977" y="12004"/>
                    </a:lnTo>
                    <a:lnTo>
                      <a:pt x="3927" y="11991"/>
                    </a:lnTo>
                    <a:lnTo>
                      <a:pt x="3877" y="11978"/>
                    </a:lnTo>
                    <a:lnTo>
                      <a:pt x="3827" y="11965"/>
                    </a:lnTo>
                    <a:lnTo>
                      <a:pt x="3777" y="11952"/>
                    </a:lnTo>
                    <a:lnTo>
                      <a:pt x="3727" y="11939"/>
                    </a:lnTo>
                    <a:lnTo>
                      <a:pt x="3677" y="11926"/>
                    </a:lnTo>
                    <a:lnTo>
                      <a:pt x="3627" y="11913"/>
                    </a:lnTo>
                    <a:lnTo>
                      <a:pt x="3578" y="11900"/>
                    </a:lnTo>
                    <a:lnTo>
                      <a:pt x="3578" y="11840"/>
                    </a:lnTo>
                    <a:lnTo>
                      <a:pt x="3578" y="11780"/>
                    </a:lnTo>
                    <a:lnTo>
                      <a:pt x="3578" y="11720"/>
                    </a:lnTo>
                    <a:lnTo>
                      <a:pt x="3578" y="11660"/>
                    </a:lnTo>
                    <a:lnTo>
                      <a:pt x="3578" y="11600"/>
                    </a:lnTo>
                    <a:lnTo>
                      <a:pt x="3578" y="11540"/>
                    </a:lnTo>
                    <a:lnTo>
                      <a:pt x="3578" y="11480"/>
                    </a:lnTo>
                    <a:lnTo>
                      <a:pt x="3578" y="11420"/>
                    </a:lnTo>
                    <a:close/>
                    <a:moveTo>
                      <a:pt x="2356" y="11119"/>
                    </a:moveTo>
                    <a:lnTo>
                      <a:pt x="2406" y="11131"/>
                    </a:lnTo>
                    <a:lnTo>
                      <a:pt x="2456" y="11143"/>
                    </a:lnTo>
                    <a:lnTo>
                      <a:pt x="2506" y="11155"/>
                    </a:lnTo>
                    <a:lnTo>
                      <a:pt x="2555" y="11168"/>
                    </a:lnTo>
                    <a:lnTo>
                      <a:pt x="2605" y="11180"/>
                    </a:lnTo>
                    <a:lnTo>
                      <a:pt x="2655" y="11192"/>
                    </a:lnTo>
                    <a:lnTo>
                      <a:pt x="2705" y="11204"/>
                    </a:lnTo>
                    <a:lnTo>
                      <a:pt x="2754" y="11217"/>
                    </a:lnTo>
                    <a:lnTo>
                      <a:pt x="2804" y="11229"/>
                    </a:lnTo>
                    <a:lnTo>
                      <a:pt x="2854" y="11241"/>
                    </a:lnTo>
                    <a:lnTo>
                      <a:pt x="2904" y="11253"/>
                    </a:lnTo>
                    <a:lnTo>
                      <a:pt x="2954" y="11265"/>
                    </a:lnTo>
                    <a:lnTo>
                      <a:pt x="3004" y="11278"/>
                    </a:lnTo>
                    <a:lnTo>
                      <a:pt x="3054" y="11291"/>
                    </a:lnTo>
                    <a:lnTo>
                      <a:pt x="3104" y="11303"/>
                    </a:lnTo>
                    <a:lnTo>
                      <a:pt x="3154" y="11315"/>
                    </a:lnTo>
                    <a:lnTo>
                      <a:pt x="3154" y="11374"/>
                    </a:lnTo>
                    <a:lnTo>
                      <a:pt x="3154" y="11434"/>
                    </a:lnTo>
                    <a:lnTo>
                      <a:pt x="3154" y="11493"/>
                    </a:lnTo>
                    <a:lnTo>
                      <a:pt x="3154" y="11552"/>
                    </a:lnTo>
                    <a:lnTo>
                      <a:pt x="3154" y="11612"/>
                    </a:lnTo>
                    <a:lnTo>
                      <a:pt x="3154" y="11671"/>
                    </a:lnTo>
                    <a:lnTo>
                      <a:pt x="3154" y="11731"/>
                    </a:lnTo>
                    <a:lnTo>
                      <a:pt x="3154" y="11790"/>
                    </a:lnTo>
                    <a:lnTo>
                      <a:pt x="3104" y="11777"/>
                    </a:lnTo>
                    <a:lnTo>
                      <a:pt x="3054" y="11764"/>
                    </a:lnTo>
                    <a:lnTo>
                      <a:pt x="3004" y="11751"/>
                    </a:lnTo>
                    <a:lnTo>
                      <a:pt x="2954" y="11737"/>
                    </a:lnTo>
                    <a:lnTo>
                      <a:pt x="2904" y="11725"/>
                    </a:lnTo>
                    <a:lnTo>
                      <a:pt x="2854" y="11712"/>
                    </a:lnTo>
                    <a:lnTo>
                      <a:pt x="2804" y="11699"/>
                    </a:lnTo>
                    <a:lnTo>
                      <a:pt x="2754" y="11685"/>
                    </a:lnTo>
                    <a:lnTo>
                      <a:pt x="2705" y="11673"/>
                    </a:lnTo>
                    <a:lnTo>
                      <a:pt x="2655" y="11660"/>
                    </a:lnTo>
                    <a:lnTo>
                      <a:pt x="2605" y="11647"/>
                    </a:lnTo>
                    <a:lnTo>
                      <a:pt x="2555" y="11634"/>
                    </a:lnTo>
                    <a:lnTo>
                      <a:pt x="2506" y="11621"/>
                    </a:lnTo>
                    <a:lnTo>
                      <a:pt x="2456" y="11608"/>
                    </a:lnTo>
                    <a:lnTo>
                      <a:pt x="2406" y="11595"/>
                    </a:lnTo>
                    <a:lnTo>
                      <a:pt x="2356" y="11583"/>
                    </a:lnTo>
                    <a:lnTo>
                      <a:pt x="2356" y="11525"/>
                    </a:lnTo>
                    <a:lnTo>
                      <a:pt x="2356" y="11467"/>
                    </a:lnTo>
                    <a:lnTo>
                      <a:pt x="2356" y="11409"/>
                    </a:lnTo>
                    <a:lnTo>
                      <a:pt x="2356" y="11351"/>
                    </a:lnTo>
                    <a:lnTo>
                      <a:pt x="2356" y="11293"/>
                    </a:lnTo>
                    <a:lnTo>
                      <a:pt x="2356" y="11235"/>
                    </a:lnTo>
                    <a:lnTo>
                      <a:pt x="2356" y="11177"/>
                    </a:lnTo>
                    <a:lnTo>
                      <a:pt x="2356" y="11119"/>
                    </a:lnTo>
                    <a:close/>
                    <a:moveTo>
                      <a:pt x="1134" y="10817"/>
                    </a:moveTo>
                    <a:lnTo>
                      <a:pt x="1184" y="10829"/>
                    </a:lnTo>
                    <a:lnTo>
                      <a:pt x="1234" y="10841"/>
                    </a:lnTo>
                    <a:lnTo>
                      <a:pt x="1284" y="10853"/>
                    </a:lnTo>
                    <a:lnTo>
                      <a:pt x="1333" y="10866"/>
                    </a:lnTo>
                    <a:lnTo>
                      <a:pt x="1383" y="10878"/>
                    </a:lnTo>
                    <a:lnTo>
                      <a:pt x="1433" y="10890"/>
                    </a:lnTo>
                    <a:lnTo>
                      <a:pt x="1483" y="10902"/>
                    </a:lnTo>
                    <a:lnTo>
                      <a:pt x="1533" y="10914"/>
                    </a:lnTo>
                    <a:lnTo>
                      <a:pt x="1583" y="10927"/>
                    </a:lnTo>
                    <a:lnTo>
                      <a:pt x="1633" y="10939"/>
                    </a:lnTo>
                    <a:lnTo>
                      <a:pt x="1683" y="10951"/>
                    </a:lnTo>
                    <a:lnTo>
                      <a:pt x="1732" y="10964"/>
                    </a:lnTo>
                    <a:lnTo>
                      <a:pt x="1782" y="10976"/>
                    </a:lnTo>
                    <a:lnTo>
                      <a:pt x="1832" y="10989"/>
                    </a:lnTo>
                    <a:lnTo>
                      <a:pt x="1881" y="11001"/>
                    </a:lnTo>
                    <a:lnTo>
                      <a:pt x="1931" y="11013"/>
                    </a:lnTo>
                    <a:lnTo>
                      <a:pt x="1931" y="11071"/>
                    </a:lnTo>
                    <a:lnTo>
                      <a:pt x="1931" y="11128"/>
                    </a:lnTo>
                    <a:lnTo>
                      <a:pt x="1931" y="11185"/>
                    </a:lnTo>
                    <a:lnTo>
                      <a:pt x="1931" y="11243"/>
                    </a:lnTo>
                    <a:lnTo>
                      <a:pt x="1931" y="11300"/>
                    </a:lnTo>
                    <a:lnTo>
                      <a:pt x="1931" y="11358"/>
                    </a:lnTo>
                    <a:lnTo>
                      <a:pt x="1931" y="11415"/>
                    </a:lnTo>
                    <a:lnTo>
                      <a:pt x="1931" y="11472"/>
                    </a:lnTo>
                    <a:lnTo>
                      <a:pt x="1881" y="11460"/>
                    </a:lnTo>
                    <a:lnTo>
                      <a:pt x="1832" y="11446"/>
                    </a:lnTo>
                    <a:lnTo>
                      <a:pt x="1782" y="11433"/>
                    </a:lnTo>
                    <a:lnTo>
                      <a:pt x="1732" y="11420"/>
                    </a:lnTo>
                    <a:lnTo>
                      <a:pt x="1683" y="11407"/>
                    </a:lnTo>
                    <a:lnTo>
                      <a:pt x="1633" y="11394"/>
                    </a:lnTo>
                    <a:lnTo>
                      <a:pt x="1583" y="11381"/>
                    </a:lnTo>
                    <a:lnTo>
                      <a:pt x="1533" y="11368"/>
                    </a:lnTo>
                    <a:lnTo>
                      <a:pt x="1483" y="11355"/>
                    </a:lnTo>
                    <a:lnTo>
                      <a:pt x="1433" y="11342"/>
                    </a:lnTo>
                    <a:lnTo>
                      <a:pt x="1383" y="11329"/>
                    </a:lnTo>
                    <a:lnTo>
                      <a:pt x="1333" y="11316"/>
                    </a:lnTo>
                    <a:lnTo>
                      <a:pt x="1284" y="11303"/>
                    </a:lnTo>
                    <a:lnTo>
                      <a:pt x="1234" y="11291"/>
                    </a:lnTo>
                    <a:lnTo>
                      <a:pt x="1184" y="11278"/>
                    </a:lnTo>
                    <a:lnTo>
                      <a:pt x="1134" y="11264"/>
                    </a:lnTo>
                    <a:lnTo>
                      <a:pt x="1134" y="11208"/>
                    </a:lnTo>
                    <a:lnTo>
                      <a:pt x="1134" y="11152"/>
                    </a:lnTo>
                    <a:lnTo>
                      <a:pt x="1134" y="11096"/>
                    </a:lnTo>
                    <a:lnTo>
                      <a:pt x="1134" y="11041"/>
                    </a:lnTo>
                    <a:lnTo>
                      <a:pt x="1134" y="10985"/>
                    </a:lnTo>
                    <a:lnTo>
                      <a:pt x="1134" y="10929"/>
                    </a:lnTo>
                    <a:lnTo>
                      <a:pt x="1134" y="10873"/>
                    </a:lnTo>
                    <a:lnTo>
                      <a:pt x="1134" y="10817"/>
                    </a:lnTo>
                    <a:close/>
                    <a:moveTo>
                      <a:pt x="3578" y="10513"/>
                    </a:moveTo>
                    <a:lnTo>
                      <a:pt x="3627" y="10524"/>
                    </a:lnTo>
                    <a:lnTo>
                      <a:pt x="3677" y="10535"/>
                    </a:lnTo>
                    <a:lnTo>
                      <a:pt x="3727" y="10546"/>
                    </a:lnTo>
                    <a:lnTo>
                      <a:pt x="3777" y="10557"/>
                    </a:lnTo>
                    <a:lnTo>
                      <a:pt x="3827" y="10569"/>
                    </a:lnTo>
                    <a:lnTo>
                      <a:pt x="3877" y="10580"/>
                    </a:lnTo>
                    <a:lnTo>
                      <a:pt x="3927" y="10591"/>
                    </a:lnTo>
                    <a:lnTo>
                      <a:pt x="3977" y="10602"/>
                    </a:lnTo>
                    <a:lnTo>
                      <a:pt x="4027" y="10613"/>
                    </a:lnTo>
                    <a:lnTo>
                      <a:pt x="4077" y="10625"/>
                    </a:lnTo>
                    <a:lnTo>
                      <a:pt x="4127" y="10636"/>
                    </a:lnTo>
                    <a:lnTo>
                      <a:pt x="4175" y="10647"/>
                    </a:lnTo>
                    <a:lnTo>
                      <a:pt x="4225" y="10658"/>
                    </a:lnTo>
                    <a:lnTo>
                      <a:pt x="4275" y="10669"/>
                    </a:lnTo>
                    <a:lnTo>
                      <a:pt x="4325" y="10680"/>
                    </a:lnTo>
                    <a:lnTo>
                      <a:pt x="4375" y="10692"/>
                    </a:lnTo>
                    <a:lnTo>
                      <a:pt x="4375" y="10753"/>
                    </a:lnTo>
                    <a:lnTo>
                      <a:pt x="4375" y="10815"/>
                    </a:lnTo>
                    <a:lnTo>
                      <a:pt x="4375" y="10876"/>
                    </a:lnTo>
                    <a:lnTo>
                      <a:pt x="4375" y="10937"/>
                    </a:lnTo>
                    <a:lnTo>
                      <a:pt x="4375" y="10998"/>
                    </a:lnTo>
                    <a:lnTo>
                      <a:pt x="4375" y="11060"/>
                    </a:lnTo>
                    <a:lnTo>
                      <a:pt x="4375" y="11121"/>
                    </a:lnTo>
                    <a:lnTo>
                      <a:pt x="4375" y="11182"/>
                    </a:lnTo>
                    <a:lnTo>
                      <a:pt x="4325" y="11171"/>
                    </a:lnTo>
                    <a:lnTo>
                      <a:pt x="4275" y="11159"/>
                    </a:lnTo>
                    <a:lnTo>
                      <a:pt x="4225" y="11147"/>
                    </a:lnTo>
                    <a:lnTo>
                      <a:pt x="4175" y="11135"/>
                    </a:lnTo>
                    <a:lnTo>
                      <a:pt x="4127" y="11123"/>
                    </a:lnTo>
                    <a:lnTo>
                      <a:pt x="4077" y="11112"/>
                    </a:lnTo>
                    <a:lnTo>
                      <a:pt x="4027" y="11100"/>
                    </a:lnTo>
                    <a:lnTo>
                      <a:pt x="3977" y="11087"/>
                    </a:lnTo>
                    <a:lnTo>
                      <a:pt x="3927" y="11076"/>
                    </a:lnTo>
                    <a:lnTo>
                      <a:pt x="3877" y="11064"/>
                    </a:lnTo>
                    <a:lnTo>
                      <a:pt x="3827" y="11052"/>
                    </a:lnTo>
                    <a:lnTo>
                      <a:pt x="3777" y="11041"/>
                    </a:lnTo>
                    <a:lnTo>
                      <a:pt x="3727" y="11028"/>
                    </a:lnTo>
                    <a:lnTo>
                      <a:pt x="3677" y="11016"/>
                    </a:lnTo>
                    <a:lnTo>
                      <a:pt x="3627" y="11005"/>
                    </a:lnTo>
                    <a:lnTo>
                      <a:pt x="3578" y="10993"/>
                    </a:lnTo>
                    <a:lnTo>
                      <a:pt x="3578" y="10933"/>
                    </a:lnTo>
                    <a:lnTo>
                      <a:pt x="3578" y="10873"/>
                    </a:lnTo>
                    <a:lnTo>
                      <a:pt x="3578" y="10813"/>
                    </a:lnTo>
                    <a:lnTo>
                      <a:pt x="3578" y="10753"/>
                    </a:lnTo>
                    <a:lnTo>
                      <a:pt x="3578" y="10693"/>
                    </a:lnTo>
                    <a:lnTo>
                      <a:pt x="3578" y="10633"/>
                    </a:lnTo>
                    <a:lnTo>
                      <a:pt x="3578" y="10573"/>
                    </a:lnTo>
                    <a:lnTo>
                      <a:pt x="3578" y="10513"/>
                    </a:lnTo>
                    <a:close/>
                    <a:moveTo>
                      <a:pt x="2356" y="10241"/>
                    </a:moveTo>
                    <a:lnTo>
                      <a:pt x="2406" y="10252"/>
                    </a:lnTo>
                    <a:lnTo>
                      <a:pt x="2456" y="10263"/>
                    </a:lnTo>
                    <a:lnTo>
                      <a:pt x="2506" y="10275"/>
                    </a:lnTo>
                    <a:lnTo>
                      <a:pt x="2555" y="10286"/>
                    </a:lnTo>
                    <a:lnTo>
                      <a:pt x="2605" y="10297"/>
                    </a:lnTo>
                    <a:lnTo>
                      <a:pt x="2655" y="10308"/>
                    </a:lnTo>
                    <a:lnTo>
                      <a:pt x="2705" y="10319"/>
                    </a:lnTo>
                    <a:lnTo>
                      <a:pt x="2754" y="10331"/>
                    </a:lnTo>
                    <a:lnTo>
                      <a:pt x="2804" y="10341"/>
                    </a:lnTo>
                    <a:lnTo>
                      <a:pt x="2854" y="10352"/>
                    </a:lnTo>
                    <a:lnTo>
                      <a:pt x="2904" y="10363"/>
                    </a:lnTo>
                    <a:lnTo>
                      <a:pt x="2954" y="10374"/>
                    </a:lnTo>
                    <a:lnTo>
                      <a:pt x="3004" y="10385"/>
                    </a:lnTo>
                    <a:lnTo>
                      <a:pt x="3054" y="10397"/>
                    </a:lnTo>
                    <a:lnTo>
                      <a:pt x="3104" y="10408"/>
                    </a:lnTo>
                    <a:lnTo>
                      <a:pt x="3154" y="10419"/>
                    </a:lnTo>
                    <a:lnTo>
                      <a:pt x="3154" y="10478"/>
                    </a:lnTo>
                    <a:lnTo>
                      <a:pt x="3154" y="10538"/>
                    </a:lnTo>
                    <a:lnTo>
                      <a:pt x="3154" y="10597"/>
                    </a:lnTo>
                    <a:lnTo>
                      <a:pt x="3154" y="10656"/>
                    </a:lnTo>
                    <a:lnTo>
                      <a:pt x="3154" y="10716"/>
                    </a:lnTo>
                    <a:lnTo>
                      <a:pt x="3154" y="10775"/>
                    </a:lnTo>
                    <a:lnTo>
                      <a:pt x="3154" y="10834"/>
                    </a:lnTo>
                    <a:lnTo>
                      <a:pt x="3154" y="10894"/>
                    </a:lnTo>
                    <a:lnTo>
                      <a:pt x="3104" y="10882"/>
                    </a:lnTo>
                    <a:lnTo>
                      <a:pt x="3054" y="10870"/>
                    </a:lnTo>
                    <a:lnTo>
                      <a:pt x="3004" y="10858"/>
                    </a:lnTo>
                    <a:lnTo>
                      <a:pt x="2954" y="10846"/>
                    </a:lnTo>
                    <a:lnTo>
                      <a:pt x="2904" y="10835"/>
                    </a:lnTo>
                    <a:lnTo>
                      <a:pt x="2854" y="10823"/>
                    </a:lnTo>
                    <a:lnTo>
                      <a:pt x="2804" y="10812"/>
                    </a:lnTo>
                    <a:lnTo>
                      <a:pt x="2754" y="10799"/>
                    </a:lnTo>
                    <a:lnTo>
                      <a:pt x="2705" y="10787"/>
                    </a:lnTo>
                    <a:lnTo>
                      <a:pt x="2655" y="10776"/>
                    </a:lnTo>
                    <a:lnTo>
                      <a:pt x="2605" y="10764"/>
                    </a:lnTo>
                    <a:lnTo>
                      <a:pt x="2555" y="10753"/>
                    </a:lnTo>
                    <a:lnTo>
                      <a:pt x="2506" y="10740"/>
                    </a:lnTo>
                    <a:lnTo>
                      <a:pt x="2456" y="10728"/>
                    </a:lnTo>
                    <a:lnTo>
                      <a:pt x="2406" y="10717"/>
                    </a:lnTo>
                    <a:lnTo>
                      <a:pt x="2356" y="10705"/>
                    </a:lnTo>
                    <a:lnTo>
                      <a:pt x="2356" y="10647"/>
                    </a:lnTo>
                    <a:lnTo>
                      <a:pt x="2356" y="10589"/>
                    </a:lnTo>
                    <a:lnTo>
                      <a:pt x="2356" y="10531"/>
                    </a:lnTo>
                    <a:lnTo>
                      <a:pt x="2356" y="10473"/>
                    </a:lnTo>
                    <a:lnTo>
                      <a:pt x="2356" y="10415"/>
                    </a:lnTo>
                    <a:lnTo>
                      <a:pt x="2356" y="10357"/>
                    </a:lnTo>
                    <a:lnTo>
                      <a:pt x="2356" y="10299"/>
                    </a:lnTo>
                    <a:lnTo>
                      <a:pt x="2356" y="10241"/>
                    </a:lnTo>
                    <a:close/>
                    <a:moveTo>
                      <a:pt x="1134" y="9969"/>
                    </a:moveTo>
                    <a:lnTo>
                      <a:pt x="1184" y="9981"/>
                    </a:lnTo>
                    <a:lnTo>
                      <a:pt x="1234" y="9992"/>
                    </a:lnTo>
                    <a:lnTo>
                      <a:pt x="1284" y="10003"/>
                    </a:lnTo>
                    <a:lnTo>
                      <a:pt x="1333" y="10014"/>
                    </a:lnTo>
                    <a:lnTo>
                      <a:pt x="1383" y="10025"/>
                    </a:lnTo>
                    <a:lnTo>
                      <a:pt x="1433" y="10037"/>
                    </a:lnTo>
                    <a:lnTo>
                      <a:pt x="1483" y="10048"/>
                    </a:lnTo>
                    <a:lnTo>
                      <a:pt x="1533" y="10059"/>
                    </a:lnTo>
                    <a:lnTo>
                      <a:pt x="1583" y="10070"/>
                    </a:lnTo>
                    <a:lnTo>
                      <a:pt x="1633" y="10080"/>
                    </a:lnTo>
                    <a:lnTo>
                      <a:pt x="1683" y="10092"/>
                    </a:lnTo>
                    <a:lnTo>
                      <a:pt x="1732" y="10103"/>
                    </a:lnTo>
                    <a:lnTo>
                      <a:pt x="1782" y="10114"/>
                    </a:lnTo>
                    <a:lnTo>
                      <a:pt x="1832" y="10125"/>
                    </a:lnTo>
                    <a:lnTo>
                      <a:pt x="1881" y="10136"/>
                    </a:lnTo>
                    <a:lnTo>
                      <a:pt x="1931" y="10147"/>
                    </a:lnTo>
                    <a:lnTo>
                      <a:pt x="1931" y="10204"/>
                    </a:lnTo>
                    <a:lnTo>
                      <a:pt x="1931" y="10262"/>
                    </a:lnTo>
                    <a:lnTo>
                      <a:pt x="1931" y="10319"/>
                    </a:lnTo>
                    <a:lnTo>
                      <a:pt x="1931" y="10376"/>
                    </a:lnTo>
                    <a:lnTo>
                      <a:pt x="1931" y="10434"/>
                    </a:lnTo>
                    <a:lnTo>
                      <a:pt x="1931" y="10491"/>
                    </a:lnTo>
                    <a:lnTo>
                      <a:pt x="1931" y="10548"/>
                    </a:lnTo>
                    <a:lnTo>
                      <a:pt x="1931" y="10606"/>
                    </a:lnTo>
                    <a:lnTo>
                      <a:pt x="1881" y="10594"/>
                    </a:lnTo>
                    <a:lnTo>
                      <a:pt x="1832" y="10583"/>
                    </a:lnTo>
                    <a:lnTo>
                      <a:pt x="1782" y="10571"/>
                    </a:lnTo>
                    <a:lnTo>
                      <a:pt x="1732" y="10559"/>
                    </a:lnTo>
                    <a:lnTo>
                      <a:pt x="1683" y="10547"/>
                    </a:lnTo>
                    <a:lnTo>
                      <a:pt x="1633" y="10535"/>
                    </a:lnTo>
                    <a:lnTo>
                      <a:pt x="1583" y="10524"/>
                    </a:lnTo>
                    <a:lnTo>
                      <a:pt x="1533" y="10512"/>
                    </a:lnTo>
                    <a:lnTo>
                      <a:pt x="1483" y="10500"/>
                    </a:lnTo>
                    <a:lnTo>
                      <a:pt x="1433" y="10488"/>
                    </a:lnTo>
                    <a:lnTo>
                      <a:pt x="1383" y="10477"/>
                    </a:lnTo>
                    <a:lnTo>
                      <a:pt x="1333" y="10465"/>
                    </a:lnTo>
                    <a:lnTo>
                      <a:pt x="1284" y="10453"/>
                    </a:lnTo>
                    <a:lnTo>
                      <a:pt x="1234" y="10441"/>
                    </a:lnTo>
                    <a:lnTo>
                      <a:pt x="1184" y="10429"/>
                    </a:lnTo>
                    <a:lnTo>
                      <a:pt x="1134" y="10418"/>
                    </a:lnTo>
                    <a:lnTo>
                      <a:pt x="1134" y="10362"/>
                    </a:lnTo>
                    <a:lnTo>
                      <a:pt x="1134" y="10306"/>
                    </a:lnTo>
                    <a:lnTo>
                      <a:pt x="1134" y="10250"/>
                    </a:lnTo>
                    <a:lnTo>
                      <a:pt x="1134" y="10194"/>
                    </a:lnTo>
                    <a:lnTo>
                      <a:pt x="1134" y="10138"/>
                    </a:lnTo>
                    <a:lnTo>
                      <a:pt x="1134" y="10081"/>
                    </a:lnTo>
                    <a:lnTo>
                      <a:pt x="1134" y="10025"/>
                    </a:lnTo>
                    <a:lnTo>
                      <a:pt x="1134" y="9969"/>
                    </a:lnTo>
                    <a:close/>
                    <a:moveTo>
                      <a:pt x="2356" y="9364"/>
                    </a:moveTo>
                    <a:lnTo>
                      <a:pt x="2406" y="9374"/>
                    </a:lnTo>
                    <a:lnTo>
                      <a:pt x="2456" y="9384"/>
                    </a:lnTo>
                    <a:lnTo>
                      <a:pt x="2506" y="9394"/>
                    </a:lnTo>
                    <a:lnTo>
                      <a:pt x="2555" y="9403"/>
                    </a:lnTo>
                    <a:lnTo>
                      <a:pt x="2605" y="9413"/>
                    </a:lnTo>
                    <a:lnTo>
                      <a:pt x="2655" y="9422"/>
                    </a:lnTo>
                    <a:lnTo>
                      <a:pt x="2705" y="9432"/>
                    </a:lnTo>
                    <a:lnTo>
                      <a:pt x="2754" y="9443"/>
                    </a:lnTo>
                    <a:lnTo>
                      <a:pt x="2804" y="9452"/>
                    </a:lnTo>
                    <a:lnTo>
                      <a:pt x="2854" y="9462"/>
                    </a:lnTo>
                    <a:lnTo>
                      <a:pt x="2904" y="9472"/>
                    </a:lnTo>
                    <a:lnTo>
                      <a:pt x="2954" y="9481"/>
                    </a:lnTo>
                    <a:lnTo>
                      <a:pt x="3004" y="9491"/>
                    </a:lnTo>
                    <a:lnTo>
                      <a:pt x="3054" y="9502"/>
                    </a:lnTo>
                    <a:lnTo>
                      <a:pt x="3104" y="9512"/>
                    </a:lnTo>
                    <a:lnTo>
                      <a:pt x="3154" y="9521"/>
                    </a:lnTo>
                    <a:lnTo>
                      <a:pt x="3154" y="9581"/>
                    </a:lnTo>
                    <a:lnTo>
                      <a:pt x="3154" y="9640"/>
                    </a:lnTo>
                    <a:lnTo>
                      <a:pt x="3154" y="9699"/>
                    </a:lnTo>
                    <a:lnTo>
                      <a:pt x="3154" y="9759"/>
                    </a:lnTo>
                    <a:lnTo>
                      <a:pt x="3154" y="9818"/>
                    </a:lnTo>
                    <a:lnTo>
                      <a:pt x="3154" y="9877"/>
                    </a:lnTo>
                    <a:lnTo>
                      <a:pt x="3154" y="9937"/>
                    </a:lnTo>
                    <a:lnTo>
                      <a:pt x="3154" y="9996"/>
                    </a:lnTo>
                    <a:lnTo>
                      <a:pt x="3104" y="9986"/>
                    </a:lnTo>
                    <a:lnTo>
                      <a:pt x="3054" y="9975"/>
                    </a:lnTo>
                    <a:lnTo>
                      <a:pt x="3004" y="9964"/>
                    </a:lnTo>
                    <a:lnTo>
                      <a:pt x="2954" y="9953"/>
                    </a:lnTo>
                    <a:lnTo>
                      <a:pt x="2904" y="9943"/>
                    </a:lnTo>
                    <a:lnTo>
                      <a:pt x="2854" y="9933"/>
                    </a:lnTo>
                    <a:lnTo>
                      <a:pt x="2804" y="9922"/>
                    </a:lnTo>
                    <a:lnTo>
                      <a:pt x="2754" y="9911"/>
                    </a:lnTo>
                    <a:lnTo>
                      <a:pt x="2705" y="9901"/>
                    </a:lnTo>
                    <a:lnTo>
                      <a:pt x="2655" y="9891"/>
                    </a:lnTo>
                    <a:lnTo>
                      <a:pt x="2605" y="9880"/>
                    </a:lnTo>
                    <a:lnTo>
                      <a:pt x="2555" y="9870"/>
                    </a:lnTo>
                    <a:lnTo>
                      <a:pt x="2506" y="9860"/>
                    </a:lnTo>
                    <a:lnTo>
                      <a:pt x="2456" y="9848"/>
                    </a:lnTo>
                    <a:lnTo>
                      <a:pt x="2406" y="9838"/>
                    </a:lnTo>
                    <a:lnTo>
                      <a:pt x="2356" y="9828"/>
                    </a:lnTo>
                    <a:lnTo>
                      <a:pt x="2356" y="9770"/>
                    </a:lnTo>
                    <a:lnTo>
                      <a:pt x="2356" y="9712"/>
                    </a:lnTo>
                    <a:lnTo>
                      <a:pt x="2356" y="9654"/>
                    </a:lnTo>
                    <a:lnTo>
                      <a:pt x="2356" y="9596"/>
                    </a:lnTo>
                    <a:lnTo>
                      <a:pt x="2356" y="9538"/>
                    </a:lnTo>
                    <a:lnTo>
                      <a:pt x="2356" y="9480"/>
                    </a:lnTo>
                    <a:lnTo>
                      <a:pt x="2356" y="9422"/>
                    </a:lnTo>
                    <a:lnTo>
                      <a:pt x="2356" y="9364"/>
                    </a:lnTo>
                    <a:close/>
                    <a:moveTo>
                      <a:pt x="1134" y="9122"/>
                    </a:moveTo>
                    <a:lnTo>
                      <a:pt x="1184" y="9132"/>
                    </a:lnTo>
                    <a:lnTo>
                      <a:pt x="1234" y="9142"/>
                    </a:lnTo>
                    <a:lnTo>
                      <a:pt x="1284" y="9153"/>
                    </a:lnTo>
                    <a:lnTo>
                      <a:pt x="1333" y="9162"/>
                    </a:lnTo>
                    <a:lnTo>
                      <a:pt x="1383" y="9172"/>
                    </a:lnTo>
                    <a:lnTo>
                      <a:pt x="1433" y="9182"/>
                    </a:lnTo>
                    <a:lnTo>
                      <a:pt x="1483" y="9191"/>
                    </a:lnTo>
                    <a:lnTo>
                      <a:pt x="1533" y="9201"/>
                    </a:lnTo>
                    <a:lnTo>
                      <a:pt x="1583" y="9212"/>
                    </a:lnTo>
                    <a:lnTo>
                      <a:pt x="1633" y="9221"/>
                    </a:lnTo>
                    <a:lnTo>
                      <a:pt x="1683" y="9231"/>
                    </a:lnTo>
                    <a:lnTo>
                      <a:pt x="1732" y="9240"/>
                    </a:lnTo>
                    <a:lnTo>
                      <a:pt x="1782" y="9250"/>
                    </a:lnTo>
                    <a:lnTo>
                      <a:pt x="1832" y="9260"/>
                    </a:lnTo>
                    <a:lnTo>
                      <a:pt x="1881" y="9270"/>
                    </a:lnTo>
                    <a:lnTo>
                      <a:pt x="1931" y="9280"/>
                    </a:lnTo>
                    <a:lnTo>
                      <a:pt x="1931" y="9337"/>
                    </a:lnTo>
                    <a:lnTo>
                      <a:pt x="1931" y="9395"/>
                    </a:lnTo>
                    <a:lnTo>
                      <a:pt x="1931" y="9452"/>
                    </a:lnTo>
                    <a:lnTo>
                      <a:pt x="1931" y="9509"/>
                    </a:lnTo>
                    <a:lnTo>
                      <a:pt x="1931" y="9567"/>
                    </a:lnTo>
                    <a:lnTo>
                      <a:pt x="1931" y="9624"/>
                    </a:lnTo>
                    <a:lnTo>
                      <a:pt x="1931" y="9682"/>
                    </a:lnTo>
                    <a:lnTo>
                      <a:pt x="1931" y="9739"/>
                    </a:lnTo>
                    <a:lnTo>
                      <a:pt x="1881" y="9728"/>
                    </a:lnTo>
                    <a:lnTo>
                      <a:pt x="1832" y="9717"/>
                    </a:lnTo>
                    <a:lnTo>
                      <a:pt x="1782" y="9707"/>
                    </a:lnTo>
                    <a:lnTo>
                      <a:pt x="1732" y="9696"/>
                    </a:lnTo>
                    <a:lnTo>
                      <a:pt x="1683" y="9686"/>
                    </a:lnTo>
                    <a:lnTo>
                      <a:pt x="1633" y="9675"/>
                    </a:lnTo>
                    <a:lnTo>
                      <a:pt x="1583" y="9664"/>
                    </a:lnTo>
                    <a:lnTo>
                      <a:pt x="1533" y="9654"/>
                    </a:lnTo>
                    <a:lnTo>
                      <a:pt x="1483" y="9644"/>
                    </a:lnTo>
                    <a:lnTo>
                      <a:pt x="1433" y="9634"/>
                    </a:lnTo>
                    <a:lnTo>
                      <a:pt x="1383" y="9623"/>
                    </a:lnTo>
                    <a:lnTo>
                      <a:pt x="1333" y="9612"/>
                    </a:lnTo>
                    <a:lnTo>
                      <a:pt x="1284" y="9602"/>
                    </a:lnTo>
                    <a:lnTo>
                      <a:pt x="1234" y="9592"/>
                    </a:lnTo>
                    <a:lnTo>
                      <a:pt x="1184" y="9581"/>
                    </a:lnTo>
                    <a:lnTo>
                      <a:pt x="1134" y="9571"/>
                    </a:lnTo>
                    <a:lnTo>
                      <a:pt x="1134" y="9515"/>
                    </a:lnTo>
                    <a:lnTo>
                      <a:pt x="1134" y="9459"/>
                    </a:lnTo>
                    <a:lnTo>
                      <a:pt x="1134" y="9403"/>
                    </a:lnTo>
                    <a:lnTo>
                      <a:pt x="1134" y="9347"/>
                    </a:lnTo>
                    <a:lnTo>
                      <a:pt x="1134" y="9291"/>
                    </a:lnTo>
                    <a:lnTo>
                      <a:pt x="1134" y="9235"/>
                    </a:lnTo>
                    <a:lnTo>
                      <a:pt x="1134" y="9179"/>
                    </a:lnTo>
                    <a:lnTo>
                      <a:pt x="1134" y="9122"/>
                    </a:lnTo>
                    <a:close/>
                    <a:moveTo>
                      <a:pt x="7244" y="9334"/>
                    </a:moveTo>
                    <a:lnTo>
                      <a:pt x="7294" y="9343"/>
                    </a:lnTo>
                    <a:lnTo>
                      <a:pt x="7343" y="9351"/>
                    </a:lnTo>
                    <a:lnTo>
                      <a:pt x="7393" y="9360"/>
                    </a:lnTo>
                    <a:lnTo>
                      <a:pt x="7443" y="9368"/>
                    </a:lnTo>
                    <a:lnTo>
                      <a:pt x="7493" y="9376"/>
                    </a:lnTo>
                    <a:lnTo>
                      <a:pt x="7542" y="9386"/>
                    </a:lnTo>
                    <a:lnTo>
                      <a:pt x="7592" y="9394"/>
                    </a:lnTo>
                    <a:lnTo>
                      <a:pt x="7642" y="9403"/>
                    </a:lnTo>
                    <a:lnTo>
                      <a:pt x="7692" y="9411"/>
                    </a:lnTo>
                    <a:lnTo>
                      <a:pt x="7742" y="9420"/>
                    </a:lnTo>
                    <a:lnTo>
                      <a:pt x="7792" y="9428"/>
                    </a:lnTo>
                    <a:lnTo>
                      <a:pt x="7842" y="9437"/>
                    </a:lnTo>
                    <a:lnTo>
                      <a:pt x="7891" y="9446"/>
                    </a:lnTo>
                    <a:lnTo>
                      <a:pt x="7941" y="9455"/>
                    </a:lnTo>
                    <a:lnTo>
                      <a:pt x="7991" y="9463"/>
                    </a:lnTo>
                    <a:lnTo>
                      <a:pt x="8041" y="9472"/>
                    </a:lnTo>
                    <a:lnTo>
                      <a:pt x="8041" y="9539"/>
                    </a:lnTo>
                    <a:lnTo>
                      <a:pt x="8041" y="9606"/>
                    </a:lnTo>
                    <a:lnTo>
                      <a:pt x="8041" y="9673"/>
                    </a:lnTo>
                    <a:lnTo>
                      <a:pt x="8041" y="9741"/>
                    </a:lnTo>
                    <a:lnTo>
                      <a:pt x="8041" y="9809"/>
                    </a:lnTo>
                    <a:lnTo>
                      <a:pt x="8041" y="9876"/>
                    </a:lnTo>
                    <a:lnTo>
                      <a:pt x="8041" y="9943"/>
                    </a:lnTo>
                    <a:lnTo>
                      <a:pt x="8041" y="10010"/>
                    </a:lnTo>
                    <a:lnTo>
                      <a:pt x="7991" y="10001"/>
                    </a:lnTo>
                    <a:lnTo>
                      <a:pt x="7941" y="9992"/>
                    </a:lnTo>
                    <a:lnTo>
                      <a:pt x="7891" y="9983"/>
                    </a:lnTo>
                    <a:lnTo>
                      <a:pt x="7842" y="9974"/>
                    </a:lnTo>
                    <a:lnTo>
                      <a:pt x="7792" y="9963"/>
                    </a:lnTo>
                    <a:lnTo>
                      <a:pt x="7742" y="9954"/>
                    </a:lnTo>
                    <a:lnTo>
                      <a:pt x="7692" y="9945"/>
                    </a:lnTo>
                    <a:lnTo>
                      <a:pt x="7642" y="9936"/>
                    </a:lnTo>
                    <a:lnTo>
                      <a:pt x="7592" y="9927"/>
                    </a:lnTo>
                    <a:lnTo>
                      <a:pt x="7542" y="9918"/>
                    </a:lnTo>
                    <a:lnTo>
                      <a:pt x="7493" y="9907"/>
                    </a:lnTo>
                    <a:lnTo>
                      <a:pt x="7443" y="9898"/>
                    </a:lnTo>
                    <a:lnTo>
                      <a:pt x="7393" y="9889"/>
                    </a:lnTo>
                    <a:lnTo>
                      <a:pt x="7343" y="9880"/>
                    </a:lnTo>
                    <a:lnTo>
                      <a:pt x="7294" y="9871"/>
                    </a:lnTo>
                    <a:lnTo>
                      <a:pt x="7244" y="9862"/>
                    </a:lnTo>
                    <a:lnTo>
                      <a:pt x="7244" y="9796"/>
                    </a:lnTo>
                    <a:lnTo>
                      <a:pt x="7244" y="9729"/>
                    </a:lnTo>
                    <a:lnTo>
                      <a:pt x="7244" y="9664"/>
                    </a:lnTo>
                    <a:lnTo>
                      <a:pt x="7244" y="9598"/>
                    </a:lnTo>
                    <a:lnTo>
                      <a:pt x="7244" y="9532"/>
                    </a:lnTo>
                    <a:lnTo>
                      <a:pt x="7244" y="9466"/>
                    </a:lnTo>
                    <a:lnTo>
                      <a:pt x="7244" y="9400"/>
                    </a:lnTo>
                    <a:lnTo>
                      <a:pt x="7244" y="9334"/>
                    </a:lnTo>
                    <a:close/>
                    <a:moveTo>
                      <a:pt x="6021" y="9121"/>
                    </a:moveTo>
                    <a:lnTo>
                      <a:pt x="6071" y="9130"/>
                    </a:lnTo>
                    <a:lnTo>
                      <a:pt x="6121" y="9138"/>
                    </a:lnTo>
                    <a:lnTo>
                      <a:pt x="6171" y="9148"/>
                    </a:lnTo>
                    <a:lnTo>
                      <a:pt x="6221" y="9157"/>
                    </a:lnTo>
                    <a:lnTo>
                      <a:pt x="6271" y="9165"/>
                    </a:lnTo>
                    <a:lnTo>
                      <a:pt x="6321" y="9174"/>
                    </a:lnTo>
                    <a:lnTo>
                      <a:pt x="6371" y="9182"/>
                    </a:lnTo>
                    <a:lnTo>
                      <a:pt x="6421" y="9191"/>
                    </a:lnTo>
                    <a:lnTo>
                      <a:pt x="6470" y="9199"/>
                    </a:lnTo>
                    <a:lnTo>
                      <a:pt x="6520" y="9209"/>
                    </a:lnTo>
                    <a:lnTo>
                      <a:pt x="6570" y="9217"/>
                    </a:lnTo>
                    <a:lnTo>
                      <a:pt x="6620" y="9226"/>
                    </a:lnTo>
                    <a:lnTo>
                      <a:pt x="6670" y="9234"/>
                    </a:lnTo>
                    <a:lnTo>
                      <a:pt x="6719" y="9243"/>
                    </a:lnTo>
                    <a:lnTo>
                      <a:pt x="6769" y="9251"/>
                    </a:lnTo>
                    <a:lnTo>
                      <a:pt x="6819" y="9260"/>
                    </a:lnTo>
                    <a:lnTo>
                      <a:pt x="6819" y="9326"/>
                    </a:lnTo>
                    <a:lnTo>
                      <a:pt x="6819" y="9391"/>
                    </a:lnTo>
                    <a:lnTo>
                      <a:pt x="6819" y="9456"/>
                    </a:lnTo>
                    <a:lnTo>
                      <a:pt x="6819" y="9521"/>
                    </a:lnTo>
                    <a:lnTo>
                      <a:pt x="6819" y="9587"/>
                    </a:lnTo>
                    <a:lnTo>
                      <a:pt x="6819" y="9652"/>
                    </a:lnTo>
                    <a:lnTo>
                      <a:pt x="6819" y="9718"/>
                    </a:lnTo>
                    <a:lnTo>
                      <a:pt x="6819" y="9783"/>
                    </a:lnTo>
                    <a:lnTo>
                      <a:pt x="6769" y="9774"/>
                    </a:lnTo>
                    <a:lnTo>
                      <a:pt x="6719" y="9765"/>
                    </a:lnTo>
                    <a:lnTo>
                      <a:pt x="6670" y="9756"/>
                    </a:lnTo>
                    <a:lnTo>
                      <a:pt x="6620" y="9746"/>
                    </a:lnTo>
                    <a:lnTo>
                      <a:pt x="6570" y="9737"/>
                    </a:lnTo>
                    <a:lnTo>
                      <a:pt x="6520" y="9727"/>
                    </a:lnTo>
                    <a:lnTo>
                      <a:pt x="6470" y="9718"/>
                    </a:lnTo>
                    <a:lnTo>
                      <a:pt x="6421" y="9708"/>
                    </a:lnTo>
                    <a:lnTo>
                      <a:pt x="6371" y="9699"/>
                    </a:lnTo>
                    <a:lnTo>
                      <a:pt x="6321" y="9690"/>
                    </a:lnTo>
                    <a:lnTo>
                      <a:pt x="6271" y="9681"/>
                    </a:lnTo>
                    <a:lnTo>
                      <a:pt x="6221" y="9670"/>
                    </a:lnTo>
                    <a:lnTo>
                      <a:pt x="6171" y="9661"/>
                    </a:lnTo>
                    <a:lnTo>
                      <a:pt x="6121" y="9652"/>
                    </a:lnTo>
                    <a:lnTo>
                      <a:pt x="6071" y="9643"/>
                    </a:lnTo>
                    <a:lnTo>
                      <a:pt x="6021" y="9634"/>
                    </a:lnTo>
                    <a:lnTo>
                      <a:pt x="6021" y="9570"/>
                    </a:lnTo>
                    <a:lnTo>
                      <a:pt x="6021" y="9506"/>
                    </a:lnTo>
                    <a:lnTo>
                      <a:pt x="6021" y="9442"/>
                    </a:lnTo>
                    <a:lnTo>
                      <a:pt x="6021" y="9377"/>
                    </a:lnTo>
                    <a:lnTo>
                      <a:pt x="6021" y="9313"/>
                    </a:lnTo>
                    <a:lnTo>
                      <a:pt x="6021" y="9249"/>
                    </a:lnTo>
                    <a:lnTo>
                      <a:pt x="6021" y="9185"/>
                    </a:lnTo>
                    <a:lnTo>
                      <a:pt x="6021" y="9121"/>
                    </a:lnTo>
                    <a:close/>
                    <a:moveTo>
                      <a:pt x="4800" y="8912"/>
                    </a:moveTo>
                    <a:lnTo>
                      <a:pt x="4850" y="8920"/>
                    </a:lnTo>
                    <a:lnTo>
                      <a:pt x="4900" y="8928"/>
                    </a:lnTo>
                    <a:lnTo>
                      <a:pt x="4950" y="8937"/>
                    </a:lnTo>
                    <a:lnTo>
                      <a:pt x="5000" y="8945"/>
                    </a:lnTo>
                    <a:lnTo>
                      <a:pt x="5048" y="8954"/>
                    </a:lnTo>
                    <a:lnTo>
                      <a:pt x="5098" y="8962"/>
                    </a:lnTo>
                    <a:lnTo>
                      <a:pt x="5148" y="8971"/>
                    </a:lnTo>
                    <a:lnTo>
                      <a:pt x="5198" y="8980"/>
                    </a:lnTo>
                    <a:lnTo>
                      <a:pt x="5248" y="8988"/>
                    </a:lnTo>
                    <a:lnTo>
                      <a:pt x="5298" y="8997"/>
                    </a:lnTo>
                    <a:lnTo>
                      <a:pt x="5348" y="9005"/>
                    </a:lnTo>
                    <a:lnTo>
                      <a:pt x="5398" y="9014"/>
                    </a:lnTo>
                    <a:lnTo>
                      <a:pt x="5448" y="9022"/>
                    </a:lnTo>
                    <a:lnTo>
                      <a:pt x="5498" y="9032"/>
                    </a:lnTo>
                    <a:lnTo>
                      <a:pt x="5548" y="9040"/>
                    </a:lnTo>
                    <a:lnTo>
                      <a:pt x="5597" y="9049"/>
                    </a:lnTo>
                    <a:lnTo>
                      <a:pt x="5597" y="9112"/>
                    </a:lnTo>
                    <a:lnTo>
                      <a:pt x="5597" y="9175"/>
                    </a:lnTo>
                    <a:lnTo>
                      <a:pt x="5597" y="9238"/>
                    </a:lnTo>
                    <a:lnTo>
                      <a:pt x="5597" y="9301"/>
                    </a:lnTo>
                    <a:lnTo>
                      <a:pt x="5597" y="9365"/>
                    </a:lnTo>
                    <a:lnTo>
                      <a:pt x="5597" y="9428"/>
                    </a:lnTo>
                    <a:lnTo>
                      <a:pt x="5597" y="9491"/>
                    </a:lnTo>
                    <a:lnTo>
                      <a:pt x="5597" y="9555"/>
                    </a:lnTo>
                    <a:lnTo>
                      <a:pt x="5548" y="9545"/>
                    </a:lnTo>
                    <a:lnTo>
                      <a:pt x="5498" y="9536"/>
                    </a:lnTo>
                    <a:lnTo>
                      <a:pt x="5448" y="9527"/>
                    </a:lnTo>
                    <a:lnTo>
                      <a:pt x="5398" y="9518"/>
                    </a:lnTo>
                    <a:lnTo>
                      <a:pt x="5348" y="9509"/>
                    </a:lnTo>
                    <a:lnTo>
                      <a:pt x="5298" y="9500"/>
                    </a:lnTo>
                    <a:lnTo>
                      <a:pt x="5248" y="9490"/>
                    </a:lnTo>
                    <a:lnTo>
                      <a:pt x="5198" y="9481"/>
                    </a:lnTo>
                    <a:lnTo>
                      <a:pt x="5148" y="9471"/>
                    </a:lnTo>
                    <a:lnTo>
                      <a:pt x="5098" y="9462"/>
                    </a:lnTo>
                    <a:lnTo>
                      <a:pt x="5048" y="9453"/>
                    </a:lnTo>
                    <a:lnTo>
                      <a:pt x="5000" y="9444"/>
                    </a:lnTo>
                    <a:lnTo>
                      <a:pt x="4950" y="9434"/>
                    </a:lnTo>
                    <a:lnTo>
                      <a:pt x="4900" y="9425"/>
                    </a:lnTo>
                    <a:lnTo>
                      <a:pt x="4850" y="9416"/>
                    </a:lnTo>
                    <a:lnTo>
                      <a:pt x="4800" y="9407"/>
                    </a:lnTo>
                    <a:lnTo>
                      <a:pt x="4800" y="9345"/>
                    </a:lnTo>
                    <a:lnTo>
                      <a:pt x="4800" y="9283"/>
                    </a:lnTo>
                    <a:lnTo>
                      <a:pt x="4800" y="9220"/>
                    </a:lnTo>
                    <a:lnTo>
                      <a:pt x="4800" y="9159"/>
                    </a:lnTo>
                    <a:lnTo>
                      <a:pt x="4800" y="9097"/>
                    </a:lnTo>
                    <a:lnTo>
                      <a:pt x="4800" y="9035"/>
                    </a:lnTo>
                    <a:lnTo>
                      <a:pt x="4800" y="8973"/>
                    </a:lnTo>
                    <a:lnTo>
                      <a:pt x="4800" y="8912"/>
                    </a:lnTo>
                    <a:close/>
                    <a:moveTo>
                      <a:pt x="3578" y="8698"/>
                    </a:moveTo>
                    <a:lnTo>
                      <a:pt x="3627" y="8707"/>
                    </a:lnTo>
                    <a:lnTo>
                      <a:pt x="3677" y="8715"/>
                    </a:lnTo>
                    <a:lnTo>
                      <a:pt x="3727" y="8724"/>
                    </a:lnTo>
                    <a:lnTo>
                      <a:pt x="3777" y="8734"/>
                    </a:lnTo>
                    <a:lnTo>
                      <a:pt x="3827" y="8742"/>
                    </a:lnTo>
                    <a:lnTo>
                      <a:pt x="3877" y="8751"/>
                    </a:lnTo>
                    <a:lnTo>
                      <a:pt x="3927" y="8759"/>
                    </a:lnTo>
                    <a:lnTo>
                      <a:pt x="3977" y="8768"/>
                    </a:lnTo>
                    <a:lnTo>
                      <a:pt x="4027" y="8776"/>
                    </a:lnTo>
                    <a:lnTo>
                      <a:pt x="4077" y="8785"/>
                    </a:lnTo>
                    <a:lnTo>
                      <a:pt x="4127" y="8794"/>
                    </a:lnTo>
                    <a:lnTo>
                      <a:pt x="4175" y="8803"/>
                    </a:lnTo>
                    <a:lnTo>
                      <a:pt x="4225" y="8812"/>
                    </a:lnTo>
                    <a:lnTo>
                      <a:pt x="4275" y="8820"/>
                    </a:lnTo>
                    <a:lnTo>
                      <a:pt x="4325" y="8829"/>
                    </a:lnTo>
                    <a:lnTo>
                      <a:pt x="4375" y="8837"/>
                    </a:lnTo>
                    <a:lnTo>
                      <a:pt x="4375" y="8898"/>
                    </a:lnTo>
                    <a:lnTo>
                      <a:pt x="4375" y="8959"/>
                    </a:lnTo>
                    <a:lnTo>
                      <a:pt x="4375" y="9021"/>
                    </a:lnTo>
                    <a:lnTo>
                      <a:pt x="4375" y="9082"/>
                    </a:lnTo>
                    <a:lnTo>
                      <a:pt x="4375" y="9143"/>
                    </a:lnTo>
                    <a:lnTo>
                      <a:pt x="4375" y="9205"/>
                    </a:lnTo>
                    <a:lnTo>
                      <a:pt x="4375" y="9267"/>
                    </a:lnTo>
                    <a:lnTo>
                      <a:pt x="4375" y="9328"/>
                    </a:lnTo>
                    <a:lnTo>
                      <a:pt x="4325" y="9318"/>
                    </a:lnTo>
                    <a:lnTo>
                      <a:pt x="4275" y="9309"/>
                    </a:lnTo>
                    <a:lnTo>
                      <a:pt x="4225" y="9300"/>
                    </a:lnTo>
                    <a:lnTo>
                      <a:pt x="4175" y="9291"/>
                    </a:lnTo>
                    <a:lnTo>
                      <a:pt x="4127" y="9282"/>
                    </a:lnTo>
                    <a:lnTo>
                      <a:pt x="4077" y="9272"/>
                    </a:lnTo>
                    <a:lnTo>
                      <a:pt x="4027" y="9263"/>
                    </a:lnTo>
                    <a:lnTo>
                      <a:pt x="3977" y="9253"/>
                    </a:lnTo>
                    <a:lnTo>
                      <a:pt x="3927" y="9244"/>
                    </a:lnTo>
                    <a:lnTo>
                      <a:pt x="3877" y="9235"/>
                    </a:lnTo>
                    <a:lnTo>
                      <a:pt x="3827" y="9225"/>
                    </a:lnTo>
                    <a:lnTo>
                      <a:pt x="3777" y="9216"/>
                    </a:lnTo>
                    <a:lnTo>
                      <a:pt x="3727" y="9207"/>
                    </a:lnTo>
                    <a:lnTo>
                      <a:pt x="3677" y="9197"/>
                    </a:lnTo>
                    <a:lnTo>
                      <a:pt x="3627" y="9187"/>
                    </a:lnTo>
                    <a:lnTo>
                      <a:pt x="3578" y="9178"/>
                    </a:lnTo>
                    <a:lnTo>
                      <a:pt x="3578" y="9118"/>
                    </a:lnTo>
                    <a:lnTo>
                      <a:pt x="3578" y="9058"/>
                    </a:lnTo>
                    <a:lnTo>
                      <a:pt x="3578" y="8998"/>
                    </a:lnTo>
                    <a:lnTo>
                      <a:pt x="3578" y="8938"/>
                    </a:lnTo>
                    <a:lnTo>
                      <a:pt x="3578" y="8878"/>
                    </a:lnTo>
                    <a:lnTo>
                      <a:pt x="3578" y="8818"/>
                    </a:lnTo>
                    <a:lnTo>
                      <a:pt x="3578" y="8758"/>
                    </a:lnTo>
                    <a:lnTo>
                      <a:pt x="3578" y="8698"/>
                    </a:lnTo>
                    <a:close/>
                    <a:moveTo>
                      <a:pt x="7244" y="8336"/>
                    </a:moveTo>
                    <a:lnTo>
                      <a:pt x="7294" y="8343"/>
                    </a:lnTo>
                    <a:lnTo>
                      <a:pt x="7343" y="8350"/>
                    </a:lnTo>
                    <a:lnTo>
                      <a:pt x="7393" y="8358"/>
                    </a:lnTo>
                    <a:lnTo>
                      <a:pt x="7443" y="8365"/>
                    </a:lnTo>
                    <a:lnTo>
                      <a:pt x="7493" y="8372"/>
                    </a:lnTo>
                    <a:lnTo>
                      <a:pt x="7542" y="8380"/>
                    </a:lnTo>
                    <a:lnTo>
                      <a:pt x="7592" y="8388"/>
                    </a:lnTo>
                    <a:lnTo>
                      <a:pt x="7642" y="8395"/>
                    </a:lnTo>
                    <a:lnTo>
                      <a:pt x="7692" y="8402"/>
                    </a:lnTo>
                    <a:lnTo>
                      <a:pt x="7742" y="8410"/>
                    </a:lnTo>
                    <a:lnTo>
                      <a:pt x="7792" y="8417"/>
                    </a:lnTo>
                    <a:lnTo>
                      <a:pt x="7842" y="8424"/>
                    </a:lnTo>
                    <a:lnTo>
                      <a:pt x="7891" y="8432"/>
                    </a:lnTo>
                    <a:lnTo>
                      <a:pt x="7941" y="8440"/>
                    </a:lnTo>
                    <a:lnTo>
                      <a:pt x="7991" y="8447"/>
                    </a:lnTo>
                    <a:lnTo>
                      <a:pt x="8041" y="8455"/>
                    </a:lnTo>
                    <a:lnTo>
                      <a:pt x="8041" y="8522"/>
                    </a:lnTo>
                    <a:lnTo>
                      <a:pt x="8041" y="8589"/>
                    </a:lnTo>
                    <a:lnTo>
                      <a:pt x="8041" y="8656"/>
                    </a:lnTo>
                    <a:lnTo>
                      <a:pt x="8041" y="8723"/>
                    </a:lnTo>
                    <a:lnTo>
                      <a:pt x="8041" y="8792"/>
                    </a:lnTo>
                    <a:lnTo>
                      <a:pt x="8041" y="8859"/>
                    </a:lnTo>
                    <a:lnTo>
                      <a:pt x="8041" y="8926"/>
                    </a:lnTo>
                    <a:lnTo>
                      <a:pt x="8041" y="8993"/>
                    </a:lnTo>
                    <a:lnTo>
                      <a:pt x="7991" y="8985"/>
                    </a:lnTo>
                    <a:lnTo>
                      <a:pt x="7941" y="8977"/>
                    </a:lnTo>
                    <a:lnTo>
                      <a:pt x="7891" y="8969"/>
                    </a:lnTo>
                    <a:lnTo>
                      <a:pt x="7842" y="8960"/>
                    </a:lnTo>
                    <a:lnTo>
                      <a:pt x="7792" y="8952"/>
                    </a:lnTo>
                    <a:lnTo>
                      <a:pt x="7742" y="8944"/>
                    </a:lnTo>
                    <a:lnTo>
                      <a:pt x="7692" y="8936"/>
                    </a:lnTo>
                    <a:lnTo>
                      <a:pt x="7642" y="8928"/>
                    </a:lnTo>
                    <a:lnTo>
                      <a:pt x="7592" y="8920"/>
                    </a:lnTo>
                    <a:lnTo>
                      <a:pt x="7542" y="8912"/>
                    </a:lnTo>
                    <a:lnTo>
                      <a:pt x="7493" y="8903"/>
                    </a:lnTo>
                    <a:lnTo>
                      <a:pt x="7443" y="8896"/>
                    </a:lnTo>
                    <a:lnTo>
                      <a:pt x="7393" y="8888"/>
                    </a:lnTo>
                    <a:lnTo>
                      <a:pt x="7343" y="8880"/>
                    </a:lnTo>
                    <a:lnTo>
                      <a:pt x="7294" y="8872"/>
                    </a:lnTo>
                    <a:lnTo>
                      <a:pt x="7244" y="8864"/>
                    </a:lnTo>
                    <a:lnTo>
                      <a:pt x="7244" y="8799"/>
                    </a:lnTo>
                    <a:lnTo>
                      <a:pt x="7244" y="8733"/>
                    </a:lnTo>
                    <a:lnTo>
                      <a:pt x="7244" y="8666"/>
                    </a:lnTo>
                    <a:lnTo>
                      <a:pt x="7244" y="8600"/>
                    </a:lnTo>
                    <a:lnTo>
                      <a:pt x="7244" y="8534"/>
                    </a:lnTo>
                    <a:lnTo>
                      <a:pt x="7244" y="8468"/>
                    </a:lnTo>
                    <a:lnTo>
                      <a:pt x="7244" y="8402"/>
                    </a:lnTo>
                    <a:lnTo>
                      <a:pt x="7244" y="8336"/>
                    </a:lnTo>
                    <a:close/>
                    <a:moveTo>
                      <a:pt x="6021" y="8155"/>
                    </a:moveTo>
                    <a:lnTo>
                      <a:pt x="6071" y="8162"/>
                    </a:lnTo>
                    <a:lnTo>
                      <a:pt x="6121" y="8170"/>
                    </a:lnTo>
                    <a:lnTo>
                      <a:pt x="6171" y="8177"/>
                    </a:lnTo>
                    <a:lnTo>
                      <a:pt x="6221" y="8184"/>
                    </a:lnTo>
                    <a:lnTo>
                      <a:pt x="6271" y="8191"/>
                    </a:lnTo>
                    <a:lnTo>
                      <a:pt x="6321" y="8200"/>
                    </a:lnTo>
                    <a:lnTo>
                      <a:pt x="6371" y="8207"/>
                    </a:lnTo>
                    <a:lnTo>
                      <a:pt x="6421" y="8214"/>
                    </a:lnTo>
                    <a:lnTo>
                      <a:pt x="6470" y="8221"/>
                    </a:lnTo>
                    <a:lnTo>
                      <a:pt x="6520" y="8229"/>
                    </a:lnTo>
                    <a:lnTo>
                      <a:pt x="6570" y="8236"/>
                    </a:lnTo>
                    <a:lnTo>
                      <a:pt x="6620" y="8243"/>
                    </a:lnTo>
                    <a:lnTo>
                      <a:pt x="6670" y="8250"/>
                    </a:lnTo>
                    <a:lnTo>
                      <a:pt x="6719" y="8259"/>
                    </a:lnTo>
                    <a:lnTo>
                      <a:pt x="6769" y="8266"/>
                    </a:lnTo>
                    <a:lnTo>
                      <a:pt x="6819" y="8273"/>
                    </a:lnTo>
                    <a:lnTo>
                      <a:pt x="6819" y="8339"/>
                    </a:lnTo>
                    <a:lnTo>
                      <a:pt x="6819" y="8404"/>
                    </a:lnTo>
                    <a:lnTo>
                      <a:pt x="6819" y="8469"/>
                    </a:lnTo>
                    <a:lnTo>
                      <a:pt x="6819" y="8535"/>
                    </a:lnTo>
                    <a:lnTo>
                      <a:pt x="6819" y="8600"/>
                    </a:lnTo>
                    <a:lnTo>
                      <a:pt x="6819" y="8665"/>
                    </a:lnTo>
                    <a:lnTo>
                      <a:pt x="6819" y="8731"/>
                    </a:lnTo>
                    <a:lnTo>
                      <a:pt x="6819" y="8797"/>
                    </a:lnTo>
                    <a:lnTo>
                      <a:pt x="6769" y="8789"/>
                    </a:lnTo>
                    <a:lnTo>
                      <a:pt x="6719" y="8780"/>
                    </a:lnTo>
                    <a:lnTo>
                      <a:pt x="6670" y="8772"/>
                    </a:lnTo>
                    <a:lnTo>
                      <a:pt x="6620" y="8764"/>
                    </a:lnTo>
                    <a:lnTo>
                      <a:pt x="6570" y="8756"/>
                    </a:lnTo>
                    <a:lnTo>
                      <a:pt x="6520" y="8748"/>
                    </a:lnTo>
                    <a:lnTo>
                      <a:pt x="6470" y="8740"/>
                    </a:lnTo>
                    <a:lnTo>
                      <a:pt x="6421" y="8732"/>
                    </a:lnTo>
                    <a:lnTo>
                      <a:pt x="6371" y="8723"/>
                    </a:lnTo>
                    <a:lnTo>
                      <a:pt x="6321" y="8715"/>
                    </a:lnTo>
                    <a:lnTo>
                      <a:pt x="6271" y="8707"/>
                    </a:lnTo>
                    <a:lnTo>
                      <a:pt x="6221" y="8699"/>
                    </a:lnTo>
                    <a:lnTo>
                      <a:pt x="6171" y="8691"/>
                    </a:lnTo>
                    <a:lnTo>
                      <a:pt x="6121" y="8683"/>
                    </a:lnTo>
                    <a:lnTo>
                      <a:pt x="6071" y="8675"/>
                    </a:lnTo>
                    <a:lnTo>
                      <a:pt x="6021" y="8667"/>
                    </a:lnTo>
                    <a:lnTo>
                      <a:pt x="6021" y="8602"/>
                    </a:lnTo>
                    <a:lnTo>
                      <a:pt x="6021" y="8538"/>
                    </a:lnTo>
                    <a:lnTo>
                      <a:pt x="6021" y="8474"/>
                    </a:lnTo>
                    <a:lnTo>
                      <a:pt x="6021" y="8410"/>
                    </a:lnTo>
                    <a:lnTo>
                      <a:pt x="6021" y="8346"/>
                    </a:lnTo>
                    <a:lnTo>
                      <a:pt x="6021" y="8283"/>
                    </a:lnTo>
                    <a:lnTo>
                      <a:pt x="6021" y="8219"/>
                    </a:lnTo>
                    <a:lnTo>
                      <a:pt x="6021" y="8155"/>
                    </a:lnTo>
                    <a:close/>
                    <a:moveTo>
                      <a:pt x="4800" y="7974"/>
                    </a:moveTo>
                    <a:lnTo>
                      <a:pt x="4850" y="7981"/>
                    </a:lnTo>
                    <a:lnTo>
                      <a:pt x="4900" y="7988"/>
                    </a:lnTo>
                    <a:lnTo>
                      <a:pt x="4950" y="7996"/>
                    </a:lnTo>
                    <a:lnTo>
                      <a:pt x="5000" y="8003"/>
                    </a:lnTo>
                    <a:lnTo>
                      <a:pt x="5048" y="8010"/>
                    </a:lnTo>
                    <a:lnTo>
                      <a:pt x="5098" y="8018"/>
                    </a:lnTo>
                    <a:lnTo>
                      <a:pt x="5148" y="8026"/>
                    </a:lnTo>
                    <a:lnTo>
                      <a:pt x="5198" y="8033"/>
                    </a:lnTo>
                    <a:lnTo>
                      <a:pt x="5248" y="8040"/>
                    </a:lnTo>
                    <a:lnTo>
                      <a:pt x="5298" y="8048"/>
                    </a:lnTo>
                    <a:lnTo>
                      <a:pt x="5348" y="8055"/>
                    </a:lnTo>
                    <a:lnTo>
                      <a:pt x="5398" y="8062"/>
                    </a:lnTo>
                    <a:lnTo>
                      <a:pt x="5448" y="8069"/>
                    </a:lnTo>
                    <a:lnTo>
                      <a:pt x="5498" y="8077"/>
                    </a:lnTo>
                    <a:lnTo>
                      <a:pt x="5548" y="8085"/>
                    </a:lnTo>
                    <a:lnTo>
                      <a:pt x="5597" y="8092"/>
                    </a:lnTo>
                    <a:lnTo>
                      <a:pt x="5597" y="8155"/>
                    </a:lnTo>
                    <a:lnTo>
                      <a:pt x="5597" y="8218"/>
                    </a:lnTo>
                    <a:lnTo>
                      <a:pt x="5597" y="8281"/>
                    </a:lnTo>
                    <a:lnTo>
                      <a:pt x="5597" y="8345"/>
                    </a:lnTo>
                    <a:lnTo>
                      <a:pt x="5597" y="8408"/>
                    </a:lnTo>
                    <a:lnTo>
                      <a:pt x="5597" y="8471"/>
                    </a:lnTo>
                    <a:lnTo>
                      <a:pt x="5597" y="8535"/>
                    </a:lnTo>
                    <a:lnTo>
                      <a:pt x="5597" y="8598"/>
                    </a:lnTo>
                    <a:lnTo>
                      <a:pt x="5548" y="8590"/>
                    </a:lnTo>
                    <a:lnTo>
                      <a:pt x="5498" y="8582"/>
                    </a:lnTo>
                    <a:lnTo>
                      <a:pt x="5448" y="8574"/>
                    </a:lnTo>
                    <a:lnTo>
                      <a:pt x="5398" y="8566"/>
                    </a:lnTo>
                    <a:lnTo>
                      <a:pt x="5348" y="8558"/>
                    </a:lnTo>
                    <a:lnTo>
                      <a:pt x="5298" y="8549"/>
                    </a:lnTo>
                    <a:lnTo>
                      <a:pt x="5248" y="8541"/>
                    </a:lnTo>
                    <a:lnTo>
                      <a:pt x="5198" y="8534"/>
                    </a:lnTo>
                    <a:lnTo>
                      <a:pt x="5148" y="8526"/>
                    </a:lnTo>
                    <a:lnTo>
                      <a:pt x="5098" y="8518"/>
                    </a:lnTo>
                    <a:lnTo>
                      <a:pt x="5048" y="8510"/>
                    </a:lnTo>
                    <a:lnTo>
                      <a:pt x="5000" y="8502"/>
                    </a:lnTo>
                    <a:lnTo>
                      <a:pt x="4950" y="8494"/>
                    </a:lnTo>
                    <a:lnTo>
                      <a:pt x="4900" y="8486"/>
                    </a:lnTo>
                    <a:lnTo>
                      <a:pt x="4850" y="8478"/>
                    </a:lnTo>
                    <a:lnTo>
                      <a:pt x="4800" y="8470"/>
                    </a:lnTo>
                    <a:lnTo>
                      <a:pt x="4800" y="8408"/>
                    </a:lnTo>
                    <a:lnTo>
                      <a:pt x="4800" y="8346"/>
                    </a:lnTo>
                    <a:lnTo>
                      <a:pt x="4800" y="8284"/>
                    </a:lnTo>
                    <a:lnTo>
                      <a:pt x="4800" y="8222"/>
                    </a:lnTo>
                    <a:lnTo>
                      <a:pt x="4800" y="8160"/>
                    </a:lnTo>
                    <a:lnTo>
                      <a:pt x="4800" y="8098"/>
                    </a:lnTo>
                    <a:lnTo>
                      <a:pt x="4800" y="8036"/>
                    </a:lnTo>
                    <a:lnTo>
                      <a:pt x="4800" y="7974"/>
                    </a:lnTo>
                    <a:close/>
                    <a:moveTo>
                      <a:pt x="3578" y="7792"/>
                    </a:moveTo>
                    <a:lnTo>
                      <a:pt x="3627" y="7799"/>
                    </a:lnTo>
                    <a:lnTo>
                      <a:pt x="3677" y="7806"/>
                    </a:lnTo>
                    <a:lnTo>
                      <a:pt x="3727" y="7814"/>
                    </a:lnTo>
                    <a:lnTo>
                      <a:pt x="3777" y="7821"/>
                    </a:lnTo>
                    <a:lnTo>
                      <a:pt x="3827" y="7828"/>
                    </a:lnTo>
                    <a:lnTo>
                      <a:pt x="3877" y="7836"/>
                    </a:lnTo>
                    <a:lnTo>
                      <a:pt x="3927" y="7844"/>
                    </a:lnTo>
                    <a:lnTo>
                      <a:pt x="3977" y="7851"/>
                    </a:lnTo>
                    <a:lnTo>
                      <a:pt x="4027" y="7859"/>
                    </a:lnTo>
                    <a:lnTo>
                      <a:pt x="4077" y="7866"/>
                    </a:lnTo>
                    <a:lnTo>
                      <a:pt x="4127" y="7873"/>
                    </a:lnTo>
                    <a:lnTo>
                      <a:pt x="4175" y="7881"/>
                    </a:lnTo>
                    <a:lnTo>
                      <a:pt x="4225" y="7888"/>
                    </a:lnTo>
                    <a:lnTo>
                      <a:pt x="4275" y="7895"/>
                    </a:lnTo>
                    <a:lnTo>
                      <a:pt x="4325" y="7904"/>
                    </a:lnTo>
                    <a:lnTo>
                      <a:pt x="4375" y="7911"/>
                    </a:lnTo>
                    <a:lnTo>
                      <a:pt x="4375" y="7972"/>
                    </a:lnTo>
                    <a:lnTo>
                      <a:pt x="4375" y="8034"/>
                    </a:lnTo>
                    <a:lnTo>
                      <a:pt x="4375" y="8095"/>
                    </a:lnTo>
                    <a:lnTo>
                      <a:pt x="4375" y="8156"/>
                    </a:lnTo>
                    <a:lnTo>
                      <a:pt x="4375" y="8218"/>
                    </a:lnTo>
                    <a:lnTo>
                      <a:pt x="4375" y="8279"/>
                    </a:lnTo>
                    <a:lnTo>
                      <a:pt x="4375" y="8340"/>
                    </a:lnTo>
                    <a:lnTo>
                      <a:pt x="4375" y="8401"/>
                    </a:lnTo>
                    <a:lnTo>
                      <a:pt x="4325" y="8393"/>
                    </a:lnTo>
                    <a:lnTo>
                      <a:pt x="4275" y="8385"/>
                    </a:lnTo>
                    <a:lnTo>
                      <a:pt x="4225" y="8377"/>
                    </a:lnTo>
                    <a:lnTo>
                      <a:pt x="4175" y="8368"/>
                    </a:lnTo>
                    <a:lnTo>
                      <a:pt x="4127" y="8361"/>
                    </a:lnTo>
                    <a:lnTo>
                      <a:pt x="4077" y="8353"/>
                    </a:lnTo>
                    <a:lnTo>
                      <a:pt x="4027" y="8345"/>
                    </a:lnTo>
                    <a:lnTo>
                      <a:pt x="3977" y="8337"/>
                    </a:lnTo>
                    <a:lnTo>
                      <a:pt x="3927" y="8329"/>
                    </a:lnTo>
                    <a:lnTo>
                      <a:pt x="3877" y="8321"/>
                    </a:lnTo>
                    <a:lnTo>
                      <a:pt x="3827" y="8312"/>
                    </a:lnTo>
                    <a:lnTo>
                      <a:pt x="3777" y="8304"/>
                    </a:lnTo>
                    <a:lnTo>
                      <a:pt x="3727" y="8296"/>
                    </a:lnTo>
                    <a:lnTo>
                      <a:pt x="3677" y="8288"/>
                    </a:lnTo>
                    <a:lnTo>
                      <a:pt x="3627" y="8280"/>
                    </a:lnTo>
                    <a:lnTo>
                      <a:pt x="3578" y="8272"/>
                    </a:lnTo>
                    <a:lnTo>
                      <a:pt x="3578" y="8212"/>
                    </a:lnTo>
                    <a:lnTo>
                      <a:pt x="3578" y="8152"/>
                    </a:lnTo>
                    <a:lnTo>
                      <a:pt x="3578" y="8092"/>
                    </a:lnTo>
                    <a:lnTo>
                      <a:pt x="3578" y="8032"/>
                    </a:lnTo>
                    <a:lnTo>
                      <a:pt x="3578" y="7972"/>
                    </a:lnTo>
                    <a:lnTo>
                      <a:pt x="3578" y="7912"/>
                    </a:lnTo>
                    <a:lnTo>
                      <a:pt x="3578" y="7852"/>
                    </a:lnTo>
                    <a:lnTo>
                      <a:pt x="3578" y="7792"/>
                    </a:lnTo>
                    <a:close/>
                    <a:moveTo>
                      <a:pt x="7244" y="7338"/>
                    </a:moveTo>
                    <a:lnTo>
                      <a:pt x="7294" y="7344"/>
                    </a:lnTo>
                    <a:lnTo>
                      <a:pt x="7343" y="7350"/>
                    </a:lnTo>
                    <a:lnTo>
                      <a:pt x="7393" y="7356"/>
                    </a:lnTo>
                    <a:lnTo>
                      <a:pt x="7443" y="7362"/>
                    </a:lnTo>
                    <a:lnTo>
                      <a:pt x="7493" y="7369"/>
                    </a:lnTo>
                    <a:lnTo>
                      <a:pt x="7542" y="7375"/>
                    </a:lnTo>
                    <a:lnTo>
                      <a:pt x="7592" y="7381"/>
                    </a:lnTo>
                    <a:lnTo>
                      <a:pt x="7642" y="7387"/>
                    </a:lnTo>
                    <a:lnTo>
                      <a:pt x="7692" y="7393"/>
                    </a:lnTo>
                    <a:lnTo>
                      <a:pt x="7742" y="7399"/>
                    </a:lnTo>
                    <a:lnTo>
                      <a:pt x="7792" y="7405"/>
                    </a:lnTo>
                    <a:lnTo>
                      <a:pt x="7842" y="7411"/>
                    </a:lnTo>
                    <a:lnTo>
                      <a:pt x="7891" y="7417"/>
                    </a:lnTo>
                    <a:lnTo>
                      <a:pt x="7941" y="7423"/>
                    </a:lnTo>
                    <a:lnTo>
                      <a:pt x="7991" y="7430"/>
                    </a:lnTo>
                    <a:lnTo>
                      <a:pt x="8041" y="7436"/>
                    </a:lnTo>
                    <a:lnTo>
                      <a:pt x="8041" y="7504"/>
                    </a:lnTo>
                    <a:lnTo>
                      <a:pt x="8041" y="7571"/>
                    </a:lnTo>
                    <a:lnTo>
                      <a:pt x="8041" y="7638"/>
                    </a:lnTo>
                    <a:lnTo>
                      <a:pt x="8041" y="7705"/>
                    </a:lnTo>
                    <a:lnTo>
                      <a:pt x="8041" y="7772"/>
                    </a:lnTo>
                    <a:lnTo>
                      <a:pt x="8041" y="7839"/>
                    </a:lnTo>
                    <a:lnTo>
                      <a:pt x="8041" y="7908"/>
                    </a:lnTo>
                    <a:lnTo>
                      <a:pt x="8041" y="7975"/>
                    </a:lnTo>
                    <a:lnTo>
                      <a:pt x="7991" y="7968"/>
                    </a:lnTo>
                    <a:lnTo>
                      <a:pt x="7941" y="7962"/>
                    </a:lnTo>
                    <a:lnTo>
                      <a:pt x="7891" y="7954"/>
                    </a:lnTo>
                    <a:lnTo>
                      <a:pt x="7842" y="7947"/>
                    </a:lnTo>
                    <a:lnTo>
                      <a:pt x="7792" y="7940"/>
                    </a:lnTo>
                    <a:lnTo>
                      <a:pt x="7742" y="7934"/>
                    </a:lnTo>
                    <a:lnTo>
                      <a:pt x="7692" y="7927"/>
                    </a:lnTo>
                    <a:lnTo>
                      <a:pt x="7642" y="7920"/>
                    </a:lnTo>
                    <a:lnTo>
                      <a:pt x="7592" y="7913"/>
                    </a:lnTo>
                    <a:lnTo>
                      <a:pt x="7542" y="7907"/>
                    </a:lnTo>
                    <a:lnTo>
                      <a:pt x="7493" y="7899"/>
                    </a:lnTo>
                    <a:lnTo>
                      <a:pt x="7443" y="7892"/>
                    </a:lnTo>
                    <a:lnTo>
                      <a:pt x="7393" y="7886"/>
                    </a:lnTo>
                    <a:lnTo>
                      <a:pt x="7343" y="7879"/>
                    </a:lnTo>
                    <a:lnTo>
                      <a:pt x="7294" y="7873"/>
                    </a:lnTo>
                    <a:lnTo>
                      <a:pt x="7244" y="7866"/>
                    </a:lnTo>
                    <a:lnTo>
                      <a:pt x="7244" y="7800"/>
                    </a:lnTo>
                    <a:lnTo>
                      <a:pt x="7244" y="7734"/>
                    </a:lnTo>
                    <a:lnTo>
                      <a:pt x="7244" y="7668"/>
                    </a:lnTo>
                    <a:lnTo>
                      <a:pt x="7244" y="7601"/>
                    </a:lnTo>
                    <a:lnTo>
                      <a:pt x="7244" y="7535"/>
                    </a:lnTo>
                    <a:lnTo>
                      <a:pt x="7244" y="7469"/>
                    </a:lnTo>
                    <a:lnTo>
                      <a:pt x="7244" y="7404"/>
                    </a:lnTo>
                    <a:lnTo>
                      <a:pt x="7244" y="7338"/>
                    </a:lnTo>
                    <a:close/>
                    <a:moveTo>
                      <a:pt x="6021" y="7185"/>
                    </a:moveTo>
                    <a:lnTo>
                      <a:pt x="6071" y="7193"/>
                    </a:lnTo>
                    <a:lnTo>
                      <a:pt x="6121" y="7199"/>
                    </a:lnTo>
                    <a:lnTo>
                      <a:pt x="6171" y="7205"/>
                    </a:lnTo>
                    <a:lnTo>
                      <a:pt x="6221" y="7211"/>
                    </a:lnTo>
                    <a:lnTo>
                      <a:pt x="6271" y="7217"/>
                    </a:lnTo>
                    <a:lnTo>
                      <a:pt x="6321" y="7223"/>
                    </a:lnTo>
                    <a:lnTo>
                      <a:pt x="6371" y="7229"/>
                    </a:lnTo>
                    <a:lnTo>
                      <a:pt x="6421" y="7236"/>
                    </a:lnTo>
                    <a:lnTo>
                      <a:pt x="6470" y="7242"/>
                    </a:lnTo>
                    <a:lnTo>
                      <a:pt x="6520" y="7248"/>
                    </a:lnTo>
                    <a:lnTo>
                      <a:pt x="6570" y="7255"/>
                    </a:lnTo>
                    <a:lnTo>
                      <a:pt x="6620" y="7261"/>
                    </a:lnTo>
                    <a:lnTo>
                      <a:pt x="6670" y="7267"/>
                    </a:lnTo>
                    <a:lnTo>
                      <a:pt x="6719" y="7273"/>
                    </a:lnTo>
                    <a:lnTo>
                      <a:pt x="6769" y="7279"/>
                    </a:lnTo>
                    <a:lnTo>
                      <a:pt x="6819" y="7285"/>
                    </a:lnTo>
                    <a:lnTo>
                      <a:pt x="6819" y="7350"/>
                    </a:lnTo>
                    <a:lnTo>
                      <a:pt x="6819" y="7415"/>
                    </a:lnTo>
                    <a:lnTo>
                      <a:pt x="6819" y="7481"/>
                    </a:lnTo>
                    <a:lnTo>
                      <a:pt x="6819" y="7547"/>
                    </a:lnTo>
                    <a:lnTo>
                      <a:pt x="6819" y="7612"/>
                    </a:lnTo>
                    <a:lnTo>
                      <a:pt x="6819" y="7678"/>
                    </a:lnTo>
                    <a:lnTo>
                      <a:pt x="6819" y="7743"/>
                    </a:lnTo>
                    <a:lnTo>
                      <a:pt x="6819" y="7808"/>
                    </a:lnTo>
                    <a:lnTo>
                      <a:pt x="6769" y="7801"/>
                    </a:lnTo>
                    <a:lnTo>
                      <a:pt x="6719" y="7795"/>
                    </a:lnTo>
                    <a:lnTo>
                      <a:pt x="6670" y="7788"/>
                    </a:lnTo>
                    <a:lnTo>
                      <a:pt x="6620" y="7780"/>
                    </a:lnTo>
                    <a:lnTo>
                      <a:pt x="6570" y="7773"/>
                    </a:lnTo>
                    <a:lnTo>
                      <a:pt x="6520" y="7767"/>
                    </a:lnTo>
                    <a:lnTo>
                      <a:pt x="6470" y="7760"/>
                    </a:lnTo>
                    <a:lnTo>
                      <a:pt x="6421" y="7753"/>
                    </a:lnTo>
                    <a:lnTo>
                      <a:pt x="6371" y="7746"/>
                    </a:lnTo>
                    <a:lnTo>
                      <a:pt x="6321" y="7739"/>
                    </a:lnTo>
                    <a:lnTo>
                      <a:pt x="6271" y="7733"/>
                    </a:lnTo>
                    <a:lnTo>
                      <a:pt x="6221" y="7726"/>
                    </a:lnTo>
                    <a:lnTo>
                      <a:pt x="6171" y="7718"/>
                    </a:lnTo>
                    <a:lnTo>
                      <a:pt x="6121" y="7711"/>
                    </a:lnTo>
                    <a:lnTo>
                      <a:pt x="6071" y="7705"/>
                    </a:lnTo>
                    <a:lnTo>
                      <a:pt x="6021" y="7698"/>
                    </a:lnTo>
                    <a:lnTo>
                      <a:pt x="6021" y="7634"/>
                    </a:lnTo>
                    <a:lnTo>
                      <a:pt x="6021" y="7570"/>
                    </a:lnTo>
                    <a:lnTo>
                      <a:pt x="6021" y="7507"/>
                    </a:lnTo>
                    <a:lnTo>
                      <a:pt x="6021" y="7443"/>
                    </a:lnTo>
                    <a:lnTo>
                      <a:pt x="6021" y="7379"/>
                    </a:lnTo>
                    <a:lnTo>
                      <a:pt x="6021" y="7315"/>
                    </a:lnTo>
                    <a:lnTo>
                      <a:pt x="6021" y="7251"/>
                    </a:lnTo>
                    <a:lnTo>
                      <a:pt x="6021" y="7185"/>
                    </a:lnTo>
                    <a:close/>
                    <a:moveTo>
                      <a:pt x="4800" y="7035"/>
                    </a:moveTo>
                    <a:lnTo>
                      <a:pt x="4850" y="7041"/>
                    </a:lnTo>
                    <a:lnTo>
                      <a:pt x="4900" y="7047"/>
                    </a:lnTo>
                    <a:lnTo>
                      <a:pt x="4950" y="7054"/>
                    </a:lnTo>
                    <a:lnTo>
                      <a:pt x="5000" y="7060"/>
                    </a:lnTo>
                    <a:lnTo>
                      <a:pt x="5048" y="7066"/>
                    </a:lnTo>
                    <a:lnTo>
                      <a:pt x="5098" y="7073"/>
                    </a:lnTo>
                    <a:lnTo>
                      <a:pt x="5148" y="7079"/>
                    </a:lnTo>
                    <a:lnTo>
                      <a:pt x="5198" y="7085"/>
                    </a:lnTo>
                    <a:lnTo>
                      <a:pt x="5248" y="7091"/>
                    </a:lnTo>
                    <a:lnTo>
                      <a:pt x="5298" y="7097"/>
                    </a:lnTo>
                    <a:lnTo>
                      <a:pt x="5348" y="7103"/>
                    </a:lnTo>
                    <a:lnTo>
                      <a:pt x="5398" y="7109"/>
                    </a:lnTo>
                    <a:lnTo>
                      <a:pt x="5448" y="7115"/>
                    </a:lnTo>
                    <a:lnTo>
                      <a:pt x="5498" y="7121"/>
                    </a:lnTo>
                    <a:lnTo>
                      <a:pt x="5548" y="7127"/>
                    </a:lnTo>
                    <a:lnTo>
                      <a:pt x="5597" y="7134"/>
                    </a:lnTo>
                    <a:lnTo>
                      <a:pt x="5597" y="7198"/>
                    </a:lnTo>
                    <a:lnTo>
                      <a:pt x="5597" y="7261"/>
                    </a:lnTo>
                    <a:lnTo>
                      <a:pt x="5597" y="7324"/>
                    </a:lnTo>
                    <a:lnTo>
                      <a:pt x="5597" y="7387"/>
                    </a:lnTo>
                    <a:lnTo>
                      <a:pt x="5597" y="7450"/>
                    </a:lnTo>
                    <a:lnTo>
                      <a:pt x="5597" y="7514"/>
                    </a:lnTo>
                    <a:lnTo>
                      <a:pt x="5597" y="7577"/>
                    </a:lnTo>
                    <a:lnTo>
                      <a:pt x="5597" y="7640"/>
                    </a:lnTo>
                    <a:lnTo>
                      <a:pt x="5548" y="7633"/>
                    </a:lnTo>
                    <a:lnTo>
                      <a:pt x="5498" y="7627"/>
                    </a:lnTo>
                    <a:lnTo>
                      <a:pt x="5448" y="7620"/>
                    </a:lnTo>
                    <a:lnTo>
                      <a:pt x="5398" y="7613"/>
                    </a:lnTo>
                    <a:lnTo>
                      <a:pt x="5348" y="7607"/>
                    </a:lnTo>
                    <a:lnTo>
                      <a:pt x="5298" y="7599"/>
                    </a:lnTo>
                    <a:lnTo>
                      <a:pt x="5248" y="7592"/>
                    </a:lnTo>
                    <a:lnTo>
                      <a:pt x="5198" y="7586"/>
                    </a:lnTo>
                    <a:lnTo>
                      <a:pt x="5148" y="7579"/>
                    </a:lnTo>
                    <a:lnTo>
                      <a:pt x="5098" y="7572"/>
                    </a:lnTo>
                    <a:lnTo>
                      <a:pt x="5048" y="7566"/>
                    </a:lnTo>
                    <a:lnTo>
                      <a:pt x="5000" y="7559"/>
                    </a:lnTo>
                    <a:lnTo>
                      <a:pt x="4950" y="7552"/>
                    </a:lnTo>
                    <a:lnTo>
                      <a:pt x="4900" y="7544"/>
                    </a:lnTo>
                    <a:lnTo>
                      <a:pt x="4850" y="7538"/>
                    </a:lnTo>
                    <a:lnTo>
                      <a:pt x="4800" y="7531"/>
                    </a:lnTo>
                    <a:lnTo>
                      <a:pt x="4800" y="7469"/>
                    </a:lnTo>
                    <a:lnTo>
                      <a:pt x="4800" y="7407"/>
                    </a:lnTo>
                    <a:lnTo>
                      <a:pt x="4800" y="7345"/>
                    </a:lnTo>
                    <a:lnTo>
                      <a:pt x="4800" y="7283"/>
                    </a:lnTo>
                    <a:lnTo>
                      <a:pt x="4800" y="7221"/>
                    </a:lnTo>
                    <a:lnTo>
                      <a:pt x="4800" y="7159"/>
                    </a:lnTo>
                    <a:lnTo>
                      <a:pt x="4800" y="7097"/>
                    </a:lnTo>
                    <a:lnTo>
                      <a:pt x="4800" y="7035"/>
                    </a:lnTo>
                    <a:close/>
                    <a:moveTo>
                      <a:pt x="3578" y="6884"/>
                    </a:moveTo>
                    <a:lnTo>
                      <a:pt x="3627" y="6890"/>
                    </a:lnTo>
                    <a:lnTo>
                      <a:pt x="3677" y="6897"/>
                    </a:lnTo>
                    <a:lnTo>
                      <a:pt x="3727" y="6903"/>
                    </a:lnTo>
                    <a:lnTo>
                      <a:pt x="3777" y="6909"/>
                    </a:lnTo>
                    <a:lnTo>
                      <a:pt x="3827" y="6915"/>
                    </a:lnTo>
                    <a:lnTo>
                      <a:pt x="3877" y="6921"/>
                    </a:lnTo>
                    <a:lnTo>
                      <a:pt x="3927" y="6927"/>
                    </a:lnTo>
                    <a:lnTo>
                      <a:pt x="3977" y="6933"/>
                    </a:lnTo>
                    <a:lnTo>
                      <a:pt x="4027" y="6939"/>
                    </a:lnTo>
                    <a:lnTo>
                      <a:pt x="4077" y="6945"/>
                    </a:lnTo>
                    <a:lnTo>
                      <a:pt x="4127" y="6952"/>
                    </a:lnTo>
                    <a:lnTo>
                      <a:pt x="4175" y="6959"/>
                    </a:lnTo>
                    <a:lnTo>
                      <a:pt x="4225" y="6965"/>
                    </a:lnTo>
                    <a:lnTo>
                      <a:pt x="4275" y="6971"/>
                    </a:lnTo>
                    <a:lnTo>
                      <a:pt x="4325" y="6977"/>
                    </a:lnTo>
                    <a:lnTo>
                      <a:pt x="4375" y="6983"/>
                    </a:lnTo>
                    <a:lnTo>
                      <a:pt x="4375" y="7044"/>
                    </a:lnTo>
                    <a:lnTo>
                      <a:pt x="4375" y="7105"/>
                    </a:lnTo>
                    <a:lnTo>
                      <a:pt x="4375" y="7167"/>
                    </a:lnTo>
                    <a:lnTo>
                      <a:pt x="4375" y="7228"/>
                    </a:lnTo>
                    <a:lnTo>
                      <a:pt x="4375" y="7289"/>
                    </a:lnTo>
                    <a:lnTo>
                      <a:pt x="4375" y="7351"/>
                    </a:lnTo>
                    <a:lnTo>
                      <a:pt x="4375" y="7412"/>
                    </a:lnTo>
                    <a:lnTo>
                      <a:pt x="4375" y="7473"/>
                    </a:lnTo>
                    <a:lnTo>
                      <a:pt x="4325" y="7466"/>
                    </a:lnTo>
                    <a:lnTo>
                      <a:pt x="4275" y="7460"/>
                    </a:lnTo>
                    <a:lnTo>
                      <a:pt x="4225" y="7453"/>
                    </a:lnTo>
                    <a:lnTo>
                      <a:pt x="4175" y="7446"/>
                    </a:lnTo>
                    <a:lnTo>
                      <a:pt x="4127" y="7440"/>
                    </a:lnTo>
                    <a:lnTo>
                      <a:pt x="4077" y="7433"/>
                    </a:lnTo>
                    <a:lnTo>
                      <a:pt x="4027" y="7425"/>
                    </a:lnTo>
                    <a:lnTo>
                      <a:pt x="3977" y="7418"/>
                    </a:lnTo>
                    <a:lnTo>
                      <a:pt x="3927" y="7412"/>
                    </a:lnTo>
                    <a:lnTo>
                      <a:pt x="3877" y="7405"/>
                    </a:lnTo>
                    <a:lnTo>
                      <a:pt x="3827" y="7398"/>
                    </a:lnTo>
                    <a:lnTo>
                      <a:pt x="3777" y="7391"/>
                    </a:lnTo>
                    <a:lnTo>
                      <a:pt x="3727" y="7385"/>
                    </a:lnTo>
                    <a:lnTo>
                      <a:pt x="3677" y="7378"/>
                    </a:lnTo>
                    <a:lnTo>
                      <a:pt x="3627" y="7371"/>
                    </a:lnTo>
                    <a:lnTo>
                      <a:pt x="3578" y="7363"/>
                    </a:lnTo>
                    <a:lnTo>
                      <a:pt x="3578" y="7303"/>
                    </a:lnTo>
                    <a:lnTo>
                      <a:pt x="3578" y="7243"/>
                    </a:lnTo>
                    <a:lnTo>
                      <a:pt x="3578" y="7183"/>
                    </a:lnTo>
                    <a:lnTo>
                      <a:pt x="3578" y="7123"/>
                    </a:lnTo>
                    <a:lnTo>
                      <a:pt x="3578" y="7063"/>
                    </a:lnTo>
                    <a:lnTo>
                      <a:pt x="3578" y="7003"/>
                    </a:lnTo>
                    <a:lnTo>
                      <a:pt x="3578" y="6943"/>
                    </a:lnTo>
                    <a:lnTo>
                      <a:pt x="3578" y="6884"/>
                    </a:lnTo>
                    <a:close/>
                    <a:moveTo>
                      <a:pt x="7244" y="6340"/>
                    </a:moveTo>
                    <a:lnTo>
                      <a:pt x="7294" y="6345"/>
                    </a:lnTo>
                    <a:lnTo>
                      <a:pt x="7343" y="6349"/>
                    </a:lnTo>
                    <a:lnTo>
                      <a:pt x="7393" y="6354"/>
                    </a:lnTo>
                    <a:lnTo>
                      <a:pt x="7443" y="6359"/>
                    </a:lnTo>
                    <a:lnTo>
                      <a:pt x="7493" y="6365"/>
                    </a:lnTo>
                    <a:lnTo>
                      <a:pt x="7542" y="6370"/>
                    </a:lnTo>
                    <a:lnTo>
                      <a:pt x="7592" y="6374"/>
                    </a:lnTo>
                    <a:lnTo>
                      <a:pt x="7642" y="6379"/>
                    </a:lnTo>
                    <a:lnTo>
                      <a:pt x="7692" y="6384"/>
                    </a:lnTo>
                    <a:lnTo>
                      <a:pt x="7742" y="6389"/>
                    </a:lnTo>
                    <a:lnTo>
                      <a:pt x="7792" y="6394"/>
                    </a:lnTo>
                    <a:lnTo>
                      <a:pt x="7842" y="6399"/>
                    </a:lnTo>
                    <a:lnTo>
                      <a:pt x="7891" y="6404"/>
                    </a:lnTo>
                    <a:lnTo>
                      <a:pt x="7941" y="6408"/>
                    </a:lnTo>
                    <a:lnTo>
                      <a:pt x="7991" y="6413"/>
                    </a:lnTo>
                    <a:lnTo>
                      <a:pt x="8041" y="6418"/>
                    </a:lnTo>
                    <a:lnTo>
                      <a:pt x="8041" y="6487"/>
                    </a:lnTo>
                    <a:lnTo>
                      <a:pt x="8041" y="6554"/>
                    </a:lnTo>
                    <a:lnTo>
                      <a:pt x="8041" y="6621"/>
                    </a:lnTo>
                    <a:lnTo>
                      <a:pt x="8041" y="6688"/>
                    </a:lnTo>
                    <a:lnTo>
                      <a:pt x="8041" y="6755"/>
                    </a:lnTo>
                    <a:lnTo>
                      <a:pt x="8041" y="6822"/>
                    </a:lnTo>
                    <a:lnTo>
                      <a:pt x="8041" y="6890"/>
                    </a:lnTo>
                    <a:lnTo>
                      <a:pt x="8041" y="6958"/>
                    </a:lnTo>
                    <a:lnTo>
                      <a:pt x="7991" y="6951"/>
                    </a:lnTo>
                    <a:lnTo>
                      <a:pt x="7941" y="6946"/>
                    </a:lnTo>
                    <a:lnTo>
                      <a:pt x="7891" y="6940"/>
                    </a:lnTo>
                    <a:lnTo>
                      <a:pt x="7842" y="6935"/>
                    </a:lnTo>
                    <a:lnTo>
                      <a:pt x="7792" y="6929"/>
                    </a:lnTo>
                    <a:lnTo>
                      <a:pt x="7742" y="6924"/>
                    </a:lnTo>
                    <a:lnTo>
                      <a:pt x="7692" y="6918"/>
                    </a:lnTo>
                    <a:lnTo>
                      <a:pt x="7642" y="6913"/>
                    </a:lnTo>
                    <a:lnTo>
                      <a:pt x="7592" y="6907"/>
                    </a:lnTo>
                    <a:lnTo>
                      <a:pt x="7542" y="6902"/>
                    </a:lnTo>
                    <a:lnTo>
                      <a:pt x="7493" y="6896"/>
                    </a:lnTo>
                    <a:lnTo>
                      <a:pt x="7443" y="6890"/>
                    </a:lnTo>
                    <a:lnTo>
                      <a:pt x="7393" y="6884"/>
                    </a:lnTo>
                    <a:lnTo>
                      <a:pt x="7343" y="6879"/>
                    </a:lnTo>
                    <a:lnTo>
                      <a:pt x="7294" y="6873"/>
                    </a:lnTo>
                    <a:lnTo>
                      <a:pt x="7244" y="6868"/>
                    </a:lnTo>
                    <a:lnTo>
                      <a:pt x="7244" y="6802"/>
                    </a:lnTo>
                    <a:lnTo>
                      <a:pt x="7244" y="6736"/>
                    </a:lnTo>
                    <a:lnTo>
                      <a:pt x="7244" y="6670"/>
                    </a:lnTo>
                    <a:lnTo>
                      <a:pt x="7244" y="6605"/>
                    </a:lnTo>
                    <a:lnTo>
                      <a:pt x="7244" y="6538"/>
                    </a:lnTo>
                    <a:lnTo>
                      <a:pt x="7244" y="6472"/>
                    </a:lnTo>
                    <a:lnTo>
                      <a:pt x="7244" y="6406"/>
                    </a:lnTo>
                    <a:lnTo>
                      <a:pt x="7244" y="6340"/>
                    </a:lnTo>
                    <a:close/>
                    <a:moveTo>
                      <a:pt x="6021" y="6219"/>
                    </a:moveTo>
                    <a:lnTo>
                      <a:pt x="6071" y="6224"/>
                    </a:lnTo>
                    <a:lnTo>
                      <a:pt x="6121" y="6229"/>
                    </a:lnTo>
                    <a:lnTo>
                      <a:pt x="6171" y="6234"/>
                    </a:lnTo>
                    <a:lnTo>
                      <a:pt x="6221" y="6239"/>
                    </a:lnTo>
                    <a:lnTo>
                      <a:pt x="6271" y="6243"/>
                    </a:lnTo>
                    <a:lnTo>
                      <a:pt x="6321" y="6249"/>
                    </a:lnTo>
                    <a:lnTo>
                      <a:pt x="6371" y="6254"/>
                    </a:lnTo>
                    <a:lnTo>
                      <a:pt x="6421" y="6259"/>
                    </a:lnTo>
                    <a:lnTo>
                      <a:pt x="6470" y="6264"/>
                    </a:lnTo>
                    <a:lnTo>
                      <a:pt x="6520" y="6268"/>
                    </a:lnTo>
                    <a:lnTo>
                      <a:pt x="6570" y="6273"/>
                    </a:lnTo>
                    <a:lnTo>
                      <a:pt x="6620" y="6278"/>
                    </a:lnTo>
                    <a:lnTo>
                      <a:pt x="6670" y="6283"/>
                    </a:lnTo>
                    <a:lnTo>
                      <a:pt x="6719" y="6288"/>
                    </a:lnTo>
                    <a:lnTo>
                      <a:pt x="6769" y="6293"/>
                    </a:lnTo>
                    <a:lnTo>
                      <a:pt x="6819" y="6297"/>
                    </a:lnTo>
                    <a:lnTo>
                      <a:pt x="6819" y="6364"/>
                    </a:lnTo>
                    <a:lnTo>
                      <a:pt x="6819" y="6429"/>
                    </a:lnTo>
                    <a:lnTo>
                      <a:pt x="6819" y="6494"/>
                    </a:lnTo>
                    <a:lnTo>
                      <a:pt x="6819" y="6560"/>
                    </a:lnTo>
                    <a:lnTo>
                      <a:pt x="6819" y="6625"/>
                    </a:lnTo>
                    <a:lnTo>
                      <a:pt x="6819" y="6690"/>
                    </a:lnTo>
                    <a:lnTo>
                      <a:pt x="6819" y="6756"/>
                    </a:lnTo>
                    <a:lnTo>
                      <a:pt x="6819" y="6821"/>
                    </a:lnTo>
                    <a:lnTo>
                      <a:pt x="6769" y="6815"/>
                    </a:lnTo>
                    <a:lnTo>
                      <a:pt x="6719" y="6810"/>
                    </a:lnTo>
                    <a:lnTo>
                      <a:pt x="6670" y="6804"/>
                    </a:lnTo>
                    <a:lnTo>
                      <a:pt x="6620" y="6798"/>
                    </a:lnTo>
                    <a:lnTo>
                      <a:pt x="6570" y="6793"/>
                    </a:lnTo>
                    <a:lnTo>
                      <a:pt x="6520" y="6787"/>
                    </a:lnTo>
                    <a:lnTo>
                      <a:pt x="6470" y="6782"/>
                    </a:lnTo>
                    <a:lnTo>
                      <a:pt x="6421" y="6775"/>
                    </a:lnTo>
                    <a:lnTo>
                      <a:pt x="6371" y="6770"/>
                    </a:lnTo>
                    <a:lnTo>
                      <a:pt x="6321" y="6764"/>
                    </a:lnTo>
                    <a:lnTo>
                      <a:pt x="6271" y="6759"/>
                    </a:lnTo>
                    <a:lnTo>
                      <a:pt x="6221" y="6753"/>
                    </a:lnTo>
                    <a:lnTo>
                      <a:pt x="6171" y="6748"/>
                    </a:lnTo>
                    <a:lnTo>
                      <a:pt x="6121" y="6743"/>
                    </a:lnTo>
                    <a:lnTo>
                      <a:pt x="6071" y="6737"/>
                    </a:lnTo>
                    <a:lnTo>
                      <a:pt x="6021" y="6732"/>
                    </a:lnTo>
                    <a:lnTo>
                      <a:pt x="6021" y="6668"/>
                    </a:lnTo>
                    <a:lnTo>
                      <a:pt x="6021" y="6604"/>
                    </a:lnTo>
                    <a:lnTo>
                      <a:pt x="6021" y="6539"/>
                    </a:lnTo>
                    <a:lnTo>
                      <a:pt x="6021" y="6475"/>
                    </a:lnTo>
                    <a:lnTo>
                      <a:pt x="6021" y="6411"/>
                    </a:lnTo>
                    <a:lnTo>
                      <a:pt x="6021" y="6347"/>
                    </a:lnTo>
                    <a:lnTo>
                      <a:pt x="6021" y="6283"/>
                    </a:lnTo>
                    <a:lnTo>
                      <a:pt x="6021" y="6219"/>
                    </a:lnTo>
                    <a:close/>
                    <a:moveTo>
                      <a:pt x="4800" y="6098"/>
                    </a:moveTo>
                    <a:lnTo>
                      <a:pt x="4850" y="6103"/>
                    </a:lnTo>
                    <a:lnTo>
                      <a:pt x="4900" y="6108"/>
                    </a:lnTo>
                    <a:lnTo>
                      <a:pt x="4950" y="6113"/>
                    </a:lnTo>
                    <a:lnTo>
                      <a:pt x="5000" y="6118"/>
                    </a:lnTo>
                    <a:lnTo>
                      <a:pt x="5048" y="6123"/>
                    </a:lnTo>
                    <a:lnTo>
                      <a:pt x="5098" y="6128"/>
                    </a:lnTo>
                    <a:lnTo>
                      <a:pt x="5148" y="6133"/>
                    </a:lnTo>
                    <a:lnTo>
                      <a:pt x="5198" y="6138"/>
                    </a:lnTo>
                    <a:lnTo>
                      <a:pt x="5248" y="6143"/>
                    </a:lnTo>
                    <a:lnTo>
                      <a:pt x="5298" y="6148"/>
                    </a:lnTo>
                    <a:lnTo>
                      <a:pt x="5348" y="6152"/>
                    </a:lnTo>
                    <a:lnTo>
                      <a:pt x="5398" y="6157"/>
                    </a:lnTo>
                    <a:lnTo>
                      <a:pt x="5448" y="6162"/>
                    </a:lnTo>
                    <a:lnTo>
                      <a:pt x="5498" y="6167"/>
                    </a:lnTo>
                    <a:lnTo>
                      <a:pt x="5548" y="6172"/>
                    </a:lnTo>
                    <a:lnTo>
                      <a:pt x="5597" y="6177"/>
                    </a:lnTo>
                    <a:lnTo>
                      <a:pt x="5597" y="6240"/>
                    </a:lnTo>
                    <a:lnTo>
                      <a:pt x="5597" y="6304"/>
                    </a:lnTo>
                    <a:lnTo>
                      <a:pt x="5597" y="6367"/>
                    </a:lnTo>
                    <a:lnTo>
                      <a:pt x="5597" y="6431"/>
                    </a:lnTo>
                    <a:lnTo>
                      <a:pt x="5597" y="6494"/>
                    </a:lnTo>
                    <a:lnTo>
                      <a:pt x="5597" y="6557"/>
                    </a:lnTo>
                    <a:lnTo>
                      <a:pt x="5597" y="6620"/>
                    </a:lnTo>
                    <a:lnTo>
                      <a:pt x="5597" y="6683"/>
                    </a:lnTo>
                    <a:lnTo>
                      <a:pt x="5548" y="6678"/>
                    </a:lnTo>
                    <a:lnTo>
                      <a:pt x="5498" y="6672"/>
                    </a:lnTo>
                    <a:lnTo>
                      <a:pt x="5448" y="6667"/>
                    </a:lnTo>
                    <a:lnTo>
                      <a:pt x="5398" y="6661"/>
                    </a:lnTo>
                    <a:lnTo>
                      <a:pt x="5348" y="6655"/>
                    </a:lnTo>
                    <a:lnTo>
                      <a:pt x="5298" y="6649"/>
                    </a:lnTo>
                    <a:lnTo>
                      <a:pt x="5248" y="6644"/>
                    </a:lnTo>
                    <a:lnTo>
                      <a:pt x="5198" y="6638"/>
                    </a:lnTo>
                    <a:lnTo>
                      <a:pt x="5148" y="6633"/>
                    </a:lnTo>
                    <a:lnTo>
                      <a:pt x="5098" y="6627"/>
                    </a:lnTo>
                    <a:lnTo>
                      <a:pt x="5048" y="6622"/>
                    </a:lnTo>
                    <a:lnTo>
                      <a:pt x="5000" y="6617"/>
                    </a:lnTo>
                    <a:lnTo>
                      <a:pt x="4950" y="6611"/>
                    </a:lnTo>
                    <a:lnTo>
                      <a:pt x="4900" y="6606"/>
                    </a:lnTo>
                    <a:lnTo>
                      <a:pt x="4850" y="6600"/>
                    </a:lnTo>
                    <a:lnTo>
                      <a:pt x="4800" y="6593"/>
                    </a:lnTo>
                    <a:lnTo>
                      <a:pt x="4800" y="6532"/>
                    </a:lnTo>
                    <a:lnTo>
                      <a:pt x="4800" y="6470"/>
                    </a:lnTo>
                    <a:lnTo>
                      <a:pt x="4800" y="6408"/>
                    </a:lnTo>
                    <a:lnTo>
                      <a:pt x="4800" y="6346"/>
                    </a:lnTo>
                    <a:lnTo>
                      <a:pt x="4800" y="6284"/>
                    </a:lnTo>
                    <a:lnTo>
                      <a:pt x="4800" y="6222"/>
                    </a:lnTo>
                    <a:lnTo>
                      <a:pt x="4800" y="6160"/>
                    </a:lnTo>
                    <a:lnTo>
                      <a:pt x="4800" y="6098"/>
                    </a:lnTo>
                    <a:close/>
                    <a:moveTo>
                      <a:pt x="3578" y="5977"/>
                    </a:moveTo>
                    <a:lnTo>
                      <a:pt x="3627" y="5981"/>
                    </a:lnTo>
                    <a:lnTo>
                      <a:pt x="3677" y="5986"/>
                    </a:lnTo>
                    <a:lnTo>
                      <a:pt x="3727" y="5991"/>
                    </a:lnTo>
                    <a:lnTo>
                      <a:pt x="3777" y="5996"/>
                    </a:lnTo>
                    <a:lnTo>
                      <a:pt x="3827" y="6001"/>
                    </a:lnTo>
                    <a:lnTo>
                      <a:pt x="3877" y="6006"/>
                    </a:lnTo>
                    <a:lnTo>
                      <a:pt x="3927" y="6012"/>
                    </a:lnTo>
                    <a:lnTo>
                      <a:pt x="3977" y="6017"/>
                    </a:lnTo>
                    <a:lnTo>
                      <a:pt x="4027" y="6022"/>
                    </a:lnTo>
                    <a:lnTo>
                      <a:pt x="4077" y="6027"/>
                    </a:lnTo>
                    <a:lnTo>
                      <a:pt x="4127" y="6031"/>
                    </a:lnTo>
                    <a:lnTo>
                      <a:pt x="4175" y="6036"/>
                    </a:lnTo>
                    <a:lnTo>
                      <a:pt x="4225" y="6041"/>
                    </a:lnTo>
                    <a:lnTo>
                      <a:pt x="4275" y="6046"/>
                    </a:lnTo>
                    <a:lnTo>
                      <a:pt x="4325" y="6051"/>
                    </a:lnTo>
                    <a:lnTo>
                      <a:pt x="4375" y="6056"/>
                    </a:lnTo>
                    <a:lnTo>
                      <a:pt x="4375" y="6117"/>
                    </a:lnTo>
                    <a:lnTo>
                      <a:pt x="4375" y="6178"/>
                    </a:lnTo>
                    <a:lnTo>
                      <a:pt x="4375" y="6240"/>
                    </a:lnTo>
                    <a:lnTo>
                      <a:pt x="4375" y="6301"/>
                    </a:lnTo>
                    <a:lnTo>
                      <a:pt x="4375" y="6363"/>
                    </a:lnTo>
                    <a:lnTo>
                      <a:pt x="4375" y="6425"/>
                    </a:lnTo>
                    <a:lnTo>
                      <a:pt x="4375" y="6486"/>
                    </a:lnTo>
                    <a:lnTo>
                      <a:pt x="4375" y="6547"/>
                    </a:lnTo>
                    <a:lnTo>
                      <a:pt x="4325" y="6542"/>
                    </a:lnTo>
                    <a:lnTo>
                      <a:pt x="4275" y="6535"/>
                    </a:lnTo>
                    <a:lnTo>
                      <a:pt x="4225" y="6530"/>
                    </a:lnTo>
                    <a:lnTo>
                      <a:pt x="4175" y="6524"/>
                    </a:lnTo>
                    <a:lnTo>
                      <a:pt x="4127" y="6519"/>
                    </a:lnTo>
                    <a:lnTo>
                      <a:pt x="4077" y="6513"/>
                    </a:lnTo>
                    <a:lnTo>
                      <a:pt x="4027" y="6508"/>
                    </a:lnTo>
                    <a:lnTo>
                      <a:pt x="3977" y="6502"/>
                    </a:lnTo>
                    <a:lnTo>
                      <a:pt x="3927" y="6497"/>
                    </a:lnTo>
                    <a:lnTo>
                      <a:pt x="3877" y="6491"/>
                    </a:lnTo>
                    <a:lnTo>
                      <a:pt x="3827" y="6486"/>
                    </a:lnTo>
                    <a:lnTo>
                      <a:pt x="3777" y="6479"/>
                    </a:lnTo>
                    <a:lnTo>
                      <a:pt x="3727" y="6474"/>
                    </a:lnTo>
                    <a:lnTo>
                      <a:pt x="3677" y="6468"/>
                    </a:lnTo>
                    <a:lnTo>
                      <a:pt x="3627" y="6463"/>
                    </a:lnTo>
                    <a:lnTo>
                      <a:pt x="3578" y="6457"/>
                    </a:lnTo>
                    <a:lnTo>
                      <a:pt x="3578" y="6397"/>
                    </a:lnTo>
                    <a:lnTo>
                      <a:pt x="3578" y="6337"/>
                    </a:lnTo>
                    <a:lnTo>
                      <a:pt x="3578" y="6277"/>
                    </a:lnTo>
                    <a:lnTo>
                      <a:pt x="3578" y="6217"/>
                    </a:lnTo>
                    <a:lnTo>
                      <a:pt x="3578" y="6157"/>
                    </a:lnTo>
                    <a:lnTo>
                      <a:pt x="3578" y="6097"/>
                    </a:lnTo>
                    <a:lnTo>
                      <a:pt x="3578" y="6037"/>
                    </a:lnTo>
                    <a:lnTo>
                      <a:pt x="3578" y="5977"/>
                    </a:lnTo>
                    <a:close/>
                    <a:moveTo>
                      <a:pt x="7244" y="5342"/>
                    </a:moveTo>
                    <a:lnTo>
                      <a:pt x="7294" y="5346"/>
                    </a:lnTo>
                    <a:lnTo>
                      <a:pt x="7343" y="5349"/>
                    </a:lnTo>
                    <a:lnTo>
                      <a:pt x="7393" y="5353"/>
                    </a:lnTo>
                    <a:lnTo>
                      <a:pt x="7443" y="5357"/>
                    </a:lnTo>
                    <a:lnTo>
                      <a:pt x="7493" y="5361"/>
                    </a:lnTo>
                    <a:lnTo>
                      <a:pt x="7542" y="5365"/>
                    </a:lnTo>
                    <a:lnTo>
                      <a:pt x="7592" y="5368"/>
                    </a:lnTo>
                    <a:lnTo>
                      <a:pt x="7642" y="5372"/>
                    </a:lnTo>
                    <a:lnTo>
                      <a:pt x="7692" y="5376"/>
                    </a:lnTo>
                    <a:lnTo>
                      <a:pt x="7742" y="5379"/>
                    </a:lnTo>
                    <a:lnTo>
                      <a:pt x="7792" y="5383"/>
                    </a:lnTo>
                    <a:lnTo>
                      <a:pt x="7842" y="5387"/>
                    </a:lnTo>
                    <a:lnTo>
                      <a:pt x="7891" y="5390"/>
                    </a:lnTo>
                    <a:lnTo>
                      <a:pt x="7941" y="5394"/>
                    </a:lnTo>
                    <a:lnTo>
                      <a:pt x="7991" y="5398"/>
                    </a:lnTo>
                    <a:lnTo>
                      <a:pt x="8041" y="5401"/>
                    </a:lnTo>
                    <a:lnTo>
                      <a:pt x="8041" y="5468"/>
                    </a:lnTo>
                    <a:lnTo>
                      <a:pt x="8041" y="5537"/>
                    </a:lnTo>
                    <a:lnTo>
                      <a:pt x="8041" y="5604"/>
                    </a:lnTo>
                    <a:lnTo>
                      <a:pt x="8041" y="5671"/>
                    </a:lnTo>
                    <a:lnTo>
                      <a:pt x="8041" y="5738"/>
                    </a:lnTo>
                    <a:lnTo>
                      <a:pt x="8041" y="5805"/>
                    </a:lnTo>
                    <a:lnTo>
                      <a:pt x="8041" y="5873"/>
                    </a:lnTo>
                    <a:lnTo>
                      <a:pt x="8041" y="5940"/>
                    </a:lnTo>
                    <a:lnTo>
                      <a:pt x="7991" y="5936"/>
                    </a:lnTo>
                    <a:lnTo>
                      <a:pt x="7941" y="5931"/>
                    </a:lnTo>
                    <a:lnTo>
                      <a:pt x="7891" y="5927"/>
                    </a:lnTo>
                    <a:lnTo>
                      <a:pt x="7842" y="5923"/>
                    </a:lnTo>
                    <a:lnTo>
                      <a:pt x="7792" y="5918"/>
                    </a:lnTo>
                    <a:lnTo>
                      <a:pt x="7742" y="5914"/>
                    </a:lnTo>
                    <a:lnTo>
                      <a:pt x="7692" y="5910"/>
                    </a:lnTo>
                    <a:lnTo>
                      <a:pt x="7642" y="5905"/>
                    </a:lnTo>
                    <a:lnTo>
                      <a:pt x="7592" y="5901"/>
                    </a:lnTo>
                    <a:lnTo>
                      <a:pt x="7542" y="5897"/>
                    </a:lnTo>
                    <a:lnTo>
                      <a:pt x="7493" y="5892"/>
                    </a:lnTo>
                    <a:lnTo>
                      <a:pt x="7443" y="5887"/>
                    </a:lnTo>
                    <a:lnTo>
                      <a:pt x="7393" y="5883"/>
                    </a:lnTo>
                    <a:lnTo>
                      <a:pt x="7343" y="5878"/>
                    </a:lnTo>
                    <a:lnTo>
                      <a:pt x="7294" y="5874"/>
                    </a:lnTo>
                    <a:lnTo>
                      <a:pt x="7244" y="5870"/>
                    </a:lnTo>
                    <a:lnTo>
                      <a:pt x="7244" y="5804"/>
                    </a:lnTo>
                    <a:lnTo>
                      <a:pt x="7244" y="5739"/>
                    </a:lnTo>
                    <a:lnTo>
                      <a:pt x="7244" y="5673"/>
                    </a:lnTo>
                    <a:lnTo>
                      <a:pt x="7244" y="5607"/>
                    </a:lnTo>
                    <a:lnTo>
                      <a:pt x="7244" y="5541"/>
                    </a:lnTo>
                    <a:lnTo>
                      <a:pt x="7244" y="5475"/>
                    </a:lnTo>
                    <a:lnTo>
                      <a:pt x="7244" y="5408"/>
                    </a:lnTo>
                    <a:lnTo>
                      <a:pt x="7244" y="5342"/>
                    </a:lnTo>
                    <a:close/>
                    <a:moveTo>
                      <a:pt x="6021" y="5252"/>
                    </a:moveTo>
                    <a:lnTo>
                      <a:pt x="6071" y="5256"/>
                    </a:lnTo>
                    <a:lnTo>
                      <a:pt x="6121" y="5259"/>
                    </a:lnTo>
                    <a:lnTo>
                      <a:pt x="6171" y="5263"/>
                    </a:lnTo>
                    <a:lnTo>
                      <a:pt x="6221" y="5267"/>
                    </a:lnTo>
                    <a:lnTo>
                      <a:pt x="6271" y="5270"/>
                    </a:lnTo>
                    <a:lnTo>
                      <a:pt x="6321" y="5274"/>
                    </a:lnTo>
                    <a:lnTo>
                      <a:pt x="6371" y="5278"/>
                    </a:lnTo>
                    <a:lnTo>
                      <a:pt x="6421" y="5281"/>
                    </a:lnTo>
                    <a:lnTo>
                      <a:pt x="6470" y="5285"/>
                    </a:lnTo>
                    <a:lnTo>
                      <a:pt x="6520" y="5289"/>
                    </a:lnTo>
                    <a:lnTo>
                      <a:pt x="6570" y="5292"/>
                    </a:lnTo>
                    <a:lnTo>
                      <a:pt x="6620" y="5296"/>
                    </a:lnTo>
                    <a:lnTo>
                      <a:pt x="6670" y="5300"/>
                    </a:lnTo>
                    <a:lnTo>
                      <a:pt x="6719" y="5304"/>
                    </a:lnTo>
                    <a:lnTo>
                      <a:pt x="6769" y="5307"/>
                    </a:lnTo>
                    <a:lnTo>
                      <a:pt x="6819" y="5311"/>
                    </a:lnTo>
                    <a:lnTo>
                      <a:pt x="6819" y="5376"/>
                    </a:lnTo>
                    <a:lnTo>
                      <a:pt x="6819" y="5441"/>
                    </a:lnTo>
                    <a:lnTo>
                      <a:pt x="6819" y="5507"/>
                    </a:lnTo>
                    <a:lnTo>
                      <a:pt x="6819" y="5572"/>
                    </a:lnTo>
                    <a:lnTo>
                      <a:pt x="6819" y="5638"/>
                    </a:lnTo>
                    <a:lnTo>
                      <a:pt x="6819" y="5703"/>
                    </a:lnTo>
                    <a:lnTo>
                      <a:pt x="6819" y="5768"/>
                    </a:lnTo>
                    <a:lnTo>
                      <a:pt x="6819" y="5834"/>
                    </a:lnTo>
                    <a:lnTo>
                      <a:pt x="6769" y="5830"/>
                    </a:lnTo>
                    <a:lnTo>
                      <a:pt x="6719" y="5825"/>
                    </a:lnTo>
                    <a:lnTo>
                      <a:pt x="6670" y="5821"/>
                    </a:lnTo>
                    <a:lnTo>
                      <a:pt x="6620" y="5816"/>
                    </a:lnTo>
                    <a:lnTo>
                      <a:pt x="6570" y="5812"/>
                    </a:lnTo>
                    <a:lnTo>
                      <a:pt x="6520" y="5808"/>
                    </a:lnTo>
                    <a:lnTo>
                      <a:pt x="6470" y="5803"/>
                    </a:lnTo>
                    <a:lnTo>
                      <a:pt x="6421" y="5799"/>
                    </a:lnTo>
                    <a:lnTo>
                      <a:pt x="6371" y="5795"/>
                    </a:lnTo>
                    <a:lnTo>
                      <a:pt x="6321" y="5790"/>
                    </a:lnTo>
                    <a:lnTo>
                      <a:pt x="6271" y="5786"/>
                    </a:lnTo>
                    <a:lnTo>
                      <a:pt x="6221" y="5782"/>
                    </a:lnTo>
                    <a:lnTo>
                      <a:pt x="6171" y="5777"/>
                    </a:lnTo>
                    <a:lnTo>
                      <a:pt x="6121" y="5773"/>
                    </a:lnTo>
                    <a:lnTo>
                      <a:pt x="6071" y="5768"/>
                    </a:lnTo>
                    <a:lnTo>
                      <a:pt x="6021" y="5763"/>
                    </a:lnTo>
                    <a:lnTo>
                      <a:pt x="6021" y="5700"/>
                    </a:lnTo>
                    <a:lnTo>
                      <a:pt x="6021" y="5636"/>
                    </a:lnTo>
                    <a:lnTo>
                      <a:pt x="6021" y="5572"/>
                    </a:lnTo>
                    <a:lnTo>
                      <a:pt x="6021" y="5508"/>
                    </a:lnTo>
                    <a:lnTo>
                      <a:pt x="6021" y="5444"/>
                    </a:lnTo>
                    <a:lnTo>
                      <a:pt x="6021" y="5380"/>
                    </a:lnTo>
                    <a:lnTo>
                      <a:pt x="6021" y="5316"/>
                    </a:lnTo>
                    <a:lnTo>
                      <a:pt x="6021" y="5252"/>
                    </a:lnTo>
                    <a:close/>
                    <a:moveTo>
                      <a:pt x="4800" y="5161"/>
                    </a:moveTo>
                    <a:lnTo>
                      <a:pt x="4850" y="5165"/>
                    </a:lnTo>
                    <a:lnTo>
                      <a:pt x="4900" y="5168"/>
                    </a:lnTo>
                    <a:lnTo>
                      <a:pt x="4950" y="5172"/>
                    </a:lnTo>
                    <a:lnTo>
                      <a:pt x="5000" y="5176"/>
                    </a:lnTo>
                    <a:lnTo>
                      <a:pt x="5048" y="5180"/>
                    </a:lnTo>
                    <a:lnTo>
                      <a:pt x="5098" y="5184"/>
                    </a:lnTo>
                    <a:lnTo>
                      <a:pt x="5148" y="5188"/>
                    </a:lnTo>
                    <a:lnTo>
                      <a:pt x="5198" y="5191"/>
                    </a:lnTo>
                    <a:lnTo>
                      <a:pt x="5248" y="5195"/>
                    </a:lnTo>
                    <a:lnTo>
                      <a:pt x="5298" y="5199"/>
                    </a:lnTo>
                    <a:lnTo>
                      <a:pt x="5348" y="5202"/>
                    </a:lnTo>
                    <a:lnTo>
                      <a:pt x="5398" y="5206"/>
                    </a:lnTo>
                    <a:lnTo>
                      <a:pt x="5448" y="5209"/>
                    </a:lnTo>
                    <a:lnTo>
                      <a:pt x="5498" y="5213"/>
                    </a:lnTo>
                    <a:lnTo>
                      <a:pt x="5548" y="5216"/>
                    </a:lnTo>
                    <a:lnTo>
                      <a:pt x="5597" y="5220"/>
                    </a:lnTo>
                    <a:lnTo>
                      <a:pt x="5597" y="5283"/>
                    </a:lnTo>
                    <a:lnTo>
                      <a:pt x="5597" y="5347"/>
                    </a:lnTo>
                    <a:lnTo>
                      <a:pt x="5597" y="5410"/>
                    </a:lnTo>
                    <a:lnTo>
                      <a:pt x="5597" y="5473"/>
                    </a:lnTo>
                    <a:lnTo>
                      <a:pt x="5597" y="5537"/>
                    </a:lnTo>
                    <a:lnTo>
                      <a:pt x="5597" y="5601"/>
                    </a:lnTo>
                    <a:lnTo>
                      <a:pt x="5597" y="5664"/>
                    </a:lnTo>
                    <a:lnTo>
                      <a:pt x="5597" y="5727"/>
                    </a:lnTo>
                    <a:lnTo>
                      <a:pt x="5548" y="5722"/>
                    </a:lnTo>
                    <a:lnTo>
                      <a:pt x="5498" y="5718"/>
                    </a:lnTo>
                    <a:lnTo>
                      <a:pt x="5448" y="5714"/>
                    </a:lnTo>
                    <a:lnTo>
                      <a:pt x="5398" y="5709"/>
                    </a:lnTo>
                    <a:lnTo>
                      <a:pt x="5348" y="5704"/>
                    </a:lnTo>
                    <a:lnTo>
                      <a:pt x="5298" y="5700"/>
                    </a:lnTo>
                    <a:lnTo>
                      <a:pt x="5248" y="5696"/>
                    </a:lnTo>
                    <a:lnTo>
                      <a:pt x="5198" y="5692"/>
                    </a:lnTo>
                    <a:lnTo>
                      <a:pt x="5148" y="5688"/>
                    </a:lnTo>
                    <a:lnTo>
                      <a:pt x="5098" y="5683"/>
                    </a:lnTo>
                    <a:lnTo>
                      <a:pt x="5048" y="5679"/>
                    </a:lnTo>
                    <a:lnTo>
                      <a:pt x="5000" y="5675"/>
                    </a:lnTo>
                    <a:lnTo>
                      <a:pt x="4950" y="5671"/>
                    </a:lnTo>
                    <a:lnTo>
                      <a:pt x="4900" y="5666"/>
                    </a:lnTo>
                    <a:lnTo>
                      <a:pt x="4850" y="5662"/>
                    </a:lnTo>
                    <a:lnTo>
                      <a:pt x="4800" y="5658"/>
                    </a:lnTo>
                    <a:lnTo>
                      <a:pt x="4800" y="5596"/>
                    </a:lnTo>
                    <a:lnTo>
                      <a:pt x="4800" y="5534"/>
                    </a:lnTo>
                    <a:lnTo>
                      <a:pt x="4800" y="5471"/>
                    </a:lnTo>
                    <a:lnTo>
                      <a:pt x="4800" y="5409"/>
                    </a:lnTo>
                    <a:lnTo>
                      <a:pt x="4800" y="5347"/>
                    </a:lnTo>
                    <a:lnTo>
                      <a:pt x="4800" y="5285"/>
                    </a:lnTo>
                    <a:lnTo>
                      <a:pt x="4800" y="5223"/>
                    </a:lnTo>
                    <a:lnTo>
                      <a:pt x="4800" y="5161"/>
                    </a:lnTo>
                    <a:close/>
                    <a:moveTo>
                      <a:pt x="3578" y="5071"/>
                    </a:moveTo>
                    <a:lnTo>
                      <a:pt x="3627" y="5074"/>
                    </a:lnTo>
                    <a:lnTo>
                      <a:pt x="3677" y="5078"/>
                    </a:lnTo>
                    <a:lnTo>
                      <a:pt x="3727" y="5082"/>
                    </a:lnTo>
                    <a:lnTo>
                      <a:pt x="3777" y="5085"/>
                    </a:lnTo>
                    <a:lnTo>
                      <a:pt x="3827" y="5089"/>
                    </a:lnTo>
                    <a:lnTo>
                      <a:pt x="3877" y="5092"/>
                    </a:lnTo>
                    <a:lnTo>
                      <a:pt x="3927" y="5096"/>
                    </a:lnTo>
                    <a:lnTo>
                      <a:pt x="3977" y="5100"/>
                    </a:lnTo>
                    <a:lnTo>
                      <a:pt x="4027" y="5104"/>
                    </a:lnTo>
                    <a:lnTo>
                      <a:pt x="4077" y="5107"/>
                    </a:lnTo>
                    <a:lnTo>
                      <a:pt x="4127" y="5111"/>
                    </a:lnTo>
                    <a:lnTo>
                      <a:pt x="4175" y="5114"/>
                    </a:lnTo>
                    <a:lnTo>
                      <a:pt x="4225" y="5118"/>
                    </a:lnTo>
                    <a:lnTo>
                      <a:pt x="4275" y="5123"/>
                    </a:lnTo>
                    <a:lnTo>
                      <a:pt x="4325" y="5126"/>
                    </a:lnTo>
                    <a:lnTo>
                      <a:pt x="4375" y="5130"/>
                    </a:lnTo>
                    <a:lnTo>
                      <a:pt x="4375" y="5191"/>
                    </a:lnTo>
                    <a:lnTo>
                      <a:pt x="4375" y="5252"/>
                    </a:lnTo>
                    <a:lnTo>
                      <a:pt x="4375" y="5314"/>
                    </a:lnTo>
                    <a:lnTo>
                      <a:pt x="4375" y="5375"/>
                    </a:lnTo>
                    <a:lnTo>
                      <a:pt x="4375" y="5436"/>
                    </a:lnTo>
                    <a:lnTo>
                      <a:pt x="4375" y="5498"/>
                    </a:lnTo>
                    <a:lnTo>
                      <a:pt x="4375" y="5559"/>
                    </a:lnTo>
                    <a:lnTo>
                      <a:pt x="4375" y="5620"/>
                    </a:lnTo>
                    <a:lnTo>
                      <a:pt x="4325" y="5616"/>
                    </a:lnTo>
                    <a:lnTo>
                      <a:pt x="4275" y="5612"/>
                    </a:lnTo>
                    <a:lnTo>
                      <a:pt x="4225" y="5607"/>
                    </a:lnTo>
                    <a:lnTo>
                      <a:pt x="4175" y="5603"/>
                    </a:lnTo>
                    <a:lnTo>
                      <a:pt x="4127" y="5599"/>
                    </a:lnTo>
                    <a:lnTo>
                      <a:pt x="4077" y="5595"/>
                    </a:lnTo>
                    <a:lnTo>
                      <a:pt x="4027" y="5589"/>
                    </a:lnTo>
                    <a:lnTo>
                      <a:pt x="3977" y="5585"/>
                    </a:lnTo>
                    <a:lnTo>
                      <a:pt x="3927" y="5581"/>
                    </a:lnTo>
                    <a:lnTo>
                      <a:pt x="3877" y="5577"/>
                    </a:lnTo>
                    <a:lnTo>
                      <a:pt x="3827" y="5572"/>
                    </a:lnTo>
                    <a:lnTo>
                      <a:pt x="3777" y="5568"/>
                    </a:lnTo>
                    <a:lnTo>
                      <a:pt x="3727" y="5563"/>
                    </a:lnTo>
                    <a:lnTo>
                      <a:pt x="3677" y="5559"/>
                    </a:lnTo>
                    <a:lnTo>
                      <a:pt x="3627" y="5555"/>
                    </a:lnTo>
                    <a:lnTo>
                      <a:pt x="3578" y="5550"/>
                    </a:lnTo>
                    <a:lnTo>
                      <a:pt x="3578" y="5490"/>
                    </a:lnTo>
                    <a:lnTo>
                      <a:pt x="3578" y="5430"/>
                    </a:lnTo>
                    <a:lnTo>
                      <a:pt x="3578" y="5371"/>
                    </a:lnTo>
                    <a:lnTo>
                      <a:pt x="3578" y="5310"/>
                    </a:lnTo>
                    <a:lnTo>
                      <a:pt x="3578" y="5250"/>
                    </a:lnTo>
                    <a:lnTo>
                      <a:pt x="3578" y="5190"/>
                    </a:lnTo>
                    <a:lnTo>
                      <a:pt x="3578" y="5131"/>
                    </a:lnTo>
                    <a:lnTo>
                      <a:pt x="3578" y="5071"/>
                    </a:lnTo>
                    <a:close/>
                    <a:moveTo>
                      <a:pt x="7244" y="4344"/>
                    </a:moveTo>
                    <a:lnTo>
                      <a:pt x="7294" y="4346"/>
                    </a:lnTo>
                    <a:lnTo>
                      <a:pt x="7343" y="4348"/>
                    </a:lnTo>
                    <a:lnTo>
                      <a:pt x="7393" y="4352"/>
                    </a:lnTo>
                    <a:lnTo>
                      <a:pt x="7443" y="4354"/>
                    </a:lnTo>
                    <a:lnTo>
                      <a:pt x="7493" y="4356"/>
                    </a:lnTo>
                    <a:lnTo>
                      <a:pt x="7542" y="4359"/>
                    </a:lnTo>
                    <a:lnTo>
                      <a:pt x="7592" y="4361"/>
                    </a:lnTo>
                    <a:lnTo>
                      <a:pt x="7642" y="4363"/>
                    </a:lnTo>
                    <a:lnTo>
                      <a:pt x="7692" y="4366"/>
                    </a:lnTo>
                    <a:lnTo>
                      <a:pt x="7742" y="4368"/>
                    </a:lnTo>
                    <a:lnTo>
                      <a:pt x="7792" y="4371"/>
                    </a:lnTo>
                    <a:lnTo>
                      <a:pt x="7842" y="4373"/>
                    </a:lnTo>
                    <a:lnTo>
                      <a:pt x="7891" y="4376"/>
                    </a:lnTo>
                    <a:lnTo>
                      <a:pt x="7941" y="4378"/>
                    </a:lnTo>
                    <a:lnTo>
                      <a:pt x="7991" y="4380"/>
                    </a:lnTo>
                    <a:lnTo>
                      <a:pt x="8041" y="4383"/>
                    </a:lnTo>
                    <a:lnTo>
                      <a:pt x="8041" y="4450"/>
                    </a:lnTo>
                    <a:lnTo>
                      <a:pt x="8041" y="4518"/>
                    </a:lnTo>
                    <a:lnTo>
                      <a:pt x="8041" y="4585"/>
                    </a:lnTo>
                    <a:lnTo>
                      <a:pt x="8041" y="4653"/>
                    </a:lnTo>
                    <a:lnTo>
                      <a:pt x="8041" y="4720"/>
                    </a:lnTo>
                    <a:lnTo>
                      <a:pt x="8041" y="4788"/>
                    </a:lnTo>
                    <a:lnTo>
                      <a:pt x="8041" y="4855"/>
                    </a:lnTo>
                    <a:lnTo>
                      <a:pt x="8041" y="4922"/>
                    </a:lnTo>
                    <a:lnTo>
                      <a:pt x="7991" y="4919"/>
                    </a:lnTo>
                    <a:lnTo>
                      <a:pt x="7941" y="4915"/>
                    </a:lnTo>
                    <a:lnTo>
                      <a:pt x="7891" y="4912"/>
                    </a:lnTo>
                    <a:lnTo>
                      <a:pt x="7842" y="4909"/>
                    </a:lnTo>
                    <a:lnTo>
                      <a:pt x="7792" y="4906"/>
                    </a:lnTo>
                    <a:lnTo>
                      <a:pt x="7742" y="4903"/>
                    </a:lnTo>
                    <a:lnTo>
                      <a:pt x="7692" y="4900"/>
                    </a:lnTo>
                    <a:lnTo>
                      <a:pt x="7642" y="4897"/>
                    </a:lnTo>
                    <a:lnTo>
                      <a:pt x="7592" y="4894"/>
                    </a:lnTo>
                    <a:lnTo>
                      <a:pt x="7542" y="4891"/>
                    </a:lnTo>
                    <a:lnTo>
                      <a:pt x="7493" y="4888"/>
                    </a:lnTo>
                    <a:lnTo>
                      <a:pt x="7443" y="4885"/>
                    </a:lnTo>
                    <a:lnTo>
                      <a:pt x="7393" y="4881"/>
                    </a:lnTo>
                    <a:lnTo>
                      <a:pt x="7343" y="4878"/>
                    </a:lnTo>
                    <a:lnTo>
                      <a:pt x="7294" y="4875"/>
                    </a:lnTo>
                    <a:lnTo>
                      <a:pt x="7244" y="4872"/>
                    </a:lnTo>
                    <a:lnTo>
                      <a:pt x="7244" y="4806"/>
                    </a:lnTo>
                    <a:lnTo>
                      <a:pt x="7244" y="4740"/>
                    </a:lnTo>
                    <a:lnTo>
                      <a:pt x="7244" y="4674"/>
                    </a:lnTo>
                    <a:lnTo>
                      <a:pt x="7244" y="4608"/>
                    </a:lnTo>
                    <a:lnTo>
                      <a:pt x="7244" y="4542"/>
                    </a:lnTo>
                    <a:lnTo>
                      <a:pt x="7244" y="4476"/>
                    </a:lnTo>
                    <a:lnTo>
                      <a:pt x="7244" y="4411"/>
                    </a:lnTo>
                    <a:lnTo>
                      <a:pt x="7244" y="4344"/>
                    </a:lnTo>
                    <a:close/>
                    <a:moveTo>
                      <a:pt x="6021" y="4283"/>
                    </a:moveTo>
                    <a:lnTo>
                      <a:pt x="6071" y="4286"/>
                    </a:lnTo>
                    <a:lnTo>
                      <a:pt x="6121" y="4288"/>
                    </a:lnTo>
                    <a:lnTo>
                      <a:pt x="6171" y="4292"/>
                    </a:lnTo>
                    <a:lnTo>
                      <a:pt x="6221" y="4294"/>
                    </a:lnTo>
                    <a:lnTo>
                      <a:pt x="6271" y="4296"/>
                    </a:lnTo>
                    <a:lnTo>
                      <a:pt x="6321" y="4299"/>
                    </a:lnTo>
                    <a:lnTo>
                      <a:pt x="6371" y="4301"/>
                    </a:lnTo>
                    <a:lnTo>
                      <a:pt x="6421" y="4303"/>
                    </a:lnTo>
                    <a:lnTo>
                      <a:pt x="6470" y="4306"/>
                    </a:lnTo>
                    <a:lnTo>
                      <a:pt x="6520" y="4308"/>
                    </a:lnTo>
                    <a:lnTo>
                      <a:pt x="6570" y="4311"/>
                    </a:lnTo>
                    <a:lnTo>
                      <a:pt x="6620" y="4313"/>
                    </a:lnTo>
                    <a:lnTo>
                      <a:pt x="6670" y="4315"/>
                    </a:lnTo>
                    <a:lnTo>
                      <a:pt x="6719" y="4318"/>
                    </a:lnTo>
                    <a:lnTo>
                      <a:pt x="6769" y="4320"/>
                    </a:lnTo>
                    <a:lnTo>
                      <a:pt x="6819" y="4323"/>
                    </a:lnTo>
                    <a:lnTo>
                      <a:pt x="6819" y="4388"/>
                    </a:lnTo>
                    <a:lnTo>
                      <a:pt x="6819" y="4453"/>
                    </a:lnTo>
                    <a:lnTo>
                      <a:pt x="6819" y="4519"/>
                    </a:lnTo>
                    <a:lnTo>
                      <a:pt x="6819" y="4584"/>
                    </a:lnTo>
                    <a:lnTo>
                      <a:pt x="6819" y="4650"/>
                    </a:lnTo>
                    <a:lnTo>
                      <a:pt x="6819" y="4715"/>
                    </a:lnTo>
                    <a:lnTo>
                      <a:pt x="6819" y="4781"/>
                    </a:lnTo>
                    <a:lnTo>
                      <a:pt x="6819" y="4846"/>
                    </a:lnTo>
                    <a:lnTo>
                      <a:pt x="6769" y="4843"/>
                    </a:lnTo>
                    <a:lnTo>
                      <a:pt x="6719" y="4840"/>
                    </a:lnTo>
                    <a:lnTo>
                      <a:pt x="6670" y="4836"/>
                    </a:lnTo>
                    <a:lnTo>
                      <a:pt x="6620" y="4833"/>
                    </a:lnTo>
                    <a:lnTo>
                      <a:pt x="6570" y="4830"/>
                    </a:lnTo>
                    <a:lnTo>
                      <a:pt x="6520" y="4827"/>
                    </a:lnTo>
                    <a:lnTo>
                      <a:pt x="6470" y="4824"/>
                    </a:lnTo>
                    <a:lnTo>
                      <a:pt x="6421" y="4820"/>
                    </a:lnTo>
                    <a:lnTo>
                      <a:pt x="6371" y="4817"/>
                    </a:lnTo>
                    <a:lnTo>
                      <a:pt x="6321" y="4814"/>
                    </a:lnTo>
                    <a:lnTo>
                      <a:pt x="6271" y="4811"/>
                    </a:lnTo>
                    <a:lnTo>
                      <a:pt x="6221" y="4807"/>
                    </a:lnTo>
                    <a:lnTo>
                      <a:pt x="6171" y="4804"/>
                    </a:lnTo>
                    <a:lnTo>
                      <a:pt x="6121" y="4801"/>
                    </a:lnTo>
                    <a:lnTo>
                      <a:pt x="6071" y="4798"/>
                    </a:lnTo>
                    <a:lnTo>
                      <a:pt x="6021" y="4795"/>
                    </a:lnTo>
                    <a:lnTo>
                      <a:pt x="6021" y="4731"/>
                    </a:lnTo>
                    <a:lnTo>
                      <a:pt x="6021" y="4667"/>
                    </a:lnTo>
                    <a:lnTo>
                      <a:pt x="6021" y="4604"/>
                    </a:lnTo>
                    <a:lnTo>
                      <a:pt x="6021" y="4540"/>
                    </a:lnTo>
                    <a:lnTo>
                      <a:pt x="6021" y="4476"/>
                    </a:lnTo>
                    <a:lnTo>
                      <a:pt x="6021" y="4412"/>
                    </a:lnTo>
                    <a:lnTo>
                      <a:pt x="6021" y="4347"/>
                    </a:lnTo>
                    <a:lnTo>
                      <a:pt x="6021" y="4283"/>
                    </a:lnTo>
                    <a:close/>
                    <a:moveTo>
                      <a:pt x="4800" y="4223"/>
                    </a:moveTo>
                    <a:lnTo>
                      <a:pt x="4850" y="4226"/>
                    </a:lnTo>
                    <a:lnTo>
                      <a:pt x="4900" y="4228"/>
                    </a:lnTo>
                    <a:lnTo>
                      <a:pt x="4950" y="4230"/>
                    </a:lnTo>
                    <a:lnTo>
                      <a:pt x="5000" y="4234"/>
                    </a:lnTo>
                    <a:lnTo>
                      <a:pt x="5048" y="4236"/>
                    </a:lnTo>
                    <a:lnTo>
                      <a:pt x="5098" y="4238"/>
                    </a:lnTo>
                    <a:lnTo>
                      <a:pt x="5148" y="4241"/>
                    </a:lnTo>
                    <a:lnTo>
                      <a:pt x="5198" y="4243"/>
                    </a:lnTo>
                    <a:lnTo>
                      <a:pt x="5248" y="4245"/>
                    </a:lnTo>
                    <a:lnTo>
                      <a:pt x="5298" y="4248"/>
                    </a:lnTo>
                    <a:lnTo>
                      <a:pt x="5348" y="4250"/>
                    </a:lnTo>
                    <a:lnTo>
                      <a:pt x="5398" y="4253"/>
                    </a:lnTo>
                    <a:lnTo>
                      <a:pt x="5448" y="4255"/>
                    </a:lnTo>
                    <a:lnTo>
                      <a:pt x="5498" y="4257"/>
                    </a:lnTo>
                    <a:lnTo>
                      <a:pt x="5548" y="4260"/>
                    </a:lnTo>
                    <a:lnTo>
                      <a:pt x="5597" y="4262"/>
                    </a:lnTo>
                    <a:lnTo>
                      <a:pt x="5597" y="4325"/>
                    </a:lnTo>
                    <a:lnTo>
                      <a:pt x="5597" y="4389"/>
                    </a:lnTo>
                    <a:lnTo>
                      <a:pt x="5597" y="4452"/>
                    </a:lnTo>
                    <a:lnTo>
                      <a:pt x="5597" y="4515"/>
                    </a:lnTo>
                    <a:lnTo>
                      <a:pt x="5597" y="4579"/>
                    </a:lnTo>
                    <a:lnTo>
                      <a:pt x="5597" y="4642"/>
                    </a:lnTo>
                    <a:lnTo>
                      <a:pt x="5597" y="4706"/>
                    </a:lnTo>
                    <a:lnTo>
                      <a:pt x="5597" y="4769"/>
                    </a:lnTo>
                    <a:lnTo>
                      <a:pt x="5548" y="4766"/>
                    </a:lnTo>
                    <a:lnTo>
                      <a:pt x="5498" y="4762"/>
                    </a:lnTo>
                    <a:lnTo>
                      <a:pt x="5448" y="4759"/>
                    </a:lnTo>
                    <a:lnTo>
                      <a:pt x="5398" y="4756"/>
                    </a:lnTo>
                    <a:lnTo>
                      <a:pt x="5348" y="4753"/>
                    </a:lnTo>
                    <a:lnTo>
                      <a:pt x="5298" y="4750"/>
                    </a:lnTo>
                    <a:lnTo>
                      <a:pt x="5248" y="4747"/>
                    </a:lnTo>
                    <a:lnTo>
                      <a:pt x="5198" y="4744"/>
                    </a:lnTo>
                    <a:lnTo>
                      <a:pt x="5148" y="4741"/>
                    </a:lnTo>
                    <a:lnTo>
                      <a:pt x="5098" y="4738"/>
                    </a:lnTo>
                    <a:lnTo>
                      <a:pt x="5048" y="4735"/>
                    </a:lnTo>
                    <a:lnTo>
                      <a:pt x="5000" y="4731"/>
                    </a:lnTo>
                    <a:lnTo>
                      <a:pt x="4950" y="4728"/>
                    </a:lnTo>
                    <a:lnTo>
                      <a:pt x="4900" y="4725"/>
                    </a:lnTo>
                    <a:lnTo>
                      <a:pt x="4850" y="4722"/>
                    </a:lnTo>
                    <a:lnTo>
                      <a:pt x="4800" y="4719"/>
                    </a:lnTo>
                    <a:lnTo>
                      <a:pt x="4800" y="4657"/>
                    </a:lnTo>
                    <a:lnTo>
                      <a:pt x="4800" y="4595"/>
                    </a:lnTo>
                    <a:lnTo>
                      <a:pt x="4800" y="4533"/>
                    </a:lnTo>
                    <a:lnTo>
                      <a:pt x="4800" y="4472"/>
                    </a:lnTo>
                    <a:lnTo>
                      <a:pt x="4800" y="4410"/>
                    </a:lnTo>
                    <a:lnTo>
                      <a:pt x="4800" y="4347"/>
                    </a:lnTo>
                    <a:lnTo>
                      <a:pt x="4800" y="4285"/>
                    </a:lnTo>
                    <a:lnTo>
                      <a:pt x="4800" y="4223"/>
                    </a:lnTo>
                    <a:close/>
                    <a:moveTo>
                      <a:pt x="3578" y="4162"/>
                    </a:moveTo>
                    <a:lnTo>
                      <a:pt x="3627" y="4164"/>
                    </a:lnTo>
                    <a:lnTo>
                      <a:pt x="3677" y="4166"/>
                    </a:lnTo>
                    <a:lnTo>
                      <a:pt x="3727" y="4169"/>
                    </a:lnTo>
                    <a:lnTo>
                      <a:pt x="3777" y="4171"/>
                    </a:lnTo>
                    <a:lnTo>
                      <a:pt x="3827" y="4175"/>
                    </a:lnTo>
                    <a:lnTo>
                      <a:pt x="3877" y="4177"/>
                    </a:lnTo>
                    <a:lnTo>
                      <a:pt x="3927" y="4180"/>
                    </a:lnTo>
                    <a:lnTo>
                      <a:pt x="3977" y="4182"/>
                    </a:lnTo>
                    <a:lnTo>
                      <a:pt x="4027" y="4185"/>
                    </a:lnTo>
                    <a:lnTo>
                      <a:pt x="4077" y="4187"/>
                    </a:lnTo>
                    <a:lnTo>
                      <a:pt x="4127" y="4189"/>
                    </a:lnTo>
                    <a:lnTo>
                      <a:pt x="4175" y="4192"/>
                    </a:lnTo>
                    <a:lnTo>
                      <a:pt x="4225" y="4194"/>
                    </a:lnTo>
                    <a:lnTo>
                      <a:pt x="4275" y="4197"/>
                    </a:lnTo>
                    <a:lnTo>
                      <a:pt x="4325" y="4199"/>
                    </a:lnTo>
                    <a:lnTo>
                      <a:pt x="4375" y="4202"/>
                    </a:lnTo>
                    <a:lnTo>
                      <a:pt x="4375" y="4263"/>
                    </a:lnTo>
                    <a:lnTo>
                      <a:pt x="4375" y="4325"/>
                    </a:lnTo>
                    <a:lnTo>
                      <a:pt x="4375" y="4386"/>
                    </a:lnTo>
                    <a:lnTo>
                      <a:pt x="4375" y="4447"/>
                    </a:lnTo>
                    <a:lnTo>
                      <a:pt x="4375" y="4508"/>
                    </a:lnTo>
                    <a:lnTo>
                      <a:pt x="4375" y="4570"/>
                    </a:lnTo>
                    <a:lnTo>
                      <a:pt x="4375" y="4631"/>
                    </a:lnTo>
                    <a:lnTo>
                      <a:pt x="4375" y="4692"/>
                    </a:lnTo>
                    <a:lnTo>
                      <a:pt x="4325" y="4689"/>
                    </a:lnTo>
                    <a:lnTo>
                      <a:pt x="4275" y="4686"/>
                    </a:lnTo>
                    <a:lnTo>
                      <a:pt x="4225" y="4683"/>
                    </a:lnTo>
                    <a:lnTo>
                      <a:pt x="4175" y="4680"/>
                    </a:lnTo>
                    <a:lnTo>
                      <a:pt x="4127" y="4677"/>
                    </a:lnTo>
                    <a:lnTo>
                      <a:pt x="4077" y="4674"/>
                    </a:lnTo>
                    <a:lnTo>
                      <a:pt x="4027" y="4671"/>
                    </a:lnTo>
                    <a:lnTo>
                      <a:pt x="3977" y="4668"/>
                    </a:lnTo>
                    <a:lnTo>
                      <a:pt x="3927" y="4665"/>
                    </a:lnTo>
                    <a:lnTo>
                      <a:pt x="3877" y="4662"/>
                    </a:lnTo>
                    <a:lnTo>
                      <a:pt x="3827" y="4659"/>
                    </a:lnTo>
                    <a:lnTo>
                      <a:pt x="3777" y="4656"/>
                    </a:lnTo>
                    <a:lnTo>
                      <a:pt x="3727" y="4653"/>
                    </a:lnTo>
                    <a:lnTo>
                      <a:pt x="3677" y="4649"/>
                    </a:lnTo>
                    <a:lnTo>
                      <a:pt x="3627" y="4645"/>
                    </a:lnTo>
                    <a:lnTo>
                      <a:pt x="3578" y="4642"/>
                    </a:lnTo>
                    <a:lnTo>
                      <a:pt x="3578" y="4582"/>
                    </a:lnTo>
                    <a:lnTo>
                      <a:pt x="3578" y="4522"/>
                    </a:lnTo>
                    <a:lnTo>
                      <a:pt x="3578" y="4462"/>
                    </a:lnTo>
                    <a:lnTo>
                      <a:pt x="3578" y="4402"/>
                    </a:lnTo>
                    <a:lnTo>
                      <a:pt x="3578" y="4342"/>
                    </a:lnTo>
                    <a:lnTo>
                      <a:pt x="3578" y="4282"/>
                    </a:lnTo>
                    <a:lnTo>
                      <a:pt x="3578" y="4222"/>
                    </a:lnTo>
                    <a:lnTo>
                      <a:pt x="3578" y="4162"/>
                    </a:lnTo>
                    <a:close/>
                    <a:moveTo>
                      <a:pt x="7244" y="3347"/>
                    </a:moveTo>
                    <a:lnTo>
                      <a:pt x="7294" y="3348"/>
                    </a:lnTo>
                    <a:lnTo>
                      <a:pt x="7343" y="3349"/>
                    </a:lnTo>
                    <a:lnTo>
                      <a:pt x="7393" y="3350"/>
                    </a:lnTo>
                    <a:lnTo>
                      <a:pt x="7443" y="3351"/>
                    </a:lnTo>
                    <a:lnTo>
                      <a:pt x="7493" y="3353"/>
                    </a:lnTo>
                    <a:lnTo>
                      <a:pt x="7542" y="3354"/>
                    </a:lnTo>
                    <a:lnTo>
                      <a:pt x="7592" y="3355"/>
                    </a:lnTo>
                    <a:lnTo>
                      <a:pt x="7642" y="3356"/>
                    </a:lnTo>
                    <a:lnTo>
                      <a:pt x="7692" y="3358"/>
                    </a:lnTo>
                    <a:lnTo>
                      <a:pt x="7742" y="3359"/>
                    </a:lnTo>
                    <a:lnTo>
                      <a:pt x="7792" y="3360"/>
                    </a:lnTo>
                    <a:lnTo>
                      <a:pt x="7842" y="3361"/>
                    </a:lnTo>
                    <a:lnTo>
                      <a:pt x="7891" y="3362"/>
                    </a:lnTo>
                    <a:lnTo>
                      <a:pt x="7941" y="3364"/>
                    </a:lnTo>
                    <a:lnTo>
                      <a:pt x="7991" y="3365"/>
                    </a:lnTo>
                    <a:lnTo>
                      <a:pt x="8041" y="3366"/>
                    </a:lnTo>
                    <a:lnTo>
                      <a:pt x="8041" y="3433"/>
                    </a:lnTo>
                    <a:lnTo>
                      <a:pt x="8041" y="3501"/>
                    </a:lnTo>
                    <a:lnTo>
                      <a:pt x="8041" y="3568"/>
                    </a:lnTo>
                    <a:lnTo>
                      <a:pt x="8041" y="3635"/>
                    </a:lnTo>
                    <a:lnTo>
                      <a:pt x="8041" y="3703"/>
                    </a:lnTo>
                    <a:lnTo>
                      <a:pt x="8041" y="3771"/>
                    </a:lnTo>
                    <a:lnTo>
                      <a:pt x="8041" y="3838"/>
                    </a:lnTo>
                    <a:lnTo>
                      <a:pt x="8041" y="3905"/>
                    </a:lnTo>
                    <a:lnTo>
                      <a:pt x="7991" y="3903"/>
                    </a:lnTo>
                    <a:lnTo>
                      <a:pt x="7941" y="3901"/>
                    </a:lnTo>
                    <a:lnTo>
                      <a:pt x="7891" y="3899"/>
                    </a:lnTo>
                    <a:lnTo>
                      <a:pt x="7842" y="3897"/>
                    </a:lnTo>
                    <a:lnTo>
                      <a:pt x="7792" y="3895"/>
                    </a:lnTo>
                    <a:lnTo>
                      <a:pt x="7742" y="3893"/>
                    </a:lnTo>
                    <a:lnTo>
                      <a:pt x="7692" y="3892"/>
                    </a:lnTo>
                    <a:lnTo>
                      <a:pt x="7642" y="3890"/>
                    </a:lnTo>
                    <a:lnTo>
                      <a:pt x="7592" y="3888"/>
                    </a:lnTo>
                    <a:lnTo>
                      <a:pt x="7542" y="3886"/>
                    </a:lnTo>
                    <a:lnTo>
                      <a:pt x="7493" y="3884"/>
                    </a:lnTo>
                    <a:lnTo>
                      <a:pt x="7443" y="3882"/>
                    </a:lnTo>
                    <a:lnTo>
                      <a:pt x="7393" y="3880"/>
                    </a:lnTo>
                    <a:lnTo>
                      <a:pt x="7343" y="3878"/>
                    </a:lnTo>
                    <a:lnTo>
                      <a:pt x="7294" y="3877"/>
                    </a:lnTo>
                    <a:lnTo>
                      <a:pt x="7244" y="3874"/>
                    </a:lnTo>
                    <a:lnTo>
                      <a:pt x="7244" y="3808"/>
                    </a:lnTo>
                    <a:lnTo>
                      <a:pt x="7244" y="3742"/>
                    </a:lnTo>
                    <a:lnTo>
                      <a:pt x="7244" y="3677"/>
                    </a:lnTo>
                    <a:lnTo>
                      <a:pt x="7244" y="3611"/>
                    </a:lnTo>
                    <a:lnTo>
                      <a:pt x="7244" y="3545"/>
                    </a:lnTo>
                    <a:lnTo>
                      <a:pt x="7244" y="3479"/>
                    </a:lnTo>
                    <a:lnTo>
                      <a:pt x="7244" y="3413"/>
                    </a:lnTo>
                    <a:lnTo>
                      <a:pt x="7244" y="3347"/>
                    </a:lnTo>
                    <a:close/>
                    <a:moveTo>
                      <a:pt x="6021" y="3316"/>
                    </a:moveTo>
                    <a:lnTo>
                      <a:pt x="6071" y="3317"/>
                    </a:lnTo>
                    <a:lnTo>
                      <a:pt x="6121" y="3318"/>
                    </a:lnTo>
                    <a:lnTo>
                      <a:pt x="6171" y="3320"/>
                    </a:lnTo>
                    <a:lnTo>
                      <a:pt x="6221" y="3321"/>
                    </a:lnTo>
                    <a:lnTo>
                      <a:pt x="6271" y="3322"/>
                    </a:lnTo>
                    <a:lnTo>
                      <a:pt x="6321" y="3323"/>
                    </a:lnTo>
                    <a:lnTo>
                      <a:pt x="6371" y="3324"/>
                    </a:lnTo>
                    <a:lnTo>
                      <a:pt x="6421" y="3326"/>
                    </a:lnTo>
                    <a:lnTo>
                      <a:pt x="6470" y="3327"/>
                    </a:lnTo>
                    <a:lnTo>
                      <a:pt x="6520" y="3328"/>
                    </a:lnTo>
                    <a:lnTo>
                      <a:pt x="6570" y="3329"/>
                    </a:lnTo>
                    <a:lnTo>
                      <a:pt x="6620" y="3330"/>
                    </a:lnTo>
                    <a:lnTo>
                      <a:pt x="6670" y="3332"/>
                    </a:lnTo>
                    <a:lnTo>
                      <a:pt x="6719" y="3333"/>
                    </a:lnTo>
                    <a:lnTo>
                      <a:pt x="6769" y="3334"/>
                    </a:lnTo>
                    <a:lnTo>
                      <a:pt x="6819" y="3335"/>
                    </a:lnTo>
                    <a:lnTo>
                      <a:pt x="6819" y="3401"/>
                    </a:lnTo>
                    <a:lnTo>
                      <a:pt x="6819" y="3467"/>
                    </a:lnTo>
                    <a:lnTo>
                      <a:pt x="6819" y="3532"/>
                    </a:lnTo>
                    <a:lnTo>
                      <a:pt x="6819" y="3598"/>
                    </a:lnTo>
                    <a:lnTo>
                      <a:pt x="6819" y="3663"/>
                    </a:lnTo>
                    <a:lnTo>
                      <a:pt x="6819" y="3728"/>
                    </a:lnTo>
                    <a:lnTo>
                      <a:pt x="6819" y="3793"/>
                    </a:lnTo>
                    <a:lnTo>
                      <a:pt x="6819" y="3858"/>
                    </a:lnTo>
                    <a:lnTo>
                      <a:pt x="6769" y="3857"/>
                    </a:lnTo>
                    <a:lnTo>
                      <a:pt x="6719" y="3855"/>
                    </a:lnTo>
                    <a:lnTo>
                      <a:pt x="6670" y="3853"/>
                    </a:lnTo>
                    <a:lnTo>
                      <a:pt x="6620" y="3851"/>
                    </a:lnTo>
                    <a:lnTo>
                      <a:pt x="6570" y="3849"/>
                    </a:lnTo>
                    <a:lnTo>
                      <a:pt x="6520" y="3847"/>
                    </a:lnTo>
                    <a:lnTo>
                      <a:pt x="6470" y="3845"/>
                    </a:lnTo>
                    <a:lnTo>
                      <a:pt x="6421" y="3844"/>
                    </a:lnTo>
                    <a:lnTo>
                      <a:pt x="6371" y="3842"/>
                    </a:lnTo>
                    <a:lnTo>
                      <a:pt x="6321" y="3840"/>
                    </a:lnTo>
                    <a:lnTo>
                      <a:pt x="6271" y="3838"/>
                    </a:lnTo>
                    <a:lnTo>
                      <a:pt x="6221" y="3836"/>
                    </a:lnTo>
                    <a:lnTo>
                      <a:pt x="6171" y="3834"/>
                    </a:lnTo>
                    <a:lnTo>
                      <a:pt x="6121" y="3832"/>
                    </a:lnTo>
                    <a:lnTo>
                      <a:pt x="6071" y="3830"/>
                    </a:lnTo>
                    <a:lnTo>
                      <a:pt x="6021" y="3829"/>
                    </a:lnTo>
                    <a:lnTo>
                      <a:pt x="6021" y="3765"/>
                    </a:lnTo>
                    <a:lnTo>
                      <a:pt x="6021" y="3701"/>
                    </a:lnTo>
                    <a:lnTo>
                      <a:pt x="6021" y="3636"/>
                    </a:lnTo>
                    <a:lnTo>
                      <a:pt x="6021" y="3572"/>
                    </a:lnTo>
                    <a:lnTo>
                      <a:pt x="6021" y="3508"/>
                    </a:lnTo>
                    <a:lnTo>
                      <a:pt x="6021" y="3444"/>
                    </a:lnTo>
                    <a:lnTo>
                      <a:pt x="6021" y="3380"/>
                    </a:lnTo>
                    <a:lnTo>
                      <a:pt x="6021" y="3316"/>
                    </a:lnTo>
                    <a:close/>
                    <a:moveTo>
                      <a:pt x="4800" y="3286"/>
                    </a:moveTo>
                    <a:lnTo>
                      <a:pt x="4850" y="3288"/>
                    </a:lnTo>
                    <a:lnTo>
                      <a:pt x="4900" y="3289"/>
                    </a:lnTo>
                    <a:lnTo>
                      <a:pt x="4950" y="3290"/>
                    </a:lnTo>
                    <a:lnTo>
                      <a:pt x="5000" y="3291"/>
                    </a:lnTo>
                    <a:lnTo>
                      <a:pt x="5048" y="3292"/>
                    </a:lnTo>
                    <a:lnTo>
                      <a:pt x="5098" y="3293"/>
                    </a:lnTo>
                    <a:lnTo>
                      <a:pt x="5148" y="3295"/>
                    </a:lnTo>
                    <a:lnTo>
                      <a:pt x="5198" y="3296"/>
                    </a:lnTo>
                    <a:lnTo>
                      <a:pt x="5248" y="3297"/>
                    </a:lnTo>
                    <a:lnTo>
                      <a:pt x="5298" y="3298"/>
                    </a:lnTo>
                    <a:lnTo>
                      <a:pt x="5348" y="3300"/>
                    </a:lnTo>
                    <a:lnTo>
                      <a:pt x="5398" y="3301"/>
                    </a:lnTo>
                    <a:lnTo>
                      <a:pt x="5448" y="3302"/>
                    </a:lnTo>
                    <a:lnTo>
                      <a:pt x="5498" y="3303"/>
                    </a:lnTo>
                    <a:lnTo>
                      <a:pt x="5548" y="3304"/>
                    </a:lnTo>
                    <a:lnTo>
                      <a:pt x="5597" y="3305"/>
                    </a:lnTo>
                    <a:lnTo>
                      <a:pt x="5597" y="3369"/>
                    </a:lnTo>
                    <a:lnTo>
                      <a:pt x="5597" y="3432"/>
                    </a:lnTo>
                    <a:lnTo>
                      <a:pt x="5597" y="3496"/>
                    </a:lnTo>
                    <a:lnTo>
                      <a:pt x="5597" y="3559"/>
                    </a:lnTo>
                    <a:lnTo>
                      <a:pt x="5597" y="3622"/>
                    </a:lnTo>
                    <a:lnTo>
                      <a:pt x="5597" y="3686"/>
                    </a:lnTo>
                    <a:lnTo>
                      <a:pt x="5597" y="3749"/>
                    </a:lnTo>
                    <a:lnTo>
                      <a:pt x="5597" y="3812"/>
                    </a:lnTo>
                    <a:lnTo>
                      <a:pt x="5548" y="3810"/>
                    </a:lnTo>
                    <a:lnTo>
                      <a:pt x="5498" y="3808"/>
                    </a:lnTo>
                    <a:lnTo>
                      <a:pt x="5448" y="3806"/>
                    </a:lnTo>
                    <a:lnTo>
                      <a:pt x="5398" y="3804"/>
                    </a:lnTo>
                    <a:lnTo>
                      <a:pt x="5348" y="3803"/>
                    </a:lnTo>
                    <a:lnTo>
                      <a:pt x="5298" y="3801"/>
                    </a:lnTo>
                    <a:lnTo>
                      <a:pt x="5248" y="3799"/>
                    </a:lnTo>
                    <a:lnTo>
                      <a:pt x="5198" y="3797"/>
                    </a:lnTo>
                    <a:lnTo>
                      <a:pt x="5148" y="3795"/>
                    </a:lnTo>
                    <a:lnTo>
                      <a:pt x="5098" y="3793"/>
                    </a:lnTo>
                    <a:lnTo>
                      <a:pt x="5048" y="3792"/>
                    </a:lnTo>
                    <a:lnTo>
                      <a:pt x="5000" y="3790"/>
                    </a:lnTo>
                    <a:lnTo>
                      <a:pt x="4950" y="3788"/>
                    </a:lnTo>
                    <a:lnTo>
                      <a:pt x="4900" y="3786"/>
                    </a:lnTo>
                    <a:lnTo>
                      <a:pt x="4850" y="3784"/>
                    </a:lnTo>
                    <a:lnTo>
                      <a:pt x="4800" y="3783"/>
                    </a:lnTo>
                    <a:lnTo>
                      <a:pt x="4800" y="3721"/>
                    </a:lnTo>
                    <a:lnTo>
                      <a:pt x="4800" y="3659"/>
                    </a:lnTo>
                    <a:lnTo>
                      <a:pt x="4800" y="3597"/>
                    </a:lnTo>
                    <a:lnTo>
                      <a:pt x="4800" y="3535"/>
                    </a:lnTo>
                    <a:lnTo>
                      <a:pt x="4800" y="3472"/>
                    </a:lnTo>
                    <a:lnTo>
                      <a:pt x="4800" y="3410"/>
                    </a:lnTo>
                    <a:lnTo>
                      <a:pt x="4800" y="3348"/>
                    </a:lnTo>
                    <a:lnTo>
                      <a:pt x="4800" y="3286"/>
                    </a:lnTo>
                    <a:close/>
                    <a:moveTo>
                      <a:pt x="3578" y="3256"/>
                    </a:moveTo>
                    <a:lnTo>
                      <a:pt x="3627" y="3257"/>
                    </a:lnTo>
                    <a:lnTo>
                      <a:pt x="3677" y="3258"/>
                    </a:lnTo>
                    <a:lnTo>
                      <a:pt x="3727" y="3259"/>
                    </a:lnTo>
                    <a:lnTo>
                      <a:pt x="3777" y="3260"/>
                    </a:lnTo>
                    <a:lnTo>
                      <a:pt x="3827" y="3262"/>
                    </a:lnTo>
                    <a:lnTo>
                      <a:pt x="3877" y="3263"/>
                    </a:lnTo>
                    <a:lnTo>
                      <a:pt x="3927" y="3264"/>
                    </a:lnTo>
                    <a:lnTo>
                      <a:pt x="3977" y="3265"/>
                    </a:lnTo>
                    <a:lnTo>
                      <a:pt x="4027" y="3266"/>
                    </a:lnTo>
                    <a:lnTo>
                      <a:pt x="4077" y="3268"/>
                    </a:lnTo>
                    <a:lnTo>
                      <a:pt x="4127" y="3269"/>
                    </a:lnTo>
                    <a:lnTo>
                      <a:pt x="4175" y="3270"/>
                    </a:lnTo>
                    <a:lnTo>
                      <a:pt x="4225" y="3271"/>
                    </a:lnTo>
                    <a:lnTo>
                      <a:pt x="4275" y="3272"/>
                    </a:lnTo>
                    <a:lnTo>
                      <a:pt x="4325" y="3274"/>
                    </a:lnTo>
                    <a:lnTo>
                      <a:pt x="4375" y="3275"/>
                    </a:lnTo>
                    <a:lnTo>
                      <a:pt x="4375" y="3336"/>
                    </a:lnTo>
                    <a:lnTo>
                      <a:pt x="4375" y="3398"/>
                    </a:lnTo>
                    <a:lnTo>
                      <a:pt x="4375" y="3459"/>
                    </a:lnTo>
                    <a:lnTo>
                      <a:pt x="4375" y="3520"/>
                    </a:lnTo>
                    <a:lnTo>
                      <a:pt x="4375" y="3582"/>
                    </a:lnTo>
                    <a:lnTo>
                      <a:pt x="4375" y="3644"/>
                    </a:lnTo>
                    <a:lnTo>
                      <a:pt x="4375" y="3705"/>
                    </a:lnTo>
                    <a:lnTo>
                      <a:pt x="4375" y="3766"/>
                    </a:lnTo>
                    <a:lnTo>
                      <a:pt x="4325" y="3764"/>
                    </a:lnTo>
                    <a:lnTo>
                      <a:pt x="4275" y="3762"/>
                    </a:lnTo>
                    <a:lnTo>
                      <a:pt x="4225" y="3761"/>
                    </a:lnTo>
                    <a:lnTo>
                      <a:pt x="4175" y="3759"/>
                    </a:lnTo>
                    <a:lnTo>
                      <a:pt x="4127" y="3756"/>
                    </a:lnTo>
                    <a:lnTo>
                      <a:pt x="4077" y="3754"/>
                    </a:lnTo>
                    <a:lnTo>
                      <a:pt x="4027" y="3752"/>
                    </a:lnTo>
                    <a:lnTo>
                      <a:pt x="3977" y="3751"/>
                    </a:lnTo>
                    <a:lnTo>
                      <a:pt x="3927" y="3749"/>
                    </a:lnTo>
                    <a:lnTo>
                      <a:pt x="3877" y="3747"/>
                    </a:lnTo>
                    <a:lnTo>
                      <a:pt x="3827" y="3745"/>
                    </a:lnTo>
                    <a:lnTo>
                      <a:pt x="3777" y="3743"/>
                    </a:lnTo>
                    <a:lnTo>
                      <a:pt x="3727" y="3741"/>
                    </a:lnTo>
                    <a:lnTo>
                      <a:pt x="3677" y="3739"/>
                    </a:lnTo>
                    <a:lnTo>
                      <a:pt x="3627" y="3737"/>
                    </a:lnTo>
                    <a:lnTo>
                      <a:pt x="3578" y="3735"/>
                    </a:lnTo>
                    <a:lnTo>
                      <a:pt x="3578" y="3675"/>
                    </a:lnTo>
                    <a:lnTo>
                      <a:pt x="3578" y="3615"/>
                    </a:lnTo>
                    <a:lnTo>
                      <a:pt x="3578" y="3556"/>
                    </a:lnTo>
                    <a:lnTo>
                      <a:pt x="3578" y="3495"/>
                    </a:lnTo>
                    <a:lnTo>
                      <a:pt x="3578" y="3435"/>
                    </a:lnTo>
                    <a:lnTo>
                      <a:pt x="3578" y="3376"/>
                    </a:lnTo>
                    <a:lnTo>
                      <a:pt x="3578" y="3316"/>
                    </a:lnTo>
                    <a:lnTo>
                      <a:pt x="3578" y="3256"/>
                    </a:lnTo>
                    <a:close/>
                    <a:moveTo>
                      <a:pt x="7244" y="2348"/>
                    </a:moveTo>
                    <a:lnTo>
                      <a:pt x="7294" y="2348"/>
                    </a:lnTo>
                    <a:lnTo>
                      <a:pt x="7343" y="2348"/>
                    </a:lnTo>
                    <a:lnTo>
                      <a:pt x="7393" y="2348"/>
                    </a:lnTo>
                    <a:lnTo>
                      <a:pt x="7443" y="2348"/>
                    </a:lnTo>
                    <a:lnTo>
                      <a:pt x="7493" y="2348"/>
                    </a:lnTo>
                    <a:lnTo>
                      <a:pt x="7542" y="2348"/>
                    </a:lnTo>
                    <a:lnTo>
                      <a:pt x="7592" y="2348"/>
                    </a:lnTo>
                    <a:lnTo>
                      <a:pt x="7642" y="2348"/>
                    </a:lnTo>
                    <a:lnTo>
                      <a:pt x="7692" y="2348"/>
                    </a:lnTo>
                    <a:lnTo>
                      <a:pt x="7742" y="2348"/>
                    </a:lnTo>
                    <a:lnTo>
                      <a:pt x="7792" y="2348"/>
                    </a:lnTo>
                    <a:lnTo>
                      <a:pt x="7842" y="2348"/>
                    </a:lnTo>
                    <a:lnTo>
                      <a:pt x="7891" y="2348"/>
                    </a:lnTo>
                    <a:lnTo>
                      <a:pt x="7941" y="2348"/>
                    </a:lnTo>
                    <a:lnTo>
                      <a:pt x="7991" y="2348"/>
                    </a:lnTo>
                    <a:lnTo>
                      <a:pt x="8041" y="2348"/>
                    </a:lnTo>
                    <a:lnTo>
                      <a:pt x="8041" y="2415"/>
                    </a:lnTo>
                    <a:lnTo>
                      <a:pt x="8041" y="2483"/>
                    </a:lnTo>
                    <a:lnTo>
                      <a:pt x="8041" y="2551"/>
                    </a:lnTo>
                    <a:lnTo>
                      <a:pt x="8041" y="2618"/>
                    </a:lnTo>
                    <a:lnTo>
                      <a:pt x="8041" y="2685"/>
                    </a:lnTo>
                    <a:lnTo>
                      <a:pt x="8041" y="2753"/>
                    </a:lnTo>
                    <a:lnTo>
                      <a:pt x="8041" y="2820"/>
                    </a:lnTo>
                    <a:lnTo>
                      <a:pt x="8041" y="2887"/>
                    </a:lnTo>
                    <a:lnTo>
                      <a:pt x="7991" y="2887"/>
                    </a:lnTo>
                    <a:lnTo>
                      <a:pt x="7941" y="2886"/>
                    </a:lnTo>
                    <a:lnTo>
                      <a:pt x="7891" y="2885"/>
                    </a:lnTo>
                    <a:lnTo>
                      <a:pt x="7842" y="2885"/>
                    </a:lnTo>
                    <a:lnTo>
                      <a:pt x="7792" y="2884"/>
                    </a:lnTo>
                    <a:lnTo>
                      <a:pt x="7742" y="2884"/>
                    </a:lnTo>
                    <a:lnTo>
                      <a:pt x="7692" y="2883"/>
                    </a:lnTo>
                    <a:lnTo>
                      <a:pt x="7642" y="2882"/>
                    </a:lnTo>
                    <a:lnTo>
                      <a:pt x="7592" y="2882"/>
                    </a:lnTo>
                    <a:lnTo>
                      <a:pt x="7542" y="2881"/>
                    </a:lnTo>
                    <a:lnTo>
                      <a:pt x="7493" y="2880"/>
                    </a:lnTo>
                    <a:lnTo>
                      <a:pt x="7443" y="2880"/>
                    </a:lnTo>
                    <a:lnTo>
                      <a:pt x="7393" y="2879"/>
                    </a:lnTo>
                    <a:lnTo>
                      <a:pt x="7343" y="2879"/>
                    </a:lnTo>
                    <a:lnTo>
                      <a:pt x="7294" y="2878"/>
                    </a:lnTo>
                    <a:lnTo>
                      <a:pt x="7244" y="2878"/>
                    </a:lnTo>
                    <a:lnTo>
                      <a:pt x="7244" y="2812"/>
                    </a:lnTo>
                    <a:lnTo>
                      <a:pt x="7244" y="2745"/>
                    </a:lnTo>
                    <a:lnTo>
                      <a:pt x="7244" y="2679"/>
                    </a:lnTo>
                    <a:lnTo>
                      <a:pt x="7244" y="2613"/>
                    </a:lnTo>
                    <a:lnTo>
                      <a:pt x="7244" y="2547"/>
                    </a:lnTo>
                    <a:lnTo>
                      <a:pt x="7244" y="2480"/>
                    </a:lnTo>
                    <a:lnTo>
                      <a:pt x="7244" y="2414"/>
                    </a:lnTo>
                    <a:lnTo>
                      <a:pt x="7244" y="2348"/>
                    </a:lnTo>
                    <a:close/>
                    <a:moveTo>
                      <a:pt x="6021" y="2348"/>
                    </a:moveTo>
                    <a:lnTo>
                      <a:pt x="6071" y="2348"/>
                    </a:lnTo>
                    <a:lnTo>
                      <a:pt x="6121" y="2348"/>
                    </a:lnTo>
                    <a:lnTo>
                      <a:pt x="6171" y="2348"/>
                    </a:lnTo>
                    <a:lnTo>
                      <a:pt x="6221" y="2348"/>
                    </a:lnTo>
                    <a:lnTo>
                      <a:pt x="6271" y="2348"/>
                    </a:lnTo>
                    <a:lnTo>
                      <a:pt x="6321" y="2348"/>
                    </a:lnTo>
                    <a:lnTo>
                      <a:pt x="6371" y="2348"/>
                    </a:lnTo>
                    <a:lnTo>
                      <a:pt x="6421" y="2348"/>
                    </a:lnTo>
                    <a:lnTo>
                      <a:pt x="6470" y="2348"/>
                    </a:lnTo>
                    <a:lnTo>
                      <a:pt x="6520" y="2348"/>
                    </a:lnTo>
                    <a:lnTo>
                      <a:pt x="6570" y="2348"/>
                    </a:lnTo>
                    <a:lnTo>
                      <a:pt x="6620" y="2348"/>
                    </a:lnTo>
                    <a:lnTo>
                      <a:pt x="6670" y="2348"/>
                    </a:lnTo>
                    <a:lnTo>
                      <a:pt x="6719" y="2348"/>
                    </a:lnTo>
                    <a:lnTo>
                      <a:pt x="6769" y="2348"/>
                    </a:lnTo>
                    <a:lnTo>
                      <a:pt x="6819" y="2348"/>
                    </a:lnTo>
                    <a:lnTo>
                      <a:pt x="6819" y="2413"/>
                    </a:lnTo>
                    <a:lnTo>
                      <a:pt x="6819" y="2479"/>
                    </a:lnTo>
                    <a:lnTo>
                      <a:pt x="6819" y="2545"/>
                    </a:lnTo>
                    <a:lnTo>
                      <a:pt x="6819" y="2610"/>
                    </a:lnTo>
                    <a:lnTo>
                      <a:pt x="6819" y="2675"/>
                    </a:lnTo>
                    <a:lnTo>
                      <a:pt x="6819" y="2741"/>
                    </a:lnTo>
                    <a:lnTo>
                      <a:pt x="6819" y="2806"/>
                    </a:lnTo>
                    <a:lnTo>
                      <a:pt x="6819" y="2872"/>
                    </a:lnTo>
                    <a:lnTo>
                      <a:pt x="6769" y="2871"/>
                    </a:lnTo>
                    <a:lnTo>
                      <a:pt x="6719" y="2871"/>
                    </a:lnTo>
                    <a:lnTo>
                      <a:pt x="6670" y="2869"/>
                    </a:lnTo>
                    <a:lnTo>
                      <a:pt x="6620" y="2868"/>
                    </a:lnTo>
                    <a:lnTo>
                      <a:pt x="6570" y="2868"/>
                    </a:lnTo>
                    <a:lnTo>
                      <a:pt x="6520" y="2867"/>
                    </a:lnTo>
                    <a:lnTo>
                      <a:pt x="6470" y="2866"/>
                    </a:lnTo>
                    <a:lnTo>
                      <a:pt x="6421" y="2866"/>
                    </a:lnTo>
                    <a:lnTo>
                      <a:pt x="6371" y="2865"/>
                    </a:lnTo>
                    <a:lnTo>
                      <a:pt x="6321" y="2864"/>
                    </a:lnTo>
                    <a:lnTo>
                      <a:pt x="6271" y="2864"/>
                    </a:lnTo>
                    <a:lnTo>
                      <a:pt x="6221" y="2863"/>
                    </a:lnTo>
                    <a:lnTo>
                      <a:pt x="6171" y="2862"/>
                    </a:lnTo>
                    <a:lnTo>
                      <a:pt x="6121" y="2862"/>
                    </a:lnTo>
                    <a:lnTo>
                      <a:pt x="6071" y="2861"/>
                    </a:lnTo>
                    <a:lnTo>
                      <a:pt x="6021" y="2860"/>
                    </a:lnTo>
                    <a:lnTo>
                      <a:pt x="6021" y="2797"/>
                    </a:lnTo>
                    <a:lnTo>
                      <a:pt x="6021" y="2733"/>
                    </a:lnTo>
                    <a:lnTo>
                      <a:pt x="6021" y="2669"/>
                    </a:lnTo>
                    <a:lnTo>
                      <a:pt x="6021" y="2605"/>
                    </a:lnTo>
                    <a:lnTo>
                      <a:pt x="6021" y="2541"/>
                    </a:lnTo>
                    <a:lnTo>
                      <a:pt x="6021" y="2477"/>
                    </a:lnTo>
                    <a:lnTo>
                      <a:pt x="6021" y="2412"/>
                    </a:lnTo>
                    <a:lnTo>
                      <a:pt x="6021" y="2348"/>
                    </a:lnTo>
                    <a:close/>
                    <a:moveTo>
                      <a:pt x="4800" y="2348"/>
                    </a:moveTo>
                    <a:lnTo>
                      <a:pt x="4850" y="2348"/>
                    </a:lnTo>
                    <a:lnTo>
                      <a:pt x="4900" y="2348"/>
                    </a:lnTo>
                    <a:lnTo>
                      <a:pt x="4950" y="2348"/>
                    </a:lnTo>
                    <a:lnTo>
                      <a:pt x="5000" y="2348"/>
                    </a:lnTo>
                    <a:lnTo>
                      <a:pt x="5048" y="2348"/>
                    </a:lnTo>
                    <a:lnTo>
                      <a:pt x="5098" y="2348"/>
                    </a:lnTo>
                    <a:lnTo>
                      <a:pt x="5148" y="2348"/>
                    </a:lnTo>
                    <a:lnTo>
                      <a:pt x="5198" y="2348"/>
                    </a:lnTo>
                    <a:lnTo>
                      <a:pt x="5248" y="2348"/>
                    </a:lnTo>
                    <a:lnTo>
                      <a:pt x="5298" y="2348"/>
                    </a:lnTo>
                    <a:lnTo>
                      <a:pt x="5348" y="2348"/>
                    </a:lnTo>
                    <a:lnTo>
                      <a:pt x="5398" y="2348"/>
                    </a:lnTo>
                    <a:lnTo>
                      <a:pt x="5448" y="2348"/>
                    </a:lnTo>
                    <a:lnTo>
                      <a:pt x="5498" y="2348"/>
                    </a:lnTo>
                    <a:lnTo>
                      <a:pt x="5548" y="2348"/>
                    </a:lnTo>
                    <a:lnTo>
                      <a:pt x="5597" y="2348"/>
                    </a:lnTo>
                    <a:lnTo>
                      <a:pt x="5597" y="2411"/>
                    </a:lnTo>
                    <a:lnTo>
                      <a:pt x="5597" y="2475"/>
                    </a:lnTo>
                    <a:lnTo>
                      <a:pt x="5597" y="2539"/>
                    </a:lnTo>
                    <a:lnTo>
                      <a:pt x="5597" y="2602"/>
                    </a:lnTo>
                    <a:lnTo>
                      <a:pt x="5597" y="2665"/>
                    </a:lnTo>
                    <a:lnTo>
                      <a:pt x="5597" y="2729"/>
                    </a:lnTo>
                    <a:lnTo>
                      <a:pt x="5597" y="2792"/>
                    </a:lnTo>
                    <a:lnTo>
                      <a:pt x="5597" y="2856"/>
                    </a:lnTo>
                    <a:lnTo>
                      <a:pt x="5548" y="2855"/>
                    </a:lnTo>
                    <a:lnTo>
                      <a:pt x="5498" y="2854"/>
                    </a:lnTo>
                    <a:lnTo>
                      <a:pt x="5448" y="2854"/>
                    </a:lnTo>
                    <a:lnTo>
                      <a:pt x="5398" y="2853"/>
                    </a:lnTo>
                    <a:lnTo>
                      <a:pt x="5348" y="2852"/>
                    </a:lnTo>
                    <a:lnTo>
                      <a:pt x="5298" y="2852"/>
                    </a:lnTo>
                    <a:lnTo>
                      <a:pt x="5248" y="2851"/>
                    </a:lnTo>
                    <a:lnTo>
                      <a:pt x="5198" y="2850"/>
                    </a:lnTo>
                    <a:lnTo>
                      <a:pt x="5148" y="2850"/>
                    </a:lnTo>
                    <a:lnTo>
                      <a:pt x="5098" y="2849"/>
                    </a:lnTo>
                    <a:lnTo>
                      <a:pt x="5048" y="2848"/>
                    </a:lnTo>
                    <a:lnTo>
                      <a:pt x="5000" y="2848"/>
                    </a:lnTo>
                    <a:lnTo>
                      <a:pt x="4950" y="2847"/>
                    </a:lnTo>
                    <a:lnTo>
                      <a:pt x="4900" y="2846"/>
                    </a:lnTo>
                    <a:lnTo>
                      <a:pt x="4850" y="2846"/>
                    </a:lnTo>
                    <a:lnTo>
                      <a:pt x="4800" y="2845"/>
                    </a:lnTo>
                    <a:lnTo>
                      <a:pt x="4800" y="2783"/>
                    </a:lnTo>
                    <a:lnTo>
                      <a:pt x="4800" y="2721"/>
                    </a:lnTo>
                    <a:lnTo>
                      <a:pt x="4800" y="2659"/>
                    </a:lnTo>
                    <a:lnTo>
                      <a:pt x="4800" y="2597"/>
                    </a:lnTo>
                    <a:lnTo>
                      <a:pt x="4800" y="2535"/>
                    </a:lnTo>
                    <a:lnTo>
                      <a:pt x="4800" y="2472"/>
                    </a:lnTo>
                    <a:lnTo>
                      <a:pt x="4800" y="2410"/>
                    </a:lnTo>
                    <a:lnTo>
                      <a:pt x="4800" y="23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8dbe"/>
                  </a:gs>
                  <a:gs pos="100000">
                    <a:srgbClr val="004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35"/>
              <p:cNvSpPr/>
              <p:nvPr/>
            </p:nvSpPr>
            <p:spPr>
              <a:xfrm>
                <a:off x="399960" y="1062000"/>
                <a:ext cx="596880" cy="685440"/>
              </a:xfrm>
              <a:custGeom>
                <a:avLst/>
                <a:gdLst/>
                <a:ahLst/>
                <a:rect l="l" t="t" r="r" b="b"/>
                <a:pathLst>
                  <a:path w="11080" h="15297">
                    <a:moveTo>
                      <a:pt x="8116" y="2140"/>
                    </a:moveTo>
                    <a:lnTo>
                      <a:pt x="8779" y="2110"/>
                    </a:lnTo>
                    <a:lnTo>
                      <a:pt x="8780" y="2625"/>
                    </a:lnTo>
                    <a:lnTo>
                      <a:pt x="8696" y="2631"/>
                    </a:lnTo>
                    <a:lnTo>
                      <a:pt x="8614" y="2637"/>
                    </a:lnTo>
                    <a:lnTo>
                      <a:pt x="8530" y="2642"/>
                    </a:lnTo>
                    <a:lnTo>
                      <a:pt x="8448" y="2648"/>
                    </a:lnTo>
                    <a:lnTo>
                      <a:pt x="8364" y="2654"/>
                    </a:lnTo>
                    <a:lnTo>
                      <a:pt x="8282" y="2659"/>
                    </a:lnTo>
                    <a:lnTo>
                      <a:pt x="8199" y="2666"/>
                    </a:lnTo>
                    <a:lnTo>
                      <a:pt x="8116" y="2672"/>
                    </a:lnTo>
                    <a:lnTo>
                      <a:pt x="8116" y="2140"/>
                    </a:lnTo>
                    <a:close/>
                    <a:moveTo>
                      <a:pt x="2135" y="1496"/>
                    </a:moveTo>
                    <a:lnTo>
                      <a:pt x="2135" y="8720"/>
                    </a:lnTo>
                    <a:lnTo>
                      <a:pt x="2135" y="8730"/>
                    </a:lnTo>
                    <a:lnTo>
                      <a:pt x="2133" y="8741"/>
                    </a:lnTo>
                    <a:lnTo>
                      <a:pt x="2131" y="8750"/>
                    </a:lnTo>
                    <a:lnTo>
                      <a:pt x="2127" y="8761"/>
                    </a:lnTo>
                    <a:lnTo>
                      <a:pt x="2123" y="8770"/>
                    </a:lnTo>
                    <a:lnTo>
                      <a:pt x="2118" y="8778"/>
                    </a:lnTo>
                    <a:lnTo>
                      <a:pt x="2112" y="8786"/>
                    </a:lnTo>
                    <a:lnTo>
                      <a:pt x="2104" y="8793"/>
                    </a:lnTo>
                    <a:lnTo>
                      <a:pt x="2097" y="8800"/>
                    </a:lnTo>
                    <a:lnTo>
                      <a:pt x="2089" y="8806"/>
                    </a:lnTo>
                    <a:lnTo>
                      <a:pt x="2080" y="8811"/>
                    </a:lnTo>
                    <a:lnTo>
                      <a:pt x="2072" y="8815"/>
                    </a:lnTo>
                    <a:lnTo>
                      <a:pt x="2062" y="8820"/>
                    </a:lnTo>
                    <a:lnTo>
                      <a:pt x="2052" y="8822"/>
                    </a:lnTo>
                    <a:lnTo>
                      <a:pt x="2041" y="8824"/>
                    </a:lnTo>
                    <a:lnTo>
                      <a:pt x="2031" y="8825"/>
                    </a:lnTo>
                    <a:lnTo>
                      <a:pt x="2016" y="8824"/>
                    </a:lnTo>
                    <a:lnTo>
                      <a:pt x="2003" y="8821"/>
                    </a:lnTo>
                    <a:lnTo>
                      <a:pt x="0" y="8393"/>
                    </a:lnTo>
                    <a:lnTo>
                      <a:pt x="60" y="12888"/>
                    </a:lnTo>
                    <a:lnTo>
                      <a:pt x="163" y="12916"/>
                    </a:lnTo>
                    <a:lnTo>
                      <a:pt x="163" y="12251"/>
                    </a:lnTo>
                    <a:lnTo>
                      <a:pt x="164" y="12239"/>
                    </a:lnTo>
                    <a:lnTo>
                      <a:pt x="165" y="12229"/>
                    </a:lnTo>
                    <a:lnTo>
                      <a:pt x="168" y="12219"/>
                    </a:lnTo>
                    <a:lnTo>
                      <a:pt x="171" y="12210"/>
                    </a:lnTo>
                    <a:lnTo>
                      <a:pt x="176" y="12201"/>
                    </a:lnTo>
                    <a:lnTo>
                      <a:pt x="181" y="12193"/>
                    </a:lnTo>
                    <a:lnTo>
                      <a:pt x="187" y="12184"/>
                    </a:lnTo>
                    <a:lnTo>
                      <a:pt x="194" y="12176"/>
                    </a:lnTo>
                    <a:lnTo>
                      <a:pt x="202" y="12170"/>
                    </a:lnTo>
                    <a:lnTo>
                      <a:pt x="210" y="12164"/>
                    </a:lnTo>
                    <a:lnTo>
                      <a:pt x="218" y="12159"/>
                    </a:lnTo>
                    <a:lnTo>
                      <a:pt x="227" y="12154"/>
                    </a:lnTo>
                    <a:lnTo>
                      <a:pt x="236" y="12151"/>
                    </a:lnTo>
                    <a:lnTo>
                      <a:pt x="246" y="12148"/>
                    </a:lnTo>
                    <a:lnTo>
                      <a:pt x="257" y="12147"/>
                    </a:lnTo>
                    <a:lnTo>
                      <a:pt x="268" y="12146"/>
                    </a:lnTo>
                    <a:lnTo>
                      <a:pt x="277" y="12147"/>
                    </a:lnTo>
                    <a:lnTo>
                      <a:pt x="285" y="12148"/>
                    </a:lnTo>
                    <a:lnTo>
                      <a:pt x="293" y="12149"/>
                    </a:lnTo>
                    <a:lnTo>
                      <a:pt x="301" y="12152"/>
                    </a:lnTo>
                    <a:lnTo>
                      <a:pt x="965" y="12326"/>
                    </a:lnTo>
                    <a:lnTo>
                      <a:pt x="974" y="12328"/>
                    </a:lnTo>
                    <a:lnTo>
                      <a:pt x="982" y="12332"/>
                    </a:lnTo>
                    <a:lnTo>
                      <a:pt x="990" y="12336"/>
                    </a:lnTo>
                    <a:lnTo>
                      <a:pt x="997" y="12340"/>
                    </a:lnTo>
                    <a:lnTo>
                      <a:pt x="1004" y="12345"/>
                    </a:lnTo>
                    <a:lnTo>
                      <a:pt x="1010" y="12351"/>
                    </a:lnTo>
                    <a:lnTo>
                      <a:pt x="1017" y="12357"/>
                    </a:lnTo>
                    <a:lnTo>
                      <a:pt x="1022" y="12364"/>
                    </a:lnTo>
                    <a:lnTo>
                      <a:pt x="1027" y="12371"/>
                    </a:lnTo>
                    <a:lnTo>
                      <a:pt x="1031" y="12379"/>
                    </a:lnTo>
                    <a:lnTo>
                      <a:pt x="1035" y="12386"/>
                    </a:lnTo>
                    <a:lnTo>
                      <a:pt x="1038" y="12394"/>
                    </a:lnTo>
                    <a:lnTo>
                      <a:pt x="1040" y="12402"/>
                    </a:lnTo>
                    <a:lnTo>
                      <a:pt x="1042" y="12411"/>
                    </a:lnTo>
                    <a:lnTo>
                      <a:pt x="1043" y="12419"/>
                    </a:lnTo>
                    <a:lnTo>
                      <a:pt x="1043" y="12429"/>
                    </a:lnTo>
                    <a:lnTo>
                      <a:pt x="1043" y="13189"/>
                    </a:lnTo>
                    <a:lnTo>
                      <a:pt x="2209" y="13567"/>
                    </a:lnTo>
                    <a:lnTo>
                      <a:pt x="2209" y="12834"/>
                    </a:lnTo>
                    <a:lnTo>
                      <a:pt x="2210" y="12823"/>
                    </a:lnTo>
                    <a:lnTo>
                      <a:pt x="2211" y="12813"/>
                    </a:lnTo>
                    <a:lnTo>
                      <a:pt x="2215" y="12803"/>
                    </a:lnTo>
                    <a:lnTo>
                      <a:pt x="2218" y="12794"/>
                    </a:lnTo>
                    <a:lnTo>
                      <a:pt x="2223" y="12785"/>
                    </a:lnTo>
                    <a:lnTo>
                      <a:pt x="2228" y="12775"/>
                    </a:lnTo>
                    <a:lnTo>
                      <a:pt x="2234" y="12767"/>
                    </a:lnTo>
                    <a:lnTo>
                      <a:pt x="2240" y="12760"/>
                    </a:lnTo>
                    <a:lnTo>
                      <a:pt x="2247" y="12753"/>
                    </a:lnTo>
                    <a:lnTo>
                      <a:pt x="2255" y="12748"/>
                    </a:lnTo>
                    <a:lnTo>
                      <a:pt x="2264" y="12742"/>
                    </a:lnTo>
                    <a:lnTo>
                      <a:pt x="2274" y="12738"/>
                    </a:lnTo>
                    <a:lnTo>
                      <a:pt x="2283" y="12735"/>
                    </a:lnTo>
                    <a:lnTo>
                      <a:pt x="2293" y="12732"/>
                    </a:lnTo>
                    <a:lnTo>
                      <a:pt x="2303" y="12731"/>
                    </a:lnTo>
                    <a:lnTo>
                      <a:pt x="2314" y="12730"/>
                    </a:lnTo>
                    <a:lnTo>
                      <a:pt x="2325" y="12731"/>
                    </a:lnTo>
                    <a:lnTo>
                      <a:pt x="2335" y="12732"/>
                    </a:lnTo>
                    <a:lnTo>
                      <a:pt x="2344" y="12734"/>
                    </a:lnTo>
                    <a:lnTo>
                      <a:pt x="2353" y="12738"/>
                    </a:lnTo>
                    <a:lnTo>
                      <a:pt x="3147" y="12979"/>
                    </a:lnTo>
                    <a:lnTo>
                      <a:pt x="3155" y="12982"/>
                    </a:lnTo>
                    <a:lnTo>
                      <a:pt x="3163" y="12986"/>
                    </a:lnTo>
                    <a:lnTo>
                      <a:pt x="3170" y="12990"/>
                    </a:lnTo>
                    <a:lnTo>
                      <a:pt x="3177" y="12994"/>
                    </a:lnTo>
                    <a:lnTo>
                      <a:pt x="3184" y="13000"/>
                    </a:lnTo>
                    <a:lnTo>
                      <a:pt x="3190" y="13005"/>
                    </a:lnTo>
                    <a:lnTo>
                      <a:pt x="3196" y="13011"/>
                    </a:lnTo>
                    <a:lnTo>
                      <a:pt x="3202" y="13019"/>
                    </a:lnTo>
                    <a:lnTo>
                      <a:pt x="3206" y="13026"/>
                    </a:lnTo>
                    <a:lnTo>
                      <a:pt x="3210" y="13033"/>
                    </a:lnTo>
                    <a:lnTo>
                      <a:pt x="3213" y="13040"/>
                    </a:lnTo>
                    <a:lnTo>
                      <a:pt x="3216" y="13048"/>
                    </a:lnTo>
                    <a:lnTo>
                      <a:pt x="3218" y="13056"/>
                    </a:lnTo>
                    <a:lnTo>
                      <a:pt x="3220" y="13064"/>
                    </a:lnTo>
                    <a:lnTo>
                      <a:pt x="3220" y="13073"/>
                    </a:lnTo>
                    <a:lnTo>
                      <a:pt x="3221" y="13082"/>
                    </a:lnTo>
                    <a:lnTo>
                      <a:pt x="3221" y="13895"/>
                    </a:lnTo>
                    <a:lnTo>
                      <a:pt x="3330" y="13929"/>
                    </a:lnTo>
                    <a:lnTo>
                      <a:pt x="3330" y="13162"/>
                    </a:lnTo>
                    <a:lnTo>
                      <a:pt x="3330" y="13151"/>
                    </a:lnTo>
                    <a:lnTo>
                      <a:pt x="3332" y="13141"/>
                    </a:lnTo>
                    <a:lnTo>
                      <a:pt x="3334" y="13130"/>
                    </a:lnTo>
                    <a:lnTo>
                      <a:pt x="3338" y="13121"/>
                    </a:lnTo>
                    <a:lnTo>
                      <a:pt x="3342" y="13112"/>
                    </a:lnTo>
                    <a:lnTo>
                      <a:pt x="3347" y="13104"/>
                    </a:lnTo>
                    <a:lnTo>
                      <a:pt x="3353" y="13096"/>
                    </a:lnTo>
                    <a:lnTo>
                      <a:pt x="3360" y="13088"/>
                    </a:lnTo>
                    <a:lnTo>
                      <a:pt x="3368" y="13082"/>
                    </a:lnTo>
                    <a:lnTo>
                      <a:pt x="3376" y="13075"/>
                    </a:lnTo>
                    <a:lnTo>
                      <a:pt x="3384" y="13070"/>
                    </a:lnTo>
                    <a:lnTo>
                      <a:pt x="3393" y="13065"/>
                    </a:lnTo>
                    <a:lnTo>
                      <a:pt x="3403" y="13062"/>
                    </a:lnTo>
                    <a:lnTo>
                      <a:pt x="3412" y="13059"/>
                    </a:lnTo>
                    <a:lnTo>
                      <a:pt x="3424" y="13058"/>
                    </a:lnTo>
                    <a:lnTo>
                      <a:pt x="3434" y="13057"/>
                    </a:lnTo>
                    <a:lnTo>
                      <a:pt x="3444" y="13058"/>
                    </a:lnTo>
                    <a:lnTo>
                      <a:pt x="3454" y="13059"/>
                    </a:lnTo>
                    <a:lnTo>
                      <a:pt x="3463" y="13061"/>
                    </a:lnTo>
                    <a:lnTo>
                      <a:pt x="3473" y="13064"/>
                    </a:lnTo>
                    <a:lnTo>
                      <a:pt x="4163" y="13276"/>
                    </a:lnTo>
                    <a:lnTo>
                      <a:pt x="4171" y="13279"/>
                    </a:lnTo>
                    <a:lnTo>
                      <a:pt x="4179" y="13282"/>
                    </a:lnTo>
                    <a:lnTo>
                      <a:pt x="4187" y="13286"/>
                    </a:lnTo>
                    <a:lnTo>
                      <a:pt x="4194" y="13291"/>
                    </a:lnTo>
                    <a:lnTo>
                      <a:pt x="4201" y="13296"/>
                    </a:lnTo>
                    <a:lnTo>
                      <a:pt x="4207" y="13302"/>
                    </a:lnTo>
                    <a:lnTo>
                      <a:pt x="4212" y="13308"/>
                    </a:lnTo>
                    <a:lnTo>
                      <a:pt x="4217" y="13316"/>
                    </a:lnTo>
                    <a:lnTo>
                      <a:pt x="4222" y="13322"/>
                    </a:lnTo>
                    <a:lnTo>
                      <a:pt x="4226" y="13330"/>
                    </a:lnTo>
                    <a:lnTo>
                      <a:pt x="4229" y="13337"/>
                    </a:lnTo>
                    <a:lnTo>
                      <a:pt x="4232" y="13345"/>
                    </a:lnTo>
                    <a:lnTo>
                      <a:pt x="4234" y="13353"/>
                    </a:lnTo>
                    <a:lnTo>
                      <a:pt x="4236" y="13361"/>
                    </a:lnTo>
                    <a:lnTo>
                      <a:pt x="4237" y="13369"/>
                    </a:lnTo>
                    <a:lnTo>
                      <a:pt x="4237" y="13379"/>
                    </a:lnTo>
                    <a:lnTo>
                      <a:pt x="4237" y="14214"/>
                    </a:lnTo>
                    <a:lnTo>
                      <a:pt x="4338" y="14247"/>
                    </a:lnTo>
                    <a:lnTo>
                      <a:pt x="4338" y="13472"/>
                    </a:lnTo>
                    <a:lnTo>
                      <a:pt x="4339" y="13462"/>
                    </a:lnTo>
                    <a:lnTo>
                      <a:pt x="4340" y="13451"/>
                    </a:lnTo>
                    <a:lnTo>
                      <a:pt x="4343" y="13441"/>
                    </a:lnTo>
                    <a:lnTo>
                      <a:pt x="4347" y="13431"/>
                    </a:lnTo>
                    <a:lnTo>
                      <a:pt x="4352" y="13422"/>
                    </a:lnTo>
                    <a:lnTo>
                      <a:pt x="4357" y="13414"/>
                    </a:lnTo>
                    <a:lnTo>
                      <a:pt x="4363" y="13406"/>
                    </a:lnTo>
                    <a:lnTo>
                      <a:pt x="4369" y="13398"/>
                    </a:lnTo>
                    <a:lnTo>
                      <a:pt x="4377" y="13392"/>
                    </a:lnTo>
                    <a:lnTo>
                      <a:pt x="4385" y="13386"/>
                    </a:lnTo>
                    <a:lnTo>
                      <a:pt x="4393" y="13381"/>
                    </a:lnTo>
                    <a:lnTo>
                      <a:pt x="4403" y="13376"/>
                    </a:lnTo>
                    <a:lnTo>
                      <a:pt x="4412" y="13372"/>
                    </a:lnTo>
                    <a:lnTo>
                      <a:pt x="4422" y="13369"/>
                    </a:lnTo>
                    <a:lnTo>
                      <a:pt x="4433" y="13368"/>
                    </a:lnTo>
                    <a:lnTo>
                      <a:pt x="4443" y="13367"/>
                    </a:lnTo>
                    <a:lnTo>
                      <a:pt x="4451" y="13368"/>
                    </a:lnTo>
                    <a:lnTo>
                      <a:pt x="4461" y="13369"/>
                    </a:lnTo>
                    <a:lnTo>
                      <a:pt x="4469" y="13370"/>
                    </a:lnTo>
                    <a:lnTo>
                      <a:pt x="4477" y="13374"/>
                    </a:lnTo>
                    <a:lnTo>
                      <a:pt x="5211" y="13582"/>
                    </a:lnTo>
                    <a:lnTo>
                      <a:pt x="5221" y="13585"/>
                    </a:lnTo>
                    <a:lnTo>
                      <a:pt x="5229" y="13589"/>
                    </a:lnTo>
                    <a:lnTo>
                      <a:pt x="5236" y="13593"/>
                    </a:lnTo>
                    <a:lnTo>
                      <a:pt x="5243" y="13597"/>
                    </a:lnTo>
                    <a:lnTo>
                      <a:pt x="5250" y="13602"/>
                    </a:lnTo>
                    <a:lnTo>
                      <a:pt x="5256" y="13608"/>
                    </a:lnTo>
                    <a:lnTo>
                      <a:pt x="5262" y="13615"/>
                    </a:lnTo>
                    <a:lnTo>
                      <a:pt x="5267" y="13621"/>
                    </a:lnTo>
                    <a:lnTo>
                      <a:pt x="5271" y="13628"/>
                    </a:lnTo>
                    <a:lnTo>
                      <a:pt x="5276" y="13635"/>
                    </a:lnTo>
                    <a:lnTo>
                      <a:pt x="5280" y="13643"/>
                    </a:lnTo>
                    <a:lnTo>
                      <a:pt x="5283" y="13651"/>
                    </a:lnTo>
                    <a:lnTo>
                      <a:pt x="5285" y="13659"/>
                    </a:lnTo>
                    <a:lnTo>
                      <a:pt x="5287" y="13667"/>
                    </a:lnTo>
                    <a:lnTo>
                      <a:pt x="5287" y="13676"/>
                    </a:lnTo>
                    <a:lnTo>
                      <a:pt x="5288" y="13684"/>
                    </a:lnTo>
                    <a:lnTo>
                      <a:pt x="5288" y="14555"/>
                    </a:lnTo>
                    <a:lnTo>
                      <a:pt x="5398" y="14590"/>
                    </a:lnTo>
                    <a:lnTo>
                      <a:pt x="5403" y="13775"/>
                    </a:lnTo>
                    <a:lnTo>
                      <a:pt x="5404" y="13765"/>
                    </a:lnTo>
                    <a:lnTo>
                      <a:pt x="5406" y="13754"/>
                    </a:lnTo>
                    <a:lnTo>
                      <a:pt x="5408" y="13745"/>
                    </a:lnTo>
                    <a:lnTo>
                      <a:pt x="5412" y="13735"/>
                    </a:lnTo>
                    <a:lnTo>
                      <a:pt x="5416" y="13725"/>
                    </a:lnTo>
                    <a:lnTo>
                      <a:pt x="5421" y="13717"/>
                    </a:lnTo>
                    <a:lnTo>
                      <a:pt x="5427" y="13709"/>
                    </a:lnTo>
                    <a:lnTo>
                      <a:pt x="5434" y="13702"/>
                    </a:lnTo>
                    <a:lnTo>
                      <a:pt x="5442" y="13695"/>
                    </a:lnTo>
                    <a:lnTo>
                      <a:pt x="5450" y="13689"/>
                    </a:lnTo>
                    <a:lnTo>
                      <a:pt x="5459" y="13684"/>
                    </a:lnTo>
                    <a:lnTo>
                      <a:pt x="5468" y="13680"/>
                    </a:lnTo>
                    <a:lnTo>
                      <a:pt x="5477" y="13677"/>
                    </a:lnTo>
                    <a:lnTo>
                      <a:pt x="5487" y="13674"/>
                    </a:lnTo>
                    <a:lnTo>
                      <a:pt x="5498" y="13673"/>
                    </a:lnTo>
                    <a:lnTo>
                      <a:pt x="5509" y="13672"/>
                    </a:lnTo>
                    <a:lnTo>
                      <a:pt x="5518" y="13673"/>
                    </a:lnTo>
                    <a:lnTo>
                      <a:pt x="5527" y="13674"/>
                    </a:lnTo>
                    <a:lnTo>
                      <a:pt x="5536" y="13676"/>
                    </a:lnTo>
                    <a:lnTo>
                      <a:pt x="5544" y="13679"/>
                    </a:lnTo>
                    <a:lnTo>
                      <a:pt x="6178" y="13852"/>
                    </a:lnTo>
                    <a:lnTo>
                      <a:pt x="6187" y="13854"/>
                    </a:lnTo>
                    <a:lnTo>
                      <a:pt x="6195" y="13858"/>
                    </a:lnTo>
                    <a:lnTo>
                      <a:pt x="6203" y="13862"/>
                    </a:lnTo>
                    <a:lnTo>
                      <a:pt x="6211" y="13866"/>
                    </a:lnTo>
                    <a:lnTo>
                      <a:pt x="6217" y="13871"/>
                    </a:lnTo>
                    <a:lnTo>
                      <a:pt x="6224" y="13877"/>
                    </a:lnTo>
                    <a:lnTo>
                      <a:pt x="6229" y="13883"/>
                    </a:lnTo>
                    <a:lnTo>
                      <a:pt x="6235" y="13889"/>
                    </a:lnTo>
                    <a:lnTo>
                      <a:pt x="6239" y="13896"/>
                    </a:lnTo>
                    <a:lnTo>
                      <a:pt x="6243" y="13904"/>
                    </a:lnTo>
                    <a:lnTo>
                      <a:pt x="6247" y="13912"/>
                    </a:lnTo>
                    <a:lnTo>
                      <a:pt x="6250" y="13920"/>
                    </a:lnTo>
                    <a:lnTo>
                      <a:pt x="6252" y="13928"/>
                    </a:lnTo>
                    <a:lnTo>
                      <a:pt x="6254" y="13936"/>
                    </a:lnTo>
                    <a:lnTo>
                      <a:pt x="6256" y="13945"/>
                    </a:lnTo>
                    <a:lnTo>
                      <a:pt x="6256" y="13953"/>
                    </a:lnTo>
                    <a:lnTo>
                      <a:pt x="6256" y="14863"/>
                    </a:lnTo>
                    <a:lnTo>
                      <a:pt x="6350" y="14893"/>
                    </a:lnTo>
                    <a:lnTo>
                      <a:pt x="6350" y="14032"/>
                    </a:lnTo>
                    <a:lnTo>
                      <a:pt x="6351" y="14020"/>
                    </a:lnTo>
                    <a:lnTo>
                      <a:pt x="6352" y="14010"/>
                    </a:lnTo>
                    <a:lnTo>
                      <a:pt x="6355" y="14000"/>
                    </a:lnTo>
                    <a:lnTo>
                      <a:pt x="6358" y="13991"/>
                    </a:lnTo>
                    <a:lnTo>
                      <a:pt x="6363" y="13982"/>
                    </a:lnTo>
                    <a:lnTo>
                      <a:pt x="6369" y="13974"/>
                    </a:lnTo>
                    <a:lnTo>
                      <a:pt x="6375" y="13966"/>
                    </a:lnTo>
                    <a:lnTo>
                      <a:pt x="6381" y="13957"/>
                    </a:lnTo>
                    <a:lnTo>
                      <a:pt x="6389" y="13951"/>
                    </a:lnTo>
                    <a:lnTo>
                      <a:pt x="6397" y="13945"/>
                    </a:lnTo>
                    <a:lnTo>
                      <a:pt x="6405" y="13940"/>
                    </a:lnTo>
                    <a:lnTo>
                      <a:pt x="6414" y="13935"/>
                    </a:lnTo>
                    <a:lnTo>
                      <a:pt x="6424" y="13932"/>
                    </a:lnTo>
                    <a:lnTo>
                      <a:pt x="6434" y="13929"/>
                    </a:lnTo>
                    <a:lnTo>
                      <a:pt x="6444" y="13928"/>
                    </a:lnTo>
                    <a:lnTo>
                      <a:pt x="6455" y="13927"/>
                    </a:lnTo>
                    <a:lnTo>
                      <a:pt x="6463" y="13928"/>
                    </a:lnTo>
                    <a:lnTo>
                      <a:pt x="6472" y="13929"/>
                    </a:lnTo>
                    <a:lnTo>
                      <a:pt x="6481" y="13930"/>
                    </a:lnTo>
                    <a:lnTo>
                      <a:pt x="6489" y="13933"/>
                    </a:lnTo>
                    <a:lnTo>
                      <a:pt x="7308" y="14180"/>
                    </a:lnTo>
                    <a:lnTo>
                      <a:pt x="7317" y="14183"/>
                    </a:lnTo>
                    <a:lnTo>
                      <a:pt x="7325" y="14187"/>
                    </a:lnTo>
                    <a:lnTo>
                      <a:pt x="7333" y="14191"/>
                    </a:lnTo>
                    <a:lnTo>
                      <a:pt x="7340" y="14196"/>
                    </a:lnTo>
                    <a:lnTo>
                      <a:pt x="7347" y="14203"/>
                    </a:lnTo>
                    <a:lnTo>
                      <a:pt x="7354" y="14209"/>
                    </a:lnTo>
                    <a:lnTo>
                      <a:pt x="7360" y="14216"/>
                    </a:lnTo>
                    <a:lnTo>
                      <a:pt x="7365" y="14223"/>
                    </a:lnTo>
                    <a:lnTo>
                      <a:pt x="7370" y="14230"/>
                    </a:lnTo>
                    <a:lnTo>
                      <a:pt x="7374" y="14238"/>
                    </a:lnTo>
                    <a:lnTo>
                      <a:pt x="7377" y="14246"/>
                    </a:lnTo>
                    <a:lnTo>
                      <a:pt x="7379" y="14255"/>
                    </a:lnTo>
                    <a:lnTo>
                      <a:pt x="7381" y="14264"/>
                    </a:lnTo>
                    <a:lnTo>
                      <a:pt x="7382" y="14273"/>
                    </a:lnTo>
                    <a:lnTo>
                      <a:pt x="7382" y="14282"/>
                    </a:lnTo>
                    <a:lnTo>
                      <a:pt x="7381" y="14291"/>
                    </a:lnTo>
                    <a:lnTo>
                      <a:pt x="7363" y="15251"/>
                    </a:lnTo>
                    <a:lnTo>
                      <a:pt x="7519" y="15297"/>
                    </a:lnTo>
                    <a:lnTo>
                      <a:pt x="7502" y="1526"/>
                    </a:lnTo>
                    <a:lnTo>
                      <a:pt x="2135" y="1496"/>
                    </a:lnTo>
                    <a:close/>
                    <a:moveTo>
                      <a:pt x="1539" y="9155"/>
                    </a:moveTo>
                    <a:lnTo>
                      <a:pt x="1589" y="9165"/>
                    </a:lnTo>
                    <a:lnTo>
                      <a:pt x="1639" y="9175"/>
                    </a:lnTo>
                    <a:lnTo>
                      <a:pt x="1689" y="9185"/>
                    </a:lnTo>
                    <a:lnTo>
                      <a:pt x="1738" y="9194"/>
                    </a:lnTo>
                    <a:lnTo>
                      <a:pt x="1788" y="9204"/>
                    </a:lnTo>
                    <a:lnTo>
                      <a:pt x="1838" y="9213"/>
                    </a:lnTo>
                    <a:lnTo>
                      <a:pt x="1888" y="9223"/>
                    </a:lnTo>
                    <a:lnTo>
                      <a:pt x="1937" y="9234"/>
                    </a:lnTo>
                    <a:lnTo>
                      <a:pt x="1987" y="9243"/>
                    </a:lnTo>
                    <a:lnTo>
                      <a:pt x="2037" y="9253"/>
                    </a:lnTo>
                    <a:lnTo>
                      <a:pt x="2087" y="9263"/>
                    </a:lnTo>
                    <a:lnTo>
                      <a:pt x="2137" y="9272"/>
                    </a:lnTo>
                    <a:lnTo>
                      <a:pt x="2187" y="9282"/>
                    </a:lnTo>
                    <a:lnTo>
                      <a:pt x="2237" y="9293"/>
                    </a:lnTo>
                    <a:lnTo>
                      <a:pt x="2287" y="9303"/>
                    </a:lnTo>
                    <a:lnTo>
                      <a:pt x="2337" y="9312"/>
                    </a:lnTo>
                    <a:lnTo>
                      <a:pt x="2337" y="9787"/>
                    </a:lnTo>
                    <a:lnTo>
                      <a:pt x="2287" y="9777"/>
                    </a:lnTo>
                    <a:lnTo>
                      <a:pt x="2237" y="9766"/>
                    </a:lnTo>
                    <a:lnTo>
                      <a:pt x="2187" y="9755"/>
                    </a:lnTo>
                    <a:lnTo>
                      <a:pt x="2137" y="9744"/>
                    </a:lnTo>
                    <a:lnTo>
                      <a:pt x="2087" y="9734"/>
                    </a:lnTo>
                    <a:lnTo>
                      <a:pt x="2037" y="9724"/>
                    </a:lnTo>
                    <a:lnTo>
                      <a:pt x="1987" y="9713"/>
                    </a:lnTo>
                    <a:lnTo>
                      <a:pt x="1937" y="9702"/>
                    </a:lnTo>
                    <a:lnTo>
                      <a:pt x="1888" y="9692"/>
                    </a:lnTo>
                    <a:lnTo>
                      <a:pt x="1838" y="9682"/>
                    </a:lnTo>
                    <a:lnTo>
                      <a:pt x="1788" y="9671"/>
                    </a:lnTo>
                    <a:lnTo>
                      <a:pt x="1738" y="9661"/>
                    </a:lnTo>
                    <a:lnTo>
                      <a:pt x="1689" y="9651"/>
                    </a:lnTo>
                    <a:lnTo>
                      <a:pt x="1639" y="9639"/>
                    </a:lnTo>
                    <a:lnTo>
                      <a:pt x="1589" y="9629"/>
                    </a:lnTo>
                    <a:lnTo>
                      <a:pt x="1539" y="9619"/>
                    </a:lnTo>
                    <a:lnTo>
                      <a:pt x="1539" y="9155"/>
                    </a:lnTo>
                    <a:close/>
                    <a:moveTo>
                      <a:pt x="1539" y="10032"/>
                    </a:moveTo>
                    <a:lnTo>
                      <a:pt x="2337" y="10210"/>
                    </a:lnTo>
                    <a:lnTo>
                      <a:pt x="2337" y="10685"/>
                    </a:lnTo>
                    <a:lnTo>
                      <a:pt x="1539" y="10496"/>
                    </a:lnTo>
                    <a:lnTo>
                      <a:pt x="1539" y="10032"/>
                    </a:lnTo>
                    <a:close/>
                    <a:moveTo>
                      <a:pt x="1539" y="10910"/>
                    </a:moveTo>
                    <a:lnTo>
                      <a:pt x="1589" y="10922"/>
                    </a:lnTo>
                    <a:lnTo>
                      <a:pt x="1639" y="10934"/>
                    </a:lnTo>
                    <a:lnTo>
                      <a:pt x="1689" y="10946"/>
                    </a:lnTo>
                    <a:lnTo>
                      <a:pt x="1738" y="10959"/>
                    </a:lnTo>
                    <a:lnTo>
                      <a:pt x="1788" y="10971"/>
                    </a:lnTo>
                    <a:lnTo>
                      <a:pt x="1838" y="10983"/>
                    </a:lnTo>
                    <a:lnTo>
                      <a:pt x="1888" y="10995"/>
                    </a:lnTo>
                    <a:lnTo>
                      <a:pt x="1937" y="11008"/>
                    </a:lnTo>
                    <a:lnTo>
                      <a:pt x="1987" y="11020"/>
                    </a:lnTo>
                    <a:lnTo>
                      <a:pt x="2037" y="11032"/>
                    </a:lnTo>
                    <a:lnTo>
                      <a:pt x="2087" y="11044"/>
                    </a:lnTo>
                    <a:lnTo>
                      <a:pt x="2137" y="11056"/>
                    </a:lnTo>
                    <a:lnTo>
                      <a:pt x="2187" y="11069"/>
                    </a:lnTo>
                    <a:lnTo>
                      <a:pt x="2237" y="11082"/>
                    </a:lnTo>
                    <a:lnTo>
                      <a:pt x="2287" y="11094"/>
                    </a:lnTo>
                    <a:lnTo>
                      <a:pt x="2337" y="11106"/>
                    </a:lnTo>
                    <a:lnTo>
                      <a:pt x="2337" y="11581"/>
                    </a:lnTo>
                    <a:lnTo>
                      <a:pt x="2287" y="11568"/>
                    </a:lnTo>
                    <a:lnTo>
                      <a:pt x="2237" y="11555"/>
                    </a:lnTo>
                    <a:lnTo>
                      <a:pt x="2187" y="11542"/>
                    </a:lnTo>
                    <a:lnTo>
                      <a:pt x="2137" y="11528"/>
                    </a:lnTo>
                    <a:lnTo>
                      <a:pt x="2087" y="11516"/>
                    </a:lnTo>
                    <a:lnTo>
                      <a:pt x="2037" y="11503"/>
                    </a:lnTo>
                    <a:lnTo>
                      <a:pt x="1987" y="11490"/>
                    </a:lnTo>
                    <a:lnTo>
                      <a:pt x="1937" y="11476"/>
                    </a:lnTo>
                    <a:lnTo>
                      <a:pt x="1888" y="11464"/>
                    </a:lnTo>
                    <a:lnTo>
                      <a:pt x="1838" y="11451"/>
                    </a:lnTo>
                    <a:lnTo>
                      <a:pt x="1788" y="11438"/>
                    </a:lnTo>
                    <a:lnTo>
                      <a:pt x="1738" y="11425"/>
                    </a:lnTo>
                    <a:lnTo>
                      <a:pt x="1689" y="11412"/>
                    </a:lnTo>
                    <a:lnTo>
                      <a:pt x="1639" y="11399"/>
                    </a:lnTo>
                    <a:lnTo>
                      <a:pt x="1589" y="11386"/>
                    </a:lnTo>
                    <a:lnTo>
                      <a:pt x="1539" y="11374"/>
                    </a:lnTo>
                    <a:lnTo>
                      <a:pt x="1539" y="10910"/>
                    </a:lnTo>
                    <a:close/>
                    <a:moveTo>
                      <a:pt x="1539" y="11786"/>
                    </a:moveTo>
                    <a:lnTo>
                      <a:pt x="2337" y="12002"/>
                    </a:lnTo>
                    <a:lnTo>
                      <a:pt x="2337" y="12476"/>
                    </a:lnTo>
                    <a:lnTo>
                      <a:pt x="1539" y="12250"/>
                    </a:lnTo>
                    <a:lnTo>
                      <a:pt x="1539" y="11786"/>
                    </a:lnTo>
                    <a:close/>
                    <a:moveTo>
                      <a:pt x="1114" y="9071"/>
                    </a:moveTo>
                    <a:lnTo>
                      <a:pt x="1114" y="9530"/>
                    </a:lnTo>
                    <a:lnTo>
                      <a:pt x="1064" y="9519"/>
                    </a:lnTo>
                    <a:lnTo>
                      <a:pt x="1015" y="9508"/>
                    </a:lnTo>
                    <a:lnTo>
                      <a:pt x="965" y="9498"/>
                    </a:lnTo>
                    <a:lnTo>
                      <a:pt x="915" y="9487"/>
                    </a:lnTo>
                    <a:lnTo>
                      <a:pt x="866" y="9477"/>
                    </a:lnTo>
                    <a:lnTo>
                      <a:pt x="816" y="9466"/>
                    </a:lnTo>
                    <a:lnTo>
                      <a:pt x="766" y="9455"/>
                    </a:lnTo>
                    <a:lnTo>
                      <a:pt x="716" y="9445"/>
                    </a:lnTo>
                    <a:lnTo>
                      <a:pt x="666" y="9435"/>
                    </a:lnTo>
                    <a:lnTo>
                      <a:pt x="616" y="9425"/>
                    </a:lnTo>
                    <a:lnTo>
                      <a:pt x="566" y="9414"/>
                    </a:lnTo>
                    <a:lnTo>
                      <a:pt x="516" y="9403"/>
                    </a:lnTo>
                    <a:lnTo>
                      <a:pt x="467" y="9393"/>
                    </a:lnTo>
                    <a:lnTo>
                      <a:pt x="417" y="9383"/>
                    </a:lnTo>
                    <a:lnTo>
                      <a:pt x="367" y="9372"/>
                    </a:lnTo>
                    <a:lnTo>
                      <a:pt x="317" y="9362"/>
                    </a:lnTo>
                    <a:lnTo>
                      <a:pt x="317" y="8913"/>
                    </a:lnTo>
                    <a:lnTo>
                      <a:pt x="367" y="8923"/>
                    </a:lnTo>
                    <a:lnTo>
                      <a:pt x="417" y="8933"/>
                    </a:lnTo>
                    <a:lnTo>
                      <a:pt x="467" y="8944"/>
                    </a:lnTo>
                    <a:lnTo>
                      <a:pt x="516" y="8953"/>
                    </a:lnTo>
                    <a:lnTo>
                      <a:pt x="566" y="8963"/>
                    </a:lnTo>
                    <a:lnTo>
                      <a:pt x="616" y="8973"/>
                    </a:lnTo>
                    <a:lnTo>
                      <a:pt x="666" y="8982"/>
                    </a:lnTo>
                    <a:lnTo>
                      <a:pt x="716" y="8992"/>
                    </a:lnTo>
                    <a:lnTo>
                      <a:pt x="766" y="9003"/>
                    </a:lnTo>
                    <a:lnTo>
                      <a:pt x="816" y="9012"/>
                    </a:lnTo>
                    <a:lnTo>
                      <a:pt x="866" y="9022"/>
                    </a:lnTo>
                    <a:lnTo>
                      <a:pt x="915" y="9031"/>
                    </a:lnTo>
                    <a:lnTo>
                      <a:pt x="965" y="9041"/>
                    </a:lnTo>
                    <a:lnTo>
                      <a:pt x="1015" y="9051"/>
                    </a:lnTo>
                    <a:lnTo>
                      <a:pt x="1064" y="9061"/>
                    </a:lnTo>
                    <a:lnTo>
                      <a:pt x="1114" y="9071"/>
                    </a:lnTo>
                    <a:close/>
                    <a:moveTo>
                      <a:pt x="317" y="9760"/>
                    </a:moveTo>
                    <a:lnTo>
                      <a:pt x="367" y="9772"/>
                    </a:lnTo>
                    <a:lnTo>
                      <a:pt x="417" y="9783"/>
                    </a:lnTo>
                    <a:lnTo>
                      <a:pt x="467" y="9794"/>
                    </a:lnTo>
                    <a:lnTo>
                      <a:pt x="516" y="9805"/>
                    </a:lnTo>
                    <a:lnTo>
                      <a:pt x="566" y="9816"/>
                    </a:lnTo>
                    <a:lnTo>
                      <a:pt x="616" y="9828"/>
                    </a:lnTo>
                    <a:lnTo>
                      <a:pt x="666" y="9839"/>
                    </a:lnTo>
                    <a:lnTo>
                      <a:pt x="716" y="9850"/>
                    </a:lnTo>
                    <a:lnTo>
                      <a:pt x="766" y="9861"/>
                    </a:lnTo>
                    <a:lnTo>
                      <a:pt x="816" y="9871"/>
                    </a:lnTo>
                    <a:lnTo>
                      <a:pt x="866" y="9883"/>
                    </a:lnTo>
                    <a:lnTo>
                      <a:pt x="915" y="9894"/>
                    </a:lnTo>
                    <a:lnTo>
                      <a:pt x="965" y="9905"/>
                    </a:lnTo>
                    <a:lnTo>
                      <a:pt x="1015" y="9916"/>
                    </a:lnTo>
                    <a:lnTo>
                      <a:pt x="1064" y="9927"/>
                    </a:lnTo>
                    <a:lnTo>
                      <a:pt x="1114" y="9938"/>
                    </a:lnTo>
                    <a:lnTo>
                      <a:pt x="1114" y="10397"/>
                    </a:lnTo>
                    <a:lnTo>
                      <a:pt x="317" y="10209"/>
                    </a:lnTo>
                    <a:lnTo>
                      <a:pt x="317" y="9760"/>
                    </a:lnTo>
                    <a:close/>
                    <a:moveTo>
                      <a:pt x="317" y="10608"/>
                    </a:moveTo>
                    <a:lnTo>
                      <a:pt x="367" y="10620"/>
                    </a:lnTo>
                    <a:lnTo>
                      <a:pt x="417" y="10632"/>
                    </a:lnTo>
                    <a:lnTo>
                      <a:pt x="467" y="10644"/>
                    </a:lnTo>
                    <a:lnTo>
                      <a:pt x="516" y="10657"/>
                    </a:lnTo>
                    <a:lnTo>
                      <a:pt x="566" y="10669"/>
                    </a:lnTo>
                    <a:lnTo>
                      <a:pt x="616" y="10681"/>
                    </a:lnTo>
                    <a:lnTo>
                      <a:pt x="666" y="10693"/>
                    </a:lnTo>
                    <a:lnTo>
                      <a:pt x="716" y="10705"/>
                    </a:lnTo>
                    <a:lnTo>
                      <a:pt x="766" y="10718"/>
                    </a:lnTo>
                    <a:lnTo>
                      <a:pt x="816" y="10730"/>
                    </a:lnTo>
                    <a:lnTo>
                      <a:pt x="866" y="10742"/>
                    </a:lnTo>
                    <a:lnTo>
                      <a:pt x="915" y="10755"/>
                    </a:lnTo>
                    <a:lnTo>
                      <a:pt x="965" y="10767"/>
                    </a:lnTo>
                    <a:lnTo>
                      <a:pt x="1015" y="10780"/>
                    </a:lnTo>
                    <a:lnTo>
                      <a:pt x="1064" y="10792"/>
                    </a:lnTo>
                    <a:lnTo>
                      <a:pt x="1114" y="10804"/>
                    </a:lnTo>
                    <a:lnTo>
                      <a:pt x="1114" y="11263"/>
                    </a:lnTo>
                    <a:lnTo>
                      <a:pt x="1064" y="11251"/>
                    </a:lnTo>
                    <a:lnTo>
                      <a:pt x="1015" y="11237"/>
                    </a:lnTo>
                    <a:lnTo>
                      <a:pt x="965" y="11224"/>
                    </a:lnTo>
                    <a:lnTo>
                      <a:pt x="915" y="11211"/>
                    </a:lnTo>
                    <a:lnTo>
                      <a:pt x="866" y="11198"/>
                    </a:lnTo>
                    <a:lnTo>
                      <a:pt x="816" y="11185"/>
                    </a:lnTo>
                    <a:lnTo>
                      <a:pt x="766" y="11172"/>
                    </a:lnTo>
                    <a:lnTo>
                      <a:pt x="716" y="11159"/>
                    </a:lnTo>
                    <a:lnTo>
                      <a:pt x="666" y="11146"/>
                    </a:lnTo>
                    <a:lnTo>
                      <a:pt x="616" y="11133"/>
                    </a:lnTo>
                    <a:lnTo>
                      <a:pt x="566" y="11120"/>
                    </a:lnTo>
                    <a:lnTo>
                      <a:pt x="516" y="11107"/>
                    </a:lnTo>
                    <a:lnTo>
                      <a:pt x="467" y="11094"/>
                    </a:lnTo>
                    <a:lnTo>
                      <a:pt x="417" y="11082"/>
                    </a:lnTo>
                    <a:lnTo>
                      <a:pt x="367" y="11069"/>
                    </a:lnTo>
                    <a:lnTo>
                      <a:pt x="317" y="11055"/>
                    </a:lnTo>
                    <a:lnTo>
                      <a:pt x="317" y="10608"/>
                    </a:lnTo>
                    <a:close/>
                    <a:moveTo>
                      <a:pt x="317" y="11454"/>
                    </a:moveTo>
                    <a:lnTo>
                      <a:pt x="1114" y="11671"/>
                    </a:lnTo>
                    <a:lnTo>
                      <a:pt x="1114" y="12128"/>
                    </a:lnTo>
                    <a:lnTo>
                      <a:pt x="317" y="11902"/>
                    </a:lnTo>
                    <a:lnTo>
                      <a:pt x="317" y="11454"/>
                    </a:lnTo>
                    <a:close/>
                    <a:moveTo>
                      <a:pt x="2761" y="8489"/>
                    </a:moveTo>
                    <a:lnTo>
                      <a:pt x="3558" y="8628"/>
                    </a:lnTo>
                    <a:lnTo>
                      <a:pt x="3558" y="9119"/>
                    </a:lnTo>
                    <a:lnTo>
                      <a:pt x="3508" y="9109"/>
                    </a:lnTo>
                    <a:lnTo>
                      <a:pt x="3458" y="9100"/>
                    </a:lnTo>
                    <a:lnTo>
                      <a:pt x="3408" y="9091"/>
                    </a:lnTo>
                    <a:lnTo>
                      <a:pt x="3358" y="9082"/>
                    </a:lnTo>
                    <a:lnTo>
                      <a:pt x="3310" y="9073"/>
                    </a:lnTo>
                    <a:lnTo>
                      <a:pt x="3260" y="9063"/>
                    </a:lnTo>
                    <a:lnTo>
                      <a:pt x="3210" y="9054"/>
                    </a:lnTo>
                    <a:lnTo>
                      <a:pt x="3160" y="9044"/>
                    </a:lnTo>
                    <a:lnTo>
                      <a:pt x="3110" y="9035"/>
                    </a:lnTo>
                    <a:lnTo>
                      <a:pt x="3060" y="9026"/>
                    </a:lnTo>
                    <a:lnTo>
                      <a:pt x="3010" y="9016"/>
                    </a:lnTo>
                    <a:lnTo>
                      <a:pt x="2960" y="9007"/>
                    </a:lnTo>
                    <a:lnTo>
                      <a:pt x="2910" y="8998"/>
                    </a:lnTo>
                    <a:lnTo>
                      <a:pt x="2860" y="8988"/>
                    </a:lnTo>
                    <a:lnTo>
                      <a:pt x="2810" y="8978"/>
                    </a:lnTo>
                    <a:lnTo>
                      <a:pt x="2761" y="8969"/>
                    </a:lnTo>
                    <a:lnTo>
                      <a:pt x="2761" y="8489"/>
                    </a:lnTo>
                    <a:close/>
                    <a:moveTo>
                      <a:pt x="2761" y="9396"/>
                    </a:moveTo>
                    <a:lnTo>
                      <a:pt x="2810" y="9406"/>
                    </a:lnTo>
                    <a:lnTo>
                      <a:pt x="2860" y="9417"/>
                    </a:lnTo>
                    <a:lnTo>
                      <a:pt x="2910" y="9426"/>
                    </a:lnTo>
                    <a:lnTo>
                      <a:pt x="2960" y="9436"/>
                    </a:lnTo>
                    <a:lnTo>
                      <a:pt x="3010" y="9446"/>
                    </a:lnTo>
                    <a:lnTo>
                      <a:pt x="3060" y="9455"/>
                    </a:lnTo>
                    <a:lnTo>
                      <a:pt x="3110" y="9465"/>
                    </a:lnTo>
                    <a:lnTo>
                      <a:pt x="3160" y="9476"/>
                    </a:lnTo>
                    <a:lnTo>
                      <a:pt x="3210" y="9486"/>
                    </a:lnTo>
                    <a:lnTo>
                      <a:pt x="3260" y="9495"/>
                    </a:lnTo>
                    <a:lnTo>
                      <a:pt x="3310" y="9505"/>
                    </a:lnTo>
                    <a:lnTo>
                      <a:pt x="3358" y="9515"/>
                    </a:lnTo>
                    <a:lnTo>
                      <a:pt x="3408" y="9525"/>
                    </a:lnTo>
                    <a:lnTo>
                      <a:pt x="3458" y="9535"/>
                    </a:lnTo>
                    <a:lnTo>
                      <a:pt x="3508" y="9545"/>
                    </a:lnTo>
                    <a:lnTo>
                      <a:pt x="3558" y="9555"/>
                    </a:lnTo>
                    <a:lnTo>
                      <a:pt x="3558" y="10045"/>
                    </a:lnTo>
                    <a:lnTo>
                      <a:pt x="2761" y="9876"/>
                    </a:lnTo>
                    <a:lnTo>
                      <a:pt x="2761" y="9396"/>
                    </a:lnTo>
                    <a:close/>
                    <a:moveTo>
                      <a:pt x="2761" y="10304"/>
                    </a:moveTo>
                    <a:lnTo>
                      <a:pt x="2810" y="10315"/>
                    </a:lnTo>
                    <a:lnTo>
                      <a:pt x="2860" y="10326"/>
                    </a:lnTo>
                    <a:lnTo>
                      <a:pt x="2910" y="10337"/>
                    </a:lnTo>
                    <a:lnTo>
                      <a:pt x="2960" y="10348"/>
                    </a:lnTo>
                    <a:lnTo>
                      <a:pt x="3010" y="10360"/>
                    </a:lnTo>
                    <a:lnTo>
                      <a:pt x="3060" y="10371"/>
                    </a:lnTo>
                    <a:lnTo>
                      <a:pt x="3110" y="10382"/>
                    </a:lnTo>
                    <a:lnTo>
                      <a:pt x="3160" y="10393"/>
                    </a:lnTo>
                    <a:lnTo>
                      <a:pt x="3210" y="10404"/>
                    </a:lnTo>
                    <a:lnTo>
                      <a:pt x="3260" y="10416"/>
                    </a:lnTo>
                    <a:lnTo>
                      <a:pt x="3310" y="10427"/>
                    </a:lnTo>
                    <a:lnTo>
                      <a:pt x="3358" y="10438"/>
                    </a:lnTo>
                    <a:lnTo>
                      <a:pt x="3408" y="10449"/>
                    </a:lnTo>
                    <a:lnTo>
                      <a:pt x="3458" y="10460"/>
                    </a:lnTo>
                    <a:lnTo>
                      <a:pt x="3508" y="10471"/>
                    </a:lnTo>
                    <a:lnTo>
                      <a:pt x="3558" y="10483"/>
                    </a:lnTo>
                    <a:lnTo>
                      <a:pt x="3558" y="10973"/>
                    </a:lnTo>
                    <a:lnTo>
                      <a:pt x="2761" y="10784"/>
                    </a:lnTo>
                    <a:lnTo>
                      <a:pt x="2761" y="10304"/>
                    </a:lnTo>
                    <a:close/>
                    <a:moveTo>
                      <a:pt x="2761" y="11211"/>
                    </a:moveTo>
                    <a:lnTo>
                      <a:pt x="2810" y="11224"/>
                    </a:lnTo>
                    <a:lnTo>
                      <a:pt x="2860" y="11236"/>
                    </a:lnTo>
                    <a:lnTo>
                      <a:pt x="2910" y="11249"/>
                    </a:lnTo>
                    <a:lnTo>
                      <a:pt x="2960" y="11261"/>
                    </a:lnTo>
                    <a:lnTo>
                      <a:pt x="3010" y="11273"/>
                    </a:lnTo>
                    <a:lnTo>
                      <a:pt x="3060" y="11285"/>
                    </a:lnTo>
                    <a:lnTo>
                      <a:pt x="3110" y="11297"/>
                    </a:lnTo>
                    <a:lnTo>
                      <a:pt x="3160" y="11310"/>
                    </a:lnTo>
                    <a:lnTo>
                      <a:pt x="3210" y="11323"/>
                    </a:lnTo>
                    <a:lnTo>
                      <a:pt x="3260" y="11335"/>
                    </a:lnTo>
                    <a:lnTo>
                      <a:pt x="3310" y="11347"/>
                    </a:lnTo>
                    <a:lnTo>
                      <a:pt x="3358" y="11359"/>
                    </a:lnTo>
                    <a:lnTo>
                      <a:pt x="3408" y="11372"/>
                    </a:lnTo>
                    <a:lnTo>
                      <a:pt x="3458" y="11385"/>
                    </a:lnTo>
                    <a:lnTo>
                      <a:pt x="3508" y="11397"/>
                    </a:lnTo>
                    <a:lnTo>
                      <a:pt x="3558" y="11409"/>
                    </a:lnTo>
                    <a:lnTo>
                      <a:pt x="3558" y="11900"/>
                    </a:lnTo>
                    <a:lnTo>
                      <a:pt x="3508" y="11887"/>
                    </a:lnTo>
                    <a:lnTo>
                      <a:pt x="3458" y="11874"/>
                    </a:lnTo>
                    <a:lnTo>
                      <a:pt x="3408" y="11861"/>
                    </a:lnTo>
                    <a:lnTo>
                      <a:pt x="3358" y="11848"/>
                    </a:lnTo>
                    <a:lnTo>
                      <a:pt x="3310" y="11835"/>
                    </a:lnTo>
                    <a:lnTo>
                      <a:pt x="3260" y="11821"/>
                    </a:lnTo>
                    <a:lnTo>
                      <a:pt x="3210" y="11808"/>
                    </a:lnTo>
                    <a:lnTo>
                      <a:pt x="3160" y="11795"/>
                    </a:lnTo>
                    <a:lnTo>
                      <a:pt x="3110" y="11782"/>
                    </a:lnTo>
                    <a:lnTo>
                      <a:pt x="3060" y="11769"/>
                    </a:lnTo>
                    <a:lnTo>
                      <a:pt x="3010" y="11756"/>
                    </a:lnTo>
                    <a:lnTo>
                      <a:pt x="2960" y="11743"/>
                    </a:lnTo>
                    <a:lnTo>
                      <a:pt x="2910" y="11730"/>
                    </a:lnTo>
                    <a:lnTo>
                      <a:pt x="2860" y="11717"/>
                    </a:lnTo>
                    <a:lnTo>
                      <a:pt x="2810" y="11704"/>
                    </a:lnTo>
                    <a:lnTo>
                      <a:pt x="2761" y="11691"/>
                    </a:lnTo>
                    <a:lnTo>
                      <a:pt x="2761" y="11211"/>
                    </a:lnTo>
                    <a:close/>
                    <a:moveTo>
                      <a:pt x="2761" y="12117"/>
                    </a:moveTo>
                    <a:lnTo>
                      <a:pt x="3558" y="12335"/>
                    </a:lnTo>
                    <a:lnTo>
                      <a:pt x="3558" y="12825"/>
                    </a:lnTo>
                    <a:lnTo>
                      <a:pt x="2761" y="12597"/>
                    </a:lnTo>
                    <a:lnTo>
                      <a:pt x="2761" y="12117"/>
                    </a:lnTo>
                    <a:close/>
                    <a:moveTo>
                      <a:pt x="2761" y="5341"/>
                    </a:moveTo>
                    <a:lnTo>
                      <a:pt x="2761" y="4862"/>
                    </a:lnTo>
                    <a:lnTo>
                      <a:pt x="3558" y="4921"/>
                    </a:lnTo>
                    <a:lnTo>
                      <a:pt x="3558" y="5411"/>
                    </a:lnTo>
                    <a:lnTo>
                      <a:pt x="3508" y="5407"/>
                    </a:lnTo>
                    <a:lnTo>
                      <a:pt x="3458" y="5403"/>
                    </a:lnTo>
                    <a:lnTo>
                      <a:pt x="3408" y="5398"/>
                    </a:lnTo>
                    <a:lnTo>
                      <a:pt x="3358" y="5394"/>
                    </a:lnTo>
                    <a:lnTo>
                      <a:pt x="3310" y="5390"/>
                    </a:lnTo>
                    <a:lnTo>
                      <a:pt x="3260" y="5386"/>
                    </a:lnTo>
                    <a:lnTo>
                      <a:pt x="3210" y="5380"/>
                    </a:lnTo>
                    <a:lnTo>
                      <a:pt x="3160" y="5376"/>
                    </a:lnTo>
                    <a:lnTo>
                      <a:pt x="3110" y="5372"/>
                    </a:lnTo>
                    <a:lnTo>
                      <a:pt x="3060" y="5368"/>
                    </a:lnTo>
                    <a:lnTo>
                      <a:pt x="3010" y="5363"/>
                    </a:lnTo>
                    <a:lnTo>
                      <a:pt x="2960" y="5359"/>
                    </a:lnTo>
                    <a:lnTo>
                      <a:pt x="2910" y="5354"/>
                    </a:lnTo>
                    <a:lnTo>
                      <a:pt x="2860" y="5350"/>
                    </a:lnTo>
                    <a:lnTo>
                      <a:pt x="2810" y="5346"/>
                    </a:lnTo>
                    <a:lnTo>
                      <a:pt x="2761" y="5341"/>
                    </a:lnTo>
                    <a:close/>
                    <a:moveTo>
                      <a:pt x="2761" y="5768"/>
                    </a:moveTo>
                    <a:lnTo>
                      <a:pt x="3558" y="5847"/>
                    </a:lnTo>
                    <a:lnTo>
                      <a:pt x="3558" y="6338"/>
                    </a:lnTo>
                    <a:lnTo>
                      <a:pt x="2761" y="6248"/>
                    </a:lnTo>
                    <a:lnTo>
                      <a:pt x="2761" y="5768"/>
                    </a:lnTo>
                    <a:close/>
                    <a:moveTo>
                      <a:pt x="2761" y="6675"/>
                    </a:moveTo>
                    <a:lnTo>
                      <a:pt x="3558" y="6774"/>
                    </a:lnTo>
                    <a:lnTo>
                      <a:pt x="3558" y="7264"/>
                    </a:lnTo>
                    <a:lnTo>
                      <a:pt x="3508" y="7257"/>
                    </a:lnTo>
                    <a:lnTo>
                      <a:pt x="3458" y="7251"/>
                    </a:lnTo>
                    <a:lnTo>
                      <a:pt x="3408" y="7244"/>
                    </a:lnTo>
                    <a:lnTo>
                      <a:pt x="3358" y="7237"/>
                    </a:lnTo>
                    <a:lnTo>
                      <a:pt x="3310" y="7231"/>
                    </a:lnTo>
                    <a:lnTo>
                      <a:pt x="3260" y="7224"/>
                    </a:lnTo>
                    <a:lnTo>
                      <a:pt x="3210" y="7216"/>
                    </a:lnTo>
                    <a:lnTo>
                      <a:pt x="3160" y="7209"/>
                    </a:lnTo>
                    <a:lnTo>
                      <a:pt x="3110" y="7203"/>
                    </a:lnTo>
                    <a:lnTo>
                      <a:pt x="3060" y="7196"/>
                    </a:lnTo>
                    <a:lnTo>
                      <a:pt x="3010" y="7189"/>
                    </a:lnTo>
                    <a:lnTo>
                      <a:pt x="2960" y="7182"/>
                    </a:lnTo>
                    <a:lnTo>
                      <a:pt x="2910" y="7176"/>
                    </a:lnTo>
                    <a:lnTo>
                      <a:pt x="2860" y="7169"/>
                    </a:lnTo>
                    <a:lnTo>
                      <a:pt x="2810" y="7162"/>
                    </a:lnTo>
                    <a:lnTo>
                      <a:pt x="2761" y="7154"/>
                    </a:lnTo>
                    <a:lnTo>
                      <a:pt x="2761" y="6675"/>
                    </a:lnTo>
                    <a:close/>
                    <a:moveTo>
                      <a:pt x="2761" y="7583"/>
                    </a:moveTo>
                    <a:lnTo>
                      <a:pt x="3558" y="7702"/>
                    </a:lnTo>
                    <a:lnTo>
                      <a:pt x="3558" y="8192"/>
                    </a:lnTo>
                    <a:lnTo>
                      <a:pt x="2761" y="8063"/>
                    </a:lnTo>
                    <a:lnTo>
                      <a:pt x="2761" y="7583"/>
                    </a:lnTo>
                    <a:close/>
                    <a:moveTo>
                      <a:pt x="3983" y="11073"/>
                    </a:moveTo>
                    <a:lnTo>
                      <a:pt x="3983" y="10577"/>
                    </a:lnTo>
                    <a:lnTo>
                      <a:pt x="4780" y="10753"/>
                    </a:lnTo>
                    <a:lnTo>
                      <a:pt x="4780" y="11261"/>
                    </a:lnTo>
                    <a:lnTo>
                      <a:pt x="3983" y="11073"/>
                    </a:lnTo>
                    <a:close/>
                    <a:moveTo>
                      <a:pt x="3983" y="11513"/>
                    </a:moveTo>
                    <a:lnTo>
                      <a:pt x="4033" y="11526"/>
                    </a:lnTo>
                    <a:lnTo>
                      <a:pt x="4083" y="11538"/>
                    </a:lnTo>
                    <a:lnTo>
                      <a:pt x="4133" y="11551"/>
                    </a:lnTo>
                    <a:lnTo>
                      <a:pt x="4183" y="11563"/>
                    </a:lnTo>
                    <a:lnTo>
                      <a:pt x="4231" y="11575"/>
                    </a:lnTo>
                    <a:lnTo>
                      <a:pt x="4281" y="11587"/>
                    </a:lnTo>
                    <a:lnTo>
                      <a:pt x="4331" y="11601"/>
                    </a:lnTo>
                    <a:lnTo>
                      <a:pt x="4381" y="11613"/>
                    </a:lnTo>
                    <a:lnTo>
                      <a:pt x="4431" y="11625"/>
                    </a:lnTo>
                    <a:lnTo>
                      <a:pt x="4481" y="11637"/>
                    </a:lnTo>
                    <a:lnTo>
                      <a:pt x="4531" y="11649"/>
                    </a:lnTo>
                    <a:lnTo>
                      <a:pt x="4581" y="11662"/>
                    </a:lnTo>
                    <a:lnTo>
                      <a:pt x="4631" y="11674"/>
                    </a:lnTo>
                    <a:lnTo>
                      <a:pt x="4681" y="11686"/>
                    </a:lnTo>
                    <a:lnTo>
                      <a:pt x="4731" y="11698"/>
                    </a:lnTo>
                    <a:lnTo>
                      <a:pt x="4780" y="11710"/>
                    </a:lnTo>
                    <a:lnTo>
                      <a:pt x="4780" y="12218"/>
                    </a:lnTo>
                    <a:lnTo>
                      <a:pt x="4731" y="12205"/>
                    </a:lnTo>
                    <a:lnTo>
                      <a:pt x="4681" y="12192"/>
                    </a:lnTo>
                    <a:lnTo>
                      <a:pt x="4631" y="12178"/>
                    </a:lnTo>
                    <a:lnTo>
                      <a:pt x="4581" y="12165"/>
                    </a:lnTo>
                    <a:lnTo>
                      <a:pt x="4531" y="12153"/>
                    </a:lnTo>
                    <a:lnTo>
                      <a:pt x="4481" y="12140"/>
                    </a:lnTo>
                    <a:lnTo>
                      <a:pt x="4431" y="12126"/>
                    </a:lnTo>
                    <a:lnTo>
                      <a:pt x="4381" y="12113"/>
                    </a:lnTo>
                    <a:lnTo>
                      <a:pt x="4331" y="12100"/>
                    </a:lnTo>
                    <a:lnTo>
                      <a:pt x="4281" y="12088"/>
                    </a:lnTo>
                    <a:lnTo>
                      <a:pt x="4231" y="12075"/>
                    </a:lnTo>
                    <a:lnTo>
                      <a:pt x="4183" y="12061"/>
                    </a:lnTo>
                    <a:lnTo>
                      <a:pt x="4133" y="12049"/>
                    </a:lnTo>
                    <a:lnTo>
                      <a:pt x="4083" y="12036"/>
                    </a:lnTo>
                    <a:lnTo>
                      <a:pt x="4033" y="12023"/>
                    </a:lnTo>
                    <a:lnTo>
                      <a:pt x="3983" y="12010"/>
                    </a:lnTo>
                    <a:lnTo>
                      <a:pt x="3983" y="11513"/>
                    </a:lnTo>
                    <a:close/>
                    <a:moveTo>
                      <a:pt x="3983" y="12451"/>
                    </a:moveTo>
                    <a:lnTo>
                      <a:pt x="4780" y="12668"/>
                    </a:lnTo>
                    <a:lnTo>
                      <a:pt x="4780" y="13173"/>
                    </a:lnTo>
                    <a:lnTo>
                      <a:pt x="3983" y="12946"/>
                    </a:lnTo>
                    <a:lnTo>
                      <a:pt x="3983" y="12451"/>
                    </a:lnTo>
                    <a:close/>
                    <a:moveTo>
                      <a:pt x="3983" y="8261"/>
                    </a:moveTo>
                    <a:lnTo>
                      <a:pt x="3983" y="7765"/>
                    </a:lnTo>
                    <a:lnTo>
                      <a:pt x="4780" y="7883"/>
                    </a:lnTo>
                    <a:lnTo>
                      <a:pt x="4780" y="8389"/>
                    </a:lnTo>
                    <a:lnTo>
                      <a:pt x="4731" y="8381"/>
                    </a:lnTo>
                    <a:lnTo>
                      <a:pt x="4681" y="8373"/>
                    </a:lnTo>
                    <a:lnTo>
                      <a:pt x="4631" y="8365"/>
                    </a:lnTo>
                    <a:lnTo>
                      <a:pt x="4581" y="8357"/>
                    </a:lnTo>
                    <a:lnTo>
                      <a:pt x="4531" y="8349"/>
                    </a:lnTo>
                    <a:lnTo>
                      <a:pt x="4481" y="8340"/>
                    </a:lnTo>
                    <a:lnTo>
                      <a:pt x="4431" y="8332"/>
                    </a:lnTo>
                    <a:lnTo>
                      <a:pt x="4381" y="8325"/>
                    </a:lnTo>
                    <a:lnTo>
                      <a:pt x="4331" y="8317"/>
                    </a:lnTo>
                    <a:lnTo>
                      <a:pt x="4281" y="8309"/>
                    </a:lnTo>
                    <a:lnTo>
                      <a:pt x="4231" y="8301"/>
                    </a:lnTo>
                    <a:lnTo>
                      <a:pt x="4183" y="8293"/>
                    </a:lnTo>
                    <a:lnTo>
                      <a:pt x="4133" y="8285"/>
                    </a:lnTo>
                    <a:lnTo>
                      <a:pt x="4083" y="8277"/>
                    </a:lnTo>
                    <a:lnTo>
                      <a:pt x="4033" y="8269"/>
                    </a:lnTo>
                    <a:lnTo>
                      <a:pt x="3983" y="8261"/>
                    </a:lnTo>
                    <a:close/>
                    <a:moveTo>
                      <a:pt x="3983" y="8703"/>
                    </a:moveTo>
                    <a:lnTo>
                      <a:pt x="4033" y="8711"/>
                    </a:lnTo>
                    <a:lnTo>
                      <a:pt x="4083" y="8719"/>
                    </a:lnTo>
                    <a:lnTo>
                      <a:pt x="4133" y="8728"/>
                    </a:lnTo>
                    <a:lnTo>
                      <a:pt x="4183" y="8736"/>
                    </a:lnTo>
                    <a:lnTo>
                      <a:pt x="4231" y="8745"/>
                    </a:lnTo>
                    <a:lnTo>
                      <a:pt x="4281" y="8753"/>
                    </a:lnTo>
                    <a:lnTo>
                      <a:pt x="4331" y="8762"/>
                    </a:lnTo>
                    <a:lnTo>
                      <a:pt x="4381" y="8771"/>
                    </a:lnTo>
                    <a:lnTo>
                      <a:pt x="4431" y="8779"/>
                    </a:lnTo>
                    <a:lnTo>
                      <a:pt x="4481" y="8788"/>
                    </a:lnTo>
                    <a:lnTo>
                      <a:pt x="4531" y="8796"/>
                    </a:lnTo>
                    <a:lnTo>
                      <a:pt x="4581" y="8805"/>
                    </a:lnTo>
                    <a:lnTo>
                      <a:pt x="4631" y="8813"/>
                    </a:lnTo>
                    <a:lnTo>
                      <a:pt x="4681" y="8823"/>
                    </a:lnTo>
                    <a:lnTo>
                      <a:pt x="4731" y="8831"/>
                    </a:lnTo>
                    <a:lnTo>
                      <a:pt x="4780" y="8840"/>
                    </a:lnTo>
                    <a:lnTo>
                      <a:pt x="4780" y="9346"/>
                    </a:lnTo>
                    <a:lnTo>
                      <a:pt x="3983" y="9198"/>
                    </a:lnTo>
                    <a:lnTo>
                      <a:pt x="3983" y="8703"/>
                    </a:lnTo>
                    <a:close/>
                    <a:moveTo>
                      <a:pt x="3983" y="9638"/>
                    </a:moveTo>
                    <a:lnTo>
                      <a:pt x="4780" y="9797"/>
                    </a:lnTo>
                    <a:lnTo>
                      <a:pt x="4780" y="10303"/>
                    </a:lnTo>
                    <a:lnTo>
                      <a:pt x="4731" y="10292"/>
                    </a:lnTo>
                    <a:lnTo>
                      <a:pt x="4681" y="10281"/>
                    </a:lnTo>
                    <a:lnTo>
                      <a:pt x="4631" y="10271"/>
                    </a:lnTo>
                    <a:lnTo>
                      <a:pt x="4581" y="10261"/>
                    </a:lnTo>
                    <a:lnTo>
                      <a:pt x="4531" y="10250"/>
                    </a:lnTo>
                    <a:lnTo>
                      <a:pt x="4481" y="10240"/>
                    </a:lnTo>
                    <a:lnTo>
                      <a:pt x="4431" y="10229"/>
                    </a:lnTo>
                    <a:lnTo>
                      <a:pt x="4381" y="10218"/>
                    </a:lnTo>
                    <a:lnTo>
                      <a:pt x="4331" y="10208"/>
                    </a:lnTo>
                    <a:lnTo>
                      <a:pt x="4281" y="10198"/>
                    </a:lnTo>
                    <a:lnTo>
                      <a:pt x="4231" y="10187"/>
                    </a:lnTo>
                    <a:lnTo>
                      <a:pt x="4183" y="10176"/>
                    </a:lnTo>
                    <a:lnTo>
                      <a:pt x="4133" y="10166"/>
                    </a:lnTo>
                    <a:lnTo>
                      <a:pt x="4083" y="10156"/>
                    </a:lnTo>
                    <a:lnTo>
                      <a:pt x="4033" y="10145"/>
                    </a:lnTo>
                    <a:lnTo>
                      <a:pt x="3983" y="10135"/>
                    </a:lnTo>
                    <a:lnTo>
                      <a:pt x="3983" y="9638"/>
                    </a:lnTo>
                    <a:close/>
                    <a:moveTo>
                      <a:pt x="5204" y="12328"/>
                    </a:moveTo>
                    <a:lnTo>
                      <a:pt x="5204" y="11815"/>
                    </a:lnTo>
                    <a:lnTo>
                      <a:pt x="6002" y="12014"/>
                    </a:lnTo>
                    <a:lnTo>
                      <a:pt x="6002" y="12536"/>
                    </a:lnTo>
                    <a:lnTo>
                      <a:pt x="5952" y="12523"/>
                    </a:lnTo>
                    <a:lnTo>
                      <a:pt x="5902" y="12511"/>
                    </a:lnTo>
                    <a:lnTo>
                      <a:pt x="5853" y="12498"/>
                    </a:lnTo>
                    <a:lnTo>
                      <a:pt x="5803" y="12484"/>
                    </a:lnTo>
                    <a:lnTo>
                      <a:pt x="5753" y="12471"/>
                    </a:lnTo>
                    <a:lnTo>
                      <a:pt x="5703" y="12458"/>
                    </a:lnTo>
                    <a:lnTo>
                      <a:pt x="5653" y="12445"/>
                    </a:lnTo>
                    <a:lnTo>
                      <a:pt x="5604" y="12432"/>
                    </a:lnTo>
                    <a:lnTo>
                      <a:pt x="5554" y="12418"/>
                    </a:lnTo>
                    <a:lnTo>
                      <a:pt x="5504" y="12405"/>
                    </a:lnTo>
                    <a:lnTo>
                      <a:pt x="5454" y="12393"/>
                    </a:lnTo>
                    <a:lnTo>
                      <a:pt x="5404" y="12380"/>
                    </a:lnTo>
                    <a:lnTo>
                      <a:pt x="5354" y="12366"/>
                    </a:lnTo>
                    <a:lnTo>
                      <a:pt x="5304" y="12353"/>
                    </a:lnTo>
                    <a:lnTo>
                      <a:pt x="5254" y="12341"/>
                    </a:lnTo>
                    <a:lnTo>
                      <a:pt x="5204" y="12328"/>
                    </a:lnTo>
                    <a:close/>
                    <a:moveTo>
                      <a:pt x="5204" y="12784"/>
                    </a:moveTo>
                    <a:lnTo>
                      <a:pt x="6002" y="13000"/>
                    </a:lnTo>
                    <a:lnTo>
                      <a:pt x="6002" y="13523"/>
                    </a:lnTo>
                    <a:lnTo>
                      <a:pt x="5204" y="13294"/>
                    </a:lnTo>
                    <a:lnTo>
                      <a:pt x="5204" y="12784"/>
                    </a:lnTo>
                    <a:close/>
                    <a:moveTo>
                      <a:pt x="2761" y="3953"/>
                    </a:moveTo>
                    <a:lnTo>
                      <a:pt x="3558" y="3993"/>
                    </a:lnTo>
                    <a:lnTo>
                      <a:pt x="3558" y="4483"/>
                    </a:lnTo>
                    <a:lnTo>
                      <a:pt x="2761" y="4433"/>
                    </a:lnTo>
                    <a:lnTo>
                      <a:pt x="2761" y="3953"/>
                    </a:lnTo>
                    <a:close/>
                    <a:moveTo>
                      <a:pt x="2761" y="3526"/>
                    </a:moveTo>
                    <a:lnTo>
                      <a:pt x="2761" y="3047"/>
                    </a:lnTo>
                    <a:lnTo>
                      <a:pt x="3558" y="3066"/>
                    </a:lnTo>
                    <a:lnTo>
                      <a:pt x="3558" y="3557"/>
                    </a:lnTo>
                    <a:lnTo>
                      <a:pt x="3508" y="3555"/>
                    </a:lnTo>
                    <a:lnTo>
                      <a:pt x="3458" y="3553"/>
                    </a:lnTo>
                    <a:lnTo>
                      <a:pt x="3408" y="3552"/>
                    </a:lnTo>
                    <a:lnTo>
                      <a:pt x="3358" y="3550"/>
                    </a:lnTo>
                    <a:lnTo>
                      <a:pt x="3310" y="3547"/>
                    </a:lnTo>
                    <a:lnTo>
                      <a:pt x="3260" y="3545"/>
                    </a:lnTo>
                    <a:lnTo>
                      <a:pt x="3210" y="3543"/>
                    </a:lnTo>
                    <a:lnTo>
                      <a:pt x="3160" y="3542"/>
                    </a:lnTo>
                    <a:lnTo>
                      <a:pt x="3110" y="3540"/>
                    </a:lnTo>
                    <a:lnTo>
                      <a:pt x="3060" y="3538"/>
                    </a:lnTo>
                    <a:lnTo>
                      <a:pt x="3010" y="3536"/>
                    </a:lnTo>
                    <a:lnTo>
                      <a:pt x="2960" y="3534"/>
                    </a:lnTo>
                    <a:lnTo>
                      <a:pt x="2910" y="3532"/>
                    </a:lnTo>
                    <a:lnTo>
                      <a:pt x="2860" y="3530"/>
                    </a:lnTo>
                    <a:lnTo>
                      <a:pt x="2810" y="3528"/>
                    </a:lnTo>
                    <a:lnTo>
                      <a:pt x="2761" y="3526"/>
                    </a:lnTo>
                    <a:close/>
                    <a:moveTo>
                      <a:pt x="3983" y="6384"/>
                    </a:moveTo>
                    <a:lnTo>
                      <a:pt x="3983" y="5889"/>
                    </a:lnTo>
                    <a:lnTo>
                      <a:pt x="4780" y="5968"/>
                    </a:lnTo>
                    <a:lnTo>
                      <a:pt x="4780" y="6474"/>
                    </a:lnTo>
                    <a:lnTo>
                      <a:pt x="3983" y="6384"/>
                    </a:lnTo>
                    <a:close/>
                    <a:moveTo>
                      <a:pt x="3983" y="6826"/>
                    </a:moveTo>
                    <a:lnTo>
                      <a:pt x="4033" y="6832"/>
                    </a:lnTo>
                    <a:lnTo>
                      <a:pt x="4083" y="6838"/>
                    </a:lnTo>
                    <a:lnTo>
                      <a:pt x="4133" y="6845"/>
                    </a:lnTo>
                    <a:lnTo>
                      <a:pt x="4183" y="6851"/>
                    </a:lnTo>
                    <a:lnTo>
                      <a:pt x="4231" y="6857"/>
                    </a:lnTo>
                    <a:lnTo>
                      <a:pt x="4281" y="6864"/>
                    </a:lnTo>
                    <a:lnTo>
                      <a:pt x="4331" y="6870"/>
                    </a:lnTo>
                    <a:lnTo>
                      <a:pt x="4381" y="6876"/>
                    </a:lnTo>
                    <a:lnTo>
                      <a:pt x="4431" y="6882"/>
                    </a:lnTo>
                    <a:lnTo>
                      <a:pt x="4481" y="6888"/>
                    </a:lnTo>
                    <a:lnTo>
                      <a:pt x="4531" y="6894"/>
                    </a:lnTo>
                    <a:lnTo>
                      <a:pt x="4581" y="6900"/>
                    </a:lnTo>
                    <a:lnTo>
                      <a:pt x="4631" y="6906"/>
                    </a:lnTo>
                    <a:lnTo>
                      <a:pt x="4681" y="6912"/>
                    </a:lnTo>
                    <a:lnTo>
                      <a:pt x="4731" y="6918"/>
                    </a:lnTo>
                    <a:lnTo>
                      <a:pt x="4780" y="6925"/>
                    </a:lnTo>
                    <a:lnTo>
                      <a:pt x="4780" y="7431"/>
                    </a:lnTo>
                    <a:lnTo>
                      <a:pt x="3983" y="7322"/>
                    </a:lnTo>
                    <a:lnTo>
                      <a:pt x="3983" y="6826"/>
                    </a:lnTo>
                    <a:close/>
                    <a:moveTo>
                      <a:pt x="3983" y="4952"/>
                    </a:moveTo>
                    <a:lnTo>
                      <a:pt x="4033" y="4956"/>
                    </a:lnTo>
                    <a:lnTo>
                      <a:pt x="4083" y="4959"/>
                    </a:lnTo>
                    <a:lnTo>
                      <a:pt x="4133" y="4963"/>
                    </a:lnTo>
                    <a:lnTo>
                      <a:pt x="4183" y="4967"/>
                    </a:lnTo>
                    <a:lnTo>
                      <a:pt x="4231" y="4971"/>
                    </a:lnTo>
                    <a:lnTo>
                      <a:pt x="4281" y="4975"/>
                    </a:lnTo>
                    <a:lnTo>
                      <a:pt x="4331" y="4979"/>
                    </a:lnTo>
                    <a:lnTo>
                      <a:pt x="4381" y="4982"/>
                    </a:lnTo>
                    <a:lnTo>
                      <a:pt x="4431" y="4986"/>
                    </a:lnTo>
                    <a:lnTo>
                      <a:pt x="4481" y="4990"/>
                    </a:lnTo>
                    <a:lnTo>
                      <a:pt x="4531" y="4993"/>
                    </a:lnTo>
                    <a:lnTo>
                      <a:pt x="4581" y="4997"/>
                    </a:lnTo>
                    <a:lnTo>
                      <a:pt x="4631" y="5000"/>
                    </a:lnTo>
                    <a:lnTo>
                      <a:pt x="4681" y="5004"/>
                    </a:lnTo>
                    <a:lnTo>
                      <a:pt x="4731" y="5007"/>
                    </a:lnTo>
                    <a:lnTo>
                      <a:pt x="4780" y="5011"/>
                    </a:lnTo>
                    <a:lnTo>
                      <a:pt x="4780" y="5518"/>
                    </a:lnTo>
                    <a:lnTo>
                      <a:pt x="3983" y="5449"/>
                    </a:lnTo>
                    <a:lnTo>
                      <a:pt x="3983" y="4952"/>
                    </a:lnTo>
                    <a:close/>
                    <a:moveTo>
                      <a:pt x="3983" y="4014"/>
                    </a:moveTo>
                    <a:lnTo>
                      <a:pt x="4780" y="4053"/>
                    </a:lnTo>
                    <a:lnTo>
                      <a:pt x="4780" y="4560"/>
                    </a:lnTo>
                    <a:lnTo>
                      <a:pt x="4731" y="4557"/>
                    </a:lnTo>
                    <a:lnTo>
                      <a:pt x="4681" y="4553"/>
                    </a:lnTo>
                    <a:lnTo>
                      <a:pt x="4631" y="4550"/>
                    </a:lnTo>
                    <a:lnTo>
                      <a:pt x="4581" y="4547"/>
                    </a:lnTo>
                    <a:lnTo>
                      <a:pt x="4531" y="4544"/>
                    </a:lnTo>
                    <a:lnTo>
                      <a:pt x="4481" y="4541"/>
                    </a:lnTo>
                    <a:lnTo>
                      <a:pt x="4431" y="4538"/>
                    </a:lnTo>
                    <a:lnTo>
                      <a:pt x="4381" y="4535"/>
                    </a:lnTo>
                    <a:lnTo>
                      <a:pt x="4331" y="4532"/>
                    </a:lnTo>
                    <a:lnTo>
                      <a:pt x="4281" y="4529"/>
                    </a:lnTo>
                    <a:lnTo>
                      <a:pt x="4231" y="4526"/>
                    </a:lnTo>
                    <a:lnTo>
                      <a:pt x="4183" y="4522"/>
                    </a:lnTo>
                    <a:lnTo>
                      <a:pt x="4133" y="4519"/>
                    </a:lnTo>
                    <a:lnTo>
                      <a:pt x="4083" y="4516"/>
                    </a:lnTo>
                    <a:lnTo>
                      <a:pt x="4033" y="4513"/>
                    </a:lnTo>
                    <a:lnTo>
                      <a:pt x="3983" y="4510"/>
                    </a:lnTo>
                    <a:lnTo>
                      <a:pt x="3983" y="4014"/>
                    </a:lnTo>
                    <a:close/>
                    <a:moveTo>
                      <a:pt x="3983" y="3574"/>
                    </a:moveTo>
                    <a:lnTo>
                      <a:pt x="3983" y="3077"/>
                    </a:lnTo>
                    <a:lnTo>
                      <a:pt x="4780" y="3096"/>
                    </a:lnTo>
                    <a:lnTo>
                      <a:pt x="4780" y="3603"/>
                    </a:lnTo>
                    <a:lnTo>
                      <a:pt x="4731" y="3601"/>
                    </a:lnTo>
                    <a:lnTo>
                      <a:pt x="4681" y="3599"/>
                    </a:lnTo>
                    <a:lnTo>
                      <a:pt x="4631" y="3597"/>
                    </a:lnTo>
                    <a:lnTo>
                      <a:pt x="4581" y="3595"/>
                    </a:lnTo>
                    <a:lnTo>
                      <a:pt x="4531" y="3594"/>
                    </a:lnTo>
                    <a:lnTo>
                      <a:pt x="4481" y="3592"/>
                    </a:lnTo>
                    <a:lnTo>
                      <a:pt x="4431" y="3590"/>
                    </a:lnTo>
                    <a:lnTo>
                      <a:pt x="4381" y="3588"/>
                    </a:lnTo>
                    <a:lnTo>
                      <a:pt x="4331" y="3586"/>
                    </a:lnTo>
                    <a:lnTo>
                      <a:pt x="4281" y="3584"/>
                    </a:lnTo>
                    <a:lnTo>
                      <a:pt x="4231" y="3583"/>
                    </a:lnTo>
                    <a:lnTo>
                      <a:pt x="4183" y="3581"/>
                    </a:lnTo>
                    <a:lnTo>
                      <a:pt x="4133" y="3579"/>
                    </a:lnTo>
                    <a:lnTo>
                      <a:pt x="4083" y="3577"/>
                    </a:lnTo>
                    <a:lnTo>
                      <a:pt x="4033" y="3575"/>
                    </a:lnTo>
                    <a:lnTo>
                      <a:pt x="3983" y="3574"/>
                    </a:lnTo>
                    <a:close/>
                    <a:moveTo>
                      <a:pt x="5204" y="10392"/>
                    </a:moveTo>
                    <a:lnTo>
                      <a:pt x="5204" y="9880"/>
                    </a:lnTo>
                    <a:lnTo>
                      <a:pt x="6002" y="10038"/>
                    </a:lnTo>
                    <a:lnTo>
                      <a:pt x="6002" y="10561"/>
                    </a:lnTo>
                    <a:lnTo>
                      <a:pt x="5952" y="10551"/>
                    </a:lnTo>
                    <a:lnTo>
                      <a:pt x="5902" y="10541"/>
                    </a:lnTo>
                    <a:lnTo>
                      <a:pt x="5853" y="10529"/>
                    </a:lnTo>
                    <a:lnTo>
                      <a:pt x="5803" y="10519"/>
                    </a:lnTo>
                    <a:lnTo>
                      <a:pt x="5753" y="10508"/>
                    </a:lnTo>
                    <a:lnTo>
                      <a:pt x="5703" y="10498"/>
                    </a:lnTo>
                    <a:lnTo>
                      <a:pt x="5653" y="10487"/>
                    </a:lnTo>
                    <a:lnTo>
                      <a:pt x="5604" y="10477"/>
                    </a:lnTo>
                    <a:lnTo>
                      <a:pt x="5554" y="10465"/>
                    </a:lnTo>
                    <a:lnTo>
                      <a:pt x="5504" y="10455"/>
                    </a:lnTo>
                    <a:lnTo>
                      <a:pt x="5454" y="10445"/>
                    </a:lnTo>
                    <a:lnTo>
                      <a:pt x="5404" y="10434"/>
                    </a:lnTo>
                    <a:lnTo>
                      <a:pt x="5354" y="10424"/>
                    </a:lnTo>
                    <a:lnTo>
                      <a:pt x="5304" y="10413"/>
                    </a:lnTo>
                    <a:lnTo>
                      <a:pt x="5254" y="10402"/>
                    </a:lnTo>
                    <a:lnTo>
                      <a:pt x="5204" y="10392"/>
                    </a:lnTo>
                    <a:close/>
                    <a:moveTo>
                      <a:pt x="5204" y="10848"/>
                    </a:moveTo>
                    <a:lnTo>
                      <a:pt x="5254" y="10859"/>
                    </a:lnTo>
                    <a:lnTo>
                      <a:pt x="5304" y="10870"/>
                    </a:lnTo>
                    <a:lnTo>
                      <a:pt x="5354" y="10881"/>
                    </a:lnTo>
                    <a:lnTo>
                      <a:pt x="5404" y="10893"/>
                    </a:lnTo>
                    <a:lnTo>
                      <a:pt x="5454" y="10904"/>
                    </a:lnTo>
                    <a:lnTo>
                      <a:pt x="5504" y="10915"/>
                    </a:lnTo>
                    <a:lnTo>
                      <a:pt x="5554" y="10926"/>
                    </a:lnTo>
                    <a:lnTo>
                      <a:pt x="5604" y="10937"/>
                    </a:lnTo>
                    <a:lnTo>
                      <a:pt x="5653" y="10949"/>
                    </a:lnTo>
                    <a:lnTo>
                      <a:pt x="5703" y="10960"/>
                    </a:lnTo>
                    <a:lnTo>
                      <a:pt x="5753" y="10971"/>
                    </a:lnTo>
                    <a:lnTo>
                      <a:pt x="5803" y="10982"/>
                    </a:lnTo>
                    <a:lnTo>
                      <a:pt x="5853" y="10993"/>
                    </a:lnTo>
                    <a:lnTo>
                      <a:pt x="5902" y="11004"/>
                    </a:lnTo>
                    <a:lnTo>
                      <a:pt x="5952" y="11016"/>
                    </a:lnTo>
                    <a:lnTo>
                      <a:pt x="6002" y="11027"/>
                    </a:lnTo>
                    <a:lnTo>
                      <a:pt x="6002" y="11550"/>
                    </a:lnTo>
                    <a:lnTo>
                      <a:pt x="5952" y="11537"/>
                    </a:lnTo>
                    <a:lnTo>
                      <a:pt x="5902" y="11525"/>
                    </a:lnTo>
                    <a:lnTo>
                      <a:pt x="5853" y="11514"/>
                    </a:lnTo>
                    <a:lnTo>
                      <a:pt x="5803" y="11502"/>
                    </a:lnTo>
                    <a:lnTo>
                      <a:pt x="5753" y="11490"/>
                    </a:lnTo>
                    <a:lnTo>
                      <a:pt x="5703" y="11478"/>
                    </a:lnTo>
                    <a:lnTo>
                      <a:pt x="5653" y="11466"/>
                    </a:lnTo>
                    <a:lnTo>
                      <a:pt x="5604" y="11454"/>
                    </a:lnTo>
                    <a:lnTo>
                      <a:pt x="5554" y="11443"/>
                    </a:lnTo>
                    <a:lnTo>
                      <a:pt x="5504" y="11431"/>
                    </a:lnTo>
                    <a:lnTo>
                      <a:pt x="5454" y="11419"/>
                    </a:lnTo>
                    <a:lnTo>
                      <a:pt x="5404" y="11407"/>
                    </a:lnTo>
                    <a:lnTo>
                      <a:pt x="5354" y="11395"/>
                    </a:lnTo>
                    <a:lnTo>
                      <a:pt x="5304" y="11384"/>
                    </a:lnTo>
                    <a:lnTo>
                      <a:pt x="5254" y="11372"/>
                    </a:lnTo>
                    <a:lnTo>
                      <a:pt x="5204" y="11360"/>
                    </a:lnTo>
                    <a:lnTo>
                      <a:pt x="5204" y="10848"/>
                    </a:lnTo>
                    <a:close/>
                    <a:moveTo>
                      <a:pt x="5204" y="8458"/>
                    </a:moveTo>
                    <a:lnTo>
                      <a:pt x="5204" y="7946"/>
                    </a:lnTo>
                    <a:lnTo>
                      <a:pt x="6002" y="8064"/>
                    </a:lnTo>
                    <a:lnTo>
                      <a:pt x="6002" y="8588"/>
                    </a:lnTo>
                    <a:lnTo>
                      <a:pt x="5952" y="8580"/>
                    </a:lnTo>
                    <a:lnTo>
                      <a:pt x="5902" y="8571"/>
                    </a:lnTo>
                    <a:lnTo>
                      <a:pt x="5853" y="8563"/>
                    </a:lnTo>
                    <a:lnTo>
                      <a:pt x="5803" y="8555"/>
                    </a:lnTo>
                    <a:lnTo>
                      <a:pt x="5753" y="8547"/>
                    </a:lnTo>
                    <a:lnTo>
                      <a:pt x="5703" y="8539"/>
                    </a:lnTo>
                    <a:lnTo>
                      <a:pt x="5653" y="8531"/>
                    </a:lnTo>
                    <a:lnTo>
                      <a:pt x="5604" y="8523"/>
                    </a:lnTo>
                    <a:lnTo>
                      <a:pt x="5554" y="8514"/>
                    </a:lnTo>
                    <a:lnTo>
                      <a:pt x="5504" y="8506"/>
                    </a:lnTo>
                    <a:lnTo>
                      <a:pt x="5454" y="8498"/>
                    </a:lnTo>
                    <a:lnTo>
                      <a:pt x="5404" y="8490"/>
                    </a:lnTo>
                    <a:lnTo>
                      <a:pt x="5354" y="8482"/>
                    </a:lnTo>
                    <a:lnTo>
                      <a:pt x="5304" y="8474"/>
                    </a:lnTo>
                    <a:lnTo>
                      <a:pt x="5254" y="8466"/>
                    </a:lnTo>
                    <a:lnTo>
                      <a:pt x="5204" y="8458"/>
                    </a:lnTo>
                    <a:close/>
                    <a:moveTo>
                      <a:pt x="5204" y="8912"/>
                    </a:moveTo>
                    <a:lnTo>
                      <a:pt x="5254" y="8921"/>
                    </a:lnTo>
                    <a:lnTo>
                      <a:pt x="5304" y="8929"/>
                    </a:lnTo>
                    <a:lnTo>
                      <a:pt x="5354" y="8939"/>
                    </a:lnTo>
                    <a:lnTo>
                      <a:pt x="5404" y="8948"/>
                    </a:lnTo>
                    <a:lnTo>
                      <a:pt x="5454" y="8956"/>
                    </a:lnTo>
                    <a:lnTo>
                      <a:pt x="5504" y="8965"/>
                    </a:lnTo>
                    <a:lnTo>
                      <a:pt x="5554" y="8973"/>
                    </a:lnTo>
                    <a:lnTo>
                      <a:pt x="5604" y="8982"/>
                    </a:lnTo>
                    <a:lnTo>
                      <a:pt x="5653" y="8990"/>
                    </a:lnTo>
                    <a:lnTo>
                      <a:pt x="5703" y="9000"/>
                    </a:lnTo>
                    <a:lnTo>
                      <a:pt x="5753" y="9008"/>
                    </a:lnTo>
                    <a:lnTo>
                      <a:pt x="5803" y="9017"/>
                    </a:lnTo>
                    <a:lnTo>
                      <a:pt x="5853" y="9025"/>
                    </a:lnTo>
                    <a:lnTo>
                      <a:pt x="5902" y="9034"/>
                    </a:lnTo>
                    <a:lnTo>
                      <a:pt x="5952" y="9042"/>
                    </a:lnTo>
                    <a:lnTo>
                      <a:pt x="6002" y="9051"/>
                    </a:lnTo>
                    <a:lnTo>
                      <a:pt x="6002" y="9574"/>
                    </a:lnTo>
                    <a:lnTo>
                      <a:pt x="5204" y="9425"/>
                    </a:lnTo>
                    <a:lnTo>
                      <a:pt x="5204" y="8912"/>
                    </a:lnTo>
                    <a:close/>
                    <a:moveTo>
                      <a:pt x="5204" y="6976"/>
                    </a:moveTo>
                    <a:lnTo>
                      <a:pt x="5254" y="6984"/>
                    </a:lnTo>
                    <a:lnTo>
                      <a:pt x="5304" y="6990"/>
                    </a:lnTo>
                    <a:lnTo>
                      <a:pt x="5354" y="6996"/>
                    </a:lnTo>
                    <a:lnTo>
                      <a:pt x="5404" y="7002"/>
                    </a:lnTo>
                    <a:lnTo>
                      <a:pt x="5454" y="7008"/>
                    </a:lnTo>
                    <a:lnTo>
                      <a:pt x="5504" y="7014"/>
                    </a:lnTo>
                    <a:lnTo>
                      <a:pt x="5554" y="7020"/>
                    </a:lnTo>
                    <a:lnTo>
                      <a:pt x="5604" y="7027"/>
                    </a:lnTo>
                    <a:lnTo>
                      <a:pt x="5653" y="7033"/>
                    </a:lnTo>
                    <a:lnTo>
                      <a:pt x="5703" y="7039"/>
                    </a:lnTo>
                    <a:lnTo>
                      <a:pt x="5753" y="7046"/>
                    </a:lnTo>
                    <a:lnTo>
                      <a:pt x="5803" y="7052"/>
                    </a:lnTo>
                    <a:lnTo>
                      <a:pt x="5853" y="7058"/>
                    </a:lnTo>
                    <a:lnTo>
                      <a:pt x="5902" y="7064"/>
                    </a:lnTo>
                    <a:lnTo>
                      <a:pt x="5952" y="7070"/>
                    </a:lnTo>
                    <a:lnTo>
                      <a:pt x="6002" y="7076"/>
                    </a:lnTo>
                    <a:lnTo>
                      <a:pt x="6002" y="7599"/>
                    </a:lnTo>
                    <a:lnTo>
                      <a:pt x="5204" y="7489"/>
                    </a:lnTo>
                    <a:lnTo>
                      <a:pt x="5204" y="6976"/>
                    </a:lnTo>
                    <a:close/>
                    <a:moveTo>
                      <a:pt x="5204" y="6010"/>
                    </a:moveTo>
                    <a:lnTo>
                      <a:pt x="6002" y="6088"/>
                    </a:lnTo>
                    <a:lnTo>
                      <a:pt x="6002" y="6612"/>
                    </a:lnTo>
                    <a:lnTo>
                      <a:pt x="5952" y="6606"/>
                    </a:lnTo>
                    <a:lnTo>
                      <a:pt x="5902" y="6601"/>
                    </a:lnTo>
                    <a:lnTo>
                      <a:pt x="5853" y="6595"/>
                    </a:lnTo>
                    <a:lnTo>
                      <a:pt x="5803" y="6589"/>
                    </a:lnTo>
                    <a:lnTo>
                      <a:pt x="5753" y="6584"/>
                    </a:lnTo>
                    <a:lnTo>
                      <a:pt x="5703" y="6578"/>
                    </a:lnTo>
                    <a:lnTo>
                      <a:pt x="5653" y="6573"/>
                    </a:lnTo>
                    <a:lnTo>
                      <a:pt x="5604" y="6566"/>
                    </a:lnTo>
                    <a:lnTo>
                      <a:pt x="5554" y="6561"/>
                    </a:lnTo>
                    <a:lnTo>
                      <a:pt x="5504" y="6555"/>
                    </a:lnTo>
                    <a:lnTo>
                      <a:pt x="5454" y="6550"/>
                    </a:lnTo>
                    <a:lnTo>
                      <a:pt x="5404" y="6544"/>
                    </a:lnTo>
                    <a:lnTo>
                      <a:pt x="5354" y="6539"/>
                    </a:lnTo>
                    <a:lnTo>
                      <a:pt x="5304" y="6534"/>
                    </a:lnTo>
                    <a:lnTo>
                      <a:pt x="5254" y="6528"/>
                    </a:lnTo>
                    <a:lnTo>
                      <a:pt x="5204" y="6523"/>
                    </a:lnTo>
                    <a:lnTo>
                      <a:pt x="5204" y="6010"/>
                    </a:lnTo>
                    <a:close/>
                    <a:moveTo>
                      <a:pt x="5204" y="5043"/>
                    </a:moveTo>
                    <a:lnTo>
                      <a:pt x="5254" y="5047"/>
                    </a:lnTo>
                    <a:lnTo>
                      <a:pt x="5304" y="5050"/>
                    </a:lnTo>
                    <a:lnTo>
                      <a:pt x="5354" y="5054"/>
                    </a:lnTo>
                    <a:lnTo>
                      <a:pt x="5404" y="5058"/>
                    </a:lnTo>
                    <a:lnTo>
                      <a:pt x="5454" y="5061"/>
                    </a:lnTo>
                    <a:lnTo>
                      <a:pt x="5504" y="5065"/>
                    </a:lnTo>
                    <a:lnTo>
                      <a:pt x="5554" y="5069"/>
                    </a:lnTo>
                    <a:lnTo>
                      <a:pt x="5604" y="5072"/>
                    </a:lnTo>
                    <a:lnTo>
                      <a:pt x="5653" y="5076"/>
                    </a:lnTo>
                    <a:lnTo>
                      <a:pt x="5703" y="5080"/>
                    </a:lnTo>
                    <a:lnTo>
                      <a:pt x="5753" y="5083"/>
                    </a:lnTo>
                    <a:lnTo>
                      <a:pt x="5803" y="5087"/>
                    </a:lnTo>
                    <a:lnTo>
                      <a:pt x="5853" y="5091"/>
                    </a:lnTo>
                    <a:lnTo>
                      <a:pt x="5902" y="5095"/>
                    </a:lnTo>
                    <a:lnTo>
                      <a:pt x="5952" y="5098"/>
                    </a:lnTo>
                    <a:lnTo>
                      <a:pt x="6002" y="5102"/>
                    </a:lnTo>
                    <a:lnTo>
                      <a:pt x="6002" y="5625"/>
                    </a:lnTo>
                    <a:lnTo>
                      <a:pt x="5204" y="5554"/>
                    </a:lnTo>
                    <a:lnTo>
                      <a:pt x="5204" y="5043"/>
                    </a:lnTo>
                    <a:close/>
                    <a:moveTo>
                      <a:pt x="5204" y="4074"/>
                    </a:moveTo>
                    <a:lnTo>
                      <a:pt x="6002" y="4114"/>
                    </a:lnTo>
                    <a:lnTo>
                      <a:pt x="6002" y="4637"/>
                    </a:lnTo>
                    <a:lnTo>
                      <a:pt x="5204" y="4586"/>
                    </a:lnTo>
                    <a:lnTo>
                      <a:pt x="5204" y="4074"/>
                    </a:lnTo>
                    <a:close/>
                    <a:moveTo>
                      <a:pt x="5204" y="3620"/>
                    </a:moveTo>
                    <a:lnTo>
                      <a:pt x="5204" y="3107"/>
                    </a:lnTo>
                    <a:lnTo>
                      <a:pt x="6002" y="3126"/>
                    </a:lnTo>
                    <a:lnTo>
                      <a:pt x="6002" y="3649"/>
                    </a:lnTo>
                    <a:lnTo>
                      <a:pt x="5204" y="3620"/>
                    </a:lnTo>
                    <a:close/>
                    <a:moveTo>
                      <a:pt x="6427" y="12646"/>
                    </a:moveTo>
                    <a:lnTo>
                      <a:pt x="6427" y="12118"/>
                    </a:lnTo>
                    <a:lnTo>
                      <a:pt x="6477" y="12131"/>
                    </a:lnTo>
                    <a:lnTo>
                      <a:pt x="6526" y="12143"/>
                    </a:lnTo>
                    <a:lnTo>
                      <a:pt x="6576" y="12156"/>
                    </a:lnTo>
                    <a:lnTo>
                      <a:pt x="6626" y="12168"/>
                    </a:lnTo>
                    <a:lnTo>
                      <a:pt x="6676" y="12180"/>
                    </a:lnTo>
                    <a:lnTo>
                      <a:pt x="6725" y="12193"/>
                    </a:lnTo>
                    <a:lnTo>
                      <a:pt x="6775" y="12205"/>
                    </a:lnTo>
                    <a:lnTo>
                      <a:pt x="6825" y="12217"/>
                    </a:lnTo>
                    <a:lnTo>
                      <a:pt x="6875" y="12229"/>
                    </a:lnTo>
                    <a:lnTo>
                      <a:pt x="6925" y="12241"/>
                    </a:lnTo>
                    <a:lnTo>
                      <a:pt x="6975" y="12254"/>
                    </a:lnTo>
                    <a:lnTo>
                      <a:pt x="7025" y="12266"/>
                    </a:lnTo>
                    <a:lnTo>
                      <a:pt x="7074" y="12278"/>
                    </a:lnTo>
                    <a:lnTo>
                      <a:pt x="7124" y="12291"/>
                    </a:lnTo>
                    <a:lnTo>
                      <a:pt x="7174" y="12303"/>
                    </a:lnTo>
                    <a:lnTo>
                      <a:pt x="7224" y="12316"/>
                    </a:lnTo>
                    <a:lnTo>
                      <a:pt x="7224" y="12855"/>
                    </a:lnTo>
                    <a:lnTo>
                      <a:pt x="7174" y="12842"/>
                    </a:lnTo>
                    <a:lnTo>
                      <a:pt x="7124" y="12828"/>
                    </a:lnTo>
                    <a:lnTo>
                      <a:pt x="7074" y="12815"/>
                    </a:lnTo>
                    <a:lnTo>
                      <a:pt x="7025" y="12802"/>
                    </a:lnTo>
                    <a:lnTo>
                      <a:pt x="6975" y="12789"/>
                    </a:lnTo>
                    <a:lnTo>
                      <a:pt x="6925" y="12775"/>
                    </a:lnTo>
                    <a:lnTo>
                      <a:pt x="6875" y="12763"/>
                    </a:lnTo>
                    <a:lnTo>
                      <a:pt x="6825" y="12750"/>
                    </a:lnTo>
                    <a:lnTo>
                      <a:pt x="6775" y="12737"/>
                    </a:lnTo>
                    <a:lnTo>
                      <a:pt x="6725" y="12724"/>
                    </a:lnTo>
                    <a:lnTo>
                      <a:pt x="6676" y="12710"/>
                    </a:lnTo>
                    <a:lnTo>
                      <a:pt x="6626" y="12698"/>
                    </a:lnTo>
                    <a:lnTo>
                      <a:pt x="6576" y="12685"/>
                    </a:lnTo>
                    <a:lnTo>
                      <a:pt x="6526" y="12672"/>
                    </a:lnTo>
                    <a:lnTo>
                      <a:pt x="6477" y="12659"/>
                    </a:lnTo>
                    <a:lnTo>
                      <a:pt x="6427" y="12646"/>
                    </a:lnTo>
                    <a:close/>
                    <a:moveTo>
                      <a:pt x="6427" y="13115"/>
                    </a:moveTo>
                    <a:lnTo>
                      <a:pt x="7224" y="13333"/>
                    </a:lnTo>
                    <a:lnTo>
                      <a:pt x="7224" y="13871"/>
                    </a:lnTo>
                    <a:lnTo>
                      <a:pt x="7174" y="13857"/>
                    </a:lnTo>
                    <a:lnTo>
                      <a:pt x="7124" y="13842"/>
                    </a:lnTo>
                    <a:lnTo>
                      <a:pt x="7074" y="13828"/>
                    </a:lnTo>
                    <a:lnTo>
                      <a:pt x="7025" y="13814"/>
                    </a:lnTo>
                    <a:lnTo>
                      <a:pt x="6975" y="13800"/>
                    </a:lnTo>
                    <a:lnTo>
                      <a:pt x="6925" y="13785"/>
                    </a:lnTo>
                    <a:lnTo>
                      <a:pt x="6875" y="13771"/>
                    </a:lnTo>
                    <a:lnTo>
                      <a:pt x="6825" y="13757"/>
                    </a:lnTo>
                    <a:lnTo>
                      <a:pt x="6775" y="13743"/>
                    </a:lnTo>
                    <a:lnTo>
                      <a:pt x="6725" y="13729"/>
                    </a:lnTo>
                    <a:lnTo>
                      <a:pt x="6676" y="13714"/>
                    </a:lnTo>
                    <a:lnTo>
                      <a:pt x="6626" y="13700"/>
                    </a:lnTo>
                    <a:lnTo>
                      <a:pt x="6576" y="13686"/>
                    </a:lnTo>
                    <a:lnTo>
                      <a:pt x="6526" y="13672"/>
                    </a:lnTo>
                    <a:lnTo>
                      <a:pt x="6477" y="13657"/>
                    </a:lnTo>
                    <a:lnTo>
                      <a:pt x="6427" y="13643"/>
                    </a:lnTo>
                    <a:lnTo>
                      <a:pt x="6427" y="13115"/>
                    </a:lnTo>
                    <a:close/>
                    <a:moveTo>
                      <a:pt x="6427" y="10650"/>
                    </a:moveTo>
                    <a:lnTo>
                      <a:pt x="6427" y="10123"/>
                    </a:lnTo>
                    <a:lnTo>
                      <a:pt x="6477" y="10133"/>
                    </a:lnTo>
                    <a:lnTo>
                      <a:pt x="6526" y="10142"/>
                    </a:lnTo>
                    <a:lnTo>
                      <a:pt x="6576" y="10152"/>
                    </a:lnTo>
                    <a:lnTo>
                      <a:pt x="6626" y="10162"/>
                    </a:lnTo>
                    <a:lnTo>
                      <a:pt x="6676" y="10171"/>
                    </a:lnTo>
                    <a:lnTo>
                      <a:pt x="6725" y="10182"/>
                    </a:lnTo>
                    <a:lnTo>
                      <a:pt x="6775" y="10191"/>
                    </a:lnTo>
                    <a:lnTo>
                      <a:pt x="6825" y="10201"/>
                    </a:lnTo>
                    <a:lnTo>
                      <a:pt x="6875" y="10211"/>
                    </a:lnTo>
                    <a:lnTo>
                      <a:pt x="6925" y="10220"/>
                    </a:lnTo>
                    <a:lnTo>
                      <a:pt x="6975" y="10230"/>
                    </a:lnTo>
                    <a:lnTo>
                      <a:pt x="7025" y="10241"/>
                    </a:lnTo>
                    <a:lnTo>
                      <a:pt x="7074" y="10250"/>
                    </a:lnTo>
                    <a:lnTo>
                      <a:pt x="7124" y="10260"/>
                    </a:lnTo>
                    <a:lnTo>
                      <a:pt x="7174" y="10270"/>
                    </a:lnTo>
                    <a:lnTo>
                      <a:pt x="7224" y="10280"/>
                    </a:lnTo>
                    <a:lnTo>
                      <a:pt x="7224" y="10818"/>
                    </a:lnTo>
                    <a:lnTo>
                      <a:pt x="7174" y="10808"/>
                    </a:lnTo>
                    <a:lnTo>
                      <a:pt x="7124" y="10798"/>
                    </a:lnTo>
                    <a:lnTo>
                      <a:pt x="7074" y="10787"/>
                    </a:lnTo>
                    <a:lnTo>
                      <a:pt x="7025" y="10777"/>
                    </a:lnTo>
                    <a:lnTo>
                      <a:pt x="6975" y="10765"/>
                    </a:lnTo>
                    <a:lnTo>
                      <a:pt x="6925" y="10755"/>
                    </a:lnTo>
                    <a:lnTo>
                      <a:pt x="6875" y="10744"/>
                    </a:lnTo>
                    <a:lnTo>
                      <a:pt x="6825" y="10734"/>
                    </a:lnTo>
                    <a:lnTo>
                      <a:pt x="6775" y="10724"/>
                    </a:lnTo>
                    <a:lnTo>
                      <a:pt x="6725" y="10713"/>
                    </a:lnTo>
                    <a:lnTo>
                      <a:pt x="6676" y="10702"/>
                    </a:lnTo>
                    <a:lnTo>
                      <a:pt x="6626" y="10692"/>
                    </a:lnTo>
                    <a:lnTo>
                      <a:pt x="6576" y="10682"/>
                    </a:lnTo>
                    <a:lnTo>
                      <a:pt x="6526" y="10671"/>
                    </a:lnTo>
                    <a:lnTo>
                      <a:pt x="6477" y="10661"/>
                    </a:lnTo>
                    <a:lnTo>
                      <a:pt x="6427" y="10650"/>
                    </a:lnTo>
                    <a:close/>
                    <a:moveTo>
                      <a:pt x="6427" y="11120"/>
                    </a:moveTo>
                    <a:lnTo>
                      <a:pt x="7224" y="11298"/>
                    </a:lnTo>
                    <a:lnTo>
                      <a:pt x="7224" y="11838"/>
                    </a:lnTo>
                    <a:lnTo>
                      <a:pt x="7174" y="11825"/>
                    </a:lnTo>
                    <a:lnTo>
                      <a:pt x="7124" y="11813"/>
                    </a:lnTo>
                    <a:lnTo>
                      <a:pt x="7074" y="11802"/>
                    </a:lnTo>
                    <a:lnTo>
                      <a:pt x="7025" y="11790"/>
                    </a:lnTo>
                    <a:lnTo>
                      <a:pt x="6975" y="11779"/>
                    </a:lnTo>
                    <a:lnTo>
                      <a:pt x="6925" y="11766"/>
                    </a:lnTo>
                    <a:lnTo>
                      <a:pt x="6875" y="11754"/>
                    </a:lnTo>
                    <a:lnTo>
                      <a:pt x="6825" y="11743"/>
                    </a:lnTo>
                    <a:lnTo>
                      <a:pt x="6775" y="11731"/>
                    </a:lnTo>
                    <a:lnTo>
                      <a:pt x="6725" y="11719"/>
                    </a:lnTo>
                    <a:lnTo>
                      <a:pt x="6676" y="11707"/>
                    </a:lnTo>
                    <a:lnTo>
                      <a:pt x="6626" y="11695"/>
                    </a:lnTo>
                    <a:lnTo>
                      <a:pt x="6576" y="11684"/>
                    </a:lnTo>
                    <a:lnTo>
                      <a:pt x="6526" y="11672"/>
                    </a:lnTo>
                    <a:lnTo>
                      <a:pt x="6477" y="11661"/>
                    </a:lnTo>
                    <a:lnTo>
                      <a:pt x="6427" y="11648"/>
                    </a:lnTo>
                    <a:lnTo>
                      <a:pt x="6427" y="11120"/>
                    </a:lnTo>
                    <a:close/>
                    <a:moveTo>
                      <a:pt x="6427" y="9125"/>
                    </a:moveTo>
                    <a:lnTo>
                      <a:pt x="7224" y="9263"/>
                    </a:lnTo>
                    <a:lnTo>
                      <a:pt x="7224" y="9801"/>
                    </a:lnTo>
                    <a:lnTo>
                      <a:pt x="7174" y="9792"/>
                    </a:lnTo>
                    <a:lnTo>
                      <a:pt x="7124" y="9783"/>
                    </a:lnTo>
                    <a:lnTo>
                      <a:pt x="7074" y="9774"/>
                    </a:lnTo>
                    <a:lnTo>
                      <a:pt x="7025" y="9765"/>
                    </a:lnTo>
                    <a:lnTo>
                      <a:pt x="6975" y="9754"/>
                    </a:lnTo>
                    <a:lnTo>
                      <a:pt x="6925" y="9745"/>
                    </a:lnTo>
                    <a:lnTo>
                      <a:pt x="6875" y="9736"/>
                    </a:lnTo>
                    <a:lnTo>
                      <a:pt x="6825" y="9727"/>
                    </a:lnTo>
                    <a:lnTo>
                      <a:pt x="6775" y="9718"/>
                    </a:lnTo>
                    <a:lnTo>
                      <a:pt x="6725" y="9709"/>
                    </a:lnTo>
                    <a:lnTo>
                      <a:pt x="6676" y="9698"/>
                    </a:lnTo>
                    <a:lnTo>
                      <a:pt x="6626" y="9689"/>
                    </a:lnTo>
                    <a:lnTo>
                      <a:pt x="6576" y="9680"/>
                    </a:lnTo>
                    <a:lnTo>
                      <a:pt x="6526" y="9671"/>
                    </a:lnTo>
                    <a:lnTo>
                      <a:pt x="6477" y="9662"/>
                    </a:lnTo>
                    <a:lnTo>
                      <a:pt x="6427" y="9653"/>
                    </a:lnTo>
                    <a:lnTo>
                      <a:pt x="6427" y="9125"/>
                    </a:lnTo>
                    <a:close/>
                    <a:moveTo>
                      <a:pt x="6427" y="8127"/>
                    </a:moveTo>
                    <a:lnTo>
                      <a:pt x="6477" y="8134"/>
                    </a:lnTo>
                    <a:lnTo>
                      <a:pt x="6526" y="8141"/>
                    </a:lnTo>
                    <a:lnTo>
                      <a:pt x="6576" y="8149"/>
                    </a:lnTo>
                    <a:lnTo>
                      <a:pt x="6626" y="8156"/>
                    </a:lnTo>
                    <a:lnTo>
                      <a:pt x="6676" y="8163"/>
                    </a:lnTo>
                    <a:lnTo>
                      <a:pt x="6725" y="8171"/>
                    </a:lnTo>
                    <a:lnTo>
                      <a:pt x="6775" y="8179"/>
                    </a:lnTo>
                    <a:lnTo>
                      <a:pt x="6825" y="8186"/>
                    </a:lnTo>
                    <a:lnTo>
                      <a:pt x="6875" y="8193"/>
                    </a:lnTo>
                    <a:lnTo>
                      <a:pt x="6925" y="8201"/>
                    </a:lnTo>
                    <a:lnTo>
                      <a:pt x="6975" y="8208"/>
                    </a:lnTo>
                    <a:lnTo>
                      <a:pt x="7025" y="8215"/>
                    </a:lnTo>
                    <a:lnTo>
                      <a:pt x="7074" y="8223"/>
                    </a:lnTo>
                    <a:lnTo>
                      <a:pt x="7124" y="8231"/>
                    </a:lnTo>
                    <a:lnTo>
                      <a:pt x="7174" y="8238"/>
                    </a:lnTo>
                    <a:lnTo>
                      <a:pt x="7224" y="8246"/>
                    </a:lnTo>
                    <a:lnTo>
                      <a:pt x="7224" y="8784"/>
                    </a:lnTo>
                    <a:lnTo>
                      <a:pt x="7174" y="8776"/>
                    </a:lnTo>
                    <a:lnTo>
                      <a:pt x="7124" y="8768"/>
                    </a:lnTo>
                    <a:lnTo>
                      <a:pt x="7074" y="8760"/>
                    </a:lnTo>
                    <a:lnTo>
                      <a:pt x="7025" y="8751"/>
                    </a:lnTo>
                    <a:lnTo>
                      <a:pt x="6975" y="8743"/>
                    </a:lnTo>
                    <a:lnTo>
                      <a:pt x="6925" y="8735"/>
                    </a:lnTo>
                    <a:lnTo>
                      <a:pt x="6875" y="8727"/>
                    </a:lnTo>
                    <a:lnTo>
                      <a:pt x="6825" y="8719"/>
                    </a:lnTo>
                    <a:lnTo>
                      <a:pt x="6775" y="8711"/>
                    </a:lnTo>
                    <a:lnTo>
                      <a:pt x="6725" y="8703"/>
                    </a:lnTo>
                    <a:lnTo>
                      <a:pt x="6676" y="8694"/>
                    </a:lnTo>
                    <a:lnTo>
                      <a:pt x="6626" y="8687"/>
                    </a:lnTo>
                    <a:lnTo>
                      <a:pt x="6576" y="8679"/>
                    </a:lnTo>
                    <a:lnTo>
                      <a:pt x="6526" y="8671"/>
                    </a:lnTo>
                    <a:lnTo>
                      <a:pt x="6477" y="8663"/>
                    </a:lnTo>
                    <a:lnTo>
                      <a:pt x="6427" y="8655"/>
                    </a:lnTo>
                    <a:lnTo>
                      <a:pt x="6427" y="8127"/>
                    </a:lnTo>
                    <a:close/>
                    <a:moveTo>
                      <a:pt x="6427" y="7129"/>
                    </a:moveTo>
                    <a:lnTo>
                      <a:pt x="7224" y="7227"/>
                    </a:lnTo>
                    <a:lnTo>
                      <a:pt x="7224" y="7766"/>
                    </a:lnTo>
                    <a:lnTo>
                      <a:pt x="7174" y="7759"/>
                    </a:lnTo>
                    <a:lnTo>
                      <a:pt x="7124" y="7753"/>
                    </a:lnTo>
                    <a:lnTo>
                      <a:pt x="7074" y="7745"/>
                    </a:lnTo>
                    <a:lnTo>
                      <a:pt x="7025" y="7738"/>
                    </a:lnTo>
                    <a:lnTo>
                      <a:pt x="6975" y="7731"/>
                    </a:lnTo>
                    <a:lnTo>
                      <a:pt x="6925" y="7725"/>
                    </a:lnTo>
                    <a:lnTo>
                      <a:pt x="6875" y="7718"/>
                    </a:lnTo>
                    <a:lnTo>
                      <a:pt x="6825" y="7711"/>
                    </a:lnTo>
                    <a:lnTo>
                      <a:pt x="6775" y="7704"/>
                    </a:lnTo>
                    <a:lnTo>
                      <a:pt x="6725" y="7698"/>
                    </a:lnTo>
                    <a:lnTo>
                      <a:pt x="6676" y="7690"/>
                    </a:lnTo>
                    <a:lnTo>
                      <a:pt x="6626" y="7683"/>
                    </a:lnTo>
                    <a:lnTo>
                      <a:pt x="6576" y="7677"/>
                    </a:lnTo>
                    <a:lnTo>
                      <a:pt x="6526" y="7670"/>
                    </a:lnTo>
                    <a:lnTo>
                      <a:pt x="6477" y="7664"/>
                    </a:lnTo>
                    <a:lnTo>
                      <a:pt x="6427" y="7657"/>
                    </a:lnTo>
                    <a:lnTo>
                      <a:pt x="6427" y="7129"/>
                    </a:lnTo>
                    <a:close/>
                    <a:moveTo>
                      <a:pt x="6427" y="6131"/>
                    </a:moveTo>
                    <a:lnTo>
                      <a:pt x="6477" y="6136"/>
                    </a:lnTo>
                    <a:lnTo>
                      <a:pt x="6526" y="6140"/>
                    </a:lnTo>
                    <a:lnTo>
                      <a:pt x="6576" y="6145"/>
                    </a:lnTo>
                    <a:lnTo>
                      <a:pt x="6626" y="6150"/>
                    </a:lnTo>
                    <a:lnTo>
                      <a:pt x="6676" y="6156"/>
                    </a:lnTo>
                    <a:lnTo>
                      <a:pt x="6725" y="6161"/>
                    </a:lnTo>
                    <a:lnTo>
                      <a:pt x="6775" y="6165"/>
                    </a:lnTo>
                    <a:lnTo>
                      <a:pt x="6825" y="6170"/>
                    </a:lnTo>
                    <a:lnTo>
                      <a:pt x="6875" y="6175"/>
                    </a:lnTo>
                    <a:lnTo>
                      <a:pt x="6925" y="6180"/>
                    </a:lnTo>
                    <a:lnTo>
                      <a:pt x="6975" y="6185"/>
                    </a:lnTo>
                    <a:lnTo>
                      <a:pt x="7025" y="6190"/>
                    </a:lnTo>
                    <a:lnTo>
                      <a:pt x="7074" y="6195"/>
                    </a:lnTo>
                    <a:lnTo>
                      <a:pt x="7124" y="6199"/>
                    </a:lnTo>
                    <a:lnTo>
                      <a:pt x="7174" y="6204"/>
                    </a:lnTo>
                    <a:lnTo>
                      <a:pt x="7224" y="6209"/>
                    </a:lnTo>
                    <a:lnTo>
                      <a:pt x="7224" y="6749"/>
                    </a:lnTo>
                    <a:lnTo>
                      <a:pt x="7174" y="6742"/>
                    </a:lnTo>
                    <a:lnTo>
                      <a:pt x="7124" y="6737"/>
                    </a:lnTo>
                    <a:lnTo>
                      <a:pt x="7074" y="6731"/>
                    </a:lnTo>
                    <a:lnTo>
                      <a:pt x="7025" y="6726"/>
                    </a:lnTo>
                    <a:lnTo>
                      <a:pt x="6975" y="6720"/>
                    </a:lnTo>
                    <a:lnTo>
                      <a:pt x="6925" y="6715"/>
                    </a:lnTo>
                    <a:lnTo>
                      <a:pt x="6875" y="6709"/>
                    </a:lnTo>
                    <a:lnTo>
                      <a:pt x="6825" y="6704"/>
                    </a:lnTo>
                    <a:lnTo>
                      <a:pt x="6775" y="6698"/>
                    </a:lnTo>
                    <a:lnTo>
                      <a:pt x="6725" y="6693"/>
                    </a:lnTo>
                    <a:lnTo>
                      <a:pt x="6676" y="6687"/>
                    </a:lnTo>
                    <a:lnTo>
                      <a:pt x="6626" y="6681"/>
                    </a:lnTo>
                    <a:lnTo>
                      <a:pt x="6576" y="6675"/>
                    </a:lnTo>
                    <a:lnTo>
                      <a:pt x="6526" y="6670"/>
                    </a:lnTo>
                    <a:lnTo>
                      <a:pt x="6477" y="6664"/>
                    </a:lnTo>
                    <a:lnTo>
                      <a:pt x="6427" y="6659"/>
                    </a:lnTo>
                    <a:lnTo>
                      <a:pt x="6427" y="6131"/>
                    </a:lnTo>
                    <a:close/>
                    <a:moveTo>
                      <a:pt x="6427" y="5133"/>
                    </a:moveTo>
                    <a:lnTo>
                      <a:pt x="7224" y="5192"/>
                    </a:lnTo>
                    <a:lnTo>
                      <a:pt x="7224" y="5731"/>
                    </a:lnTo>
                    <a:lnTo>
                      <a:pt x="6427" y="5661"/>
                    </a:lnTo>
                    <a:lnTo>
                      <a:pt x="6427" y="5133"/>
                    </a:lnTo>
                    <a:close/>
                    <a:moveTo>
                      <a:pt x="6427" y="4135"/>
                    </a:moveTo>
                    <a:lnTo>
                      <a:pt x="6477" y="4137"/>
                    </a:lnTo>
                    <a:lnTo>
                      <a:pt x="6526" y="4139"/>
                    </a:lnTo>
                    <a:lnTo>
                      <a:pt x="6576" y="4143"/>
                    </a:lnTo>
                    <a:lnTo>
                      <a:pt x="6626" y="4145"/>
                    </a:lnTo>
                    <a:lnTo>
                      <a:pt x="6676" y="4147"/>
                    </a:lnTo>
                    <a:lnTo>
                      <a:pt x="6725" y="4150"/>
                    </a:lnTo>
                    <a:lnTo>
                      <a:pt x="6775" y="4152"/>
                    </a:lnTo>
                    <a:lnTo>
                      <a:pt x="6825" y="4154"/>
                    </a:lnTo>
                    <a:lnTo>
                      <a:pt x="6875" y="4157"/>
                    </a:lnTo>
                    <a:lnTo>
                      <a:pt x="6925" y="4159"/>
                    </a:lnTo>
                    <a:lnTo>
                      <a:pt x="6975" y="4162"/>
                    </a:lnTo>
                    <a:lnTo>
                      <a:pt x="7025" y="4164"/>
                    </a:lnTo>
                    <a:lnTo>
                      <a:pt x="7074" y="4167"/>
                    </a:lnTo>
                    <a:lnTo>
                      <a:pt x="7124" y="4169"/>
                    </a:lnTo>
                    <a:lnTo>
                      <a:pt x="7174" y="4171"/>
                    </a:lnTo>
                    <a:lnTo>
                      <a:pt x="7224" y="4174"/>
                    </a:lnTo>
                    <a:lnTo>
                      <a:pt x="7224" y="4713"/>
                    </a:lnTo>
                    <a:lnTo>
                      <a:pt x="7174" y="4710"/>
                    </a:lnTo>
                    <a:lnTo>
                      <a:pt x="7124" y="4706"/>
                    </a:lnTo>
                    <a:lnTo>
                      <a:pt x="7074" y="4703"/>
                    </a:lnTo>
                    <a:lnTo>
                      <a:pt x="7025" y="4700"/>
                    </a:lnTo>
                    <a:lnTo>
                      <a:pt x="6975" y="4697"/>
                    </a:lnTo>
                    <a:lnTo>
                      <a:pt x="6925" y="4694"/>
                    </a:lnTo>
                    <a:lnTo>
                      <a:pt x="6875" y="4691"/>
                    </a:lnTo>
                    <a:lnTo>
                      <a:pt x="6825" y="4688"/>
                    </a:lnTo>
                    <a:lnTo>
                      <a:pt x="6775" y="4685"/>
                    </a:lnTo>
                    <a:lnTo>
                      <a:pt x="6725" y="4682"/>
                    </a:lnTo>
                    <a:lnTo>
                      <a:pt x="6676" y="4679"/>
                    </a:lnTo>
                    <a:lnTo>
                      <a:pt x="6626" y="4676"/>
                    </a:lnTo>
                    <a:lnTo>
                      <a:pt x="6576" y="4672"/>
                    </a:lnTo>
                    <a:lnTo>
                      <a:pt x="6526" y="4669"/>
                    </a:lnTo>
                    <a:lnTo>
                      <a:pt x="6477" y="4666"/>
                    </a:lnTo>
                    <a:lnTo>
                      <a:pt x="6427" y="4663"/>
                    </a:lnTo>
                    <a:lnTo>
                      <a:pt x="6427" y="4135"/>
                    </a:lnTo>
                    <a:close/>
                    <a:moveTo>
                      <a:pt x="6427" y="3665"/>
                    </a:moveTo>
                    <a:lnTo>
                      <a:pt x="6427" y="3138"/>
                    </a:lnTo>
                    <a:lnTo>
                      <a:pt x="7224" y="3157"/>
                    </a:lnTo>
                    <a:lnTo>
                      <a:pt x="7224" y="3696"/>
                    </a:lnTo>
                    <a:lnTo>
                      <a:pt x="6427" y="3665"/>
                    </a:lnTo>
                    <a:close/>
                    <a:moveTo>
                      <a:pt x="5204" y="2651"/>
                    </a:moveTo>
                    <a:lnTo>
                      <a:pt x="5204" y="2139"/>
                    </a:lnTo>
                    <a:lnTo>
                      <a:pt x="6002" y="2139"/>
                    </a:lnTo>
                    <a:lnTo>
                      <a:pt x="6002" y="2663"/>
                    </a:lnTo>
                    <a:lnTo>
                      <a:pt x="5204" y="2651"/>
                    </a:lnTo>
                    <a:close/>
                    <a:moveTo>
                      <a:pt x="6427" y="2669"/>
                    </a:moveTo>
                    <a:lnTo>
                      <a:pt x="6427" y="2139"/>
                    </a:lnTo>
                    <a:lnTo>
                      <a:pt x="7224" y="2139"/>
                    </a:lnTo>
                    <a:lnTo>
                      <a:pt x="7224" y="2678"/>
                    </a:lnTo>
                    <a:lnTo>
                      <a:pt x="7174" y="2678"/>
                    </a:lnTo>
                    <a:lnTo>
                      <a:pt x="7124" y="2677"/>
                    </a:lnTo>
                    <a:lnTo>
                      <a:pt x="7074" y="2676"/>
                    </a:lnTo>
                    <a:lnTo>
                      <a:pt x="7025" y="2676"/>
                    </a:lnTo>
                    <a:lnTo>
                      <a:pt x="6975" y="2675"/>
                    </a:lnTo>
                    <a:lnTo>
                      <a:pt x="6925" y="2675"/>
                    </a:lnTo>
                    <a:lnTo>
                      <a:pt x="6875" y="2674"/>
                    </a:lnTo>
                    <a:lnTo>
                      <a:pt x="6825" y="2673"/>
                    </a:lnTo>
                    <a:lnTo>
                      <a:pt x="6775" y="2673"/>
                    </a:lnTo>
                    <a:lnTo>
                      <a:pt x="6725" y="2672"/>
                    </a:lnTo>
                    <a:lnTo>
                      <a:pt x="6676" y="2671"/>
                    </a:lnTo>
                    <a:lnTo>
                      <a:pt x="6626" y="2671"/>
                    </a:lnTo>
                    <a:lnTo>
                      <a:pt x="6576" y="2670"/>
                    </a:lnTo>
                    <a:lnTo>
                      <a:pt x="6526" y="2670"/>
                    </a:lnTo>
                    <a:lnTo>
                      <a:pt x="6477" y="2669"/>
                    </a:lnTo>
                    <a:lnTo>
                      <a:pt x="6427" y="2669"/>
                    </a:lnTo>
                    <a:close/>
                    <a:moveTo>
                      <a:pt x="3983" y="2636"/>
                    </a:moveTo>
                    <a:lnTo>
                      <a:pt x="3983" y="2139"/>
                    </a:lnTo>
                    <a:lnTo>
                      <a:pt x="4780" y="2139"/>
                    </a:lnTo>
                    <a:lnTo>
                      <a:pt x="4780" y="2647"/>
                    </a:lnTo>
                    <a:lnTo>
                      <a:pt x="3983" y="2636"/>
                    </a:lnTo>
                    <a:close/>
                    <a:moveTo>
                      <a:pt x="3558" y="2630"/>
                    </a:moveTo>
                    <a:lnTo>
                      <a:pt x="3508" y="2629"/>
                    </a:lnTo>
                    <a:lnTo>
                      <a:pt x="3458" y="2629"/>
                    </a:lnTo>
                    <a:lnTo>
                      <a:pt x="3408" y="2629"/>
                    </a:lnTo>
                    <a:lnTo>
                      <a:pt x="3358" y="2628"/>
                    </a:lnTo>
                    <a:lnTo>
                      <a:pt x="3310" y="2627"/>
                    </a:lnTo>
                    <a:lnTo>
                      <a:pt x="3260" y="2627"/>
                    </a:lnTo>
                    <a:lnTo>
                      <a:pt x="3210" y="2626"/>
                    </a:lnTo>
                    <a:lnTo>
                      <a:pt x="3160" y="2626"/>
                    </a:lnTo>
                    <a:lnTo>
                      <a:pt x="3110" y="2625"/>
                    </a:lnTo>
                    <a:lnTo>
                      <a:pt x="3060" y="2624"/>
                    </a:lnTo>
                    <a:lnTo>
                      <a:pt x="3010" y="2624"/>
                    </a:lnTo>
                    <a:lnTo>
                      <a:pt x="2960" y="2623"/>
                    </a:lnTo>
                    <a:lnTo>
                      <a:pt x="2910" y="2622"/>
                    </a:lnTo>
                    <a:lnTo>
                      <a:pt x="2860" y="2622"/>
                    </a:lnTo>
                    <a:lnTo>
                      <a:pt x="2810" y="2621"/>
                    </a:lnTo>
                    <a:lnTo>
                      <a:pt x="2761" y="2620"/>
                    </a:lnTo>
                    <a:lnTo>
                      <a:pt x="2761" y="2139"/>
                    </a:lnTo>
                    <a:lnTo>
                      <a:pt x="3558" y="2139"/>
                    </a:lnTo>
                    <a:lnTo>
                      <a:pt x="3558" y="2630"/>
                    </a:lnTo>
                    <a:close/>
                    <a:moveTo>
                      <a:pt x="3727" y="702"/>
                    </a:moveTo>
                    <a:lnTo>
                      <a:pt x="6703" y="702"/>
                    </a:lnTo>
                    <a:lnTo>
                      <a:pt x="6186" y="0"/>
                    </a:lnTo>
                    <a:lnTo>
                      <a:pt x="4548" y="0"/>
                    </a:lnTo>
                    <a:lnTo>
                      <a:pt x="3727" y="702"/>
                    </a:lnTo>
                    <a:close/>
                    <a:moveTo>
                      <a:pt x="6961" y="702"/>
                    </a:moveTo>
                    <a:lnTo>
                      <a:pt x="9834" y="702"/>
                    </a:lnTo>
                    <a:lnTo>
                      <a:pt x="8678" y="0"/>
                    </a:lnTo>
                    <a:lnTo>
                      <a:pt x="6445" y="0"/>
                    </a:lnTo>
                    <a:lnTo>
                      <a:pt x="6961" y="702"/>
                    </a:lnTo>
                    <a:close/>
                    <a:moveTo>
                      <a:pt x="8116" y="3060"/>
                    </a:moveTo>
                    <a:lnTo>
                      <a:pt x="8780" y="2986"/>
                    </a:lnTo>
                    <a:lnTo>
                      <a:pt x="8780" y="3500"/>
                    </a:lnTo>
                    <a:lnTo>
                      <a:pt x="8696" y="3511"/>
                    </a:lnTo>
                    <a:lnTo>
                      <a:pt x="8614" y="3523"/>
                    </a:lnTo>
                    <a:lnTo>
                      <a:pt x="8530" y="3534"/>
                    </a:lnTo>
                    <a:lnTo>
                      <a:pt x="8448" y="3545"/>
                    </a:lnTo>
                    <a:lnTo>
                      <a:pt x="8364" y="3557"/>
                    </a:lnTo>
                    <a:lnTo>
                      <a:pt x="8282" y="3569"/>
                    </a:lnTo>
                    <a:lnTo>
                      <a:pt x="8199" y="3580"/>
                    </a:lnTo>
                    <a:lnTo>
                      <a:pt x="8116" y="3592"/>
                    </a:lnTo>
                    <a:lnTo>
                      <a:pt x="8116" y="3060"/>
                    </a:lnTo>
                    <a:close/>
                    <a:moveTo>
                      <a:pt x="8116" y="3982"/>
                    </a:moveTo>
                    <a:lnTo>
                      <a:pt x="8780" y="3863"/>
                    </a:lnTo>
                    <a:lnTo>
                      <a:pt x="8780" y="4375"/>
                    </a:lnTo>
                    <a:lnTo>
                      <a:pt x="8696" y="4393"/>
                    </a:lnTo>
                    <a:lnTo>
                      <a:pt x="8614" y="4409"/>
                    </a:lnTo>
                    <a:lnTo>
                      <a:pt x="8530" y="4426"/>
                    </a:lnTo>
                    <a:lnTo>
                      <a:pt x="8448" y="4443"/>
                    </a:lnTo>
                    <a:lnTo>
                      <a:pt x="8364" y="4460"/>
                    </a:lnTo>
                    <a:lnTo>
                      <a:pt x="8282" y="4477"/>
                    </a:lnTo>
                    <a:lnTo>
                      <a:pt x="8199" y="4494"/>
                    </a:lnTo>
                    <a:lnTo>
                      <a:pt x="8116" y="4512"/>
                    </a:lnTo>
                    <a:lnTo>
                      <a:pt x="8116" y="3982"/>
                    </a:lnTo>
                    <a:close/>
                    <a:moveTo>
                      <a:pt x="7710" y="1525"/>
                    </a:moveTo>
                    <a:lnTo>
                      <a:pt x="7738" y="15174"/>
                    </a:lnTo>
                    <a:lnTo>
                      <a:pt x="7851" y="15062"/>
                    </a:lnTo>
                    <a:lnTo>
                      <a:pt x="7841" y="14186"/>
                    </a:lnTo>
                    <a:lnTo>
                      <a:pt x="7841" y="14173"/>
                    </a:lnTo>
                    <a:lnTo>
                      <a:pt x="7844" y="14161"/>
                    </a:lnTo>
                    <a:lnTo>
                      <a:pt x="7847" y="14149"/>
                    </a:lnTo>
                    <a:lnTo>
                      <a:pt x="7852" y="14137"/>
                    </a:lnTo>
                    <a:lnTo>
                      <a:pt x="7858" y="14127"/>
                    </a:lnTo>
                    <a:lnTo>
                      <a:pt x="7865" y="14118"/>
                    </a:lnTo>
                    <a:lnTo>
                      <a:pt x="7873" y="14109"/>
                    </a:lnTo>
                    <a:lnTo>
                      <a:pt x="7882" y="14101"/>
                    </a:lnTo>
                    <a:lnTo>
                      <a:pt x="10660" y="11771"/>
                    </a:lnTo>
                    <a:lnTo>
                      <a:pt x="10668" y="11765"/>
                    </a:lnTo>
                    <a:lnTo>
                      <a:pt x="10677" y="11760"/>
                    </a:lnTo>
                    <a:lnTo>
                      <a:pt x="10687" y="11755"/>
                    </a:lnTo>
                    <a:lnTo>
                      <a:pt x="10697" y="11752"/>
                    </a:lnTo>
                    <a:lnTo>
                      <a:pt x="10707" y="11749"/>
                    </a:lnTo>
                    <a:lnTo>
                      <a:pt x="10716" y="11748"/>
                    </a:lnTo>
                    <a:lnTo>
                      <a:pt x="10726" y="11747"/>
                    </a:lnTo>
                    <a:lnTo>
                      <a:pt x="10737" y="11748"/>
                    </a:lnTo>
                    <a:lnTo>
                      <a:pt x="10747" y="11749"/>
                    </a:lnTo>
                    <a:lnTo>
                      <a:pt x="10756" y="11751"/>
                    </a:lnTo>
                    <a:lnTo>
                      <a:pt x="10766" y="11754"/>
                    </a:lnTo>
                    <a:lnTo>
                      <a:pt x="10775" y="11759"/>
                    </a:lnTo>
                    <a:lnTo>
                      <a:pt x="10783" y="11763"/>
                    </a:lnTo>
                    <a:lnTo>
                      <a:pt x="10793" y="11769"/>
                    </a:lnTo>
                    <a:lnTo>
                      <a:pt x="10800" y="11777"/>
                    </a:lnTo>
                    <a:lnTo>
                      <a:pt x="10808" y="11785"/>
                    </a:lnTo>
                    <a:lnTo>
                      <a:pt x="10813" y="11792"/>
                    </a:lnTo>
                    <a:lnTo>
                      <a:pt x="10818" y="11800"/>
                    </a:lnTo>
                    <a:lnTo>
                      <a:pt x="10822" y="11808"/>
                    </a:lnTo>
                    <a:lnTo>
                      <a:pt x="10826" y="11816"/>
                    </a:lnTo>
                    <a:lnTo>
                      <a:pt x="10828" y="11825"/>
                    </a:lnTo>
                    <a:lnTo>
                      <a:pt x="10830" y="11833"/>
                    </a:lnTo>
                    <a:lnTo>
                      <a:pt x="10831" y="11843"/>
                    </a:lnTo>
                    <a:lnTo>
                      <a:pt x="10832" y="11852"/>
                    </a:lnTo>
                    <a:lnTo>
                      <a:pt x="10832" y="12099"/>
                    </a:lnTo>
                    <a:lnTo>
                      <a:pt x="11080" y="11867"/>
                    </a:lnTo>
                    <a:lnTo>
                      <a:pt x="11073" y="1469"/>
                    </a:lnTo>
                    <a:lnTo>
                      <a:pt x="7710" y="1525"/>
                    </a:lnTo>
                    <a:close/>
                    <a:moveTo>
                      <a:pt x="8116" y="4901"/>
                    </a:moveTo>
                    <a:lnTo>
                      <a:pt x="8780" y="4737"/>
                    </a:lnTo>
                    <a:lnTo>
                      <a:pt x="8780" y="5250"/>
                    </a:lnTo>
                    <a:lnTo>
                      <a:pt x="8696" y="5274"/>
                    </a:lnTo>
                    <a:lnTo>
                      <a:pt x="8614" y="5296"/>
                    </a:lnTo>
                    <a:lnTo>
                      <a:pt x="8530" y="5319"/>
                    </a:lnTo>
                    <a:lnTo>
                      <a:pt x="8448" y="5342"/>
                    </a:lnTo>
                    <a:lnTo>
                      <a:pt x="8364" y="5364"/>
                    </a:lnTo>
                    <a:lnTo>
                      <a:pt x="8282" y="5387"/>
                    </a:lnTo>
                    <a:lnTo>
                      <a:pt x="8199" y="5409"/>
                    </a:lnTo>
                    <a:lnTo>
                      <a:pt x="8116" y="5432"/>
                    </a:lnTo>
                    <a:lnTo>
                      <a:pt x="8116" y="4901"/>
                    </a:lnTo>
                    <a:close/>
                    <a:moveTo>
                      <a:pt x="8116" y="5823"/>
                    </a:moveTo>
                    <a:lnTo>
                      <a:pt x="8780" y="5613"/>
                    </a:lnTo>
                    <a:lnTo>
                      <a:pt x="8780" y="6127"/>
                    </a:lnTo>
                    <a:lnTo>
                      <a:pt x="8116" y="6353"/>
                    </a:lnTo>
                    <a:lnTo>
                      <a:pt x="8116" y="5823"/>
                    </a:lnTo>
                    <a:close/>
                    <a:moveTo>
                      <a:pt x="8116" y="6741"/>
                    </a:moveTo>
                    <a:lnTo>
                      <a:pt x="8199" y="6710"/>
                    </a:lnTo>
                    <a:lnTo>
                      <a:pt x="8282" y="6678"/>
                    </a:lnTo>
                    <a:lnTo>
                      <a:pt x="8365" y="6647"/>
                    </a:lnTo>
                    <a:lnTo>
                      <a:pt x="8448" y="6615"/>
                    </a:lnTo>
                    <a:lnTo>
                      <a:pt x="8531" y="6584"/>
                    </a:lnTo>
                    <a:lnTo>
                      <a:pt x="8614" y="6551"/>
                    </a:lnTo>
                    <a:lnTo>
                      <a:pt x="8697" y="6520"/>
                    </a:lnTo>
                    <a:lnTo>
                      <a:pt x="8780" y="6488"/>
                    </a:lnTo>
                    <a:lnTo>
                      <a:pt x="8780" y="7000"/>
                    </a:lnTo>
                    <a:lnTo>
                      <a:pt x="8697" y="7034"/>
                    </a:lnTo>
                    <a:lnTo>
                      <a:pt x="8614" y="7069"/>
                    </a:lnTo>
                    <a:lnTo>
                      <a:pt x="8531" y="7104"/>
                    </a:lnTo>
                    <a:lnTo>
                      <a:pt x="8448" y="7137"/>
                    </a:lnTo>
                    <a:lnTo>
                      <a:pt x="8365" y="7172"/>
                    </a:lnTo>
                    <a:lnTo>
                      <a:pt x="8282" y="7205"/>
                    </a:lnTo>
                    <a:lnTo>
                      <a:pt x="8199" y="7239"/>
                    </a:lnTo>
                    <a:lnTo>
                      <a:pt x="8116" y="7273"/>
                    </a:lnTo>
                    <a:lnTo>
                      <a:pt x="8116" y="6741"/>
                    </a:lnTo>
                    <a:close/>
                    <a:moveTo>
                      <a:pt x="8116" y="7663"/>
                    </a:moveTo>
                    <a:lnTo>
                      <a:pt x="8199" y="7625"/>
                    </a:lnTo>
                    <a:lnTo>
                      <a:pt x="8282" y="7589"/>
                    </a:lnTo>
                    <a:lnTo>
                      <a:pt x="8365" y="7551"/>
                    </a:lnTo>
                    <a:lnTo>
                      <a:pt x="8448" y="7513"/>
                    </a:lnTo>
                    <a:lnTo>
                      <a:pt x="8531" y="7476"/>
                    </a:lnTo>
                    <a:lnTo>
                      <a:pt x="8614" y="7439"/>
                    </a:lnTo>
                    <a:lnTo>
                      <a:pt x="8697" y="7402"/>
                    </a:lnTo>
                    <a:lnTo>
                      <a:pt x="8780" y="7364"/>
                    </a:lnTo>
                    <a:lnTo>
                      <a:pt x="8780" y="7878"/>
                    </a:lnTo>
                    <a:lnTo>
                      <a:pt x="8697" y="7916"/>
                    </a:lnTo>
                    <a:lnTo>
                      <a:pt x="8614" y="7956"/>
                    </a:lnTo>
                    <a:lnTo>
                      <a:pt x="8531" y="7995"/>
                    </a:lnTo>
                    <a:lnTo>
                      <a:pt x="8448" y="8034"/>
                    </a:lnTo>
                    <a:lnTo>
                      <a:pt x="8365" y="8074"/>
                    </a:lnTo>
                    <a:lnTo>
                      <a:pt x="8282" y="8114"/>
                    </a:lnTo>
                    <a:lnTo>
                      <a:pt x="8199" y="8153"/>
                    </a:lnTo>
                    <a:lnTo>
                      <a:pt x="8116" y="8193"/>
                    </a:lnTo>
                    <a:lnTo>
                      <a:pt x="8116" y="7663"/>
                    </a:lnTo>
                    <a:close/>
                    <a:moveTo>
                      <a:pt x="8116" y="8583"/>
                    </a:moveTo>
                    <a:lnTo>
                      <a:pt x="8199" y="8540"/>
                    </a:lnTo>
                    <a:lnTo>
                      <a:pt x="8282" y="8497"/>
                    </a:lnTo>
                    <a:lnTo>
                      <a:pt x="8365" y="8454"/>
                    </a:lnTo>
                    <a:lnTo>
                      <a:pt x="8448" y="8412"/>
                    </a:lnTo>
                    <a:lnTo>
                      <a:pt x="8531" y="8368"/>
                    </a:lnTo>
                    <a:lnTo>
                      <a:pt x="8614" y="8325"/>
                    </a:lnTo>
                    <a:lnTo>
                      <a:pt x="8697" y="8281"/>
                    </a:lnTo>
                    <a:lnTo>
                      <a:pt x="8780" y="8239"/>
                    </a:lnTo>
                    <a:lnTo>
                      <a:pt x="8781" y="8753"/>
                    </a:lnTo>
                    <a:lnTo>
                      <a:pt x="8697" y="8798"/>
                    </a:lnTo>
                    <a:lnTo>
                      <a:pt x="8614" y="8843"/>
                    </a:lnTo>
                    <a:lnTo>
                      <a:pt x="8531" y="8888"/>
                    </a:lnTo>
                    <a:lnTo>
                      <a:pt x="8448" y="8932"/>
                    </a:lnTo>
                    <a:lnTo>
                      <a:pt x="8365" y="8977"/>
                    </a:lnTo>
                    <a:lnTo>
                      <a:pt x="8282" y="9023"/>
                    </a:lnTo>
                    <a:lnTo>
                      <a:pt x="8199" y="9068"/>
                    </a:lnTo>
                    <a:lnTo>
                      <a:pt x="8116" y="9113"/>
                    </a:lnTo>
                    <a:lnTo>
                      <a:pt x="8116" y="8583"/>
                    </a:lnTo>
                    <a:close/>
                    <a:moveTo>
                      <a:pt x="8116" y="9504"/>
                    </a:moveTo>
                    <a:lnTo>
                      <a:pt x="8781" y="9115"/>
                    </a:lnTo>
                    <a:lnTo>
                      <a:pt x="8781" y="9628"/>
                    </a:lnTo>
                    <a:lnTo>
                      <a:pt x="8697" y="9678"/>
                    </a:lnTo>
                    <a:lnTo>
                      <a:pt x="8614" y="9729"/>
                    </a:lnTo>
                    <a:lnTo>
                      <a:pt x="8531" y="9780"/>
                    </a:lnTo>
                    <a:lnTo>
                      <a:pt x="8448" y="9831"/>
                    </a:lnTo>
                    <a:lnTo>
                      <a:pt x="8365" y="9882"/>
                    </a:lnTo>
                    <a:lnTo>
                      <a:pt x="8282" y="9932"/>
                    </a:lnTo>
                    <a:lnTo>
                      <a:pt x="8199" y="9983"/>
                    </a:lnTo>
                    <a:lnTo>
                      <a:pt x="8116" y="10034"/>
                    </a:lnTo>
                    <a:lnTo>
                      <a:pt x="8116" y="9504"/>
                    </a:lnTo>
                    <a:close/>
                    <a:moveTo>
                      <a:pt x="8116" y="10426"/>
                    </a:moveTo>
                    <a:lnTo>
                      <a:pt x="8781" y="9990"/>
                    </a:lnTo>
                    <a:lnTo>
                      <a:pt x="8781" y="10504"/>
                    </a:lnTo>
                    <a:lnTo>
                      <a:pt x="8697" y="10560"/>
                    </a:lnTo>
                    <a:lnTo>
                      <a:pt x="8615" y="10616"/>
                    </a:lnTo>
                    <a:lnTo>
                      <a:pt x="8531" y="10673"/>
                    </a:lnTo>
                    <a:lnTo>
                      <a:pt x="8449" y="10729"/>
                    </a:lnTo>
                    <a:lnTo>
                      <a:pt x="8365" y="10785"/>
                    </a:lnTo>
                    <a:lnTo>
                      <a:pt x="8282" y="10842"/>
                    </a:lnTo>
                    <a:lnTo>
                      <a:pt x="8199" y="10899"/>
                    </a:lnTo>
                    <a:lnTo>
                      <a:pt x="8116" y="10956"/>
                    </a:lnTo>
                    <a:lnTo>
                      <a:pt x="8116" y="10426"/>
                    </a:lnTo>
                    <a:close/>
                    <a:moveTo>
                      <a:pt x="9128" y="4289"/>
                    </a:moveTo>
                    <a:lnTo>
                      <a:pt x="9128" y="3800"/>
                    </a:lnTo>
                    <a:lnTo>
                      <a:pt x="9212" y="3784"/>
                    </a:lnTo>
                    <a:lnTo>
                      <a:pt x="9295" y="3769"/>
                    </a:lnTo>
                    <a:lnTo>
                      <a:pt x="9378" y="3754"/>
                    </a:lnTo>
                    <a:lnTo>
                      <a:pt x="9461" y="3740"/>
                    </a:lnTo>
                    <a:lnTo>
                      <a:pt x="9544" y="3724"/>
                    </a:lnTo>
                    <a:lnTo>
                      <a:pt x="9627" y="3709"/>
                    </a:lnTo>
                    <a:lnTo>
                      <a:pt x="9711" y="3694"/>
                    </a:lnTo>
                    <a:lnTo>
                      <a:pt x="9793" y="3679"/>
                    </a:lnTo>
                    <a:lnTo>
                      <a:pt x="9793" y="4152"/>
                    </a:lnTo>
                    <a:lnTo>
                      <a:pt x="9711" y="4169"/>
                    </a:lnTo>
                    <a:lnTo>
                      <a:pt x="9627" y="4186"/>
                    </a:lnTo>
                    <a:lnTo>
                      <a:pt x="9544" y="4203"/>
                    </a:lnTo>
                    <a:lnTo>
                      <a:pt x="9461" y="4220"/>
                    </a:lnTo>
                    <a:lnTo>
                      <a:pt x="9378" y="4237"/>
                    </a:lnTo>
                    <a:lnTo>
                      <a:pt x="9295" y="4254"/>
                    </a:lnTo>
                    <a:lnTo>
                      <a:pt x="9212" y="4272"/>
                    </a:lnTo>
                    <a:lnTo>
                      <a:pt x="9128" y="4289"/>
                    </a:lnTo>
                    <a:close/>
                    <a:moveTo>
                      <a:pt x="9129" y="4650"/>
                    </a:moveTo>
                    <a:lnTo>
                      <a:pt x="9793" y="4485"/>
                    </a:lnTo>
                    <a:lnTo>
                      <a:pt x="9794" y="4958"/>
                    </a:lnTo>
                    <a:lnTo>
                      <a:pt x="9711" y="4982"/>
                    </a:lnTo>
                    <a:lnTo>
                      <a:pt x="9628" y="5004"/>
                    </a:lnTo>
                    <a:lnTo>
                      <a:pt x="9545" y="5027"/>
                    </a:lnTo>
                    <a:lnTo>
                      <a:pt x="9461" y="5050"/>
                    </a:lnTo>
                    <a:lnTo>
                      <a:pt x="9379" y="5072"/>
                    </a:lnTo>
                    <a:lnTo>
                      <a:pt x="9295" y="5096"/>
                    </a:lnTo>
                    <a:lnTo>
                      <a:pt x="9213" y="5118"/>
                    </a:lnTo>
                    <a:lnTo>
                      <a:pt x="9129" y="5140"/>
                    </a:lnTo>
                    <a:lnTo>
                      <a:pt x="9129" y="4650"/>
                    </a:lnTo>
                    <a:close/>
                    <a:moveTo>
                      <a:pt x="9129" y="5501"/>
                    </a:moveTo>
                    <a:lnTo>
                      <a:pt x="9213" y="5476"/>
                    </a:lnTo>
                    <a:lnTo>
                      <a:pt x="9295" y="5450"/>
                    </a:lnTo>
                    <a:lnTo>
                      <a:pt x="9379" y="5424"/>
                    </a:lnTo>
                    <a:lnTo>
                      <a:pt x="9461" y="5398"/>
                    </a:lnTo>
                    <a:lnTo>
                      <a:pt x="9545" y="5372"/>
                    </a:lnTo>
                    <a:lnTo>
                      <a:pt x="9628" y="5346"/>
                    </a:lnTo>
                    <a:lnTo>
                      <a:pt x="9711" y="5319"/>
                    </a:lnTo>
                    <a:lnTo>
                      <a:pt x="9794" y="5293"/>
                    </a:lnTo>
                    <a:lnTo>
                      <a:pt x="9794" y="5766"/>
                    </a:lnTo>
                    <a:lnTo>
                      <a:pt x="9711" y="5793"/>
                    </a:lnTo>
                    <a:lnTo>
                      <a:pt x="9628" y="5822"/>
                    </a:lnTo>
                    <a:lnTo>
                      <a:pt x="9545" y="5850"/>
                    </a:lnTo>
                    <a:lnTo>
                      <a:pt x="9461" y="5879"/>
                    </a:lnTo>
                    <a:lnTo>
                      <a:pt x="9379" y="5907"/>
                    </a:lnTo>
                    <a:lnTo>
                      <a:pt x="9295" y="5936"/>
                    </a:lnTo>
                    <a:lnTo>
                      <a:pt x="9213" y="5964"/>
                    </a:lnTo>
                    <a:lnTo>
                      <a:pt x="9129" y="5994"/>
                    </a:lnTo>
                    <a:lnTo>
                      <a:pt x="9129" y="5501"/>
                    </a:lnTo>
                    <a:close/>
                    <a:moveTo>
                      <a:pt x="9129" y="6353"/>
                    </a:moveTo>
                    <a:lnTo>
                      <a:pt x="9794" y="6098"/>
                    </a:lnTo>
                    <a:lnTo>
                      <a:pt x="9794" y="6571"/>
                    </a:lnTo>
                    <a:lnTo>
                      <a:pt x="9712" y="6605"/>
                    </a:lnTo>
                    <a:lnTo>
                      <a:pt x="9628" y="6640"/>
                    </a:lnTo>
                    <a:lnTo>
                      <a:pt x="9546" y="6673"/>
                    </a:lnTo>
                    <a:lnTo>
                      <a:pt x="9462" y="6708"/>
                    </a:lnTo>
                    <a:lnTo>
                      <a:pt x="9379" y="6742"/>
                    </a:lnTo>
                    <a:lnTo>
                      <a:pt x="9296" y="6776"/>
                    </a:lnTo>
                    <a:lnTo>
                      <a:pt x="9213" y="6811"/>
                    </a:lnTo>
                    <a:lnTo>
                      <a:pt x="9130" y="6845"/>
                    </a:lnTo>
                    <a:lnTo>
                      <a:pt x="9129" y="6353"/>
                    </a:lnTo>
                    <a:close/>
                    <a:moveTo>
                      <a:pt x="9130" y="7205"/>
                    </a:moveTo>
                    <a:lnTo>
                      <a:pt x="9794" y="6905"/>
                    </a:lnTo>
                    <a:lnTo>
                      <a:pt x="9795" y="7377"/>
                    </a:lnTo>
                    <a:lnTo>
                      <a:pt x="9130" y="7696"/>
                    </a:lnTo>
                    <a:lnTo>
                      <a:pt x="9130" y="7205"/>
                    </a:lnTo>
                    <a:close/>
                    <a:moveTo>
                      <a:pt x="9130" y="8057"/>
                    </a:moveTo>
                    <a:lnTo>
                      <a:pt x="9795" y="7711"/>
                    </a:lnTo>
                    <a:lnTo>
                      <a:pt x="9796" y="8185"/>
                    </a:lnTo>
                    <a:lnTo>
                      <a:pt x="9713" y="8230"/>
                    </a:lnTo>
                    <a:lnTo>
                      <a:pt x="9629" y="8275"/>
                    </a:lnTo>
                    <a:lnTo>
                      <a:pt x="9547" y="8320"/>
                    </a:lnTo>
                    <a:lnTo>
                      <a:pt x="9463" y="8366"/>
                    </a:lnTo>
                    <a:lnTo>
                      <a:pt x="9380" y="8411"/>
                    </a:lnTo>
                    <a:lnTo>
                      <a:pt x="9296" y="8456"/>
                    </a:lnTo>
                    <a:lnTo>
                      <a:pt x="9214" y="8501"/>
                    </a:lnTo>
                    <a:lnTo>
                      <a:pt x="9130" y="8547"/>
                    </a:lnTo>
                    <a:lnTo>
                      <a:pt x="9130" y="8057"/>
                    </a:lnTo>
                    <a:close/>
                    <a:moveTo>
                      <a:pt x="10148" y="9877"/>
                    </a:moveTo>
                    <a:lnTo>
                      <a:pt x="10812" y="9397"/>
                    </a:lnTo>
                    <a:lnTo>
                      <a:pt x="10813" y="9830"/>
                    </a:lnTo>
                    <a:lnTo>
                      <a:pt x="10148" y="10329"/>
                    </a:lnTo>
                    <a:lnTo>
                      <a:pt x="10148" y="9877"/>
                    </a:lnTo>
                    <a:close/>
                    <a:moveTo>
                      <a:pt x="10148" y="10662"/>
                    </a:moveTo>
                    <a:lnTo>
                      <a:pt x="10813" y="10136"/>
                    </a:lnTo>
                    <a:lnTo>
                      <a:pt x="10814" y="10568"/>
                    </a:lnTo>
                    <a:lnTo>
                      <a:pt x="10730" y="10636"/>
                    </a:lnTo>
                    <a:lnTo>
                      <a:pt x="10647" y="10704"/>
                    </a:lnTo>
                    <a:lnTo>
                      <a:pt x="10564" y="10772"/>
                    </a:lnTo>
                    <a:lnTo>
                      <a:pt x="10481" y="10840"/>
                    </a:lnTo>
                    <a:lnTo>
                      <a:pt x="10397" y="10908"/>
                    </a:lnTo>
                    <a:lnTo>
                      <a:pt x="10315" y="10976"/>
                    </a:lnTo>
                    <a:lnTo>
                      <a:pt x="10231" y="11044"/>
                    </a:lnTo>
                    <a:lnTo>
                      <a:pt x="10148" y="11112"/>
                    </a:lnTo>
                    <a:lnTo>
                      <a:pt x="10148" y="10662"/>
                    </a:lnTo>
                    <a:close/>
                    <a:moveTo>
                      <a:pt x="9130" y="8908"/>
                    </a:moveTo>
                    <a:lnTo>
                      <a:pt x="9796" y="8518"/>
                    </a:lnTo>
                    <a:lnTo>
                      <a:pt x="9796" y="8990"/>
                    </a:lnTo>
                    <a:lnTo>
                      <a:pt x="9713" y="9041"/>
                    </a:lnTo>
                    <a:lnTo>
                      <a:pt x="9630" y="9093"/>
                    </a:lnTo>
                    <a:lnTo>
                      <a:pt x="9547" y="9144"/>
                    </a:lnTo>
                    <a:lnTo>
                      <a:pt x="9463" y="9195"/>
                    </a:lnTo>
                    <a:lnTo>
                      <a:pt x="9380" y="9246"/>
                    </a:lnTo>
                    <a:lnTo>
                      <a:pt x="9297" y="9298"/>
                    </a:lnTo>
                    <a:lnTo>
                      <a:pt x="9214" y="9348"/>
                    </a:lnTo>
                    <a:lnTo>
                      <a:pt x="9130" y="9400"/>
                    </a:lnTo>
                    <a:lnTo>
                      <a:pt x="9130" y="8908"/>
                    </a:lnTo>
                    <a:close/>
                    <a:moveTo>
                      <a:pt x="9130" y="9761"/>
                    </a:moveTo>
                    <a:lnTo>
                      <a:pt x="9214" y="9707"/>
                    </a:lnTo>
                    <a:lnTo>
                      <a:pt x="9297" y="9652"/>
                    </a:lnTo>
                    <a:lnTo>
                      <a:pt x="9381" y="9598"/>
                    </a:lnTo>
                    <a:lnTo>
                      <a:pt x="9463" y="9543"/>
                    </a:lnTo>
                    <a:lnTo>
                      <a:pt x="9547" y="9489"/>
                    </a:lnTo>
                    <a:lnTo>
                      <a:pt x="9630" y="9434"/>
                    </a:lnTo>
                    <a:lnTo>
                      <a:pt x="9714" y="9379"/>
                    </a:lnTo>
                    <a:lnTo>
                      <a:pt x="9796" y="9324"/>
                    </a:lnTo>
                    <a:lnTo>
                      <a:pt x="9796" y="9798"/>
                    </a:lnTo>
                    <a:lnTo>
                      <a:pt x="9714" y="9855"/>
                    </a:lnTo>
                    <a:lnTo>
                      <a:pt x="9630" y="9911"/>
                    </a:lnTo>
                    <a:lnTo>
                      <a:pt x="9547" y="9968"/>
                    </a:lnTo>
                    <a:lnTo>
                      <a:pt x="9463" y="10024"/>
                    </a:lnTo>
                    <a:lnTo>
                      <a:pt x="9381" y="10081"/>
                    </a:lnTo>
                    <a:lnTo>
                      <a:pt x="9297" y="10138"/>
                    </a:lnTo>
                    <a:lnTo>
                      <a:pt x="9214" y="10195"/>
                    </a:lnTo>
                    <a:lnTo>
                      <a:pt x="9130" y="10253"/>
                    </a:lnTo>
                    <a:lnTo>
                      <a:pt x="9130" y="9761"/>
                    </a:lnTo>
                    <a:close/>
                    <a:moveTo>
                      <a:pt x="9131" y="10611"/>
                    </a:moveTo>
                    <a:lnTo>
                      <a:pt x="9796" y="10131"/>
                    </a:lnTo>
                    <a:lnTo>
                      <a:pt x="9797" y="10604"/>
                    </a:lnTo>
                    <a:lnTo>
                      <a:pt x="9714" y="10667"/>
                    </a:lnTo>
                    <a:lnTo>
                      <a:pt x="9630" y="10729"/>
                    </a:lnTo>
                    <a:lnTo>
                      <a:pt x="9548" y="10791"/>
                    </a:lnTo>
                    <a:lnTo>
                      <a:pt x="9464" y="10853"/>
                    </a:lnTo>
                    <a:lnTo>
                      <a:pt x="9381" y="10915"/>
                    </a:lnTo>
                    <a:lnTo>
                      <a:pt x="9297" y="10977"/>
                    </a:lnTo>
                    <a:lnTo>
                      <a:pt x="9215" y="11040"/>
                    </a:lnTo>
                    <a:lnTo>
                      <a:pt x="9131" y="11102"/>
                    </a:lnTo>
                    <a:lnTo>
                      <a:pt x="9131" y="10611"/>
                    </a:lnTo>
                    <a:close/>
                    <a:moveTo>
                      <a:pt x="10147" y="9547"/>
                    </a:moveTo>
                    <a:lnTo>
                      <a:pt x="10147" y="9096"/>
                    </a:lnTo>
                    <a:lnTo>
                      <a:pt x="10812" y="8661"/>
                    </a:lnTo>
                    <a:lnTo>
                      <a:pt x="10812" y="9094"/>
                    </a:lnTo>
                    <a:lnTo>
                      <a:pt x="10729" y="9150"/>
                    </a:lnTo>
                    <a:lnTo>
                      <a:pt x="10646" y="9207"/>
                    </a:lnTo>
                    <a:lnTo>
                      <a:pt x="10562" y="9263"/>
                    </a:lnTo>
                    <a:lnTo>
                      <a:pt x="10480" y="9320"/>
                    </a:lnTo>
                    <a:lnTo>
                      <a:pt x="10396" y="9376"/>
                    </a:lnTo>
                    <a:lnTo>
                      <a:pt x="10313" y="9433"/>
                    </a:lnTo>
                    <a:lnTo>
                      <a:pt x="10230" y="9490"/>
                    </a:lnTo>
                    <a:lnTo>
                      <a:pt x="10147" y="9547"/>
                    </a:lnTo>
                    <a:close/>
                    <a:moveTo>
                      <a:pt x="10148" y="11443"/>
                    </a:moveTo>
                    <a:lnTo>
                      <a:pt x="10814" y="10873"/>
                    </a:lnTo>
                    <a:lnTo>
                      <a:pt x="10814" y="11306"/>
                    </a:lnTo>
                    <a:lnTo>
                      <a:pt x="10149" y="11895"/>
                    </a:lnTo>
                    <a:lnTo>
                      <a:pt x="10148" y="11443"/>
                    </a:lnTo>
                    <a:close/>
                    <a:moveTo>
                      <a:pt x="8116" y="11344"/>
                    </a:moveTo>
                    <a:lnTo>
                      <a:pt x="8781" y="10865"/>
                    </a:lnTo>
                    <a:lnTo>
                      <a:pt x="8781" y="11377"/>
                    </a:lnTo>
                    <a:lnTo>
                      <a:pt x="8116" y="11875"/>
                    </a:lnTo>
                    <a:lnTo>
                      <a:pt x="8116" y="11344"/>
                    </a:lnTo>
                    <a:close/>
                    <a:moveTo>
                      <a:pt x="8116" y="12266"/>
                    </a:moveTo>
                    <a:lnTo>
                      <a:pt x="8781" y="11741"/>
                    </a:lnTo>
                    <a:lnTo>
                      <a:pt x="8782" y="12255"/>
                    </a:lnTo>
                    <a:lnTo>
                      <a:pt x="8698" y="12322"/>
                    </a:lnTo>
                    <a:lnTo>
                      <a:pt x="8615" y="12389"/>
                    </a:lnTo>
                    <a:lnTo>
                      <a:pt x="8531" y="12457"/>
                    </a:lnTo>
                    <a:lnTo>
                      <a:pt x="8449" y="12524"/>
                    </a:lnTo>
                    <a:lnTo>
                      <a:pt x="8365" y="12592"/>
                    </a:lnTo>
                    <a:lnTo>
                      <a:pt x="8282" y="12659"/>
                    </a:lnTo>
                    <a:lnTo>
                      <a:pt x="8199" y="12728"/>
                    </a:lnTo>
                    <a:lnTo>
                      <a:pt x="8116" y="12796"/>
                    </a:lnTo>
                    <a:lnTo>
                      <a:pt x="8116" y="12266"/>
                    </a:lnTo>
                    <a:close/>
                    <a:moveTo>
                      <a:pt x="8116" y="13185"/>
                    </a:moveTo>
                    <a:lnTo>
                      <a:pt x="8782" y="12616"/>
                    </a:lnTo>
                    <a:lnTo>
                      <a:pt x="8782" y="13129"/>
                    </a:lnTo>
                    <a:lnTo>
                      <a:pt x="8116" y="13715"/>
                    </a:lnTo>
                    <a:lnTo>
                      <a:pt x="8116" y="13185"/>
                    </a:lnTo>
                    <a:close/>
                    <a:moveTo>
                      <a:pt x="9131" y="11463"/>
                    </a:moveTo>
                    <a:lnTo>
                      <a:pt x="9797" y="10937"/>
                    </a:lnTo>
                    <a:lnTo>
                      <a:pt x="9797" y="11411"/>
                    </a:lnTo>
                    <a:lnTo>
                      <a:pt x="9715" y="11478"/>
                    </a:lnTo>
                    <a:lnTo>
                      <a:pt x="9631" y="11547"/>
                    </a:lnTo>
                    <a:lnTo>
                      <a:pt x="9548" y="11614"/>
                    </a:lnTo>
                    <a:lnTo>
                      <a:pt x="9464" y="11682"/>
                    </a:lnTo>
                    <a:lnTo>
                      <a:pt x="9382" y="11750"/>
                    </a:lnTo>
                    <a:lnTo>
                      <a:pt x="9298" y="11818"/>
                    </a:lnTo>
                    <a:lnTo>
                      <a:pt x="9215" y="11886"/>
                    </a:lnTo>
                    <a:lnTo>
                      <a:pt x="9131" y="11956"/>
                    </a:lnTo>
                    <a:lnTo>
                      <a:pt x="9131" y="11463"/>
                    </a:lnTo>
                    <a:close/>
                    <a:moveTo>
                      <a:pt x="9131" y="12315"/>
                    </a:moveTo>
                    <a:lnTo>
                      <a:pt x="9798" y="11744"/>
                    </a:lnTo>
                    <a:lnTo>
                      <a:pt x="9798" y="12217"/>
                    </a:lnTo>
                    <a:lnTo>
                      <a:pt x="9715" y="12291"/>
                    </a:lnTo>
                    <a:lnTo>
                      <a:pt x="9631" y="12364"/>
                    </a:lnTo>
                    <a:lnTo>
                      <a:pt x="9548" y="12438"/>
                    </a:lnTo>
                    <a:lnTo>
                      <a:pt x="9465" y="12511"/>
                    </a:lnTo>
                    <a:lnTo>
                      <a:pt x="9382" y="12584"/>
                    </a:lnTo>
                    <a:lnTo>
                      <a:pt x="9298" y="12658"/>
                    </a:lnTo>
                    <a:lnTo>
                      <a:pt x="9215" y="12732"/>
                    </a:lnTo>
                    <a:lnTo>
                      <a:pt x="9132" y="12805"/>
                    </a:lnTo>
                    <a:lnTo>
                      <a:pt x="9131" y="12315"/>
                    </a:lnTo>
                    <a:close/>
                    <a:moveTo>
                      <a:pt x="9128" y="3439"/>
                    </a:moveTo>
                    <a:lnTo>
                      <a:pt x="9128" y="2946"/>
                    </a:lnTo>
                    <a:lnTo>
                      <a:pt x="9212" y="2937"/>
                    </a:lnTo>
                    <a:lnTo>
                      <a:pt x="9294" y="2928"/>
                    </a:lnTo>
                    <a:lnTo>
                      <a:pt x="9378" y="2919"/>
                    </a:lnTo>
                    <a:lnTo>
                      <a:pt x="9460" y="2910"/>
                    </a:lnTo>
                    <a:lnTo>
                      <a:pt x="9544" y="2900"/>
                    </a:lnTo>
                    <a:lnTo>
                      <a:pt x="9626" y="2890"/>
                    </a:lnTo>
                    <a:lnTo>
                      <a:pt x="9710" y="2881"/>
                    </a:lnTo>
                    <a:lnTo>
                      <a:pt x="9792" y="2871"/>
                    </a:lnTo>
                    <a:lnTo>
                      <a:pt x="9792" y="3345"/>
                    </a:lnTo>
                    <a:lnTo>
                      <a:pt x="9128" y="3439"/>
                    </a:lnTo>
                    <a:close/>
                    <a:moveTo>
                      <a:pt x="10146" y="7197"/>
                    </a:moveTo>
                    <a:lnTo>
                      <a:pt x="10145" y="6748"/>
                    </a:lnTo>
                    <a:lnTo>
                      <a:pt x="10810" y="6446"/>
                    </a:lnTo>
                    <a:lnTo>
                      <a:pt x="10810" y="6879"/>
                    </a:lnTo>
                    <a:lnTo>
                      <a:pt x="10146" y="7197"/>
                    </a:lnTo>
                    <a:close/>
                    <a:moveTo>
                      <a:pt x="10146" y="7529"/>
                    </a:moveTo>
                    <a:lnTo>
                      <a:pt x="10228" y="7486"/>
                    </a:lnTo>
                    <a:lnTo>
                      <a:pt x="10312" y="7442"/>
                    </a:lnTo>
                    <a:lnTo>
                      <a:pt x="10394" y="7400"/>
                    </a:lnTo>
                    <a:lnTo>
                      <a:pt x="10478" y="7357"/>
                    </a:lnTo>
                    <a:lnTo>
                      <a:pt x="10560" y="7313"/>
                    </a:lnTo>
                    <a:lnTo>
                      <a:pt x="10644" y="7270"/>
                    </a:lnTo>
                    <a:lnTo>
                      <a:pt x="10727" y="7227"/>
                    </a:lnTo>
                    <a:lnTo>
                      <a:pt x="10810" y="7184"/>
                    </a:lnTo>
                    <a:lnTo>
                      <a:pt x="10811" y="7617"/>
                    </a:lnTo>
                    <a:lnTo>
                      <a:pt x="10727" y="7663"/>
                    </a:lnTo>
                    <a:lnTo>
                      <a:pt x="10645" y="7708"/>
                    </a:lnTo>
                    <a:lnTo>
                      <a:pt x="10561" y="7754"/>
                    </a:lnTo>
                    <a:lnTo>
                      <a:pt x="10478" y="7798"/>
                    </a:lnTo>
                    <a:lnTo>
                      <a:pt x="10395" y="7844"/>
                    </a:lnTo>
                    <a:lnTo>
                      <a:pt x="10312" y="7889"/>
                    </a:lnTo>
                    <a:lnTo>
                      <a:pt x="10228" y="7935"/>
                    </a:lnTo>
                    <a:lnTo>
                      <a:pt x="10146" y="7980"/>
                    </a:lnTo>
                    <a:lnTo>
                      <a:pt x="10146" y="7529"/>
                    </a:lnTo>
                    <a:close/>
                    <a:moveTo>
                      <a:pt x="10144" y="5633"/>
                    </a:moveTo>
                    <a:lnTo>
                      <a:pt x="10144" y="5182"/>
                    </a:lnTo>
                    <a:lnTo>
                      <a:pt x="10808" y="4971"/>
                    </a:lnTo>
                    <a:lnTo>
                      <a:pt x="10808" y="5405"/>
                    </a:lnTo>
                    <a:lnTo>
                      <a:pt x="10144" y="5633"/>
                    </a:lnTo>
                    <a:close/>
                    <a:moveTo>
                      <a:pt x="10144" y="5963"/>
                    </a:moveTo>
                    <a:lnTo>
                      <a:pt x="10809" y="5708"/>
                    </a:lnTo>
                    <a:lnTo>
                      <a:pt x="10809" y="6140"/>
                    </a:lnTo>
                    <a:lnTo>
                      <a:pt x="10726" y="6175"/>
                    </a:lnTo>
                    <a:lnTo>
                      <a:pt x="10643" y="6209"/>
                    </a:lnTo>
                    <a:lnTo>
                      <a:pt x="10560" y="6244"/>
                    </a:lnTo>
                    <a:lnTo>
                      <a:pt x="10477" y="6278"/>
                    </a:lnTo>
                    <a:lnTo>
                      <a:pt x="10393" y="6312"/>
                    </a:lnTo>
                    <a:lnTo>
                      <a:pt x="10311" y="6347"/>
                    </a:lnTo>
                    <a:lnTo>
                      <a:pt x="10227" y="6380"/>
                    </a:lnTo>
                    <a:lnTo>
                      <a:pt x="10145" y="6415"/>
                    </a:lnTo>
                    <a:lnTo>
                      <a:pt x="10144" y="5963"/>
                    </a:lnTo>
                    <a:close/>
                    <a:moveTo>
                      <a:pt x="9128" y="2587"/>
                    </a:moveTo>
                    <a:lnTo>
                      <a:pt x="9128" y="2094"/>
                    </a:lnTo>
                    <a:lnTo>
                      <a:pt x="9211" y="2091"/>
                    </a:lnTo>
                    <a:lnTo>
                      <a:pt x="9294" y="2087"/>
                    </a:lnTo>
                    <a:lnTo>
                      <a:pt x="9377" y="2083"/>
                    </a:lnTo>
                    <a:lnTo>
                      <a:pt x="9460" y="2080"/>
                    </a:lnTo>
                    <a:lnTo>
                      <a:pt x="9544" y="2076"/>
                    </a:lnTo>
                    <a:lnTo>
                      <a:pt x="9626" y="2072"/>
                    </a:lnTo>
                    <a:lnTo>
                      <a:pt x="9709" y="2067"/>
                    </a:lnTo>
                    <a:lnTo>
                      <a:pt x="9792" y="2063"/>
                    </a:lnTo>
                    <a:lnTo>
                      <a:pt x="9792" y="2538"/>
                    </a:lnTo>
                    <a:lnTo>
                      <a:pt x="9710" y="2545"/>
                    </a:lnTo>
                    <a:lnTo>
                      <a:pt x="9626" y="2551"/>
                    </a:lnTo>
                    <a:lnTo>
                      <a:pt x="9544" y="2557"/>
                    </a:lnTo>
                    <a:lnTo>
                      <a:pt x="9460" y="2563"/>
                    </a:lnTo>
                    <a:lnTo>
                      <a:pt x="9377" y="2569"/>
                    </a:lnTo>
                    <a:lnTo>
                      <a:pt x="9294" y="2575"/>
                    </a:lnTo>
                    <a:lnTo>
                      <a:pt x="9211" y="2581"/>
                    </a:lnTo>
                    <a:lnTo>
                      <a:pt x="9128" y="2587"/>
                    </a:lnTo>
                    <a:close/>
                    <a:moveTo>
                      <a:pt x="10143" y="4067"/>
                    </a:moveTo>
                    <a:lnTo>
                      <a:pt x="10143" y="3616"/>
                    </a:lnTo>
                    <a:lnTo>
                      <a:pt x="10806" y="3496"/>
                    </a:lnTo>
                    <a:lnTo>
                      <a:pt x="10807" y="3928"/>
                    </a:lnTo>
                    <a:lnTo>
                      <a:pt x="10724" y="3945"/>
                    </a:lnTo>
                    <a:lnTo>
                      <a:pt x="10641" y="3962"/>
                    </a:lnTo>
                    <a:lnTo>
                      <a:pt x="10558" y="3980"/>
                    </a:lnTo>
                    <a:lnTo>
                      <a:pt x="10475" y="3997"/>
                    </a:lnTo>
                    <a:lnTo>
                      <a:pt x="10391" y="4014"/>
                    </a:lnTo>
                    <a:lnTo>
                      <a:pt x="10309" y="4032"/>
                    </a:lnTo>
                    <a:lnTo>
                      <a:pt x="10226" y="4049"/>
                    </a:lnTo>
                    <a:lnTo>
                      <a:pt x="10143" y="4067"/>
                    </a:lnTo>
                    <a:close/>
                    <a:moveTo>
                      <a:pt x="10144" y="4398"/>
                    </a:moveTo>
                    <a:lnTo>
                      <a:pt x="10807" y="4233"/>
                    </a:lnTo>
                    <a:lnTo>
                      <a:pt x="10808" y="4665"/>
                    </a:lnTo>
                    <a:lnTo>
                      <a:pt x="10144" y="4849"/>
                    </a:lnTo>
                    <a:lnTo>
                      <a:pt x="10144" y="4398"/>
                    </a:lnTo>
                    <a:close/>
                    <a:moveTo>
                      <a:pt x="10142" y="2832"/>
                    </a:moveTo>
                    <a:lnTo>
                      <a:pt x="10806" y="2757"/>
                    </a:lnTo>
                    <a:lnTo>
                      <a:pt x="10806" y="3189"/>
                    </a:lnTo>
                    <a:lnTo>
                      <a:pt x="10723" y="3202"/>
                    </a:lnTo>
                    <a:lnTo>
                      <a:pt x="10640" y="3213"/>
                    </a:lnTo>
                    <a:lnTo>
                      <a:pt x="10557" y="3225"/>
                    </a:lnTo>
                    <a:lnTo>
                      <a:pt x="10474" y="3236"/>
                    </a:lnTo>
                    <a:lnTo>
                      <a:pt x="10391" y="3248"/>
                    </a:lnTo>
                    <a:lnTo>
                      <a:pt x="10308" y="3261"/>
                    </a:lnTo>
                    <a:lnTo>
                      <a:pt x="10225" y="3272"/>
                    </a:lnTo>
                    <a:lnTo>
                      <a:pt x="10142" y="3284"/>
                    </a:lnTo>
                    <a:lnTo>
                      <a:pt x="10142" y="2832"/>
                    </a:lnTo>
                    <a:close/>
                    <a:moveTo>
                      <a:pt x="10142" y="2049"/>
                    </a:moveTo>
                    <a:lnTo>
                      <a:pt x="10805" y="2019"/>
                    </a:lnTo>
                    <a:lnTo>
                      <a:pt x="10806" y="2452"/>
                    </a:lnTo>
                    <a:lnTo>
                      <a:pt x="10722" y="2458"/>
                    </a:lnTo>
                    <a:lnTo>
                      <a:pt x="10640" y="2464"/>
                    </a:lnTo>
                    <a:lnTo>
                      <a:pt x="10556" y="2470"/>
                    </a:lnTo>
                    <a:lnTo>
                      <a:pt x="10474" y="2476"/>
                    </a:lnTo>
                    <a:lnTo>
                      <a:pt x="10390" y="2482"/>
                    </a:lnTo>
                    <a:lnTo>
                      <a:pt x="10308" y="2489"/>
                    </a:lnTo>
                    <a:lnTo>
                      <a:pt x="10224" y="2495"/>
                    </a:lnTo>
                    <a:lnTo>
                      <a:pt x="10142" y="2502"/>
                    </a:lnTo>
                    <a:lnTo>
                      <a:pt x="10142" y="2049"/>
                    </a:lnTo>
                    <a:close/>
                    <a:moveTo>
                      <a:pt x="10146" y="8313"/>
                    </a:moveTo>
                    <a:lnTo>
                      <a:pt x="10811" y="7922"/>
                    </a:lnTo>
                    <a:lnTo>
                      <a:pt x="10812" y="8355"/>
                    </a:lnTo>
                    <a:lnTo>
                      <a:pt x="10728" y="8406"/>
                    </a:lnTo>
                    <a:lnTo>
                      <a:pt x="10645" y="8456"/>
                    </a:lnTo>
                    <a:lnTo>
                      <a:pt x="10562" y="8507"/>
                    </a:lnTo>
                    <a:lnTo>
                      <a:pt x="10479" y="8558"/>
                    </a:lnTo>
                    <a:lnTo>
                      <a:pt x="10395" y="8610"/>
                    </a:lnTo>
                    <a:lnTo>
                      <a:pt x="10313" y="8661"/>
                    </a:lnTo>
                    <a:lnTo>
                      <a:pt x="10229" y="8713"/>
                    </a:lnTo>
                    <a:lnTo>
                      <a:pt x="10146" y="8765"/>
                    </a:lnTo>
                    <a:lnTo>
                      <a:pt x="10146" y="831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1" name="Прямоугольник 104"/>
            <p:cNvSpPr/>
            <p:nvPr/>
          </p:nvSpPr>
          <p:spPr>
            <a:xfrm>
              <a:off x="173160" y="177336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ФН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2" name="Line 4"/>
          <p:cNvSpPr/>
          <p:nvPr/>
        </p:nvSpPr>
        <p:spPr>
          <a:xfrm flipV="1">
            <a:off x="754200" y="2081160"/>
            <a:ext cx="0" cy="5479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4"/>
          <p:cNvSpPr/>
          <p:nvPr/>
        </p:nvSpPr>
        <p:spPr>
          <a:xfrm flipV="1">
            <a:off x="1800360" y="2060280"/>
            <a:ext cx="0" cy="568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4"/>
          <p:cNvSpPr/>
          <p:nvPr/>
        </p:nvSpPr>
        <p:spPr>
          <a:xfrm flipV="1">
            <a:off x="2959200" y="2080800"/>
            <a:ext cx="0" cy="5382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110"/>
          <p:cNvSpPr/>
          <p:nvPr/>
        </p:nvSpPr>
        <p:spPr>
          <a:xfrm>
            <a:off x="90360" y="2157480"/>
            <a:ext cx="73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ГРЮ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Д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Прямоугольник 111"/>
          <p:cNvSpPr/>
          <p:nvPr/>
        </p:nvSpPr>
        <p:spPr>
          <a:xfrm>
            <a:off x="900000" y="2144880"/>
            <a:ext cx="95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Прямоугольник 112"/>
          <p:cNvSpPr/>
          <p:nvPr/>
        </p:nvSpPr>
        <p:spPr>
          <a:xfrm>
            <a:off x="2700360" y="2205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Line 4"/>
          <p:cNvSpPr/>
          <p:nvPr/>
        </p:nvSpPr>
        <p:spPr>
          <a:xfrm>
            <a:off x="3348000" y="4440240"/>
            <a:ext cx="1725480" cy="0"/>
          </a:xfrm>
          <a:prstGeom prst="line">
            <a:avLst/>
          </a:prstGeom>
          <a:ln w="19080">
            <a:solidFill>
              <a:srgbClr val="4bacc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116"/>
          <p:cNvSpPr/>
          <p:nvPr/>
        </p:nvSpPr>
        <p:spPr>
          <a:xfrm>
            <a:off x="3495600" y="4437000"/>
            <a:ext cx="10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119"/>
          <p:cNvSpPr/>
          <p:nvPr/>
        </p:nvSpPr>
        <p:spPr>
          <a:xfrm>
            <a:off x="1809720" y="2147760"/>
            <a:ext cx="110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Б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БР, Р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5"/>
          <p:cNvSpPr/>
          <p:nvPr/>
        </p:nvSpPr>
        <p:spPr>
          <a:xfrm>
            <a:off x="88920" y="5516640"/>
            <a:ext cx="397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АБС –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лавный Администратор Бюджетных Средств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БР –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одная бюджетная роспис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М  –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ение министр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К –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КАТО, ОКВ, ОКВЭД, ОКДП, ОКЕИ, ОКОГУ, ОКОПФ, ОКФС, ОКСМ, ОКТМО, ОКЭР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73"/>
          <p:cNvSpPr/>
          <p:nvPr/>
        </p:nvSpPr>
        <p:spPr>
          <a:xfrm>
            <a:off x="5219640" y="268920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УБП, ПУБП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УБП, СПЗ,ПГМУ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Прямая соединительная линия 75"/>
          <p:cNvSpPr/>
          <p:nvPr/>
        </p:nvSpPr>
        <p:spPr>
          <a:xfrm flipV="1">
            <a:off x="5292720" y="2704680"/>
            <a:ext cx="12589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Прямая соединительная линия 77"/>
          <p:cNvSpPr/>
          <p:nvPr/>
        </p:nvSpPr>
        <p:spPr>
          <a:xfrm flipV="1">
            <a:off x="5292720" y="2711520"/>
            <a:ext cx="0" cy="371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Прямая соединительная линия 85"/>
          <p:cNvSpPr/>
          <p:nvPr/>
        </p:nvSpPr>
        <p:spPr>
          <a:xfrm>
            <a:off x="5796000" y="3822840"/>
            <a:ext cx="0" cy="90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Прямая соединительная линия 87"/>
          <p:cNvSpPr/>
          <p:nvPr/>
        </p:nvSpPr>
        <p:spPr>
          <a:xfrm>
            <a:off x="5516640" y="3870360"/>
            <a:ext cx="0" cy="5666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Прямая соединительная линия 97"/>
          <p:cNvSpPr/>
          <p:nvPr/>
        </p:nvSpPr>
        <p:spPr>
          <a:xfrm>
            <a:off x="5148360" y="4437000"/>
            <a:ext cx="37764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Прямая соединительная линия 98"/>
          <p:cNvSpPr/>
          <p:nvPr/>
        </p:nvSpPr>
        <p:spPr>
          <a:xfrm>
            <a:off x="5148360" y="4076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Text Box 6"/>
          <p:cNvGrpSpPr/>
          <p:nvPr/>
        </p:nvGrpSpPr>
        <p:grpSpPr>
          <a:xfrm>
            <a:off x="8089920" y="4565520"/>
            <a:ext cx="888840" cy="749520"/>
            <a:chOff x="8089920" y="4565520"/>
            <a:chExt cx="888840" cy="749520"/>
          </a:xfrm>
        </p:grpSpPr>
        <p:pic>
          <p:nvPicPr>
            <p:cNvPr id="710" name="Text Box 6" descr=""/>
            <p:cNvPicPr/>
            <p:nvPr/>
          </p:nvPicPr>
          <p:blipFill>
            <a:blip r:embed="rId8"/>
            <a:stretch/>
          </p:blipFill>
          <p:spPr>
            <a:xfrm>
              <a:off x="8089920" y="4565520"/>
              <a:ext cx="8888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8107200" y="4581360"/>
              <a:ext cx="8575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80000"/>
                </a:lnSpc>
                <a:spcBef>
                  <a:spcPts val="689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864"/>
                  </a:solidFill>
                  <a:latin typeface="Arial"/>
                </a:rPr>
                <a:t>АСФ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2" name="Line 4"/>
          <p:cNvSpPr/>
          <p:nvPr/>
        </p:nvSpPr>
        <p:spPr>
          <a:xfrm flipH="1">
            <a:off x="7483320" y="4941720"/>
            <a:ext cx="641520" cy="0"/>
          </a:xfrm>
          <a:prstGeom prst="line">
            <a:avLst/>
          </a:prstGeom>
          <a:ln w="19080">
            <a:solidFill>
              <a:srgbClr val="4bacc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ED82-2A4B-419B-8635-85D6C6DF7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Подзаголовок 2"/>
          <p:cNvSpPr/>
          <p:nvPr/>
        </p:nvSpPr>
        <p:spPr>
          <a:xfrm>
            <a:off x="1332000" y="2276640"/>
            <a:ext cx="684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20AC-2D02-4962-B371-46B09772B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Направления развития АСФК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ие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Доработки ППО «АСФК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Направления развития ППО «АСФК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8AEC-DD2F-4998-9C14-3F541AE7EB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Версии ППО «АСФК» до конца 2013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075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 выпуска версий до конца 2013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Пятиугольник 3"/>
          <p:cNvSpPr/>
          <p:nvPr/>
        </p:nvSpPr>
        <p:spPr>
          <a:xfrm>
            <a:off x="324000" y="4365720"/>
            <a:ext cx="8424720" cy="576000"/>
          </a:xfrm>
          <a:custGeom>
            <a:avLst/>
            <a:gdLst>
              <a:gd name="textAreaLeft" fmla="*/ 0 w 8424720"/>
              <a:gd name="textAreaRight" fmla="*/ 8425080 w 842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32" y="0"/>
                </a:lnTo>
                <a:lnTo>
                  <a:pt x="21600" y="10800"/>
                </a:lnTo>
                <a:lnTo>
                  <a:pt x="207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dff"/>
          </a:solidFill>
          <a:ln w="34920">
            <a:solidFill>
              <a:srgbClr val="0070c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Прямая соединительная линия 7"/>
          <p:cNvSpPr/>
          <p:nvPr/>
        </p:nvSpPr>
        <p:spPr>
          <a:xfrm>
            <a:off x="3276720" y="4365720"/>
            <a:ext cx="0" cy="57600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2"/>
          <p:cNvSpPr/>
          <p:nvPr/>
        </p:nvSpPr>
        <p:spPr>
          <a:xfrm>
            <a:off x="431640" y="50529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2 сентябр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Box 13"/>
          <p:cNvSpPr/>
          <p:nvPr/>
        </p:nvSpPr>
        <p:spPr>
          <a:xfrm>
            <a:off x="2808360" y="501012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2 октябр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Box 14"/>
          <p:cNvSpPr/>
          <p:nvPr/>
        </p:nvSpPr>
        <p:spPr>
          <a:xfrm>
            <a:off x="4859280" y="50133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ябр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Box 15"/>
          <p:cNvSpPr/>
          <p:nvPr/>
        </p:nvSpPr>
        <p:spPr>
          <a:xfrm>
            <a:off x="6732720" y="501336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4 декабр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16"/>
          <p:cNvSpPr/>
          <p:nvPr/>
        </p:nvSpPr>
        <p:spPr>
          <a:xfrm>
            <a:off x="8028000" y="49514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рямая соединительная линия 19"/>
          <p:cNvSpPr/>
          <p:nvPr/>
        </p:nvSpPr>
        <p:spPr>
          <a:xfrm>
            <a:off x="5219640" y="4365720"/>
            <a:ext cx="0" cy="57600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ая соединительная линия 20"/>
          <p:cNvSpPr/>
          <p:nvPr/>
        </p:nvSpPr>
        <p:spPr>
          <a:xfrm>
            <a:off x="7020000" y="4365720"/>
            <a:ext cx="0" cy="57600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324000" y="3789360"/>
            <a:ext cx="102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И 16-ой вер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Прямая соединительная линия 22"/>
          <p:cNvSpPr/>
          <p:nvPr/>
        </p:nvSpPr>
        <p:spPr>
          <a:xfrm>
            <a:off x="900000" y="4365720"/>
            <a:ext cx="0" cy="57600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2712960" y="3789360"/>
            <a:ext cx="10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Э 16-ой вер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765680" y="3768840"/>
            <a:ext cx="10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И 17-ой вер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25"/>
          <p:cNvSpPr/>
          <p:nvPr/>
        </p:nvSpPr>
        <p:spPr>
          <a:xfrm>
            <a:off x="6504120" y="3768840"/>
            <a:ext cx="103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Э 17-ой вер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Нашивка 26"/>
          <p:cNvSpPr/>
          <p:nvPr/>
        </p:nvSpPr>
        <p:spPr>
          <a:xfrm>
            <a:off x="8317080" y="4365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87bb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Нижний колонтитул 2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Номер слайда 28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9CED-0F31-4167-A924-AEF594F99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Закрытие года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5460840" y="1052640"/>
            <a:ext cx="3432240" cy="3797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5581800" y="4853160"/>
            <a:ext cx="3311280" cy="1581120"/>
          </a:xfrm>
          <a:prstGeom prst="rect">
            <a:avLst/>
          </a:prstGeom>
          <a:ln w="0">
            <a:noFill/>
          </a:ln>
        </p:spPr>
      </p:pic>
      <p:grpSp>
        <p:nvGrpSpPr>
          <p:cNvPr id="576" name="Группа 46"/>
          <p:cNvGrpSpPr/>
          <p:nvPr/>
        </p:nvGrpSpPr>
        <p:grpSpPr>
          <a:xfrm>
            <a:off x="324000" y="1844640"/>
            <a:ext cx="4572000" cy="503280"/>
            <a:chOff x="324000" y="1844640"/>
            <a:chExt cx="4572000" cy="503280"/>
          </a:xfrm>
        </p:grpSpPr>
        <p:sp>
          <p:nvSpPr>
            <p:cNvPr id="577" name="Скругленный прямоугольник 47"/>
            <p:cNvSpPr/>
            <p:nvPr/>
          </p:nvSpPr>
          <p:spPr>
            <a:xfrm>
              <a:off x="324000" y="1844640"/>
              <a:ext cx="4572000" cy="50328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58000"/>
              </a:srgbClr>
            </a:soli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Скругленный прямоугольник 4"/>
            <p:cNvSpPr/>
            <p:nvPr/>
          </p:nvSpPr>
          <p:spPr>
            <a:xfrm>
              <a:off x="522360" y="1869120"/>
              <a:ext cx="4174920" cy="454320"/>
            </a:xfrm>
            <a:prstGeom prst="rect">
              <a:avLst/>
            </a:prstGeom>
            <a:solidFill>
              <a:srgbClr val="66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оздание рабочей группы по подготовке к закрытию го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Группа 46"/>
          <p:cNvGrpSpPr/>
          <p:nvPr/>
        </p:nvGrpSpPr>
        <p:grpSpPr>
          <a:xfrm>
            <a:off x="324000" y="2492280"/>
            <a:ext cx="4572000" cy="503280"/>
            <a:chOff x="324000" y="2492280"/>
            <a:chExt cx="4572000" cy="503280"/>
          </a:xfrm>
        </p:grpSpPr>
        <p:sp>
          <p:nvSpPr>
            <p:cNvPr id="580" name="Скругленный прямоугольник 47"/>
            <p:cNvSpPr/>
            <p:nvPr/>
          </p:nvSpPr>
          <p:spPr>
            <a:xfrm>
              <a:off x="324000" y="2492280"/>
              <a:ext cx="4572000" cy="50328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58000"/>
              </a:srgbClr>
            </a:soli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Скругленный прямоугольник 4"/>
            <p:cNvSpPr/>
            <p:nvPr/>
          </p:nvSpPr>
          <p:spPr>
            <a:xfrm>
              <a:off x="522360" y="2516760"/>
              <a:ext cx="4174920" cy="454320"/>
            </a:xfrm>
            <a:prstGeom prst="rect">
              <a:avLst/>
            </a:prstGeom>
            <a:solidFill>
              <a:srgbClr val="66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азработка типового плана работ по завершению финансового го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Группа 46"/>
          <p:cNvGrpSpPr/>
          <p:nvPr/>
        </p:nvGrpSpPr>
        <p:grpSpPr>
          <a:xfrm>
            <a:off x="324000" y="3068640"/>
            <a:ext cx="4572000" cy="1079640"/>
            <a:chOff x="324000" y="3068640"/>
            <a:chExt cx="4572000" cy="1079640"/>
          </a:xfrm>
        </p:grpSpPr>
        <p:sp>
          <p:nvSpPr>
            <p:cNvPr id="583" name="Скругленный прямоугольник 47"/>
            <p:cNvSpPr/>
            <p:nvPr/>
          </p:nvSpPr>
          <p:spPr>
            <a:xfrm>
              <a:off x="324000" y="3068640"/>
              <a:ext cx="4572000" cy="107964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58000"/>
              </a:srgbClr>
            </a:soli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Скругленный прямоугольник 4"/>
            <p:cNvSpPr/>
            <p:nvPr/>
          </p:nvSpPr>
          <p:spPr>
            <a:xfrm>
              <a:off x="522360" y="3121200"/>
              <a:ext cx="4174920" cy="974520"/>
            </a:xfrm>
            <a:prstGeom prst="rect">
              <a:avLst/>
            </a:prstGeom>
            <a:solidFill>
              <a:srgbClr val="66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ыполнение подготовительных мероприятий по закрытию года во всех территориальных органах Федерального казначейства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огласно разработанному рабочей группой плану мероприятий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Группа 46"/>
          <p:cNvGrpSpPr/>
          <p:nvPr/>
        </p:nvGrpSpPr>
        <p:grpSpPr>
          <a:xfrm>
            <a:off x="324000" y="4221000"/>
            <a:ext cx="4572000" cy="503280"/>
            <a:chOff x="324000" y="4221000"/>
            <a:chExt cx="4572000" cy="503280"/>
          </a:xfrm>
        </p:grpSpPr>
        <p:sp>
          <p:nvSpPr>
            <p:cNvPr id="586" name="Скругленный прямоугольник 47"/>
            <p:cNvSpPr/>
            <p:nvPr/>
          </p:nvSpPr>
          <p:spPr>
            <a:xfrm>
              <a:off x="324000" y="4221000"/>
              <a:ext cx="4572000" cy="50328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58000"/>
              </a:srgbClr>
            </a:soli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Скругленный прямоугольник 4"/>
            <p:cNvSpPr/>
            <p:nvPr/>
          </p:nvSpPr>
          <p:spPr>
            <a:xfrm>
              <a:off x="522360" y="4245480"/>
              <a:ext cx="4174920" cy="454320"/>
            </a:xfrm>
            <a:prstGeom prst="rect">
              <a:avLst/>
            </a:prstGeom>
            <a:solidFill>
              <a:srgbClr val="66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Доработка ППО АСФК в части оптимизации процедур закрытия года и реализации функционала по новым НПА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Группа 46"/>
          <p:cNvGrpSpPr/>
          <p:nvPr/>
        </p:nvGrpSpPr>
        <p:grpSpPr>
          <a:xfrm>
            <a:off x="324000" y="4797360"/>
            <a:ext cx="4572000" cy="503280"/>
            <a:chOff x="324000" y="4797360"/>
            <a:chExt cx="4572000" cy="503280"/>
          </a:xfrm>
        </p:grpSpPr>
        <p:sp>
          <p:nvSpPr>
            <p:cNvPr id="589" name="Скругленный прямоугольник 47"/>
            <p:cNvSpPr/>
            <p:nvPr/>
          </p:nvSpPr>
          <p:spPr>
            <a:xfrm>
              <a:off x="324000" y="4797360"/>
              <a:ext cx="4572000" cy="503280"/>
            </a:xfrm>
            <a:prstGeom prst="roundRect">
              <a:avLst>
                <a:gd name="adj" fmla="val 16667"/>
              </a:avLst>
            </a:prstGeom>
            <a:solidFill>
              <a:srgbClr val="99ccff">
                <a:alpha val="58000"/>
              </a:srgbClr>
            </a:soli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Скругленный прямоугольник 4"/>
            <p:cNvSpPr/>
            <p:nvPr/>
          </p:nvSpPr>
          <p:spPr>
            <a:xfrm>
              <a:off x="522360" y="4821840"/>
              <a:ext cx="4174920" cy="454320"/>
            </a:xfrm>
            <a:prstGeom prst="rect">
              <a:avLst/>
            </a:prstGeom>
            <a:solidFill>
              <a:srgbClr val="66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Доработка технологических регламентов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1" name="Text Box 21"/>
          <p:cNvSpPr/>
          <p:nvPr/>
        </p:nvSpPr>
        <p:spPr>
          <a:xfrm>
            <a:off x="108000" y="4653000"/>
            <a:ext cx="68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Номер слайда 10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E268-8097-43C6-96EC-3752DF330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Закрытие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илотные управления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региональное операционное УФК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ФК по Свердловской област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ФК по Челябинской област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ФК по Вологодской област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ФК по Тульской обл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7570-27AE-4B9E-A206-A4E1760468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Закрытие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539640" y="1557360"/>
          <a:ext cx="8229600" cy="452592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верс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О «АСФК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атизации проверки остатков на Л/С (теневые остатки)с помощью диагностических отчетов по проверке лицевых счетов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8480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олнение отчета по «Ошибкам закрытого операционного дня системы» дополнительными проверками по проводкам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8480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лизация  возможности выполнения закрытия года по каждому виду средств в отдельности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198478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ение проводок в межотчетном периоде по виду средств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8478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60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50FC-9233-4EAF-97BF-6AFC233A5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Закрытие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ерс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О «АСФК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f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аза от использования субсчета 40212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198267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ения счета 30712 на финансовый результат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8192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ения операций межотчетного периода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3132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ение операций по заключению счетов по счетам внутренних расчетов в Ведомости учета внутренних расчетов (ф. 0504061)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5112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атизация проверки справки по заключению счетов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отчетом «Главная книга (ф. 0504072)» п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федеральному бюджету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8484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аботка Отчета об операциях по данным главной книги в части отражения операций по заключению счетов и завершающих оборотов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17377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0f8f3"/>
                    </a:solidFill>
                  </a:tcPr>
                </a:tc>
              </a:tr>
            </a:tbl>
          </a:graphicData>
        </a:graphic>
      </p:graphicFrame>
      <p:sp>
        <p:nvSpPr>
          <p:cNvPr id="60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3654-4690-4D03-8D76-0EB800E16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Times New Roman"/>
              </a:rPr>
              <a:t>Доработки ППО «АСФК»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57200" y="1600200"/>
          <a:ext cx="8229600" cy="470844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470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верс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О «АСФК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отчета «Акт сверки внутриказначейских расчетов (ф. 0521416)» между УФК на согласование, используя транспортную систему АСФК, а также сверка Акта с отчетом ф.0521463 (FTAS-211181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ение расчетов по перечислению остатков средств бюджетных и автономных учреждений субъектов Российской Федерации (муниципальных бюджетных и автономных учреждений) в бюджеты субъектов Российской Федерации (местные бюджеты), а также их возврата в соответствии с письмом Федерального казначейства от 10.06.2013 №42-7.4-05/2.2-323 (FTAS-211356) 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УФД для клиентов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изация выписка банка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20301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D-4441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21256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аботки Исполнительного документа в части возможности указания в нем более одного взыскателя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15072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D-4359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зработка универсальной формы просмотра документов, переданных в архив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20642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60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BFFA-F4AA-414E-850A-611F6C8D2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Times New Roman"/>
              </a:rPr>
              <a:t>Доработки ППО «АСФК»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верс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О «АСФК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аботки годовой отчетности в соответствии с Приказом Министерства финансов Российской Федерации от 28.12.2010 № 191н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од с ОКАТО на ОКТМО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вод на кассовое обслуживание бюджетов государственных внебюджетных фондов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инвентаризационной описи по банковским счетам, формирование ведомость расхождений по результатам инвентаризации (ф. 0504092)» и «Акт о результатах инвентаризации (ф. 0504835)»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4807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 КОСГУ в документах бюджетных и автономных учереждений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AS-22065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61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Номер слайда 2"/>
          <p:cNvSpPr/>
          <p:nvPr/>
        </p:nvSpPr>
        <p:spPr>
          <a:xfrm>
            <a:off x="8342280" y="6597720"/>
            <a:ext cx="838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56D3-B8E3-4051-8639-03030FC9C3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Olich</cp:lastModifiedBy>
  <dcterms:modified xsi:type="dcterms:W3CDTF">2013-09-05T05:59:29Z</dcterms:modified>
  <cp:revision>400</cp:revision>
  <dc:subject/>
  <dc:title>Слайд 1</dc:title>
</cp:coreProperties>
</file>