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851-02BE-4698-9348-701EED5B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20E-7CD2-42D4-9647-94E22717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3FC-2AFF-4D81-97F8-723CB5E5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62E2-5A04-4EBA-B2AE-D7AD9760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1C6-FE07-4E5A-8F5F-77A9E894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92C-58B8-4B97-8357-001EFF4C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A55-08F2-40F5-A02E-A42369F0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0B6-084F-45AB-BA6D-3CA9A6B3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FEC-521E-4C8B-BD42-05CAC069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BB8-A11A-4E23-8364-C7C426DD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F73-B701-4BDA-B025-BE7862A3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29A-133E-4EA3-9613-6DD9D624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B168-3823-4FF7-BEFA-11D60C1044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DCAD-3E01-4A29-A241-27E6614C1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3.png"/><Relationship Id="rId5" Type="http://schemas.openxmlformats.org/officeDocument/2006/relationships/image" Target="../media/image20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4D14-26AF-4EBE-8FB4-36EEF9669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88880" y="90792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Pj03155980000[1]"/>
          <p:cNvPicPr/>
          <p:nvPr/>
        </p:nvPicPr>
        <p:blipFill>
          <a:blip r:embed="rId3"/>
          <a:stretch/>
        </p:blipFill>
        <p:spPr>
          <a:xfrm>
            <a:off x="128520" y="1052640"/>
            <a:ext cx="9433080" cy="5472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60520" y="1557360"/>
            <a:ext cx="878508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дельные вопросы формирования бюджетной отчетности по кассовому исполнению федерального бюджета, кассовому обслуживанию бюджетов бюджетной системы Российской Федерации, кассовому обслуживанию бюджетных учреждений, автономных учреждений и иных организаций в территориальных органах Федерального казначей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чальник отдела отчетности о касс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сполнении бюджетов Межрегионального операционного У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ашурина Л.В.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6585-58EF-4534-818C-4B817926B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568520" y="333360"/>
            <a:ext cx="698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776160" y="11484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88880" y="1268280"/>
          <a:ext cx="9072720" cy="4908600"/>
        </p:xfrm>
        <a:graphic>
          <a:graphicData uri="http://schemas.openxmlformats.org/drawingml/2006/table">
            <a:tbl>
              <a:tblPr/>
              <a:tblGrid>
                <a:gridCol w="1224000"/>
                <a:gridCol w="1727280"/>
                <a:gridCol w="2160720"/>
                <a:gridCol w="3960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форм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 составляе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ичность и срок предоставлени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у предоставляетс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03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Федерального казначейств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годно,  в сроки, установленные для годовой бюджетной отчетност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ое операционное УФ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годно,  в сроки, установленные для годовой бюджетной отчет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ый орган бюджета, кассовое обслуживание которого осуществляет орган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годно,  в сроки, установленные для годовой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 Пенсионного фонда Российской Федерации по субъекту Российской Федерации, региональное отделение Фонда социального страхования Российской Федерации, Фонд обязательного медицинского страхован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10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годно,  в сроки, установленные для годовой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 управления территориальным  государственным внебюджетным фон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38"/>
          <p:cNvSpPr/>
          <p:nvPr/>
        </p:nvSpPr>
        <p:spPr>
          <a:xfrm>
            <a:off x="272160" y="836640"/>
            <a:ext cx="94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зменения, вносимые в приказ Федерального казначейства от 27.12.2012 № 4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0"/>
          <p:cNvSpPr/>
          <p:nvPr/>
        </p:nvSpPr>
        <p:spPr>
          <a:xfrm>
            <a:off x="4829040" y="3246480"/>
            <a:ext cx="7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491760" y="6165720"/>
            <a:ext cx="15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Продолжение да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862B-C86B-4661-A16A-AF49A6CC5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568520" y="333360"/>
            <a:ext cx="698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776160" y="11484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88880" y="1268280"/>
          <a:ext cx="9072720" cy="4175280"/>
        </p:xfrm>
        <a:graphic>
          <a:graphicData uri="http://schemas.openxmlformats.org/drawingml/2006/table">
            <a:tbl>
              <a:tblPr/>
              <a:tblGrid>
                <a:gridCol w="1224000"/>
                <a:gridCol w="1727280"/>
                <a:gridCol w="2160720"/>
                <a:gridCol w="3960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форм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 составляе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ичность и срок предоставлени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у предоставляетс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03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о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ое УФ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годно,  в сроки, установленные для годовой бюджетной отчетност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 управления государственным внебюджетным фондом (Пенсионный фонд Российской Федерации, Фонд социального страхования Российской Федерации, Фонд обязательного медицинского страх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11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годно,  в сроки, установленные для годовой бюджетной отчет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региональное операционное УФ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11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годно,  в сроки, установленные для годовой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финансовый орган бюджета, в рамках которого осуществляют свою деятельность главные администраторы средств бюджета, являющиеся учредителями бюджетных учреждений, автономных учреждений и ины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38"/>
          <p:cNvSpPr/>
          <p:nvPr/>
        </p:nvSpPr>
        <p:spPr>
          <a:xfrm>
            <a:off x="704880" y="981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9"/>
          <p:cNvSpPr/>
          <p:nvPr/>
        </p:nvSpPr>
        <p:spPr>
          <a:xfrm>
            <a:off x="4829040" y="3246480"/>
            <a:ext cx="7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3CC3-038C-4F7B-A887-3600349F1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937"/>
          <p:cNvSpPr/>
          <p:nvPr/>
        </p:nvSpPr>
        <p:spPr>
          <a:xfrm>
            <a:off x="1281240" y="189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8" descr=""/>
          <p:cNvPicPr/>
          <p:nvPr/>
        </p:nvPicPr>
        <p:blipFill>
          <a:blip r:embed="rId3"/>
          <a:stretch/>
        </p:blipFill>
        <p:spPr>
          <a:xfrm>
            <a:off x="642960" y="1004760"/>
            <a:ext cx="8621640" cy="48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C5F1-86F6-4D20-AA81-6CC2D71F6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"/>
          <p:cNvSpPr/>
          <p:nvPr/>
        </p:nvSpPr>
        <p:spPr>
          <a:xfrm>
            <a:off x="1712880" y="260280"/>
            <a:ext cx="69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3"/>
          <a:stretch/>
        </p:blipFill>
        <p:spPr>
          <a:xfrm>
            <a:off x="415800" y="1197000"/>
            <a:ext cx="8999640" cy="50385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9"/>
          <p:cNvSpPr/>
          <p:nvPr/>
        </p:nvSpPr>
        <p:spPr>
          <a:xfrm>
            <a:off x="2289240" y="260280"/>
            <a:ext cx="55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56E2-47EC-4CF3-8E6D-554B4CC41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3240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98520" y="209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2289240" y="189000"/>
            <a:ext cx="64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8"/>
          <p:cNvSpPr/>
          <p:nvPr/>
        </p:nvSpPr>
        <p:spPr>
          <a:xfrm>
            <a:off x="2432160" y="11592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4"/>
          <a:stretch/>
        </p:blipFill>
        <p:spPr>
          <a:xfrm>
            <a:off x="1857240" y="907920"/>
            <a:ext cx="6248520" cy="567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1D72-D19D-42E5-B149-8D7A642AD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3240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98520" y="209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289240" y="189000"/>
            <a:ext cx="64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8"/>
          <p:cNvSpPr/>
          <p:nvPr/>
        </p:nvSpPr>
        <p:spPr>
          <a:xfrm>
            <a:off x="2505240" y="33336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72880" y="1557360"/>
          <a:ext cx="9360000" cy="1893960"/>
        </p:xfrm>
        <a:graphic>
          <a:graphicData uri="http://schemas.openxmlformats.org/drawingml/2006/table">
            <a:tbl>
              <a:tblPr/>
              <a:tblGrid>
                <a:gridCol w="2821320"/>
                <a:gridCol w="1126800"/>
                <a:gridCol w="3179880"/>
                <a:gridCol w="223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формы отче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ичность и срок предст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у представля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ительная зап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числа месяц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ющего за отчет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региональное операционное УФ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Rectangle 26"/>
          <p:cNvSpPr/>
          <p:nvPr/>
        </p:nvSpPr>
        <p:spPr>
          <a:xfrm>
            <a:off x="1784520" y="836640"/>
            <a:ext cx="69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Срок представления Пояснительной записки (ф. 050316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7"/>
          <p:cNvSpPr/>
          <p:nvPr/>
        </p:nvSpPr>
        <p:spPr>
          <a:xfrm>
            <a:off x="272880" y="3645000"/>
            <a:ext cx="9433080" cy="115236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Пояснительная записка (ф. 0503160) оформляется УФК по субъекту Российской Федерации, в состав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месячной отчетности. При этом в случае необходимости пояснения отдельных показ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месячной бюджетной отчетности подлежит формированию только текстовая часть Пояснительной записки (ф. 050316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В случае отсутствия комментариев к отчетам, данная форма предоставляется, но строки в ней не заполняю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0B89-4F5C-4CFF-A45A-6E4696123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937"/>
          <p:cNvSpPr/>
          <p:nvPr/>
        </p:nvSpPr>
        <p:spPr>
          <a:xfrm>
            <a:off x="1712880" y="189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2"/>
          <p:cNvSpPr/>
          <p:nvPr/>
        </p:nvSpPr>
        <p:spPr>
          <a:xfrm>
            <a:off x="488880" y="981000"/>
            <a:ext cx="8640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рмирование отчетов об операциях по данным Главной книги ф. 05319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 первые 5 рабочих дней января 201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344520" y="328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Прямая со стрелкой 5"/>
          <p:cNvCxnSpPr/>
          <p:nvPr/>
        </p:nvCxnSpPr>
        <p:spPr>
          <a:xfrm>
            <a:off x="1784520" y="2133360"/>
            <a:ext cx="5690160" cy="108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pic>
        <p:nvPicPr>
          <p:cNvPr id="276" name="Picture 6" descr="Рисунок4"/>
          <p:cNvPicPr/>
          <p:nvPr/>
        </p:nvPicPr>
        <p:blipFill>
          <a:blip r:embed="rId3"/>
          <a:stretch/>
        </p:blipFill>
        <p:spPr>
          <a:xfrm>
            <a:off x="7689960" y="1341360"/>
            <a:ext cx="2216160" cy="19303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7832880" y="31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У 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930320" y="1773360"/>
            <a:ext cx="57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ретий рабочий день января 2014 г. (например 11.01.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4"/>
          <a:stretch/>
        </p:blipFill>
        <p:spPr>
          <a:xfrm>
            <a:off x="272880" y="1773360"/>
            <a:ext cx="1249560" cy="1511280"/>
          </a:xfrm>
          <a:prstGeom prst="rect">
            <a:avLst/>
          </a:prstGeom>
          <a:ln w="0">
            <a:noFill/>
          </a:ln>
        </p:spPr>
      </p:pic>
      <p:grpSp>
        <p:nvGrpSpPr>
          <p:cNvPr id="280" name="AutoShape 11"/>
          <p:cNvGrpSpPr/>
          <p:nvPr/>
        </p:nvGrpSpPr>
        <p:grpSpPr>
          <a:xfrm>
            <a:off x="1420920" y="2273400"/>
            <a:ext cx="2687400" cy="1517400"/>
            <a:chOff x="1420920" y="2273400"/>
            <a:chExt cx="2687400" cy="1517400"/>
          </a:xfrm>
        </p:grpSpPr>
        <p:pic>
          <p:nvPicPr>
            <p:cNvPr id="281" name="AutoShape 11" descr=""/>
            <p:cNvPicPr/>
            <p:nvPr/>
          </p:nvPicPr>
          <p:blipFill>
            <a:blip r:embed="rId5"/>
            <a:stretch/>
          </p:blipFill>
          <p:spPr>
            <a:xfrm>
              <a:off x="1420920" y="2273400"/>
              <a:ext cx="268740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508040" y="2357280"/>
              <a:ext cx="2516400" cy="13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1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Ф.0531981 за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9.01.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ражаются обороты по счета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носящиеся к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ерациям текущего года (2014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Line 39"/>
          <p:cNvSpPr/>
          <p:nvPr/>
        </p:nvSpPr>
        <p:spPr>
          <a:xfrm flipV="1">
            <a:off x="3008160" y="213336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0"/>
          <p:cNvSpPr/>
          <p:nvPr/>
        </p:nvSpPr>
        <p:spPr>
          <a:xfrm flipV="1">
            <a:off x="5315040" y="213336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AutoShape 11"/>
          <p:cNvGrpSpPr/>
          <p:nvPr/>
        </p:nvGrpSpPr>
        <p:grpSpPr>
          <a:xfrm>
            <a:off x="853920" y="4432320"/>
            <a:ext cx="3754440" cy="1303200"/>
            <a:chOff x="853920" y="4432320"/>
            <a:chExt cx="3754440" cy="1303200"/>
          </a:xfrm>
        </p:grpSpPr>
        <p:pic>
          <p:nvPicPr>
            <p:cNvPr id="286" name="AutoShape 11" descr=""/>
            <p:cNvPicPr/>
            <p:nvPr/>
          </p:nvPicPr>
          <p:blipFill>
            <a:blip r:embed="rId6"/>
            <a:stretch/>
          </p:blipFill>
          <p:spPr>
            <a:xfrm>
              <a:off x="853920" y="4432320"/>
              <a:ext cx="375444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927000" y="4506840"/>
              <a:ext cx="360540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ормируется Главная книга (ф. 0504072) с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егламентной датой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09.01.2014.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Отражаются обороты по счета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носящиеся к операци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текущего финансового года (2014г.)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AutoShape 11"/>
          <p:cNvGrpSpPr/>
          <p:nvPr/>
        </p:nvGrpSpPr>
        <p:grpSpPr>
          <a:xfrm>
            <a:off x="4816440" y="4432320"/>
            <a:ext cx="4083120" cy="1303200"/>
            <a:chOff x="4816440" y="4432320"/>
            <a:chExt cx="4083120" cy="1303200"/>
          </a:xfrm>
        </p:grpSpPr>
        <p:pic>
          <p:nvPicPr>
            <p:cNvPr id="289" name="AutoShape 11" descr=""/>
            <p:cNvPicPr/>
            <p:nvPr/>
          </p:nvPicPr>
          <p:blipFill>
            <a:blip r:embed="rId7"/>
            <a:stretch/>
          </p:blipFill>
          <p:spPr>
            <a:xfrm>
              <a:off x="4816440" y="4432320"/>
              <a:ext cx="408312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4888080" y="4506840"/>
              <a:ext cx="393840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ормируется Главная книга (ф. 0504072)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 регламентной датой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09.13.2013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Отражаются обороты по счетам, относящиес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к операциям отчетного финансового года (2013г.)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 учетом оборотов дополнительного периода)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AutoShape 11"/>
          <p:cNvGrpSpPr/>
          <p:nvPr/>
        </p:nvGrpSpPr>
        <p:grpSpPr>
          <a:xfrm>
            <a:off x="4164120" y="2273400"/>
            <a:ext cx="3516120" cy="1444680"/>
            <a:chOff x="4164120" y="2273400"/>
            <a:chExt cx="3516120" cy="1444680"/>
          </a:xfrm>
        </p:grpSpPr>
        <p:pic>
          <p:nvPicPr>
            <p:cNvPr id="292" name="AutoShape 11" descr=""/>
            <p:cNvPicPr/>
            <p:nvPr/>
          </p:nvPicPr>
          <p:blipFill>
            <a:blip r:embed="rId8"/>
            <a:stretch/>
          </p:blipFill>
          <p:spPr>
            <a:xfrm>
              <a:off x="4164120" y="2273400"/>
              <a:ext cx="35161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245120" y="2354400"/>
              <a:ext cx="3354120" cy="12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2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Ф.0531981 за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9.13.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ражаются обороты по счета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носящиеся к операциям дополнитель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периода отчетного финансового года (2013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Заполняется раздел 1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4" name="Прямая со стрелкой 5"/>
          <p:cNvCxnSpPr>
            <a:stCxn id="277" idx="2"/>
          </p:cNvCxnSpPr>
          <p:nvPr/>
        </p:nvCxnSpPr>
        <p:spPr>
          <a:xfrm flipH="1">
            <a:off x="3007440" y="3508200"/>
            <a:ext cx="5581080" cy="92952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295" name="Прямая со стрелкой 5"/>
          <p:cNvCxnSpPr/>
          <p:nvPr/>
        </p:nvCxnSpPr>
        <p:spPr>
          <a:xfrm flipH="1">
            <a:off x="6824160" y="3500280"/>
            <a:ext cx="2052000" cy="93744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sp>
        <p:nvSpPr>
          <p:cNvPr id="296" name="Rectangle 10"/>
          <p:cNvSpPr/>
          <p:nvPr/>
        </p:nvSpPr>
        <p:spPr>
          <a:xfrm>
            <a:off x="344520" y="6157800"/>
            <a:ext cx="633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128520" y="5899320"/>
            <a:ext cx="957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Аналогичный порядок представления ф. 0531981 и формирования ф. 0504072 сохраняется и в четвертый, пятый, шестой рабочий день января 2014 год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BCC9-4609-4E6B-9102-397CA89ED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6"/>
          <p:cNvSpPr/>
          <p:nvPr/>
        </p:nvSpPr>
        <p:spPr>
          <a:xfrm>
            <a:off x="488880" y="136440"/>
            <a:ext cx="821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849240" y="189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Копия главная книга"/>
          <p:cNvPicPr/>
          <p:nvPr/>
        </p:nvPicPr>
        <p:blipFill>
          <a:blip r:embed="rId3"/>
          <a:stretch/>
        </p:blipFill>
        <p:spPr>
          <a:xfrm>
            <a:off x="1857240" y="981000"/>
            <a:ext cx="5543640" cy="5581800"/>
          </a:xfrm>
          <a:prstGeom prst="rect">
            <a:avLst/>
          </a:prstGeom>
          <a:ln w="0">
            <a:noFill/>
          </a:ln>
        </p:spPr>
      </p:pic>
      <p:sp>
        <p:nvSpPr>
          <p:cNvPr id="304" name="Rounded Rectangle 7"/>
          <p:cNvSpPr/>
          <p:nvPr/>
        </p:nvSpPr>
        <p:spPr>
          <a:xfrm>
            <a:off x="1568520" y="3429000"/>
            <a:ext cx="6264360" cy="2087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1CB6-0209-40AA-93BD-3DE7DD6A1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"/>
          <p:cNvPicPr/>
          <p:nvPr/>
        </p:nvPicPr>
        <p:blipFill>
          <a:blip r:embed="rId2"/>
          <a:stretch/>
        </p:blipFill>
        <p:spPr>
          <a:xfrm>
            <a:off x="0" y="659124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9"/>
          <p:cNvSpPr/>
          <p:nvPr/>
        </p:nvSpPr>
        <p:spPr>
          <a:xfrm>
            <a:off x="1424160" y="0"/>
            <a:ext cx="74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560520" y="100908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рмирование ф.0531981 в 7-й рабочий день января (17.01.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AutoShape 11"/>
          <p:cNvGrpSpPr/>
          <p:nvPr/>
        </p:nvGrpSpPr>
        <p:grpSpPr>
          <a:xfrm>
            <a:off x="128520" y="1481040"/>
            <a:ext cx="3164040" cy="1517760"/>
            <a:chOff x="128520" y="1481040"/>
            <a:chExt cx="3164040" cy="1517760"/>
          </a:xfrm>
        </p:grpSpPr>
        <p:pic>
          <p:nvPicPr>
            <p:cNvPr id="311" name="AutoShape 11" descr=""/>
            <p:cNvPicPr/>
            <p:nvPr/>
          </p:nvPicPr>
          <p:blipFill>
            <a:blip r:embed="rId3"/>
            <a:stretch/>
          </p:blipFill>
          <p:spPr>
            <a:xfrm>
              <a:off x="128520" y="1481040"/>
              <a:ext cx="31640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214200" y="1565280"/>
              <a:ext cx="2990880" cy="13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1).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тчет ф. 0531981 с регламентн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датой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15.01.20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 Отражаются обороты по счета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тносящиеся к операциям текуще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финансового года (2014 г.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22"/>
          <p:cNvSpPr/>
          <p:nvPr/>
        </p:nvSpPr>
        <p:spPr>
          <a:xfrm>
            <a:off x="2220120" y="26028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4"/>
          <a:stretch/>
        </p:blipFill>
        <p:spPr>
          <a:xfrm>
            <a:off x="4016520" y="1341360"/>
            <a:ext cx="1223640" cy="9208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25"/>
          <p:cNvSpPr/>
          <p:nvPr/>
        </p:nvSpPr>
        <p:spPr>
          <a:xfrm>
            <a:off x="3728880" y="2349360"/>
            <a:ext cx="14414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Формируют 2 отчета ф. 05319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Прямая со стрелкой 5"/>
          <p:cNvCxnSpPr/>
          <p:nvPr/>
        </p:nvCxnSpPr>
        <p:spPr>
          <a:xfrm flipH="1">
            <a:off x="3223800" y="2781000"/>
            <a:ext cx="504000" cy="10548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317" name="Прямая со стрелкой 5"/>
          <p:cNvCxnSpPr/>
          <p:nvPr/>
        </p:nvCxnSpPr>
        <p:spPr>
          <a:xfrm>
            <a:off x="5024160" y="2881080"/>
            <a:ext cx="577080" cy="435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grpSp>
        <p:nvGrpSpPr>
          <p:cNvPr id="318" name="AutoShape 11"/>
          <p:cNvGrpSpPr/>
          <p:nvPr/>
        </p:nvGrpSpPr>
        <p:grpSpPr>
          <a:xfrm>
            <a:off x="5748480" y="1341360"/>
            <a:ext cx="4017960" cy="2157480"/>
            <a:chOff x="5748480" y="1341360"/>
            <a:chExt cx="4017960" cy="2157480"/>
          </a:xfrm>
        </p:grpSpPr>
        <p:pic>
          <p:nvPicPr>
            <p:cNvPr id="319" name="AutoShape 11" descr=""/>
            <p:cNvPicPr/>
            <p:nvPr/>
          </p:nvPicPr>
          <p:blipFill>
            <a:blip r:embed="rId5"/>
            <a:stretch/>
          </p:blipFill>
          <p:spPr>
            <a:xfrm>
              <a:off x="5748480" y="1341360"/>
              <a:ext cx="401796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865840" y="1457280"/>
              <a:ext cx="3782880" cy="19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2).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Отчет ф. 0531981 с регламентн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датой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15.13.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 Отражаются обороты по счетам, относящиес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 операциям дополнительного перио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тчетного финансового года (2013 г.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 Отражаются обороты по счетам, относящие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 операциям по заключению сче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бюджетного учета отчетного финансов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года (2013 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Picture 6" descr="Рисунок4"/>
          <p:cNvPicPr/>
          <p:nvPr/>
        </p:nvPicPr>
        <p:blipFill>
          <a:blip r:embed="rId6"/>
          <a:stretch/>
        </p:blipFill>
        <p:spPr>
          <a:xfrm>
            <a:off x="3584520" y="3141720"/>
            <a:ext cx="1585800" cy="11509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3"/>
          <p:cNvSpPr/>
          <p:nvPr/>
        </p:nvSpPr>
        <p:spPr>
          <a:xfrm>
            <a:off x="3368520" y="4292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У 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4"/>
          <p:cNvSpPr/>
          <p:nvPr/>
        </p:nvSpPr>
        <p:spPr>
          <a:xfrm>
            <a:off x="272880" y="4365720"/>
            <a:ext cx="2808360" cy="165564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ирование Главной книг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ф. 0504072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с регламентной дат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15.01.20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тражаются обороты по счет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тносящиеся к операц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екущего финансового г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2014 г.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5"/>
          <p:cNvSpPr/>
          <p:nvPr/>
        </p:nvSpPr>
        <p:spPr>
          <a:xfrm>
            <a:off x="4952880" y="4365720"/>
            <a:ext cx="2305080" cy="208584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ирование Глав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книги ф. 0504072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регламентной дат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Arial"/>
              </a:rPr>
              <a:t>15.13.20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Отражаются обороты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счетам, относящиеся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операциям отчет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финансового 2013 г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с учетом оборо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полнительного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6"/>
          <p:cNvSpPr/>
          <p:nvPr/>
        </p:nvSpPr>
        <p:spPr>
          <a:xfrm>
            <a:off x="7329600" y="4365720"/>
            <a:ext cx="2447640" cy="208764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ирование Главной книг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Ф. 0504072 с регламентной датой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Arial"/>
              </a:rPr>
              <a:t>15.13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Отражаются обороты по счета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относящиеся к операция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отчетного финансового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года, с учетом оборото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дополнительного периода 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операциям по заключени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счетов бюджетного учет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Прямая со стрелкой 5"/>
          <p:cNvCxnSpPr/>
          <p:nvPr/>
        </p:nvCxnSpPr>
        <p:spPr>
          <a:xfrm>
            <a:off x="1712520" y="3068640"/>
            <a:ext cx="1802520" cy="1224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7" name="Прямая со стрелкой 5"/>
          <p:cNvCxnSpPr/>
          <p:nvPr/>
        </p:nvCxnSpPr>
        <p:spPr>
          <a:xfrm flipH="1">
            <a:off x="5274720" y="3499920"/>
            <a:ext cx="24865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8" name="Прямая со стрелкой 5"/>
          <p:cNvCxnSpPr/>
          <p:nvPr/>
        </p:nvCxnSpPr>
        <p:spPr>
          <a:xfrm flipH="1">
            <a:off x="3152160" y="4724280"/>
            <a:ext cx="937080" cy="43272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329" name="Прямая со стрелкой 5"/>
          <p:cNvCxnSpPr/>
          <p:nvPr/>
        </p:nvCxnSpPr>
        <p:spPr>
          <a:xfrm>
            <a:off x="4376880" y="4723920"/>
            <a:ext cx="576360" cy="2595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330" name="Прямая со стрелкой 5"/>
          <p:cNvCxnSpPr>
            <a:stCxn id="322" idx="3"/>
            <a:endCxn id="325" idx="0"/>
          </p:cNvCxnSpPr>
          <p:nvPr/>
        </p:nvCxnSpPr>
        <p:spPr>
          <a:xfrm flipV="1">
            <a:off x="4952880" y="4349520"/>
            <a:ext cx="3601440" cy="14184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sp>
        <p:nvSpPr>
          <p:cNvPr id="331" name="Rectangle 42"/>
          <p:cNvSpPr/>
          <p:nvPr/>
        </p:nvSpPr>
        <p:spPr>
          <a:xfrm>
            <a:off x="3152880" y="5157720"/>
            <a:ext cx="17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Формируют 3 Главные книг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ф. 05040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E652-841C-4C95-88F3-0A5D363F7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6"/>
          <p:cNvSpPr/>
          <p:nvPr/>
        </p:nvSpPr>
        <p:spPr>
          <a:xfrm>
            <a:off x="1496880" y="189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"/>
          <p:cNvPicPr/>
          <p:nvPr/>
        </p:nvPicPr>
        <p:blipFill>
          <a:blip r:embed="rId3"/>
          <a:stretch/>
        </p:blipFill>
        <p:spPr>
          <a:xfrm>
            <a:off x="1568520" y="863640"/>
            <a:ext cx="676908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27DB-FFBF-4752-921B-9744871A9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15800" y="1413000"/>
            <a:ext cx="904716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5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1136520" y="189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AutoShape 7"/>
          <p:cNvGrpSpPr/>
          <p:nvPr/>
        </p:nvGrpSpPr>
        <p:grpSpPr>
          <a:xfrm>
            <a:off x="334800" y="1116000"/>
            <a:ext cx="9309240" cy="1676520"/>
            <a:chOff x="334800" y="1116000"/>
            <a:chExt cx="9309240" cy="1676520"/>
          </a:xfrm>
        </p:grpSpPr>
        <p:pic>
          <p:nvPicPr>
            <p:cNvPr id="54" name="AutoShape 7" descr=""/>
            <p:cNvPicPr/>
            <p:nvPr/>
          </p:nvPicPr>
          <p:blipFill>
            <a:blip r:embed="rId3"/>
            <a:stretch/>
          </p:blipFill>
          <p:spPr>
            <a:xfrm>
              <a:off x="334800" y="1116000"/>
              <a:ext cx="93092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25520" y="1206360"/>
              <a:ext cx="912636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Приказ Министерства финансов Российской Федерации от 28 декабря 2010 г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№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91н «Об утверждении Инструкции о порядке составления и представл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годовой, квартальной и месячной отчетности об исполнен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бюджетов бюджетной системы Российской Федерации»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AutoShape 8"/>
          <p:cNvGrpSpPr/>
          <p:nvPr/>
        </p:nvGrpSpPr>
        <p:grpSpPr>
          <a:xfrm>
            <a:off x="189000" y="3127320"/>
            <a:ext cx="9528120" cy="2908440"/>
            <a:chOff x="189000" y="3127320"/>
            <a:chExt cx="9528120" cy="2908440"/>
          </a:xfrm>
        </p:grpSpPr>
        <p:pic>
          <p:nvPicPr>
            <p:cNvPr id="57" name="AutoShape 8" descr=""/>
            <p:cNvPicPr/>
            <p:nvPr/>
          </p:nvPicPr>
          <p:blipFill>
            <a:blip r:embed="rId4"/>
            <a:stretch/>
          </p:blipFill>
          <p:spPr>
            <a:xfrm>
              <a:off x="189000" y="3127320"/>
              <a:ext cx="95281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41280" y="3282840"/>
              <a:ext cx="9223560" cy="25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Приказ Федерального казначейства от 27 декабря 2012 г. № 487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«Об утверждении Особенностей формирования бюджетной отчетнос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по кассовому исполнению федерального бюджета, кассовому обслуживан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исполнения бюджетов бюджетной системы Российской Федерации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бюджетных учреждений, автономных учреждений и и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организаций территориальными органами Федерального казначейств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EC0C-F0C7-4026-9E95-134F42AA6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7600" y="907560"/>
            <a:ext cx="89154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Виды контроля по оперативной отчет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По кассовому исполнению федераль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07960" y="1557360"/>
          <a:ext cx="8969400" cy="4824360"/>
        </p:xfrm>
        <a:graphic>
          <a:graphicData uri="http://schemas.openxmlformats.org/drawingml/2006/table">
            <a:tbl>
              <a:tblPr/>
              <a:tblGrid>
                <a:gridCol w="4367160"/>
                <a:gridCol w="1481400"/>
                <a:gridCol w="1249200"/>
                <a:gridCol w="1012680"/>
                <a:gridCol w="858960"/>
              </a:tblGrid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формы отчетност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ка о перечислении средств из федерального бюджета по коду КОСГУ 251 «Перечисления другим бюджетам бюджетной системы Российской Федерации» субъектам Российской Федер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214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поступлениях в федеральны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214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кассовых выбытиях средств федерального бюджета и кассовых операциях по погашению источников финансирования дефицита федерального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214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ка о перечислении сумм страховых взносов и задолженности по единому социальному налогу в доход федерального бюджета и бюджеты государственных внебюджетных фонд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21436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б остатках средств на счетах, открытых органам Федерального казначейства в учреждениях Банк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кредитных организаци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21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б операциях по данным Главной книг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31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ая книг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40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Rectangle 79"/>
          <p:cNvSpPr/>
          <p:nvPr/>
        </p:nvSpPr>
        <p:spPr>
          <a:xfrm>
            <a:off x="2300760" y="262080"/>
            <a:ext cx="556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0170-84CF-47A6-98BB-F21B20A66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1052640"/>
            <a:ext cx="8915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иды контроля месячной отчетности</a:t>
            </a:r>
            <a:br>
              <a:rPr sz="1800"/>
            </a:b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По кассовому исполнению федерального бюдж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71440" y="1773360"/>
          <a:ext cx="9205920" cy="4506840"/>
        </p:xfrm>
        <a:graphic>
          <a:graphicData uri="http://schemas.openxmlformats.org/drawingml/2006/table">
            <a:tbl>
              <a:tblPr/>
              <a:tblGrid>
                <a:gridCol w="4135320"/>
                <a:gridCol w="1094040"/>
                <a:gridCol w="1090440"/>
                <a:gridCol w="1014480"/>
                <a:gridCol w="936720"/>
                <a:gridCol w="934920"/>
              </a:tblGrid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формы отчетност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нс по поступлениям и выбытиям бюджетных средст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кассовом поступлении и выбытии бюджетных средст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ка по консолидируемым расче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031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кассовых выбытиях средств федерального бюджета в разрезе получателей средств федерального бюдже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214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ка по внутренним расчет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214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ительная запи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ведения о соблюдении нормативов отчислений  в федеральный бюджет налогов и сборов (таблица № 8)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21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8" name="Rectangle 80"/>
          <p:cNvSpPr/>
          <p:nvPr/>
        </p:nvSpPr>
        <p:spPr>
          <a:xfrm>
            <a:off x="1987560" y="189000"/>
            <a:ext cx="63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294F-53F4-4552-83E0-48AFCBF24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6937"/>
          <p:cNvSpPr/>
          <p:nvPr/>
        </p:nvSpPr>
        <p:spPr>
          <a:xfrm>
            <a:off x="1754280" y="115920"/>
            <a:ext cx="71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980640"/>
            <a:ext cx="8915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иды контроля месячной отчетности</a:t>
            </a:r>
            <a:br>
              <a:rPr sz="4000"/>
            </a:b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По кассовому обслуживанию исполнения бюджетов бюджетной системы </a:t>
            </a: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71440" y="1844640"/>
          <a:ext cx="9205920" cy="4464000"/>
        </p:xfrm>
        <a:graphic>
          <a:graphicData uri="http://schemas.openxmlformats.org/drawingml/2006/table">
            <a:tbl>
              <a:tblPr/>
              <a:tblGrid>
                <a:gridCol w="4683240"/>
                <a:gridCol w="1135080"/>
                <a:gridCol w="1128600"/>
                <a:gridCol w="1147680"/>
                <a:gridCol w="1111320"/>
              </a:tblGrid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формы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нс по операциям кассового обслуживания исполнения бюдже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дированный отчет о кассовых поступлениях и выбыт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б операциях по поступлениям в бюджетную систему Российской Федерации, учитываемым органами Федерального казначей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шифровка остатков средств на счетах № 40201 «Средства бюджетов субъектов Российской Федерации» и № 40204 «Средства местных бюджетов» к Консолидированному отчету о кассовых поступлениях и выбытиях (ф.0503152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2145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71CB-2EB9-4F77-9EC4-3546B85FD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6937"/>
          <p:cNvSpPr/>
          <p:nvPr/>
        </p:nvSpPr>
        <p:spPr>
          <a:xfrm>
            <a:off x="1754280" y="11592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28400" y="1052640"/>
            <a:ext cx="8915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Виды контроля по месячной отчет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По кассовому обслуживанию бюджетных учреждений, автономных учреждений </a:t>
            </a: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и иных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71440" y="2708280"/>
          <a:ext cx="9050400" cy="2808360"/>
        </p:xfrm>
        <a:graphic>
          <a:graphicData uri="http://schemas.openxmlformats.org/drawingml/2006/table">
            <a:tbl>
              <a:tblPr/>
              <a:tblGrid>
                <a:gridCol w="4603680"/>
                <a:gridCol w="1116000"/>
                <a:gridCol w="1109880"/>
                <a:gridCol w="1128600"/>
                <a:gridCol w="1092240"/>
              </a:tblGrid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формы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кассовом поступлении и выбытии средств бюджетных учреждений, автономных учреждений и иных организац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нс по операциям кассового обслуживания бюджетных учреждений, автономных учреждений и иных организац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AD4E-6B5D-4B41-AE47-367658C83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6"/>
          <p:cNvSpPr/>
          <p:nvPr/>
        </p:nvSpPr>
        <p:spPr>
          <a:xfrm>
            <a:off x="3240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398520" y="209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2289240" y="189000"/>
            <a:ext cx="64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1208160" y="1700280"/>
            <a:ext cx="7705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3399"/>
                </a:solidFill>
                <a:latin typeface="Times New Roman"/>
              </a:rPr>
              <a:t>Спасибо</a:t>
            </a:r>
            <a:br>
              <a:rPr sz="8000"/>
            </a:br>
            <a:r>
              <a:rPr b="1" i="1" lang="en-US" sz="8000" spc="-1" strike="noStrike">
                <a:solidFill>
                  <a:srgbClr val="333399"/>
                </a:solidFill>
                <a:latin typeface="Times New Roman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2"/>
          <p:cNvSpPr/>
          <p:nvPr/>
        </p:nvSpPr>
        <p:spPr>
          <a:xfrm>
            <a:off x="2505240" y="33336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69EC-9422-4DC5-A3C4-E4EF80E30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980640"/>
            <a:ext cx="8915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Отчет о кассовом поступлении и выбытии бюджетных средств (форма 0503124) </a:t>
            </a:r>
            <a:r>
              <a:rPr b="0" i="1" lang="en-US" sz="1500" spc="-1" strike="noStrike">
                <a:solidFill>
                  <a:srgbClr val="808080"/>
                </a:solidFill>
                <a:latin typeface="Arial"/>
              </a:rPr>
              <a:t>Формируется в МОУ ФК (3 раздел Отчет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1080" y="1484280"/>
            <a:ext cx="437508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од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389400" y="-552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5186520" y="1413000"/>
            <a:ext cx="4368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солид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2164680" y="2602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21"/>
          <p:cNvPicPr/>
          <p:nvPr/>
        </p:nvPicPr>
        <p:blipFill>
          <a:blip r:embed="rId3"/>
          <a:stretch/>
        </p:blipFill>
        <p:spPr>
          <a:xfrm>
            <a:off x="128520" y="1773360"/>
            <a:ext cx="5041800" cy="4100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21"/>
          <p:cNvPicPr/>
          <p:nvPr/>
        </p:nvPicPr>
        <p:blipFill>
          <a:blip r:embed="rId4"/>
          <a:stretch/>
        </p:blipFill>
        <p:spPr>
          <a:xfrm>
            <a:off x="5313240" y="1773360"/>
            <a:ext cx="4376880" cy="40161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1"/>
          <p:cNvSpPr/>
          <p:nvPr/>
        </p:nvSpPr>
        <p:spPr>
          <a:xfrm>
            <a:off x="1052640" y="5516640"/>
            <a:ext cx="2106360" cy="936720"/>
          </a:xfrm>
          <a:prstGeom prst="wedgeRoundRectCallout">
            <a:avLst>
              <a:gd name="adj1" fmla="val 81592"/>
              <a:gd name="adj2" fmla="val -6762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казатели строк 823 и 824 граф 5 и 6 Сводного отчета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должны быть  в абсолютном выражен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вн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2"/>
          <p:cNvSpPr/>
          <p:nvPr/>
        </p:nvSpPr>
        <p:spPr>
          <a:xfrm>
            <a:off x="5030640" y="5516640"/>
            <a:ext cx="3430800" cy="1008000"/>
          </a:xfrm>
          <a:prstGeom prst="wedgeRoundRectCallout">
            <a:avLst>
              <a:gd name="adj1" fmla="val 50879"/>
              <a:gd name="adj2" fmla="val -6512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казатели строк 823 и 824 граф 5 и 6 Консолидированного отчета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должны быть равны нул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Консолидация осуществляется на основании данных Сводных Справок (ф.0503125) по счетам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1101560; 121102560, 121200560; 130801730, 130802730; 1309007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8601-4E27-4DF6-A9DD-5EA2EAE08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937"/>
          <p:cNvSpPr/>
          <p:nvPr/>
        </p:nvSpPr>
        <p:spPr>
          <a:xfrm>
            <a:off x="1754280" y="11592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98064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Динамика предоставления коррекционных Отчетов об операциях по данным Главной книги (ф.0531981) в 2013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26"/>
          <p:cNvGraphicFramePr/>
          <p:nvPr/>
        </p:nvGraphicFramePr>
        <p:xfrm>
          <a:off x="776160" y="1844640"/>
          <a:ext cx="888228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6160" y="1844640"/>
                    <a:ext cx="888228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29"/>
          <p:cNvSpPr/>
          <p:nvPr/>
        </p:nvSpPr>
        <p:spPr>
          <a:xfrm>
            <a:off x="1101960" y="5753160"/>
            <a:ext cx="60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реднее количество Отчетов по ф. 0531981, представляемых ежемесячно – 19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735B-101E-4B78-9E88-2863138CC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866"/>
          <p:cNvSpPr/>
          <p:nvPr/>
        </p:nvSpPr>
        <p:spPr>
          <a:xfrm>
            <a:off x="7311960" y="-8967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867"/>
          <p:cNvSpPr/>
          <p:nvPr/>
        </p:nvSpPr>
        <p:spPr>
          <a:xfrm>
            <a:off x="73119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868"/>
          <p:cNvSpPr/>
          <p:nvPr/>
        </p:nvSpPr>
        <p:spPr>
          <a:xfrm>
            <a:off x="9637560" y="-6224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877"/>
          <p:cNvSpPr/>
          <p:nvPr/>
        </p:nvSpPr>
        <p:spPr>
          <a:xfrm>
            <a:off x="7311960" y="-730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878"/>
          <p:cNvSpPr/>
          <p:nvPr/>
        </p:nvSpPr>
        <p:spPr>
          <a:xfrm>
            <a:off x="73119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879"/>
          <p:cNvSpPr/>
          <p:nvPr/>
        </p:nvSpPr>
        <p:spPr>
          <a:xfrm>
            <a:off x="9637560" y="201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880"/>
          <p:cNvSpPr/>
          <p:nvPr/>
        </p:nvSpPr>
        <p:spPr>
          <a:xfrm>
            <a:off x="963756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881"/>
          <p:cNvSpPr/>
          <p:nvPr/>
        </p:nvSpPr>
        <p:spPr>
          <a:xfrm>
            <a:off x="11963520" y="4762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896"/>
          <p:cNvSpPr/>
          <p:nvPr/>
        </p:nvSpPr>
        <p:spPr>
          <a:xfrm>
            <a:off x="7311960" y="130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897"/>
          <p:cNvSpPr/>
          <p:nvPr/>
        </p:nvSpPr>
        <p:spPr>
          <a:xfrm>
            <a:off x="73119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98"/>
          <p:cNvSpPr/>
          <p:nvPr/>
        </p:nvSpPr>
        <p:spPr>
          <a:xfrm>
            <a:off x="9637560" y="15746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899"/>
          <p:cNvSpPr/>
          <p:nvPr/>
        </p:nvSpPr>
        <p:spPr>
          <a:xfrm>
            <a:off x="963756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900"/>
          <p:cNvSpPr/>
          <p:nvPr/>
        </p:nvSpPr>
        <p:spPr>
          <a:xfrm>
            <a:off x="11963520" y="1849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911"/>
          <p:cNvSpPr/>
          <p:nvPr/>
        </p:nvSpPr>
        <p:spPr>
          <a:xfrm>
            <a:off x="7311960" y="239868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912"/>
          <p:cNvSpPr/>
          <p:nvPr/>
        </p:nvSpPr>
        <p:spPr>
          <a:xfrm>
            <a:off x="73119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913"/>
          <p:cNvSpPr/>
          <p:nvPr/>
        </p:nvSpPr>
        <p:spPr>
          <a:xfrm>
            <a:off x="9637560" y="2673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914"/>
          <p:cNvSpPr/>
          <p:nvPr/>
        </p:nvSpPr>
        <p:spPr>
          <a:xfrm>
            <a:off x="963756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15"/>
          <p:cNvSpPr/>
          <p:nvPr/>
        </p:nvSpPr>
        <p:spPr>
          <a:xfrm>
            <a:off x="11963520" y="29480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916"/>
          <p:cNvSpPr/>
          <p:nvPr/>
        </p:nvSpPr>
        <p:spPr>
          <a:xfrm>
            <a:off x="11963520" y="32227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934"/>
          <p:cNvSpPr/>
          <p:nvPr/>
        </p:nvSpPr>
        <p:spPr>
          <a:xfrm>
            <a:off x="7311960" y="4046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937"/>
          <p:cNvSpPr/>
          <p:nvPr/>
        </p:nvSpPr>
        <p:spPr>
          <a:xfrm>
            <a:off x="1754280" y="11592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8520" y="981000"/>
            <a:ext cx="8915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Осуществление контроля между показателями Главной книги (ф. 0504072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и показателями бюджетной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5024520" y="4797360"/>
            <a:ext cx="4681440" cy="13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 МОУ ФК должен осуществляться двойной контро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на уровне приема бюджетной отчет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ф. 0503124, ф. 0503140, ф. 052146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на уровне формирования Главной книги ф. 05040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7"/>
          <p:cNvSpPr/>
          <p:nvPr/>
        </p:nvSpPr>
        <p:spPr>
          <a:xfrm>
            <a:off x="895320" y="2060640"/>
            <a:ext cx="2887560" cy="1655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.05040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8"/>
          <p:cNvSpPr/>
          <p:nvPr/>
        </p:nvSpPr>
        <p:spPr>
          <a:xfrm>
            <a:off x="4251240" y="2708280"/>
            <a:ext cx="1403280" cy="433440"/>
          </a:xfrm>
          <a:custGeom>
            <a:avLst/>
            <a:gdLst>
              <a:gd name="textAreaLeft" fmla="*/ 219240 w 1403280"/>
              <a:gd name="textAreaRight" fmla="*/ 1227960 w 140328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9"/>
          <p:cNvSpPr/>
          <p:nvPr/>
        </p:nvSpPr>
        <p:spPr>
          <a:xfrm>
            <a:off x="6202440" y="1773360"/>
            <a:ext cx="2104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.0503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6202440" y="2276640"/>
            <a:ext cx="2104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.05214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1"/>
          <p:cNvSpPr/>
          <p:nvPr/>
        </p:nvSpPr>
        <p:spPr>
          <a:xfrm>
            <a:off x="6202440" y="2781360"/>
            <a:ext cx="2104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.0503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2"/>
          <p:cNvSpPr/>
          <p:nvPr/>
        </p:nvSpPr>
        <p:spPr>
          <a:xfrm>
            <a:off x="6202440" y="3284640"/>
            <a:ext cx="2104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.05319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3"/>
          <p:cNvSpPr/>
          <p:nvPr/>
        </p:nvSpPr>
        <p:spPr>
          <a:xfrm>
            <a:off x="6202440" y="3789360"/>
            <a:ext cx="2104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.053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415800" y="4797360"/>
            <a:ext cx="4465800" cy="13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 ТОФК контроль с данными Главной кни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ф. 0504072) должен осуществляться на этап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ния отчетности по ф. 0531981, ф. 05319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 бюджетной отчетност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ф. 0503124, ф. 0503140, ф. 05214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FB56-85CC-4BF7-875B-175832041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641600" y="189000"/>
            <a:ext cx="741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2075040" y="189000"/>
            <a:ext cx="65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88880" y="1557360"/>
          <a:ext cx="9072720" cy="2806560"/>
        </p:xfrm>
        <a:graphic>
          <a:graphicData uri="http://schemas.openxmlformats.org/drawingml/2006/table">
            <a:tbl>
              <a:tblPr/>
              <a:tblGrid>
                <a:gridCol w="1511280"/>
                <a:gridCol w="2089080"/>
                <a:gridCol w="3041640"/>
                <a:gridCol w="2430720"/>
              </a:tblGrid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форм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 составляе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ичность и срок предоставле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у предоставляетс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о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числа месяца, следующего за отчетны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 управления территориальным государственным внебюджетным фонд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о, 12 числа месяца, следующего за отчетны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недельно, по вторникам, по состоянию на понедельн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региональное операционное УФ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54"/>
          <p:cNvSpPr/>
          <p:nvPr/>
        </p:nvSpPr>
        <p:spPr>
          <a:xfrm>
            <a:off x="1065240" y="801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Формирование отчетности в связи с переводом на кассовое обслуживание исполнения бюджетов ТФОМ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6"/>
          <p:cNvSpPr/>
          <p:nvPr/>
        </p:nvSpPr>
        <p:spPr>
          <a:xfrm>
            <a:off x="631800" y="467424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9"/>
          <p:cNvSpPr/>
          <p:nvPr/>
        </p:nvSpPr>
        <p:spPr>
          <a:xfrm>
            <a:off x="272880" y="4524480"/>
            <a:ext cx="928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лотными регионами в МОУ ФК должен быть представлен отчет по ф. 0503152 по состоянию на 01.10.2013 с учетом сумм поступлений и выбытий, а так же источников финансирования дефицита бюджета, поступивших в бюджеты ТФОМС за период с 01.01.2013 по 30.09.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A188-36B5-4117-8A89-592E38DCC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588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1281240" y="1197000"/>
            <a:ext cx="813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216160" y="1890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2792520" y="1484280"/>
            <a:ext cx="4392360" cy="122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Январь 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соответствии с письмом «О срок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едставления отчетности по состоя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1 января 2014 го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72880" y="836640"/>
            <a:ext cx="936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Особенности формирования и сдачи отчетности в МОУ ФК за 2013 год с учетом дополнительного периода и после заключения сч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5"/>
          <p:cNvCxnSpPr>
            <a:stCxn id="150" idx="2"/>
          </p:cNvCxnSpPr>
          <p:nvPr/>
        </p:nvCxnSpPr>
        <p:spPr>
          <a:xfrm>
            <a:off x="3439800" y="5243040"/>
            <a:ext cx="577080" cy="2595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sp>
        <p:nvSpPr>
          <p:cNvPr id="151" name="AutoShape 19"/>
          <p:cNvSpPr/>
          <p:nvPr/>
        </p:nvSpPr>
        <p:spPr>
          <a:xfrm>
            <a:off x="2863800" y="2563920"/>
            <a:ext cx="1224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я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тч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0"/>
          <p:cNvSpPr/>
          <p:nvPr/>
        </p:nvSpPr>
        <p:spPr>
          <a:xfrm>
            <a:off x="2719440" y="3571920"/>
            <a:ext cx="1441440" cy="165564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1655640"/>
              <a:gd name="textAreaBottom" fmla="*/ 1585440 h 1655640"/>
            </a:gdLst>
            <a:ahLst/>
            <a:rect l="textAreaLeft" t="textAreaTop" r="textAreaRight" b="textAreaBottom"/>
            <a:pathLst>
              <a:path w="21600" h="24809">
                <a:moveTo>
                  <a:pt x="3600" y="0"/>
                </a:moveTo>
                <a:arcTo wR="3600" hR="3600" stAng="16200000" swAng="-5400000"/>
                <a:lnTo>
                  <a:pt x="0" y="21209"/>
                </a:lnTo>
                <a:arcTo wR="3600" hR="3600" stAng="10800000" swAng="-5400000"/>
                <a:lnTo>
                  <a:pt x="18000" y="248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Коды форм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503150, 0503152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503153, 052145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3140, 0503124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3125, 0521413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21462, 0521463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3155, 0503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4"/>
          <p:cNvSpPr/>
          <p:nvPr/>
        </p:nvSpPr>
        <p:spPr>
          <a:xfrm>
            <a:off x="4160880" y="3716280"/>
            <a:ext cx="1440000" cy="1077840"/>
          </a:xfrm>
          <a:prstGeom prst="rightArrow">
            <a:avLst>
              <a:gd name="adj1" fmla="val 50000"/>
              <a:gd name="adj2" fmla="val 334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Из них, с уче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пери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7"/>
          <p:cNvSpPr/>
          <p:nvPr/>
        </p:nvSpPr>
        <p:spPr>
          <a:xfrm>
            <a:off x="5600880" y="3571920"/>
            <a:ext cx="1511280" cy="165564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1655640"/>
              <a:gd name="textAreaBottom" fmla="*/ 1582200 h 1655640"/>
            </a:gdLst>
            <a:ahLst/>
            <a:rect l="textAreaLeft" t="textAreaTop" r="textAreaRight" b="textAreaBottom"/>
            <a:pathLst>
              <a:path w="21600" h="23663">
                <a:moveTo>
                  <a:pt x="3600" y="0"/>
                </a:moveTo>
                <a:arcTo wR="3600" hR="3600" stAng="16200000" swAng="-5400000"/>
                <a:lnTo>
                  <a:pt x="0" y="20063"/>
                </a:lnTo>
                <a:arcTo wR="3600" hR="3600" stAng="10800000" swAng="-5400000"/>
                <a:lnTo>
                  <a:pt x="18000" y="23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Коды форм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503150, 0503152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503153, 052145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3140, 0503124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3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5"/>
          <p:cNvCxnSpPr/>
          <p:nvPr/>
        </p:nvCxnSpPr>
        <p:spPr>
          <a:xfrm flipH="1">
            <a:off x="6032160" y="5227560"/>
            <a:ext cx="208800" cy="36432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sp>
        <p:nvSpPr>
          <p:cNvPr id="155" name="Oval 30"/>
          <p:cNvSpPr/>
          <p:nvPr/>
        </p:nvSpPr>
        <p:spPr>
          <a:xfrm>
            <a:off x="3151080" y="5443560"/>
            <a:ext cx="3529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У формирует СВОД месяч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юджетной отчетности на 01.01.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4016520" y="2708280"/>
            <a:ext cx="2376360" cy="5032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иодичность «месячна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2"/>
          <p:cNvSpPr/>
          <p:nvPr/>
        </p:nvSpPr>
        <p:spPr>
          <a:xfrm>
            <a:off x="2719440" y="5443560"/>
            <a:ext cx="41767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У ФК формирует предвари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тчет об исполнении федер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юджета на 01.01.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58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1281240" y="1197000"/>
            <a:ext cx="813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216160" y="1890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272880" y="836640"/>
            <a:ext cx="936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Особенности формирования и сдачи отчетности в МОУ ФК за 2013 год с учетом дополнительного периода и после заключения сч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6"/>
          <p:cNvSpPr/>
          <p:nvPr/>
        </p:nvSpPr>
        <p:spPr>
          <a:xfrm>
            <a:off x="2505240" y="2492280"/>
            <a:ext cx="1152360" cy="93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Год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тч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5"/>
          <p:cNvCxnSpPr/>
          <p:nvPr/>
        </p:nvCxnSpPr>
        <p:spPr>
          <a:xfrm>
            <a:off x="3656160" y="4869000"/>
            <a:ext cx="289440" cy="5763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sp>
        <p:nvSpPr>
          <p:cNvPr id="165" name="AutoShape 31"/>
          <p:cNvSpPr/>
          <p:nvPr/>
        </p:nvSpPr>
        <p:spPr>
          <a:xfrm>
            <a:off x="2289240" y="1268280"/>
            <a:ext cx="4751280" cy="1368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евраль 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соответствии с приказом «О сроках предста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годовой бюджетной отчетности за 2013 г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ерриториальными органами Федерального казначейст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2289240" y="4940280"/>
            <a:ext cx="129528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иодич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годова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4"/>
          <p:cNvSpPr/>
          <p:nvPr/>
        </p:nvSpPr>
        <p:spPr>
          <a:xfrm>
            <a:off x="2289240" y="3429000"/>
            <a:ext cx="1655640" cy="144000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Коды форм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503150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314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3154, 050311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21441, 0503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С учетом операц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по заключ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сч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5"/>
          <p:cNvSpPr/>
          <p:nvPr/>
        </p:nvSpPr>
        <p:spPr>
          <a:xfrm>
            <a:off x="5384880" y="2492280"/>
            <a:ext cx="1224000" cy="93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я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тч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7"/>
          <p:cNvSpPr/>
          <p:nvPr/>
        </p:nvSpPr>
        <p:spPr>
          <a:xfrm>
            <a:off x="4376880" y="3429000"/>
            <a:ext cx="2520720" cy="144000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Коды форм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503152, 0503153, 052145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03124, 0503125, 0521413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21462, 0521463, 05031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Представляются в случа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внесения изменений в ран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представленные отч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5384880" y="4940280"/>
            <a:ext cx="1439640" cy="4320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иодич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месячна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5"/>
          <p:cNvCxnSpPr/>
          <p:nvPr/>
        </p:nvCxnSpPr>
        <p:spPr>
          <a:xfrm flipH="1">
            <a:off x="4231440" y="4869000"/>
            <a:ext cx="361080" cy="5763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sp>
        <p:nvSpPr>
          <p:cNvPr id="172" name="Oval 44"/>
          <p:cNvSpPr/>
          <p:nvPr/>
        </p:nvSpPr>
        <p:spPr>
          <a:xfrm>
            <a:off x="2216160" y="5445000"/>
            <a:ext cx="453708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У ФК формирует ГОД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ТЧЕТ об исполнении федера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юджета за 2013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9957-A561-468B-9EB4-80D9CAFBC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C2FD-41BB-4BDA-9DE1-244ED502B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568520" y="333360"/>
            <a:ext cx="698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776160" y="11484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ежрегиональное операционное У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88880" y="1268280"/>
          <a:ext cx="9072720" cy="5013360"/>
        </p:xfrm>
        <a:graphic>
          <a:graphicData uri="http://schemas.openxmlformats.org/drawingml/2006/table">
            <a:tbl>
              <a:tblPr/>
              <a:tblGrid>
                <a:gridCol w="1224000"/>
                <a:gridCol w="1727280"/>
                <a:gridCol w="2160720"/>
                <a:gridCol w="3960720"/>
              </a:tblGrid>
              <a:tr h="63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форм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 составляе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ичность и срок предоставле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у предоставляетс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о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числа месяца, следующего за отчетны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 Пенсионного фонда Российской Федерации по субъекту Российской Федераци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иональное отделение Фонда социального страхования Российской Федераци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 обязательного медицинского страх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о, 7 числа месяца, следующего за отчетны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региональное операционное УФ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Федерального казначей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о, 7 числа месяца, следующего за отчетны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региональное операционное УФ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3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региональное операционное УФ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о, 12 числа, следующего за отчетны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 управления государственным внебюджетным фон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енсионный фонд Российской Федераци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 социального страхования Российской Федераци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 обязательного медицинского страх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30"/>
          <p:cNvSpPr/>
          <p:nvPr/>
        </p:nvSpPr>
        <p:spPr>
          <a:xfrm>
            <a:off x="248400" y="836640"/>
            <a:ext cx="94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зменения, вносимые в приказ Федерального казначейства от 27.12.2012 № 4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8:55:19Z</dcterms:created>
  <dc:creator>2456</dc:creator>
  <dc:description/>
  <dc:language>en-US</dc:language>
  <cp:lastModifiedBy>user</cp:lastModifiedBy>
  <dcterms:modified xsi:type="dcterms:W3CDTF">2013-09-04T20:02:37Z</dcterms:modified>
  <cp:revision>143</cp:revision>
  <dc:subject/>
  <dc:title>Отдел доведения бюджетных данных Межрегионального операционного управления Федерального казначейства</dc:title>
</cp:coreProperties>
</file>