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774238" cy="6648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6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3396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36800" y="0"/>
            <a:ext cx="42354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23800" y="498600"/>
            <a:ext cx="3327480" cy="249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315120"/>
            <a:ext cx="423396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3680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C68E-84D2-4110-B1D9-388663A26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5EFB-58B4-416C-A97B-9C25C8FF8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E433-4792-4EC2-9A72-E8330A7AE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ы для разработки технологической платформы и прикладных решений используется Java и стандарт её применения в промышленных решениях – JEE. На сегодняшний день только Java предоставляет действительно полноценную кроссплатформенность. Java обладает средствами для построения больших, распределенных, высоконагруженных систем. Сообщество Java разработчиков разветвлено по всему ми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форма функционирует на любом сервере, поддерживающем промышленный стандарт JEE: GlassFish, JBoss и так далее. Кросплатформенность Java и масштабируемость, обеспечиваемая JEE, делают технологическую платформу и разработанные на ней решения легко наращиваемыми, разворачиваемыми в облачных структу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5758-488C-4B49-85A3-5864D9C15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функционирования в облаках позволяют гибко использовать платформу и разработанные на базе неё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услуга - программное обеспечение прикладного решения, принадлежащее Заказчику, размещается в Интернет на серверах третьих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форма как услуга – Заказчик использует платформу для реализации собственных предметных 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 как услуга – Заказчик пользуется возможностями прикладного решения, функционирующего в облаке, не приобретая ни аппаратных средств, ни само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82D0-FE2D-4B71-A0D9-B144D4FEE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C271-DAAB-43CA-B3B5-7180892A8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13A8-631C-48F2-94B2-1877B6425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F58-557E-4713-8A77-481F401D0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28FF-DD73-42CE-BFFE-446B85F14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B522-C71B-4AB4-9ACD-C6E36B8BC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6CF0-7B5D-49EA-85CD-B64C84CB6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63AB-141F-4876-BC77-957322433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9654-CDAE-4FF4-A3BE-3804767FA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8F11-F164-48DB-9BCD-0AFF390E0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34E4-A77E-4863-8130-2B2DA26DE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24160" y="498600"/>
            <a:ext cx="3327480" cy="249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7760" y="3157560"/>
            <a:ext cx="78184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537160" y="6315120"/>
            <a:ext cx="423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1AA5-6511-47E5-AA09-84C0B1143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DB8-21F9-4382-BC14-3E843224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23E-E492-4D90-A668-3C50308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891-A89C-494A-B4A8-0E3E5FA9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0A9-B896-4AA0-B1F9-B6328E02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2BF-C1FC-40A5-8C5A-CC6DB43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446-4830-4D79-86CC-642043BE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AC0-BF00-4990-BA18-A40B840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A56-165D-4D03-BF28-896B648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52D-84F9-461D-8DDC-2EFB7950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C3C-F868-4538-8F69-278153C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61E-601D-4120-A948-66C1B35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A2C-164E-4145-AA86-34E7B2A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7DF4-300F-4BBB-894B-63D84AB20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6.png"/><Relationship Id="rId19" Type="http://schemas.openxmlformats.org/officeDocument/2006/relationships/image" Target="../media/image4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8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324000" y="1066680"/>
            <a:ext cx="835020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324000" y="2709720"/>
            <a:ext cx="849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627280" y="6273720"/>
            <a:ext cx="39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87d"/>
                </a:solidFill>
                <a:latin typeface="Arial"/>
              </a:rPr>
              <a:t>НПО «Криста», 201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7" descr=""/>
          <p:cNvPicPr/>
          <p:nvPr/>
        </p:nvPicPr>
        <p:blipFill>
          <a:blip r:embed="rId2"/>
          <a:stretch/>
        </p:blipFill>
        <p:spPr>
          <a:xfrm>
            <a:off x="3273480" y="4973760"/>
            <a:ext cx="5559480" cy="114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426960" y="6099120"/>
            <a:ext cx="8280360" cy="42840"/>
          </a:xfrm>
          <a:prstGeom prst="rect">
            <a:avLst/>
          </a:prstGeom>
          <a:solidFill>
            <a:srgbClr val="1d4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47760" y="774720"/>
            <a:ext cx="8534160" cy="53640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EB0-31F2-43CE-8412-9675235F52F9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344520" y="1643040"/>
            <a:ext cx="853596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44520" y="6164280"/>
            <a:ext cx="85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ославская область, 1 календарный год, 01.10.2012 – 30.0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419040" y="12160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Облако 5"/>
          <p:cNvSpPr/>
          <p:nvPr/>
        </p:nvSpPr>
        <p:spPr>
          <a:xfrm>
            <a:off x="893880" y="2004840"/>
            <a:ext cx="7434000" cy="3645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d7eef9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3"/>
          <p:cNvSpPr/>
          <p:nvPr/>
        </p:nvSpPr>
        <p:spPr>
          <a:xfrm>
            <a:off x="1935000" y="2732040"/>
            <a:ext cx="5257800" cy="1470240"/>
          </a:xfrm>
          <a:prstGeom prst="roundRect">
            <a:avLst>
              <a:gd name="adj" fmla="val 16667"/>
            </a:avLst>
          </a:prstGeom>
          <a:solidFill>
            <a:srgbClr val="17749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920"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47760" y="774720"/>
            <a:ext cx="8534160" cy="113976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16CE-75CA-4B4E-A6EB-1D817D5FE239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0"/>
          <p:cNvSpPr/>
          <p:nvPr/>
        </p:nvSpPr>
        <p:spPr>
          <a:xfrm>
            <a:off x="2070000" y="3371760"/>
            <a:ext cx="2490840" cy="536760"/>
          </a:xfrm>
          <a:prstGeom prst="roundRect">
            <a:avLst>
              <a:gd name="adj" fmla="val 16667"/>
            </a:avLst>
          </a:prstGeom>
          <a:solidFill>
            <a:srgbClr val="d7e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719a"/>
                </a:solidFill>
                <a:latin typeface="Arial"/>
              </a:rPr>
              <a:t>Glass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4594320" y="3371760"/>
            <a:ext cx="2404800" cy="536760"/>
          </a:xfrm>
          <a:prstGeom prst="roundRect">
            <a:avLst>
              <a:gd name="adj" fmla="val 16667"/>
            </a:avLst>
          </a:prstGeom>
          <a:solidFill>
            <a:srgbClr val="d7e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719a"/>
                </a:solidFill>
                <a:latin typeface="Arial"/>
              </a:rPr>
              <a:t>J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666880" y="278604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вера при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1935000" y="4335480"/>
            <a:ext cx="5257800" cy="507960"/>
          </a:xfrm>
          <a:prstGeom prst="roundRect">
            <a:avLst>
              <a:gd name="adj" fmla="val 16667"/>
            </a:avLst>
          </a:prstGeom>
          <a:solidFill>
            <a:srgbClr val="17749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920"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Ява для промышленны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1924200" y="5805360"/>
            <a:ext cx="5257800" cy="507960"/>
          </a:xfrm>
          <a:prstGeom prst="roundRect">
            <a:avLst>
              <a:gd name="adj" fmla="val 16667"/>
            </a:avLst>
          </a:prstGeom>
          <a:solidFill>
            <a:srgbClr val="17749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920"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09FF-5762-44AB-B22B-28005CD02C7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36"/>
          <p:cNvGrpSpPr/>
          <p:nvPr/>
        </p:nvGrpSpPr>
        <p:grpSpPr>
          <a:xfrm>
            <a:off x="522360" y="790560"/>
            <a:ext cx="8229600" cy="5721480"/>
            <a:chOff x="522360" y="790560"/>
            <a:chExt cx="8229600" cy="5721480"/>
          </a:xfrm>
        </p:grpSpPr>
        <p:pic>
          <p:nvPicPr>
            <p:cNvPr id="106" name="Rectangle 3" descr=""/>
            <p:cNvPicPr/>
            <p:nvPr/>
          </p:nvPicPr>
          <p:blipFill>
            <a:blip r:embed="rId1"/>
            <a:stretch/>
          </p:blipFill>
          <p:spPr>
            <a:xfrm>
              <a:off x="1341000" y="790560"/>
              <a:ext cx="702288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Выгнутая вверх стрелка 10"/>
            <p:cNvSpPr/>
            <p:nvPr/>
          </p:nvSpPr>
          <p:spPr>
            <a:xfrm rot="16200000">
              <a:off x="-532800" y="3708360"/>
              <a:ext cx="3298320" cy="1187280"/>
            </a:xfrm>
            <a:custGeom>
              <a:avLst/>
              <a:gdLst>
                <a:gd name="textAreaLeft" fmla="*/ 757080 w 3298320"/>
                <a:gd name="textAreaRight" fmla="*/ 2426400 w 3298320"/>
                <a:gd name="textAreaTop" fmla="*/ 158760 h 1187280"/>
                <a:gd name="textAreaBottom" fmla="*/ 1028520 h 11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919" hR="21600" stAng="10800000" swAng="5400000"/>
                  <a:lnTo>
                    <a:pt x="10931" y="0"/>
                  </a:lnTo>
                  <a:arcTo wR="9919" hR="21600" stAng="-5400000" swAng="3396391"/>
                  <a:lnTo>
                    <a:pt x="21175" y="15342"/>
                  </a:lnTo>
                  <a:lnTo>
                    <a:pt x="20343" y="21600"/>
                  </a:lnTo>
                  <a:lnTo>
                    <a:pt x="18661" y="15342"/>
                  </a:lnTo>
                  <a:lnTo>
                    <a:pt x="19412" y="15342"/>
                  </a:lnTo>
                  <a:arcTo wR="9919" hR="21600" stAng="-2003609" swAng="-3315768"/>
                  <a:lnTo>
                    <a:pt x="10425" y="28"/>
                  </a:lnTo>
                  <a:arcTo wR="9919" hR="21600" stAng="-5480623" swAng="-5319377"/>
                  <a:close/>
                </a:path>
                <a:path fill="darkenLess" w="21600" h="21600">
                  <a:moveTo>
                    <a:pt x="0" y="21600"/>
                  </a:moveTo>
                  <a:arcTo wR="9919" hR="21600" stAng="10800000" swAng="5400000"/>
                  <a:lnTo>
                    <a:pt x="9919" y="0"/>
                  </a:lnTo>
                  <a:arcTo wR="9919" hR="21600" stAng="-5400000" swAng="80623"/>
                  <a:lnTo>
                    <a:pt x="10425" y="28"/>
                  </a:lnTo>
                  <a:arcTo wR="9919" hR="21600" stAng="-5480623" swAng="-5319377"/>
                  <a:close/>
                </a:path>
              </a:pathLst>
            </a:custGeom>
            <a:solidFill>
              <a:srgbClr val="98d5f0"/>
            </a:solidFill>
            <a:ln w="25560">
              <a:solidFill>
                <a:srgbClr val="98d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Выгнутая вправо стрелка 11"/>
            <p:cNvSpPr/>
            <p:nvPr/>
          </p:nvSpPr>
          <p:spPr>
            <a:xfrm rot="10800000">
              <a:off x="680760" y="4398480"/>
              <a:ext cx="815760" cy="1892880"/>
            </a:xfrm>
            <a:custGeom>
              <a:avLst/>
              <a:gdLst>
                <a:gd name="textAreaLeft" fmla="*/ 109080 w 815760"/>
                <a:gd name="textAreaRight" fmla="*/ 706680 w 815760"/>
                <a:gd name="textAreaTop" fmla="*/ 403200 h 1892880"/>
                <a:gd name="textAreaBottom" fmla="*/ 1407240 h 18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207" stAng="-5400000" swAng="5400000"/>
                  <a:lnTo>
                    <a:pt x="21600" y="11454"/>
                  </a:lnTo>
                  <a:arcTo wR="21600" hR="9207" stAng="0" swAng="2674509"/>
                  <a:lnTo>
                    <a:pt x="8576" y="20843"/>
                  </a:lnTo>
                  <a:lnTo>
                    <a:pt x="0" y="19537"/>
                  </a:lnTo>
                  <a:lnTo>
                    <a:pt x="8576" y="16716"/>
                  </a:lnTo>
                  <a:lnTo>
                    <a:pt x="8576" y="17656"/>
                  </a:lnTo>
                  <a:arcTo wR="21600" hR="9207" stAng="2674509" swAng="-2494516"/>
                  <a:lnTo>
                    <a:pt x="21439" y="10330"/>
                  </a:lnTo>
                  <a:arcTo wR="21600" hR="9207" stAng="-179992" swAng="-5220008"/>
                  <a:close/>
                </a:path>
                <a:path fill="darkenLess" w="21600" h="21600">
                  <a:moveTo>
                    <a:pt x="0" y="0"/>
                  </a:moveTo>
                  <a:arcTo wR="21600" hR="9207" stAng="-5400000" swAng="5400000"/>
                  <a:lnTo>
                    <a:pt x="21600" y="11454"/>
                  </a:lnTo>
                  <a:arcTo wR="21600" hR="9207" stAng="0" swAng="-179992"/>
                  <a:lnTo>
                    <a:pt x="21439" y="10330"/>
                  </a:lnTo>
                  <a:arcTo wR="21600" hR="9207" stAng="-179992" swAng="-5220008"/>
                  <a:close/>
                </a:path>
              </a:pathLst>
            </a:custGeom>
            <a:solidFill>
              <a:srgbClr val="98d5f0"/>
            </a:solidFill>
            <a:ln w="25560">
              <a:solidFill>
                <a:srgbClr val="98d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31"/>
            <p:cNvGrpSpPr/>
            <p:nvPr/>
          </p:nvGrpSpPr>
          <p:grpSpPr>
            <a:xfrm>
              <a:off x="1175760" y="5533560"/>
              <a:ext cx="5705280" cy="978480"/>
              <a:chOff x="1175760" y="5533560"/>
              <a:chExt cx="5705280" cy="978480"/>
            </a:xfrm>
          </p:grpSpPr>
          <p:grpSp>
            <p:nvGrpSpPr>
              <p:cNvPr id="110" name="Облако 13"/>
              <p:cNvGrpSpPr/>
              <p:nvPr/>
            </p:nvGrpSpPr>
            <p:grpSpPr>
              <a:xfrm>
                <a:off x="1175760" y="5562720"/>
                <a:ext cx="2823120" cy="949320"/>
                <a:chOff x="1175760" y="5562720"/>
                <a:chExt cx="2823120" cy="949320"/>
              </a:xfrm>
            </p:grpSpPr>
            <p:pic>
              <p:nvPicPr>
                <p:cNvPr id="111" name="Облако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75760" y="5562720"/>
                  <a:ext cx="2823120" cy="9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"/>
                <p:cNvSpPr/>
                <p:nvPr/>
              </p:nvSpPr>
              <p:spPr>
                <a:xfrm>
                  <a:off x="1607400" y="5715720"/>
                  <a:ext cx="17640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3" name="Rectangl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929600" y="5724720"/>
                <a:ext cx="1737360" cy="536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Группа 18"/>
              <p:cNvGrpSpPr/>
              <p:nvPr/>
            </p:nvGrpSpPr>
            <p:grpSpPr>
              <a:xfrm>
                <a:off x="1280520" y="5751000"/>
                <a:ext cx="782640" cy="440280"/>
                <a:chOff x="1280520" y="5751000"/>
                <a:chExt cx="782640" cy="440280"/>
              </a:xfrm>
            </p:grpSpPr>
            <p:pic>
              <p:nvPicPr>
                <p:cNvPr id="115" name="Picture 11" descr="C:\Documents and Settings\fedorova\Мои документы\Загрузки\network-server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80520" y="5751000"/>
                  <a:ext cx="470520" cy="44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12" descr="C:\Documents and Settings\fedorova\Мои документы\Загрузки\network-server-database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92640" y="5751000"/>
                  <a:ext cx="470520" cy="440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7" name="Picture 19" descr="C:\Documents and Settings\fedorova\Мои документы\Загрузки\user1(2)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3493080" y="5533560"/>
                <a:ext cx="7826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8" descr="C:\Documents and Settings\fedorova\Мои документы\Загрузки\user.png"/>
              <p:cNvPicPr/>
              <p:nvPr/>
            </p:nvPicPr>
            <p:blipFill>
              <a:blip r:embed="rId7"/>
              <a:stretch/>
            </p:blipFill>
            <p:spPr>
              <a:xfrm flipH="1">
                <a:off x="3243240" y="5664960"/>
                <a:ext cx="80532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Box 8"/>
              <p:cNvSpPr/>
              <p:nvPr/>
            </p:nvSpPr>
            <p:spPr>
              <a:xfrm>
                <a:off x="4004640" y="5654160"/>
                <a:ext cx="28764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Программное обеспечение размещаем у Интернет-провайдер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Выгнутая влево стрелка 21"/>
            <p:cNvSpPr/>
            <p:nvPr/>
          </p:nvSpPr>
          <p:spPr>
            <a:xfrm flipH="1" rot="10800000">
              <a:off x="936000" y="2265480"/>
              <a:ext cx="884160" cy="2231280"/>
            </a:xfrm>
            <a:custGeom>
              <a:avLst/>
              <a:gdLst>
                <a:gd name="textAreaLeft" fmla="*/ 118440 w 884160"/>
                <a:gd name="textAreaRight" fmla="*/ 765720 w 884160"/>
                <a:gd name="textAreaTop" fmla="*/ 505800 h 2231280"/>
                <a:gd name="textAreaBottom" fmla="*/ 1643760 h 223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98" stAng="-5400000" swAng="-5400000"/>
                  <a:lnTo>
                    <a:pt x="0" y="11013"/>
                  </a:lnTo>
                  <a:arcTo wR="21600" hR="9798" stAng="10800000" swAng="-2824940"/>
                  <a:lnTo>
                    <a:pt x="13206" y="20830"/>
                  </a:lnTo>
                  <a:lnTo>
                    <a:pt x="21600" y="20203"/>
                  </a:lnTo>
                  <a:lnTo>
                    <a:pt x="13206" y="18035"/>
                  </a:lnTo>
                  <a:lnTo>
                    <a:pt x="13206" y="18825"/>
                  </a:lnTo>
                  <a:arcTo wR="21600" hR="9798" stAng="7975060" swAng="2728092"/>
                  <a:lnTo>
                    <a:pt x="42" y="10405"/>
                  </a:lnTo>
                  <a:arcTo wR="21600" hR="9798" stAng="-10703153" swAng="5303153"/>
                  <a:close/>
                </a:path>
                <a:path fill="darkenLess" w="21600" h="21600">
                  <a:moveTo>
                    <a:pt x="21600" y="0"/>
                  </a:moveTo>
                  <a:arcTo wR="21600" hR="9798" stAng="-5400000" swAng="-5400000"/>
                  <a:lnTo>
                    <a:pt x="0" y="9798"/>
                  </a:lnTo>
                  <a:arcTo wR="21600" hR="9798" stAng="10800000" swAng="-96847"/>
                  <a:lnTo>
                    <a:pt x="42" y="10405"/>
                  </a:lnTo>
                  <a:arcTo wR="21600" hR="9798" stAng="-10703153" swAng="5303153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33"/>
            <p:cNvGrpSpPr/>
            <p:nvPr/>
          </p:nvGrpSpPr>
          <p:grpSpPr>
            <a:xfrm>
              <a:off x="1444320" y="3880080"/>
              <a:ext cx="6340320" cy="1194480"/>
              <a:chOff x="1444320" y="3880080"/>
              <a:chExt cx="6340320" cy="1194480"/>
            </a:xfrm>
          </p:grpSpPr>
          <p:grpSp>
            <p:nvGrpSpPr>
              <p:cNvPr id="122" name="Облако 23"/>
              <p:cNvGrpSpPr/>
              <p:nvPr/>
            </p:nvGrpSpPr>
            <p:grpSpPr>
              <a:xfrm>
                <a:off x="1444320" y="3880080"/>
                <a:ext cx="3164040" cy="1194480"/>
                <a:chOff x="1444320" y="3880080"/>
                <a:chExt cx="3164040" cy="1194480"/>
              </a:xfrm>
            </p:grpSpPr>
            <p:pic>
              <p:nvPicPr>
                <p:cNvPr id="123" name="Облако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44320" y="3880080"/>
                  <a:ext cx="3164040" cy="119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1923840" y="4069080"/>
                  <a:ext cx="1988280" cy="70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5" name="Rectangle 3" descr=""/>
              <p:cNvPicPr/>
              <p:nvPr/>
            </p:nvPicPr>
            <p:blipFill>
              <a:blip r:embed="rId9"/>
              <a:stretch/>
            </p:blipFill>
            <p:spPr>
              <a:xfrm>
                <a:off x="2434320" y="4007160"/>
                <a:ext cx="1690560" cy="83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C:\Documents and Settings\fedorova\Мои документы\Загрузки\preferences-system.png"/>
              <p:cNvPicPr/>
              <p:nvPr/>
            </p:nvPicPr>
            <p:blipFill>
              <a:blip r:embed="rId10"/>
              <a:stretch/>
            </p:blipFill>
            <p:spPr>
              <a:xfrm>
                <a:off x="1719720" y="4156560"/>
                <a:ext cx="606960" cy="535680"/>
              </a:xfrm>
              <a:prstGeom prst="rect">
                <a:avLst/>
              </a:prstGeom>
              <a:ln w="0">
                <a:noFill/>
              </a:ln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127" name="Picture 16" descr="F:\Annet\Work\Java\Presentation Minfin\user-group-icon.png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980160" y="4015800"/>
                <a:ext cx="99360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Box 8"/>
              <p:cNvSpPr/>
              <p:nvPr/>
            </p:nvSpPr>
            <p:spPr>
              <a:xfrm>
                <a:off x="4965840" y="4219200"/>
                <a:ext cx="28188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Заказчики используют техническую платформу для разработки приложен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Группа 32"/>
            <p:cNvGrpSpPr/>
            <p:nvPr/>
          </p:nvGrpSpPr>
          <p:grpSpPr>
            <a:xfrm>
              <a:off x="1655640" y="1905840"/>
              <a:ext cx="7096320" cy="2340720"/>
              <a:chOff x="1655640" y="1905840"/>
              <a:chExt cx="7096320" cy="2340720"/>
            </a:xfrm>
          </p:grpSpPr>
          <p:grpSp>
            <p:nvGrpSpPr>
              <p:cNvPr id="130" name="Облако 29"/>
              <p:cNvGrpSpPr/>
              <p:nvPr/>
            </p:nvGrpSpPr>
            <p:grpSpPr>
              <a:xfrm>
                <a:off x="1655640" y="1930680"/>
                <a:ext cx="3585240" cy="1487880"/>
                <a:chOff x="1655640" y="1930680"/>
                <a:chExt cx="3585240" cy="1487880"/>
              </a:xfrm>
            </p:grpSpPr>
            <p:pic>
              <p:nvPicPr>
                <p:cNvPr id="131" name="Облако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55640" y="1930680"/>
                  <a:ext cx="3585240" cy="1487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2191320" y="2162880"/>
                  <a:ext cx="2265480" cy="89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3" name="Rectangle 3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47080" y="2205000"/>
                <a:ext cx="213408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7" descr="C:\Documents and Settings\fedorova\Мои документы\Загрузки\adept_installer.png"/>
              <p:cNvPicPr/>
              <p:nvPr/>
            </p:nvPicPr>
            <p:blipFill>
              <a:blip r:embed="rId14"/>
              <a:stretch/>
            </p:blipFill>
            <p:spPr>
              <a:xfrm>
                <a:off x="1883880" y="2132640"/>
                <a:ext cx="869760" cy="846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5" name="Группа 23"/>
              <p:cNvGrpSpPr/>
              <p:nvPr/>
            </p:nvGrpSpPr>
            <p:grpSpPr>
              <a:xfrm>
                <a:off x="4749480" y="1905840"/>
                <a:ext cx="898200" cy="1018440"/>
                <a:chOff x="4749480" y="1905840"/>
                <a:chExt cx="898200" cy="1018440"/>
              </a:xfrm>
            </p:grpSpPr>
            <p:pic>
              <p:nvPicPr>
                <p:cNvPr id="136" name="Picture 13" descr="C:\Documents and Settings\fedorova\Мои документы\Загрузки\people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749480" y="1905840"/>
                  <a:ext cx="898200" cy="874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15" descr="C:\Documents and Settings\fedorova\Мои документы\Загрузки\emblem-people(1).p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885920" y="2265480"/>
                  <a:ext cx="676440" cy="65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8" name="TextBox 8"/>
              <p:cNvSpPr/>
              <p:nvPr/>
            </p:nvSpPr>
            <p:spPr>
              <a:xfrm>
                <a:off x="5850000" y="1969920"/>
                <a:ext cx="2901960" cy="22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Заказчикам предоставляется доступ к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Web-</a:t>
                </a: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приложениям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SzPct val="102725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Отсутствие необходимости установки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специализированного ПО на рабочих местах заказчиков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SzPct val="102725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Ускорение процесса развертывания системы;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SzPct val="102725"/>
                  <a:buBlip>
                    <a:blip r:embed="rId1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</a:rPr>
                  <a:t>Улучшение качества технического обслуживания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35FB-763F-42CD-89A8-AFA2D6E97B71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5" descr=""/>
          <p:cNvPicPr/>
          <p:nvPr/>
        </p:nvPicPr>
        <p:blipFill>
          <a:blip r:embed="rId1"/>
          <a:stretch/>
        </p:blipFill>
        <p:spPr>
          <a:xfrm>
            <a:off x="341280" y="1670040"/>
            <a:ext cx="481032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http://3.bp.blogspot.com/_4aOOJ_QStzE/TCJ8S0ynFgI/AAAAAAAAAh8/Fz4Hyzux-t0/s1600/rodin_lapis.jpg"/>
          <p:cNvPicPr/>
          <p:nvPr/>
        </p:nvPicPr>
        <p:blipFill>
          <a:blip r:embed="rId2"/>
          <a:stretch/>
        </p:blipFill>
        <p:spPr>
          <a:xfrm>
            <a:off x="5299200" y="1432080"/>
            <a:ext cx="3400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8160-A702-42AC-AA9A-DC9B697706B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tangle 5" descr=""/>
          <p:cNvPicPr/>
          <p:nvPr/>
        </p:nvPicPr>
        <p:blipFill>
          <a:blip r:embed="rId1"/>
          <a:stretch/>
        </p:blipFill>
        <p:spPr>
          <a:xfrm>
            <a:off x="1371600" y="884160"/>
            <a:ext cx="7327800" cy="712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http://3.bp.blogspot.com/_4aOOJ_QStzE/TCJ8S0ynFgI/AAAAAAAAAh8/Fz4Hyzux-t0/s1600/rodin_lapis.jpg"/>
          <p:cNvPicPr/>
          <p:nvPr/>
        </p:nvPicPr>
        <p:blipFill>
          <a:blip r:embed="rId2"/>
          <a:stretch/>
        </p:blipFill>
        <p:spPr>
          <a:xfrm>
            <a:off x="465120" y="938160"/>
            <a:ext cx="957240" cy="131616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5" descr=""/>
          <p:cNvPicPr/>
          <p:nvPr/>
        </p:nvPicPr>
        <p:blipFill>
          <a:blip r:embed="rId3"/>
          <a:stretch/>
        </p:blipFill>
        <p:spPr>
          <a:xfrm>
            <a:off x="1371600" y="1500120"/>
            <a:ext cx="7327800" cy="71280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5" descr=""/>
          <p:cNvPicPr/>
          <p:nvPr/>
        </p:nvPicPr>
        <p:blipFill>
          <a:blip r:embed="rId4"/>
          <a:stretch/>
        </p:blipFill>
        <p:spPr>
          <a:xfrm>
            <a:off x="1378080" y="2114640"/>
            <a:ext cx="732780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5" descr=""/>
          <p:cNvPicPr/>
          <p:nvPr/>
        </p:nvPicPr>
        <p:blipFill>
          <a:blip r:embed="rId5"/>
          <a:stretch/>
        </p:blipFill>
        <p:spPr>
          <a:xfrm>
            <a:off x="1384200" y="2786040"/>
            <a:ext cx="7326360" cy="71928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5" descr=""/>
          <p:cNvPicPr/>
          <p:nvPr/>
        </p:nvPicPr>
        <p:blipFill>
          <a:blip r:embed="rId6"/>
          <a:stretch/>
        </p:blipFill>
        <p:spPr>
          <a:xfrm>
            <a:off x="1384200" y="3456000"/>
            <a:ext cx="7326360" cy="71928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5" descr=""/>
          <p:cNvPicPr/>
          <p:nvPr/>
        </p:nvPicPr>
        <p:blipFill>
          <a:blip r:embed="rId7"/>
          <a:stretch/>
        </p:blipFill>
        <p:spPr>
          <a:xfrm>
            <a:off x="1414440" y="4127400"/>
            <a:ext cx="7327800" cy="71280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5" descr=""/>
          <p:cNvPicPr/>
          <p:nvPr/>
        </p:nvPicPr>
        <p:blipFill>
          <a:blip r:embed="rId8"/>
          <a:stretch/>
        </p:blipFill>
        <p:spPr>
          <a:xfrm>
            <a:off x="1414440" y="4773600"/>
            <a:ext cx="73278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274680" y="3230640"/>
            <a:ext cx="8534520" cy="718920"/>
          </a:xfrm>
          <a:prstGeom prst="rect">
            <a:avLst/>
          </a:prstGeom>
          <a:ln w="0">
            <a:noFill/>
          </a:ln>
        </p:spPr>
      </p:pic>
      <p:sp>
        <p:nvSpPr>
          <p:cNvPr id="152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C2DE-7FCF-4C27-A060-235A927C2ADD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347760" y="774720"/>
            <a:ext cx="842472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CADD-1609-4430-B04E-2DD706012BE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49360" y="1828800"/>
            <a:ext cx="38196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ая отче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1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н (с учетом 13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ая отче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плана по сети, штатам, континген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 о расходах и численности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 по мониторингу местных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месячная 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ая отчетность об оплате труда по категориям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554360" y="1800360"/>
            <a:ext cx="411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8D3-C24C-496E-95E8-B0BE418B5D0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228600" y="1971720"/>
            <a:ext cx="8763120" cy="217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28760" y="1582560"/>
            <a:ext cx="8226360" cy="445644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3"/>
          <a:stretch/>
        </p:blipFill>
        <p:spPr>
          <a:xfrm>
            <a:off x="347760" y="774720"/>
            <a:ext cx="8424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5FF-0530-4189-9292-61745883E48D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344520" y="1638360"/>
            <a:ext cx="8478720" cy="471492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3"/>
          <a:stretch/>
        </p:blipFill>
        <p:spPr>
          <a:xfrm>
            <a:off x="396720" y="725400"/>
            <a:ext cx="8429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16B-8E76-4029-8DEA-0A596E6F3A58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396720" y="725400"/>
            <a:ext cx="842976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395280" y="1467000"/>
            <a:ext cx="8304120" cy="49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95280" y="148104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4"/>
          <a:stretch/>
        </p:blipFill>
        <p:spPr>
          <a:xfrm>
            <a:off x="411120" y="1481040"/>
            <a:ext cx="8290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175-3484-44B8-91B3-86866E49AE00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396720" y="725400"/>
            <a:ext cx="842976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7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8"/>
          <a:stretch/>
        </p:blipFill>
        <p:spPr>
          <a:xfrm>
            <a:off x="395280" y="1638360"/>
            <a:ext cx="82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730D-8BC0-4AF7-96A0-2B0240CC0CFB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396720" y="725400"/>
            <a:ext cx="8429760" cy="9144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549360" y="1494000"/>
            <a:ext cx="81500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унаправленный контроль выбытий-по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е-пос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Р-поселение, МО-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ъект-МО, Субъект-по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едомственные и межведомственные 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ческая консолидаци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олидация уровня ГРБС (по сч.30404, год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олидация уровня ФО (по сч.40110180, 40120241, год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олидация уровня консолидирующего ФО МР (317 и год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олидация уровня консолидирующего ФО субъекта (317 и год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сех уровн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авильности использования классифик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ф.0503127 ГРБС на ф.0503124 вышестоящего Ф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обобщение классификации до уровня вышестоящего бюджета при переходе отчетности через границы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8E88-1AE7-4216-8065-86B9D08AF025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96720" y="725400"/>
            <a:ext cx="842976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534960" y="1494000"/>
            <a:ext cx="81504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бюджетные и многоуровнев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доведение классификации вышестоящих бюджетов до нижесто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шение конфликтов совпадение КБК и кодов глав разных бюджетов од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шение конфликтов совпадения кодов глав вышестоящего и нижестоящего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обобщение классификации, вычисление промежуточных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сион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ддержка версион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сионность классифик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сионность иерархии подотчетности 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сионность форм и контрольных со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сионность форматов обмена с внешними систе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14"/>
          <p:cNvSpPr/>
          <p:nvPr/>
        </p:nvSpPr>
        <p:spPr>
          <a:xfrm>
            <a:off x="8070840" y="295200"/>
            <a:ext cx="628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BEA-D34C-4087-A2EE-7D37A7295F9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396720" y="725400"/>
            <a:ext cx="842976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08120" y="163836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6:45:09Z</dcterms:created>
  <dc:creator>Gektor</dc:creator>
  <dc:description/>
  <dc:language>en-US</dc:language>
  <cp:lastModifiedBy>user</cp:lastModifiedBy>
  <dcterms:modified xsi:type="dcterms:W3CDTF">2013-09-05T07:10:47Z</dcterms:modified>
  <cp:revision>826</cp:revision>
  <dc:subject/>
  <dc:title>Слайд 1</dc:title>
</cp:coreProperties>
</file>