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271-DA8C-4447-B084-036142A0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306-41AD-4CE7-8865-84D5C0ED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B36-DB95-4A08-9530-0800D049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CCDA-D2A3-44CE-BBEB-1FFA249A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40E-26A1-4604-8FFD-38775E00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BB2A-2877-41A9-9007-23CBC2BB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AC1-433E-419B-BC81-2035827C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BBA-1398-4CD4-9AD4-8B29DBAB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19F2-A1D9-4E21-935D-F84EBEC5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E34A-3CCE-46D1-9920-936598E6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689-74C4-4944-A3F1-8FEA6B94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DC1-361B-4C44-93CA-53675226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2FF6-8EFE-4476-B656-7A561D812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500120"/>
            <a:ext cx="8572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ДГОТОВИТЕЛЬНЫЕ МЕРОПРИЯТИЯ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 СДАЧЕ БЮДЖЕТНОЙ ОТЧЕТНОСТИ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ЗА 2013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928760"/>
            <a:ext cx="64008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уководитель Межрегионального операционного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ришин Дмитрий Серг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0238-13C7-4932-B76E-0DAFEA82C1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сение  изменений   в   конце   2012  года   в   НПА  Минфина Росс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ламентирующие порядок  формирования и  представления  отче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  (бюджетная  отчетность – приказ  Минфина  России  от  26.10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8н; бухгалтерская отчетность бюджетных и автоном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фина России от 26.10.2012 № 139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зультате изменения были внесе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Анализ проблем методологического харак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250920" y="4941720"/>
            <a:ext cx="1008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979640" y="4365720"/>
            <a:ext cx="194292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12 отчетных форм из 23 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асти бюджетной отчетност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52% отчетных форм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979640" y="5734080"/>
            <a:ext cx="194472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9 отчетных форм из 11 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асти бухгалтерск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четности АУ и Б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81% отчетных форм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V="1">
            <a:off x="1187280" y="4723920"/>
            <a:ext cx="792360" cy="289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1187280" y="5805360"/>
            <a:ext cx="79236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5219640" y="4941720"/>
            <a:ext cx="1008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6948360" y="4292640"/>
            <a:ext cx="194328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10 отчетных форм из 17 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асти бюджетной отчетност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58% отчетных форм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6948360" y="5734080"/>
            <a:ext cx="194472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9 отчетных форм из 11 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части бухгалтерск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четности АУ и Б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81% отчетных форм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 flipV="1">
            <a:off x="6156360" y="4723920"/>
            <a:ext cx="792000" cy="289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6156360" y="5805360"/>
            <a:ext cx="79200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53FA-35BE-4E2B-8496-C74C34AF8F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87138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численные расхождения между ГРБС и ФО  в части  от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нных и полученных межбюджетных трансфертов при  прове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ерки данных Справок по консолидируемым расчетам (ф.0503125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Анализ проблем организационного харак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24000" y="3213000"/>
            <a:ext cx="3816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числение межбюджетных трансфер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невыясненные поступ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755640" y="4149720"/>
            <a:ext cx="3384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верное оформление расчетных (платежных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окументов при перечислении межбюджет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рансфертов текущего финансового год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755640" y="5013360"/>
            <a:ext cx="3384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сутствие закрепления соответствующих КБ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нормативных актах главных администратор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администраторов) доходов бюджет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755640" y="5877000"/>
            <a:ext cx="3384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своевременное уточнение возврата остатк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ежбюджетных трансфертов с невыяснен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ступлений главными администратора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администраторами) доходов бюджет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68360" y="3933720"/>
            <a:ext cx="0" cy="2374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468360" y="630864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468360" y="537372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68360" y="443700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5003640" y="3213000"/>
            <a:ext cx="3816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своевременное прове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организационных мероприят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Б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5435640" y="4149720"/>
            <a:ext cx="338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завершенность процедуры реорганиз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РБС до конца финансового год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5435640" y="5013360"/>
            <a:ext cx="338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зднее доведение соответствующей информации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установленной НПА до ФО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>
            <a:off x="5148360" y="3933720"/>
            <a:ext cx="0" cy="1366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5148360" y="530064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5148360" y="443700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5A5D-D6E0-4431-81DE-ABA005AB9C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179280" y="1600200"/>
            <a:ext cx="8713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Многочисленные расхождения между ГРБС, ФО  в части от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нного и полученного имущества при проведении выверки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авок по консолидируемым расчетам (ф.0503125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Анализ проблем организационного харак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2340000" y="2997360"/>
            <a:ext cx="3816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хождение данных Справок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солидируемым расчетам ф.050312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счетам 040110180, 04012024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771640" y="4292640"/>
            <a:ext cx="3384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своевременное проведение выверки взаим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счетов по переданному и полученном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муществу между ГРБС, Ф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о срока представления годовой отчетност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2771640" y="5373720"/>
            <a:ext cx="3384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сутствие четкого описания механизм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язательной выверки взаимных расчет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 имуществу между ГРБС, ФО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2484360" y="465300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2484360" y="573408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 flipV="1">
            <a:off x="2484360" y="3715920"/>
            <a:ext cx="0" cy="2017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41AD-34FB-4115-9EBB-54F2B7F47A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Анализ проблем технического харак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324000" y="1989000"/>
            <a:ext cx="3816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огочисленные проблемы при загрузк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четных форм от ГРБС, Ф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55640" y="3284640"/>
            <a:ext cx="3384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соответствие отчетных форм, направляем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РБС, ФО ТФФ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755640" y="4437000"/>
            <a:ext cx="3384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зднее доведение ТФФ до ГРБС, ФО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5003640" y="1989000"/>
            <a:ext cx="3816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стабильная работа программ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дуктов Федерального казначей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приеме отчетно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5435640" y="3284640"/>
            <a:ext cx="338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стабильная работа ППО «СЭД» по времен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оставки отчетов в МОУ ФК и передачи протокол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 результатам контроля отчетных форм ГРБС, ФО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435640" y="4437000"/>
            <a:ext cx="338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 проведении обновлений ППО «АС ФК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еханизмы контроля отчетных форм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еализованные в прежних версиях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ерестают работать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5435640" y="5516640"/>
            <a:ext cx="338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 внесении изменений в контрольны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отношения, изменения контролей в ППО «АС ФК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еализовываются со значительным отставанием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468360" y="364500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468360" y="479736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5148360" y="364500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5148360" y="479736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5148360" y="5877000"/>
            <a:ext cx="287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9"/>
          <p:cNvSpPr/>
          <p:nvPr/>
        </p:nvSpPr>
        <p:spPr>
          <a:xfrm flipV="1">
            <a:off x="468360" y="2707920"/>
            <a:ext cx="0" cy="2089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0"/>
          <p:cNvSpPr/>
          <p:nvPr/>
        </p:nvSpPr>
        <p:spPr>
          <a:xfrm flipV="1">
            <a:off x="5148360" y="2708280"/>
            <a:ext cx="0" cy="3168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B36B-6BED-43C9-9F6B-45CDC744AB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8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BE13-C981-42E2-95C5-C7DB0AE3DC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108000" y="857160"/>
            <a:ext cx="9036000" cy="4857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" descr=""/>
          <p:cNvPicPr/>
          <p:nvPr/>
        </p:nvPicPr>
        <p:blipFill>
          <a:blip r:embed="rId3"/>
          <a:stretch/>
        </p:blipFill>
        <p:spPr>
          <a:xfrm>
            <a:off x="1071720" y="5715000"/>
            <a:ext cx="6905520" cy="952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4591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Шапка"/>
          <p:cNvPicPr/>
          <p:nvPr/>
        </p:nvPicPr>
        <p:blipFill>
          <a:blip r:embed="rId4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8920" y="2565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лагаемые решения по проблемам методологического характ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сение изменений в НПА, регламентирующие составление и представление отчетности, не позднее 01 ноября текущего финансового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сение изменений в Контрольные соотношения, и их доведение до ГРБС и ФО до 01 января следующего финансового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внесении изменений в НПА осуществлять их внедрение на пилотных ГРБС и Ф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редложения по совершенствованию процесса приема и обработки бюджетной (бухгалтерской) отчетности, представляемой ГРБС и Ф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FB41-A94F-4379-A0DC-6E84598375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агаемые решения по проблемам организационного характ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ение информационных писем в адрес соответствующих ГРБС, ФО и ТОФК по результатам приема отчетности о наличии НВС в части межбюджетных трансфертов и необходимости их уточнения в установлен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дение совместной работы ТОФК и ФО с главными администраторами (администраторами) доходов бюджета по своевременному закреплению соответствующих КБК в нормативных ак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сение изменений в приказ Федерального казначейства от 10.10.2008 № 8н в части осуществления контроля за оформлением платежных документов  клиентов при перечислении межбюджетных трансфертов текущего финансового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епление в НПА четкого описания механизма обязательной выверки взаимных расчетов по имуществу между ГРБС, ФО (возможно, по состоянию на 01.10 соответствующего финансового года через сдачу соответствующей отчетности в МОУ ФК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F41C-47BA-4502-B980-CDF8B52984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агаемые решения по проблемам технического характ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ведение ТФФ до ГРБС, ФО до 15 января следующего финансового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ткая регламентация срока доработок ППО «АС ФК» с момента внесения изменений в Контрольные соотно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ение регламента взаимодействия МОУ ФК и ОТР по оперативному устранению критических ошибок (до официального внесения изменений в Контрольные соотношения) в ППО «АС ФК» при принятии  годовой отчет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2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F2E2-CC24-4848-B75F-FA12959682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обенности принятия отчетности в 2012 – 2013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г. – впервые МОУ ФК рассылает акты сверки взаимных расче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 г. – впервые отчетность принимается МОУ Ф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 г. – впервые отчетность принимается с использованием ППО АС Ф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 г. – впервые принимается отчетность бюджетных и автономных учрежд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 г. – впервые на постоянной основе формируется единая главная кни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116D-6FA1-491A-A138-486977E41E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ак это бы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года – трудности с формированием оперативной отчет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еврале – апреле – принятие годовой отчет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18 часов рабочий день и более, без выход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сравнительно планомерная сдача отчетов ТОФК и финорган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обы главных распорядителей сред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чень позитивная оценка деятельности МОУ ФК со стороны ГРБ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DC94-C68D-4335-846B-026E1032C8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2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еханизмы приема отчетности ГРБС, Ф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179280" y="1557360"/>
            <a:ext cx="1657440" cy="12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4067280" y="1413000"/>
            <a:ext cx="4825800" cy="352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1835280" y="1628640"/>
            <a:ext cx="2232000" cy="576360"/>
          </a:xfrm>
          <a:prstGeom prst="rightArrow">
            <a:avLst>
              <a:gd name="adj1" fmla="val 50000"/>
              <a:gd name="adj2" fmla="val 968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четные фор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 rot="10800000">
            <a:off x="1835280" y="2133720"/>
            <a:ext cx="2232000" cy="576000"/>
          </a:xfrm>
          <a:prstGeom prst="rightArrow">
            <a:avLst>
              <a:gd name="adj1" fmla="val 50000"/>
              <a:gd name="adj2" fmla="val 968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отоколы по видам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1835280" y="3500280"/>
            <a:ext cx="2232000" cy="576360"/>
          </a:xfrm>
          <a:prstGeom prst="rightArrow">
            <a:avLst>
              <a:gd name="adj1" fmla="val 50000"/>
              <a:gd name="adj2" fmla="val 968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четные фор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2"/>
          <p:cNvSpPr/>
          <p:nvPr/>
        </p:nvSpPr>
        <p:spPr>
          <a:xfrm rot="10800000">
            <a:off x="1835280" y="4005360"/>
            <a:ext cx="2232000" cy="576000"/>
          </a:xfrm>
          <a:prstGeom prst="rightArrow">
            <a:avLst>
              <a:gd name="adj1" fmla="val 50000"/>
              <a:gd name="adj2" fmla="val 968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отоколы по видам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179280" y="3429000"/>
            <a:ext cx="1657440" cy="12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4211640" y="1989000"/>
            <a:ext cx="4537080" cy="172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Проверка на соответствие ТФ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Проведение форматного контро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роведение внутридокументного контроля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документного контро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Проведение внешнего контроля между различ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точниками (ГРБС, УФК, ФО, ГВБФ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4716360" y="4076640"/>
            <a:ext cx="360072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ние исходящ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гламентированной Отчет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5508720" y="5734080"/>
            <a:ext cx="2087640" cy="985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6300720" y="371628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8"/>
          <p:cNvSpPr/>
          <p:nvPr/>
        </p:nvSpPr>
        <p:spPr>
          <a:xfrm>
            <a:off x="5508720" y="4508640"/>
            <a:ext cx="2087640" cy="122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аправле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вод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четных фор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0"/>
          <p:cNvSpPr/>
          <p:nvPr/>
        </p:nvSpPr>
        <p:spPr>
          <a:xfrm>
            <a:off x="5508720" y="1557360"/>
            <a:ext cx="1942920" cy="35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У 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771984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8042400" y="6613560"/>
            <a:ext cx="110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хема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1836-5B5B-4B84-ADEA-2D28E5A6BA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Статистика количества принятой годовой отчетности от ГРБС, Ф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6"/>
          <p:cNvSpPr/>
          <p:nvPr/>
        </p:nvSpPr>
        <p:spPr>
          <a:xfrm>
            <a:off x="179280" y="4508640"/>
            <a:ext cx="122400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 48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четных фо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4788000" y="4508640"/>
            <a:ext cx="122400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 7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четных фо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1908000" y="3357720"/>
            <a:ext cx="2448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каз МФ РФ от 28.12.2010г. 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1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6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1908000" y="4653000"/>
            <a:ext cx="2448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каз МФ РФ от 25.03.2011г. 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3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6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1908000" y="5877000"/>
            <a:ext cx="2448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каз МФ РФ от 07.07.2005г. 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4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6443640" y="3429000"/>
            <a:ext cx="2448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каз МФ РФ от 28.12.2010г. 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1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2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6443640" y="5805360"/>
            <a:ext cx="2448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каз МФ РФ от 25.03.2011г. №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3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5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2205000"/>
            <a:ext cx="85186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оответствии с приказами Федерального казначейства от 29.11.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н, № 18н МОУ  ФК был осуществлен  прием отчетности за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ГРБС, Ф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 flipV="1">
            <a:off x="1332000" y="4149360"/>
            <a:ext cx="576000" cy="43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1332000" y="5445000"/>
            <a:ext cx="57600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1403280" y="5013360"/>
            <a:ext cx="5047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6"/>
          <p:cNvSpPr/>
          <p:nvPr/>
        </p:nvSpPr>
        <p:spPr>
          <a:xfrm flipV="1">
            <a:off x="5940360" y="4220640"/>
            <a:ext cx="50328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5940360" y="5445000"/>
            <a:ext cx="50328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1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D78D-A3A3-432D-8368-C031C742E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Схема представления отчетности за 2013 год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ГРБС, ФО  средствами ППО «СУФД -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nline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2205000"/>
            <a:ext cx="85186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соответствии   с   письмом   ФК  от 17.06.2013г.  № 42-7.4-05/10.6-3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ность    в     2013     году     должна     представляться    сред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ПО «СУФД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324000" y="3645000"/>
            <a:ext cx="12236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324000" y="5445000"/>
            <a:ext cx="12236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3780000" y="3357720"/>
            <a:ext cx="5113080" cy="33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1692360" y="4581360"/>
            <a:ext cx="1871640" cy="863640"/>
          </a:xfrm>
          <a:prstGeom prst="cloudCallout">
            <a:avLst>
              <a:gd name="adj1" fmla="val -8523"/>
              <a:gd name="adj2" fmla="val 4301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211640" y="3429000"/>
            <a:ext cx="4248000" cy="43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тал СУФ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online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 flipV="1">
            <a:off x="1476360" y="5229360"/>
            <a:ext cx="358920" cy="287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1547640" y="4581360"/>
            <a:ext cx="287640" cy="287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>
            <a:off x="3564000" y="4941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3851280" y="4076640"/>
            <a:ext cx="144144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мпорт отчет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ор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5508720" y="4076640"/>
            <a:ext cx="151272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нтроль 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ответствие ТФФ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 справочников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5292720" y="4365720"/>
            <a:ext cx="216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0"/>
          <p:cNvSpPr/>
          <p:nvPr/>
        </p:nvSpPr>
        <p:spPr>
          <a:xfrm>
            <a:off x="7236000" y="4076640"/>
            <a:ext cx="151272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дписа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четных форм 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менением ЭЦП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1"/>
          <p:cNvSpPr/>
          <p:nvPr/>
        </p:nvSpPr>
        <p:spPr>
          <a:xfrm>
            <a:off x="702000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2"/>
          <p:cNvSpPr/>
          <p:nvPr/>
        </p:nvSpPr>
        <p:spPr>
          <a:xfrm>
            <a:off x="4211640" y="5373720"/>
            <a:ext cx="187164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осмотр состоян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четных фор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статусы обработки отчето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3"/>
          <p:cNvSpPr/>
          <p:nvPr/>
        </p:nvSpPr>
        <p:spPr>
          <a:xfrm>
            <a:off x="6588000" y="5373720"/>
            <a:ext cx="187164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осмотр результа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нтролей отчетных фор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протоколы по результата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нтрол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96A3-A5AC-4D8A-8297-75BECF6212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атистика сдачи отчетов ГРБС в МОУ ФК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8" descr=""/>
          <p:cNvPicPr/>
          <p:nvPr/>
        </p:nvPicPr>
        <p:blipFill>
          <a:blip r:embed="rId2"/>
          <a:stretch/>
        </p:blipFill>
        <p:spPr>
          <a:xfrm>
            <a:off x="357120" y="1428840"/>
            <a:ext cx="8501040" cy="4786200"/>
          </a:xfrm>
          <a:prstGeom prst="rect">
            <a:avLst/>
          </a:prstGeom>
          <a:ln w="0">
            <a:noFill/>
          </a:ln>
        </p:spPr>
      </p:pic>
      <p:sp>
        <p:nvSpPr>
          <p:cNvPr id="109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F5BE-80B9-4010-9327-C5A5F3092A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атистика сдачи отчетов ГРБС в МОУ ФК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Содержимое 8"/>
          <p:cNvGraphicFramePr/>
          <p:nvPr/>
        </p:nvGraphicFramePr>
        <p:xfrm>
          <a:off x="214200" y="1671480"/>
          <a:ext cx="8715600" cy="4829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Содержимое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1671480"/>
                    <a:ext cx="871560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EEC8-ABF4-4969-BD28-FA42E778FB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Шапка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Анализ проблем возникших в процессе приема отчетности за 2012 год от ГРБС, Ф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692360" y="2276640"/>
            <a:ext cx="5759280" cy="122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ы при приеме отчетности ГРБС, Ф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95280" y="4653000"/>
            <a:ext cx="252108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олог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3419640" y="4653000"/>
            <a:ext cx="2447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о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6300720" y="4653000"/>
            <a:ext cx="2448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>
            <a:off x="6732720" y="3500280"/>
            <a:ext cx="43164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 flipH="1">
            <a:off x="2050920" y="3500280"/>
            <a:ext cx="43344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4643280" y="350028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F226-9F29-407B-A0FB-EDA5B85558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4:28:40Z</dcterms:created>
  <dc:creator>2567</dc:creator>
  <dc:description/>
  <dc:language>en-US</dc:language>
  <cp:lastModifiedBy>Гришин</cp:lastModifiedBy>
  <dcterms:modified xsi:type="dcterms:W3CDTF">2013-09-04T05:44:29Z</dcterms:modified>
  <cp:revision>45</cp:revision>
  <dc:subject/>
  <dc:title>Механизмы приема бюджетной отчетности ГРБС, ФО</dc:title>
</cp:coreProperties>
</file>