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7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15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1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21960" y="739440"/>
            <a:ext cx="493092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29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4"/>
          </p:nvPr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9D20C-1647-4469-902F-76B85DCD0C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1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A3D89-2DE5-4137-9ACE-332EE09612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"/>
          <p:cNvSpPr/>
          <p:nvPr/>
        </p:nvSpPr>
        <p:spPr>
          <a:xfrm>
            <a:off x="3851280" y="9381960"/>
            <a:ext cx="2943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F0FA6-BE54-47BC-A6F9-F865F109A1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851280" y="938196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C0E24-2713-4334-982F-B05C96BC13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930240" y="739800"/>
            <a:ext cx="4938840" cy="37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07920" y="4690800"/>
            <a:ext cx="49593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BE494-3AF2-4392-95AF-3FD621AD5F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0EB9F-C883-494A-9B0F-89D7D423DD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674E-544F-4004-A082-1F4E25F66A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DFF6C-8973-4916-86B6-D474713B1A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8090E-4FBD-4570-ACC4-97A70F8DD1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77D7F-6E20-4DBC-8C94-B7057AC16C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2D5E8-733E-4E76-9572-0ACF60AAB8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AE0A8-CE70-480B-95E9-5C48CE1A14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E7EFC-ACEA-420A-B219-FAB7478984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232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7920" y="4691160"/>
            <a:ext cx="49579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51280" y="9381960"/>
            <a:ext cx="2922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19178-7B20-44D9-9ABE-E381B7DC42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F20-AA5B-44E8-8597-46D67CDB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7A5-ABB8-4B31-B859-097AC316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EC3-DA44-411F-BACA-28CED0383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128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02720" y="148752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984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128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02720" y="3855240"/>
            <a:ext cx="282960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DA7-C35B-45A2-990B-1C0B59AB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C7F-9781-4F2E-BB51-37910108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BD8-5B44-44D0-A6FE-4CD7A70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E78-3092-4AEE-BA94-CC9F150E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B52-FBE0-4F46-B939-F014C55C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708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8E8-D438-4F36-B1D2-BE38F664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253B-CE8E-4398-805D-6C960FC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3440" y="385524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E33-2B26-4801-BC98-0F21CF44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1487520"/>
            <a:ext cx="42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240"/>
            <a:ext cx="87886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3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93C-0AD2-4032-ACF8-B4107AA1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3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Object 4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Picture 5" descr="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6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9280" indent="-262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81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6.09.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7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№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534000"/>
            <a:ext cx="256716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10FB841-603F-4891-8130-BABDD4F180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2280" y="6237360"/>
            <a:ext cx="89917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24000" y="2421000"/>
            <a:ext cx="8820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938160" y="100980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324000" y="4941720"/>
            <a:ext cx="863892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епартамент бюджетной методоло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фина Росс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514185"/>
                </a:solidFill>
                <a:latin typeface="Times New Roman"/>
              </a:rPr>
              <a:t>Отчетность за 2013 год</a:t>
            </a:r>
            <a:endParaRPr b="0" lang="en-US" sz="5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3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514185"/>
                </a:solidFill>
                <a:latin typeface="Times New Roman"/>
              </a:rPr>
              <a:t>Остатки на счетах</a:t>
            </a:r>
            <a:endParaRPr b="0" lang="en-US" sz="6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268280"/>
            <a:ext cx="388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1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3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201 27 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 201 34 00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30320" y="1487520"/>
            <a:ext cx="318132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14185"/>
                </a:solidFill>
                <a:latin typeface="Times New Roman"/>
              </a:rPr>
              <a:t>Отражение в учете</a:t>
            </a: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9840" y="1267920"/>
            <a:ext cx="887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мере сданной наличности инкассации или через банкомат, не зачисленной на 01.01.2014 на лицевой счет (счет 40116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01 23 510     Кт 1 201 34 610      500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числение средств на счет 40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01.01.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т 1 210 03 560     Кт 1 201 23 610    500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85080" cy="388764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2"/>
          <p:cNvSpPr/>
          <p:nvPr/>
        </p:nvSpPr>
        <p:spPr>
          <a:xfrm>
            <a:off x="4643280" y="5229360"/>
            <a:ext cx="433440" cy="720720"/>
          </a:xfrm>
          <a:prstGeom prst="downArrow">
            <a:avLst>
              <a:gd name="adj1" fmla="val 50000"/>
              <a:gd name="adj2" fmla="val 49884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08000" y="4386240"/>
            <a:ext cx="431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В строке 174, графы 6 формы 0503130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счету 1 201 23 000  «Денежные средства учреждения в кредитной организации в  пути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казан остаток  1500,00  рублей в  сумме денежных  средств, внесенных  с использованием банковских кар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(сданных в учреждение инкассации), не зачисленных на 01.01.2014  на лицевой счет (на счет 40116)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трелка вниз 7"/>
          <p:cNvSpPr/>
          <p:nvPr/>
        </p:nvSpPr>
        <p:spPr>
          <a:xfrm>
            <a:off x="4140360" y="69228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трелка вниз 2"/>
          <p:cNvSpPr/>
          <p:nvPr/>
        </p:nvSpPr>
        <p:spPr>
          <a:xfrm>
            <a:off x="4627440" y="4653000"/>
            <a:ext cx="432000" cy="72072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929800" cy="3332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043600" y="4572000"/>
            <a:ext cx="4181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троке 176, графы 6 формы 050313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счету 1 201 34 000 «Касса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казан остаток  1000,00 руб. в  сумме денежных  средств в виде резерва на расходы по предотвращению чрезвычайных ситуаций,  лимит остатк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редств в кассе установлен в размере 1500 рублей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7"/>
          <p:cNvSpPr/>
          <p:nvPr/>
        </p:nvSpPr>
        <p:spPr>
          <a:xfrm>
            <a:off x="4140360" y="692280"/>
            <a:ext cx="431640" cy="79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Восстановить в учете долю участия в уставном капитале ФГУП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893080" cy="315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340000" y="4552920"/>
            <a:ext cx="44640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514185"/>
                </a:solidFill>
                <a:latin typeface="Times New Roman"/>
              </a:rPr>
              <a:t>Обязательства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197000"/>
            <a:ext cx="878832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  Статья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юджетные обязательства - расходные обязательства, подлежащие исполнению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ующем финансовом год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енежные обязательства - обязанность получателя бюджетных средств уплатить  в соответствии с выполненными условиями гражданско-правовой сделки, заключенной в рамках его бюджетных полномочий, или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 зако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иного правового акта, условиями договора или соглаш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Условия договор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лата производится на основании счета, представляемого не позднее 10 числа месяца, следующего за расчетны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декабрь  2013 –оплата в январ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язательства следующего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3 223    Кт 1 502 21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21 223    Кт 1 502 22 22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514185"/>
                </a:solidFill>
                <a:latin typeface="Times New Roman"/>
              </a:rPr>
              <a:t>Положения Закона:</a:t>
            </a:r>
            <a:endParaRPr b="0" lang="en-US" sz="4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9840" y="1412640"/>
            <a:ext cx="87886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атья 333.14. Порядок и сроки уплаты налог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Налог подлежит уплате в срок не позднее 20-го числа месяца, следующего за истекшим налоговым периодо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4 квартал  2013 –оплата в январе  201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язательства следующего (2014)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1 23 290      Кт 1 502 21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т 1 502 21 290      Кт 1 502 22 29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Отчетность за 2013 год ПБС, ГРБС, АДБ, ГАДБ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о переданным полномочиям (ФАИП)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8.12.2010 N 191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 и представления годовой, квартальной и месячной отчетности об исполнении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 изменениями, вступившими в силу с отчета за 2013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пояснительной записки ( ф.0503160)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5800" y="475920"/>
            <a:ext cx="897084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Положения Бюджетного кодекса</a:t>
            </a:r>
            <a:br>
              <a:rPr sz="3200"/>
            </a:b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 Российской Федерации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65. Виды государственного (муниципального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ый (муниципальный) финансовый контрол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разделяется н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внешний и внутрен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едварительный и последующи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Заголовок 1"/>
          <p:cNvSpPr/>
          <p:nvPr/>
        </p:nvSpPr>
        <p:spPr>
          <a:xfrm>
            <a:off x="173160" y="692280"/>
            <a:ext cx="89708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нешний государственный (муниципальный) финансовый контро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9840" y="1915920"/>
            <a:ext cx="8788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 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тная палат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но -счетные органы субъектов Р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нтрольно - счетные органы муниципаль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Федеральной  службы финансово-бюджетного надзора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510400" cy="1873080"/>
          </a:xfrm>
          <a:prstGeom prst="rect">
            <a:avLst/>
          </a:prstGeom>
          <a:ln w="0">
            <a:noFill/>
          </a:ln>
        </p:spPr>
      </p:pic>
      <p:sp>
        <p:nvSpPr>
          <p:cNvPr id="129" name="Стрелка вниз 3"/>
          <p:cNvSpPr/>
          <p:nvPr/>
        </p:nvSpPr>
        <p:spPr>
          <a:xfrm>
            <a:off x="4284720" y="692280"/>
            <a:ext cx="503280" cy="720720"/>
          </a:xfrm>
          <a:prstGeom prst="downArrow">
            <a:avLst>
              <a:gd name="adj1" fmla="val 50000"/>
              <a:gd name="adj2" fmla="val 5012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Внутренний государственный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(муниципальный) финансовый контроль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9840" y="1628280"/>
            <a:ext cx="898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Федеральная  служба финансово-бюджетного надзо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государственного    финансового     контроля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полнительной власти субъектов РФ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 Органы  муниципального финансового  контрол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стных администрац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едеральное  казначейство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субъектов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- финансовые  органы муниципальных образо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Информация о результатах контрольных мероприятий </a:t>
            </a:r>
            <a:br>
              <a:rPr sz="2600"/>
            </a:br>
            <a:r>
              <a:rPr b="1" lang="ru-RU" sz="2600" spc="-1" strike="noStrike">
                <a:solidFill>
                  <a:srgbClr val="514185"/>
                </a:solidFill>
                <a:latin typeface="Times New Roman"/>
              </a:rPr>
              <a:t>Федеральной  службы финансово-бюджетного надзора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3" name="Стрелка вниз 3"/>
          <p:cNvSpPr/>
          <p:nvPr/>
        </p:nvSpPr>
        <p:spPr>
          <a:xfrm>
            <a:off x="4284720" y="692280"/>
            <a:ext cx="503280" cy="720720"/>
          </a:xfrm>
          <a:prstGeom prst="downArrow">
            <a:avLst>
              <a:gd name="adj1" fmla="val 50000"/>
              <a:gd name="adj2" fmla="val 5012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22120" y="2708280"/>
            <a:ext cx="8921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отдельных форм отчетности бюджетных и автономных учреждений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9280" y="1068480"/>
          <a:ext cx="8964720" cy="557856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956720" y="4149720"/>
            <a:ext cx="1584000" cy="2492280"/>
          </a:xfrm>
          <a:prstGeom prst="wedgeRoundRectCallout">
            <a:avLst>
              <a:gd name="adj1" fmla="val -12439"/>
              <a:gd name="adj2" fmla="val -78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Отчет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ф. 050373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10 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гр. 4 – гр. 9 (если гр. 4 не равна 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 ноль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52360" y="1063800"/>
            <a:ext cx="8639280" cy="47304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3132000" y="3645000"/>
            <a:ext cx="5832720" cy="2305080"/>
          </a:xfrm>
          <a:prstGeom prst="wedgeRoundRectCallout">
            <a:avLst>
              <a:gd name="adj1" fmla="val -43148"/>
              <a:gd name="adj2" fmla="val -689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получении денежных средств в кассу и возврату из нее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движении средств между валютным счетом и лицевым (покупка и продажа валюты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- при отражении средств в пути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(при использовании банковских карт для получения наличных денег в кассу учреждения и сдаче наличности через банкомат -199н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6"/>
          <p:cNvSpPr/>
          <p:nvPr/>
        </p:nvSpPr>
        <p:spPr>
          <a:xfrm>
            <a:off x="3924360" y="4797360"/>
            <a:ext cx="4824360" cy="1079640"/>
          </a:xfrm>
          <a:prstGeom prst="wedgeRoundRectCallout">
            <a:avLst>
              <a:gd name="adj1" fmla="val -67106"/>
              <a:gd name="adj2" fmla="val -86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при перечислении денежных средств между учреждением и его обособленным подразделением (филиалом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800" y="731880"/>
            <a:ext cx="897084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Сводная отчетность за 2013 </a:t>
            </a:r>
            <a:br>
              <a:rPr sz="2600"/>
            </a:b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бюджетных и автономных учреждений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9840" y="1844640"/>
            <a:ext cx="87886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25.03.2011 N 33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утверждении Инструкции о порядке составления, представления годовой, квартальной бухгалтерской отчетности государственных (муниципальных) бюджетных и автономных учрежде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собенности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формирования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Отчета</a:t>
            </a: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0503737</a:t>
            </a:r>
            <a:br>
              <a:rPr sz="24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254160" y="1312920"/>
            <a:ext cx="8637480" cy="47260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>
            <a:off x="4211640" y="3284640"/>
            <a:ext cx="4680000" cy="3024000"/>
          </a:xfrm>
          <a:prstGeom prst="wedgeRoundRectCallout">
            <a:avLst>
              <a:gd name="adj1" fmla="val -76296"/>
              <a:gd name="adj2" fmla="val 263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оплаты в пределах остатка средств на лицевом счете 20 за счет других источников финансового обеспечения (2,3,4,7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- при осуществлении некассовых операций по исполнению обязательств, принятых за счет иных видов финансового обеспе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179280" y="1017720"/>
          <a:ext cx="8964720" cy="586872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43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6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5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16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300.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по виду деятельности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«5» Субсидии на иные цел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>
            <a:off x="4572000" y="1773360"/>
            <a:ext cx="3672000" cy="4535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11"/>
          <p:cNvSpPr/>
          <p:nvPr/>
        </p:nvSpPr>
        <p:spPr>
          <a:xfrm flipV="1">
            <a:off x="4500720" y="1773360"/>
            <a:ext cx="3743280" cy="4464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Скругленная прямоугольная выноска 5"/>
          <p:cNvSpPr/>
          <p:nvPr/>
        </p:nvSpPr>
        <p:spPr>
          <a:xfrm>
            <a:off x="4427640" y="4941720"/>
            <a:ext cx="2484360" cy="908280"/>
          </a:xfrm>
          <a:prstGeom prst="wedgeRoundRectCallout">
            <a:avLst>
              <a:gd name="adj1" fmla="val -76847"/>
              <a:gd name="adj2" fmla="val 113050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иные цели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17"/>
          <p:cNvSpPr/>
          <p:nvPr/>
        </p:nvSpPr>
        <p:spPr>
          <a:xfrm flipV="1">
            <a:off x="5364000" y="6597720"/>
            <a:ext cx="309564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5219640" y="6597720"/>
            <a:ext cx="3024360" cy="71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Овал 10"/>
          <p:cNvSpPr/>
          <p:nvPr/>
        </p:nvSpPr>
        <p:spPr>
          <a:xfrm>
            <a:off x="34920" y="6308640"/>
            <a:ext cx="410544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Скругленная прямоугольная выноска 14"/>
          <p:cNvSpPr/>
          <p:nvPr/>
        </p:nvSpPr>
        <p:spPr>
          <a:xfrm>
            <a:off x="4822920" y="5850000"/>
            <a:ext cx="4213080" cy="603360"/>
          </a:xfrm>
          <a:prstGeom prst="wedgeRoundRectCallout">
            <a:avLst>
              <a:gd name="adj1" fmla="val -73513"/>
              <a:gd name="adj2" fmla="val 99592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еиспользованной субсидии 2012 го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79280" y="1068480"/>
          <a:ext cx="8964720" cy="573084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720720"/>
                <a:gridCol w="811080"/>
                <a:gridCol w="755640"/>
                <a:gridCol w="74304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12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по виду деятельнос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514185"/>
                </a:solidFill>
                <a:latin typeface="Times New Roman"/>
              </a:rPr>
              <a:t>4 «Субсидии на государственное задание»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>
            <a:off x="4572000" y="177336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Прямая соединительная линия 11"/>
          <p:cNvSpPr/>
          <p:nvPr/>
        </p:nvSpPr>
        <p:spPr>
          <a:xfrm flipV="1">
            <a:off x="4572000" y="1773000"/>
            <a:ext cx="3672000" cy="388764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Прямая соединительная линия 17"/>
          <p:cNvSpPr/>
          <p:nvPr/>
        </p:nvSpPr>
        <p:spPr>
          <a:xfrm flipV="1">
            <a:off x="4643280" y="6381360"/>
            <a:ext cx="360072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Прямая соединительная линия 19"/>
          <p:cNvSpPr/>
          <p:nvPr/>
        </p:nvSpPr>
        <p:spPr>
          <a:xfrm>
            <a:off x="4572000" y="6381720"/>
            <a:ext cx="3672000" cy="4762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Скругленная прямоугольная выноска 16"/>
          <p:cNvSpPr/>
          <p:nvPr/>
        </p:nvSpPr>
        <p:spPr>
          <a:xfrm>
            <a:off x="4643280" y="5373720"/>
            <a:ext cx="3673800" cy="863640"/>
          </a:xfrm>
          <a:prstGeom prst="wedgeRoundRectCallout">
            <a:avLst>
              <a:gd name="adj1" fmla="val -60958"/>
              <a:gd name="adj2" fmla="val 19606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сидии на выполн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ого зад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Овал 10"/>
          <p:cNvSpPr/>
          <p:nvPr/>
        </p:nvSpPr>
        <p:spPr>
          <a:xfrm>
            <a:off x="0" y="5661000"/>
            <a:ext cx="4140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Скругленная прямоугольная выноска 12"/>
          <p:cNvSpPr/>
          <p:nvPr/>
        </p:nvSpPr>
        <p:spPr>
          <a:xfrm>
            <a:off x="4356000" y="1916280"/>
            <a:ext cx="5256360" cy="1800000"/>
          </a:xfrm>
          <a:prstGeom prst="wedgeRoundRectCallout">
            <a:avLst>
              <a:gd name="adj1" fmla="val -60384"/>
              <a:gd name="adj2" fmla="val -8407"/>
              <a:gd name="adj3" fmla="val 16667"/>
            </a:avLst>
          </a:prstGeom>
          <a:solidFill>
            <a:srgbClr val="ffffff"/>
          </a:solidFill>
          <a:ln w="38160">
            <a:solidFill>
              <a:srgbClr val="00cc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дебиторской задолженности прошлых лет п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ной деятельности, возникшей  до изменения ти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(КОСГУ130 (+) перечисление в доход бюджета  КОСГУ 130 (-) (счета 205,2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В строке 040, графы 5 формы 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о КОСГУ 130 «Доходы от оказания платных услуг (работ)»  показан остаток  900,00 руб. в  сумме возврата дебиторской задолженности прошлых лет, числившейся на счете 4 209 74 000  «Расчеты по ущербу материальных запасов», указанная задолженность сложилась по виду финансового обеспечения «Бюджетная деятельность» до изменения типа учрежд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Стрелка вниз 7"/>
          <p:cNvSpPr/>
          <p:nvPr/>
        </p:nvSpPr>
        <p:spPr>
          <a:xfrm>
            <a:off x="4321080" y="54936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9840" y="1484280"/>
            <a:ext cx="898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неналоговым доходам бюджетов относя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использования имущест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5800" y="476280"/>
            <a:ext cx="8970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 </a:t>
            </a:r>
            <a:br>
              <a:rPr sz="2600"/>
            </a:br>
            <a:br>
              <a:rPr sz="3600"/>
            </a:b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Статья 41 БК</a:t>
            </a:r>
            <a:br>
              <a:rPr sz="3600"/>
            </a:b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9840" y="1268280"/>
            <a:ext cx="8983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ходы от продажи имуще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… находящегося в государственной или муниципальной собственности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а исключением имущества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явлена недостача материальных зап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) списание материальных запасов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   Д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    Кт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105 ХХ 4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доходов от недостач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числение доходов от возмещения ущерб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бственные дохо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560    Кт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401 10 17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несение  в кассу денежных средств в погашение недост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1 34 510   Кт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209 74 66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9840" y="1487520"/>
            <a:ext cx="8983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ерации по исполнению принятых денежных обязательств без движения денежных средств  на лицевом  счет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заработной  пла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остатка выданного аванса 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командировочные расход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- суммы недостачи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9520" indent="-29952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5800" y="549360"/>
            <a:ext cx="8970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Отражение в учете в рамках одного вида финансового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обеспечения (субсидии на выполнение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514185"/>
                </a:solidFill>
                <a:latin typeface="Times New Roman"/>
              </a:rPr>
              <a:t> государственного задания)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9840" y="1844640"/>
            <a:ext cx="8983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держана из заработной платы невозвращенная сумм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анса на оплату командировочных расходо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найму жилого помещения)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2 11 830     Кт 4 304 03 73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т 4 304 03 830     Кт 4 208 26 660    15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Письмо Минфина России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и Федерального казначейства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26.12.2013</a:t>
            </a:r>
            <a:br>
              <a:rPr sz="3300"/>
            </a:br>
            <a:br>
              <a:rPr sz="3300"/>
            </a:br>
            <a:r>
              <a:rPr b="0" lang="ru-RU" sz="3300" spc="-1" strike="noStrike">
                <a:solidFill>
                  <a:srgbClr val="000066"/>
                </a:solidFill>
                <a:latin typeface="Arial"/>
                <a:ea typeface="Arial"/>
              </a:rPr>
              <a:t> № 02-07-007/57698        № 42-7.4-05/2.3-870</a:t>
            </a: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  особенностях  составления  и  представления  годовой бюджетной  отчетности  и  сводной  бухгалтерской отчетности государственных бюджетных и автономных учреждений главными администраторами средств федерального бюджета за 201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15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Скругленная прямоугольная выноска 10"/>
          <p:cNvSpPr/>
          <p:nvPr/>
        </p:nvSpPr>
        <p:spPr>
          <a:xfrm>
            <a:off x="7451640" y="4024440"/>
            <a:ext cx="1800360" cy="576000"/>
          </a:xfrm>
          <a:prstGeom prst="wedgeRoundRectCallout">
            <a:avLst>
              <a:gd name="adj1" fmla="val -254416"/>
              <a:gd name="adj2" fmla="val 92226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рж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з.п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Скругленная прямоугольная выноска 11"/>
          <p:cNvSpPr/>
          <p:nvPr/>
        </p:nvSpPr>
        <p:spPr>
          <a:xfrm>
            <a:off x="4859280" y="6021360"/>
            <a:ext cx="2449440" cy="576360"/>
          </a:xfrm>
          <a:prstGeom prst="wedgeRoundRectCallout">
            <a:avLst>
              <a:gd name="adj1" fmla="val -103504"/>
              <a:gd name="adj2" fmla="val -94347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ста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удержание из суммы, подлежащей оплате контрагенту, суммы начисленных штрафных санкций  за нарушение условий догов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401 20 225     Кт 4 302 25 730  300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201 11 610  28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4 302 25 830     Кт 4 304 06 730  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9840" y="1196640"/>
            <a:ext cx="898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5280" y="2708280"/>
          <a:ext cx="8624880" cy="2736720"/>
        </p:xfrm>
        <a:graphic>
          <a:graphicData uri="http://schemas.openxmlformats.org/drawingml/2006/table">
            <a:tbl>
              <a:tblPr/>
              <a:tblGrid>
                <a:gridCol w="2522520"/>
                <a:gridCol w="285840"/>
                <a:gridCol w="355680"/>
                <a:gridCol w="739800"/>
                <a:gridCol w="758520"/>
                <a:gridCol w="890640"/>
                <a:gridCol w="712800"/>
                <a:gridCol w="701640"/>
                <a:gridCol w="774720"/>
                <a:gridCol w="882720"/>
              </a:tblGrid>
              <a:tr h="220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10908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0908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боты, услуги по содержанию имущества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,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21816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1816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убсидии на выполнение государственного задания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324000" y="2565360"/>
            <a:ext cx="871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9840" y="1341360"/>
            <a:ext cx="8983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Зачет суммы начисленных штрафных санкци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205 41 560     Кт 2 401 10 14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Cyr"/>
              </a:rPr>
              <a:t>Дт 2 304 06 830     Кт 2 205 41 660  150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Стрелка вниз 1"/>
          <p:cNvSpPr/>
          <p:nvPr/>
        </p:nvSpPr>
        <p:spPr>
          <a:xfrm>
            <a:off x="4500720" y="5157720"/>
            <a:ext cx="576000" cy="93528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79280" y="1268280"/>
          <a:ext cx="8964720" cy="283068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665280"/>
                <a:gridCol w="833400"/>
                <a:gridCol w="714240"/>
                <a:gridCol w="863640"/>
              </a:tblGrid>
              <a:tr h="308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.00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8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.Собственные доходы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9" name="Скругленная прямоугольная выноска 12"/>
          <p:cNvSpPr/>
          <p:nvPr/>
        </p:nvSpPr>
        <p:spPr>
          <a:xfrm>
            <a:off x="4716360" y="3429000"/>
            <a:ext cx="2016360" cy="792000"/>
          </a:xfrm>
          <a:prstGeom prst="wedgeRoundRectCallout">
            <a:avLst>
              <a:gd name="adj1" fmla="val -83287"/>
              <a:gd name="adj2" fmla="val -18333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пен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траген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514185"/>
                </a:solidFill>
                <a:latin typeface="Times New Roman"/>
              </a:rPr>
              <a:t>Отражение в учете некассовых операций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59840" y="1196640"/>
            <a:ext cx="898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собенности формирования Отчета ф.0503737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ид финансового обеспечения «Собственные доход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2209680"/>
            <a:ext cx="8785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79280" y="757080"/>
          <a:ext cx="9217080" cy="6361200"/>
        </p:xfrm>
        <a:graphic>
          <a:graphicData uri="http://schemas.openxmlformats.org/drawingml/2006/table">
            <a:tbl>
              <a:tblPr/>
              <a:tblGrid>
                <a:gridCol w="2916360"/>
                <a:gridCol w="360360"/>
                <a:gridCol w="358920"/>
                <a:gridCol w="720720"/>
                <a:gridCol w="612720"/>
                <a:gridCol w="919080"/>
                <a:gridCol w="755640"/>
                <a:gridCol w="995400"/>
                <a:gridCol w="714240"/>
                <a:gridCol w="863640"/>
              </a:tblGrid>
              <a:tr h="2811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лицевы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банковск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 касс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собственност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аренды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3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казания платных услуг (рабо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.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000">
                <a:tc>
                  <a:txBody>
                    <a:bodyPr lIns="756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штрафов, пеней, иных сумм принудительного изъ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56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езвозмездные  поступления от бюдже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36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наднациональных организаций и правительств  иностранных государ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ступления от международных финансовых организа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ходы от операций с актив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основных средст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8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материаль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непроизведенн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2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материальных запас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ценных бумаг, кроме акц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5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акций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3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т выбытий иных финансовых актив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до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выполнение государственного (муниципального) 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бсидии на иные цели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9120">
                <a:tc>
                  <a:txBody>
                    <a:bodyPr lIns="15120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ые инвести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5120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080">
                <a:tc>
                  <a:txBody>
                    <a:bodyPr lIns="6480" rIns="6480" tIns="64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ые доход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5" name="Скругленная прямоугольная выноска 5"/>
          <p:cNvSpPr/>
          <p:nvPr/>
        </p:nvSpPr>
        <p:spPr>
          <a:xfrm>
            <a:off x="4572000" y="1413000"/>
            <a:ext cx="2303640" cy="792000"/>
          </a:xfrm>
          <a:prstGeom prst="wedgeRoundRectCallout">
            <a:avLst>
              <a:gd name="adj1" fmla="val -79560"/>
              <a:gd name="adj2" fmla="val 107037"/>
              <a:gd name="adj3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 доходов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ержа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нк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Особенности формирования Отчета 0503737  некассовые оп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4000" y="907920"/>
          <a:ext cx="8496000" cy="5342040"/>
        </p:xfrm>
        <a:graphic>
          <a:graphicData uri="http://schemas.openxmlformats.org/drawingml/2006/table">
            <a:tbl>
              <a:tblPr/>
              <a:tblGrid>
                <a:gridCol w="2449440"/>
                <a:gridCol w="345960"/>
                <a:gridCol w="352440"/>
                <a:gridCol w="750960"/>
                <a:gridCol w="698400"/>
                <a:gridCol w="582840"/>
                <a:gridCol w="660240"/>
                <a:gridCol w="1082520"/>
                <a:gridCol w="654120"/>
                <a:gridCol w="919080"/>
              </a:tblGrid>
              <a:tr h="3124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. Расходы учрежд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0503737  с.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сполнено плановых 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показател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ере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 исполне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тро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нали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ицевы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анковск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у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кассовы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лановы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и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режд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ерациям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значен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- всег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плата труда и начисления на выплаты по оплате тру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60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аработная плат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иобретение работ, услу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1479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чие работы, услуг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1479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7380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ходы по приобретению нефинансовых активо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7380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сновных средств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материаль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22176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произведенных актив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22176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Скругленная прямоугольная выноска 11"/>
          <p:cNvSpPr/>
          <p:nvPr/>
        </p:nvSpPr>
        <p:spPr>
          <a:xfrm>
            <a:off x="4900680" y="4149720"/>
            <a:ext cx="1942920" cy="647640"/>
          </a:xfrm>
          <a:prstGeom prst="wedgeRoundRectCallout">
            <a:avLst>
              <a:gd name="adj1" fmla="val -122009"/>
              <a:gd name="adj2" fmla="val 96291"/>
              <a:gd name="adj3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549000"/>
            <a:ext cx="89708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собенности составления бюджетной 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отчетности</a:t>
            </a:r>
            <a:br>
              <a:rPr sz="3300"/>
            </a:br>
            <a:r>
              <a:rPr b="0" lang="ru-RU" sz="3300" spc="-1" strike="noStrike">
                <a:solidFill>
                  <a:srgbClr val="000000"/>
                </a:solidFill>
                <a:latin typeface="Arial"/>
                <a:ea typeface="Arial"/>
              </a:rPr>
              <a:t>за 2013 год</a:t>
            </a: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9840" y="2707920"/>
            <a:ext cx="87886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61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254560" y="4613400"/>
            <a:ext cx="38894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800" y="1413000"/>
            <a:ext cx="8970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</a:rPr>
              <a:t>Пояснительная записка</a:t>
            </a:r>
            <a:endParaRPr b="0" lang="en-US" sz="3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9840" y="1628640"/>
            <a:ext cx="898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формация по ФАИП в текстовой части раздела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Анализ показателей бухгалтерской отчетности субъекта бюджетной отчетност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разрезе инвестиционных про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Стрелка вниз 7"/>
          <p:cNvSpPr/>
          <p:nvPr/>
        </p:nvSpPr>
        <p:spPr>
          <a:xfrm>
            <a:off x="4321080" y="692280"/>
            <a:ext cx="432000" cy="79200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3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800" y="2060640"/>
            <a:ext cx="89708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endParaRPr b="0" lang="en-US" sz="33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1125360"/>
            <a:ext cx="878868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юджетный кодек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татья 242. Завершение текущего финансового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иказ Минфина России от 06.06.2008 № 56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Об утверждении Порядка завершения операций по исполнению федерального бюджета в текущем финансовом году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708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9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Times New Roman"/>
              </a:rPr>
              <a:t>п.4 ст.242 БК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9840" y="1487520"/>
            <a:ext cx="87886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использованные получателями бюджетных средств остатки бюджетных средств, находящиеся не на едином счете бюджета, не позднее двух последних рабочих дней текущего финансового год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лежат перечислению получателями бюджетных средств на единый счет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УЗЬМИН ИГОРЬ ЮРЬЕВИЧ</dc:creator>
  <dc:description/>
  <dc:language>en-US</dc:language>
  <cp:lastModifiedBy>СЕЛЕЗНЕВА ГАЛИНА АНАТОЛЬЕВНА</cp:lastModifiedBy>
  <cp:lastPrinted>2014-01-29T16:21:50Z</cp:lastPrinted>
  <dcterms:modified xsi:type="dcterms:W3CDTF">2014-02-03T10:47:15Z</dcterms:modified>
  <cp:revision>187</cp:revision>
  <dc:subject/>
  <dc:title>No Slide Title</dc:title>
</cp:coreProperties>
</file>