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AA8-D595-4819-9B9C-7EBE84FE99D1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326-2E79-44DE-BC6B-8F40A1FA65A6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B29-89D1-4C29-920C-05CE0A05F286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3510-BA09-4A12-8F1A-703A47D2CCA4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B124-DB47-4939-8EDD-8A3E10F6D01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763-1FF0-4D77-8D6D-093B13A3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94B-0861-4D5D-8EEE-C5E26FC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FB2-13B9-4C6C-A332-BA777C56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0D30-0AFC-4F2E-A4C7-AE1F8D63B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45E-53C7-452C-8760-D2E342E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400-6F82-4613-BD54-438A05B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3FA-D78F-4469-B0ED-2BF81698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737-C64E-4E04-8656-F3A7005F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5396-6DF9-4861-BDF1-896CB177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FDBB-1DED-4A29-AFC0-61E6601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8AB-7D9A-4B21-8AED-E669BEE7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7F9-35B8-4A39-8D8F-FF9358A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345-FEE1-4BFD-A328-EA39C7636AD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456F-CF15-4051-B4BF-3AFDF06037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E97E25EAFB8F9B67EC5BDDC113D19E76805650DDF16C43DC466DF9517A9DBDB337E9756F21B7A82FK8y2M" TargetMode="External"/><Relationship Id="rId2" Type="http://schemas.openxmlformats.org/officeDocument/2006/relationships/hyperlink" Target="consultantplus://offline/ref=E97E25EAFB8F9B67EC5BDDC113D19E76805650DDF16C43DC466DF9517A9DBDB337E9756F21B0AB2BK8y0M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1403280" y="44280"/>
            <a:ext cx="645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3535"/>
                </a:solidFill>
                <a:latin typeface="Calibri"/>
              </a:rPr>
              <a:t>МЕЖРЕГИОНАЛЬНОЕ ОПЕРАЦИОНН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80" y="146196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1166760"/>
            <a:ext cx="88236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9080" y="386064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1267920"/>
            <a:ext cx="7772400" cy="279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53535"/>
                </a:solidFill>
                <a:latin typeface="Calibri"/>
                <a:ea typeface="Times New Roman"/>
              </a:rPr>
              <a:t>Отдельные вопросы формирования бюджетной(бухгалтерской) отчетности финансовыми органами Российской Федерации и органами управления государственными внебюджетными фондами Российской Федераци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5084640"/>
            <a:ext cx="759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Докладчик</a:t>
            </a:r>
            <a:r>
              <a:rPr b="1" i="1" lang="en-US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заместитель руководителя МОУ Ф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Салдусова Б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5"/>
          <p:cNvSpPr/>
          <p:nvPr/>
        </p:nvSpPr>
        <p:spPr>
          <a:xfrm>
            <a:off x="617400" y="17114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Межтерриториальные расчеты за медицинскую помощь, оказанную застрахованным лицам за пределами территории субъекта РФ, в котором выдан полис ОМС, отражаются как МБ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68360" y="46195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ТФОМС субъект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6189840" y="461952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ТФОМС субъект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2268360" y="38242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ОСГУ 251           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4572000" y="3824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        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ОСГУ 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474920" y="189000"/>
            <a:ext cx="676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Письмо Минфина России от 24.06.2014 № 02-05-10/3022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02.07.2014 №02-02-10/32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1042920" y="3094200"/>
            <a:ext cx="723960" cy="1342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"/>
          <p:cNvPicPr/>
          <p:nvPr/>
        </p:nvPicPr>
        <p:blipFill>
          <a:blip r:embed="rId2"/>
          <a:stretch/>
        </p:blipFill>
        <p:spPr>
          <a:xfrm>
            <a:off x="6621480" y="3048120"/>
            <a:ext cx="93492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"/>
          <p:cNvPicPr/>
          <p:nvPr/>
        </p:nvPicPr>
        <p:blipFill>
          <a:blip r:embed="rId1"/>
          <a:stretch/>
        </p:blipFill>
        <p:spPr>
          <a:xfrm>
            <a:off x="81000" y="1052640"/>
            <a:ext cx="885816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Скругленный прямоугольник 4"/>
          <p:cNvSpPr/>
          <p:nvPr/>
        </p:nvSpPr>
        <p:spPr>
          <a:xfrm>
            <a:off x="1963800" y="4629240"/>
            <a:ext cx="3914640" cy="42048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5"/>
          <p:cNvSpPr/>
          <p:nvPr/>
        </p:nvSpPr>
        <p:spPr>
          <a:xfrm>
            <a:off x="2098800" y="5130720"/>
            <a:ext cx="3913200" cy="28584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ая выноска 16"/>
          <p:cNvSpPr/>
          <p:nvPr/>
        </p:nvSpPr>
        <p:spPr>
          <a:xfrm>
            <a:off x="250920" y="3573360"/>
            <a:ext cx="1079280" cy="503280"/>
          </a:xfrm>
          <a:prstGeom prst="wedgeRectCallout">
            <a:avLst>
              <a:gd name="adj1" fmla="val 105555"/>
              <a:gd name="adj2" fmla="val 103296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верное за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ая выноска 18"/>
          <p:cNvSpPr/>
          <p:nvPr/>
        </p:nvSpPr>
        <p:spPr>
          <a:xfrm>
            <a:off x="6039000" y="2346480"/>
            <a:ext cx="1800000" cy="1554120"/>
          </a:xfrm>
          <a:prstGeom prst="wedgeRectCallout">
            <a:avLst>
              <a:gd name="adj1" fmla="val -55319"/>
              <a:gd name="adj2" fmla="val 107171"/>
            </a:avLst>
          </a:prstGeom>
          <a:solidFill>
            <a:srgbClr val="92d050"/>
          </a:solidFill>
          <a:ln w="93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авильное заполнение кода ОКТМО  и элемента бюдж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Три разряда в коде ОКТМО только у Ненецкого А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Ханты-Мансийского АО и Ямало-Ненецкого А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ая выноска 10"/>
          <p:cNvSpPr/>
          <p:nvPr/>
        </p:nvSpPr>
        <p:spPr>
          <a:xfrm>
            <a:off x="6939000" y="4797360"/>
            <a:ext cx="1558800" cy="885960"/>
          </a:xfrm>
          <a:prstGeom prst="wedgeRectCallout">
            <a:avLst>
              <a:gd name="adj1" fmla="val -104564"/>
              <a:gd name="adj2" fmla="val -3611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мер заполнения справки при перечислениях в Республику Кр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ижний колонтитул 3"/>
          <p:cNvSpPr/>
          <p:nvPr/>
        </p:nvSpPr>
        <p:spPr>
          <a:xfrm>
            <a:off x="81000" y="260280"/>
            <a:ext cx="9063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правка по консолидируемым расчетам ф.0503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1965240" y="4343400"/>
            <a:ext cx="3913200" cy="28584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1042920" y="1593720"/>
            <a:ext cx="31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Казенное учреждение субъек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871880" y="1592280"/>
            <a:ext cx="33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Бюджет муницип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216000" y="4581360"/>
            <a:ext cx="871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Сведения о движении нефинансовых активов консолидированного бюджета </a:t>
            </a:r>
            <a:r>
              <a:rPr b="0" lang="ru-RU" sz="1400" spc="-1" strike="noStrike" u="sng">
                <a:solidFill>
                  <a:srgbClr val="17bbfd"/>
                </a:solidFill>
                <a:uFillTx/>
                <a:latin typeface="Calibri"/>
                <a:ea typeface="Times New Roman"/>
                <a:hlinkClick r:id="rId1"/>
              </a:rPr>
              <a:t>(ф. 0503368)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 – формируется на основании данных консолидированных приложений </a:t>
            </a:r>
            <a:r>
              <a:rPr b="0" lang="ru-RU" sz="1400" spc="-1" strike="noStrike" u="sng">
                <a:solidFill>
                  <a:srgbClr val="17bbfd"/>
                </a:solidFill>
                <a:uFillTx/>
                <a:latin typeface="Calibri"/>
                <a:ea typeface="Times New Roman"/>
                <a:hlinkClick r:id="rId2"/>
              </a:rPr>
              <a:t>(ф. 0503168)</a:t>
            </a:r>
            <a:r>
              <a:rPr b="1" lang="ru-RU" sz="1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финансовых органов, путем суммирования одноименных показателей и исключения взаимосвязанных по передаче (получению)</a:t>
            </a:r>
            <a:r>
              <a:rPr b="1" i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 ИДЕНТИЧНЫХ </a:t>
            </a: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нефинансовых активов, произведенных в рамках межбюджетных отноше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(п.218 приказа 191н</a:t>
            </a:r>
            <a:r>
              <a:rPr b="0" lang="ru-RU" sz="1600" spc="-1" strike="noStrike">
                <a:solidFill>
                  <a:srgbClr val="353535"/>
                </a:solidFill>
                <a:latin typeface="Calibri"/>
                <a:ea typeface="Times New Roman"/>
              </a:rPr>
              <a:t>)</a:t>
            </a:r>
            <a:r>
              <a:rPr b="0" lang="ru-RU" sz="1600" spc="-1" strike="noStrike">
                <a:solidFill>
                  <a:srgbClr val="353535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58920" y="115920"/>
            <a:ext cx="662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консолидированного бюджета ф.05033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5280" y="2565360"/>
          <a:ext cx="3384720" cy="1752480"/>
        </p:xfrm>
        <a:graphic>
          <a:graphicData uri="http://schemas.openxmlformats.org/drawingml/2006/table">
            <a:tbl>
              <a:tblPr/>
              <a:tblGrid>
                <a:gridCol w="3384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Дт 1 40120 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Расходы на перечисления другим бюджетам бюджетной системы Р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т 1 10122 4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Уменьшение стоимости жилых помещений – недвижимого имущества учрежд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5292720" y="2565360"/>
          <a:ext cx="3656160" cy="1727280"/>
        </p:xfrm>
        <a:graphic>
          <a:graphicData uri="http://schemas.openxmlformats.org/drawingml/2006/table">
            <a:tbl>
              <a:tblPr/>
              <a:tblGrid>
                <a:gridCol w="3656160"/>
              </a:tblGrid>
              <a:tr h="81756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Дт 1 10851 3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Увеличение стоимости недвижимого имущества, составляющего казну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т 1 40110 15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«Доходы от поступлений от других бюджетов бюджетной системы РФ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Стрелка вправо с вырезом 5"/>
          <p:cNvSpPr/>
          <p:nvPr/>
        </p:nvSpPr>
        <p:spPr>
          <a:xfrm>
            <a:off x="3924360" y="3141720"/>
            <a:ext cx="1224000" cy="431640"/>
          </a:xfrm>
          <a:custGeom>
            <a:avLst/>
            <a:gdLst>
              <a:gd name="textAreaLeft" fmla="*/ 118080 w 1224000"/>
              <a:gd name="textAreaRight" fmla="*/ 1105920 w 122400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30" y="5400"/>
                </a:lnTo>
                <a:lnTo>
                  <a:pt x="17430" y="0"/>
                </a:lnTo>
                <a:lnTo>
                  <a:pt x="21600" y="10800"/>
                </a:lnTo>
                <a:lnTo>
                  <a:pt x="17430" y="21600"/>
                </a:lnTo>
                <a:lnTo>
                  <a:pt x="17430" y="16200"/>
                </a:lnTo>
                <a:lnTo>
                  <a:pt x="0" y="16200"/>
                </a:lnTo>
                <a:lnTo>
                  <a:pt x="208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2" descr=""/>
          <p:cNvPicPr/>
          <p:nvPr/>
        </p:nvPicPr>
        <p:blipFill>
          <a:blip r:embed="rId3"/>
          <a:stretch/>
        </p:blipFill>
        <p:spPr>
          <a:xfrm>
            <a:off x="468360" y="1252440"/>
            <a:ext cx="646200" cy="1238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"/>
          <p:cNvPicPr/>
          <p:nvPr/>
        </p:nvPicPr>
        <p:blipFill>
          <a:blip r:embed="rId4"/>
          <a:stretch/>
        </p:blipFill>
        <p:spPr>
          <a:xfrm>
            <a:off x="8217000" y="1484280"/>
            <a:ext cx="68904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1"/>
          <p:cNvSpPr/>
          <p:nvPr/>
        </p:nvSpPr>
        <p:spPr>
          <a:xfrm>
            <a:off x="1476360" y="77760"/>
            <a:ext cx="64087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консолидированного бюджета ф.05033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964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1 101 11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1 108 51 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9"/>
          <p:cNvSpPr/>
          <p:nvPr/>
        </p:nvSpPr>
        <p:spPr>
          <a:xfrm>
            <a:off x="755640" y="4869000"/>
            <a:ext cx="431640" cy="64764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7"/>
          <p:cNvCxnSpPr/>
          <p:nvPr/>
        </p:nvCxnSpPr>
        <p:spPr>
          <a:xfrm>
            <a:off x="1908000" y="5192280"/>
            <a:ext cx="756720" cy="108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11" name="Загнутый угол 10"/>
          <p:cNvSpPr/>
          <p:nvPr/>
        </p:nvSpPr>
        <p:spPr>
          <a:xfrm>
            <a:off x="2700360" y="4869000"/>
            <a:ext cx="2951280" cy="936360"/>
          </a:xfrm>
          <a:prstGeom prst="foldedCorner">
            <a:avLst>
              <a:gd name="adj" fmla="val 16666"/>
            </a:avLst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Данные показатели не являются идентичными, внутренние обороты между счетами 101 и 108 не ис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2" descr=""/>
          <p:cNvPicPr/>
          <p:nvPr/>
        </p:nvPicPr>
        <p:blipFill>
          <a:blip r:embed="rId1"/>
          <a:stretch/>
        </p:blipFill>
        <p:spPr>
          <a:xfrm>
            <a:off x="411120" y="1052640"/>
            <a:ext cx="8408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03280" y="2452680"/>
          <a:ext cx="8389800" cy="2766960"/>
        </p:xfrm>
        <a:graphic>
          <a:graphicData uri="http://schemas.openxmlformats.org/drawingml/2006/table">
            <a:tbl>
              <a:tblPr/>
              <a:tblGrid>
                <a:gridCol w="1332000"/>
                <a:gridCol w="1162080"/>
                <a:gridCol w="755640"/>
                <a:gridCol w="1323720"/>
                <a:gridCol w="1295640"/>
                <a:gridCol w="1311120"/>
                <a:gridCol w="1209600"/>
              </a:tblGrid>
              <a:tr h="1212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и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Посту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(увелич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ыбытие (умень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ко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Машины и 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1Х4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ложения в основ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6Х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Box 4"/>
          <p:cNvSpPr/>
          <p:nvPr/>
        </p:nvSpPr>
        <p:spPr>
          <a:xfrm>
            <a:off x="763560" y="1303200"/>
            <a:ext cx="797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Отражение операций в ф.0503168 при принятии вложений в объекты основных средств к учету в состав основ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57200" y="2008080"/>
            <a:ext cx="80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Дт 1 101ХХ 310  Кт 1 106ХХ 3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3"/>
          <p:cNvSpPr/>
          <p:nvPr/>
        </p:nvSpPr>
        <p:spPr>
          <a:xfrm>
            <a:off x="3203640" y="2008080"/>
            <a:ext cx="1295280" cy="412920"/>
          </a:xfrm>
          <a:prstGeom prst="ellipse">
            <a:avLst/>
          </a:prstGeom>
          <a:noFill/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Соединительная линия уступом 7"/>
          <p:cNvCxnSpPr/>
          <p:nvPr/>
        </p:nvCxnSpPr>
        <p:spPr>
          <a:xfrm flipH="1" rot="16200000">
            <a:off x="3815640" y="2816640"/>
            <a:ext cx="1800720" cy="1008720"/>
          </a:xfrm>
          <a:prstGeom prst="bentConnector3">
            <a:avLst>
              <a:gd name="adj1" fmla="val 49990"/>
            </a:avLst>
          </a:prstGeom>
          <a:ln w="19080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118" name="Овал 10"/>
          <p:cNvSpPr/>
          <p:nvPr/>
        </p:nvSpPr>
        <p:spPr>
          <a:xfrm>
            <a:off x="4788000" y="2008080"/>
            <a:ext cx="1312920" cy="368280"/>
          </a:xfrm>
          <a:prstGeom prst="ellipse">
            <a:avLst/>
          </a:prstGeom>
          <a:noFill/>
          <a:ln w="1908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Соединительная линия уступом 11"/>
          <p:cNvCxnSpPr>
            <a:stCxn id="118" idx="5"/>
          </p:cNvCxnSpPr>
          <p:nvPr/>
        </p:nvCxnSpPr>
        <p:spPr>
          <a:xfrm flipH="1" rot="16200000">
            <a:off x="5118840" y="3111120"/>
            <a:ext cx="2402640" cy="824760"/>
          </a:xfrm>
          <a:prstGeom prst="bentConnector3">
            <a:avLst>
              <a:gd name="adj1" fmla="val 49992"/>
            </a:avLst>
          </a:prstGeom>
          <a:ln w="19080"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120" name="Прямоугольник 3"/>
          <p:cNvSpPr/>
          <p:nvPr/>
        </p:nvSpPr>
        <p:spPr>
          <a:xfrm>
            <a:off x="1835280" y="115920"/>
            <a:ext cx="5473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ф.05031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39640" y="5445000"/>
            <a:ext cx="79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53535"/>
                </a:solidFill>
                <a:latin typeface="Calibri"/>
                <a:ea typeface="Times New Roman"/>
              </a:rPr>
              <a:t>Операции по внутреннему перемещению объектов нефинансовых активов между МОЛ по графам 5,6 не заполняю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15800" y="1557360"/>
          <a:ext cx="8280360" cy="3838680"/>
        </p:xfrm>
        <a:graphic>
          <a:graphicData uri="http://schemas.openxmlformats.org/drawingml/2006/table">
            <a:tbl>
              <a:tblPr/>
              <a:tblGrid>
                <a:gridCol w="1343160"/>
                <a:gridCol w="1119240"/>
                <a:gridCol w="745920"/>
                <a:gridCol w="1111320"/>
                <a:gridCol w="1349280"/>
                <a:gridCol w="1417680"/>
                <a:gridCol w="1193760"/>
              </a:tblGrid>
              <a:tr h="79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и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Поступ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(увелич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Выбытие (уменьш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аличие на кон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Амортизация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Амортизация основных средст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00</a:t>
                      </a: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 u="sng">
                          <a:solidFill>
                            <a:srgbClr val="353535"/>
                          </a:solidFill>
                          <a:uFillTx/>
                          <a:latin typeface="Calibri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из них</a:t>
                      </a:r>
                      <a:r>
                        <a:rPr b="0" lang="en-US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недвижим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1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особо цен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104</a:t>
                      </a:r>
                      <a:r>
                        <a:rPr b="1" lang="ru-RU" sz="14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  <a:ea typeface="Times New Roman"/>
                        </a:rPr>
                        <a:t>20</a:t>
                      </a: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353535"/>
                          </a:solidFill>
                          <a:uFillTx/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53535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Прямоугольник 2"/>
          <p:cNvSpPr/>
          <p:nvPr/>
        </p:nvSpPr>
        <p:spPr>
          <a:xfrm>
            <a:off x="415800" y="5388120"/>
            <a:ext cx="8280360" cy="89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Дт 4 104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</a:rPr>
              <a:t>30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 410   Кт 4 104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</a:rPr>
              <a:t>20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</a:rPr>
              <a:t> 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619280" y="115920"/>
            <a:ext cx="619272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дения о движении нефинансовых активов учреждения ф.05037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15800" y="118908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imes New Roman"/>
              </a:rPr>
              <a:t>Перевод имущества из иного движимого (гр.30) в особо ценное (гр.2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19"/>
          <p:cNvSpPr/>
          <p:nvPr/>
        </p:nvSpPr>
        <p:spPr>
          <a:xfrm>
            <a:off x="2771640" y="5511960"/>
            <a:ext cx="3529080" cy="653760"/>
          </a:xfrm>
          <a:prstGeom prst="roundRect">
            <a:avLst>
              <a:gd name="adj" fmla="val 10032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12"/>
          <p:cNvCxnSpPr/>
          <p:nvPr/>
        </p:nvCxnSpPr>
        <p:spPr>
          <a:xfrm flipV="1">
            <a:off x="4716000" y="3572640"/>
            <a:ext cx="2088360" cy="193932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cxnSp>
        <p:nvCxnSpPr>
          <p:cNvPr id="128" name="Прямая со стрелкой 16"/>
          <p:cNvCxnSpPr/>
          <p:nvPr/>
        </p:nvCxnSpPr>
        <p:spPr>
          <a:xfrm flipV="1">
            <a:off x="5724360" y="5012640"/>
            <a:ext cx="936000" cy="680040"/>
          </a:xfrm>
          <a:prstGeom prst="straightConnector1">
            <a:avLst/>
          </a:prstGeom>
          <a:ln w="2844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29" name="Скругленная прямоугольная выноска 26"/>
          <p:cNvSpPr/>
          <p:nvPr/>
        </p:nvSpPr>
        <p:spPr>
          <a:xfrm>
            <a:off x="1403280" y="1558800"/>
            <a:ext cx="943200" cy="576360"/>
          </a:xfrm>
          <a:prstGeom prst="wedgeRoundRectCallout">
            <a:avLst>
              <a:gd name="adj1" fmla="val 127555"/>
              <a:gd name="adj2" fmla="val 137671"/>
              <a:gd name="adj3" fmla="val 16667"/>
            </a:avLst>
          </a:prstGeom>
          <a:solidFill>
            <a:srgbClr val="00b0f0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 050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 3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55B2-4F01-4406-9FBC-99AE5F9C4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755640" y="260280"/>
            <a:ext cx="705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Требования к форматам текстовых файлов для годовой отчетности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826920" y="2757600"/>
            <a:ext cx="2657520" cy="1666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3484440" y="2276640"/>
            <a:ext cx="520236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ребования к форматам и способам передачи в электронном виде годовой, квартальной и месячной отчетности об исполнении консолидированного бюджета субъекта РФ и территориального государственного внебюджетного фонда, отчетности об исполнении бюджетов государственных внебюджетных фондов, представляемых в ФК (Версия 3.0.1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823-D8F6-4A59-851E-161172E02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Горячая линия по СУФ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4568760" y="2276640"/>
            <a:ext cx="41180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Контактные данные службы технической поддерж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ел. +7(495) 915 24 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Тел. +7(495) 915 24 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22334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1403280" y="44280"/>
            <a:ext cx="645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ФЕДЕРАЛЬНОЕ 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53535"/>
                </a:solidFill>
                <a:latin typeface="Calibri"/>
              </a:rPr>
              <a:t>МЕЖРЕГИОНАЛЬНОЕ ОПЕРАЦИОННОЕ УПРА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060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561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Приказы ФК о сроках сдачи годовой отчетности от 11.08.2014 №170, от 08</a:t>
            </a:r>
            <a:r>
              <a:rPr b="1" lang="en-US" sz="2000" spc="-1" strike="noStrike">
                <a:solidFill>
                  <a:srgbClr val="353535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353535"/>
                </a:solidFill>
                <a:latin typeface="Calibri"/>
              </a:rPr>
              <a:t>.</a:t>
            </a:r>
            <a:r>
              <a:rPr b="1" lang="ru-RU" sz="2000" spc="-1" strike="noStrike">
                <a:solidFill>
                  <a:srgbClr val="353535"/>
                </a:solidFill>
                <a:latin typeface="Calibri"/>
              </a:rPr>
              <a:t>201 №19н, от 12.12.2014 № 21н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6" name="Рисунок 12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335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E4A0-23A0-4A99-984F-CF4E73674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рка взаимных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058760" y="1592280"/>
            <a:ext cx="705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верка взаимных расчетов по переданным и полученным активам и обязательствам по состоянию на 01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692360" y="5229360"/>
            <a:ext cx="5790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Письмо МФ РФ от 26.09.2014 № 02-07-07/28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6" descr=""/>
          <p:cNvPicPr/>
          <p:nvPr/>
        </p:nvPicPr>
        <p:blipFill>
          <a:blip r:embed="rId1"/>
          <a:stretch/>
        </p:blipFill>
        <p:spPr>
          <a:xfrm>
            <a:off x="1436760" y="3270240"/>
            <a:ext cx="63007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F95-27B4-4965-95D1-C5BC597A66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1619280" y="260280"/>
            <a:ext cx="61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верка взаимных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68520" y="1628640"/>
            <a:ext cx="6294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верка взаимных расчетов по переданным и полученным МБТ, а такж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там подтвержденных остатков МБТ прошлых лет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  по состоянию на 01.01.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1709640" y="3573360"/>
            <a:ext cx="60120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1476360" y="115920"/>
            <a:ext cx="6326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Статистика представления отчетов ф.05033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на 01.10.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206280" y="1413000"/>
            <a:ext cx="868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8"/>
          <p:cNvSpPr/>
          <p:nvPr/>
        </p:nvSpPr>
        <p:spPr>
          <a:xfrm>
            <a:off x="3070080" y="1795320"/>
            <a:ext cx="57913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       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В соответствии с пунктом 217 Приказа № 191 н от 28.12.2010 «Об утверждении инструкции о порядке составления и предоставления годовой, квартальной и месячной отчетности об исполнении бюджетов бюджетной системы Российской Федерации» ( в ред. Приказов Минфина России от 29.12.2011 № 191 н, от 26.10.2012 №138 н, от 19.12.2014  №157н) Пояснительная записка (ф.0503360) формируется в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структуре разделов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, предусмотренных пунктом 152, с отражением </a:t>
            </a:r>
            <a:r>
              <a:rPr b="1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иной информации</a:t>
            </a:r>
            <a:r>
              <a:rPr b="0" lang="ru-RU" sz="1800" spc="-1" strike="noStrike">
                <a:solidFill>
                  <a:srgbClr val="353535"/>
                </a:solidFill>
                <a:latin typeface="Calibri"/>
                <a:ea typeface="Tahoma"/>
              </a:rPr>
              <a:t>, существенно характеризующей исполнение консолидированного бюджета, не отраженной в приложениях, включаемых в Пояснительную записку (ф.050336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2330280" cy="2637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476360" y="260280"/>
            <a:ext cx="632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Основные докум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Пояснительная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записка</a:t>
            </a: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ф.0503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" descr=""/>
          <p:cNvPicPr/>
          <p:nvPr/>
        </p:nvPicPr>
        <p:blipFill>
          <a:blip r:embed="rId1"/>
          <a:srcRect l="0" t="4795" r="0" b="630"/>
          <a:stretch/>
        </p:blipFill>
        <p:spPr>
          <a:xfrm>
            <a:off x="1258920" y="1125360"/>
            <a:ext cx="6905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2674800"/>
            <a:ext cx="9144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52280" y="2827440"/>
            <a:ext cx="89917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Пояснительная записка ф.0503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1"/>
          <a:srcRect l="0" t="4971" r="0" b="617"/>
          <a:stretch/>
        </p:blipFill>
        <p:spPr>
          <a:xfrm>
            <a:off x="539640" y="1268280"/>
            <a:ext cx="8406000" cy="5077080"/>
          </a:xfrm>
          <a:prstGeom prst="rect">
            <a:avLst/>
          </a:prstGeom>
          <a:ln w="0">
            <a:noFill/>
          </a:ln>
        </p:spPr>
      </p:pic>
      <p:cxnSp>
        <p:nvCxnSpPr>
          <p:cNvPr id="77" name="Прямая со стрелкой 4"/>
          <p:cNvCxnSpPr/>
          <p:nvPr/>
        </p:nvCxnSpPr>
        <p:spPr>
          <a:xfrm flipV="1">
            <a:off x="2339640" y="5266800"/>
            <a:ext cx="1152720" cy="145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Прямая со стрелкой 7"/>
          <p:cNvCxnSpPr/>
          <p:nvPr/>
        </p:nvCxnSpPr>
        <p:spPr>
          <a:xfrm>
            <a:off x="2339640" y="5516280"/>
            <a:ext cx="115272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ижний колонтитул 3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3535"/>
                </a:solidFill>
                <a:latin typeface="Calibri"/>
              </a:rPr>
              <a:t>ф.0503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1755720" y="1125360"/>
            <a:ext cx="5632560" cy="4326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"/>
          <p:cNvPicPr/>
          <p:nvPr/>
        </p:nvPicPr>
        <p:blipFill>
          <a:blip r:embed="rId2"/>
          <a:srcRect l="0" t="0" r="9570" b="71457"/>
          <a:stretch/>
        </p:blipFill>
        <p:spPr>
          <a:xfrm>
            <a:off x="1755720" y="5524560"/>
            <a:ext cx="5632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GorelovAV</dc:creator>
  <dc:description/>
  <dc:language>en-US</dc:language>
  <cp:lastModifiedBy>Салдусова Байрта Владимировна</cp:lastModifiedBy>
  <cp:lastPrinted>2015-02-05T06:29:28Z</cp:lastPrinted>
  <dcterms:modified xsi:type="dcterms:W3CDTF">2015-02-05T06:31:57Z</dcterms:modified>
  <cp:revision>1804</cp:revision>
  <dc:subject/>
  <dc:title>GIS GMP</dc:title>
</cp:coreProperties>
</file>