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34F-7D34-41E2-B7D5-DC23B2B7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5A6-AA85-4750-8DB6-E2964389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0CE-1F70-430F-9566-E9C837C3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CC2-F737-48F1-ADF7-6EA1EC8A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C12-9435-43E6-AE05-7897041B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105-0F10-4E00-8496-E265752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69A-1D5D-4D3D-8843-D2376A44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329-C668-4C68-8D8B-0601674F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6884-0E69-4A45-815D-1327A2C9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81E-8203-4797-935E-0B4081AF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657-7F09-4BAE-B9FE-112A6C72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AB6-94D2-47E1-A857-98B69A4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174A-5560-4BD6-8D72-740D4B94A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341360"/>
            <a:ext cx="7286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  <a:ea typeface="Arial"/>
              </a:rPr>
              <a:t>Организационно-технологические аспекты формирования и представления финансовыми органами субъектов Российской Федерации годовой бюджетной (бухгалтерской) отчетности за 2014 год в Федеральное казначе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403280" y="260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7440" y="188640"/>
            <a:ext cx="7194600" cy="59364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Единый план счетов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Инструкция № 157н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95256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ринятие к учету земельных участ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(получателями бюджетных средств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65120" y="1957320"/>
          <a:ext cx="8213760" cy="3959280"/>
        </p:xfrm>
        <a:graphic>
          <a:graphicData uri="http://schemas.openxmlformats.org/drawingml/2006/table">
            <a:tbl>
              <a:tblPr/>
              <a:tblGrid>
                <a:gridCol w="2736720"/>
                <a:gridCol w="2740320"/>
                <a:gridCol w="2736720"/>
              </a:tblGrid>
              <a:tr h="100656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9520">
                <a:tc rowSpan="2"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земельных участков по результатам инвентаризац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9"/>
                          </a:solidFill>
                          <a:uFillTx/>
                          <a:latin typeface="Calibri"/>
                        </a:rPr>
                        <a:t>ххх хххх 000000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03 11 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e40059"/>
                          </a:solidFill>
                          <a:uFillTx/>
                          <a:latin typeface="Calibri"/>
                        </a:rPr>
                        <a:t>ххх 1 17 050хх хх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4400" y="95256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ринятие к учету земельных участ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(бюджетными и автономными учреждениями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09520" y="1957320"/>
          <a:ext cx="8661600" cy="4489560"/>
        </p:xfrm>
        <a:graphic>
          <a:graphicData uri="http://schemas.openxmlformats.org/drawingml/2006/table">
            <a:tbl>
              <a:tblPr/>
              <a:tblGrid>
                <a:gridCol w="1575000"/>
                <a:gridCol w="1825560"/>
                <a:gridCol w="1731960"/>
                <a:gridCol w="1731960"/>
                <a:gridCol w="1797120"/>
              </a:tblGrid>
              <a:tr h="756360">
                <a:tc row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юджетное (автономное) учре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ре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360">
                <a:tc rowSpan="2"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земельных участ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03 11 3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401 10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9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ие к учету расчетов по О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01 10 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10 06 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4 33 5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3"/>
          <p:cNvSpPr/>
          <p:nvPr/>
        </p:nvSpPr>
        <p:spPr>
          <a:xfrm>
            <a:off x="1747800" y="189000"/>
            <a:ext cx="71946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Единый план счетов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–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Инструкция № 157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0920" y="2917800"/>
          <a:ext cx="8569080" cy="2435400"/>
        </p:xfrm>
        <a:graphic>
          <a:graphicData uri="http://schemas.openxmlformats.org/drawingml/2006/table">
            <a:tbl>
              <a:tblPr/>
              <a:tblGrid>
                <a:gridCol w="2471760"/>
                <a:gridCol w="3241440"/>
                <a:gridCol w="2855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Принятие к учету вло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м-учреди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ххх zzzz 00000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4 33 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ххх 1 11 09000 00 0000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1 10 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5"/>
          <p:cNvSpPr/>
          <p:nvPr/>
        </p:nvSpPr>
        <p:spPr>
          <a:xfrm>
            <a:off x="6516720" y="4221000"/>
            <a:ext cx="2232000" cy="43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6"/>
          <p:cNvSpPr/>
          <p:nvPr/>
        </p:nvSpPr>
        <p:spPr>
          <a:xfrm>
            <a:off x="3490920" y="4149720"/>
            <a:ext cx="57636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7"/>
          <p:cNvSpPr/>
          <p:nvPr/>
        </p:nvSpPr>
        <p:spPr>
          <a:xfrm>
            <a:off x="1476360" y="1773360"/>
            <a:ext cx="2771640" cy="933480"/>
          </a:xfrm>
          <a:prstGeom prst="wedgeRoundRectCallout">
            <a:avLst>
              <a:gd name="adj1" fmla="val 33449"/>
              <a:gd name="adj2" fmla="val 2037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раслевая принадлежнос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с АУ/Б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7"/>
          <p:cNvSpPr/>
          <p:nvPr/>
        </p:nvSpPr>
        <p:spPr>
          <a:xfrm>
            <a:off x="5130720" y="1773360"/>
            <a:ext cx="2772000" cy="933480"/>
          </a:xfrm>
          <a:prstGeom prst="wedgeRoundRectCallout">
            <a:avLst>
              <a:gd name="adj1" fmla="val 41300"/>
              <a:gd name="adj2" fmla="val 20840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ез детализации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9"/>
          <p:cNvSpPr/>
          <p:nvPr/>
        </p:nvSpPr>
        <p:spPr>
          <a:xfrm>
            <a:off x="1332000" y="260280"/>
            <a:ext cx="7495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 о финансовых результатах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(ф. 05031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98560" y="1025640"/>
            <a:ext cx="8271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Инструкция № 191н (в ред. Приказа МФ РФ № 157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324000" y="1695240"/>
            <a:ext cx="86407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По кодам строк 160 - 270 в графе 4 отчета дополнительно отражаются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принятые в уменьшение доходов по данным дебетового оборота счета 140110130 «Доходы от оказания платных услуг»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суммы расходов, сформировавших себестоимость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выполненных работ, оказанных услуг на основании данных аналитического учета в разрезе соответствующих кодов КОСГУ по соответствующим аналитическим счетам счета 010900000 «Затраты на изготовление готовой продукции, выполнение работ, услуг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сумма стоимости реализованной готовой продукции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по счетам 010537440 «Уменьшение стоимости готовой продукции - иного движимого имущества учреждения», 010538440 «Уменьшение стоимости товаров - иного движимого имущества учреждения» в части переданной заказчику готовой продукции (по КОСГУ 272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аланс ф. 0503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2692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ответствие показателей остатков на сче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0201, 40204, 40401, 40402, 40403, 404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Document"/>
          <p:cNvPicPr/>
          <p:nvPr/>
        </p:nvPicPr>
        <p:blipFill>
          <a:blip r:embed="rId1"/>
          <a:stretch/>
        </p:blipFill>
        <p:spPr>
          <a:xfrm>
            <a:off x="1171440" y="4037040"/>
            <a:ext cx="1086120" cy="1133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577440" y="5308560"/>
            <a:ext cx="220104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алан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остатки по счет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 202 10 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Document"/>
          <p:cNvPicPr/>
          <p:nvPr/>
        </p:nvPicPr>
        <p:blipFill>
          <a:blip r:embed="rId2"/>
          <a:stretch/>
        </p:blipFill>
        <p:spPr>
          <a:xfrm>
            <a:off x="6907320" y="4037040"/>
            <a:ext cx="1087200" cy="1133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937800" y="2565360"/>
            <a:ext cx="135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ВБ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315680" y="4327560"/>
            <a:ext cx="6555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7162200" y="2565360"/>
            <a:ext cx="76824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1"/>
          <p:cNvCxnSpPr>
            <a:stCxn id="106" idx="2"/>
            <a:endCxn id="103" idx="0"/>
          </p:cNvCxnSpPr>
          <p:nvPr/>
        </p:nvCxnSpPr>
        <p:spPr>
          <a:xfrm flipH="1" rot="16200000">
            <a:off x="1226880" y="3549960"/>
            <a:ext cx="872280" cy="102600"/>
          </a:xfrm>
          <a:prstGeom prst="bentConnector3">
            <a:avLst>
              <a:gd name="adj1" fmla="val 498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2"/>
          <p:cNvCxnSpPr>
            <a:stCxn id="108" idx="2"/>
            <a:endCxn id="105" idx="0"/>
          </p:cNvCxnSpPr>
          <p:nvPr/>
        </p:nvCxnSpPr>
        <p:spPr>
          <a:xfrm rot="5400000">
            <a:off x="6933240" y="3423960"/>
            <a:ext cx="1131120" cy="96120"/>
          </a:xfrm>
          <a:prstGeom prst="bentConnector3">
            <a:avLst>
              <a:gd name="adj1" fmla="val 4985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 Box 13"/>
          <p:cNvSpPr/>
          <p:nvPr/>
        </p:nvSpPr>
        <p:spPr>
          <a:xfrm>
            <a:off x="6332040" y="5300640"/>
            <a:ext cx="22010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алан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остатки по счета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 203 12 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 203 20 000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ведения ф. 05031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1440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normAutofit fontScale="68000"/>
          </a:bodyPr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ответствие показателей ф. 0503173, 05033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 части изменения валюты бал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ри реорганизации, передаче учреждени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Document"/>
          <p:cNvPicPr/>
          <p:nvPr/>
        </p:nvPicPr>
        <p:blipFill>
          <a:blip r:embed="rId1"/>
          <a:stretch/>
        </p:blipFill>
        <p:spPr>
          <a:xfrm>
            <a:off x="1171440" y="4037040"/>
            <a:ext cx="1086120" cy="11332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89400" y="5308560"/>
            <a:ext cx="1970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вед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 05031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0503373, 05037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передающи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Document"/>
          <p:cNvPicPr/>
          <p:nvPr/>
        </p:nvPicPr>
        <p:blipFill>
          <a:blip r:embed="rId2"/>
          <a:stretch/>
        </p:blipFill>
        <p:spPr>
          <a:xfrm>
            <a:off x="6907320" y="4037040"/>
            <a:ext cx="1087200" cy="11332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6425640" y="5308560"/>
            <a:ext cx="1970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вед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 05031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0503373, 050377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(получающи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26280" y="2565360"/>
            <a:ext cx="1373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БС Ф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ВБ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315680" y="4327560"/>
            <a:ext cx="6555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860160" y="2565360"/>
            <a:ext cx="13734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БС Ф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ВБ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1"/>
          <p:cNvCxnSpPr>
            <a:stCxn id="118" idx="2"/>
            <a:endCxn id="114" idx="0"/>
          </p:cNvCxnSpPr>
          <p:nvPr/>
        </p:nvCxnSpPr>
        <p:spPr>
          <a:xfrm flipH="1" rot="16200000">
            <a:off x="1356480" y="3679560"/>
            <a:ext cx="613440" cy="102600"/>
          </a:xfrm>
          <a:prstGeom prst="bentConnector3">
            <a:avLst>
              <a:gd name="adj1" fmla="val 4973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AutoShape 12"/>
          <p:cNvCxnSpPr>
            <a:stCxn id="120" idx="2"/>
            <a:endCxn id="116" idx="0"/>
          </p:cNvCxnSpPr>
          <p:nvPr/>
        </p:nvCxnSpPr>
        <p:spPr>
          <a:xfrm rot="5400000">
            <a:off x="7192080" y="3682800"/>
            <a:ext cx="613440" cy="96120"/>
          </a:xfrm>
          <a:prstGeom prst="bentConnector3">
            <a:avLst>
              <a:gd name="adj1" fmla="val 4973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6"/>
          <p:cNvSpPr/>
          <p:nvPr/>
        </p:nvSpPr>
        <p:spPr>
          <a:xfrm>
            <a:off x="-36360" y="1020600"/>
            <a:ext cx="9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Расчеты с прочими кредиторами (0 304 06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99240" y="2033640"/>
            <a:ext cx="29635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мма </a:t>
            </a:r>
            <a:r>
              <a:rPr b="0" lang="ru-RU" sz="3100" spc="-1" strike="noStrike" u="sng">
                <a:solidFill>
                  <a:srgbClr val="000066"/>
                </a:solidFill>
                <a:uFillTx/>
                <a:latin typeface="Calibri"/>
              </a:rPr>
              <a:t>оборот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 счетам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648760" y="2133720"/>
            <a:ext cx="29196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обор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40059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в ча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изме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типа Г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e40059"/>
                </a:solidFill>
                <a:latin typeface="Calibri"/>
              </a:rPr>
              <a:t>=</a:t>
            </a: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 Справ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49e"/>
                </a:solidFill>
                <a:latin typeface="Calibri"/>
              </a:rPr>
              <a:t>ф. 05037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551400" y="2133720"/>
            <a:ext cx="792000" cy="4248000"/>
          </a:xfrm>
          <a:custGeom>
            <a:avLst/>
            <a:gdLst>
              <a:gd name="textAreaLeft" fmla="*/ 0 w 792000"/>
              <a:gd name="textAreaRight" fmla="*/ 285840 w 792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-36360" y="1020600"/>
            <a:ext cx="9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Расчеты с прочими кредиторами (0 304 06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843480" y="2033640"/>
            <a:ext cx="282312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мма </a:t>
            </a:r>
            <a:r>
              <a:rPr b="0" lang="ru-RU" sz="3100" spc="-1" strike="noStrike" u="sng">
                <a:solidFill>
                  <a:srgbClr val="000066"/>
                </a:solidFill>
                <a:uFillTx/>
                <a:latin typeface="Calibri"/>
              </a:rPr>
              <a:t>остат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 счетам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304 06 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6284880" y="3665520"/>
            <a:ext cx="12733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c00000"/>
                </a:solidFill>
                <a:latin typeface="Calibri"/>
              </a:rPr>
              <a:t>= 0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1403280" y="260280"/>
            <a:ext cx="7459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3"/>
          <p:cNvSpPr/>
          <p:nvPr/>
        </p:nvSpPr>
        <p:spPr>
          <a:xfrm>
            <a:off x="4427640" y="2133720"/>
            <a:ext cx="792000" cy="4248000"/>
          </a:xfrm>
          <a:custGeom>
            <a:avLst/>
            <a:gdLst>
              <a:gd name="textAreaLeft" fmla="*/ 0 w 792000"/>
              <a:gd name="textAreaRight" fmla="*/ 285840 w 79200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-36360" y="11001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исьмо Минфина России от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08.10.2014 № 02-07-07/506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1332000" y="189000"/>
            <a:ext cx="7459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Учет расчетов по средствам 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временном распоря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"/>
          <p:cNvSpPr/>
          <p:nvPr/>
        </p:nvSpPr>
        <p:spPr>
          <a:xfrm>
            <a:off x="395280" y="1784520"/>
            <a:ext cx="8396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я во внимание характер средств, поступающих во временное распоряжение, по своей экономической сущности вышеуказанные поступления не являются доходами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положениями раздела V Указаний 65н ……, в том числе </a:t>
            </a:r>
            <a:r>
              <a:rPr b="0" lang="ru-RU" sz="2400" spc="-1" strike="noStrike">
                <a:solidFill>
                  <a:srgbClr val="00349e"/>
                </a:solidFill>
                <a:latin typeface="Arial"/>
              </a:rPr>
              <a:t>поступление (выбытие) денежных средств во временное распоряжение автономного или бюджетного учреждения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жаются с применением статьи </a:t>
            </a:r>
            <a:r>
              <a:rPr b="0" lang="ru-RU" sz="2400" spc="-1" strike="noStrike">
                <a:solidFill>
                  <a:srgbClr val="00349e"/>
                </a:solidFill>
                <a:latin typeface="Arial"/>
              </a:rPr>
              <a:t>5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Поступление на счета бюджетов" (</a:t>
            </a:r>
            <a:r>
              <a:rPr b="0" lang="ru-RU" sz="2400" spc="-1" strike="noStrike">
                <a:solidFill>
                  <a:srgbClr val="00349e"/>
                </a:solidFill>
                <a:latin typeface="Arial"/>
              </a:rPr>
              <a:t>6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"Выбытие со счетов бюджетов") классификации операций сектора государственного управления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5"/>
          <p:cNvSpPr/>
          <p:nvPr/>
        </p:nvSpPr>
        <p:spPr>
          <a:xfrm>
            <a:off x="1476360" y="1052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  <a:ea typeface="Arial"/>
              </a:rPr>
              <a:t>Невыясненные поступления по главе 100 «Федеральное казначейство»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332000" y="260280"/>
            <a:ext cx="74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Годовая бюджетная отчетность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859280" y="21258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24000" y="270828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334880" y="2060640"/>
            <a:ext cx="29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ссовое ис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5792400" y="2060640"/>
            <a:ext cx="26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лаве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Document"/>
          <p:cNvPicPr/>
          <p:nvPr/>
        </p:nvPicPr>
        <p:blipFill>
          <a:blip r:embed="rId1"/>
          <a:stretch/>
        </p:blipFill>
        <p:spPr>
          <a:xfrm>
            <a:off x="539640" y="559440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1387800" y="575784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с ф. 0503140, зс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0" descr="Document"/>
          <p:cNvPicPr/>
          <p:nvPr/>
        </p:nvPicPr>
        <p:blipFill>
          <a:blip r:embed="rId2"/>
          <a:stretch/>
        </p:blipFill>
        <p:spPr>
          <a:xfrm>
            <a:off x="5473800" y="5594400"/>
            <a:ext cx="658800" cy="687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2"/>
          <p:cNvSpPr/>
          <p:nvPr/>
        </p:nvSpPr>
        <p:spPr>
          <a:xfrm>
            <a:off x="6303960" y="551664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с ф. 050313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тки по сче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 rot="16200000">
            <a:off x="4617360" y="5550480"/>
            <a:ext cx="485640" cy="718920"/>
          </a:xfrm>
          <a:prstGeom prst="downArrow">
            <a:avLst>
              <a:gd name="adj1" fmla="val 50000"/>
              <a:gd name="adj2" fmla="val 3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191600" y="2852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2 11 510 - 1 402 10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5481000" y="2852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10 02 180 - 1 205 82 6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91600" y="3284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- 1 202 11 6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481000" y="3284640"/>
            <a:ext cx="30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05 82 560 - 1 210 02 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191960" y="386064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402 10 180 – 1 402 3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481360" y="386064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210 02 180 – 1 401 3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045440" y="4429080"/>
            <a:ext cx="34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/Уменьшение зс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1189080" y="486900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5478120" y="486900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826920" y="3789360"/>
            <a:ext cx="3745080" cy="100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5508720" y="3213000"/>
            <a:ext cx="1511280" cy="43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7020000" y="2852640"/>
            <a:ext cx="1512720" cy="360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7"/>
          <p:cNvSpPr/>
          <p:nvPr/>
        </p:nvSpPr>
        <p:spPr>
          <a:xfrm>
            <a:off x="882720" y="1220760"/>
            <a:ext cx="7117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я и представ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федеральное казначейств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четности за 2014 го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дельные требования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казателям отчет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2015 году в связи с внес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менений в норматив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BD00028_"/>
          <p:cNvPicPr/>
          <p:nvPr/>
        </p:nvPicPr>
        <p:blipFill>
          <a:blip r:embed="rId1"/>
          <a:stretch/>
        </p:blipFill>
        <p:spPr>
          <a:xfrm>
            <a:off x="8140680" y="5589720"/>
            <a:ext cx="8478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11280" y="124776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Arial"/>
                <a:ea typeface="Arial"/>
              </a:rPr>
              <a:t>Республика Крым, г. Севастопо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68360" y="2421000"/>
            <a:ext cx="324000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5435640" y="2421000"/>
            <a:ext cx="324000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рядок составлени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AutoShape 14"/>
          <p:cNvCxnSpPr>
            <a:stCxn id="160" idx="2"/>
            <a:endCxn id="161" idx="0"/>
          </p:cNvCxnSpPr>
          <p:nvPr/>
        </p:nvCxnSpPr>
        <p:spPr>
          <a:xfrm rot="5400000">
            <a:off x="2987640" y="729000"/>
            <a:ext cx="793080" cy="259164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5"/>
          <p:cNvCxnSpPr>
            <a:stCxn id="160" idx="2"/>
            <a:endCxn id="162" idx="0"/>
          </p:cNvCxnSpPr>
          <p:nvPr/>
        </p:nvCxnSpPr>
        <p:spPr>
          <a:xfrm flipH="1" rot="16200000">
            <a:off x="5470920" y="836280"/>
            <a:ext cx="793080" cy="2377080"/>
          </a:xfrm>
          <a:prstGeom prst="bentConnector3">
            <a:avLst>
              <a:gd name="adj1" fmla="val 498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Text Box 8"/>
          <p:cNvSpPr/>
          <p:nvPr/>
        </p:nvSpPr>
        <p:spPr>
          <a:xfrm>
            <a:off x="755640" y="35053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каз Ф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т 08.12.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9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9"/>
          <p:cNvCxnSpPr>
            <a:stCxn id="161" idx="2"/>
            <a:endCxn id="165" idx="0"/>
          </p:cNvCxnSpPr>
          <p:nvPr/>
        </p:nvCxnSpPr>
        <p:spPr>
          <a:xfrm rot="5400000">
            <a:off x="1872720" y="3289320"/>
            <a:ext cx="430920" cy="2160"/>
          </a:xfrm>
          <a:prstGeom prst="bentConnector3">
            <a:avLst>
              <a:gd name="adj1" fmla="val 4974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Text Box 10"/>
          <p:cNvSpPr/>
          <p:nvPr/>
        </p:nvSpPr>
        <p:spPr>
          <a:xfrm>
            <a:off x="5724360" y="3500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Письмо Минфина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от 21.01.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e40059"/>
                </a:solidFill>
                <a:latin typeface="Arial"/>
              </a:rPr>
              <a:t>02-06-07/69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11"/>
          <p:cNvCxnSpPr>
            <a:stCxn id="162" idx="2"/>
            <a:endCxn id="167" idx="0"/>
          </p:cNvCxnSpPr>
          <p:nvPr/>
        </p:nvCxnSpPr>
        <p:spPr>
          <a:xfrm flipH="1">
            <a:off x="7055640" y="3074760"/>
            <a:ext cx="1080" cy="425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 Box 12"/>
          <p:cNvSpPr/>
          <p:nvPr/>
        </p:nvSpPr>
        <p:spPr>
          <a:xfrm>
            <a:off x="1139400" y="5589720"/>
            <a:ext cx="724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формление ФК Актов сверки на основании Справок ф. 0503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направлением для подтверждения финансовым орга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спублики Крым и г. Севаст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6877080" y="4797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Исправление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890720"/>
            <a:ext cx="90486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нструкция № 157н, п.18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шибка за отчетный период, обнаруженная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до момента представле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бухгалтерской отчетности и </a:t>
            </a:r>
            <a:r>
              <a:rPr b="1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не требующая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 внесения изменения данны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в регистрах бухгалтерского учет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исправляется путем зачеркиван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онкой чертой неправильных сумм…….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шибка,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обнаруженная до момента представления бухгалтерской отчетности и </a:t>
            </a:r>
            <a:r>
              <a:rPr b="1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требующая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 внесения изменений в регистр бухгалтерского учет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в зависимости от ее характера, отражается последним днем ……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шибка, обнаруженная в регистрах бухгалтерского учета за отчетный период,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за который бухгалтерская отчетность в установленном порядке </a:t>
            </a:r>
            <a:r>
              <a:rPr b="1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уже представлена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в зависимости от ее характера, </a:t>
            </a:r>
            <a:r>
              <a:rPr b="0" lang="ru-RU" sz="1900" spc="-1" strike="noStrike" u="sng">
                <a:solidFill>
                  <a:srgbClr val="000066"/>
                </a:solidFill>
                <a:uFillTx/>
                <a:latin typeface="Calibri"/>
              </a:rPr>
              <a:t>отражается датой обнаружения ошибки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…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76240" y="106992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Внесение изменений в учетные показатели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76240" y="106992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Соответствие видов расходов кодам КОСГУ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868400"/>
          <a:ext cx="8353440" cy="328140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и кассового исполнен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соответствие КВР и кодов КОСГ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по укрупненным КВ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ичество субъектов РФ на 01.02.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70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8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40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39640" y="1293840"/>
            <a:ext cx="8166240" cy="5014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47"/>
          <p:cNvSpPr/>
          <p:nvPr/>
        </p:nvSpPr>
        <p:spPr>
          <a:xfrm>
            <a:off x="3686040" y="2475000"/>
            <a:ext cx="2772000" cy="763560"/>
          </a:xfrm>
          <a:prstGeom prst="wedgeRoundRectCallout">
            <a:avLst>
              <a:gd name="adj1" fmla="val 33449"/>
              <a:gd name="adj2" fmla="val 15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04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1,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7"/>
          <p:cNvSpPr/>
          <p:nvPr/>
        </p:nvSpPr>
        <p:spPr>
          <a:xfrm>
            <a:off x="6732720" y="2610000"/>
            <a:ext cx="2087280" cy="798480"/>
          </a:xfrm>
          <a:prstGeom prst="wedgeRoundRectCallout">
            <a:avLst>
              <a:gd name="adj1" fmla="val -3689"/>
              <a:gd name="adj2" fmla="val 12837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 бюдж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1" lang="ru-RU" sz="2000" spc="-1" strike="noStrike">
                <a:solidFill>
                  <a:srgbClr val="e40059"/>
                </a:solidFill>
                <a:latin typeface="Calibri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155520" y="1690560"/>
            <a:ext cx="8856720" cy="152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юджет городского округа с внутригородским делением (элемент 11)  и свод бюджетов внутригородских районов, входящих в состав городского округа с внутригородским делением (элемент 12) (без учета межбюджетных трансфертов между этими бюджетами), образуют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консолидированный бюджет городского округа с внутригородским делени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383-ФЗ 29.11.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876240" y="1069920"/>
            <a:ext cx="8137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Отчет об исполнении консолидированного бюджета субъекта РФ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>
            <a:off x="4097160" y="3284640"/>
            <a:ext cx="619200" cy="828720"/>
          </a:xfrm>
          <a:prstGeom prst="downArrow">
            <a:avLst>
              <a:gd name="adj1" fmla="val 50000"/>
              <a:gd name="adj2" fmla="val 3703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34920" y="4653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 180.1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овый орган городского округа с внутригородским делением формирует на основании отчетности финансового округа с внутригородским делением и отчетности финансовых органов внутригородских районов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4572000" y="465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 235, 236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.формируется в разрезе ………… данных по бюджетам городских округов, городских округов с внутригородским делением, внутригородских районов (графа 6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>
            <a:off x="3146400" y="4221000"/>
            <a:ext cx="252108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струкция № 19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876240" y="1069920"/>
            <a:ext cx="8137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 (ф. 0503125) –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формирование сводных показателе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12840" y="1914480"/>
          <a:ext cx="8435880" cy="4322880"/>
        </p:xfrm>
        <a:graphic>
          <a:graphicData uri="http://schemas.openxmlformats.org/drawingml/2006/table">
            <a:tbl>
              <a:tblPr/>
              <a:tblGrid>
                <a:gridCol w="1728720"/>
                <a:gridCol w="714240"/>
                <a:gridCol w="365400"/>
                <a:gridCol w="428400"/>
                <a:gridCol w="392040"/>
                <a:gridCol w="1170000"/>
                <a:gridCol w="703440"/>
                <a:gridCol w="704880"/>
                <a:gridCol w="561960"/>
                <a:gridCol w="542880"/>
                <a:gridCol w="500040"/>
                <a:gridCol w="623880"/>
              </a:tblGrid>
              <a:tr h="493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ПРА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консолидируемым  расче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по ОКУД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312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на  1 февраля  2015 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та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.02.201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финансового органа; органа, осуществляющег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овое обслуживание; органа казначейства;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ПО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распорядителя, распорядителя, получателя бюджетных средств,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доходов бюджета,         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источников     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ирования дефицита бюдж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партамент финансов г. Моск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а по БК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бюджета (публично-правового образования )   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 города Моск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вида деятельности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деятель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чета бюджетного у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551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иодичность: месячная, квартальна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диница измерения:  руб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ЕИ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">
                <a:tc gridSpan="5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коррес-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 по консолидируемым расчетам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20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мер с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ющег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лемен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бету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едиту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КТМ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финансов Российской Федерации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20203998020000120551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1002 1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номеру (коду) счета: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***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551 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8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расчеты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2020399802000012055166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1002 15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енежные расчеты  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Бюджетная отчетность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76240" y="1069920"/>
            <a:ext cx="8137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 (ф. 0503125) –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66"/>
                </a:solidFill>
                <a:latin typeface="Calibri"/>
                <a:ea typeface="Arial"/>
              </a:rPr>
              <a:t>формирование сводных показателей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873080"/>
          <a:ext cx="8229600" cy="4435560"/>
        </p:xfrm>
        <a:graphic>
          <a:graphicData uri="http://schemas.openxmlformats.org/drawingml/2006/table">
            <a:tbl>
              <a:tblPr/>
              <a:tblGrid>
                <a:gridCol w="1546200"/>
                <a:gridCol w="700200"/>
                <a:gridCol w="360360"/>
                <a:gridCol w="517320"/>
                <a:gridCol w="385920"/>
                <a:gridCol w="1203120"/>
                <a:gridCol w="692280"/>
                <a:gridCol w="693720"/>
                <a:gridCol w="552600"/>
                <a:gridCol w="473040"/>
                <a:gridCol w="490320"/>
                <a:gridCol w="614520"/>
              </a:tblGrid>
              <a:tr h="493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ПРАВ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консолидируемым  расчета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орма по ОКУД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0312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</a:rPr>
                        <a:t>на  1 февраля  2015 г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ата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1.02.20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финансового органа; органа, осуществляюще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ассовое обслуживание; органа казначейства;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ПО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4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распорядителя, распорядителя, получателя бюджетных средств,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доходов бюджета,    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ного администратора, администратора источников  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инансирования дефицита бюдж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стерство финансов Российской Федера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а по БК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 gridSpan="2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бюджета (публично-правового образования )  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 вида деятельности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ая деятель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счета бюджетного 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0651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ериодичность: месячная, квартальна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диница измерения:  руб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ЕИ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 gridSpan="5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мм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 коррес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нтрагент по консолидируемым расчетам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280">
                <a:tc rowSpan="4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омер с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ующ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лемен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бет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редит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чета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НН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лавы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ОКТМ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КТМ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юджетно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о БК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че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партамент финансов г. Москвы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521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 01133315900000 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0405 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7101683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000000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того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 том числе по номеру (коду) счета: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з них: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енежные расчеты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9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000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92 01133315900000 1 20651 5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000 000 00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30405 25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еденежные расчеты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"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6"/>
          <p:cNvSpPr/>
          <p:nvPr/>
        </p:nvSpPr>
        <p:spPr>
          <a:xfrm>
            <a:off x="81000" y="2181240"/>
            <a:ext cx="86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вместное письмо ФК и ПФР от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25.12.20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2-7.4-05/2.2-861 / АД-03-26/204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2"/>
          <p:cNvSpPr/>
          <p:nvPr/>
        </p:nvSpPr>
        <p:spPr>
          <a:xfrm>
            <a:off x="108000" y="1525680"/>
            <a:ext cx="885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ражение в бюджетном учете операций по внутренним расчетам при кассовом исполнении бюджета ПФ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826920" y="48261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овместное письмо ФК и ФСС РФ от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26.12.2013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№ 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42-7.4-05/2.2-864 / 15-03-10/04-4183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2"/>
          <p:cNvSpPr/>
          <p:nvPr/>
        </p:nvSpPr>
        <p:spPr>
          <a:xfrm>
            <a:off x="108000" y="4116240"/>
            <a:ext cx="885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ражение в бюджетном учете операций по внутренним расчетам при кассовом исполнении бюджета ФСС РФ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243160" y="115920"/>
            <a:ext cx="5137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ТОФК - Бюджетный учет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C:\Users\1\AppData\Local\Microsoft\Windows\Temporary Internet Files\Content.IE5\0VY47P0W\MC900441310[1].png"/>
          <p:cNvPicPr/>
          <p:nvPr/>
        </p:nvPicPr>
        <p:blipFill>
          <a:blip r:embed="rId1"/>
          <a:stretch/>
        </p:blipFill>
        <p:spPr>
          <a:xfrm>
            <a:off x="7920000" y="2597040"/>
            <a:ext cx="679320" cy="67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1\AppData\Local\Microsoft\Windows\Temporary Internet Files\Content.IE5\0VY47P0W\MC900441310[1].png"/>
          <p:cNvPicPr/>
          <p:nvPr/>
        </p:nvPicPr>
        <p:blipFill>
          <a:blip r:embed="rId2"/>
          <a:stretch/>
        </p:blipFill>
        <p:spPr>
          <a:xfrm>
            <a:off x="8035920" y="5238720"/>
            <a:ext cx="6793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E43-8FA2-4D66-90AE-D9A14AD42D90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8694720" y="6230880"/>
            <a:ext cx="314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499-61B5-487C-A98C-FCD33F89C6E1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4920" y="1052640"/>
            <a:ext cx="907272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от 8 декабря 2014 г. № 19н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 сроках представления годовой отчетности об исполнении бюджетов государственных внебюджетных фондов Российской Федерации, годовой отчетности об исполнении консолидированных бюджетов субъектов Российской Федерации и бюджетов территориальных государственных внебюджетных фондов, сводной бухгалтерской отчетности бюджетных и автономных учреждений, в отношении которых функции и полномочия учредителя осуществляются органами исполнительной власти субъектов Российской Федерации, органами местного самоуправления, за 2014 год, месячной и квартальной отчетности в 2015 году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4920" y="4454640"/>
            <a:ext cx="9132840" cy="4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Calibri"/>
                <a:ea typeface="Arial"/>
              </a:rPr>
              <a:t>Справка по консолидированным расчета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" y="1563840"/>
            <a:ext cx="91328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Calibri"/>
                <a:ea typeface="Arial"/>
              </a:rPr>
              <a:t>Сводная консолидированна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ru-RU" sz="2100" spc="-1" strike="noStrike">
                <a:solidFill>
                  <a:srgbClr val="000066"/>
                </a:solidFill>
                <a:latin typeface="Calibri"/>
                <a:ea typeface="Arial"/>
              </a:rPr>
              <a:t>бухгалтерская (бюджетная) отчетность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9"/>
          <p:cNvSpPr/>
          <p:nvPr/>
        </p:nvSpPr>
        <p:spPr>
          <a:xfrm>
            <a:off x="2270160" y="538020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 срок до 20.02.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0"/>
          <p:cNvSpPr/>
          <p:nvPr/>
        </p:nvSpPr>
        <p:spPr>
          <a:xfrm>
            <a:off x="1906920" y="2860560"/>
            <a:ext cx="526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04.03.2015 – 24.03.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763640" y="1142280"/>
            <a:ext cx="511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риказ № 89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3"/>
          <p:cNvSpPr/>
          <p:nvPr/>
        </p:nvSpPr>
        <p:spPr>
          <a:xfrm rot="16200000">
            <a:off x="4114080" y="1726200"/>
            <a:ext cx="576360" cy="523800"/>
          </a:xfrm>
          <a:prstGeom prst="leftArrow">
            <a:avLst>
              <a:gd name="adj1" fmla="val 50000"/>
              <a:gd name="adj2" fmla="val 27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79280" y="2492280"/>
            <a:ext cx="87854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исьмо Минфина России о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19.12.2014 № 02-07- 07/669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ческие рекомендации по переходу на новые положения инструкции по применению Единого плана счетов бухгалтерского учета для органов государственной власти (государственных органо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ов местного самоуправления, органов управления государственными внебюджетными фондами, государственных академий наук, государственных (муниципальных) учреждений, утвержденные приказом Министерства финансов Российской Федерации от 29 августа 2014 г. № 89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60200" y="1098720"/>
            <a:ext cx="9236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rmAutofit fontScale="50000"/>
          </a:bodyPr>
          <a:p>
            <a:pPr marL="171360" indent="-171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Внесение изменений в Инстру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 № </a:t>
            </a:r>
            <a:r>
              <a:rPr b="1" lang="ru-RU" sz="2400" spc="-1" strike="noStrike">
                <a:solidFill>
                  <a:srgbClr val="333399"/>
                </a:solidFill>
                <a:latin typeface="Calibri"/>
              </a:rPr>
              <a:t>191н, №33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Document"/>
          <p:cNvPicPr/>
          <p:nvPr/>
        </p:nvPicPr>
        <p:blipFill>
          <a:blip r:embed="rId1"/>
          <a:stretch/>
        </p:blipFill>
        <p:spPr>
          <a:xfrm>
            <a:off x="4211640" y="249228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/>
          <p:cNvSpPr/>
          <p:nvPr/>
        </p:nvSpPr>
        <p:spPr>
          <a:xfrm>
            <a:off x="179280" y="4795920"/>
            <a:ext cx="324036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довая отче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653080" y="4795920"/>
            <a:ext cx="3240000" cy="654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довая отче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 2015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>
            <a:stCxn id="65" idx="2"/>
            <a:endCxn id="66" idx="0"/>
          </p:cNvCxnSpPr>
          <p:nvPr/>
        </p:nvCxnSpPr>
        <p:spPr>
          <a:xfrm rot="5400000">
            <a:off x="2676960" y="2712240"/>
            <a:ext cx="1207080" cy="296136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15"/>
          <p:cNvCxnSpPr>
            <a:stCxn id="65" idx="2"/>
            <a:endCxn id="67" idx="0"/>
          </p:cNvCxnSpPr>
          <p:nvPr/>
        </p:nvCxnSpPr>
        <p:spPr>
          <a:xfrm flipH="1" rot="16200000">
            <a:off x="5414040" y="2935800"/>
            <a:ext cx="1207080" cy="2513520"/>
          </a:xfrm>
          <a:prstGeom prst="bentConnector3">
            <a:avLst>
              <a:gd name="adj1" fmla="val 4988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79280" y="1772640"/>
            <a:ext cx="8569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3399"/>
                </a:solidFill>
                <a:latin typeface="Arial"/>
              </a:rPr>
              <a:t>Инструкция № 191н, Инструкция № 33н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 rot="16200000">
            <a:off x="4113720" y="2662920"/>
            <a:ext cx="1008000" cy="523800"/>
          </a:xfrm>
          <a:prstGeom prst="leftArrow">
            <a:avLst>
              <a:gd name="adj1" fmla="val 50000"/>
              <a:gd name="adj2" fmla="val 481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836720" y="1052640"/>
            <a:ext cx="520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одовая отчетность за 201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640" y="4292640"/>
            <a:ext cx="899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обенностях составления и представления годовой бюджетной отчетн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дной бухгалтерской отчетности государственных (муниципальных) бюдже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автономных учреждений финансовыми органами субъектов 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ции и органами управления государственными внебюджетными фон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014 г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79280" y="3573360"/>
            <a:ext cx="8569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Письмо Минфина России и Федерального казначейства от 29.12.2014 №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02-07-07/68726, 42-7.4-05/2.1-82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41280" y="5927760"/>
            <a:ext cx="8569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333399"/>
                </a:solidFill>
                <a:latin typeface="Arial"/>
              </a:rPr>
              <a:t>+ Письмо Минфина России от 03.02.2015 № 02-07-07/454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1403280" y="26028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4920" y="1341360"/>
            <a:ext cx="907272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Arial"/>
              </a:rPr>
              <a:t>от 11 августа 2014 г. № 170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«О сроках предоставления годовой бюджетной отчетности по кассовому обслуживанию исполнения бюджетов бюджетной системы Российской Федерации, бюджетных учреждений, автономных учреждений и иных организаций, кассовому исполнению федерального бюджета и кассовому обслуживанию исполнения бюджета Союзного государства за 2014 год территориальными органами Федерального казначейства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:\Documents and Settings\09IM38p\Local Settings\Temporary Internet Files\Content.IE5\4PNRP4H4\MCj04315860000[1].png"/>
          <p:cNvPicPr/>
          <p:nvPr/>
        </p:nvPicPr>
        <p:blipFill>
          <a:blip r:embed="rId1"/>
          <a:stretch/>
        </p:blipFill>
        <p:spPr>
          <a:xfrm>
            <a:off x="8388360" y="5805360"/>
            <a:ext cx="73188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06200" y="0"/>
            <a:ext cx="92361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формировани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57320" y="1052640"/>
            <a:ext cx="5205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Годовая отчетность за 2014 год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64960" y="2418840"/>
            <a:ext cx="855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утверждении Особенностей форм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ной отчетности по кассовому испол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дерального бюджета, кассов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служиванию исполнения бюдж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юджетной системы Российской Федерации…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79280" y="1483560"/>
            <a:ext cx="856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риказ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от 01.11.2013 № 24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17520" y="5734080"/>
            <a:ext cx="868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б особенностях формирования отчетности…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79280" y="4722120"/>
            <a:ext cx="856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Письмо Федерального казначейств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от 19.12.2014 № 42-7.4-05/2.1-78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Дубовик Антон Викторович</cp:lastModifiedBy>
  <dcterms:modified xsi:type="dcterms:W3CDTF">2015-02-05T05:45:56Z</dcterms:modified>
  <cp:revision>483</cp:revision>
  <dc:subject/>
  <dc:title>Слайд 1</dc:title>
</cp:coreProperties>
</file>